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dt" idx="1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sldImg"/>
          </p:nvPr>
        </p:nvSpPr>
        <p:spPr>
          <a:xfrm>
            <a:off x="1184040" y="696600"/>
            <a:ext cx="4646520" cy="348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ftr" idx="15"/>
          </p:nvPr>
        </p:nvSpPr>
        <p:spPr>
          <a:xfrm>
            <a:off x="0" y="8832600"/>
            <a:ext cx="30384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 type="sldNum" idx="16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599C7C5-D2B2-48D6-A8C3-8F2B13800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CA8ECC0-3E79-47BC-AC77-BA8EC1681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50D115C-1A77-47B6-B6D0-3A39DC68A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D95-93DB-4086-BBD6-48B8DDED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AA6-5539-4299-8288-429A5795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B142-C436-430E-946F-D2C6AFD4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14DA-2149-460A-83E3-E0CB39F8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4FD-A2F8-4AB5-B548-66AA1A2D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E75-4B68-4FF0-B7CC-6D926DB9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94E-BFA7-47F7-871D-18ACC19C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2A3-65D1-4AB4-BF58-2DD19CE4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0C7E-5840-4CE2-BFCA-E0A4A9CC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875-2261-41FF-9C5D-B6C0B7AC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B57-F526-4047-8845-ACD5ABD9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374-51D8-4C4C-857A-FB9E303E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58360" y="436320"/>
            <a:ext cx="8061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58720" y="3603600"/>
            <a:ext cx="8050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3960" y="12060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5872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83960" y="3603600"/>
            <a:ext cx="39283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068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02640" y="12060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5872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068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02640" y="3603600"/>
            <a:ext cx="2592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4DD0-C305-4B5F-B41A-DBF0FFC442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8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A779-9E98-4C03-B351-2ADB1A6E8B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409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0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3882-7BD0-45AB-AD12-BD3B8A1798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1"/>
          </p:nvPr>
        </p:nvSpPr>
        <p:spPr>
          <a:xfrm>
            <a:off x="28447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454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5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AC3B-AC43-4057-9BB9-4B76DF44D9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ftr" idx="12"/>
          </p:nvPr>
        </p:nvSpPr>
        <p:spPr>
          <a:xfrm>
            <a:off x="2793600" y="61977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499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0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9DD8-4604-47B7-9094-CD59F5FB74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ftr" idx="13"/>
          </p:nvPr>
        </p:nvSpPr>
        <p:spPr>
          <a:xfrm>
            <a:off x="28447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50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8A8F-613F-423C-8667-DFE514226C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1260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39680" y="6205680"/>
            <a:ext cx="55846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 Briefing to COMSTAC BLW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95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6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F282-03FB-4261-97C3-C08CEEC782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139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0F2B-0ACF-4F2E-8E24-CAD464AE73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184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5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627F-1DD1-4D76-A9CE-686CBA75D4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6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229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0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ECEA-927A-4A8B-B6A3-F990ED4D85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7"/>
          </p:nvPr>
        </p:nvSpPr>
        <p:spPr>
          <a:xfrm>
            <a:off x="2857320" y="6210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274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5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53B5-1BC1-4273-B38F-F333F6EEA5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ftr" idx="8"/>
          </p:nvPr>
        </p:nvSpPr>
        <p:spPr>
          <a:xfrm>
            <a:off x="2844720" y="6235560"/>
            <a:ext cx="28958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319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0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A03E-072B-42FD-85A1-FB895375C6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9"/>
          </p:nvPr>
        </p:nvSpPr>
        <p:spPr>
          <a:xfrm>
            <a:off x="28573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139680" y="6205680"/>
            <a:ext cx="558468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SA Insurance Tas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Briefing to COMSTAC BL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 10, 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12"/>
          <p:cNvGrpSpPr/>
          <p:nvPr/>
        </p:nvGrpSpPr>
        <p:grpSpPr>
          <a:xfrm>
            <a:off x="5761080" y="6137280"/>
            <a:ext cx="1971360" cy="614520"/>
            <a:chOff x="5761080" y="6137280"/>
            <a:chExt cx="1971360" cy="614520"/>
          </a:xfrm>
        </p:grpSpPr>
        <p:sp>
          <p:nvSpPr>
            <p:cNvPr id="364" name="Text Box 9"/>
            <p:cNvSpPr/>
            <p:nvPr/>
          </p:nvSpPr>
          <p:spPr>
            <a:xfrm>
              <a:off x="6363000" y="626904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5" name="Picture 10" descr="NEW FAA LOGO"/>
            <p:cNvPicPr/>
            <p:nvPr/>
          </p:nvPicPr>
          <p:blipFill>
            <a:blip r:embed="rId2"/>
            <a:srcRect l="14327" t="3712" r="14994" b="4572"/>
            <a:stretch/>
          </p:blipFill>
          <p:spPr>
            <a:xfrm>
              <a:off x="5761080" y="6137280"/>
              <a:ext cx="61272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Rectangle 11"/>
          <p:cNvSpPr/>
          <p:nvPr/>
        </p:nvSpPr>
        <p:spPr>
          <a:xfrm>
            <a:off x="67500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E7F6-63AC-465D-AE8C-2A744E4E71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0"/>
          </p:nvPr>
        </p:nvSpPr>
        <p:spPr>
          <a:xfrm>
            <a:off x="284472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earth"/>
          <p:cNvPicPr/>
          <p:nvPr/>
        </p:nvPicPr>
        <p:blipFill>
          <a:blip r:embed="rId2"/>
          <a:srcRect l="23672" t="19197" r="24573" b="20453"/>
          <a:stretch/>
        </p:blipFill>
        <p:spPr>
          <a:xfrm>
            <a:off x="5505480" y="0"/>
            <a:ext cx="36385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339840" y="549360"/>
            <a:ext cx="47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ice of Commercial Space Transpor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A/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09600" y="2287440"/>
            <a:ext cx="41274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SA Insurance Task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m Underwoo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chnical Advis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ennedy Space Center Operations Off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y 10.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Group 5"/>
          <p:cNvGrpSpPr/>
          <p:nvPr/>
        </p:nvGrpSpPr>
        <p:grpSpPr>
          <a:xfrm>
            <a:off x="5873760" y="270000"/>
            <a:ext cx="2893680" cy="979920"/>
            <a:chOff x="5873760" y="270000"/>
            <a:chExt cx="2893680" cy="979920"/>
          </a:xfrm>
        </p:grpSpPr>
        <p:pic>
          <p:nvPicPr>
            <p:cNvPr id="552" name="Picture 6" descr="NEW FAA LOGO"/>
            <p:cNvPicPr/>
            <p:nvPr/>
          </p:nvPicPr>
          <p:blipFill>
            <a:blip r:embed="rId3"/>
            <a:srcRect l="14350" t="3733" r="14966" b="4567"/>
            <a:stretch/>
          </p:blipFill>
          <p:spPr>
            <a:xfrm>
              <a:off x="5873760" y="270000"/>
              <a:ext cx="90936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 Box 7"/>
            <p:cNvSpPr/>
            <p:nvPr/>
          </p:nvSpPr>
          <p:spPr>
            <a:xfrm>
              <a:off x="6808320" y="457200"/>
              <a:ext cx="19591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7200" y="47916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36400" y="141876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U signed Sept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A to assess the availability and affordability of commercial insurance for commercial crew program 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scenarios and questions developed by NASA and the FAA (December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STAC Risk Management Working Group Mtg (Feb 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ependent industry survey conducted in parallel (Tauri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rcial Launch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ace Insurance Industry (underwriters &amp; bro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draft delivered to NASA 30 April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Report Scenario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122480" y="1138320"/>
          <a:ext cx="7083360" cy="4103640"/>
        </p:xfrm>
        <a:graphic>
          <a:graphicData uri="http://schemas.openxmlformats.org/drawingml/2006/table">
            <a:tbl>
              <a:tblPr/>
              <a:tblGrid>
                <a:gridCol w="1770120"/>
                <a:gridCol w="2342880"/>
                <a:gridCol w="1204920"/>
                <a:gridCol w="1765440"/>
              </a:tblGrid>
              <a:tr h="415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Descrip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FAA Licen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Crew or Space Flight Participa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</a:tr>
              <a:tr h="835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Scenario A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ASA Astronauts as Space Flight Participan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FAA-licensed missions carrying NASA astronauts as space flight participants including ISS international partn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ASA Space Flight Participa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Scenario B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ASA Astronauts as Cre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FAA-licensed missions carrying NASA astronauts as crew including ISS international partn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ASA Cre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Scenario C: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Test or Vehicle Certification Fligh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FAA-licensed missions without space flight participants or crews, for the purposes of NASA test flight or vehicle certific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o Space Flight Participant or Cre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Scenario D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ASA Astronau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on-FAA-licensed missions carrying NASA astronauts including ISS international partner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ASA Astronau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f497d"/>
                          </a:solidFill>
                          <a:latin typeface="Gill Sans MT"/>
                          <a:ea typeface="MS Mincho"/>
                        </a:rPr>
                        <a:t>Scenario E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on-Government as Space Flight Participan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9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FAA-licensed missions carrying non-government space flight participan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Y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  <a:ea typeface="MS Mincho"/>
                        </a:rPr>
                        <a:t>Non-government Space Flight Participa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Final Draft Findings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91600" y="1206000"/>
            <a:ext cx="862020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ation of “SFP” or “crew” for NASA astronauts not important to insurance or commercial launch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elevant to the determination of policy terms and premiu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of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 responsibility (ie:  part of flight safety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impact of SFP and crew on 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trajectory changes that may increase public risk (ie:  abor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scrutiny on systems and testing for “human rating” could result in higher vehicle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consensus that SFP and crew part of the FSS will “reduce ris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mportant factor in determining insurance availability and pricing is vehicles safety or reliability record or “flight proven”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Final Draft Areas for Possible Future Work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50400" y="1328760"/>
            <a:ext cx="7656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P and crew not considered third party, but government personnel “involved” in the licensed activity are third party for the purposes of 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P and crew cross waiver of claims against the US Gov’t and any impact to workman’s comp coverage for NASA astrona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launch providers and insurers recommendation to extend the CSLA liability regime to include on-orbit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benefit to industry from a limit or cap on space flight participant liability and/or reciprocal waiver of claims between the SFP or crew and commercial launch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58360" y="436320"/>
            <a:ext cx="8061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2f68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58720" y="1206000"/>
            <a:ext cx="80503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draft insurance task report intended to be a survey of the commercial insurance industry and their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a report of current thinking and impressions of the industry on matters relevant to availability and affordability of insurance for human spaceflight 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ded to be an informational resource to the FAA and NASA on future commercial human spaceflight 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Pam</cp:lastModifiedBy>
  <dcterms:modified xsi:type="dcterms:W3CDTF">2012-05-10T01:05:14Z</dcterms:modified>
  <cp:revision>917</cp:revision>
  <dc:subject/>
  <dc:title>PowerPoint Presentation</dc:title>
</cp:coreProperties>
</file>