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dt" idx="1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sldImg"/>
          </p:nvPr>
        </p:nvSpPr>
        <p:spPr>
          <a:xfrm>
            <a:off x="1184040" y="696600"/>
            <a:ext cx="4646520" cy="34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ftr" idx="15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 type="sldNum" idx="1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6B7CE3A-6174-4965-B4DF-0F65833C4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75F006-E5DC-43BA-B006-099AE241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05AD6A-98BD-4EDF-BBA5-937DB30D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274-24D2-4C09-B3CA-D68AD3DA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3C0-4D54-4543-A30A-77CC1677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AF0-3B67-4D59-9DFB-6C3B7B36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964-9046-48A0-963C-87B25476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744-0E9C-4A96-9972-48F85874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395-2163-4933-A66C-C6F22F25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BD9-28D2-4D05-8B06-14A87E5E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D3A-4A79-4F9E-A2FD-1BAF930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F94-05BD-4567-B08E-D5400AF7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861-6F61-45F6-8907-984A9D0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07C-987E-4581-A3D1-5852F8D7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C1B-B071-49E0-9B94-8D2B86F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0E91-C166-4FBE-9CA2-30231EF481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8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AF42-AB75-4D8C-AF49-DD472FFA1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40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58C9-3943-448B-A773-136962DDB8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1"/>
          </p:nvPr>
        </p:nvSpPr>
        <p:spPr>
          <a:xfrm>
            <a:off x="28447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454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5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3179-67A7-4DA4-A25B-12E396FA1D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ftr" idx="12"/>
          </p:nvPr>
        </p:nvSpPr>
        <p:spPr>
          <a:xfrm>
            <a:off x="279360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49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669A-D122-4B30-9E58-6801371336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13"/>
          </p:nvPr>
        </p:nvSpPr>
        <p:spPr>
          <a:xfrm>
            <a:off x="28447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50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14AC-8178-45A4-9796-E7AFC10470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260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39680" y="6205680"/>
            <a:ext cx="5584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 Briefing to COMSTAC BLW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95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D9C5-035D-470D-8716-A63F343E91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13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208F-0CBD-4BAF-91C4-F27C862D8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184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5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9BB4-700B-43A5-9CF2-40A5C80998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6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22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2012-37BD-4C99-AD73-879FA17C8B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7"/>
          </p:nvPr>
        </p:nvSpPr>
        <p:spPr>
          <a:xfrm>
            <a:off x="2857320" y="6210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274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5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712-A3CB-4BDE-8380-0D41F11D13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8"/>
          </p:nvPr>
        </p:nvSpPr>
        <p:spPr>
          <a:xfrm>
            <a:off x="2844720" y="6235560"/>
            <a:ext cx="28958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31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9B17-73B1-4545-B674-68FF8B553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9"/>
          </p:nvPr>
        </p:nvSpPr>
        <p:spPr>
          <a:xfrm>
            <a:off x="2857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364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5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EB4C-D3B9-4347-9EAC-144B1EA6A7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0"/>
          </p:nvPr>
        </p:nvSpPr>
        <p:spPr>
          <a:xfrm>
            <a:off x="28447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earth"/>
          <p:cNvPicPr/>
          <p:nvPr/>
        </p:nvPicPr>
        <p:blipFill>
          <a:blip r:embed="rId2"/>
          <a:srcRect l="23672" t="19197" r="24573" b="20453"/>
          <a:stretch/>
        </p:blipFill>
        <p:spPr>
          <a:xfrm>
            <a:off x="5505480" y="0"/>
            <a:ext cx="3638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339840" y="549360"/>
            <a:ext cx="47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 of Commercial Space Transpor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A/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09600" y="2287440"/>
            <a:ext cx="41274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SA Insurance Task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m Underw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chnical Advis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nnedy Space Center Operations Off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y 10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5"/>
          <p:cNvGrpSpPr/>
          <p:nvPr/>
        </p:nvGrpSpPr>
        <p:grpSpPr>
          <a:xfrm>
            <a:off x="5873760" y="270000"/>
            <a:ext cx="2893680" cy="979920"/>
            <a:chOff x="5873760" y="270000"/>
            <a:chExt cx="2893680" cy="979920"/>
          </a:xfrm>
        </p:grpSpPr>
        <p:pic>
          <p:nvPicPr>
            <p:cNvPr id="552" name="Picture 6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5873760" y="270000"/>
              <a:ext cx="90936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7"/>
            <p:cNvSpPr/>
            <p:nvPr/>
          </p:nvSpPr>
          <p:spPr>
            <a:xfrm>
              <a:off x="6808320" y="457200"/>
              <a:ext cx="19591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7200" y="47916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6400" y="141876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U signed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A to assess the availability and affordability of commercial insurance for commercial crew program 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scenarios and questions developed by NASA and the FAA (December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STAC Risk Management Working Group Mtg (Feb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 industry survey conducted in parallel (Tauri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rcial Launch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ce Insurance Industry (underwriters &amp; bro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draft delivered to NASA 3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Report Scenario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122480" y="1138320"/>
          <a:ext cx="7083360" cy="4103640"/>
        </p:xfrm>
        <a:graphic>
          <a:graphicData uri="http://schemas.openxmlformats.org/drawingml/2006/table">
            <a:tbl>
              <a:tblPr/>
              <a:tblGrid>
                <a:gridCol w="1770120"/>
                <a:gridCol w="2342880"/>
                <a:gridCol w="1204920"/>
                <a:gridCol w="1765440"/>
              </a:tblGrid>
              <a:tr h="415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FAA Licen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Crew or Space Flight Participa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</a:tr>
              <a:tr h="835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A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Astronauts as Space Flight Participan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FAA-licensed missions carrying NASA astronauts as space flight participants including ISS international part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Space Flight Participa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B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Astronauts as Cre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FAA-licensed missions carrying NASA astronauts as crew including ISS international part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Cre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C: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Test or Vehicle Certification Fligh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FAA-licensed missions without space flight participants or crews, for the purposes of NASA test flight or vehicle certific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 Space Flight Participant or Cre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D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Astronau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n-FAA-licensed missions carrying NASA astronauts including ISS international part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Astrona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E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n-Government as Space Flight Participan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FAA-licensed missions carrying non-government space flight participan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n-government Space Flight Participa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Final Draft Finding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91600" y="1206000"/>
            <a:ext cx="86202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ion of “SFP” or “crew” for NASA astronauts not important to insurance or commercial launch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levant to the determination of policy terms and premiu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responsibility (ie:  part of flight safety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impact of SFP and crew on 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trajectory changes that may increase public risk (ie:  abo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crutiny on systems and testing for “human rating” could result in higher vehicle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consensus that SFP and crew part of the FSS will “reduce ris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mportant factor in determining insurance availability and pricing is vehicles safety or reliability record or “flight proven”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Final Draft Areas for Possible Future Work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50400" y="1328760"/>
            <a:ext cx="7656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P and crew not considered third party, but government personnel “involved” in the licensed activity are third party for the purposes of 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P and crew cross waiver of claims against the US Gov’t and any impact to workman’s comp coverage for NASA astrona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launch providers and insurers recommendation to extend the CSLA liability regime to include on-orbi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benefit to industry from a limit or cap on space flight participant liability and/or reciprocal waiver of claims between the SFP or crew and commercial launch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raft insurance task report intended to be a survey of the commercial insurance industry and thei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a report of current thinking and impressions of the industry on matters relevant to availability and affordability of insurance for human spaceflight 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to be an informational resource to the FAA and NASA on future commercial human spaceflight 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Pam</cp:lastModifiedBy>
  <dcterms:modified xsi:type="dcterms:W3CDTF">2012-05-10T01:05:14Z</dcterms:modified>
  <cp:revision>917</cp:revision>
  <dc:subject/>
  <dc:title>PowerPoint Presentation</dc:title>
</cp:coreProperties>
</file>