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F786-C789-45DF-A35E-CF064F783A1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Present at CPWG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ch March, Manager Area Control Centre Operations, Edmon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e Rose, Manager International Operations, Otta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monton currently uses the GRL to prioritize altitude assignments for Polar fligh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ly, flights that are on, or closest to, their GRL times are given altitude prio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this process be more effectively and efficiently manag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ollowing table and next slides illustrate a scenario that occurred in July, 2010 involving Air Canada 031 and United 8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A031 was “on time,” and UAL897 was ~10 minutes early – ACA gets FL340 &amp; UAL gets a “penalt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AL dispatch was contacted, and was asked to consider “higher” (FL360/380), “lower” (FL320), or “slower” (about M.80 for ~ 4 hou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conferring with the crew, dispatch advised that UAL897 was unable FL360/380 and “lower” would result in excessive fuel burn - therefore “slower” was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ptable o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 was put in place that assigned ACA031 maximum speed (A.83+), and assigned UAL897 A.8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next few hours passed, ACA031 increased speed to A.85, and UAL897 varied speed within a range of A.78 to A.8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r Canada crew agreed to increase speed after becoming very concerned while hearing transmissions to/from UAL8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’ longitudinal spacing was achieved around 80N, opening up FL340 for both flights once ACA031 requested it (at 141W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A031 was “on time,” and UAL897 was 10 minutes ea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 was to get ACA031 to FL340 - UAL897 would take a “penalt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AL dispatch was contacted, and was asked to consider “higher” (FL360/380), “lower” (FL320), or “slower” (about M.80 for ~ 4 hou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conferring with the crew, dispatch advised that UAL897 was unable FL360/380 and “lower” would result in excessive fuel burn - therefore “slower” was the only acceptable o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 was put in place that assigned ACA031 maximum speed (A.84+), and assigned UAL897 A.8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next few hours passed, ACA031 increased speed to A.85, and UAL897 varied speed within a range of A.78 to A.8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r Canada crew agreed to increase speed after becoming very concerned while hearing transmissions to/from UAL8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’ longitudinal spacing was achieved around 80N, opening up FL340 for both flights once ACA031 requested it (at 141W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GRL benefited the flight closest to its GRL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A031 got FL340 when reques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AL897 also got FL340, but at a greatly reduced speed which resulted in ~10 minutes more flying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ollowed up with ACA dispatch in the following days, and inquired whether or not FL320 until </a:t>
            </a:r>
            <a:r>
              <a:rPr b="0" i="1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Russian landfall would have been an acceptable option 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on that day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On that day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, the flight would have made destination (ZBAA), with an additional  fuel burn of ~1400kg flying FL315/9600m to SUL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, could ACA dispatch have been contacted when the conflict was identified, and asked them whether or not FL320 would have been accep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o, the speed restrictions on UAL &amp; ACA would have been neg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ead of mainly relying on the GRL to resolve conflicts, we have been using a more collaborative approach.  Is this prefer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0662-E4A4-4E5D-8C47-BCF9569F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CB6B-0521-4E56-85E7-33812361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468-1B27-47BC-B38E-DCBF11AB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BA34-B3DE-4D75-B03F-A5E1AC5B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AB90-E0A7-4BD6-AF2C-38E10203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CE79-D9ED-4F18-BDA2-6AA4A751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95A5-5759-4ACD-812B-B3B5F091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C6E2-AC0A-4E30-BD8B-DC737A20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F3F9-F892-469B-90E5-727EC3AB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28CD-D9A5-4864-8590-BFBA07F9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1184-0234-473C-9526-B2CA4396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0858-A7E6-43B6-B08E-D92F80D8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5EA6-3A15-47C7-96C0-618DCB79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09DC-C2EB-4424-8E0E-EBE8DD01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935E-C636-4962-BFBF-889751A4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CE5E-015D-4B01-AE43-619260CB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0639-1683-4950-8043-33793E49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827C-B819-40EF-BDE7-8F95FE64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74C6-B437-4DEE-8385-A87FF1F7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BB5-5877-4C29-B9ED-16271EA6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9906-CAF6-4BD8-8913-803D7453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85A-F89F-41A1-AC54-E7216A71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5564-480F-4D67-A072-7335A096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F3C0-B6C0-4DC1-8A69-1EACE870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3486-2F4C-4F2A-813D-047AB4783E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F265-1F24-4650-8520-3AFF2FD55A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643280" y="4292640"/>
            <a:ext cx="2305080" cy="1838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948360" y="4292640"/>
            <a:ext cx="2195640" cy="1846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rcRect l="0" t="8935" r="0" b="0"/>
          <a:stretch/>
        </p:blipFill>
        <p:spPr>
          <a:xfrm>
            <a:off x="2050920" y="4292640"/>
            <a:ext cx="2667240" cy="1832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0" y="4292640"/>
            <a:ext cx="2268360" cy="1816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60360" y="2060640"/>
            <a:ext cx="6551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monton Area Control Centre presentation to th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SS POLAR WORKING GROUP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Polar Collaborative Decision Making”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is, Franc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November 2-5, 201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ed by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yon Carlson, Edmonton ACC North High Supervisor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497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lar Collaborative Decision Making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2205000"/>
            <a:ext cx="6985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monton currently uses the GRL to prioritize altitude assignments for Polar fligh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ly, flights that are on, or closest to, their GRL times are given altitude prior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lar Collaborative Decision Making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231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this process be more effectively and efficiently manag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ollowing table and next slides illustrate a scenario that occurred in July, 2010 involving ACA031 and UAL897 at RAM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95280" y="3284640"/>
          <a:ext cx="8447040" cy="2814480"/>
        </p:xfrm>
        <a:graphic>
          <a:graphicData uri="http://schemas.openxmlformats.org/drawingml/2006/table">
            <a:tbl>
              <a:tblPr/>
              <a:tblGrid>
                <a:gridCol w="2112840"/>
                <a:gridCol w="2111400"/>
                <a:gridCol w="2109960"/>
                <a:gridCol w="2112840"/>
              </a:tblGrid>
              <a:tr h="938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igh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L time/altitu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tial      estim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tial   Altitu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A0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01/FL3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AL8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12/FL3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3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lar Collaborative Decision Making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A031 was “on time,” and UAL897 was ~10 minutes early – ACA gets FL340 &amp; UAL gets a “penalty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L dispatch was contacted, and was asked to consider “higher” (FL360/380), “lower” (FL320), or “slower” (about M.80 for ~ 4 hour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conferring with the crew, dispatch advised that UAL897 was unable FL360/380 and “lower” would result in excessive fuel burn - therefore “slower” was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n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ceptable op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lan was put in place that assigned ACA031 maximum speed (A.83+), and assigned UAL897 A.80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lar Collaborative Decision Making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e next few hours passed, ACA031 increased speed to A.85, and UAL897 varied speed within a range of A.78 to A.8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’ longitudinal spacing was achieved around 80N, opening up FL340 for both flights once ACA031 requested it (at 141W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95640" y="1125360"/>
            <a:ext cx="0" cy="5328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125360"/>
            <a:ext cx="0" cy="5328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964720" y="1197000"/>
            <a:ext cx="0" cy="532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381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6381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1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0" y="39337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0" y="2133720"/>
            <a:ext cx="9144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18900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IT HAPPEN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…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177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400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772400" y="5445000"/>
            <a:ext cx="1371600" cy="384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869240" y="1844640"/>
            <a:ext cx="1274760" cy="380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885080" y="62164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flict identifi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04000" y="6381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1 h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6381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2 ho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6381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3 ho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4360" y="1197000"/>
            <a:ext cx="0" cy="5256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48360" y="1125360"/>
            <a:ext cx="0" cy="5328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1125360"/>
            <a:ext cx="0" cy="5328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6.2963E-006 L -1 6.2963E-006 E">
                                      <p:cBhvr>
                                        <p:cTn id="59" dur="30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7.40741E-007 L -0.1559 -0.01065 C -0.22622 -0.05162 -0.33594 -0.20764 -0.42153 -0.24606 C -0.52066 -0.24537 -0.58229 -0.24444 -0.6691 -0.24143 C -0.73351 -0.27593 -0.77639 -0.41805 -0.80764 -0.4537 C -0.84115 -0.51227 -0.82257 -0.5044 -0.85764 -0.51505 L -1.01806 -0.51805 E">
                                      <p:cBhvr>
                                        <p:cTn id="61" dur="2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Result……………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RL benefited the flight closest to its GRL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A031 got FL340 when reques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L897 also got FL340, but at a greatly reduced speed which resulted in ~10 minutes more flying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ed up with ACA dispatch in the following days, and inquired whether or not FL320 until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t lea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ussian landfall would have been an acceptable option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n that 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: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n that 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he flight would have made destination (ZBAA), with an additional  fuel burn of ~1400kg flying FL315/9600m to SULOK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ing Forward…………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is case, could ACA dispatch have been contact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hen the conflict was identifi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asked them if FL320/FL315/9600m would have been acceptab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so, the speed restrictions on UAL &amp; ACA would have been neg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ead of mainly relying on the GRL to resolve conflicts, we have been using a more collaborative approach. Is this preferr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lar Collaborative Decision Making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/Questions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7:10:54Z</dcterms:created>
  <dc:creator>carlsob</dc:creator>
  <dc:description/>
  <dc:language>en-US</dc:language>
  <cp:lastModifiedBy>carlsob</cp:lastModifiedBy>
  <dcterms:modified xsi:type="dcterms:W3CDTF">2010-10-17T21:10:50Z</dcterms:modified>
  <cp:revision>11</cp:revision>
  <dc:subject/>
  <dc:title>Polar Collaborative Decisions</dc:title>
</cp:coreProperties>
</file>