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DCE-0BFD-44F4-AEC7-49A46AB2FB6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F5F-DD8D-474F-A0D6-385E2ACDF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ffic Edmonton FIR</a:t>
            </a:r>
            <a:br>
              <a:rPr sz="1200"/>
            </a:b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olar fligh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DS-\B expansion and 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 B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e Dwy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summer/early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war Lak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summer/early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d for RNP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waypoints result in efficiencies equivalent  to random routing through the “core area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s not through the “core area” continue to random 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llow flights to proceed to waypoints that would either be identical, or would be laterally separated in many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easy introduction of mandated routes in the event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tingen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ch as HF black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ADD-876D-47AB-930B-C8F9FE57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333-1476-4D9B-92C6-19BF97FF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633-5E97-4267-BACF-3A7D59DF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6CC-0B8B-4EB9-A406-FB424766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81E-F7D4-4DBF-AA09-5563A5B2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74A-4218-4815-A953-23A11C38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5A4-EDD1-4E51-B258-415F1368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F88-8121-4337-80AB-1C081C82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B8A-4881-4A63-B763-6775FEF8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576-03A0-4375-9ACA-501FCBE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441-45D8-492A-AE47-26EFD04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19A-62D2-4B2D-8E68-6A86E43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D907-5340-4FD2-B2AC-95BB22225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lo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Edmont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Flight Information Region Upd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4508640"/>
            <a:ext cx="7924680" cy="144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 Polar Working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is November 2-5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620640"/>
          <a:ext cx="8136000" cy="522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600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storical Traffic: 2004 – 20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55640" y="549360"/>
          <a:ext cx="748836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74883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lar Monthly Growth 2010 ove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4360" y="557280"/>
          <a:ext cx="7848360" cy="50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57280"/>
                    <a:ext cx="784836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tal Polar Aircraft per Month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jects Under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monton ACC Contingency Plan -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adian Automated Air Traffic Systems (CAATS)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 ICD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cident with C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NP10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ruise Clim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ring 2011 all carrier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rn Warning Radars/ADS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 Winter/ early 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108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26:37Z</dcterms:created>
  <dc:creator>bakerc</dc:creator>
  <dc:description/>
  <dc:language>en-US</dc:language>
  <cp:lastModifiedBy>marchb</cp:lastModifiedBy>
  <dcterms:modified xsi:type="dcterms:W3CDTF">2010-10-15T14:51:01Z</dcterms:modified>
  <cp:revision>10</cp:revision>
  <dc:subject/>
  <dc:title>Slide 1</dc:title>
</cp:coreProperties>
</file>