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312025" cy="959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311600" cy="95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5"/>
          </p:nvPr>
        </p:nvSpPr>
        <p:spPr>
          <a:xfrm>
            <a:off x="414180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2553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4820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6"/>
          </p:nvPr>
        </p:nvSpPr>
        <p:spPr>
          <a:xfrm>
            <a:off x="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7"/>
          </p:nvPr>
        </p:nvSpPr>
        <p:spPr>
          <a:xfrm>
            <a:off x="414180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126-9FA6-4F18-B8B9-50E1AAC34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482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180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8B0-584E-4116-B604-3A3C1907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482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180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442-256A-4EB5-B04E-E98D3C6B8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708-7EF3-477C-99FC-113AB97B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0D0-2A87-4812-BD06-FBAC251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D36-9D93-4AE7-90AA-E7046FDD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2E6-A7E0-41E6-9308-6D6DD317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028-0BEC-48CC-AACA-59AB5C2A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256-C856-4970-AE8B-B22DF97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E04-C7F2-497E-AFA4-CAC419F0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5B8-E484-4651-99B5-6DBE440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559-8306-4C47-8C9D-B928EDC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3F7-CCFD-48DC-8B67-E3B9E0D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65C-7A5F-47C8-AFD7-A0A96F9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01-FE7C-4260-97EA-AFCAB7F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A980-D6E6-4A01-AF72-3E2A2DB30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Oceanic &amp; Offshore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eptember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7026120" y="627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D0FA-994A-48A7-B6CF-0A9A69F14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78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51"/>
          <p:cNvSpPr/>
          <p:nvPr/>
        </p:nvSpPr>
        <p:spPr>
          <a:xfrm>
            <a:off x="426960" y="4497480"/>
            <a:ext cx="482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2" name="Picture 1079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5" name="Picture 26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29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Oceanic &amp; Offshore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eptember 16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026120" y="627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D4A-DB74-4D28-B015-A5B33557D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304920" y="6211800"/>
            <a:ext cx="2666880" cy="459000"/>
          </a:xfrm>
          <a:prstGeom prst="rect">
            <a:avLst/>
          </a:prstGeom>
          <a:solidFill>
            <a:srgbClr val="000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WG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-5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TS Status Updat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1828800" y="4495680"/>
            <a:ext cx="29718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WG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san Horn, F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-5 Nov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ecisions still to be mad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address Track Advisory functionality including TKF processing and GRL generation once Track Generation is migrated to Ocean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of DP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of Contact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Ho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.E.Horn@faa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Backup Slides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New Connections to DPO (con’t)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isting DOTS+ account holders can request connectivity through Susan Horn starting November 01, 2010 (Susan.E.Horn@faa.gov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llowing is process followed for connection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 end user technical POC for further inter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DOTS+ maintenance will be informed by Susan Horn of request, and begin communication with identified end user technical P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py of the FTI IP User’s Guide will be provided to the technical POC. This identifies the requirements for setting up the VPN tunn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ablish VPN access to the FTI ED8 gateway, users must ensure compliance with the identified security requir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New Connections to DPO (con’t)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nection process (continued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llowing information will need to be provided by end user technical POC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ddress information necessary to configure the FTI access VPN tunn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of end-user equi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user point of contact (name, phone, emai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ata will be documented by FAA DOTS+ maintenance, and provided to F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ce FTI has necessary information, they will begin processing connection request and provide a planned connection da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 user technical POC will coordinate with an identified FTI POC to ensure adherence to requirements, test and verify connectivity, and address any initial connectivity issu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A DOTS+ maintenance will create DPO application user accounts with appropriate user r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How We Got to Where We Are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TS support contract with CSSI ended 30 September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nticipation of contract end, FAA conducted study to determine best course of action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ntract for DOTS suppor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OTS support with FA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A decided to use FAA resources for DOTS support starting 1 October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Dynamic Ocean Track System Plus (DOTS+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 Generation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 Advisor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user submitted Flight Requests (TK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Fs and responses are exchanged between users and DOTS either via NADIN (using AFTN/ARINC), or FTI (using DP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and distribution of the Gateway Reservation List (GR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TS Plus On-line (DPO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DOTS Plus On-line (DPO) 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erly also known as On-line Track Advisory (OLT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internet-accessible user interface to exchange data with the DOTS Track Advisory function via the FAA Telecommunications Infrastructure (FTI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urrent Status of DOTS+ Suppor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ition of responsibility for DOTS+ maintenance from CSSI to FAA began in early 2010 and was completed 1 October 201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A performing all DOTS+ maintenance with the following limit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Desk availability currently limited to normal business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 DOTS+ maintenance staff smaller (3 people) and currently less experienced on DOTS+ than previous CSSI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staff focus is to ensure availability of DOTS+ system and current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urrent Status of DOTS+ Suppor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TS maintenance will take precedence over DPO maintena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of new DOTS+ functionality or major enhancements on hold for the foreseeable fu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Migration of NADIN interface from current protocol (X.25) to IP via FTI to comply with FAA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urrent DPO Plan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urrent plan to elimin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upgrades plan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New Connections to DPO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A will limit new user connections to DPO to five per quarter for the following reas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regarding long term outlook and future of the DP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y regarding impact of additional users to support requirements (increased help desk call volume, new requirements e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ests will be handled on a first come/ first served bas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isting DOTS+ account holders can request connectivity through Susan Horn, e-mail to Susan.E.Horn@faa.gov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Longer Term (5 year) Outlook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ing feasibility of transitioning DOTS Track Generation function to the Ocean21 automation system and then decommissioning DOTS and D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Ocean21 study does not include transitioning the DOTS Track Advisory function or D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ble to transition DPO functionality to Ocean21 due to securit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Ocean21 infrastructure does not support internet connectivity to extern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8:52:44Z</dcterms:created>
  <dc:creator>Rick Lewis</dc:creator>
  <dc:description/>
  <dc:language>en-US</dc:language>
  <cp:lastModifiedBy>LMcCormick</cp:lastModifiedBy>
  <dcterms:modified xsi:type="dcterms:W3CDTF">2010-10-21T14:15:16Z</dcterms:modified>
  <cp:revision>59</cp:revision>
  <dc:subject/>
  <dc:title>DOTS+/OLTA Status Update</dc:title>
</cp:coreProperties>
</file>