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A4C2-95A6-47E7-B8BB-474EA48EB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0F81-3E44-4978-BC17-02DDEB8CD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4FD3-A1F0-4F90-8C3B-B88A939A3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1161DBB-2074-47E1-87F9-01580C129E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E555-1490-415F-A36E-BFF1ED133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8323-3B7F-47BE-9603-27F6E0432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8A58E5CD-5EBF-4D02-8722-9162570A0A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FDAC-B093-476F-A0EB-1503E3D9A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089C119-5EEF-496B-AC59-7240B666C6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28C4-D072-4812-BA37-47B93ABDD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237506F6-C804-4AE6-9314-E72D7E72E5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00C7-D0EF-4BBF-9481-9D00E09B9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2FE7026A-4989-4F7C-AF40-A4361B7FDC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DACF-24D6-4F80-9ADC-BB90314C5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1AB193D-F3E8-4AA9-B259-1883D352E2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775B-F97A-4510-A892-DCA74317B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BC8B7E0-938E-4653-9707-BCBD369AB3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19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3" descr="NEW FAA LOGO"/>
          <p:cNvPicPr/>
          <p:nvPr/>
        </p:nvPicPr>
        <p:blipFill>
          <a:blip r:embed="rId2"/>
          <a:srcRect l="14345" t="3761" r="14971" b="4567"/>
          <a:stretch/>
        </p:blipFill>
        <p:spPr>
          <a:xfrm>
            <a:off x="5689440" y="6276960"/>
            <a:ext cx="489240" cy="490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34"/>
          <p:cNvSpPr/>
          <p:nvPr/>
        </p:nvSpPr>
        <p:spPr>
          <a:xfrm>
            <a:off x="6386760" y="630396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35"/>
          <p:cNvSpPr/>
          <p:nvPr/>
        </p:nvSpPr>
        <p:spPr>
          <a:xfrm>
            <a:off x="449280" y="613404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CPWG/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441360" y="6540480"/>
            <a:ext cx="21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7-10 June 20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7"/>
          <p:cNvSpPr/>
          <p:nvPr/>
        </p:nvSpPr>
        <p:spPr>
          <a:xfrm>
            <a:off x="447840" y="6335640"/>
            <a:ext cx="21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St  Petersburg, Russ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1"/>
          <p:cNvSpPr/>
          <p:nvPr/>
        </p:nvSpPr>
        <p:spPr>
          <a:xfrm>
            <a:off x="8574120" y="641664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5DA8-FEA1-4FC1-8C76-115BF93425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2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0" descr="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51"/>
          <p:cNvGrpSpPr/>
          <p:nvPr/>
        </p:nvGrpSpPr>
        <p:grpSpPr>
          <a:xfrm>
            <a:off x="6054840" y="5630760"/>
            <a:ext cx="2894040" cy="911160"/>
            <a:chOff x="6054840" y="5630760"/>
            <a:chExt cx="2894040" cy="911160"/>
          </a:xfrm>
        </p:grpSpPr>
        <p:pic>
          <p:nvPicPr>
            <p:cNvPr id="49" name="Picture 52" descr="NEW FAA LOGO"/>
            <p:cNvPicPr/>
            <p:nvPr/>
          </p:nvPicPr>
          <p:blipFill>
            <a:blip r:embed="rId3"/>
            <a:srcRect l="14334" t="3733" r="14976" b="4567"/>
            <a:stretch/>
          </p:blipFill>
          <p:spPr>
            <a:xfrm>
              <a:off x="6054840" y="563076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53"/>
            <p:cNvSpPr/>
            <p:nvPr/>
          </p:nvSpPr>
          <p:spPr>
            <a:xfrm>
              <a:off x="6989760" y="581796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ederal Avi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ministra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mohsfeldt@cssiinc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363600" y="5513400"/>
            <a:ext cx="3849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PWG/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 Petersburg, Russ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-10 June 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60440" y="687240"/>
            <a:ext cx="420840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a59"/>
                </a:solidFill>
                <a:latin typeface="Arial"/>
              </a:rPr>
              <a:t>Oceanic Trajectory Based Operations Concept and Prog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dda59"/>
                </a:solidFill>
                <a:latin typeface="Arial"/>
              </a:rPr>
              <a:t>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932040" y="203040"/>
            <a:ext cx="7391160" cy="5913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107800" y="1744560"/>
            <a:ext cx="534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rs will be able to submit DOTS+ reservation reques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TTM Timelin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5360" y="12794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Departure Plan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b demonstration in Spring of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itiate operational trial in 2012-20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ed controller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 analysis to be completed in mid 2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enarios and simulations in Spring 20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gic feedback tools for the airl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 Demonstration in late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efits analysis in late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-CTP &amp; OCAT Operational Tr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 demonstration in May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ional trial set to begin in late 2011 in Oakland F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eb Presentation Planned for WE-CTP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d, June 22 at 2000 UT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ted CPWG members are invited to attend this virtual mee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further information, contact Melissa Ohsfeldt a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mohsfeldt@cssiinc.c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Man sitting on a giant question mark"/>
          <p:cNvPicPr/>
          <p:nvPr/>
        </p:nvPicPr>
        <p:blipFill>
          <a:blip r:embed="rId1"/>
          <a:stretch/>
        </p:blipFill>
        <p:spPr>
          <a:xfrm>
            <a:off x="0" y="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ceanic Trajectory Based Operation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e ability of airspace users to fly closer to their preferred 4D trajec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oceanic flight efficiency and predic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 FAA intervention and constr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collaboration and information sh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cus of this effort: early to mid-term (2011-201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Timeline for Trajectory Coordination and Execution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rcRect l="-2399" t="-2318" r="-1279" b="-3492"/>
          <a:stretch/>
        </p:blipFill>
        <p:spPr>
          <a:xfrm>
            <a:off x="984240" y="1359000"/>
            <a:ext cx="7178760" cy="4716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ncept of Trajectory Coordination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derlying concept is enhanced information sharing between airspace users and FA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rspace users are responsible for defining their preferred trajectory and are encouraged to provide them to the FA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r participation will lead to enhanced controller ability to grant requested cleara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rajectory Coordination (continued)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A provides feedback to airspace users on their trajectory information, based on traffic congestion information, weather, and restricted airspace, inclu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lihood of obtaining preferred trajectory on a flight-specific 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traffic congestion information via web cap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cription service for specific ale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Trajectory Execution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ler automation enhancements will be considered to enable airspace users to fly closer to their preferred 4D trajecto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didate capabilitie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l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reminder of user clearance requests previously den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ed conflict probe menus for conflict re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support for vertical optim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nabling Capability:  Web Enabled – Collaborative Trajectory Planning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-CTP will create a secure web interface to a number of capabilities/systems over the public Inter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 data and allow for user interaction with services in the most efficient and intuitive way poss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nabling Capability:  Web Enabled – Collaborative Trajectory Planning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itial capabil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TS Pl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ic Conflict Advisory Trial (OCAT) in Oakland F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Capabil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Departure Pla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–Specific Likeli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Profile Ale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52280" y="504720"/>
            <a:ext cx="8910720" cy="54104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228600" y="106668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th the Trajectory Builder, users can easily create 4D trajectories, which can be used in other parts of the applic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Leslie McCormick</cp:lastModifiedBy>
  <dcterms:modified xsi:type="dcterms:W3CDTF">2011-06-06T19:32:44Z</dcterms:modified>
  <cp:revision>361</cp:revision>
  <dc:subject/>
  <dc:title>Oakland ARTCC</dc:title>
</cp:coreProperties>
</file>