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8B09-CC02-4ADC-84A1-92B5D745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F8B-59C5-4764-9ED8-A58E3AF8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2A5-EEFB-413A-BB20-BCC18A94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41B-89C4-4913-A6D6-39BC101D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AE6-4462-4EC9-8F57-8D4E8232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F41-4D49-478A-9CF3-89E1DD89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C55-4095-4932-8728-CCEA58CC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CF5E-1BB4-4906-AE21-D6BABD54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4735-8D91-44C8-B5E8-57E2345F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A7BB-75E0-4A10-85CE-4434168E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BEF-15B0-4A65-AF79-C7B93551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780-1C24-49B1-BA3C-56F4B0C9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038A-9DF8-4800-BE97-BF7A1EA96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rctic3.jpg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5105520" y="914400"/>
            <a:ext cx="1143000" cy="368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ateral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o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3048120" y="1600200"/>
            <a:ext cx="1143000" cy="368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ateral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o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600200" y="2743200"/>
            <a:ext cx="990720" cy="368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ateral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o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2743200" y="3181320"/>
            <a:ext cx="1447920" cy="368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ateral:  50 NM (RNP-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ong:  15 min/10 min M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2666880" y="5715000"/>
            <a:ext cx="1143000" cy="505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ateral: 20N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ong: 30NM with DCPC or 10’ with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5029200" y="3124080"/>
            <a:ext cx="1143000" cy="368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ateral: 60 N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ong: 10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838080" y="3886200"/>
            <a:ext cx="1981440" cy="505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ateral:  50 NM (RNP-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ong:  10 m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irspace with radar coverage:  5 N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6705720" y="2286000"/>
            <a:ext cx="1143000" cy="368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ateral: 60 N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ong: 15/10 M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7772400" y="1523880"/>
            <a:ext cx="1143000" cy="368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ateral:  60 N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ong:  10 M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304920" y="3657600"/>
            <a:ext cx="838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2f2f2"/>
                </a:solidFill>
                <a:latin typeface="Arial"/>
              </a:rPr>
              <a:t>ANCHORAG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4572000" y="6248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RCTIC SEPARATION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7467480" y="152280"/>
            <a:ext cx="1447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WG/11-IP/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22:59:51Z</dcterms:created>
  <dc:creator>Leslie</dc:creator>
  <dc:description/>
  <dc:language>en-US</dc:language>
  <cp:lastModifiedBy>Leslie McCormick</cp:lastModifiedBy>
  <dcterms:modified xsi:type="dcterms:W3CDTF">2011-05-02T15:46:03Z</dcterms:modified>
  <cp:revision>11</cp:revision>
  <dc:subject/>
  <dc:title>Slide 1</dc:title>
</cp:coreProperties>
</file>