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B1A7-5371-4FE2-BCAD-015ECEB7012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46D8-CA74-4048-B43D-87F6C101E6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Present at CPWG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ch March, Manager Area Control Centre Operations, Edmon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3601-41A7-4329-961D-EC74A9868F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ily, “normal use,” of tactical re-routes has been discussed many times in the p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been discussed, or referenced to, in CP06-12, CP08-08 and CP09-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used for Emergency situations, traffic/conflict resolution, and for the re-evaluation of flight planned routes by crew/dispatch while already airbor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as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Jan. 6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er” in front - A346/B772/B77W, M.82 or M.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um” in the middle - B772/B77W, M.83 or M.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er” in the back - B744, M.85 or M.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going to the same fix (RAMEL), estimating within 20’ of each other, and all requesting FL340/10600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n’t have worked very well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solu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Assign all ~A.83. Faster than some want, slower than some w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Lower or Higher altitude than optimal for 1 or 2 f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y process was started to re-route China Eastern, and Air China was reduced to A.83 (B74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latively good solution, but still not 100% efficient, and very difficult to execute with current rules and procedures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rocess is very challen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+ hours required, including coordination with dispatch, dispatch with flight, dispatch with ZANC and Russia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great distance betwee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urr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ixes, some flights might not be able to take a re-rou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ject to late approval/den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lly this would be a much more efficient process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 of new fixes will make tactical re-route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easi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ore via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er distance betwee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urr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new fixes means most flight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e able to take a re-route if needed &amp;/or reques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Solution? Tactical reroutes for 1 or 2 fligh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example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ike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route the 2nd and 3rd aircraft – perhaps one to the north and one to the south? Both to the north? Both to the South? Many options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result i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igher probabil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every flight attaining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quested speed and altitu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even with RVSM throughout entire f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avCanada will continue to identify conflicts and make re-route recommendation(s) to airline(s). Willing to participate in future Polar reroute t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irlines: 1) A </a:t>
            </a: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willingness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to go through the reroute process, 2) Greater use of GRL, ETMS/ASD/DOTS++ etc. to “file away” from busy fixes to “less busy” fixes (easier with new fixes closer together); and, 3) in lieu of accepting a re-route, deciding on an altitude and/or speed adjustment inst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AA/Russia – Streamline current procedures to be more timely and effici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054A-6902-4E1E-9A8D-D408ADDF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0FFB-43F3-4831-B559-5B115BBF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714A-F69C-4548-8863-425F869C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DF50-265C-418F-916B-AB8E99818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D422-6D3F-4C0A-A78C-FD64A40D4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71B0-D3B3-448F-9F98-396DBA57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35D7-997D-4293-B7E9-A00F9150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6003-2673-40BC-9B31-FD61E5BE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EEAF-378A-42E0-A348-DE89F311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6F59-8BF7-49F3-AB61-B387B6F8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E1D7-6599-42C7-84F5-3A13C009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74FA-8E0D-49C9-A2EF-D1DBFD55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0720-8C0E-4E96-97F7-2034BC89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0CF1-06E2-4B7D-9C00-AFF29E62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4C80-003A-4285-A44D-0661622F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CA26-EFC7-4C49-81A0-546FFD3D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184D-602C-437F-8B39-A17C4DADE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0FCE-9006-44A8-B138-FF8C76D2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F5C4-9DE9-4104-B763-F8A3F311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BD92-EA34-4574-B827-5FD7CE2E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F1EA-0B11-49C2-B1D1-BD738B33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F8ED-9F29-4268-9ED6-764907AE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5ABD-809E-43AB-A1A9-96DD86EA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54C3-78CF-4A45-839A-DDA88A43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AB97-A4C1-4F5F-BC07-F85D46318B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5DF6-46C2-480D-ABA6-0612ED2A34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NAV_PPT-med_title-e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ZEG-ACC-200105-01 crop640"/>
          <p:cNvPicPr/>
          <p:nvPr/>
        </p:nvPicPr>
        <p:blipFill>
          <a:blip r:embed="rId2"/>
          <a:stretch/>
        </p:blipFill>
        <p:spPr>
          <a:xfrm>
            <a:off x="4643280" y="4292640"/>
            <a:ext cx="2305080" cy="1838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CZEG-ACC-200105-07 640"/>
          <p:cNvPicPr/>
          <p:nvPr/>
        </p:nvPicPr>
        <p:blipFill>
          <a:blip r:embed="rId3"/>
          <a:stretch/>
        </p:blipFill>
        <p:spPr>
          <a:xfrm>
            <a:off x="6948360" y="4292640"/>
            <a:ext cx="2195640" cy="1846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CRW_2874a 640"/>
          <p:cNvPicPr/>
          <p:nvPr/>
        </p:nvPicPr>
        <p:blipFill>
          <a:blip r:embed="rId4"/>
          <a:srcRect l="0" t="8935" r="0" b="0"/>
          <a:stretch/>
        </p:blipFill>
        <p:spPr>
          <a:xfrm>
            <a:off x="2050920" y="4292640"/>
            <a:ext cx="2667240" cy="1832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CRW_2881a 640"/>
          <p:cNvPicPr/>
          <p:nvPr/>
        </p:nvPicPr>
        <p:blipFill>
          <a:blip r:embed="rId5"/>
          <a:stretch/>
        </p:blipFill>
        <p:spPr>
          <a:xfrm>
            <a:off x="0" y="4292640"/>
            <a:ext cx="2268360" cy="18162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7"/>
          <p:cNvSpPr/>
          <p:nvPr/>
        </p:nvSpPr>
        <p:spPr>
          <a:xfrm>
            <a:off x="395280" y="1341360"/>
            <a:ext cx="85694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monton Area Control Centre presentation to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OSS POLAR WORKING GROU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Polar Tactical Re-routes”</a:t>
            </a:r>
            <a:br>
              <a:rPr sz="2000"/>
            </a:br>
            <a:r>
              <a:rPr b="1" lang="en-CA" sz="2000" spc="-1" strike="noStrike">
                <a:solidFill>
                  <a:srgbClr val="000d14"/>
                </a:solidFill>
                <a:latin typeface="Arial"/>
              </a:rPr>
              <a:t>Санкт-Петербург, </a:t>
            </a:r>
            <a:r>
              <a:rPr b="1" lang="ru-RU" sz="1800" spc="-1" strike="noStrike">
                <a:solidFill>
                  <a:srgbClr val="000d14"/>
                </a:solidFill>
                <a:latin typeface="Verdana"/>
              </a:rPr>
              <a:t>Россия</a:t>
            </a:r>
            <a:r>
              <a:rPr b="0" lang="en-CA" sz="5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June 7-10, 2011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ed by: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рион</a:t>
            </a:r>
            <a:r>
              <a:rPr b="1" lang="en-C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рлсон</a:t>
            </a: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yon Carlson)                    Edmonton ACC North High Supervisor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s/Discus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067280" y="2636640"/>
            <a:ext cx="461952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Verdana"/>
              </a:rPr>
              <a:t>??</a:t>
            </a:r>
            <a:endParaRPr b="0" lang="en-US" sz="9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497800" cy="1160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olar Tactical Re-rout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826920" y="2205000"/>
            <a:ext cx="69850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aily, “normal use,” of tactical re-routes has been discussed many times in the pas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 been discussed, or referenced to, in CP06-12, CP08-08 and CP09-03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ld be used for Emergency situations, traffic/conflict resolution, and for the re-evaluation of flight planned routes by crew/dispatch while already airborne.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3"/>
          <p:cNvSpPr/>
          <p:nvPr/>
        </p:nvSpPr>
        <p:spPr>
          <a:xfrm>
            <a:off x="0" y="36450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NIKI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0" y="4221000"/>
            <a:ext cx="11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ORVIT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0" y="249228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AMEL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0" y="134136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NALI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0" y="40464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DEVID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0" y="595008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ILU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0" y="64533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LISKI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AutoShape 10"/>
          <p:cNvSpPr/>
          <p:nvPr/>
        </p:nvSpPr>
        <p:spPr>
          <a:xfrm>
            <a:off x="539640" y="6524640"/>
            <a:ext cx="192240" cy="14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539640" y="3645000"/>
            <a:ext cx="192240" cy="14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AutoShape 12"/>
          <p:cNvSpPr/>
          <p:nvPr/>
        </p:nvSpPr>
        <p:spPr>
          <a:xfrm>
            <a:off x="539640" y="6021360"/>
            <a:ext cx="192240" cy="14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AutoShape 13"/>
          <p:cNvSpPr/>
          <p:nvPr/>
        </p:nvSpPr>
        <p:spPr>
          <a:xfrm>
            <a:off x="539640" y="4221000"/>
            <a:ext cx="192240" cy="1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AutoShape 14"/>
          <p:cNvSpPr/>
          <p:nvPr/>
        </p:nvSpPr>
        <p:spPr>
          <a:xfrm>
            <a:off x="539640" y="404640"/>
            <a:ext cx="192240" cy="1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AutoShape 15"/>
          <p:cNvSpPr/>
          <p:nvPr/>
        </p:nvSpPr>
        <p:spPr>
          <a:xfrm>
            <a:off x="539640" y="2492280"/>
            <a:ext cx="192240" cy="1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AutoShape 16"/>
          <p:cNvSpPr/>
          <p:nvPr/>
        </p:nvSpPr>
        <p:spPr>
          <a:xfrm>
            <a:off x="539640" y="1413000"/>
            <a:ext cx="192240" cy="14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Line 20"/>
          <p:cNvSpPr/>
          <p:nvPr/>
        </p:nvSpPr>
        <p:spPr>
          <a:xfrm>
            <a:off x="61128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ext Box 23"/>
          <p:cNvSpPr/>
          <p:nvPr/>
        </p:nvSpPr>
        <p:spPr>
          <a:xfrm>
            <a:off x="1692360" y="40464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mon scenario in Edmont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Text Box 25"/>
          <p:cNvSpPr/>
          <p:nvPr/>
        </p:nvSpPr>
        <p:spPr>
          <a:xfrm>
            <a:off x="1619280" y="3284640"/>
            <a:ext cx="705636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Based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on Jan. 6, 201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lower” in front - A346/B772/B77W, M.82 or M.8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edium” in the middle - B772/B77W, M.83 or M.8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aster” in the back - B744, M.85 or M.8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ll going to the same fix (RAMEL), estimating within 20’ of each other, and all requesting FL340/10600m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ouldn’t have worked very well!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940360" y="2492280"/>
          <a:ext cx="1332000" cy="3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2492280"/>
                    <a:ext cx="13320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4500720" y="2492280"/>
          <a:ext cx="1306440" cy="36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2492280"/>
                    <a:ext cx="130644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7596360" y="2492280"/>
          <a:ext cx="144288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96360" y="2492280"/>
                    <a:ext cx="144288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843280" y="2492280"/>
          <a:ext cx="1439640" cy="327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3280" y="2492280"/>
                    <a:ext cx="1439640" cy="3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8028000" y="1557360"/>
            <a:ext cx="687240" cy="687240"/>
          </a:xfrm>
          <a:custGeom>
            <a:avLst/>
            <a:gdLst>
              <a:gd name="textAreaLeft" fmla="*/ 282960 w 687240"/>
              <a:gd name="textAreaRight" fmla="*/ 404280 w 687240"/>
              <a:gd name="textAreaTop" fmla="*/ 282960 h 687240"/>
              <a:gd name="textAreaBottom" fmla="*/ 404280 h 68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8172360" y="1197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1000" autoRev="1" fill="hold"/>
                                        <p:tgtEl>
                                          <p:spTgt spid="2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1000" autoRev="1" fill="hold"/>
                                        <p:tgtEl>
                                          <p:spTgt spid="1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1000" autoRev="1" fill="hold"/>
                                        <p:tgtEl>
                                          <p:spTgt spid="1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1000" autoRev="1" fill="hold"/>
                                        <p:tgtEl>
                                          <p:spTgt spid="1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-0.83472 -0.01042 E">
                                      <p:cBhvr>
                                        <p:cTn id="75" dur="20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81481E-006 L -0.92187 -0.01574 E">
                                      <p:cBhvr>
                                        <p:cTn id="77" dur="20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7037E-007 L -0.91337 -0.02084 E">
                                      <p:cBhvr>
                                        <p:cTn id="79" dur="20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9.25926E-006 L -1.04739 -0.03148 E">
                                      <p:cBhvr>
                                        <p:cTn id="81" dur="20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0" y="36450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NIKI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0" y="4221000"/>
            <a:ext cx="11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ORVIT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0" y="249228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AMEL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0" y="134136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NALI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0" y="40464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DEVID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0" y="595008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ILU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0" y="64533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LISKI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539640" y="6524640"/>
            <a:ext cx="192240" cy="14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AutoShape 10"/>
          <p:cNvSpPr/>
          <p:nvPr/>
        </p:nvSpPr>
        <p:spPr>
          <a:xfrm>
            <a:off x="539640" y="3645000"/>
            <a:ext cx="192240" cy="14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AutoShape 11"/>
          <p:cNvSpPr/>
          <p:nvPr/>
        </p:nvSpPr>
        <p:spPr>
          <a:xfrm>
            <a:off x="539640" y="6021360"/>
            <a:ext cx="192240" cy="14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AutoShape 12"/>
          <p:cNvSpPr/>
          <p:nvPr/>
        </p:nvSpPr>
        <p:spPr>
          <a:xfrm>
            <a:off x="539640" y="4221000"/>
            <a:ext cx="192240" cy="1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AutoShape 13"/>
          <p:cNvSpPr/>
          <p:nvPr/>
        </p:nvSpPr>
        <p:spPr>
          <a:xfrm>
            <a:off x="539640" y="404640"/>
            <a:ext cx="192240" cy="1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AutoShape 14"/>
          <p:cNvSpPr/>
          <p:nvPr/>
        </p:nvSpPr>
        <p:spPr>
          <a:xfrm>
            <a:off x="539640" y="2492280"/>
            <a:ext cx="192240" cy="1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AutoShape 15"/>
          <p:cNvSpPr/>
          <p:nvPr/>
        </p:nvSpPr>
        <p:spPr>
          <a:xfrm>
            <a:off x="539640" y="1413000"/>
            <a:ext cx="192240" cy="14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61128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1692360" y="40464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mon scenario in Edmont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1619280" y="3500280"/>
            <a:ext cx="7056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ypical solutions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) Assign all ~A.83. Faster than some want, slower than some wa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) Lower or Higher altitude than optimal for 1 or 2 fligh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843280" y="2492280"/>
          <a:ext cx="1439640" cy="3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492280"/>
                    <a:ext cx="1439640" cy="3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4500720" y="2492280"/>
          <a:ext cx="1306440" cy="36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2492280"/>
                    <a:ext cx="130644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5940360" y="2492280"/>
          <a:ext cx="133200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0360" y="2492280"/>
                    <a:ext cx="13320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7596360" y="2492280"/>
          <a:ext cx="1442880" cy="36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96360" y="2492280"/>
                    <a:ext cx="144288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8028000" y="1557360"/>
            <a:ext cx="687240" cy="687240"/>
          </a:xfrm>
          <a:custGeom>
            <a:avLst/>
            <a:gdLst>
              <a:gd name="textAreaLeft" fmla="*/ 282960 w 687240"/>
              <a:gd name="textAreaRight" fmla="*/ 404280 w 687240"/>
              <a:gd name="textAreaTop" fmla="*/ 282960 h 687240"/>
              <a:gd name="textAreaBottom" fmla="*/ 404280 h 68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8172360" y="1197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Line 20"/>
          <p:cNvSpPr/>
          <p:nvPr/>
        </p:nvSpPr>
        <p:spPr>
          <a:xfrm>
            <a:off x="104292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971640" y="6453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141W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-0.83472 -0.01042 E">
                                      <p:cBhvr>
                                        <p:cTn id="91" dur="19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81481E-006 L -0.86684 -0.01574 E">
                                      <p:cBhvr>
                                        <p:cTn id="93" dur="20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7037E-007 L -0.91337 -0.02084 E">
                                      <p:cBhvr>
                                        <p:cTn id="95" dur="21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0.00138 L -0.01163 -0.00138 L -0.03195 0.00602 L -0.04219 -0.00508 L -0.05243 0.00232 L -0.06233 -0.00855 L -0.07396 0.00232 L -0.08403 -0.00855 L -0.09306 0.0007 L -0.11337 -0.0067 L -0.13125 0.00232 L -0.13889 -0.0067 L -0.15399 0.0007 L -0.17188 -0.01041 L -0.17952 0.0007 L -0.19618 -0.01041 L -0.20521 0.00232 L -0.21511 -0.00855 L -0.22292 0.00232 L -0.24306 0.0007 L -0.25851 -0.01041 L -0.26615 -0.003 L -0.2724 -0.01226 L -0.29653 -0.00138 L -0.30556 -0.01596 L -0.31563 -0.00508 L -0.33351 -0.01966 L -0.34879 -0.00508 L -0.36545 -0.01041 L -0.37431 -0.00508 L -0.38698 -0.01966 L -0.4099 -0.01387 L -0.42778 -0.00508 L -0.45191 -0.01966 L -0.47188 -0.00971 L -0.49149 -0.02428 L -0.51771 -0.00971 L -0.54774 -0.02567 L -0.57257 -0.01341 L -0.60729 -0.01087 L -0.64115 -0.02058 L -0.67587 -0.00925 L -0.71267 -0.01873 L -0.73993 -0.01966 L -0.77361 -0.0259 L -0.80174 -0.01387 L -0.83472 -0.0296 L -0.86129 -0.01966 L -0.95295 -0.0259 E">
                                      <p:cBhvr>
                                        <p:cTn id="97" dur="21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5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59 1.48148E-006 C 0.02448 0.00741 -0.0302 -0.00602 -0.06562 0.02106 C -0.10104 0.04815 -0.14705 0.07384 -0.17343 0.16204 C -0.19982 0.25023 -0.18472 0.45879 -0.22395 0.55023 C -0.26319 0.64167 -0.37083 0.67754 -0.40937 0.71111 E">
                                      <p:cBhvr>
                                        <p:cTn id="108" dur="20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20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" dur="20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16185E-006 C -0.10521 -0.01618 -0.2125 -0.01086 -0.31771 -0.01271 C -0.46788 -0.01734 -0.80434 -0.02543 -0.90156 -0.02797 E">
                                      <p:cBhvr>
                                        <p:cTn id="115" dur="20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0.00023 C -0.02066 -0.01297 -0.03525 -0.02477 -0.05209 -0.03797 C -0.07934 -0.07662 -0.19601 -0.13172 -0.23212 -0.17732 C -0.28108 -0.23588 -0.30851 -0.35857 -0.34115 -0.38773 C -0.37952 -0.42269 -0.3658 -0.41945 -0.39306 -0.44167 C -0.41667 -0.46042 -0.47327 -0.50371 -0.50591 -0.52084 C -0.55452 -0.54722 -0.64931 -0.58403 -0.68195 -0.6 C -0.68976 -0.60556 -0.69341 -0.61111 -0.70226 -0.61667 C -0.70695 -0.61968 -0.7224 -0.62523 -0.7224 -0.625 E">
                                      <p:cBhvr>
                                        <p:cTn id="117" dur="20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20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20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16185E-006 C -0.03559 -0.00786 -0.07031 -0.01387 -0.10642 -0.01687 C -0.12379 -0.01826 -0.15868 -0.02104 -0.15868 -0.02081 C -0.29913 -0.02011 -0.81511 -0.01294 -0.94913 -0.01271 C -0.95399 -0.01502 -0.95347 -0.01526 -0.96337 -0.01872 C -0.97118 -0.02335 -1.00278 -0.03005 -1.00955 -0.03422 E">
                                      <p:cBhvr>
                                        <p:cTn id="124" dur="20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0" y="36450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NIKI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0" y="4221000"/>
            <a:ext cx="11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ORVIT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0" y="249228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AMEL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0" y="134136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NALI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0" y="40464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DEVID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0" y="595008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ILU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0" y="64533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LISKI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AutoShape 9"/>
          <p:cNvSpPr/>
          <p:nvPr/>
        </p:nvSpPr>
        <p:spPr>
          <a:xfrm>
            <a:off x="539640" y="6524640"/>
            <a:ext cx="192240" cy="14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AutoShape 10"/>
          <p:cNvSpPr/>
          <p:nvPr/>
        </p:nvSpPr>
        <p:spPr>
          <a:xfrm>
            <a:off x="539640" y="3645000"/>
            <a:ext cx="192240" cy="14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AutoShape 11"/>
          <p:cNvSpPr/>
          <p:nvPr/>
        </p:nvSpPr>
        <p:spPr>
          <a:xfrm>
            <a:off x="539640" y="6021360"/>
            <a:ext cx="192240" cy="14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AutoShape 12"/>
          <p:cNvSpPr/>
          <p:nvPr/>
        </p:nvSpPr>
        <p:spPr>
          <a:xfrm>
            <a:off x="539640" y="4221000"/>
            <a:ext cx="192240" cy="1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AutoShape 13"/>
          <p:cNvSpPr/>
          <p:nvPr/>
        </p:nvSpPr>
        <p:spPr>
          <a:xfrm>
            <a:off x="539640" y="404640"/>
            <a:ext cx="192240" cy="1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AutoShape 14"/>
          <p:cNvSpPr/>
          <p:nvPr/>
        </p:nvSpPr>
        <p:spPr>
          <a:xfrm>
            <a:off x="539640" y="2492280"/>
            <a:ext cx="192240" cy="1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AutoShape 15"/>
          <p:cNvSpPr/>
          <p:nvPr/>
        </p:nvSpPr>
        <p:spPr>
          <a:xfrm>
            <a:off x="539640" y="1413000"/>
            <a:ext cx="192240" cy="14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Line 18"/>
          <p:cNvSpPr/>
          <p:nvPr/>
        </p:nvSpPr>
        <p:spPr>
          <a:xfrm>
            <a:off x="61128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Text Box 21"/>
          <p:cNvSpPr/>
          <p:nvPr/>
        </p:nvSpPr>
        <p:spPr>
          <a:xfrm>
            <a:off x="1403280" y="404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an. 6, 2011 scenario in Edmont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Text Box 22"/>
          <p:cNvSpPr/>
          <p:nvPr/>
        </p:nvSpPr>
        <p:spPr>
          <a:xfrm>
            <a:off x="2411280" y="3645000"/>
            <a:ext cx="6301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ngthy process was started to re-route China Eastern, and Air China was reduced to A.83 (B744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elatively good solution, but still not 100% efficient, and very difficult to execute with current rules and procedures……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411280" y="2492280"/>
          <a:ext cx="1440000" cy="3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492280"/>
                    <a:ext cx="1440000" cy="3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4211640" y="2492280"/>
          <a:ext cx="1306440" cy="36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2492280"/>
                    <a:ext cx="130644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6012000" y="2492280"/>
          <a:ext cx="133164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2492280"/>
                    <a:ext cx="13316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7701120" y="2492280"/>
          <a:ext cx="1442880" cy="36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01120" y="2492280"/>
                    <a:ext cx="144288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8028000" y="1557360"/>
            <a:ext cx="687240" cy="687240"/>
          </a:xfrm>
          <a:custGeom>
            <a:avLst/>
            <a:gdLst>
              <a:gd name="textAreaLeft" fmla="*/ 282960 w 687240"/>
              <a:gd name="textAreaRight" fmla="*/ 404280 w 687240"/>
              <a:gd name="textAreaTop" fmla="*/ 282960 h 687240"/>
              <a:gd name="textAreaBottom" fmla="*/ 404280 h 68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/>
          <p:nvPr/>
        </p:nvSpPr>
        <p:spPr>
          <a:xfrm>
            <a:off x="8172360" y="1197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971640" y="6453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141W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Line 20"/>
          <p:cNvSpPr/>
          <p:nvPr/>
        </p:nvSpPr>
        <p:spPr>
          <a:xfrm>
            <a:off x="104292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0.00023 C -0.0125 0.00116 -0.01458 -0.000690000000000001 -0.02274 0.00717 C -0.03298 0.01319 -0.05364 0.02891 -0.06163 0.03539 C -0.07587 0.05482 -0.09184 0.1034 -0.10833 0.12329 L -0.16076 0.15452 C -0.21146 0.14226 -0.62951 0.15221 -0.67708 0.1374 E">
                                      <p:cBhvr>
                                        <p:cTn id="134" dur="20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81481E-006 L -0.86684 -0.01574 E">
                                      <p:cBhvr>
                                        <p:cTn id="136" dur="20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06037E-006 L -0.94688 -0.02684 E">
                                      <p:cBhvr>
                                        <p:cTn id="138" dur="21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9.41476E-007 L -1.0158 -0.03146 E">
                                      <p:cBhvr>
                                        <p:cTn id="140" dur="23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0" y="36450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NIKI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0" y="4221000"/>
            <a:ext cx="11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ORVIT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0" y="249228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AMEL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0" y="134136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NALI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0" y="40464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DEVID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0" y="595008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ILU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0" y="64533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LISKI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AutoShape 9"/>
          <p:cNvSpPr/>
          <p:nvPr/>
        </p:nvSpPr>
        <p:spPr>
          <a:xfrm>
            <a:off x="539640" y="6524640"/>
            <a:ext cx="192240" cy="14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AutoShape 10"/>
          <p:cNvSpPr/>
          <p:nvPr/>
        </p:nvSpPr>
        <p:spPr>
          <a:xfrm>
            <a:off x="539640" y="3645000"/>
            <a:ext cx="192240" cy="14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AutoShape 11"/>
          <p:cNvSpPr/>
          <p:nvPr/>
        </p:nvSpPr>
        <p:spPr>
          <a:xfrm>
            <a:off x="539640" y="6021360"/>
            <a:ext cx="192240" cy="14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AutoShape 12"/>
          <p:cNvSpPr/>
          <p:nvPr/>
        </p:nvSpPr>
        <p:spPr>
          <a:xfrm>
            <a:off x="539640" y="4221000"/>
            <a:ext cx="192240" cy="1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AutoShape 13"/>
          <p:cNvSpPr/>
          <p:nvPr/>
        </p:nvSpPr>
        <p:spPr>
          <a:xfrm>
            <a:off x="539640" y="404640"/>
            <a:ext cx="192240" cy="1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AutoShape 14"/>
          <p:cNvSpPr/>
          <p:nvPr/>
        </p:nvSpPr>
        <p:spPr>
          <a:xfrm>
            <a:off x="539640" y="2492280"/>
            <a:ext cx="192240" cy="1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AutoShape 15"/>
          <p:cNvSpPr/>
          <p:nvPr/>
        </p:nvSpPr>
        <p:spPr>
          <a:xfrm>
            <a:off x="539640" y="1413000"/>
            <a:ext cx="192240" cy="14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18"/>
          <p:cNvSpPr/>
          <p:nvPr/>
        </p:nvSpPr>
        <p:spPr>
          <a:xfrm>
            <a:off x="61128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Text Box 21"/>
          <p:cNvSpPr/>
          <p:nvPr/>
        </p:nvSpPr>
        <p:spPr>
          <a:xfrm>
            <a:off x="1403280" y="404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an. 6, 2011 scenario in Edmont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Text Box 22"/>
          <p:cNvSpPr/>
          <p:nvPr/>
        </p:nvSpPr>
        <p:spPr>
          <a:xfrm>
            <a:off x="2411280" y="3645000"/>
            <a:ext cx="63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2411280" y="2492280"/>
          <a:ext cx="1440000" cy="3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492280"/>
                    <a:ext cx="1440000" cy="3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4211640" y="2492280"/>
          <a:ext cx="1306440" cy="36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2492280"/>
                    <a:ext cx="130644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6012000" y="2492280"/>
          <a:ext cx="133164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2492280"/>
                    <a:ext cx="13316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7701120" y="2492280"/>
          <a:ext cx="1442880" cy="36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01120" y="2492280"/>
                    <a:ext cx="144288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8028000" y="1557360"/>
            <a:ext cx="687240" cy="687240"/>
          </a:xfrm>
          <a:custGeom>
            <a:avLst/>
            <a:gdLst>
              <a:gd name="textAreaLeft" fmla="*/ 282960 w 687240"/>
              <a:gd name="textAreaRight" fmla="*/ 404280 w 687240"/>
              <a:gd name="textAreaTop" fmla="*/ 282960 h 687240"/>
              <a:gd name="textAreaBottom" fmla="*/ 404280 h 68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8172360" y="1197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1692360" y="3213000"/>
            <a:ext cx="68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process is very challeng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+ hours required, including coordination with dispatch, dispatch with flight, dispatch with ZANC and Russia etc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great distance betwee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urr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xes, some flights might not be able to take a re-rout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ject to late approval/deni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ally this would be a much more efficient process……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826920" y="4365720"/>
            <a:ext cx="0" cy="172728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826920" y="2565360"/>
            <a:ext cx="0" cy="115092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>
            <a:off x="826920" y="1484280"/>
            <a:ext cx="0" cy="107964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>
            <a:off x="826920" y="476280"/>
            <a:ext cx="0" cy="93672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>
            <a:off x="755640" y="486900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20NM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755640" y="299736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20NM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755640" y="184464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10NM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755640" y="90792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60NM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0" y="36450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NIKI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0" y="4221000"/>
            <a:ext cx="11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ORVIT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0" y="249228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AMEL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0" y="134136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NALI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0" y="40464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DEVID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0" y="595008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ILU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0" y="64533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LISKI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AutoShape 9"/>
          <p:cNvSpPr/>
          <p:nvPr/>
        </p:nvSpPr>
        <p:spPr>
          <a:xfrm>
            <a:off x="539640" y="6524640"/>
            <a:ext cx="192240" cy="14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AutoShape 10"/>
          <p:cNvSpPr/>
          <p:nvPr/>
        </p:nvSpPr>
        <p:spPr>
          <a:xfrm>
            <a:off x="539640" y="3645000"/>
            <a:ext cx="192240" cy="14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AutoShape 11"/>
          <p:cNvSpPr/>
          <p:nvPr/>
        </p:nvSpPr>
        <p:spPr>
          <a:xfrm>
            <a:off x="539640" y="6021360"/>
            <a:ext cx="192240" cy="14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AutoShape 12"/>
          <p:cNvSpPr/>
          <p:nvPr/>
        </p:nvSpPr>
        <p:spPr>
          <a:xfrm>
            <a:off x="539640" y="4221000"/>
            <a:ext cx="192240" cy="1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AutoShape 13"/>
          <p:cNvSpPr/>
          <p:nvPr/>
        </p:nvSpPr>
        <p:spPr>
          <a:xfrm>
            <a:off x="539640" y="404640"/>
            <a:ext cx="192240" cy="1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AutoShape 14"/>
          <p:cNvSpPr/>
          <p:nvPr/>
        </p:nvSpPr>
        <p:spPr>
          <a:xfrm>
            <a:off x="539640" y="2492280"/>
            <a:ext cx="192240" cy="1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AutoShape 15"/>
          <p:cNvSpPr/>
          <p:nvPr/>
        </p:nvSpPr>
        <p:spPr>
          <a:xfrm>
            <a:off x="539640" y="1413000"/>
            <a:ext cx="192240" cy="14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Line 17"/>
          <p:cNvSpPr/>
          <p:nvPr/>
        </p:nvSpPr>
        <p:spPr>
          <a:xfrm>
            <a:off x="61128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Text Box 19"/>
          <p:cNvSpPr/>
          <p:nvPr/>
        </p:nvSpPr>
        <p:spPr>
          <a:xfrm>
            <a:off x="1835280" y="11592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dition of new fixes…….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Text Box 20"/>
          <p:cNvSpPr/>
          <p:nvPr/>
        </p:nvSpPr>
        <p:spPr>
          <a:xfrm>
            <a:off x="1619280" y="3500280"/>
            <a:ext cx="705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AutoShape 23"/>
          <p:cNvSpPr/>
          <p:nvPr/>
        </p:nvSpPr>
        <p:spPr>
          <a:xfrm>
            <a:off x="539640" y="5516640"/>
            <a:ext cx="192240" cy="14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0" y="5445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NEW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AutoShape 25"/>
          <p:cNvSpPr/>
          <p:nvPr/>
        </p:nvSpPr>
        <p:spPr>
          <a:xfrm>
            <a:off x="539640" y="4724280"/>
            <a:ext cx="192240" cy="1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AutoShape 26"/>
          <p:cNvSpPr/>
          <p:nvPr/>
        </p:nvSpPr>
        <p:spPr>
          <a:xfrm>
            <a:off x="539640" y="3284640"/>
            <a:ext cx="192240" cy="14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Text Box 27"/>
          <p:cNvSpPr/>
          <p:nvPr/>
        </p:nvSpPr>
        <p:spPr>
          <a:xfrm>
            <a:off x="0" y="472428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NEW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0" y="292428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NEW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AutoShape 29"/>
          <p:cNvSpPr/>
          <p:nvPr/>
        </p:nvSpPr>
        <p:spPr>
          <a:xfrm>
            <a:off x="539640" y="2924280"/>
            <a:ext cx="192240" cy="14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Text Box 30"/>
          <p:cNvSpPr/>
          <p:nvPr/>
        </p:nvSpPr>
        <p:spPr>
          <a:xfrm>
            <a:off x="0" y="32846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NEW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AutoShape 31"/>
          <p:cNvSpPr/>
          <p:nvPr/>
        </p:nvSpPr>
        <p:spPr>
          <a:xfrm>
            <a:off x="539640" y="1989000"/>
            <a:ext cx="192240" cy="1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Text Box 32"/>
          <p:cNvSpPr/>
          <p:nvPr/>
        </p:nvSpPr>
        <p:spPr>
          <a:xfrm>
            <a:off x="0" y="1989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NEW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2484360" y="2492280"/>
          <a:ext cx="1440000" cy="3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492280"/>
                    <a:ext cx="1440000" cy="3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4344840" y="2492280"/>
          <a:ext cx="1306800" cy="36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4840" y="2492280"/>
                    <a:ext cx="13068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6012000" y="2492280"/>
          <a:ext cx="133164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2492280"/>
                    <a:ext cx="13316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7701120" y="2492280"/>
          <a:ext cx="1442880" cy="36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01120" y="2492280"/>
                    <a:ext cx="144288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2411280" y="3357720"/>
            <a:ext cx="60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tion of new fixes will make tactical re-route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asi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ore vi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rter distance betwee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urr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new fixes means most flight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 able to take a re-route if needed &amp;/or requeste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/>
          <p:nvPr/>
        </p:nvSpPr>
        <p:spPr>
          <a:xfrm>
            <a:off x="8028000" y="1557360"/>
            <a:ext cx="687240" cy="687240"/>
          </a:xfrm>
          <a:custGeom>
            <a:avLst/>
            <a:gdLst>
              <a:gd name="textAreaLeft" fmla="*/ 282960 w 687240"/>
              <a:gd name="textAreaRight" fmla="*/ 404280 w 687240"/>
              <a:gd name="textAreaTop" fmla="*/ 282960 h 687240"/>
              <a:gd name="textAreaBottom" fmla="*/ 404280 h 68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/>
          <p:nvPr/>
        </p:nvSpPr>
        <p:spPr>
          <a:xfrm>
            <a:off x="8172360" y="1197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/>
          <p:nvPr/>
        </p:nvSpPr>
        <p:spPr>
          <a:xfrm>
            <a:off x="971640" y="6453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141W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04292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0" y="36450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NIKI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0" y="4221000"/>
            <a:ext cx="11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ORVIT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0" y="249228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AMEL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0" y="134136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NALI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0" y="40464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DEVID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0" y="595008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ILU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Text Box 8"/>
          <p:cNvSpPr/>
          <p:nvPr/>
        </p:nvSpPr>
        <p:spPr>
          <a:xfrm>
            <a:off x="0" y="64533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LISKI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AutoShape 9"/>
          <p:cNvSpPr/>
          <p:nvPr/>
        </p:nvSpPr>
        <p:spPr>
          <a:xfrm>
            <a:off x="539640" y="6524640"/>
            <a:ext cx="192240" cy="14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AutoShape 10"/>
          <p:cNvSpPr/>
          <p:nvPr/>
        </p:nvSpPr>
        <p:spPr>
          <a:xfrm>
            <a:off x="539640" y="3645000"/>
            <a:ext cx="192240" cy="14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AutoShape 11"/>
          <p:cNvSpPr/>
          <p:nvPr/>
        </p:nvSpPr>
        <p:spPr>
          <a:xfrm>
            <a:off x="539640" y="6021360"/>
            <a:ext cx="192240" cy="14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AutoShape 12"/>
          <p:cNvSpPr/>
          <p:nvPr/>
        </p:nvSpPr>
        <p:spPr>
          <a:xfrm>
            <a:off x="539640" y="4221000"/>
            <a:ext cx="192240" cy="1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AutoShape 13"/>
          <p:cNvSpPr/>
          <p:nvPr/>
        </p:nvSpPr>
        <p:spPr>
          <a:xfrm>
            <a:off x="539640" y="404640"/>
            <a:ext cx="192240" cy="1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AutoShape 14"/>
          <p:cNvSpPr/>
          <p:nvPr/>
        </p:nvSpPr>
        <p:spPr>
          <a:xfrm>
            <a:off x="539640" y="2492280"/>
            <a:ext cx="192240" cy="1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AutoShape 15"/>
          <p:cNvSpPr/>
          <p:nvPr/>
        </p:nvSpPr>
        <p:spPr>
          <a:xfrm>
            <a:off x="539640" y="1413000"/>
            <a:ext cx="192240" cy="14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Line 17"/>
          <p:cNvSpPr/>
          <p:nvPr/>
        </p:nvSpPr>
        <p:spPr>
          <a:xfrm>
            <a:off x="61128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Text Box 19"/>
          <p:cNvSpPr/>
          <p:nvPr/>
        </p:nvSpPr>
        <p:spPr>
          <a:xfrm>
            <a:off x="1835280" y="11592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dition of new fixes…….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Text Box 20"/>
          <p:cNvSpPr/>
          <p:nvPr/>
        </p:nvSpPr>
        <p:spPr>
          <a:xfrm>
            <a:off x="1619280" y="3500280"/>
            <a:ext cx="705636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tter Solution? Tactical reroutes for 1 or 2 flight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this example,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like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route the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ircraft – perhaps one to the north and one to the south? Both to the north? Both to the South? Many options availabl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result i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higher probabil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every flight attaining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requested speed and altitud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even with RVSM throughout entire fligh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AutoShape 23"/>
          <p:cNvSpPr/>
          <p:nvPr/>
        </p:nvSpPr>
        <p:spPr>
          <a:xfrm>
            <a:off x="539640" y="5516640"/>
            <a:ext cx="192240" cy="14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Text Box 24"/>
          <p:cNvSpPr/>
          <p:nvPr/>
        </p:nvSpPr>
        <p:spPr>
          <a:xfrm>
            <a:off x="0" y="5445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NEW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AutoShape 25"/>
          <p:cNvSpPr/>
          <p:nvPr/>
        </p:nvSpPr>
        <p:spPr>
          <a:xfrm>
            <a:off x="539640" y="4724280"/>
            <a:ext cx="192240" cy="1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AutoShape 26"/>
          <p:cNvSpPr/>
          <p:nvPr/>
        </p:nvSpPr>
        <p:spPr>
          <a:xfrm>
            <a:off x="539640" y="3284640"/>
            <a:ext cx="192240" cy="14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0" y="472428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NEW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0" y="292428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NEW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AutoShape 29"/>
          <p:cNvSpPr/>
          <p:nvPr/>
        </p:nvSpPr>
        <p:spPr>
          <a:xfrm>
            <a:off x="539640" y="2924280"/>
            <a:ext cx="192240" cy="14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Text Box 30"/>
          <p:cNvSpPr/>
          <p:nvPr/>
        </p:nvSpPr>
        <p:spPr>
          <a:xfrm>
            <a:off x="0" y="32846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NEW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AutoShape 31"/>
          <p:cNvSpPr/>
          <p:nvPr/>
        </p:nvSpPr>
        <p:spPr>
          <a:xfrm>
            <a:off x="539640" y="1989000"/>
            <a:ext cx="192240" cy="1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Text Box 32"/>
          <p:cNvSpPr/>
          <p:nvPr/>
        </p:nvSpPr>
        <p:spPr>
          <a:xfrm>
            <a:off x="0" y="1989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NEW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2484360" y="2492280"/>
          <a:ext cx="1440000" cy="3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492280"/>
                    <a:ext cx="1440000" cy="3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4344840" y="2492280"/>
          <a:ext cx="1306800" cy="36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4840" y="2492280"/>
                    <a:ext cx="13068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6012000" y="2492280"/>
          <a:ext cx="133164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2492280"/>
                    <a:ext cx="13316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7701120" y="2492280"/>
          <a:ext cx="1442880" cy="36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01120" y="2492280"/>
                    <a:ext cx="144288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8028000" y="1557360"/>
            <a:ext cx="687240" cy="687240"/>
          </a:xfrm>
          <a:custGeom>
            <a:avLst/>
            <a:gdLst>
              <a:gd name="textAreaLeft" fmla="*/ 282960 w 687240"/>
              <a:gd name="textAreaRight" fmla="*/ 404280 w 687240"/>
              <a:gd name="textAreaTop" fmla="*/ 282960 h 687240"/>
              <a:gd name="textAreaBottom" fmla="*/ 404280 h 68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8172360" y="1197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971640" y="6453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141W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04292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0093 C -0.01285 -0.00116 -0.01493 -0.00069 -0.02344 -0.00162 C -0.03403 -0.00185 -0.05504 -0.00324 -0.06337 -0.0037 C -0.07795 -0.00532 -0.09427 -0.00925 -0.11111 -0.01087 L -0.16459 -0.01319 C -0.21667 -0.01249 -0.64393 -0.01319 -0.69288 -0.01203 E">
                                      <p:cBhvr>
                                        <p:cTn id="223" dur="20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29794E-006 C -0.01111 0.00972 -0.02813 0.04141 -0.06788 0.05205 C -0.15538 0.06061 -0.39306 0.05159 -0.52518 0.05205 C -0.6283 0.05228 -0.80469 0.05483 -0.86059 0.05529 E">
                                      <p:cBhvr>
                                        <p:cTn id="225" dur="19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22222E-006 C -0.0059 -0.00232 -0.00781 -0.00996 -0.01129 -0.01644 C -0.01684 -0.02709 -0.02222 -0.03866 -0.02917 -0.04792 C -0.03143 -0.05602 -0.06111 -0.06736 -0.06667 -0.07222 C -0.09705 -0.07917 -0.13854 -0.08519 -0.21129 -0.08982 C -0.30139 -0.09121 -0.3908 -0.09468 -0.4809 -0.09584 C -0.55208 -0.09653 -0.59063 -0.09329 -0.6382 -0.09445 C -0.68073 -0.10486 -0.72292 -0.10255 -0.76632 -0.10324 C -0.81945 -0.10579 -0.92483 -0.10834 -0.95729 -0.10926 C -0.95729 -0.10764 -0.96024 -0.10926 -0.96077 -0.10926 E">
                                      <p:cBhvr>
                                        <p:cTn id="227" dur="20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9.41476E-007 L -1.0158 -0.03146 E">
                                      <p:cBhvr>
                                        <p:cTn id="229" dur="20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81481E-006 C -0.00191 -0.003 -0.00781 -0.00439 -0.01163 -0.01689 C -0.01997 -0.02638 -0.0316 -0.05509 -0.05278 -0.06759 C -0.07396 -0.08009 -0.06493 -0.08657 -0.13889 -0.09143 C -0.21997 -0.10486 -0.35018 -0.09143 -0.49705 -0.09745 C -0.57518 -0.09976 -0.84288 -0.10949 -0.90486 -0.11041 E">
                                      <p:cBhvr>
                                        <p:cTn id="232" dur="19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22222E-006 C -0.00295 -0.01158 -0.00643 -0.02361 -0.01007 -0.03496 C -0.01545 -0.04514 -0.06042 -0.06713 -0.06667 -0.075 C -0.09566 -0.08449 -0.08368 -0.08634 -0.18386 -0.0919 C -0.27622 -0.09259 -0.5316 -0.09236 -0.63386 -0.09491 C -0.76268 -0.09792 -0.9033 -0.10764 -0.95712 -0.11019 E">
                                      <p:cBhvr>
                                        <p:cTn id="234" dur="20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2.31321E-007 C -0.07917 -0.00139 -0.15712 -0.00393 -0.23611 -0.00787 C -0.30104 -0.00972 -0.33403 -0.0111 -0.39098 -0.01157 C -0.45313 -0.00995 -0.51441 -0.00948 -0.57726 -0.01018 C -0.62275 -0.01064 -0.64514 -0.0118 -0.66441 -0.01411 C -0.6691 -0.01689 -0.68802 -0.02221 -0.69288 -0.02383 E">
                                      <p:cBhvr>
                                        <p:cTn id="236" dur="20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29794E-006 C -0.06407 -0.00485 -0.12188 -0.00601 -0.18889 -0.00694 C -0.25608 -0.01064 -0.27084 -0.0185 -0.40382 -0.02267 C -0.5165 -0.02498 -0.87865 -0.03076 -0.98664 -0.03215 C -1.00886 -0.03146 -1.03073 -0.03122 -1.05278 -0.03076 C -1.05452 -0.03053 -1.07535 -0.02822 -1.07848 -0.03076 C -1.08108 -0.03307 -1.08021 -0.03793 -1.08247 -0.04025 E">
                                      <p:cBhvr>
                                        <p:cTn id="238" dur="20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250" autoRev="1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ing Forward….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Verdana"/>
              </a:rPr>
              <a:t>NavCanada will continue to identify conflicts and make re-route recommendation(s) to airline(s). Willing to participate in future </a:t>
            </a:r>
            <a:r>
              <a:rPr b="0" lang="en-CA" sz="2400" spc="-1" strike="noStrike" u="sng">
                <a:solidFill>
                  <a:srgbClr val="ffffff"/>
                </a:solidFill>
                <a:uFillTx/>
                <a:latin typeface="Verdana"/>
              </a:rPr>
              <a:t>Polar</a:t>
            </a:r>
            <a:r>
              <a:rPr b="0" lang="en-CA" sz="2400" spc="-1" strike="noStrike">
                <a:solidFill>
                  <a:srgbClr val="ffffff"/>
                </a:solidFill>
                <a:latin typeface="Verdana"/>
              </a:rPr>
              <a:t> reroute trial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Verdana"/>
              </a:rPr>
              <a:t>Airlines: 1) A </a:t>
            </a:r>
            <a:r>
              <a:rPr b="0" lang="en-CA" sz="2400" spc="-1" strike="noStrike" u="sng">
                <a:solidFill>
                  <a:srgbClr val="ffffff"/>
                </a:solidFill>
                <a:uFillTx/>
                <a:latin typeface="Verdana"/>
              </a:rPr>
              <a:t>willingness</a:t>
            </a:r>
            <a:r>
              <a:rPr b="0" lang="en-CA" sz="2400" spc="-1" strike="noStrike">
                <a:solidFill>
                  <a:srgbClr val="ffffff"/>
                </a:solidFill>
                <a:latin typeface="Verdana"/>
              </a:rPr>
              <a:t> to go through the reroute process, 2) Greater use of GRL, ETMS/ASD/DOTS++ etc. to “file away” from busy fixes to “less busy” fixes (easier with new fixes closer together); and, 3) in lieu of accepting a re-route, deciding on an altitude and/or speed adjustment instea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Verdana"/>
              </a:rPr>
              <a:t>FAA/Russia – Streamline current procedures to be more timely and efficien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00:50:00Z</dcterms:created>
  <dc:creator>carlsob</dc:creator>
  <dc:description/>
  <dc:language>en-US</dc:language>
  <cp:lastModifiedBy>carlsob</cp:lastModifiedBy>
  <dcterms:modified xsi:type="dcterms:W3CDTF">2011-05-17T03:32:25Z</dcterms:modified>
  <cp:revision>49</cp:revision>
  <dc:subject/>
  <dc:title>Polar Tactical Reroutes</dc:title>
</cp:coreProperties>
</file>