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CA97-4548-437A-B130-46414B0C0F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09D-5440-4C26-924A-43A5169AEADA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1CFF-F134-40AC-8FA6-A7A597751B1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ch March, Manager Area Control Centre Operations, Edmon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fix spacing 20’ – left over from CAATS implementation. Recently reduced to 15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AATS issues resolved, including most affecting Polar fl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ATS superior to previous system in wind model, conflict prediction, planning, and automated passing of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RL spacing be reduced to 10’ or 15’ permanentl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L estimates now more accurately reflect “reality” compared to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ave increased future accuracy  with DOTS++ etc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good “optics” and apparent efficiency g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altitude penalties will be less with RVSM throughout whol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take situations” require more than the minimum 10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ind components from converging routes, different wind components from aircraft at different altitudes on the same route, actual vs. forecast winds – all affect est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methods of calculating estimates – CZEG vs. ZANC, ATC vs. aircraft, ATC vs. dispatch, aircraft vs. disp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rounding off of seconds” in a position report can make 10’ on estimates become 8’, 9’, 11’ or 12’ quickly, without having changed any part of a cl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alistic expectations? GRL estimates now more accurately reflect “reality” compared to bef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paration between #1 &amp; #2 is 12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paration between #2 &amp; #3 is 15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ed adjustments for #1 and #3; or, #2 gets different altitude or reroute - despit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L being “on tim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Optics. Lost efficienc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track loading for each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factor in most of the scenarios and concerns in previous slides, and would be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is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rget for the airlines and for A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Planned altitudes would be achiev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re of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airlines would be better protected for less than optimal al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monton will support either 10’ or 15’ spacing (or anything in between - 12’ ?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ustomers need to be aware of the benefits/detriments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Customer input needed to determine the way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E92-AC6A-4966-AAAC-6A4F833B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61F-F923-47EB-9E87-9F93CA6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AD9-FD8F-44D3-85C0-33EB7E6C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4A0-7EE8-49B0-9C39-3B577625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8AC2-EA72-4440-8B2E-86DB7E9C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41AA-B8AB-4D02-B3CD-35D91C6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741B-7A4E-4118-8570-D900A26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3D04-2764-42F7-83C5-E8D66E92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D9F-6A99-4C0C-9090-F92E3ABD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5CBE-C794-47A4-A2E4-5564D15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5BFA-F427-47BD-A798-D905A8AF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3C0-034A-4D94-AD23-FA4F766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4FB9-340A-419A-B5E3-3631A8E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9A97-BAD5-48B2-9FAD-4218AC0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8C2-83C6-4A8D-88DB-68D0B3E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36E4-10B1-4C80-916A-045ACCCA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4444-56EE-4733-BD09-14D0FC9F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08D-FE55-4912-8FF9-72188CD8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498-2680-4FAD-B22F-31AFFD4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006-E916-4112-BF5F-5D6BFA61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8D5-84D7-4E26-8B9D-CAB7483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F64-7909-4FDA-885D-4706811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112-50F5-444A-B9C0-6E50A83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498-A2CB-482B-A340-7B5F0D7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558-D4A7-4810-BD5D-8F30F8A92A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E5D-5DDF-4EBB-AE8F-8A07912DB0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GRL Spacing”</a:t>
            </a:r>
            <a:br>
              <a:rPr sz="2000"/>
            </a:br>
            <a:r>
              <a:rPr b="1" lang="en-CA" sz="2000" spc="-1" strike="noStrike">
                <a:solidFill>
                  <a:srgbClr val="000d14"/>
                </a:solidFill>
                <a:latin typeface="Arial"/>
              </a:rPr>
              <a:t>Санкт-Петербург, </a:t>
            </a:r>
            <a:r>
              <a:rPr b="1" lang="ru-RU" sz="2000" spc="-1" strike="noStrike">
                <a:solidFill>
                  <a:srgbClr val="000d14"/>
                </a:solidFill>
                <a:latin typeface="Arial"/>
                <a:ea typeface="Arial"/>
              </a:rPr>
              <a:t>Россия</a:t>
            </a:r>
            <a:r>
              <a:rPr b="0" lang="en-CA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une 7-10, 201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и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лсон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)                             Edmonton ACC North High Supervisor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/Discu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67280" y="2636640"/>
            <a:ext cx="4619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?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1"/>
          <p:cNvSpPr/>
          <p:nvPr/>
        </p:nvSpPr>
        <p:spPr>
          <a:xfrm>
            <a:off x="2124000" y="40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’/15’ GRL Spac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826920" y="1268280"/>
            <a:ext cx="756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ar fix spacing 20’ – left over from CAATS implementation. Recently reduced to 15’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y CAATS issues resolved, including most affecting Polar flight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ATS superior to previous system in wind model, conflict prediction, planning, and automated passing of estima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uld the GRL spacing be reduced to 10’ or 15’ permanently?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’ GRL Spacing “Pro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L estimates now more accurately reflect “reality” compared to bef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have increased future accuracy with DOTS++ etc.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good “optics” and apparent efficiency ga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altitude penalties will be less with RVSM throughout whole f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’ GRL Spacing “Con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vertake situations” require more than the minimum 10’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ferent wind components from converging routes, different wind components from aircraft at different altitudes on the same route, actual vs. forecast winds – all affect estim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ferent methods of calculating estimates – CZEG vs. ZANC, ATC vs. aircraft, ATC vs. dispatch, aircraft vs. dispat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“rounding off of seconds” in a position report can make 10’ on estimates become 8’, 9’, 11’ or 12’ quickly, without having changed any part of a clear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realistic expectations? GRL estimates now more accurately reflect “reality” compared to befo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AMEL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39640" y="268776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4" name="Object 6"/>
          <p:cNvGraphicFramePr/>
          <p:nvPr/>
        </p:nvGraphicFramePr>
        <p:xfrm>
          <a:off x="5508720" y="3213000"/>
          <a:ext cx="13316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21300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8172360" y="476280"/>
            <a:ext cx="687600" cy="687240"/>
          </a:xfrm>
          <a:custGeom>
            <a:avLst/>
            <a:gdLst>
              <a:gd name="textAreaLeft" fmla="*/ 283320 w 687600"/>
              <a:gd name="textAreaRight" fmla="*/ 404280 w 687600"/>
              <a:gd name="textAreaTop" fmla="*/ 282960 h 687240"/>
              <a:gd name="textAreaBottom" fmla="*/ 4042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8317080" y="115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10"/>
          <p:cNvSpPr/>
          <p:nvPr/>
        </p:nvSpPr>
        <p:spPr>
          <a:xfrm flipH="1" flipV="1">
            <a:off x="607680" y="2852280"/>
            <a:ext cx="8535960" cy="8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Freeform 11"/>
          <p:cNvSpPr/>
          <p:nvPr/>
        </p:nvSpPr>
        <p:spPr>
          <a:xfrm flipV="1">
            <a:off x="658800" y="1922040"/>
            <a:ext cx="8466120" cy="836640"/>
          </a:xfrm>
          <a:custGeom>
            <a:avLst/>
            <a:gdLst/>
            <a:ahLst/>
            <a:rect l="l" t="t" r="r" b="b"/>
            <a:pathLst>
              <a:path w="10556" h="9540">
                <a:moveTo>
                  <a:pt x="10556" y="9540"/>
                </a:moveTo>
                <a:lnTo>
                  <a:pt x="9285" y="860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Oval Callout 1"/>
          <p:cNvSpPr/>
          <p:nvPr/>
        </p:nvSpPr>
        <p:spPr>
          <a:xfrm rot="16200000">
            <a:off x="2618640" y="1278360"/>
            <a:ext cx="1099800" cy="4537080"/>
          </a:xfrm>
          <a:prstGeom prst="wedgeEllipseCallout">
            <a:avLst>
              <a:gd name="adj1" fmla="val 13199"/>
              <a:gd name="adj2" fmla="val 5237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AL CZEG Estimate = 0058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AL ZANC Estimate = 0058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AL Airline Estimate = 0100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Callout 20"/>
          <p:cNvSpPr/>
          <p:nvPr/>
        </p:nvSpPr>
        <p:spPr>
          <a:xfrm rot="16200000">
            <a:off x="4122720" y="-1306440"/>
            <a:ext cx="1117440" cy="5835600"/>
          </a:xfrm>
          <a:prstGeom prst="wedgeEllipseCallout">
            <a:avLst>
              <a:gd name="adj1" fmla="val -24009"/>
              <a:gd name="adj2" fmla="val 53833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CA CZEG Estimate = 0108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CA ZANC Estimate = 0107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CA Airline Estimate = 0110z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2050920" y="4149720"/>
            <a:ext cx="6624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st Case scenario” = 12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st case scenario” = 7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verage” = 9.67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um Separation = 10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772400" y="1700280"/>
            <a:ext cx="1371600" cy="384120"/>
          </a:xfrm>
          <a:prstGeom prst="rect">
            <a:avLst/>
          </a:prstGeom>
          <a:ln w="0">
            <a:noFill/>
          </a:ln>
        </p:spPr>
      </p:pic>
      <p:sp>
        <p:nvSpPr>
          <p:cNvPr id="194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468360" y="189000"/>
            <a:ext cx="7715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imate differen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0.49201 -0.05092 E">
                                      <p:cBhvr>
                                        <p:cTn id="9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493 0.15764 E">
                                      <p:cBhvr>
                                        <p:cTn id="97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1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2 -0.06967 L -0.004 0.00163 E">
                                      <p:cBhvr>
                                        <p:cTn id="10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39 0.17593 L -0.00434 -0.00254 E">
                                      <p:cBhvr>
                                        <p:cTn id="105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2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L 0.31858 0.1838 E">
                                      <p:cBhvr>
                                        <p:cTn id="114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038 -0.09444 E">
                                      <p:cBhvr>
                                        <p:cTn id="116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39 0.20255 L -0.00434 0.00324 E">
                                      <p:cBhvr>
                                        <p:cTn id="12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03 -0.12292 L -0.01215 0.01134 E">
                                      <p:cBhvr>
                                        <p:cTn id="122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2565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ORVI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539640" y="2637000"/>
            <a:ext cx="192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1835280" y="2565360"/>
          <a:ext cx="13316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565360"/>
                    <a:ext cx="1331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7093080" y="2637000"/>
          <a:ext cx="1442880" cy="36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2637000"/>
                    <a:ext cx="144288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AutoShape 7"/>
          <p:cNvSpPr/>
          <p:nvPr/>
        </p:nvSpPr>
        <p:spPr>
          <a:xfrm>
            <a:off x="8028000" y="620640"/>
            <a:ext cx="687240" cy="687600"/>
          </a:xfrm>
          <a:custGeom>
            <a:avLst/>
            <a:gdLst>
              <a:gd name="textAreaLeft" fmla="*/ 282960 w 687240"/>
              <a:gd name="textAreaRight" fmla="*/ 404280 w 687240"/>
              <a:gd name="textAreaTop" fmla="*/ 283320 h 687600"/>
              <a:gd name="textAreaBottom" fmla="*/ 404280 h 68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244000" y="260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Object 20"/>
          <p:cNvGraphicFramePr/>
          <p:nvPr/>
        </p:nvGraphicFramePr>
        <p:xfrm>
          <a:off x="4211640" y="2565360"/>
          <a:ext cx="130644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565360"/>
                    <a:ext cx="1306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22"/>
          <p:cNvSpPr/>
          <p:nvPr/>
        </p:nvSpPr>
        <p:spPr>
          <a:xfrm>
            <a:off x="1476360" y="328464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8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ual=0100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3924360" y="328464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8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ual=0110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7093080" y="328464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8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ual=0120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1547640" y="436572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Requir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eparation between #1 &amp; #2 is 12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Require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eparation between #2 &amp; #3 is 15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ikel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peed adjustments for #1 and #3; or, #2 gets different altitude or reroute - despit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LL being “on time!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take Scenario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2205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141W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1"/>
          <p:cNvSpPr/>
          <p:nvPr/>
        </p:nvSpPr>
        <p:spPr>
          <a:xfrm>
            <a:off x="205092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’ GRL Spacing “Con’s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26920" y="2492280"/>
            <a:ext cx="7561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Optics. Lost efficiency?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track loading for each fi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1"/>
          <p:cNvSpPr/>
          <p:nvPr/>
        </p:nvSpPr>
        <p:spPr>
          <a:xfrm>
            <a:off x="205092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’ GRL Spacing “Pro’s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826920" y="2349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uld factor in most of the scenarios and concerns in previous slides, and would b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alisti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arget for the airlines and for A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ight Planned altitudes would be achiev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ore ofte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and airlines would be better protected for less than optimal altitu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1"/>
          <p:cNvSpPr/>
          <p:nvPr/>
        </p:nvSpPr>
        <p:spPr>
          <a:xfrm>
            <a:off x="2411280" y="404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ing forward…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187280" y="1411200"/>
            <a:ext cx="727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monton will support either 10’ or 15’ spacing (or anything in between - 12’ ?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stomers need to be aware of the benefits/detriments of 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ustomer input needed to determine the way forw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22:39:08Z</dcterms:created>
  <dc:creator>carlsob</dc:creator>
  <dc:description/>
  <dc:language>en-US</dc:language>
  <cp:lastModifiedBy>carlsob</cp:lastModifiedBy>
  <dcterms:modified xsi:type="dcterms:W3CDTF">2011-05-17T21:51:24Z</dcterms:modified>
  <cp:revision>31</cp:revision>
  <dc:subject/>
  <dc:title>Slide 1</dc:title>
</cp:coreProperties>
</file>