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237-3156-4485-8C0C-B8F21E86D0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829-7563-4667-ABBC-A21E27F1D9FE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8504-9DF9-431B-910D-32B48F528F0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ch March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efficiency gains in Polar Operations from the introduction of CA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duction of longitudinal separation standard from 15’ to 10’ in most in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utomated estimate passing; a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ntroduction of the “Planning functio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viously, in the case of aircraft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not on identical track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, 15’ was needed at the common point, unless able to manually determine the common point, and able to prove ≥10’ through use of distance and groundspeed che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areas of poor comm. (polar), this was difficul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w CAATS automatically calculates the estimates at the common point (even it is not a mutual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filed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point), allowing Controllers to apply 10’ standard without additional calculations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pporting the continued use of random routes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lowing greater time to provide other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roduction of automated estimate passing (NAMICD) has reduced Controller work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re time to provide other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of the “Planning Function” in CAATS allows for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pportunities to identify, and solve, potential traffic conflict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earlie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&amp; in a more optimal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lows Controllers to effectively re-calculate estimates, at different speeds and altitudes, and on different routes, without interfering with the aircraft’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actual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flight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combination of the two improvements (on previous slides) has allowed more time for this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eemingly small, but very substantive, efficiency gai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rect resu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CAATS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7C5-F8B6-45EF-84AD-7D46146D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ADF-19D7-4974-87B9-4EAA36AE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A5A-3DC6-42DB-80B6-4A441C5C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F5A-FF3F-4405-A2E2-43F52E3D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B034-8997-4AB5-BE11-53057712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A2C-2C22-4584-ACAE-CA97F1B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708B-2055-4336-A746-1E4C3D8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AAB-AB21-49D3-8F5D-4E988D33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CF6C-FF01-4086-A546-0229D337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4E56-4678-4E46-B663-F3B3CBF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6E1-8E63-45BB-8255-CBBF950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42F-07F2-4128-9EC2-935EF00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40A-F1D7-4ECB-A2F9-D25B2BD2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90C5-1B7F-41A5-93C1-F05CDF2F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ABC-3611-495E-B499-0E41A97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395-1FFE-44BD-9BA2-3844326B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1283-877A-4910-B42B-91CD2EF5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7AB-CFF3-4563-B8AE-9D64155D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7A8-096F-4C99-9E29-F55B50D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B36-9323-4FEE-8EB6-453F151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265-5DA7-4AE2-848C-D47904D0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71C-2C70-4523-AFF2-E508931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DAD-0762-4A7F-BEDA-51DEFEA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D2B-FB5F-4D71-9AE4-65C08E0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9E1-CE25-453B-9E9B-25BC30D64202}" type="slidenum">
              <a:rPr b="0" lang="en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043-B533-448C-95BC-52F33B49FF83}" type="slidenum">
              <a:rPr b="0" lang="en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CAATS Efficiency Gains In Polar Operations”</a:t>
            </a:r>
            <a:br>
              <a:rPr sz="2000"/>
            </a:br>
            <a:r>
              <a:rPr b="1" lang="en-CA" sz="2000" spc="-1" strike="noStrike">
                <a:solidFill>
                  <a:srgbClr val="000d14"/>
                </a:solidFill>
                <a:latin typeface="Arial"/>
              </a:rPr>
              <a:t>Санкт-Петербург, </a:t>
            </a:r>
            <a:r>
              <a:rPr b="1" lang="ru-RU" sz="2000" spc="-1" strike="noStrike">
                <a:solidFill>
                  <a:srgbClr val="000d14"/>
                </a:solidFill>
                <a:latin typeface="Arial"/>
                <a:ea typeface="Arial"/>
              </a:rPr>
              <a:t>Россия</a:t>
            </a:r>
            <a:r>
              <a:rPr b="0" lang="en-CA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une 7-10, 201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рион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лсон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)                             Edmonton ACC North High Supervisor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 main efficiency gains in Polar Operations from the introduction of CAA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Reduction of longitudinal separation           standard from 15’ to 10’ in most instanc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Automated estimate passing; and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) Introduction of the “Planning function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ngitudinal Sepa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viously, in the case of aircraft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not on identical track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15’ was needed at the common point, unless able to manually determine the common point, and unless able to prove ≥10’ through use of distance and groundspeed check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areas of poor comm. (polar), this was difficult to d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w CAATS automatically calculates the estimates at the common point (even it is not a mutua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file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oint), allowing Controllers to apply 10’ standard without additional calculations.......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pporting the continued use of random routes, 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lowing greater time to provide other servic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26400" y="4292640"/>
          <a:ext cx="13176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0" y="4292640"/>
                    <a:ext cx="1317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68200" y="4722840"/>
            <a:ext cx="8844120" cy="419040"/>
          </a:xfrm>
          <a:custGeom>
            <a:avLst/>
            <a:gdLst/>
            <a:ahLst/>
            <a:rect l="l" t="t" r="r" b="b"/>
            <a:pathLst>
              <a:path w="5571" h="264">
                <a:moveTo>
                  <a:pt x="0" y="74"/>
                </a:moveTo>
                <a:lnTo>
                  <a:pt x="2029" y="264"/>
                </a:lnTo>
                <a:lnTo>
                  <a:pt x="3434" y="144"/>
                </a:lnTo>
                <a:lnTo>
                  <a:pt x="4937" y="0"/>
                </a:lnTo>
                <a:lnTo>
                  <a:pt x="5571" y="27"/>
                </a:lnTo>
              </a:path>
            </a:pathLst>
          </a:cu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520" y="4581360"/>
            <a:ext cx="8853480" cy="1217880"/>
          </a:xfrm>
          <a:custGeom>
            <a:avLst/>
            <a:gdLst/>
            <a:ahLst/>
            <a:rect l="l" t="t" r="r" b="b"/>
            <a:pathLst>
              <a:path w="5577" h="767">
                <a:moveTo>
                  <a:pt x="5577" y="733"/>
                </a:moveTo>
                <a:lnTo>
                  <a:pt x="4960" y="767"/>
                </a:lnTo>
                <a:lnTo>
                  <a:pt x="3224" y="678"/>
                </a:lnTo>
                <a:lnTo>
                  <a:pt x="2065" y="0"/>
                </a:lnTo>
                <a:lnTo>
                  <a:pt x="0" y="163"/>
                </a:lnTo>
              </a:path>
            </a:pathLst>
          </a:custGeom>
          <a:noFill/>
          <a:ln w="44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5516640"/>
            <a:ext cx="21276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4869000"/>
            <a:ext cx="21276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508640"/>
            <a:ext cx="21240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9640" y="5013360"/>
            <a:ext cx="21240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4140000" y="5084640"/>
            <a:ext cx="485640" cy="1602000"/>
          </a:xfrm>
          <a:prstGeom prst="downArrow">
            <a:avLst>
              <a:gd name="adj1" fmla="val 50000"/>
              <a:gd name="adj2" fmla="val 8246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724280"/>
            <a:ext cx="212760" cy="18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92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12000" y="5516640"/>
          <a:ext cx="131760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516640"/>
                    <a:ext cx="1317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8028000" y="5661000"/>
            <a:ext cx="212760" cy="18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56720" y="4653000"/>
            <a:ext cx="21240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mated Estimate Pa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troduction of automated estimate passing (NAMICD) has reduced Controller workl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ows more time to provide other servic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ing Fun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of the “Planning Function” in CAATS allows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pportunities to identify, and solve, potential traffic conflic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arli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amp; in a more optimal mann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ows Controllers to effectively re-calculate estimates, at different speeds and altitudes, and on different routes, without interfering with the aircraft’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light pl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ombination of the two improvements (on previous slides) has allowed more time for this fun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 seemingly small, but very substantive, efficiency gain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irect resul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f CAATS imple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64000" y="2852280"/>
            <a:ext cx="18828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?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21:45:36Z</dcterms:created>
  <dc:creator>carlsob</dc:creator>
  <dc:description/>
  <dc:language>en-US</dc:language>
  <cp:lastModifiedBy>carlsob</cp:lastModifiedBy>
  <dcterms:modified xsi:type="dcterms:W3CDTF">2011-05-24T20:23:14Z</dcterms:modified>
  <cp:revision>15</cp:revision>
  <dc:subject/>
  <dc:title>CAATS</dc:title>
</cp:coreProperties>
</file>