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45275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D243-2085-4BFE-B321-E5F12E15B9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2920-3605-41DC-872E-DE540F47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8971-CF40-4836-AF7F-ED6672EE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207E-04A6-4C94-AF63-8A33A14A4C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2D1F3-6F3D-4E69-B756-10DF3AB95D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3903B-9F59-483A-BB28-4514208C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A80AB-983B-40A0-8F30-3A1712FF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F7795-DE6C-4880-9F54-3037168C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8CE60-9038-4362-A929-8BEF1E72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8356B-9840-438F-8CD4-23219880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8DEEF-97BF-4787-A3A3-3D5874EC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24870-A78E-485B-96A6-000A62BA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0F07F-28CB-4DCD-A7DD-BB5DD5B1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2BC22-3A99-475E-AE1B-A5A272AC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F43E4-16CF-4350-8331-2A2DFE4D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FF5CC-8981-48FA-951C-A772A14E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4F4C7-46EE-4FBB-B1BC-85307348FC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733F5-AFC7-4B51-9EE6-752B584F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8B2A-C803-4826-957A-87F456D2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CEDF-1FC2-49F2-B800-E41D961B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04D6-8FC0-4A59-824C-C3FA6554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7B91-07C2-4754-9DBE-6C06F0CC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B7B7-2B37-42A1-B32C-F2499ED7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DF49-3789-4520-97B3-FCB12BE6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94EFF-C69C-4A19-8574-97CF057510E1}" type="datetime">
              <a:rPr b="0" lang="en-US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07/29/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FCA1B-0D65-44E2-BA8D-1D993283A5E8}" type="slidenum">
              <a:rPr b="0" lang="en-US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5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43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85E03-E201-4114-B8E0-E2DE2A8FEBDB}" type="datetime">
              <a:rPr b="1" lang="en-US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07/29/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26463-51E5-432D-9FC6-7E4AC3910080}" type="slidenum">
              <a:rPr b="0" lang="en-US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ilde 5" descr="Himmel_1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038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025640"/>
            <a:ext cx="8001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Avinor update CPWG/11  </a:t>
            </a:r>
            <a:br>
              <a:rPr sz="2000"/>
            </a:b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St. Petersburg 8-10 June 2011</a:t>
            </a:r>
            <a:br>
              <a:rPr sz="2000"/>
            </a:b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Bodo ATCC</a:t>
            </a:r>
            <a:br>
              <a:rPr sz="2000"/>
            </a:b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Bodo Oceanic FIR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4A491-622A-4B37-BB26-21BF9558A4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681561-B0F8-44D5-81BB-A536F444BE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87" name="Plassholder for tekst 2" descr=""/>
          <p:cNvPicPr/>
          <p:nvPr/>
        </p:nvPicPr>
        <p:blipFill>
          <a:blip r:embed="rId1"/>
          <a:stretch/>
        </p:blipFill>
        <p:spPr>
          <a:xfrm>
            <a:off x="457200" y="701640"/>
            <a:ext cx="8218440" cy="54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2C08D-182C-44DC-81A1-AD50703D48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D68E59-7A38-406E-BFC9-A0B40D3CC3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47520" y="836640"/>
            <a:ext cx="8796240" cy="522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A7BE4-AD0F-4113-A82F-663D185474B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361289-0237-4FB5-9363-8FBF81987F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c0504d"/>
                </a:solidFill>
                <a:latin typeface="Arial"/>
              </a:rPr>
              <a:t>Bodo ATCC 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595959"/>
                </a:solidFill>
                <a:latin typeface="Arial"/>
              </a:rPr>
              <a:t>Traffic increase in Bodo Oceanic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595959"/>
                </a:solidFill>
                <a:latin typeface="Arial"/>
              </a:rPr>
              <a:t>Currently not data-link equipped (CPDLC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46c0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400" spc="-1" strike="noStrike">
                <a:solidFill>
                  <a:srgbClr val="595959"/>
                </a:solidFill>
                <a:latin typeface="Arial"/>
              </a:rPr>
              <a:t>Have contract with ARINC to receive ADS-C position reports (logon: ENOB)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595959"/>
                </a:solidFill>
                <a:latin typeface="Arial"/>
              </a:rPr>
              <a:t>VHF radio coverage in most parts of the FIR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46c0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400" spc="-1" strike="noStrike">
                <a:solidFill>
                  <a:srgbClr val="595959"/>
                </a:solidFill>
                <a:latin typeface="Arial"/>
              </a:rPr>
              <a:t>Bodo radio provides HF communication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595959"/>
                </a:solidFill>
                <a:latin typeface="Arial"/>
              </a:rPr>
              <a:t>Good radar coverage in southern part and north to BJO (Bear Island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EE826-D8C9-46FB-8016-CF5AD379BF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DCE47B-B396-4FB6-ADD0-F96B8CCE61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92" name="Plassholder for tekst 2" descr=""/>
          <p:cNvPicPr/>
          <p:nvPr/>
        </p:nvPicPr>
        <p:blipFill>
          <a:blip r:embed="rId1"/>
          <a:stretch/>
        </p:blipFill>
        <p:spPr>
          <a:xfrm>
            <a:off x="250920" y="635040"/>
            <a:ext cx="8281800" cy="54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E2D26-076A-4B1B-83BA-18E38F7D5F1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31DE3E-1A4B-464C-8CAA-BCAE62B8C7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94" name="Plassholder for tekst 2" descr=""/>
          <p:cNvPicPr/>
          <p:nvPr/>
        </p:nvPicPr>
        <p:blipFill>
          <a:blip r:embed="rId1"/>
          <a:stretch/>
        </p:blipFill>
        <p:spPr>
          <a:xfrm>
            <a:off x="457200" y="635040"/>
            <a:ext cx="8229600" cy="54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0C742-30F9-4664-9C57-E639B6B94E5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55F87B-FC63-47F9-9C13-B0E3FC7383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600" spc="-1" strike="noStrike">
                <a:solidFill>
                  <a:srgbClr val="c0504d"/>
                </a:solidFill>
                <a:latin typeface="Arial"/>
              </a:rPr>
              <a:t>Bodo ATCC – Future plans</a:t>
            </a:r>
            <a:endParaRPr b="1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600" spc="-1" strike="noStrike">
                <a:solidFill>
                  <a:srgbClr val="595959"/>
                </a:solidFill>
                <a:latin typeface="Arial"/>
              </a:rPr>
              <a:t>New Oceanic ATM system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e46c0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200" spc="-1" strike="noStrike">
                <a:solidFill>
                  <a:srgbClr val="595959"/>
                </a:solidFill>
                <a:latin typeface="Arial"/>
              </a:rPr>
              <a:t>Approved 7.june 2011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e46c0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200" spc="-1" strike="noStrike">
                <a:solidFill>
                  <a:srgbClr val="595959"/>
                </a:solidFill>
                <a:latin typeface="Arial"/>
              </a:rPr>
              <a:t>Project start 15. june 2011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e46c0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200" spc="-1" strike="noStrike">
                <a:solidFill>
                  <a:srgbClr val="595959"/>
                </a:solidFill>
                <a:latin typeface="Arial"/>
              </a:rPr>
              <a:t>Implementation early 2013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600" spc="-1" strike="noStrike">
                <a:solidFill>
                  <a:srgbClr val="595959"/>
                </a:solidFill>
                <a:latin typeface="Arial"/>
              </a:rPr>
              <a:t>Realignment of routes November 2011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e46c0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200" spc="-1" strike="noStrike">
                <a:solidFill>
                  <a:srgbClr val="595959"/>
                </a:solidFill>
                <a:latin typeface="Arial"/>
              </a:rPr>
              <a:t>Traffic between Japan and western Europe saves 15nm within Bodo Oceanic and Norway FIR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600" spc="-1" strike="noStrike">
                <a:solidFill>
                  <a:srgbClr val="595959"/>
                </a:solidFill>
                <a:latin typeface="Arial"/>
              </a:rPr>
              <a:t>Reduction of ATCC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e46c0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200" spc="-1" strike="noStrike">
                <a:solidFill>
                  <a:srgbClr val="595959"/>
                </a:solidFill>
                <a:latin typeface="Arial"/>
              </a:rPr>
              <a:t>Project start in 2011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e46c0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200" spc="-1" strike="noStrike">
                <a:solidFill>
                  <a:srgbClr val="595959"/>
                </a:solidFill>
                <a:latin typeface="Arial"/>
              </a:rPr>
              <a:t>Reduce from three to one ATCC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600" spc="-1" strike="noStrike">
                <a:solidFill>
                  <a:srgbClr val="595959"/>
                </a:solidFill>
                <a:latin typeface="Arial"/>
              </a:rPr>
              <a:t>Centralized Approach control unit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e46c0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200" spc="-1" strike="noStrike">
                <a:solidFill>
                  <a:srgbClr val="595959"/>
                </a:solidFill>
                <a:latin typeface="Arial"/>
              </a:rPr>
              <a:t>Project start in 2011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e46c0a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b-NO" sz="1200" spc="-1" strike="noStrike">
                <a:solidFill>
                  <a:srgbClr val="595959"/>
                </a:solidFill>
                <a:latin typeface="Arial"/>
              </a:rPr>
              <a:t>Provide Aprroach control service to several airports from same facility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600" spc="-1" strike="noStrike">
                <a:solidFill>
                  <a:srgbClr val="595959"/>
                </a:solidFill>
                <a:latin typeface="Arial"/>
              </a:rPr>
              <a:t>Remote operated tower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630CE-DD65-45E5-B487-86B75A5EB4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B970D3-6CAB-4938-81D8-1C4AA20DC2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ilde 9" descr="Light.jpg"/>
          <p:cNvPicPr/>
          <p:nvPr/>
        </p:nvPicPr>
        <p:blipFill>
          <a:blip r:embed="rId1"/>
          <a:stretch/>
        </p:blipFill>
        <p:spPr>
          <a:xfrm>
            <a:off x="0" y="909720"/>
            <a:ext cx="9144000" cy="50385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92360" y="1025280"/>
            <a:ext cx="3165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18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FC850-612A-443D-8615-57D0D6B9FB3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0C4DDB-456B-4E4E-B7D2-8DF82B0DF3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8:45:23Z</dcterms:created>
  <dc:creator>Hanne Pe</dc:creator>
  <dc:description/>
  <dc:language>en-US</dc:language>
  <cp:lastModifiedBy>Morten Tjønndal</cp:lastModifiedBy>
  <cp:lastPrinted>2009-08-26T11:42:17Z</cp:lastPrinted>
  <dcterms:modified xsi:type="dcterms:W3CDTF">2011-06-08T09:09:23Z</dcterms:modified>
  <cp:revision>111</cp:revision>
  <dc:subject/>
  <dc:title>Lysbilde 1</dc:title>
</cp:coreProperties>
</file>