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-3708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28480" y="6335640"/>
            <a:ext cx="32943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838080" y="6324480"/>
            <a:ext cx="7612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Emirates"/>
          <p:cNvPicPr/>
          <p:nvPr/>
        </p:nvPicPr>
        <p:blipFill>
          <a:blip r:embed="rId2"/>
          <a:stretch/>
        </p:blipFill>
        <p:spPr>
          <a:xfrm>
            <a:off x="0" y="5913360"/>
            <a:ext cx="1098720" cy="94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contrast="24000"/>
          </a:blip>
          <a:srcRect l="34545" t="0" r="32437" b="0"/>
          <a:stretch/>
        </p:blipFill>
        <p:spPr>
          <a:xfrm>
            <a:off x="1828800" y="685800"/>
            <a:ext cx="7315200" cy="957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lum contrast="24000"/>
          </a:blip>
          <a:srcRect l="0" t="0" r="30233" b="0"/>
          <a:stretch/>
        </p:blipFill>
        <p:spPr>
          <a:xfrm>
            <a:off x="0" y="685800"/>
            <a:ext cx="9144000" cy="957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>
            <a:lum contrast="24000"/>
          </a:blip>
          <a:srcRect l="34545" t="0" r="32437" b="0"/>
          <a:stretch/>
        </p:blipFill>
        <p:spPr>
          <a:xfrm>
            <a:off x="1832040" y="685800"/>
            <a:ext cx="7315200" cy="95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33000" y="760320"/>
            <a:ext cx="37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pdate 20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2200" y="2819520"/>
            <a:ext cx="304920" cy="304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5530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5105520"/>
            <a:ext cx="531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ug Micha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nautical Services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ug.michael@emirate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659772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K Flight Operations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0"/>
            <a:ext cx="53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PWG/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Fl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9250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010/201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fiscal year 01 April – 31 Mar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44 x Passe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8 x Freigh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52 x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uture 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011/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64 x Passenger (in 15 x B777, 7 x A38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9 x Freighter (in 2 x B777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73 x W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659772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K Flight Operations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4152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Destin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11 destinations in 66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rrent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 x passenger, 11 x freight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ture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x new passenger destinations 2011/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enh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 3 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umerous new cargo dest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59772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K Flight Operations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olar Fl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8380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otentially 6 x polar flights da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– 2 x flights da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F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– 1 x flight da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A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– 2 x flights daily (polar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YYZ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otentially polar region f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38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rews not yet trained for polar f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655308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K Flight Operations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7T00:01:08Z</dcterms:created>
  <dc:creator>Alan-Sony</dc:creator>
  <dc:description/>
  <dc:language>en-US</dc:language>
  <cp:lastModifiedBy>douglas michael</cp:lastModifiedBy>
  <cp:lastPrinted>2001-05-10T19:30:27Z</cp:lastPrinted>
  <dcterms:modified xsi:type="dcterms:W3CDTF">2011-05-03T08:40:21Z</dcterms:modified>
  <cp:revision>294</cp:revision>
  <dc:subject/>
  <dc:title>RNAV (RNP) SAAAR (Special Aircraft &amp; Aircrew Authorization Required)</dc:title>
</cp:coreProperties>
</file>