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0EC9-BEF9-40EF-AB9C-CABCDFEAF3B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17F2-C045-4D81-B69F-440103619D1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E02-263B-4043-BC49-11AA480D42F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B184-1E5F-4B80-8DC4-D9717A93787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6BEC-7156-41FB-B18C-1E7C202050F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757B-C190-442A-9E3C-F5E813B7CC9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4CC-3FE7-4539-9D28-800EB30D9FC7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7E84-2F13-4DDF-8B0A-8FBC4D30ADD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0CA-3C07-41A0-A17F-D97651ADEA8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AE8-2551-4D61-8ADE-4370F04221F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6360" y="442548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E7E6-3DD4-4016-8243-39096E30D14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8C5-F96D-4D6C-B405-9D7BB89F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88A-CE16-4223-B56A-50E55139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E1D-423D-415A-B5FD-1720F1C9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F9A-E9B4-4660-A9B3-30585537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51ED6-11E5-4927-AB22-9E0C736E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115B1-A45A-4982-BB2E-35BC81A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2C15-5367-4884-8F58-F31A7D8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56819-A238-4624-9CA8-45E97CB8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6E7F-89AB-4982-9753-4D5C84C3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F443A-99C5-43A7-8D53-3F75C63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EF44A-7DBF-46CE-8A32-87BE069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4C9-8972-49D4-BA5E-3A005FB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29FC6-8FA3-4A56-ADA5-A6BE569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3208C-2511-43C7-A527-571B90E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5ED8D-00A3-435A-A232-85A17EC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9017E-8408-4362-B048-35B1B230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E5151-07C9-48BA-8D79-BD5A110A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36D-7FA9-4EA8-8956-E6D8B0E2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3BC-B3B2-4735-B83D-1C54E57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64F-445C-4F6B-AC38-909C948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DBB-5892-4B49-B115-33ABCCBB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6D-81DA-4B72-8751-B8BED70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0F1-E8D6-480C-A0B3-2710A14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F91-B5E8-4AAD-A801-2FA7489C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FD73-3B02-47C0-B77D-634823D4DD4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65E-5F10-4C95-955B-41DD964926D4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Aircraft Performance Request”</a:t>
            </a:r>
            <a:br>
              <a:rPr sz="2000"/>
            </a:br>
            <a:r>
              <a:rPr b="1" lang="en-CA" sz="2000" spc="-1" strike="noStrike">
                <a:solidFill>
                  <a:srgbClr val="000d14"/>
                </a:solidFill>
                <a:latin typeface="Arial"/>
              </a:rPr>
              <a:t>Санкт-Петербург, </a:t>
            </a:r>
            <a:r>
              <a:rPr b="1" lang="ru-RU" sz="2000" spc="-1" strike="noStrike">
                <a:solidFill>
                  <a:srgbClr val="000d14"/>
                </a:solidFill>
                <a:latin typeface="Arial"/>
                <a:ea typeface="Arial"/>
              </a:rPr>
              <a:t>Россия</a:t>
            </a: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ne 7-10,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и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лс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)                             Edmonton ACC North High Supervisor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ircraft Performance</a:t>
            </a: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58560" y="1989000"/>
            <a:ext cx="72327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dmonton ACC frequently encounters “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</a:rPr>
              <a:t>anomalie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” in aircraft 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is is typically seen in Polar Operations, which are commonly at the extreme edge (range and altitude) of aircraft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Arial"/>
              </a:rPr>
              <a:t>Common Situat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920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TC: “At what time are you Able FL380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Aircraft: “We’re able in 4 hours” (Departure +6 hou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How is this calculated?? What type of “profile” is this based 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This type??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Or on this type?? Other typ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6732720" y="5373720"/>
          <a:ext cx="13208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5373720"/>
                    <a:ext cx="1320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5"/>
          <p:cNvSpPr/>
          <p:nvPr/>
        </p:nvSpPr>
        <p:spPr>
          <a:xfrm flipH="1">
            <a:off x="0" y="508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H="1">
            <a:off x="0" y="3933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H="1">
            <a:off x="-36360" y="3429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0" y="45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AutoShape 10"/>
          <p:cNvCxnSpPr>
            <a:stCxn id="147" idx="0"/>
            <a:endCxn id="147" idx="0"/>
          </p:cNvCxnSpPr>
          <p:nvPr/>
        </p:nvCxnSpPr>
        <p:spPr>
          <a:xfrm>
            <a:off x="9143640" y="5084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Freeform 11"/>
          <p:cNvSpPr/>
          <p:nvPr/>
        </p:nvSpPr>
        <p:spPr>
          <a:xfrm>
            <a:off x="-33480" y="3348000"/>
            <a:ext cx="8274240" cy="2362320"/>
          </a:xfrm>
          <a:custGeom>
            <a:avLst/>
            <a:gdLst/>
            <a:ahLst/>
            <a:rect l="l" t="t" r="r" b="b"/>
            <a:pathLst>
              <a:path w="5212" h="1488">
                <a:moveTo>
                  <a:pt x="5212" y="1488"/>
                </a:moveTo>
                <a:cubicBezTo>
                  <a:pt x="5036" y="1477"/>
                  <a:pt x="4335" y="1479"/>
                  <a:pt x="4150" y="1459"/>
                </a:cubicBezTo>
                <a:cubicBezTo>
                  <a:pt x="4141" y="1434"/>
                  <a:pt x="4116" y="1418"/>
                  <a:pt x="4094" y="1403"/>
                </a:cubicBezTo>
                <a:cubicBezTo>
                  <a:pt x="4061" y="1356"/>
                  <a:pt x="4030" y="1309"/>
                  <a:pt x="4004" y="1258"/>
                </a:cubicBezTo>
                <a:cubicBezTo>
                  <a:pt x="3966" y="1184"/>
                  <a:pt x="3964" y="1148"/>
                  <a:pt x="3889" y="1099"/>
                </a:cubicBezTo>
                <a:cubicBezTo>
                  <a:pt x="3796" y="1069"/>
                  <a:pt x="3645" y="1080"/>
                  <a:pt x="3443" y="1076"/>
                </a:cubicBezTo>
                <a:cubicBezTo>
                  <a:pt x="3254" y="1072"/>
                  <a:pt x="2901" y="1100"/>
                  <a:pt x="2753" y="1073"/>
                </a:cubicBezTo>
                <a:cubicBezTo>
                  <a:pt x="2615" y="1019"/>
                  <a:pt x="2680" y="807"/>
                  <a:pt x="2613" y="750"/>
                </a:cubicBezTo>
                <a:cubicBezTo>
                  <a:pt x="2565" y="715"/>
                  <a:pt x="2441" y="739"/>
                  <a:pt x="2274" y="731"/>
                </a:cubicBezTo>
                <a:cubicBezTo>
                  <a:pt x="2107" y="723"/>
                  <a:pt x="1751" y="758"/>
                  <a:pt x="1613" y="703"/>
                </a:cubicBezTo>
                <a:cubicBezTo>
                  <a:pt x="1475" y="648"/>
                  <a:pt x="1643" y="463"/>
                  <a:pt x="1444" y="404"/>
                </a:cubicBezTo>
                <a:cubicBezTo>
                  <a:pt x="1245" y="345"/>
                  <a:pt x="612" y="405"/>
                  <a:pt x="416" y="347"/>
                </a:cubicBezTo>
                <a:cubicBezTo>
                  <a:pt x="220" y="289"/>
                  <a:pt x="339" y="108"/>
                  <a:pt x="270" y="54"/>
                </a:cubicBezTo>
                <a:cubicBezTo>
                  <a:pt x="201" y="0"/>
                  <a:pt x="42" y="33"/>
                  <a:pt x="0" y="24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0" y="566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-47520" y="3392640"/>
            <a:ext cx="8626320" cy="2307960"/>
          </a:xfrm>
          <a:custGeom>
            <a:avLst/>
            <a:gdLst/>
            <a:ahLst/>
            <a:rect l="l" t="t" r="r" b="b"/>
            <a:pathLst>
              <a:path w="5434" h="1454">
                <a:moveTo>
                  <a:pt x="5434" y="1445"/>
                </a:moveTo>
                <a:cubicBezTo>
                  <a:pt x="4980" y="1454"/>
                  <a:pt x="3524" y="1440"/>
                  <a:pt x="2703" y="1439"/>
                </a:cubicBezTo>
                <a:cubicBezTo>
                  <a:pt x="1882" y="1438"/>
                  <a:pt x="885" y="1450"/>
                  <a:pt x="510" y="1441"/>
                </a:cubicBezTo>
                <a:cubicBezTo>
                  <a:pt x="482" y="1431"/>
                  <a:pt x="473" y="1405"/>
                  <a:pt x="454" y="1384"/>
                </a:cubicBezTo>
                <a:cubicBezTo>
                  <a:pt x="443" y="1353"/>
                  <a:pt x="423" y="1325"/>
                  <a:pt x="414" y="1294"/>
                </a:cubicBezTo>
                <a:cubicBezTo>
                  <a:pt x="396" y="1229"/>
                  <a:pt x="360" y="1158"/>
                  <a:pt x="346" y="995"/>
                </a:cubicBezTo>
                <a:cubicBezTo>
                  <a:pt x="340" y="868"/>
                  <a:pt x="333" y="532"/>
                  <a:pt x="329" y="317"/>
                </a:cubicBezTo>
                <a:cubicBezTo>
                  <a:pt x="327" y="112"/>
                  <a:pt x="319" y="264"/>
                  <a:pt x="315" y="59"/>
                </a:cubicBezTo>
                <a:cubicBezTo>
                  <a:pt x="269" y="10"/>
                  <a:pt x="110" y="17"/>
                  <a:pt x="57" y="8"/>
                </a:cubicBezTo>
                <a:cubicBezTo>
                  <a:pt x="5" y="0"/>
                  <a:pt x="12" y="9"/>
                  <a:pt x="0" y="8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802800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8028000" y="47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02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802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802800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H="1">
            <a:off x="-108360" y="6813720"/>
            <a:ext cx="92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364000" y="6491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3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3564000" y="6491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4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1692360" y="6491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5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 flipV="1">
            <a:off x="608472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 flipV="1">
            <a:off x="421164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 flipV="1">
            <a:off x="234000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6"/>
          <p:cNvSpPr/>
          <p:nvPr/>
        </p:nvSpPr>
        <p:spPr>
          <a:xfrm flipV="1">
            <a:off x="61128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108000" y="6491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6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V="1">
            <a:off x="781200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8244000" y="64008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Time since depar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093080" y="649116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2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Arial"/>
              </a:rPr>
              <a:t>Common Situat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806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TC: “At what time are you able FL380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ircraft: “We’re able in 3 hours” (Departure +6 hou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ould be any “profi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hat happens to the “able FL380” time if the aircraft is descended to FL300? Does it become earlier? Why? By how muc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Would it revert back to the </a:t>
            </a:r>
            <a:r>
              <a:rPr b="0" lang="en-CA" sz="1800" spc="-1" strike="noStrike" u="sng">
                <a:solidFill>
                  <a:srgbClr val="ffffff"/>
                </a:solidFill>
                <a:uFillTx/>
                <a:latin typeface="Arial"/>
              </a:rPr>
              <a:t>original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times if re-cleared to FL320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0" y="508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0" y="3933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H="1">
            <a:off x="-36360" y="3429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0" y="45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AutoShape 9"/>
          <p:cNvCxnSpPr>
            <a:stCxn id="174" idx="0"/>
            <a:endCxn id="174" idx="0"/>
          </p:cNvCxnSpPr>
          <p:nvPr/>
        </p:nvCxnSpPr>
        <p:spPr>
          <a:xfrm>
            <a:off x="9143640" y="5084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9" name="Line 11"/>
          <p:cNvSpPr/>
          <p:nvPr/>
        </p:nvSpPr>
        <p:spPr>
          <a:xfrm flipH="1">
            <a:off x="0" y="566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802800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8028000" y="47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802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802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802800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 flipH="1">
            <a:off x="-108360" y="6813720"/>
            <a:ext cx="92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003640" y="652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4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556000" y="652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5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34920" y="6524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6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V="1">
            <a:off x="543564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 flipV="1">
            <a:off x="284328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 flipV="1">
            <a:off x="39528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25"/>
          <p:cNvSpPr/>
          <p:nvPr/>
        </p:nvSpPr>
        <p:spPr>
          <a:xfrm>
            <a:off x="-111240" y="3324240"/>
            <a:ext cx="7437600" cy="1779480"/>
          </a:xfrm>
          <a:custGeom>
            <a:avLst/>
            <a:gdLst/>
            <a:ahLst/>
            <a:rect l="l" t="t" r="r" b="b"/>
            <a:pathLst>
              <a:path w="4685" h="1121">
                <a:moveTo>
                  <a:pt x="4685" y="1116"/>
                </a:moveTo>
                <a:cubicBezTo>
                  <a:pt x="4518" y="1114"/>
                  <a:pt x="3760" y="1121"/>
                  <a:pt x="3575" y="1095"/>
                </a:cubicBezTo>
                <a:lnTo>
                  <a:pt x="3484" y="779"/>
                </a:lnTo>
                <a:cubicBezTo>
                  <a:pt x="3460" y="760"/>
                  <a:pt x="3431" y="740"/>
                  <a:pt x="3400" y="737"/>
                </a:cubicBezTo>
                <a:cubicBezTo>
                  <a:pt x="3141" y="727"/>
                  <a:pt x="2264" y="739"/>
                  <a:pt x="2002" y="730"/>
                </a:cubicBezTo>
                <a:cubicBezTo>
                  <a:pt x="1743" y="674"/>
                  <a:pt x="2012" y="439"/>
                  <a:pt x="1763" y="379"/>
                </a:cubicBezTo>
                <a:lnTo>
                  <a:pt x="470" y="358"/>
                </a:lnTo>
                <a:lnTo>
                  <a:pt x="386" y="147"/>
                </a:lnTo>
                <a:cubicBezTo>
                  <a:pt x="377" y="112"/>
                  <a:pt x="351" y="89"/>
                  <a:pt x="316" y="77"/>
                </a:cubicBezTo>
                <a:cubicBezTo>
                  <a:pt x="244" y="0"/>
                  <a:pt x="0" y="55"/>
                  <a:pt x="0" y="55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26"/>
          <p:cNvSpPr/>
          <p:nvPr/>
        </p:nvSpPr>
        <p:spPr>
          <a:xfrm>
            <a:off x="-177840" y="3376440"/>
            <a:ext cx="7704000" cy="1730520"/>
          </a:xfrm>
          <a:custGeom>
            <a:avLst/>
            <a:gdLst/>
            <a:ahLst/>
            <a:rect l="l" t="t" r="r" b="b"/>
            <a:pathLst>
              <a:path w="4853" h="1090">
                <a:moveTo>
                  <a:pt x="4853" y="1090"/>
                </a:moveTo>
                <a:cubicBezTo>
                  <a:pt x="3352" y="1087"/>
                  <a:pt x="2154" y="1068"/>
                  <a:pt x="751" y="1055"/>
                </a:cubicBezTo>
                <a:cubicBezTo>
                  <a:pt x="695" y="1046"/>
                  <a:pt x="531" y="1052"/>
                  <a:pt x="477" y="1034"/>
                </a:cubicBezTo>
                <a:cubicBezTo>
                  <a:pt x="414" y="890"/>
                  <a:pt x="410" y="361"/>
                  <a:pt x="372" y="191"/>
                </a:cubicBezTo>
                <a:cubicBezTo>
                  <a:pt x="351" y="65"/>
                  <a:pt x="314" y="47"/>
                  <a:pt x="252" y="15"/>
                </a:cubicBezTo>
                <a:cubicBezTo>
                  <a:pt x="204" y="0"/>
                  <a:pt x="41" y="9"/>
                  <a:pt x="0" y="1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27"/>
          <p:cNvSpPr/>
          <p:nvPr/>
        </p:nvSpPr>
        <p:spPr>
          <a:xfrm>
            <a:off x="-122400" y="3443400"/>
            <a:ext cx="7248600" cy="2224080"/>
          </a:xfrm>
          <a:custGeom>
            <a:avLst/>
            <a:gdLst/>
            <a:ahLst/>
            <a:rect l="l" t="t" r="r" b="b"/>
            <a:pathLst>
              <a:path w="4566" h="1401">
                <a:moveTo>
                  <a:pt x="4566" y="1378"/>
                </a:moveTo>
                <a:cubicBezTo>
                  <a:pt x="4372" y="1378"/>
                  <a:pt x="3798" y="1381"/>
                  <a:pt x="3400" y="1378"/>
                </a:cubicBezTo>
                <a:cubicBezTo>
                  <a:pt x="2942" y="1370"/>
                  <a:pt x="2113" y="1401"/>
                  <a:pt x="1833" y="1378"/>
                </a:cubicBezTo>
                <a:cubicBezTo>
                  <a:pt x="1523" y="1254"/>
                  <a:pt x="1598" y="821"/>
                  <a:pt x="1538" y="634"/>
                </a:cubicBezTo>
                <a:cubicBezTo>
                  <a:pt x="1521" y="536"/>
                  <a:pt x="1503" y="359"/>
                  <a:pt x="1475" y="254"/>
                </a:cubicBezTo>
                <a:cubicBezTo>
                  <a:pt x="1470" y="200"/>
                  <a:pt x="1459" y="2"/>
                  <a:pt x="1369" y="2"/>
                </a:cubicBezTo>
                <a:cubicBezTo>
                  <a:pt x="913" y="0"/>
                  <a:pt x="456" y="2"/>
                  <a:pt x="0" y="2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 flipV="1">
            <a:off x="7596360" y="292428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6877080" y="64911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3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8244000" y="64008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Time since depar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Object 31"/>
          <p:cNvGraphicFramePr/>
          <p:nvPr/>
        </p:nvGraphicFramePr>
        <p:xfrm>
          <a:off x="6804000" y="4724280"/>
          <a:ext cx="131292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4724280"/>
                    <a:ext cx="1312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11025 0.10486 E">
                                      <p:cBhvr>
                                        <p:cTn id="6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ff"/>
                </a:solidFill>
                <a:latin typeface="Arial"/>
              </a:rPr>
              <a:t>Common Situat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55280" y="1268280"/>
            <a:ext cx="8064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TC: “At what time are you able FL340 &amp; FL380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ircraft: “We’re able FL340 “now” and 380 in 2 hours” (Departure +5 hou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If the aircraft is then climbed to FL340, does the “able FL380” time become later? Why? By how mu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 flipH="1">
            <a:off x="0" y="508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0" y="39337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-36360" y="3429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0" y="45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6" name="AutoShape 8"/>
          <p:cNvCxnSpPr>
            <a:stCxn id="202" idx="0"/>
            <a:endCxn id="202" idx="0"/>
          </p:cNvCxnSpPr>
          <p:nvPr/>
        </p:nvCxnSpPr>
        <p:spPr>
          <a:xfrm>
            <a:off x="9143640" y="5084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7" name="Line 9"/>
          <p:cNvSpPr/>
          <p:nvPr/>
        </p:nvSpPr>
        <p:spPr>
          <a:xfrm flipH="1">
            <a:off x="0" y="566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02800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8028000" y="47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802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802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802800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L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-108360" y="6813720"/>
            <a:ext cx="92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003640" y="652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4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2556000" y="652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5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34920" y="6524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6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 flipV="1">
            <a:off x="543564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 flipV="1">
            <a:off x="284328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 flipV="1">
            <a:off x="395280" y="299736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7596360" y="2924280"/>
            <a:ext cx="0" cy="352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6877080" y="64911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+3 h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8244000" y="64008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</a:rPr>
              <a:t>Time since depar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29"/>
          <p:cNvGraphicFramePr/>
          <p:nvPr/>
        </p:nvGraphicFramePr>
        <p:xfrm>
          <a:off x="6588000" y="4724280"/>
          <a:ext cx="13780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4724280"/>
                    <a:ext cx="1378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Freeform 30"/>
          <p:cNvSpPr/>
          <p:nvPr/>
        </p:nvSpPr>
        <p:spPr>
          <a:xfrm>
            <a:off x="-108000" y="3363840"/>
            <a:ext cx="7669440" cy="1789200"/>
          </a:xfrm>
          <a:custGeom>
            <a:avLst/>
            <a:gdLst/>
            <a:ahLst/>
            <a:rect l="l" t="t" r="r" b="b"/>
            <a:pathLst>
              <a:path w="4831" h="1127">
                <a:moveTo>
                  <a:pt x="4831" y="1098"/>
                </a:moveTo>
                <a:cubicBezTo>
                  <a:pt x="4735" y="1104"/>
                  <a:pt x="4430" y="1127"/>
                  <a:pt x="4269" y="1091"/>
                </a:cubicBezTo>
                <a:cubicBezTo>
                  <a:pt x="4161" y="1055"/>
                  <a:pt x="4210" y="938"/>
                  <a:pt x="4184" y="880"/>
                </a:cubicBezTo>
                <a:cubicBezTo>
                  <a:pt x="4150" y="829"/>
                  <a:pt x="4190" y="767"/>
                  <a:pt x="4114" y="740"/>
                </a:cubicBezTo>
                <a:cubicBezTo>
                  <a:pt x="4038" y="713"/>
                  <a:pt x="4085" y="724"/>
                  <a:pt x="3728" y="719"/>
                </a:cubicBezTo>
                <a:cubicBezTo>
                  <a:pt x="3143" y="714"/>
                  <a:pt x="2557" y="714"/>
                  <a:pt x="1972" y="712"/>
                </a:cubicBezTo>
                <a:cubicBezTo>
                  <a:pt x="1970" y="712"/>
                  <a:pt x="1926" y="701"/>
                  <a:pt x="1922" y="698"/>
                </a:cubicBezTo>
                <a:cubicBezTo>
                  <a:pt x="1906" y="685"/>
                  <a:pt x="1898" y="652"/>
                  <a:pt x="1887" y="635"/>
                </a:cubicBezTo>
                <a:cubicBezTo>
                  <a:pt x="1840" y="526"/>
                  <a:pt x="1802" y="201"/>
                  <a:pt x="1719" y="101"/>
                </a:cubicBezTo>
                <a:cubicBezTo>
                  <a:pt x="1558" y="0"/>
                  <a:pt x="1197" y="64"/>
                  <a:pt x="918" y="59"/>
                </a:cubicBezTo>
                <a:cubicBezTo>
                  <a:pt x="639" y="54"/>
                  <a:pt x="200" y="69"/>
                  <a:pt x="47" y="73"/>
                </a:cubicBezTo>
                <a:lnTo>
                  <a:pt x="0" y="86"/>
                </a:ln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31"/>
          <p:cNvSpPr/>
          <p:nvPr/>
        </p:nvSpPr>
        <p:spPr>
          <a:xfrm>
            <a:off x="-222120" y="3405240"/>
            <a:ext cx="6667200" cy="1123920"/>
          </a:xfrm>
          <a:custGeom>
            <a:avLst/>
            <a:gdLst/>
            <a:ahLst/>
            <a:rect l="l" t="t" r="r" b="b"/>
            <a:pathLst>
              <a:path w="4200" h="708">
                <a:moveTo>
                  <a:pt x="4200" y="658"/>
                </a:moveTo>
                <a:cubicBezTo>
                  <a:pt x="3823" y="664"/>
                  <a:pt x="2426" y="691"/>
                  <a:pt x="1938" y="693"/>
                </a:cubicBezTo>
                <a:cubicBezTo>
                  <a:pt x="1740" y="700"/>
                  <a:pt x="1474" y="708"/>
                  <a:pt x="1362" y="672"/>
                </a:cubicBezTo>
                <a:cubicBezTo>
                  <a:pt x="1239" y="615"/>
                  <a:pt x="1256" y="452"/>
                  <a:pt x="1201" y="349"/>
                </a:cubicBezTo>
                <a:cubicBezTo>
                  <a:pt x="1162" y="279"/>
                  <a:pt x="1096" y="104"/>
                  <a:pt x="1032" y="54"/>
                </a:cubicBezTo>
                <a:cubicBezTo>
                  <a:pt x="955" y="0"/>
                  <a:pt x="909" y="29"/>
                  <a:pt x="737" y="26"/>
                </a:cubicBezTo>
                <a:cubicBezTo>
                  <a:pt x="47" y="33"/>
                  <a:pt x="292" y="33"/>
                  <a:pt x="0" y="33"/>
                </a:cubicBezTo>
              </a:path>
            </a:pathLst>
          </a:custGeom>
          <a:noFill/>
          <a:ln w="41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C -0.01718 -0.01482 -0.08576 -0.07408 -0.10364 -0.08935 C -0.10486 -0.09051 -0.10729 -0.09259 -0.10729 -0.09236 E">
                                      <p:cBhvr>
                                        <p:cTn id="97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AV CANADA would like </a:t>
            </a: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technica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feedback on similar scen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ume “MTOW” B777-200ER flights “East Coast” to VHHH, ZBAA or ZSP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ot looking for “other” factors like turbulence, unusual temperatures, or cost to be factor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Basics of how FMC/FMS works, how previous scenarios would react etc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Purely for ATC Training &amp; Refresher Co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Aircraft Performance</a:t>
            </a: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Aircraft Performanc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627280" y="2924280"/>
          <a:ext cx="403704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924280"/>
                    <a:ext cx="40370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2627280" y="1916280"/>
          <a:ext cx="403704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916280"/>
                    <a:ext cx="40370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10"/>
          <p:cNvSpPr/>
          <p:nvPr/>
        </p:nvSpPr>
        <p:spPr>
          <a:xfrm>
            <a:off x="395280" y="1557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NAV CANADA is requesting one of these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50920" y="5373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or any other volunteers to offer assistance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13"/>
          <p:cNvGraphicFramePr/>
          <p:nvPr/>
        </p:nvGraphicFramePr>
        <p:xfrm>
          <a:off x="2627280" y="4076640"/>
          <a:ext cx="403848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4076640"/>
                    <a:ext cx="403848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22:12:54Z</dcterms:created>
  <dc:creator>carlsob</dc:creator>
  <dc:description/>
  <dc:language>en-US</dc:language>
  <cp:lastModifiedBy>Leah Moebius</cp:lastModifiedBy>
  <cp:lastPrinted>2011-05-25T10:19:26Z</cp:lastPrinted>
  <dcterms:modified xsi:type="dcterms:W3CDTF">2011-05-25T10:30:01Z</dcterms:modified>
  <cp:revision>13</cp:revision>
  <dc:subject/>
  <dc:title>Slide 1</dc:title>
</cp:coreProperties>
</file>