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A1E11A0-84F4-4DF1-8896-BD0DC0C05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54F3211-C98C-42D7-ADC5-2E41FCBB1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6518B81-36E2-48E3-8A89-DFFC8ADD5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210-66CA-48A8-AD4B-A34EDD75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B5C-7CA0-4707-B46B-3828D1C3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61F-2C1F-432D-8616-42F6AF38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672-54B6-47F8-98BE-E4BB75B4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4DD-EF38-44B5-87D2-8DE41629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743-96A5-4084-A39F-C6275906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A9B-2EAE-4D23-A902-53A53F93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E3D-E0F5-4A27-B1BC-0A1E2B81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A1A-4F3B-41B1-AB84-3A14057C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E5B-C841-4AAA-AB84-996477A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5B4-DDC5-4172-B879-AB6A2708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ABA-2D31-45FD-8FEF-6D55CB23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2F9C-49BA-4EB1-A8EB-2D4A828C6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4BE1-D421-4FEB-8297-C87F0132DB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Pacific Project Paper Trials -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6 Dec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0000" y="0"/>
            <a:ext cx="356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f68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f68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f68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acific Project Paper Trial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tatus of 2011 Tri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f68"/>
                </a:solidFill>
                <a:latin typeface="Arial"/>
              </a:rPr>
              <a:t>CPWG/PPT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78912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f68"/>
                </a:solidFill>
                <a:latin typeface="Arial"/>
              </a:rPr>
              <a:t>Susan Horn, FA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2f68"/>
                </a:solidFill>
                <a:latin typeface="Arial"/>
              </a:rPr>
              <a:t>6 Dec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UPR Scenario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55600" y="896760"/>
            <a:ext cx="857232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rrowed the scope to two hours traffic for comparis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PR flights were westbound at the select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did not include any flights that were originally filed only in Oakland (ZOA) airspace, but the UPR was in ZAN air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not include flights that filed flight plans in ZAN airspace, but UPR was exclusively outside of ZAN air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Initial Observ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d 42 participating flights that filed flight plans with ZAN and also provided UP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participating flights had UPRs within ZAN airspace – 12 others had UPRs that ended up entirely outside ZAN ai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iced no significant change in controller workload – only one conflict to be resolved with a level change (required in the baseline as wel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s not been validated y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Baseline Observ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d nine participating flights in both baseline and UPR scenario during the two-hour peri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of the participating flights converged to follow the same trans-Pacific track all entering Oceanic airspace under the radar fix ONE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followed a more northern track entering from NEO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flight followed a more southern route entering from M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UPR Scenario Observ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of the UPR flights (UAL 869, 885, 857)  flew more diverse northern routes resulting in less time in oceanic air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UPR flight flew a slightly more northerly route parallel to the baseline ONEOX tr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 UPR flights flew different UPR routes outside oceanic airspace but still converged to fly across the Pacific through the same ONEOX/OFORD fix and track *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Discussion Topics for PPT/2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R tracks were different outside oceanic but still converged to the same oceanic fix/routes as originally fl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UPRs developed still trying to conform to existing ZAN proced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are UPRs different for the same city pairs – even within the same airlin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creating more data by assigning UPR routes to non-participating flights in order to add them to the scenario, but which w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Discussion Topics for PPT/2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airline (KAL) had flights that did not operate on the airlin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spreadsheet original flights.  Was there a reason that the flight routes were chang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What are the Next Steps?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ould FAA continue to study and compare ZAN result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d from analysis of two hours to full d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ould the next step be to develop ZOA scenarios for same dat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FAA wait for adaptation and develop combined ZOA and ZAN scena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we wait for Ocean21 implementation in ZAN 6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secto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e other ANSPs willing to conduct UPR paper trial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recommendations/suggestion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onduct of Paper Trial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ed on four Wednesdays during August and September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was to capture data on all routes, both eastbound and westbound between North America and A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ors were asked to provide a data comparison for each flight, comparing the actual route flown and an UNRESTRICTED user preferred route (UP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Dates of Trial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was requested for all eligible flights departing on the following UTC d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, Aug 3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, Sep 7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, Sep 14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, Sep 2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received from operators only represented abou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-2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ctual fl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Airline Participation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08" name="Content Placeholder 7"/>
          <p:cNvGraphicFramePr/>
          <p:nvPr/>
        </p:nvGraphicFramePr>
        <p:xfrm>
          <a:off x="1676520" y="1006560"/>
          <a:ext cx="5788080" cy="50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Content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06560"/>
                    <a:ext cx="578808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Data Collected (Slide 1)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craft Call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Aircra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craft Take-off We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Routing (CR) in use today for the flight including the departure and dest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route time for C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el Burn for the CR (note whether kilos or pound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Data Collected (Slide 2)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sponding UPR route of fl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route time for UP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el Burn for the UPR (note whether kilos or pound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Remarks:  Note any other operational advantages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.e., UPR route allowed us to avoid an area of forecast severe turbulence, et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Data Analysi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as agreed to focus first on the flights operating on 14 Sept 2011 in Anchorage (ZAN) air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A Technical Center developed a baseline scenario with actual routes fl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 the ZAN UPR scenario and baseline scenario with weather information side-by-side for firs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d2f68"/>
                </a:solidFill>
                <a:latin typeface="Calibri"/>
              </a:rPr>
              <a:t>Traffic Flow for Sept. 14, 2011</a:t>
            </a:r>
            <a:endParaRPr b="1" lang="en-US" sz="31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17" name="Picture 3" descr="pacific_flts_091411.tiff"/>
          <p:cNvPicPr/>
          <p:nvPr/>
        </p:nvPicPr>
        <p:blipFill>
          <a:blip r:embed="rId1"/>
          <a:stretch/>
        </p:blipFill>
        <p:spPr>
          <a:xfrm>
            <a:off x="914400" y="914400"/>
            <a:ext cx="7302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Baseline Scenario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90520" y="863640"/>
            <a:ext cx="85201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Susan Horn</cp:lastModifiedBy>
  <dcterms:modified xsi:type="dcterms:W3CDTF">2011-12-05T23:07:56Z</dcterms:modified>
  <cp:revision>139</cp:revision>
  <dc:subject/>
  <dc:title>PowerPoint Presentation</dc:title>
</cp:coreProperties>
</file>