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4308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2096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6640" y="4387680"/>
            <a:ext cx="5100840" cy="4160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4308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C39053-4764-4034-B46E-FFDF37CA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4308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5B42F7-4E2C-41C9-A36F-A5FE178C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308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Montreal-Pierre Elliot Trudeau International Airpor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is one of Canada’s busiest airports, handling 12 million passengers and more than 243,000 aircraft movements each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AS has been operational here since 2004. NAV CANADA has plans in place for the extension of the INTAS network into the Montreal Airports Gate Management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next major enhancement to the INTAS system here will be to take advantage of the latest EXCDS features and the integration of Sensis multilateration.</a:t>
            </a:r>
            <a:r>
              <a:rPr b="0" lang="en-CA" sz="1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5736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6640" y="4235400"/>
            <a:ext cx="5100840" cy="45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ffic pattern growth by mon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1440" y="65736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6640" y="4235400"/>
            <a:ext cx="5100840" cy="45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ffic pattern growth by mon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5736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6640" y="4235400"/>
            <a:ext cx="5100840" cy="45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ffic pattern growth by mon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49D-42F4-404A-A923-1AEF3D12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888-EB0C-45E3-9390-7FD7DB7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4FB-0320-431F-885E-6DEED45F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079-441B-4277-A60F-137AFBC0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36E-EBB4-42C4-9754-BE106D4A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8BC-3F36-4C99-9349-156BBD3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8A7A-458D-4A48-AF4A-CB251F8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3E6E-3D34-4489-93F6-77658BC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ADA5-561F-402C-997E-2F5AEE5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8DE-BF3A-49AD-A2E2-D0EDC0F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688-DE76-4547-A5E2-29B4465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F9C-68B4-4DB3-860F-923A3F4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6742-A04A-4917-A51F-A4CC8B0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4C5-ADF9-49E6-AF69-647B19D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245-8D5D-415D-8248-F5F0F9B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8FB0-D081-4FA5-9085-ECC86068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2BE4-9FB4-4D5A-995B-D5F41EE7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506-35DE-4AF9-BB16-7AFF1DC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BCE-9862-4BA1-9A7D-230F1CB8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E68-E23A-45FD-A002-5533B9B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433-2CC4-4144-B0A7-68FA820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280-8F67-49AD-8F2B-13CC3D2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C6B-0A69-431D-9D87-E6E5770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D53-D901-498E-B0CC-EDE6100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97500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1A7-A57D-4706-9EDC-3D2F990904A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80360" y="6219720"/>
            <a:ext cx="1536480" cy="449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4480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4480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4480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E1C-2071-4B8C-B061-08295432F8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ross Polar Working Group</a:t>
            </a:r>
            <a:br>
              <a:rPr sz="4400"/>
            </a:b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NAV CANADA Upd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4436640"/>
            <a:ext cx="7775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Beijing, 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ecember 6-9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19400" y="343080"/>
            <a:ext cx="4657680" cy="135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11280" y="6261120"/>
            <a:ext cx="4321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32000" y="1052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Verdana"/>
              </a:rPr>
              <a:t>CAATS- Post RNP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ed MACH Number Techniqu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4597" r="9591" b="5554"/>
          <a:stretch/>
        </p:blipFill>
        <p:spPr>
          <a:xfrm>
            <a:off x="2484360" y="2492280"/>
            <a:ext cx="4248360" cy="4221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NP10 reduced lateral supported – 5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95280" y="260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Arial"/>
              </a:rPr>
              <a:t>Technology Improve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380360" y="6219720"/>
            <a:ext cx="1536480" cy="4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07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ffective November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S-B certified can random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n ADS-B fly via published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rrect filing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ADS-B HUDSON BAY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Arial"/>
              </a:rPr>
              <a:t>Sample Data from 2011-11-01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977760"/>
            <a:ext cx="87854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Filing Requirem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0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order to correctly process and display ADSB status, two elements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aircraft Civil Registration must be listed under the current ADSB Canadian Eligibility Docu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ADSB data filed in Field 18 of the ICAO Flight Plan must be correctly forma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the aircraft is not eligible –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DO NOT FIL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- RMK/A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5584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14172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Field 18 - Accepted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3933720"/>
            <a:ext cx="8064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only format acceptabl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CA" sz="2000" spc="-1" strike="noStrike">
                <a:solidFill>
                  <a:srgbClr val="ff5050"/>
                </a:solidFill>
                <a:latin typeface="Arial"/>
              </a:rPr>
              <a:t>RMK/ADSB</a:t>
            </a:r>
            <a:r>
              <a:rPr b="0" lang="en-CA" sz="20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SB must be the first element listed after the “RMK/”, or re-insert a new “RMK/”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re must be a space inserted after the “B” in order to correctly parse the next element of the r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ples: RMK/ADSB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_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CAS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MK/ADSB RMK/TCA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Common Formatting Error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0872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1.  Aircraft is eligible, but ADS-B was not filed as the first element after “RMK/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MK/NRP ADSB T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V/RNP10 AD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MK/POLAR // ADSB// T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MK/ADSB is filed, but aircraft is not on eligibility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DOTS Plus Online (DPO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PO connection was established Aug19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valuate over the Winter of 2011 / 2012 on the following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r friendliness” of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tential upgrades and/or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pare GRL times to actua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37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ull report at the next CP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CPDLC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treal December 1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dmonton December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RVSM 201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monton is still following the same process – early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nefits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noticeable FL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ows more aircraft FL3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56908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52720" y="1989000"/>
            <a:ext cx="518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ffic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ukon Random Route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chnolog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S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TS Plus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P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V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3670200" y="981000"/>
            <a:ext cx="53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66"/>
                </a:solidFill>
                <a:latin typeface="Arial"/>
              </a:rPr>
              <a:t>Top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981-6A17-46DC-882F-8938D006D48B}" type="slidenum">
              <a:rPr b="0" lang="en-US" sz="1400" spc="-1" strike="noStrike">
                <a:solidFill>
                  <a:srgbClr val="000000"/>
                </a:solidFill>
                <a:latin typeface="GillSans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486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monton ACC Traffic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2916360"/>
          <a:ext cx="4022640" cy="228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16360"/>
                    <a:ext cx="4022640" cy="22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8360" y="1844640"/>
          <a:ext cx="7570800" cy="430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844640"/>
                    <a:ext cx="7570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564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Historical Traffic: 2007 –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monton ACC Traffic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3960" y="1989000"/>
          <a:ext cx="3513240" cy="19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89000"/>
                    <a:ext cx="351324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694480" y="1989000"/>
          <a:ext cx="1938240" cy="199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4480" y="1989000"/>
                    <a:ext cx="193824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11160" y="4133880"/>
          <a:ext cx="3135240" cy="19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1160" y="4133880"/>
                    <a:ext cx="313524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436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olar Traffic 2010-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635200" y="3303720"/>
          <a:ext cx="3137040" cy="1992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5200" y="3303720"/>
                    <a:ext cx="313704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47640" y="1700280"/>
          <a:ext cx="6096240" cy="34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1700280"/>
                    <a:ext cx="60962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116000" y="1773360"/>
          <a:ext cx="6192720" cy="4749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1773360"/>
                    <a:ext cx="61927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monton ACC Traffic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23960" y="1989000"/>
          <a:ext cx="3513240" cy="19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89000"/>
                    <a:ext cx="351324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694480" y="1989000"/>
          <a:ext cx="1938240" cy="199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4480" y="1989000"/>
                    <a:ext cx="193824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11160" y="4133880"/>
          <a:ext cx="3135240" cy="19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1160" y="4133880"/>
                    <a:ext cx="313524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11280" y="11592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olar Traffic by Fix -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635200" y="3303720"/>
          <a:ext cx="3137040" cy="1992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5200" y="3303720"/>
                    <a:ext cx="313704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00000" y="1700280"/>
          <a:ext cx="7147080" cy="4887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1700280"/>
                    <a:ext cx="71470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Arial"/>
              </a:rPr>
              <a:t>Yukon Random Route Trial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4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menced May 5, 2011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requirement to file via published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significant increase to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ial to be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dom route 24/7 365 days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nsport Canada AIM to be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80360" y="5888160"/>
            <a:ext cx="15127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66"/>
                </a:solidFill>
                <a:latin typeface="Arial"/>
              </a:rPr>
              <a:t>Technology Improvemen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260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Arial"/>
              </a:rPr>
              <a:t>Technology Improve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Verdana"/>
              </a:rPr>
              <a:t>Pre-CA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8691" r="13438" b="13063"/>
          <a:stretch/>
        </p:blipFill>
        <p:spPr>
          <a:xfrm>
            <a:off x="2050920" y="2421000"/>
            <a:ext cx="4788000" cy="43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42920" y="155736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Reduced MACH Number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91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RNP10 reduced lateral – 6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87640" y="1125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Verdana"/>
              </a:rPr>
              <a:t>CAATS-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vember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Verdana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628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ed MACH Number Techniqu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1305" t="16420" r="11719" b="12400"/>
          <a:stretch/>
        </p:blipFill>
        <p:spPr>
          <a:xfrm>
            <a:off x="2556000" y="2492280"/>
            <a:ext cx="3930480" cy="417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71640" y="1989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RNP10 reduced lateral - 6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95280" y="260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Arial"/>
              </a:rPr>
              <a:t>Technology Improve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48:30Z</dcterms:created>
  <dc:creator/>
  <dc:description/>
  <cp:keywords/>
  <dc:language>en-US</dc:language>
  <cp:lastModifiedBy>marchb</cp:lastModifiedBy>
  <cp:lastPrinted>2005-06-13T15:16:13Z</cp:lastPrinted>
  <dcterms:modified xsi:type="dcterms:W3CDTF">2011-12-07T00:45:20Z</dcterms:modified>
  <cp:revision>403</cp:revision>
  <dc:subject>NAV CANADA template</dc:subject>
  <dc:title>CPWG-12</dc:title>
</cp:coreProperties>
</file>