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5.wmf" ContentType="image/x-wmf"/>
  <Override PartName="/ppt/media/image28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3.wmf" ContentType="image/x-wmf"/>
  <Override PartName="/ppt/media/image3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D909-7373-4EAF-9C66-0D1F15FF0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D152-BA8E-432B-9156-74838BADE3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4B7F-416E-42AB-9705-85B2E75260E8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30A-04C4-4ACD-8030-42F6B9AD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3B6-1B62-4D2B-947A-1A0D6C4C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E49-4741-4B56-A833-B700B410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A21-37A3-4146-8A29-AD449A0B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DA39-16E7-4C85-A816-B32810D9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F76B-262B-4BC3-81AE-84A3D5C3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48D5-78F7-488F-9ECE-27E82315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9096-B62A-449C-9161-CD5D3B80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22AE-07F1-4A4C-8D71-A7B972D2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1C80-BBEE-4594-B769-85F848E3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A657-982A-4EB0-9A1E-A5CA993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E5C-61C8-4FDF-887D-7954E5E4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5657-6661-460F-B433-8F126FD1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12C2-AA85-462C-9B05-34809CB5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25FA-9CC0-4B9C-9785-342FA925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2AB5-A1D8-40C5-8247-C19150EC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3DFF-2817-47D1-8537-25F814AC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06C-580F-4F4A-BA66-C5007A61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B2A-9A48-46F4-B8B3-F801826D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95B-60A7-4E29-ADC2-2AB8106C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BA5-A0D7-4BAC-A83A-34FA8685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666-0FB9-4A56-B6BA-D0A68CE1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E46-746F-42C1-93FD-3459D386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A95-710E-41D9-8F27-EECB3980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DBF8-D74F-46A0-9BE0-77148A7466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C5FD-53CE-43F4-B468-6319AF02D4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7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7.wmf"/><Relationship Id="rId25" Type="http://schemas.openxmlformats.org/officeDocument/2006/relationships/image" Target="../media/image12.wmf"/><Relationship Id="rId26" Type="http://schemas.openxmlformats.org/officeDocument/2006/relationships/image" Target="../media/image13.wmf"/><Relationship Id="rId27" Type="http://schemas.openxmlformats.org/officeDocument/2006/relationships/image" Target="../media/image14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image" Target="../media/image16.wmf"/><Relationship Id="rId31" Type="http://schemas.openxmlformats.org/officeDocument/2006/relationships/image" Target="../media/image16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8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170028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elfth Meeting of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 Polar Trans-East Air Traffic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rs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03520" y="601992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jing. China. 6-9 December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07C-FBF6-4080-8021-6E80DC52F8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7" name=""/>
          <p:cNvGraphicFramePr/>
          <p:nvPr/>
        </p:nvGraphicFramePr>
        <p:xfrm>
          <a:off x="179280" y="77760"/>
          <a:ext cx="8856720" cy="6642000"/>
        </p:xfrm>
        <a:graphic>
          <a:graphicData uri="http://schemas.openxmlformats.org/drawingml/2006/table">
            <a:tbl>
              <a:tblPr/>
              <a:tblGrid>
                <a:gridCol w="693720"/>
                <a:gridCol w="749520"/>
                <a:gridCol w="733320"/>
                <a:gridCol w="749160"/>
                <a:gridCol w="752760"/>
                <a:gridCol w="749160"/>
                <a:gridCol w="793800"/>
                <a:gridCol w="703080"/>
                <a:gridCol w="708120"/>
                <a:gridCol w="674640"/>
                <a:gridCol w="736560"/>
                <a:gridCol w="812880"/>
              </a:tblGrid>
              <a:tr h="3988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UE TRACK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VEN F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UE TRACK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DD F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R FLIGH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FR FLIGH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R FLIGHTS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FR FLIGH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R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R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R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R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4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9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6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8" name=""/>
          <p:cNvSpPr/>
          <p:nvPr/>
        </p:nvSpPr>
        <p:spPr>
          <a:xfrm>
            <a:off x="4160880" y="10413360"/>
            <a:ext cx="2189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______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EC8-7B47-448A-8645-1603A67AEC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"/>
          <p:cNvSpPr/>
          <p:nvPr/>
        </p:nvSpPr>
        <p:spPr>
          <a:xfrm>
            <a:off x="3132000" y="1125360"/>
            <a:ext cx="572472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68360" y="1125360"/>
            <a:ext cx="784368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1" name="" descr=""/>
          <p:cNvPicPr/>
          <p:nvPr/>
        </p:nvPicPr>
        <p:blipFill>
          <a:blip r:embed="rId2"/>
          <a:stretch/>
        </p:blipFill>
        <p:spPr>
          <a:xfrm>
            <a:off x="468360" y="1525680"/>
            <a:ext cx="858960" cy="750960"/>
          </a:xfrm>
          <a:prstGeom prst="rect">
            <a:avLst/>
          </a:prstGeom>
          <a:ln w="0">
            <a:noFill/>
          </a:ln>
        </p:spPr>
      </p:pic>
      <p:sp>
        <p:nvSpPr>
          <p:cNvPr id="2352" name=""/>
          <p:cNvSpPr/>
          <p:nvPr/>
        </p:nvSpPr>
        <p:spPr>
          <a:xfrm>
            <a:off x="1116000" y="1038240"/>
            <a:ext cx="146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t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kt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863640" cy="64764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1662120" y="2286000"/>
            <a:ext cx="64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5" name="" descr=""/>
          <p:cNvPicPr/>
          <p:nvPr/>
        </p:nvPicPr>
        <p:blipFill>
          <a:blip r:embed="rId4"/>
          <a:stretch/>
        </p:blipFill>
        <p:spPr>
          <a:xfrm>
            <a:off x="468360" y="3494160"/>
            <a:ext cx="863640" cy="655560"/>
          </a:xfrm>
          <a:prstGeom prst="rect">
            <a:avLst/>
          </a:prstGeom>
          <a:ln w="0">
            <a:noFill/>
          </a:ln>
        </p:spPr>
      </p:pic>
      <p:sp>
        <p:nvSpPr>
          <p:cNvPr id="2356" name=""/>
          <p:cNvSpPr/>
          <p:nvPr/>
        </p:nvSpPr>
        <p:spPr>
          <a:xfrm>
            <a:off x="1805040" y="3102120"/>
            <a:ext cx="64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7" name="" descr=""/>
          <p:cNvPicPr/>
          <p:nvPr/>
        </p:nvPicPr>
        <p:blipFill>
          <a:blip r:embed="rId5"/>
          <a:stretch/>
        </p:blipFill>
        <p:spPr>
          <a:xfrm>
            <a:off x="468360" y="4465800"/>
            <a:ext cx="863640" cy="618840"/>
          </a:xfrm>
          <a:prstGeom prst="rect">
            <a:avLst/>
          </a:prstGeom>
          <a:ln w="0">
            <a:noFill/>
          </a:ln>
        </p:spPr>
      </p:pic>
      <p:sp>
        <p:nvSpPr>
          <p:cNvPr id="2358" name=""/>
          <p:cNvSpPr/>
          <p:nvPr/>
        </p:nvSpPr>
        <p:spPr>
          <a:xfrm>
            <a:off x="1647720" y="4038480"/>
            <a:ext cx="64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9" name="" descr=""/>
          <p:cNvPicPr/>
          <p:nvPr/>
        </p:nvPicPr>
        <p:blipFill>
          <a:blip r:embed="rId6"/>
          <a:stretch/>
        </p:blipFill>
        <p:spPr>
          <a:xfrm>
            <a:off x="468360" y="5232240"/>
            <a:ext cx="863640" cy="573120"/>
          </a:xfrm>
          <a:prstGeom prst="rect">
            <a:avLst/>
          </a:prstGeom>
          <a:ln w="0">
            <a:noFill/>
          </a:ln>
        </p:spPr>
      </p:pic>
      <p:pic>
        <p:nvPicPr>
          <p:cNvPr id="2360" name="" descr=""/>
          <p:cNvPicPr/>
          <p:nvPr/>
        </p:nvPicPr>
        <p:blipFill>
          <a:blip r:embed="rId7"/>
          <a:stretch/>
        </p:blipFill>
        <p:spPr>
          <a:xfrm>
            <a:off x="468360" y="601200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2361" name=""/>
          <p:cNvSpPr/>
          <p:nvPr/>
        </p:nvSpPr>
        <p:spPr>
          <a:xfrm>
            <a:off x="2082960" y="563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059280" y="979560"/>
            <a:ext cx="5905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msk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naul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enburg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elyabinsk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katerinburg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2556000" y="1557360"/>
            <a:ext cx="576000" cy="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115640" y="2511360"/>
            <a:ext cx="144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t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ma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3132000" y="2494080"/>
            <a:ext cx="5724720" cy="71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rumq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rumq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1042560" y="3448080"/>
            <a:ext cx="174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ymk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kt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3132000" y="3357720"/>
            <a:ext cx="572472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hken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uku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uku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2771640" y="3645000"/>
            <a:ext cx="360360" cy="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2484360" y="4005360"/>
            <a:ext cx="576360" cy="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1042560" y="432756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ma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3132000" y="4294080"/>
            <a:ext cx="5724720" cy="71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shk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shk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2556000" y="4581360"/>
            <a:ext cx="576000" cy="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1116000" y="52642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kt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3132000" y="5157720"/>
            <a:ext cx="5724720" cy="71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kmenbash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2556000" y="5516640"/>
            <a:ext cx="576000" cy="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1116000" y="612792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kt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3132000" y="6022800"/>
            <a:ext cx="5724720" cy="71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k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556000" y="6381720"/>
            <a:ext cx="576000" cy="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2556000" y="2133720"/>
            <a:ext cx="576000" cy="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288320" y="1832040"/>
            <a:ext cx="334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stov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mara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enburg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ssia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899640" y="46530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ymk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2556000" y="4869000"/>
            <a:ext cx="576000" cy="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413720" y="295200"/>
            <a:ext cx="67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7 new LoAs connecting with RSVM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049-AD89-46F1-A014-DAB2418670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"/>
          <p:cNvSpPr/>
          <p:nvPr/>
        </p:nvSpPr>
        <p:spPr>
          <a:xfrm>
            <a:off x="250920" y="20750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 your att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8D2-AA97-482B-A0CC-D418C16FFA30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337"/>
          <p:cNvSpPr/>
          <p:nvPr/>
        </p:nvSpPr>
        <p:spPr>
          <a:xfrm>
            <a:off x="5162400" y="4076640"/>
            <a:ext cx="1536840" cy="944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968" h="595">
                <a:moveTo>
                  <a:pt x="156" y="20"/>
                </a:moveTo>
                <a:lnTo>
                  <a:pt x="546" y="3"/>
                </a:lnTo>
                <a:lnTo>
                  <a:pt x="772" y="4"/>
                </a:lnTo>
                <a:lnTo>
                  <a:pt x="884" y="96"/>
                </a:lnTo>
                <a:lnTo>
                  <a:pt x="936" y="160"/>
                </a:lnTo>
                <a:lnTo>
                  <a:pt x="968" y="244"/>
                </a:lnTo>
                <a:lnTo>
                  <a:pt x="892" y="248"/>
                </a:lnTo>
                <a:lnTo>
                  <a:pt x="871" y="359"/>
                </a:lnTo>
                <a:lnTo>
                  <a:pt x="740" y="470"/>
                </a:lnTo>
                <a:lnTo>
                  <a:pt x="726" y="476"/>
                </a:lnTo>
                <a:lnTo>
                  <a:pt x="699" y="470"/>
                </a:lnTo>
                <a:lnTo>
                  <a:pt x="685" y="472"/>
                </a:lnTo>
                <a:lnTo>
                  <a:pt x="672" y="480"/>
                </a:lnTo>
                <a:lnTo>
                  <a:pt x="636" y="474"/>
                </a:lnTo>
                <a:lnTo>
                  <a:pt x="611" y="474"/>
                </a:lnTo>
                <a:lnTo>
                  <a:pt x="601" y="480"/>
                </a:lnTo>
                <a:lnTo>
                  <a:pt x="585" y="478"/>
                </a:lnTo>
                <a:lnTo>
                  <a:pt x="577" y="488"/>
                </a:lnTo>
                <a:lnTo>
                  <a:pt x="549" y="488"/>
                </a:lnTo>
                <a:lnTo>
                  <a:pt x="541" y="501"/>
                </a:lnTo>
                <a:lnTo>
                  <a:pt x="539" y="521"/>
                </a:lnTo>
                <a:lnTo>
                  <a:pt x="531" y="537"/>
                </a:lnTo>
                <a:lnTo>
                  <a:pt x="519" y="540"/>
                </a:lnTo>
                <a:lnTo>
                  <a:pt x="527" y="559"/>
                </a:lnTo>
                <a:lnTo>
                  <a:pt x="521" y="569"/>
                </a:lnTo>
                <a:lnTo>
                  <a:pt x="515" y="574"/>
                </a:lnTo>
                <a:lnTo>
                  <a:pt x="502" y="595"/>
                </a:lnTo>
                <a:lnTo>
                  <a:pt x="0" y="372"/>
                </a:lnTo>
                <a:lnTo>
                  <a:pt x="135" y="246"/>
                </a:lnTo>
                <a:lnTo>
                  <a:pt x="152" y="36"/>
                </a:lnTo>
                <a:lnTo>
                  <a:pt x="150" y="0"/>
                </a:lnTo>
                <a:lnTo>
                  <a:pt x="150" y="0"/>
                </a:lnTo>
              </a:path>
            </a:pathLst>
          </a:custGeom>
          <a:solidFill>
            <a:srgbClr val="ffcc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336"/>
          <p:cNvSpPr/>
          <p:nvPr/>
        </p:nvSpPr>
        <p:spPr>
          <a:xfrm>
            <a:off x="6311880" y="1130400"/>
            <a:ext cx="2720880" cy="234468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2344680"/>
              <a:gd name="textAreaBottom" fmla="*/ 2344680 h 2344680"/>
            </a:gdLst>
            <a:ahLst/>
            <a:rect l="textAreaLeft" t="textAreaTop" r="textAreaRight" b="textAreaBottom"/>
            <a:pathLst>
              <a:path w="1714" h="1477">
                <a:moveTo>
                  <a:pt x="280" y="196"/>
                </a:moveTo>
                <a:lnTo>
                  <a:pt x="596" y="472"/>
                </a:lnTo>
                <a:lnTo>
                  <a:pt x="726" y="521"/>
                </a:lnTo>
                <a:lnTo>
                  <a:pt x="730" y="512"/>
                </a:lnTo>
                <a:lnTo>
                  <a:pt x="742" y="512"/>
                </a:lnTo>
                <a:lnTo>
                  <a:pt x="742" y="487"/>
                </a:lnTo>
                <a:lnTo>
                  <a:pt x="761" y="487"/>
                </a:lnTo>
                <a:lnTo>
                  <a:pt x="770" y="480"/>
                </a:lnTo>
                <a:lnTo>
                  <a:pt x="761" y="460"/>
                </a:lnTo>
                <a:lnTo>
                  <a:pt x="776" y="448"/>
                </a:lnTo>
                <a:lnTo>
                  <a:pt x="780" y="464"/>
                </a:lnTo>
                <a:lnTo>
                  <a:pt x="804" y="476"/>
                </a:lnTo>
                <a:lnTo>
                  <a:pt x="856" y="500"/>
                </a:lnTo>
                <a:lnTo>
                  <a:pt x="884" y="488"/>
                </a:lnTo>
                <a:lnTo>
                  <a:pt x="893" y="435"/>
                </a:lnTo>
                <a:lnTo>
                  <a:pt x="905" y="468"/>
                </a:lnTo>
                <a:lnTo>
                  <a:pt x="927" y="467"/>
                </a:lnTo>
                <a:lnTo>
                  <a:pt x="949" y="443"/>
                </a:lnTo>
                <a:lnTo>
                  <a:pt x="972" y="438"/>
                </a:lnTo>
                <a:lnTo>
                  <a:pt x="990" y="445"/>
                </a:lnTo>
                <a:lnTo>
                  <a:pt x="1023" y="420"/>
                </a:lnTo>
                <a:lnTo>
                  <a:pt x="1056" y="420"/>
                </a:lnTo>
                <a:lnTo>
                  <a:pt x="1080" y="416"/>
                </a:lnTo>
                <a:lnTo>
                  <a:pt x="1136" y="424"/>
                </a:lnTo>
                <a:lnTo>
                  <a:pt x="1172" y="396"/>
                </a:lnTo>
                <a:lnTo>
                  <a:pt x="1184" y="404"/>
                </a:lnTo>
                <a:lnTo>
                  <a:pt x="1196" y="400"/>
                </a:lnTo>
                <a:lnTo>
                  <a:pt x="1216" y="412"/>
                </a:lnTo>
                <a:lnTo>
                  <a:pt x="1240" y="436"/>
                </a:lnTo>
                <a:lnTo>
                  <a:pt x="1252" y="468"/>
                </a:lnTo>
                <a:lnTo>
                  <a:pt x="1284" y="488"/>
                </a:lnTo>
                <a:lnTo>
                  <a:pt x="1300" y="496"/>
                </a:lnTo>
                <a:lnTo>
                  <a:pt x="1312" y="488"/>
                </a:lnTo>
                <a:lnTo>
                  <a:pt x="1340" y="488"/>
                </a:lnTo>
                <a:lnTo>
                  <a:pt x="1356" y="488"/>
                </a:lnTo>
                <a:lnTo>
                  <a:pt x="1384" y="508"/>
                </a:lnTo>
                <a:lnTo>
                  <a:pt x="1388" y="516"/>
                </a:lnTo>
                <a:lnTo>
                  <a:pt x="1392" y="532"/>
                </a:lnTo>
                <a:lnTo>
                  <a:pt x="1372" y="516"/>
                </a:lnTo>
                <a:lnTo>
                  <a:pt x="1416" y="552"/>
                </a:lnTo>
                <a:lnTo>
                  <a:pt x="1408" y="536"/>
                </a:lnTo>
                <a:lnTo>
                  <a:pt x="1428" y="552"/>
                </a:lnTo>
                <a:lnTo>
                  <a:pt x="1452" y="572"/>
                </a:lnTo>
                <a:lnTo>
                  <a:pt x="1456" y="548"/>
                </a:lnTo>
                <a:lnTo>
                  <a:pt x="1496" y="544"/>
                </a:lnTo>
                <a:lnTo>
                  <a:pt x="1520" y="536"/>
                </a:lnTo>
                <a:lnTo>
                  <a:pt x="1532" y="540"/>
                </a:lnTo>
                <a:lnTo>
                  <a:pt x="1577" y="510"/>
                </a:lnTo>
                <a:lnTo>
                  <a:pt x="1588" y="494"/>
                </a:lnTo>
                <a:lnTo>
                  <a:pt x="1593" y="472"/>
                </a:lnTo>
                <a:lnTo>
                  <a:pt x="1604" y="462"/>
                </a:lnTo>
                <a:lnTo>
                  <a:pt x="1608" y="488"/>
                </a:lnTo>
                <a:lnTo>
                  <a:pt x="1616" y="472"/>
                </a:lnTo>
                <a:lnTo>
                  <a:pt x="1620" y="484"/>
                </a:lnTo>
                <a:lnTo>
                  <a:pt x="1632" y="480"/>
                </a:lnTo>
                <a:lnTo>
                  <a:pt x="1632" y="492"/>
                </a:lnTo>
                <a:lnTo>
                  <a:pt x="1624" y="458"/>
                </a:lnTo>
                <a:lnTo>
                  <a:pt x="1630" y="472"/>
                </a:lnTo>
                <a:lnTo>
                  <a:pt x="1644" y="471"/>
                </a:lnTo>
                <a:lnTo>
                  <a:pt x="1656" y="508"/>
                </a:lnTo>
                <a:lnTo>
                  <a:pt x="1668" y="524"/>
                </a:lnTo>
                <a:lnTo>
                  <a:pt x="1692" y="520"/>
                </a:lnTo>
                <a:lnTo>
                  <a:pt x="1700" y="520"/>
                </a:lnTo>
                <a:lnTo>
                  <a:pt x="1712" y="532"/>
                </a:lnTo>
                <a:lnTo>
                  <a:pt x="1714" y="545"/>
                </a:lnTo>
                <a:lnTo>
                  <a:pt x="1691" y="562"/>
                </a:lnTo>
                <a:lnTo>
                  <a:pt x="1696" y="579"/>
                </a:lnTo>
                <a:lnTo>
                  <a:pt x="1708" y="592"/>
                </a:lnTo>
                <a:lnTo>
                  <a:pt x="1701" y="612"/>
                </a:lnTo>
                <a:lnTo>
                  <a:pt x="1701" y="636"/>
                </a:lnTo>
                <a:lnTo>
                  <a:pt x="1710" y="651"/>
                </a:lnTo>
                <a:lnTo>
                  <a:pt x="1694" y="685"/>
                </a:lnTo>
                <a:lnTo>
                  <a:pt x="1669" y="687"/>
                </a:lnTo>
                <a:lnTo>
                  <a:pt x="1665" y="708"/>
                </a:lnTo>
                <a:lnTo>
                  <a:pt x="1607" y="736"/>
                </a:lnTo>
                <a:lnTo>
                  <a:pt x="1588" y="781"/>
                </a:lnTo>
                <a:lnTo>
                  <a:pt x="1597" y="805"/>
                </a:lnTo>
                <a:lnTo>
                  <a:pt x="1614" y="863"/>
                </a:lnTo>
                <a:lnTo>
                  <a:pt x="1650" y="897"/>
                </a:lnTo>
                <a:lnTo>
                  <a:pt x="1677" y="964"/>
                </a:lnTo>
                <a:lnTo>
                  <a:pt x="1677" y="1000"/>
                </a:lnTo>
                <a:lnTo>
                  <a:pt x="1669" y="1016"/>
                </a:lnTo>
                <a:lnTo>
                  <a:pt x="1629" y="1045"/>
                </a:lnTo>
                <a:lnTo>
                  <a:pt x="1629" y="1067"/>
                </a:lnTo>
                <a:lnTo>
                  <a:pt x="1606" y="1097"/>
                </a:lnTo>
                <a:lnTo>
                  <a:pt x="1580" y="1105"/>
                </a:lnTo>
                <a:lnTo>
                  <a:pt x="1575" y="1084"/>
                </a:lnTo>
                <a:lnTo>
                  <a:pt x="1537" y="1079"/>
                </a:lnTo>
                <a:lnTo>
                  <a:pt x="1474" y="1109"/>
                </a:lnTo>
                <a:lnTo>
                  <a:pt x="1421" y="1120"/>
                </a:lnTo>
                <a:lnTo>
                  <a:pt x="1396" y="1103"/>
                </a:lnTo>
                <a:lnTo>
                  <a:pt x="1331" y="1110"/>
                </a:lnTo>
                <a:lnTo>
                  <a:pt x="1331" y="1122"/>
                </a:lnTo>
                <a:lnTo>
                  <a:pt x="1343" y="1147"/>
                </a:lnTo>
                <a:lnTo>
                  <a:pt x="1338" y="1175"/>
                </a:lnTo>
                <a:lnTo>
                  <a:pt x="1348" y="1202"/>
                </a:lnTo>
                <a:lnTo>
                  <a:pt x="1343" y="1236"/>
                </a:lnTo>
                <a:lnTo>
                  <a:pt x="1343" y="1298"/>
                </a:lnTo>
                <a:lnTo>
                  <a:pt x="1343" y="1319"/>
                </a:lnTo>
                <a:lnTo>
                  <a:pt x="1328" y="1323"/>
                </a:lnTo>
                <a:lnTo>
                  <a:pt x="1331" y="1352"/>
                </a:lnTo>
                <a:lnTo>
                  <a:pt x="1352" y="1391"/>
                </a:lnTo>
                <a:lnTo>
                  <a:pt x="1350" y="1477"/>
                </a:lnTo>
                <a:lnTo>
                  <a:pt x="1140" y="1348"/>
                </a:lnTo>
                <a:lnTo>
                  <a:pt x="608" y="1428"/>
                </a:lnTo>
                <a:lnTo>
                  <a:pt x="308" y="1064"/>
                </a:lnTo>
                <a:lnTo>
                  <a:pt x="244" y="876"/>
                </a:lnTo>
                <a:lnTo>
                  <a:pt x="112" y="688"/>
                </a:lnTo>
                <a:lnTo>
                  <a:pt x="0" y="0"/>
                </a:lnTo>
                <a:lnTo>
                  <a:pt x="104" y="108"/>
                </a:lnTo>
                <a:lnTo>
                  <a:pt x="216" y="140"/>
                </a:lnTo>
                <a:lnTo>
                  <a:pt x="248" y="156"/>
                </a:lnTo>
              </a:path>
            </a:pathLst>
          </a:custGeom>
          <a:solidFill>
            <a:srgbClr val="00ccff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reeform 335"/>
          <p:cNvSpPr/>
          <p:nvPr/>
        </p:nvSpPr>
        <p:spPr>
          <a:xfrm>
            <a:off x="1400040" y="2492280"/>
            <a:ext cx="2163960" cy="1390680"/>
          </a:xfrm>
          <a:custGeom>
            <a:avLst/>
            <a:gdLst>
              <a:gd name="textAreaLeft" fmla="*/ 0 w 2163960"/>
              <a:gd name="textAreaRight" fmla="*/ 2164320 w 216396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363" h="876">
                <a:moveTo>
                  <a:pt x="799" y="870"/>
                </a:moveTo>
                <a:lnTo>
                  <a:pt x="623" y="876"/>
                </a:lnTo>
                <a:lnTo>
                  <a:pt x="499" y="687"/>
                </a:lnTo>
                <a:lnTo>
                  <a:pt x="364" y="481"/>
                </a:lnTo>
                <a:lnTo>
                  <a:pt x="0" y="434"/>
                </a:lnTo>
                <a:lnTo>
                  <a:pt x="405" y="94"/>
                </a:lnTo>
                <a:lnTo>
                  <a:pt x="429" y="94"/>
                </a:lnTo>
                <a:lnTo>
                  <a:pt x="439" y="106"/>
                </a:lnTo>
                <a:lnTo>
                  <a:pt x="443" y="116"/>
                </a:lnTo>
                <a:lnTo>
                  <a:pt x="459" y="120"/>
                </a:lnTo>
                <a:lnTo>
                  <a:pt x="487" y="110"/>
                </a:lnTo>
                <a:lnTo>
                  <a:pt x="509" y="92"/>
                </a:lnTo>
                <a:lnTo>
                  <a:pt x="515" y="84"/>
                </a:lnTo>
                <a:lnTo>
                  <a:pt x="519" y="74"/>
                </a:lnTo>
                <a:lnTo>
                  <a:pt x="521" y="60"/>
                </a:lnTo>
                <a:lnTo>
                  <a:pt x="523" y="46"/>
                </a:lnTo>
                <a:lnTo>
                  <a:pt x="531" y="46"/>
                </a:lnTo>
                <a:lnTo>
                  <a:pt x="539" y="50"/>
                </a:lnTo>
                <a:lnTo>
                  <a:pt x="545" y="32"/>
                </a:lnTo>
                <a:lnTo>
                  <a:pt x="563" y="40"/>
                </a:lnTo>
                <a:lnTo>
                  <a:pt x="563" y="28"/>
                </a:lnTo>
                <a:lnTo>
                  <a:pt x="571" y="18"/>
                </a:lnTo>
                <a:lnTo>
                  <a:pt x="583" y="32"/>
                </a:lnTo>
                <a:lnTo>
                  <a:pt x="593" y="24"/>
                </a:lnTo>
                <a:lnTo>
                  <a:pt x="611" y="18"/>
                </a:lnTo>
                <a:lnTo>
                  <a:pt x="629" y="12"/>
                </a:lnTo>
                <a:lnTo>
                  <a:pt x="645" y="12"/>
                </a:lnTo>
                <a:lnTo>
                  <a:pt x="657" y="18"/>
                </a:lnTo>
                <a:lnTo>
                  <a:pt x="669" y="32"/>
                </a:lnTo>
                <a:lnTo>
                  <a:pt x="677" y="46"/>
                </a:lnTo>
                <a:lnTo>
                  <a:pt x="687" y="56"/>
                </a:lnTo>
                <a:lnTo>
                  <a:pt x="693" y="44"/>
                </a:lnTo>
                <a:lnTo>
                  <a:pt x="705" y="46"/>
                </a:lnTo>
                <a:lnTo>
                  <a:pt x="719" y="50"/>
                </a:lnTo>
                <a:lnTo>
                  <a:pt x="727" y="38"/>
                </a:lnTo>
                <a:lnTo>
                  <a:pt x="727" y="12"/>
                </a:lnTo>
                <a:lnTo>
                  <a:pt x="735" y="6"/>
                </a:lnTo>
                <a:lnTo>
                  <a:pt x="747" y="12"/>
                </a:lnTo>
                <a:lnTo>
                  <a:pt x="763" y="18"/>
                </a:lnTo>
                <a:lnTo>
                  <a:pt x="775" y="24"/>
                </a:lnTo>
                <a:lnTo>
                  <a:pt x="785" y="6"/>
                </a:lnTo>
                <a:lnTo>
                  <a:pt x="789" y="0"/>
                </a:lnTo>
                <a:lnTo>
                  <a:pt x="801" y="6"/>
                </a:lnTo>
                <a:lnTo>
                  <a:pt x="805" y="22"/>
                </a:lnTo>
                <a:lnTo>
                  <a:pt x="827" y="22"/>
                </a:lnTo>
                <a:lnTo>
                  <a:pt x="831" y="32"/>
                </a:lnTo>
                <a:lnTo>
                  <a:pt x="823" y="78"/>
                </a:lnTo>
                <a:lnTo>
                  <a:pt x="849" y="84"/>
                </a:lnTo>
                <a:lnTo>
                  <a:pt x="855" y="88"/>
                </a:lnTo>
                <a:lnTo>
                  <a:pt x="869" y="92"/>
                </a:lnTo>
                <a:lnTo>
                  <a:pt x="887" y="94"/>
                </a:lnTo>
                <a:lnTo>
                  <a:pt x="889" y="100"/>
                </a:lnTo>
                <a:lnTo>
                  <a:pt x="919" y="102"/>
                </a:lnTo>
                <a:lnTo>
                  <a:pt x="931" y="110"/>
                </a:lnTo>
                <a:lnTo>
                  <a:pt x="933" y="120"/>
                </a:lnTo>
                <a:lnTo>
                  <a:pt x="945" y="132"/>
                </a:lnTo>
                <a:lnTo>
                  <a:pt x="969" y="124"/>
                </a:lnTo>
                <a:lnTo>
                  <a:pt x="989" y="102"/>
                </a:lnTo>
                <a:lnTo>
                  <a:pt x="999" y="84"/>
                </a:lnTo>
                <a:lnTo>
                  <a:pt x="997" y="68"/>
                </a:lnTo>
                <a:lnTo>
                  <a:pt x="1005" y="58"/>
                </a:lnTo>
                <a:lnTo>
                  <a:pt x="1017" y="62"/>
                </a:lnTo>
                <a:lnTo>
                  <a:pt x="1031" y="78"/>
                </a:lnTo>
                <a:lnTo>
                  <a:pt x="1049" y="92"/>
                </a:lnTo>
                <a:lnTo>
                  <a:pt x="1073" y="88"/>
                </a:lnTo>
                <a:lnTo>
                  <a:pt x="1097" y="84"/>
                </a:lnTo>
                <a:lnTo>
                  <a:pt x="1131" y="74"/>
                </a:lnTo>
                <a:lnTo>
                  <a:pt x="1149" y="64"/>
                </a:lnTo>
                <a:lnTo>
                  <a:pt x="1165" y="50"/>
                </a:lnTo>
                <a:lnTo>
                  <a:pt x="1175" y="30"/>
                </a:lnTo>
                <a:lnTo>
                  <a:pt x="1181" y="14"/>
                </a:lnTo>
                <a:lnTo>
                  <a:pt x="1311" y="164"/>
                </a:lnTo>
                <a:lnTo>
                  <a:pt x="1335" y="296"/>
                </a:lnTo>
                <a:lnTo>
                  <a:pt x="1363" y="511"/>
                </a:lnTo>
                <a:lnTo>
                  <a:pt x="987" y="675"/>
                </a:lnTo>
                <a:lnTo>
                  <a:pt x="799" y="87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6305400" y="1201680"/>
            <a:ext cx="2751120" cy="22179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217960"/>
              <a:gd name="textAreaBottom" fmla="*/ 2218320 h 2217960"/>
            </a:gdLst>
            <a:ahLst/>
            <a:rect l="textAreaLeft" t="textAreaTop" r="textAreaRight" b="textAreaBottom"/>
            <a:pathLst>
              <a:path w="1649" h="1526">
                <a:moveTo>
                  <a:pt x="222" y="129"/>
                </a:moveTo>
                <a:lnTo>
                  <a:pt x="518" y="443"/>
                </a:lnTo>
                <a:lnTo>
                  <a:pt x="643" y="570"/>
                </a:lnTo>
                <a:lnTo>
                  <a:pt x="646" y="561"/>
                </a:lnTo>
                <a:lnTo>
                  <a:pt x="659" y="561"/>
                </a:lnTo>
                <a:lnTo>
                  <a:pt x="659" y="536"/>
                </a:lnTo>
                <a:lnTo>
                  <a:pt x="678" y="536"/>
                </a:lnTo>
                <a:lnTo>
                  <a:pt x="686" y="529"/>
                </a:lnTo>
                <a:lnTo>
                  <a:pt x="678" y="509"/>
                </a:lnTo>
                <a:lnTo>
                  <a:pt x="693" y="497"/>
                </a:lnTo>
                <a:lnTo>
                  <a:pt x="693" y="475"/>
                </a:lnTo>
                <a:lnTo>
                  <a:pt x="716" y="469"/>
                </a:lnTo>
                <a:lnTo>
                  <a:pt x="756" y="488"/>
                </a:lnTo>
                <a:lnTo>
                  <a:pt x="789" y="479"/>
                </a:lnTo>
                <a:lnTo>
                  <a:pt x="810" y="484"/>
                </a:lnTo>
                <a:lnTo>
                  <a:pt x="822" y="517"/>
                </a:lnTo>
                <a:lnTo>
                  <a:pt x="843" y="516"/>
                </a:lnTo>
                <a:lnTo>
                  <a:pt x="866" y="492"/>
                </a:lnTo>
                <a:lnTo>
                  <a:pt x="889" y="487"/>
                </a:lnTo>
                <a:lnTo>
                  <a:pt x="907" y="494"/>
                </a:lnTo>
                <a:lnTo>
                  <a:pt x="940" y="469"/>
                </a:lnTo>
                <a:lnTo>
                  <a:pt x="972" y="469"/>
                </a:lnTo>
                <a:lnTo>
                  <a:pt x="991" y="440"/>
                </a:lnTo>
                <a:lnTo>
                  <a:pt x="1035" y="422"/>
                </a:lnTo>
                <a:lnTo>
                  <a:pt x="1078" y="426"/>
                </a:lnTo>
                <a:lnTo>
                  <a:pt x="1098" y="418"/>
                </a:lnTo>
                <a:lnTo>
                  <a:pt x="1109" y="405"/>
                </a:lnTo>
                <a:lnTo>
                  <a:pt x="1136" y="411"/>
                </a:lnTo>
                <a:lnTo>
                  <a:pt x="1153" y="420"/>
                </a:lnTo>
                <a:lnTo>
                  <a:pt x="1162" y="442"/>
                </a:lnTo>
                <a:lnTo>
                  <a:pt x="1183" y="439"/>
                </a:lnTo>
                <a:lnTo>
                  <a:pt x="1194" y="479"/>
                </a:lnTo>
                <a:lnTo>
                  <a:pt x="1215" y="496"/>
                </a:lnTo>
                <a:lnTo>
                  <a:pt x="1246" y="501"/>
                </a:lnTo>
                <a:lnTo>
                  <a:pt x="1269" y="492"/>
                </a:lnTo>
                <a:lnTo>
                  <a:pt x="1295" y="500"/>
                </a:lnTo>
                <a:lnTo>
                  <a:pt x="1304" y="509"/>
                </a:lnTo>
                <a:lnTo>
                  <a:pt x="1304" y="527"/>
                </a:lnTo>
                <a:lnTo>
                  <a:pt x="1307" y="543"/>
                </a:lnTo>
                <a:lnTo>
                  <a:pt x="1322" y="545"/>
                </a:lnTo>
                <a:lnTo>
                  <a:pt x="1333" y="545"/>
                </a:lnTo>
                <a:lnTo>
                  <a:pt x="1343" y="552"/>
                </a:lnTo>
                <a:lnTo>
                  <a:pt x="1343" y="570"/>
                </a:lnTo>
                <a:lnTo>
                  <a:pt x="1357" y="577"/>
                </a:lnTo>
                <a:lnTo>
                  <a:pt x="1405" y="561"/>
                </a:lnTo>
                <a:lnTo>
                  <a:pt x="1434" y="566"/>
                </a:lnTo>
                <a:lnTo>
                  <a:pt x="1448" y="555"/>
                </a:lnTo>
                <a:lnTo>
                  <a:pt x="1493" y="559"/>
                </a:lnTo>
                <a:lnTo>
                  <a:pt x="1505" y="543"/>
                </a:lnTo>
                <a:lnTo>
                  <a:pt x="1509" y="521"/>
                </a:lnTo>
                <a:lnTo>
                  <a:pt x="1520" y="511"/>
                </a:lnTo>
                <a:lnTo>
                  <a:pt x="1513" y="488"/>
                </a:lnTo>
                <a:lnTo>
                  <a:pt x="1522" y="476"/>
                </a:lnTo>
                <a:lnTo>
                  <a:pt x="1535" y="469"/>
                </a:lnTo>
                <a:lnTo>
                  <a:pt x="1549" y="476"/>
                </a:lnTo>
                <a:lnTo>
                  <a:pt x="1549" y="496"/>
                </a:lnTo>
                <a:lnTo>
                  <a:pt x="1540" y="507"/>
                </a:lnTo>
                <a:lnTo>
                  <a:pt x="1546" y="521"/>
                </a:lnTo>
                <a:lnTo>
                  <a:pt x="1560" y="520"/>
                </a:lnTo>
                <a:lnTo>
                  <a:pt x="1574" y="536"/>
                </a:lnTo>
                <a:lnTo>
                  <a:pt x="1602" y="532"/>
                </a:lnTo>
                <a:lnTo>
                  <a:pt x="1617" y="550"/>
                </a:lnTo>
                <a:lnTo>
                  <a:pt x="1649" y="546"/>
                </a:lnTo>
                <a:lnTo>
                  <a:pt x="1649" y="568"/>
                </a:lnTo>
                <a:lnTo>
                  <a:pt x="1630" y="594"/>
                </a:lnTo>
                <a:lnTo>
                  <a:pt x="1607" y="611"/>
                </a:lnTo>
                <a:lnTo>
                  <a:pt x="1612" y="628"/>
                </a:lnTo>
                <a:lnTo>
                  <a:pt x="1624" y="641"/>
                </a:lnTo>
                <a:lnTo>
                  <a:pt x="1617" y="661"/>
                </a:lnTo>
                <a:lnTo>
                  <a:pt x="1617" y="685"/>
                </a:lnTo>
                <a:lnTo>
                  <a:pt x="1626" y="700"/>
                </a:lnTo>
                <a:lnTo>
                  <a:pt x="1610" y="734"/>
                </a:lnTo>
                <a:lnTo>
                  <a:pt x="1585" y="736"/>
                </a:lnTo>
                <a:lnTo>
                  <a:pt x="1581" y="757"/>
                </a:lnTo>
                <a:lnTo>
                  <a:pt x="1523" y="785"/>
                </a:lnTo>
                <a:lnTo>
                  <a:pt x="1505" y="830"/>
                </a:lnTo>
                <a:lnTo>
                  <a:pt x="1513" y="854"/>
                </a:lnTo>
                <a:lnTo>
                  <a:pt x="1530" y="912"/>
                </a:lnTo>
                <a:lnTo>
                  <a:pt x="1566" y="946"/>
                </a:lnTo>
                <a:lnTo>
                  <a:pt x="1593" y="1013"/>
                </a:lnTo>
                <a:lnTo>
                  <a:pt x="1593" y="1049"/>
                </a:lnTo>
                <a:lnTo>
                  <a:pt x="1585" y="1065"/>
                </a:lnTo>
                <a:lnTo>
                  <a:pt x="1545" y="1094"/>
                </a:lnTo>
                <a:lnTo>
                  <a:pt x="1545" y="1116"/>
                </a:lnTo>
                <a:lnTo>
                  <a:pt x="1522" y="1146"/>
                </a:lnTo>
                <a:lnTo>
                  <a:pt x="1496" y="1154"/>
                </a:lnTo>
                <a:lnTo>
                  <a:pt x="1491" y="1133"/>
                </a:lnTo>
                <a:lnTo>
                  <a:pt x="1453" y="1128"/>
                </a:lnTo>
                <a:lnTo>
                  <a:pt x="1390" y="1158"/>
                </a:lnTo>
                <a:lnTo>
                  <a:pt x="1337" y="1169"/>
                </a:lnTo>
                <a:lnTo>
                  <a:pt x="1312" y="1152"/>
                </a:lnTo>
                <a:lnTo>
                  <a:pt x="1247" y="1159"/>
                </a:lnTo>
                <a:lnTo>
                  <a:pt x="1247" y="1171"/>
                </a:lnTo>
                <a:lnTo>
                  <a:pt x="1259" y="1196"/>
                </a:lnTo>
                <a:lnTo>
                  <a:pt x="1255" y="1224"/>
                </a:lnTo>
                <a:lnTo>
                  <a:pt x="1264" y="1251"/>
                </a:lnTo>
                <a:lnTo>
                  <a:pt x="1259" y="1285"/>
                </a:lnTo>
                <a:lnTo>
                  <a:pt x="1259" y="1347"/>
                </a:lnTo>
                <a:lnTo>
                  <a:pt x="1259" y="1368"/>
                </a:lnTo>
                <a:lnTo>
                  <a:pt x="1244" y="1372"/>
                </a:lnTo>
                <a:lnTo>
                  <a:pt x="1247" y="1401"/>
                </a:lnTo>
                <a:lnTo>
                  <a:pt x="1268" y="1440"/>
                </a:lnTo>
                <a:lnTo>
                  <a:pt x="1266" y="1526"/>
                </a:lnTo>
                <a:lnTo>
                  <a:pt x="1089" y="1411"/>
                </a:lnTo>
                <a:lnTo>
                  <a:pt x="579" y="1504"/>
                </a:lnTo>
                <a:lnTo>
                  <a:pt x="275" y="1093"/>
                </a:lnTo>
                <a:lnTo>
                  <a:pt x="228" y="910"/>
                </a:lnTo>
                <a:lnTo>
                  <a:pt x="102" y="703"/>
                </a:lnTo>
                <a:lnTo>
                  <a:pt x="0" y="0"/>
                </a:lnTo>
                <a:lnTo>
                  <a:pt x="44" y="48"/>
                </a:lnTo>
                <a:lnTo>
                  <a:pt x="222" y="129"/>
                </a:lnTo>
                <a:lnTo>
                  <a:pt x="222" y="129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1344600" y="2565360"/>
            <a:ext cx="2254320" cy="1316160"/>
          </a:xfrm>
          <a:custGeom>
            <a:avLst/>
            <a:gdLst>
              <a:gd name="textAreaLeft" fmla="*/ 0 w 2254320"/>
              <a:gd name="textAreaRight" fmla="*/ 2254680 w 2254320"/>
              <a:gd name="textAreaTop" fmla="*/ 0 h 1316160"/>
              <a:gd name="textAreaBottom" fmla="*/ 1316520 h 1316160"/>
            </a:gdLst>
            <a:ahLst/>
            <a:rect l="textAreaLeft" t="textAreaTop" r="textAreaRight" b="textAreaBottom"/>
            <a:pathLst>
              <a:path w="1350" h="905">
                <a:moveTo>
                  <a:pt x="0" y="436"/>
                </a:moveTo>
                <a:lnTo>
                  <a:pt x="387" y="98"/>
                </a:lnTo>
                <a:lnTo>
                  <a:pt x="411" y="98"/>
                </a:lnTo>
                <a:lnTo>
                  <a:pt x="422" y="108"/>
                </a:lnTo>
                <a:lnTo>
                  <a:pt x="425" y="119"/>
                </a:lnTo>
                <a:lnTo>
                  <a:pt x="441" y="123"/>
                </a:lnTo>
                <a:lnTo>
                  <a:pt x="471" y="114"/>
                </a:lnTo>
                <a:lnTo>
                  <a:pt x="493" y="94"/>
                </a:lnTo>
                <a:lnTo>
                  <a:pt x="499" y="85"/>
                </a:lnTo>
                <a:lnTo>
                  <a:pt x="504" y="75"/>
                </a:lnTo>
                <a:lnTo>
                  <a:pt x="507" y="61"/>
                </a:lnTo>
                <a:lnTo>
                  <a:pt x="509" y="47"/>
                </a:lnTo>
                <a:lnTo>
                  <a:pt x="517" y="47"/>
                </a:lnTo>
                <a:lnTo>
                  <a:pt x="525" y="50"/>
                </a:lnTo>
                <a:lnTo>
                  <a:pt x="531" y="33"/>
                </a:lnTo>
                <a:lnTo>
                  <a:pt x="550" y="42"/>
                </a:lnTo>
                <a:lnTo>
                  <a:pt x="550" y="28"/>
                </a:lnTo>
                <a:lnTo>
                  <a:pt x="558" y="19"/>
                </a:lnTo>
                <a:lnTo>
                  <a:pt x="570" y="33"/>
                </a:lnTo>
                <a:lnTo>
                  <a:pt x="580" y="25"/>
                </a:lnTo>
                <a:lnTo>
                  <a:pt x="599" y="18"/>
                </a:lnTo>
                <a:lnTo>
                  <a:pt x="618" y="12"/>
                </a:lnTo>
                <a:lnTo>
                  <a:pt x="635" y="12"/>
                </a:lnTo>
                <a:lnTo>
                  <a:pt x="647" y="19"/>
                </a:lnTo>
                <a:lnTo>
                  <a:pt x="659" y="33"/>
                </a:lnTo>
                <a:lnTo>
                  <a:pt x="667" y="47"/>
                </a:lnTo>
                <a:lnTo>
                  <a:pt x="678" y="56"/>
                </a:lnTo>
                <a:lnTo>
                  <a:pt x="683" y="44"/>
                </a:lnTo>
                <a:lnTo>
                  <a:pt x="697" y="47"/>
                </a:lnTo>
                <a:lnTo>
                  <a:pt x="711" y="50"/>
                </a:lnTo>
                <a:lnTo>
                  <a:pt x="718" y="39"/>
                </a:lnTo>
                <a:lnTo>
                  <a:pt x="718" y="12"/>
                </a:lnTo>
                <a:lnTo>
                  <a:pt x="727" y="5"/>
                </a:lnTo>
                <a:lnTo>
                  <a:pt x="740" y="12"/>
                </a:lnTo>
                <a:lnTo>
                  <a:pt x="757" y="19"/>
                </a:lnTo>
                <a:lnTo>
                  <a:pt x="769" y="25"/>
                </a:lnTo>
                <a:lnTo>
                  <a:pt x="779" y="5"/>
                </a:lnTo>
                <a:lnTo>
                  <a:pt x="784" y="0"/>
                </a:lnTo>
                <a:lnTo>
                  <a:pt x="795" y="5"/>
                </a:lnTo>
                <a:lnTo>
                  <a:pt x="801" y="23"/>
                </a:lnTo>
                <a:lnTo>
                  <a:pt x="822" y="23"/>
                </a:lnTo>
                <a:lnTo>
                  <a:pt x="828" y="33"/>
                </a:lnTo>
                <a:lnTo>
                  <a:pt x="820" y="81"/>
                </a:lnTo>
                <a:lnTo>
                  <a:pt x="846" y="85"/>
                </a:lnTo>
                <a:lnTo>
                  <a:pt x="852" y="91"/>
                </a:lnTo>
                <a:lnTo>
                  <a:pt x="866" y="94"/>
                </a:lnTo>
                <a:lnTo>
                  <a:pt x="885" y="98"/>
                </a:lnTo>
                <a:lnTo>
                  <a:pt x="888" y="103"/>
                </a:lnTo>
                <a:lnTo>
                  <a:pt x="917" y="105"/>
                </a:lnTo>
                <a:lnTo>
                  <a:pt x="931" y="114"/>
                </a:lnTo>
                <a:lnTo>
                  <a:pt x="933" y="123"/>
                </a:lnTo>
                <a:lnTo>
                  <a:pt x="945" y="136"/>
                </a:lnTo>
                <a:lnTo>
                  <a:pt x="969" y="127"/>
                </a:lnTo>
                <a:lnTo>
                  <a:pt x="991" y="105"/>
                </a:lnTo>
                <a:lnTo>
                  <a:pt x="1001" y="85"/>
                </a:lnTo>
                <a:lnTo>
                  <a:pt x="998" y="70"/>
                </a:lnTo>
                <a:lnTo>
                  <a:pt x="1007" y="59"/>
                </a:lnTo>
                <a:lnTo>
                  <a:pt x="1020" y="63"/>
                </a:lnTo>
                <a:lnTo>
                  <a:pt x="1034" y="81"/>
                </a:lnTo>
                <a:lnTo>
                  <a:pt x="1054" y="94"/>
                </a:lnTo>
                <a:lnTo>
                  <a:pt x="1078" y="91"/>
                </a:lnTo>
                <a:lnTo>
                  <a:pt x="1102" y="85"/>
                </a:lnTo>
                <a:lnTo>
                  <a:pt x="1138" y="75"/>
                </a:lnTo>
                <a:lnTo>
                  <a:pt x="1157" y="66"/>
                </a:lnTo>
                <a:lnTo>
                  <a:pt x="1173" y="50"/>
                </a:lnTo>
                <a:lnTo>
                  <a:pt x="1184" y="30"/>
                </a:lnTo>
                <a:lnTo>
                  <a:pt x="1189" y="14"/>
                </a:lnTo>
                <a:lnTo>
                  <a:pt x="1288" y="137"/>
                </a:lnTo>
                <a:lnTo>
                  <a:pt x="1350" y="520"/>
                </a:lnTo>
                <a:lnTo>
                  <a:pt x="982" y="683"/>
                </a:lnTo>
                <a:lnTo>
                  <a:pt x="794" y="899"/>
                </a:lnTo>
                <a:lnTo>
                  <a:pt x="612" y="905"/>
                </a:lnTo>
                <a:lnTo>
                  <a:pt x="372" y="485"/>
                </a:lnTo>
                <a:lnTo>
                  <a:pt x="0" y="433"/>
                </a:lnTo>
                <a:lnTo>
                  <a:pt x="0" y="436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8"/>
          <p:cNvSpPr/>
          <p:nvPr/>
        </p:nvSpPr>
        <p:spPr>
          <a:xfrm>
            <a:off x="5816520" y="2786040"/>
            <a:ext cx="2698920" cy="1836720"/>
          </a:xfrm>
          <a:custGeom>
            <a:avLst/>
            <a:gdLst>
              <a:gd name="textAreaLeft" fmla="*/ 0 w 2698920"/>
              <a:gd name="textAreaRight" fmla="*/ 2699280 w 2698920"/>
              <a:gd name="textAreaTop" fmla="*/ 0 h 1836720"/>
              <a:gd name="textAreaBottom" fmla="*/ 1837080 h 1836720"/>
            </a:gdLst>
            <a:ahLst/>
            <a:rect l="textAreaLeft" t="textAreaTop" r="textAreaRight" b="textAreaBottom"/>
            <a:pathLst>
              <a:path w="1618" h="1263">
                <a:moveTo>
                  <a:pt x="1381" y="319"/>
                </a:moveTo>
                <a:lnTo>
                  <a:pt x="1555" y="432"/>
                </a:lnTo>
                <a:lnTo>
                  <a:pt x="1563" y="447"/>
                </a:lnTo>
                <a:lnTo>
                  <a:pt x="1588" y="447"/>
                </a:lnTo>
                <a:lnTo>
                  <a:pt x="1606" y="452"/>
                </a:lnTo>
                <a:lnTo>
                  <a:pt x="1618" y="480"/>
                </a:lnTo>
                <a:lnTo>
                  <a:pt x="1612" y="497"/>
                </a:lnTo>
                <a:lnTo>
                  <a:pt x="1606" y="503"/>
                </a:lnTo>
                <a:lnTo>
                  <a:pt x="1576" y="504"/>
                </a:lnTo>
                <a:lnTo>
                  <a:pt x="1560" y="508"/>
                </a:lnTo>
                <a:lnTo>
                  <a:pt x="1534" y="535"/>
                </a:lnTo>
                <a:lnTo>
                  <a:pt x="1504" y="527"/>
                </a:lnTo>
                <a:lnTo>
                  <a:pt x="1495" y="510"/>
                </a:lnTo>
                <a:lnTo>
                  <a:pt x="1482" y="510"/>
                </a:lnTo>
                <a:lnTo>
                  <a:pt x="1471" y="529"/>
                </a:lnTo>
                <a:lnTo>
                  <a:pt x="1427" y="565"/>
                </a:lnTo>
                <a:lnTo>
                  <a:pt x="1367" y="605"/>
                </a:lnTo>
                <a:lnTo>
                  <a:pt x="1338" y="619"/>
                </a:lnTo>
                <a:lnTo>
                  <a:pt x="1305" y="630"/>
                </a:lnTo>
                <a:lnTo>
                  <a:pt x="1283" y="657"/>
                </a:lnTo>
                <a:lnTo>
                  <a:pt x="1288" y="680"/>
                </a:lnTo>
                <a:lnTo>
                  <a:pt x="1310" y="686"/>
                </a:lnTo>
                <a:lnTo>
                  <a:pt x="1326" y="669"/>
                </a:lnTo>
                <a:lnTo>
                  <a:pt x="1354" y="671"/>
                </a:lnTo>
                <a:lnTo>
                  <a:pt x="1372" y="689"/>
                </a:lnTo>
                <a:lnTo>
                  <a:pt x="1365" y="702"/>
                </a:lnTo>
                <a:lnTo>
                  <a:pt x="1376" y="758"/>
                </a:lnTo>
                <a:lnTo>
                  <a:pt x="1395" y="821"/>
                </a:lnTo>
                <a:lnTo>
                  <a:pt x="1432" y="866"/>
                </a:lnTo>
                <a:lnTo>
                  <a:pt x="1468" y="910"/>
                </a:lnTo>
                <a:lnTo>
                  <a:pt x="1482" y="933"/>
                </a:lnTo>
                <a:lnTo>
                  <a:pt x="1504" y="961"/>
                </a:lnTo>
                <a:lnTo>
                  <a:pt x="1501" y="975"/>
                </a:lnTo>
                <a:lnTo>
                  <a:pt x="1477" y="991"/>
                </a:lnTo>
                <a:lnTo>
                  <a:pt x="1457" y="1022"/>
                </a:lnTo>
                <a:lnTo>
                  <a:pt x="1484" y="1043"/>
                </a:lnTo>
                <a:lnTo>
                  <a:pt x="1477" y="1061"/>
                </a:lnTo>
                <a:lnTo>
                  <a:pt x="1452" y="1066"/>
                </a:lnTo>
                <a:lnTo>
                  <a:pt x="1447" y="1099"/>
                </a:lnTo>
                <a:lnTo>
                  <a:pt x="1452" y="1121"/>
                </a:lnTo>
                <a:lnTo>
                  <a:pt x="1473" y="1155"/>
                </a:lnTo>
                <a:lnTo>
                  <a:pt x="1479" y="1178"/>
                </a:lnTo>
                <a:lnTo>
                  <a:pt x="1479" y="1188"/>
                </a:lnTo>
                <a:lnTo>
                  <a:pt x="1459" y="1188"/>
                </a:lnTo>
                <a:lnTo>
                  <a:pt x="1447" y="1180"/>
                </a:lnTo>
                <a:lnTo>
                  <a:pt x="1435" y="1169"/>
                </a:lnTo>
                <a:lnTo>
                  <a:pt x="1406" y="1166"/>
                </a:lnTo>
                <a:lnTo>
                  <a:pt x="1365" y="1178"/>
                </a:lnTo>
                <a:lnTo>
                  <a:pt x="1310" y="1149"/>
                </a:lnTo>
                <a:lnTo>
                  <a:pt x="1308" y="1134"/>
                </a:lnTo>
                <a:lnTo>
                  <a:pt x="1291" y="1130"/>
                </a:lnTo>
                <a:lnTo>
                  <a:pt x="1272" y="1141"/>
                </a:lnTo>
                <a:lnTo>
                  <a:pt x="1228" y="1143"/>
                </a:lnTo>
                <a:lnTo>
                  <a:pt x="1168" y="1155"/>
                </a:lnTo>
                <a:lnTo>
                  <a:pt x="1122" y="1169"/>
                </a:lnTo>
                <a:lnTo>
                  <a:pt x="1085" y="1169"/>
                </a:lnTo>
                <a:lnTo>
                  <a:pt x="1049" y="1175"/>
                </a:lnTo>
                <a:lnTo>
                  <a:pt x="1008" y="1188"/>
                </a:lnTo>
                <a:lnTo>
                  <a:pt x="978" y="1180"/>
                </a:lnTo>
                <a:lnTo>
                  <a:pt x="941" y="1205"/>
                </a:lnTo>
                <a:lnTo>
                  <a:pt x="896" y="1222"/>
                </a:lnTo>
                <a:lnTo>
                  <a:pt x="850" y="1224"/>
                </a:lnTo>
                <a:lnTo>
                  <a:pt x="840" y="1236"/>
                </a:lnTo>
                <a:lnTo>
                  <a:pt x="812" y="1239"/>
                </a:lnTo>
                <a:lnTo>
                  <a:pt x="793" y="1263"/>
                </a:lnTo>
                <a:lnTo>
                  <a:pt x="771" y="1263"/>
                </a:lnTo>
                <a:lnTo>
                  <a:pt x="725" y="1257"/>
                </a:lnTo>
                <a:lnTo>
                  <a:pt x="676" y="1152"/>
                </a:lnTo>
                <a:lnTo>
                  <a:pt x="532" y="1160"/>
                </a:lnTo>
                <a:lnTo>
                  <a:pt x="521" y="1072"/>
                </a:lnTo>
                <a:lnTo>
                  <a:pt x="377" y="914"/>
                </a:lnTo>
                <a:lnTo>
                  <a:pt x="144" y="912"/>
                </a:lnTo>
                <a:lnTo>
                  <a:pt x="0" y="275"/>
                </a:lnTo>
                <a:lnTo>
                  <a:pt x="336" y="208"/>
                </a:lnTo>
                <a:lnTo>
                  <a:pt x="566" y="0"/>
                </a:lnTo>
                <a:lnTo>
                  <a:pt x="873" y="413"/>
                </a:lnTo>
                <a:lnTo>
                  <a:pt x="1386" y="322"/>
                </a:lnTo>
                <a:lnTo>
                  <a:pt x="1381" y="319"/>
                </a:lnTo>
                <a:lnTo>
                  <a:pt x="1381" y="319"/>
                </a:lnTo>
              </a:path>
            </a:pathLst>
          </a:custGeom>
          <a:solidFill>
            <a:srgbClr val="00ff00"/>
          </a:solidFill>
          <a:ln cap="rnd" w="2556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9"/>
          <p:cNvSpPr/>
          <p:nvPr/>
        </p:nvSpPr>
        <p:spPr>
          <a:xfrm>
            <a:off x="1440" y="3044880"/>
            <a:ext cx="2365560" cy="1280880"/>
          </a:xfrm>
          <a:custGeom>
            <a:avLst/>
            <a:gdLst>
              <a:gd name="textAreaLeft" fmla="*/ 0 w 2365560"/>
              <a:gd name="textAreaRight" fmla="*/ 2365920 w 2365560"/>
              <a:gd name="textAreaTop" fmla="*/ 0 h 1280880"/>
              <a:gd name="textAreaBottom" fmla="*/ 1280880 h 1280880"/>
            </a:gdLst>
            <a:ahLst/>
            <a:rect l="textAreaLeft" t="textAreaTop" r="textAreaRight" b="textAreaBottom"/>
            <a:pathLst>
              <a:path w="1418" h="881">
                <a:moveTo>
                  <a:pt x="54" y="0"/>
                </a:moveTo>
                <a:lnTo>
                  <a:pt x="813" y="102"/>
                </a:lnTo>
                <a:lnTo>
                  <a:pt x="1175" y="155"/>
                </a:lnTo>
                <a:lnTo>
                  <a:pt x="1418" y="572"/>
                </a:lnTo>
                <a:lnTo>
                  <a:pt x="1109" y="881"/>
                </a:lnTo>
                <a:lnTo>
                  <a:pt x="336" y="703"/>
                </a:lnTo>
                <a:lnTo>
                  <a:pt x="320" y="657"/>
                </a:lnTo>
                <a:lnTo>
                  <a:pt x="329" y="640"/>
                </a:lnTo>
                <a:lnTo>
                  <a:pt x="315" y="614"/>
                </a:lnTo>
                <a:lnTo>
                  <a:pt x="277" y="580"/>
                </a:lnTo>
                <a:lnTo>
                  <a:pt x="233" y="550"/>
                </a:lnTo>
                <a:lnTo>
                  <a:pt x="214" y="522"/>
                </a:lnTo>
                <a:lnTo>
                  <a:pt x="208" y="512"/>
                </a:lnTo>
                <a:lnTo>
                  <a:pt x="223" y="512"/>
                </a:lnTo>
                <a:lnTo>
                  <a:pt x="250" y="525"/>
                </a:lnTo>
                <a:lnTo>
                  <a:pt x="271" y="528"/>
                </a:lnTo>
                <a:lnTo>
                  <a:pt x="279" y="517"/>
                </a:lnTo>
                <a:lnTo>
                  <a:pt x="274" y="494"/>
                </a:lnTo>
                <a:lnTo>
                  <a:pt x="256" y="453"/>
                </a:lnTo>
                <a:lnTo>
                  <a:pt x="248" y="417"/>
                </a:lnTo>
                <a:lnTo>
                  <a:pt x="231" y="409"/>
                </a:lnTo>
                <a:lnTo>
                  <a:pt x="231" y="380"/>
                </a:lnTo>
                <a:lnTo>
                  <a:pt x="214" y="366"/>
                </a:lnTo>
                <a:lnTo>
                  <a:pt x="202" y="334"/>
                </a:lnTo>
                <a:lnTo>
                  <a:pt x="187" y="308"/>
                </a:lnTo>
                <a:lnTo>
                  <a:pt x="169" y="303"/>
                </a:lnTo>
                <a:lnTo>
                  <a:pt x="125" y="298"/>
                </a:lnTo>
                <a:lnTo>
                  <a:pt x="111" y="292"/>
                </a:lnTo>
                <a:lnTo>
                  <a:pt x="100" y="279"/>
                </a:lnTo>
                <a:lnTo>
                  <a:pt x="90" y="273"/>
                </a:lnTo>
                <a:lnTo>
                  <a:pt x="79" y="275"/>
                </a:lnTo>
                <a:lnTo>
                  <a:pt x="81" y="292"/>
                </a:lnTo>
                <a:lnTo>
                  <a:pt x="75" y="298"/>
                </a:lnTo>
                <a:lnTo>
                  <a:pt x="68" y="298"/>
                </a:lnTo>
                <a:lnTo>
                  <a:pt x="46" y="295"/>
                </a:lnTo>
                <a:lnTo>
                  <a:pt x="40" y="273"/>
                </a:lnTo>
                <a:lnTo>
                  <a:pt x="38" y="253"/>
                </a:lnTo>
                <a:lnTo>
                  <a:pt x="35" y="241"/>
                </a:lnTo>
                <a:lnTo>
                  <a:pt x="46" y="225"/>
                </a:lnTo>
                <a:lnTo>
                  <a:pt x="46" y="212"/>
                </a:lnTo>
                <a:lnTo>
                  <a:pt x="40" y="205"/>
                </a:lnTo>
                <a:lnTo>
                  <a:pt x="40" y="183"/>
                </a:lnTo>
                <a:lnTo>
                  <a:pt x="28" y="173"/>
                </a:lnTo>
                <a:lnTo>
                  <a:pt x="13" y="167"/>
                </a:lnTo>
                <a:lnTo>
                  <a:pt x="0" y="151"/>
                </a:lnTo>
                <a:lnTo>
                  <a:pt x="0" y="109"/>
                </a:lnTo>
                <a:lnTo>
                  <a:pt x="11" y="97"/>
                </a:lnTo>
                <a:lnTo>
                  <a:pt x="28" y="86"/>
                </a:lnTo>
                <a:lnTo>
                  <a:pt x="18" y="55"/>
                </a:lnTo>
                <a:lnTo>
                  <a:pt x="17" y="44"/>
                </a:lnTo>
                <a:lnTo>
                  <a:pt x="21" y="31"/>
                </a:lnTo>
                <a:lnTo>
                  <a:pt x="54" y="0"/>
                </a:lnTo>
                <a:lnTo>
                  <a:pt x="54" y="0"/>
                </a:lnTo>
              </a:path>
            </a:pathLst>
          </a:custGeom>
          <a:solidFill>
            <a:srgbClr val="ff99cc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3222720" y="3693960"/>
            <a:ext cx="2182680" cy="1247760"/>
          </a:xfrm>
          <a:custGeom>
            <a:avLst/>
            <a:gdLst>
              <a:gd name="textAreaLeft" fmla="*/ 0 w 2182680"/>
              <a:gd name="textAreaRight" fmla="*/ 2182680 w 218268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307" h="858">
                <a:moveTo>
                  <a:pt x="499" y="0"/>
                </a:moveTo>
                <a:lnTo>
                  <a:pt x="1307" y="288"/>
                </a:lnTo>
                <a:lnTo>
                  <a:pt x="1280" y="547"/>
                </a:lnTo>
                <a:lnTo>
                  <a:pt x="1101" y="713"/>
                </a:lnTo>
                <a:lnTo>
                  <a:pt x="800" y="858"/>
                </a:lnTo>
                <a:lnTo>
                  <a:pt x="752" y="797"/>
                </a:lnTo>
                <a:lnTo>
                  <a:pt x="732" y="782"/>
                </a:lnTo>
                <a:lnTo>
                  <a:pt x="698" y="740"/>
                </a:lnTo>
                <a:lnTo>
                  <a:pt x="653" y="722"/>
                </a:lnTo>
                <a:lnTo>
                  <a:pt x="603" y="751"/>
                </a:lnTo>
                <a:lnTo>
                  <a:pt x="581" y="764"/>
                </a:lnTo>
                <a:lnTo>
                  <a:pt x="534" y="754"/>
                </a:lnTo>
                <a:lnTo>
                  <a:pt x="455" y="761"/>
                </a:lnTo>
                <a:lnTo>
                  <a:pt x="434" y="751"/>
                </a:lnTo>
                <a:lnTo>
                  <a:pt x="348" y="760"/>
                </a:lnTo>
                <a:lnTo>
                  <a:pt x="314" y="776"/>
                </a:lnTo>
                <a:lnTo>
                  <a:pt x="269" y="772"/>
                </a:lnTo>
                <a:lnTo>
                  <a:pt x="233" y="800"/>
                </a:lnTo>
                <a:lnTo>
                  <a:pt x="105" y="664"/>
                </a:lnTo>
                <a:lnTo>
                  <a:pt x="0" y="586"/>
                </a:lnTo>
                <a:lnTo>
                  <a:pt x="144" y="299"/>
                </a:lnTo>
                <a:lnTo>
                  <a:pt x="499" y="0"/>
                </a:lnTo>
                <a:lnTo>
                  <a:pt x="499" y="0"/>
                </a:lnTo>
              </a:path>
            </a:pathLst>
          </a:custGeom>
          <a:solidFill>
            <a:srgbClr val="ffcc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11"/>
          <p:cNvSpPr/>
          <p:nvPr/>
        </p:nvSpPr>
        <p:spPr>
          <a:xfrm>
            <a:off x="4135320" y="1054080"/>
            <a:ext cx="2625840" cy="2133720"/>
          </a:xfrm>
          <a:custGeom>
            <a:avLst/>
            <a:gdLst>
              <a:gd name="textAreaLeft" fmla="*/ 0 w 2625840"/>
              <a:gd name="textAreaRight" fmla="*/ 2626200 w 262584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1574" h="1468">
                <a:moveTo>
                  <a:pt x="287" y="723"/>
                </a:moveTo>
                <a:lnTo>
                  <a:pt x="0" y="241"/>
                </a:lnTo>
                <a:lnTo>
                  <a:pt x="140" y="186"/>
                </a:lnTo>
                <a:lnTo>
                  <a:pt x="146" y="170"/>
                </a:lnTo>
                <a:lnTo>
                  <a:pt x="192" y="167"/>
                </a:lnTo>
                <a:lnTo>
                  <a:pt x="209" y="141"/>
                </a:lnTo>
                <a:lnTo>
                  <a:pt x="257" y="136"/>
                </a:lnTo>
                <a:lnTo>
                  <a:pt x="256" y="89"/>
                </a:lnTo>
                <a:lnTo>
                  <a:pt x="299" y="80"/>
                </a:lnTo>
                <a:lnTo>
                  <a:pt x="304" y="51"/>
                </a:lnTo>
                <a:lnTo>
                  <a:pt x="340" y="63"/>
                </a:lnTo>
                <a:lnTo>
                  <a:pt x="357" y="57"/>
                </a:lnTo>
                <a:lnTo>
                  <a:pt x="338" y="34"/>
                </a:lnTo>
                <a:lnTo>
                  <a:pt x="326" y="7"/>
                </a:lnTo>
                <a:lnTo>
                  <a:pt x="355" y="0"/>
                </a:lnTo>
                <a:lnTo>
                  <a:pt x="360" y="25"/>
                </a:lnTo>
                <a:lnTo>
                  <a:pt x="377" y="29"/>
                </a:lnTo>
                <a:lnTo>
                  <a:pt x="420" y="18"/>
                </a:lnTo>
                <a:lnTo>
                  <a:pt x="471" y="60"/>
                </a:lnTo>
                <a:lnTo>
                  <a:pt x="513" y="48"/>
                </a:lnTo>
                <a:lnTo>
                  <a:pt x="512" y="25"/>
                </a:lnTo>
                <a:lnTo>
                  <a:pt x="579" y="34"/>
                </a:lnTo>
                <a:lnTo>
                  <a:pt x="595" y="58"/>
                </a:lnTo>
                <a:lnTo>
                  <a:pt x="600" y="105"/>
                </a:lnTo>
                <a:lnTo>
                  <a:pt x="634" y="109"/>
                </a:lnTo>
                <a:lnTo>
                  <a:pt x="647" y="149"/>
                </a:lnTo>
                <a:lnTo>
                  <a:pt x="629" y="174"/>
                </a:lnTo>
                <a:lnTo>
                  <a:pt x="642" y="187"/>
                </a:lnTo>
                <a:lnTo>
                  <a:pt x="636" y="201"/>
                </a:lnTo>
                <a:lnTo>
                  <a:pt x="618" y="212"/>
                </a:lnTo>
                <a:lnTo>
                  <a:pt x="641" y="221"/>
                </a:lnTo>
                <a:lnTo>
                  <a:pt x="647" y="243"/>
                </a:lnTo>
                <a:lnTo>
                  <a:pt x="669" y="233"/>
                </a:lnTo>
                <a:lnTo>
                  <a:pt x="690" y="243"/>
                </a:lnTo>
                <a:lnTo>
                  <a:pt x="722" y="237"/>
                </a:lnTo>
                <a:lnTo>
                  <a:pt x="719" y="204"/>
                </a:lnTo>
                <a:lnTo>
                  <a:pt x="756" y="210"/>
                </a:lnTo>
                <a:lnTo>
                  <a:pt x="779" y="226"/>
                </a:lnTo>
                <a:lnTo>
                  <a:pt x="780" y="206"/>
                </a:lnTo>
                <a:lnTo>
                  <a:pt x="745" y="164"/>
                </a:lnTo>
                <a:lnTo>
                  <a:pt x="764" y="157"/>
                </a:lnTo>
                <a:lnTo>
                  <a:pt x="780" y="183"/>
                </a:lnTo>
                <a:lnTo>
                  <a:pt x="804" y="180"/>
                </a:lnTo>
                <a:lnTo>
                  <a:pt x="794" y="207"/>
                </a:lnTo>
                <a:lnTo>
                  <a:pt x="815" y="209"/>
                </a:lnTo>
                <a:lnTo>
                  <a:pt x="808" y="252"/>
                </a:lnTo>
                <a:lnTo>
                  <a:pt x="819" y="268"/>
                </a:lnTo>
                <a:lnTo>
                  <a:pt x="852" y="240"/>
                </a:lnTo>
                <a:lnTo>
                  <a:pt x="845" y="223"/>
                </a:lnTo>
                <a:lnTo>
                  <a:pt x="830" y="222"/>
                </a:lnTo>
                <a:lnTo>
                  <a:pt x="840" y="204"/>
                </a:lnTo>
                <a:lnTo>
                  <a:pt x="863" y="196"/>
                </a:lnTo>
                <a:lnTo>
                  <a:pt x="891" y="207"/>
                </a:lnTo>
                <a:lnTo>
                  <a:pt x="911" y="226"/>
                </a:lnTo>
                <a:lnTo>
                  <a:pt x="934" y="230"/>
                </a:lnTo>
                <a:lnTo>
                  <a:pt x="943" y="202"/>
                </a:lnTo>
                <a:lnTo>
                  <a:pt x="968" y="198"/>
                </a:lnTo>
                <a:lnTo>
                  <a:pt x="981" y="186"/>
                </a:lnTo>
                <a:lnTo>
                  <a:pt x="1001" y="196"/>
                </a:lnTo>
                <a:lnTo>
                  <a:pt x="993" y="221"/>
                </a:lnTo>
                <a:lnTo>
                  <a:pt x="969" y="219"/>
                </a:lnTo>
                <a:lnTo>
                  <a:pt x="968" y="236"/>
                </a:lnTo>
                <a:lnTo>
                  <a:pt x="944" y="273"/>
                </a:lnTo>
                <a:lnTo>
                  <a:pt x="957" y="319"/>
                </a:lnTo>
                <a:lnTo>
                  <a:pt x="986" y="328"/>
                </a:lnTo>
                <a:lnTo>
                  <a:pt x="985" y="309"/>
                </a:lnTo>
                <a:lnTo>
                  <a:pt x="1005" y="283"/>
                </a:lnTo>
                <a:lnTo>
                  <a:pt x="1036" y="276"/>
                </a:lnTo>
                <a:lnTo>
                  <a:pt x="1047" y="291"/>
                </a:lnTo>
                <a:lnTo>
                  <a:pt x="1074" y="274"/>
                </a:lnTo>
                <a:lnTo>
                  <a:pt x="1092" y="294"/>
                </a:lnTo>
                <a:lnTo>
                  <a:pt x="1116" y="298"/>
                </a:lnTo>
                <a:lnTo>
                  <a:pt x="1095" y="252"/>
                </a:lnTo>
                <a:lnTo>
                  <a:pt x="1111" y="225"/>
                </a:lnTo>
                <a:lnTo>
                  <a:pt x="1146" y="203"/>
                </a:lnTo>
                <a:lnTo>
                  <a:pt x="1195" y="186"/>
                </a:lnTo>
                <a:lnTo>
                  <a:pt x="1198" y="136"/>
                </a:lnTo>
                <a:lnTo>
                  <a:pt x="1228" y="116"/>
                </a:lnTo>
                <a:lnTo>
                  <a:pt x="1263" y="109"/>
                </a:lnTo>
                <a:lnTo>
                  <a:pt x="1270" y="63"/>
                </a:lnTo>
                <a:lnTo>
                  <a:pt x="1288" y="48"/>
                </a:lnTo>
                <a:lnTo>
                  <a:pt x="1307" y="38"/>
                </a:lnTo>
                <a:lnTo>
                  <a:pt x="1328" y="34"/>
                </a:lnTo>
                <a:lnTo>
                  <a:pt x="1330" y="63"/>
                </a:lnTo>
                <a:lnTo>
                  <a:pt x="1321" y="76"/>
                </a:lnTo>
                <a:lnTo>
                  <a:pt x="1301" y="94"/>
                </a:lnTo>
                <a:lnTo>
                  <a:pt x="1407" y="805"/>
                </a:lnTo>
                <a:lnTo>
                  <a:pt x="1532" y="1012"/>
                </a:lnTo>
                <a:lnTo>
                  <a:pt x="1574" y="1194"/>
                </a:lnTo>
                <a:lnTo>
                  <a:pt x="1346" y="1400"/>
                </a:lnTo>
                <a:lnTo>
                  <a:pt x="1011" y="1468"/>
                </a:lnTo>
                <a:lnTo>
                  <a:pt x="467" y="1215"/>
                </a:lnTo>
                <a:lnTo>
                  <a:pt x="387" y="1062"/>
                </a:lnTo>
                <a:lnTo>
                  <a:pt x="191" y="945"/>
                </a:lnTo>
                <a:lnTo>
                  <a:pt x="246" y="810"/>
                </a:lnTo>
                <a:lnTo>
                  <a:pt x="285" y="721"/>
                </a:lnTo>
              </a:path>
            </a:pathLst>
          </a:custGeom>
          <a:solidFill>
            <a:srgbClr val="00cc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126200" y="4191120"/>
            <a:ext cx="56196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7126200" y="4191120"/>
            <a:ext cx="77760" cy="207720"/>
          </a:xfrm>
          <a:custGeom>
            <a:avLst/>
            <a:gdLst>
              <a:gd name="textAreaLeft" fmla="*/ 0 w 77760"/>
              <a:gd name="textAreaRight" fmla="*/ 78120 w 77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45" h="144">
                <a:moveTo>
                  <a:pt x="0" y="0"/>
                </a:moveTo>
                <a:lnTo>
                  <a:pt x="45" y="14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15"/>
          <p:cNvSpPr/>
          <p:nvPr/>
        </p:nvSpPr>
        <p:spPr>
          <a:xfrm>
            <a:off x="2522520" y="3317760"/>
            <a:ext cx="1539720" cy="12304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3" h="846">
                <a:moveTo>
                  <a:pt x="3" y="689"/>
                </a:moveTo>
                <a:lnTo>
                  <a:pt x="12" y="387"/>
                </a:lnTo>
                <a:lnTo>
                  <a:pt x="92" y="380"/>
                </a:lnTo>
                <a:lnTo>
                  <a:pt x="279" y="165"/>
                </a:lnTo>
                <a:lnTo>
                  <a:pt x="639" y="0"/>
                </a:lnTo>
                <a:lnTo>
                  <a:pt x="923" y="259"/>
                </a:lnTo>
                <a:lnTo>
                  <a:pt x="563" y="557"/>
                </a:lnTo>
                <a:lnTo>
                  <a:pt x="420" y="846"/>
                </a:lnTo>
                <a:lnTo>
                  <a:pt x="381" y="810"/>
                </a:lnTo>
                <a:lnTo>
                  <a:pt x="352" y="777"/>
                </a:lnTo>
                <a:lnTo>
                  <a:pt x="311" y="748"/>
                </a:lnTo>
                <a:lnTo>
                  <a:pt x="250" y="719"/>
                </a:lnTo>
                <a:lnTo>
                  <a:pt x="215" y="695"/>
                </a:lnTo>
                <a:lnTo>
                  <a:pt x="177" y="666"/>
                </a:lnTo>
                <a:lnTo>
                  <a:pt x="131" y="648"/>
                </a:lnTo>
                <a:lnTo>
                  <a:pt x="0" y="686"/>
                </a:lnTo>
                <a:lnTo>
                  <a:pt x="3" y="689"/>
                </a:lnTo>
                <a:lnTo>
                  <a:pt x="3" y="689"/>
                </a:lnTo>
              </a:path>
            </a:pathLst>
          </a:custGeom>
          <a:solidFill>
            <a:srgbClr val="ff99cc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16"/>
          <p:cNvSpPr/>
          <p:nvPr/>
        </p:nvSpPr>
        <p:spPr>
          <a:xfrm>
            <a:off x="39600" y="2346480"/>
            <a:ext cx="1951200" cy="84744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1170" h="584">
                <a:moveTo>
                  <a:pt x="33" y="482"/>
                </a:moveTo>
                <a:lnTo>
                  <a:pt x="33" y="484"/>
                </a:lnTo>
                <a:lnTo>
                  <a:pt x="29" y="465"/>
                </a:lnTo>
                <a:lnTo>
                  <a:pt x="5" y="444"/>
                </a:lnTo>
                <a:lnTo>
                  <a:pt x="0" y="429"/>
                </a:lnTo>
                <a:lnTo>
                  <a:pt x="5" y="422"/>
                </a:lnTo>
                <a:lnTo>
                  <a:pt x="11" y="409"/>
                </a:lnTo>
                <a:lnTo>
                  <a:pt x="11" y="388"/>
                </a:lnTo>
                <a:lnTo>
                  <a:pt x="23" y="364"/>
                </a:lnTo>
                <a:lnTo>
                  <a:pt x="28" y="342"/>
                </a:lnTo>
                <a:lnTo>
                  <a:pt x="41" y="331"/>
                </a:lnTo>
                <a:lnTo>
                  <a:pt x="67" y="317"/>
                </a:lnTo>
                <a:lnTo>
                  <a:pt x="89" y="302"/>
                </a:lnTo>
                <a:lnTo>
                  <a:pt x="96" y="292"/>
                </a:lnTo>
                <a:lnTo>
                  <a:pt x="99" y="278"/>
                </a:lnTo>
                <a:lnTo>
                  <a:pt x="96" y="267"/>
                </a:lnTo>
                <a:lnTo>
                  <a:pt x="92" y="263"/>
                </a:lnTo>
                <a:lnTo>
                  <a:pt x="102" y="257"/>
                </a:lnTo>
                <a:lnTo>
                  <a:pt x="107" y="243"/>
                </a:lnTo>
                <a:lnTo>
                  <a:pt x="118" y="233"/>
                </a:lnTo>
                <a:lnTo>
                  <a:pt x="138" y="226"/>
                </a:lnTo>
                <a:lnTo>
                  <a:pt x="154" y="229"/>
                </a:lnTo>
                <a:lnTo>
                  <a:pt x="164" y="240"/>
                </a:lnTo>
                <a:lnTo>
                  <a:pt x="171" y="254"/>
                </a:lnTo>
                <a:lnTo>
                  <a:pt x="177" y="265"/>
                </a:lnTo>
                <a:lnTo>
                  <a:pt x="187" y="272"/>
                </a:lnTo>
                <a:lnTo>
                  <a:pt x="196" y="283"/>
                </a:lnTo>
                <a:lnTo>
                  <a:pt x="203" y="307"/>
                </a:lnTo>
                <a:lnTo>
                  <a:pt x="216" y="338"/>
                </a:lnTo>
                <a:lnTo>
                  <a:pt x="233" y="360"/>
                </a:lnTo>
                <a:lnTo>
                  <a:pt x="249" y="361"/>
                </a:lnTo>
                <a:lnTo>
                  <a:pt x="275" y="355"/>
                </a:lnTo>
                <a:lnTo>
                  <a:pt x="289" y="349"/>
                </a:lnTo>
                <a:lnTo>
                  <a:pt x="304" y="337"/>
                </a:lnTo>
                <a:lnTo>
                  <a:pt x="309" y="324"/>
                </a:lnTo>
                <a:lnTo>
                  <a:pt x="309" y="311"/>
                </a:lnTo>
                <a:lnTo>
                  <a:pt x="299" y="302"/>
                </a:lnTo>
                <a:lnTo>
                  <a:pt x="297" y="278"/>
                </a:lnTo>
                <a:lnTo>
                  <a:pt x="294" y="248"/>
                </a:lnTo>
                <a:lnTo>
                  <a:pt x="294" y="215"/>
                </a:lnTo>
                <a:lnTo>
                  <a:pt x="286" y="193"/>
                </a:lnTo>
                <a:lnTo>
                  <a:pt x="292" y="190"/>
                </a:lnTo>
                <a:lnTo>
                  <a:pt x="303" y="195"/>
                </a:lnTo>
                <a:lnTo>
                  <a:pt x="314" y="204"/>
                </a:lnTo>
                <a:lnTo>
                  <a:pt x="323" y="202"/>
                </a:lnTo>
                <a:lnTo>
                  <a:pt x="336" y="190"/>
                </a:lnTo>
                <a:lnTo>
                  <a:pt x="354" y="179"/>
                </a:lnTo>
                <a:lnTo>
                  <a:pt x="366" y="174"/>
                </a:lnTo>
                <a:lnTo>
                  <a:pt x="386" y="170"/>
                </a:lnTo>
                <a:lnTo>
                  <a:pt x="395" y="163"/>
                </a:lnTo>
                <a:lnTo>
                  <a:pt x="401" y="148"/>
                </a:lnTo>
                <a:lnTo>
                  <a:pt x="393" y="133"/>
                </a:lnTo>
                <a:lnTo>
                  <a:pt x="395" y="124"/>
                </a:lnTo>
                <a:lnTo>
                  <a:pt x="399" y="118"/>
                </a:lnTo>
                <a:lnTo>
                  <a:pt x="414" y="114"/>
                </a:lnTo>
                <a:lnTo>
                  <a:pt x="430" y="116"/>
                </a:lnTo>
                <a:lnTo>
                  <a:pt x="450" y="109"/>
                </a:lnTo>
                <a:lnTo>
                  <a:pt x="478" y="100"/>
                </a:lnTo>
                <a:lnTo>
                  <a:pt x="499" y="84"/>
                </a:lnTo>
                <a:lnTo>
                  <a:pt x="521" y="66"/>
                </a:lnTo>
                <a:lnTo>
                  <a:pt x="542" y="51"/>
                </a:lnTo>
                <a:lnTo>
                  <a:pt x="559" y="35"/>
                </a:lnTo>
                <a:lnTo>
                  <a:pt x="568" y="27"/>
                </a:lnTo>
                <a:lnTo>
                  <a:pt x="583" y="26"/>
                </a:lnTo>
                <a:lnTo>
                  <a:pt x="592" y="0"/>
                </a:lnTo>
                <a:lnTo>
                  <a:pt x="615" y="12"/>
                </a:lnTo>
                <a:lnTo>
                  <a:pt x="647" y="9"/>
                </a:lnTo>
                <a:lnTo>
                  <a:pt x="669" y="16"/>
                </a:lnTo>
                <a:lnTo>
                  <a:pt x="673" y="22"/>
                </a:lnTo>
                <a:lnTo>
                  <a:pt x="663" y="32"/>
                </a:lnTo>
                <a:lnTo>
                  <a:pt x="652" y="48"/>
                </a:lnTo>
                <a:lnTo>
                  <a:pt x="660" y="58"/>
                </a:lnTo>
                <a:lnTo>
                  <a:pt x="670" y="53"/>
                </a:lnTo>
                <a:lnTo>
                  <a:pt x="683" y="52"/>
                </a:lnTo>
                <a:lnTo>
                  <a:pt x="688" y="48"/>
                </a:lnTo>
                <a:lnTo>
                  <a:pt x="701" y="55"/>
                </a:lnTo>
                <a:lnTo>
                  <a:pt x="710" y="58"/>
                </a:lnTo>
                <a:lnTo>
                  <a:pt x="716" y="48"/>
                </a:lnTo>
                <a:lnTo>
                  <a:pt x="716" y="37"/>
                </a:lnTo>
                <a:lnTo>
                  <a:pt x="716" y="28"/>
                </a:lnTo>
                <a:lnTo>
                  <a:pt x="730" y="24"/>
                </a:lnTo>
                <a:lnTo>
                  <a:pt x="754" y="22"/>
                </a:lnTo>
                <a:lnTo>
                  <a:pt x="773" y="12"/>
                </a:lnTo>
                <a:lnTo>
                  <a:pt x="795" y="6"/>
                </a:lnTo>
                <a:lnTo>
                  <a:pt x="797" y="22"/>
                </a:lnTo>
                <a:lnTo>
                  <a:pt x="805" y="30"/>
                </a:lnTo>
                <a:lnTo>
                  <a:pt x="805" y="55"/>
                </a:lnTo>
                <a:lnTo>
                  <a:pt x="824" y="58"/>
                </a:lnTo>
                <a:lnTo>
                  <a:pt x="867" y="61"/>
                </a:lnTo>
                <a:lnTo>
                  <a:pt x="908" y="64"/>
                </a:lnTo>
                <a:lnTo>
                  <a:pt x="933" y="70"/>
                </a:lnTo>
                <a:lnTo>
                  <a:pt x="949" y="81"/>
                </a:lnTo>
                <a:lnTo>
                  <a:pt x="954" y="104"/>
                </a:lnTo>
                <a:lnTo>
                  <a:pt x="953" y="121"/>
                </a:lnTo>
                <a:lnTo>
                  <a:pt x="964" y="132"/>
                </a:lnTo>
                <a:lnTo>
                  <a:pt x="984" y="135"/>
                </a:lnTo>
                <a:lnTo>
                  <a:pt x="1010" y="150"/>
                </a:lnTo>
                <a:lnTo>
                  <a:pt x="1025" y="168"/>
                </a:lnTo>
                <a:lnTo>
                  <a:pt x="1031" y="190"/>
                </a:lnTo>
                <a:lnTo>
                  <a:pt x="1039" y="199"/>
                </a:lnTo>
                <a:lnTo>
                  <a:pt x="1059" y="202"/>
                </a:lnTo>
                <a:lnTo>
                  <a:pt x="1068" y="214"/>
                </a:lnTo>
                <a:lnTo>
                  <a:pt x="1061" y="245"/>
                </a:lnTo>
                <a:lnTo>
                  <a:pt x="1061" y="263"/>
                </a:lnTo>
                <a:lnTo>
                  <a:pt x="1071" y="271"/>
                </a:lnTo>
                <a:lnTo>
                  <a:pt x="1085" y="266"/>
                </a:lnTo>
                <a:lnTo>
                  <a:pt x="1095" y="254"/>
                </a:lnTo>
                <a:lnTo>
                  <a:pt x="1098" y="231"/>
                </a:lnTo>
                <a:lnTo>
                  <a:pt x="1094" y="210"/>
                </a:lnTo>
                <a:lnTo>
                  <a:pt x="1083" y="191"/>
                </a:lnTo>
                <a:lnTo>
                  <a:pt x="1080" y="177"/>
                </a:lnTo>
                <a:lnTo>
                  <a:pt x="1087" y="171"/>
                </a:lnTo>
                <a:lnTo>
                  <a:pt x="1098" y="175"/>
                </a:lnTo>
                <a:lnTo>
                  <a:pt x="1109" y="185"/>
                </a:lnTo>
                <a:lnTo>
                  <a:pt x="1121" y="193"/>
                </a:lnTo>
                <a:lnTo>
                  <a:pt x="1136" y="200"/>
                </a:lnTo>
                <a:lnTo>
                  <a:pt x="1146" y="202"/>
                </a:lnTo>
                <a:lnTo>
                  <a:pt x="1148" y="224"/>
                </a:lnTo>
                <a:lnTo>
                  <a:pt x="1152" y="239"/>
                </a:lnTo>
                <a:lnTo>
                  <a:pt x="1163" y="241"/>
                </a:lnTo>
                <a:lnTo>
                  <a:pt x="1170" y="246"/>
                </a:lnTo>
                <a:lnTo>
                  <a:pt x="786" y="584"/>
                </a:lnTo>
                <a:lnTo>
                  <a:pt x="33" y="482"/>
                </a:lnTo>
                <a:lnTo>
                  <a:pt x="33" y="482"/>
                </a:lnTo>
              </a:path>
            </a:pathLst>
          </a:custGeom>
          <a:solidFill>
            <a:srgbClr val="ff99cc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17"/>
          <p:cNvSpPr/>
          <p:nvPr/>
        </p:nvSpPr>
        <p:spPr>
          <a:xfrm>
            <a:off x="468360" y="3876840"/>
            <a:ext cx="2077920" cy="1687320"/>
          </a:xfrm>
          <a:custGeom>
            <a:avLst/>
            <a:gdLst>
              <a:gd name="textAreaLeft" fmla="*/ 0 w 2077920"/>
              <a:gd name="textAreaRight" fmla="*/ 2078280 w 207792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1245" h="1161">
                <a:moveTo>
                  <a:pt x="55" y="137"/>
                </a:moveTo>
                <a:lnTo>
                  <a:pt x="0" y="770"/>
                </a:lnTo>
                <a:lnTo>
                  <a:pt x="291" y="972"/>
                </a:lnTo>
                <a:lnTo>
                  <a:pt x="430" y="1029"/>
                </a:lnTo>
                <a:lnTo>
                  <a:pt x="446" y="1024"/>
                </a:lnTo>
                <a:lnTo>
                  <a:pt x="468" y="1017"/>
                </a:lnTo>
                <a:lnTo>
                  <a:pt x="490" y="995"/>
                </a:lnTo>
                <a:lnTo>
                  <a:pt x="522" y="967"/>
                </a:lnTo>
                <a:lnTo>
                  <a:pt x="560" y="945"/>
                </a:lnTo>
                <a:lnTo>
                  <a:pt x="607" y="934"/>
                </a:lnTo>
                <a:lnTo>
                  <a:pt x="653" y="925"/>
                </a:lnTo>
                <a:lnTo>
                  <a:pt x="695" y="931"/>
                </a:lnTo>
                <a:lnTo>
                  <a:pt x="746" y="948"/>
                </a:lnTo>
                <a:lnTo>
                  <a:pt x="786" y="981"/>
                </a:lnTo>
                <a:lnTo>
                  <a:pt x="818" y="1017"/>
                </a:lnTo>
                <a:lnTo>
                  <a:pt x="846" y="1062"/>
                </a:lnTo>
                <a:lnTo>
                  <a:pt x="867" y="1118"/>
                </a:lnTo>
                <a:lnTo>
                  <a:pt x="889" y="1145"/>
                </a:lnTo>
                <a:lnTo>
                  <a:pt x="905" y="1161"/>
                </a:lnTo>
                <a:lnTo>
                  <a:pt x="946" y="1159"/>
                </a:lnTo>
                <a:lnTo>
                  <a:pt x="992" y="1139"/>
                </a:lnTo>
                <a:lnTo>
                  <a:pt x="997" y="642"/>
                </a:lnTo>
                <a:lnTo>
                  <a:pt x="985" y="390"/>
                </a:lnTo>
                <a:lnTo>
                  <a:pt x="1227" y="300"/>
                </a:lnTo>
                <a:lnTo>
                  <a:pt x="1245" y="0"/>
                </a:lnTo>
                <a:lnTo>
                  <a:pt x="1141" y="0"/>
                </a:lnTo>
                <a:lnTo>
                  <a:pt x="823" y="309"/>
                </a:lnTo>
                <a:lnTo>
                  <a:pt x="57" y="134"/>
                </a:lnTo>
                <a:lnTo>
                  <a:pt x="55" y="137"/>
                </a:lnTo>
                <a:lnTo>
                  <a:pt x="55" y="137"/>
                </a:lnTo>
              </a:path>
            </a:pathLst>
          </a:custGeom>
          <a:solidFill>
            <a:srgbClr val="ff99cc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reeform 18"/>
          <p:cNvSpPr/>
          <p:nvPr/>
        </p:nvSpPr>
        <p:spPr>
          <a:xfrm>
            <a:off x="3517920" y="2433600"/>
            <a:ext cx="2543040" cy="1679760"/>
          </a:xfrm>
          <a:custGeom>
            <a:avLst/>
            <a:gdLst>
              <a:gd name="textAreaLeft" fmla="*/ 0 w 2543040"/>
              <a:gd name="textAreaRight" fmla="*/ 2543400 w 254304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1524" h="1156">
                <a:moveTo>
                  <a:pt x="45" y="612"/>
                </a:moveTo>
                <a:lnTo>
                  <a:pt x="0" y="323"/>
                </a:lnTo>
                <a:lnTo>
                  <a:pt x="489" y="165"/>
                </a:lnTo>
                <a:lnTo>
                  <a:pt x="559" y="0"/>
                </a:lnTo>
                <a:lnTo>
                  <a:pt x="762" y="113"/>
                </a:lnTo>
                <a:lnTo>
                  <a:pt x="833" y="268"/>
                </a:lnTo>
                <a:lnTo>
                  <a:pt x="1378" y="520"/>
                </a:lnTo>
                <a:lnTo>
                  <a:pt x="1524" y="1154"/>
                </a:lnTo>
                <a:lnTo>
                  <a:pt x="1129" y="1156"/>
                </a:lnTo>
                <a:lnTo>
                  <a:pt x="322" y="865"/>
                </a:lnTo>
                <a:lnTo>
                  <a:pt x="111" y="674"/>
                </a:lnTo>
                <a:lnTo>
                  <a:pt x="67" y="635"/>
                </a:lnTo>
              </a:path>
            </a:pathLst>
          </a:custGeom>
          <a:solidFill>
            <a:srgbClr val="00cc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19"/>
          <p:cNvSpPr/>
          <p:nvPr/>
        </p:nvSpPr>
        <p:spPr>
          <a:xfrm>
            <a:off x="2987640" y="1378080"/>
            <a:ext cx="1622520" cy="1522440"/>
          </a:xfrm>
          <a:custGeom>
            <a:avLst/>
            <a:gdLst>
              <a:gd name="textAreaLeft" fmla="*/ 0 w 1622520"/>
              <a:gd name="textAreaRight" fmla="*/ 1622880 w 16225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972" h="1047">
                <a:moveTo>
                  <a:pt x="300" y="945"/>
                </a:moveTo>
                <a:lnTo>
                  <a:pt x="204" y="828"/>
                </a:lnTo>
                <a:lnTo>
                  <a:pt x="212" y="766"/>
                </a:lnTo>
                <a:lnTo>
                  <a:pt x="201" y="742"/>
                </a:lnTo>
                <a:lnTo>
                  <a:pt x="185" y="736"/>
                </a:lnTo>
                <a:lnTo>
                  <a:pt x="168" y="736"/>
                </a:lnTo>
                <a:lnTo>
                  <a:pt x="158" y="742"/>
                </a:lnTo>
                <a:lnTo>
                  <a:pt x="133" y="742"/>
                </a:lnTo>
                <a:lnTo>
                  <a:pt x="115" y="713"/>
                </a:lnTo>
                <a:lnTo>
                  <a:pt x="90" y="708"/>
                </a:lnTo>
                <a:lnTo>
                  <a:pt x="66" y="703"/>
                </a:lnTo>
                <a:lnTo>
                  <a:pt x="54" y="692"/>
                </a:lnTo>
                <a:lnTo>
                  <a:pt x="52" y="673"/>
                </a:lnTo>
                <a:lnTo>
                  <a:pt x="46" y="662"/>
                </a:lnTo>
                <a:lnTo>
                  <a:pt x="9" y="657"/>
                </a:lnTo>
                <a:lnTo>
                  <a:pt x="0" y="649"/>
                </a:lnTo>
                <a:lnTo>
                  <a:pt x="3" y="636"/>
                </a:lnTo>
                <a:lnTo>
                  <a:pt x="28" y="630"/>
                </a:lnTo>
                <a:lnTo>
                  <a:pt x="30" y="607"/>
                </a:lnTo>
                <a:lnTo>
                  <a:pt x="66" y="591"/>
                </a:lnTo>
                <a:lnTo>
                  <a:pt x="100" y="566"/>
                </a:lnTo>
                <a:lnTo>
                  <a:pt x="111" y="546"/>
                </a:lnTo>
                <a:lnTo>
                  <a:pt x="95" y="516"/>
                </a:lnTo>
                <a:lnTo>
                  <a:pt x="79" y="492"/>
                </a:lnTo>
                <a:lnTo>
                  <a:pt x="81" y="472"/>
                </a:lnTo>
                <a:lnTo>
                  <a:pt x="98" y="439"/>
                </a:lnTo>
                <a:lnTo>
                  <a:pt x="115" y="416"/>
                </a:lnTo>
                <a:lnTo>
                  <a:pt x="145" y="409"/>
                </a:lnTo>
                <a:lnTo>
                  <a:pt x="177" y="405"/>
                </a:lnTo>
                <a:lnTo>
                  <a:pt x="193" y="419"/>
                </a:lnTo>
                <a:lnTo>
                  <a:pt x="204" y="411"/>
                </a:lnTo>
                <a:lnTo>
                  <a:pt x="228" y="411"/>
                </a:lnTo>
                <a:lnTo>
                  <a:pt x="240" y="400"/>
                </a:lnTo>
                <a:lnTo>
                  <a:pt x="234" y="383"/>
                </a:lnTo>
                <a:lnTo>
                  <a:pt x="226" y="374"/>
                </a:lnTo>
                <a:lnTo>
                  <a:pt x="207" y="370"/>
                </a:lnTo>
                <a:lnTo>
                  <a:pt x="190" y="361"/>
                </a:lnTo>
                <a:lnTo>
                  <a:pt x="190" y="353"/>
                </a:lnTo>
                <a:lnTo>
                  <a:pt x="172" y="353"/>
                </a:lnTo>
                <a:lnTo>
                  <a:pt x="156" y="363"/>
                </a:lnTo>
                <a:lnTo>
                  <a:pt x="145" y="355"/>
                </a:lnTo>
                <a:lnTo>
                  <a:pt x="125" y="344"/>
                </a:lnTo>
                <a:lnTo>
                  <a:pt x="125" y="325"/>
                </a:lnTo>
                <a:lnTo>
                  <a:pt x="133" y="308"/>
                </a:lnTo>
                <a:lnTo>
                  <a:pt x="147" y="306"/>
                </a:lnTo>
                <a:lnTo>
                  <a:pt x="156" y="308"/>
                </a:lnTo>
                <a:lnTo>
                  <a:pt x="161" y="297"/>
                </a:lnTo>
                <a:lnTo>
                  <a:pt x="161" y="286"/>
                </a:lnTo>
                <a:lnTo>
                  <a:pt x="141" y="283"/>
                </a:lnTo>
                <a:lnTo>
                  <a:pt x="122" y="286"/>
                </a:lnTo>
                <a:lnTo>
                  <a:pt x="95" y="286"/>
                </a:lnTo>
                <a:lnTo>
                  <a:pt x="90" y="278"/>
                </a:lnTo>
                <a:lnTo>
                  <a:pt x="87" y="261"/>
                </a:lnTo>
                <a:lnTo>
                  <a:pt x="100" y="261"/>
                </a:lnTo>
                <a:lnTo>
                  <a:pt x="115" y="258"/>
                </a:lnTo>
                <a:lnTo>
                  <a:pt x="117" y="238"/>
                </a:lnTo>
                <a:lnTo>
                  <a:pt x="98" y="228"/>
                </a:lnTo>
                <a:lnTo>
                  <a:pt x="98" y="211"/>
                </a:lnTo>
                <a:lnTo>
                  <a:pt x="111" y="206"/>
                </a:lnTo>
                <a:lnTo>
                  <a:pt x="125" y="214"/>
                </a:lnTo>
                <a:lnTo>
                  <a:pt x="133" y="191"/>
                </a:lnTo>
                <a:lnTo>
                  <a:pt x="150" y="186"/>
                </a:lnTo>
                <a:lnTo>
                  <a:pt x="163" y="203"/>
                </a:lnTo>
                <a:lnTo>
                  <a:pt x="172" y="191"/>
                </a:lnTo>
                <a:lnTo>
                  <a:pt x="190" y="191"/>
                </a:lnTo>
                <a:lnTo>
                  <a:pt x="201" y="201"/>
                </a:lnTo>
                <a:lnTo>
                  <a:pt x="215" y="183"/>
                </a:lnTo>
                <a:lnTo>
                  <a:pt x="228" y="171"/>
                </a:lnTo>
                <a:lnTo>
                  <a:pt x="245" y="164"/>
                </a:lnTo>
                <a:lnTo>
                  <a:pt x="259" y="171"/>
                </a:lnTo>
                <a:lnTo>
                  <a:pt x="262" y="195"/>
                </a:lnTo>
                <a:lnTo>
                  <a:pt x="277" y="191"/>
                </a:lnTo>
                <a:lnTo>
                  <a:pt x="286" y="167"/>
                </a:lnTo>
                <a:lnTo>
                  <a:pt x="297" y="160"/>
                </a:lnTo>
                <a:lnTo>
                  <a:pt x="321" y="170"/>
                </a:lnTo>
                <a:lnTo>
                  <a:pt x="341" y="153"/>
                </a:lnTo>
                <a:lnTo>
                  <a:pt x="359" y="140"/>
                </a:lnTo>
                <a:lnTo>
                  <a:pt x="378" y="140"/>
                </a:lnTo>
                <a:lnTo>
                  <a:pt x="403" y="122"/>
                </a:lnTo>
                <a:lnTo>
                  <a:pt x="449" y="105"/>
                </a:lnTo>
                <a:lnTo>
                  <a:pt x="504" y="86"/>
                </a:lnTo>
                <a:lnTo>
                  <a:pt x="529" y="78"/>
                </a:lnTo>
                <a:lnTo>
                  <a:pt x="545" y="72"/>
                </a:lnTo>
                <a:lnTo>
                  <a:pt x="571" y="86"/>
                </a:lnTo>
                <a:lnTo>
                  <a:pt x="583" y="84"/>
                </a:lnTo>
                <a:lnTo>
                  <a:pt x="591" y="75"/>
                </a:lnTo>
                <a:lnTo>
                  <a:pt x="586" y="48"/>
                </a:lnTo>
                <a:lnTo>
                  <a:pt x="607" y="18"/>
                </a:lnTo>
                <a:lnTo>
                  <a:pt x="643" y="17"/>
                </a:lnTo>
                <a:lnTo>
                  <a:pt x="656" y="0"/>
                </a:lnTo>
                <a:lnTo>
                  <a:pt x="670" y="3"/>
                </a:lnTo>
                <a:lnTo>
                  <a:pt x="667" y="18"/>
                </a:lnTo>
                <a:lnTo>
                  <a:pt x="684" y="17"/>
                </a:lnTo>
                <a:lnTo>
                  <a:pt x="972" y="501"/>
                </a:lnTo>
                <a:lnTo>
                  <a:pt x="806" y="893"/>
                </a:lnTo>
                <a:lnTo>
                  <a:pt x="318" y="1047"/>
                </a:lnTo>
                <a:lnTo>
                  <a:pt x="300" y="945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20"/>
          <p:cNvSpPr/>
          <p:nvPr/>
        </p:nvSpPr>
        <p:spPr>
          <a:xfrm>
            <a:off x="4559400" y="4630680"/>
            <a:ext cx="1425600" cy="968400"/>
          </a:xfrm>
          <a:custGeom>
            <a:avLst/>
            <a:gdLst>
              <a:gd name="textAreaLeft" fmla="*/ 0 w 1425600"/>
              <a:gd name="textAreaRight" fmla="*/ 1425960 w 142560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855" h="666">
                <a:moveTo>
                  <a:pt x="0" y="216"/>
                </a:moveTo>
                <a:lnTo>
                  <a:pt x="304" y="69"/>
                </a:lnTo>
                <a:lnTo>
                  <a:pt x="375" y="0"/>
                </a:lnTo>
                <a:lnTo>
                  <a:pt x="855" y="239"/>
                </a:lnTo>
                <a:lnTo>
                  <a:pt x="849" y="264"/>
                </a:lnTo>
                <a:lnTo>
                  <a:pt x="837" y="288"/>
                </a:lnTo>
                <a:lnTo>
                  <a:pt x="828" y="308"/>
                </a:lnTo>
                <a:lnTo>
                  <a:pt x="793" y="309"/>
                </a:lnTo>
                <a:lnTo>
                  <a:pt x="787" y="318"/>
                </a:lnTo>
                <a:lnTo>
                  <a:pt x="777" y="338"/>
                </a:lnTo>
                <a:lnTo>
                  <a:pt x="760" y="352"/>
                </a:lnTo>
                <a:lnTo>
                  <a:pt x="745" y="368"/>
                </a:lnTo>
                <a:lnTo>
                  <a:pt x="743" y="376"/>
                </a:lnTo>
                <a:lnTo>
                  <a:pt x="723" y="383"/>
                </a:lnTo>
                <a:lnTo>
                  <a:pt x="691" y="403"/>
                </a:lnTo>
                <a:lnTo>
                  <a:pt x="680" y="420"/>
                </a:lnTo>
                <a:lnTo>
                  <a:pt x="654" y="430"/>
                </a:lnTo>
                <a:lnTo>
                  <a:pt x="651" y="455"/>
                </a:lnTo>
                <a:lnTo>
                  <a:pt x="643" y="467"/>
                </a:lnTo>
                <a:lnTo>
                  <a:pt x="625" y="471"/>
                </a:lnTo>
                <a:lnTo>
                  <a:pt x="598" y="489"/>
                </a:lnTo>
                <a:lnTo>
                  <a:pt x="601" y="520"/>
                </a:lnTo>
                <a:lnTo>
                  <a:pt x="578" y="528"/>
                </a:lnTo>
                <a:lnTo>
                  <a:pt x="560" y="543"/>
                </a:lnTo>
                <a:lnTo>
                  <a:pt x="554" y="562"/>
                </a:lnTo>
                <a:lnTo>
                  <a:pt x="551" y="579"/>
                </a:lnTo>
                <a:lnTo>
                  <a:pt x="537" y="585"/>
                </a:lnTo>
                <a:lnTo>
                  <a:pt x="514" y="579"/>
                </a:lnTo>
                <a:lnTo>
                  <a:pt x="511" y="589"/>
                </a:lnTo>
                <a:lnTo>
                  <a:pt x="529" y="599"/>
                </a:lnTo>
                <a:lnTo>
                  <a:pt x="532" y="624"/>
                </a:lnTo>
                <a:lnTo>
                  <a:pt x="544" y="632"/>
                </a:lnTo>
                <a:lnTo>
                  <a:pt x="544" y="646"/>
                </a:lnTo>
                <a:lnTo>
                  <a:pt x="554" y="658"/>
                </a:lnTo>
                <a:lnTo>
                  <a:pt x="544" y="666"/>
                </a:lnTo>
                <a:lnTo>
                  <a:pt x="514" y="659"/>
                </a:lnTo>
                <a:lnTo>
                  <a:pt x="470" y="641"/>
                </a:lnTo>
                <a:lnTo>
                  <a:pt x="458" y="634"/>
                </a:lnTo>
                <a:lnTo>
                  <a:pt x="451" y="619"/>
                </a:lnTo>
                <a:lnTo>
                  <a:pt x="460" y="598"/>
                </a:lnTo>
                <a:lnTo>
                  <a:pt x="460" y="587"/>
                </a:lnTo>
                <a:lnTo>
                  <a:pt x="435" y="580"/>
                </a:lnTo>
                <a:lnTo>
                  <a:pt x="427" y="561"/>
                </a:lnTo>
                <a:lnTo>
                  <a:pt x="390" y="562"/>
                </a:lnTo>
                <a:lnTo>
                  <a:pt x="367" y="570"/>
                </a:lnTo>
                <a:lnTo>
                  <a:pt x="327" y="577"/>
                </a:lnTo>
                <a:lnTo>
                  <a:pt x="293" y="587"/>
                </a:lnTo>
                <a:lnTo>
                  <a:pt x="266" y="583"/>
                </a:lnTo>
                <a:lnTo>
                  <a:pt x="250" y="589"/>
                </a:lnTo>
                <a:lnTo>
                  <a:pt x="220" y="595"/>
                </a:lnTo>
                <a:lnTo>
                  <a:pt x="169" y="475"/>
                </a:lnTo>
                <a:lnTo>
                  <a:pt x="166" y="447"/>
                </a:lnTo>
                <a:lnTo>
                  <a:pt x="122" y="445"/>
                </a:lnTo>
                <a:lnTo>
                  <a:pt x="81" y="433"/>
                </a:lnTo>
                <a:lnTo>
                  <a:pt x="64" y="376"/>
                </a:lnTo>
                <a:lnTo>
                  <a:pt x="64" y="355"/>
                </a:lnTo>
                <a:lnTo>
                  <a:pt x="84" y="349"/>
                </a:lnTo>
                <a:lnTo>
                  <a:pt x="87" y="285"/>
                </a:lnTo>
                <a:lnTo>
                  <a:pt x="70" y="235"/>
                </a:lnTo>
                <a:lnTo>
                  <a:pt x="52" y="237"/>
                </a:lnTo>
                <a:lnTo>
                  <a:pt x="34" y="245"/>
                </a:lnTo>
                <a:lnTo>
                  <a:pt x="20" y="251"/>
                </a:lnTo>
                <a:lnTo>
                  <a:pt x="0" y="216"/>
                </a:lnTo>
                <a:lnTo>
                  <a:pt x="0" y="216"/>
                </a:lnTo>
              </a:path>
            </a:pathLst>
          </a:custGeom>
          <a:solidFill>
            <a:srgbClr val="ffcc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5316480" y="2768760"/>
            <a:ext cx="128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araga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5845320" y="5307120"/>
            <a:ext cx="752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shk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7024680" y="2251080"/>
            <a:ext cx="16542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m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6118200" y="3463920"/>
            <a:ext cx="10414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lha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5235480" y="2027160"/>
            <a:ext cx="9860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319560" y="2054160"/>
            <a:ext cx="1122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ostana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4516560" y="3398760"/>
            <a:ext cx="11808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hezkaz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5684760" y="4957920"/>
            <a:ext cx="12826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ymk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641520" y="2550960"/>
            <a:ext cx="879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ral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284040" y="3492360"/>
            <a:ext cx="1040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yr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1762200" y="5027760"/>
            <a:ext cx="56016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3201840" y="4957920"/>
            <a:ext cx="5605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560520" y="4970520"/>
            <a:ext cx="465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2401920" y="2865600"/>
            <a:ext cx="241200" cy="27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2963880" y="3562200"/>
            <a:ext cx="639720" cy="69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3603600" y="4260960"/>
            <a:ext cx="641520" cy="104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37"/>
          <p:cNvSpPr/>
          <p:nvPr/>
        </p:nvSpPr>
        <p:spPr>
          <a:xfrm>
            <a:off x="1122480" y="2516040"/>
            <a:ext cx="79200" cy="125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38"/>
          <p:cNvSpPr/>
          <p:nvPr/>
        </p:nvSpPr>
        <p:spPr>
          <a:xfrm flipH="1">
            <a:off x="1039680" y="3772080"/>
            <a:ext cx="162000" cy="90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9"/>
          <p:cNvSpPr/>
          <p:nvPr/>
        </p:nvSpPr>
        <p:spPr>
          <a:xfrm flipH="1">
            <a:off x="560160" y="4678200"/>
            <a:ext cx="479160" cy="76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159840" y="4678200"/>
            <a:ext cx="879480" cy="48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1"/>
          <p:cNvSpPr/>
          <p:nvPr/>
        </p:nvSpPr>
        <p:spPr>
          <a:xfrm flipH="1" flipV="1">
            <a:off x="241200" y="4608360"/>
            <a:ext cx="79848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2"/>
          <p:cNvSpPr/>
          <p:nvPr/>
        </p:nvSpPr>
        <p:spPr>
          <a:xfrm flipH="1">
            <a:off x="241200" y="4678200"/>
            <a:ext cx="798480" cy="14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43"/>
          <p:cNvSpPr/>
          <p:nvPr/>
        </p:nvSpPr>
        <p:spPr>
          <a:xfrm flipH="1" flipV="1">
            <a:off x="320400" y="4260600"/>
            <a:ext cx="718920" cy="41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4"/>
          <p:cNvSpPr/>
          <p:nvPr/>
        </p:nvSpPr>
        <p:spPr>
          <a:xfrm>
            <a:off x="1039680" y="4678200"/>
            <a:ext cx="803520" cy="90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45"/>
          <p:cNvSpPr/>
          <p:nvPr/>
        </p:nvSpPr>
        <p:spPr>
          <a:xfrm>
            <a:off x="1039680" y="4678200"/>
            <a:ext cx="322560" cy="90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46"/>
          <p:cNvSpPr/>
          <p:nvPr/>
        </p:nvSpPr>
        <p:spPr>
          <a:xfrm>
            <a:off x="1843200" y="4089240"/>
            <a:ext cx="920520" cy="309600"/>
          </a:xfrm>
          <a:custGeom>
            <a:avLst/>
            <a:gdLst>
              <a:gd name="textAreaLeft" fmla="*/ 0 w 920520"/>
              <a:gd name="textAreaRight" fmla="*/ 920880 w 9205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552" h="213">
                <a:moveTo>
                  <a:pt x="0" y="213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7"/>
          <p:cNvSpPr/>
          <p:nvPr/>
        </p:nvSpPr>
        <p:spPr>
          <a:xfrm>
            <a:off x="1039680" y="4678200"/>
            <a:ext cx="1228680" cy="1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8"/>
          <p:cNvSpPr/>
          <p:nvPr/>
        </p:nvSpPr>
        <p:spPr>
          <a:xfrm>
            <a:off x="1039680" y="4678200"/>
            <a:ext cx="1155960" cy="26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9"/>
          <p:cNvSpPr/>
          <p:nvPr/>
        </p:nvSpPr>
        <p:spPr>
          <a:xfrm flipV="1">
            <a:off x="2884320" y="4398480"/>
            <a:ext cx="1598760" cy="41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50"/>
          <p:cNvSpPr/>
          <p:nvPr/>
        </p:nvSpPr>
        <p:spPr>
          <a:xfrm>
            <a:off x="2763720" y="4089240"/>
            <a:ext cx="839880" cy="171720"/>
          </a:xfrm>
          <a:custGeom>
            <a:avLst/>
            <a:gdLst>
              <a:gd name="textAreaLeft" fmla="*/ 0 w 839880"/>
              <a:gd name="textAreaRight" fmla="*/ 840240 w 839880"/>
              <a:gd name="textAreaTop" fmla="*/ 0 h 171720"/>
              <a:gd name="textAreaBottom" fmla="*/ 171720 h 171720"/>
            </a:gdLst>
            <a:ahLst/>
            <a:rect l="textAreaLeft" t="textAreaTop" r="textAreaRight" b="textAreaBottom"/>
            <a:pathLst>
              <a:path w="504" h="117">
                <a:moveTo>
                  <a:pt x="0" y="0"/>
                </a:moveTo>
                <a:lnTo>
                  <a:pt x="504" y="117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1"/>
          <p:cNvSpPr/>
          <p:nvPr/>
        </p:nvSpPr>
        <p:spPr>
          <a:xfrm flipH="1">
            <a:off x="241200" y="3772080"/>
            <a:ext cx="960480" cy="1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52"/>
          <p:cNvSpPr/>
          <p:nvPr/>
        </p:nvSpPr>
        <p:spPr>
          <a:xfrm flipH="1" flipV="1">
            <a:off x="320400" y="4051080"/>
            <a:ext cx="718920" cy="62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53"/>
          <p:cNvSpPr/>
          <p:nvPr/>
        </p:nvSpPr>
        <p:spPr>
          <a:xfrm flipV="1">
            <a:off x="2401920" y="1887120"/>
            <a:ext cx="1201680" cy="97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54"/>
          <p:cNvSpPr/>
          <p:nvPr/>
        </p:nvSpPr>
        <p:spPr>
          <a:xfrm flipV="1">
            <a:off x="3603600" y="1260360"/>
            <a:ext cx="1201680" cy="62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2401920" y="2865600"/>
            <a:ext cx="4165560" cy="153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6"/>
          <p:cNvSpPr/>
          <p:nvPr/>
        </p:nvSpPr>
        <p:spPr>
          <a:xfrm flipV="1">
            <a:off x="2401920" y="2655360"/>
            <a:ext cx="2162160" cy="2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57"/>
          <p:cNvSpPr/>
          <p:nvPr/>
        </p:nvSpPr>
        <p:spPr>
          <a:xfrm>
            <a:off x="4564080" y="2655720"/>
            <a:ext cx="144288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58"/>
          <p:cNvSpPr/>
          <p:nvPr/>
        </p:nvSpPr>
        <p:spPr>
          <a:xfrm>
            <a:off x="6006960" y="2725560"/>
            <a:ext cx="1681200" cy="7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>
            <a:off x="7688160" y="2795760"/>
            <a:ext cx="1041480" cy="34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60"/>
          <p:cNvSpPr/>
          <p:nvPr/>
        </p:nvSpPr>
        <p:spPr>
          <a:xfrm>
            <a:off x="3603600" y="4260960"/>
            <a:ext cx="879480" cy="13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61"/>
          <p:cNvSpPr/>
          <p:nvPr/>
        </p:nvSpPr>
        <p:spPr>
          <a:xfrm>
            <a:off x="4483080" y="4398840"/>
            <a:ext cx="208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62"/>
          <p:cNvSpPr/>
          <p:nvPr/>
        </p:nvSpPr>
        <p:spPr>
          <a:xfrm flipV="1">
            <a:off x="4483080" y="3352680"/>
            <a:ext cx="480960" cy="104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63"/>
          <p:cNvSpPr/>
          <p:nvPr/>
        </p:nvSpPr>
        <p:spPr>
          <a:xfrm flipV="1">
            <a:off x="4964040" y="2376360"/>
            <a:ext cx="720720" cy="9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64"/>
          <p:cNvSpPr/>
          <p:nvPr/>
        </p:nvSpPr>
        <p:spPr>
          <a:xfrm flipV="1">
            <a:off x="4964040" y="2725560"/>
            <a:ext cx="1042920" cy="62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65"/>
          <p:cNvSpPr/>
          <p:nvPr/>
        </p:nvSpPr>
        <p:spPr>
          <a:xfrm flipH="1" flipV="1">
            <a:off x="4563720" y="2655720"/>
            <a:ext cx="399960" cy="696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66"/>
          <p:cNvSpPr/>
          <p:nvPr/>
        </p:nvSpPr>
        <p:spPr>
          <a:xfrm>
            <a:off x="3603600" y="1887480"/>
            <a:ext cx="1359000" cy="146376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1463760"/>
              <a:gd name="textAreaBottom" fmla="*/ 1463760 h 1463760"/>
            </a:gdLst>
            <a:ahLst/>
            <a:rect l="textAreaLeft" t="textAreaTop" r="textAreaRight" b="textAreaBottom"/>
            <a:pathLst>
              <a:path w="815" h="1007">
                <a:moveTo>
                  <a:pt x="815" y="100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67"/>
          <p:cNvSpPr/>
          <p:nvPr/>
        </p:nvSpPr>
        <p:spPr>
          <a:xfrm>
            <a:off x="4964040" y="3270240"/>
            <a:ext cx="598680" cy="82440"/>
          </a:xfrm>
          <a:custGeom>
            <a:avLst/>
            <a:gdLst>
              <a:gd name="textAreaLeft" fmla="*/ 0 w 598680"/>
              <a:gd name="textAreaRight" fmla="*/ 599040 w 59868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59" h="57">
                <a:moveTo>
                  <a:pt x="0" y="57"/>
                </a:moveTo>
                <a:lnTo>
                  <a:pt x="359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68"/>
          <p:cNvSpPr/>
          <p:nvPr/>
        </p:nvSpPr>
        <p:spPr>
          <a:xfrm>
            <a:off x="6726240" y="3422520"/>
            <a:ext cx="801720" cy="9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9"/>
          <p:cNvSpPr/>
          <p:nvPr/>
        </p:nvSpPr>
        <p:spPr>
          <a:xfrm>
            <a:off x="6726240" y="3422520"/>
            <a:ext cx="1522440" cy="9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0"/>
          <p:cNvSpPr/>
          <p:nvPr/>
        </p:nvSpPr>
        <p:spPr>
          <a:xfrm flipV="1">
            <a:off x="3603600" y="1677960"/>
            <a:ext cx="128124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71"/>
          <p:cNvSpPr/>
          <p:nvPr/>
        </p:nvSpPr>
        <p:spPr>
          <a:xfrm>
            <a:off x="3603600" y="1887480"/>
            <a:ext cx="128124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72"/>
          <p:cNvSpPr/>
          <p:nvPr/>
        </p:nvSpPr>
        <p:spPr>
          <a:xfrm>
            <a:off x="5684760" y="2376360"/>
            <a:ext cx="322200" cy="347760"/>
          </a:xfrm>
          <a:custGeom>
            <a:avLst/>
            <a:gdLst>
              <a:gd name="textAreaLeft" fmla="*/ 0 w 322200"/>
              <a:gd name="textAreaRight" fmla="*/ 322560 w 32220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88" h="239">
                <a:moveTo>
                  <a:pt x="0" y="0"/>
                </a:moveTo>
                <a:lnTo>
                  <a:pt x="288" y="239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3"/>
          <p:cNvSpPr/>
          <p:nvPr/>
        </p:nvSpPr>
        <p:spPr>
          <a:xfrm>
            <a:off x="4805280" y="1260360"/>
            <a:ext cx="79560" cy="41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74"/>
          <p:cNvSpPr/>
          <p:nvPr/>
        </p:nvSpPr>
        <p:spPr>
          <a:xfrm>
            <a:off x="4884840" y="1677960"/>
            <a:ext cx="799920" cy="698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75"/>
          <p:cNvSpPr/>
          <p:nvPr/>
        </p:nvSpPr>
        <p:spPr>
          <a:xfrm flipV="1">
            <a:off x="5684760" y="2027160"/>
            <a:ext cx="56196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76"/>
          <p:cNvSpPr/>
          <p:nvPr/>
        </p:nvSpPr>
        <p:spPr>
          <a:xfrm flipV="1">
            <a:off x="4884840" y="1677960"/>
            <a:ext cx="1762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7"/>
          <p:cNvSpPr/>
          <p:nvPr/>
        </p:nvSpPr>
        <p:spPr>
          <a:xfrm>
            <a:off x="6647040" y="1677960"/>
            <a:ext cx="880920" cy="488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 flipV="1">
            <a:off x="7527960" y="2097000"/>
            <a:ext cx="55872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006960" y="2725560"/>
            <a:ext cx="719280" cy="696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80"/>
          <p:cNvSpPr/>
          <p:nvPr/>
        </p:nvSpPr>
        <p:spPr>
          <a:xfrm flipH="1">
            <a:off x="4884840" y="1677960"/>
            <a:ext cx="1440" cy="488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81"/>
          <p:cNvSpPr/>
          <p:nvPr/>
        </p:nvSpPr>
        <p:spPr>
          <a:xfrm>
            <a:off x="4805280" y="1260360"/>
            <a:ext cx="719280" cy="277920"/>
          </a:xfrm>
          <a:custGeom>
            <a:avLst/>
            <a:gdLst>
              <a:gd name="textAreaLeft" fmla="*/ 0 w 719280"/>
              <a:gd name="textAreaRight" fmla="*/ 719640 w 7192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402" h="192">
                <a:moveTo>
                  <a:pt x="0" y="0"/>
                </a:moveTo>
                <a:lnTo>
                  <a:pt x="402" y="192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 flipV="1">
            <a:off x="6647040" y="1677960"/>
            <a:ext cx="479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83"/>
          <p:cNvSpPr/>
          <p:nvPr/>
        </p:nvSpPr>
        <p:spPr>
          <a:xfrm flipV="1">
            <a:off x="6006960" y="2027160"/>
            <a:ext cx="239760" cy="698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84"/>
          <p:cNvSpPr/>
          <p:nvPr/>
        </p:nvSpPr>
        <p:spPr>
          <a:xfrm>
            <a:off x="6702480" y="2166840"/>
            <a:ext cx="825480" cy="354240"/>
          </a:xfrm>
          <a:custGeom>
            <a:avLst/>
            <a:gdLst>
              <a:gd name="textAreaLeft" fmla="*/ 0 w 825480"/>
              <a:gd name="textAreaRight" fmla="*/ 825840 w 825480"/>
              <a:gd name="textAreaTop" fmla="*/ 0 h 354240"/>
              <a:gd name="textAreaBottom" fmla="*/ 354240 h 354240"/>
            </a:gdLst>
            <a:ahLst/>
            <a:rect l="textAreaLeft" t="textAreaTop" r="textAreaRight" b="textAreaBottom"/>
            <a:pathLst>
              <a:path w="495" h="243">
                <a:moveTo>
                  <a:pt x="0" y="243"/>
                </a:moveTo>
                <a:lnTo>
                  <a:pt x="495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5"/>
          <p:cNvSpPr/>
          <p:nvPr/>
        </p:nvSpPr>
        <p:spPr>
          <a:xfrm>
            <a:off x="4964040" y="3352680"/>
            <a:ext cx="1042920" cy="13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86"/>
          <p:cNvSpPr/>
          <p:nvPr/>
        </p:nvSpPr>
        <p:spPr>
          <a:xfrm flipV="1">
            <a:off x="6006960" y="4398840"/>
            <a:ext cx="56052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87"/>
          <p:cNvSpPr/>
          <p:nvPr/>
        </p:nvSpPr>
        <p:spPr>
          <a:xfrm flipH="1">
            <a:off x="3276360" y="4398840"/>
            <a:ext cx="1206360" cy="6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88"/>
          <p:cNvSpPr/>
          <p:nvPr/>
        </p:nvSpPr>
        <p:spPr>
          <a:xfrm flipH="1">
            <a:off x="3634920" y="4398840"/>
            <a:ext cx="847800" cy="758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V="1">
            <a:off x="7126200" y="2795760"/>
            <a:ext cx="561960" cy="13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90"/>
          <p:cNvSpPr/>
          <p:nvPr/>
        </p:nvSpPr>
        <p:spPr>
          <a:xfrm flipV="1">
            <a:off x="7527960" y="1677960"/>
            <a:ext cx="1440" cy="488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91"/>
          <p:cNvSpPr/>
          <p:nvPr/>
        </p:nvSpPr>
        <p:spPr>
          <a:xfrm flipV="1">
            <a:off x="7527960" y="1747800"/>
            <a:ext cx="399960" cy="41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92"/>
          <p:cNvSpPr/>
          <p:nvPr/>
        </p:nvSpPr>
        <p:spPr>
          <a:xfrm flipV="1">
            <a:off x="8086680" y="1608120"/>
            <a:ext cx="241200" cy="488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93"/>
          <p:cNvSpPr/>
          <p:nvPr/>
        </p:nvSpPr>
        <p:spPr>
          <a:xfrm flipV="1">
            <a:off x="8086680" y="1817640"/>
            <a:ext cx="64296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reeform 94"/>
          <p:cNvSpPr/>
          <p:nvPr/>
        </p:nvSpPr>
        <p:spPr>
          <a:xfrm>
            <a:off x="7688160" y="1932120"/>
            <a:ext cx="779400" cy="863640"/>
          </a:xfrm>
          <a:custGeom>
            <a:avLst/>
            <a:gdLst>
              <a:gd name="textAreaLeft" fmla="*/ 0 w 779400"/>
              <a:gd name="textAreaRight" fmla="*/ 779760 w 7794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467" h="690">
                <a:moveTo>
                  <a:pt x="0" y="690"/>
                </a:moveTo>
                <a:lnTo>
                  <a:pt x="467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95"/>
          <p:cNvSpPr/>
          <p:nvPr/>
        </p:nvSpPr>
        <p:spPr>
          <a:xfrm flipV="1">
            <a:off x="4805280" y="1120680"/>
            <a:ext cx="480960" cy="1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96"/>
          <p:cNvSpPr/>
          <p:nvPr/>
        </p:nvSpPr>
        <p:spPr>
          <a:xfrm flipH="1" flipV="1">
            <a:off x="4723920" y="981000"/>
            <a:ext cx="8100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97"/>
          <p:cNvSpPr/>
          <p:nvPr/>
        </p:nvSpPr>
        <p:spPr>
          <a:xfrm flipH="1" flipV="1">
            <a:off x="4482720" y="1120680"/>
            <a:ext cx="322200" cy="1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4724280" y="1190520"/>
            <a:ext cx="160560" cy="139680"/>
          </a:xfrm>
          <a:custGeom>
            <a:avLst/>
            <a:gdLst>
              <a:gd name="textAreaLeft" fmla="*/ 36720 w 160560"/>
              <a:gd name="textAreaRight" fmla="*/ 123840 w 1605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99"/>
          <p:cNvSpPr/>
          <p:nvPr/>
        </p:nvSpPr>
        <p:spPr>
          <a:xfrm flipH="1" flipV="1">
            <a:off x="4244760" y="1190520"/>
            <a:ext cx="639720" cy="48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00"/>
          <p:cNvSpPr/>
          <p:nvPr/>
        </p:nvSpPr>
        <p:spPr>
          <a:xfrm flipV="1">
            <a:off x="6567480" y="4190760"/>
            <a:ext cx="558720" cy="20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01"/>
          <p:cNvSpPr/>
          <p:nvPr/>
        </p:nvSpPr>
        <p:spPr>
          <a:xfrm>
            <a:off x="6567480" y="4398840"/>
            <a:ext cx="406440" cy="27000"/>
          </a:xfrm>
          <a:custGeom>
            <a:avLst/>
            <a:gdLst>
              <a:gd name="textAreaLeft" fmla="*/ 0 w 406440"/>
              <a:gd name="textAreaRight" fmla="*/ 406800 w 4064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43" h="18">
                <a:moveTo>
                  <a:pt x="0" y="0"/>
                </a:moveTo>
                <a:lnTo>
                  <a:pt x="243" y="18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02"/>
          <p:cNvSpPr/>
          <p:nvPr/>
        </p:nvSpPr>
        <p:spPr>
          <a:xfrm flipH="1" flipV="1">
            <a:off x="7126200" y="4190760"/>
            <a:ext cx="401760" cy="20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3"/>
          <p:cNvSpPr/>
          <p:nvPr/>
        </p:nvSpPr>
        <p:spPr>
          <a:xfrm>
            <a:off x="7126200" y="4398840"/>
            <a:ext cx="401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04"/>
          <p:cNvSpPr/>
          <p:nvPr/>
        </p:nvSpPr>
        <p:spPr>
          <a:xfrm flipV="1">
            <a:off x="7527960" y="4260600"/>
            <a:ext cx="160200" cy="13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5"/>
          <p:cNvSpPr/>
          <p:nvPr/>
        </p:nvSpPr>
        <p:spPr>
          <a:xfrm>
            <a:off x="7688160" y="4260960"/>
            <a:ext cx="560520" cy="13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06"/>
          <p:cNvSpPr/>
          <p:nvPr/>
        </p:nvSpPr>
        <p:spPr>
          <a:xfrm>
            <a:off x="6006960" y="4748040"/>
            <a:ext cx="158760" cy="2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07"/>
          <p:cNvSpPr/>
          <p:nvPr/>
        </p:nvSpPr>
        <p:spPr>
          <a:xfrm>
            <a:off x="6006960" y="4748040"/>
            <a:ext cx="640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8"/>
          <p:cNvSpPr/>
          <p:nvPr/>
        </p:nvSpPr>
        <p:spPr>
          <a:xfrm flipV="1">
            <a:off x="6647040" y="4678200"/>
            <a:ext cx="15840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09"/>
          <p:cNvSpPr/>
          <p:nvPr/>
        </p:nvSpPr>
        <p:spPr>
          <a:xfrm>
            <a:off x="4483080" y="4398840"/>
            <a:ext cx="1362240" cy="1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10"/>
          <p:cNvSpPr/>
          <p:nvPr/>
        </p:nvSpPr>
        <p:spPr>
          <a:xfrm flipV="1">
            <a:off x="5845320" y="4398840"/>
            <a:ext cx="722160" cy="1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11"/>
          <p:cNvSpPr/>
          <p:nvPr/>
        </p:nvSpPr>
        <p:spPr>
          <a:xfrm>
            <a:off x="4483080" y="4398840"/>
            <a:ext cx="722160" cy="41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12"/>
          <p:cNvSpPr/>
          <p:nvPr/>
        </p:nvSpPr>
        <p:spPr>
          <a:xfrm flipV="1">
            <a:off x="5205240" y="4538160"/>
            <a:ext cx="640080" cy="27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13"/>
          <p:cNvSpPr/>
          <p:nvPr/>
        </p:nvSpPr>
        <p:spPr>
          <a:xfrm flipH="1">
            <a:off x="4500360" y="4818240"/>
            <a:ext cx="70452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5205240" y="4818240"/>
            <a:ext cx="40032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15"/>
          <p:cNvSpPr/>
          <p:nvPr/>
        </p:nvSpPr>
        <p:spPr>
          <a:xfrm>
            <a:off x="5605560" y="5027760"/>
            <a:ext cx="7920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16"/>
          <p:cNvSpPr/>
          <p:nvPr/>
        </p:nvSpPr>
        <p:spPr>
          <a:xfrm flipV="1">
            <a:off x="5605560" y="4747680"/>
            <a:ext cx="401400" cy="27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17"/>
          <p:cNvSpPr/>
          <p:nvPr/>
        </p:nvSpPr>
        <p:spPr>
          <a:xfrm>
            <a:off x="5924520" y="4678200"/>
            <a:ext cx="162000" cy="140040"/>
          </a:xfrm>
          <a:custGeom>
            <a:avLst/>
            <a:gdLst>
              <a:gd name="textAreaLeft" fmla="*/ 36720 w 162000"/>
              <a:gd name="textAreaRight" fmla="*/ 125280 w 162000"/>
              <a:gd name="textAreaTop" fmla="*/ 32040 h 140040"/>
              <a:gd name="textAreaBottom" fmla="*/ 108000 h 14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18"/>
          <p:cNvSpPr/>
          <p:nvPr/>
        </p:nvSpPr>
        <p:spPr>
          <a:xfrm flipV="1">
            <a:off x="5605560" y="4538160"/>
            <a:ext cx="239760" cy="48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19"/>
          <p:cNvSpPr/>
          <p:nvPr/>
        </p:nvSpPr>
        <p:spPr>
          <a:xfrm flipV="1">
            <a:off x="1201680" y="3492000"/>
            <a:ext cx="801720" cy="27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20"/>
          <p:cNvSpPr/>
          <p:nvPr/>
        </p:nvSpPr>
        <p:spPr>
          <a:xfrm>
            <a:off x="2168640" y="2865600"/>
            <a:ext cx="233280" cy="40932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141" h="282">
                <a:moveTo>
                  <a:pt x="0" y="282"/>
                </a:moveTo>
                <a:lnTo>
                  <a:pt x="141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reeform 121"/>
          <p:cNvSpPr/>
          <p:nvPr/>
        </p:nvSpPr>
        <p:spPr>
          <a:xfrm>
            <a:off x="1122480" y="2516040"/>
            <a:ext cx="1039680" cy="7588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24" h="522">
                <a:moveTo>
                  <a:pt x="624" y="522"/>
                </a:moveTo>
                <a:lnTo>
                  <a:pt x="0" y="0"/>
                </a:lnTo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22"/>
          <p:cNvSpPr/>
          <p:nvPr/>
        </p:nvSpPr>
        <p:spPr>
          <a:xfrm>
            <a:off x="1122480" y="2516040"/>
            <a:ext cx="1563480" cy="68760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938" h="473">
                <a:moveTo>
                  <a:pt x="0" y="0"/>
                </a:moveTo>
                <a:lnTo>
                  <a:pt x="938" y="47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123"/>
          <p:cNvSpPr/>
          <p:nvPr/>
        </p:nvSpPr>
        <p:spPr>
          <a:xfrm>
            <a:off x="1830240" y="2819520"/>
            <a:ext cx="571680" cy="46080"/>
          </a:xfrm>
          <a:custGeom>
            <a:avLst/>
            <a:gdLst>
              <a:gd name="textAreaLeft" fmla="*/ 0 w 571680"/>
              <a:gd name="textAreaRight" fmla="*/ 572040 w 5716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343" h="32">
                <a:moveTo>
                  <a:pt x="0" y="0"/>
                </a:moveTo>
                <a:lnTo>
                  <a:pt x="343" y="32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124"/>
          <p:cNvSpPr/>
          <p:nvPr/>
        </p:nvSpPr>
        <p:spPr>
          <a:xfrm>
            <a:off x="3868560" y="3059280"/>
            <a:ext cx="1095480" cy="29340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657" h="202">
                <a:moveTo>
                  <a:pt x="0" y="0"/>
                </a:moveTo>
                <a:lnTo>
                  <a:pt x="657" y="202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25"/>
          <p:cNvSpPr/>
          <p:nvPr/>
        </p:nvSpPr>
        <p:spPr>
          <a:xfrm>
            <a:off x="2401920" y="2865600"/>
            <a:ext cx="4324320" cy="55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26"/>
          <p:cNvSpPr/>
          <p:nvPr/>
        </p:nvSpPr>
        <p:spPr>
          <a:xfrm flipH="1" flipV="1">
            <a:off x="2322000" y="2445840"/>
            <a:ext cx="79560" cy="41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27"/>
          <p:cNvSpPr/>
          <p:nvPr/>
        </p:nvSpPr>
        <p:spPr>
          <a:xfrm flipV="1">
            <a:off x="1122480" y="216684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28"/>
          <p:cNvSpPr/>
          <p:nvPr/>
        </p:nvSpPr>
        <p:spPr>
          <a:xfrm flipV="1">
            <a:off x="7688160" y="2795760"/>
            <a:ext cx="1800" cy="1465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29"/>
          <p:cNvSpPr/>
          <p:nvPr/>
        </p:nvSpPr>
        <p:spPr>
          <a:xfrm flipH="1">
            <a:off x="6567120" y="2795760"/>
            <a:ext cx="1120680" cy="16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30"/>
          <p:cNvSpPr/>
          <p:nvPr/>
        </p:nvSpPr>
        <p:spPr>
          <a:xfrm flipV="1">
            <a:off x="6726240" y="2795400"/>
            <a:ext cx="961920" cy="62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31"/>
          <p:cNvSpPr/>
          <p:nvPr/>
        </p:nvSpPr>
        <p:spPr>
          <a:xfrm>
            <a:off x="4564080" y="2655720"/>
            <a:ext cx="995400" cy="614520"/>
          </a:xfrm>
          <a:custGeom>
            <a:avLst/>
            <a:gdLst>
              <a:gd name="textAreaLeft" fmla="*/ 0 w 995400"/>
              <a:gd name="textAreaRight" fmla="*/ 995760 w 995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596" h="423">
                <a:moveTo>
                  <a:pt x="596" y="42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6126120" y="3352680"/>
            <a:ext cx="1000080" cy="83844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52" h="624">
                <a:moveTo>
                  <a:pt x="0" y="0"/>
                </a:moveTo>
                <a:lnTo>
                  <a:pt x="552" y="62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33"/>
          <p:cNvSpPr/>
          <p:nvPr/>
        </p:nvSpPr>
        <p:spPr>
          <a:xfrm flipH="1" flipV="1">
            <a:off x="7527600" y="2166480"/>
            <a:ext cx="160200" cy="62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134"/>
          <p:cNvSpPr/>
          <p:nvPr/>
        </p:nvSpPr>
        <p:spPr>
          <a:xfrm>
            <a:off x="5548320" y="2097000"/>
            <a:ext cx="2538360" cy="1173240"/>
          </a:xfrm>
          <a:custGeom>
            <a:avLst/>
            <a:gdLst>
              <a:gd name="textAreaLeft" fmla="*/ 0 w 2538360"/>
              <a:gd name="textAreaRight" fmla="*/ 2538720 w 2538360"/>
              <a:gd name="textAreaTop" fmla="*/ 0 h 1173240"/>
              <a:gd name="textAreaBottom" fmla="*/ 1173600 h 1173240"/>
            </a:gdLst>
            <a:ahLst/>
            <a:rect l="textAreaLeft" t="textAreaTop" r="textAreaRight" b="textAreaBottom"/>
            <a:pathLst>
              <a:path w="1522" h="807">
                <a:moveTo>
                  <a:pt x="1522" y="0"/>
                </a:moveTo>
                <a:lnTo>
                  <a:pt x="0" y="807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35"/>
          <p:cNvSpPr/>
          <p:nvPr/>
        </p:nvSpPr>
        <p:spPr>
          <a:xfrm>
            <a:off x="2643120" y="3143160"/>
            <a:ext cx="320760" cy="41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3429000" y="1887480"/>
            <a:ext cx="174600" cy="801720"/>
          </a:xfrm>
          <a:custGeom>
            <a:avLst/>
            <a:gdLst>
              <a:gd name="textAreaLeft" fmla="*/ 0 w 174600"/>
              <a:gd name="textAreaRight" fmla="*/ 174960 w 17460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105" h="551">
                <a:moveTo>
                  <a:pt x="0" y="551"/>
                </a:moveTo>
                <a:lnTo>
                  <a:pt x="105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137"/>
          <p:cNvSpPr/>
          <p:nvPr/>
        </p:nvSpPr>
        <p:spPr>
          <a:xfrm>
            <a:off x="2692440" y="1677960"/>
            <a:ext cx="2192400" cy="1527120"/>
          </a:xfrm>
          <a:custGeom>
            <a:avLst/>
            <a:gdLst>
              <a:gd name="textAreaLeft" fmla="*/ 0 w 2192400"/>
              <a:gd name="textAreaRight" fmla="*/ 2192400 w 2192400"/>
              <a:gd name="textAreaTop" fmla="*/ 0 h 1527120"/>
              <a:gd name="textAreaBottom" fmla="*/ 1527480 h 1527120"/>
            </a:gdLst>
            <a:ahLst/>
            <a:rect l="textAreaLeft" t="textAreaTop" r="textAreaRight" b="textAreaBottom"/>
            <a:pathLst>
              <a:path w="1314" h="1050">
                <a:moveTo>
                  <a:pt x="0" y="1050"/>
                </a:moveTo>
                <a:lnTo>
                  <a:pt x="131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138"/>
          <p:cNvSpPr/>
          <p:nvPr/>
        </p:nvSpPr>
        <p:spPr>
          <a:xfrm>
            <a:off x="4884840" y="1538280"/>
            <a:ext cx="639720" cy="139680"/>
          </a:xfrm>
          <a:custGeom>
            <a:avLst/>
            <a:gdLst>
              <a:gd name="textAreaLeft" fmla="*/ 0 w 639720"/>
              <a:gd name="textAreaRight" fmla="*/ 640080 w 639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54" h="94">
                <a:moveTo>
                  <a:pt x="0" y="94"/>
                </a:moveTo>
                <a:lnTo>
                  <a:pt x="35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139"/>
          <p:cNvSpPr/>
          <p:nvPr/>
        </p:nvSpPr>
        <p:spPr>
          <a:xfrm>
            <a:off x="5524560" y="1538280"/>
            <a:ext cx="1122480" cy="139680"/>
          </a:xfrm>
          <a:custGeom>
            <a:avLst/>
            <a:gdLst>
              <a:gd name="textAreaLeft" fmla="*/ 0 w 1122480"/>
              <a:gd name="textAreaRight" fmla="*/ 1122840 w 11224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04" h="94">
                <a:moveTo>
                  <a:pt x="0" y="0"/>
                </a:moveTo>
                <a:lnTo>
                  <a:pt x="604" y="9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2162160" y="3056040"/>
            <a:ext cx="1719360" cy="222120"/>
          </a:xfrm>
          <a:custGeom>
            <a:avLst/>
            <a:gdLst>
              <a:gd name="textAreaLeft" fmla="*/ 0 w 1719360"/>
              <a:gd name="textAreaRight" fmla="*/ 1719720 w 17193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031" h="152">
                <a:moveTo>
                  <a:pt x="0" y="152"/>
                </a:moveTo>
                <a:lnTo>
                  <a:pt x="1031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41"/>
          <p:cNvSpPr/>
          <p:nvPr/>
        </p:nvSpPr>
        <p:spPr>
          <a:xfrm>
            <a:off x="3863880" y="2655720"/>
            <a:ext cx="700200" cy="398520"/>
          </a:xfrm>
          <a:custGeom>
            <a:avLst/>
            <a:gdLst>
              <a:gd name="textAreaLeft" fmla="*/ 0 w 700200"/>
              <a:gd name="textAreaRight" fmla="*/ 700560 w 7002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420" h="227">
                <a:moveTo>
                  <a:pt x="0" y="227"/>
                </a:moveTo>
                <a:lnTo>
                  <a:pt x="42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142"/>
          <p:cNvSpPr/>
          <p:nvPr/>
        </p:nvSpPr>
        <p:spPr>
          <a:xfrm>
            <a:off x="4564080" y="2376360"/>
            <a:ext cx="1120680" cy="2826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576" h="194">
                <a:moveTo>
                  <a:pt x="0" y="194"/>
                </a:moveTo>
                <a:lnTo>
                  <a:pt x="57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43"/>
          <p:cNvSpPr/>
          <p:nvPr/>
        </p:nvSpPr>
        <p:spPr>
          <a:xfrm flipV="1">
            <a:off x="6246720" y="1677960"/>
            <a:ext cx="40032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44"/>
          <p:cNvSpPr/>
          <p:nvPr/>
        </p:nvSpPr>
        <p:spPr>
          <a:xfrm>
            <a:off x="4884840" y="1677960"/>
            <a:ext cx="136188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145"/>
          <p:cNvSpPr/>
          <p:nvPr/>
        </p:nvSpPr>
        <p:spPr>
          <a:xfrm>
            <a:off x="6246720" y="1682640"/>
            <a:ext cx="747720" cy="344520"/>
          </a:xfrm>
          <a:custGeom>
            <a:avLst/>
            <a:gdLst>
              <a:gd name="textAreaLeft" fmla="*/ 0 w 747720"/>
              <a:gd name="textAreaRight" fmla="*/ 748080 w 7477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9" h="237">
                <a:moveTo>
                  <a:pt x="0" y="237"/>
                </a:moveTo>
                <a:lnTo>
                  <a:pt x="449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>
            <a:off x="6246720" y="2027160"/>
            <a:ext cx="479520" cy="139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147"/>
          <p:cNvSpPr/>
          <p:nvPr/>
        </p:nvSpPr>
        <p:spPr>
          <a:xfrm>
            <a:off x="4570560" y="2166840"/>
            <a:ext cx="314280" cy="482760"/>
          </a:xfrm>
          <a:custGeom>
            <a:avLst/>
            <a:gdLst>
              <a:gd name="textAreaLeft" fmla="*/ 0 w 314280"/>
              <a:gd name="textAreaRight" fmla="*/ 314640 w 314280"/>
              <a:gd name="textAreaTop" fmla="*/ 0 h 482760"/>
              <a:gd name="textAreaBottom" fmla="*/ 482760 h 482760"/>
            </a:gdLst>
            <a:ahLst/>
            <a:rect l="textAreaLeft" t="textAreaTop" r="textAreaRight" b="textAreaBottom"/>
            <a:pathLst>
              <a:path w="189" h="332">
                <a:moveTo>
                  <a:pt x="189" y="0"/>
                </a:moveTo>
                <a:lnTo>
                  <a:pt x="0" y="332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>
            <a:off x="4884840" y="2166840"/>
            <a:ext cx="79992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>
            <a:off x="4483080" y="2585880"/>
            <a:ext cx="160200" cy="139680"/>
          </a:xfrm>
          <a:custGeom>
            <a:avLst/>
            <a:gdLst>
              <a:gd name="textAreaLeft" fmla="*/ 36360 w 160200"/>
              <a:gd name="textAreaRight" fmla="*/ 123840 w 1602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>
            <a:off x="6165720" y="1957320"/>
            <a:ext cx="160560" cy="139680"/>
          </a:xfrm>
          <a:custGeom>
            <a:avLst/>
            <a:gdLst>
              <a:gd name="textAreaLeft" fmla="*/ 36720 w 160560"/>
              <a:gd name="textAreaRight" fmla="*/ 123840 w 1605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>
            <a:off x="4884840" y="2166840"/>
            <a:ext cx="1841400" cy="12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54"/>
          <p:cNvSpPr/>
          <p:nvPr/>
        </p:nvSpPr>
        <p:spPr>
          <a:xfrm flipH="1">
            <a:off x="3132000" y="4260960"/>
            <a:ext cx="471600" cy="75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55"/>
          <p:cNvSpPr/>
          <p:nvPr/>
        </p:nvSpPr>
        <p:spPr>
          <a:xfrm flipV="1">
            <a:off x="2401920" y="2376000"/>
            <a:ext cx="241200" cy="48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56"/>
          <p:cNvSpPr/>
          <p:nvPr/>
        </p:nvSpPr>
        <p:spPr>
          <a:xfrm flipV="1">
            <a:off x="7688160" y="2096640"/>
            <a:ext cx="398520" cy="69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57"/>
          <p:cNvSpPr/>
          <p:nvPr/>
        </p:nvSpPr>
        <p:spPr>
          <a:xfrm>
            <a:off x="7607160" y="2725560"/>
            <a:ext cx="160560" cy="140040"/>
          </a:xfrm>
          <a:custGeom>
            <a:avLst/>
            <a:gdLst>
              <a:gd name="textAreaLeft" fmla="*/ 36720 w 160560"/>
              <a:gd name="textAreaRight" fmla="*/ 123840 w 160560"/>
              <a:gd name="textAreaTop" fmla="*/ 32040 h 140040"/>
              <a:gd name="textAreaBottom" fmla="*/ 108000 h 14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158"/>
          <p:cNvSpPr/>
          <p:nvPr/>
        </p:nvSpPr>
        <p:spPr>
          <a:xfrm>
            <a:off x="8007480" y="2027160"/>
            <a:ext cx="160200" cy="139680"/>
          </a:xfrm>
          <a:custGeom>
            <a:avLst/>
            <a:gdLst>
              <a:gd name="textAreaLeft" fmla="*/ 36360 w 160200"/>
              <a:gd name="textAreaRight" fmla="*/ 123840 w 1602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59"/>
          <p:cNvSpPr/>
          <p:nvPr/>
        </p:nvSpPr>
        <p:spPr>
          <a:xfrm>
            <a:off x="3443400" y="3701880"/>
            <a:ext cx="160200" cy="140040"/>
          </a:xfrm>
          <a:custGeom>
            <a:avLst/>
            <a:gdLst>
              <a:gd name="textAreaLeft" fmla="*/ 36360 w 160200"/>
              <a:gd name="textAreaRight" fmla="*/ 123840 w 160200"/>
              <a:gd name="textAreaTop" fmla="*/ 32040 h 140040"/>
              <a:gd name="textAreaBottom" fmla="*/ 108000 h 14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160"/>
          <p:cNvSpPr/>
          <p:nvPr/>
        </p:nvSpPr>
        <p:spPr>
          <a:xfrm>
            <a:off x="3613320" y="4738680"/>
            <a:ext cx="949320" cy="387360"/>
          </a:xfrm>
          <a:custGeom>
            <a:avLst/>
            <a:gdLst>
              <a:gd name="textAreaLeft" fmla="*/ 0 w 949320"/>
              <a:gd name="textAreaRight" fmla="*/ 949680 w 949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570" h="267">
                <a:moveTo>
                  <a:pt x="0" y="84"/>
                </a:moveTo>
                <a:lnTo>
                  <a:pt x="289" y="267"/>
                </a:lnTo>
                <a:lnTo>
                  <a:pt x="570" y="141"/>
                </a:lnTo>
                <a:lnTo>
                  <a:pt x="531" y="82"/>
                </a:lnTo>
                <a:lnTo>
                  <a:pt x="478" y="51"/>
                </a:lnTo>
                <a:lnTo>
                  <a:pt x="459" y="15"/>
                </a:lnTo>
                <a:lnTo>
                  <a:pt x="418" y="3"/>
                </a:lnTo>
                <a:lnTo>
                  <a:pt x="421" y="0"/>
                </a:lnTo>
                <a:lnTo>
                  <a:pt x="357" y="46"/>
                </a:lnTo>
                <a:lnTo>
                  <a:pt x="301" y="37"/>
                </a:lnTo>
                <a:lnTo>
                  <a:pt x="249" y="42"/>
                </a:lnTo>
                <a:lnTo>
                  <a:pt x="198" y="33"/>
                </a:lnTo>
                <a:lnTo>
                  <a:pt x="160" y="42"/>
                </a:lnTo>
                <a:lnTo>
                  <a:pt x="118" y="45"/>
                </a:lnTo>
                <a:lnTo>
                  <a:pt x="67" y="57"/>
                </a:lnTo>
                <a:lnTo>
                  <a:pt x="31" y="58"/>
                </a:lnTo>
                <a:lnTo>
                  <a:pt x="0" y="84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61"/>
          <p:cNvSpPr/>
          <p:nvPr/>
        </p:nvSpPr>
        <p:spPr>
          <a:xfrm flipV="1">
            <a:off x="8248680" y="4260600"/>
            <a:ext cx="480960" cy="13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62"/>
          <p:cNvSpPr/>
          <p:nvPr/>
        </p:nvSpPr>
        <p:spPr>
          <a:xfrm flipH="1">
            <a:off x="401760" y="4398840"/>
            <a:ext cx="1441440" cy="97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63"/>
          <p:cNvSpPr/>
          <p:nvPr/>
        </p:nvSpPr>
        <p:spPr>
          <a:xfrm flipH="1">
            <a:off x="1039680" y="4398840"/>
            <a:ext cx="80352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reeform 164"/>
          <p:cNvSpPr/>
          <p:nvPr/>
        </p:nvSpPr>
        <p:spPr>
          <a:xfrm>
            <a:off x="880920" y="4314960"/>
            <a:ext cx="1209960" cy="1271520"/>
          </a:xfrm>
          <a:custGeom>
            <a:avLst/>
            <a:gdLst/>
            <a:ahLst/>
            <a:rect l="l" t="t" r="r" b="b"/>
            <a:pathLst>
              <a:path w="725" h="874">
                <a:moveTo>
                  <a:pt x="725" y="0"/>
                </a:moveTo>
                <a:lnTo>
                  <a:pt x="0" y="87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65"/>
          <p:cNvSpPr/>
          <p:nvPr/>
        </p:nvSpPr>
        <p:spPr>
          <a:xfrm flipV="1">
            <a:off x="4164120" y="4398480"/>
            <a:ext cx="318960" cy="698760"/>
          </a:xfrm>
          <a:prstGeom prst="line">
            <a:avLst/>
          </a:prstGeom>
          <a:ln w="648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66"/>
          <p:cNvSpPr/>
          <p:nvPr/>
        </p:nvSpPr>
        <p:spPr>
          <a:xfrm>
            <a:off x="4479840" y="3824280"/>
            <a:ext cx="3240" cy="574560"/>
          </a:xfrm>
          <a:custGeom>
            <a:avLst/>
            <a:gdLst>
              <a:gd name="textAreaLeft" fmla="*/ 0 w 3240"/>
              <a:gd name="textAreaRight" fmla="*/ 3600 w 32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3" h="396">
                <a:moveTo>
                  <a:pt x="3" y="396"/>
                </a:moveTo>
                <a:lnTo>
                  <a:pt x="0" y="0"/>
                </a:lnTo>
              </a:path>
            </a:pathLst>
          </a:custGeom>
          <a:noFill/>
          <a:ln w="6480">
            <a:solidFill>
              <a:srgbClr val="0099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167"/>
          <p:cNvSpPr/>
          <p:nvPr/>
        </p:nvSpPr>
        <p:spPr>
          <a:xfrm>
            <a:off x="5884920" y="2224080"/>
            <a:ext cx="593640" cy="365040"/>
          </a:xfrm>
          <a:custGeom>
            <a:avLst/>
            <a:gdLst>
              <a:gd name="textAreaLeft" fmla="*/ 0 w 593640"/>
              <a:gd name="textAreaRight" fmla="*/ 594000 w 59364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55" h="252">
                <a:moveTo>
                  <a:pt x="0" y="252"/>
                </a:moveTo>
                <a:lnTo>
                  <a:pt x="355" y="0"/>
                </a:lnTo>
              </a:path>
            </a:pathLst>
          </a:custGeom>
          <a:noFill/>
          <a:ln cap="rnd" w="6480">
            <a:solidFill>
              <a:srgbClr val="0099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68"/>
          <p:cNvSpPr/>
          <p:nvPr/>
        </p:nvSpPr>
        <p:spPr>
          <a:xfrm flipH="1" flipV="1">
            <a:off x="2963520" y="1677960"/>
            <a:ext cx="63972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69"/>
          <p:cNvSpPr/>
          <p:nvPr/>
        </p:nvSpPr>
        <p:spPr>
          <a:xfrm flipH="1" flipV="1">
            <a:off x="3281040" y="1400040"/>
            <a:ext cx="322200" cy="48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70"/>
          <p:cNvSpPr/>
          <p:nvPr/>
        </p:nvSpPr>
        <p:spPr>
          <a:xfrm flipH="1">
            <a:off x="5445000" y="5027760"/>
            <a:ext cx="16056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71"/>
          <p:cNvSpPr/>
          <p:nvPr/>
        </p:nvSpPr>
        <p:spPr>
          <a:xfrm>
            <a:off x="5445000" y="5307120"/>
            <a:ext cx="23976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72"/>
          <p:cNvSpPr/>
          <p:nvPr/>
        </p:nvSpPr>
        <p:spPr>
          <a:xfrm flipH="1">
            <a:off x="5524200" y="5376960"/>
            <a:ext cx="16020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73"/>
          <p:cNvSpPr/>
          <p:nvPr/>
        </p:nvSpPr>
        <p:spPr>
          <a:xfrm flipH="1">
            <a:off x="5365800" y="5376960"/>
            <a:ext cx="318960" cy="1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74"/>
          <p:cNvSpPr/>
          <p:nvPr/>
        </p:nvSpPr>
        <p:spPr>
          <a:xfrm flipH="1">
            <a:off x="5205240" y="5376960"/>
            <a:ext cx="479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75"/>
          <p:cNvSpPr/>
          <p:nvPr/>
        </p:nvSpPr>
        <p:spPr>
          <a:xfrm flipH="1" flipV="1">
            <a:off x="4244760" y="5307120"/>
            <a:ext cx="96012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76"/>
          <p:cNvSpPr/>
          <p:nvPr/>
        </p:nvSpPr>
        <p:spPr>
          <a:xfrm flipH="1" flipV="1">
            <a:off x="4244760" y="5307120"/>
            <a:ext cx="112068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77"/>
          <p:cNvSpPr/>
          <p:nvPr/>
        </p:nvSpPr>
        <p:spPr>
          <a:xfrm flipH="1" flipV="1">
            <a:off x="5444640" y="5307120"/>
            <a:ext cx="7956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78"/>
          <p:cNvSpPr/>
          <p:nvPr/>
        </p:nvSpPr>
        <p:spPr>
          <a:xfrm flipH="1" flipV="1">
            <a:off x="5204880" y="5376960"/>
            <a:ext cx="31932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9"/>
          <p:cNvSpPr/>
          <p:nvPr/>
        </p:nvSpPr>
        <p:spPr>
          <a:xfrm>
            <a:off x="5365800" y="5516640"/>
            <a:ext cx="15876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80"/>
          <p:cNvSpPr/>
          <p:nvPr/>
        </p:nvSpPr>
        <p:spPr>
          <a:xfrm>
            <a:off x="5205240" y="5167440"/>
            <a:ext cx="239760" cy="1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81"/>
          <p:cNvSpPr/>
          <p:nvPr/>
        </p:nvSpPr>
        <p:spPr>
          <a:xfrm>
            <a:off x="5205240" y="5167440"/>
            <a:ext cx="180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82"/>
          <p:cNvSpPr/>
          <p:nvPr/>
        </p:nvSpPr>
        <p:spPr>
          <a:xfrm flipH="1" flipV="1">
            <a:off x="5365800" y="5027760"/>
            <a:ext cx="7920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83"/>
          <p:cNvSpPr/>
          <p:nvPr/>
        </p:nvSpPr>
        <p:spPr>
          <a:xfrm>
            <a:off x="5365800" y="5027760"/>
            <a:ext cx="31896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84"/>
          <p:cNvSpPr/>
          <p:nvPr/>
        </p:nvSpPr>
        <p:spPr>
          <a:xfrm>
            <a:off x="5365800" y="5237280"/>
            <a:ext cx="158760" cy="139680"/>
          </a:xfrm>
          <a:custGeom>
            <a:avLst/>
            <a:gdLst>
              <a:gd name="textAreaLeft" fmla="*/ 36000 w 158760"/>
              <a:gd name="textAreaRight" fmla="*/ 122760 w 1587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85"/>
          <p:cNvSpPr/>
          <p:nvPr/>
        </p:nvSpPr>
        <p:spPr>
          <a:xfrm flipH="1" flipV="1">
            <a:off x="5205240" y="4818240"/>
            <a:ext cx="16056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86"/>
          <p:cNvSpPr/>
          <p:nvPr/>
        </p:nvSpPr>
        <p:spPr>
          <a:xfrm flipH="1" flipV="1">
            <a:off x="3603240" y="4260960"/>
            <a:ext cx="1601640" cy="9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reeform 187"/>
          <p:cNvSpPr/>
          <p:nvPr/>
        </p:nvSpPr>
        <p:spPr>
          <a:xfrm>
            <a:off x="4808520" y="4943520"/>
            <a:ext cx="716040" cy="642960"/>
          </a:xfrm>
          <a:custGeom>
            <a:avLst/>
            <a:gdLst>
              <a:gd name="textAreaLeft" fmla="*/ 0 w 716040"/>
              <a:gd name="textAreaRight" fmla="*/ 716400 w 71604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478" h="394">
                <a:moveTo>
                  <a:pt x="0" y="0"/>
                </a:moveTo>
                <a:lnTo>
                  <a:pt x="478" y="39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88"/>
          <p:cNvSpPr/>
          <p:nvPr/>
        </p:nvSpPr>
        <p:spPr>
          <a:xfrm flipH="1" flipV="1">
            <a:off x="4483080" y="4398480"/>
            <a:ext cx="882720" cy="62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89"/>
          <p:cNvSpPr/>
          <p:nvPr/>
        </p:nvSpPr>
        <p:spPr>
          <a:xfrm>
            <a:off x="4403880" y="4329000"/>
            <a:ext cx="160200" cy="1396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97"/>
          <p:cNvSpPr/>
          <p:nvPr/>
        </p:nvSpPr>
        <p:spPr>
          <a:xfrm>
            <a:off x="5445000" y="5516640"/>
            <a:ext cx="160560" cy="139680"/>
          </a:xfrm>
          <a:custGeom>
            <a:avLst/>
            <a:gdLst>
              <a:gd name="textAreaLeft" fmla="*/ 36720 w 160560"/>
              <a:gd name="textAreaRight" fmla="*/ 123840 w 1605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98"/>
          <p:cNvSpPr/>
          <p:nvPr/>
        </p:nvSpPr>
        <p:spPr>
          <a:xfrm>
            <a:off x="5605560" y="5027760"/>
            <a:ext cx="48096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199"/>
          <p:cNvSpPr/>
          <p:nvPr/>
        </p:nvSpPr>
        <p:spPr>
          <a:xfrm>
            <a:off x="5202360" y="4818240"/>
            <a:ext cx="2880" cy="344160"/>
          </a:xfrm>
          <a:custGeom>
            <a:avLst/>
            <a:gdLst>
              <a:gd name="textAreaLeft" fmla="*/ 0 w 2880"/>
              <a:gd name="textAreaRight" fmla="*/ 3240 w 2880"/>
              <a:gd name="textAreaTop" fmla="*/ 0 h 344160"/>
              <a:gd name="textAreaBottom" fmla="*/ 344520 h 344160"/>
            </a:gdLst>
            <a:ahLst/>
            <a:rect l="textAreaLeft" t="textAreaTop" r="textAreaRight" b="textAreaBottom"/>
            <a:pathLst>
              <a:path w="3" h="237">
                <a:moveTo>
                  <a:pt x="0" y="237"/>
                </a:moveTo>
                <a:lnTo>
                  <a:pt x="3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200"/>
          <p:cNvSpPr/>
          <p:nvPr/>
        </p:nvSpPr>
        <p:spPr>
          <a:xfrm flipH="1" flipV="1">
            <a:off x="4964040" y="3352320"/>
            <a:ext cx="241200" cy="146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201"/>
          <p:cNvSpPr/>
          <p:nvPr/>
        </p:nvSpPr>
        <p:spPr>
          <a:xfrm>
            <a:off x="5126040" y="4748040"/>
            <a:ext cx="160200" cy="140040"/>
          </a:xfrm>
          <a:custGeom>
            <a:avLst/>
            <a:gdLst>
              <a:gd name="textAreaLeft" fmla="*/ 36360 w 160200"/>
              <a:gd name="textAreaRight" fmla="*/ 123840 w 160200"/>
              <a:gd name="textAreaTop" fmla="*/ 32040 h 140040"/>
              <a:gd name="textAreaBottom" fmla="*/ 108000 h 14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02"/>
          <p:cNvSpPr/>
          <p:nvPr/>
        </p:nvSpPr>
        <p:spPr>
          <a:xfrm>
            <a:off x="1201680" y="3772080"/>
            <a:ext cx="641520" cy="62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203"/>
          <p:cNvSpPr/>
          <p:nvPr/>
        </p:nvSpPr>
        <p:spPr>
          <a:xfrm>
            <a:off x="1843200" y="4398840"/>
            <a:ext cx="496800" cy="32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Freeform 204"/>
          <p:cNvSpPr/>
          <p:nvPr/>
        </p:nvSpPr>
        <p:spPr>
          <a:xfrm>
            <a:off x="6006960" y="1677960"/>
            <a:ext cx="995400" cy="1047600"/>
          </a:xfrm>
          <a:custGeom>
            <a:avLst/>
            <a:gdLst>
              <a:gd name="textAreaLeft" fmla="*/ 0 w 995400"/>
              <a:gd name="textAreaRight" fmla="*/ 995760 w 995400"/>
              <a:gd name="textAreaTop" fmla="*/ 0 h 1047600"/>
              <a:gd name="textAreaBottom" fmla="*/ 1047600 h 1047600"/>
            </a:gdLst>
            <a:ahLst/>
            <a:rect l="textAreaLeft" t="textAreaTop" r="textAreaRight" b="textAreaBottom"/>
            <a:pathLst>
              <a:path w="597" h="720">
                <a:moveTo>
                  <a:pt x="0" y="720"/>
                </a:moveTo>
                <a:lnTo>
                  <a:pt x="597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05"/>
          <p:cNvSpPr/>
          <p:nvPr/>
        </p:nvSpPr>
        <p:spPr>
          <a:xfrm flipV="1">
            <a:off x="1201680" y="3561840"/>
            <a:ext cx="1762200" cy="2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06"/>
          <p:cNvSpPr/>
          <p:nvPr/>
        </p:nvSpPr>
        <p:spPr>
          <a:xfrm flipV="1">
            <a:off x="2963880" y="3352680"/>
            <a:ext cx="200016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207"/>
          <p:cNvSpPr/>
          <p:nvPr/>
        </p:nvSpPr>
        <p:spPr>
          <a:xfrm>
            <a:off x="2884320" y="3492360"/>
            <a:ext cx="158760" cy="139680"/>
          </a:xfrm>
          <a:custGeom>
            <a:avLst/>
            <a:gdLst>
              <a:gd name="textAreaLeft" fmla="*/ 36000 w 158760"/>
              <a:gd name="textAreaRight" fmla="*/ 122760 w 1587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reeform 208"/>
          <p:cNvSpPr/>
          <p:nvPr/>
        </p:nvSpPr>
        <p:spPr>
          <a:xfrm>
            <a:off x="5848200" y="3192480"/>
            <a:ext cx="1233720" cy="11736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8" h="81">
                <a:moveTo>
                  <a:pt x="0" y="81"/>
                </a:moveTo>
                <a:lnTo>
                  <a:pt x="738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09"/>
          <p:cNvSpPr/>
          <p:nvPr/>
        </p:nvSpPr>
        <p:spPr>
          <a:xfrm>
            <a:off x="6647040" y="4748040"/>
            <a:ext cx="79200" cy="2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10"/>
          <p:cNvSpPr/>
          <p:nvPr/>
        </p:nvSpPr>
        <p:spPr>
          <a:xfrm>
            <a:off x="6805440" y="4678200"/>
            <a:ext cx="64296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11"/>
          <p:cNvSpPr/>
          <p:nvPr/>
        </p:nvSpPr>
        <p:spPr>
          <a:xfrm>
            <a:off x="6726240" y="3422520"/>
            <a:ext cx="399960" cy="76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212"/>
          <p:cNvSpPr/>
          <p:nvPr/>
        </p:nvSpPr>
        <p:spPr>
          <a:xfrm>
            <a:off x="6726240" y="3422520"/>
            <a:ext cx="1041480" cy="34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213"/>
          <p:cNvSpPr/>
          <p:nvPr/>
        </p:nvSpPr>
        <p:spPr>
          <a:xfrm>
            <a:off x="7688160" y="3701880"/>
            <a:ext cx="160560" cy="140040"/>
          </a:xfrm>
          <a:custGeom>
            <a:avLst/>
            <a:gdLst>
              <a:gd name="textAreaLeft" fmla="*/ 36720 w 160560"/>
              <a:gd name="textAreaRight" fmla="*/ 123840 w 160560"/>
              <a:gd name="textAreaTop" fmla="*/ 32040 h 140040"/>
              <a:gd name="textAreaBottom" fmla="*/ 108000 h 14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214"/>
          <p:cNvSpPr/>
          <p:nvPr/>
        </p:nvSpPr>
        <p:spPr>
          <a:xfrm>
            <a:off x="7243920" y="3592440"/>
            <a:ext cx="284040" cy="806400"/>
          </a:xfrm>
          <a:custGeom>
            <a:avLst/>
            <a:gdLst>
              <a:gd name="textAreaLeft" fmla="*/ 0 w 284040"/>
              <a:gd name="textAreaRight" fmla="*/ 284400 w 2840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71" h="555">
                <a:moveTo>
                  <a:pt x="171" y="55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15"/>
          <p:cNvSpPr/>
          <p:nvPr/>
        </p:nvSpPr>
        <p:spPr>
          <a:xfrm>
            <a:off x="5605560" y="5307120"/>
            <a:ext cx="160200" cy="13968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217"/>
          <p:cNvSpPr/>
          <p:nvPr/>
        </p:nvSpPr>
        <p:spPr>
          <a:xfrm>
            <a:off x="4797360" y="2597040"/>
            <a:ext cx="1093680" cy="1800"/>
          </a:xfrm>
          <a:custGeom>
            <a:avLst/>
            <a:gdLst>
              <a:gd name="textAreaLeft" fmla="*/ 0 w 1093680"/>
              <a:gd name="textAreaRight" fmla="*/ 1094040 w 10936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57" h="1">
                <a:moveTo>
                  <a:pt x="657" y="0"/>
                </a:moveTo>
                <a:lnTo>
                  <a:pt x="0" y="1"/>
                </a:lnTo>
              </a:path>
            </a:pathLst>
          </a:custGeom>
          <a:noFill/>
          <a:ln cap="rnd" w="6480">
            <a:solidFill>
              <a:srgbClr val="0099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218"/>
          <p:cNvSpPr/>
          <p:nvPr/>
        </p:nvSpPr>
        <p:spPr>
          <a:xfrm>
            <a:off x="4884840" y="1319040"/>
            <a:ext cx="577800" cy="358920"/>
          </a:xfrm>
          <a:custGeom>
            <a:avLst/>
            <a:gdLst>
              <a:gd name="textAreaLeft" fmla="*/ 0 w 577800"/>
              <a:gd name="textAreaRight" fmla="*/ 578160 w 577800"/>
              <a:gd name="textAreaTop" fmla="*/ 0 h 358920"/>
              <a:gd name="textAreaBottom" fmla="*/ 358920 h 358920"/>
            </a:gdLst>
            <a:ahLst/>
            <a:rect l="textAreaLeft" t="textAreaTop" r="textAreaRight" b="textAreaBottom"/>
            <a:pathLst>
              <a:path w="347" h="247">
                <a:moveTo>
                  <a:pt x="0" y="247"/>
                </a:moveTo>
                <a:lnTo>
                  <a:pt x="347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219"/>
          <p:cNvSpPr/>
          <p:nvPr/>
        </p:nvSpPr>
        <p:spPr>
          <a:xfrm flipH="1">
            <a:off x="5452920" y="1193760"/>
            <a:ext cx="231840" cy="1182600"/>
          </a:xfrm>
          <a:custGeom>
            <a:avLst/>
            <a:gdLst>
              <a:gd name="textAreaLeft" fmla="*/ 360 w 231840"/>
              <a:gd name="textAreaRight" fmla="*/ 232560 w 231840"/>
              <a:gd name="textAreaTop" fmla="*/ 0 h 1182600"/>
              <a:gd name="textAreaBottom" fmla="*/ 1182960 h 1182600"/>
            </a:gdLst>
            <a:ahLst/>
            <a:rect l="textAreaLeft" t="textAreaTop" r="textAreaRight" b="textAreaBottom"/>
            <a:pathLst>
              <a:path w="5" h="766">
                <a:moveTo>
                  <a:pt x="0" y="766"/>
                </a:moveTo>
                <a:lnTo>
                  <a:pt x="5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220"/>
          <p:cNvSpPr/>
          <p:nvPr/>
        </p:nvSpPr>
        <p:spPr>
          <a:xfrm>
            <a:off x="4805280" y="1608120"/>
            <a:ext cx="158760" cy="139680"/>
          </a:xfrm>
          <a:custGeom>
            <a:avLst/>
            <a:gdLst>
              <a:gd name="textAreaLeft" fmla="*/ 36000 w 158760"/>
              <a:gd name="textAreaRight" fmla="*/ 122760 w 1587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221"/>
          <p:cNvSpPr/>
          <p:nvPr/>
        </p:nvSpPr>
        <p:spPr>
          <a:xfrm>
            <a:off x="5605560" y="2306520"/>
            <a:ext cx="160200" cy="139680"/>
          </a:xfrm>
          <a:custGeom>
            <a:avLst/>
            <a:gdLst>
              <a:gd name="textAreaLeft" fmla="*/ 36360 w 160200"/>
              <a:gd name="textAreaRight" fmla="*/ 123840 w 1602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222"/>
          <p:cNvSpPr/>
          <p:nvPr/>
        </p:nvSpPr>
        <p:spPr>
          <a:xfrm>
            <a:off x="4884840" y="2166840"/>
            <a:ext cx="1122120" cy="55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reeform 223"/>
          <p:cNvSpPr/>
          <p:nvPr/>
        </p:nvSpPr>
        <p:spPr>
          <a:xfrm>
            <a:off x="7080120" y="3038400"/>
            <a:ext cx="1335240" cy="155520"/>
          </a:xfrm>
          <a:custGeom>
            <a:avLst/>
            <a:gdLst>
              <a:gd name="textAreaLeft" fmla="*/ 0 w 1335240"/>
              <a:gd name="textAreaRight" fmla="*/ 1335600 w 13352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03" h="108">
                <a:moveTo>
                  <a:pt x="0" y="108"/>
                </a:moveTo>
                <a:lnTo>
                  <a:pt x="803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24"/>
          <p:cNvSpPr/>
          <p:nvPr/>
        </p:nvSpPr>
        <p:spPr>
          <a:xfrm>
            <a:off x="801720" y="2236680"/>
            <a:ext cx="32076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225"/>
          <p:cNvSpPr/>
          <p:nvPr/>
        </p:nvSpPr>
        <p:spPr>
          <a:xfrm flipV="1">
            <a:off x="1122480" y="2306520"/>
            <a:ext cx="39852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226"/>
          <p:cNvSpPr/>
          <p:nvPr/>
        </p:nvSpPr>
        <p:spPr>
          <a:xfrm>
            <a:off x="1122480" y="2516040"/>
            <a:ext cx="1279440" cy="34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227"/>
          <p:cNvSpPr/>
          <p:nvPr/>
        </p:nvSpPr>
        <p:spPr>
          <a:xfrm>
            <a:off x="1039680" y="2446200"/>
            <a:ext cx="162000" cy="1396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228"/>
          <p:cNvSpPr/>
          <p:nvPr/>
        </p:nvSpPr>
        <p:spPr>
          <a:xfrm>
            <a:off x="2322360" y="2795760"/>
            <a:ext cx="160560" cy="1378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reeform 229"/>
          <p:cNvSpPr/>
          <p:nvPr/>
        </p:nvSpPr>
        <p:spPr>
          <a:xfrm>
            <a:off x="0" y="1050840"/>
            <a:ext cx="9063000" cy="4554720"/>
          </a:xfrm>
          <a:custGeom>
            <a:avLst/>
            <a:gdLst>
              <a:gd name="textAreaLeft" fmla="*/ 0 w 9063000"/>
              <a:gd name="textAreaRight" fmla="*/ 9063360 w 9063000"/>
              <a:gd name="textAreaTop" fmla="*/ 0 h 4554720"/>
              <a:gd name="textAreaBottom" fmla="*/ 4555080 h 4554720"/>
            </a:gdLst>
            <a:ahLst/>
            <a:rect l="textAreaLeft" t="textAreaTop" r="textAreaRight" b="textAreaBottom"/>
            <a:pathLst>
              <a:path w="5432" h="3134">
                <a:moveTo>
                  <a:pt x="296" y="1970"/>
                </a:moveTo>
                <a:lnTo>
                  <a:pt x="269" y="1946"/>
                </a:lnTo>
                <a:lnTo>
                  <a:pt x="233" y="1912"/>
                </a:lnTo>
                <a:lnTo>
                  <a:pt x="206" y="1889"/>
                </a:lnTo>
                <a:lnTo>
                  <a:pt x="224" y="1880"/>
                </a:lnTo>
                <a:lnTo>
                  <a:pt x="254" y="1899"/>
                </a:lnTo>
                <a:lnTo>
                  <a:pt x="276" y="1892"/>
                </a:lnTo>
                <a:lnTo>
                  <a:pt x="278" y="1877"/>
                </a:lnTo>
                <a:lnTo>
                  <a:pt x="266" y="1836"/>
                </a:lnTo>
                <a:lnTo>
                  <a:pt x="255" y="1816"/>
                </a:lnTo>
                <a:lnTo>
                  <a:pt x="248" y="1783"/>
                </a:lnTo>
                <a:lnTo>
                  <a:pt x="231" y="1777"/>
                </a:lnTo>
                <a:lnTo>
                  <a:pt x="233" y="1745"/>
                </a:lnTo>
                <a:lnTo>
                  <a:pt x="212" y="1727"/>
                </a:lnTo>
                <a:lnTo>
                  <a:pt x="195" y="1682"/>
                </a:lnTo>
                <a:lnTo>
                  <a:pt x="138" y="1668"/>
                </a:lnTo>
                <a:lnTo>
                  <a:pt x="111" y="1662"/>
                </a:lnTo>
                <a:lnTo>
                  <a:pt x="105" y="1640"/>
                </a:lnTo>
                <a:lnTo>
                  <a:pt x="92" y="1633"/>
                </a:lnTo>
                <a:lnTo>
                  <a:pt x="79" y="1636"/>
                </a:lnTo>
                <a:lnTo>
                  <a:pt x="84" y="1651"/>
                </a:lnTo>
                <a:lnTo>
                  <a:pt x="77" y="1670"/>
                </a:lnTo>
                <a:lnTo>
                  <a:pt x="45" y="1665"/>
                </a:lnTo>
                <a:lnTo>
                  <a:pt x="38" y="1606"/>
                </a:lnTo>
                <a:lnTo>
                  <a:pt x="48" y="1593"/>
                </a:lnTo>
                <a:lnTo>
                  <a:pt x="36" y="1583"/>
                </a:lnTo>
                <a:lnTo>
                  <a:pt x="38" y="1568"/>
                </a:lnTo>
                <a:lnTo>
                  <a:pt x="40" y="1549"/>
                </a:lnTo>
                <a:lnTo>
                  <a:pt x="13" y="1529"/>
                </a:lnTo>
                <a:lnTo>
                  <a:pt x="3" y="1514"/>
                </a:lnTo>
                <a:lnTo>
                  <a:pt x="0" y="1473"/>
                </a:lnTo>
                <a:lnTo>
                  <a:pt x="13" y="1455"/>
                </a:lnTo>
                <a:lnTo>
                  <a:pt x="33" y="1455"/>
                </a:lnTo>
                <a:lnTo>
                  <a:pt x="20" y="1417"/>
                </a:lnTo>
                <a:lnTo>
                  <a:pt x="20" y="1398"/>
                </a:lnTo>
                <a:lnTo>
                  <a:pt x="33" y="1387"/>
                </a:lnTo>
                <a:lnTo>
                  <a:pt x="52" y="1363"/>
                </a:lnTo>
                <a:lnTo>
                  <a:pt x="54" y="1350"/>
                </a:lnTo>
                <a:lnTo>
                  <a:pt x="38" y="1335"/>
                </a:lnTo>
                <a:lnTo>
                  <a:pt x="30" y="1330"/>
                </a:lnTo>
                <a:lnTo>
                  <a:pt x="23" y="1314"/>
                </a:lnTo>
                <a:lnTo>
                  <a:pt x="33" y="1293"/>
                </a:lnTo>
                <a:lnTo>
                  <a:pt x="33" y="1273"/>
                </a:lnTo>
                <a:lnTo>
                  <a:pt x="51" y="1246"/>
                </a:lnTo>
                <a:lnTo>
                  <a:pt x="51" y="1224"/>
                </a:lnTo>
                <a:lnTo>
                  <a:pt x="68" y="1211"/>
                </a:lnTo>
                <a:lnTo>
                  <a:pt x="102" y="1193"/>
                </a:lnTo>
                <a:lnTo>
                  <a:pt x="119" y="1177"/>
                </a:lnTo>
                <a:lnTo>
                  <a:pt x="123" y="1155"/>
                </a:lnTo>
                <a:lnTo>
                  <a:pt x="110" y="1147"/>
                </a:lnTo>
                <a:lnTo>
                  <a:pt x="123" y="1137"/>
                </a:lnTo>
                <a:lnTo>
                  <a:pt x="130" y="1117"/>
                </a:lnTo>
                <a:lnTo>
                  <a:pt x="149" y="1110"/>
                </a:lnTo>
                <a:lnTo>
                  <a:pt x="179" y="1112"/>
                </a:lnTo>
                <a:lnTo>
                  <a:pt x="192" y="1130"/>
                </a:lnTo>
                <a:lnTo>
                  <a:pt x="201" y="1150"/>
                </a:lnTo>
                <a:lnTo>
                  <a:pt x="221" y="1168"/>
                </a:lnTo>
                <a:lnTo>
                  <a:pt x="232" y="1207"/>
                </a:lnTo>
                <a:lnTo>
                  <a:pt x="240" y="1221"/>
                </a:lnTo>
                <a:lnTo>
                  <a:pt x="258" y="1244"/>
                </a:lnTo>
                <a:lnTo>
                  <a:pt x="296" y="1235"/>
                </a:lnTo>
                <a:lnTo>
                  <a:pt x="329" y="1220"/>
                </a:lnTo>
                <a:lnTo>
                  <a:pt x="334" y="1207"/>
                </a:lnTo>
                <a:lnTo>
                  <a:pt x="334" y="1184"/>
                </a:lnTo>
                <a:lnTo>
                  <a:pt x="320" y="1180"/>
                </a:lnTo>
                <a:lnTo>
                  <a:pt x="322" y="1168"/>
                </a:lnTo>
                <a:lnTo>
                  <a:pt x="322" y="1147"/>
                </a:lnTo>
                <a:lnTo>
                  <a:pt x="319" y="1096"/>
                </a:lnTo>
                <a:lnTo>
                  <a:pt x="309" y="1075"/>
                </a:lnTo>
                <a:lnTo>
                  <a:pt x="315" y="1072"/>
                </a:lnTo>
                <a:lnTo>
                  <a:pt x="339" y="1083"/>
                </a:lnTo>
                <a:lnTo>
                  <a:pt x="345" y="1083"/>
                </a:lnTo>
                <a:lnTo>
                  <a:pt x="362" y="1068"/>
                </a:lnTo>
                <a:lnTo>
                  <a:pt x="389" y="1053"/>
                </a:lnTo>
                <a:lnTo>
                  <a:pt x="411" y="1053"/>
                </a:lnTo>
                <a:lnTo>
                  <a:pt x="417" y="1041"/>
                </a:lnTo>
                <a:lnTo>
                  <a:pt x="424" y="1025"/>
                </a:lnTo>
                <a:lnTo>
                  <a:pt x="414" y="1010"/>
                </a:lnTo>
                <a:lnTo>
                  <a:pt x="421" y="1000"/>
                </a:lnTo>
                <a:lnTo>
                  <a:pt x="455" y="1010"/>
                </a:lnTo>
                <a:lnTo>
                  <a:pt x="498" y="995"/>
                </a:lnTo>
                <a:lnTo>
                  <a:pt x="506" y="976"/>
                </a:lnTo>
                <a:lnTo>
                  <a:pt x="534" y="968"/>
                </a:lnTo>
                <a:lnTo>
                  <a:pt x="575" y="936"/>
                </a:lnTo>
                <a:lnTo>
                  <a:pt x="591" y="904"/>
                </a:lnTo>
                <a:lnTo>
                  <a:pt x="610" y="911"/>
                </a:lnTo>
                <a:lnTo>
                  <a:pt x="608" y="908"/>
                </a:lnTo>
                <a:lnTo>
                  <a:pt x="615" y="883"/>
                </a:lnTo>
                <a:lnTo>
                  <a:pt x="651" y="895"/>
                </a:lnTo>
                <a:lnTo>
                  <a:pt x="673" y="889"/>
                </a:lnTo>
                <a:lnTo>
                  <a:pt x="698" y="898"/>
                </a:lnTo>
                <a:lnTo>
                  <a:pt x="698" y="907"/>
                </a:lnTo>
                <a:lnTo>
                  <a:pt x="675" y="931"/>
                </a:lnTo>
                <a:lnTo>
                  <a:pt x="683" y="945"/>
                </a:lnTo>
                <a:lnTo>
                  <a:pt x="704" y="944"/>
                </a:lnTo>
                <a:lnTo>
                  <a:pt x="711" y="938"/>
                </a:lnTo>
                <a:lnTo>
                  <a:pt x="723" y="945"/>
                </a:lnTo>
                <a:lnTo>
                  <a:pt x="737" y="951"/>
                </a:lnTo>
                <a:lnTo>
                  <a:pt x="743" y="934"/>
                </a:lnTo>
                <a:lnTo>
                  <a:pt x="739" y="911"/>
                </a:lnTo>
                <a:lnTo>
                  <a:pt x="764" y="909"/>
                </a:lnTo>
                <a:lnTo>
                  <a:pt x="776" y="903"/>
                </a:lnTo>
                <a:lnTo>
                  <a:pt x="799" y="891"/>
                </a:lnTo>
                <a:lnTo>
                  <a:pt x="801" y="896"/>
                </a:lnTo>
                <a:lnTo>
                  <a:pt x="819" y="903"/>
                </a:lnTo>
                <a:lnTo>
                  <a:pt x="829" y="910"/>
                </a:lnTo>
                <a:lnTo>
                  <a:pt x="828" y="937"/>
                </a:lnTo>
                <a:lnTo>
                  <a:pt x="850" y="945"/>
                </a:lnTo>
                <a:lnTo>
                  <a:pt x="890" y="954"/>
                </a:lnTo>
                <a:lnTo>
                  <a:pt x="927" y="956"/>
                </a:lnTo>
                <a:lnTo>
                  <a:pt x="968" y="966"/>
                </a:lnTo>
                <a:lnTo>
                  <a:pt x="976" y="963"/>
                </a:lnTo>
                <a:lnTo>
                  <a:pt x="978" y="987"/>
                </a:lnTo>
                <a:lnTo>
                  <a:pt x="976" y="1001"/>
                </a:lnTo>
                <a:lnTo>
                  <a:pt x="982" y="1015"/>
                </a:lnTo>
                <a:lnTo>
                  <a:pt x="1005" y="1023"/>
                </a:lnTo>
                <a:lnTo>
                  <a:pt x="1037" y="1046"/>
                </a:lnTo>
                <a:lnTo>
                  <a:pt x="1052" y="1053"/>
                </a:lnTo>
                <a:lnTo>
                  <a:pt x="1064" y="1081"/>
                </a:lnTo>
                <a:lnTo>
                  <a:pt x="1079" y="1081"/>
                </a:lnTo>
                <a:lnTo>
                  <a:pt x="1094" y="1097"/>
                </a:lnTo>
                <a:lnTo>
                  <a:pt x="1084" y="1121"/>
                </a:lnTo>
                <a:lnTo>
                  <a:pt x="1084" y="1142"/>
                </a:lnTo>
                <a:lnTo>
                  <a:pt x="1095" y="1155"/>
                </a:lnTo>
                <a:lnTo>
                  <a:pt x="1114" y="1150"/>
                </a:lnTo>
                <a:lnTo>
                  <a:pt x="1120" y="1130"/>
                </a:lnTo>
                <a:lnTo>
                  <a:pt x="1125" y="1107"/>
                </a:lnTo>
                <a:lnTo>
                  <a:pt x="1110" y="1090"/>
                </a:lnTo>
                <a:lnTo>
                  <a:pt x="1103" y="1063"/>
                </a:lnTo>
                <a:lnTo>
                  <a:pt x="1114" y="1053"/>
                </a:lnTo>
                <a:lnTo>
                  <a:pt x="1144" y="1078"/>
                </a:lnTo>
                <a:lnTo>
                  <a:pt x="1159" y="1086"/>
                </a:lnTo>
                <a:lnTo>
                  <a:pt x="1169" y="1086"/>
                </a:lnTo>
                <a:lnTo>
                  <a:pt x="1173" y="1113"/>
                </a:lnTo>
                <a:lnTo>
                  <a:pt x="1173" y="1125"/>
                </a:lnTo>
                <a:lnTo>
                  <a:pt x="1186" y="1117"/>
                </a:lnTo>
                <a:lnTo>
                  <a:pt x="1193" y="1130"/>
                </a:lnTo>
                <a:lnTo>
                  <a:pt x="1214" y="1136"/>
                </a:lnTo>
                <a:lnTo>
                  <a:pt x="1229" y="1155"/>
                </a:lnTo>
                <a:lnTo>
                  <a:pt x="1251" y="1166"/>
                </a:lnTo>
                <a:lnTo>
                  <a:pt x="1278" y="1155"/>
                </a:lnTo>
                <a:lnTo>
                  <a:pt x="1295" y="1139"/>
                </a:lnTo>
                <a:lnTo>
                  <a:pt x="1308" y="1117"/>
                </a:lnTo>
                <a:lnTo>
                  <a:pt x="1310" y="1092"/>
                </a:lnTo>
                <a:lnTo>
                  <a:pt x="1331" y="1094"/>
                </a:lnTo>
                <a:lnTo>
                  <a:pt x="1331" y="1071"/>
                </a:lnTo>
                <a:lnTo>
                  <a:pt x="1355" y="1085"/>
                </a:lnTo>
                <a:lnTo>
                  <a:pt x="1358" y="1055"/>
                </a:lnTo>
                <a:lnTo>
                  <a:pt x="1371" y="1073"/>
                </a:lnTo>
                <a:lnTo>
                  <a:pt x="1392" y="1062"/>
                </a:lnTo>
                <a:lnTo>
                  <a:pt x="1421" y="1056"/>
                </a:lnTo>
                <a:lnTo>
                  <a:pt x="1444" y="1045"/>
                </a:lnTo>
                <a:lnTo>
                  <a:pt x="1458" y="1067"/>
                </a:lnTo>
                <a:lnTo>
                  <a:pt x="1479" y="1098"/>
                </a:lnTo>
                <a:lnTo>
                  <a:pt x="1491" y="1083"/>
                </a:lnTo>
                <a:lnTo>
                  <a:pt x="1521" y="1092"/>
                </a:lnTo>
                <a:lnTo>
                  <a:pt x="1525" y="1073"/>
                </a:lnTo>
                <a:lnTo>
                  <a:pt x="1524" y="1055"/>
                </a:lnTo>
                <a:lnTo>
                  <a:pt x="1542" y="1049"/>
                </a:lnTo>
                <a:lnTo>
                  <a:pt x="1578" y="1068"/>
                </a:lnTo>
                <a:lnTo>
                  <a:pt x="1589" y="1033"/>
                </a:lnTo>
                <a:lnTo>
                  <a:pt x="1602" y="1038"/>
                </a:lnTo>
                <a:lnTo>
                  <a:pt x="1601" y="1065"/>
                </a:lnTo>
                <a:lnTo>
                  <a:pt x="1631" y="1062"/>
                </a:lnTo>
                <a:lnTo>
                  <a:pt x="1635" y="1079"/>
                </a:lnTo>
                <a:lnTo>
                  <a:pt x="1624" y="1117"/>
                </a:lnTo>
                <a:lnTo>
                  <a:pt x="1644" y="1124"/>
                </a:lnTo>
                <a:lnTo>
                  <a:pt x="1657" y="1127"/>
                </a:lnTo>
                <a:lnTo>
                  <a:pt x="1679" y="1132"/>
                </a:lnTo>
                <a:lnTo>
                  <a:pt x="1695" y="1137"/>
                </a:lnTo>
                <a:lnTo>
                  <a:pt x="1716" y="1137"/>
                </a:lnTo>
                <a:lnTo>
                  <a:pt x="1724" y="1145"/>
                </a:lnTo>
                <a:lnTo>
                  <a:pt x="1751" y="1175"/>
                </a:lnTo>
                <a:lnTo>
                  <a:pt x="1773" y="1162"/>
                </a:lnTo>
                <a:lnTo>
                  <a:pt x="1796" y="1151"/>
                </a:lnTo>
                <a:lnTo>
                  <a:pt x="1802" y="1130"/>
                </a:lnTo>
                <a:lnTo>
                  <a:pt x="1806" y="1105"/>
                </a:lnTo>
                <a:lnTo>
                  <a:pt x="1811" y="1096"/>
                </a:lnTo>
                <a:lnTo>
                  <a:pt x="1826" y="1096"/>
                </a:lnTo>
                <a:lnTo>
                  <a:pt x="1838" y="1119"/>
                </a:lnTo>
                <a:lnTo>
                  <a:pt x="1863" y="1137"/>
                </a:lnTo>
                <a:lnTo>
                  <a:pt x="1894" y="1125"/>
                </a:lnTo>
                <a:lnTo>
                  <a:pt x="1927" y="1117"/>
                </a:lnTo>
                <a:lnTo>
                  <a:pt x="1965" y="1100"/>
                </a:lnTo>
                <a:lnTo>
                  <a:pt x="1987" y="1076"/>
                </a:lnTo>
                <a:lnTo>
                  <a:pt x="1996" y="1031"/>
                </a:lnTo>
                <a:lnTo>
                  <a:pt x="2003" y="1003"/>
                </a:lnTo>
                <a:lnTo>
                  <a:pt x="2003" y="987"/>
                </a:lnTo>
                <a:lnTo>
                  <a:pt x="1991" y="955"/>
                </a:lnTo>
                <a:lnTo>
                  <a:pt x="1976" y="955"/>
                </a:lnTo>
                <a:lnTo>
                  <a:pt x="1962" y="955"/>
                </a:lnTo>
                <a:lnTo>
                  <a:pt x="1954" y="960"/>
                </a:lnTo>
                <a:lnTo>
                  <a:pt x="1923" y="960"/>
                </a:lnTo>
                <a:lnTo>
                  <a:pt x="1911" y="931"/>
                </a:lnTo>
                <a:lnTo>
                  <a:pt x="1886" y="936"/>
                </a:lnTo>
                <a:lnTo>
                  <a:pt x="1860" y="929"/>
                </a:lnTo>
                <a:lnTo>
                  <a:pt x="1845" y="917"/>
                </a:lnTo>
                <a:lnTo>
                  <a:pt x="1846" y="888"/>
                </a:lnTo>
                <a:lnTo>
                  <a:pt x="1836" y="877"/>
                </a:lnTo>
                <a:lnTo>
                  <a:pt x="1798" y="873"/>
                </a:lnTo>
                <a:lnTo>
                  <a:pt x="1791" y="867"/>
                </a:lnTo>
                <a:lnTo>
                  <a:pt x="1791" y="850"/>
                </a:lnTo>
                <a:lnTo>
                  <a:pt x="1815" y="847"/>
                </a:lnTo>
                <a:lnTo>
                  <a:pt x="1821" y="822"/>
                </a:lnTo>
                <a:lnTo>
                  <a:pt x="1858" y="808"/>
                </a:lnTo>
                <a:lnTo>
                  <a:pt x="1891" y="786"/>
                </a:lnTo>
                <a:lnTo>
                  <a:pt x="1902" y="765"/>
                </a:lnTo>
                <a:lnTo>
                  <a:pt x="1886" y="733"/>
                </a:lnTo>
                <a:lnTo>
                  <a:pt x="1869" y="707"/>
                </a:lnTo>
                <a:lnTo>
                  <a:pt x="1875" y="684"/>
                </a:lnTo>
                <a:lnTo>
                  <a:pt x="1906" y="631"/>
                </a:lnTo>
                <a:lnTo>
                  <a:pt x="1931" y="627"/>
                </a:lnTo>
                <a:lnTo>
                  <a:pt x="1966" y="623"/>
                </a:lnTo>
                <a:lnTo>
                  <a:pt x="1987" y="637"/>
                </a:lnTo>
                <a:lnTo>
                  <a:pt x="1993" y="628"/>
                </a:lnTo>
                <a:lnTo>
                  <a:pt x="2025" y="628"/>
                </a:lnTo>
                <a:lnTo>
                  <a:pt x="2031" y="617"/>
                </a:lnTo>
                <a:lnTo>
                  <a:pt x="2023" y="597"/>
                </a:lnTo>
                <a:lnTo>
                  <a:pt x="2014" y="588"/>
                </a:lnTo>
                <a:lnTo>
                  <a:pt x="2004" y="588"/>
                </a:lnTo>
                <a:lnTo>
                  <a:pt x="1981" y="582"/>
                </a:lnTo>
                <a:lnTo>
                  <a:pt x="1981" y="568"/>
                </a:lnTo>
                <a:lnTo>
                  <a:pt x="1962" y="568"/>
                </a:lnTo>
                <a:lnTo>
                  <a:pt x="1947" y="579"/>
                </a:lnTo>
                <a:lnTo>
                  <a:pt x="1937" y="572"/>
                </a:lnTo>
                <a:lnTo>
                  <a:pt x="1917" y="562"/>
                </a:lnTo>
                <a:lnTo>
                  <a:pt x="1916" y="540"/>
                </a:lnTo>
                <a:lnTo>
                  <a:pt x="1923" y="527"/>
                </a:lnTo>
                <a:lnTo>
                  <a:pt x="1932" y="520"/>
                </a:lnTo>
                <a:lnTo>
                  <a:pt x="1948" y="524"/>
                </a:lnTo>
                <a:lnTo>
                  <a:pt x="1952" y="515"/>
                </a:lnTo>
                <a:lnTo>
                  <a:pt x="1951" y="503"/>
                </a:lnTo>
                <a:lnTo>
                  <a:pt x="1931" y="499"/>
                </a:lnTo>
                <a:lnTo>
                  <a:pt x="1917" y="505"/>
                </a:lnTo>
                <a:lnTo>
                  <a:pt x="1882" y="501"/>
                </a:lnTo>
                <a:lnTo>
                  <a:pt x="1875" y="477"/>
                </a:lnTo>
                <a:lnTo>
                  <a:pt x="1906" y="477"/>
                </a:lnTo>
                <a:lnTo>
                  <a:pt x="1907" y="451"/>
                </a:lnTo>
                <a:lnTo>
                  <a:pt x="1887" y="445"/>
                </a:lnTo>
                <a:lnTo>
                  <a:pt x="1890" y="426"/>
                </a:lnTo>
                <a:lnTo>
                  <a:pt x="1902" y="420"/>
                </a:lnTo>
                <a:lnTo>
                  <a:pt x="1916" y="432"/>
                </a:lnTo>
                <a:lnTo>
                  <a:pt x="1927" y="405"/>
                </a:lnTo>
                <a:lnTo>
                  <a:pt x="1940" y="404"/>
                </a:lnTo>
                <a:lnTo>
                  <a:pt x="1952" y="420"/>
                </a:lnTo>
                <a:lnTo>
                  <a:pt x="1962" y="405"/>
                </a:lnTo>
                <a:lnTo>
                  <a:pt x="1981" y="407"/>
                </a:lnTo>
                <a:lnTo>
                  <a:pt x="1993" y="420"/>
                </a:lnTo>
                <a:lnTo>
                  <a:pt x="2009" y="394"/>
                </a:lnTo>
                <a:lnTo>
                  <a:pt x="2034" y="379"/>
                </a:lnTo>
                <a:lnTo>
                  <a:pt x="2049" y="389"/>
                </a:lnTo>
                <a:lnTo>
                  <a:pt x="2053" y="412"/>
                </a:lnTo>
                <a:lnTo>
                  <a:pt x="2069" y="410"/>
                </a:lnTo>
                <a:lnTo>
                  <a:pt x="2076" y="376"/>
                </a:lnTo>
                <a:lnTo>
                  <a:pt x="2088" y="378"/>
                </a:lnTo>
                <a:lnTo>
                  <a:pt x="2110" y="390"/>
                </a:lnTo>
                <a:lnTo>
                  <a:pt x="2128" y="365"/>
                </a:lnTo>
                <a:lnTo>
                  <a:pt x="2155" y="354"/>
                </a:lnTo>
                <a:lnTo>
                  <a:pt x="2169" y="360"/>
                </a:lnTo>
                <a:lnTo>
                  <a:pt x="2199" y="347"/>
                </a:lnTo>
                <a:lnTo>
                  <a:pt x="2327" y="294"/>
                </a:lnTo>
                <a:lnTo>
                  <a:pt x="2356" y="303"/>
                </a:lnTo>
                <a:lnTo>
                  <a:pt x="2374" y="303"/>
                </a:lnTo>
                <a:lnTo>
                  <a:pt x="2381" y="292"/>
                </a:lnTo>
                <a:lnTo>
                  <a:pt x="2380" y="275"/>
                </a:lnTo>
                <a:lnTo>
                  <a:pt x="2376" y="267"/>
                </a:lnTo>
                <a:lnTo>
                  <a:pt x="2402" y="237"/>
                </a:lnTo>
                <a:lnTo>
                  <a:pt x="2439" y="242"/>
                </a:lnTo>
                <a:lnTo>
                  <a:pt x="2447" y="216"/>
                </a:lnTo>
                <a:lnTo>
                  <a:pt x="2458" y="216"/>
                </a:lnTo>
                <a:lnTo>
                  <a:pt x="2457" y="237"/>
                </a:lnTo>
                <a:lnTo>
                  <a:pt x="2472" y="236"/>
                </a:lnTo>
                <a:lnTo>
                  <a:pt x="2562" y="210"/>
                </a:lnTo>
                <a:lnTo>
                  <a:pt x="2616" y="189"/>
                </a:lnTo>
                <a:lnTo>
                  <a:pt x="2636" y="164"/>
                </a:lnTo>
                <a:lnTo>
                  <a:pt x="2669" y="171"/>
                </a:lnTo>
                <a:lnTo>
                  <a:pt x="2693" y="140"/>
                </a:lnTo>
                <a:lnTo>
                  <a:pt x="2730" y="138"/>
                </a:lnTo>
                <a:lnTo>
                  <a:pt x="2729" y="120"/>
                </a:lnTo>
                <a:lnTo>
                  <a:pt x="2738" y="117"/>
                </a:lnTo>
                <a:lnTo>
                  <a:pt x="2737" y="103"/>
                </a:lnTo>
                <a:lnTo>
                  <a:pt x="2737" y="100"/>
                </a:lnTo>
                <a:lnTo>
                  <a:pt x="2738" y="92"/>
                </a:lnTo>
                <a:lnTo>
                  <a:pt x="2754" y="84"/>
                </a:lnTo>
                <a:lnTo>
                  <a:pt x="2774" y="81"/>
                </a:lnTo>
                <a:lnTo>
                  <a:pt x="2778" y="59"/>
                </a:lnTo>
                <a:lnTo>
                  <a:pt x="2786" y="57"/>
                </a:lnTo>
                <a:lnTo>
                  <a:pt x="2784" y="43"/>
                </a:lnTo>
                <a:lnTo>
                  <a:pt x="2792" y="56"/>
                </a:lnTo>
                <a:lnTo>
                  <a:pt x="2808" y="63"/>
                </a:lnTo>
                <a:lnTo>
                  <a:pt x="2820" y="66"/>
                </a:lnTo>
                <a:lnTo>
                  <a:pt x="2837" y="57"/>
                </a:lnTo>
                <a:lnTo>
                  <a:pt x="2813" y="28"/>
                </a:lnTo>
                <a:lnTo>
                  <a:pt x="2805" y="7"/>
                </a:lnTo>
                <a:lnTo>
                  <a:pt x="2813" y="0"/>
                </a:lnTo>
                <a:lnTo>
                  <a:pt x="2825" y="0"/>
                </a:lnTo>
                <a:lnTo>
                  <a:pt x="2835" y="23"/>
                </a:lnTo>
                <a:lnTo>
                  <a:pt x="2892" y="17"/>
                </a:lnTo>
                <a:lnTo>
                  <a:pt x="2928" y="41"/>
                </a:lnTo>
                <a:lnTo>
                  <a:pt x="2946" y="63"/>
                </a:lnTo>
                <a:lnTo>
                  <a:pt x="2979" y="44"/>
                </a:lnTo>
                <a:lnTo>
                  <a:pt x="2989" y="27"/>
                </a:lnTo>
                <a:lnTo>
                  <a:pt x="3016" y="27"/>
                </a:lnTo>
                <a:lnTo>
                  <a:pt x="3060" y="33"/>
                </a:lnTo>
                <a:lnTo>
                  <a:pt x="3071" y="50"/>
                </a:lnTo>
                <a:lnTo>
                  <a:pt x="3075" y="79"/>
                </a:lnTo>
                <a:lnTo>
                  <a:pt x="3077" y="105"/>
                </a:lnTo>
                <a:lnTo>
                  <a:pt x="3105" y="107"/>
                </a:lnTo>
                <a:lnTo>
                  <a:pt x="3121" y="128"/>
                </a:lnTo>
                <a:lnTo>
                  <a:pt x="3125" y="148"/>
                </a:lnTo>
                <a:lnTo>
                  <a:pt x="3107" y="176"/>
                </a:lnTo>
                <a:lnTo>
                  <a:pt x="3122" y="182"/>
                </a:lnTo>
                <a:lnTo>
                  <a:pt x="3119" y="200"/>
                </a:lnTo>
                <a:lnTo>
                  <a:pt x="3093" y="215"/>
                </a:lnTo>
                <a:lnTo>
                  <a:pt x="3117" y="225"/>
                </a:lnTo>
                <a:lnTo>
                  <a:pt x="3126" y="245"/>
                </a:lnTo>
                <a:lnTo>
                  <a:pt x="3143" y="231"/>
                </a:lnTo>
                <a:lnTo>
                  <a:pt x="3187" y="230"/>
                </a:lnTo>
                <a:lnTo>
                  <a:pt x="3200" y="230"/>
                </a:lnTo>
                <a:lnTo>
                  <a:pt x="3201" y="202"/>
                </a:lnTo>
                <a:lnTo>
                  <a:pt x="3218" y="202"/>
                </a:lnTo>
                <a:lnTo>
                  <a:pt x="3238" y="206"/>
                </a:lnTo>
                <a:lnTo>
                  <a:pt x="3254" y="216"/>
                </a:lnTo>
                <a:lnTo>
                  <a:pt x="3264" y="206"/>
                </a:lnTo>
                <a:lnTo>
                  <a:pt x="3249" y="191"/>
                </a:lnTo>
                <a:lnTo>
                  <a:pt x="3230" y="164"/>
                </a:lnTo>
                <a:lnTo>
                  <a:pt x="3242" y="151"/>
                </a:lnTo>
                <a:lnTo>
                  <a:pt x="3253" y="166"/>
                </a:lnTo>
                <a:lnTo>
                  <a:pt x="3259" y="176"/>
                </a:lnTo>
                <a:lnTo>
                  <a:pt x="3276" y="176"/>
                </a:lnTo>
                <a:lnTo>
                  <a:pt x="3274" y="198"/>
                </a:lnTo>
                <a:lnTo>
                  <a:pt x="3298" y="202"/>
                </a:lnTo>
                <a:lnTo>
                  <a:pt x="3289" y="221"/>
                </a:lnTo>
                <a:lnTo>
                  <a:pt x="3294" y="230"/>
                </a:lnTo>
                <a:lnTo>
                  <a:pt x="3288" y="245"/>
                </a:lnTo>
                <a:lnTo>
                  <a:pt x="3296" y="257"/>
                </a:lnTo>
                <a:lnTo>
                  <a:pt x="3330" y="236"/>
                </a:lnTo>
                <a:lnTo>
                  <a:pt x="3328" y="218"/>
                </a:lnTo>
                <a:lnTo>
                  <a:pt x="3311" y="218"/>
                </a:lnTo>
                <a:lnTo>
                  <a:pt x="3311" y="205"/>
                </a:lnTo>
                <a:lnTo>
                  <a:pt x="3330" y="196"/>
                </a:lnTo>
                <a:lnTo>
                  <a:pt x="3365" y="197"/>
                </a:lnTo>
                <a:lnTo>
                  <a:pt x="3376" y="212"/>
                </a:lnTo>
                <a:lnTo>
                  <a:pt x="3394" y="221"/>
                </a:lnTo>
                <a:lnTo>
                  <a:pt x="3413" y="221"/>
                </a:lnTo>
                <a:lnTo>
                  <a:pt x="3417" y="208"/>
                </a:lnTo>
                <a:lnTo>
                  <a:pt x="3427" y="202"/>
                </a:lnTo>
                <a:lnTo>
                  <a:pt x="3439" y="198"/>
                </a:lnTo>
                <a:lnTo>
                  <a:pt x="3437" y="216"/>
                </a:lnTo>
                <a:lnTo>
                  <a:pt x="3458" y="205"/>
                </a:lnTo>
                <a:lnTo>
                  <a:pt x="3448" y="193"/>
                </a:lnTo>
                <a:lnTo>
                  <a:pt x="3454" y="185"/>
                </a:lnTo>
                <a:lnTo>
                  <a:pt x="3475" y="190"/>
                </a:lnTo>
                <a:lnTo>
                  <a:pt x="3470" y="216"/>
                </a:lnTo>
                <a:lnTo>
                  <a:pt x="3454" y="225"/>
                </a:lnTo>
                <a:lnTo>
                  <a:pt x="3439" y="238"/>
                </a:lnTo>
                <a:lnTo>
                  <a:pt x="3433" y="258"/>
                </a:lnTo>
                <a:lnTo>
                  <a:pt x="3426" y="269"/>
                </a:lnTo>
                <a:lnTo>
                  <a:pt x="3428" y="287"/>
                </a:lnTo>
                <a:lnTo>
                  <a:pt x="3431" y="308"/>
                </a:lnTo>
                <a:lnTo>
                  <a:pt x="3435" y="323"/>
                </a:lnTo>
                <a:lnTo>
                  <a:pt x="3462" y="330"/>
                </a:lnTo>
                <a:lnTo>
                  <a:pt x="3463" y="314"/>
                </a:lnTo>
                <a:lnTo>
                  <a:pt x="3472" y="293"/>
                </a:lnTo>
                <a:lnTo>
                  <a:pt x="3501" y="275"/>
                </a:lnTo>
                <a:lnTo>
                  <a:pt x="3518" y="269"/>
                </a:lnTo>
                <a:lnTo>
                  <a:pt x="3526" y="282"/>
                </a:lnTo>
                <a:lnTo>
                  <a:pt x="3554" y="273"/>
                </a:lnTo>
                <a:lnTo>
                  <a:pt x="3567" y="289"/>
                </a:lnTo>
                <a:lnTo>
                  <a:pt x="3594" y="300"/>
                </a:lnTo>
                <a:lnTo>
                  <a:pt x="3585" y="269"/>
                </a:lnTo>
                <a:lnTo>
                  <a:pt x="3574" y="254"/>
                </a:lnTo>
                <a:lnTo>
                  <a:pt x="3593" y="221"/>
                </a:lnTo>
                <a:lnTo>
                  <a:pt x="3626" y="200"/>
                </a:lnTo>
                <a:lnTo>
                  <a:pt x="3651" y="198"/>
                </a:lnTo>
                <a:lnTo>
                  <a:pt x="3677" y="185"/>
                </a:lnTo>
                <a:lnTo>
                  <a:pt x="3680" y="137"/>
                </a:lnTo>
                <a:lnTo>
                  <a:pt x="3711" y="113"/>
                </a:lnTo>
                <a:lnTo>
                  <a:pt x="3741" y="114"/>
                </a:lnTo>
                <a:lnTo>
                  <a:pt x="3744" y="65"/>
                </a:lnTo>
                <a:lnTo>
                  <a:pt x="3740" y="69"/>
                </a:lnTo>
                <a:lnTo>
                  <a:pt x="3745" y="47"/>
                </a:lnTo>
                <a:lnTo>
                  <a:pt x="3755" y="53"/>
                </a:lnTo>
                <a:lnTo>
                  <a:pt x="3773" y="39"/>
                </a:lnTo>
                <a:lnTo>
                  <a:pt x="3800" y="36"/>
                </a:lnTo>
                <a:lnTo>
                  <a:pt x="3812" y="48"/>
                </a:lnTo>
                <a:lnTo>
                  <a:pt x="3803" y="74"/>
                </a:lnTo>
                <a:lnTo>
                  <a:pt x="3779" y="96"/>
                </a:lnTo>
                <a:lnTo>
                  <a:pt x="3792" y="125"/>
                </a:lnTo>
                <a:lnTo>
                  <a:pt x="3821" y="152"/>
                </a:lnTo>
                <a:lnTo>
                  <a:pt x="4005" y="234"/>
                </a:lnTo>
                <a:lnTo>
                  <a:pt x="4296" y="548"/>
                </a:lnTo>
                <a:lnTo>
                  <a:pt x="4421" y="675"/>
                </a:lnTo>
                <a:lnTo>
                  <a:pt x="4427" y="649"/>
                </a:lnTo>
                <a:lnTo>
                  <a:pt x="4441" y="651"/>
                </a:lnTo>
                <a:lnTo>
                  <a:pt x="4436" y="630"/>
                </a:lnTo>
                <a:lnTo>
                  <a:pt x="4461" y="630"/>
                </a:lnTo>
                <a:lnTo>
                  <a:pt x="4464" y="623"/>
                </a:lnTo>
                <a:lnTo>
                  <a:pt x="4459" y="605"/>
                </a:lnTo>
                <a:lnTo>
                  <a:pt x="4474" y="593"/>
                </a:lnTo>
                <a:lnTo>
                  <a:pt x="4476" y="576"/>
                </a:lnTo>
                <a:lnTo>
                  <a:pt x="4500" y="569"/>
                </a:lnTo>
                <a:lnTo>
                  <a:pt x="4536" y="597"/>
                </a:lnTo>
                <a:lnTo>
                  <a:pt x="4562" y="581"/>
                </a:lnTo>
                <a:lnTo>
                  <a:pt x="4589" y="591"/>
                </a:lnTo>
                <a:lnTo>
                  <a:pt x="4601" y="623"/>
                </a:lnTo>
                <a:lnTo>
                  <a:pt x="4626" y="612"/>
                </a:lnTo>
                <a:lnTo>
                  <a:pt x="4642" y="588"/>
                </a:lnTo>
                <a:lnTo>
                  <a:pt x="4669" y="586"/>
                </a:lnTo>
                <a:lnTo>
                  <a:pt x="4691" y="599"/>
                </a:lnTo>
                <a:lnTo>
                  <a:pt x="4719" y="575"/>
                </a:lnTo>
                <a:lnTo>
                  <a:pt x="4756" y="568"/>
                </a:lnTo>
                <a:lnTo>
                  <a:pt x="4781" y="540"/>
                </a:lnTo>
                <a:lnTo>
                  <a:pt x="4815" y="528"/>
                </a:lnTo>
                <a:lnTo>
                  <a:pt x="4856" y="531"/>
                </a:lnTo>
                <a:lnTo>
                  <a:pt x="4881" y="515"/>
                </a:lnTo>
                <a:lnTo>
                  <a:pt x="4886" y="499"/>
                </a:lnTo>
                <a:lnTo>
                  <a:pt x="4930" y="515"/>
                </a:lnTo>
                <a:lnTo>
                  <a:pt x="4940" y="540"/>
                </a:lnTo>
                <a:lnTo>
                  <a:pt x="4963" y="539"/>
                </a:lnTo>
                <a:lnTo>
                  <a:pt x="4972" y="576"/>
                </a:lnTo>
                <a:lnTo>
                  <a:pt x="4997" y="595"/>
                </a:lnTo>
                <a:lnTo>
                  <a:pt x="5027" y="606"/>
                </a:lnTo>
                <a:lnTo>
                  <a:pt x="5052" y="591"/>
                </a:lnTo>
                <a:lnTo>
                  <a:pt x="5070" y="611"/>
                </a:lnTo>
                <a:lnTo>
                  <a:pt x="5086" y="607"/>
                </a:lnTo>
                <a:lnTo>
                  <a:pt x="5082" y="625"/>
                </a:lnTo>
                <a:lnTo>
                  <a:pt x="5082" y="647"/>
                </a:lnTo>
                <a:lnTo>
                  <a:pt x="5108" y="650"/>
                </a:lnTo>
                <a:lnTo>
                  <a:pt x="5124" y="657"/>
                </a:lnTo>
                <a:lnTo>
                  <a:pt x="5123" y="669"/>
                </a:lnTo>
                <a:lnTo>
                  <a:pt x="5137" y="675"/>
                </a:lnTo>
                <a:lnTo>
                  <a:pt x="5184" y="660"/>
                </a:lnTo>
                <a:lnTo>
                  <a:pt x="5213" y="665"/>
                </a:lnTo>
                <a:lnTo>
                  <a:pt x="5243" y="656"/>
                </a:lnTo>
                <a:lnTo>
                  <a:pt x="5278" y="654"/>
                </a:lnTo>
                <a:lnTo>
                  <a:pt x="5289" y="637"/>
                </a:lnTo>
                <a:lnTo>
                  <a:pt x="5287" y="620"/>
                </a:lnTo>
                <a:lnTo>
                  <a:pt x="5300" y="605"/>
                </a:lnTo>
                <a:lnTo>
                  <a:pt x="5292" y="583"/>
                </a:lnTo>
                <a:lnTo>
                  <a:pt x="5300" y="567"/>
                </a:lnTo>
                <a:lnTo>
                  <a:pt x="5315" y="563"/>
                </a:lnTo>
                <a:lnTo>
                  <a:pt x="5325" y="569"/>
                </a:lnTo>
                <a:lnTo>
                  <a:pt x="5329" y="592"/>
                </a:lnTo>
                <a:lnTo>
                  <a:pt x="5323" y="612"/>
                </a:lnTo>
                <a:lnTo>
                  <a:pt x="5339" y="617"/>
                </a:lnTo>
                <a:lnTo>
                  <a:pt x="5354" y="633"/>
                </a:lnTo>
                <a:lnTo>
                  <a:pt x="5375" y="633"/>
                </a:lnTo>
                <a:lnTo>
                  <a:pt x="5397" y="649"/>
                </a:lnTo>
                <a:lnTo>
                  <a:pt x="5426" y="653"/>
                </a:lnTo>
                <a:lnTo>
                  <a:pt x="5432" y="672"/>
                </a:lnTo>
                <a:lnTo>
                  <a:pt x="5411" y="690"/>
                </a:lnTo>
                <a:lnTo>
                  <a:pt x="5399" y="702"/>
                </a:lnTo>
                <a:lnTo>
                  <a:pt x="5392" y="721"/>
                </a:lnTo>
                <a:lnTo>
                  <a:pt x="5406" y="738"/>
                </a:lnTo>
                <a:lnTo>
                  <a:pt x="5399" y="753"/>
                </a:lnTo>
                <a:lnTo>
                  <a:pt x="5396" y="782"/>
                </a:lnTo>
                <a:lnTo>
                  <a:pt x="5404" y="798"/>
                </a:lnTo>
                <a:lnTo>
                  <a:pt x="5393" y="842"/>
                </a:lnTo>
                <a:lnTo>
                  <a:pt x="5367" y="839"/>
                </a:lnTo>
                <a:lnTo>
                  <a:pt x="5361" y="856"/>
                </a:lnTo>
                <a:lnTo>
                  <a:pt x="5304" y="884"/>
                </a:lnTo>
                <a:lnTo>
                  <a:pt x="5287" y="924"/>
                </a:lnTo>
                <a:lnTo>
                  <a:pt x="5306" y="1014"/>
                </a:lnTo>
                <a:lnTo>
                  <a:pt x="5349" y="1045"/>
                </a:lnTo>
                <a:lnTo>
                  <a:pt x="5375" y="1107"/>
                </a:lnTo>
                <a:lnTo>
                  <a:pt x="5372" y="1142"/>
                </a:lnTo>
                <a:lnTo>
                  <a:pt x="5367" y="1163"/>
                </a:lnTo>
                <a:lnTo>
                  <a:pt x="5325" y="1190"/>
                </a:lnTo>
                <a:lnTo>
                  <a:pt x="5325" y="1207"/>
                </a:lnTo>
                <a:lnTo>
                  <a:pt x="5302" y="1243"/>
                </a:lnTo>
                <a:lnTo>
                  <a:pt x="5279" y="1249"/>
                </a:lnTo>
                <a:lnTo>
                  <a:pt x="5272" y="1227"/>
                </a:lnTo>
                <a:lnTo>
                  <a:pt x="5229" y="1224"/>
                </a:lnTo>
                <a:lnTo>
                  <a:pt x="5172" y="1253"/>
                </a:lnTo>
                <a:lnTo>
                  <a:pt x="5118" y="1264"/>
                </a:lnTo>
                <a:lnTo>
                  <a:pt x="5095" y="1246"/>
                </a:lnTo>
                <a:lnTo>
                  <a:pt x="5029" y="1253"/>
                </a:lnTo>
                <a:lnTo>
                  <a:pt x="5029" y="1272"/>
                </a:lnTo>
                <a:lnTo>
                  <a:pt x="5039" y="1288"/>
                </a:lnTo>
                <a:lnTo>
                  <a:pt x="5035" y="1318"/>
                </a:lnTo>
                <a:lnTo>
                  <a:pt x="5044" y="1343"/>
                </a:lnTo>
                <a:lnTo>
                  <a:pt x="5039" y="1383"/>
                </a:lnTo>
                <a:lnTo>
                  <a:pt x="5039" y="1453"/>
                </a:lnTo>
                <a:lnTo>
                  <a:pt x="5025" y="1465"/>
                </a:lnTo>
                <a:lnTo>
                  <a:pt x="5024" y="1493"/>
                </a:lnTo>
                <a:lnTo>
                  <a:pt x="5049" y="1539"/>
                </a:lnTo>
                <a:lnTo>
                  <a:pt x="5049" y="1626"/>
                </a:lnTo>
                <a:lnTo>
                  <a:pt x="5071" y="1633"/>
                </a:lnTo>
                <a:lnTo>
                  <a:pt x="5091" y="1638"/>
                </a:lnTo>
                <a:lnTo>
                  <a:pt x="5106" y="1667"/>
                </a:lnTo>
                <a:lnTo>
                  <a:pt x="5095" y="1687"/>
                </a:lnTo>
                <a:lnTo>
                  <a:pt x="5057" y="1690"/>
                </a:lnTo>
                <a:lnTo>
                  <a:pt x="5022" y="1721"/>
                </a:lnTo>
                <a:lnTo>
                  <a:pt x="4989" y="1709"/>
                </a:lnTo>
                <a:lnTo>
                  <a:pt x="4980" y="1691"/>
                </a:lnTo>
                <a:lnTo>
                  <a:pt x="4963" y="1691"/>
                </a:lnTo>
                <a:lnTo>
                  <a:pt x="4959" y="1717"/>
                </a:lnTo>
                <a:lnTo>
                  <a:pt x="4933" y="1732"/>
                </a:lnTo>
                <a:lnTo>
                  <a:pt x="4883" y="1770"/>
                </a:lnTo>
                <a:lnTo>
                  <a:pt x="4841" y="1794"/>
                </a:lnTo>
                <a:lnTo>
                  <a:pt x="4791" y="1814"/>
                </a:lnTo>
                <a:lnTo>
                  <a:pt x="4768" y="1839"/>
                </a:lnTo>
                <a:lnTo>
                  <a:pt x="4774" y="1870"/>
                </a:lnTo>
                <a:lnTo>
                  <a:pt x="4798" y="1874"/>
                </a:lnTo>
                <a:lnTo>
                  <a:pt x="4812" y="1852"/>
                </a:lnTo>
                <a:lnTo>
                  <a:pt x="4835" y="1852"/>
                </a:lnTo>
                <a:lnTo>
                  <a:pt x="4856" y="1871"/>
                </a:lnTo>
                <a:lnTo>
                  <a:pt x="4849" y="1890"/>
                </a:lnTo>
                <a:lnTo>
                  <a:pt x="4883" y="2014"/>
                </a:lnTo>
                <a:lnTo>
                  <a:pt x="4953" y="2093"/>
                </a:lnTo>
                <a:lnTo>
                  <a:pt x="4953" y="2113"/>
                </a:lnTo>
                <a:lnTo>
                  <a:pt x="4983" y="2141"/>
                </a:lnTo>
                <a:lnTo>
                  <a:pt x="4990" y="2154"/>
                </a:lnTo>
                <a:lnTo>
                  <a:pt x="4957" y="2176"/>
                </a:lnTo>
                <a:lnTo>
                  <a:pt x="4942" y="2211"/>
                </a:lnTo>
                <a:lnTo>
                  <a:pt x="4972" y="2230"/>
                </a:lnTo>
                <a:lnTo>
                  <a:pt x="4963" y="2251"/>
                </a:lnTo>
                <a:lnTo>
                  <a:pt x="4936" y="2251"/>
                </a:lnTo>
                <a:lnTo>
                  <a:pt x="4930" y="2285"/>
                </a:lnTo>
                <a:lnTo>
                  <a:pt x="4940" y="2315"/>
                </a:lnTo>
                <a:lnTo>
                  <a:pt x="4959" y="2332"/>
                </a:lnTo>
                <a:lnTo>
                  <a:pt x="4963" y="2368"/>
                </a:lnTo>
                <a:lnTo>
                  <a:pt x="4947" y="2373"/>
                </a:lnTo>
                <a:lnTo>
                  <a:pt x="4916" y="2364"/>
                </a:lnTo>
                <a:lnTo>
                  <a:pt x="4892" y="2351"/>
                </a:lnTo>
                <a:lnTo>
                  <a:pt x="4842" y="2372"/>
                </a:lnTo>
                <a:lnTo>
                  <a:pt x="4800" y="2333"/>
                </a:lnTo>
                <a:lnTo>
                  <a:pt x="4796" y="2313"/>
                </a:lnTo>
                <a:lnTo>
                  <a:pt x="4779" y="2312"/>
                </a:lnTo>
                <a:lnTo>
                  <a:pt x="4753" y="2334"/>
                </a:lnTo>
                <a:lnTo>
                  <a:pt x="4703" y="2339"/>
                </a:lnTo>
                <a:lnTo>
                  <a:pt x="4670" y="2346"/>
                </a:lnTo>
                <a:lnTo>
                  <a:pt x="4605" y="2361"/>
                </a:lnTo>
                <a:lnTo>
                  <a:pt x="4615" y="2354"/>
                </a:lnTo>
                <a:lnTo>
                  <a:pt x="4544" y="2366"/>
                </a:lnTo>
                <a:lnTo>
                  <a:pt x="4489" y="2375"/>
                </a:lnTo>
                <a:lnTo>
                  <a:pt x="4461" y="2363"/>
                </a:lnTo>
                <a:lnTo>
                  <a:pt x="4427" y="2393"/>
                </a:lnTo>
                <a:lnTo>
                  <a:pt x="4379" y="2411"/>
                </a:lnTo>
                <a:lnTo>
                  <a:pt x="4353" y="2409"/>
                </a:lnTo>
                <a:lnTo>
                  <a:pt x="4329" y="2429"/>
                </a:lnTo>
                <a:lnTo>
                  <a:pt x="4298" y="2435"/>
                </a:lnTo>
                <a:lnTo>
                  <a:pt x="4275" y="2459"/>
                </a:lnTo>
                <a:lnTo>
                  <a:pt x="4223" y="2447"/>
                </a:lnTo>
                <a:lnTo>
                  <a:pt x="4192" y="2453"/>
                </a:lnTo>
                <a:lnTo>
                  <a:pt x="4164" y="2456"/>
                </a:lnTo>
                <a:lnTo>
                  <a:pt x="4134" y="2447"/>
                </a:lnTo>
                <a:lnTo>
                  <a:pt x="4122" y="2429"/>
                </a:lnTo>
                <a:lnTo>
                  <a:pt x="4112" y="2429"/>
                </a:lnTo>
                <a:lnTo>
                  <a:pt x="4101" y="2433"/>
                </a:lnTo>
                <a:lnTo>
                  <a:pt x="4083" y="2428"/>
                </a:lnTo>
                <a:lnTo>
                  <a:pt x="4060" y="2412"/>
                </a:lnTo>
                <a:lnTo>
                  <a:pt x="4040" y="2404"/>
                </a:lnTo>
                <a:lnTo>
                  <a:pt x="4040" y="2421"/>
                </a:lnTo>
                <a:lnTo>
                  <a:pt x="4024" y="2429"/>
                </a:lnTo>
                <a:lnTo>
                  <a:pt x="4019" y="2417"/>
                </a:lnTo>
                <a:lnTo>
                  <a:pt x="4015" y="2419"/>
                </a:lnTo>
                <a:lnTo>
                  <a:pt x="4006" y="2420"/>
                </a:lnTo>
                <a:lnTo>
                  <a:pt x="3998" y="2432"/>
                </a:lnTo>
                <a:lnTo>
                  <a:pt x="3998" y="2455"/>
                </a:lnTo>
                <a:lnTo>
                  <a:pt x="3988" y="2468"/>
                </a:lnTo>
                <a:lnTo>
                  <a:pt x="3967" y="2477"/>
                </a:lnTo>
                <a:lnTo>
                  <a:pt x="3950" y="2521"/>
                </a:lnTo>
                <a:lnTo>
                  <a:pt x="3950" y="2559"/>
                </a:lnTo>
                <a:lnTo>
                  <a:pt x="3970" y="2592"/>
                </a:lnTo>
                <a:lnTo>
                  <a:pt x="3970" y="2608"/>
                </a:lnTo>
                <a:lnTo>
                  <a:pt x="3928" y="2592"/>
                </a:lnTo>
                <a:lnTo>
                  <a:pt x="3910" y="2588"/>
                </a:lnTo>
                <a:lnTo>
                  <a:pt x="3893" y="2597"/>
                </a:lnTo>
                <a:lnTo>
                  <a:pt x="3883" y="2595"/>
                </a:lnTo>
                <a:lnTo>
                  <a:pt x="3877" y="2586"/>
                </a:lnTo>
                <a:lnTo>
                  <a:pt x="3859" y="2581"/>
                </a:lnTo>
                <a:lnTo>
                  <a:pt x="3844" y="2589"/>
                </a:lnTo>
                <a:lnTo>
                  <a:pt x="3825" y="2572"/>
                </a:lnTo>
                <a:lnTo>
                  <a:pt x="3815" y="2574"/>
                </a:lnTo>
                <a:lnTo>
                  <a:pt x="3809" y="2575"/>
                </a:lnTo>
                <a:lnTo>
                  <a:pt x="3779" y="2567"/>
                </a:lnTo>
                <a:lnTo>
                  <a:pt x="3760" y="2581"/>
                </a:lnTo>
                <a:lnTo>
                  <a:pt x="3717" y="2575"/>
                </a:lnTo>
                <a:lnTo>
                  <a:pt x="3700" y="2572"/>
                </a:lnTo>
                <a:lnTo>
                  <a:pt x="3692" y="2579"/>
                </a:lnTo>
                <a:lnTo>
                  <a:pt x="3670" y="2576"/>
                </a:lnTo>
                <a:lnTo>
                  <a:pt x="3665" y="2588"/>
                </a:lnTo>
                <a:lnTo>
                  <a:pt x="3636" y="2585"/>
                </a:lnTo>
                <a:lnTo>
                  <a:pt x="3627" y="2602"/>
                </a:lnTo>
                <a:lnTo>
                  <a:pt x="3627" y="2621"/>
                </a:lnTo>
                <a:lnTo>
                  <a:pt x="3620" y="2638"/>
                </a:lnTo>
                <a:lnTo>
                  <a:pt x="3612" y="2648"/>
                </a:lnTo>
                <a:lnTo>
                  <a:pt x="3620" y="2649"/>
                </a:lnTo>
                <a:lnTo>
                  <a:pt x="3612" y="2666"/>
                </a:lnTo>
                <a:lnTo>
                  <a:pt x="3601" y="2666"/>
                </a:lnTo>
                <a:lnTo>
                  <a:pt x="3595" y="2691"/>
                </a:lnTo>
                <a:lnTo>
                  <a:pt x="3565" y="2763"/>
                </a:lnTo>
                <a:lnTo>
                  <a:pt x="3542" y="2769"/>
                </a:lnTo>
                <a:lnTo>
                  <a:pt x="3522" y="2771"/>
                </a:lnTo>
                <a:lnTo>
                  <a:pt x="3494" y="2816"/>
                </a:lnTo>
                <a:lnTo>
                  <a:pt x="3473" y="2837"/>
                </a:lnTo>
                <a:lnTo>
                  <a:pt x="3455" y="2847"/>
                </a:lnTo>
                <a:lnTo>
                  <a:pt x="3437" y="2859"/>
                </a:lnTo>
                <a:lnTo>
                  <a:pt x="3415" y="2877"/>
                </a:lnTo>
                <a:lnTo>
                  <a:pt x="3390" y="2881"/>
                </a:lnTo>
                <a:lnTo>
                  <a:pt x="3386" y="2898"/>
                </a:lnTo>
                <a:lnTo>
                  <a:pt x="3381" y="2914"/>
                </a:lnTo>
                <a:lnTo>
                  <a:pt x="3365" y="2924"/>
                </a:lnTo>
                <a:lnTo>
                  <a:pt x="3335" y="2946"/>
                </a:lnTo>
                <a:lnTo>
                  <a:pt x="3336" y="2974"/>
                </a:lnTo>
                <a:lnTo>
                  <a:pt x="3291" y="3002"/>
                </a:lnTo>
                <a:lnTo>
                  <a:pt x="3284" y="3035"/>
                </a:lnTo>
                <a:lnTo>
                  <a:pt x="3264" y="3036"/>
                </a:lnTo>
                <a:lnTo>
                  <a:pt x="3251" y="3041"/>
                </a:lnTo>
                <a:lnTo>
                  <a:pt x="3242" y="3045"/>
                </a:lnTo>
                <a:lnTo>
                  <a:pt x="3264" y="3050"/>
                </a:lnTo>
                <a:lnTo>
                  <a:pt x="3264" y="3076"/>
                </a:lnTo>
                <a:lnTo>
                  <a:pt x="3282" y="3084"/>
                </a:lnTo>
                <a:lnTo>
                  <a:pt x="3276" y="3100"/>
                </a:lnTo>
                <a:lnTo>
                  <a:pt x="3273" y="3107"/>
                </a:lnTo>
                <a:lnTo>
                  <a:pt x="3272" y="3134"/>
                </a:lnTo>
                <a:lnTo>
                  <a:pt x="3230" y="3114"/>
                </a:lnTo>
                <a:lnTo>
                  <a:pt x="3195" y="3095"/>
                </a:lnTo>
                <a:lnTo>
                  <a:pt x="3184" y="3076"/>
                </a:lnTo>
                <a:lnTo>
                  <a:pt x="3196" y="3056"/>
                </a:lnTo>
                <a:lnTo>
                  <a:pt x="3192" y="3040"/>
                </a:lnTo>
                <a:lnTo>
                  <a:pt x="3161" y="3033"/>
                </a:lnTo>
                <a:lnTo>
                  <a:pt x="3150" y="3026"/>
                </a:lnTo>
                <a:lnTo>
                  <a:pt x="3125" y="3027"/>
                </a:lnTo>
                <a:lnTo>
                  <a:pt x="3096" y="3041"/>
                </a:lnTo>
                <a:lnTo>
                  <a:pt x="3077" y="3026"/>
                </a:lnTo>
                <a:lnTo>
                  <a:pt x="3049" y="3030"/>
                </a:lnTo>
                <a:lnTo>
                  <a:pt x="3024" y="3050"/>
                </a:lnTo>
                <a:lnTo>
                  <a:pt x="3005" y="3048"/>
                </a:lnTo>
                <a:lnTo>
                  <a:pt x="2966" y="3056"/>
                </a:lnTo>
                <a:lnTo>
                  <a:pt x="2952" y="3045"/>
                </a:lnTo>
                <a:lnTo>
                  <a:pt x="2924" y="2984"/>
                </a:lnTo>
                <a:lnTo>
                  <a:pt x="2901" y="2925"/>
                </a:lnTo>
                <a:lnTo>
                  <a:pt x="2900" y="2901"/>
                </a:lnTo>
                <a:lnTo>
                  <a:pt x="2856" y="2912"/>
                </a:lnTo>
                <a:lnTo>
                  <a:pt x="2811" y="2898"/>
                </a:lnTo>
                <a:lnTo>
                  <a:pt x="2794" y="2831"/>
                </a:lnTo>
                <a:lnTo>
                  <a:pt x="2795" y="2808"/>
                </a:lnTo>
                <a:lnTo>
                  <a:pt x="2817" y="2810"/>
                </a:lnTo>
                <a:lnTo>
                  <a:pt x="2819" y="2735"/>
                </a:lnTo>
                <a:lnTo>
                  <a:pt x="2798" y="2700"/>
                </a:lnTo>
                <a:lnTo>
                  <a:pt x="2754" y="2715"/>
                </a:lnTo>
                <a:lnTo>
                  <a:pt x="2691" y="2610"/>
                </a:lnTo>
                <a:lnTo>
                  <a:pt x="2645" y="2591"/>
                </a:lnTo>
                <a:lnTo>
                  <a:pt x="2627" y="2554"/>
                </a:lnTo>
                <a:lnTo>
                  <a:pt x="2585" y="2538"/>
                </a:lnTo>
                <a:lnTo>
                  <a:pt x="2523" y="2574"/>
                </a:lnTo>
                <a:lnTo>
                  <a:pt x="2428" y="2572"/>
                </a:lnTo>
                <a:lnTo>
                  <a:pt x="2349" y="2568"/>
                </a:lnTo>
                <a:lnTo>
                  <a:pt x="2322" y="2580"/>
                </a:lnTo>
                <a:lnTo>
                  <a:pt x="2274" y="2583"/>
                </a:lnTo>
                <a:lnTo>
                  <a:pt x="2238" y="2597"/>
                </a:lnTo>
                <a:lnTo>
                  <a:pt x="2196" y="2592"/>
                </a:lnTo>
                <a:lnTo>
                  <a:pt x="2166" y="2612"/>
                </a:lnTo>
                <a:lnTo>
                  <a:pt x="2039" y="2477"/>
                </a:lnTo>
                <a:lnTo>
                  <a:pt x="1892" y="2364"/>
                </a:lnTo>
                <a:lnTo>
                  <a:pt x="1862" y="2334"/>
                </a:lnTo>
                <a:lnTo>
                  <a:pt x="1824" y="2310"/>
                </a:lnTo>
                <a:lnTo>
                  <a:pt x="1757" y="2273"/>
                </a:lnTo>
                <a:lnTo>
                  <a:pt x="1694" y="2228"/>
                </a:lnTo>
                <a:lnTo>
                  <a:pt x="1646" y="2210"/>
                </a:lnTo>
                <a:lnTo>
                  <a:pt x="1598" y="2222"/>
                </a:lnTo>
                <a:lnTo>
                  <a:pt x="1557" y="2228"/>
                </a:lnTo>
                <a:lnTo>
                  <a:pt x="1512" y="2237"/>
                </a:lnTo>
                <a:lnTo>
                  <a:pt x="1477" y="2251"/>
                </a:lnTo>
                <a:lnTo>
                  <a:pt x="1394" y="2285"/>
                </a:lnTo>
                <a:lnTo>
                  <a:pt x="1269" y="2330"/>
                </a:lnTo>
                <a:lnTo>
                  <a:pt x="1278" y="2702"/>
                </a:lnTo>
                <a:lnTo>
                  <a:pt x="1273" y="3071"/>
                </a:lnTo>
                <a:lnTo>
                  <a:pt x="1227" y="3105"/>
                </a:lnTo>
                <a:lnTo>
                  <a:pt x="1202" y="3107"/>
                </a:lnTo>
                <a:lnTo>
                  <a:pt x="1179" y="3104"/>
                </a:lnTo>
                <a:lnTo>
                  <a:pt x="1145" y="3065"/>
                </a:lnTo>
                <a:lnTo>
                  <a:pt x="1130" y="2999"/>
                </a:lnTo>
                <a:lnTo>
                  <a:pt x="1097" y="2961"/>
                </a:lnTo>
                <a:lnTo>
                  <a:pt x="1058" y="2919"/>
                </a:lnTo>
                <a:lnTo>
                  <a:pt x="1028" y="2891"/>
                </a:lnTo>
                <a:lnTo>
                  <a:pt x="974" y="2876"/>
                </a:lnTo>
                <a:lnTo>
                  <a:pt x="929" y="2868"/>
                </a:lnTo>
                <a:lnTo>
                  <a:pt x="888" y="2877"/>
                </a:lnTo>
                <a:lnTo>
                  <a:pt x="843" y="2883"/>
                </a:lnTo>
                <a:lnTo>
                  <a:pt x="806" y="2912"/>
                </a:lnTo>
                <a:lnTo>
                  <a:pt x="776" y="2928"/>
                </a:lnTo>
                <a:lnTo>
                  <a:pt x="752" y="2961"/>
                </a:lnTo>
                <a:lnTo>
                  <a:pt x="710" y="2972"/>
                </a:lnTo>
                <a:lnTo>
                  <a:pt x="572" y="2916"/>
                </a:lnTo>
                <a:lnTo>
                  <a:pt x="278" y="2704"/>
                </a:lnTo>
                <a:lnTo>
                  <a:pt x="300" y="2483"/>
                </a:lnTo>
                <a:lnTo>
                  <a:pt x="337" y="2068"/>
                </a:lnTo>
                <a:lnTo>
                  <a:pt x="320" y="2023"/>
                </a:lnTo>
                <a:lnTo>
                  <a:pt x="330" y="2006"/>
                </a:lnTo>
                <a:lnTo>
                  <a:pt x="311" y="1986"/>
                </a:lnTo>
                <a:lnTo>
                  <a:pt x="304" y="1963"/>
                </a:lnTo>
                <a:lnTo>
                  <a:pt x="304" y="1963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30"/>
          <p:cNvSpPr/>
          <p:nvPr/>
        </p:nvSpPr>
        <p:spPr>
          <a:xfrm>
            <a:off x="5126040" y="5307120"/>
            <a:ext cx="160200" cy="139680"/>
          </a:xfrm>
          <a:custGeom>
            <a:avLst/>
            <a:gdLst>
              <a:gd name="textAreaLeft" fmla="*/ 36360 w 160200"/>
              <a:gd name="textAreaRight" fmla="*/ 123840 w 1602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31"/>
          <p:cNvSpPr/>
          <p:nvPr/>
        </p:nvSpPr>
        <p:spPr>
          <a:xfrm>
            <a:off x="5286240" y="5446800"/>
            <a:ext cx="158760" cy="139680"/>
          </a:xfrm>
          <a:custGeom>
            <a:avLst/>
            <a:gdLst>
              <a:gd name="textAreaLeft" fmla="*/ 36000 w 158760"/>
              <a:gd name="textAreaRight" fmla="*/ 122760 w 1587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32"/>
          <p:cNvSpPr/>
          <p:nvPr/>
        </p:nvSpPr>
        <p:spPr>
          <a:xfrm flipH="1">
            <a:off x="6567120" y="4748040"/>
            <a:ext cx="79560" cy="2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33"/>
          <p:cNvSpPr/>
          <p:nvPr/>
        </p:nvSpPr>
        <p:spPr>
          <a:xfrm flipH="1">
            <a:off x="6487920" y="4748040"/>
            <a:ext cx="158760" cy="2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34"/>
          <p:cNvSpPr/>
          <p:nvPr/>
        </p:nvSpPr>
        <p:spPr>
          <a:xfrm flipH="1">
            <a:off x="6405120" y="4748040"/>
            <a:ext cx="241560" cy="14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Freeform 235"/>
          <p:cNvSpPr/>
          <p:nvPr/>
        </p:nvSpPr>
        <p:spPr>
          <a:xfrm>
            <a:off x="7246800" y="4398840"/>
            <a:ext cx="281160" cy="389160"/>
          </a:xfrm>
          <a:custGeom>
            <a:avLst/>
            <a:gdLst>
              <a:gd name="textAreaLeft" fmla="*/ 0 w 281160"/>
              <a:gd name="textAreaRight" fmla="*/ 281520 w 28116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168" h="267">
                <a:moveTo>
                  <a:pt x="168" y="0"/>
                </a:moveTo>
                <a:lnTo>
                  <a:pt x="0" y="267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36"/>
          <p:cNvSpPr/>
          <p:nvPr/>
        </p:nvSpPr>
        <p:spPr>
          <a:xfrm flipH="1">
            <a:off x="7448040" y="4398840"/>
            <a:ext cx="7956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37"/>
          <p:cNvSpPr/>
          <p:nvPr/>
        </p:nvSpPr>
        <p:spPr>
          <a:xfrm flipV="1">
            <a:off x="6805440" y="4190760"/>
            <a:ext cx="320760" cy="48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38"/>
          <p:cNvSpPr/>
          <p:nvPr/>
        </p:nvSpPr>
        <p:spPr>
          <a:xfrm>
            <a:off x="6567480" y="4398840"/>
            <a:ext cx="237960" cy="27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9"/>
          <p:cNvSpPr/>
          <p:nvPr/>
        </p:nvSpPr>
        <p:spPr>
          <a:xfrm>
            <a:off x="6567480" y="4398840"/>
            <a:ext cx="7956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240"/>
          <p:cNvSpPr/>
          <p:nvPr/>
        </p:nvSpPr>
        <p:spPr>
          <a:xfrm>
            <a:off x="6726240" y="4608360"/>
            <a:ext cx="158760" cy="13968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241"/>
          <p:cNvSpPr/>
          <p:nvPr/>
        </p:nvSpPr>
        <p:spPr>
          <a:xfrm>
            <a:off x="7448400" y="4329000"/>
            <a:ext cx="158760" cy="1396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42"/>
          <p:cNvSpPr/>
          <p:nvPr/>
        </p:nvSpPr>
        <p:spPr>
          <a:xfrm>
            <a:off x="7126200" y="3386160"/>
            <a:ext cx="152640" cy="804960"/>
          </a:xfrm>
          <a:custGeom>
            <a:avLst/>
            <a:gdLst>
              <a:gd name="textAreaLeft" fmla="*/ 0 w 152640"/>
              <a:gd name="textAreaRight" fmla="*/ 153000 w 15264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138" h="601">
                <a:moveTo>
                  <a:pt x="138" y="0"/>
                </a:moveTo>
                <a:lnTo>
                  <a:pt x="0" y="60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43"/>
          <p:cNvSpPr/>
          <p:nvPr/>
        </p:nvSpPr>
        <p:spPr>
          <a:xfrm>
            <a:off x="7047000" y="4121280"/>
            <a:ext cx="160200" cy="139680"/>
          </a:xfrm>
          <a:custGeom>
            <a:avLst/>
            <a:gdLst>
              <a:gd name="textAreaLeft" fmla="*/ 36360 w 160200"/>
              <a:gd name="textAreaRight" fmla="*/ 123840 w 1602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44"/>
          <p:cNvSpPr/>
          <p:nvPr/>
        </p:nvSpPr>
        <p:spPr>
          <a:xfrm>
            <a:off x="7278840" y="2166840"/>
            <a:ext cx="249120" cy="1220760"/>
          </a:xfrm>
          <a:custGeom>
            <a:avLst/>
            <a:gdLst>
              <a:gd name="textAreaLeft" fmla="*/ 0 w 249120"/>
              <a:gd name="textAreaRight" fmla="*/ 249480 w 24912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150" h="840">
                <a:moveTo>
                  <a:pt x="0" y="840"/>
                </a:moveTo>
                <a:lnTo>
                  <a:pt x="15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245"/>
          <p:cNvSpPr/>
          <p:nvPr/>
        </p:nvSpPr>
        <p:spPr>
          <a:xfrm>
            <a:off x="7448400" y="2097000"/>
            <a:ext cx="158760" cy="139680"/>
          </a:xfrm>
          <a:custGeom>
            <a:avLst/>
            <a:gdLst>
              <a:gd name="textAreaLeft" fmla="*/ 36000 w 158760"/>
              <a:gd name="textAreaRight" fmla="*/ 122760 w 1587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246"/>
          <p:cNvSpPr/>
          <p:nvPr/>
        </p:nvSpPr>
        <p:spPr>
          <a:xfrm>
            <a:off x="6967440" y="4400640"/>
            <a:ext cx="239760" cy="28440"/>
          </a:xfrm>
          <a:custGeom>
            <a:avLst/>
            <a:gdLst>
              <a:gd name="textAreaLeft" fmla="*/ 0 w 239760"/>
              <a:gd name="textAreaRight" fmla="*/ 240120 w 2397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44" h="19">
                <a:moveTo>
                  <a:pt x="0" y="19"/>
                </a:move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47"/>
          <p:cNvSpPr/>
          <p:nvPr/>
        </p:nvSpPr>
        <p:spPr>
          <a:xfrm flipV="1">
            <a:off x="7278840" y="4260960"/>
            <a:ext cx="40932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248"/>
          <p:cNvSpPr/>
          <p:nvPr/>
        </p:nvSpPr>
        <p:spPr>
          <a:xfrm>
            <a:off x="7126200" y="4329000"/>
            <a:ext cx="160560" cy="139680"/>
          </a:xfrm>
          <a:custGeom>
            <a:avLst/>
            <a:gdLst>
              <a:gd name="textAreaLeft" fmla="*/ 36720 w 160560"/>
              <a:gd name="textAreaRight" fmla="*/ 123840 w 1605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249"/>
          <p:cNvSpPr/>
          <p:nvPr/>
        </p:nvSpPr>
        <p:spPr>
          <a:xfrm>
            <a:off x="7607160" y="4191120"/>
            <a:ext cx="160560" cy="137880"/>
          </a:xfrm>
          <a:custGeom>
            <a:avLst/>
            <a:gdLst>
              <a:gd name="textAreaLeft" fmla="*/ 36720 w 160560"/>
              <a:gd name="textAreaRight" fmla="*/ 123840 w 160560"/>
              <a:gd name="textAreaTop" fmla="*/ 31320 h 137880"/>
              <a:gd name="textAreaBottom" fmla="*/ 106560 h 13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250"/>
          <p:cNvSpPr/>
          <p:nvPr/>
        </p:nvSpPr>
        <p:spPr>
          <a:xfrm flipV="1">
            <a:off x="1039680" y="3492360"/>
            <a:ext cx="963720" cy="11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251"/>
          <p:cNvSpPr/>
          <p:nvPr/>
        </p:nvSpPr>
        <p:spPr>
          <a:xfrm flipV="1">
            <a:off x="2003400" y="3282840"/>
            <a:ext cx="158760" cy="20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252"/>
          <p:cNvSpPr/>
          <p:nvPr/>
        </p:nvSpPr>
        <p:spPr>
          <a:xfrm flipV="1">
            <a:off x="1843200" y="3492360"/>
            <a:ext cx="160200" cy="9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253"/>
          <p:cNvSpPr/>
          <p:nvPr/>
        </p:nvSpPr>
        <p:spPr>
          <a:xfrm flipV="1">
            <a:off x="3603600" y="1260360"/>
            <a:ext cx="158760" cy="62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254"/>
          <p:cNvSpPr/>
          <p:nvPr/>
        </p:nvSpPr>
        <p:spPr>
          <a:xfrm>
            <a:off x="3522600" y="1817640"/>
            <a:ext cx="160560" cy="139680"/>
          </a:xfrm>
          <a:custGeom>
            <a:avLst/>
            <a:gdLst>
              <a:gd name="textAreaLeft" fmla="*/ 36720 w 160560"/>
              <a:gd name="textAreaRight" fmla="*/ 123840 w 1605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255"/>
          <p:cNvSpPr/>
          <p:nvPr/>
        </p:nvSpPr>
        <p:spPr>
          <a:xfrm>
            <a:off x="5110200" y="4853160"/>
            <a:ext cx="95040" cy="314280"/>
          </a:xfrm>
          <a:custGeom>
            <a:avLst/>
            <a:gdLst>
              <a:gd name="textAreaLeft" fmla="*/ 0 w 95040"/>
              <a:gd name="textAreaRight" fmla="*/ 95400 w 950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7" h="216">
                <a:moveTo>
                  <a:pt x="57" y="21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256"/>
          <p:cNvSpPr/>
          <p:nvPr/>
        </p:nvSpPr>
        <p:spPr>
          <a:xfrm>
            <a:off x="5126040" y="5097600"/>
            <a:ext cx="160200" cy="139680"/>
          </a:xfrm>
          <a:custGeom>
            <a:avLst/>
            <a:gdLst>
              <a:gd name="textAreaLeft" fmla="*/ 36360 w 160200"/>
              <a:gd name="textAreaRight" fmla="*/ 123840 w 1602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257"/>
          <p:cNvSpPr/>
          <p:nvPr/>
        </p:nvSpPr>
        <p:spPr>
          <a:xfrm>
            <a:off x="5365800" y="5027760"/>
            <a:ext cx="239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58"/>
          <p:cNvSpPr/>
          <p:nvPr/>
        </p:nvSpPr>
        <p:spPr>
          <a:xfrm>
            <a:off x="5286240" y="4957920"/>
            <a:ext cx="158760" cy="139680"/>
          </a:xfrm>
          <a:custGeom>
            <a:avLst/>
            <a:gdLst>
              <a:gd name="textAreaLeft" fmla="*/ 36000 w 158760"/>
              <a:gd name="textAreaRight" fmla="*/ 122760 w 1587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259"/>
          <p:cNvSpPr/>
          <p:nvPr/>
        </p:nvSpPr>
        <p:spPr>
          <a:xfrm>
            <a:off x="5524560" y="4957920"/>
            <a:ext cx="160200" cy="139680"/>
          </a:xfrm>
          <a:custGeom>
            <a:avLst/>
            <a:gdLst>
              <a:gd name="textAreaLeft" fmla="*/ 36360 w 160200"/>
              <a:gd name="textAreaRight" fmla="*/ 123840 w 1602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260"/>
          <p:cNvSpPr/>
          <p:nvPr/>
        </p:nvSpPr>
        <p:spPr>
          <a:xfrm>
            <a:off x="6647040" y="1677960"/>
            <a:ext cx="79200" cy="174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261"/>
          <p:cNvSpPr/>
          <p:nvPr/>
        </p:nvSpPr>
        <p:spPr>
          <a:xfrm>
            <a:off x="6567480" y="1608120"/>
            <a:ext cx="158760" cy="139680"/>
          </a:xfrm>
          <a:custGeom>
            <a:avLst/>
            <a:gdLst>
              <a:gd name="textAreaLeft" fmla="*/ 36000 w 158760"/>
              <a:gd name="textAreaRight" fmla="*/ 122760 w 1587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reeform 262"/>
          <p:cNvSpPr/>
          <p:nvPr/>
        </p:nvSpPr>
        <p:spPr>
          <a:xfrm>
            <a:off x="4964040" y="3313080"/>
            <a:ext cx="884160" cy="39600"/>
          </a:xfrm>
          <a:custGeom>
            <a:avLst/>
            <a:gdLst>
              <a:gd name="textAreaLeft" fmla="*/ 0 w 884160"/>
              <a:gd name="textAreaRight" fmla="*/ 884520 w 884160"/>
              <a:gd name="textAreaTop" fmla="*/ 0 h 39600"/>
              <a:gd name="textAreaBottom" fmla="*/ 39600 h 39600"/>
            </a:gdLst>
            <a:ahLst/>
            <a:rect l="textAreaLeft" t="textAreaTop" r="textAreaRight" b="textAreaBottom"/>
            <a:pathLst>
              <a:path w="530" h="27">
                <a:moveTo>
                  <a:pt x="0" y="27"/>
                </a:moveTo>
                <a:lnTo>
                  <a:pt x="53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263"/>
          <p:cNvSpPr/>
          <p:nvPr/>
        </p:nvSpPr>
        <p:spPr>
          <a:xfrm flipH="1">
            <a:off x="6567120" y="3422520"/>
            <a:ext cx="158760" cy="9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264"/>
          <p:cNvSpPr/>
          <p:nvPr/>
        </p:nvSpPr>
        <p:spPr>
          <a:xfrm>
            <a:off x="6488280" y="4329000"/>
            <a:ext cx="158760" cy="139680"/>
          </a:xfrm>
          <a:custGeom>
            <a:avLst/>
            <a:gdLst>
              <a:gd name="textAreaLeft" fmla="*/ 36000 w 158760"/>
              <a:gd name="textAreaRight" fmla="*/ 122760 w 15876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265"/>
          <p:cNvSpPr/>
          <p:nvPr/>
        </p:nvSpPr>
        <p:spPr>
          <a:xfrm>
            <a:off x="6647040" y="3352680"/>
            <a:ext cx="158400" cy="1396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266"/>
          <p:cNvSpPr/>
          <p:nvPr/>
        </p:nvSpPr>
        <p:spPr>
          <a:xfrm>
            <a:off x="6567480" y="4678200"/>
            <a:ext cx="158760" cy="140040"/>
          </a:xfrm>
          <a:custGeom>
            <a:avLst/>
            <a:gdLst>
              <a:gd name="textAreaLeft" fmla="*/ 36000 w 158760"/>
              <a:gd name="textAreaRight" fmla="*/ 122760 w 158760"/>
              <a:gd name="textAreaTop" fmla="*/ 32040 h 140040"/>
              <a:gd name="textAreaBottom" fmla="*/ 108000 h 14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267"/>
          <p:cNvSpPr/>
          <p:nvPr/>
        </p:nvSpPr>
        <p:spPr>
          <a:xfrm>
            <a:off x="6567480" y="3517920"/>
            <a:ext cx="457200" cy="743040"/>
          </a:xfrm>
          <a:custGeom>
            <a:avLst/>
            <a:gdLst>
              <a:gd name="textAreaLeft" fmla="*/ 0 w 457200"/>
              <a:gd name="textAreaRight" fmla="*/ 457560 w 45720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275" h="511">
                <a:moveTo>
                  <a:pt x="0" y="511"/>
                </a:moveTo>
                <a:lnTo>
                  <a:pt x="275" y="0"/>
                </a:lnTo>
              </a:path>
            </a:pathLst>
          </a:custGeom>
          <a:noFill/>
          <a:ln cap="rnd" w="6480">
            <a:solidFill>
              <a:srgbClr val="0099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reeform 268"/>
          <p:cNvSpPr/>
          <p:nvPr/>
        </p:nvSpPr>
        <p:spPr>
          <a:xfrm>
            <a:off x="7021440" y="3378240"/>
            <a:ext cx="244440" cy="144360"/>
          </a:xfrm>
          <a:custGeom>
            <a:avLst/>
            <a:gdLst>
              <a:gd name="textAreaLeft" fmla="*/ 0 w 244440"/>
              <a:gd name="textAreaRight" fmla="*/ 244800 w 244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147" h="100">
                <a:moveTo>
                  <a:pt x="0" y="100"/>
                </a:moveTo>
                <a:lnTo>
                  <a:pt x="147" y="0"/>
                </a:lnTo>
              </a:path>
            </a:pathLst>
          </a:custGeom>
          <a:noFill/>
          <a:ln cap="rnd" w="6480">
            <a:solidFill>
              <a:srgbClr val="0099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Freeform 269"/>
          <p:cNvSpPr/>
          <p:nvPr/>
        </p:nvSpPr>
        <p:spPr>
          <a:xfrm>
            <a:off x="6006960" y="2522520"/>
            <a:ext cx="687600" cy="203040"/>
          </a:xfrm>
          <a:custGeom>
            <a:avLst/>
            <a:gdLst>
              <a:gd name="textAreaLeft" fmla="*/ 0 w 687600"/>
              <a:gd name="textAreaRight" fmla="*/ 687960 w 6876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13" h="139">
                <a:moveTo>
                  <a:pt x="0" y="139"/>
                </a:moveTo>
                <a:lnTo>
                  <a:pt x="413" y="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70"/>
          <p:cNvSpPr/>
          <p:nvPr/>
        </p:nvSpPr>
        <p:spPr>
          <a:xfrm>
            <a:off x="7461360" y="4468680"/>
            <a:ext cx="88740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ma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reeform 271"/>
          <p:cNvSpPr/>
          <p:nvPr/>
        </p:nvSpPr>
        <p:spPr>
          <a:xfrm>
            <a:off x="2763720" y="3352680"/>
            <a:ext cx="2200320" cy="73512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735120"/>
              <a:gd name="textAreaBottom" fmla="*/ 735120 h 735120"/>
            </a:gdLst>
            <a:ahLst/>
            <a:rect l="textAreaLeft" t="textAreaTop" r="textAreaRight" b="textAreaBottom"/>
            <a:pathLst>
              <a:path w="1320" h="506">
                <a:moveTo>
                  <a:pt x="0" y="506"/>
                </a:moveTo>
                <a:lnTo>
                  <a:pt x="132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272"/>
          <p:cNvSpPr/>
          <p:nvPr/>
        </p:nvSpPr>
        <p:spPr>
          <a:xfrm>
            <a:off x="1201680" y="3772080"/>
            <a:ext cx="1565280" cy="31716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938" h="219">
                <a:moveTo>
                  <a:pt x="0" y="0"/>
                </a:moveTo>
                <a:lnTo>
                  <a:pt x="938" y="219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274"/>
          <p:cNvSpPr/>
          <p:nvPr/>
        </p:nvSpPr>
        <p:spPr>
          <a:xfrm>
            <a:off x="4884840" y="3282840"/>
            <a:ext cx="160200" cy="139680"/>
          </a:xfrm>
          <a:custGeom>
            <a:avLst/>
            <a:gdLst>
              <a:gd name="textAreaLeft" fmla="*/ 36360 w 160200"/>
              <a:gd name="textAreaRight" fmla="*/ 123840 w 1602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275"/>
          <p:cNvSpPr/>
          <p:nvPr/>
        </p:nvSpPr>
        <p:spPr>
          <a:xfrm>
            <a:off x="1122480" y="3701880"/>
            <a:ext cx="158760" cy="14004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76"/>
          <p:cNvSpPr/>
          <p:nvPr/>
        </p:nvSpPr>
        <p:spPr>
          <a:xfrm>
            <a:off x="960480" y="4608360"/>
            <a:ext cx="162000" cy="1396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77"/>
          <p:cNvSpPr/>
          <p:nvPr/>
        </p:nvSpPr>
        <p:spPr>
          <a:xfrm>
            <a:off x="3522600" y="4191120"/>
            <a:ext cx="160560" cy="1378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278"/>
          <p:cNvSpPr/>
          <p:nvPr/>
        </p:nvSpPr>
        <p:spPr>
          <a:xfrm>
            <a:off x="5924520" y="2655720"/>
            <a:ext cx="162000" cy="140040"/>
          </a:xfrm>
          <a:prstGeom prst="sun">
            <a:avLst>
              <a:gd name="adj" fmla="val 25000"/>
            </a:avLst>
          </a:prstGeom>
          <a:solidFill>
            <a:srgbClr val="00ffff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reeform 279"/>
          <p:cNvSpPr/>
          <p:nvPr/>
        </p:nvSpPr>
        <p:spPr>
          <a:xfrm>
            <a:off x="2227320" y="2651040"/>
            <a:ext cx="174600" cy="214560"/>
          </a:xfrm>
          <a:custGeom>
            <a:avLst/>
            <a:gdLst>
              <a:gd name="textAreaLeft" fmla="*/ 0 w 174600"/>
              <a:gd name="textAreaRight" fmla="*/ 174960 w 1746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14" h="147">
                <a:moveTo>
                  <a:pt x="0" y="0"/>
                </a:moveTo>
                <a:lnTo>
                  <a:pt x="114" y="147"/>
                </a:lnTo>
              </a:path>
            </a:pathLst>
          </a:custGeom>
          <a:noFill/>
          <a:ln cap="rnd" w="6480">
            <a:solidFill>
              <a:srgbClr val="0099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reeform 280"/>
          <p:cNvSpPr/>
          <p:nvPr/>
        </p:nvSpPr>
        <p:spPr>
          <a:xfrm>
            <a:off x="2401920" y="2865600"/>
            <a:ext cx="911160" cy="561960"/>
          </a:xfrm>
          <a:custGeom>
            <a:avLst/>
            <a:gdLst>
              <a:gd name="textAreaLeft" fmla="*/ 0 w 911160"/>
              <a:gd name="textAreaRight" fmla="*/ 911520 w 91116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91" h="386">
                <a:moveTo>
                  <a:pt x="0" y="0"/>
                </a:moveTo>
                <a:lnTo>
                  <a:pt x="591" y="386"/>
                </a:lnTo>
              </a:path>
            </a:pathLst>
          </a:custGeom>
          <a:solidFill>
            <a:srgbClr val="ff99cc"/>
          </a:solidFill>
          <a:ln cap="rnd" w="6480">
            <a:solidFill>
              <a:srgbClr val="0099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81"/>
          <p:cNvSpPr/>
          <p:nvPr/>
        </p:nvSpPr>
        <p:spPr>
          <a:xfrm>
            <a:off x="4354560" y="1197000"/>
            <a:ext cx="1730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tropav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82"/>
          <p:cNvSpPr/>
          <p:nvPr/>
        </p:nvSpPr>
        <p:spPr>
          <a:xfrm>
            <a:off x="2033640" y="2968560"/>
            <a:ext cx="13618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kto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83"/>
          <p:cNvSpPr/>
          <p:nvPr/>
        </p:nvSpPr>
        <p:spPr>
          <a:xfrm>
            <a:off x="912960" y="4398840"/>
            <a:ext cx="6397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kt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84"/>
          <p:cNvSpPr/>
          <p:nvPr/>
        </p:nvSpPr>
        <p:spPr>
          <a:xfrm>
            <a:off x="3956040" y="4095720"/>
            <a:ext cx="13604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yzylor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85"/>
          <p:cNvSpPr/>
          <p:nvPr/>
        </p:nvSpPr>
        <p:spPr>
          <a:xfrm>
            <a:off x="6805440" y="4748040"/>
            <a:ext cx="75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shk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297"/>
          <p:cNvSpPr/>
          <p:nvPr/>
        </p:nvSpPr>
        <p:spPr>
          <a:xfrm>
            <a:off x="1431000" y="9036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ructure of air space of Republic of Kazakhstan</a:t>
            </a:r>
            <a:r>
              <a:rPr b="1" lang="ru-RU" sz="2000" spc="-1" strike="noStrike">
                <a:solidFill>
                  <a:srgbClr val="2b5481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98"/>
          <p:cNvSpPr/>
          <p:nvPr/>
        </p:nvSpPr>
        <p:spPr>
          <a:xfrm>
            <a:off x="4529160" y="1700280"/>
            <a:ext cx="1122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oksheta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99"/>
          <p:cNvSpPr/>
          <p:nvPr/>
        </p:nvSpPr>
        <p:spPr>
          <a:xfrm>
            <a:off x="3276720" y="12682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00"/>
          <p:cNvSpPr/>
          <p:nvPr/>
        </p:nvSpPr>
        <p:spPr>
          <a:xfrm>
            <a:off x="2627280" y="17002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T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01"/>
          <p:cNvSpPr/>
          <p:nvPr/>
        </p:nvSpPr>
        <p:spPr>
          <a:xfrm>
            <a:off x="539640" y="2071800"/>
            <a:ext cx="609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RI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02"/>
          <p:cNvSpPr/>
          <p:nvPr/>
        </p:nvSpPr>
        <p:spPr>
          <a:xfrm>
            <a:off x="-152280" y="380988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03"/>
          <p:cNvSpPr/>
          <p:nvPr/>
        </p:nvSpPr>
        <p:spPr>
          <a:xfrm>
            <a:off x="-163440" y="436572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ZAB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304"/>
          <p:cNvSpPr/>
          <p:nvPr/>
        </p:nvSpPr>
        <p:spPr>
          <a:xfrm>
            <a:off x="108000" y="5157720"/>
            <a:ext cx="92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B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305"/>
          <p:cNvSpPr/>
          <p:nvPr/>
        </p:nvSpPr>
        <p:spPr>
          <a:xfrm>
            <a:off x="1116000" y="54450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R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306"/>
          <p:cNvSpPr/>
          <p:nvPr/>
        </p:nvSpPr>
        <p:spPr>
          <a:xfrm>
            <a:off x="2124000" y="501336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07"/>
          <p:cNvSpPr/>
          <p:nvPr/>
        </p:nvSpPr>
        <p:spPr>
          <a:xfrm>
            <a:off x="3949560" y="4971960"/>
            <a:ext cx="1198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I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308"/>
          <p:cNvSpPr/>
          <p:nvPr/>
        </p:nvSpPr>
        <p:spPr>
          <a:xfrm>
            <a:off x="8447040" y="3048120"/>
            <a:ext cx="588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R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309"/>
          <p:cNvSpPr/>
          <p:nvPr/>
        </p:nvSpPr>
        <p:spPr>
          <a:xfrm>
            <a:off x="8218440" y="4365720"/>
            <a:ext cx="773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L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10"/>
          <p:cNvSpPr/>
          <p:nvPr/>
        </p:nvSpPr>
        <p:spPr>
          <a:xfrm>
            <a:off x="5435640" y="5373720"/>
            <a:ext cx="119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D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11"/>
          <p:cNvSpPr/>
          <p:nvPr/>
        </p:nvSpPr>
        <p:spPr>
          <a:xfrm>
            <a:off x="4140360" y="1096920"/>
            <a:ext cx="57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B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12"/>
          <p:cNvSpPr/>
          <p:nvPr/>
        </p:nvSpPr>
        <p:spPr>
          <a:xfrm>
            <a:off x="5796000" y="119700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K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13"/>
          <p:cNvSpPr/>
          <p:nvPr/>
        </p:nvSpPr>
        <p:spPr>
          <a:xfrm>
            <a:off x="3059280" y="4624560"/>
            <a:ext cx="57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A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14"/>
          <p:cNvSpPr/>
          <p:nvPr/>
        </p:nvSpPr>
        <p:spPr>
          <a:xfrm>
            <a:off x="6156360" y="1773360"/>
            <a:ext cx="16542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vlod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315"/>
          <p:cNvSpPr/>
          <p:nvPr/>
        </p:nvSpPr>
        <p:spPr>
          <a:xfrm>
            <a:off x="4788000" y="5516640"/>
            <a:ext cx="57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L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16"/>
          <p:cNvSpPr/>
          <p:nvPr/>
        </p:nvSpPr>
        <p:spPr>
          <a:xfrm>
            <a:off x="8172360" y="1557360"/>
            <a:ext cx="588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K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Freeform 317"/>
          <p:cNvSpPr/>
          <p:nvPr/>
        </p:nvSpPr>
        <p:spPr>
          <a:xfrm>
            <a:off x="3592440" y="1874880"/>
            <a:ext cx="9720" cy="2389320"/>
          </a:xfrm>
          <a:custGeom>
            <a:avLst/>
            <a:gdLst>
              <a:gd name="textAreaLeft" fmla="*/ 0 w 9720"/>
              <a:gd name="textAreaRight" fmla="*/ 10080 w 9720"/>
              <a:gd name="textAreaTop" fmla="*/ 0 h 2389320"/>
              <a:gd name="textAreaBottom" fmla="*/ 2389680 h 2389320"/>
            </a:gdLst>
            <a:ahLst/>
            <a:rect l="textAreaLeft" t="textAreaTop" r="textAreaRight" b="textAreaBottom"/>
            <a:pathLst>
              <a:path w="6" h="1505">
                <a:moveTo>
                  <a:pt x="6" y="0"/>
                </a:moveTo>
                <a:lnTo>
                  <a:pt x="0" y="150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318"/>
          <p:cNvSpPr/>
          <p:nvPr/>
        </p:nvSpPr>
        <p:spPr>
          <a:xfrm>
            <a:off x="3592440" y="1197000"/>
            <a:ext cx="908280" cy="3076560"/>
          </a:xfrm>
          <a:custGeom>
            <a:avLst/>
            <a:gdLst>
              <a:gd name="textAreaLeft" fmla="*/ 0 w 908280"/>
              <a:gd name="textAreaRight" fmla="*/ 908640 w 908280"/>
              <a:gd name="textAreaTop" fmla="*/ 0 h 3076560"/>
              <a:gd name="textAreaBottom" fmla="*/ 3076920 h 3076560"/>
            </a:gdLst>
            <a:ahLst/>
            <a:rect l="textAreaLeft" t="textAreaTop" r="textAreaRight" b="textAreaBottom"/>
            <a:pathLst>
              <a:path w="572" h="1938">
                <a:moveTo>
                  <a:pt x="572" y="0"/>
                </a:moveTo>
                <a:lnTo>
                  <a:pt x="0" y="1938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319"/>
          <p:cNvSpPr/>
          <p:nvPr/>
        </p:nvSpPr>
        <p:spPr>
          <a:xfrm>
            <a:off x="2843280" y="2408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RUS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321"/>
          <p:cNvSpPr/>
          <p:nvPr/>
        </p:nvSpPr>
        <p:spPr>
          <a:xfrm>
            <a:off x="3087720" y="2658960"/>
            <a:ext cx="514440" cy="1614600"/>
          </a:xfrm>
          <a:custGeom>
            <a:avLst/>
            <a:gdLst>
              <a:gd name="textAreaLeft" fmla="*/ 0 w 514440"/>
              <a:gd name="textAreaRight" fmla="*/ 514440 w 51444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324" h="1017">
                <a:moveTo>
                  <a:pt x="0" y="0"/>
                </a:moveTo>
                <a:lnTo>
                  <a:pt x="324" y="1017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322"/>
          <p:cNvSpPr/>
          <p:nvPr/>
        </p:nvSpPr>
        <p:spPr>
          <a:xfrm flipV="1">
            <a:off x="4932360" y="1628280"/>
            <a:ext cx="1727280" cy="172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Freeform 323"/>
          <p:cNvSpPr/>
          <p:nvPr/>
        </p:nvSpPr>
        <p:spPr>
          <a:xfrm>
            <a:off x="7763040" y="3778200"/>
            <a:ext cx="466560" cy="588960"/>
          </a:xfrm>
          <a:custGeom>
            <a:avLst/>
            <a:gdLst>
              <a:gd name="textAreaLeft" fmla="*/ 0 w 466560"/>
              <a:gd name="textAreaRight" fmla="*/ 466920 w 46656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294" h="371">
                <a:moveTo>
                  <a:pt x="0" y="0"/>
                </a:moveTo>
                <a:lnTo>
                  <a:pt x="294" y="37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reeform 324"/>
          <p:cNvSpPr/>
          <p:nvPr/>
        </p:nvSpPr>
        <p:spPr>
          <a:xfrm>
            <a:off x="1203480" y="2873520"/>
            <a:ext cx="1195200" cy="904680"/>
          </a:xfrm>
          <a:custGeom>
            <a:avLst/>
            <a:gdLst>
              <a:gd name="textAreaLeft" fmla="*/ 0 w 1195200"/>
              <a:gd name="textAreaRight" fmla="*/ 1195200 w 11952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753" h="570">
                <a:moveTo>
                  <a:pt x="753" y="0"/>
                </a:moveTo>
                <a:lnTo>
                  <a:pt x="0" y="57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reeform 325"/>
          <p:cNvSpPr/>
          <p:nvPr/>
        </p:nvSpPr>
        <p:spPr>
          <a:xfrm>
            <a:off x="1027080" y="2389320"/>
            <a:ext cx="4664160" cy="2276280"/>
          </a:xfrm>
          <a:custGeom>
            <a:avLst/>
            <a:gdLst>
              <a:gd name="textAreaLeft" fmla="*/ 0 w 4664160"/>
              <a:gd name="textAreaRight" fmla="*/ 4664520 w 4664160"/>
              <a:gd name="textAreaTop" fmla="*/ 0 h 2276280"/>
              <a:gd name="textAreaBottom" fmla="*/ 2276640 h 2276280"/>
            </a:gdLst>
            <a:ahLst/>
            <a:rect l="textAreaLeft" t="textAreaTop" r="textAreaRight" b="textAreaBottom"/>
            <a:pathLst>
              <a:path w="2938" h="1434">
                <a:moveTo>
                  <a:pt x="2938" y="0"/>
                </a:moveTo>
                <a:lnTo>
                  <a:pt x="0" y="143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326"/>
          <p:cNvSpPr/>
          <p:nvPr/>
        </p:nvSpPr>
        <p:spPr>
          <a:xfrm>
            <a:off x="1403280" y="2421000"/>
            <a:ext cx="432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27"/>
          <p:cNvSpPr/>
          <p:nvPr/>
        </p:nvSpPr>
        <p:spPr>
          <a:xfrm>
            <a:off x="1370160" y="2205000"/>
            <a:ext cx="6094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EK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329"/>
          <p:cNvSpPr/>
          <p:nvPr/>
        </p:nvSpPr>
        <p:spPr>
          <a:xfrm>
            <a:off x="4954680" y="3359160"/>
            <a:ext cx="2146320" cy="83016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352" h="523">
                <a:moveTo>
                  <a:pt x="0" y="0"/>
                </a:moveTo>
                <a:lnTo>
                  <a:pt x="1352" y="52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330"/>
          <p:cNvSpPr/>
          <p:nvPr/>
        </p:nvSpPr>
        <p:spPr>
          <a:xfrm>
            <a:off x="3359160" y="1641600"/>
            <a:ext cx="84240" cy="3014640"/>
          </a:xfrm>
          <a:custGeom>
            <a:avLst/>
            <a:gdLst>
              <a:gd name="textAreaLeft" fmla="*/ 0 w 84240"/>
              <a:gd name="textAreaRight" fmla="*/ 84240 w 84240"/>
              <a:gd name="textAreaTop" fmla="*/ 0 h 3014640"/>
              <a:gd name="textAreaBottom" fmla="*/ 3015000 h 3014640"/>
            </a:gdLst>
            <a:ahLst/>
            <a:rect l="textAreaLeft" t="textAreaTop" r="textAreaRight" b="textAreaBottom"/>
            <a:pathLst>
              <a:path w="53" h="1899">
                <a:moveTo>
                  <a:pt x="53" y="0"/>
                </a:moveTo>
                <a:lnTo>
                  <a:pt x="0" y="1899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31"/>
          <p:cNvSpPr/>
          <p:nvPr/>
        </p:nvSpPr>
        <p:spPr>
          <a:xfrm>
            <a:off x="3419640" y="4840200"/>
            <a:ext cx="57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M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332"/>
          <p:cNvSpPr/>
          <p:nvPr/>
        </p:nvSpPr>
        <p:spPr>
          <a:xfrm>
            <a:off x="3770280" y="1341360"/>
            <a:ext cx="2314440" cy="348300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3483000"/>
              <a:gd name="textAreaBottom" fmla="*/ 3483360 h 3483000"/>
            </a:gdLst>
            <a:ahLst/>
            <a:rect l="textAreaLeft" t="textAreaTop" r="textAreaRight" b="textAreaBottom"/>
            <a:pathLst>
              <a:path w="1974" h="2028">
                <a:moveTo>
                  <a:pt x="1974" y="0"/>
                </a:moveTo>
                <a:lnTo>
                  <a:pt x="0" y="2028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38"/>
          <p:cNvSpPr/>
          <p:nvPr/>
        </p:nvSpPr>
        <p:spPr>
          <a:xfrm>
            <a:off x="482760" y="1700280"/>
            <a:ext cx="193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ff"/>
                </a:solidFill>
                <a:latin typeface="Arial"/>
              </a:rPr>
              <a:t>ACC Centre Aktob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39"/>
          <p:cNvSpPr/>
          <p:nvPr/>
        </p:nvSpPr>
        <p:spPr>
          <a:xfrm>
            <a:off x="6662880" y="112536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Arial"/>
              </a:rPr>
              <a:t>ACC Centre Ast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40"/>
          <p:cNvSpPr/>
          <p:nvPr/>
        </p:nvSpPr>
        <p:spPr>
          <a:xfrm>
            <a:off x="6948720" y="4869000"/>
            <a:ext cx="186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CC Centre Alma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41"/>
          <p:cNvSpPr/>
          <p:nvPr/>
        </p:nvSpPr>
        <p:spPr>
          <a:xfrm>
            <a:off x="2484720" y="5229360"/>
            <a:ext cx="21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CC Centre Shymk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9920" y="5748480"/>
            <a:ext cx="21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4 A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15 Sectors of A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D4A-E91C-4F72-969C-8555D597F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0"/>
                <a:ext cx="9142560" cy="685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0" y="1440"/>
                <a:ext cx="9142560" cy="685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5" name=""/>
            <p:cNvGrpSpPr/>
            <p:nvPr/>
          </p:nvGrpSpPr>
          <p:grpSpPr>
            <a:xfrm>
              <a:off x="2520" y="0"/>
              <a:ext cx="9141480" cy="546840"/>
              <a:chOff x="2520" y="0"/>
              <a:chExt cx="9141480" cy="54684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520" y="1440"/>
                <a:ext cx="286200" cy="534240"/>
                <a:chOff x="2520" y="1440"/>
                <a:chExt cx="286200" cy="5342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520" y="1440"/>
                  <a:ext cx="9000" cy="534240"/>
                </a:xfrm>
                <a:prstGeom prst="rect">
                  <a:avLst/>
                </a:prstGeom>
                <a:solidFill>
                  <a:srgbClr val="ccc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1520" y="1440"/>
                  <a:ext cx="9000" cy="534240"/>
                </a:xfrm>
                <a:prstGeom prst="rect">
                  <a:avLst/>
                </a:prstGeom>
                <a:solidFill>
                  <a:srgbClr val="cdcd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520" y="1440"/>
                  <a:ext cx="5760" cy="534240"/>
                </a:xfrm>
                <a:prstGeom prst="rect">
                  <a:avLst/>
                </a:prstGeom>
                <a:solidFill>
                  <a:srgbClr val="cdcd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6640" y="1440"/>
                  <a:ext cx="5760" cy="534240"/>
                </a:xfrm>
                <a:prstGeom prst="rect">
                  <a:avLst/>
                </a:prstGeom>
                <a:solidFill>
                  <a:srgbClr val="cece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2760" y="1440"/>
                  <a:ext cx="5760" cy="534240"/>
                </a:xfrm>
                <a:prstGeom prst="rect">
                  <a:avLst/>
                </a:prstGeom>
                <a:solidFill>
                  <a:srgbClr val="cfcf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880" y="1440"/>
                  <a:ext cx="2880" cy="534240"/>
                </a:xfrm>
                <a:prstGeom prst="rect">
                  <a:avLst/>
                </a:prstGeom>
                <a:solidFill>
                  <a:srgbClr val="cfc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120" y="1440"/>
                  <a:ext cx="9000" cy="534240"/>
                </a:xfrm>
                <a:prstGeom prst="rect">
                  <a:avLst/>
                </a:prstGeom>
                <a:solidFill>
                  <a:srgbClr val="d0d0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1120" y="1440"/>
                  <a:ext cx="5760" cy="534240"/>
                </a:xfrm>
                <a:prstGeom prst="rect">
                  <a:avLst/>
                </a:prstGeom>
                <a:solidFill>
                  <a:srgbClr val="d1d1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7240" y="1440"/>
                  <a:ext cx="2880" cy="534240"/>
                </a:xfrm>
                <a:prstGeom prst="rect">
                  <a:avLst/>
                </a:prstGeom>
                <a:solidFill>
                  <a:srgbClr val="d2d2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0120" y="1440"/>
                  <a:ext cx="9000" cy="534240"/>
                </a:xfrm>
                <a:prstGeom prst="rect">
                  <a:avLst/>
                </a:prstGeom>
                <a:solidFill>
                  <a:srgbClr val="d3d3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480" y="1440"/>
                  <a:ext cx="5760" cy="534240"/>
                </a:xfrm>
                <a:prstGeom prst="rect">
                  <a:avLst/>
                </a:prstGeom>
                <a:solidFill>
                  <a:srgbClr val="d4d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5600" y="1440"/>
                  <a:ext cx="2880" cy="534240"/>
                </a:xfrm>
                <a:prstGeom prst="rect">
                  <a:avLst/>
                </a:prstGeom>
                <a:solidFill>
                  <a:srgbClr val="d5d5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8480" y="1440"/>
                  <a:ext cx="5760" cy="534240"/>
                </a:xfrm>
                <a:prstGeom prst="rect">
                  <a:avLst/>
                </a:prstGeom>
                <a:solidFill>
                  <a:srgbClr val="d6d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4600" y="1440"/>
                  <a:ext cx="2880" cy="534240"/>
                </a:xfrm>
                <a:prstGeom prst="rect">
                  <a:avLst/>
                </a:prstGeom>
                <a:solidFill>
                  <a:srgbClr val="d7d7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7840" y="1440"/>
                  <a:ext cx="5760" cy="534240"/>
                </a:xfrm>
                <a:prstGeom prst="rect">
                  <a:avLst/>
                </a:prstGeom>
                <a:solidFill>
                  <a:srgbClr val="d8d8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93960" y="1440"/>
                  <a:ext cx="2880" cy="534240"/>
                </a:xfrm>
                <a:prstGeom prst="rect">
                  <a:avLst/>
                </a:prstGeom>
                <a:solidFill>
                  <a:srgbClr val="d9d9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96840" y="1440"/>
                  <a:ext cx="2880" cy="534240"/>
                </a:xfrm>
                <a:prstGeom prst="rect">
                  <a:avLst/>
                </a:prstGeom>
                <a:solidFill>
                  <a:srgbClr val="dada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99720" y="1440"/>
                  <a:ext cx="2880" cy="534240"/>
                </a:xfrm>
                <a:prstGeom prst="rect">
                  <a:avLst/>
                </a:prstGeom>
                <a:solidFill>
                  <a:srgbClr val="dbdb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02960" y="1440"/>
                  <a:ext cx="2880" cy="534240"/>
                </a:xfrm>
                <a:prstGeom prst="rect">
                  <a:avLst/>
                </a:prstGeom>
                <a:solidFill>
                  <a:srgbClr val="dcdc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05840" y="1440"/>
                  <a:ext cx="2880" cy="534240"/>
                </a:xfrm>
                <a:prstGeom prst="rect">
                  <a:avLst/>
                </a:prstGeom>
                <a:solidFill>
                  <a:srgbClr val="ddd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09080" y="1440"/>
                  <a:ext cx="5760" cy="534240"/>
                </a:xfrm>
                <a:prstGeom prst="rect">
                  <a:avLst/>
                </a:prstGeom>
                <a:solidFill>
                  <a:srgbClr val="ded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200" y="1440"/>
                  <a:ext cx="2880" cy="534240"/>
                </a:xfrm>
                <a:prstGeom prst="rect">
                  <a:avLst/>
                </a:prstGeom>
                <a:solidFill>
                  <a:srgbClr val="dfd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18080" y="1440"/>
                  <a:ext cx="2880" cy="534240"/>
                </a:xfrm>
                <a:prstGeom prst="rect">
                  <a:avLst/>
                </a:prstGeom>
                <a:solidFill>
                  <a:srgbClr val="e0e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21320" y="1440"/>
                  <a:ext cx="2880" cy="534240"/>
                </a:xfrm>
                <a:prstGeom prst="rect">
                  <a:avLst/>
                </a:prstGeom>
                <a:solidFill>
                  <a:srgbClr val="e1e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24200" y="1440"/>
                  <a:ext cx="2880" cy="534240"/>
                </a:xfrm>
                <a:prstGeom prst="rect">
                  <a:avLst/>
                </a:prstGeom>
                <a:solidFill>
                  <a:srgbClr val="e2e2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27440" y="1440"/>
                  <a:ext cx="2880" cy="534240"/>
                </a:xfrm>
                <a:prstGeom prst="rect">
                  <a:avLst/>
                </a:prstGeom>
                <a:solidFill>
                  <a:srgbClr val="e3e3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30320" y="1440"/>
                  <a:ext cx="2880" cy="534240"/>
                </a:xfrm>
                <a:prstGeom prst="rect">
                  <a:avLst/>
                </a:prstGeom>
                <a:solidFill>
                  <a:srgbClr val="e4e4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33560" y="1440"/>
                  <a:ext cx="2880" cy="534240"/>
                </a:xfrm>
                <a:prstGeom prst="rect">
                  <a:avLst/>
                </a:prstGeom>
                <a:solidFill>
                  <a:srgbClr val="e5e5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36440" y="1440"/>
                  <a:ext cx="5760" cy="534240"/>
                </a:xfrm>
                <a:prstGeom prst="rect">
                  <a:avLst/>
                </a:prstGeom>
                <a:solidFill>
                  <a:srgbClr val="e6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42560" y="1440"/>
                  <a:ext cx="2880" cy="534240"/>
                </a:xfrm>
                <a:prstGeom prst="rect">
                  <a:avLst/>
                </a:prstGeom>
                <a:solidFill>
                  <a:srgbClr val="e7e7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45800" y="1440"/>
                  <a:ext cx="5760" cy="534240"/>
                </a:xfrm>
                <a:prstGeom prst="rect">
                  <a:avLst/>
                </a:prstGeom>
                <a:solidFill>
                  <a:srgbClr val="e9e9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51560" y="1440"/>
                  <a:ext cx="2880" cy="534240"/>
                </a:xfrm>
                <a:prstGeom prst="rect">
                  <a:avLst/>
                </a:prstGeom>
                <a:solidFill>
                  <a:srgbClr val="eae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54800" y="1440"/>
                  <a:ext cx="5760" cy="534240"/>
                </a:xfrm>
                <a:prstGeom prst="rect">
                  <a:avLst/>
                </a:prstGeom>
                <a:solidFill>
                  <a:srgbClr val="ebeb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60920" y="1440"/>
                  <a:ext cx="2880" cy="534240"/>
                </a:xfrm>
                <a:prstGeom prst="rect">
                  <a:avLst/>
                </a:prstGeom>
                <a:solidFill>
                  <a:srgbClr val="ecec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63800" y="1440"/>
                  <a:ext cx="2880" cy="534240"/>
                </a:xfrm>
                <a:prstGeom prst="rect">
                  <a:avLst/>
                </a:prstGeom>
                <a:solidFill>
                  <a:srgbClr val="eeee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67040" y="1440"/>
                  <a:ext cx="5760" cy="534240"/>
                </a:xfrm>
                <a:prstGeom prst="rect">
                  <a:avLst/>
                </a:prstGeom>
                <a:solidFill>
                  <a:srgbClr val="efe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73160" y="1440"/>
                  <a:ext cx="2880" cy="534240"/>
                </a:xfrm>
                <a:prstGeom prst="rect">
                  <a:avLst/>
                </a:prstGeom>
                <a:solidFill>
                  <a:srgbClr val="f0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76040" y="1440"/>
                  <a:ext cx="5760" cy="534240"/>
                </a:xfrm>
                <a:prstGeom prst="rect">
                  <a:avLst/>
                </a:prstGeom>
                <a:solidFill>
                  <a:srgbClr val="f1f1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82160" y="1440"/>
                  <a:ext cx="2880" cy="534240"/>
                </a:xfrm>
                <a:prstGeom prst="rect">
                  <a:avLst/>
                </a:prstGeom>
                <a:solidFill>
                  <a:srgbClr val="f2f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85400" y="1440"/>
                  <a:ext cx="5760" cy="534240"/>
                </a:xfrm>
                <a:prstGeom prst="rect">
                  <a:avLst/>
                </a:prstGeom>
                <a:solidFill>
                  <a:srgbClr val="f3f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91520" y="1440"/>
                  <a:ext cx="2880" cy="534240"/>
                </a:xfrm>
                <a:prstGeom prst="rect">
                  <a:avLst/>
                </a:prstGeom>
                <a:solidFill>
                  <a:srgbClr val="f4f4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94400" y="1440"/>
                  <a:ext cx="5760" cy="534240"/>
                </a:xfrm>
                <a:prstGeom prst="rect">
                  <a:avLst/>
                </a:prstGeom>
                <a:solidFill>
                  <a:srgbClr val="f5f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00520" y="1440"/>
                  <a:ext cx="2880" cy="534240"/>
                </a:xfrm>
                <a:prstGeom prst="rect">
                  <a:avLst/>
                </a:prstGeom>
                <a:solidFill>
                  <a:srgbClr val="f6f6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03400" y="1440"/>
                  <a:ext cx="5760" cy="534240"/>
                </a:xfrm>
                <a:prstGeom prst="rect">
                  <a:avLst/>
                </a:prstGeom>
                <a:solidFill>
                  <a:srgbClr val="f7f7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09520" y="1440"/>
                  <a:ext cx="2880" cy="534240"/>
                </a:xfrm>
                <a:prstGeom prst="rect">
                  <a:avLst/>
                </a:prstGeom>
                <a:solidFill>
                  <a:srgbClr val="f8f8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12760" y="1440"/>
                  <a:ext cx="5760" cy="534240"/>
                </a:xfrm>
                <a:prstGeom prst="rect">
                  <a:avLst/>
                </a:prstGeom>
                <a:solidFill>
                  <a:srgbClr val="f8f8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18880" y="1440"/>
                  <a:ext cx="2880" cy="534240"/>
                </a:xfrm>
                <a:prstGeom prst="rect">
                  <a:avLst/>
                </a:prstGeom>
                <a:solidFill>
                  <a:srgbClr val="f9f9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21760" y="1440"/>
                  <a:ext cx="2880" cy="534240"/>
                </a:xfrm>
                <a:prstGeom prst="rect">
                  <a:avLst/>
                </a:prstGeom>
                <a:solidFill>
                  <a:srgbClr val="fafa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25000" y="1440"/>
                  <a:ext cx="9000" cy="534240"/>
                </a:xfrm>
                <a:prstGeom prst="rect">
                  <a:avLst/>
                </a:prstGeom>
                <a:solidFill>
                  <a:srgbClr val="fbfb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4000" y="1440"/>
                  <a:ext cx="5760" cy="534240"/>
                </a:xfrm>
                <a:prstGeom prst="rect">
                  <a:avLst/>
                </a:prstGeom>
                <a:solidFill>
                  <a:srgbClr val="fcfc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40120" y="1440"/>
                  <a:ext cx="9000" cy="534240"/>
                </a:xfrm>
                <a:prstGeom prst="rect">
                  <a:avLst/>
                </a:prstGeom>
                <a:solidFill>
                  <a:srgbClr val="fc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49120" y="1440"/>
                  <a:ext cx="9000" cy="534240"/>
                </a:xfrm>
                <a:prstGeom prst="rect">
                  <a:avLst/>
                </a:prstGeom>
                <a:solidFill>
                  <a:srgbClr val="fdfd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58480" y="1440"/>
                  <a:ext cx="9000" cy="534240"/>
                </a:xfrm>
                <a:prstGeom prst="rect">
                  <a:avLst/>
                </a:prstGeom>
                <a:solidFill>
                  <a:srgbClr val="fe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67480" y="1440"/>
                  <a:ext cx="9000" cy="534240"/>
                </a:xfrm>
                <a:prstGeom prst="rect">
                  <a:avLst/>
                </a:prstGeom>
                <a:solidFill>
                  <a:srgbClr val="fef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76840" y="1440"/>
                  <a:ext cx="11880" cy="534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13640" y="132480"/>
                <a:ext cx="8730360" cy="274680"/>
                <a:chOff x="413640" y="132480"/>
                <a:chExt cx="8730360" cy="274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13640" y="132480"/>
                  <a:ext cx="5760" cy="274680"/>
                </a:xfrm>
                <a:prstGeom prst="rect">
                  <a:avLst/>
                </a:pr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9400" y="132480"/>
                  <a:ext cx="9000" cy="274680"/>
                </a:xfrm>
                <a:prstGeom prst="rect">
                  <a:avLst/>
                </a:prstGeom>
                <a:solidFill>
                  <a:srgbClr val="030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28760" y="132480"/>
                  <a:ext cx="5760" cy="274680"/>
                </a:xfrm>
                <a:prstGeom prst="rect">
                  <a:avLst/>
                </a:prstGeom>
                <a:solidFill>
                  <a:srgbClr val="0505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34880" y="132480"/>
                  <a:ext cx="5760" cy="274680"/>
                </a:xfrm>
                <a:prstGeom prst="rect">
                  <a:avLst/>
                </a:prstGeom>
                <a:solidFill>
                  <a:srgbClr val="0707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41000" y="132480"/>
                  <a:ext cx="5760" cy="274680"/>
                </a:xfrm>
                <a:prstGeom prst="rect">
                  <a:avLst/>
                </a:prstGeom>
                <a:solidFill>
                  <a:srgbClr val="090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7120" y="132480"/>
                  <a:ext cx="11880" cy="274680"/>
                </a:xfrm>
                <a:prstGeom prst="rect">
                  <a:avLst/>
                </a:prstGeom>
                <a:solidFill>
                  <a:srgbClr val="0b0b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59000" y="132480"/>
                  <a:ext cx="18000" cy="274680"/>
                </a:xfrm>
                <a:prstGeom prst="rect">
                  <a:avLst/>
                </a:prstGeom>
                <a:solidFill>
                  <a:srgbClr val="0d0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77360" y="132480"/>
                  <a:ext cx="21240" cy="274680"/>
                </a:xfrm>
                <a:prstGeom prst="rect">
                  <a:avLst/>
                </a:prstGeom>
                <a:solidFill>
                  <a:srgbClr val="0f0f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98960" y="132480"/>
                  <a:ext cx="21240" cy="274680"/>
                </a:xfrm>
                <a:prstGeom prst="rect">
                  <a:avLst/>
                </a:prstGeom>
                <a:solidFill>
                  <a:srgbClr val="111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20200" y="132480"/>
                  <a:ext cx="24120" cy="274680"/>
                </a:xfrm>
                <a:prstGeom prst="rect">
                  <a:avLst/>
                </a:prstGeom>
                <a:solidFill>
                  <a:srgbClr val="131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44320" y="132480"/>
                  <a:ext cx="30240" cy="274680"/>
                </a:xfrm>
                <a:prstGeom prst="rect">
                  <a:avLst/>
                </a:prstGeom>
                <a:solidFill>
                  <a:srgbClr val="151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74920" y="132480"/>
                  <a:ext cx="33480" cy="274680"/>
                </a:xfrm>
                <a:prstGeom prst="rect">
                  <a:avLst/>
                </a:prstGeom>
                <a:solidFill>
                  <a:srgbClr val="1717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8400" y="132480"/>
                  <a:ext cx="51480" cy="274680"/>
                </a:xfrm>
                <a:prstGeom prst="rect">
                  <a:avLst/>
                </a:prstGeom>
                <a:solidFill>
                  <a:srgbClr val="1919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60240" y="132480"/>
                  <a:ext cx="33480" cy="274680"/>
                </a:xfrm>
                <a:prstGeom prst="rect">
                  <a:avLst/>
                </a:prstGeom>
                <a:solidFill>
                  <a:srgbClr val="1b1b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93720" y="132480"/>
                  <a:ext cx="33480" cy="274680"/>
                </a:xfrm>
                <a:prstGeom prst="rect">
                  <a:avLst/>
                </a:prstGeom>
                <a:solidFill>
                  <a:srgbClr val="1d1d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27200" y="132480"/>
                  <a:ext cx="36360" cy="274680"/>
                </a:xfrm>
                <a:prstGeom prst="rect">
                  <a:avLst/>
                </a:prstGeom>
                <a:solidFill>
                  <a:srgbClr val="1f1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3920" y="132480"/>
                  <a:ext cx="42480" cy="274680"/>
                </a:xfrm>
                <a:prstGeom prst="rect">
                  <a:avLst/>
                </a:prstGeom>
                <a:solidFill>
                  <a:srgbClr val="2121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400" y="132480"/>
                  <a:ext cx="54720" cy="274680"/>
                </a:xfrm>
                <a:prstGeom prst="rect">
                  <a:avLst/>
                </a:prstGeom>
                <a:solidFill>
                  <a:srgbClr val="2323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61480" y="132480"/>
                  <a:ext cx="24120" cy="274680"/>
                </a:xfrm>
                <a:prstGeom prst="rect">
                  <a:avLst/>
                </a:prstGeom>
                <a:solidFill>
                  <a:srgbClr val="2525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85960" y="132480"/>
                  <a:ext cx="48600" cy="274680"/>
                </a:xfrm>
                <a:prstGeom prst="rect">
                  <a:avLst/>
                </a:prstGeom>
                <a:solidFill>
                  <a:srgbClr val="2727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934560" y="132480"/>
                  <a:ext cx="42480" cy="274680"/>
                </a:xfrm>
                <a:prstGeom prst="rect">
                  <a:avLst/>
                </a:prstGeom>
                <a:solidFill>
                  <a:srgbClr val="2929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977400" y="132480"/>
                  <a:ext cx="42480" cy="274680"/>
                </a:xfrm>
                <a:prstGeom prst="rect">
                  <a:avLst/>
                </a:prstGeom>
                <a:solidFill>
                  <a:srgbClr val="2b2b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019880" y="132480"/>
                  <a:ext cx="66960" cy="274680"/>
                </a:xfrm>
                <a:prstGeom prst="rect">
                  <a:avLst/>
                </a:prstGeom>
                <a:solidFill>
                  <a:srgbClr val="2d2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086840" y="132480"/>
                  <a:ext cx="51480" cy="274680"/>
                </a:xfrm>
                <a:prstGeom prst="rect">
                  <a:avLst/>
                </a:prstGeom>
                <a:solidFill>
                  <a:srgbClr val="2f2f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138680" y="132480"/>
                  <a:ext cx="42480" cy="274680"/>
                </a:xfrm>
                <a:prstGeom prst="rect">
                  <a:avLst/>
                </a:prstGeom>
                <a:solidFill>
                  <a:srgbClr val="3131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181520" y="132480"/>
                  <a:ext cx="57600" cy="274680"/>
                </a:xfrm>
                <a:prstGeom prst="rect">
                  <a:avLst/>
                </a:prstGeom>
                <a:solidFill>
                  <a:srgbClr val="3333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239120" y="132480"/>
                  <a:ext cx="42480" cy="274680"/>
                </a:xfrm>
                <a:prstGeom prst="rect">
                  <a:avLst/>
                </a:prstGeom>
                <a:solidFill>
                  <a:srgbClr val="3535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281960" y="132480"/>
                  <a:ext cx="60840" cy="274680"/>
                </a:xfrm>
                <a:prstGeom prst="rect">
                  <a:avLst/>
                </a:prstGeom>
                <a:solidFill>
                  <a:srgbClr val="3737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342800" y="132480"/>
                  <a:ext cx="42480" cy="274680"/>
                </a:xfrm>
                <a:prstGeom prst="rect">
                  <a:avLst/>
                </a:prstGeom>
                <a:solidFill>
                  <a:srgbClr val="393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385640" y="132480"/>
                  <a:ext cx="57600" cy="274680"/>
                </a:xfrm>
                <a:prstGeom prst="rect">
                  <a:avLst/>
                </a:prstGeom>
                <a:solidFill>
                  <a:srgbClr val="3b3b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443600" y="132480"/>
                  <a:ext cx="42480" cy="274680"/>
                </a:xfrm>
                <a:prstGeom prst="rect">
                  <a:avLst/>
                </a:prstGeom>
                <a:solidFill>
                  <a:srgbClr val="3d3d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486080" y="132480"/>
                  <a:ext cx="60840" cy="274680"/>
                </a:xfrm>
                <a:prstGeom prst="rect">
                  <a:avLst/>
                </a:prstGeom>
                <a:solidFill>
                  <a:srgbClr val="3f3f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546920" y="132480"/>
                  <a:ext cx="42480" cy="274680"/>
                </a:xfrm>
                <a:prstGeom prst="rect">
                  <a:avLst/>
                </a:prstGeom>
                <a:solidFill>
                  <a:srgbClr val="4141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589760" y="132480"/>
                  <a:ext cx="60840" cy="274680"/>
                </a:xfrm>
                <a:prstGeom prst="rect">
                  <a:avLst/>
                </a:prstGeom>
                <a:solidFill>
                  <a:srgbClr val="4343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650600" y="132480"/>
                  <a:ext cx="42480" cy="274680"/>
                </a:xfrm>
                <a:prstGeom prst="rect">
                  <a:avLst/>
                </a:prstGeom>
                <a:solidFill>
                  <a:srgbClr val="4545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693440" y="132480"/>
                  <a:ext cx="66960" cy="274680"/>
                </a:xfrm>
                <a:prstGeom prst="rect">
                  <a:avLst/>
                </a:prstGeom>
                <a:solidFill>
                  <a:srgbClr val="4747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760400" y="132480"/>
                  <a:ext cx="42480" cy="274680"/>
                </a:xfrm>
                <a:prstGeom prst="rect">
                  <a:avLst/>
                </a:prstGeom>
                <a:solidFill>
                  <a:srgbClr val="494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803240" y="132480"/>
                  <a:ext cx="57600" cy="274680"/>
                </a:xfrm>
                <a:prstGeom prst="rect">
                  <a:avLst/>
                </a:prstGeom>
                <a:solidFill>
                  <a:srgbClr val="4b4b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860840" y="132480"/>
                  <a:ext cx="42480" cy="274680"/>
                </a:xfrm>
                <a:prstGeom prst="rect">
                  <a:avLst/>
                </a:prstGeom>
                <a:solidFill>
                  <a:srgbClr val="4d4d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903680" y="132480"/>
                  <a:ext cx="60840" cy="274680"/>
                </a:xfrm>
                <a:prstGeom prst="rect">
                  <a:avLst/>
                </a:prstGeom>
                <a:solidFill>
                  <a:srgbClr val="4f4f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64520" y="132480"/>
                  <a:ext cx="42480" cy="274680"/>
                </a:xfrm>
                <a:prstGeom prst="rect">
                  <a:avLst/>
                </a:prstGeom>
                <a:solidFill>
                  <a:srgbClr val="5151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7360" y="132480"/>
                  <a:ext cx="60840" cy="274680"/>
                </a:xfrm>
                <a:prstGeom prst="rect">
                  <a:avLst/>
                </a:prstGeom>
                <a:solidFill>
                  <a:srgbClr val="535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68200" y="132480"/>
                  <a:ext cx="42480" cy="274680"/>
                </a:xfrm>
                <a:prstGeom prst="rect">
                  <a:avLst/>
                </a:prstGeom>
                <a:solidFill>
                  <a:srgbClr val="5555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110680" y="132480"/>
                  <a:ext cx="57600" cy="274680"/>
                </a:xfrm>
                <a:prstGeom prst="rect">
                  <a:avLst/>
                </a:prstGeom>
                <a:solidFill>
                  <a:srgbClr val="5757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168640" y="132480"/>
                  <a:ext cx="42480" cy="274680"/>
                </a:xfrm>
                <a:prstGeom prst="rect">
                  <a:avLst/>
                </a:prstGeom>
                <a:solidFill>
                  <a:srgbClr val="5959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211480" y="132480"/>
                  <a:ext cx="60840" cy="274680"/>
                </a:xfrm>
                <a:prstGeom prst="rect">
                  <a:avLst/>
                </a:prstGeom>
                <a:solidFill>
                  <a:srgbClr val="5b5b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72320" y="132480"/>
                  <a:ext cx="57600" cy="274680"/>
                </a:xfrm>
                <a:prstGeom prst="rect">
                  <a:avLst/>
                </a:prstGeom>
                <a:solidFill>
                  <a:srgbClr val="5d5d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330280" y="132480"/>
                  <a:ext cx="42480" cy="274680"/>
                </a:xfrm>
                <a:prstGeom prst="rect">
                  <a:avLst/>
                </a:prstGeom>
                <a:solidFill>
                  <a:srgbClr val="5f5f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372760" y="132480"/>
                  <a:ext cx="60840" cy="274680"/>
                </a:xfrm>
                <a:prstGeom prst="rect">
                  <a:avLst/>
                </a:prstGeom>
                <a:solidFill>
                  <a:srgbClr val="6161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433960" y="132480"/>
                  <a:ext cx="42480" cy="274680"/>
                </a:xfrm>
                <a:prstGeom prst="rect">
                  <a:avLst/>
                </a:prstGeom>
                <a:solidFill>
                  <a:srgbClr val="6363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476440" y="132480"/>
                  <a:ext cx="42480" cy="274680"/>
                </a:xfrm>
                <a:prstGeom prst="rect">
                  <a:avLst/>
                </a:prstGeom>
                <a:solidFill>
                  <a:srgbClr val="6565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19280" y="132480"/>
                  <a:ext cx="57600" cy="274680"/>
                </a:xfrm>
                <a:prstGeom prst="rect">
                  <a:avLst/>
                </a:prstGeom>
                <a:solidFill>
                  <a:srgbClr val="676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577240" y="132480"/>
                  <a:ext cx="42480" cy="274680"/>
                </a:xfrm>
                <a:prstGeom prst="rect">
                  <a:avLst/>
                </a:prstGeom>
                <a:solidFill>
                  <a:srgbClr val="6969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9720" y="132480"/>
                  <a:ext cx="60840" cy="274680"/>
                </a:xfrm>
                <a:prstGeom prst="rect">
                  <a:avLst/>
                </a:prstGeom>
                <a:solidFill>
                  <a:srgbClr val="6b6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80560" y="132480"/>
                  <a:ext cx="60840" cy="274680"/>
                </a:xfrm>
                <a:prstGeom prst="rect">
                  <a:avLst/>
                </a:prstGeom>
                <a:solidFill>
                  <a:srgbClr val="6d6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741760" y="132480"/>
                  <a:ext cx="42480" cy="274680"/>
                </a:xfrm>
                <a:prstGeom prst="rect">
                  <a:avLst/>
                </a:prstGeom>
                <a:solidFill>
                  <a:srgbClr val="6f6f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784240" y="132480"/>
                  <a:ext cx="42480" cy="274680"/>
                </a:xfrm>
                <a:prstGeom prst="rect">
                  <a:avLst/>
                </a:prstGeom>
                <a:solidFill>
                  <a:srgbClr val="7171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827080" y="132480"/>
                  <a:ext cx="57600" cy="274680"/>
                </a:xfrm>
                <a:prstGeom prst="rect">
                  <a:avLst/>
                </a:prstGeom>
                <a:solidFill>
                  <a:srgbClr val="7373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885040" y="132480"/>
                  <a:ext cx="60840" cy="274680"/>
                </a:xfrm>
                <a:prstGeom prst="rect">
                  <a:avLst/>
                </a:prstGeom>
                <a:solidFill>
                  <a:srgbClr val="757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945880" y="132480"/>
                  <a:ext cx="42480" cy="274680"/>
                </a:xfrm>
                <a:prstGeom prst="rect">
                  <a:avLst/>
                </a:prstGeom>
                <a:solidFill>
                  <a:srgbClr val="777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988360" y="132480"/>
                  <a:ext cx="42480" cy="274680"/>
                </a:xfrm>
                <a:prstGeom prst="rect">
                  <a:avLst/>
                </a:prstGeom>
                <a:solidFill>
                  <a:srgbClr val="7979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031200" y="132480"/>
                  <a:ext cx="57600" cy="274680"/>
                </a:xfrm>
                <a:prstGeom prst="rect">
                  <a:avLst/>
                </a:prstGeom>
                <a:solidFill>
                  <a:srgbClr val="7b7b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89160" y="132480"/>
                  <a:ext cx="42480" cy="274680"/>
                </a:xfrm>
                <a:prstGeom prst="rect">
                  <a:avLst/>
                </a:prstGeom>
                <a:solidFill>
                  <a:srgbClr val="7d7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31640" y="132480"/>
                  <a:ext cx="60840" cy="274680"/>
                </a:xfrm>
                <a:prstGeom prst="rect">
                  <a:avLst/>
                </a:prstGeom>
                <a:solidFill>
                  <a:srgbClr val="7f7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192840" y="132480"/>
                  <a:ext cx="57600" cy="274680"/>
                </a:xfrm>
                <a:prstGeom prst="rect">
                  <a:avLst/>
                </a:prstGeom>
                <a:solidFill>
                  <a:srgbClr val="8181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50440" y="132480"/>
                  <a:ext cx="42480" cy="274680"/>
                </a:xfrm>
                <a:prstGeom prst="rect">
                  <a:avLst/>
                </a:prstGeom>
                <a:solidFill>
                  <a:srgbClr val="8383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293280" y="132480"/>
                  <a:ext cx="60840" cy="274680"/>
                </a:xfrm>
                <a:prstGeom prst="rect">
                  <a:avLst/>
                </a:prstGeom>
                <a:solidFill>
                  <a:srgbClr val="8585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54120" y="132480"/>
                  <a:ext cx="42480" cy="274680"/>
                </a:xfrm>
                <a:prstGeom prst="rect">
                  <a:avLst/>
                </a:prstGeom>
                <a:solidFill>
                  <a:srgbClr val="8787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96960" y="132480"/>
                  <a:ext cx="60840" cy="274680"/>
                </a:xfrm>
                <a:prstGeom prst="rect">
                  <a:avLst/>
                </a:prstGeom>
                <a:solidFill>
                  <a:srgbClr val="8989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457800" y="132480"/>
                  <a:ext cx="42480" cy="274680"/>
                </a:xfrm>
                <a:prstGeom prst="rect">
                  <a:avLst/>
                </a:prstGeom>
                <a:solidFill>
                  <a:srgbClr val="8b8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500280" y="132480"/>
                  <a:ext cx="57600" cy="274680"/>
                </a:xfrm>
                <a:prstGeom prst="rect">
                  <a:avLst/>
                </a:prstGeom>
                <a:solidFill>
                  <a:srgbClr val="8d8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558240" y="132480"/>
                  <a:ext cx="42480" cy="274680"/>
                </a:xfrm>
                <a:prstGeom prst="rect">
                  <a:avLst/>
                </a:prstGeom>
                <a:solidFill>
                  <a:srgbClr val="8f8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601080" y="132480"/>
                  <a:ext cx="66960" cy="274680"/>
                </a:xfrm>
                <a:prstGeom prst="rect">
                  <a:avLst/>
                </a:prstGeom>
                <a:solidFill>
                  <a:srgbClr val="919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668040" y="132480"/>
                  <a:ext cx="42480" cy="274680"/>
                </a:xfrm>
                <a:prstGeom prst="rect">
                  <a:avLst/>
                </a:prstGeom>
                <a:solidFill>
                  <a:srgbClr val="9393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710880" y="132480"/>
                  <a:ext cx="60840" cy="274680"/>
                </a:xfrm>
                <a:prstGeom prst="rect">
                  <a:avLst/>
                </a:prstGeom>
                <a:solidFill>
                  <a:srgbClr val="9595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771720" y="132480"/>
                  <a:ext cx="60840" cy="274680"/>
                </a:xfrm>
                <a:prstGeom prst="rect">
                  <a:avLst/>
                </a:prstGeom>
                <a:solidFill>
                  <a:srgbClr val="9797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832560" y="132480"/>
                  <a:ext cx="42480" cy="274680"/>
                </a:xfrm>
                <a:prstGeom prst="rect">
                  <a:avLst/>
                </a:prstGeom>
                <a:solidFill>
                  <a:srgbClr val="9999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5400" y="132480"/>
                  <a:ext cx="57600" cy="274680"/>
                </a:xfrm>
                <a:prstGeom prst="rect">
                  <a:avLst/>
                </a:prstGeom>
                <a:solidFill>
                  <a:srgbClr val="9b9b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933000" y="132480"/>
                  <a:ext cx="42480" cy="274680"/>
                </a:xfrm>
                <a:prstGeom prst="rect">
                  <a:avLst/>
                </a:prstGeom>
                <a:solidFill>
                  <a:srgbClr val="9d9d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975840" y="132480"/>
                  <a:ext cx="69840" cy="274680"/>
                </a:xfrm>
                <a:prstGeom prst="rect">
                  <a:avLst/>
                </a:prstGeom>
                <a:solidFill>
                  <a:srgbClr val="9f9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046040" y="132480"/>
                  <a:ext cx="42480" cy="274680"/>
                </a:xfrm>
                <a:prstGeom prst="rect">
                  <a:avLst/>
                </a:prstGeom>
                <a:solidFill>
                  <a:srgbClr val="a1a1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088520" y="132480"/>
                  <a:ext cx="57600" cy="274680"/>
                </a:xfrm>
                <a:prstGeom prst="rect">
                  <a:avLst/>
                </a:prstGeom>
                <a:solidFill>
                  <a:srgbClr val="a3a3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46480" y="132480"/>
                  <a:ext cx="60840" cy="274680"/>
                </a:xfrm>
                <a:prstGeom prst="rect">
                  <a:avLst/>
                </a:prstGeom>
                <a:solidFill>
                  <a:srgbClr val="a5a5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207320" y="132480"/>
                  <a:ext cx="42480" cy="274680"/>
                </a:xfrm>
                <a:prstGeom prst="rect">
                  <a:avLst/>
                </a:prstGeom>
                <a:solidFill>
                  <a:srgbClr val="a7a7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250160" y="132480"/>
                  <a:ext cx="66960" cy="274680"/>
                </a:xfrm>
                <a:prstGeom prst="rect">
                  <a:avLst/>
                </a:prstGeom>
                <a:solidFill>
                  <a:srgbClr val="a9a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317120" y="132480"/>
                  <a:ext cx="66960" cy="274680"/>
                </a:xfrm>
                <a:prstGeom prst="rect">
                  <a:avLst/>
                </a:prstGeom>
                <a:solidFill>
                  <a:srgbClr val="abab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384080" y="132480"/>
                  <a:ext cx="42480" cy="274680"/>
                </a:xfrm>
                <a:prstGeom prst="rect">
                  <a:avLst/>
                </a:prstGeom>
                <a:solidFill>
                  <a:srgbClr val="adad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426920" y="132480"/>
                  <a:ext cx="60840" cy="274680"/>
                </a:xfrm>
                <a:prstGeom prst="rect">
                  <a:avLst/>
                </a:prstGeom>
                <a:solidFill>
                  <a:srgbClr val="af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87760" y="132480"/>
                  <a:ext cx="66960" cy="274680"/>
                </a:xfrm>
                <a:prstGeom prst="rect">
                  <a:avLst/>
                </a:prstGeom>
                <a:solidFill>
                  <a:srgbClr val="b1b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554720" y="132480"/>
                  <a:ext cx="60840" cy="274680"/>
                </a:xfrm>
                <a:prstGeom prst="rect">
                  <a:avLst/>
                </a:prstGeom>
                <a:solidFill>
                  <a:srgbClr val="b3b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615920" y="132480"/>
                  <a:ext cx="42480" cy="274680"/>
                </a:xfrm>
                <a:prstGeom prst="rect">
                  <a:avLst/>
                </a:prstGeom>
                <a:solidFill>
                  <a:srgbClr val="b5b5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658400" y="132480"/>
                  <a:ext cx="66960" cy="274680"/>
                </a:xfrm>
                <a:prstGeom prst="rect">
                  <a:avLst/>
                </a:prstGeom>
                <a:solidFill>
                  <a:srgbClr val="b7b7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725360" y="132480"/>
                  <a:ext cx="69840" cy="274680"/>
                </a:xfrm>
                <a:prstGeom prst="rect">
                  <a:avLst/>
                </a:prstGeom>
                <a:solidFill>
                  <a:srgbClr val="b9b9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795560" y="132480"/>
                  <a:ext cx="66960" cy="274680"/>
                </a:xfrm>
                <a:prstGeom prst="rect">
                  <a:avLst/>
                </a:prstGeom>
                <a:solidFill>
                  <a:srgbClr val="bbb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862520" y="132480"/>
                  <a:ext cx="60840" cy="274680"/>
                </a:xfrm>
                <a:prstGeom prst="rect">
                  <a:avLst/>
                </a:prstGeom>
                <a:solidFill>
                  <a:srgbClr val="bdb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923720" y="132480"/>
                  <a:ext cx="42480" cy="274680"/>
                </a:xfrm>
                <a:prstGeom prst="rect">
                  <a:avLst/>
                </a:prstGeom>
                <a:solidFill>
                  <a:srgbClr val="bfbf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966200" y="132480"/>
                  <a:ext cx="66960" cy="274680"/>
                </a:xfrm>
                <a:prstGeom prst="rect">
                  <a:avLst/>
                </a:prstGeom>
                <a:solidFill>
                  <a:srgbClr val="c1c1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033160" y="132480"/>
                  <a:ext cx="66960" cy="274680"/>
                </a:xfrm>
                <a:prstGeom prst="rect">
                  <a:avLst/>
                </a:prstGeom>
                <a:solidFill>
                  <a:srgbClr val="c3c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100480" y="132480"/>
                  <a:ext cx="69840" cy="274680"/>
                </a:xfrm>
                <a:prstGeom prst="rect">
                  <a:avLst/>
                </a:prstGeom>
                <a:solidFill>
                  <a:srgbClr val="c5c5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170320" y="132480"/>
                  <a:ext cx="66960" cy="274680"/>
                </a:xfrm>
                <a:prstGeom prst="rect">
                  <a:avLst/>
                </a:prstGeom>
                <a:solidFill>
                  <a:srgbClr val="c7c7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237280" y="132480"/>
                  <a:ext cx="69840" cy="274680"/>
                </a:xfrm>
                <a:prstGeom prst="rect">
                  <a:avLst/>
                </a:prstGeom>
                <a:solidFill>
                  <a:srgbClr val="c9c9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307480" y="132480"/>
                  <a:ext cx="66960" cy="274680"/>
                </a:xfrm>
                <a:prstGeom prst="rect">
                  <a:avLst/>
                </a:prstGeom>
                <a:solidFill>
                  <a:srgbClr val="cbcb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374440" y="132480"/>
                  <a:ext cx="66960" cy="274680"/>
                </a:xfrm>
                <a:prstGeom prst="rect">
                  <a:avLst/>
                </a:prstGeom>
                <a:solidFill>
                  <a:srgbClr val="cdcd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441760" y="132480"/>
                  <a:ext cx="69840" cy="274680"/>
                </a:xfrm>
                <a:prstGeom prst="rect">
                  <a:avLst/>
                </a:prstGeom>
                <a:solidFill>
                  <a:srgbClr val="cece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511600" y="132480"/>
                  <a:ext cx="66960" cy="274680"/>
                </a:xfrm>
                <a:prstGeom prst="rect">
                  <a:avLst/>
                </a:prstGeom>
                <a:solidFill>
                  <a:srgbClr val="d0d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578920" y="132480"/>
                  <a:ext cx="66960" cy="274680"/>
                </a:xfrm>
                <a:prstGeom prst="rect">
                  <a:avLst/>
                </a:prstGeom>
                <a:solidFill>
                  <a:srgbClr val="d2d2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645880" y="132480"/>
                  <a:ext cx="69840" cy="274680"/>
                </a:xfrm>
                <a:prstGeom prst="rect">
                  <a:avLst/>
                </a:prstGeom>
                <a:solidFill>
                  <a:srgbClr val="d4d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715720" y="132480"/>
                  <a:ext cx="100440" cy="274680"/>
                </a:xfrm>
                <a:prstGeom prst="rect">
                  <a:avLst/>
                </a:prstGeom>
                <a:solidFill>
                  <a:srgbClr val="d6d6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816520" y="132480"/>
                  <a:ext cx="69840" cy="274680"/>
                </a:xfrm>
                <a:prstGeom prst="rect">
                  <a:avLst/>
                </a:prstGeom>
                <a:solidFill>
                  <a:srgbClr val="d8d8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886360" y="132480"/>
                  <a:ext cx="100440" cy="274680"/>
                </a:xfrm>
                <a:prstGeom prst="rect">
                  <a:avLst/>
                </a:prstGeom>
                <a:solidFill>
                  <a:srgbClr val="dada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987160" y="132480"/>
                  <a:ext cx="69840" cy="274680"/>
                </a:xfrm>
                <a:prstGeom prst="rect">
                  <a:avLst/>
                </a:prstGeom>
                <a:solidFill>
                  <a:srgbClr val="dcdc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057360" y="132480"/>
                  <a:ext cx="100440" cy="274680"/>
                </a:xfrm>
                <a:prstGeom prst="rect">
                  <a:avLst/>
                </a:prstGeom>
                <a:solidFill>
                  <a:srgbClr val="dede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157800" y="132480"/>
                  <a:ext cx="103320" cy="274680"/>
                </a:xfrm>
                <a:prstGeom prst="rect">
                  <a:avLst/>
                </a:prstGeom>
                <a:solidFill>
                  <a:srgbClr val="e0e0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261480" y="132480"/>
                  <a:ext cx="100440" cy="274680"/>
                </a:xfrm>
                <a:prstGeom prst="rect">
                  <a:avLst/>
                </a:prstGeom>
                <a:solidFill>
                  <a:srgbClr val="e2e2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361920" y="132480"/>
                  <a:ext cx="103320" cy="274680"/>
                </a:xfrm>
                <a:prstGeom prst="rect">
                  <a:avLst/>
                </a:prstGeom>
                <a:solidFill>
                  <a:srgbClr val="e4e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65600" y="132480"/>
                  <a:ext cx="103320" cy="274680"/>
                </a:xfrm>
                <a:prstGeom prst="rect">
                  <a:avLst/>
                </a:prstGeom>
                <a:solidFill>
                  <a:srgbClr val="e6e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69280" y="132480"/>
                  <a:ext cx="100440" cy="274680"/>
                </a:xfrm>
                <a:prstGeom prst="rect">
                  <a:avLst/>
                </a:prstGeom>
                <a:solidFill>
                  <a:srgbClr val="e8e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69720" y="132480"/>
                  <a:ext cx="136800" cy="274680"/>
                </a:xfrm>
                <a:prstGeom prst="rect">
                  <a:avLst/>
                </a:prstGeom>
                <a:solidFill>
                  <a:srgbClr val="eaea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806880" y="132480"/>
                  <a:ext cx="136800" cy="274680"/>
                </a:xfrm>
                <a:prstGeom prst="rect">
                  <a:avLst/>
                </a:prstGeom>
                <a:solidFill>
                  <a:srgbClr val="ece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944040" y="132480"/>
                  <a:ext cx="133920" cy="274680"/>
                </a:xfrm>
                <a:prstGeom prst="rect">
                  <a:avLst/>
                </a:prstGeom>
                <a:solidFill>
                  <a:srgbClr val="eeee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77960" y="132480"/>
                  <a:ext cx="136800" cy="274680"/>
                </a:xfrm>
                <a:prstGeom prst="rect">
                  <a:avLst/>
                </a:prstGeom>
                <a:solidFill>
                  <a:srgbClr val="f0f0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215120" y="132480"/>
                  <a:ext cx="136800" cy="274680"/>
                </a:xfrm>
                <a:prstGeom prst="rect">
                  <a:avLst/>
                </a:prstGeom>
                <a:solidFill>
                  <a:srgbClr val="f2f2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352280" y="132480"/>
                  <a:ext cx="136800" cy="274680"/>
                </a:xfrm>
                <a:prstGeom prst="rect">
                  <a:avLst/>
                </a:prstGeom>
                <a:solidFill>
                  <a:srgbClr val="f3f3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489440" y="132480"/>
                  <a:ext cx="204120" cy="274680"/>
                </a:xfrm>
                <a:prstGeom prst="rect">
                  <a:avLst/>
                </a:prstGeom>
                <a:solidFill>
                  <a:srgbClr val="f5f5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693560" y="132480"/>
                  <a:ext cx="170640" cy="274680"/>
                </a:xfrm>
                <a:prstGeom prst="rect">
                  <a:avLst/>
                </a:prstGeom>
                <a:solidFill>
                  <a:srgbClr val="f7f7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864200" y="132480"/>
                  <a:ext cx="170640" cy="274680"/>
                </a:xfrm>
                <a:prstGeom prst="rect">
                  <a:avLst/>
                </a:prstGeom>
                <a:solidFill>
                  <a:srgbClr val="f8f8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34840" y="132480"/>
                  <a:ext cx="304560" cy="274680"/>
                </a:xfrm>
                <a:prstGeom prst="rect">
                  <a:avLst/>
                </a:prstGeom>
                <a:solidFill>
                  <a:srgbClr val="fafa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339760" y="132480"/>
                  <a:ext cx="307440" cy="27468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647560" y="132480"/>
                  <a:ext cx="341280" cy="274680"/>
                </a:xfrm>
                <a:prstGeom prst="rect">
                  <a:avLst/>
                </a:prstGeom>
                <a:solidFill>
                  <a:srgbClr val="fdfd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988840" y="132480"/>
                  <a:ext cx="155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410400" y="135000"/>
                <a:ext cx="137880" cy="141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8280" y="0"/>
                <a:ext cx="13968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8280" y="135000"/>
                <a:ext cx="139680" cy="141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75400" y="275040"/>
                <a:ext cx="13644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2480" y="136800"/>
                <a:ext cx="141120" cy="138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10400" y="271800"/>
                <a:ext cx="137880" cy="138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75400" y="410040"/>
                <a:ext cx="136440" cy="136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"/>
          <p:cNvSpPr/>
          <p:nvPr/>
        </p:nvSpPr>
        <p:spPr>
          <a:xfrm>
            <a:off x="611280" y="1460520"/>
            <a:ext cx="748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S routes - 8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8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Total length of ATS routes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– 80 718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к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ir corridors – 7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C Centres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C Towers -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97"/>
          <p:cNvSpPr/>
          <p:nvPr/>
        </p:nvSpPr>
        <p:spPr>
          <a:xfrm>
            <a:off x="714960" y="495360"/>
            <a:ext cx="755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  <a:ea typeface="Arial"/>
              </a:rPr>
              <a:t>Structure of air space of Republic of Kazakhstan</a:t>
            </a:r>
            <a:r>
              <a:rPr b="1" lang="ru-RU" sz="2400" spc="-1" strike="noStrike">
                <a:solidFill>
                  <a:srgbClr val="2b5481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149-C14F-4FF2-86F4-73E6686804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reeform 2"/>
          <p:cNvSpPr/>
          <p:nvPr/>
        </p:nvSpPr>
        <p:spPr>
          <a:xfrm>
            <a:off x="3289320" y="3892680"/>
            <a:ext cx="3365640" cy="2012760"/>
          </a:xfrm>
          <a:custGeom>
            <a:avLst/>
            <a:gdLst>
              <a:gd name="textAreaLeft" fmla="*/ 0 w 3365640"/>
              <a:gd name="textAreaRight" fmla="*/ 3366000 w 3365640"/>
              <a:gd name="textAreaTop" fmla="*/ 0 h 2012760"/>
              <a:gd name="textAreaBottom" fmla="*/ 2013120 h 2012760"/>
            </a:gdLst>
            <a:ahLst/>
            <a:rect l="textAreaLeft" t="textAreaTop" r="textAreaRight" b="textAreaBottom"/>
            <a:pathLst>
              <a:path w="2120" h="1268">
                <a:moveTo>
                  <a:pt x="796" y="828"/>
                </a:moveTo>
                <a:lnTo>
                  <a:pt x="547" y="951"/>
                </a:lnTo>
                <a:lnTo>
                  <a:pt x="505" y="945"/>
                </a:lnTo>
                <a:lnTo>
                  <a:pt x="256" y="766"/>
                </a:lnTo>
                <a:lnTo>
                  <a:pt x="30" y="559"/>
                </a:lnTo>
                <a:lnTo>
                  <a:pt x="0" y="529"/>
                </a:lnTo>
                <a:lnTo>
                  <a:pt x="517" y="0"/>
                </a:lnTo>
                <a:lnTo>
                  <a:pt x="1224" y="262"/>
                </a:lnTo>
                <a:lnTo>
                  <a:pt x="1265" y="274"/>
                </a:lnTo>
                <a:lnTo>
                  <a:pt x="1289" y="285"/>
                </a:lnTo>
                <a:lnTo>
                  <a:pt x="1760" y="260"/>
                </a:lnTo>
                <a:lnTo>
                  <a:pt x="2000" y="316"/>
                </a:lnTo>
                <a:lnTo>
                  <a:pt x="2120" y="540"/>
                </a:lnTo>
                <a:lnTo>
                  <a:pt x="2080" y="588"/>
                </a:lnTo>
                <a:lnTo>
                  <a:pt x="2000" y="628"/>
                </a:lnTo>
                <a:lnTo>
                  <a:pt x="1984" y="732"/>
                </a:lnTo>
                <a:lnTo>
                  <a:pt x="1672" y="724"/>
                </a:lnTo>
                <a:lnTo>
                  <a:pt x="1632" y="828"/>
                </a:lnTo>
                <a:lnTo>
                  <a:pt x="1552" y="844"/>
                </a:lnTo>
                <a:lnTo>
                  <a:pt x="1520" y="876"/>
                </a:lnTo>
                <a:lnTo>
                  <a:pt x="1528" y="932"/>
                </a:lnTo>
                <a:lnTo>
                  <a:pt x="1568" y="932"/>
                </a:lnTo>
                <a:lnTo>
                  <a:pt x="1558" y="952"/>
                </a:lnTo>
                <a:lnTo>
                  <a:pt x="1542" y="966"/>
                </a:lnTo>
                <a:lnTo>
                  <a:pt x="1526" y="980"/>
                </a:lnTo>
                <a:lnTo>
                  <a:pt x="1526" y="988"/>
                </a:lnTo>
                <a:lnTo>
                  <a:pt x="1506" y="994"/>
                </a:lnTo>
                <a:lnTo>
                  <a:pt x="1476" y="1014"/>
                </a:lnTo>
                <a:lnTo>
                  <a:pt x="1464" y="1032"/>
                </a:lnTo>
                <a:lnTo>
                  <a:pt x="1440" y="1042"/>
                </a:lnTo>
                <a:lnTo>
                  <a:pt x="1436" y="1066"/>
                </a:lnTo>
                <a:lnTo>
                  <a:pt x="1428" y="1078"/>
                </a:lnTo>
                <a:lnTo>
                  <a:pt x="1410" y="1080"/>
                </a:lnTo>
                <a:lnTo>
                  <a:pt x="1386" y="1098"/>
                </a:lnTo>
                <a:lnTo>
                  <a:pt x="1388" y="1128"/>
                </a:lnTo>
                <a:lnTo>
                  <a:pt x="1366" y="1136"/>
                </a:lnTo>
                <a:lnTo>
                  <a:pt x="1348" y="1150"/>
                </a:lnTo>
                <a:lnTo>
                  <a:pt x="1342" y="1168"/>
                </a:lnTo>
                <a:lnTo>
                  <a:pt x="1340" y="1184"/>
                </a:lnTo>
                <a:lnTo>
                  <a:pt x="1326" y="1190"/>
                </a:lnTo>
                <a:lnTo>
                  <a:pt x="1304" y="1184"/>
                </a:lnTo>
                <a:lnTo>
                  <a:pt x="1300" y="1194"/>
                </a:lnTo>
                <a:lnTo>
                  <a:pt x="1318" y="1204"/>
                </a:lnTo>
                <a:lnTo>
                  <a:pt x="1320" y="1228"/>
                </a:lnTo>
                <a:lnTo>
                  <a:pt x="1334" y="1236"/>
                </a:lnTo>
                <a:lnTo>
                  <a:pt x="1334" y="1250"/>
                </a:lnTo>
                <a:lnTo>
                  <a:pt x="1342" y="1260"/>
                </a:lnTo>
                <a:lnTo>
                  <a:pt x="1334" y="1268"/>
                </a:lnTo>
                <a:lnTo>
                  <a:pt x="1304" y="1262"/>
                </a:lnTo>
                <a:lnTo>
                  <a:pt x="1262" y="1244"/>
                </a:lnTo>
                <a:lnTo>
                  <a:pt x="1250" y="1238"/>
                </a:lnTo>
                <a:lnTo>
                  <a:pt x="1242" y="1224"/>
                </a:lnTo>
                <a:lnTo>
                  <a:pt x="1252" y="1202"/>
                </a:lnTo>
                <a:lnTo>
                  <a:pt x="1252" y="1192"/>
                </a:lnTo>
                <a:lnTo>
                  <a:pt x="1228" y="1186"/>
                </a:lnTo>
                <a:lnTo>
                  <a:pt x="1220" y="1168"/>
                </a:lnTo>
                <a:lnTo>
                  <a:pt x="1184" y="1168"/>
                </a:lnTo>
                <a:lnTo>
                  <a:pt x="1162" y="1176"/>
                </a:lnTo>
                <a:lnTo>
                  <a:pt x="1124" y="1182"/>
                </a:lnTo>
                <a:lnTo>
                  <a:pt x="1090" y="1192"/>
                </a:lnTo>
                <a:lnTo>
                  <a:pt x="1064" y="1188"/>
                </a:lnTo>
                <a:lnTo>
                  <a:pt x="1048" y="1194"/>
                </a:lnTo>
                <a:lnTo>
                  <a:pt x="1018" y="1200"/>
                </a:lnTo>
                <a:lnTo>
                  <a:pt x="970" y="1084"/>
                </a:lnTo>
                <a:lnTo>
                  <a:pt x="968" y="1058"/>
                </a:lnTo>
                <a:lnTo>
                  <a:pt x="924" y="1056"/>
                </a:lnTo>
                <a:lnTo>
                  <a:pt x="886" y="1044"/>
                </a:lnTo>
                <a:lnTo>
                  <a:pt x="870" y="988"/>
                </a:lnTo>
                <a:lnTo>
                  <a:pt x="870" y="968"/>
                </a:lnTo>
                <a:lnTo>
                  <a:pt x="888" y="962"/>
                </a:lnTo>
                <a:lnTo>
                  <a:pt x="892" y="900"/>
                </a:lnTo>
                <a:lnTo>
                  <a:pt x="876" y="852"/>
                </a:lnTo>
                <a:lnTo>
                  <a:pt x="858" y="854"/>
                </a:lnTo>
                <a:lnTo>
                  <a:pt x="840" y="862"/>
                </a:lnTo>
                <a:lnTo>
                  <a:pt x="826" y="868"/>
                </a:lnTo>
                <a:lnTo>
                  <a:pt x="796" y="828"/>
                </a:lnTo>
                <a:close/>
              </a:path>
            </a:pathLst>
          </a:custGeom>
          <a:solidFill>
            <a:srgbClr val="ffcc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Freeform 3"/>
          <p:cNvSpPr/>
          <p:nvPr/>
        </p:nvSpPr>
        <p:spPr>
          <a:xfrm>
            <a:off x="5727600" y="2949480"/>
            <a:ext cx="1460520" cy="145728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920" h="918">
                <a:moveTo>
                  <a:pt x="144" y="870"/>
                </a:moveTo>
                <a:lnTo>
                  <a:pt x="0" y="252"/>
                </a:lnTo>
                <a:lnTo>
                  <a:pt x="332" y="188"/>
                </a:lnTo>
                <a:lnTo>
                  <a:pt x="528" y="0"/>
                </a:lnTo>
                <a:lnTo>
                  <a:pt x="920" y="522"/>
                </a:lnTo>
                <a:lnTo>
                  <a:pt x="736" y="578"/>
                </a:lnTo>
                <a:lnTo>
                  <a:pt x="464" y="918"/>
                </a:lnTo>
                <a:lnTo>
                  <a:pt x="256" y="866"/>
                </a:lnTo>
                <a:lnTo>
                  <a:pt x="144" y="87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Freeform 4"/>
          <p:cNvSpPr/>
          <p:nvPr/>
        </p:nvSpPr>
        <p:spPr>
          <a:xfrm>
            <a:off x="3133800" y="1444680"/>
            <a:ext cx="1492200" cy="150480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1504800"/>
              <a:gd name="textAreaBottom" fmla="*/ 1505160 h 1504800"/>
            </a:gdLst>
            <a:ahLst/>
            <a:rect l="textAreaLeft" t="textAreaTop" r="textAreaRight" b="textAreaBottom"/>
            <a:pathLst>
              <a:path w="940" h="948">
                <a:moveTo>
                  <a:pt x="324" y="948"/>
                </a:moveTo>
                <a:lnTo>
                  <a:pt x="196" y="800"/>
                </a:lnTo>
                <a:lnTo>
                  <a:pt x="204" y="740"/>
                </a:lnTo>
                <a:lnTo>
                  <a:pt x="192" y="716"/>
                </a:lnTo>
                <a:lnTo>
                  <a:pt x="178" y="710"/>
                </a:lnTo>
                <a:lnTo>
                  <a:pt x="162" y="710"/>
                </a:lnTo>
                <a:lnTo>
                  <a:pt x="152" y="716"/>
                </a:lnTo>
                <a:lnTo>
                  <a:pt x="128" y="716"/>
                </a:lnTo>
                <a:lnTo>
                  <a:pt x="108" y="690"/>
                </a:lnTo>
                <a:lnTo>
                  <a:pt x="86" y="684"/>
                </a:lnTo>
                <a:lnTo>
                  <a:pt x="62" y="678"/>
                </a:lnTo>
                <a:lnTo>
                  <a:pt x="52" y="668"/>
                </a:lnTo>
                <a:lnTo>
                  <a:pt x="48" y="648"/>
                </a:lnTo>
                <a:lnTo>
                  <a:pt x="44" y="638"/>
                </a:lnTo>
                <a:lnTo>
                  <a:pt x="8" y="634"/>
                </a:lnTo>
                <a:lnTo>
                  <a:pt x="0" y="628"/>
                </a:lnTo>
                <a:lnTo>
                  <a:pt x="2" y="614"/>
                </a:lnTo>
                <a:lnTo>
                  <a:pt x="24" y="608"/>
                </a:lnTo>
                <a:lnTo>
                  <a:pt x="28" y="586"/>
                </a:lnTo>
                <a:lnTo>
                  <a:pt x="62" y="570"/>
                </a:lnTo>
                <a:lnTo>
                  <a:pt x="96" y="546"/>
                </a:lnTo>
                <a:lnTo>
                  <a:pt x="106" y="528"/>
                </a:lnTo>
                <a:lnTo>
                  <a:pt x="90" y="498"/>
                </a:lnTo>
                <a:lnTo>
                  <a:pt x="74" y="474"/>
                </a:lnTo>
                <a:lnTo>
                  <a:pt x="78" y="456"/>
                </a:lnTo>
                <a:lnTo>
                  <a:pt x="94" y="422"/>
                </a:lnTo>
                <a:lnTo>
                  <a:pt x="108" y="402"/>
                </a:lnTo>
                <a:lnTo>
                  <a:pt x="138" y="394"/>
                </a:lnTo>
                <a:lnTo>
                  <a:pt x="170" y="392"/>
                </a:lnTo>
                <a:lnTo>
                  <a:pt x="186" y="404"/>
                </a:lnTo>
                <a:lnTo>
                  <a:pt x="196" y="396"/>
                </a:lnTo>
                <a:lnTo>
                  <a:pt x="220" y="396"/>
                </a:lnTo>
                <a:lnTo>
                  <a:pt x="230" y="386"/>
                </a:lnTo>
                <a:lnTo>
                  <a:pt x="224" y="368"/>
                </a:lnTo>
                <a:lnTo>
                  <a:pt x="216" y="362"/>
                </a:lnTo>
                <a:lnTo>
                  <a:pt x="198" y="356"/>
                </a:lnTo>
                <a:lnTo>
                  <a:pt x="182" y="348"/>
                </a:lnTo>
                <a:lnTo>
                  <a:pt x="182" y="340"/>
                </a:lnTo>
                <a:lnTo>
                  <a:pt x="164" y="340"/>
                </a:lnTo>
                <a:lnTo>
                  <a:pt x="148" y="350"/>
                </a:lnTo>
                <a:lnTo>
                  <a:pt x="138" y="342"/>
                </a:lnTo>
                <a:lnTo>
                  <a:pt x="120" y="332"/>
                </a:lnTo>
                <a:lnTo>
                  <a:pt x="120" y="314"/>
                </a:lnTo>
                <a:lnTo>
                  <a:pt x="128" y="298"/>
                </a:lnTo>
                <a:lnTo>
                  <a:pt x="140" y="294"/>
                </a:lnTo>
                <a:lnTo>
                  <a:pt x="148" y="298"/>
                </a:lnTo>
                <a:lnTo>
                  <a:pt x="154" y="286"/>
                </a:lnTo>
                <a:lnTo>
                  <a:pt x="154" y="276"/>
                </a:lnTo>
                <a:lnTo>
                  <a:pt x="136" y="272"/>
                </a:lnTo>
                <a:lnTo>
                  <a:pt x="116" y="276"/>
                </a:lnTo>
                <a:lnTo>
                  <a:pt x="90" y="276"/>
                </a:lnTo>
                <a:lnTo>
                  <a:pt x="86" y="268"/>
                </a:lnTo>
                <a:lnTo>
                  <a:pt x="82" y="252"/>
                </a:lnTo>
                <a:lnTo>
                  <a:pt x="96" y="252"/>
                </a:lnTo>
                <a:lnTo>
                  <a:pt x="108" y="248"/>
                </a:lnTo>
                <a:lnTo>
                  <a:pt x="112" y="230"/>
                </a:lnTo>
                <a:lnTo>
                  <a:pt x="94" y="220"/>
                </a:lnTo>
                <a:lnTo>
                  <a:pt x="94" y="204"/>
                </a:lnTo>
                <a:lnTo>
                  <a:pt x="106" y="198"/>
                </a:lnTo>
                <a:lnTo>
                  <a:pt x="120" y="206"/>
                </a:lnTo>
                <a:lnTo>
                  <a:pt x="128" y="184"/>
                </a:lnTo>
                <a:lnTo>
                  <a:pt x="144" y="178"/>
                </a:lnTo>
                <a:lnTo>
                  <a:pt x="156" y="196"/>
                </a:lnTo>
                <a:lnTo>
                  <a:pt x="164" y="184"/>
                </a:lnTo>
                <a:lnTo>
                  <a:pt x="182" y="184"/>
                </a:lnTo>
                <a:lnTo>
                  <a:pt x="192" y="192"/>
                </a:lnTo>
                <a:lnTo>
                  <a:pt x="206" y="176"/>
                </a:lnTo>
                <a:lnTo>
                  <a:pt x="220" y="166"/>
                </a:lnTo>
                <a:lnTo>
                  <a:pt x="236" y="158"/>
                </a:lnTo>
                <a:lnTo>
                  <a:pt x="248" y="166"/>
                </a:lnTo>
                <a:lnTo>
                  <a:pt x="252" y="188"/>
                </a:lnTo>
                <a:lnTo>
                  <a:pt x="266" y="184"/>
                </a:lnTo>
                <a:lnTo>
                  <a:pt x="274" y="160"/>
                </a:lnTo>
                <a:lnTo>
                  <a:pt x="286" y="154"/>
                </a:lnTo>
                <a:lnTo>
                  <a:pt x="308" y="164"/>
                </a:lnTo>
                <a:lnTo>
                  <a:pt x="326" y="146"/>
                </a:lnTo>
                <a:lnTo>
                  <a:pt x="344" y="136"/>
                </a:lnTo>
                <a:lnTo>
                  <a:pt x="364" y="136"/>
                </a:lnTo>
                <a:lnTo>
                  <a:pt x="388" y="118"/>
                </a:lnTo>
                <a:lnTo>
                  <a:pt x="432" y="102"/>
                </a:lnTo>
                <a:lnTo>
                  <a:pt x="484" y="82"/>
                </a:lnTo>
                <a:lnTo>
                  <a:pt x="508" y="74"/>
                </a:lnTo>
                <a:lnTo>
                  <a:pt x="524" y="70"/>
                </a:lnTo>
                <a:lnTo>
                  <a:pt x="550" y="82"/>
                </a:lnTo>
                <a:lnTo>
                  <a:pt x="562" y="80"/>
                </a:lnTo>
                <a:lnTo>
                  <a:pt x="568" y="72"/>
                </a:lnTo>
                <a:lnTo>
                  <a:pt x="564" y="46"/>
                </a:lnTo>
                <a:lnTo>
                  <a:pt x="584" y="18"/>
                </a:lnTo>
                <a:lnTo>
                  <a:pt x="618" y="16"/>
                </a:lnTo>
                <a:lnTo>
                  <a:pt x="632" y="0"/>
                </a:lnTo>
                <a:lnTo>
                  <a:pt x="644" y="2"/>
                </a:lnTo>
                <a:lnTo>
                  <a:pt x="642" y="18"/>
                </a:lnTo>
                <a:lnTo>
                  <a:pt x="658" y="16"/>
                </a:lnTo>
                <a:lnTo>
                  <a:pt x="940" y="474"/>
                </a:lnTo>
                <a:lnTo>
                  <a:pt x="742" y="920"/>
                </a:lnTo>
                <a:lnTo>
                  <a:pt x="324" y="948"/>
                </a:lnTo>
                <a:close/>
              </a:path>
            </a:pathLst>
          </a:custGeom>
          <a:solidFill>
            <a:srgbClr val="00cc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Freeform 5"/>
          <p:cNvSpPr/>
          <p:nvPr/>
        </p:nvSpPr>
        <p:spPr>
          <a:xfrm>
            <a:off x="1641600" y="2705040"/>
            <a:ext cx="2092320" cy="139068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318" h="876">
                <a:moveTo>
                  <a:pt x="754" y="870"/>
                </a:moveTo>
                <a:lnTo>
                  <a:pt x="578" y="876"/>
                </a:lnTo>
                <a:lnTo>
                  <a:pt x="466" y="682"/>
                </a:lnTo>
                <a:lnTo>
                  <a:pt x="348" y="470"/>
                </a:lnTo>
                <a:lnTo>
                  <a:pt x="0" y="414"/>
                </a:lnTo>
                <a:lnTo>
                  <a:pt x="360" y="94"/>
                </a:lnTo>
                <a:lnTo>
                  <a:pt x="384" y="94"/>
                </a:lnTo>
                <a:lnTo>
                  <a:pt x="394" y="106"/>
                </a:lnTo>
                <a:lnTo>
                  <a:pt x="398" y="116"/>
                </a:lnTo>
                <a:lnTo>
                  <a:pt x="414" y="120"/>
                </a:lnTo>
                <a:lnTo>
                  <a:pt x="442" y="110"/>
                </a:lnTo>
                <a:lnTo>
                  <a:pt x="464" y="92"/>
                </a:lnTo>
                <a:lnTo>
                  <a:pt x="470" y="84"/>
                </a:lnTo>
                <a:lnTo>
                  <a:pt x="474" y="74"/>
                </a:lnTo>
                <a:lnTo>
                  <a:pt x="476" y="60"/>
                </a:lnTo>
                <a:lnTo>
                  <a:pt x="478" y="46"/>
                </a:lnTo>
                <a:lnTo>
                  <a:pt x="486" y="46"/>
                </a:lnTo>
                <a:lnTo>
                  <a:pt x="494" y="50"/>
                </a:lnTo>
                <a:lnTo>
                  <a:pt x="500" y="32"/>
                </a:lnTo>
                <a:lnTo>
                  <a:pt x="518" y="40"/>
                </a:lnTo>
                <a:lnTo>
                  <a:pt x="518" y="28"/>
                </a:lnTo>
                <a:lnTo>
                  <a:pt x="526" y="18"/>
                </a:lnTo>
                <a:lnTo>
                  <a:pt x="538" y="32"/>
                </a:lnTo>
                <a:lnTo>
                  <a:pt x="548" y="24"/>
                </a:lnTo>
                <a:lnTo>
                  <a:pt x="566" y="18"/>
                </a:lnTo>
                <a:lnTo>
                  <a:pt x="584" y="12"/>
                </a:lnTo>
                <a:lnTo>
                  <a:pt x="600" y="12"/>
                </a:lnTo>
                <a:lnTo>
                  <a:pt x="612" y="18"/>
                </a:lnTo>
                <a:lnTo>
                  <a:pt x="624" y="32"/>
                </a:lnTo>
                <a:lnTo>
                  <a:pt x="632" y="46"/>
                </a:lnTo>
                <a:lnTo>
                  <a:pt x="642" y="56"/>
                </a:lnTo>
                <a:lnTo>
                  <a:pt x="648" y="44"/>
                </a:lnTo>
                <a:lnTo>
                  <a:pt x="660" y="46"/>
                </a:lnTo>
                <a:lnTo>
                  <a:pt x="674" y="50"/>
                </a:lnTo>
                <a:lnTo>
                  <a:pt x="682" y="38"/>
                </a:lnTo>
                <a:lnTo>
                  <a:pt x="682" y="12"/>
                </a:lnTo>
                <a:lnTo>
                  <a:pt x="690" y="6"/>
                </a:lnTo>
                <a:lnTo>
                  <a:pt x="702" y="12"/>
                </a:lnTo>
                <a:lnTo>
                  <a:pt x="718" y="18"/>
                </a:lnTo>
                <a:lnTo>
                  <a:pt x="730" y="24"/>
                </a:lnTo>
                <a:lnTo>
                  <a:pt x="740" y="6"/>
                </a:lnTo>
                <a:lnTo>
                  <a:pt x="744" y="0"/>
                </a:lnTo>
                <a:lnTo>
                  <a:pt x="756" y="6"/>
                </a:lnTo>
                <a:lnTo>
                  <a:pt x="760" y="22"/>
                </a:lnTo>
                <a:lnTo>
                  <a:pt x="782" y="22"/>
                </a:lnTo>
                <a:lnTo>
                  <a:pt x="786" y="32"/>
                </a:lnTo>
                <a:lnTo>
                  <a:pt x="778" y="78"/>
                </a:lnTo>
                <a:lnTo>
                  <a:pt x="804" y="84"/>
                </a:lnTo>
                <a:lnTo>
                  <a:pt x="810" y="88"/>
                </a:lnTo>
                <a:lnTo>
                  <a:pt x="824" y="92"/>
                </a:lnTo>
                <a:lnTo>
                  <a:pt x="842" y="94"/>
                </a:lnTo>
                <a:lnTo>
                  <a:pt x="844" y="100"/>
                </a:lnTo>
                <a:lnTo>
                  <a:pt x="874" y="102"/>
                </a:lnTo>
                <a:lnTo>
                  <a:pt x="886" y="110"/>
                </a:lnTo>
                <a:lnTo>
                  <a:pt x="888" y="120"/>
                </a:lnTo>
                <a:lnTo>
                  <a:pt x="900" y="132"/>
                </a:lnTo>
                <a:lnTo>
                  <a:pt x="924" y="124"/>
                </a:lnTo>
                <a:lnTo>
                  <a:pt x="944" y="102"/>
                </a:lnTo>
                <a:lnTo>
                  <a:pt x="954" y="84"/>
                </a:lnTo>
                <a:lnTo>
                  <a:pt x="952" y="68"/>
                </a:lnTo>
                <a:lnTo>
                  <a:pt x="960" y="58"/>
                </a:lnTo>
                <a:lnTo>
                  <a:pt x="972" y="62"/>
                </a:lnTo>
                <a:lnTo>
                  <a:pt x="986" y="78"/>
                </a:lnTo>
                <a:lnTo>
                  <a:pt x="1004" y="92"/>
                </a:lnTo>
                <a:lnTo>
                  <a:pt x="1028" y="88"/>
                </a:lnTo>
                <a:lnTo>
                  <a:pt x="1052" y="84"/>
                </a:lnTo>
                <a:lnTo>
                  <a:pt x="1086" y="74"/>
                </a:lnTo>
                <a:lnTo>
                  <a:pt x="1104" y="64"/>
                </a:lnTo>
                <a:lnTo>
                  <a:pt x="1120" y="50"/>
                </a:lnTo>
                <a:lnTo>
                  <a:pt x="1130" y="30"/>
                </a:lnTo>
                <a:lnTo>
                  <a:pt x="1136" y="14"/>
                </a:lnTo>
                <a:lnTo>
                  <a:pt x="1266" y="164"/>
                </a:lnTo>
                <a:lnTo>
                  <a:pt x="1290" y="296"/>
                </a:lnTo>
                <a:lnTo>
                  <a:pt x="1318" y="479"/>
                </a:lnTo>
                <a:lnTo>
                  <a:pt x="940" y="646"/>
                </a:lnTo>
                <a:lnTo>
                  <a:pt x="754" y="87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reeform 6"/>
          <p:cNvSpPr/>
          <p:nvPr/>
        </p:nvSpPr>
        <p:spPr>
          <a:xfrm>
            <a:off x="6188040" y="1298520"/>
            <a:ext cx="2511360" cy="2479680"/>
          </a:xfrm>
          <a:custGeom>
            <a:avLst/>
            <a:gdLst>
              <a:gd name="textAreaLeft" fmla="*/ 0 w 2511360"/>
              <a:gd name="textAreaRight" fmla="*/ 2511720 w 2511360"/>
              <a:gd name="textAreaTop" fmla="*/ 0 h 2479680"/>
              <a:gd name="textAreaBottom" fmla="*/ 2480040 h 2479680"/>
            </a:gdLst>
            <a:ahLst/>
            <a:rect l="textAreaLeft" t="textAreaTop" r="textAreaRight" b="textAreaBottom"/>
            <a:pathLst>
              <a:path w="1582" h="1562">
                <a:moveTo>
                  <a:pt x="241" y="1045"/>
                </a:moveTo>
                <a:lnTo>
                  <a:pt x="194" y="830"/>
                </a:lnTo>
                <a:lnTo>
                  <a:pt x="88" y="708"/>
                </a:lnTo>
                <a:lnTo>
                  <a:pt x="0" y="0"/>
                </a:lnTo>
                <a:lnTo>
                  <a:pt x="32" y="44"/>
                </a:lnTo>
                <a:lnTo>
                  <a:pt x="204" y="122"/>
                </a:lnTo>
                <a:lnTo>
                  <a:pt x="490" y="426"/>
                </a:lnTo>
                <a:lnTo>
                  <a:pt x="610" y="548"/>
                </a:lnTo>
                <a:lnTo>
                  <a:pt x="612" y="540"/>
                </a:lnTo>
                <a:lnTo>
                  <a:pt x="626" y="540"/>
                </a:lnTo>
                <a:lnTo>
                  <a:pt x="626" y="516"/>
                </a:lnTo>
                <a:lnTo>
                  <a:pt x="644" y="516"/>
                </a:lnTo>
                <a:lnTo>
                  <a:pt x="652" y="510"/>
                </a:lnTo>
                <a:lnTo>
                  <a:pt x="644" y="490"/>
                </a:lnTo>
                <a:lnTo>
                  <a:pt x="658" y="478"/>
                </a:lnTo>
                <a:lnTo>
                  <a:pt x="658" y="456"/>
                </a:lnTo>
                <a:lnTo>
                  <a:pt x="680" y="452"/>
                </a:lnTo>
                <a:lnTo>
                  <a:pt x="720" y="470"/>
                </a:lnTo>
                <a:lnTo>
                  <a:pt x="750" y="462"/>
                </a:lnTo>
                <a:lnTo>
                  <a:pt x="772" y="466"/>
                </a:lnTo>
                <a:lnTo>
                  <a:pt x="782" y="498"/>
                </a:lnTo>
                <a:lnTo>
                  <a:pt x="804" y="496"/>
                </a:lnTo>
                <a:lnTo>
                  <a:pt x="826" y="472"/>
                </a:lnTo>
                <a:lnTo>
                  <a:pt x="848" y="470"/>
                </a:lnTo>
                <a:lnTo>
                  <a:pt x="866" y="476"/>
                </a:lnTo>
                <a:lnTo>
                  <a:pt x="896" y="452"/>
                </a:lnTo>
                <a:lnTo>
                  <a:pt x="928" y="452"/>
                </a:lnTo>
                <a:lnTo>
                  <a:pt x="946" y="424"/>
                </a:lnTo>
                <a:lnTo>
                  <a:pt x="988" y="406"/>
                </a:lnTo>
                <a:lnTo>
                  <a:pt x="1030" y="410"/>
                </a:lnTo>
                <a:lnTo>
                  <a:pt x="1050" y="402"/>
                </a:lnTo>
                <a:lnTo>
                  <a:pt x="1060" y="388"/>
                </a:lnTo>
                <a:lnTo>
                  <a:pt x="1086" y="396"/>
                </a:lnTo>
                <a:lnTo>
                  <a:pt x="1102" y="404"/>
                </a:lnTo>
                <a:lnTo>
                  <a:pt x="1110" y="426"/>
                </a:lnTo>
                <a:lnTo>
                  <a:pt x="1132" y="422"/>
                </a:lnTo>
                <a:lnTo>
                  <a:pt x="1142" y="462"/>
                </a:lnTo>
                <a:lnTo>
                  <a:pt x="1162" y="478"/>
                </a:lnTo>
                <a:lnTo>
                  <a:pt x="1192" y="482"/>
                </a:lnTo>
                <a:lnTo>
                  <a:pt x="1214" y="472"/>
                </a:lnTo>
                <a:lnTo>
                  <a:pt x="1240" y="480"/>
                </a:lnTo>
                <a:lnTo>
                  <a:pt x="1248" y="490"/>
                </a:lnTo>
                <a:lnTo>
                  <a:pt x="1248" y="508"/>
                </a:lnTo>
                <a:lnTo>
                  <a:pt x="1252" y="522"/>
                </a:lnTo>
                <a:lnTo>
                  <a:pt x="1264" y="524"/>
                </a:lnTo>
                <a:lnTo>
                  <a:pt x="1276" y="524"/>
                </a:lnTo>
                <a:lnTo>
                  <a:pt x="1286" y="532"/>
                </a:lnTo>
                <a:lnTo>
                  <a:pt x="1286" y="548"/>
                </a:lnTo>
                <a:lnTo>
                  <a:pt x="1300" y="556"/>
                </a:lnTo>
                <a:lnTo>
                  <a:pt x="1346" y="540"/>
                </a:lnTo>
                <a:lnTo>
                  <a:pt x="1374" y="546"/>
                </a:lnTo>
                <a:lnTo>
                  <a:pt x="1388" y="534"/>
                </a:lnTo>
                <a:lnTo>
                  <a:pt x="1430" y="538"/>
                </a:lnTo>
                <a:lnTo>
                  <a:pt x="1442" y="522"/>
                </a:lnTo>
                <a:lnTo>
                  <a:pt x="1446" y="502"/>
                </a:lnTo>
                <a:lnTo>
                  <a:pt x="1456" y="492"/>
                </a:lnTo>
                <a:lnTo>
                  <a:pt x="1450" y="470"/>
                </a:lnTo>
                <a:lnTo>
                  <a:pt x="1458" y="458"/>
                </a:lnTo>
                <a:lnTo>
                  <a:pt x="1472" y="452"/>
                </a:lnTo>
                <a:lnTo>
                  <a:pt x="1484" y="458"/>
                </a:lnTo>
                <a:lnTo>
                  <a:pt x="1484" y="478"/>
                </a:lnTo>
                <a:lnTo>
                  <a:pt x="1476" y="488"/>
                </a:lnTo>
                <a:lnTo>
                  <a:pt x="1482" y="502"/>
                </a:lnTo>
                <a:lnTo>
                  <a:pt x="1494" y="500"/>
                </a:lnTo>
                <a:lnTo>
                  <a:pt x="1508" y="516"/>
                </a:lnTo>
                <a:lnTo>
                  <a:pt x="1536" y="512"/>
                </a:lnTo>
                <a:lnTo>
                  <a:pt x="1550" y="530"/>
                </a:lnTo>
                <a:lnTo>
                  <a:pt x="1582" y="526"/>
                </a:lnTo>
                <a:lnTo>
                  <a:pt x="1582" y="548"/>
                </a:lnTo>
                <a:lnTo>
                  <a:pt x="1564" y="572"/>
                </a:lnTo>
                <a:lnTo>
                  <a:pt x="1542" y="588"/>
                </a:lnTo>
                <a:lnTo>
                  <a:pt x="1546" y="604"/>
                </a:lnTo>
                <a:lnTo>
                  <a:pt x="1558" y="618"/>
                </a:lnTo>
                <a:lnTo>
                  <a:pt x="1550" y="638"/>
                </a:lnTo>
                <a:lnTo>
                  <a:pt x="1550" y="660"/>
                </a:lnTo>
                <a:lnTo>
                  <a:pt x="1560" y="674"/>
                </a:lnTo>
                <a:lnTo>
                  <a:pt x="1544" y="706"/>
                </a:lnTo>
                <a:lnTo>
                  <a:pt x="1520" y="710"/>
                </a:lnTo>
                <a:lnTo>
                  <a:pt x="1516" y="730"/>
                </a:lnTo>
                <a:lnTo>
                  <a:pt x="1460" y="756"/>
                </a:lnTo>
                <a:lnTo>
                  <a:pt x="1442" y="800"/>
                </a:lnTo>
                <a:lnTo>
                  <a:pt x="1450" y="824"/>
                </a:lnTo>
                <a:lnTo>
                  <a:pt x="1468" y="880"/>
                </a:lnTo>
                <a:lnTo>
                  <a:pt x="1502" y="912"/>
                </a:lnTo>
                <a:lnTo>
                  <a:pt x="1528" y="976"/>
                </a:lnTo>
                <a:lnTo>
                  <a:pt x="1528" y="1012"/>
                </a:lnTo>
                <a:lnTo>
                  <a:pt x="1520" y="1026"/>
                </a:lnTo>
                <a:lnTo>
                  <a:pt x="1480" y="1056"/>
                </a:lnTo>
                <a:lnTo>
                  <a:pt x="1480" y="1076"/>
                </a:lnTo>
                <a:lnTo>
                  <a:pt x="1458" y="1106"/>
                </a:lnTo>
                <a:lnTo>
                  <a:pt x="1434" y="1112"/>
                </a:lnTo>
                <a:lnTo>
                  <a:pt x="1428" y="1092"/>
                </a:lnTo>
                <a:lnTo>
                  <a:pt x="1392" y="1088"/>
                </a:lnTo>
                <a:lnTo>
                  <a:pt x="1332" y="1116"/>
                </a:lnTo>
                <a:lnTo>
                  <a:pt x="1280" y="1128"/>
                </a:lnTo>
                <a:lnTo>
                  <a:pt x="1256" y="1110"/>
                </a:lnTo>
                <a:lnTo>
                  <a:pt x="1194" y="1118"/>
                </a:lnTo>
                <a:lnTo>
                  <a:pt x="1194" y="1130"/>
                </a:lnTo>
                <a:lnTo>
                  <a:pt x="1204" y="1154"/>
                </a:lnTo>
                <a:lnTo>
                  <a:pt x="1200" y="1180"/>
                </a:lnTo>
                <a:lnTo>
                  <a:pt x="1210" y="1206"/>
                </a:lnTo>
                <a:lnTo>
                  <a:pt x="1204" y="1240"/>
                </a:lnTo>
                <a:lnTo>
                  <a:pt x="1204" y="1298"/>
                </a:lnTo>
                <a:lnTo>
                  <a:pt x="1204" y="1320"/>
                </a:lnTo>
                <a:lnTo>
                  <a:pt x="1190" y="1324"/>
                </a:lnTo>
                <a:lnTo>
                  <a:pt x="1194" y="1352"/>
                </a:lnTo>
                <a:lnTo>
                  <a:pt x="1214" y="1390"/>
                </a:lnTo>
                <a:lnTo>
                  <a:pt x="1216" y="1452"/>
                </a:lnTo>
                <a:lnTo>
                  <a:pt x="1054" y="1396"/>
                </a:lnTo>
                <a:lnTo>
                  <a:pt x="754" y="1526"/>
                </a:lnTo>
                <a:lnTo>
                  <a:pt x="626" y="1562"/>
                </a:lnTo>
                <a:lnTo>
                  <a:pt x="241" y="1045"/>
                </a:lnTo>
                <a:close/>
              </a:path>
            </a:pathLst>
          </a:custGeom>
          <a:solidFill>
            <a:srgbClr val="00cc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Freeform 7"/>
          <p:cNvSpPr/>
          <p:nvPr/>
        </p:nvSpPr>
        <p:spPr>
          <a:xfrm>
            <a:off x="390600" y="3209760"/>
            <a:ext cx="2165400" cy="1387800"/>
          </a:xfrm>
          <a:custGeom>
            <a:avLst/>
            <a:gdLst>
              <a:gd name="textAreaLeft" fmla="*/ 0 w 2165400"/>
              <a:gd name="textAreaRight" fmla="*/ 2165400 w 2165400"/>
              <a:gd name="textAreaTop" fmla="*/ 0 h 1387800"/>
              <a:gd name="textAreaBottom" fmla="*/ 1388160 h 1387800"/>
            </a:gdLst>
            <a:ahLst/>
            <a:rect l="textAreaLeft" t="textAreaTop" r="textAreaRight" b="textAreaBottom"/>
            <a:pathLst>
              <a:path w="1364" h="874">
                <a:moveTo>
                  <a:pt x="52" y="0"/>
                </a:moveTo>
                <a:lnTo>
                  <a:pt x="678" y="80"/>
                </a:lnTo>
                <a:lnTo>
                  <a:pt x="1134" y="150"/>
                </a:lnTo>
                <a:lnTo>
                  <a:pt x="1364" y="552"/>
                </a:lnTo>
                <a:lnTo>
                  <a:pt x="1056" y="874"/>
                </a:lnTo>
                <a:lnTo>
                  <a:pt x="324" y="678"/>
                </a:lnTo>
                <a:lnTo>
                  <a:pt x="308" y="632"/>
                </a:lnTo>
                <a:lnTo>
                  <a:pt x="318" y="616"/>
                </a:lnTo>
                <a:lnTo>
                  <a:pt x="304" y="592"/>
                </a:lnTo>
                <a:lnTo>
                  <a:pt x="268" y="560"/>
                </a:lnTo>
                <a:lnTo>
                  <a:pt x="226" y="530"/>
                </a:lnTo>
                <a:lnTo>
                  <a:pt x="206" y="504"/>
                </a:lnTo>
                <a:lnTo>
                  <a:pt x="200" y="494"/>
                </a:lnTo>
                <a:lnTo>
                  <a:pt x="214" y="494"/>
                </a:lnTo>
                <a:lnTo>
                  <a:pt x="240" y="506"/>
                </a:lnTo>
                <a:lnTo>
                  <a:pt x="262" y="510"/>
                </a:lnTo>
                <a:lnTo>
                  <a:pt x="270" y="498"/>
                </a:lnTo>
                <a:lnTo>
                  <a:pt x="264" y="476"/>
                </a:lnTo>
                <a:lnTo>
                  <a:pt x="246" y="436"/>
                </a:lnTo>
                <a:lnTo>
                  <a:pt x="238" y="402"/>
                </a:lnTo>
                <a:lnTo>
                  <a:pt x="222" y="394"/>
                </a:lnTo>
                <a:lnTo>
                  <a:pt x="222" y="366"/>
                </a:lnTo>
                <a:lnTo>
                  <a:pt x="206" y="352"/>
                </a:lnTo>
                <a:lnTo>
                  <a:pt x="194" y="322"/>
                </a:lnTo>
                <a:lnTo>
                  <a:pt x="180" y="296"/>
                </a:lnTo>
                <a:lnTo>
                  <a:pt x="162" y="292"/>
                </a:lnTo>
                <a:lnTo>
                  <a:pt x="120" y="286"/>
                </a:lnTo>
                <a:lnTo>
                  <a:pt x="108" y="282"/>
                </a:lnTo>
                <a:lnTo>
                  <a:pt x="96" y="268"/>
                </a:lnTo>
                <a:lnTo>
                  <a:pt x="86" y="262"/>
                </a:lnTo>
                <a:lnTo>
                  <a:pt x="76" y="266"/>
                </a:lnTo>
                <a:lnTo>
                  <a:pt x="78" y="282"/>
                </a:lnTo>
                <a:lnTo>
                  <a:pt x="72" y="286"/>
                </a:lnTo>
                <a:lnTo>
                  <a:pt x="66" y="286"/>
                </a:lnTo>
                <a:lnTo>
                  <a:pt x="44" y="284"/>
                </a:lnTo>
                <a:lnTo>
                  <a:pt x="38" y="262"/>
                </a:lnTo>
                <a:lnTo>
                  <a:pt x="36" y="244"/>
                </a:lnTo>
                <a:lnTo>
                  <a:pt x="34" y="232"/>
                </a:lnTo>
                <a:lnTo>
                  <a:pt x="44" y="216"/>
                </a:lnTo>
                <a:lnTo>
                  <a:pt x="44" y="204"/>
                </a:lnTo>
                <a:lnTo>
                  <a:pt x="38" y="198"/>
                </a:lnTo>
                <a:lnTo>
                  <a:pt x="38" y="176"/>
                </a:lnTo>
                <a:lnTo>
                  <a:pt x="26" y="166"/>
                </a:lnTo>
                <a:lnTo>
                  <a:pt x="12" y="160"/>
                </a:lnTo>
                <a:lnTo>
                  <a:pt x="0" y="144"/>
                </a:lnTo>
                <a:lnTo>
                  <a:pt x="0" y="104"/>
                </a:lnTo>
                <a:lnTo>
                  <a:pt x="10" y="94"/>
                </a:lnTo>
                <a:lnTo>
                  <a:pt x="26" y="82"/>
                </a:lnTo>
                <a:lnTo>
                  <a:pt x="18" y="52"/>
                </a:lnTo>
                <a:lnTo>
                  <a:pt x="16" y="42"/>
                </a:lnTo>
                <a:lnTo>
                  <a:pt x="20" y="28"/>
                </a:lnTo>
                <a:lnTo>
                  <a:pt x="52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Freeform 8"/>
          <p:cNvSpPr/>
          <p:nvPr/>
        </p:nvSpPr>
        <p:spPr>
          <a:xfrm>
            <a:off x="6467400" y="3500280"/>
            <a:ext cx="1743120" cy="136548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1365480"/>
              <a:gd name="textAreaBottom" fmla="*/ 1365840 h 1365480"/>
            </a:gdLst>
            <a:ahLst/>
            <a:rect l="textAreaLeft" t="textAreaTop" r="textAreaRight" b="textAreaBottom"/>
            <a:pathLst>
              <a:path w="1098" h="860">
                <a:moveTo>
                  <a:pt x="0" y="565"/>
                </a:moveTo>
                <a:lnTo>
                  <a:pt x="0" y="567"/>
                </a:lnTo>
                <a:lnTo>
                  <a:pt x="32" y="633"/>
                </a:lnTo>
                <a:lnTo>
                  <a:pt x="32" y="635"/>
                </a:lnTo>
                <a:lnTo>
                  <a:pt x="0" y="567"/>
                </a:lnTo>
                <a:lnTo>
                  <a:pt x="274" y="224"/>
                </a:lnTo>
                <a:lnTo>
                  <a:pt x="568" y="120"/>
                </a:lnTo>
                <a:lnTo>
                  <a:pt x="375" y="623"/>
                </a:lnTo>
                <a:lnTo>
                  <a:pt x="30" y="633"/>
                </a:lnTo>
                <a:lnTo>
                  <a:pt x="374" y="624"/>
                </a:lnTo>
                <a:lnTo>
                  <a:pt x="570" y="118"/>
                </a:lnTo>
                <a:lnTo>
                  <a:pt x="878" y="0"/>
                </a:lnTo>
                <a:lnTo>
                  <a:pt x="1036" y="58"/>
                </a:lnTo>
                <a:lnTo>
                  <a:pt x="1044" y="70"/>
                </a:lnTo>
                <a:lnTo>
                  <a:pt x="1068" y="70"/>
                </a:lnTo>
                <a:lnTo>
                  <a:pt x="1086" y="76"/>
                </a:lnTo>
                <a:lnTo>
                  <a:pt x="1098" y="104"/>
                </a:lnTo>
                <a:lnTo>
                  <a:pt x="1092" y="118"/>
                </a:lnTo>
                <a:lnTo>
                  <a:pt x="1086" y="124"/>
                </a:lnTo>
                <a:lnTo>
                  <a:pt x="1058" y="126"/>
                </a:lnTo>
                <a:lnTo>
                  <a:pt x="1042" y="130"/>
                </a:lnTo>
                <a:lnTo>
                  <a:pt x="1016" y="156"/>
                </a:lnTo>
                <a:lnTo>
                  <a:pt x="988" y="148"/>
                </a:lnTo>
                <a:lnTo>
                  <a:pt x="980" y="132"/>
                </a:lnTo>
                <a:lnTo>
                  <a:pt x="966" y="132"/>
                </a:lnTo>
                <a:lnTo>
                  <a:pt x="956" y="150"/>
                </a:lnTo>
                <a:lnTo>
                  <a:pt x="914" y="186"/>
                </a:lnTo>
                <a:lnTo>
                  <a:pt x="856" y="224"/>
                </a:lnTo>
                <a:lnTo>
                  <a:pt x="828" y="238"/>
                </a:lnTo>
                <a:lnTo>
                  <a:pt x="796" y="248"/>
                </a:lnTo>
                <a:lnTo>
                  <a:pt x="774" y="274"/>
                </a:lnTo>
                <a:lnTo>
                  <a:pt x="780" y="296"/>
                </a:lnTo>
                <a:lnTo>
                  <a:pt x="800" y="302"/>
                </a:lnTo>
                <a:lnTo>
                  <a:pt x="816" y="286"/>
                </a:lnTo>
                <a:lnTo>
                  <a:pt x="842" y="288"/>
                </a:lnTo>
                <a:lnTo>
                  <a:pt x="860" y="304"/>
                </a:lnTo>
                <a:lnTo>
                  <a:pt x="854" y="318"/>
                </a:lnTo>
                <a:lnTo>
                  <a:pt x="864" y="372"/>
                </a:lnTo>
                <a:lnTo>
                  <a:pt x="882" y="432"/>
                </a:lnTo>
                <a:lnTo>
                  <a:pt x="918" y="476"/>
                </a:lnTo>
                <a:lnTo>
                  <a:pt x="952" y="520"/>
                </a:lnTo>
                <a:lnTo>
                  <a:pt x="966" y="540"/>
                </a:lnTo>
                <a:lnTo>
                  <a:pt x="988" y="568"/>
                </a:lnTo>
                <a:lnTo>
                  <a:pt x="984" y="580"/>
                </a:lnTo>
                <a:lnTo>
                  <a:pt x="962" y="596"/>
                </a:lnTo>
                <a:lnTo>
                  <a:pt x="942" y="626"/>
                </a:lnTo>
                <a:lnTo>
                  <a:pt x="968" y="648"/>
                </a:lnTo>
                <a:lnTo>
                  <a:pt x="962" y="664"/>
                </a:lnTo>
                <a:lnTo>
                  <a:pt x="938" y="668"/>
                </a:lnTo>
                <a:lnTo>
                  <a:pt x="932" y="702"/>
                </a:lnTo>
                <a:lnTo>
                  <a:pt x="938" y="722"/>
                </a:lnTo>
                <a:lnTo>
                  <a:pt x="958" y="756"/>
                </a:lnTo>
                <a:lnTo>
                  <a:pt x="964" y="778"/>
                </a:lnTo>
                <a:lnTo>
                  <a:pt x="964" y="788"/>
                </a:lnTo>
                <a:lnTo>
                  <a:pt x="946" y="788"/>
                </a:lnTo>
                <a:lnTo>
                  <a:pt x="932" y="778"/>
                </a:lnTo>
                <a:lnTo>
                  <a:pt x="922" y="768"/>
                </a:lnTo>
                <a:lnTo>
                  <a:pt x="892" y="766"/>
                </a:lnTo>
                <a:lnTo>
                  <a:pt x="854" y="778"/>
                </a:lnTo>
                <a:lnTo>
                  <a:pt x="800" y="750"/>
                </a:lnTo>
                <a:lnTo>
                  <a:pt x="798" y="734"/>
                </a:lnTo>
                <a:lnTo>
                  <a:pt x="782" y="732"/>
                </a:lnTo>
                <a:lnTo>
                  <a:pt x="764" y="742"/>
                </a:lnTo>
                <a:lnTo>
                  <a:pt x="722" y="744"/>
                </a:lnTo>
                <a:lnTo>
                  <a:pt x="664" y="756"/>
                </a:lnTo>
                <a:lnTo>
                  <a:pt x="620" y="768"/>
                </a:lnTo>
                <a:lnTo>
                  <a:pt x="582" y="768"/>
                </a:lnTo>
                <a:lnTo>
                  <a:pt x="550" y="774"/>
                </a:lnTo>
                <a:lnTo>
                  <a:pt x="510" y="788"/>
                </a:lnTo>
                <a:lnTo>
                  <a:pt x="480" y="778"/>
                </a:lnTo>
                <a:lnTo>
                  <a:pt x="444" y="804"/>
                </a:lnTo>
                <a:lnTo>
                  <a:pt x="402" y="820"/>
                </a:lnTo>
                <a:lnTo>
                  <a:pt x="358" y="822"/>
                </a:lnTo>
                <a:lnTo>
                  <a:pt x="346" y="832"/>
                </a:lnTo>
                <a:lnTo>
                  <a:pt x="320" y="836"/>
                </a:lnTo>
                <a:lnTo>
                  <a:pt x="302" y="860"/>
                </a:lnTo>
                <a:lnTo>
                  <a:pt x="280" y="860"/>
                </a:lnTo>
                <a:lnTo>
                  <a:pt x="236" y="854"/>
                </a:lnTo>
                <a:lnTo>
                  <a:pt x="224" y="836"/>
                </a:lnTo>
                <a:lnTo>
                  <a:pt x="206" y="812"/>
                </a:lnTo>
                <a:lnTo>
                  <a:pt x="182" y="794"/>
                </a:lnTo>
                <a:lnTo>
                  <a:pt x="162" y="792"/>
                </a:lnTo>
                <a:lnTo>
                  <a:pt x="114" y="785"/>
                </a:lnTo>
              </a:path>
            </a:pathLst>
          </a:custGeom>
          <a:solidFill>
            <a:srgbClr val="00ff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Freeform 9"/>
          <p:cNvSpPr/>
          <p:nvPr/>
        </p:nvSpPr>
        <p:spPr>
          <a:xfrm>
            <a:off x="2676600" y="3463920"/>
            <a:ext cx="1434960" cy="12636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904" h="796">
                <a:moveTo>
                  <a:pt x="16" y="680"/>
                </a:moveTo>
                <a:lnTo>
                  <a:pt x="0" y="394"/>
                </a:lnTo>
                <a:lnTo>
                  <a:pt x="102" y="394"/>
                </a:lnTo>
                <a:lnTo>
                  <a:pt x="282" y="174"/>
                </a:lnTo>
                <a:lnTo>
                  <a:pt x="656" y="0"/>
                </a:lnTo>
                <a:lnTo>
                  <a:pt x="904" y="264"/>
                </a:lnTo>
                <a:lnTo>
                  <a:pt x="382" y="796"/>
                </a:lnTo>
                <a:lnTo>
                  <a:pt x="352" y="766"/>
                </a:lnTo>
                <a:lnTo>
                  <a:pt x="314" y="738"/>
                </a:lnTo>
                <a:lnTo>
                  <a:pt x="256" y="710"/>
                </a:lnTo>
                <a:lnTo>
                  <a:pt x="222" y="686"/>
                </a:lnTo>
                <a:lnTo>
                  <a:pt x="184" y="658"/>
                </a:lnTo>
                <a:lnTo>
                  <a:pt x="140" y="640"/>
                </a:lnTo>
                <a:lnTo>
                  <a:pt x="14" y="678"/>
                </a:lnTo>
                <a:lnTo>
                  <a:pt x="16" y="68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reeform 10"/>
          <p:cNvSpPr/>
          <p:nvPr/>
        </p:nvSpPr>
        <p:spPr>
          <a:xfrm>
            <a:off x="434880" y="2467080"/>
            <a:ext cx="1790640" cy="8920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1128" h="562">
                <a:moveTo>
                  <a:pt x="30" y="466"/>
                </a:moveTo>
                <a:lnTo>
                  <a:pt x="30" y="466"/>
                </a:lnTo>
                <a:lnTo>
                  <a:pt x="26" y="450"/>
                </a:lnTo>
                <a:lnTo>
                  <a:pt x="4" y="428"/>
                </a:lnTo>
                <a:lnTo>
                  <a:pt x="0" y="414"/>
                </a:lnTo>
                <a:lnTo>
                  <a:pt x="4" y="408"/>
                </a:lnTo>
                <a:lnTo>
                  <a:pt x="10" y="396"/>
                </a:lnTo>
                <a:lnTo>
                  <a:pt x="10" y="376"/>
                </a:lnTo>
                <a:lnTo>
                  <a:pt x="22" y="350"/>
                </a:lnTo>
                <a:lnTo>
                  <a:pt x="26" y="330"/>
                </a:lnTo>
                <a:lnTo>
                  <a:pt x="38" y="318"/>
                </a:lnTo>
                <a:lnTo>
                  <a:pt x="64" y="304"/>
                </a:lnTo>
                <a:lnTo>
                  <a:pt x="84" y="292"/>
                </a:lnTo>
                <a:lnTo>
                  <a:pt x="92" y="282"/>
                </a:lnTo>
                <a:lnTo>
                  <a:pt x="94" y="268"/>
                </a:lnTo>
                <a:lnTo>
                  <a:pt x="92" y="258"/>
                </a:lnTo>
                <a:lnTo>
                  <a:pt x="88" y="254"/>
                </a:lnTo>
                <a:lnTo>
                  <a:pt x="98" y="248"/>
                </a:lnTo>
                <a:lnTo>
                  <a:pt x="102" y="234"/>
                </a:lnTo>
                <a:lnTo>
                  <a:pt x="112" y="224"/>
                </a:lnTo>
                <a:lnTo>
                  <a:pt x="132" y="218"/>
                </a:lnTo>
                <a:lnTo>
                  <a:pt x="148" y="220"/>
                </a:lnTo>
                <a:lnTo>
                  <a:pt x="158" y="232"/>
                </a:lnTo>
                <a:lnTo>
                  <a:pt x="164" y="244"/>
                </a:lnTo>
                <a:lnTo>
                  <a:pt x="170" y="254"/>
                </a:lnTo>
                <a:lnTo>
                  <a:pt x="178" y="262"/>
                </a:lnTo>
                <a:lnTo>
                  <a:pt x="188" y="272"/>
                </a:lnTo>
                <a:lnTo>
                  <a:pt x="196" y="296"/>
                </a:lnTo>
                <a:lnTo>
                  <a:pt x="206" y="326"/>
                </a:lnTo>
                <a:lnTo>
                  <a:pt x="224" y="348"/>
                </a:lnTo>
                <a:lnTo>
                  <a:pt x="240" y="348"/>
                </a:lnTo>
                <a:lnTo>
                  <a:pt x="264" y="342"/>
                </a:lnTo>
                <a:lnTo>
                  <a:pt x="278" y="336"/>
                </a:lnTo>
                <a:lnTo>
                  <a:pt x="292" y="324"/>
                </a:lnTo>
                <a:lnTo>
                  <a:pt x="298" y="312"/>
                </a:lnTo>
                <a:lnTo>
                  <a:pt x="298" y="300"/>
                </a:lnTo>
                <a:lnTo>
                  <a:pt x="286" y="290"/>
                </a:lnTo>
                <a:lnTo>
                  <a:pt x="286" y="268"/>
                </a:lnTo>
                <a:lnTo>
                  <a:pt x="282" y="238"/>
                </a:lnTo>
                <a:lnTo>
                  <a:pt x="282" y="208"/>
                </a:lnTo>
                <a:lnTo>
                  <a:pt x="276" y="186"/>
                </a:lnTo>
                <a:lnTo>
                  <a:pt x="282" y="184"/>
                </a:lnTo>
                <a:lnTo>
                  <a:pt x="292" y="188"/>
                </a:lnTo>
                <a:lnTo>
                  <a:pt x="302" y="196"/>
                </a:lnTo>
                <a:lnTo>
                  <a:pt x="310" y="194"/>
                </a:lnTo>
                <a:lnTo>
                  <a:pt x="324" y="184"/>
                </a:lnTo>
                <a:lnTo>
                  <a:pt x="340" y="172"/>
                </a:lnTo>
                <a:lnTo>
                  <a:pt x="352" y="168"/>
                </a:lnTo>
                <a:lnTo>
                  <a:pt x="370" y="162"/>
                </a:lnTo>
                <a:lnTo>
                  <a:pt x="380" y="156"/>
                </a:lnTo>
                <a:lnTo>
                  <a:pt x="386" y="142"/>
                </a:lnTo>
                <a:lnTo>
                  <a:pt x="378" y="128"/>
                </a:lnTo>
                <a:lnTo>
                  <a:pt x="380" y="120"/>
                </a:lnTo>
                <a:lnTo>
                  <a:pt x="384" y="112"/>
                </a:lnTo>
                <a:lnTo>
                  <a:pt x="398" y="110"/>
                </a:lnTo>
                <a:lnTo>
                  <a:pt x="414" y="112"/>
                </a:lnTo>
                <a:lnTo>
                  <a:pt x="434" y="106"/>
                </a:lnTo>
                <a:lnTo>
                  <a:pt x="460" y="96"/>
                </a:lnTo>
                <a:lnTo>
                  <a:pt x="480" y="80"/>
                </a:lnTo>
                <a:lnTo>
                  <a:pt x="502" y="62"/>
                </a:lnTo>
                <a:lnTo>
                  <a:pt x="522" y="48"/>
                </a:lnTo>
                <a:lnTo>
                  <a:pt x="538" y="32"/>
                </a:lnTo>
                <a:lnTo>
                  <a:pt x="546" y="26"/>
                </a:lnTo>
                <a:lnTo>
                  <a:pt x="562" y="24"/>
                </a:lnTo>
                <a:lnTo>
                  <a:pt x="570" y="0"/>
                </a:lnTo>
                <a:lnTo>
                  <a:pt x="592" y="10"/>
                </a:lnTo>
                <a:lnTo>
                  <a:pt x="624" y="8"/>
                </a:lnTo>
                <a:lnTo>
                  <a:pt x="644" y="14"/>
                </a:lnTo>
                <a:lnTo>
                  <a:pt x="648" y="20"/>
                </a:lnTo>
                <a:lnTo>
                  <a:pt x="638" y="30"/>
                </a:lnTo>
                <a:lnTo>
                  <a:pt x="628" y="46"/>
                </a:lnTo>
                <a:lnTo>
                  <a:pt x="636" y="56"/>
                </a:lnTo>
                <a:lnTo>
                  <a:pt x="646" y="52"/>
                </a:lnTo>
                <a:lnTo>
                  <a:pt x="658" y="50"/>
                </a:lnTo>
                <a:lnTo>
                  <a:pt x="662" y="46"/>
                </a:lnTo>
                <a:lnTo>
                  <a:pt x="674" y="52"/>
                </a:lnTo>
                <a:lnTo>
                  <a:pt x="684" y="56"/>
                </a:lnTo>
                <a:lnTo>
                  <a:pt x="690" y="46"/>
                </a:lnTo>
                <a:lnTo>
                  <a:pt x="690" y="34"/>
                </a:lnTo>
                <a:lnTo>
                  <a:pt x="690" y="26"/>
                </a:lnTo>
                <a:lnTo>
                  <a:pt x="704" y="22"/>
                </a:lnTo>
                <a:lnTo>
                  <a:pt x="726" y="20"/>
                </a:lnTo>
                <a:lnTo>
                  <a:pt x="744" y="10"/>
                </a:lnTo>
                <a:lnTo>
                  <a:pt x="766" y="4"/>
                </a:lnTo>
                <a:lnTo>
                  <a:pt x="768" y="20"/>
                </a:lnTo>
                <a:lnTo>
                  <a:pt x="776" y="28"/>
                </a:lnTo>
                <a:lnTo>
                  <a:pt x="776" y="52"/>
                </a:lnTo>
                <a:lnTo>
                  <a:pt x="794" y="56"/>
                </a:lnTo>
                <a:lnTo>
                  <a:pt x="836" y="58"/>
                </a:lnTo>
                <a:lnTo>
                  <a:pt x="876" y="62"/>
                </a:lnTo>
                <a:lnTo>
                  <a:pt x="900" y="68"/>
                </a:lnTo>
                <a:lnTo>
                  <a:pt x="914" y="78"/>
                </a:lnTo>
                <a:lnTo>
                  <a:pt x="920" y="100"/>
                </a:lnTo>
                <a:lnTo>
                  <a:pt x="918" y="116"/>
                </a:lnTo>
                <a:lnTo>
                  <a:pt x="930" y="126"/>
                </a:lnTo>
                <a:lnTo>
                  <a:pt x="948" y="130"/>
                </a:lnTo>
                <a:lnTo>
                  <a:pt x="974" y="144"/>
                </a:lnTo>
                <a:lnTo>
                  <a:pt x="988" y="162"/>
                </a:lnTo>
                <a:lnTo>
                  <a:pt x="994" y="184"/>
                </a:lnTo>
                <a:lnTo>
                  <a:pt x="1002" y="192"/>
                </a:lnTo>
                <a:lnTo>
                  <a:pt x="1020" y="194"/>
                </a:lnTo>
                <a:lnTo>
                  <a:pt x="1030" y="206"/>
                </a:lnTo>
                <a:lnTo>
                  <a:pt x="1024" y="236"/>
                </a:lnTo>
                <a:lnTo>
                  <a:pt x="1024" y="254"/>
                </a:lnTo>
                <a:lnTo>
                  <a:pt x="1032" y="260"/>
                </a:lnTo>
                <a:lnTo>
                  <a:pt x="1046" y="256"/>
                </a:lnTo>
                <a:lnTo>
                  <a:pt x="1056" y="244"/>
                </a:lnTo>
                <a:lnTo>
                  <a:pt x="1058" y="224"/>
                </a:lnTo>
                <a:lnTo>
                  <a:pt x="1054" y="202"/>
                </a:lnTo>
                <a:lnTo>
                  <a:pt x="1044" y="184"/>
                </a:lnTo>
                <a:lnTo>
                  <a:pt x="1040" y="170"/>
                </a:lnTo>
                <a:lnTo>
                  <a:pt x="1048" y="164"/>
                </a:lnTo>
                <a:lnTo>
                  <a:pt x="1058" y="168"/>
                </a:lnTo>
                <a:lnTo>
                  <a:pt x="1070" y="178"/>
                </a:lnTo>
                <a:lnTo>
                  <a:pt x="1080" y="186"/>
                </a:lnTo>
                <a:lnTo>
                  <a:pt x="1094" y="194"/>
                </a:lnTo>
                <a:lnTo>
                  <a:pt x="1104" y="194"/>
                </a:lnTo>
                <a:lnTo>
                  <a:pt x="1108" y="216"/>
                </a:lnTo>
                <a:lnTo>
                  <a:pt x="1110" y="230"/>
                </a:lnTo>
                <a:lnTo>
                  <a:pt x="1120" y="232"/>
                </a:lnTo>
                <a:lnTo>
                  <a:pt x="1128" y="238"/>
                </a:lnTo>
                <a:lnTo>
                  <a:pt x="760" y="562"/>
                </a:lnTo>
                <a:lnTo>
                  <a:pt x="30" y="466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1"/>
          <p:cNvSpPr/>
          <p:nvPr/>
        </p:nvSpPr>
        <p:spPr>
          <a:xfrm>
            <a:off x="812880" y="4089240"/>
            <a:ext cx="1888920" cy="1771920"/>
          </a:xfrm>
          <a:custGeom>
            <a:avLst/>
            <a:gdLst>
              <a:gd name="textAreaLeft" fmla="*/ 0 w 1888920"/>
              <a:gd name="textAreaRight" fmla="*/ 1889280 w 188892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1190" h="1116">
                <a:moveTo>
                  <a:pt x="1098" y="0"/>
                </a:moveTo>
                <a:lnTo>
                  <a:pt x="790" y="322"/>
                </a:lnTo>
                <a:lnTo>
                  <a:pt x="452" y="232"/>
                </a:lnTo>
                <a:lnTo>
                  <a:pt x="54" y="124"/>
                </a:lnTo>
                <a:lnTo>
                  <a:pt x="58" y="118"/>
                </a:lnTo>
                <a:lnTo>
                  <a:pt x="0" y="738"/>
                </a:lnTo>
                <a:lnTo>
                  <a:pt x="280" y="934"/>
                </a:lnTo>
                <a:lnTo>
                  <a:pt x="414" y="988"/>
                </a:lnTo>
                <a:lnTo>
                  <a:pt x="430" y="984"/>
                </a:lnTo>
                <a:lnTo>
                  <a:pt x="450" y="978"/>
                </a:lnTo>
                <a:lnTo>
                  <a:pt x="472" y="956"/>
                </a:lnTo>
                <a:lnTo>
                  <a:pt x="502" y="930"/>
                </a:lnTo>
                <a:lnTo>
                  <a:pt x="540" y="908"/>
                </a:lnTo>
                <a:lnTo>
                  <a:pt x="584" y="898"/>
                </a:lnTo>
                <a:lnTo>
                  <a:pt x="630" y="888"/>
                </a:lnTo>
                <a:lnTo>
                  <a:pt x="670" y="894"/>
                </a:lnTo>
                <a:lnTo>
                  <a:pt x="718" y="910"/>
                </a:lnTo>
                <a:lnTo>
                  <a:pt x="758" y="942"/>
                </a:lnTo>
                <a:lnTo>
                  <a:pt x="790" y="978"/>
                </a:lnTo>
                <a:lnTo>
                  <a:pt x="816" y="1020"/>
                </a:lnTo>
                <a:lnTo>
                  <a:pt x="836" y="1074"/>
                </a:lnTo>
                <a:lnTo>
                  <a:pt x="858" y="1100"/>
                </a:lnTo>
                <a:lnTo>
                  <a:pt x="872" y="1116"/>
                </a:lnTo>
                <a:lnTo>
                  <a:pt x="912" y="1114"/>
                </a:lnTo>
                <a:lnTo>
                  <a:pt x="956" y="1094"/>
                </a:lnTo>
                <a:lnTo>
                  <a:pt x="962" y="370"/>
                </a:lnTo>
                <a:lnTo>
                  <a:pt x="1190" y="282"/>
                </a:lnTo>
                <a:lnTo>
                  <a:pt x="1178" y="0"/>
                </a:lnTo>
                <a:lnTo>
                  <a:pt x="1098" y="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2"/>
          <p:cNvSpPr/>
          <p:nvPr/>
        </p:nvSpPr>
        <p:spPr>
          <a:xfrm>
            <a:off x="3648240" y="2541600"/>
            <a:ext cx="2304720" cy="1789200"/>
          </a:xfrm>
          <a:custGeom>
            <a:avLst/>
            <a:gdLst>
              <a:gd name="textAreaLeft" fmla="*/ 0 w 2304720"/>
              <a:gd name="textAreaRight" fmla="*/ 2304720 w 230472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1452" h="1127">
                <a:moveTo>
                  <a:pt x="59" y="595"/>
                </a:moveTo>
                <a:lnTo>
                  <a:pt x="42" y="579"/>
                </a:lnTo>
                <a:lnTo>
                  <a:pt x="0" y="259"/>
                </a:lnTo>
                <a:lnTo>
                  <a:pt x="418" y="229"/>
                </a:lnTo>
                <a:lnTo>
                  <a:pt x="521" y="0"/>
                </a:lnTo>
                <a:lnTo>
                  <a:pt x="700" y="79"/>
                </a:lnTo>
                <a:lnTo>
                  <a:pt x="791" y="265"/>
                </a:lnTo>
                <a:lnTo>
                  <a:pt x="1310" y="511"/>
                </a:lnTo>
                <a:lnTo>
                  <a:pt x="1452" y="1125"/>
                </a:lnTo>
                <a:lnTo>
                  <a:pt x="1070" y="1127"/>
                </a:lnTo>
                <a:lnTo>
                  <a:pt x="288" y="849"/>
                </a:lnTo>
                <a:lnTo>
                  <a:pt x="59" y="595"/>
                </a:lnTo>
                <a:close/>
              </a:path>
            </a:pathLst>
          </a:custGeom>
          <a:solidFill>
            <a:srgbClr val="00ccff"/>
          </a:solidFill>
          <a:ln w="3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Freeform 13"/>
          <p:cNvSpPr/>
          <p:nvPr/>
        </p:nvSpPr>
        <p:spPr>
          <a:xfrm>
            <a:off x="4184640" y="1104840"/>
            <a:ext cx="2387520" cy="224784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1504" h="1416">
                <a:moveTo>
                  <a:pt x="1356" y="828"/>
                </a:moveTo>
                <a:lnTo>
                  <a:pt x="848" y="972"/>
                </a:lnTo>
                <a:lnTo>
                  <a:pt x="360" y="984"/>
                </a:lnTo>
                <a:lnTo>
                  <a:pt x="182" y="908"/>
                </a:lnTo>
                <a:lnTo>
                  <a:pt x="274" y="683"/>
                </a:lnTo>
                <a:lnTo>
                  <a:pt x="0" y="232"/>
                </a:lnTo>
                <a:lnTo>
                  <a:pt x="134" y="178"/>
                </a:lnTo>
                <a:lnTo>
                  <a:pt x="140" y="162"/>
                </a:lnTo>
                <a:lnTo>
                  <a:pt x="186" y="160"/>
                </a:lnTo>
                <a:lnTo>
                  <a:pt x="202" y="134"/>
                </a:lnTo>
                <a:lnTo>
                  <a:pt x="248" y="130"/>
                </a:lnTo>
                <a:lnTo>
                  <a:pt x="246" y="86"/>
                </a:lnTo>
                <a:lnTo>
                  <a:pt x="288" y="76"/>
                </a:lnTo>
                <a:lnTo>
                  <a:pt x="294" y="48"/>
                </a:lnTo>
                <a:lnTo>
                  <a:pt x="328" y="60"/>
                </a:lnTo>
                <a:lnTo>
                  <a:pt x="344" y="54"/>
                </a:lnTo>
                <a:lnTo>
                  <a:pt x="326" y="32"/>
                </a:lnTo>
                <a:lnTo>
                  <a:pt x="314" y="6"/>
                </a:lnTo>
                <a:lnTo>
                  <a:pt x="344" y="0"/>
                </a:lnTo>
                <a:lnTo>
                  <a:pt x="348" y="22"/>
                </a:lnTo>
                <a:lnTo>
                  <a:pt x="364" y="26"/>
                </a:lnTo>
                <a:lnTo>
                  <a:pt x="406" y="16"/>
                </a:lnTo>
                <a:lnTo>
                  <a:pt x="454" y="58"/>
                </a:lnTo>
                <a:lnTo>
                  <a:pt x="494" y="44"/>
                </a:lnTo>
                <a:lnTo>
                  <a:pt x="494" y="22"/>
                </a:lnTo>
                <a:lnTo>
                  <a:pt x="560" y="32"/>
                </a:lnTo>
                <a:lnTo>
                  <a:pt x="574" y="54"/>
                </a:lnTo>
                <a:lnTo>
                  <a:pt x="578" y="100"/>
                </a:lnTo>
                <a:lnTo>
                  <a:pt x="612" y="104"/>
                </a:lnTo>
                <a:lnTo>
                  <a:pt x="624" y="142"/>
                </a:lnTo>
                <a:lnTo>
                  <a:pt x="608" y="166"/>
                </a:lnTo>
                <a:lnTo>
                  <a:pt x="620" y="180"/>
                </a:lnTo>
                <a:lnTo>
                  <a:pt x="614" y="192"/>
                </a:lnTo>
                <a:lnTo>
                  <a:pt x="596" y="204"/>
                </a:lnTo>
                <a:lnTo>
                  <a:pt x="618" y="212"/>
                </a:lnTo>
                <a:lnTo>
                  <a:pt x="624" y="234"/>
                </a:lnTo>
                <a:lnTo>
                  <a:pt x="646" y="224"/>
                </a:lnTo>
                <a:lnTo>
                  <a:pt x="666" y="234"/>
                </a:lnTo>
                <a:lnTo>
                  <a:pt x="696" y="228"/>
                </a:lnTo>
                <a:lnTo>
                  <a:pt x="694" y="196"/>
                </a:lnTo>
                <a:lnTo>
                  <a:pt x="730" y="202"/>
                </a:lnTo>
                <a:lnTo>
                  <a:pt x="752" y="216"/>
                </a:lnTo>
                <a:lnTo>
                  <a:pt x="752" y="198"/>
                </a:lnTo>
                <a:lnTo>
                  <a:pt x="720" y="158"/>
                </a:lnTo>
                <a:lnTo>
                  <a:pt x="738" y="150"/>
                </a:lnTo>
                <a:lnTo>
                  <a:pt x="752" y="174"/>
                </a:lnTo>
                <a:lnTo>
                  <a:pt x="776" y="172"/>
                </a:lnTo>
                <a:lnTo>
                  <a:pt x="766" y="198"/>
                </a:lnTo>
                <a:lnTo>
                  <a:pt x="786" y="200"/>
                </a:lnTo>
                <a:lnTo>
                  <a:pt x="780" y="242"/>
                </a:lnTo>
                <a:lnTo>
                  <a:pt x="790" y="258"/>
                </a:lnTo>
                <a:lnTo>
                  <a:pt x="822" y="230"/>
                </a:lnTo>
                <a:lnTo>
                  <a:pt x="816" y="214"/>
                </a:lnTo>
                <a:lnTo>
                  <a:pt x="802" y="212"/>
                </a:lnTo>
                <a:lnTo>
                  <a:pt x="810" y="196"/>
                </a:lnTo>
                <a:lnTo>
                  <a:pt x="832" y="188"/>
                </a:lnTo>
                <a:lnTo>
                  <a:pt x="860" y="198"/>
                </a:lnTo>
                <a:lnTo>
                  <a:pt x="880" y="216"/>
                </a:lnTo>
                <a:lnTo>
                  <a:pt x="902" y="220"/>
                </a:lnTo>
                <a:lnTo>
                  <a:pt x="910" y="194"/>
                </a:lnTo>
                <a:lnTo>
                  <a:pt x="934" y="190"/>
                </a:lnTo>
                <a:lnTo>
                  <a:pt x="946" y="178"/>
                </a:lnTo>
                <a:lnTo>
                  <a:pt x="966" y="188"/>
                </a:lnTo>
                <a:lnTo>
                  <a:pt x="958" y="212"/>
                </a:lnTo>
                <a:lnTo>
                  <a:pt x="936" y="210"/>
                </a:lnTo>
                <a:lnTo>
                  <a:pt x="934" y="226"/>
                </a:lnTo>
                <a:lnTo>
                  <a:pt x="912" y="262"/>
                </a:lnTo>
                <a:lnTo>
                  <a:pt x="922" y="306"/>
                </a:lnTo>
                <a:lnTo>
                  <a:pt x="952" y="316"/>
                </a:lnTo>
                <a:lnTo>
                  <a:pt x="950" y="298"/>
                </a:lnTo>
                <a:lnTo>
                  <a:pt x="970" y="272"/>
                </a:lnTo>
                <a:lnTo>
                  <a:pt x="1000" y="266"/>
                </a:lnTo>
                <a:lnTo>
                  <a:pt x="1010" y="280"/>
                </a:lnTo>
                <a:lnTo>
                  <a:pt x="1036" y="264"/>
                </a:lnTo>
                <a:lnTo>
                  <a:pt x="1054" y="284"/>
                </a:lnTo>
                <a:lnTo>
                  <a:pt x="1078" y="286"/>
                </a:lnTo>
                <a:lnTo>
                  <a:pt x="1058" y="242"/>
                </a:lnTo>
                <a:lnTo>
                  <a:pt x="1072" y="216"/>
                </a:lnTo>
                <a:lnTo>
                  <a:pt x="1106" y="194"/>
                </a:lnTo>
                <a:lnTo>
                  <a:pt x="1152" y="178"/>
                </a:lnTo>
                <a:lnTo>
                  <a:pt x="1156" y="130"/>
                </a:lnTo>
                <a:lnTo>
                  <a:pt x="1184" y="110"/>
                </a:lnTo>
                <a:lnTo>
                  <a:pt x="1218" y="104"/>
                </a:lnTo>
                <a:lnTo>
                  <a:pt x="1226" y="60"/>
                </a:lnTo>
                <a:lnTo>
                  <a:pt x="1244" y="44"/>
                </a:lnTo>
                <a:lnTo>
                  <a:pt x="1262" y="36"/>
                </a:lnTo>
                <a:lnTo>
                  <a:pt x="1282" y="32"/>
                </a:lnTo>
                <a:lnTo>
                  <a:pt x="1284" y="60"/>
                </a:lnTo>
                <a:lnTo>
                  <a:pt x="1274" y="72"/>
                </a:lnTo>
                <a:lnTo>
                  <a:pt x="1256" y="88"/>
                </a:lnTo>
                <a:lnTo>
                  <a:pt x="1352" y="830"/>
                </a:lnTo>
                <a:lnTo>
                  <a:pt x="1456" y="950"/>
                </a:lnTo>
                <a:lnTo>
                  <a:pt x="1504" y="1158"/>
                </a:lnTo>
                <a:lnTo>
                  <a:pt x="1300" y="1350"/>
                </a:lnTo>
                <a:lnTo>
                  <a:pt x="976" y="1416"/>
                </a:lnTo>
                <a:lnTo>
                  <a:pt x="450" y="1172"/>
                </a:lnTo>
                <a:lnTo>
                  <a:pt x="360" y="984"/>
                </a:lnTo>
                <a:lnTo>
                  <a:pt x="856" y="972"/>
                </a:lnTo>
                <a:lnTo>
                  <a:pt x="1356" y="828"/>
                </a:lnTo>
                <a:close/>
              </a:path>
            </a:pathLst>
          </a:custGeom>
          <a:solidFill>
            <a:srgbClr val="00cc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Freeform 14"/>
          <p:cNvSpPr/>
          <p:nvPr/>
        </p:nvSpPr>
        <p:spPr>
          <a:xfrm>
            <a:off x="698400" y="3984480"/>
            <a:ext cx="19080" cy="12960"/>
          </a:xfrm>
          <a:custGeom>
            <a:avLst/>
            <a:gdLst>
              <a:gd name="textAreaLeft" fmla="*/ 0 w 19080"/>
              <a:gd name="textAreaRight" fmla="*/ 19440 w 190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2" h="8">
                <a:moveTo>
                  <a:pt x="2" y="8"/>
                </a:moveTo>
                <a:lnTo>
                  <a:pt x="12" y="4"/>
                </a:lnTo>
                <a:lnTo>
                  <a:pt x="10" y="0"/>
                </a:lnTo>
                <a:lnTo>
                  <a:pt x="0" y="4"/>
                </a:lnTo>
                <a:lnTo>
                  <a:pt x="2" y="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Freeform 15"/>
          <p:cNvSpPr/>
          <p:nvPr/>
        </p:nvSpPr>
        <p:spPr>
          <a:xfrm>
            <a:off x="4552920" y="5191200"/>
            <a:ext cx="22320" cy="19080"/>
          </a:xfrm>
          <a:custGeom>
            <a:avLst/>
            <a:gdLst>
              <a:gd name="textAreaLeft" fmla="*/ 0 w 22320"/>
              <a:gd name="textAreaRight" fmla="*/ 22680 w 223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4" h="12">
                <a:moveTo>
                  <a:pt x="4" y="12"/>
                </a:moveTo>
                <a:lnTo>
                  <a:pt x="14" y="6"/>
                </a:lnTo>
                <a:lnTo>
                  <a:pt x="10" y="0"/>
                </a:lnTo>
                <a:lnTo>
                  <a:pt x="0" y="6"/>
                </a:lnTo>
                <a:lnTo>
                  <a:pt x="4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Freeform 16"/>
          <p:cNvSpPr/>
          <p:nvPr/>
        </p:nvSpPr>
        <p:spPr>
          <a:xfrm>
            <a:off x="4784760" y="12985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8" y="0"/>
                </a:moveTo>
                <a:lnTo>
                  <a:pt x="32" y="4"/>
                </a:lnTo>
                <a:lnTo>
                  <a:pt x="38" y="0"/>
                </a:lnTo>
                <a:lnTo>
                  <a:pt x="40" y="6"/>
                </a:lnTo>
                <a:lnTo>
                  <a:pt x="46" y="6"/>
                </a:lnTo>
                <a:lnTo>
                  <a:pt x="46" y="14"/>
                </a:lnTo>
                <a:lnTo>
                  <a:pt x="54" y="16"/>
                </a:lnTo>
                <a:lnTo>
                  <a:pt x="50" y="22"/>
                </a:lnTo>
                <a:lnTo>
                  <a:pt x="54" y="26"/>
                </a:lnTo>
                <a:lnTo>
                  <a:pt x="50" y="30"/>
                </a:lnTo>
                <a:lnTo>
                  <a:pt x="54" y="38"/>
                </a:lnTo>
                <a:lnTo>
                  <a:pt x="46" y="40"/>
                </a:lnTo>
                <a:lnTo>
                  <a:pt x="46" y="46"/>
                </a:lnTo>
                <a:lnTo>
                  <a:pt x="40" y="46"/>
                </a:lnTo>
                <a:lnTo>
                  <a:pt x="38" y="52"/>
                </a:lnTo>
                <a:lnTo>
                  <a:pt x="32" y="48"/>
                </a:lnTo>
                <a:lnTo>
                  <a:pt x="28" y="54"/>
                </a:lnTo>
                <a:lnTo>
                  <a:pt x="22" y="48"/>
                </a:lnTo>
                <a:lnTo>
                  <a:pt x="16" y="52"/>
                </a:lnTo>
                <a:lnTo>
                  <a:pt x="14" y="44"/>
                </a:lnTo>
                <a:lnTo>
                  <a:pt x="8" y="44"/>
                </a:lnTo>
                <a:lnTo>
                  <a:pt x="8" y="40"/>
                </a:lnTo>
                <a:lnTo>
                  <a:pt x="2" y="36"/>
                </a:lnTo>
                <a:lnTo>
                  <a:pt x="4" y="30"/>
                </a:lnTo>
                <a:lnTo>
                  <a:pt x="0" y="26"/>
                </a:lnTo>
                <a:lnTo>
                  <a:pt x="4" y="22"/>
                </a:lnTo>
                <a:lnTo>
                  <a:pt x="2" y="16"/>
                </a:lnTo>
                <a:lnTo>
                  <a:pt x="8" y="14"/>
                </a:lnTo>
                <a:lnTo>
                  <a:pt x="8" y="6"/>
                </a:lnTo>
                <a:lnTo>
                  <a:pt x="14" y="6"/>
                </a:lnTo>
                <a:lnTo>
                  <a:pt x="16" y="0"/>
                </a:lnTo>
                <a:lnTo>
                  <a:pt x="22" y="4"/>
                </a:lnTo>
                <a:lnTo>
                  <a:pt x="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7"/>
          <p:cNvSpPr/>
          <p:nvPr/>
        </p:nvSpPr>
        <p:spPr>
          <a:xfrm>
            <a:off x="5127480" y="5064120"/>
            <a:ext cx="2606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8"/>
          <p:cNvSpPr/>
          <p:nvPr/>
        </p:nvSpPr>
        <p:spPr>
          <a:xfrm>
            <a:off x="5048280" y="5175360"/>
            <a:ext cx="4255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9"/>
          <p:cNvSpPr/>
          <p:nvPr/>
        </p:nvSpPr>
        <p:spPr>
          <a:xfrm>
            <a:off x="3203640" y="3876840"/>
            <a:ext cx="26028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3149640" y="3987720"/>
            <a:ext cx="3747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1612800" y="3511440"/>
            <a:ext cx="2602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22"/>
          <p:cNvSpPr/>
          <p:nvPr/>
        </p:nvSpPr>
        <p:spPr>
          <a:xfrm>
            <a:off x="1574640" y="3622680"/>
            <a:ext cx="3304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23"/>
          <p:cNvSpPr/>
          <p:nvPr/>
        </p:nvSpPr>
        <p:spPr>
          <a:xfrm>
            <a:off x="4286160" y="4203720"/>
            <a:ext cx="2635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24"/>
          <p:cNvSpPr/>
          <p:nvPr/>
        </p:nvSpPr>
        <p:spPr>
          <a:xfrm>
            <a:off x="4165560" y="4314960"/>
            <a:ext cx="5238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25"/>
          <p:cNvSpPr/>
          <p:nvPr/>
        </p:nvSpPr>
        <p:spPr>
          <a:xfrm>
            <a:off x="4546440" y="3244680"/>
            <a:ext cx="2635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26"/>
          <p:cNvSpPr/>
          <p:nvPr/>
        </p:nvSpPr>
        <p:spPr>
          <a:xfrm>
            <a:off x="4457880" y="3355920"/>
            <a:ext cx="4539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27"/>
          <p:cNvSpPr/>
          <p:nvPr/>
        </p:nvSpPr>
        <p:spPr>
          <a:xfrm>
            <a:off x="3797280" y="2152800"/>
            <a:ext cx="26352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28"/>
          <p:cNvSpPr/>
          <p:nvPr/>
        </p:nvSpPr>
        <p:spPr>
          <a:xfrm>
            <a:off x="3730680" y="2263680"/>
            <a:ext cx="4096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29"/>
          <p:cNvSpPr/>
          <p:nvPr/>
        </p:nvSpPr>
        <p:spPr>
          <a:xfrm>
            <a:off x="4343400" y="1450800"/>
            <a:ext cx="6825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0"/>
          <p:cNvSpPr/>
          <p:nvPr/>
        </p:nvSpPr>
        <p:spPr>
          <a:xfrm>
            <a:off x="6248520" y="1603440"/>
            <a:ext cx="4413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1"/>
          <p:cNvSpPr/>
          <p:nvPr/>
        </p:nvSpPr>
        <p:spPr>
          <a:xfrm>
            <a:off x="7264440" y="2523960"/>
            <a:ext cx="2635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32"/>
          <p:cNvSpPr/>
          <p:nvPr/>
        </p:nvSpPr>
        <p:spPr>
          <a:xfrm>
            <a:off x="7064280" y="2631960"/>
            <a:ext cx="6382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33"/>
          <p:cNvSpPr/>
          <p:nvPr/>
        </p:nvSpPr>
        <p:spPr>
          <a:xfrm>
            <a:off x="6470640" y="4010040"/>
            <a:ext cx="2635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34"/>
          <p:cNvSpPr/>
          <p:nvPr/>
        </p:nvSpPr>
        <p:spPr>
          <a:xfrm>
            <a:off x="6426360" y="4118040"/>
            <a:ext cx="3459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35"/>
          <p:cNvSpPr/>
          <p:nvPr/>
        </p:nvSpPr>
        <p:spPr>
          <a:xfrm>
            <a:off x="5702400" y="5495760"/>
            <a:ext cx="3585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36"/>
          <p:cNvSpPr/>
          <p:nvPr/>
        </p:nvSpPr>
        <p:spPr>
          <a:xfrm>
            <a:off x="7572240" y="2949480"/>
            <a:ext cx="2509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37"/>
          <p:cNvSpPr/>
          <p:nvPr/>
        </p:nvSpPr>
        <p:spPr>
          <a:xfrm>
            <a:off x="5105520" y="1679400"/>
            <a:ext cx="4222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8"/>
          <p:cNvSpPr/>
          <p:nvPr/>
        </p:nvSpPr>
        <p:spPr>
          <a:xfrm>
            <a:off x="6324480" y="3432240"/>
            <a:ext cx="346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39"/>
          <p:cNvSpPr/>
          <p:nvPr/>
        </p:nvSpPr>
        <p:spPr>
          <a:xfrm>
            <a:off x="1673280" y="4740120"/>
            <a:ext cx="2602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40"/>
          <p:cNvSpPr/>
          <p:nvPr/>
        </p:nvSpPr>
        <p:spPr>
          <a:xfrm>
            <a:off x="1676520" y="4851360"/>
            <a:ext cx="253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41"/>
          <p:cNvSpPr/>
          <p:nvPr/>
        </p:nvSpPr>
        <p:spPr>
          <a:xfrm>
            <a:off x="7416720" y="4457880"/>
            <a:ext cx="34308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42"/>
          <p:cNvSpPr/>
          <p:nvPr/>
        </p:nvSpPr>
        <p:spPr>
          <a:xfrm>
            <a:off x="5105520" y="3432240"/>
            <a:ext cx="4572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43"/>
          <p:cNvSpPr/>
          <p:nvPr/>
        </p:nvSpPr>
        <p:spPr>
          <a:xfrm>
            <a:off x="2438280" y="2822400"/>
            <a:ext cx="489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44"/>
          <p:cNvSpPr/>
          <p:nvPr/>
        </p:nvSpPr>
        <p:spPr>
          <a:xfrm>
            <a:off x="1447920" y="2593800"/>
            <a:ext cx="3682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45"/>
          <p:cNvSpPr/>
          <p:nvPr/>
        </p:nvSpPr>
        <p:spPr>
          <a:xfrm>
            <a:off x="5181480" y="5337000"/>
            <a:ext cx="4255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46"/>
          <p:cNvSpPr/>
          <p:nvPr/>
        </p:nvSpPr>
        <p:spPr>
          <a:xfrm>
            <a:off x="5715000" y="2593800"/>
            <a:ext cx="4572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47"/>
          <p:cNvSpPr/>
          <p:nvPr/>
        </p:nvSpPr>
        <p:spPr>
          <a:xfrm>
            <a:off x="2619360" y="3184560"/>
            <a:ext cx="2635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48"/>
          <p:cNvSpPr/>
          <p:nvPr/>
        </p:nvSpPr>
        <p:spPr>
          <a:xfrm>
            <a:off x="2514600" y="3292560"/>
            <a:ext cx="4572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49"/>
          <p:cNvSpPr/>
          <p:nvPr/>
        </p:nvSpPr>
        <p:spPr>
          <a:xfrm>
            <a:off x="5324400" y="1946160"/>
            <a:ext cx="2635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50"/>
          <p:cNvSpPr/>
          <p:nvPr/>
        </p:nvSpPr>
        <p:spPr>
          <a:xfrm>
            <a:off x="1859760" y="76320"/>
            <a:ext cx="5427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ation of new ATS routes in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2010-20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51"/>
          <p:cNvSpPr/>
          <p:nvPr/>
        </p:nvSpPr>
        <p:spPr>
          <a:xfrm>
            <a:off x="1130040" y="1744560"/>
            <a:ext cx="18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ff"/>
                </a:solidFill>
                <a:latin typeface="Arial"/>
              </a:rPr>
              <a:t>ACC Centre Akt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52"/>
          <p:cNvSpPr/>
          <p:nvPr/>
        </p:nvSpPr>
        <p:spPr>
          <a:xfrm>
            <a:off x="1455840" y="59230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53"/>
          <p:cNvSpPr/>
          <p:nvPr/>
        </p:nvSpPr>
        <p:spPr>
          <a:xfrm flipV="1">
            <a:off x="4140360" y="4724280"/>
            <a:ext cx="215640" cy="64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54"/>
          <p:cNvSpPr/>
          <p:nvPr/>
        </p:nvSpPr>
        <p:spPr>
          <a:xfrm flipV="1">
            <a:off x="4356000" y="4292280"/>
            <a:ext cx="720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58"/>
          <p:cNvSpPr/>
          <p:nvPr/>
        </p:nvSpPr>
        <p:spPr>
          <a:xfrm>
            <a:off x="6662880" y="112536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 Centre Ast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60"/>
          <p:cNvSpPr/>
          <p:nvPr/>
        </p:nvSpPr>
        <p:spPr>
          <a:xfrm>
            <a:off x="6294960" y="5027760"/>
            <a:ext cx="186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CC Centre Alma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61"/>
          <p:cNvSpPr/>
          <p:nvPr/>
        </p:nvSpPr>
        <p:spPr>
          <a:xfrm>
            <a:off x="2765520" y="5877000"/>
            <a:ext cx="21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CC Centre Shymk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63"/>
          <p:cNvSpPr/>
          <p:nvPr/>
        </p:nvSpPr>
        <p:spPr>
          <a:xfrm>
            <a:off x="3780000" y="515772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64"/>
          <p:cNvSpPr/>
          <p:nvPr/>
        </p:nvSpPr>
        <p:spPr>
          <a:xfrm>
            <a:off x="624960" y="23493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I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65"/>
          <p:cNvSpPr/>
          <p:nvPr/>
        </p:nvSpPr>
        <p:spPr>
          <a:xfrm>
            <a:off x="5437080" y="105264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B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66"/>
          <p:cNvSpPr/>
          <p:nvPr/>
        </p:nvSpPr>
        <p:spPr>
          <a:xfrm>
            <a:off x="6660720" y="14130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K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7"/>
          <p:cNvSpPr/>
          <p:nvPr/>
        </p:nvSpPr>
        <p:spPr>
          <a:xfrm>
            <a:off x="3360600" y="530064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I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68"/>
          <p:cNvSpPr/>
          <p:nvPr/>
        </p:nvSpPr>
        <p:spPr>
          <a:xfrm>
            <a:off x="2903400" y="502596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BAG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AutoShape 69"/>
          <p:cNvSpPr/>
          <p:nvPr/>
        </p:nvSpPr>
        <p:spPr>
          <a:xfrm>
            <a:off x="3851280" y="1484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AutoShape 70"/>
          <p:cNvSpPr/>
          <p:nvPr/>
        </p:nvSpPr>
        <p:spPr>
          <a:xfrm>
            <a:off x="1692360" y="544500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AutoShape 71"/>
          <p:cNvSpPr/>
          <p:nvPr/>
        </p:nvSpPr>
        <p:spPr>
          <a:xfrm>
            <a:off x="755640" y="42926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72"/>
          <p:cNvSpPr/>
          <p:nvPr/>
        </p:nvSpPr>
        <p:spPr>
          <a:xfrm>
            <a:off x="252720" y="43783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ZAB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73"/>
          <p:cNvSpPr/>
          <p:nvPr/>
        </p:nvSpPr>
        <p:spPr>
          <a:xfrm>
            <a:off x="1334160" y="560232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R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74"/>
          <p:cNvSpPr/>
          <p:nvPr/>
        </p:nvSpPr>
        <p:spPr>
          <a:xfrm>
            <a:off x="4572000" y="53006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AutoShape 75"/>
          <p:cNvSpPr/>
          <p:nvPr/>
        </p:nvSpPr>
        <p:spPr>
          <a:xfrm>
            <a:off x="5219640" y="134136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76"/>
          <p:cNvSpPr/>
          <p:nvPr/>
        </p:nvSpPr>
        <p:spPr>
          <a:xfrm>
            <a:off x="6516720" y="155736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77"/>
          <p:cNvSpPr/>
          <p:nvPr/>
        </p:nvSpPr>
        <p:spPr>
          <a:xfrm>
            <a:off x="3314880" y="12682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78"/>
          <p:cNvSpPr/>
          <p:nvPr/>
        </p:nvSpPr>
        <p:spPr>
          <a:xfrm>
            <a:off x="7960680" y="365904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R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79"/>
          <p:cNvSpPr/>
          <p:nvPr/>
        </p:nvSpPr>
        <p:spPr>
          <a:xfrm>
            <a:off x="1332000" y="2421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80"/>
          <p:cNvSpPr/>
          <p:nvPr/>
        </p:nvSpPr>
        <p:spPr>
          <a:xfrm>
            <a:off x="109440" y="494172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B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81"/>
          <p:cNvSpPr/>
          <p:nvPr/>
        </p:nvSpPr>
        <p:spPr>
          <a:xfrm>
            <a:off x="7669080" y="378936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AutoShape 82"/>
          <p:cNvSpPr/>
          <p:nvPr/>
        </p:nvSpPr>
        <p:spPr>
          <a:xfrm>
            <a:off x="755640" y="479736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AutoShape 83"/>
          <p:cNvSpPr/>
          <p:nvPr/>
        </p:nvSpPr>
        <p:spPr>
          <a:xfrm>
            <a:off x="3492360" y="494172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AutoShape 93"/>
          <p:cNvSpPr/>
          <p:nvPr/>
        </p:nvSpPr>
        <p:spPr>
          <a:xfrm>
            <a:off x="1979640" y="285264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AutoShape 94"/>
          <p:cNvSpPr/>
          <p:nvPr/>
        </p:nvSpPr>
        <p:spPr>
          <a:xfrm>
            <a:off x="1619280" y="24210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95"/>
          <p:cNvSpPr/>
          <p:nvPr/>
        </p:nvSpPr>
        <p:spPr>
          <a:xfrm>
            <a:off x="1617120" y="220500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EK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96"/>
          <p:cNvSpPr/>
          <p:nvPr/>
        </p:nvSpPr>
        <p:spPr>
          <a:xfrm>
            <a:off x="1765080" y="29242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V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99"/>
          <p:cNvSpPr/>
          <p:nvPr/>
        </p:nvSpPr>
        <p:spPr>
          <a:xfrm>
            <a:off x="7018920" y="371628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ON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01"/>
          <p:cNvSpPr/>
          <p:nvPr/>
        </p:nvSpPr>
        <p:spPr>
          <a:xfrm>
            <a:off x="6949440" y="206064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авлод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AutoShape 102"/>
          <p:cNvSpPr/>
          <p:nvPr/>
        </p:nvSpPr>
        <p:spPr>
          <a:xfrm>
            <a:off x="6804000" y="213372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103"/>
          <p:cNvSpPr/>
          <p:nvPr/>
        </p:nvSpPr>
        <p:spPr>
          <a:xfrm>
            <a:off x="6985080" y="393372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Oval 104"/>
          <p:cNvSpPr/>
          <p:nvPr/>
        </p:nvSpPr>
        <p:spPr>
          <a:xfrm>
            <a:off x="7021440" y="4437000"/>
            <a:ext cx="71640" cy="73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05"/>
          <p:cNvSpPr/>
          <p:nvPr/>
        </p:nvSpPr>
        <p:spPr>
          <a:xfrm>
            <a:off x="5151240" y="198900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T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106"/>
          <p:cNvSpPr/>
          <p:nvPr/>
        </p:nvSpPr>
        <p:spPr>
          <a:xfrm flipH="1">
            <a:off x="5149800" y="2781360"/>
            <a:ext cx="216000" cy="21600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107"/>
          <p:cNvSpPr/>
          <p:nvPr/>
        </p:nvSpPr>
        <p:spPr>
          <a:xfrm>
            <a:off x="5292720" y="2349360"/>
            <a:ext cx="71280" cy="43200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diamond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108"/>
          <p:cNvSpPr/>
          <p:nvPr/>
        </p:nvSpPr>
        <p:spPr>
          <a:xfrm>
            <a:off x="5253120" y="270828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AutoShape 109"/>
          <p:cNvSpPr/>
          <p:nvPr/>
        </p:nvSpPr>
        <p:spPr>
          <a:xfrm>
            <a:off x="5219640" y="227664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AutoShape 110"/>
          <p:cNvSpPr/>
          <p:nvPr/>
        </p:nvSpPr>
        <p:spPr>
          <a:xfrm>
            <a:off x="5003640" y="2924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12"/>
          <p:cNvSpPr/>
          <p:nvPr/>
        </p:nvSpPr>
        <p:spPr>
          <a:xfrm>
            <a:off x="4501800" y="3052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MIG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114"/>
          <p:cNvSpPr/>
          <p:nvPr/>
        </p:nvSpPr>
        <p:spPr>
          <a:xfrm>
            <a:off x="1187280" y="544500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15"/>
          <p:cNvSpPr/>
          <p:nvPr/>
        </p:nvSpPr>
        <p:spPr>
          <a:xfrm>
            <a:off x="469440" y="554040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ALU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116"/>
          <p:cNvSpPr/>
          <p:nvPr/>
        </p:nvSpPr>
        <p:spPr>
          <a:xfrm>
            <a:off x="2556000" y="292428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Line 117"/>
          <p:cNvSpPr/>
          <p:nvPr/>
        </p:nvSpPr>
        <p:spPr>
          <a:xfrm flipH="1">
            <a:off x="4140360" y="3789360"/>
            <a:ext cx="863280" cy="93492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AutoShape 118"/>
          <p:cNvSpPr/>
          <p:nvPr/>
        </p:nvSpPr>
        <p:spPr>
          <a:xfrm>
            <a:off x="4932360" y="371628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120"/>
          <p:cNvSpPr/>
          <p:nvPr/>
        </p:nvSpPr>
        <p:spPr>
          <a:xfrm>
            <a:off x="7667640" y="4292640"/>
            <a:ext cx="289080" cy="28872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AutoShape 121"/>
          <p:cNvSpPr/>
          <p:nvPr/>
        </p:nvSpPr>
        <p:spPr>
          <a:xfrm>
            <a:off x="7885080" y="45086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122"/>
          <p:cNvSpPr/>
          <p:nvPr/>
        </p:nvSpPr>
        <p:spPr>
          <a:xfrm>
            <a:off x="7596360" y="4221000"/>
            <a:ext cx="144360" cy="144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1240 h 144720"/>
              <a:gd name="textAreaBottom" fmla="*/ 1234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124"/>
          <p:cNvSpPr/>
          <p:nvPr/>
        </p:nvSpPr>
        <p:spPr>
          <a:xfrm>
            <a:off x="8015040" y="458136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UL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125"/>
          <p:cNvSpPr/>
          <p:nvPr/>
        </p:nvSpPr>
        <p:spPr>
          <a:xfrm>
            <a:off x="3276720" y="472428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126"/>
          <p:cNvSpPr/>
          <p:nvPr/>
        </p:nvSpPr>
        <p:spPr>
          <a:xfrm>
            <a:off x="2629080" y="46530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A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27"/>
          <p:cNvSpPr/>
          <p:nvPr/>
        </p:nvSpPr>
        <p:spPr>
          <a:xfrm flipH="1">
            <a:off x="3347640" y="1557360"/>
            <a:ext cx="647640" cy="331164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28"/>
          <p:cNvSpPr/>
          <p:nvPr/>
        </p:nvSpPr>
        <p:spPr>
          <a:xfrm flipH="1">
            <a:off x="4140000" y="1628640"/>
            <a:ext cx="2447640" cy="309564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129"/>
          <p:cNvSpPr/>
          <p:nvPr/>
        </p:nvSpPr>
        <p:spPr>
          <a:xfrm flipH="1">
            <a:off x="3637080" y="4724280"/>
            <a:ext cx="503280" cy="28908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11"/>
          <p:cNvSpPr/>
          <p:nvPr/>
        </p:nvSpPr>
        <p:spPr>
          <a:xfrm>
            <a:off x="4429080" y="249228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UR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13"/>
          <p:cNvSpPr/>
          <p:nvPr/>
        </p:nvSpPr>
        <p:spPr>
          <a:xfrm flipH="1">
            <a:off x="1258560" y="2997360"/>
            <a:ext cx="1368360" cy="259236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92"/>
          <p:cNvSpPr/>
          <p:nvPr/>
        </p:nvSpPr>
        <p:spPr>
          <a:xfrm>
            <a:off x="1258920" y="1989000"/>
            <a:ext cx="865080" cy="100836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Line 100"/>
          <p:cNvSpPr/>
          <p:nvPr/>
        </p:nvSpPr>
        <p:spPr>
          <a:xfrm>
            <a:off x="6877080" y="2205000"/>
            <a:ext cx="216000" cy="1871640"/>
          </a:xfrm>
          <a:prstGeom prst="line">
            <a:avLst/>
          </a:prstGeom>
          <a:ln w="604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022760" y="6254640"/>
            <a:ext cx="49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TS routes with length of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4 973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m in 2010-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320-836A-43F4-BFAA-1B60BECC44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540160" y="3160800"/>
            <a:ext cx="41040" cy="38160"/>
          </a:xfrm>
          <a:custGeom>
            <a:avLst/>
            <a:gdLst/>
            <a:ahLst/>
            <a:rect l="l" t="t" r="r" b="b"/>
            <a:pathLst>
              <a:path w="30" h="29">
                <a:moveTo>
                  <a:pt x="8" y="0"/>
                </a:moveTo>
                <a:lnTo>
                  <a:pt x="19" y="0"/>
                </a:lnTo>
                <a:lnTo>
                  <a:pt x="29" y="9"/>
                </a:lnTo>
                <a:lnTo>
                  <a:pt x="29" y="20"/>
                </a:lnTo>
                <a:lnTo>
                  <a:pt x="19" y="28"/>
                </a:lnTo>
                <a:lnTo>
                  <a:pt x="8" y="28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TS routes to USA and Canada in direction to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ross polar airways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6229440" y="1332000"/>
            <a:ext cx="2620800" cy="2458800"/>
          </a:xfrm>
          <a:custGeom>
            <a:avLst/>
            <a:gdLst/>
            <a:ahLst/>
            <a:rect l="l" t="t" r="r" b="b"/>
            <a:pathLst>
              <a:path w="1974" h="1853">
                <a:moveTo>
                  <a:pt x="266" y="154"/>
                </a:moveTo>
                <a:lnTo>
                  <a:pt x="620" y="530"/>
                </a:lnTo>
                <a:lnTo>
                  <a:pt x="769" y="682"/>
                </a:lnTo>
                <a:lnTo>
                  <a:pt x="773" y="671"/>
                </a:lnTo>
                <a:lnTo>
                  <a:pt x="788" y="671"/>
                </a:lnTo>
                <a:lnTo>
                  <a:pt x="788" y="641"/>
                </a:lnTo>
                <a:lnTo>
                  <a:pt x="811" y="641"/>
                </a:lnTo>
                <a:lnTo>
                  <a:pt x="821" y="633"/>
                </a:lnTo>
                <a:lnTo>
                  <a:pt x="811" y="609"/>
                </a:lnTo>
                <a:lnTo>
                  <a:pt x="829" y="595"/>
                </a:lnTo>
                <a:lnTo>
                  <a:pt x="829" y="568"/>
                </a:lnTo>
                <a:lnTo>
                  <a:pt x="857" y="561"/>
                </a:lnTo>
                <a:lnTo>
                  <a:pt x="905" y="584"/>
                </a:lnTo>
                <a:lnTo>
                  <a:pt x="944" y="573"/>
                </a:lnTo>
                <a:lnTo>
                  <a:pt x="969" y="579"/>
                </a:lnTo>
                <a:lnTo>
                  <a:pt x="983" y="619"/>
                </a:lnTo>
                <a:lnTo>
                  <a:pt x="1009" y="617"/>
                </a:lnTo>
                <a:lnTo>
                  <a:pt x="1036" y="588"/>
                </a:lnTo>
                <a:lnTo>
                  <a:pt x="1063" y="583"/>
                </a:lnTo>
                <a:lnTo>
                  <a:pt x="1085" y="591"/>
                </a:lnTo>
                <a:lnTo>
                  <a:pt x="1124" y="561"/>
                </a:lnTo>
                <a:lnTo>
                  <a:pt x="1163" y="561"/>
                </a:lnTo>
                <a:lnTo>
                  <a:pt x="1186" y="526"/>
                </a:lnTo>
                <a:lnTo>
                  <a:pt x="1238" y="505"/>
                </a:lnTo>
                <a:lnTo>
                  <a:pt x="1290" y="510"/>
                </a:lnTo>
                <a:lnTo>
                  <a:pt x="1314" y="500"/>
                </a:lnTo>
                <a:lnTo>
                  <a:pt x="1327" y="484"/>
                </a:lnTo>
                <a:lnTo>
                  <a:pt x="1359" y="492"/>
                </a:lnTo>
                <a:lnTo>
                  <a:pt x="1379" y="503"/>
                </a:lnTo>
                <a:lnTo>
                  <a:pt x="1390" y="529"/>
                </a:lnTo>
                <a:lnTo>
                  <a:pt x="1415" y="525"/>
                </a:lnTo>
                <a:lnTo>
                  <a:pt x="1428" y="573"/>
                </a:lnTo>
                <a:lnTo>
                  <a:pt x="1454" y="593"/>
                </a:lnTo>
                <a:lnTo>
                  <a:pt x="1491" y="599"/>
                </a:lnTo>
                <a:lnTo>
                  <a:pt x="1518" y="588"/>
                </a:lnTo>
                <a:lnTo>
                  <a:pt x="1549" y="598"/>
                </a:lnTo>
                <a:lnTo>
                  <a:pt x="1560" y="609"/>
                </a:lnTo>
                <a:lnTo>
                  <a:pt x="1560" y="630"/>
                </a:lnTo>
                <a:lnTo>
                  <a:pt x="1564" y="649"/>
                </a:lnTo>
                <a:lnTo>
                  <a:pt x="1581" y="652"/>
                </a:lnTo>
                <a:lnTo>
                  <a:pt x="1595" y="652"/>
                </a:lnTo>
                <a:lnTo>
                  <a:pt x="1607" y="660"/>
                </a:lnTo>
                <a:lnTo>
                  <a:pt x="1607" y="682"/>
                </a:lnTo>
                <a:lnTo>
                  <a:pt x="1624" y="690"/>
                </a:lnTo>
                <a:lnTo>
                  <a:pt x="1681" y="671"/>
                </a:lnTo>
                <a:lnTo>
                  <a:pt x="1715" y="677"/>
                </a:lnTo>
                <a:lnTo>
                  <a:pt x="1732" y="664"/>
                </a:lnTo>
                <a:lnTo>
                  <a:pt x="1786" y="669"/>
                </a:lnTo>
                <a:lnTo>
                  <a:pt x="1800" y="649"/>
                </a:lnTo>
                <a:lnTo>
                  <a:pt x="1805" y="623"/>
                </a:lnTo>
                <a:lnTo>
                  <a:pt x="1819" y="611"/>
                </a:lnTo>
                <a:lnTo>
                  <a:pt x="1810" y="584"/>
                </a:lnTo>
                <a:lnTo>
                  <a:pt x="1821" y="569"/>
                </a:lnTo>
                <a:lnTo>
                  <a:pt x="1837" y="561"/>
                </a:lnTo>
                <a:lnTo>
                  <a:pt x="1853" y="569"/>
                </a:lnTo>
                <a:lnTo>
                  <a:pt x="1853" y="593"/>
                </a:lnTo>
                <a:lnTo>
                  <a:pt x="1842" y="606"/>
                </a:lnTo>
                <a:lnTo>
                  <a:pt x="1850" y="623"/>
                </a:lnTo>
                <a:lnTo>
                  <a:pt x="1866" y="622"/>
                </a:lnTo>
                <a:lnTo>
                  <a:pt x="1883" y="641"/>
                </a:lnTo>
                <a:lnTo>
                  <a:pt x="1917" y="637"/>
                </a:lnTo>
                <a:lnTo>
                  <a:pt x="1934" y="658"/>
                </a:lnTo>
                <a:lnTo>
                  <a:pt x="1973" y="653"/>
                </a:lnTo>
                <a:lnTo>
                  <a:pt x="1973" y="680"/>
                </a:lnTo>
                <a:lnTo>
                  <a:pt x="1950" y="710"/>
                </a:lnTo>
                <a:lnTo>
                  <a:pt x="1923" y="731"/>
                </a:lnTo>
                <a:lnTo>
                  <a:pt x="1928" y="751"/>
                </a:lnTo>
                <a:lnTo>
                  <a:pt x="1943" y="767"/>
                </a:lnTo>
                <a:lnTo>
                  <a:pt x="1934" y="791"/>
                </a:lnTo>
                <a:lnTo>
                  <a:pt x="1934" y="820"/>
                </a:lnTo>
                <a:lnTo>
                  <a:pt x="1945" y="837"/>
                </a:lnTo>
                <a:lnTo>
                  <a:pt x="1926" y="878"/>
                </a:lnTo>
                <a:lnTo>
                  <a:pt x="1896" y="881"/>
                </a:lnTo>
                <a:lnTo>
                  <a:pt x="1891" y="906"/>
                </a:lnTo>
                <a:lnTo>
                  <a:pt x="1822" y="939"/>
                </a:lnTo>
                <a:lnTo>
                  <a:pt x="1800" y="993"/>
                </a:lnTo>
                <a:lnTo>
                  <a:pt x="1810" y="1022"/>
                </a:lnTo>
                <a:lnTo>
                  <a:pt x="1831" y="1091"/>
                </a:lnTo>
                <a:lnTo>
                  <a:pt x="1874" y="1132"/>
                </a:lnTo>
                <a:lnTo>
                  <a:pt x="1906" y="1212"/>
                </a:lnTo>
                <a:lnTo>
                  <a:pt x="1906" y="1255"/>
                </a:lnTo>
                <a:lnTo>
                  <a:pt x="1896" y="1274"/>
                </a:lnTo>
                <a:lnTo>
                  <a:pt x="1848" y="1309"/>
                </a:lnTo>
                <a:lnTo>
                  <a:pt x="1848" y="1335"/>
                </a:lnTo>
                <a:lnTo>
                  <a:pt x="1821" y="1371"/>
                </a:lnTo>
                <a:lnTo>
                  <a:pt x="1790" y="1380"/>
                </a:lnTo>
                <a:lnTo>
                  <a:pt x="1784" y="1355"/>
                </a:lnTo>
                <a:lnTo>
                  <a:pt x="1738" y="1349"/>
                </a:lnTo>
                <a:lnTo>
                  <a:pt x="1663" y="1385"/>
                </a:lnTo>
                <a:lnTo>
                  <a:pt x="1600" y="1399"/>
                </a:lnTo>
                <a:lnTo>
                  <a:pt x="1570" y="1378"/>
                </a:lnTo>
                <a:lnTo>
                  <a:pt x="1492" y="1386"/>
                </a:lnTo>
                <a:lnTo>
                  <a:pt x="1492" y="1401"/>
                </a:lnTo>
                <a:lnTo>
                  <a:pt x="1506" y="1431"/>
                </a:lnTo>
                <a:lnTo>
                  <a:pt x="1501" y="1464"/>
                </a:lnTo>
                <a:lnTo>
                  <a:pt x="1512" y="1497"/>
                </a:lnTo>
                <a:lnTo>
                  <a:pt x="1506" y="1537"/>
                </a:lnTo>
                <a:lnTo>
                  <a:pt x="1506" y="1611"/>
                </a:lnTo>
                <a:lnTo>
                  <a:pt x="1506" y="1636"/>
                </a:lnTo>
                <a:lnTo>
                  <a:pt x="1488" y="1641"/>
                </a:lnTo>
                <a:lnTo>
                  <a:pt x="1492" y="1676"/>
                </a:lnTo>
                <a:lnTo>
                  <a:pt x="1517" y="1723"/>
                </a:lnTo>
                <a:lnTo>
                  <a:pt x="1515" y="1825"/>
                </a:lnTo>
                <a:lnTo>
                  <a:pt x="1303" y="1688"/>
                </a:lnTo>
                <a:lnTo>
                  <a:pt x="721" y="1852"/>
                </a:lnTo>
                <a:lnTo>
                  <a:pt x="308" y="1315"/>
                </a:lnTo>
                <a:lnTo>
                  <a:pt x="246" y="1061"/>
                </a:lnTo>
                <a:lnTo>
                  <a:pt x="122" y="909"/>
                </a:lnTo>
                <a:lnTo>
                  <a:pt x="0" y="0"/>
                </a:lnTo>
                <a:lnTo>
                  <a:pt x="53" y="57"/>
                </a:lnTo>
                <a:lnTo>
                  <a:pt x="266" y="154"/>
                </a:lnTo>
                <a:lnTo>
                  <a:pt x="266" y="1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27120" y="2820960"/>
            <a:ext cx="2170080" cy="1438200"/>
          </a:xfrm>
          <a:custGeom>
            <a:avLst/>
            <a:gdLst/>
            <a:ahLst/>
            <a:rect l="l" t="t" r="r" b="b"/>
            <a:pathLst>
              <a:path w="1635" h="1085">
                <a:moveTo>
                  <a:pt x="0" y="512"/>
                </a:moveTo>
                <a:lnTo>
                  <a:pt x="448" y="117"/>
                </a:lnTo>
                <a:lnTo>
                  <a:pt x="477" y="117"/>
                </a:lnTo>
                <a:lnTo>
                  <a:pt x="490" y="129"/>
                </a:lnTo>
                <a:lnTo>
                  <a:pt x="494" y="143"/>
                </a:lnTo>
                <a:lnTo>
                  <a:pt x="513" y="147"/>
                </a:lnTo>
                <a:lnTo>
                  <a:pt x="549" y="137"/>
                </a:lnTo>
                <a:lnTo>
                  <a:pt x="575" y="113"/>
                </a:lnTo>
                <a:lnTo>
                  <a:pt x="582" y="102"/>
                </a:lnTo>
                <a:lnTo>
                  <a:pt x="588" y="90"/>
                </a:lnTo>
                <a:lnTo>
                  <a:pt x="592" y="73"/>
                </a:lnTo>
                <a:lnTo>
                  <a:pt x="594" y="56"/>
                </a:lnTo>
                <a:lnTo>
                  <a:pt x="604" y="56"/>
                </a:lnTo>
                <a:lnTo>
                  <a:pt x="614" y="60"/>
                </a:lnTo>
                <a:lnTo>
                  <a:pt x="621" y="40"/>
                </a:lnTo>
                <a:lnTo>
                  <a:pt x="643" y="50"/>
                </a:lnTo>
                <a:lnTo>
                  <a:pt x="643" y="33"/>
                </a:lnTo>
                <a:lnTo>
                  <a:pt x="653" y="23"/>
                </a:lnTo>
                <a:lnTo>
                  <a:pt x="667" y="40"/>
                </a:lnTo>
                <a:lnTo>
                  <a:pt x="679" y="30"/>
                </a:lnTo>
                <a:lnTo>
                  <a:pt x="702" y="21"/>
                </a:lnTo>
                <a:lnTo>
                  <a:pt x="725" y="14"/>
                </a:lnTo>
                <a:lnTo>
                  <a:pt x="745" y="14"/>
                </a:lnTo>
                <a:lnTo>
                  <a:pt x="760" y="23"/>
                </a:lnTo>
                <a:lnTo>
                  <a:pt x="774" y="40"/>
                </a:lnTo>
                <a:lnTo>
                  <a:pt x="783" y="56"/>
                </a:lnTo>
                <a:lnTo>
                  <a:pt x="796" y="67"/>
                </a:lnTo>
                <a:lnTo>
                  <a:pt x="803" y="53"/>
                </a:lnTo>
                <a:lnTo>
                  <a:pt x="819" y="56"/>
                </a:lnTo>
                <a:lnTo>
                  <a:pt x="836" y="60"/>
                </a:lnTo>
                <a:lnTo>
                  <a:pt x="845" y="47"/>
                </a:lnTo>
                <a:lnTo>
                  <a:pt x="845" y="14"/>
                </a:lnTo>
                <a:lnTo>
                  <a:pt x="855" y="6"/>
                </a:lnTo>
                <a:lnTo>
                  <a:pt x="871" y="14"/>
                </a:lnTo>
                <a:lnTo>
                  <a:pt x="891" y="23"/>
                </a:lnTo>
                <a:lnTo>
                  <a:pt x="906" y="30"/>
                </a:lnTo>
                <a:lnTo>
                  <a:pt x="917" y="6"/>
                </a:lnTo>
                <a:lnTo>
                  <a:pt x="923" y="0"/>
                </a:lnTo>
                <a:lnTo>
                  <a:pt x="937" y="6"/>
                </a:lnTo>
                <a:lnTo>
                  <a:pt x="944" y="27"/>
                </a:lnTo>
                <a:lnTo>
                  <a:pt x="969" y="27"/>
                </a:lnTo>
                <a:lnTo>
                  <a:pt x="976" y="40"/>
                </a:lnTo>
                <a:lnTo>
                  <a:pt x="966" y="97"/>
                </a:lnTo>
                <a:lnTo>
                  <a:pt x="998" y="102"/>
                </a:lnTo>
                <a:lnTo>
                  <a:pt x="1005" y="109"/>
                </a:lnTo>
                <a:lnTo>
                  <a:pt x="1021" y="113"/>
                </a:lnTo>
                <a:lnTo>
                  <a:pt x="1044" y="117"/>
                </a:lnTo>
                <a:lnTo>
                  <a:pt x="1048" y="123"/>
                </a:lnTo>
                <a:lnTo>
                  <a:pt x="1083" y="126"/>
                </a:lnTo>
                <a:lnTo>
                  <a:pt x="1099" y="137"/>
                </a:lnTo>
                <a:lnTo>
                  <a:pt x="1102" y="147"/>
                </a:lnTo>
                <a:lnTo>
                  <a:pt x="1116" y="163"/>
                </a:lnTo>
                <a:lnTo>
                  <a:pt x="1145" y="152"/>
                </a:lnTo>
                <a:lnTo>
                  <a:pt x="1171" y="126"/>
                </a:lnTo>
                <a:lnTo>
                  <a:pt x="1183" y="102"/>
                </a:lnTo>
                <a:lnTo>
                  <a:pt x="1179" y="84"/>
                </a:lnTo>
                <a:lnTo>
                  <a:pt x="1190" y="71"/>
                </a:lnTo>
                <a:lnTo>
                  <a:pt x="1206" y="76"/>
                </a:lnTo>
                <a:lnTo>
                  <a:pt x="1222" y="97"/>
                </a:lnTo>
                <a:lnTo>
                  <a:pt x="1246" y="113"/>
                </a:lnTo>
                <a:lnTo>
                  <a:pt x="1275" y="109"/>
                </a:lnTo>
                <a:lnTo>
                  <a:pt x="1304" y="102"/>
                </a:lnTo>
                <a:lnTo>
                  <a:pt x="1347" y="90"/>
                </a:lnTo>
                <a:lnTo>
                  <a:pt x="1369" y="79"/>
                </a:lnTo>
                <a:lnTo>
                  <a:pt x="1389" y="60"/>
                </a:lnTo>
                <a:lnTo>
                  <a:pt x="1402" y="36"/>
                </a:lnTo>
                <a:lnTo>
                  <a:pt x="1408" y="17"/>
                </a:lnTo>
                <a:lnTo>
                  <a:pt x="1569" y="203"/>
                </a:lnTo>
                <a:lnTo>
                  <a:pt x="1634" y="603"/>
                </a:lnTo>
                <a:lnTo>
                  <a:pt x="1160" y="818"/>
                </a:lnTo>
                <a:lnTo>
                  <a:pt x="935" y="1077"/>
                </a:lnTo>
                <a:lnTo>
                  <a:pt x="718" y="1084"/>
                </a:lnTo>
                <a:lnTo>
                  <a:pt x="431" y="581"/>
                </a:lnTo>
                <a:lnTo>
                  <a:pt x="0" y="512"/>
                </a:lnTo>
                <a:lnTo>
                  <a:pt x="0" y="51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30040" y="3344760"/>
            <a:ext cx="2251080" cy="1446480"/>
          </a:xfrm>
          <a:custGeom>
            <a:avLst/>
            <a:gdLst/>
            <a:ahLst/>
            <a:rect l="l" t="t" r="r" b="b"/>
            <a:pathLst>
              <a:path w="1418" h="911">
                <a:moveTo>
                  <a:pt x="54" y="0"/>
                </a:moveTo>
                <a:lnTo>
                  <a:pt x="813" y="102"/>
                </a:lnTo>
                <a:lnTo>
                  <a:pt x="1175" y="155"/>
                </a:lnTo>
                <a:lnTo>
                  <a:pt x="1418" y="572"/>
                </a:lnTo>
                <a:lnTo>
                  <a:pt x="1087" y="911"/>
                </a:lnTo>
                <a:lnTo>
                  <a:pt x="336" y="703"/>
                </a:lnTo>
                <a:lnTo>
                  <a:pt x="320" y="657"/>
                </a:lnTo>
                <a:lnTo>
                  <a:pt x="329" y="640"/>
                </a:lnTo>
                <a:lnTo>
                  <a:pt x="315" y="614"/>
                </a:lnTo>
                <a:lnTo>
                  <a:pt x="277" y="580"/>
                </a:lnTo>
                <a:lnTo>
                  <a:pt x="233" y="550"/>
                </a:lnTo>
                <a:lnTo>
                  <a:pt x="214" y="522"/>
                </a:lnTo>
                <a:lnTo>
                  <a:pt x="208" y="512"/>
                </a:lnTo>
                <a:lnTo>
                  <a:pt x="223" y="512"/>
                </a:lnTo>
                <a:lnTo>
                  <a:pt x="250" y="525"/>
                </a:lnTo>
                <a:lnTo>
                  <a:pt x="271" y="528"/>
                </a:lnTo>
                <a:lnTo>
                  <a:pt x="279" y="517"/>
                </a:lnTo>
                <a:lnTo>
                  <a:pt x="274" y="494"/>
                </a:lnTo>
                <a:lnTo>
                  <a:pt x="256" y="453"/>
                </a:lnTo>
                <a:lnTo>
                  <a:pt x="248" y="417"/>
                </a:lnTo>
                <a:lnTo>
                  <a:pt x="231" y="409"/>
                </a:lnTo>
                <a:lnTo>
                  <a:pt x="231" y="380"/>
                </a:lnTo>
                <a:lnTo>
                  <a:pt x="214" y="366"/>
                </a:lnTo>
                <a:lnTo>
                  <a:pt x="202" y="334"/>
                </a:lnTo>
                <a:lnTo>
                  <a:pt x="187" y="308"/>
                </a:lnTo>
                <a:lnTo>
                  <a:pt x="169" y="303"/>
                </a:lnTo>
                <a:lnTo>
                  <a:pt x="125" y="298"/>
                </a:lnTo>
                <a:lnTo>
                  <a:pt x="111" y="292"/>
                </a:lnTo>
                <a:lnTo>
                  <a:pt x="100" y="279"/>
                </a:lnTo>
                <a:lnTo>
                  <a:pt x="90" y="273"/>
                </a:lnTo>
                <a:lnTo>
                  <a:pt x="79" y="275"/>
                </a:lnTo>
                <a:lnTo>
                  <a:pt x="81" y="292"/>
                </a:lnTo>
                <a:lnTo>
                  <a:pt x="75" y="298"/>
                </a:lnTo>
                <a:lnTo>
                  <a:pt x="68" y="298"/>
                </a:lnTo>
                <a:lnTo>
                  <a:pt x="46" y="295"/>
                </a:lnTo>
                <a:lnTo>
                  <a:pt x="40" y="273"/>
                </a:lnTo>
                <a:lnTo>
                  <a:pt x="38" y="253"/>
                </a:lnTo>
                <a:lnTo>
                  <a:pt x="35" y="241"/>
                </a:lnTo>
                <a:lnTo>
                  <a:pt x="46" y="225"/>
                </a:lnTo>
                <a:lnTo>
                  <a:pt x="46" y="212"/>
                </a:lnTo>
                <a:lnTo>
                  <a:pt x="40" y="205"/>
                </a:lnTo>
                <a:lnTo>
                  <a:pt x="40" y="183"/>
                </a:lnTo>
                <a:lnTo>
                  <a:pt x="28" y="173"/>
                </a:lnTo>
                <a:lnTo>
                  <a:pt x="13" y="167"/>
                </a:lnTo>
                <a:lnTo>
                  <a:pt x="0" y="151"/>
                </a:lnTo>
                <a:lnTo>
                  <a:pt x="0" y="109"/>
                </a:lnTo>
                <a:lnTo>
                  <a:pt x="11" y="97"/>
                </a:lnTo>
                <a:lnTo>
                  <a:pt x="28" y="86"/>
                </a:lnTo>
                <a:lnTo>
                  <a:pt x="18" y="55"/>
                </a:lnTo>
                <a:lnTo>
                  <a:pt x="17" y="44"/>
                </a:lnTo>
                <a:lnTo>
                  <a:pt x="21" y="31"/>
                </a:lnTo>
                <a:lnTo>
                  <a:pt x="54" y="0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89400" y="4511520"/>
            <a:ext cx="1417680" cy="944640"/>
          </a:xfrm>
          <a:custGeom>
            <a:avLst/>
            <a:gdLst/>
            <a:ahLst/>
            <a:rect l="l" t="t" r="r" b="b"/>
            <a:pathLst>
              <a:path w="892" h="595">
                <a:moveTo>
                  <a:pt x="114" y="0"/>
                </a:moveTo>
                <a:lnTo>
                  <a:pt x="509" y="3"/>
                </a:lnTo>
                <a:lnTo>
                  <a:pt x="735" y="4"/>
                </a:lnTo>
                <a:lnTo>
                  <a:pt x="831" y="101"/>
                </a:lnTo>
                <a:lnTo>
                  <a:pt x="884" y="159"/>
                </a:lnTo>
                <a:lnTo>
                  <a:pt x="892" y="248"/>
                </a:lnTo>
                <a:lnTo>
                  <a:pt x="855" y="248"/>
                </a:lnTo>
                <a:lnTo>
                  <a:pt x="834" y="359"/>
                </a:lnTo>
                <a:lnTo>
                  <a:pt x="703" y="470"/>
                </a:lnTo>
                <a:lnTo>
                  <a:pt x="689" y="476"/>
                </a:lnTo>
                <a:lnTo>
                  <a:pt x="662" y="470"/>
                </a:lnTo>
                <a:lnTo>
                  <a:pt x="648" y="472"/>
                </a:lnTo>
                <a:lnTo>
                  <a:pt x="635" y="480"/>
                </a:lnTo>
                <a:lnTo>
                  <a:pt x="599" y="474"/>
                </a:lnTo>
                <a:lnTo>
                  <a:pt x="574" y="474"/>
                </a:lnTo>
                <a:lnTo>
                  <a:pt x="564" y="480"/>
                </a:lnTo>
                <a:lnTo>
                  <a:pt x="548" y="478"/>
                </a:lnTo>
                <a:lnTo>
                  <a:pt x="540" y="488"/>
                </a:lnTo>
                <a:lnTo>
                  <a:pt x="512" y="488"/>
                </a:lnTo>
                <a:lnTo>
                  <a:pt x="504" y="501"/>
                </a:lnTo>
                <a:lnTo>
                  <a:pt x="502" y="521"/>
                </a:lnTo>
                <a:lnTo>
                  <a:pt x="494" y="537"/>
                </a:lnTo>
                <a:lnTo>
                  <a:pt x="482" y="540"/>
                </a:lnTo>
                <a:lnTo>
                  <a:pt x="490" y="559"/>
                </a:lnTo>
                <a:lnTo>
                  <a:pt x="484" y="569"/>
                </a:lnTo>
                <a:lnTo>
                  <a:pt x="478" y="574"/>
                </a:lnTo>
                <a:lnTo>
                  <a:pt x="465" y="595"/>
                </a:lnTo>
                <a:lnTo>
                  <a:pt x="0" y="346"/>
                </a:lnTo>
                <a:lnTo>
                  <a:pt x="99" y="246"/>
                </a:lnTo>
                <a:lnTo>
                  <a:pt x="118" y="0"/>
                </a:lnTo>
                <a:lnTo>
                  <a:pt x="114" y="0"/>
                </a:lnTo>
                <a:lnTo>
                  <a:pt x="114" y="0"/>
                </a:lnTo>
              </a:path>
            </a:pathLst>
          </a:custGeom>
          <a:noFill/>
          <a:ln w="6480">
            <a:solidFill>
              <a:srgbClr val="e1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69000" y="3073320"/>
            <a:ext cx="2563920" cy="1995480"/>
          </a:xfrm>
          <a:custGeom>
            <a:avLst/>
            <a:gdLst/>
            <a:ahLst/>
            <a:rect l="l" t="t" r="r" b="b"/>
            <a:pathLst>
              <a:path w="1931" h="1504">
                <a:moveTo>
                  <a:pt x="1646" y="373"/>
                </a:moveTo>
                <a:lnTo>
                  <a:pt x="1854" y="509"/>
                </a:lnTo>
                <a:lnTo>
                  <a:pt x="1864" y="526"/>
                </a:lnTo>
                <a:lnTo>
                  <a:pt x="1894" y="526"/>
                </a:lnTo>
                <a:lnTo>
                  <a:pt x="1916" y="533"/>
                </a:lnTo>
                <a:lnTo>
                  <a:pt x="1930" y="566"/>
                </a:lnTo>
                <a:lnTo>
                  <a:pt x="1923" y="586"/>
                </a:lnTo>
                <a:lnTo>
                  <a:pt x="1916" y="593"/>
                </a:lnTo>
                <a:lnTo>
                  <a:pt x="1880" y="595"/>
                </a:lnTo>
                <a:lnTo>
                  <a:pt x="1861" y="599"/>
                </a:lnTo>
                <a:lnTo>
                  <a:pt x="1829" y="632"/>
                </a:lnTo>
                <a:lnTo>
                  <a:pt x="1793" y="622"/>
                </a:lnTo>
                <a:lnTo>
                  <a:pt x="1783" y="602"/>
                </a:lnTo>
                <a:lnTo>
                  <a:pt x="1767" y="602"/>
                </a:lnTo>
                <a:lnTo>
                  <a:pt x="1754" y="625"/>
                </a:lnTo>
                <a:lnTo>
                  <a:pt x="1701" y="668"/>
                </a:lnTo>
                <a:lnTo>
                  <a:pt x="1630" y="715"/>
                </a:lnTo>
                <a:lnTo>
                  <a:pt x="1595" y="732"/>
                </a:lnTo>
                <a:lnTo>
                  <a:pt x="1556" y="745"/>
                </a:lnTo>
                <a:lnTo>
                  <a:pt x="1529" y="778"/>
                </a:lnTo>
                <a:lnTo>
                  <a:pt x="1535" y="805"/>
                </a:lnTo>
                <a:lnTo>
                  <a:pt x="1561" y="812"/>
                </a:lnTo>
                <a:lnTo>
                  <a:pt x="1581" y="792"/>
                </a:lnTo>
                <a:lnTo>
                  <a:pt x="1614" y="794"/>
                </a:lnTo>
                <a:lnTo>
                  <a:pt x="1636" y="816"/>
                </a:lnTo>
                <a:lnTo>
                  <a:pt x="1627" y="831"/>
                </a:lnTo>
                <a:lnTo>
                  <a:pt x="1640" y="898"/>
                </a:lnTo>
                <a:lnTo>
                  <a:pt x="1663" y="974"/>
                </a:lnTo>
                <a:lnTo>
                  <a:pt x="1708" y="1028"/>
                </a:lnTo>
                <a:lnTo>
                  <a:pt x="1750" y="1081"/>
                </a:lnTo>
                <a:lnTo>
                  <a:pt x="1767" y="1108"/>
                </a:lnTo>
                <a:lnTo>
                  <a:pt x="1793" y="1141"/>
                </a:lnTo>
                <a:lnTo>
                  <a:pt x="1790" y="1158"/>
                </a:lnTo>
                <a:lnTo>
                  <a:pt x="1761" y="1177"/>
                </a:lnTo>
                <a:lnTo>
                  <a:pt x="1737" y="1214"/>
                </a:lnTo>
                <a:lnTo>
                  <a:pt x="1770" y="1240"/>
                </a:lnTo>
                <a:lnTo>
                  <a:pt x="1761" y="1261"/>
                </a:lnTo>
                <a:lnTo>
                  <a:pt x="1731" y="1267"/>
                </a:lnTo>
                <a:lnTo>
                  <a:pt x="1725" y="1307"/>
                </a:lnTo>
                <a:lnTo>
                  <a:pt x="1731" y="1333"/>
                </a:lnTo>
                <a:lnTo>
                  <a:pt x="1757" y="1374"/>
                </a:lnTo>
                <a:lnTo>
                  <a:pt x="1764" y="1401"/>
                </a:lnTo>
                <a:lnTo>
                  <a:pt x="1764" y="1413"/>
                </a:lnTo>
                <a:lnTo>
                  <a:pt x="1740" y="1413"/>
                </a:lnTo>
                <a:lnTo>
                  <a:pt x="1725" y="1403"/>
                </a:lnTo>
                <a:lnTo>
                  <a:pt x="1711" y="1390"/>
                </a:lnTo>
                <a:lnTo>
                  <a:pt x="1676" y="1387"/>
                </a:lnTo>
                <a:lnTo>
                  <a:pt x="1627" y="1401"/>
                </a:lnTo>
                <a:lnTo>
                  <a:pt x="1561" y="1367"/>
                </a:lnTo>
                <a:lnTo>
                  <a:pt x="1559" y="1348"/>
                </a:lnTo>
                <a:lnTo>
                  <a:pt x="1539" y="1344"/>
                </a:lnTo>
                <a:lnTo>
                  <a:pt x="1516" y="1357"/>
                </a:lnTo>
                <a:lnTo>
                  <a:pt x="1464" y="1359"/>
                </a:lnTo>
                <a:lnTo>
                  <a:pt x="1392" y="1374"/>
                </a:lnTo>
                <a:lnTo>
                  <a:pt x="1337" y="1390"/>
                </a:lnTo>
                <a:lnTo>
                  <a:pt x="1292" y="1390"/>
                </a:lnTo>
                <a:lnTo>
                  <a:pt x="1250" y="1398"/>
                </a:lnTo>
                <a:lnTo>
                  <a:pt x="1201" y="1413"/>
                </a:lnTo>
                <a:lnTo>
                  <a:pt x="1165" y="1403"/>
                </a:lnTo>
                <a:lnTo>
                  <a:pt x="1120" y="1434"/>
                </a:lnTo>
                <a:lnTo>
                  <a:pt x="1067" y="1454"/>
                </a:lnTo>
                <a:lnTo>
                  <a:pt x="1012" y="1456"/>
                </a:lnTo>
                <a:lnTo>
                  <a:pt x="1000" y="1470"/>
                </a:lnTo>
                <a:lnTo>
                  <a:pt x="966" y="1474"/>
                </a:lnTo>
                <a:lnTo>
                  <a:pt x="943" y="1503"/>
                </a:lnTo>
                <a:lnTo>
                  <a:pt x="917" y="1503"/>
                </a:lnTo>
                <a:lnTo>
                  <a:pt x="862" y="1496"/>
                </a:lnTo>
                <a:lnTo>
                  <a:pt x="804" y="1370"/>
                </a:lnTo>
                <a:lnTo>
                  <a:pt x="631" y="1380"/>
                </a:lnTo>
                <a:lnTo>
                  <a:pt x="618" y="1274"/>
                </a:lnTo>
                <a:lnTo>
                  <a:pt x="446" y="1085"/>
                </a:lnTo>
                <a:lnTo>
                  <a:pt x="170" y="1081"/>
                </a:lnTo>
                <a:lnTo>
                  <a:pt x="0" y="326"/>
                </a:lnTo>
                <a:lnTo>
                  <a:pt x="397" y="240"/>
                </a:lnTo>
                <a:lnTo>
                  <a:pt x="649" y="0"/>
                </a:lnTo>
                <a:lnTo>
                  <a:pt x="1067" y="542"/>
                </a:lnTo>
                <a:lnTo>
                  <a:pt x="1653" y="377"/>
                </a:lnTo>
                <a:lnTo>
                  <a:pt x="1646" y="373"/>
                </a:lnTo>
                <a:lnTo>
                  <a:pt x="1646" y="37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300720" y="4896000"/>
            <a:ext cx="614520" cy="420480"/>
          </a:xfrm>
          <a:custGeom>
            <a:avLst/>
            <a:gdLst/>
            <a:ahLst/>
            <a:rect l="l" t="t" r="r" b="b"/>
            <a:pathLst>
              <a:path w="464" h="317">
                <a:moveTo>
                  <a:pt x="0" y="276"/>
                </a:moveTo>
                <a:lnTo>
                  <a:pt x="161" y="142"/>
                </a:lnTo>
                <a:lnTo>
                  <a:pt x="187" y="5"/>
                </a:lnTo>
                <a:lnTo>
                  <a:pt x="229" y="5"/>
                </a:lnTo>
                <a:lnTo>
                  <a:pt x="405" y="0"/>
                </a:lnTo>
                <a:lnTo>
                  <a:pt x="463" y="128"/>
                </a:lnTo>
                <a:lnTo>
                  <a:pt x="416" y="139"/>
                </a:lnTo>
                <a:lnTo>
                  <a:pt x="395" y="134"/>
                </a:lnTo>
                <a:lnTo>
                  <a:pt x="381" y="129"/>
                </a:lnTo>
                <a:lnTo>
                  <a:pt x="364" y="113"/>
                </a:lnTo>
                <a:lnTo>
                  <a:pt x="345" y="106"/>
                </a:lnTo>
                <a:lnTo>
                  <a:pt x="326" y="109"/>
                </a:lnTo>
                <a:lnTo>
                  <a:pt x="308" y="106"/>
                </a:lnTo>
                <a:lnTo>
                  <a:pt x="290" y="88"/>
                </a:lnTo>
                <a:lnTo>
                  <a:pt x="274" y="80"/>
                </a:lnTo>
                <a:lnTo>
                  <a:pt x="260" y="80"/>
                </a:lnTo>
                <a:lnTo>
                  <a:pt x="260" y="95"/>
                </a:lnTo>
                <a:lnTo>
                  <a:pt x="251" y="108"/>
                </a:lnTo>
                <a:lnTo>
                  <a:pt x="238" y="106"/>
                </a:lnTo>
                <a:lnTo>
                  <a:pt x="229" y="95"/>
                </a:lnTo>
                <a:lnTo>
                  <a:pt x="218" y="99"/>
                </a:lnTo>
                <a:lnTo>
                  <a:pt x="211" y="111"/>
                </a:lnTo>
                <a:lnTo>
                  <a:pt x="205" y="139"/>
                </a:lnTo>
                <a:lnTo>
                  <a:pt x="193" y="153"/>
                </a:lnTo>
                <a:lnTo>
                  <a:pt x="169" y="166"/>
                </a:lnTo>
                <a:lnTo>
                  <a:pt x="158" y="197"/>
                </a:lnTo>
                <a:lnTo>
                  <a:pt x="151" y="218"/>
                </a:lnTo>
                <a:lnTo>
                  <a:pt x="154" y="254"/>
                </a:lnTo>
                <a:lnTo>
                  <a:pt x="170" y="301"/>
                </a:lnTo>
                <a:lnTo>
                  <a:pt x="175" y="308"/>
                </a:lnTo>
                <a:lnTo>
                  <a:pt x="172" y="316"/>
                </a:lnTo>
                <a:lnTo>
                  <a:pt x="151" y="309"/>
                </a:lnTo>
                <a:lnTo>
                  <a:pt x="132" y="305"/>
                </a:lnTo>
                <a:lnTo>
                  <a:pt x="109" y="298"/>
                </a:lnTo>
                <a:lnTo>
                  <a:pt x="88" y="301"/>
                </a:lnTo>
                <a:lnTo>
                  <a:pt x="74" y="305"/>
                </a:lnTo>
                <a:lnTo>
                  <a:pt x="61" y="291"/>
                </a:lnTo>
                <a:lnTo>
                  <a:pt x="39" y="295"/>
                </a:lnTo>
                <a:lnTo>
                  <a:pt x="18" y="290"/>
                </a:lnTo>
                <a:lnTo>
                  <a:pt x="0" y="276"/>
                </a:lnTo>
                <a:lnTo>
                  <a:pt x="0" y="2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625840" y="3614760"/>
            <a:ext cx="1468440" cy="1308240"/>
          </a:xfrm>
          <a:custGeom>
            <a:avLst/>
            <a:gdLst/>
            <a:ahLst/>
            <a:rect l="l" t="t" r="r" b="b"/>
            <a:pathLst>
              <a:path w="1295" h="1154">
                <a:moveTo>
                  <a:pt x="24" y="548"/>
                </a:moveTo>
                <a:lnTo>
                  <a:pt x="131" y="553"/>
                </a:lnTo>
                <a:lnTo>
                  <a:pt x="393" y="252"/>
                </a:lnTo>
                <a:lnTo>
                  <a:pt x="936" y="0"/>
                </a:lnTo>
                <a:lnTo>
                  <a:pt x="1295" y="384"/>
                </a:lnTo>
                <a:lnTo>
                  <a:pt x="536" y="1154"/>
                </a:lnTo>
                <a:lnTo>
                  <a:pt x="495" y="1109"/>
                </a:lnTo>
                <a:lnTo>
                  <a:pt x="438" y="1069"/>
                </a:lnTo>
                <a:lnTo>
                  <a:pt x="352" y="1028"/>
                </a:lnTo>
                <a:lnTo>
                  <a:pt x="303" y="994"/>
                </a:lnTo>
                <a:lnTo>
                  <a:pt x="250" y="954"/>
                </a:lnTo>
                <a:lnTo>
                  <a:pt x="186" y="929"/>
                </a:lnTo>
                <a:lnTo>
                  <a:pt x="0" y="960"/>
                </a:lnTo>
                <a:lnTo>
                  <a:pt x="3" y="96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32080" y="4046400"/>
            <a:ext cx="2140200" cy="1363680"/>
          </a:xfrm>
          <a:custGeom>
            <a:avLst/>
            <a:gdLst/>
            <a:ahLst/>
            <a:rect l="l" t="t" r="r" b="b"/>
            <a:pathLst>
              <a:path w="1612" h="1028">
                <a:moveTo>
                  <a:pt x="645" y="0"/>
                </a:moveTo>
                <a:lnTo>
                  <a:pt x="1611" y="345"/>
                </a:lnTo>
                <a:lnTo>
                  <a:pt x="1598" y="635"/>
                </a:lnTo>
                <a:lnTo>
                  <a:pt x="1389" y="843"/>
                </a:lnTo>
                <a:lnTo>
                  <a:pt x="1004" y="1027"/>
                </a:lnTo>
                <a:lnTo>
                  <a:pt x="947" y="954"/>
                </a:lnTo>
                <a:lnTo>
                  <a:pt x="912" y="947"/>
                </a:lnTo>
                <a:lnTo>
                  <a:pt x="876" y="893"/>
                </a:lnTo>
                <a:lnTo>
                  <a:pt x="829" y="878"/>
                </a:lnTo>
                <a:lnTo>
                  <a:pt x="775" y="906"/>
                </a:lnTo>
                <a:lnTo>
                  <a:pt x="743" y="914"/>
                </a:lnTo>
                <a:lnTo>
                  <a:pt x="545" y="910"/>
                </a:lnTo>
                <a:lnTo>
                  <a:pt x="476" y="927"/>
                </a:lnTo>
                <a:lnTo>
                  <a:pt x="411" y="940"/>
                </a:lnTo>
                <a:lnTo>
                  <a:pt x="365" y="940"/>
                </a:lnTo>
                <a:lnTo>
                  <a:pt x="327" y="957"/>
                </a:lnTo>
                <a:lnTo>
                  <a:pt x="177" y="804"/>
                </a:lnTo>
                <a:lnTo>
                  <a:pt x="0" y="660"/>
                </a:lnTo>
                <a:lnTo>
                  <a:pt x="645" y="0"/>
                </a:lnTo>
                <a:lnTo>
                  <a:pt x="6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64960" y="2581200"/>
            <a:ext cx="1860840" cy="933480"/>
          </a:xfrm>
          <a:custGeom>
            <a:avLst/>
            <a:gdLst/>
            <a:ahLst/>
            <a:rect l="l" t="t" r="r" b="b"/>
            <a:pathLst>
              <a:path w="1400" h="704">
                <a:moveTo>
                  <a:pt x="39" y="577"/>
                </a:moveTo>
                <a:lnTo>
                  <a:pt x="39" y="579"/>
                </a:lnTo>
                <a:lnTo>
                  <a:pt x="35" y="557"/>
                </a:lnTo>
                <a:lnTo>
                  <a:pt x="6" y="532"/>
                </a:lnTo>
                <a:lnTo>
                  <a:pt x="0" y="514"/>
                </a:lnTo>
                <a:lnTo>
                  <a:pt x="6" y="505"/>
                </a:lnTo>
                <a:lnTo>
                  <a:pt x="13" y="490"/>
                </a:lnTo>
                <a:lnTo>
                  <a:pt x="13" y="465"/>
                </a:lnTo>
                <a:lnTo>
                  <a:pt x="28" y="436"/>
                </a:lnTo>
                <a:lnTo>
                  <a:pt x="33" y="410"/>
                </a:lnTo>
                <a:lnTo>
                  <a:pt x="49" y="396"/>
                </a:lnTo>
                <a:lnTo>
                  <a:pt x="80" y="379"/>
                </a:lnTo>
                <a:lnTo>
                  <a:pt x="106" y="362"/>
                </a:lnTo>
                <a:lnTo>
                  <a:pt x="115" y="350"/>
                </a:lnTo>
                <a:lnTo>
                  <a:pt x="118" y="333"/>
                </a:lnTo>
                <a:lnTo>
                  <a:pt x="115" y="320"/>
                </a:lnTo>
                <a:lnTo>
                  <a:pt x="110" y="315"/>
                </a:lnTo>
                <a:lnTo>
                  <a:pt x="122" y="308"/>
                </a:lnTo>
                <a:lnTo>
                  <a:pt x="128" y="291"/>
                </a:lnTo>
                <a:lnTo>
                  <a:pt x="141" y="279"/>
                </a:lnTo>
                <a:lnTo>
                  <a:pt x="165" y="271"/>
                </a:lnTo>
                <a:lnTo>
                  <a:pt x="184" y="274"/>
                </a:lnTo>
                <a:lnTo>
                  <a:pt x="196" y="287"/>
                </a:lnTo>
                <a:lnTo>
                  <a:pt x="205" y="304"/>
                </a:lnTo>
                <a:lnTo>
                  <a:pt x="212" y="317"/>
                </a:lnTo>
                <a:lnTo>
                  <a:pt x="223" y="326"/>
                </a:lnTo>
                <a:lnTo>
                  <a:pt x="234" y="339"/>
                </a:lnTo>
                <a:lnTo>
                  <a:pt x="243" y="367"/>
                </a:lnTo>
                <a:lnTo>
                  <a:pt x="258" y="405"/>
                </a:lnTo>
                <a:lnTo>
                  <a:pt x="278" y="431"/>
                </a:lnTo>
                <a:lnTo>
                  <a:pt x="298" y="432"/>
                </a:lnTo>
                <a:lnTo>
                  <a:pt x="329" y="425"/>
                </a:lnTo>
                <a:lnTo>
                  <a:pt x="346" y="418"/>
                </a:lnTo>
                <a:lnTo>
                  <a:pt x="364" y="403"/>
                </a:lnTo>
                <a:lnTo>
                  <a:pt x="369" y="388"/>
                </a:lnTo>
                <a:lnTo>
                  <a:pt x="369" y="372"/>
                </a:lnTo>
                <a:lnTo>
                  <a:pt x="357" y="361"/>
                </a:lnTo>
                <a:lnTo>
                  <a:pt x="355" y="333"/>
                </a:lnTo>
                <a:lnTo>
                  <a:pt x="351" y="297"/>
                </a:lnTo>
                <a:lnTo>
                  <a:pt x="351" y="258"/>
                </a:lnTo>
                <a:lnTo>
                  <a:pt x="342" y="231"/>
                </a:lnTo>
                <a:lnTo>
                  <a:pt x="349" y="228"/>
                </a:lnTo>
                <a:lnTo>
                  <a:pt x="362" y="234"/>
                </a:lnTo>
                <a:lnTo>
                  <a:pt x="375" y="244"/>
                </a:lnTo>
                <a:lnTo>
                  <a:pt x="386" y="242"/>
                </a:lnTo>
                <a:lnTo>
                  <a:pt x="402" y="228"/>
                </a:lnTo>
                <a:lnTo>
                  <a:pt x="423" y="214"/>
                </a:lnTo>
                <a:lnTo>
                  <a:pt x="437" y="208"/>
                </a:lnTo>
                <a:lnTo>
                  <a:pt x="461" y="203"/>
                </a:lnTo>
                <a:lnTo>
                  <a:pt x="472" y="195"/>
                </a:lnTo>
                <a:lnTo>
                  <a:pt x="479" y="177"/>
                </a:lnTo>
                <a:lnTo>
                  <a:pt x="470" y="159"/>
                </a:lnTo>
                <a:lnTo>
                  <a:pt x="472" y="149"/>
                </a:lnTo>
                <a:lnTo>
                  <a:pt x="477" y="141"/>
                </a:lnTo>
                <a:lnTo>
                  <a:pt x="495" y="137"/>
                </a:lnTo>
                <a:lnTo>
                  <a:pt x="514" y="139"/>
                </a:lnTo>
                <a:lnTo>
                  <a:pt x="538" y="131"/>
                </a:lnTo>
                <a:lnTo>
                  <a:pt x="571" y="120"/>
                </a:lnTo>
                <a:lnTo>
                  <a:pt x="596" y="101"/>
                </a:lnTo>
                <a:lnTo>
                  <a:pt x="623" y="79"/>
                </a:lnTo>
                <a:lnTo>
                  <a:pt x="648" y="61"/>
                </a:lnTo>
                <a:lnTo>
                  <a:pt x="668" y="42"/>
                </a:lnTo>
                <a:lnTo>
                  <a:pt x="679" y="32"/>
                </a:lnTo>
                <a:lnTo>
                  <a:pt x="697" y="31"/>
                </a:lnTo>
                <a:lnTo>
                  <a:pt x="708" y="0"/>
                </a:lnTo>
                <a:lnTo>
                  <a:pt x="735" y="14"/>
                </a:lnTo>
                <a:lnTo>
                  <a:pt x="773" y="11"/>
                </a:lnTo>
                <a:lnTo>
                  <a:pt x="800" y="19"/>
                </a:lnTo>
                <a:lnTo>
                  <a:pt x="805" y="26"/>
                </a:lnTo>
                <a:lnTo>
                  <a:pt x="793" y="38"/>
                </a:lnTo>
                <a:lnTo>
                  <a:pt x="779" y="58"/>
                </a:lnTo>
                <a:lnTo>
                  <a:pt x="789" y="70"/>
                </a:lnTo>
                <a:lnTo>
                  <a:pt x="801" y="64"/>
                </a:lnTo>
                <a:lnTo>
                  <a:pt x="816" y="62"/>
                </a:lnTo>
                <a:lnTo>
                  <a:pt x="822" y="57"/>
                </a:lnTo>
                <a:lnTo>
                  <a:pt x="838" y="66"/>
                </a:lnTo>
                <a:lnTo>
                  <a:pt x="849" y="70"/>
                </a:lnTo>
                <a:lnTo>
                  <a:pt x="856" y="57"/>
                </a:lnTo>
                <a:lnTo>
                  <a:pt x="856" y="44"/>
                </a:lnTo>
                <a:lnTo>
                  <a:pt x="856" y="34"/>
                </a:lnTo>
                <a:lnTo>
                  <a:pt x="873" y="29"/>
                </a:lnTo>
                <a:lnTo>
                  <a:pt x="902" y="26"/>
                </a:lnTo>
                <a:lnTo>
                  <a:pt x="924" y="14"/>
                </a:lnTo>
                <a:lnTo>
                  <a:pt x="950" y="7"/>
                </a:lnTo>
                <a:lnTo>
                  <a:pt x="953" y="26"/>
                </a:lnTo>
                <a:lnTo>
                  <a:pt x="962" y="36"/>
                </a:lnTo>
                <a:lnTo>
                  <a:pt x="962" y="66"/>
                </a:lnTo>
                <a:lnTo>
                  <a:pt x="985" y="70"/>
                </a:lnTo>
                <a:lnTo>
                  <a:pt x="1037" y="73"/>
                </a:lnTo>
                <a:lnTo>
                  <a:pt x="1086" y="77"/>
                </a:lnTo>
                <a:lnTo>
                  <a:pt x="1116" y="84"/>
                </a:lnTo>
                <a:lnTo>
                  <a:pt x="1135" y="97"/>
                </a:lnTo>
                <a:lnTo>
                  <a:pt x="1141" y="124"/>
                </a:lnTo>
                <a:lnTo>
                  <a:pt x="1139" y="145"/>
                </a:lnTo>
                <a:lnTo>
                  <a:pt x="1152" y="158"/>
                </a:lnTo>
                <a:lnTo>
                  <a:pt x="1176" y="162"/>
                </a:lnTo>
                <a:lnTo>
                  <a:pt x="1207" y="180"/>
                </a:lnTo>
                <a:lnTo>
                  <a:pt x="1225" y="201"/>
                </a:lnTo>
                <a:lnTo>
                  <a:pt x="1233" y="228"/>
                </a:lnTo>
                <a:lnTo>
                  <a:pt x="1242" y="238"/>
                </a:lnTo>
                <a:lnTo>
                  <a:pt x="1266" y="242"/>
                </a:lnTo>
                <a:lnTo>
                  <a:pt x="1277" y="256"/>
                </a:lnTo>
                <a:lnTo>
                  <a:pt x="1269" y="293"/>
                </a:lnTo>
                <a:lnTo>
                  <a:pt x="1269" y="315"/>
                </a:lnTo>
                <a:lnTo>
                  <a:pt x="1280" y="324"/>
                </a:lnTo>
                <a:lnTo>
                  <a:pt x="1297" y="318"/>
                </a:lnTo>
                <a:lnTo>
                  <a:pt x="1309" y="304"/>
                </a:lnTo>
                <a:lnTo>
                  <a:pt x="1313" y="277"/>
                </a:lnTo>
                <a:lnTo>
                  <a:pt x="1308" y="252"/>
                </a:lnTo>
                <a:lnTo>
                  <a:pt x="1295" y="229"/>
                </a:lnTo>
                <a:lnTo>
                  <a:pt x="1291" y="212"/>
                </a:lnTo>
                <a:lnTo>
                  <a:pt x="1300" y="205"/>
                </a:lnTo>
                <a:lnTo>
                  <a:pt x="1313" y="210"/>
                </a:lnTo>
                <a:lnTo>
                  <a:pt x="1326" y="222"/>
                </a:lnTo>
                <a:lnTo>
                  <a:pt x="1340" y="231"/>
                </a:lnTo>
                <a:lnTo>
                  <a:pt x="1358" y="240"/>
                </a:lnTo>
                <a:lnTo>
                  <a:pt x="1370" y="242"/>
                </a:lnTo>
                <a:lnTo>
                  <a:pt x="1373" y="268"/>
                </a:lnTo>
                <a:lnTo>
                  <a:pt x="1377" y="286"/>
                </a:lnTo>
                <a:lnTo>
                  <a:pt x="1390" y="289"/>
                </a:lnTo>
                <a:lnTo>
                  <a:pt x="1399" y="295"/>
                </a:lnTo>
                <a:lnTo>
                  <a:pt x="933" y="703"/>
                </a:lnTo>
                <a:lnTo>
                  <a:pt x="39" y="577"/>
                </a:lnTo>
                <a:lnTo>
                  <a:pt x="39" y="57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74640" y="4235400"/>
            <a:ext cx="1976400" cy="1843200"/>
          </a:xfrm>
          <a:custGeom>
            <a:avLst/>
            <a:gdLst/>
            <a:ahLst/>
            <a:rect l="l" t="t" r="r" b="b"/>
            <a:pathLst>
              <a:path w="1245" h="1161">
                <a:moveTo>
                  <a:pt x="55" y="137"/>
                </a:moveTo>
                <a:lnTo>
                  <a:pt x="0" y="770"/>
                </a:lnTo>
                <a:lnTo>
                  <a:pt x="291" y="972"/>
                </a:lnTo>
                <a:lnTo>
                  <a:pt x="430" y="1029"/>
                </a:lnTo>
                <a:lnTo>
                  <a:pt x="446" y="1024"/>
                </a:lnTo>
                <a:lnTo>
                  <a:pt x="468" y="1017"/>
                </a:lnTo>
                <a:lnTo>
                  <a:pt x="490" y="995"/>
                </a:lnTo>
                <a:lnTo>
                  <a:pt x="522" y="967"/>
                </a:lnTo>
                <a:lnTo>
                  <a:pt x="560" y="945"/>
                </a:lnTo>
                <a:lnTo>
                  <a:pt x="607" y="934"/>
                </a:lnTo>
                <a:lnTo>
                  <a:pt x="653" y="925"/>
                </a:lnTo>
                <a:lnTo>
                  <a:pt x="695" y="931"/>
                </a:lnTo>
                <a:lnTo>
                  <a:pt x="746" y="948"/>
                </a:lnTo>
                <a:lnTo>
                  <a:pt x="786" y="981"/>
                </a:lnTo>
                <a:lnTo>
                  <a:pt x="818" y="1017"/>
                </a:lnTo>
                <a:lnTo>
                  <a:pt x="846" y="1062"/>
                </a:lnTo>
                <a:lnTo>
                  <a:pt x="867" y="1118"/>
                </a:lnTo>
                <a:lnTo>
                  <a:pt x="889" y="1145"/>
                </a:lnTo>
                <a:lnTo>
                  <a:pt x="905" y="1161"/>
                </a:lnTo>
                <a:lnTo>
                  <a:pt x="946" y="1159"/>
                </a:lnTo>
                <a:lnTo>
                  <a:pt x="992" y="1139"/>
                </a:lnTo>
                <a:lnTo>
                  <a:pt x="997" y="642"/>
                </a:lnTo>
                <a:lnTo>
                  <a:pt x="985" y="390"/>
                </a:lnTo>
                <a:lnTo>
                  <a:pt x="1231" y="294"/>
                </a:lnTo>
                <a:lnTo>
                  <a:pt x="1245" y="0"/>
                </a:lnTo>
                <a:lnTo>
                  <a:pt x="1141" y="0"/>
                </a:lnTo>
                <a:lnTo>
                  <a:pt x="807" y="339"/>
                </a:lnTo>
                <a:lnTo>
                  <a:pt x="57" y="134"/>
                </a:lnTo>
                <a:lnTo>
                  <a:pt x="55" y="137"/>
                </a:lnTo>
                <a:lnTo>
                  <a:pt x="55" y="13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627360" y="2668680"/>
            <a:ext cx="2368800" cy="1842840"/>
          </a:xfrm>
          <a:custGeom>
            <a:avLst/>
            <a:gdLst/>
            <a:ahLst/>
            <a:rect l="l" t="t" r="r" b="b"/>
            <a:pathLst>
              <a:path w="1491" h="1161">
                <a:moveTo>
                  <a:pt x="42" y="601"/>
                </a:moveTo>
                <a:lnTo>
                  <a:pt x="0" y="340"/>
                </a:lnTo>
                <a:lnTo>
                  <a:pt x="419" y="233"/>
                </a:lnTo>
                <a:lnTo>
                  <a:pt x="523" y="0"/>
                </a:lnTo>
                <a:lnTo>
                  <a:pt x="713" y="77"/>
                </a:lnTo>
                <a:lnTo>
                  <a:pt x="800" y="273"/>
                </a:lnTo>
                <a:lnTo>
                  <a:pt x="1345" y="525"/>
                </a:lnTo>
                <a:lnTo>
                  <a:pt x="1491" y="1159"/>
                </a:lnTo>
                <a:lnTo>
                  <a:pt x="1096" y="1161"/>
                </a:lnTo>
                <a:lnTo>
                  <a:pt x="289" y="870"/>
                </a:lnTo>
                <a:lnTo>
                  <a:pt x="42" y="601"/>
                </a:lnTo>
                <a:lnTo>
                  <a:pt x="42" y="60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71880" y="1523880"/>
            <a:ext cx="1550880" cy="1681200"/>
          </a:xfrm>
          <a:custGeom>
            <a:avLst/>
            <a:gdLst/>
            <a:ahLst/>
            <a:rect l="l" t="t" r="r" b="b"/>
            <a:pathLst>
              <a:path w="977" h="1059">
                <a:moveTo>
                  <a:pt x="338" y="984"/>
                </a:moveTo>
                <a:lnTo>
                  <a:pt x="204" y="828"/>
                </a:lnTo>
                <a:lnTo>
                  <a:pt x="212" y="766"/>
                </a:lnTo>
                <a:lnTo>
                  <a:pt x="201" y="742"/>
                </a:lnTo>
                <a:lnTo>
                  <a:pt x="185" y="736"/>
                </a:lnTo>
                <a:lnTo>
                  <a:pt x="168" y="736"/>
                </a:lnTo>
                <a:lnTo>
                  <a:pt x="158" y="742"/>
                </a:lnTo>
                <a:lnTo>
                  <a:pt x="133" y="742"/>
                </a:lnTo>
                <a:lnTo>
                  <a:pt x="115" y="713"/>
                </a:lnTo>
                <a:lnTo>
                  <a:pt x="90" y="708"/>
                </a:lnTo>
                <a:lnTo>
                  <a:pt x="66" y="703"/>
                </a:lnTo>
                <a:lnTo>
                  <a:pt x="54" y="692"/>
                </a:lnTo>
                <a:lnTo>
                  <a:pt x="52" y="673"/>
                </a:lnTo>
                <a:lnTo>
                  <a:pt x="46" y="662"/>
                </a:lnTo>
                <a:lnTo>
                  <a:pt x="9" y="657"/>
                </a:lnTo>
                <a:lnTo>
                  <a:pt x="0" y="649"/>
                </a:lnTo>
                <a:lnTo>
                  <a:pt x="3" y="636"/>
                </a:lnTo>
                <a:lnTo>
                  <a:pt x="28" y="630"/>
                </a:lnTo>
                <a:lnTo>
                  <a:pt x="30" y="607"/>
                </a:lnTo>
                <a:lnTo>
                  <a:pt x="66" y="591"/>
                </a:lnTo>
                <a:lnTo>
                  <a:pt x="100" y="566"/>
                </a:lnTo>
                <a:lnTo>
                  <a:pt x="111" y="546"/>
                </a:lnTo>
                <a:lnTo>
                  <a:pt x="95" y="516"/>
                </a:lnTo>
                <a:lnTo>
                  <a:pt x="79" y="492"/>
                </a:lnTo>
                <a:lnTo>
                  <a:pt x="81" y="472"/>
                </a:lnTo>
                <a:lnTo>
                  <a:pt x="98" y="439"/>
                </a:lnTo>
                <a:lnTo>
                  <a:pt x="115" y="416"/>
                </a:lnTo>
                <a:lnTo>
                  <a:pt x="145" y="409"/>
                </a:lnTo>
                <a:lnTo>
                  <a:pt x="177" y="405"/>
                </a:lnTo>
                <a:lnTo>
                  <a:pt x="193" y="419"/>
                </a:lnTo>
                <a:lnTo>
                  <a:pt x="204" y="411"/>
                </a:lnTo>
                <a:lnTo>
                  <a:pt x="228" y="411"/>
                </a:lnTo>
                <a:lnTo>
                  <a:pt x="240" y="400"/>
                </a:lnTo>
                <a:lnTo>
                  <a:pt x="234" y="383"/>
                </a:lnTo>
                <a:lnTo>
                  <a:pt x="226" y="374"/>
                </a:lnTo>
                <a:lnTo>
                  <a:pt x="207" y="370"/>
                </a:lnTo>
                <a:lnTo>
                  <a:pt x="190" y="361"/>
                </a:lnTo>
                <a:lnTo>
                  <a:pt x="190" y="353"/>
                </a:lnTo>
                <a:lnTo>
                  <a:pt x="172" y="353"/>
                </a:lnTo>
                <a:lnTo>
                  <a:pt x="156" y="363"/>
                </a:lnTo>
                <a:lnTo>
                  <a:pt x="145" y="355"/>
                </a:lnTo>
                <a:lnTo>
                  <a:pt x="125" y="344"/>
                </a:lnTo>
                <a:lnTo>
                  <a:pt x="125" y="325"/>
                </a:lnTo>
                <a:lnTo>
                  <a:pt x="133" y="308"/>
                </a:lnTo>
                <a:lnTo>
                  <a:pt x="147" y="306"/>
                </a:lnTo>
                <a:lnTo>
                  <a:pt x="156" y="308"/>
                </a:lnTo>
                <a:lnTo>
                  <a:pt x="161" y="297"/>
                </a:lnTo>
                <a:lnTo>
                  <a:pt x="161" y="286"/>
                </a:lnTo>
                <a:lnTo>
                  <a:pt x="141" y="283"/>
                </a:lnTo>
                <a:lnTo>
                  <a:pt x="122" y="286"/>
                </a:lnTo>
                <a:lnTo>
                  <a:pt x="95" y="286"/>
                </a:lnTo>
                <a:lnTo>
                  <a:pt x="90" y="278"/>
                </a:lnTo>
                <a:lnTo>
                  <a:pt x="87" y="261"/>
                </a:lnTo>
                <a:lnTo>
                  <a:pt x="100" y="261"/>
                </a:lnTo>
                <a:lnTo>
                  <a:pt x="115" y="258"/>
                </a:lnTo>
                <a:lnTo>
                  <a:pt x="117" y="238"/>
                </a:lnTo>
                <a:lnTo>
                  <a:pt x="98" y="228"/>
                </a:lnTo>
                <a:lnTo>
                  <a:pt x="98" y="211"/>
                </a:lnTo>
                <a:lnTo>
                  <a:pt x="111" y="206"/>
                </a:lnTo>
                <a:lnTo>
                  <a:pt x="125" y="214"/>
                </a:lnTo>
                <a:lnTo>
                  <a:pt x="133" y="191"/>
                </a:lnTo>
                <a:lnTo>
                  <a:pt x="150" y="186"/>
                </a:lnTo>
                <a:lnTo>
                  <a:pt x="163" y="203"/>
                </a:lnTo>
                <a:lnTo>
                  <a:pt x="172" y="191"/>
                </a:lnTo>
                <a:lnTo>
                  <a:pt x="190" y="191"/>
                </a:lnTo>
                <a:lnTo>
                  <a:pt x="201" y="201"/>
                </a:lnTo>
                <a:lnTo>
                  <a:pt x="215" y="183"/>
                </a:lnTo>
                <a:lnTo>
                  <a:pt x="228" y="171"/>
                </a:lnTo>
                <a:lnTo>
                  <a:pt x="245" y="164"/>
                </a:lnTo>
                <a:lnTo>
                  <a:pt x="259" y="171"/>
                </a:lnTo>
                <a:lnTo>
                  <a:pt x="262" y="195"/>
                </a:lnTo>
                <a:lnTo>
                  <a:pt x="277" y="191"/>
                </a:lnTo>
                <a:lnTo>
                  <a:pt x="286" y="167"/>
                </a:lnTo>
                <a:lnTo>
                  <a:pt x="297" y="160"/>
                </a:lnTo>
                <a:lnTo>
                  <a:pt x="321" y="170"/>
                </a:lnTo>
                <a:lnTo>
                  <a:pt x="341" y="153"/>
                </a:lnTo>
                <a:lnTo>
                  <a:pt x="359" y="140"/>
                </a:lnTo>
                <a:lnTo>
                  <a:pt x="378" y="140"/>
                </a:lnTo>
                <a:lnTo>
                  <a:pt x="403" y="122"/>
                </a:lnTo>
                <a:lnTo>
                  <a:pt x="449" y="105"/>
                </a:lnTo>
                <a:lnTo>
                  <a:pt x="504" y="86"/>
                </a:lnTo>
                <a:lnTo>
                  <a:pt x="529" y="78"/>
                </a:lnTo>
                <a:lnTo>
                  <a:pt x="545" y="72"/>
                </a:lnTo>
                <a:lnTo>
                  <a:pt x="571" y="86"/>
                </a:lnTo>
                <a:lnTo>
                  <a:pt x="583" y="84"/>
                </a:lnTo>
                <a:lnTo>
                  <a:pt x="591" y="75"/>
                </a:lnTo>
                <a:lnTo>
                  <a:pt x="586" y="48"/>
                </a:lnTo>
                <a:lnTo>
                  <a:pt x="607" y="18"/>
                </a:lnTo>
                <a:lnTo>
                  <a:pt x="643" y="17"/>
                </a:lnTo>
                <a:lnTo>
                  <a:pt x="656" y="0"/>
                </a:lnTo>
                <a:lnTo>
                  <a:pt x="670" y="3"/>
                </a:lnTo>
                <a:lnTo>
                  <a:pt x="667" y="18"/>
                </a:lnTo>
                <a:lnTo>
                  <a:pt x="684" y="17"/>
                </a:lnTo>
                <a:lnTo>
                  <a:pt x="977" y="492"/>
                </a:lnTo>
                <a:lnTo>
                  <a:pt x="771" y="952"/>
                </a:lnTo>
                <a:lnTo>
                  <a:pt x="350" y="1059"/>
                </a:lnTo>
                <a:lnTo>
                  <a:pt x="339" y="986"/>
                </a:lnTo>
                <a:lnTo>
                  <a:pt x="344" y="1019"/>
                </a:lnTo>
                <a:lnTo>
                  <a:pt x="338" y="984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164120" y="1170000"/>
            <a:ext cx="2469960" cy="2332080"/>
          </a:xfrm>
          <a:custGeom>
            <a:avLst/>
            <a:gdLst/>
            <a:ahLst/>
            <a:rect l="l" t="t" r="r" b="b"/>
            <a:pathLst>
              <a:path w="1862" h="1757">
                <a:moveTo>
                  <a:pt x="346" y="851"/>
                </a:moveTo>
                <a:lnTo>
                  <a:pt x="0" y="288"/>
                </a:lnTo>
                <a:lnTo>
                  <a:pt x="167" y="222"/>
                </a:lnTo>
                <a:lnTo>
                  <a:pt x="175" y="203"/>
                </a:lnTo>
                <a:lnTo>
                  <a:pt x="230" y="200"/>
                </a:lnTo>
                <a:lnTo>
                  <a:pt x="250" y="169"/>
                </a:lnTo>
                <a:lnTo>
                  <a:pt x="307" y="163"/>
                </a:lnTo>
                <a:lnTo>
                  <a:pt x="306" y="107"/>
                </a:lnTo>
                <a:lnTo>
                  <a:pt x="357" y="96"/>
                </a:lnTo>
                <a:lnTo>
                  <a:pt x="364" y="61"/>
                </a:lnTo>
                <a:lnTo>
                  <a:pt x="407" y="75"/>
                </a:lnTo>
                <a:lnTo>
                  <a:pt x="427" y="68"/>
                </a:lnTo>
                <a:lnTo>
                  <a:pt x="404" y="41"/>
                </a:lnTo>
                <a:lnTo>
                  <a:pt x="390" y="8"/>
                </a:lnTo>
                <a:lnTo>
                  <a:pt x="425" y="0"/>
                </a:lnTo>
                <a:lnTo>
                  <a:pt x="431" y="30"/>
                </a:lnTo>
                <a:lnTo>
                  <a:pt x="451" y="35"/>
                </a:lnTo>
                <a:lnTo>
                  <a:pt x="502" y="22"/>
                </a:lnTo>
                <a:lnTo>
                  <a:pt x="563" y="72"/>
                </a:lnTo>
                <a:lnTo>
                  <a:pt x="613" y="57"/>
                </a:lnTo>
                <a:lnTo>
                  <a:pt x="612" y="30"/>
                </a:lnTo>
                <a:lnTo>
                  <a:pt x="693" y="41"/>
                </a:lnTo>
                <a:lnTo>
                  <a:pt x="712" y="69"/>
                </a:lnTo>
                <a:lnTo>
                  <a:pt x="717" y="126"/>
                </a:lnTo>
                <a:lnTo>
                  <a:pt x="758" y="130"/>
                </a:lnTo>
                <a:lnTo>
                  <a:pt x="774" y="178"/>
                </a:lnTo>
                <a:lnTo>
                  <a:pt x="752" y="208"/>
                </a:lnTo>
                <a:lnTo>
                  <a:pt x="768" y="224"/>
                </a:lnTo>
                <a:lnTo>
                  <a:pt x="760" y="240"/>
                </a:lnTo>
                <a:lnTo>
                  <a:pt x="739" y="253"/>
                </a:lnTo>
                <a:lnTo>
                  <a:pt x="766" y="264"/>
                </a:lnTo>
                <a:lnTo>
                  <a:pt x="774" y="291"/>
                </a:lnTo>
                <a:lnTo>
                  <a:pt x="800" y="279"/>
                </a:lnTo>
                <a:lnTo>
                  <a:pt x="825" y="291"/>
                </a:lnTo>
                <a:lnTo>
                  <a:pt x="863" y="284"/>
                </a:lnTo>
                <a:lnTo>
                  <a:pt x="860" y="244"/>
                </a:lnTo>
                <a:lnTo>
                  <a:pt x="904" y="251"/>
                </a:lnTo>
                <a:lnTo>
                  <a:pt x="932" y="270"/>
                </a:lnTo>
                <a:lnTo>
                  <a:pt x="933" y="246"/>
                </a:lnTo>
                <a:lnTo>
                  <a:pt x="891" y="196"/>
                </a:lnTo>
                <a:lnTo>
                  <a:pt x="914" y="188"/>
                </a:lnTo>
                <a:lnTo>
                  <a:pt x="933" y="219"/>
                </a:lnTo>
                <a:lnTo>
                  <a:pt x="961" y="215"/>
                </a:lnTo>
                <a:lnTo>
                  <a:pt x="950" y="248"/>
                </a:lnTo>
                <a:lnTo>
                  <a:pt x="975" y="250"/>
                </a:lnTo>
                <a:lnTo>
                  <a:pt x="966" y="301"/>
                </a:lnTo>
                <a:lnTo>
                  <a:pt x="979" y="321"/>
                </a:lnTo>
                <a:lnTo>
                  <a:pt x="1019" y="287"/>
                </a:lnTo>
                <a:lnTo>
                  <a:pt x="1011" y="267"/>
                </a:lnTo>
                <a:lnTo>
                  <a:pt x="993" y="266"/>
                </a:lnTo>
                <a:lnTo>
                  <a:pt x="1004" y="244"/>
                </a:lnTo>
                <a:lnTo>
                  <a:pt x="1032" y="234"/>
                </a:lnTo>
                <a:lnTo>
                  <a:pt x="1065" y="248"/>
                </a:lnTo>
                <a:lnTo>
                  <a:pt x="1090" y="270"/>
                </a:lnTo>
                <a:lnTo>
                  <a:pt x="1117" y="275"/>
                </a:lnTo>
                <a:lnTo>
                  <a:pt x="1128" y="242"/>
                </a:lnTo>
                <a:lnTo>
                  <a:pt x="1158" y="237"/>
                </a:lnTo>
                <a:lnTo>
                  <a:pt x="1173" y="222"/>
                </a:lnTo>
                <a:lnTo>
                  <a:pt x="1197" y="234"/>
                </a:lnTo>
                <a:lnTo>
                  <a:pt x="1188" y="264"/>
                </a:lnTo>
                <a:lnTo>
                  <a:pt x="1159" y="262"/>
                </a:lnTo>
                <a:lnTo>
                  <a:pt x="1158" y="282"/>
                </a:lnTo>
                <a:lnTo>
                  <a:pt x="1129" y="326"/>
                </a:lnTo>
                <a:lnTo>
                  <a:pt x="1144" y="381"/>
                </a:lnTo>
                <a:lnTo>
                  <a:pt x="1179" y="392"/>
                </a:lnTo>
                <a:lnTo>
                  <a:pt x="1178" y="370"/>
                </a:lnTo>
                <a:lnTo>
                  <a:pt x="1202" y="338"/>
                </a:lnTo>
                <a:lnTo>
                  <a:pt x="1239" y="330"/>
                </a:lnTo>
                <a:lnTo>
                  <a:pt x="1252" y="348"/>
                </a:lnTo>
                <a:lnTo>
                  <a:pt x="1284" y="328"/>
                </a:lnTo>
                <a:lnTo>
                  <a:pt x="1306" y="352"/>
                </a:lnTo>
                <a:lnTo>
                  <a:pt x="1335" y="357"/>
                </a:lnTo>
                <a:lnTo>
                  <a:pt x="1310" y="301"/>
                </a:lnTo>
                <a:lnTo>
                  <a:pt x="1329" y="269"/>
                </a:lnTo>
                <a:lnTo>
                  <a:pt x="1370" y="243"/>
                </a:lnTo>
                <a:lnTo>
                  <a:pt x="1429" y="222"/>
                </a:lnTo>
                <a:lnTo>
                  <a:pt x="1433" y="163"/>
                </a:lnTo>
                <a:lnTo>
                  <a:pt x="1468" y="139"/>
                </a:lnTo>
                <a:lnTo>
                  <a:pt x="1511" y="130"/>
                </a:lnTo>
                <a:lnTo>
                  <a:pt x="1519" y="75"/>
                </a:lnTo>
                <a:lnTo>
                  <a:pt x="1540" y="57"/>
                </a:lnTo>
                <a:lnTo>
                  <a:pt x="1563" y="46"/>
                </a:lnTo>
                <a:lnTo>
                  <a:pt x="1588" y="41"/>
                </a:lnTo>
                <a:lnTo>
                  <a:pt x="1591" y="75"/>
                </a:lnTo>
                <a:lnTo>
                  <a:pt x="1580" y="91"/>
                </a:lnTo>
                <a:lnTo>
                  <a:pt x="1556" y="112"/>
                </a:lnTo>
                <a:lnTo>
                  <a:pt x="1676" y="1030"/>
                </a:lnTo>
                <a:lnTo>
                  <a:pt x="1803" y="1179"/>
                </a:lnTo>
                <a:lnTo>
                  <a:pt x="1861" y="1434"/>
                </a:lnTo>
                <a:lnTo>
                  <a:pt x="1610" y="1675"/>
                </a:lnTo>
                <a:lnTo>
                  <a:pt x="1209" y="1756"/>
                </a:lnTo>
                <a:lnTo>
                  <a:pt x="558" y="1453"/>
                </a:lnTo>
                <a:lnTo>
                  <a:pt x="447" y="1221"/>
                </a:lnTo>
                <a:lnTo>
                  <a:pt x="226" y="1127"/>
                </a:lnTo>
                <a:lnTo>
                  <a:pt x="346" y="851"/>
                </a:lnTo>
                <a:lnTo>
                  <a:pt x="346" y="85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565520" y="5048280"/>
            <a:ext cx="1357560" cy="1068480"/>
          </a:xfrm>
          <a:custGeom>
            <a:avLst/>
            <a:gdLst/>
            <a:ahLst/>
            <a:rect l="l" t="t" r="r" b="b"/>
            <a:pathLst>
              <a:path w="855" h="673">
                <a:moveTo>
                  <a:pt x="0" y="223"/>
                </a:moveTo>
                <a:lnTo>
                  <a:pt x="321" y="69"/>
                </a:lnTo>
                <a:lnTo>
                  <a:pt x="393" y="0"/>
                </a:lnTo>
                <a:lnTo>
                  <a:pt x="855" y="246"/>
                </a:lnTo>
                <a:lnTo>
                  <a:pt x="849" y="271"/>
                </a:lnTo>
                <a:lnTo>
                  <a:pt x="837" y="295"/>
                </a:lnTo>
                <a:lnTo>
                  <a:pt x="828" y="315"/>
                </a:lnTo>
                <a:lnTo>
                  <a:pt x="793" y="316"/>
                </a:lnTo>
                <a:lnTo>
                  <a:pt x="787" y="325"/>
                </a:lnTo>
                <a:lnTo>
                  <a:pt x="777" y="345"/>
                </a:lnTo>
                <a:lnTo>
                  <a:pt x="760" y="359"/>
                </a:lnTo>
                <a:lnTo>
                  <a:pt x="745" y="375"/>
                </a:lnTo>
                <a:lnTo>
                  <a:pt x="743" y="383"/>
                </a:lnTo>
                <a:lnTo>
                  <a:pt x="723" y="390"/>
                </a:lnTo>
                <a:lnTo>
                  <a:pt x="691" y="410"/>
                </a:lnTo>
                <a:lnTo>
                  <a:pt x="680" y="427"/>
                </a:lnTo>
                <a:lnTo>
                  <a:pt x="654" y="437"/>
                </a:lnTo>
                <a:lnTo>
                  <a:pt x="651" y="462"/>
                </a:lnTo>
                <a:lnTo>
                  <a:pt x="643" y="474"/>
                </a:lnTo>
                <a:lnTo>
                  <a:pt x="625" y="478"/>
                </a:lnTo>
                <a:lnTo>
                  <a:pt x="598" y="496"/>
                </a:lnTo>
                <a:lnTo>
                  <a:pt x="601" y="527"/>
                </a:lnTo>
                <a:lnTo>
                  <a:pt x="578" y="535"/>
                </a:lnTo>
                <a:lnTo>
                  <a:pt x="560" y="550"/>
                </a:lnTo>
                <a:lnTo>
                  <a:pt x="554" y="569"/>
                </a:lnTo>
                <a:lnTo>
                  <a:pt x="551" y="586"/>
                </a:lnTo>
                <a:lnTo>
                  <a:pt x="537" y="592"/>
                </a:lnTo>
                <a:lnTo>
                  <a:pt x="514" y="586"/>
                </a:lnTo>
                <a:lnTo>
                  <a:pt x="511" y="596"/>
                </a:lnTo>
                <a:lnTo>
                  <a:pt x="529" y="606"/>
                </a:lnTo>
                <a:lnTo>
                  <a:pt x="532" y="631"/>
                </a:lnTo>
                <a:lnTo>
                  <a:pt x="544" y="639"/>
                </a:lnTo>
                <a:lnTo>
                  <a:pt x="544" y="653"/>
                </a:lnTo>
                <a:lnTo>
                  <a:pt x="554" y="665"/>
                </a:lnTo>
                <a:lnTo>
                  <a:pt x="544" y="673"/>
                </a:lnTo>
                <a:lnTo>
                  <a:pt x="514" y="666"/>
                </a:lnTo>
                <a:lnTo>
                  <a:pt x="470" y="648"/>
                </a:lnTo>
                <a:lnTo>
                  <a:pt x="458" y="641"/>
                </a:lnTo>
                <a:lnTo>
                  <a:pt x="451" y="626"/>
                </a:lnTo>
                <a:lnTo>
                  <a:pt x="460" y="605"/>
                </a:lnTo>
                <a:lnTo>
                  <a:pt x="460" y="594"/>
                </a:lnTo>
                <a:lnTo>
                  <a:pt x="435" y="587"/>
                </a:lnTo>
                <a:lnTo>
                  <a:pt x="427" y="568"/>
                </a:lnTo>
                <a:lnTo>
                  <a:pt x="390" y="569"/>
                </a:lnTo>
                <a:lnTo>
                  <a:pt x="367" y="577"/>
                </a:lnTo>
                <a:lnTo>
                  <a:pt x="327" y="584"/>
                </a:lnTo>
                <a:lnTo>
                  <a:pt x="293" y="594"/>
                </a:lnTo>
                <a:lnTo>
                  <a:pt x="266" y="590"/>
                </a:lnTo>
                <a:lnTo>
                  <a:pt x="250" y="596"/>
                </a:lnTo>
                <a:lnTo>
                  <a:pt x="220" y="602"/>
                </a:lnTo>
                <a:lnTo>
                  <a:pt x="169" y="482"/>
                </a:lnTo>
                <a:lnTo>
                  <a:pt x="166" y="454"/>
                </a:lnTo>
                <a:lnTo>
                  <a:pt x="122" y="452"/>
                </a:lnTo>
                <a:lnTo>
                  <a:pt x="81" y="440"/>
                </a:lnTo>
                <a:lnTo>
                  <a:pt x="64" y="383"/>
                </a:lnTo>
                <a:lnTo>
                  <a:pt x="64" y="362"/>
                </a:lnTo>
                <a:lnTo>
                  <a:pt x="84" y="356"/>
                </a:lnTo>
                <a:lnTo>
                  <a:pt x="87" y="292"/>
                </a:lnTo>
                <a:lnTo>
                  <a:pt x="70" y="242"/>
                </a:lnTo>
                <a:lnTo>
                  <a:pt x="52" y="244"/>
                </a:lnTo>
                <a:lnTo>
                  <a:pt x="34" y="252"/>
                </a:lnTo>
                <a:lnTo>
                  <a:pt x="20" y="258"/>
                </a:lnTo>
                <a:lnTo>
                  <a:pt x="0" y="223"/>
                </a:lnTo>
                <a:lnTo>
                  <a:pt x="0" y="22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224840" y="4944960"/>
            <a:ext cx="612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810000"/>
          </a:solidFill>
          <a:ln w="1872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384880" y="2484360"/>
            <a:ext cx="90360" cy="9216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39" y="5"/>
                </a:lnTo>
                <a:lnTo>
                  <a:pt x="47" y="2"/>
                </a:lnTo>
                <a:lnTo>
                  <a:pt x="50" y="10"/>
                </a:lnTo>
                <a:lnTo>
                  <a:pt x="58" y="10"/>
                </a:lnTo>
                <a:lnTo>
                  <a:pt x="58" y="19"/>
                </a:lnTo>
                <a:lnTo>
                  <a:pt x="66" y="22"/>
                </a:lnTo>
                <a:lnTo>
                  <a:pt x="63" y="29"/>
                </a:lnTo>
                <a:lnTo>
                  <a:pt x="68" y="34"/>
                </a:lnTo>
                <a:lnTo>
                  <a:pt x="62" y="40"/>
                </a:lnTo>
                <a:lnTo>
                  <a:pt x="66" y="47"/>
                </a:lnTo>
                <a:lnTo>
                  <a:pt x="58" y="50"/>
                </a:lnTo>
                <a:lnTo>
                  <a:pt x="58" y="58"/>
                </a:lnTo>
                <a:lnTo>
                  <a:pt x="50" y="58"/>
                </a:lnTo>
                <a:lnTo>
                  <a:pt x="46" y="67"/>
                </a:lnTo>
                <a:lnTo>
                  <a:pt x="39" y="62"/>
                </a:lnTo>
                <a:lnTo>
                  <a:pt x="34" y="68"/>
                </a:lnTo>
                <a:lnTo>
                  <a:pt x="28" y="62"/>
                </a:lnTo>
                <a:lnTo>
                  <a:pt x="20" y="65"/>
                </a:lnTo>
                <a:lnTo>
                  <a:pt x="18" y="57"/>
                </a:lnTo>
                <a:lnTo>
                  <a:pt x="9" y="57"/>
                </a:lnTo>
                <a:lnTo>
                  <a:pt x="9" y="50"/>
                </a:lnTo>
                <a:lnTo>
                  <a:pt x="2" y="47"/>
                </a:lnTo>
                <a:lnTo>
                  <a:pt x="6" y="39"/>
                </a:lnTo>
                <a:lnTo>
                  <a:pt x="0" y="34"/>
                </a:lnTo>
                <a:lnTo>
                  <a:pt x="6" y="28"/>
                </a:lnTo>
                <a:lnTo>
                  <a:pt x="2" y="21"/>
                </a:lnTo>
                <a:lnTo>
                  <a:pt x="9" y="19"/>
                </a:lnTo>
                <a:lnTo>
                  <a:pt x="9" y="10"/>
                </a:lnTo>
                <a:lnTo>
                  <a:pt x="18" y="10"/>
                </a:lnTo>
                <a:lnTo>
                  <a:pt x="21" y="1"/>
                </a:lnTo>
                <a:lnTo>
                  <a:pt x="28" y="5"/>
                </a:lnTo>
                <a:lnTo>
                  <a:pt x="34" y="0"/>
                </a:lnTo>
                <a:lnTo>
                  <a:pt x="34" y="0"/>
                </a:lnTo>
              </a:path>
            </a:pathLst>
          </a:custGeom>
          <a:solidFill>
            <a:srgbClr val="ffffff"/>
          </a:solidFill>
          <a:ln w="18720">
            <a:solidFill>
              <a:srgbClr val="e1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402160" y="2503440"/>
            <a:ext cx="55800" cy="41400"/>
          </a:xfrm>
          <a:custGeom>
            <a:avLst/>
            <a:gdLst/>
            <a:ahLst/>
            <a:rect l="l" t="t" r="r" b="b"/>
            <a:pathLst>
              <a:path w="43" h="31">
                <a:moveTo>
                  <a:pt x="0" y="30"/>
                </a:moveTo>
                <a:lnTo>
                  <a:pt x="21" y="0"/>
                </a:lnTo>
                <a:lnTo>
                  <a:pt x="42" y="30"/>
                </a:lnTo>
                <a:lnTo>
                  <a:pt x="0" y="30"/>
                </a:lnTo>
                <a:lnTo>
                  <a:pt x="0" y="30"/>
                </a:lnTo>
              </a:path>
            </a:pathLst>
          </a:custGeom>
          <a:solidFill>
            <a:srgbClr val="000000"/>
          </a:solidFill>
          <a:ln w="9360">
            <a:solidFill>
              <a:srgbClr val="e1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562720" y="5857920"/>
            <a:ext cx="85680" cy="85680"/>
            <a:chOff x="5562720" y="5857920"/>
            <a:chExt cx="85680" cy="85680"/>
          </a:xfrm>
        </p:grpSpPr>
        <p:sp>
          <p:nvSpPr>
            <p:cNvPr id="734" name=""/>
            <p:cNvSpPr/>
            <p:nvPr/>
          </p:nvSpPr>
          <p:spPr>
            <a:xfrm>
              <a:off x="5562720" y="5857920"/>
              <a:ext cx="85680" cy="8568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6" y="11"/>
                  </a:lnTo>
                  <a:lnTo>
                    <a:pt x="54" y="11"/>
                  </a:lnTo>
                  <a:lnTo>
                    <a:pt x="54" y="18"/>
                  </a:lnTo>
                  <a:lnTo>
                    <a:pt x="61" y="21"/>
                  </a:lnTo>
                  <a:lnTo>
                    <a:pt x="59" y="28"/>
                  </a:lnTo>
                  <a:lnTo>
                    <a:pt x="64" y="33"/>
                  </a:lnTo>
                  <a:lnTo>
                    <a:pt x="57" y="39"/>
                  </a:lnTo>
                  <a:lnTo>
                    <a:pt x="61" y="46"/>
                  </a:lnTo>
                  <a:lnTo>
                    <a:pt x="54" y="48"/>
                  </a:lnTo>
                  <a:lnTo>
                    <a:pt x="54" y="57"/>
                  </a:lnTo>
                  <a:lnTo>
                    <a:pt x="46" y="55"/>
                  </a:lnTo>
                  <a:lnTo>
                    <a:pt x="43" y="64"/>
                  </a:lnTo>
                  <a:lnTo>
                    <a:pt x="36" y="60"/>
                  </a:lnTo>
                  <a:lnTo>
                    <a:pt x="30" y="64"/>
                  </a:lnTo>
                  <a:lnTo>
                    <a:pt x="27" y="61"/>
                  </a:lnTo>
                  <a:lnTo>
                    <a:pt x="19" y="62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8" y="48"/>
                  </a:lnTo>
                  <a:lnTo>
                    <a:pt x="2" y="46"/>
                  </a:lnTo>
                  <a:lnTo>
                    <a:pt x="5" y="37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0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19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86480" y="5881680"/>
              <a:ext cx="38160" cy="399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9" y="0"/>
                  </a:moveTo>
                  <a:lnTo>
                    <a:pt x="19" y="0"/>
                  </a:lnTo>
                  <a:lnTo>
                    <a:pt x="28" y="10"/>
                  </a:lnTo>
                  <a:lnTo>
                    <a:pt x="28" y="21"/>
                  </a:lnTo>
                  <a:lnTo>
                    <a:pt x="19" y="29"/>
                  </a:lnTo>
                  <a:lnTo>
                    <a:pt x="9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1905120" y="5486400"/>
            <a:ext cx="533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76720" y="5433840"/>
            <a:ext cx="533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16040" y="3135240"/>
            <a:ext cx="87480" cy="88920"/>
          </a:xfrm>
          <a:custGeom>
            <a:avLst/>
            <a:gdLst/>
            <a:ahLst/>
            <a:rect l="l" t="t" r="r" b="b"/>
            <a:pathLst>
              <a:path w="65" h="67">
                <a:moveTo>
                  <a:pt x="32" y="0"/>
                </a:moveTo>
                <a:lnTo>
                  <a:pt x="37" y="6"/>
                </a:lnTo>
                <a:lnTo>
                  <a:pt x="45" y="4"/>
                </a:lnTo>
                <a:lnTo>
                  <a:pt x="47" y="10"/>
                </a:lnTo>
                <a:lnTo>
                  <a:pt x="55" y="10"/>
                </a:lnTo>
                <a:lnTo>
                  <a:pt x="55" y="19"/>
                </a:lnTo>
                <a:lnTo>
                  <a:pt x="61" y="21"/>
                </a:lnTo>
                <a:lnTo>
                  <a:pt x="59" y="29"/>
                </a:lnTo>
                <a:lnTo>
                  <a:pt x="64" y="33"/>
                </a:lnTo>
                <a:lnTo>
                  <a:pt x="58" y="39"/>
                </a:lnTo>
                <a:lnTo>
                  <a:pt x="61" y="46"/>
                </a:lnTo>
                <a:lnTo>
                  <a:pt x="55" y="48"/>
                </a:lnTo>
                <a:lnTo>
                  <a:pt x="55" y="56"/>
                </a:lnTo>
                <a:lnTo>
                  <a:pt x="47" y="56"/>
                </a:lnTo>
                <a:lnTo>
                  <a:pt x="45" y="63"/>
                </a:lnTo>
                <a:lnTo>
                  <a:pt x="37" y="59"/>
                </a:lnTo>
                <a:lnTo>
                  <a:pt x="32" y="66"/>
                </a:lnTo>
                <a:lnTo>
                  <a:pt x="26" y="60"/>
                </a:lnTo>
                <a:lnTo>
                  <a:pt x="19" y="63"/>
                </a:lnTo>
                <a:lnTo>
                  <a:pt x="17" y="55"/>
                </a:lnTo>
                <a:lnTo>
                  <a:pt x="9" y="56"/>
                </a:lnTo>
                <a:lnTo>
                  <a:pt x="9" y="48"/>
                </a:lnTo>
                <a:lnTo>
                  <a:pt x="1" y="45"/>
                </a:lnTo>
                <a:lnTo>
                  <a:pt x="5" y="38"/>
                </a:lnTo>
                <a:lnTo>
                  <a:pt x="0" y="33"/>
                </a:lnTo>
                <a:lnTo>
                  <a:pt x="5" y="28"/>
                </a:lnTo>
                <a:lnTo>
                  <a:pt x="1" y="21"/>
                </a:lnTo>
                <a:lnTo>
                  <a:pt x="9" y="19"/>
                </a:lnTo>
                <a:lnTo>
                  <a:pt x="9" y="10"/>
                </a:lnTo>
                <a:lnTo>
                  <a:pt x="17" y="10"/>
                </a:lnTo>
                <a:lnTo>
                  <a:pt x="20" y="2"/>
                </a:lnTo>
                <a:lnTo>
                  <a:pt x="26" y="6"/>
                </a:lnTo>
                <a:lnTo>
                  <a:pt x="32" y="0"/>
                </a:lnTo>
                <a:lnTo>
                  <a:pt x="32" y="0"/>
                </a:lnTo>
              </a:path>
            </a:pathLst>
          </a:custGeom>
          <a:solidFill>
            <a:srgbClr val="ffffff"/>
          </a:solidFill>
          <a:ln w="18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62120" y="5448240"/>
            <a:ext cx="4413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352680" y="5410080"/>
            <a:ext cx="1198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I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454880" y="4883040"/>
            <a:ext cx="93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lma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218440" y="4343400"/>
            <a:ext cx="773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L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676840" y="5732640"/>
            <a:ext cx="11271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400" spc="-1" strike="noStrike">
                <a:solidFill>
                  <a:srgbClr val="ff9900"/>
                </a:solidFill>
                <a:latin typeface="Arial"/>
              </a:rPr>
              <a:t>Lahore</a:t>
            </a:r>
            <a:r>
              <a:rPr b="1" i="1" lang="ru-RU" sz="1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i="1" lang="en-US" sz="1400" spc="-1" strike="noStrike">
                <a:solidFill>
                  <a:srgbClr val="ff9900"/>
                </a:solidFill>
                <a:latin typeface="Arial"/>
              </a:rPr>
              <a:t>Karach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400" spc="-1" strike="noStrike">
                <a:solidFill>
                  <a:srgbClr val="ff9900"/>
                </a:solidFill>
                <a:latin typeface="Arial"/>
              </a:rPr>
              <a:t>Delh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25800" y="12682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2286000"/>
            <a:ext cx="819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t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643800" y="5057640"/>
            <a:ext cx="91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ishk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79640" y="2928960"/>
            <a:ext cx="1224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kt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375760" y="3328920"/>
            <a:ext cx="588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R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590920" y="57150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38080" y="4800600"/>
            <a:ext cx="919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kt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534520" y="3200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2520" y="55627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629400" y="5105520"/>
            <a:ext cx="85680" cy="87120"/>
            <a:chOff x="6629400" y="5105520"/>
            <a:chExt cx="85680" cy="87120"/>
          </a:xfrm>
        </p:grpSpPr>
        <p:sp>
          <p:nvSpPr>
            <p:cNvPr id="754" name=""/>
            <p:cNvSpPr/>
            <p:nvPr/>
          </p:nvSpPr>
          <p:spPr>
            <a:xfrm>
              <a:off x="6629400" y="5105520"/>
              <a:ext cx="85680" cy="871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62" y="21"/>
                  </a:lnTo>
                  <a:lnTo>
                    <a:pt x="58" y="28"/>
                  </a:lnTo>
                  <a:lnTo>
                    <a:pt x="64" y="33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55" y="49"/>
                  </a:lnTo>
                  <a:lnTo>
                    <a:pt x="55" y="57"/>
                  </a:lnTo>
                  <a:lnTo>
                    <a:pt x="47" y="56"/>
                  </a:lnTo>
                  <a:lnTo>
                    <a:pt x="44" y="63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7" y="61"/>
                  </a:lnTo>
                  <a:lnTo>
                    <a:pt x="19" y="63"/>
                  </a:lnTo>
                  <a:lnTo>
                    <a:pt x="16" y="55"/>
                  </a:lnTo>
                  <a:lnTo>
                    <a:pt x="8" y="56"/>
                  </a:lnTo>
                  <a:lnTo>
                    <a:pt x="8" y="49"/>
                  </a:lnTo>
                  <a:lnTo>
                    <a:pt x="2" y="46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53160" y="5130720"/>
              <a:ext cx="39600" cy="392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9" y="0"/>
                  </a:moveTo>
                  <a:lnTo>
                    <a:pt x="19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219320" y="2666880"/>
            <a:ext cx="93600" cy="123840"/>
            <a:chOff x="1219320" y="2666880"/>
            <a:chExt cx="93600" cy="123840"/>
          </a:xfrm>
        </p:grpSpPr>
        <p:sp>
          <p:nvSpPr>
            <p:cNvPr id="757" name=""/>
            <p:cNvSpPr/>
            <p:nvPr/>
          </p:nvSpPr>
          <p:spPr>
            <a:xfrm>
              <a:off x="1219320" y="2666880"/>
              <a:ext cx="93600" cy="1238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41" y="7"/>
                  </a:lnTo>
                  <a:lnTo>
                    <a:pt x="49" y="3"/>
                  </a:lnTo>
                  <a:lnTo>
                    <a:pt x="51" y="11"/>
                  </a:lnTo>
                  <a:lnTo>
                    <a:pt x="59" y="11"/>
                  </a:lnTo>
                  <a:lnTo>
                    <a:pt x="59" y="19"/>
                  </a:lnTo>
                  <a:lnTo>
                    <a:pt x="67" y="22"/>
                  </a:lnTo>
                  <a:lnTo>
                    <a:pt x="63" y="30"/>
                  </a:lnTo>
                  <a:lnTo>
                    <a:pt x="70" y="35"/>
                  </a:lnTo>
                  <a:lnTo>
                    <a:pt x="63" y="41"/>
                  </a:lnTo>
                  <a:lnTo>
                    <a:pt x="67" y="49"/>
                  </a:lnTo>
                  <a:lnTo>
                    <a:pt x="59" y="51"/>
                  </a:lnTo>
                  <a:lnTo>
                    <a:pt x="59" y="58"/>
                  </a:lnTo>
                  <a:lnTo>
                    <a:pt x="51" y="58"/>
                  </a:lnTo>
                  <a:lnTo>
                    <a:pt x="48" y="68"/>
                  </a:lnTo>
                  <a:lnTo>
                    <a:pt x="41" y="63"/>
                  </a:lnTo>
                  <a:lnTo>
                    <a:pt x="35" y="69"/>
                  </a:lnTo>
                  <a:lnTo>
                    <a:pt x="29" y="63"/>
                  </a:lnTo>
                  <a:lnTo>
                    <a:pt x="21" y="66"/>
                  </a:lnTo>
                  <a:lnTo>
                    <a:pt x="20" y="58"/>
                  </a:lnTo>
                  <a:lnTo>
                    <a:pt x="10" y="58"/>
                  </a:lnTo>
                  <a:lnTo>
                    <a:pt x="10" y="51"/>
                  </a:lnTo>
                  <a:lnTo>
                    <a:pt x="3" y="48"/>
                  </a:lnTo>
                  <a:lnTo>
                    <a:pt x="7" y="40"/>
                  </a:lnTo>
                  <a:lnTo>
                    <a:pt x="0" y="34"/>
                  </a:lnTo>
                  <a:lnTo>
                    <a:pt x="7" y="29"/>
                  </a:lnTo>
                  <a:lnTo>
                    <a:pt x="3" y="22"/>
                  </a:lnTo>
                  <a:lnTo>
                    <a:pt x="10" y="19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2" y="3"/>
                  </a:lnTo>
                  <a:lnTo>
                    <a:pt x="29" y="7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38400" y="2689200"/>
              <a:ext cx="74520" cy="74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29"/>
                  </a:moveTo>
                  <a:lnTo>
                    <a:pt x="21" y="0"/>
                  </a:lnTo>
                  <a:lnTo>
                    <a:pt x="41" y="29"/>
                  </a:lnTo>
                  <a:lnTo>
                    <a:pt x="0" y="29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900000" y="3860640"/>
            <a:ext cx="85680" cy="87480"/>
            <a:chOff x="900000" y="3860640"/>
            <a:chExt cx="85680" cy="87480"/>
          </a:xfrm>
        </p:grpSpPr>
        <p:sp>
          <p:nvSpPr>
            <p:cNvPr id="760" name=""/>
            <p:cNvSpPr/>
            <p:nvPr/>
          </p:nvSpPr>
          <p:spPr>
            <a:xfrm>
              <a:off x="900000" y="3860640"/>
              <a:ext cx="85680" cy="8748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62" y="21"/>
                  </a:lnTo>
                  <a:lnTo>
                    <a:pt x="58" y="28"/>
                  </a:lnTo>
                  <a:lnTo>
                    <a:pt x="64" y="33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55" y="49"/>
                  </a:lnTo>
                  <a:lnTo>
                    <a:pt x="55" y="57"/>
                  </a:lnTo>
                  <a:lnTo>
                    <a:pt x="47" y="56"/>
                  </a:lnTo>
                  <a:lnTo>
                    <a:pt x="44" y="63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7" y="61"/>
                  </a:lnTo>
                  <a:lnTo>
                    <a:pt x="19" y="63"/>
                  </a:lnTo>
                  <a:lnTo>
                    <a:pt x="16" y="55"/>
                  </a:lnTo>
                  <a:lnTo>
                    <a:pt x="8" y="56"/>
                  </a:lnTo>
                  <a:lnTo>
                    <a:pt x="8" y="49"/>
                  </a:lnTo>
                  <a:lnTo>
                    <a:pt x="2" y="46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23760" y="3886200"/>
              <a:ext cx="39600" cy="396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9" y="0"/>
                  </a:moveTo>
                  <a:lnTo>
                    <a:pt x="19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988920" y="3716280"/>
            <a:ext cx="919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tyr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042920" y="5013360"/>
            <a:ext cx="85680" cy="87120"/>
            <a:chOff x="1042920" y="5013360"/>
            <a:chExt cx="85680" cy="87120"/>
          </a:xfrm>
        </p:grpSpPr>
        <p:sp>
          <p:nvSpPr>
            <p:cNvPr id="764" name=""/>
            <p:cNvSpPr/>
            <p:nvPr/>
          </p:nvSpPr>
          <p:spPr>
            <a:xfrm>
              <a:off x="1042920" y="5013360"/>
              <a:ext cx="85680" cy="871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62" y="21"/>
                  </a:lnTo>
                  <a:lnTo>
                    <a:pt x="58" y="28"/>
                  </a:lnTo>
                  <a:lnTo>
                    <a:pt x="64" y="33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55" y="49"/>
                  </a:lnTo>
                  <a:lnTo>
                    <a:pt x="55" y="57"/>
                  </a:lnTo>
                  <a:lnTo>
                    <a:pt x="47" y="56"/>
                  </a:lnTo>
                  <a:lnTo>
                    <a:pt x="44" y="63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7" y="61"/>
                  </a:lnTo>
                  <a:lnTo>
                    <a:pt x="19" y="63"/>
                  </a:lnTo>
                  <a:lnTo>
                    <a:pt x="16" y="55"/>
                  </a:lnTo>
                  <a:lnTo>
                    <a:pt x="8" y="56"/>
                  </a:lnTo>
                  <a:lnTo>
                    <a:pt x="8" y="49"/>
                  </a:lnTo>
                  <a:lnTo>
                    <a:pt x="2" y="46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66680" y="5038560"/>
              <a:ext cx="39600" cy="392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9" y="0"/>
                  </a:moveTo>
                  <a:lnTo>
                    <a:pt x="19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287640" y="1952640"/>
            <a:ext cx="105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275600" y="5349960"/>
            <a:ext cx="14104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outh </a:t>
            </a: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391520" y="3352680"/>
            <a:ext cx="85680" cy="87480"/>
            <a:chOff x="7391520" y="3352680"/>
            <a:chExt cx="85680" cy="87480"/>
          </a:xfrm>
        </p:grpSpPr>
        <p:sp>
          <p:nvSpPr>
            <p:cNvPr id="769" name=""/>
            <p:cNvSpPr/>
            <p:nvPr/>
          </p:nvSpPr>
          <p:spPr>
            <a:xfrm>
              <a:off x="7391520" y="3352680"/>
              <a:ext cx="85680" cy="8748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62" y="21"/>
                  </a:lnTo>
                  <a:lnTo>
                    <a:pt x="58" y="28"/>
                  </a:lnTo>
                  <a:lnTo>
                    <a:pt x="64" y="33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55" y="49"/>
                  </a:lnTo>
                  <a:lnTo>
                    <a:pt x="55" y="57"/>
                  </a:lnTo>
                  <a:lnTo>
                    <a:pt x="47" y="56"/>
                  </a:lnTo>
                  <a:lnTo>
                    <a:pt x="44" y="63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7" y="61"/>
                  </a:lnTo>
                  <a:lnTo>
                    <a:pt x="19" y="63"/>
                  </a:lnTo>
                  <a:lnTo>
                    <a:pt x="16" y="55"/>
                  </a:lnTo>
                  <a:lnTo>
                    <a:pt x="8" y="56"/>
                  </a:lnTo>
                  <a:lnTo>
                    <a:pt x="8" y="49"/>
                  </a:lnTo>
                  <a:lnTo>
                    <a:pt x="2" y="46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15280" y="3378240"/>
              <a:ext cx="39600" cy="396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9" y="0"/>
                  </a:moveTo>
                  <a:lnTo>
                    <a:pt x="19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7323120" y="4789440"/>
            <a:ext cx="85680" cy="87480"/>
            <a:chOff x="7323120" y="4789440"/>
            <a:chExt cx="85680" cy="87480"/>
          </a:xfrm>
        </p:grpSpPr>
        <p:sp>
          <p:nvSpPr>
            <p:cNvPr id="772" name=""/>
            <p:cNvSpPr/>
            <p:nvPr/>
          </p:nvSpPr>
          <p:spPr>
            <a:xfrm>
              <a:off x="7323120" y="4789440"/>
              <a:ext cx="85680" cy="8748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62" y="21"/>
                  </a:lnTo>
                  <a:lnTo>
                    <a:pt x="58" y="28"/>
                  </a:lnTo>
                  <a:lnTo>
                    <a:pt x="64" y="33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55" y="49"/>
                  </a:lnTo>
                  <a:lnTo>
                    <a:pt x="55" y="57"/>
                  </a:lnTo>
                  <a:lnTo>
                    <a:pt x="47" y="56"/>
                  </a:lnTo>
                  <a:lnTo>
                    <a:pt x="44" y="63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7" y="61"/>
                  </a:lnTo>
                  <a:lnTo>
                    <a:pt x="19" y="63"/>
                  </a:lnTo>
                  <a:lnTo>
                    <a:pt x="16" y="55"/>
                  </a:lnTo>
                  <a:lnTo>
                    <a:pt x="8" y="56"/>
                  </a:lnTo>
                  <a:lnTo>
                    <a:pt x="8" y="49"/>
                  </a:lnTo>
                  <a:lnTo>
                    <a:pt x="2" y="46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46880" y="4815000"/>
              <a:ext cx="39600" cy="396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9" y="0"/>
                  </a:moveTo>
                  <a:lnTo>
                    <a:pt x="19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5003640" y="1125000"/>
            <a:ext cx="505080" cy="504036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788000" y="6064200"/>
            <a:ext cx="57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L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981000"/>
            <a:ext cx="57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B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1168560"/>
            <a:ext cx="57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K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00360" y="181620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T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86900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A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16360" y="5084640"/>
            <a:ext cx="57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BAG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987640" y="1557000"/>
            <a:ext cx="720720" cy="33116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427640" y="3429000"/>
            <a:ext cx="1218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Zhezkaz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55640" y="2852640"/>
            <a:ext cx="919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Ural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4360" y="2392200"/>
            <a:ext cx="5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U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4787640" y="1125000"/>
            <a:ext cx="215640" cy="4967640"/>
          </a:xfrm>
          <a:prstGeom prst="line">
            <a:avLst/>
          </a:prstGeom>
          <a:ln w="763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1042920" y="2636640"/>
            <a:ext cx="2665440" cy="266364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3563640" y="1341000"/>
            <a:ext cx="1439640" cy="4751640"/>
          </a:xfrm>
          <a:prstGeom prst="line">
            <a:avLst/>
          </a:prstGeom>
          <a:ln w="76320">
            <a:solidFill>
              <a:srgbClr val="ff99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23280" y="620640"/>
            <a:ext cx="10051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1" lang="ru-RU" sz="1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Y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Toro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Chica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64000" y="476280"/>
            <a:ext cx="155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Los</a:t>
            </a:r>
            <a:r>
              <a:rPr b="1" lang="ru-RU" sz="1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Ange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Houst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San</a:t>
            </a:r>
            <a:r>
              <a:rPr b="1" lang="ru-RU" sz="1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Francis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34200" y="5538960"/>
            <a:ext cx="10537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Singa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Mumb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3203640" y="1267920"/>
            <a:ext cx="2448000" cy="3816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194920" y="5157720"/>
            <a:ext cx="677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Dub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4560" y="5877000"/>
            <a:ext cx="360360" cy="0"/>
          </a:xfrm>
          <a:prstGeom prst="line">
            <a:avLst/>
          </a:prstGeom>
          <a:ln w="507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4560" y="6021360"/>
            <a:ext cx="36036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4560" y="623736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4560" y="6453360"/>
            <a:ext cx="360360" cy="0"/>
          </a:xfrm>
          <a:prstGeom prst="line">
            <a:avLst/>
          </a:prstGeom>
          <a:ln w="507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4560" y="6669000"/>
            <a:ext cx="360360" cy="0"/>
          </a:xfrm>
          <a:prstGeom prst="line">
            <a:avLst/>
          </a:prstGeom>
          <a:ln w="50760">
            <a:solidFill>
              <a:srgbClr val="ff99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1400" y="5776920"/>
            <a:ext cx="23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American airlines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Delhi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hicago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42000" y="5921280"/>
            <a:ext cx="362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66ff33"/>
                </a:solidFill>
                <a:latin typeface="Tahoma"/>
              </a:rPr>
              <a:t>United airlines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Mumbai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ew-York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elhi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ew-York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70440" y="6137280"/>
            <a:ext cx="415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Emirates airlines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Dubai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Houston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os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ngeles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an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rancisco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12560" y="6338880"/>
            <a:ext cx="75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cc00"/>
                </a:solidFill>
                <a:latin typeface="Tahoma"/>
              </a:rPr>
              <a:t>Singapore airlines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New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York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ingapore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lang="en-US" sz="1000" spc="-1" strike="noStrike">
                <a:solidFill>
                  <a:srgbClr val="ffcc00"/>
                </a:solidFill>
                <a:latin typeface="Tahoma"/>
              </a:rPr>
              <a:t>Pakistan airlines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New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York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ahore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Karachi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oronto,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ahore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oronto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49920" y="6568920"/>
            <a:ext cx="41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ccff"/>
                </a:solidFill>
                <a:latin typeface="Tahoma"/>
              </a:rPr>
              <a:t>Air India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Delhi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ew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York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elhi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Mumbai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ew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York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umbai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872320" y="656748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All flights are conducted dai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35B-37A8-449D-A0A3-14DC8B0E4A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78357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Opening of a new ATS route 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between China and Kazakhstan via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RULAD 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since 10 March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2011 </a:t>
            </a:r>
            <a:endParaRPr b="0" lang="en-US" sz="1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5" name="Line 5"/>
          <p:cNvSpPr/>
          <p:nvPr/>
        </p:nvSpPr>
        <p:spPr>
          <a:xfrm>
            <a:off x="6948360" y="4941720"/>
            <a:ext cx="79236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Freeform 6"/>
          <p:cNvSpPr/>
          <p:nvPr/>
        </p:nvSpPr>
        <p:spPr>
          <a:xfrm>
            <a:off x="0" y="3284640"/>
            <a:ext cx="5867280" cy="1657080"/>
          </a:xfrm>
          <a:custGeom>
            <a:avLst/>
            <a:gdLst>
              <a:gd name="textAreaLeft" fmla="*/ 0 w 5867280"/>
              <a:gd name="textAreaRight" fmla="*/ 5867640 w 586728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4100" h="1460">
                <a:moveTo>
                  <a:pt x="0" y="0"/>
                </a:moveTo>
                <a:lnTo>
                  <a:pt x="4100" y="1460"/>
                </a:lnTo>
              </a:path>
            </a:pathLst>
          </a:custGeom>
          <a:noFill/>
          <a:ln w="76320">
            <a:solidFill>
              <a:srgbClr val="ff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Line 7"/>
          <p:cNvSpPr/>
          <p:nvPr/>
        </p:nvSpPr>
        <p:spPr>
          <a:xfrm>
            <a:off x="5867280" y="4941720"/>
            <a:ext cx="100980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Line 8"/>
          <p:cNvSpPr/>
          <p:nvPr/>
        </p:nvSpPr>
        <p:spPr>
          <a:xfrm flipH="1">
            <a:off x="1835280" y="5013360"/>
            <a:ext cx="4032000" cy="10796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9"/>
          <p:cNvSpPr/>
          <p:nvPr/>
        </p:nvSpPr>
        <p:spPr>
          <a:xfrm>
            <a:off x="5867280" y="5013360"/>
            <a:ext cx="1873440" cy="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7702560" y="3500280"/>
            <a:ext cx="7570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Freeform 11"/>
          <p:cNvSpPr/>
          <p:nvPr/>
        </p:nvSpPr>
        <p:spPr>
          <a:xfrm>
            <a:off x="4313160" y="1569960"/>
            <a:ext cx="3603600" cy="2611440"/>
          </a:xfrm>
          <a:custGeom>
            <a:avLst/>
            <a:gdLst>
              <a:gd name="textAreaLeft" fmla="*/ 0 w 3603600"/>
              <a:gd name="textAreaRight" fmla="*/ 3603960 w 360360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974" h="1853">
                <a:moveTo>
                  <a:pt x="266" y="154"/>
                </a:moveTo>
                <a:lnTo>
                  <a:pt x="620" y="530"/>
                </a:lnTo>
                <a:lnTo>
                  <a:pt x="769" y="682"/>
                </a:lnTo>
                <a:lnTo>
                  <a:pt x="773" y="671"/>
                </a:lnTo>
                <a:lnTo>
                  <a:pt x="788" y="671"/>
                </a:lnTo>
                <a:lnTo>
                  <a:pt x="788" y="641"/>
                </a:lnTo>
                <a:lnTo>
                  <a:pt x="811" y="641"/>
                </a:lnTo>
                <a:lnTo>
                  <a:pt x="821" y="633"/>
                </a:lnTo>
                <a:lnTo>
                  <a:pt x="811" y="609"/>
                </a:lnTo>
                <a:lnTo>
                  <a:pt x="829" y="595"/>
                </a:lnTo>
                <a:lnTo>
                  <a:pt x="829" y="568"/>
                </a:lnTo>
                <a:lnTo>
                  <a:pt x="857" y="561"/>
                </a:lnTo>
                <a:lnTo>
                  <a:pt x="905" y="584"/>
                </a:lnTo>
                <a:lnTo>
                  <a:pt x="944" y="573"/>
                </a:lnTo>
                <a:lnTo>
                  <a:pt x="969" y="579"/>
                </a:lnTo>
                <a:lnTo>
                  <a:pt x="983" y="619"/>
                </a:lnTo>
                <a:lnTo>
                  <a:pt x="1009" y="617"/>
                </a:lnTo>
                <a:lnTo>
                  <a:pt x="1036" y="588"/>
                </a:lnTo>
                <a:lnTo>
                  <a:pt x="1063" y="583"/>
                </a:lnTo>
                <a:lnTo>
                  <a:pt x="1085" y="591"/>
                </a:lnTo>
                <a:lnTo>
                  <a:pt x="1124" y="561"/>
                </a:lnTo>
                <a:lnTo>
                  <a:pt x="1163" y="561"/>
                </a:lnTo>
                <a:lnTo>
                  <a:pt x="1186" y="526"/>
                </a:lnTo>
                <a:lnTo>
                  <a:pt x="1238" y="505"/>
                </a:lnTo>
                <a:lnTo>
                  <a:pt x="1290" y="510"/>
                </a:lnTo>
                <a:lnTo>
                  <a:pt x="1314" y="500"/>
                </a:lnTo>
                <a:lnTo>
                  <a:pt x="1327" y="484"/>
                </a:lnTo>
                <a:lnTo>
                  <a:pt x="1359" y="492"/>
                </a:lnTo>
                <a:lnTo>
                  <a:pt x="1379" y="503"/>
                </a:lnTo>
                <a:lnTo>
                  <a:pt x="1390" y="529"/>
                </a:lnTo>
                <a:lnTo>
                  <a:pt x="1415" y="525"/>
                </a:lnTo>
                <a:lnTo>
                  <a:pt x="1428" y="573"/>
                </a:lnTo>
                <a:lnTo>
                  <a:pt x="1454" y="593"/>
                </a:lnTo>
                <a:lnTo>
                  <a:pt x="1491" y="599"/>
                </a:lnTo>
                <a:lnTo>
                  <a:pt x="1518" y="588"/>
                </a:lnTo>
                <a:lnTo>
                  <a:pt x="1549" y="598"/>
                </a:lnTo>
                <a:lnTo>
                  <a:pt x="1560" y="609"/>
                </a:lnTo>
                <a:lnTo>
                  <a:pt x="1560" y="630"/>
                </a:lnTo>
                <a:lnTo>
                  <a:pt x="1564" y="649"/>
                </a:lnTo>
                <a:lnTo>
                  <a:pt x="1581" y="652"/>
                </a:lnTo>
                <a:lnTo>
                  <a:pt x="1595" y="652"/>
                </a:lnTo>
                <a:lnTo>
                  <a:pt x="1607" y="660"/>
                </a:lnTo>
                <a:lnTo>
                  <a:pt x="1607" y="682"/>
                </a:lnTo>
                <a:lnTo>
                  <a:pt x="1624" y="690"/>
                </a:lnTo>
                <a:lnTo>
                  <a:pt x="1681" y="671"/>
                </a:lnTo>
                <a:lnTo>
                  <a:pt x="1715" y="677"/>
                </a:lnTo>
                <a:lnTo>
                  <a:pt x="1732" y="664"/>
                </a:lnTo>
                <a:lnTo>
                  <a:pt x="1786" y="669"/>
                </a:lnTo>
                <a:lnTo>
                  <a:pt x="1800" y="649"/>
                </a:lnTo>
                <a:lnTo>
                  <a:pt x="1805" y="623"/>
                </a:lnTo>
                <a:lnTo>
                  <a:pt x="1819" y="611"/>
                </a:lnTo>
                <a:lnTo>
                  <a:pt x="1810" y="584"/>
                </a:lnTo>
                <a:lnTo>
                  <a:pt x="1821" y="569"/>
                </a:lnTo>
                <a:lnTo>
                  <a:pt x="1837" y="561"/>
                </a:lnTo>
                <a:lnTo>
                  <a:pt x="1853" y="569"/>
                </a:lnTo>
                <a:lnTo>
                  <a:pt x="1853" y="593"/>
                </a:lnTo>
                <a:lnTo>
                  <a:pt x="1842" y="606"/>
                </a:lnTo>
                <a:lnTo>
                  <a:pt x="1850" y="623"/>
                </a:lnTo>
                <a:lnTo>
                  <a:pt x="1866" y="622"/>
                </a:lnTo>
                <a:lnTo>
                  <a:pt x="1883" y="641"/>
                </a:lnTo>
                <a:lnTo>
                  <a:pt x="1917" y="637"/>
                </a:lnTo>
                <a:lnTo>
                  <a:pt x="1934" y="658"/>
                </a:lnTo>
                <a:lnTo>
                  <a:pt x="1973" y="653"/>
                </a:lnTo>
                <a:lnTo>
                  <a:pt x="1973" y="680"/>
                </a:lnTo>
                <a:lnTo>
                  <a:pt x="1950" y="710"/>
                </a:lnTo>
                <a:lnTo>
                  <a:pt x="1923" y="731"/>
                </a:lnTo>
                <a:lnTo>
                  <a:pt x="1928" y="751"/>
                </a:lnTo>
                <a:lnTo>
                  <a:pt x="1943" y="767"/>
                </a:lnTo>
                <a:lnTo>
                  <a:pt x="1934" y="791"/>
                </a:lnTo>
                <a:lnTo>
                  <a:pt x="1934" y="820"/>
                </a:lnTo>
                <a:lnTo>
                  <a:pt x="1945" y="837"/>
                </a:lnTo>
                <a:lnTo>
                  <a:pt x="1926" y="878"/>
                </a:lnTo>
                <a:lnTo>
                  <a:pt x="1896" y="881"/>
                </a:lnTo>
                <a:lnTo>
                  <a:pt x="1891" y="906"/>
                </a:lnTo>
                <a:lnTo>
                  <a:pt x="1822" y="939"/>
                </a:lnTo>
                <a:lnTo>
                  <a:pt x="1800" y="993"/>
                </a:lnTo>
                <a:lnTo>
                  <a:pt x="1810" y="1022"/>
                </a:lnTo>
                <a:lnTo>
                  <a:pt x="1831" y="1091"/>
                </a:lnTo>
                <a:lnTo>
                  <a:pt x="1874" y="1132"/>
                </a:lnTo>
                <a:lnTo>
                  <a:pt x="1906" y="1212"/>
                </a:lnTo>
                <a:lnTo>
                  <a:pt x="1906" y="1255"/>
                </a:lnTo>
                <a:lnTo>
                  <a:pt x="1896" y="1274"/>
                </a:lnTo>
                <a:lnTo>
                  <a:pt x="1848" y="1309"/>
                </a:lnTo>
                <a:lnTo>
                  <a:pt x="1848" y="1335"/>
                </a:lnTo>
                <a:lnTo>
                  <a:pt x="1821" y="1371"/>
                </a:lnTo>
                <a:lnTo>
                  <a:pt x="1790" y="1380"/>
                </a:lnTo>
                <a:lnTo>
                  <a:pt x="1784" y="1355"/>
                </a:lnTo>
                <a:lnTo>
                  <a:pt x="1738" y="1349"/>
                </a:lnTo>
                <a:lnTo>
                  <a:pt x="1663" y="1385"/>
                </a:lnTo>
                <a:lnTo>
                  <a:pt x="1600" y="1399"/>
                </a:lnTo>
                <a:lnTo>
                  <a:pt x="1570" y="1378"/>
                </a:lnTo>
                <a:lnTo>
                  <a:pt x="1492" y="1386"/>
                </a:lnTo>
                <a:lnTo>
                  <a:pt x="1492" y="1401"/>
                </a:lnTo>
                <a:lnTo>
                  <a:pt x="1506" y="1431"/>
                </a:lnTo>
                <a:lnTo>
                  <a:pt x="1501" y="1464"/>
                </a:lnTo>
                <a:lnTo>
                  <a:pt x="1512" y="1497"/>
                </a:lnTo>
                <a:lnTo>
                  <a:pt x="1506" y="1537"/>
                </a:lnTo>
                <a:lnTo>
                  <a:pt x="1506" y="1611"/>
                </a:lnTo>
                <a:lnTo>
                  <a:pt x="1506" y="1636"/>
                </a:lnTo>
                <a:lnTo>
                  <a:pt x="1488" y="1641"/>
                </a:lnTo>
                <a:lnTo>
                  <a:pt x="1492" y="1676"/>
                </a:lnTo>
                <a:lnTo>
                  <a:pt x="1517" y="1723"/>
                </a:lnTo>
                <a:lnTo>
                  <a:pt x="1515" y="1825"/>
                </a:lnTo>
                <a:lnTo>
                  <a:pt x="1303" y="1688"/>
                </a:lnTo>
                <a:lnTo>
                  <a:pt x="721" y="1852"/>
                </a:lnTo>
                <a:lnTo>
                  <a:pt x="308" y="1315"/>
                </a:lnTo>
                <a:lnTo>
                  <a:pt x="246" y="1061"/>
                </a:lnTo>
                <a:lnTo>
                  <a:pt x="122" y="909"/>
                </a:lnTo>
                <a:lnTo>
                  <a:pt x="0" y="0"/>
                </a:lnTo>
                <a:lnTo>
                  <a:pt x="53" y="57"/>
                </a:lnTo>
                <a:lnTo>
                  <a:pt x="266" y="154"/>
                </a:lnTo>
                <a:lnTo>
                  <a:pt x="266" y="1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Freeform 12"/>
          <p:cNvSpPr/>
          <p:nvPr/>
        </p:nvSpPr>
        <p:spPr>
          <a:xfrm>
            <a:off x="2882880" y="4948200"/>
            <a:ext cx="1949400" cy="10047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892" h="595">
                <a:moveTo>
                  <a:pt x="114" y="0"/>
                </a:moveTo>
                <a:lnTo>
                  <a:pt x="509" y="3"/>
                </a:lnTo>
                <a:lnTo>
                  <a:pt x="735" y="4"/>
                </a:lnTo>
                <a:lnTo>
                  <a:pt x="831" y="101"/>
                </a:lnTo>
                <a:lnTo>
                  <a:pt x="884" y="159"/>
                </a:lnTo>
                <a:lnTo>
                  <a:pt x="892" y="248"/>
                </a:lnTo>
                <a:lnTo>
                  <a:pt x="855" y="248"/>
                </a:lnTo>
                <a:lnTo>
                  <a:pt x="834" y="359"/>
                </a:lnTo>
                <a:lnTo>
                  <a:pt x="703" y="470"/>
                </a:lnTo>
                <a:lnTo>
                  <a:pt x="689" y="476"/>
                </a:lnTo>
                <a:lnTo>
                  <a:pt x="662" y="470"/>
                </a:lnTo>
                <a:lnTo>
                  <a:pt x="648" y="472"/>
                </a:lnTo>
                <a:lnTo>
                  <a:pt x="635" y="480"/>
                </a:lnTo>
                <a:lnTo>
                  <a:pt x="599" y="474"/>
                </a:lnTo>
                <a:lnTo>
                  <a:pt x="574" y="474"/>
                </a:lnTo>
                <a:lnTo>
                  <a:pt x="564" y="480"/>
                </a:lnTo>
                <a:lnTo>
                  <a:pt x="548" y="478"/>
                </a:lnTo>
                <a:lnTo>
                  <a:pt x="540" y="488"/>
                </a:lnTo>
                <a:lnTo>
                  <a:pt x="512" y="488"/>
                </a:lnTo>
                <a:lnTo>
                  <a:pt x="504" y="501"/>
                </a:lnTo>
                <a:lnTo>
                  <a:pt x="502" y="521"/>
                </a:lnTo>
                <a:lnTo>
                  <a:pt x="494" y="537"/>
                </a:lnTo>
                <a:lnTo>
                  <a:pt x="482" y="540"/>
                </a:lnTo>
                <a:lnTo>
                  <a:pt x="490" y="559"/>
                </a:lnTo>
                <a:lnTo>
                  <a:pt x="484" y="569"/>
                </a:lnTo>
                <a:lnTo>
                  <a:pt x="478" y="574"/>
                </a:lnTo>
                <a:lnTo>
                  <a:pt x="465" y="595"/>
                </a:lnTo>
                <a:lnTo>
                  <a:pt x="0" y="346"/>
                </a:lnTo>
                <a:lnTo>
                  <a:pt x="99" y="246"/>
                </a:lnTo>
                <a:lnTo>
                  <a:pt x="118" y="0"/>
                </a:lnTo>
                <a:lnTo>
                  <a:pt x="114" y="0"/>
                </a:lnTo>
                <a:lnTo>
                  <a:pt x="114" y="0"/>
                </a:lnTo>
              </a:path>
            </a:pathLst>
          </a:custGeom>
          <a:noFill/>
          <a:ln w="6480">
            <a:solidFill>
              <a:srgbClr val="e1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Freeform 13"/>
          <p:cNvSpPr/>
          <p:nvPr/>
        </p:nvSpPr>
        <p:spPr>
          <a:xfrm>
            <a:off x="3679920" y="3419640"/>
            <a:ext cx="3525840" cy="2120760"/>
          </a:xfrm>
          <a:custGeom>
            <a:avLst/>
            <a:gdLst>
              <a:gd name="textAreaLeft" fmla="*/ 0 w 3525840"/>
              <a:gd name="textAreaRight" fmla="*/ 3526200 w 3525840"/>
              <a:gd name="textAreaTop" fmla="*/ 0 h 2120760"/>
              <a:gd name="textAreaBottom" fmla="*/ 2121120 h 2120760"/>
            </a:gdLst>
            <a:ahLst/>
            <a:rect l="textAreaLeft" t="textAreaTop" r="textAreaRight" b="textAreaBottom"/>
            <a:pathLst>
              <a:path w="1931" h="1504">
                <a:moveTo>
                  <a:pt x="1646" y="373"/>
                </a:moveTo>
                <a:lnTo>
                  <a:pt x="1854" y="509"/>
                </a:lnTo>
                <a:lnTo>
                  <a:pt x="1864" y="526"/>
                </a:lnTo>
                <a:lnTo>
                  <a:pt x="1894" y="526"/>
                </a:lnTo>
                <a:lnTo>
                  <a:pt x="1916" y="533"/>
                </a:lnTo>
                <a:lnTo>
                  <a:pt x="1930" y="566"/>
                </a:lnTo>
                <a:lnTo>
                  <a:pt x="1923" y="586"/>
                </a:lnTo>
                <a:lnTo>
                  <a:pt x="1916" y="593"/>
                </a:lnTo>
                <a:lnTo>
                  <a:pt x="1880" y="595"/>
                </a:lnTo>
                <a:lnTo>
                  <a:pt x="1861" y="599"/>
                </a:lnTo>
                <a:lnTo>
                  <a:pt x="1829" y="632"/>
                </a:lnTo>
                <a:lnTo>
                  <a:pt x="1793" y="622"/>
                </a:lnTo>
                <a:lnTo>
                  <a:pt x="1783" y="602"/>
                </a:lnTo>
                <a:lnTo>
                  <a:pt x="1767" y="602"/>
                </a:lnTo>
                <a:lnTo>
                  <a:pt x="1754" y="625"/>
                </a:lnTo>
                <a:lnTo>
                  <a:pt x="1701" y="668"/>
                </a:lnTo>
                <a:lnTo>
                  <a:pt x="1630" y="715"/>
                </a:lnTo>
                <a:lnTo>
                  <a:pt x="1595" y="732"/>
                </a:lnTo>
                <a:lnTo>
                  <a:pt x="1556" y="745"/>
                </a:lnTo>
                <a:lnTo>
                  <a:pt x="1529" y="778"/>
                </a:lnTo>
                <a:lnTo>
                  <a:pt x="1535" y="805"/>
                </a:lnTo>
                <a:lnTo>
                  <a:pt x="1561" y="812"/>
                </a:lnTo>
                <a:lnTo>
                  <a:pt x="1581" y="792"/>
                </a:lnTo>
                <a:lnTo>
                  <a:pt x="1614" y="794"/>
                </a:lnTo>
                <a:lnTo>
                  <a:pt x="1636" y="816"/>
                </a:lnTo>
                <a:lnTo>
                  <a:pt x="1627" y="831"/>
                </a:lnTo>
                <a:lnTo>
                  <a:pt x="1640" y="898"/>
                </a:lnTo>
                <a:lnTo>
                  <a:pt x="1663" y="974"/>
                </a:lnTo>
                <a:lnTo>
                  <a:pt x="1708" y="1028"/>
                </a:lnTo>
                <a:lnTo>
                  <a:pt x="1750" y="1081"/>
                </a:lnTo>
                <a:lnTo>
                  <a:pt x="1767" y="1108"/>
                </a:lnTo>
                <a:lnTo>
                  <a:pt x="1793" y="1141"/>
                </a:lnTo>
                <a:lnTo>
                  <a:pt x="1790" y="1158"/>
                </a:lnTo>
                <a:lnTo>
                  <a:pt x="1761" y="1177"/>
                </a:lnTo>
                <a:lnTo>
                  <a:pt x="1737" y="1214"/>
                </a:lnTo>
                <a:lnTo>
                  <a:pt x="1770" y="1240"/>
                </a:lnTo>
                <a:lnTo>
                  <a:pt x="1761" y="1261"/>
                </a:lnTo>
                <a:lnTo>
                  <a:pt x="1731" y="1267"/>
                </a:lnTo>
                <a:lnTo>
                  <a:pt x="1725" y="1307"/>
                </a:lnTo>
                <a:lnTo>
                  <a:pt x="1731" y="1333"/>
                </a:lnTo>
                <a:lnTo>
                  <a:pt x="1757" y="1374"/>
                </a:lnTo>
                <a:lnTo>
                  <a:pt x="1764" y="1401"/>
                </a:lnTo>
                <a:lnTo>
                  <a:pt x="1764" y="1413"/>
                </a:lnTo>
                <a:lnTo>
                  <a:pt x="1740" y="1413"/>
                </a:lnTo>
                <a:lnTo>
                  <a:pt x="1725" y="1403"/>
                </a:lnTo>
                <a:lnTo>
                  <a:pt x="1711" y="1390"/>
                </a:lnTo>
                <a:lnTo>
                  <a:pt x="1676" y="1387"/>
                </a:lnTo>
                <a:lnTo>
                  <a:pt x="1627" y="1401"/>
                </a:lnTo>
                <a:lnTo>
                  <a:pt x="1561" y="1367"/>
                </a:lnTo>
                <a:lnTo>
                  <a:pt x="1559" y="1348"/>
                </a:lnTo>
                <a:lnTo>
                  <a:pt x="1539" y="1344"/>
                </a:lnTo>
                <a:lnTo>
                  <a:pt x="1516" y="1357"/>
                </a:lnTo>
                <a:lnTo>
                  <a:pt x="1464" y="1359"/>
                </a:lnTo>
                <a:lnTo>
                  <a:pt x="1392" y="1374"/>
                </a:lnTo>
                <a:lnTo>
                  <a:pt x="1337" y="1390"/>
                </a:lnTo>
                <a:lnTo>
                  <a:pt x="1292" y="1390"/>
                </a:lnTo>
                <a:lnTo>
                  <a:pt x="1250" y="1398"/>
                </a:lnTo>
                <a:lnTo>
                  <a:pt x="1201" y="1413"/>
                </a:lnTo>
                <a:lnTo>
                  <a:pt x="1165" y="1403"/>
                </a:lnTo>
                <a:lnTo>
                  <a:pt x="1120" y="1434"/>
                </a:lnTo>
                <a:lnTo>
                  <a:pt x="1067" y="1454"/>
                </a:lnTo>
                <a:lnTo>
                  <a:pt x="1012" y="1456"/>
                </a:lnTo>
                <a:lnTo>
                  <a:pt x="1000" y="1470"/>
                </a:lnTo>
                <a:lnTo>
                  <a:pt x="966" y="1474"/>
                </a:lnTo>
                <a:lnTo>
                  <a:pt x="943" y="1503"/>
                </a:lnTo>
                <a:lnTo>
                  <a:pt x="917" y="1503"/>
                </a:lnTo>
                <a:lnTo>
                  <a:pt x="862" y="1496"/>
                </a:lnTo>
                <a:lnTo>
                  <a:pt x="804" y="1370"/>
                </a:lnTo>
                <a:lnTo>
                  <a:pt x="631" y="1380"/>
                </a:lnTo>
                <a:lnTo>
                  <a:pt x="618" y="1274"/>
                </a:lnTo>
                <a:lnTo>
                  <a:pt x="446" y="1085"/>
                </a:lnTo>
                <a:lnTo>
                  <a:pt x="170" y="1081"/>
                </a:lnTo>
                <a:lnTo>
                  <a:pt x="0" y="326"/>
                </a:lnTo>
                <a:lnTo>
                  <a:pt x="397" y="240"/>
                </a:lnTo>
                <a:lnTo>
                  <a:pt x="649" y="0"/>
                </a:lnTo>
                <a:lnTo>
                  <a:pt x="1067" y="542"/>
                </a:lnTo>
                <a:lnTo>
                  <a:pt x="1653" y="377"/>
                </a:lnTo>
                <a:lnTo>
                  <a:pt x="1646" y="373"/>
                </a:lnTo>
                <a:lnTo>
                  <a:pt x="1646" y="37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Freeform 14"/>
          <p:cNvSpPr/>
          <p:nvPr/>
        </p:nvSpPr>
        <p:spPr>
          <a:xfrm>
            <a:off x="4410000" y="5356080"/>
            <a:ext cx="846360" cy="447840"/>
          </a:xfrm>
          <a:custGeom>
            <a:avLst/>
            <a:gdLst>
              <a:gd name="textAreaLeft" fmla="*/ 0 w 846360"/>
              <a:gd name="textAreaRight" fmla="*/ 846720 w 84636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464" h="317">
                <a:moveTo>
                  <a:pt x="0" y="276"/>
                </a:moveTo>
                <a:lnTo>
                  <a:pt x="161" y="142"/>
                </a:lnTo>
                <a:lnTo>
                  <a:pt x="187" y="5"/>
                </a:lnTo>
                <a:lnTo>
                  <a:pt x="229" y="5"/>
                </a:lnTo>
                <a:lnTo>
                  <a:pt x="405" y="0"/>
                </a:lnTo>
                <a:lnTo>
                  <a:pt x="463" y="128"/>
                </a:lnTo>
                <a:lnTo>
                  <a:pt x="416" y="139"/>
                </a:lnTo>
                <a:lnTo>
                  <a:pt x="395" y="134"/>
                </a:lnTo>
                <a:lnTo>
                  <a:pt x="381" y="129"/>
                </a:lnTo>
                <a:lnTo>
                  <a:pt x="364" y="113"/>
                </a:lnTo>
                <a:lnTo>
                  <a:pt x="345" y="106"/>
                </a:lnTo>
                <a:lnTo>
                  <a:pt x="326" y="109"/>
                </a:lnTo>
                <a:lnTo>
                  <a:pt x="308" y="106"/>
                </a:lnTo>
                <a:lnTo>
                  <a:pt x="290" y="88"/>
                </a:lnTo>
                <a:lnTo>
                  <a:pt x="274" y="80"/>
                </a:lnTo>
                <a:lnTo>
                  <a:pt x="260" y="80"/>
                </a:lnTo>
                <a:lnTo>
                  <a:pt x="260" y="95"/>
                </a:lnTo>
                <a:lnTo>
                  <a:pt x="251" y="108"/>
                </a:lnTo>
                <a:lnTo>
                  <a:pt x="238" y="106"/>
                </a:lnTo>
                <a:lnTo>
                  <a:pt x="229" y="95"/>
                </a:lnTo>
                <a:lnTo>
                  <a:pt x="218" y="99"/>
                </a:lnTo>
                <a:lnTo>
                  <a:pt x="211" y="111"/>
                </a:lnTo>
                <a:lnTo>
                  <a:pt x="205" y="139"/>
                </a:lnTo>
                <a:lnTo>
                  <a:pt x="193" y="153"/>
                </a:lnTo>
                <a:lnTo>
                  <a:pt x="169" y="166"/>
                </a:lnTo>
                <a:lnTo>
                  <a:pt x="158" y="197"/>
                </a:lnTo>
                <a:lnTo>
                  <a:pt x="151" y="218"/>
                </a:lnTo>
                <a:lnTo>
                  <a:pt x="154" y="254"/>
                </a:lnTo>
                <a:lnTo>
                  <a:pt x="170" y="301"/>
                </a:lnTo>
                <a:lnTo>
                  <a:pt x="175" y="308"/>
                </a:lnTo>
                <a:lnTo>
                  <a:pt x="172" y="316"/>
                </a:lnTo>
                <a:lnTo>
                  <a:pt x="151" y="309"/>
                </a:lnTo>
                <a:lnTo>
                  <a:pt x="132" y="305"/>
                </a:lnTo>
                <a:lnTo>
                  <a:pt x="109" y="298"/>
                </a:lnTo>
                <a:lnTo>
                  <a:pt x="88" y="301"/>
                </a:lnTo>
                <a:lnTo>
                  <a:pt x="74" y="305"/>
                </a:lnTo>
                <a:lnTo>
                  <a:pt x="61" y="291"/>
                </a:lnTo>
                <a:lnTo>
                  <a:pt x="39" y="295"/>
                </a:lnTo>
                <a:lnTo>
                  <a:pt x="18" y="290"/>
                </a:lnTo>
                <a:lnTo>
                  <a:pt x="0" y="276"/>
                </a:lnTo>
                <a:lnTo>
                  <a:pt x="0" y="2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Freeform 15"/>
          <p:cNvSpPr/>
          <p:nvPr/>
        </p:nvSpPr>
        <p:spPr>
          <a:xfrm>
            <a:off x="192240" y="4454640"/>
            <a:ext cx="2941560" cy="1449360"/>
          </a:xfrm>
          <a:custGeom>
            <a:avLst/>
            <a:gdLst>
              <a:gd name="textAreaLeft" fmla="*/ 0 w 2941560"/>
              <a:gd name="textAreaRight" fmla="*/ 2941920 w 294156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612" h="1028">
                <a:moveTo>
                  <a:pt x="645" y="0"/>
                </a:moveTo>
                <a:lnTo>
                  <a:pt x="1611" y="345"/>
                </a:lnTo>
                <a:lnTo>
                  <a:pt x="1598" y="635"/>
                </a:lnTo>
                <a:lnTo>
                  <a:pt x="1389" y="843"/>
                </a:lnTo>
                <a:lnTo>
                  <a:pt x="1004" y="1027"/>
                </a:lnTo>
                <a:lnTo>
                  <a:pt x="947" y="954"/>
                </a:lnTo>
                <a:lnTo>
                  <a:pt x="912" y="947"/>
                </a:lnTo>
                <a:lnTo>
                  <a:pt x="876" y="893"/>
                </a:lnTo>
                <a:lnTo>
                  <a:pt x="829" y="878"/>
                </a:lnTo>
                <a:lnTo>
                  <a:pt x="775" y="906"/>
                </a:lnTo>
                <a:lnTo>
                  <a:pt x="743" y="914"/>
                </a:lnTo>
                <a:lnTo>
                  <a:pt x="545" y="910"/>
                </a:lnTo>
                <a:lnTo>
                  <a:pt x="476" y="927"/>
                </a:lnTo>
                <a:lnTo>
                  <a:pt x="411" y="940"/>
                </a:lnTo>
                <a:lnTo>
                  <a:pt x="365" y="940"/>
                </a:lnTo>
                <a:lnTo>
                  <a:pt x="327" y="957"/>
                </a:lnTo>
                <a:lnTo>
                  <a:pt x="177" y="804"/>
                </a:lnTo>
                <a:lnTo>
                  <a:pt x="0" y="660"/>
                </a:lnTo>
                <a:lnTo>
                  <a:pt x="645" y="0"/>
                </a:lnTo>
                <a:lnTo>
                  <a:pt x="6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Freeform 16"/>
          <p:cNvSpPr/>
          <p:nvPr/>
        </p:nvSpPr>
        <p:spPr>
          <a:xfrm>
            <a:off x="735120" y="2989440"/>
            <a:ext cx="3257280" cy="1958760"/>
          </a:xfrm>
          <a:custGeom>
            <a:avLst/>
            <a:gdLst>
              <a:gd name="textAreaLeft" fmla="*/ 0 w 3257280"/>
              <a:gd name="textAreaRight" fmla="*/ 3257640 w 325728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491" h="1161">
                <a:moveTo>
                  <a:pt x="42" y="601"/>
                </a:moveTo>
                <a:lnTo>
                  <a:pt x="0" y="340"/>
                </a:lnTo>
                <a:lnTo>
                  <a:pt x="419" y="233"/>
                </a:lnTo>
                <a:lnTo>
                  <a:pt x="523" y="0"/>
                </a:lnTo>
                <a:lnTo>
                  <a:pt x="713" y="77"/>
                </a:lnTo>
                <a:lnTo>
                  <a:pt x="800" y="273"/>
                </a:lnTo>
                <a:lnTo>
                  <a:pt x="1345" y="525"/>
                </a:lnTo>
                <a:lnTo>
                  <a:pt x="1491" y="1159"/>
                </a:lnTo>
                <a:lnTo>
                  <a:pt x="1096" y="1161"/>
                </a:lnTo>
                <a:lnTo>
                  <a:pt x="289" y="870"/>
                </a:lnTo>
                <a:lnTo>
                  <a:pt x="42" y="601"/>
                </a:lnTo>
                <a:lnTo>
                  <a:pt x="42" y="60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Freeform 17"/>
          <p:cNvSpPr/>
          <p:nvPr/>
        </p:nvSpPr>
        <p:spPr>
          <a:xfrm>
            <a:off x="-28440" y="1774800"/>
            <a:ext cx="2133360" cy="1784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784520"/>
              <a:gd name="textAreaBottom" fmla="*/ 1784880 h 1784520"/>
            </a:gdLst>
            <a:ahLst/>
            <a:rect l="textAreaLeft" t="textAreaTop" r="textAreaRight" b="textAreaBottom"/>
            <a:pathLst>
              <a:path w="977" h="1059">
                <a:moveTo>
                  <a:pt x="338" y="984"/>
                </a:moveTo>
                <a:lnTo>
                  <a:pt x="204" y="828"/>
                </a:lnTo>
                <a:lnTo>
                  <a:pt x="212" y="766"/>
                </a:lnTo>
                <a:lnTo>
                  <a:pt x="201" y="742"/>
                </a:lnTo>
                <a:lnTo>
                  <a:pt x="185" y="736"/>
                </a:lnTo>
                <a:lnTo>
                  <a:pt x="168" y="736"/>
                </a:lnTo>
                <a:lnTo>
                  <a:pt x="158" y="742"/>
                </a:lnTo>
                <a:lnTo>
                  <a:pt x="133" y="742"/>
                </a:lnTo>
                <a:lnTo>
                  <a:pt x="115" y="713"/>
                </a:lnTo>
                <a:lnTo>
                  <a:pt x="90" y="708"/>
                </a:lnTo>
                <a:lnTo>
                  <a:pt x="66" y="703"/>
                </a:lnTo>
                <a:lnTo>
                  <a:pt x="54" y="692"/>
                </a:lnTo>
                <a:lnTo>
                  <a:pt x="52" y="673"/>
                </a:lnTo>
                <a:lnTo>
                  <a:pt x="46" y="662"/>
                </a:lnTo>
                <a:lnTo>
                  <a:pt x="9" y="657"/>
                </a:lnTo>
                <a:lnTo>
                  <a:pt x="0" y="649"/>
                </a:lnTo>
                <a:lnTo>
                  <a:pt x="3" y="636"/>
                </a:lnTo>
                <a:lnTo>
                  <a:pt x="28" y="630"/>
                </a:lnTo>
                <a:lnTo>
                  <a:pt x="30" y="607"/>
                </a:lnTo>
                <a:lnTo>
                  <a:pt x="66" y="591"/>
                </a:lnTo>
                <a:lnTo>
                  <a:pt x="100" y="566"/>
                </a:lnTo>
                <a:lnTo>
                  <a:pt x="111" y="546"/>
                </a:lnTo>
                <a:lnTo>
                  <a:pt x="95" y="516"/>
                </a:lnTo>
                <a:lnTo>
                  <a:pt x="79" y="492"/>
                </a:lnTo>
                <a:lnTo>
                  <a:pt x="81" y="472"/>
                </a:lnTo>
                <a:lnTo>
                  <a:pt x="98" y="439"/>
                </a:lnTo>
                <a:lnTo>
                  <a:pt x="115" y="416"/>
                </a:lnTo>
                <a:lnTo>
                  <a:pt x="145" y="409"/>
                </a:lnTo>
                <a:lnTo>
                  <a:pt x="177" y="405"/>
                </a:lnTo>
                <a:lnTo>
                  <a:pt x="193" y="419"/>
                </a:lnTo>
                <a:lnTo>
                  <a:pt x="204" y="411"/>
                </a:lnTo>
                <a:lnTo>
                  <a:pt x="228" y="411"/>
                </a:lnTo>
                <a:lnTo>
                  <a:pt x="240" y="400"/>
                </a:lnTo>
                <a:lnTo>
                  <a:pt x="234" y="383"/>
                </a:lnTo>
                <a:lnTo>
                  <a:pt x="226" y="374"/>
                </a:lnTo>
                <a:lnTo>
                  <a:pt x="207" y="370"/>
                </a:lnTo>
                <a:lnTo>
                  <a:pt x="190" y="361"/>
                </a:lnTo>
                <a:lnTo>
                  <a:pt x="190" y="353"/>
                </a:lnTo>
                <a:lnTo>
                  <a:pt x="172" y="353"/>
                </a:lnTo>
                <a:lnTo>
                  <a:pt x="156" y="363"/>
                </a:lnTo>
                <a:lnTo>
                  <a:pt x="145" y="355"/>
                </a:lnTo>
                <a:lnTo>
                  <a:pt x="125" y="344"/>
                </a:lnTo>
                <a:lnTo>
                  <a:pt x="125" y="325"/>
                </a:lnTo>
                <a:lnTo>
                  <a:pt x="133" y="308"/>
                </a:lnTo>
                <a:lnTo>
                  <a:pt x="147" y="306"/>
                </a:lnTo>
                <a:lnTo>
                  <a:pt x="156" y="308"/>
                </a:lnTo>
                <a:lnTo>
                  <a:pt x="161" y="297"/>
                </a:lnTo>
                <a:lnTo>
                  <a:pt x="161" y="286"/>
                </a:lnTo>
                <a:lnTo>
                  <a:pt x="141" y="283"/>
                </a:lnTo>
                <a:lnTo>
                  <a:pt x="122" y="286"/>
                </a:lnTo>
                <a:lnTo>
                  <a:pt x="95" y="286"/>
                </a:lnTo>
                <a:lnTo>
                  <a:pt x="90" y="278"/>
                </a:lnTo>
                <a:lnTo>
                  <a:pt x="87" y="261"/>
                </a:lnTo>
                <a:lnTo>
                  <a:pt x="100" y="261"/>
                </a:lnTo>
                <a:lnTo>
                  <a:pt x="115" y="258"/>
                </a:lnTo>
                <a:lnTo>
                  <a:pt x="117" y="238"/>
                </a:lnTo>
                <a:lnTo>
                  <a:pt x="98" y="228"/>
                </a:lnTo>
                <a:lnTo>
                  <a:pt x="98" y="211"/>
                </a:lnTo>
                <a:lnTo>
                  <a:pt x="111" y="206"/>
                </a:lnTo>
                <a:lnTo>
                  <a:pt x="125" y="214"/>
                </a:lnTo>
                <a:lnTo>
                  <a:pt x="133" y="191"/>
                </a:lnTo>
                <a:lnTo>
                  <a:pt x="150" y="186"/>
                </a:lnTo>
                <a:lnTo>
                  <a:pt x="163" y="203"/>
                </a:lnTo>
                <a:lnTo>
                  <a:pt x="172" y="191"/>
                </a:lnTo>
                <a:lnTo>
                  <a:pt x="190" y="191"/>
                </a:lnTo>
                <a:lnTo>
                  <a:pt x="201" y="201"/>
                </a:lnTo>
                <a:lnTo>
                  <a:pt x="215" y="183"/>
                </a:lnTo>
                <a:lnTo>
                  <a:pt x="228" y="171"/>
                </a:lnTo>
                <a:lnTo>
                  <a:pt x="245" y="164"/>
                </a:lnTo>
                <a:lnTo>
                  <a:pt x="259" y="171"/>
                </a:lnTo>
                <a:lnTo>
                  <a:pt x="262" y="195"/>
                </a:lnTo>
                <a:lnTo>
                  <a:pt x="277" y="191"/>
                </a:lnTo>
                <a:lnTo>
                  <a:pt x="286" y="167"/>
                </a:lnTo>
                <a:lnTo>
                  <a:pt x="297" y="160"/>
                </a:lnTo>
                <a:lnTo>
                  <a:pt x="321" y="170"/>
                </a:lnTo>
                <a:lnTo>
                  <a:pt x="341" y="153"/>
                </a:lnTo>
                <a:lnTo>
                  <a:pt x="359" y="140"/>
                </a:lnTo>
                <a:lnTo>
                  <a:pt x="378" y="140"/>
                </a:lnTo>
                <a:lnTo>
                  <a:pt x="403" y="122"/>
                </a:lnTo>
                <a:lnTo>
                  <a:pt x="449" y="105"/>
                </a:lnTo>
                <a:lnTo>
                  <a:pt x="504" y="86"/>
                </a:lnTo>
                <a:lnTo>
                  <a:pt x="529" y="78"/>
                </a:lnTo>
                <a:lnTo>
                  <a:pt x="545" y="72"/>
                </a:lnTo>
                <a:lnTo>
                  <a:pt x="571" y="86"/>
                </a:lnTo>
                <a:lnTo>
                  <a:pt x="583" y="84"/>
                </a:lnTo>
                <a:lnTo>
                  <a:pt x="591" y="75"/>
                </a:lnTo>
                <a:lnTo>
                  <a:pt x="586" y="48"/>
                </a:lnTo>
                <a:lnTo>
                  <a:pt x="607" y="18"/>
                </a:lnTo>
                <a:lnTo>
                  <a:pt x="643" y="17"/>
                </a:lnTo>
                <a:lnTo>
                  <a:pt x="656" y="0"/>
                </a:lnTo>
                <a:lnTo>
                  <a:pt x="670" y="3"/>
                </a:lnTo>
                <a:lnTo>
                  <a:pt x="667" y="18"/>
                </a:lnTo>
                <a:lnTo>
                  <a:pt x="684" y="17"/>
                </a:lnTo>
                <a:lnTo>
                  <a:pt x="977" y="492"/>
                </a:lnTo>
                <a:lnTo>
                  <a:pt x="771" y="952"/>
                </a:lnTo>
                <a:lnTo>
                  <a:pt x="350" y="1059"/>
                </a:lnTo>
                <a:lnTo>
                  <a:pt x="339" y="986"/>
                </a:lnTo>
                <a:lnTo>
                  <a:pt x="344" y="1019"/>
                </a:lnTo>
                <a:lnTo>
                  <a:pt x="338" y="984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Freeform 18"/>
          <p:cNvSpPr/>
          <p:nvPr/>
        </p:nvSpPr>
        <p:spPr>
          <a:xfrm>
            <a:off x="1473120" y="1398600"/>
            <a:ext cx="3395880" cy="2478240"/>
          </a:xfrm>
          <a:custGeom>
            <a:avLst/>
            <a:gdLst>
              <a:gd name="textAreaLeft" fmla="*/ 0 w 3395880"/>
              <a:gd name="textAreaRight" fmla="*/ 3396240 w 3395880"/>
              <a:gd name="textAreaTop" fmla="*/ 0 h 2478240"/>
              <a:gd name="textAreaBottom" fmla="*/ 2478600 h 2478240"/>
            </a:gdLst>
            <a:ahLst/>
            <a:rect l="textAreaLeft" t="textAreaTop" r="textAreaRight" b="textAreaBottom"/>
            <a:pathLst>
              <a:path w="1862" h="1757">
                <a:moveTo>
                  <a:pt x="346" y="851"/>
                </a:moveTo>
                <a:lnTo>
                  <a:pt x="0" y="288"/>
                </a:lnTo>
                <a:lnTo>
                  <a:pt x="167" y="222"/>
                </a:lnTo>
                <a:lnTo>
                  <a:pt x="175" y="203"/>
                </a:lnTo>
                <a:lnTo>
                  <a:pt x="230" y="200"/>
                </a:lnTo>
                <a:lnTo>
                  <a:pt x="250" y="169"/>
                </a:lnTo>
                <a:lnTo>
                  <a:pt x="307" y="163"/>
                </a:lnTo>
                <a:lnTo>
                  <a:pt x="306" y="107"/>
                </a:lnTo>
                <a:lnTo>
                  <a:pt x="357" y="96"/>
                </a:lnTo>
                <a:lnTo>
                  <a:pt x="364" y="61"/>
                </a:lnTo>
                <a:lnTo>
                  <a:pt x="407" y="75"/>
                </a:lnTo>
                <a:lnTo>
                  <a:pt x="427" y="68"/>
                </a:lnTo>
                <a:lnTo>
                  <a:pt x="404" y="41"/>
                </a:lnTo>
                <a:lnTo>
                  <a:pt x="390" y="8"/>
                </a:lnTo>
                <a:lnTo>
                  <a:pt x="425" y="0"/>
                </a:lnTo>
                <a:lnTo>
                  <a:pt x="431" y="30"/>
                </a:lnTo>
                <a:lnTo>
                  <a:pt x="451" y="35"/>
                </a:lnTo>
                <a:lnTo>
                  <a:pt x="502" y="22"/>
                </a:lnTo>
                <a:lnTo>
                  <a:pt x="563" y="72"/>
                </a:lnTo>
                <a:lnTo>
                  <a:pt x="613" y="57"/>
                </a:lnTo>
                <a:lnTo>
                  <a:pt x="612" y="30"/>
                </a:lnTo>
                <a:lnTo>
                  <a:pt x="693" y="41"/>
                </a:lnTo>
                <a:lnTo>
                  <a:pt x="712" y="69"/>
                </a:lnTo>
                <a:lnTo>
                  <a:pt x="717" y="126"/>
                </a:lnTo>
                <a:lnTo>
                  <a:pt x="758" y="130"/>
                </a:lnTo>
                <a:lnTo>
                  <a:pt x="774" y="178"/>
                </a:lnTo>
                <a:lnTo>
                  <a:pt x="752" y="208"/>
                </a:lnTo>
                <a:lnTo>
                  <a:pt x="768" y="224"/>
                </a:lnTo>
                <a:lnTo>
                  <a:pt x="760" y="240"/>
                </a:lnTo>
                <a:lnTo>
                  <a:pt x="739" y="253"/>
                </a:lnTo>
                <a:lnTo>
                  <a:pt x="766" y="264"/>
                </a:lnTo>
                <a:lnTo>
                  <a:pt x="774" y="291"/>
                </a:lnTo>
                <a:lnTo>
                  <a:pt x="800" y="279"/>
                </a:lnTo>
                <a:lnTo>
                  <a:pt x="825" y="291"/>
                </a:lnTo>
                <a:lnTo>
                  <a:pt x="863" y="284"/>
                </a:lnTo>
                <a:lnTo>
                  <a:pt x="860" y="244"/>
                </a:lnTo>
                <a:lnTo>
                  <a:pt x="904" y="251"/>
                </a:lnTo>
                <a:lnTo>
                  <a:pt x="932" y="270"/>
                </a:lnTo>
                <a:lnTo>
                  <a:pt x="933" y="246"/>
                </a:lnTo>
                <a:lnTo>
                  <a:pt x="891" y="196"/>
                </a:lnTo>
                <a:lnTo>
                  <a:pt x="914" y="188"/>
                </a:lnTo>
                <a:lnTo>
                  <a:pt x="933" y="219"/>
                </a:lnTo>
                <a:lnTo>
                  <a:pt x="961" y="215"/>
                </a:lnTo>
                <a:lnTo>
                  <a:pt x="950" y="248"/>
                </a:lnTo>
                <a:lnTo>
                  <a:pt x="975" y="250"/>
                </a:lnTo>
                <a:lnTo>
                  <a:pt x="966" y="301"/>
                </a:lnTo>
                <a:lnTo>
                  <a:pt x="979" y="321"/>
                </a:lnTo>
                <a:lnTo>
                  <a:pt x="1019" y="287"/>
                </a:lnTo>
                <a:lnTo>
                  <a:pt x="1011" y="267"/>
                </a:lnTo>
                <a:lnTo>
                  <a:pt x="993" y="266"/>
                </a:lnTo>
                <a:lnTo>
                  <a:pt x="1004" y="244"/>
                </a:lnTo>
                <a:lnTo>
                  <a:pt x="1032" y="234"/>
                </a:lnTo>
                <a:lnTo>
                  <a:pt x="1065" y="248"/>
                </a:lnTo>
                <a:lnTo>
                  <a:pt x="1090" y="270"/>
                </a:lnTo>
                <a:lnTo>
                  <a:pt x="1117" y="275"/>
                </a:lnTo>
                <a:lnTo>
                  <a:pt x="1128" y="242"/>
                </a:lnTo>
                <a:lnTo>
                  <a:pt x="1158" y="237"/>
                </a:lnTo>
                <a:lnTo>
                  <a:pt x="1173" y="222"/>
                </a:lnTo>
                <a:lnTo>
                  <a:pt x="1197" y="234"/>
                </a:lnTo>
                <a:lnTo>
                  <a:pt x="1188" y="264"/>
                </a:lnTo>
                <a:lnTo>
                  <a:pt x="1159" y="262"/>
                </a:lnTo>
                <a:lnTo>
                  <a:pt x="1158" y="282"/>
                </a:lnTo>
                <a:lnTo>
                  <a:pt x="1129" y="326"/>
                </a:lnTo>
                <a:lnTo>
                  <a:pt x="1144" y="381"/>
                </a:lnTo>
                <a:lnTo>
                  <a:pt x="1179" y="392"/>
                </a:lnTo>
                <a:lnTo>
                  <a:pt x="1178" y="370"/>
                </a:lnTo>
                <a:lnTo>
                  <a:pt x="1202" y="338"/>
                </a:lnTo>
                <a:lnTo>
                  <a:pt x="1239" y="330"/>
                </a:lnTo>
                <a:lnTo>
                  <a:pt x="1252" y="348"/>
                </a:lnTo>
                <a:lnTo>
                  <a:pt x="1284" y="328"/>
                </a:lnTo>
                <a:lnTo>
                  <a:pt x="1306" y="352"/>
                </a:lnTo>
                <a:lnTo>
                  <a:pt x="1335" y="357"/>
                </a:lnTo>
                <a:lnTo>
                  <a:pt x="1310" y="301"/>
                </a:lnTo>
                <a:lnTo>
                  <a:pt x="1329" y="269"/>
                </a:lnTo>
                <a:lnTo>
                  <a:pt x="1370" y="243"/>
                </a:lnTo>
                <a:lnTo>
                  <a:pt x="1429" y="222"/>
                </a:lnTo>
                <a:lnTo>
                  <a:pt x="1433" y="163"/>
                </a:lnTo>
                <a:lnTo>
                  <a:pt x="1468" y="139"/>
                </a:lnTo>
                <a:lnTo>
                  <a:pt x="1511" y="130"/>
                </a:lnTo>
                <a:lnTo>
                  <a:pt x="1519" y="75"/>
                </a:lnTo>
                <a:lnTo>
                  <a:pt x="1540" y="57"/>
                </a:lnTo>
                <a:lnTo>
                  <a:pt x="1563" y="46"/>
                </a:lnTo>
                <a:lnTo>
                  <a:pt x="1588" y="41"/>
                </a:lnTo>
                <a:lnTo>
                  <a:pt x="1591" y="75"/>
                </a:lnTo>
                <a:lnTo>
                  <a:pt x="1580" y="91"/>
                </a:lnTo>
                <a:lnTo>
                  <a:pt x="1556" y="112"/>
                </a:lnTo>
                <a:lnTo>
                  <a:pt x="1676" y="1030"/>
                </a:lnTo>
                <a:lnTo>
                  <a:pt x="1803" y="1179"/>
                </a:lnTo>
                <a:lnTo>
                  <a:pt x="1861" y="1434"/>
                </a:lnTo>
                <a:lnTo>
                  <a:pt x="1610" y="1675"/>
                </a:lnTo>
                <a:lnTo>
                  <a:pt x="1209" y="1756"/>
                </a:lnTo>
                <a:lnTo>
                  <a:pt x="558" y="1453"/>
                </a:lnTo>
                <a:lnTo>
                  <a:pt x="447" y="1221"/>
                </a:lnTo>
                <a:lnTo>
                  <a:pt x="226" y="1127"/>
                </a:lnTo>
                <a:lnTo>
                  <a:pt x="346" y="851"/>
                </a:lnTo>
                <a:lnTo>
                  <a:pt x="346" y="85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Freeform 19"/>
          <p:cNvSpPr/>
          <p:nvPr/>
        </p:nvSpPr>
        <p:spPr>
          <a:xfrm>
            <a:off x="2025720" y="5518080"/>
            <a:ext cx="1865160" cy="1135080"/>
          </a:xfrm>
          <a:custGeom>
            <a:avLst/>
            <a:gdLst>
              <a:gd name="textAreaLeft" fmla="*/ 0 w 1865160"/>
              <a:gd name="textAreaRight" fmla="*/ 1865520 w 18651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855" h="673">
                <a:moveTo>
                  <a:pt x="0" y="223"/>
                </a:moveTo>
                <a:lnTo>
                  <a:pt x="321" y="69"/>
                </a:lnTo>
                <a:lnTo>
                  <a:pt x="393" y="0"/>
                </a:lnTo>
                <a:lnTo>
                  <a:pt x="855" y="246"/>
                </a:lnTo>
                <a:lnTo>
                  <a:pt x="849" y="271"/>
                </a:lnTo>
                <a:lnTo>
                  <a:pt x="837" y="295"/>
                </a:lnTo>
                <a:lnTo>
                  <a:pt x="828" y="315"/>
                </a:lnTo>
                <a:lnTo>
                  <a:pt x="793" y="316"/>
                </a:lnTo>
                <a:lnTo>
                  <a:pt x="787" y="325"/>
                </a:lnTo>
                <a:lnTo>
                  <a:pt x="777" y="345"/>
                </a:lnTo>
                <a:lnTo>
                  <a:pt x="760" y="359"/>
                </a:lnTo>
                <a:lnTo>
                  <a:pt x="745" y="375"/>
                </a:lnTo>
                <a:lnTo>
                  <a:pt x="743" y="383"/>
                </a:lnTo>
                <a:lnTo>
                  <a:pt x="723" y="390"/>
                </a:lnTo>
                <a:lnTo>
                  <a:pt x="691" y="410"/>
                </a:lnTo>
                <a:lnTo>
                  <a:pt x="680" y="427"/>
                </a:lnTo>
                <a:lnTo>
                  <a:pt x="654" y="437"/>
                </a:lnTo>
                <a:lnTo>
                  <a:pt x="651" y="462"/>
                </a:lnTo>
                <a:lnTo>
                  <a:pt x="643" y="474"/>
                </a:lnTo>
                <a:lnTo>
                  <a:pt x="625" y="478"/>
                </a:lnTo>
                <a:lnTo>
                  <a:pt x="598" y="496"/>
                </a:lnTo>
                <a:lnTo>
                  <a:pt x="601" y="527"/>
                </a:lnTo>
                <a:lnTo>
                  <a:pt x="578" y="535"/>
                </a:lnTo>
                <a:lnTo>
                  <a:pt x="560" y="550"/>
                </a:lnTo>
                <a:lnTo>
                  <a:pt x="554" y="569"/>
                </a:lnTo>
                <a:lnTo>
                  <a:pt x="551" y="586"/>
                </a:lnTo>
                <a:lnTo>
                  <a:pt x="537" y="592"/>
                </a:lnTo>
                <a:lnTo>
                  <a:pt x="514" y="586"/>
                </a:lnTo>
                <a:lnTo>
                  <a:pt x="511" y="596"/>
                </a:lnTo>
                <a:lnTo>
                  <a:pt x="529" y="606"/>
                </a:lnTo>
                <a:lnTo>
                  <a:pt x="532" y="631"/>
                </a:lnTo>
                <a:lnTo>
                  <a:pt x="544" y="639"/>
                </a:lnTo>
                <a:lnTo>
                  <a:pt x="544" y="653"/>
                </a:lnTo>
                <a:lnTo>
                  <a:pt x="554" y="665"/>
                </a:lnTo>
                <a:lnTo>
                  <a:pt x="544" y="673"/>
                </a:lnTo>
                <a:lnTo>
                  <a:pt x="514" y="666"/>
                </a:lnTo>
                <a:lnTo>
                  <a:pt x="470" y="648"/>
                </a:lnTo>
                <a:lnTo>
                  <a:pt x="458" y="641"/>
                </a:lnTo>
                <a:lnTo>
                  <a:pt x="451" y="626"/>
                </a:lnTo>
                <a:lnTo>
                  <a:pt x="460" y="605"/>
                </a:lnTo>
                <a:lnTo>
                  <a:pt x="460" y="594"/>
                </a:lnTo>
                <a:lnTo>
                  <a:pt x="435" y="587"/>
                </a:lnTo>
                <a:lnTo>
                  <a:pt x="427" y="568"/>
                </a:lnTo>
                <a:lnTo>
                  <a:pt x="390" y="569"/>
                </a:lnTo>
                <a:lnTo>
                  <a:pt x="367" y="577"/>
                </a:lnTo>
                <a:lnTo>
                  <a:pt x="327" y="584"/>
                </a:lnTo>
                <a:lnTo>
                  <a:pt x="293" y="594"/>
                </a:lnTo>
                <a:lnTo>
                  <a:pt x="266" y="590"/>
                </a:lnTo>
                <a:lnTo>
                  <a:pt x="250" y="596"/>
                </a:lnTo>
                <a:lnTo>
                  <a:pt x="220" y="602"/>
                </a:lnTo>
                <a:lnTo>
                  <a:pt x="169" y="482"/>
                </a:lnTo>
                <a:lnTo>
                  <a:pt x="166" y="454"/>
                </a:lnTo>
                <a:lnTo>
                  <a:pt x="122" y="452"/>
                </a:lnTo>
                <a:lnTo>
                  <a:pt x="81" y="440"/>
                </a:lnTo>
                <a:lnTo>
                  <a:pt x="64" y="383"/>
                </a:lnTo>
                <a:lnTo>
                  <a:pt x="64" y="362"/>
                </a:lnTo>
                <a:lnTo>
                  <a:pt x="84" y="356"/>
                </a:lnTo>
                <a:lnTo>
                  <a:pt x="87" y="292"/>
                </a:lnTo>
                <a:lnTo>
                  <a:pt x="70" y="242"/>
                </a:lnTo>
                <a:lnTo>
                  <a:pt x="52" y="244"/>
                </a:lnTo>
                <a:lnTo>
                  <a:pt x="34" y="252"/>
                </a:lnTo>
                <a:lnTo>
                  <a:pt x="20" y="258"/>
                </a:lnTo>
                <a:lnTo>
                  <a:pt x="0" y="223"/>
                </a:lnTo>
                <a:lnTo>
                  <a:pt x="0" y="22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Freeform 20"/>
          <p:cNvSpPr/>
          <p:nvPr/>
        </p:nvSpPr>
        <p:spPr>
          <a:xfrm>
            <a:off x="5681520" y="5408640"/>
            <a:ext cx="9720" cy="1440"/>
          </a:xfrm>
          <a:custGeom>
            <a:avLst/>
            <a:gdLst>
              <a:gd name="textAreaLeft" fmla="*/ 0 w 9720"/>
              <a:gd name="textAreaRight" fmla="*/ 10080 w 9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1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810000"/>
          </a:solidFill>
          <a:ln w="1872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Freeform 21"/>
          <p:cNvSpPr/>
          <p:nvPr/>
        </p:nvSpPr>
        <p:spPr>
          <a:xfrm>
            <a:off x="3152880" y="2793960"/>
            <a:ext cx="122040" cy="98640"/>
          </a:xfrm>
          <a:custGeom>
            <a:avLst/>
            <a:gdLst>
              <a:gd name="textAreaLeft" fmla="*/ 0 w 122040"/>
              <a:gd name="textAreaRight" fmla="*/ 122400 w 1220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69" h="69">
                <a:moveTo>
                  <a:pt x="34" y="0"/>
                </a:moveTo>
                <a:lnTo>
                  <a:pt x="39" y="5"/>
                </a:lnTo>
                <a:lnTo>
                  <a:pt x="47" y="2"/>
                </a:lnTo>
                <a:lnTo>
                  <a:pt x="50" y="10"/>
                </a:lnTo>
                <a:lnTo>
                  <a:pt x="58" y="10"/>
                </a:lnTo>
                <a:lnTo>
                  <a:pt x="58" y="19"/>
                </a:lnTo>
                <a:lnTo>
                  <a:pt x="66" y="22"/>
                </a:lnTo>
                <a:lnTo>
                  <a:pt x="63" y="29"/>
                </a:lnTo>
                <a:lnTo>
                  <a:pt x="68" y="34"/>
                </a:lnTo>
                <a:lnTo>
                  <a:pt x="62" y="40"/>
                </a:lnTo>
                <a:lnTo>
                  <a:pt x="66" y="47"/>
                </a:lnTo>
                <a:lnTo>
                  <a:pt x="58" y="50"/>
                </a:lnTo>
                <a:lnTo>
                  <a:pt x="58" y="58"/>
                </a:lnTo>
                <a:lnTo>
                  <a:pt x="50" y="58"/>
                </a:lnTo>
                <a:lnTo>
                  <a:pt x="46" y="67"/>
                </a:lnTo>
                <a:lnTo>
                  <a:pt x="39" y="62"/>
                </a:lnTo>
                <a:lnTo>
                  <a:pt x="34" y="68"/>
                </a:lnTo>
                <a:lnTo>
                  <a:pt x="28" y="62"/>
                </a:lnTo>
                <a:lnTo>
                  <a:pt x="20" y="65"/>
                </a:lnTo>
                <a:lnTo>
                  <a:pt x="18" y="57"/>
                </a:lnTo>
                <a:lnTo>
                  <a:pt x="9" y="57"/>
                </a:lnTo>
                <a:lnTo>
                  <a:pt x="9" y="50"/>
                </a:lnTo>
                <a:lnTo>
                  <a:pt x="2" y="47"/>
                </a:lnTo>
                <a:lnTo>
                  <a:pt x="6" y="39"/>
                </a:lnTo>
                <a:lnTo>
                  <a:pt x="0" y="34"/>
                </a:lnTo>
                <a:lnTo>
                  <a:pt x="6" y="28"/>
                </a:lnTo>
                <a:lnTo>
                  <a:pt x="2" y="21"/>
                </a:lnTo>
                <a:lnTo>
                  <a:pt x="9" y="19"/>
                </a:lnTo>
                <a:lnTo>
                  <a:pt x="9" y="10"/>
                </a:lnTo>
                <a:lnTo>
                  <a:pt x="18" y="10"/>
                </a:lnTo>
                <a:lnTo>
                  <a:pt x="21" y="1"/>
                </a:lnTo>
                <a:lnTo>
                  <a:pt x="28" y="5"/>
                </a:lnTo>
                <a:lnTo>
                  <a:pt x="34" y="0"/>
                </a:lnTo>
                <a:lnTo>
                  <a:pt x="34" y="0"/>
                </a:lnTo>
              </a:path>
            </a:pathLst>
          </a:custGeom>
          <a:solidFill>
            <a:srgbClr val="ffffff"/>
          </a:solidFill>
          <a:ln w="18720">
            <a:solidFill>
              <a:srgbClr val="e1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Freeform 22"/>
          <p:cNvSpPr/>
          <p:nvPr/>
        </p:nvSpPr>
        <p:spPr>
          <a:xfrm>
            <a:off x="3174840" y="2814480"/>
            <a:ext cx="78120" cy="44640"/>
          </a:xfrm>
          <a:custGeom>
            <a:avLst/>
            <a:gdLst>
              <a:gd name="textAreaLeft" fmla="*/ 0 w 78120"/>
              <a:gd name="textAreaRight" fmla="*/ 78480 w 781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3" h="31">
                <a:moveTo>
                  <a:pt x="0" y="30"/>
                </a:moveTo>
                <a:lnTo>
                  <a:pt x="21" y="0"/>
                </a:lnTo>
                <a:lnTo>
                  <a:pt x="42" y="30"/>
                </a:lnTo>
                <a:lnTo>
                  <a:pt x="0" y="30"/>
                </a:lnTo>
                <a:lnTo>
                  <a:pt x="0" y="30"/>
                </a:lnTo>
              </a:path>
            </a:pathLst>
          </a:custGeom>
          <a:solidFill>
            <a:srgbClr val="000000"/>
          </a:solidFill>
          <a:ln w="9360">
            <a:solidFill>
              <a:srgbClr val="e1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3" name="Group 23"/>
          <p:cNvGrpSpPr/>
          <p:nvPr/>
        </p:nvGrpSpPr>
        <p:grpSpPr>
          <a:xfrm>
            <a:off x="3395520" y="6378480"/>
            <a:ext cx="117360" cy="91800"/>
            <a:chOff x="3395520" y="6378480"/>
            <a:chExt cx="117360" cy="91800"/>
          </a:xfrm>
        </p:grpSpPr>
        <p:sp>
          <p:nvSpPr>
            <p:cNvPr id="824" name="Freeform 24"/>
            <p:cNvSpPr/>
            <p:nvPr/>
          </p:nvSpPr>
          <p:spPr>
            <a:xfrm>
              <a:off x="3395520" y="6378480"/>
              <a:ext cx="117360" cy="91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6" y="11"/>
                  </a:lnTo>
                  <a:lnTo>
                    <a:pt x="54" y="11"/>
                  </a:lnTo>
                  <a:lnTo>
                    <a:pt x="54" y="18"/>
                  </a:lnTo>
                  <a:lnTo>
                    <a:pt x="61" y="21"/>
                  </a:lnTo>
                  <a:lnTo>
                    <a:pt x="59" y="28"/>
                  </a:lnTo>
                  <a:lnTo>
                    <a:pt x="64" y="33"/>
                  </a:lnTo>
                  <a:lnTo>
                    <a:pt x="57" y="39"/>
                  </a:lnTo>
                  <a:lnTo>
                    <a:pt x="61" y="46"/>
                  </a:lnTo>
                  <a:lnTo>
                    <a:pt x="54" y="48"/>
                  </a:lnTo>
                  <a:lnTo>
                    <a:pt x="54" y="57"/>
                  </a:lnTo>
                  <a:lnTo>
                    <a:pt x="46" y="55"/>
                  </a:lnTo>
                  <a:lnTo>
                    <a:pt x="43" y="64"/>
                  </a:lnTo>
                  <a:lnTo>
                    <a:pt x="36" y="60"/>
                  </a:lnTo>
                  <a:lnTo>
                    <a:pt x="30" y="64"/>
                  </a:lnTo>
                  <a:lnTo>
                    <a:pt x="27" y="61"/>
                  </a:lnTo>
                  <a:lnTo>
                    <a:pt x="19" y="62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8" y="48"/>
                  </a:lnTo>
                  <a:lnTo>
                    <a:pt x="2" y="46"/>
                  </a:lnTo>
                  <a:lnTo>
                    <a:pt x="5" y="37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0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19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25"/>
            <p:cNvSpPr/>
            <p:nvPr/>
          </p:nvSpPr>
          <p:spPr>
            <a:xfrm>
              <a:off x="3427920" y="6403680"/>
              <a:ext cx="52200" cy="42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9" h="30">
                  <a:moveTo>
                    <a:pt x="9" y="0"/>
                  </a:moveTo>
                  <a:lnTo>
                    <a:pt x="19" y="0"/>
                  </a:lnTo>
                  <a:lnTo>
                    <a:pt x="28" y="10"/>
                  </a:lnTo>
                  <a:lnTo>
                    <a:pt x="28" y="21"/>
                  </a:lnTo>
                  <a:lnTo>
                    <a:pt x="19" y="29"/>
                  </a:lnTo>
                  <a:lnTo>
                    <a:pt x="9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Text Box 26"/>
          <p:cNvSpPr/>
          <p:nvPr/>
        </p:nvSpPr>
        <p:spPr>
          <a:xfrm>
            <a:off x="252360" y="5927760"/>
            <a:ext cx="7333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27"/>
          <p:cNvSpPr/>
          <p:nvPr/>
        </p:nvSpPr>
        <p:spPr>
          <a:xfrm>
            <a:off x="357120" y="5904000"/>
            <a:ext cx="1647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I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28"/>
          <p:cNvSpPr/>
          <p:nvPr/>
        </p:nvSpPr>
        <p:spPr>
          <a:xfrm>
            <a:off x="4905360" y="4960800"/>
            <a:ext cx="1282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lma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29"/>
          <p:cNvSpPr/>
          <p:nvPr/>
        </p:nvSpPr>
        <p:spPr>
          <a:xfrm>
            <a:off x="6886440" y="4564080"/>
            <a:ext cx="106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UL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30"/>
          <p:cNvSpPr/>
          <p:nvPr/>
        </p:nvSpPr>
        <p:spPr>
          <a:xfrm>
            <a:off x="3579840" y="6308640"/>
            <a:ext cx="1549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ashk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31"/>
          <p:cNvSpPr/>
          <p:nvPr/>
        </p:nvSpPr>
        <p:spPr>
          <a:xfrm>
            <a:off x="168120" y="1747800"/>
            <a:ext cx="836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32"/>
          <p:cNvSpPr/>
          <p:nvPr/>
        </p:nvSpPr>
        <p:spPr>
          <a:xfrm>
            <a:off x="3290760" y="2583000"/>
            <a:ext cx="11271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t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3711600" y="5703840"/>
            <a:ext cx="809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D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35"/>
          <p:cNvSpPr/>
          <p:nvPr/>
        </p:nvSpPr>
        <p:spPr>
          <a:xfrm>
            <a:off x="3751200" y="6094440"/>
            <a:ext cx="1647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D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36"/>
          <p:cNvSpPr/>
          <p:nvPr/>
        </p:nvSpPr>
        <p:spPr>
          <a:xfrm>
            <a:off x="7147080" y="3602160"/>
            <a:ext cx="8096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R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7"/>
          <p:cNvSpPr/>
          <p:nvPr/>
        </p:nvSpPr>
        <p:spPr>
          <a:xfrm>
            <a:off x="4968720" y="3467160"/>
            <a:ext cx="1282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Аягу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38"/>
          <p:cNvSpPr/>
          <p:nvPr/>
        </p:nvSpPr>
        <p:spPr>
          <a:xfrm>
            <a:off x="1195560" y="6066000"/>
            <a:ext cx="94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39"/>
          <p:cNvGrpSpPr/>
          <p:nvPr/>
        </p:nvGrpSpPr>
        <p:grpSpPr>
          <a:xfrm>
            <a:off x="4863960" y="5580000"/>
            <a:ext cx="117360" cy="91800"/>
            <a:chOff x="4863960" y="5580000"/>
            <a:chExt cx="117360" cy="91800"/>
          </a:xfrm>
        </p:grpSpPr>
        <p:sp>
          <p:nvSpPr>
            <p:cNvPr id="839" name="Freeform 40"/>
            <p:cNvSpPr/>
            <p:nvPr/>
          </p:nvSpPr>
          <p:spPr>
            <a:xfrm>
              <a:off x="4863960" y="5580000"/>
              <a:ext cx="117360" cy="91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62" y="21"/>
                  </a:lnTo>
                  <a:lnTo>
                    <a:pt x="58" y="28"/>
                  </a:lnTo>
                  <a:lnTo>
                    <a:pt x="64" y="33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55" y="49"/>
                  </a:lnTo>
                  <a:lnTo>
                    <a:pt x="55" y="57"/>
                  </a:lnTo>
                  <a:lnTo>
                    <a:pt x="47" y="56"/>
                  </a:lnTo>
                  <a:lnTo>
                    <a:pt x="44" y="63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7" y="61"/>
                  </a:lnTo>
                  <a:lnTo>
                    <a:pt x="19" y="63"/>
                  </a:lnTo>
                  <a:lnTo>
                    <a:pt x="16" y="55"/>
                  </a:lnTo>
                  <a:lnTo>
                    <a:pt x="8" y="56"/>
                  </a:lnTo>
                  <a:lnTo>
                    <a:pt x="8" y="49"/>
                  </a:lnTo>
                  <a:lnTo>
                    <a:pt x="2" y="46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41"/>
            <p:cNvSpPr/>
            <p:nvPr/>
          </p:nvSpPr>
          <p:spPr>
            <a:xfrm>
              <a:off x="4896360" y="5606640"/>
              <a:ext cx="54000" cy="41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0" h="29">
                  <a:moveTo>
                    <a:pt x="9" y="0"/>
                  </a:moveTo>
                  <a:lnTo>
                    <a:pt x="19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1" name="Group 43"/>
          <p:cNvGrpSpPr/>
          <p:nvPr/>
        </p:nvGrpSpPr>
        <p:grpSpPr>
          <a:xfrm>
            <a:off x="5911920" y="3716280"/>
            <a:ext cx="117000" cy="93240"/>
            <a:chOff x="5911920" y="3716280"/>
            <a:chExt cx="117000" cy="93240"/>
          </a:xfrm>
        </p:grpSpPr>
        <p:sp>
          <p:nvSpPr>
            <p:cNvPr id="842" name="Freeform 44"/>
            <p:cNvSpPr/>
            <p:nvPr/>
          </p:nvSpPr>
          <p:spPr>
            <a:xfrm>
              <a:off x="5911920" y="3716280"/>
              <a:ext cx="117000" cy="932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62" y="21"/>
                  </a:lnTo>
                  <a:lnTo>
                    <a:pt x="58" y="28"/>
                  </a:lnTo>
                  <a:lnTo>
                    <a:pt x="64" y="33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55" y="49"/>
                  </a:lnTo>
                  <a:lnTo>
                    <a:pt x="55" y="57"/>
                  </a:lnTo>
                  <a:lnTo>
                    <a:pt x="47" y="56"/>
                  </a:lnTo>
                  <a:lnTo>
                    <a:pt x="44" y="63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7" y="61"/>
                  </a:lnTo>
                  <a:lnTo>
                    <a:pt x="19" y="63"/>
                  </a:lnTo>
                  <a:lnTo>
                    <a:pt x="16" y="55"/>
                  </a:lnTo>
                  <a:lnTo>
                    <a:pt x="8" y="56"/>
                  </a:lnTo>
                  <a:lnTo>
                    <a:pt x="8" y="49"/>
                  </a:lnTo>
                  <a:lnTo>
                    <a:pt x="2" y="46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45"/>
            <p:cNvSpPr/>
            <p:nvPr/>
          </p:nvSpPr>
          <p:spPr>
            <a:xfrm>
              <a:off x="5944320" y="3743280"/>
              <a:ext cx="54000" cy="42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2120"/>
                <a:gd name="textAreaBottom" fmla="*/ 42120 h 42120"/>
              </a:gdLst>
              <a:ahLst/>
              <a:rect l="textAreaLeft" t="textAreaTop" r="textAreaRight" b="textAreaBottom"/>
              <a:pathLst>
                <a:path w="30" h="29">
                  <a:moveTo>
                    <a:pt x="9" y="0"/>
                  </a:moveTo>
                  <a:lnTo>
                    <a:pt x="19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Group 46"/>
          <p:cNvGrpSpPr/>
          <p:nvPr/>
        </p:nvGrpSpPr>
        <p:grpSpPr>
          <a:xfrm>
            <a:off x="5816520" y="5243400"/>
            <a:ext cx="117360" cy="91800"/>
            <a:chOff x="5816520" y="5243400"/>
            <a:chExt cx="117360" cy="91800"/>
          </a:xfrm>
        </p:grpSpPr>
        <p:sp>
          <p:nvSpPr>
            <p:cNvPr id="845" name="Freeform 47"/>
            <p:cNvSpPr/>
            <p:nvPr/>
          </p:nvSpPr>
          <p:spPr>
            <a:xfrm>
              <a:off x="5816520" y="5243400"/>
              <a:ext cx="117360" cy="91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62" y="21"/>
                  </a:lnTo>
                  <a:lnTo>
                    <a:pt x="58" y="28"/>
                  </a:lnTo>
                  <a:lnTo>
                    <a:pt x="64" y="33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55" y="49"/>
                  </a:lnTo>
                  <a:lnTo>
                    <a:pt x="55" y="57"/>
                  </a:lnTo>
                  <a:lnTo>
                    <a:pt x="47" y="56"/>
                  </a:lnTo>
                  <a:lnTo>
                    <a:pt x="44" y="63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7" y="61"/>
                  </a:lnTo>
                  <a:lnTo>
                    <a:pt x="19" y="63"/>
                  </a:lnTo>
                  <a:lnTo>
                    <a:pt x="16" y="55"/>
                  </a:lnTo>
                  <a:lnTo>
                    <a:pt x="8" y="56"/>
                  </a:lnTo>
                  <a:lnTo>
                    <a:pt x="8" y="49"/>
                  </a:lnTo>
                  <a:lnTo>
                    <a:pt x="2" y="46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48"/>
            <p:cNvSpPr/>
            <p:nvPr/>
          </p:nvSpPr>
          <p:spPr>
            <a:xfrm>
              <a:off x="5848920" y="5270040"/>
              <a:ext cx="54000" cy="41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0" h="29">
                  <a:moveTo>
                    <a:pt x="9" y="0"/>
                  </a:moveTo>
                  <a:lnTo>
                    <a:pt x="19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" name="Text Box 49"/>
          <p:cNvSpPr/>
          <p:nvPr/>
        </p:nvSpPr>
        <p:spPr>
          <a:xfrm>
            <a:off x="1339920" y="6216480"/>
            <a:ext cx="792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R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50"/>
          <p:cNvSpPr/>
          <p:nvPr/>
        </p:nvSpPr>
        <p:spPr>
          <a:xfrm>
            <a:off x="1835280" y="6599160"/>
            <a:ext cx="792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L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51"/>
          <p:cNvSpPr/>
          <p:nvPr/>
        </p:nvSpPr>
        <p:spPr>
          <a:xfrm>
            <a:off x="2131920" y="1197000"/>
            <a:ext cx="792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B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52"/>
          <p:cNvSpPr/>
          <p:nvPr/>
        </p:nvSpPr>
        <p:spPr>
          <a:xfrm>
            <a:off x="3517920" y="1273320"/>
            <a:ext cx="792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K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53"/>
          <p:cNvSpPr/>
          <p:nvPr/>
        </p:nvSpPr>
        <p:spPr>
          <a:xfrm>
            <a:off x="212760" y="2590920"/>
            <a:ext cx="792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T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54"/>
          <p:cNvSpPr/>
          <p:nvPr/>
        </p:nvSpPr>
        <p:spPr>
          <a:xfrm>
            <a:off x="1835280" y="3798720"/>
            <a:ext cx="16761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Zhezkaz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55"/>
          <p:cNvSpPr/>
          <p:nvPr/>
        </p:nvSpPr>
        <p:spPr>
          <a:xfrm>
            <a:off x="6718320" y="5197320"/>
            <a:ext cx="266760" cy="130320"/>
          </a:xfrm>
          <a:prstGeom prst="triangle">
            <a:avLst>
              <a:gd name="adj" fmla="val 50000"/>
            </a:avLst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56"/>
          <p:cNvSpPr/>
          <p:nvPr/>
        </p:nvSpPr>
        <p:spPr>
          <a:xfrm>
            <a:off x="6659640" y="5300640"/>
            <a:ext cx="106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V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Group 57"/>
          <p:cNvGrpSpPr/>
          <p:nvPr/>
        </p:nvGrpSpPr>
        <p:grpSpPr>
          <a:xfrm>
            <a:off x="6804000" y="5302080"/>
            <a:ext cx="288720" cy="287280"/>
            <a:chOff x="6804000" y="5302080"/>
            <a:chExt cx="288720" cy="287280"/>
          </a:xfrm>
        </p:grpSpPr>
        <p:sp>
          <p:nvSpPr>
            <p:cNvPr id="856" name="Line 58"/>
            <p:cNvSpPr/>
            <p:nvPr/>
          </p:nvSpPr>
          <p:spPr>
            <a:xfrm>
              <a:off x="6804000" y="5302080"/>
              <a:ext cx="28872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59"/>
            <p:cNvSpPr/>
            <p:nvPr/>
          </p:nvSpPr>
          <p:spPr>
            <a:xfrm flipV="1">
              <a:off x="6804000" y="5302080"/>
              <a:ext cx="288720" cy="287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8" name="Line 60"/>
          <p:cNvSpPr/>
          <p:nvPr/>
        </p:nvSpPr>
        <p:spPr>
          <a:xfrm flipH="1" flipV="1">
            <a:off x="6946920" y="5014440"/>
            <a:ext cx="649440" cy="43020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Freeform 61"/>
          <p:cNvSpPr/>
          <p:nvPr/>
        </p:nvSpPr>
        <p:spPr>
          <a:xfrm>
            <a:off x="900000" y="1741320"/>
            <a:ext cx="6624720" cy="348804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3488040"/>
              <a:gd name="textAreaBottom" fmla="*/ 3488400 h 3488040"/>
            </a:gdLst>
            <a:ahLst/>
            <a:rect l="textAreaLeft" t="textAreaTop" r="textAreaRight" b="textAreaBottom"/>
            <a:pathLst>
              <a:path w="497" h="20">
                <a:moveTo>
                  <a:pt x="0" y="0"/>
                </a:moveTo>
                <a:lnTo>
                  <a:pt x="497" y="20"/>
                </a:lnTo>
              </a:path>
            </a:pathLst>
          </a:custGeom>
          <a:noFill/>
          <a:ln w="7632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AutoShape 62"/>
          <p:cNvSpPr/>
          <p:nvPr/>
        </p:nvSpPr>
        <p:spPr>
          <a:xfrm>
            <a:off x="6688080" y="4815000"/>
            <a:ext cx="266760" cy="129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Group 63"/>
          <p:cNvGrpSpPr/>
          <p:nvPr/>
        </p:nvGrpSpPr>
        <p:grpSpPr>
          <a:xfrm>
            <a:off x="8991720" y="4487760"/>
            <a:ext cx="117000" cy="93240"/>
            <a:chOff x="8991720" y="4487760"/>
            <a:chExt cx="117000" cy="93240"/>
          </a:xfrm>
        </p:grpSpPr>
        <p:sp>
          <p:nvSpPr>
            <p:cNvPr id="862" name="Freeform 64"/>
            <p:cNvSpPr/>
            <p:nvPr/>
          </p:nvSpPr>
          <p:spPr>
            <a:xfrm>
              <a:off x="8991720" y="4487760"/>
              <a:ext cx="117000" cy="932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5" h="65">
                  <a:moveTo>
                    <a:pt x="31" y="0"/>
                  </a:moveTo>
                  <a:lnTo>
                    <a:pt x="37" y="6"/>
                  </a:lnTo>
                  <a:lnTo>
                    <a:pt x="44" y="3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62" y="21"/>
                  </a:lnTo>
                  <a:lnTo>
                    <a:pt x="58" y="28"/>
                  </a:lnTo>
                  <a:lnTo>
                    <a:pt x="64" y="33"/>
                  </a:lnTo>
                  <a:lnTo>
                    <a:pt x="58" y="38"/>
                  </a:lnTo>
                  <a:lnTo>
                    <a:pt x="62" y="46"/>
                  </a:lnTo>
                  <a:lnTo>
                    <a:pt x="55" y="49"/>
                  </a:lnTo>
                  <a:lnTo>
                    <a:pt x="55" y="57"/>
                  </a:lnTo>
                  <a:lnTo>
                    <a:pt x="47" y="56"/>
                  </a:lnTo>
                  <a:lnTo>
                    <a:pt x="44" y="63"/>
                  </a:lnTo>
                  <a:lnTo>
                    <a:pt x="36" y="61"/>
                  </a:lnTo>
                  <a:lnTo>
                    <a:pt x="31" y="64"/>
                  </a:lnTo>
                  <a:lnTo>
                    <a:pt x="27" y="61"/>
                  </a:lnTo>
                  <a:lnTo>
                    <a:pt x="19" y="63"/>
                  </a:lnTo>
                  <a:lnTo>
                    <a:pt x="16" y="55"/>
                  </a:lnTo>
                  <a:lnTo>
                    <a:pt x="8" y="56"/>
                  </a:lnTo>
                  <a:lnTo>
                    <a:pt x="8" y="49"/>
                  </a:lnTo>
                  <a:lnTo>
                    <a:pt x="2" y="46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11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65"/>
            <p:cNvSpPr/>
            <p:nvPr/>
          </p:nvSpPr>
          <p:spPr>
            <a:xfrm>
              <a:off x="9024120" y="4514760"/>
              <a:ext cx="54000" cy="42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2120"/>
                <a:gd name="textAreaBottom" fmla="*/ 42120 h 42120"/>
              </a:gdLst>
              <a:ahLst/>
              <a:rect l="textAreaLeft" t="textAreaTop" r="textAreaRight" b="textAreaBottom"/>
              <a:pathLst>
                <a:path w="30" h="29">
                  <a:moveTo>
                    <a:pt x="9" y="0"/>
                  </a:moveTo>
                  <a:lnTo>
                    <a:pt x="19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4" name="Text Box 66"/>
          <p:cNvSpPr/>
          <p:nvPr/>
        </p:nvSpPr>
        <p:spPr>
          <a:xfrm>
            <a:off x="8388360" y="4249800"/>
            <a:ext cx="8096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rumq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0" y="5808600"/>
            <a:ext cx="45846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ducing the length of ATS route Almaty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rumqi to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102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km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owering of minimum safe altitude to FL160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nstead of  FL260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ULAD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aving of flight time in average of 10 minutes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crease of fuel consumption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C77-A8C4-4BAE-B2B5-536BCD1D41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892080" y="3222720"/>
            <a:ext cx="1800" cy="1440"/>
          </a:xfrm>
          <a:prstGeom prst="rect">
            <a:avLst/>
          </a:prstGeom>
          <a:solidFill>
            <a:srgbClr val="c4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9360" y="0"/>
            <a:ext cx="54802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800600" y="3451320"/>
            <a:ext cx="38160" cy="54000"/>
            <a:chOff x="4800600" y="3451320"/>
            <a:chExt cx="38160" cy="54000"/>
          </a:xfrm>
        </p:grpSpPr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4800600" y="3451320"/>
              <a:ext cx="381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800600" y="3451320"/>
              <a:ext cx="34920" cy="5076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32"/>
                  </a:moveTo>
                  <a:lnTo>
                    <a:pt x="12" y="3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8"/>
                  </a:lnTo>
                  <a:lnTo>
                    <a:pt x="12" y="32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3451320"/>
              <a:ext cx="34920" cy="5076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32"/>
                  </a:moveTo>
                  <a:lnTo>
                    <a:pt x="12" y="3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8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2" name="" descr=""/>
            <p:cNvPicPr/>
            <p:nvPr/>
          </p:nvPicPr>
          <p:blipFill>
            <a:blip r:embed="rId3"/>
            <a:stretch/>
          </p:blipFill>
          <p:spPr>
            <a:xfrm>
              <a:off x="4800600" y="3451320"/>
              <a:ext cx="38160" cy="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3" name=""/>
          <p:cNvGrpSpPr/>
          <p:nvPr/>
        </p:nvGrpSpPr>
        <p:grpSpPr>
          <a:xfrm>
            <a:off x="5187960" y="3832200"/>
            <a:ext cx="57240" cy="73080"/>
            <a:chOff x="5187960" y="3832200"/>
            <a:chExt cx="57240" cy="73080"/>
          </a:xfrm>
        </p:grpSpPr>
        <p:pic>
          <p:nvPicPr>
            <p:cNvPr id="874" name="" descr=""/>
            <p:cNvPicPr/>
            <p:nvPr/>
          </p:nvPicPr>
          <p:blipFill>
            <a:blip r:embed="rId4"/>
            <a:stretch/>
          </p:blipFill>
          <p:spPr>
            <a:xfrm>
              <a:off x="5187960" y="3832200"/>
              <a:ext cx="5724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5187960" y="383220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0" y="44"/>
                  </a:moveTo>
                  <a:lnTo>
                    <a:pt x="12" y="18"/>
                  </a:lnTo>
                  <a:lnTo>
                    <a:pt x="28" y="16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10" y="44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87960" y="383220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0" y="44"/>
                  </a:moveTo>
                  <a:lnTo>
                    <a:pt x="12" y="18"/>
                  </a:lnTo>
                  <a:lnTo>
                    <a:pt x="28" y="16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7" name="" descr=""/>
            <p:cNvPicPr/>
            <p:nvPr/>
          </p:nvPicPr>
          <p:blipFill>
            <a:blip r:embed="rId5"/>
            <a:stretch/>
          </p:blipFill>
          <p:spPr>
            <a:xfrm>
              <a:off x="5187960" y="3832200"/>
              <a:ext cx="57240" cy="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8" name=""/>
          <p:cNvGrpSpPr/>
          <p:nvPr/>
        </p:nvGrpSpPr>
        <p:grpSpPr>
          <a:xfrm>
            <a:off x="2631960" y="2413080"/>
            <a:ext cx="152640" cy="79200"/>
            <a:chOff x="2631960" y="2413080"/>
            <a:chExt cx="152640" cy="79200"/>
          </a:xfrm>
        </p:grpSpPr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2631960" y="2413080"/>
              <a:ext cx="9864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7"/>
            <a:stretch/>
          </p:blipFill>
          <p:spPr>
            <a:xfrm>
              <a:off x="2730600" y="2413080"/>
              <a:ext cx="5400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"/>
            <p:cNvSpPr/>
            <p:nvPr/>
          </p:nvSpPr>
          <p:spPr>
            <a:xfrm>
              <a:off x="2631960" y="2413080"/>
              <a:ext cx="149400" cy="75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64" y="18"/>
                  </a:moveTo>
                  <a:lnTo>
                    <a:pt x="48" y="32"/>
                  </a:lnTo>
                  <a:lnTo>
                    <a:pt x="0" y="48"/>
                  </a:lnTo>
                  <a:lnTo>
                    <a:pt x="52" y="0"/>
                  </a:lnTo>
                  <a:lnTo>
                    <a:pt x="64" y="14"/>
                  </a:lnTo>
                  <a:lnTo>
                    <a:pt x="72" y="6"/>
                  </a:lnTo>
                  <a:lnTo>
                    <a:pt x="92" y="20"/>
                  </a:lnTo>
                  <a:lnTo>
                    <a:pt x="94" y="32"/>
                  </a:lnTo>
                  <a:lnTo>
                    <a:pt x="86" y="24"/>
                  </a:lnTo>
                  <a:lnTo>
                    <a:pt x="78" y="34"/>
                  </a:lnTo>
                  <a:lnTo>
                    <a:pt x="64" y="18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31960" y="2413080"/>
              <a:ext cx="149400" cy="75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64" y="18"/>
                  </a:moveTo>
                  <a:lnTo>
                    <a:pt x="48" y="32"/>
                  </a:lnTo>
                  <a:lnTo>
                    <a:pt x="0" y="48"/>
                  </a:lnTo>
                  <a:lnTo>
                    <a:pt x="52" y="0"/>
                  </a:lnTo>
                  <a:lnTo>
                    <a:pt x="64" y="14"/>
                  </a:lnTo>
                  <a:lnTo>
                    <a:pt x="72" y="6"/>
                  </a:lnTo>
                  <a:lnTo>
                    <a:pt x="92" y="20"/>
                  </a:lnTo>
                  <a:lnTo>
                    <a:pt x="94" y="32"/>
                  </a:lnTo>
                  <a:lnTo>
                    <a:pt x="86" y="24"/>
                  </a:lnTo>
                  <a:lnTo>
                    <a:pt x="78" y="34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8"/>
            <a:stretch/>
          </p:blipFill>
          <p:spPr>
            <a:xfrm>
              <a:off x="2631960" y="2413080"/>
              <a:ext cx="9864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9"/>
            <a:stretch/>
          </p:blipFill>
          <p:spPr>
            <a:xfrm>
              <a:off x="2730600" y="2413080"/>
              <a:ext cx="54000" cy="7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5" name=""/>
          <p:cNvGrpSpPr/>
          <p:nvPr/>
        </p:nvGrpSpPr>
        <p:grpSpPr>
          <a:xfrm>
            <a:off x="2720880" y="2505240"/>
            <a:ext cx="168480" cy="152280"/>
            <a:chOff x="2720880" y="2505240"/>
            <a:chExt cx="168480" cy="152280"/>
          </a:xfrm>
        </p:grpSpPr>
        <p:pic>
          <p:nvPicPr>
            <p:cNvPr id="886" name="" descr=""/>
            <p:cNvPicPr/>
            <p:nvPr/>
          </p:nvPicPr>
          <p:blipFill>
            <a:blip r:embed="rId10"/>
            <a:stretch/>
          </p:blipFill>
          <p:spPr>
            <a:xfrm>
              <a:off x="2720880" y="2505240"/>
              <a:ext cx="98640" cy="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11"/>
            <a:stretch/>
          </p:blipFill>
          <p:spPr>
            <a:xfrm>
              <a:off x="2819520" y="2505240"/>
              <a:ext cx="69840" cy="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12"/>
            <a:stretch/>
          </p:blipFill>
          <p:spPr>
            <a:xfrm>
              <a:off x="2720880" y="2603520"/>
              <a:ext cx="98640" cy="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13"/>
            <a:stretch/>
          </p:blipFill>
          <p:spPr>
            <a:xfrm>
              <a:off x="2819520" y="2603520"/>
              <a:ext cx="69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2720880" y="2505240"/>
              <a:ext cx="165240" cy="14904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0" y="36"/>
                  </a:moveTo>
                  <a:lnTo>
                    <a:pt x="14" y="76"/>
                  </a:lnTo>
                  <a:lnTo>
                    <a:pt x="12" y="84"/>
                  </a:lnTo>
                  <a:lnTo>
                    <a:pt x="12" y="92"/>
                  </a:lnTo>
                  <a:lnTo>
                    <a:pt x="2" y="94"/>
                  </a:lnTo>
                  <a:lnTo>
                    <a:pt x="0" y="64"/>
                  </a:lnTo>
                  <a:lnTo>
                    <a:pt x="16" y="14"/>
                  </a:lnTo>
                  <a:lnTo>
                    <a:pt x="44" y="0"/>
                  </a:lnTo>
                  <a:lnTo>
                    <a:pt x="90" y="12"/>
                  </a:lnTo>
                  <a:lnTo>
                    <a:pt x="104" y="32"/>
                  </a:lnTo>
                  <a:lnTo>
                    <a:pt x="58" y="18"/>
                  </a:lnTo>
                  <a:lnTo>
                    <a:pt x="52" y="22"/>
                  </a:lnTo>
                  <a:lnTo>
                    <a:pt x="36" y="16"/>
                  </a:lnTo>
                  <a:lnTo>
                    <a:pt x="20" y="36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20880" y="2505240"/>
              <a:ext cx="165240" cy="14904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0" y="36"/>
                  </a:moveTo>
                  <a:lnTo>
                    <a:pt x="14" y="76"/>
                  </a:lnTo>
                  <a:lnTo>
                    <a:pt x="12" y="84"/>
                  </a:lnTo>
                  <a:lnTo>
                    <a:pt x="12" y="92"/>
                  </a:lnTo>
                  <a:lnTo>
                    <a:pt x="2" y="94"/>
                  </a:lnTo>
                  <a:lnTo>
                    <a:pt x="0" y="64"/>
                  </a:lnTo>
                  <a:lnTo>
                    <a:pt x="16" y="14"/>
                  </a:lnTo>
                  <a:lnTo>
                    <a:pt x="44" y="0"/>
                  </a:lnTo>
                  <a:lnTo>
                    <a:pt x="90" y="12"/>
                  </a:lnTo>
                  <a:lnTo>
                    <a:pt x="104" y="32"/>
                  </a:lnTo>
                  <a:lnTo>
                    <a:pt x="58" y="18"/>
                  </a:lnTo>
                  <a:lnTo>
                    <a:pt x="52" y="22"/>
                  </a:lnTo>
                  <a:lnTo>
                    <a:pt x="36" y="16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2" name="" descr=""/>
            <p:cNvPicPr/>
            <p:nvPr/>
          </p:nvPicPr>
          <p:blipFill>
            <a:blip r:embed="rId14"/>
            <a:stretch/>
          </p:blipFill>
          <p:spPr>
            <a:xfrm>
              <a:off x="2720880" y="2505240"/>
              <a:ext cx="98640" cy="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" descr=""/>
            <p:cNvPicPr/>
            <p:nvPr/>
          </p:nvPicPr>
          <p:blipFill>
            <a:blip r:embed="rId15"/>
            <a:stretch/>
          </p:blipFill>
          <p:spPr>
            <a:xfrm>
              <a:off x="2819520" y="2505240"/>
              <a:ext cx="69840" cy="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" descr=""/>
            <p:cNvPicPr/>
            <p:nvPr/>
          </p:nvPicPr>
          <p:blipFill>
            <a:blip r:embed="rId16"/>
            <a:stretch/>
          </p:blipFill>
          <p:spPr>
            <a:xfrm>
              <a:off x="2720880" y="2603520"/>
              <a:ext cx="98640" cy="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17"/>
            <a:stretch/>
          </p:blipFill>
          <p:spPr>
            <a:xfrm>
              <a:off x="2819520" y="2603520"/>
              <a:ext cx="69840" cy="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6" name=""/>
          <p:cNvGrpSpPr/>
          <p:nvPr/>
        </p:nvGrpSpPr>
        <p:grpSpPr>
          <a:xfrm>
            <a:off x="2800440" y="2562120"/>
            <a:ext cx="47520" cy="44640"/>
            <a:chOff x="2800440" y="2562120"/>
            <a:chExt cx="47520" cy="44640"/>
          </a:xfrm>
        </p:grpSpPr>
        <p:pic>
          <p:nvPicPr>
            <p:cNvPr id="897" name="" descr=""/>
            <p:cNvPicPr/>
            <p:nvPr/>
          </p:nvPicPr>
          <p:blipFill>
            <a:blip r:embed="rId18"/>
            <a:stretch/>
          </p:blipFill>
          <p:spPr>
            <a:xfrm>
              <a:off x="2800440" y="2562120"/>
              <a:ext cx="47520" cy="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2800440" y="2562120"/>
              <a:ext cx="44280" cy="414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4" y="0"/>
                  </a:moveTo>
                  <a:lnTo>
                    <a:pt x="0" y="18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20" y="6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800440" y="2562120"/>
              <a:ext cx="44280" cy="414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4" y="0"/>
                  </a:moveTo>
                  <a:lnTo>
                    <a:pt x="0" y="18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2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0" name="" descr=""/>
            <p:cNvPicPr/>
            <p:nvPr/>
          </p:nvPicPr>
          <p:blipFill>
            <a:blip r:embed="rId19"/>
            <a:stretch/>
          </p:blipFill>
          <p:spPr>
            <a:xfrm>
              <a:off x="2800440" y="2562120"/>
              <a:ext cx="47520" cy="4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5492880" y="2479680"/>
            <a:ext cx="142920" cy="120600"/>
            <a:chOff x="5492880" y="2479680"/>
            <a:chExt cx="142920" cy="120600"/>
          </a:xfrm>
        </p:grpSpPr>
        <p:pic>
          <p:nvPicPr>
            <p:cNvPr id="902" name="" descr=""/>
            <p:cNvPicPr/>
            <p:nvPr/>
          </p:nvPicPr>
          <p:blipFill>
            <a:blip r:embed="rId20"/>
            <a:stretch/>
          </p:blipFill>
          <p:spPr>
            <a:xfrm>
              <a:off x="5492880" y="2479680"/>
              <a:ext cx="98280" cy="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1"/>
            <a:stretch/>
          </p:blipFill>
          <p:spPr>
            <a:xfrm>
              <a:off x="5591160" y="2479680"/>
              <a:ext cx="44640" cy="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22"/>
            <a:stretch/>
          </p:blipFill>
          <p:spPr>
            <a:xfrm>
              <a:off x="5492880" y="2577960"/>
              <a:ext cx="98280" cy="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23"/>
            <a:stretch/>
          </p:blipFill>
          <p:spPr>
            <a:xfrm>
              <a:off x="5591160" y="2577960"/>
              <a:ext cx="4464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5492880" y="247968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12" y="74"/>
                  </a:moveTo>
                  <a:lnTo>
                    <a:pt x="12" y="72"/>
                  </a:lnTo>
                  <a:lnTo>
                    <a:pt x="12" y="66"/>
                  </a:lnTo>
                  <a:lnTo>
                    <a:pt x="0" y="54"/>
                  </a:lnTo>
                  <a:lnTo>
                    <a:pt x="8" y="16"/>
                  </a:lnTo>
                  <a:lnTo>
                    <a:pt x="20" y="24"/>
                  </a:lnTo>
                  <a:lnTo>
                    <a:pt x="28" y="14"/>
                  </a:lnTo>
                  <a:lnTo>
                    <a:pt x="24" y="10"/>
                  </a:lnTo>
                  <a:lnTo>
                    <a:pt x="74" y="0"/>
                  </a:lnTo>
                  <a:lnTo>
                    <a:pt x="88" y="18"/>
                  </a:lnTo>
                  <a:lnTo>
                    <a:pt x="36" y="30"/>
                  </a:lnTo>
                  <a:lnTo>
                    <a:pt x="42" y="32"/>
                  </a:lnTo>
                  <a:lnTo>
                    <a:pt x="30" y="42"/>
                  </a:lnTo>
                  <a:lnTo>
                    <a:pt x="22" y="34"/>
                  </a:lnTo>
                  <a:lnTo>
                    <a:pt x="12" y="74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92880" y="247968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12" y="74"/>
                  </a:moveTo>
                  <a:lnTo>
                    <a:pt x="12" y="72"/>
                  </a:lnTo>
                  <a:lnTo>
                    <a:pt x="12" y="66"/>
                  </a:lnTo>
                  <a:lnTo>
                    <a:pt x="0" y="54"/>
                  </a:lnTo>
                  <a:lnTo>
                    <a:pt x="8" y="16"/>
                  </a:lnTo>
                  <a:lnTo>
                    <a:pt x="20" y="24"/>
                  </a:lnTo>
                  <a:lnTo>
                    <a:pt x="28" y="14"/>
                  </a:lnTo>
                  <a:lnTo>
                    <a:pt x="24" y="10"/>
                  </a:lnTo>
                  <a:lnTo>
                    <a:pt x="74" y="0"/>
                  </a:lnTo>
                  <a:lnTo>
                    <a:pt x="88" y="18"/>
                  </a:lnTo>
                  <a:lnTo>
                    <a:pt x="36" y="30"/>
                  </a:lnTo>
                  <a:lnTo>
                    <a:pt x="42" y="32"/>
                  </a:lnTo>
                  <a:lnTo>
                    <a:pt x="30" y="42"/>
                  </a:lnTo>
                  <a:lnTo>
                    <a:pt x="22" y="3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24"/>
            <a:stretch/>
          </p:blipFill>
          <p:spPr>
            <a:xfrm>
              <a:off x="5492880" y="2479680"/>
              <a:ext cx="98280" cy="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25"/>
            <a:stretch/>
          </p:blipFill>
          <p:spPr>
            <a:xfrm>
              <a:off x="5591160" y="2479680"/>
              <a:ext cx="44640" cy="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26"/>
            <a:stretch/>
          </p:blipFill>
          <p:spPr>
            <a:xfrm>
              <a:off x="5492880" y="2577960"/>
              <a:ext cx="98280" cy="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27"/>
            <a:stretch/>
          </p:blipFill>
          <p:spPr>
            <a:xfrm>
              <a:off x="5591160" y="2577960"/>
              <a:ext cx="44640" cy="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2" name=""/>
          <p:cNvGrpSpPr/>
          <p:nvPr/>
        </p:nvGrpSpPr>
        <p:grpSpPr>
          <a:xfrm>
            <a:off x="5514840" y="2600280"/>
            <a:ext cx="28800" cy="69840"/>
            <a:chOff x="5514840" y="2600280"/>
            <a:chExt cx="28800" cy="69840"/>
          </a:xfrm>
        </p:grpSpPr>
        <p:pic>
          <p:nvPicPr>
            <p:cNvPr id="913" name="" descr=""/>
            <p:cNvPicPr/>
            <p:nvPr/>
          </p:nvPicPr>
          <p:blipFill>
            <a:blip r:embed="rId28"/>
            <a:stretch/>
          </p:blipFill>
          <p:spPr>
            <a:xfrm>
              <a:off x="5514840" y="2600280"/>
              <a:ext cx="288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5514840" y="2600280"/>
              <a:ext cx="2556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0" y="0"/>
                  </a:moveTo>
                  <a:lnTo>
                    <a:pt x="4" y="28"/>
                  </a:lnTo>
                  <a:lnTo>
                    <a:pt x="16" y="42"/>
                  </a:lnTo>
                  <a:lnTo>
                    <a:pt x="10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14840" y="2600280"/>
              <a:ext cx="2556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0" y="0"/>
                  </a:moveTo>
                  <a:lnTo>
                    <a:pt x="4" y="28"/>
                  </a:lnTo>
                  <a:lnTo>
                    <a:pt x="16" y="42"/>
                  </a:lnTo>
                  <a:lnTo>
                    <a:pt x="1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6" name="" descr=""/>
            <p:cNvPicPr/>
            <p:nvPr/>
          </p:nvPicPr>
          <p:blipFill>
            <a:blip r:embed="rId29"/>
            <a:stretch/>
          </p:blipFill>
          <p:spPr>
            <a:xfrm>
              <a:off x="5514840" y="2600280"/>
              <a:ext cx="28800" cy="6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7" name=""/>
          <p:cNvGrpSpPr/>
          <p:nvPr/>
        </p:nvGrpSpPr>
        <p:grpSpPr>
          <a:xfrm>
            <a:off x="5537160" y="2698920"/>
            <a:ext cx="50760" cy="91800"/>
            <a:chOff x="5537160" y="2698920"/>
            <a:chExt cx="50760" cy="91800"/>
          </a:xfrm>
        </p:grpSpPr>
        <p:pic>
          <p:nvPicPr>
            <p:cNvPr id="918" name="" descr=""/>
            <p:cNvPicPr/>
            <p:nvPr/>
          </p:nvPicPr>
          <p:blipFill>
            <a:blip r:embed="rId30"/>
            <a:stretch/>
          </p:blipFill>
          <p:spPr>
            <a:xfrm>
              <a:off x="5537160" y="2698920"/>
              <a:ext cx="50760" cy="9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5537160" y="2698920"/>
              <a:ext cx="47520" cy="8856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16" y="0"/>
                  </a:moveTo>
                  <a:lnTo>
                    <a:pt x="6" y="2"/>
                  </a:lnTo>
                  <a:lnTo>
                    <a:pt x="0" y="34"/>
                  </a:lnTo>
                  <a:lnTo>
                    <a:pt x="2" y="52"/>
                  </a:lnTo>
                  <a:lnTo>
                    <a:pt x="12" y="56"/>
                  </a:lnTo>
                  <a:lnTo>
                    <a:pt x="20" y="20"/>
                  </a:lnTo>
                  <a:lnTo>
                    <a:pt x="30" y="18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37160" y="2698920"/>
              <a:ext cx="47520" cy="8856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16" y="0"/>
                  </a:moveTo>
                  <a:lnTo>
                    <a:pt x="6" y="2"/>
                  </a:lnTo>
                  <a:lnTo>
                    <a:pt x="0" y="34"/>
                  </a:lnTo>
                  <a:lnTo>
                    <a:pt x="2" y="52"/>
                  </a:lnTo>
                  <a:lnTo>
                    <a:pt x="12" y="56"/>
                  </a:lnTo>
                  <a:lnTo>
                    <a:pt x="20" y="20"/>
                  </a:lnTo>
                  <a:lnTo>
                    <a:pt x="3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1" name="" descr=""/>
            <p:cNvPicPr/>
            <p:nvPr/>
          </p:nvPicPr>
          <p:blipFill>
            <a:blip r:embed="rId31"/>
            <a:stretch/>
          </p:blipFill>
          <p:spPr>
            <a:xfrm>
              <a:off x="5537160" y="2698920"/>
              <a:ext cx="50760" cy="9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2" name=""/>
          <p:cNvGrpSpPr/>
          <p:nvPr/>
        </p:nvGrpSpPr>
        <p:grpSpPr>
          <a:xfrm>
            <a:off x="5591160" y="2610000"/>
            <a:ext cx="25560" cy="31680"/>
            <a:chOff x="5591160" y="2610000"/>
            <a:chExt cx="25560" cy="31680"/>
          </a:xfrm>
        </p:grpSpPr>
        <p:pic>
          <p:nvPicPr>
            <p:cNvPr id="923" name="" descr=""/>
            <p:cNvPicPr/>
            <p:nvPr/>
          </p:nvPicPr>
          <p:blipFill>
            <a:blip r:embed="rId32"/>
            <a:stretch/>
          </p:blipFill>
          <p:spPr>
            <a:xfrm>
              <a:off x="5591160" y="2610000"/>
              <a:ext cx="2556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5591160" y="26100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0"/>
                  </a:moveTo>
                  <a:lnTo>
                    <a:pt x="0" y="0"/>
                  </a:lnTo>
                  <a:lnTo>
                    <a:pt x="8" y="18"/>
                  </a:lnTo>
                  <a:lnTo>
                    <a:pt x="14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91160" y="26100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0"/>
                  </a:moveTo>
                  <a:lnTo>
                    <a:pt x="0" y="0"/>
                  </a:lnTo>
                  <a:lnTo>
                    <a:pt x="8" y="18"/>
                  </a:lnTo>
                  <a:lnTo>
                    <a:pt x="14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6" name="" descr=""/>
            <p:cNvPicPr/>
            <p:nvPr/>
          </p:nvPicPr>
          <p:blipFill>
            <a:blip r:embed="rId33"/>
            <a:stretch/>
          </p:blipFill>
          <p:spPr>
            <a:xfrm>
              <a:off x="5591160" y="2610000"/>
              <a:ext cx="25560" cy="3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"/>
          <p:cNvGrpSpPr/>
          <p:nvPr/>
        </p:nvGrpSpPr>
        <p:grpSpPr>
          <a:xfrm>
            <a:off x="5616720" y="2644920"/>
            <a:ext cx="44280" cy="44280"/>
            <a:chOff x="5616720" y="2644920"/>
            <a:chExt cx="44280" cy="44280"/>
          </a:xfrm>
        </p:grpSpPr>
        <p:pic>
          <p:nvPicPr>
            <p:cNvPr id="928" name="" descr=""/>
            <p:cNvPicPr/>
            <p:nvPr/>
          </p:nvPicPr>
          <p:blipFill>
            <a:blip r:embed="rId34"/>
            <a:stretch/>
          </p:blipFill>
          <p:spPr>
            <a:xfrm>
              <a:off x="5616720" y="2644920"/>
              <a:ext cx="4428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"/>
            <p:cNvSpPr/>
            <p:nvPr/>
          </p:nvSpPr>
          <p:spPr>
            <a:xfrm>
              <a:off x="5616720" y="264492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8" y="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616720" y="264492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8" y="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6" y="26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1" name="" descr=""/>
            <p:cNvPicPr/>
            <p:nvPr/>
          </p:nvPicPr>
          <p:blipFill>
            <a:blip r:embed="rId35"/>
            <a:stretch/>
          </p:blipFill>
          <p:spPr>
            <a:xfrm>
              <a:off x="5616720" y="2644920"/>
              <a:ext cx="44280" cy="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>
            <a:off x="1476360" y="907920"/>
            <a:ext cx="7496280" cy="2841840"/>
          </a:xfrm>
          <a:custGeom>
            <a:avLst/>
            <a:gdLst/>
            <a:ahLst/>
            <a:rect l="l" t="t" r="r" b="b"/>
            <a:pathLst>
              <a:path w="4722" h="1790">
                <a:moveTo>
                  <a:pt x="0" y="1270"/>
                </a:moveTo>
                <a:lnTo>
                  <a:pt x="42" y="1230"/>
                </a:lnTo>
                <a:lnTo>
                  <a:pt x="28" y="1246"/>
                </a:lnTo>
                <a:lnTo>
                  <a:pt x="44" y="1252"/>
                </a:lnTo>
                <a:lnTo>
                  <a:pt x="42" y="1168"/>
                </a:lnTo>
                <a:lnTo>
                  <a:pt x="58" y="1128"/>
                </a:lnTo>
                <a:lnTo>
                  <a:pt x="80" y="1120"/>
                </a:lnTo>
                <a:lnTo>
                  <a:pt x="126" y="1160"/>
                </a:lnTo>
                <a:lnTo>
                  <a:pt x="134" y="1090"/>
                </a:lnTo>
                <a:lnTo>
                  <a:pt x="116" y="1090"/>
                </a:lnTo>
                <a:lnTo>
                  <a:pt x="108" y="1050"/>
                </a:lnTo>
                <a:lnTo>
                  <a:pt x="294" y="1014"/>
                </a:lnTo>
                <a:lnTo>
                  <a:pt x="248" y="998"/>
                </a:lnTo>
                <a:lnTo>
                  <a:pt x="250" y="978"/>
                </a:lnTo>
                <a:lnTo>
                  <a:pt x="222" y="986"/>
                </a:lnTo>
                <a:lnTo>
                  <a:pt x="328" y="880"/>
                </a:lnTo>
                <a:lnTo>
                  <a:pt x="284" y="768"/>
                </a:lnTo>
                <a:lnTo>
                  <a:pt x="292" y="716"/>
                </a:lnTo>
                <a:lnTo>
                  <a:pt x="264" y="656"/>
                </a:lnTo>
                <a:lnTo>
                  <a:pt x="288" y="624"/>
                </a:lnTo>
                <a:lnTo>
                  <a:pt x="248" y="578"/>
                </a:lnTo>
                <a:lnTo>
                  <a:pt x="260" y="540"/>
                </a:lnTo>
                <a:lnTo>
                  <a:pt x="312" y="496"/>
                </a:lnTo>
                <a:lnTo>
                  <a:pt x="342" y="492"/>
                </a:lnTo>
                <a:lnTo>
                  <a:pt x="376" y="502"/>
                </a:lnTo>
                <a:lnTo>
                  <a:pt x="346" y="510"/>
                </a:lnTo>
                <a:lnTo>
                  <a:pt x="366" y="526"/>
                </a:lnTo>
                <a:lnTo>
                  <a:pt x="450" y="532"/>
                </a:lnTo>
                <a:lnTo>
                  <a:pt x="596" y="622"/>
                </a:lnTo>
                <a:lnTo>
                  <a:pt x="598" y="664"/>
                </a:lnTo>
                <a:lnTo>
                  <a:pt x="536" y="704"/>
                </a:lnTo>
                <a:lnTo>
                  <a:pt x="342" y="650"/>
                </a:lnTo>
                <a:lnTo>
                  <a:pt x="420" y="716"/>
                </a:lnTo>
                <a:lnTo>
                  <a:pt x="418" y="790"/>
                </a:lnTo>
                <a:lnTo>
                  <a:pt x="498" y="824"/>
                </a:lnTo>
                <a:lnTo>
                  <a:pt x="518" y="818"/>
                </a:lnTo>
                <a:lnTo>
                  <a:pt x="508" y="790"/>
                </a:lnTo>
                <a:lnTo>
                  <a:pt x="470" y="776"/>
                </a:lnTo>
                <a:lnTo>
                  <a:pt x="478" y="750"/>
                </a:lnTo>
                <a:lnTo>
                  <a:pt x="516" y="780"/>
                </a:lnTo>
                <a:lnTo>
                  <a:pt x="590" y="790"/>
                </a:lnTo>
                <a:lnTo>
                  <a:pt x="558" y="728"/>
                </a:lnTo>
                <a:lnTo>
                  <a:pt x="630" y="680"/>
                </a:lnTo>
                <a:lnTo>
                  <a:pt x="680" y="716"/>
                </a:lnTo>
                <a:lnTo>
                  <a:pt x="680" y="582"/>
                </a:lnTo>
                <a:lnTo>
                  <a:pt x="656" y="562"/>
                </a:lnTo>
                <a:lnTo>
                  <a:pt x="742" y="590"/>
                </a:lnTo>
                <a:lnTo>
                  <a:pt x="748" y="608"/>
                </a:lnTo>
                <a:lnTo>
                  <a:pt x="702" y="630"/>
                </a:lnTo>
                <a:lnTo>
                  <a:pt x="748" y="674"/>
                </a:lnTo>
                <a:lnTo>
                  <a:pt x="788" y="624"/>
                </a:lnTo>
                <a:lnTo>
                  <a:pt x="946" y="544"/>
                </a:lnTo>
                <a:lnTo>
                  <a:pt x="970" y="542"/>
                </a:lnTo>
                <a:lnTo>
                  <a:pt x="946" y="554"/>
                </a:lnTo>
                <a:lnTo>
                  <a:pt x="974" y="592"/>
                </a:lnTo>
                <a:lnTo>
                  <a:pt x="1088" y="542"/>
                </a:lnTo>
                <a:lnTo>
                  <a:pt x="1114" y="580"/>
                </a:lnTo>
                <a:lnTo>
                  <a:pt x="1142" y="548"/>
                </a:lnTo>
                <a:lnTo>
                  <a:pt x="1126" y="508"/>
                </a:lnTo>
                <a:lnTo>
                  <a:pt x="1144" y="494"/>
                </a:lnTo>
                <a:lnTo>
                  <a:pt x="1232" y="514"/>
                </a:lnTo>
                <a:lnTo>
                  <a:pt x="1346" y="588"/>
                </a:lnTo>
                <a:lnTo>
                  <a:pt x="1370" y="552"/>
                </a:lnTo>
                <a:lnTo>
                  <a:pt x="1344" y="514"/>
                </a:lnTo>
                <a:lnTo>
                  <a:pt x="1310" y="504"/>
                </a:lnTo>
                <a:lnTo>
                  <a:pt x="1322" y="446"/>
                </a:lnTo>
                <a:lnTo>
                  <a:pt x="1300" y="436"/>
                </a:lnTo>
                <a:lnTo>
                  <a:pt x="1306" y="410"/>
                </a:lnTo>
                <a:lnTo>
                  <a:pt x="1348" y="380"/>
                </a:lnTo>
                <a:lnTo>
                  <a:pt x="1376" y="310"/>
                </a:lnTo>
                <a:lnTo>
                  <a:pt x="1436" y="312"/>
                </a:lnTo>
                <a:lnTo>
                  <a:pt x="1466" y="322"/>
                </a:lnTo>
                <a:lnTo>
                  <a:pt x="1442" y="398"/>
                </a:lnTo>
                <a:lnTo>
                  <a:pt x="1470" y="434"/>
                </a:lnTo>
                <a:lnTo>
                  <a:pt x="1462" y="540"/>
                </a:lnTo>
                <a:lnTo>
                  <a:pt x="1490" y="576"/>
                </a:lnTo>
                <a:lnTo>
                  <a:pt x="1478" y="614"/>
                </a:lnTo>
                <a:lnTo>
                  <a:pt x="1432" y="644"/>
                </a:lnTo>
                <a:lnTo>
                  <a:pt x="1448" y="656"/>
                </a:lnTo>
                <a:lnTo>
                  <a:pt x="1388" y="672"/>
                </a:lnTo>
                <a:lnTo>
                  <a:pt x="1452" y="698"/>
                </a:lnTo>
                <a:lnTo>
                  <a:pt x="1526" y="614"/>
                </a:lnTo>
                <a:lnTo>
                  <a:pt x="1516" y="562"/>
                </a:lnTo>
                <a:lnTo>
                  <a:pt x="1540" y="552"/>
                </a:lnTo>
                <a:lnTo>
                  <a:pt x="1578" y="544"/>
                </a:lnTo>
                <a:lnTo>
                  <a:pt x="1598" y="574"/>
                </a:lnTo>
                <a:lnTo>
                  <a:pt x="1594" y="614"/>
                </a:lnTo>
                <a:lnTo>
                  <a:pt x="1640" y="626"/>
                </a:lnTo>
                <a:lnTo>
                  <a:pt x="1602" y="612"/>
                </a:lnTo>
                <a:lnTo>
                  <a:pt x="1620" y="588"/>
                </a:lnTo>
                <a:lnTo>
                  <a:pt x="1606" y="552"/>
                </a:lnTo>
                <a:lnTo>
                  <a:pt x="1498" y="532"/>
                </a:lnTo>
                <a:lnTo>
                  <a:pt x="1516" y="448"/>
                </a:lnTo>
                <a:lnTo>
                  <a:pt x="1478" y="398"/>
                </a:lnTo>
                <a:lnTo>
                  <a:pt x="1530" y="350"/>
                </a:lnTo>
                <a:lnTo>
                  <a:pt x="1526" y="316"/>
                </a:lnTo>
                <a:lnTo>
                  <a:pt x="1550" y="334"/>
                </a:lnTo>
                <a:lnTo>
                  <a:pt x="1538" y="402"/>
                </a:lnTo>
                <a:lnTo>
                  <a:pt x="1554" y="410"/>
                </a:lnTo>
                <a:lnTo>
                  <a:pt x="1626" y="430"/>
                </a:lnTo>
                <a:lnTo>
                  <a:pt x="1562" y="378"/>
                </a:lnTo>
                <a:lnTo>
                  <a:pt x="1610" y="378"/>
                </a:lnTo>
                <a:lnTo>
                  <a:pt x="1600" y="356"/>
                </a:lnTo>
                <a:lnTo>
                  <a:pt x="1626" y="346"/>
                </a:lnTo>
                <a:lnTo>
                  <a:pt x="1760" y="390"/>
                </a:lnTo>
                <a:lnTo>
                  <a:pt x="1736" y="416"/>
                </a:lnTo>
                <a:lnTo>
                  <a:pt x="1732" y="460"/>
                </a:lnTo>
                <a:lnTo>
                  <a:pt x="1758" y="484"/>
                </a:lnTo>
                <a:lnTo>
                  <a:pt x="1774" y="390"/>
                </a:lnTo>
                <a:lnTo>
                  <a:pt x="1700" y="338"/>
                </a:lnTo>
                <a:lnTo>
                  <a:pt x="1686" y="274"/>
                </a:lnTo>
                <a:lnTo>
                  <a:pt x="1854" y="250"/>
                </a:lnTo>
                <a:lnTo>
                  <a:pt x="1834" y="190"/>
                </a:lnTo>
                <a:lnTo>
                  <a:pt x="1854" y="202"/>
                </a:lnTo>
                <a:lnTo>
                  <a:pt x="1884" y="180"/>
                </a:lnTo>
                <a:lnTo>
                  <a:pt x="1862" y="172"/>
                </a:lnTo>
                <a:lnTo>
                  <a:pt x="2040" y="124"/>
                </a:lnTo>
                <a:lnTo>
                  <a:pt x="2024" y="110"/>
                </a:lnTo>
                <a:lnTo>
                  <a:pt x="2108" y="104"/>
                </a:lnTo>
                <a:lnTo>
                  <a:pt x="2108" y="120"/>
                </a:lnTo>
                <a:lnTo>
                  <a:pt x="2126" y="120"/>
                </a:lnTo>
                <a:lnTo>
                  <a:pt x="2188" y="98"/>
                </a:lnTo>
                <a:lnTo>
                  <a:pt x="2214" y="112"/>
                </a:lnTo>
                <a:lnTo>
                  <a:pt x="2188" y="84"/>
                </a:lnTo>
                <a:lnTo>
                  <a:pt x="2258" y="78"/>
                </a:lnTo>
                <a:lnTo>
                  <a:pt x="2258" y="44"/>
                </a:lnTo>
                <a:lnTo>
                  <a:pt x="2336" y="0"/>
                </a:lnTo>
                <a:lnTo>
                  <a:pt x="2390" y="26"/>
                </a:lnTo>
                <a:lnTo>
                  <a:pt x="2344" y="50"/>
                </a:lnTo>
                <a:lnTo>
                  <a:pt x="2426" y="48"/>
                </a:lnTo>
                <a:lnTo>
                  <a:pt x="2392" y="84"/>
                </a:lnTo>
                <a:lnTo>
                  <a:pt x="2528" y="66"/>
                </a:lnTo>
                <a:lnTo>
                  <a:pt x="2604" y="120"/>
                </a:lnTo>
                <a:lnTo>
                  <a:pt x="2592" y="140"/>
                </a:lnTo>
                <a:lnTo>
                  <a:pt x="2568" y="126"/>
                </a:lnTo>
                <a:lnTo>
                  <a:pt x="2602" y="144"/>
                </a:lnTo>
                <a:lnTo>
                  <a:pt x="2586" y="178"/>
                </a:lnTo>
                <a:lnTo>
                  <a:pt x="2336" y="334"/>
                </a:lnTo>
                <a:lnTo>
                  <a:pt x="2416" y="312"/>
                </a:lnTo>
                <a:lnTo>
                  <a:pt x="2400" y="292"/>
                </a:lnTo>
                <a:lnTo>
                  <a:pt x="2524" y="262"/>
                </a:lnTo>
                <a:lnTo>
                  <a:pt x="2490" y="268"/>
                </a:lnTo>
                <a:lnTo>
                  <a:pt x="2498" y="242"/>
                </a:lnTo>
                <a:lnTo>
                  <a:pt x="2568" y="262"/>
                </a:lnTo>
                <a:lnTo>
                  <a:pt x="2580" y="242"/>
                </a:lnTo>
                <a:lnTo>
                  <a:pt x="2592" y="292"/>
                </a:lnTo>
                <a:lnTo>
                  <a:pt x="2628" y="294"/>
                </a:lnTo>
                <a:lnTo>
                  <a:pt x="2594" y="276"/>
                </a:lnTo>
                <a:lnTo>
                  <a:pt x="2664" y="262"/>
                </a:lnTo>
                <a:lnTo>
                  <a:pt x="2744" y="274"/>
                </a:lnTo>
                <a:lnTo>
                  <a:pt x="2736" y="292"/>
                </a:lnTo>
                <a:lnTo>
                  <a:pt x="2804" y="310"/>
                </a:lnTo>
                <a:lnTo>
                  <a:pt x="2866" y="306"/>
                </a:lnTo>
                <a:lnTo>
                  <a:pt x="2868" y="256"/>
                </a:lnTo>
                <a:lnTo>
                  <a:pt x="2886" y="252"/>
                </a:lnTo>
                <a:lnTo>
                  <a:pt x="3038" y="306"/>
                </a:lnTo>
                <a:lnTo>
                  <a:pt x="3018" y="390"/>
                </a:lnTo>
                <a:lnTo>
                  <a:pt x="3090" y="446"/>
                </a:lnTo>
                <a:lnTo>
                  <a:pt x="3130" y="368"/>
                </a:lnTo>
                <a:lnTo>
                  <a:pt x="3154" y="402"/>
                </a:lnTo>
                <a:lnTo>
                  <a:pt x="3206" y="390"/>
                </a:lnTo>
                <a:lnTo>
                  <a:pt x="3272" y="416"/>
                </a:lnTo>
                <a:lnTo>
                  <a:pt x="3328" y="400"/>
                </a:lnTo>
                <a:lnTo>
                  <a:pt x="3324" y="368"/>
                </a:lnTo>
                <a:lnTo>
                  <a:pt x="3360" y="314"/>
                </a:lnTo>
                <a:lnTo>
                  <a:pt x="3590" y="354"/>
                </a:lnTo>
                <a:lnTo>
                  <a:pt x="3606" y="378"/>
                </a:lnTo>
                <a:lnTo>
                  <a:pt x="3578" y="390"/>
                </a:lnTo>
                <a:lnTo>
                  <a:pt x="3652" y="400"/>
                </a:lnTo>
                <a:lnTo>
                  <a:pt x="3680" y="436"/>
                </a:lnTo>
                <a:lnTo>
                  <a:pt x="3852" y="430"/>
                </a:lnTo>
                <a:lnTo>
                  <a:pt x="3884" y="460"/>
                </a:lnTo>
                <a:lnTo>
                  <a:pt x="3872" y="496"/>
                </a:lnTo>
                <a:lnTo>
                  <a:pt x="3924" y="522"/>
                </a:lnTo>
                <a:lnTo>
                  <a:pt x="3948" y="502"/>
                </a:lnTo>
                <a:lnTo>
                  <a:pt x="4072" y="518"/>
                </a:lnTo>
                <a:lnTo>
                  <a:pt x="4096" y="496"/>
                </a:lnTo>
                <a:lnTo>
                  <a:pt x="4112" y="528"/>
                </a:lnTo>
                <a:lnTo>
                  <a:pt x="4160" y="556"/>
                </a:lnTo>
                <a:lnTo>
                  <a:pt x="4186" y="538"/>
                </a:lnTo>
                <a:lnTo>
                  <a:pt x="4160" y="508"/>
                </a:lnTo>
                <a:lnTo>
                  <a:pt x="4178" y="484"/>
                </a:lnTo>
                <a:lnTo>
                  <a:pt x="4392" y="522"/>
                </a:lnTo>
                <a:lnTo>
                  <a:pt x="4532" y="614"/>
                </a:lnTo>
                <a:lnTo>
                  <a:pt x="4566" y="614"/>
                </a:lnTo>
                <a:lnTo>
                  <a:pt x="4600" y="690"/>
                </a:lnTo>
                <a:lnTo>
                  <a:pt x="4584" y="650"/>
                </a:lnTo>
                <a:lnTo>
                  <a:pt x="4608" y="646"/>
                </a:lnTo>
                <a:lnTo>
                  <a:pt x="4624" y="662"/>
                </a:lnTo>
                <a:lnTo>
                  <a:pt x="4664" y="656"/>
                </a:lnTo>
                <a:lnTo>
                  <a:pt x="4722" y="700"/>
                </a:lnTo>
                <a:lnTo>
                  <a:pt x="4638" y="750"/>
                </a:lnTo>
                <a:lnTo>
                  <a:pt x="4656" y="764"/>
                </a:lnTo>
                <a:lnTo>
                  <a:pt x="4626" y="772"/>
                </a:lnTo>
                <a:lnTo>
                  <a:pt x="4650" y="790"/>
                </a:lnTo>
                <a:lnTo>
                  <a:pt x="4600" y="792"/>
                </a:lnTo>
                <a:lnTo>
                  <a:pt x="4582" y="764"/>
                </a:lnTo>
                <a:lnTo>
                  <a:pt x="4566" y="774"/>
                </a:lnTo>
                <a:lnTo>
                  <a:pt x="4532" y="728"/>
                </a:lnTo>
                <a:lnTo>
                  <a:pt x="4476" y="730"/>
                </a:lnTo>
                <a:lnTo>
                  <a:pt x="4462" y="704"/>
                </a:lnTo>
                <a:lnTo>
                  <a:pt x="4474" y="690"/>
                </a:lnTo>
                <a:lnTo>
                  <a:pt x="4454" y="690"/>
                </a:lnTo>
                <a:lnTo>
                  <a:pt x="4438" y="700"/>
                </a:lnTo>
                <a:lnTo>
                  <a:pt x="4456" y="734"/>
                </a:lnTo>
                <a:lnTo>
                  <a:pt x="4444" y="750"/>
                </a:lnTo>
                <a:lnTo>
                  <a:pt x="4396" y="782"/>
                </a:lnTo>
                <a:lnTo>
                  <a:pt x="4364" y="776"/>
                </a:lnTo>
                <a:lnTo>
                  <a:pt x="4418" y="864"/>
                </a:lnTo>
                <a:lnTo>
                  <a:pt x="4408" y="896"/>
                </a:lnTo>
                <a:lnTo>
                  <a:pt x="4352" y="872"/>
                </a:lnTo>
                <a:lnTo>
                  <a:pt x="4354" y="886"/>
                </a:lnTo>
                <a:lnTo>
                  <a:pt x="4256" y="930"/>
                </a:lnTo>
                <a:lnTo>
                  <a:pt x="4166" y="1018"/>
                </a:lnTo>
                <a:lnTo>
                  <a:pt x="4108" y="982"/>
                </a:lnTo>
                <a:lnTo>
                  <a:pt x="4052" y="1020"/>
                </a:lnTo>
                <a:lnTo>
                  <a:pt x="4052" y="988"/>
                </a:lnTo>
                <a:lnTo>
                  <a:pt x="4020" y="1022"/>
                </a:lnTo>
                <a:lnTo>
                  <a:pt x="3980" y="1020"/>
                </a:lnTo>
                <a:lnTo>
                  <a:pt x="3938" y="1104"/>
                </a:lnTo>
                <a:lnTo>
                  <a:pt x="3972" y="1120"/>
                </a:lnTo>
                <a:lnTo>
                  <a:pt x="3958" y="1152"/>
                </a:lnTo>
                <a:lnTo>
                  <a:pt x="3974" y="1196"/>
                </a:lnTo>
                <a:lnTo>
                  <a:pt x="3946" y="1186"/>
                </a:lnTo>
                <a:lnTo>
                  <a:pt x="3928" y="1226"/>
                </a:lnTo>
                <a:lnTo>
                  <a:pt x="3940" y="1262"/>
                </a:lnTo>
                <a:lnTo>
                  <a:pt x="3878" y="1292"/>
                </a:lnTo>
                <a:lnTo>
                  <a:pt x="3884" y="1330"/>
                </a:lnTo>
                <a:lnTo>
                  <a:pt x="3844" y="1342"/>
                </a:lnTo>
                <a:lnTo>
                  <a:pt x="3834" y="1384"/>
                </a:lnTo>
                <a:lnTo>
                  <a:pt x="3798" y="1430"/>
                </a:lnTo>
                <a:lnTo>
                  <a:pt x="3764" y="1262"/>
                </a:lnTo>
                <a:lnTo>
                  <a:pt x="3768" y="1170"/>
                </a:lnTo>
                <a:lnTo>
                  <a:pt x="3798" y="1116"/>
                </a:lnTo>
                <a:lnTo>
                  <a:pt x="3838" y="1106"/>
                </a:lnTo>
                <a:lnTo>
                  <a:pt x="3936" y="994"/>
                </a:lnTo>
                <a:lnTo>
                  <a:pt x="3982" y="968"/>
                </a:lnTo>
                <a:lnTo>
                  <a:pt x="3998" y="906"/>
                </a:lnTo>
                <a:lnTo>
                  <a:pt x="4020" y="888"/>
                </a:lnTo>
                <a:lnTo>
                  <a:pt x="3982" y="886"/>
                </a:lnTo>
                <a:lnTo>
                  <a:pt x="3970" y="940"/>
                </a:lnTo>
                <a:lnTo>
                  <a:pt x="3888" y="986"/>
                </a:lnTo>
                <a:lnTo>
                  <a:pt x="3896" y="918"/>
                </a:lnTo>
                <a:lnTo>
                  <a:pt x="3804" y="932"/>
                </a:lnTo>
                <a:lnTo>
                  <a:pt x="3722" y="1020"/>
                </a:lnTo>
                <a:lnTo>
                  <a:pt x="3738" y="1056"/>
                </a:lnTo>
                <a:lnTo>
                  <a:pt x="3650" y="1070"/>
                </a:lnTo>
                <a:lnTo>
                  <a:pt x="3636" y="1060"/>
                </a:lnTo>
                <a:lnTo>
                  <a:pt x="3668" y="1054"/>
                </a:lnTo>
                <a:lnTo>
                  <a:pt x="3594" y="1030"/>
                </a:lnTo>
                <a:lnTo>
                  <a:pt x="3572" y="1054"/>
                </a:lnTo>
                <a:lnTo>
                  <a:pt x="3402" y="1054"/>
                </a:lnTo>
                <a:lnTo>
                  <a:pt x="3202" y="1258"/>
                </a:lnTo>
                <a:lnTo>
                  <a:pt x="3240" y="1266"/>
                </a:lnTo>
                <a:lnTo>
                  <a:pt x="3240" y="1304"/>
                </a:lnTo>
                <a:lnTo>
                  <a:pt x="3264" y="1280"/>
                </a:lnTo>
                <a:lnTo>
                  <a:pt x="3258" y="1312"/>
                </a:lnTo>
                <a:lnTo>
                  <a:pt x="3286" y="1292"/>
                </a:lnTo>
                <a:lnTo>
                  <a:pt x="3284" y="1312"/>
                </a:lnTo>
                <a:lnTo>
                  <a:pt x="3294" y="1280"/>
                </a:lnTo>
                <a:lnTo>
                  <a:pt x="3324" y="1282"/>
                </a:lnTo>
                <a:lnTo>
                  <a:pt x="3368" y="1326"/>
                </a:lnTo>
                <a:lnTo>
                  <a:pt x="3328" y="1330"/>
                </a:lnTo>
                <a:lnTo>
                  <a:pt x="3364" y="1344"/>
                </a:lnTo>
                <a:lnTo>
                  <a:pt x="3372" y="1374"/>
                </a:lnTo>
                <a:lnTo>
                  <a:pt x="3342" y="1436"/>
                </a:lnTo>
                <a:lnTo>
                  <a:pt x="3336" y="1532"/>
                </a:lnTo>
                <a:lnTo>
                  <a:pt x="3196" y="1738"/>
                </a:lnTo>
                <a:lnTo>
                  <a:pt x="3144" y="1764"/>
                </a:lnTo>
                <a:lnTo>
                  <a:pt x="3104" y="1738"/>
                </a:lnTo>
                <a:lnTo>
                  <a:pt x="3070" y="1778"/>
                </a:lnTo>
                <a:lnTo>
                  <a:pt x="3068" y="1768"/>
                </a:lnTo>
                <a:lnTo>
                  <a:pt x="3088" y="1738"/>
                </a:lnTo>
                <a:lnTo>
                  <a:pt x="3080" y="1686"/>
                </a:lnTo>
                <a:lnTo>
                  <a:pt x="3140" y="1664"/>
                </a:lnTo>
                <a:lnTo>
                  <a:pt x="3190" y="1528"/>
                </a:lnTo>
                <a:lnTo>
                  <a:pt x="3084" y="1562"/>
                </a:lnTo>
                <a:lnTo>
                  <a:pt x="3068" y="1510"/>
                </a:lnTo>
                <a:lnTo>
                  <a:pt x="2986" y="1480"/>
                </a:lnTo>
                <a:lnTo>
                  <a:pt x="2934" y="1340"/>
                </a:lnTo>
                <a:lnTo>
                  <a:pt x="2878" y="1312"/>
                </a:lnTo>
                <a:lnTo>
                  <a:pt x="2778" y="1352"/>
                </a:lnTo>
                <a:lnTo>
                  <a:pt x="2796" y="1380"/>
                </a:lnTo>
                <a:lnTo>
                  <a:pt x="2754" y="1464"/>
                </a:lnTo>
                <a:lnTo>
                  <a:pt x="2716" y="1486"/>
                </a:lnTo>
                <a:lnTo>
                  <a:pt x="2674" y="1468"/>
                </a:lnTo>
                <a:lnTo>
                  <a:pt x="2626" y="1458"/>
                </a:lnTo>
                <a:lnTo>
                  <a:pt x="2492" y="1496"/>
                </a:lnTo>
                <a:lnTo>
                  <a:pt x="2378" y="1440"/>
                </a:lnTo>
                <a:lnTo>
                  <a:pt x="2304" y="1450"/>
                </a:lnTo>
                <a:lnTo>
                  <a:pt x="2276" y="1402"/>
                </a:lnTo>
                <a:lnTo>
                  <a:pt x="2204" y="1374"/>
                </a:lnTo>
                <a:lnTo>
                  <a:pt x="2164" y="1404"/>
                </a:lnTo>
                <a:lnTo>
                  <a:pt x="2164" y="1466"/>
                </a:lnTo>
                <a:lnTo>
                  <a:pt x="1998" y="1438"/>
                </a:lnTo>
                <a:lnTo>
                  <a:pt x="1910" y="1496"/>
                </a:lnTo>
                <a:lnTo>
                  <a:pt x="1862" y="1520"/>
                </a:lnTo>
                <a:lnTo>
                  <a:pt x="1802" y="1474"/>
                </a:lnTo>
                <a:lnTo>
                  <a:pt x="1766" y="1498"/>
                </a:lnTo>
                <a:lnTo>
                  <a:pt x="1696" y="1468"/>
                </a:lnTo>
                <a:lnTo>
                  <a:pt x="1670" y="1464"/>
                </a:lnTo>
                <a:lnTo>
                  <a:pt x="1648" y="1416"/>
                </a:lnTo>
                <a:lnTo>
                  <a:pt x="1610" y="1416"/>
                </a:lnTo>
                <a:lnTo>
                  <a:pt x="1596" y="1424"/>
                </a:lnTo>
                <a:lnTo>
                  <a:pt x="1566" y="1388"/>
                </a:lnTo>
                <a:lnTo>
                  <a:pt x="1544" y="1396"/>
                </a:lnTo>
                <a:lnTo>
                  <a:pt x="1526" y="1410"/>
                </a:lnTo>
                <a:lnTo>
                  <a:pt x="1448" y="1334"/>
                </a:lnTo>
                <a:lnTo>
                  <a:pt x="1426" y="1326"/>
                </a:lnTo>
                <a:lnTo>
                  <a:pt x="1372" y="1266"/>
                </a:lnTo>
                <a:lnTo>
                  <a:pt x="1324" y="1304"/>
                </a:lnTo>
                <a:lnTo>
                  <a:pt x="1314" y="1278"/>
                </a:lnTo>
                <a:lnTo>
                  <a:pt x="1242" y="1276"/>
                </a:lnTo>
                <a:lnTo>
                  <a:pt x="1214" y="1234"/>
                </a:lnTo>
                <a:lnTo>
                  <a:pt x="1176" y="1238"/>
                </a:lnTo>
                <a:lnTo>
                  <a:pt x="1162" y="1254"/>
                </a:lnTo>
                <a:lnTo>
                  <a:pt x="1114" y="1266"/>
                </a:lnTo>
                <a:lnTo>
                  <a:pt x="1100" y="1254"/>
                </a:lnTo>
                <a:lnTo>
                  <a:pt x="1082" y="1286"/>
                </a:lnTo>
                <a:lnTo>
                  <a:pt x="1066" y="1278"/>
                </a:lnTo>
                <a:lnTo>
                  <a:pt x="1010" y="1288"/>
                </a:lnTo>
                <a:lnTo>
                  <a:pt x="992" y="1278"/>
                </a:lnTo>
                <a:lnTo>
                  <a:pt x="984" y="1288"/>
                </a:lnTo>
                <a:lnTo>
                  <a:pt x="1012" y="1326"/>
                </a:lnTo>
                <a:lnTo>
                  <a:pt x="994" y="1348"/>
                </a:lnTo>
                <a:lnTo>
                  <a:pt x="996" y="1378"/>
                </a:lnTo>
                <a:lnTo>
                  <a:pt x="1028" y="1380"/>
                </a:lnTo>
                <a:lnTo>
                  <a:pt x="1044" y="1410"/>
                </a:lnTo>
                <a:lnTo>
                  <a:pt x="1034" y="1432"/>
                </a:lnTo>
                <a:lnTo>
                  <a:pt x="1010" y="1416"/>
                </a:lnTo>
                <a:lnTo>
                  <a:pt x="992" y="1430"/>
                </a:lnTo>
                <a:lnTo>
                  <a:pt x="972" y="1418"/>
                </a:lnTo>
                <a:lnTo>
                  <a:pt x="962" y="1396"/>
                </a:lnTo>
                <a:lnTo>
                  <a:pt x="940" y="1410"/>
                </a:lnTo>
                <a:lnTo>
                  <a:pt x="924" y="1398"/>
                </a:lnTo>
                <a:lnTo>
                  <a:pt x="904" y="1416"/>
                </a:lnTo>
                <a:lnTo>
                  <a:pt x="878" y="1420"/>
                </a:lnTo>
                <a:lnTo>
                  <a:pt x="864" y="1396"/>
                </a:lnTo>
                <a:lnTo>
                  <a:pt x="774" y="1390"/>
                </a:lnTo>
                <a:lnTo>
                  <a:pt x="764" y="1402"/>
                </a:lnTo>
                <a:lnTo>
                  <a:pt x="756" y="1400"/>
                </a:lnTo>
                <a:lnTo>
                  <a:pt x="740" y="1426"/>
                </a:lnTo>
                <a:lnTo>
                  <a:pt x="742" y="1450"/>
                </a:lnTo>
                <a:lnTo>
                  <a:pt x="732" y="1450"/>
                </a:lnTo>
                <a:lnTo>
                  <a:pt x="724" y="1432"/>
                </a:lnTo>
                <a:lnTo>
                  <a:pt x="712" y="1434"/>
                </a:lnTo>
                <a:lnTo>
                  <a:pt x="708" y="1502"/>
                </a:lnTo>
                <a:lnTo>
                  <a:pt x="720" y="1524"/>
                </a:lnTo>
                <a:lnTo>
                  <a:pt x="720" y="1542"/>
                </a:lnTo>
                <a:lnTo>
                  <a:pt x="736" y="1540"/>
                </a:lnTo>
                <a:lnTo>
                  <a:pt x="756" y="1530"/>
                </a:lnTo>
                <a:lnTo>
                  <a:pt x="772" y="1562"/>
                </a:lnTo>
                <a:lnTo>
                  <a:pt x="784" y="1582"/>
                </a:lnTo>
                <a:lnTo>
                  <a:pt x="796" y="1608"/>
                </a:lnTo>
                <a:lnTo>
                  <a:pt x="816" y="1614"/>
                </a:lnTo>
                <a:lnTo>
                  <a:pt x="790" y="1634"/>
                </a:lnTo>
                <a:lnTo>
                  <a:pt x="772" y="1616"/>
                </a:lnTo>
                <a:lnTo>
                  <a:pt x="756" y="1694"/>
                </a:lnTo>
                <a:lnTo>
                  <a:pt x="776" y="1712"/>
                </a:lnTo>
                <a:lnTo>
                  <a:pt x="794" y="1790"/>
                </a:lnTo>
                <a:lnTo>
                  <a:pt x="778" y="1778"/>
                </a:lnTo>
                <a:lnTo>
                  <a:pt x="758" y="1768"/>
                </a:lnTo>
                <a:lnTo>
                  <a:pt x="736" y="1764"/>
                </a:lnTo>
                <a:lnTo>
                  <a:pt x="720" y="1756"/>
                </a:lnTo>
                <a:lnTo>
                  <a:pt x="708" y="1754"/>
                </a:lnTo>
                <a:lnTo>
                  <a:pt x="694" y="1724"/>
                </a:lnTo>
                <a:lnTo>
                  <a:pt x="666" y="1742"/>
                </a:lnTo>
                <a:lnTo>
                  <a:pt x="642" y="1742"/>
                </a:lnTo>
                <a:lnTo>
                  <a:pt x="622" y="1718"/>
                </a:lnTo>
                <a:lnTo>
                  <a:pt x="578" y="1696"/>
                </a:lnTo>
                <a:lnTo>
                  <a:pt x="534" y="1700"/>
                </a:lnTo>
                <a:lnTo>
                  <a:pt x="488" y="1662"/>
                </a:lnTo>
                <a:lnTo>
                  <a:pt x="526" y="1626"/>
                </a:lnTo>
                <a:lnTo>
                  <a:pt x="528" y="1598"/>
                </a:lnTo>
                <a:lnTo>
                  <a:pt x="528" y="1568"/>
                </a:lnTo>
                <a:lnTo>
                  <a:pt x="532" y="1544"/>
                </a:lnTo>
                <a:lnTo>
                  <a:pt x="554" y="1536"/>
                </a:lnTo>
                <a:lnTo>
                  <a:pt x="542" y="1492"/>
                </a:lnTo>
                <a:lnTo>
                  <a:pt x="514" y="1480"/>
                </a:lnTo>
                <a:lnTo>
                  <a:pt x="500" y="1474"/>
                </a:lnTo>
                <a:lnTo>
                  <a:pt x="480" y="1478"/>
                </a:lnTo>
                <a:lnTo>
                  <a:pt x="440" y="1466"/>
                </a:lnTo>
                <a:lnTo>
                  <a:pt x="406" y="1420"/>
                </a:lnTo>
                <a:lnTo>
                  <a:pt x="380" y="1408"/>
                </a:lnTo>
                <a:lnTo>
                  <a:pt x="366" y="1368"/>
                </a:lnTo>
                <a:lnTo>
                  <a:pt x="346" y="1366"/>
                </a:lnTo>
                <a:lnTo>
                  <a:pt x="324" y="1378"/>
                </a:lnTo>
                <a:lnTo>
                  <a:pt x="308" y="1384"/>
                </a:lnTo>
                <a:lnTo>
                  <a:pt x="300" y="1366"/>
                </a:lnTo>
                <a:lnTo>
                  <a:pt x="288" y="1348"/>
                </a:lnTo>
                <a:lnTo>
                  <a:pt x="322" y="1344"/>
                </a:lnTo>
                <a:lnTo>
                  <a:pt x="320" y="1330"/>
                </a:lnTo>
                <a:lnTo>
                  <a:pt x="312" y="1324"/>
                </a:lnTo>
                <a:lnTo>
                  <a:pt x="300" y="1312"/>
                </a:lnTo>
                <a:lnTo>
                  <a:pt x="284" y="1266"/>
                </a:lnTo>
                <a:lnTo>
                  <a:pt x="260" y="1240"/>
                </a:lnTo>
                <a:lnTo>
                  <a:pt x="236" y="1240"/>
                </a:lnTo>
                <a:lnTo>
                  <a:pt x="210" y="1240"/>
                </a:lnTo>
                <a:lnTo>
                  <a:pt x="192" y="1224"/>
                </a:lnTo>
                <a:lnTo>
                  <a:pt x="176" y="1222"/>
                </a:lnTo>
                <a:lnTo>
                  <a:pt x="162" y="1222"/>
                </a:lnTo>
                <a:lnTo>
                  <a:pt x="152" y="1234"/>
                </a:lnTo>
                <a:lnTo>
                  <a:pt x="138" y="1252"/>
                </a:lnTo>
                <a:lnTo>
                  <a:pt x="132" y="1272"/>
                </a:lnTo>
                <a:lnTo>
                  <a:pt x="128" y="1278"/>
                </a:lnTo>
                <a:lnTo>
                  <a:pt x="116" y="1312"/>
                </a:lnTo>
                <a:lnTo>
                  <a:pt x="110" y="1302"/>
                </a:lnTo>
                <a:lnTo>
                  <a:pt x="108" y="1290"/>
                </a:lnTo>
                <a:lnTo>
                  <a:pt x="0" y="127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67120" y="2975040"/>
            <a:ext cx="2683080" cy="1996920"/>
          </a:xfrm>
          <a:custGeom>
            <a:avLst/>
            <a:gdLst/>
            <a:ahLst/>
            <a:rect l="l" t="t" r="r" b="b"/>
            <a:pathLst>
              <a:path w="1690" h="1258">
                <a:moveTo>
                  <a:pt x="0" y="598"/>
                </a:moveTo>
                <a:lnTo>
                  <a:pt x="8" y="550"/>
                </a:lnTo>
                <a:lnTo>
                  <a:pt x="70" y="540"/>
                </a:lnTo>
                <a:lnTo>
                  <a:pt x="176" y="474"/>
                </a:lnTo>
                <a:lnTo>
                  <a:pt x="164" y="442"/>
                </a:lnTo>
                <a:lnTo>
                  <a:pt x="176" y="408"/>
                </a:lnTo>
                <a:lnTo>
                  <a:pt x="150" y="350"/>
                </a:lnTo>
                <a:lnTo>
                  <a:pt x="226" y="332"/>
                </a:lnTo>
                <a:lnTo>
                  <a:pt x="246" y="254"/>
                </a:lnTo>
                <a:lnTo>
                  <a:pt x="312" y="256"/>
                </a:lnTo>
                <a:lnTo>
                  <a:pt x="322" y="204"/>
                </a:lnTo>
                <a:lnTo>
                  <a:pt x="352" y="190"/>
                </a:lnTo>
                <a:lnTo>
                  <a:pt x="388" y="196"/>
                </a:lnTo>
                <a:lnTo>
                  <a:pt x="416" y="238"/>
                </a:lnTo>
                <a:lnTo>
                  <a:pt x="456" y="254"/>
                </a:lnTo>
                <a:lnTo>
                  <a:pt x="472" y="348"/>
                </a:lnTo>
                <a:lnTo>
                  <a:pt x="594" y="384"/>
                </a:lnTo>
                <a:lnTo>
                  <a:pt x="644" y="448"/>
                </a:lnTo>
                <a:lnTo>
                  <a:pt x="746" y="442"/>
                </a:lnTo>
                <a:lnTo>
                  <a:pt x="860" y="492"/>
                </a:lnTo>
                <a:lnTo>
                  <a:pt x="1010" y="444"/>
                </a:lnTo>
                <a:lnTo>
                  <a:pt x="1056" y="410"/>
                </a:lnTo>
                <a:lnTo>
                  <a:pt x="1056" y="360"/>
                </a:lnTo>
                <a:lnTo>
                  <a:pt x="1098" y="364"/>
                </a:lnTo>
                <a:lnTo>
                  <a:pt x="1192" y="294"/>
                </a:lnTo>
                <a:lnTo>
                  <a:pt x="1264" y="288"/>
                </a:lnTo>
                <a:lnTo>
                  <a:pt x="1230" y="234"/>
                </a:lnTo>
                <a:lnTo>
                  <a:pt x="1160" y="248"/>
                </a:lnTo>
                <a:lnTo>
                  <a:pt x="1158" y="188"/>
                </a:lnTo>
                <a:lnTo>
                  <a:pt x="1176" y="152"/>
                </a:lnTo>
                <a:lnTo>
                  <a:pt x="1218" y="172"/>
                </a:lnTo>
                <a:lnTo>
                  <a:pt x="1258" y="150"/>
                </a:lnTo>
                <a:lnTo>
                  <a:pt x="1298" y="68"/>
                </a:lnTo>
                <a:lnTo>
                  <a:pt x="1280" y="38"/>
                </a:lnTo>
                <a:lnTo>
                  <a:pt x="1378" y="0"/>
                </a:lnTo>
                <a:lnTo>
                  <a:pt x="1436" y="26"/>
                </a:lnTo>
                <a:lnTo>
                  <a:pt x="1488" y="166"/>
                </a:lnTo>
                <a:lnTo>
                  <a:pt x="1570" y="196"/>
                </a:lnTo>
                <a:lnTo>
                  <a:pt x="1586" y="248"/>
                </a:lnTo>
                <a:lnTo>
                  <a:pt x="1690" y="214"/>
                </a:lnTo>
                <a:lnTo>
                  <a:pt x="1642" y="350"/>
                </a:lnTo>
                <a:lnTo>
                  <a:pt x="1580" y="372"/>
                </a:lnTo>
                <a:lnTo>
                  <a:pt x="1590" y="424"/>
                </a:lnTo>
                <a:lnTo>
                  <a:pt x="1570" y="454"/>
                </a:lnTo>
                <a:lnTo>
                  <a:pt x="1560" y="442"/>
                </a:lnTo>
                <a:lnTo>
                  <a:pt x="1508" y="480"/>
                </a:lnTo>
                <a:lnTo>
                  <a:pt x="1508" y="500"/>
                </a:lnTo>
                <a:lnTo>
                  <a:pt x="1468" y="496"/>
                </a:lnTo>
                <a:lnTo>
                  <a:pt x="1402" y="556"/>
                </a:lnTo>
                <a:lnTo>
                  <a:pt x="1316" y="606"/>
                </a:lnTo>
                <a:lnTo>
                  <a:pt x="1342" y="540"/>
                </a:lnTo>
                <a:lnTo>
                  <a:pt x="1328" y="518"/>
                </a:lnTo>
                <a:lnTo>
                  <a:pt x="1218" y="590"/>
                </a:lnTo>
                <a:lnTo>
                  <a:pt x="1216" y="612"/>
                </a:lnTo>
                <a:lnTo>
                  <a:pt x="1252" y="660"/>
                </a:lnTo>
                <a:lnTo>
                  <a:pt x="1302" y="638"/>
                </a:lnTo>
                <a:lnTo>
                  <a:pt x="1352" y="656"/>
                </a:lnTo>
                <a:lnTo>
                  <a:pt x="1284" y="694"/>
                </a:lnTo>
                <a:lnTo>
                  <a:pt x="1258" y="748"/>
                </a:lnTo>
                <a:lnTo>
                  <a:pt x="1332" y="862"/>
                </a:lnTo>
                <a:lnTo>
                  <a:pt x="1282" y="852"/>
                </a:lnTo>
                <a:lnTo>
                  <a:pt x="1332" y="890"/>
                </a:lnTo>
                <a:lnTo>
                  <a:pt x="1282" y="916"/>
                </a:lnTo>
                <a:lnTo>
                  <a:pt x="1336" y="926"/>
                </a:lnTo>
                <a:lnTo>
                  <a:pt x="1240" y="1110"/>
                </a:lnTo>
                <a:lnTo>
                  <a:pt x="1178" y="1164"/>
                </a:lnTo>
                <a:lnTo>
                  <a:pt x="1116" y="1182"/>
                </a:lnTo>
                <a:lnTo>
                  <a:pt x="1112" y="1184"/>
                </a:lnTo>
                <a:lnTo>
                  <a:pt x="1098" y="1170"/>
                </a:lnTo>
                <a:lnTo>
                  <a:pt x="1084" y="1202"/>
                </a:lnTo>
                <a:lnTo>
                  <a:pt x="1010" y="1222"/>
                </a:lnTo>
                <a:lnTo>
                  <a:pt x="1004" y="1258"/>
                </a:lnTo>
                <a:lnTo>
                  <a:pt x="992" y="1212"/>
                </a:lnTo>
                <a:lnTo>
                  <a:pt x="944" y="1214"/>
                </a:lnTo>
                <a:lnTo>
                  <a:pt x="870" y="1160"/>
                </a:lnTo>
                <a:lnTo>
                  <a:pt x="784" y="1184"/>
                </a:lnTo>
                <a:lnTo>
                  <a:pt x="770" y="1186"/>
                </a:lnTo>
                <a:lnTo>
                  <a:pt x="772" y="1222"/>
                </a:lnTo>
                <a:lnTo>
                  <a:pt x="760" y="1210"/>
                </a:lnTo>
                <a:lnTo>
                  <a:pt x="706" y="1194"/>
                </a:lnTo>
                <a:lnTo>
                  <a:pt x="692" y="1128"/>
                </a:lnTo>
                <a:lnTo>
                  <a:pt x="658" y="1136"/>
                </a:lnTo>
                <a:lnTo>
                  <a:pt x="690" y="1040"/>
                </a:lnTo>
                <a:lnTo>
                  <a:pt x="690" y="1008"/>
                </a:lnTo>
                <a:lnTo>
                  <a:pt x="652" y="988"/>
                </a:lnTo>
                <a:lnTo>
                  <a:pt x="624" y="974"/>
                </a:lnTo>
                <a:lnTo>
                  <a:pt x="614" y="940"/>
                </a:lnTo>
                <a:lnTo>
                  <a:pt x="498" y="1000"/>
                </a:lnTo>
                <a:lnTo>
                  <a:pt x="446" y="984"/>
                </a:lnTo>
                <a:lnTo>
                  <a:pt x="418" y="1016"/>
                </a:lnTo>
                <a:lnTo>
                  <a:pt x="414" y="992"/>
                </a:lnTo>
                <a:lnTo>
                  <a:pt x="396" y="998"/>
                </a:lnTo>
                <a:lnTo>
                  <a:pt x="336" y="998"/>
                </a:lnTo>
                <a:lnTo>
                  <a:pt x="290" y="946"/>
                </a:lnTo>
                <a:lnTo>
                  <a:pt x="202" y="912"/>
                </a:lnTo>
                <a:lnTo>
                  <a:pt x="144" y="888"/>
                </a:lnTo>
                <a:lnTo>
                  <a:pt x="132" y="832"/>
                </a:lnTo>
                <a:lnTo>
                  <a:pt x="160" y="826"/>
                </a:lnTo>
                <a:lnTo>
                  <a:pt x="142" y="778"/>
                </a:lnTo>
                <a:lnTo>
                  <a:pt x="180" y="726"/>
                </a:lnTo>
                <a:lnTo>
                  <a:pt x="152" y="706"/>
                </a:lnTo>
                <a:lnTo>
                  <a:pt x="108" y="726"/>
                </a:lnTo>
                <a:lnTo>
                  <a:pt x="26" y="664"/>
                </a:lnTo>
                <a:lnTo>
                  <a:pt x="28" y="656"/>
                </a:lnTo>
                <a:lnTo>
                  <a:pt x="28" y="612"/>
                </a:lnTo>
                <a:lnTo>
                  <a:pt x="0" y="59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892760" y="5781600"/>
            <a:ext cx="511200" cy="625680"/>
          </a:xfrm>
          <a:custGeom>
            <a:avLst/>
            <a:gdLst/>
            <a:ahLst/>
            <a:rect l="l" t="t" r="r" b="b"/>
            <a:pathLst>
              <a:path w="322" h="394">
                <a:moveTo>
                  <a:pt x="0" y="0"/>
                </a:moveTo>
                <a:lnTo>
                  <a:pt x="72" y="12"/>
                </a:lnTo>
                <a:lnTo>
                  <a:pt x="162" y="118"/>
                </a:lnTo>
                <a:lnTo>
                  <a:pt x="234" y="156"/>
                </a:lnTo>
                <a:lnTo>
                  <a:pt x="226" y="184"/>
                </a:lnTo>
                <a:lnTo>
                  <a:pt x="250" y="182"/>
                </a:lnTo>
                <a:lnTo>
                  <a:pt x="250" y="220"/>
                </a:lnTo>
                <a:lnTo>
                  <a:pt x="322" y="294"/>
                </a:lnTo>
                <a:lnTo>
                  <a:pt x="312" y="392"/>
                </a:lnTo>
                <a:lnTo>
                  <a:pt x="282" y="394"/>
                </a:lnTo>
                <a:lnTo>
                  <a:pt x="218" y="334"/>
                </a:lnTo>
                <a:lnTo>
                  <a:pt x="110" y="13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1840" y="3038400"/>
            <a:ext cx="174600" cy="206280"/>
          </a:xfrm>
          <a:custGeom>
            <a:avLst/>
            <a:gdLst/>
            <a:ahLst/>
            <a:rect l="l" t="t" r="r" b="b"/>
            <a:pathLst>
              <a:path w="110" h="130">
                <a:moveTo>
                  <a:pt x="0" y="110"/>
                </a:moveTo>
                <a:lnTo>
                  <a:pt x="14" y="122"/>
                </a:lnTo>
                <a:lnTo>
                  <a:pt x="2" y="130"/>
                </a:lnTo>
                <a:lnTo>
                  <a:pt x="102" y="110"/>
                </a:lnTo>
                <a:lnTo>
                  <a:pt x="110" y="42"/>
                </a:lnTo>
                <a:lnTo>
                  <a:pt x="96" y="26"/>
                </a:lnTo>
                <a:lnTo>
                  <a:pt x="68" y="34"/>
                </a:lnTo>
                <a:lnTo>
                  <a:pt x="56" y="24"/>
                </a:lnTo>
                <a:lnTo>
                  <a:pt x="70" y="10"/>
                </a:lnTo>
                <a:lnTo>
                  <a:pt x="56" y="0"/>
                </a:lnTo>
                <a:lnTo>
                  <a:pt x="46" y="32"/>
                </a:lnTo>
                <a:lnTo>
                  <a:pt x="2" y="42"/>
                </a:lnTo>
                <a:lnTo>
                  <a:pt x="16" y="52"/>
                </a:lnTo>
                <a:lnTo>
                  <a:pt x="6" y="68"/>
                </a:lnTo>
                <a:lnTo>
                  <a:pt x="36" y="74"/>
                </a:lnTo>
                <a:lnTo>
                  <a:pt x="10" y="98"/>
                </a:lnTo>
                <a:lnTo>
                  <a:pt x="38" y="92"/>
                </a:lnTo>
                <a:lnTo>
                  <a:pt x="0" y="11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286080" y="3940200"/>
            <a:ext cx="625680" cy="523800"/>
          </a:xfrm>
          <a:custGeom>
            <a:avLst/>
            <a:gdLst/>
            <a:ahLst/>
            <a:rect l="l" t="t" r="r" b="b"/>
            <a:pathLst>
              <a:path w="394" h="330">
                <a:moveTo>
                  <a:pt x="0" y="160"/>
                </a:moveTo>
                <a:lnTo>
                  <a:pt x="4" y="246"/>
                </a:lnTo>
                <a:lnTo>
                  <a:pt x="32" y="272"/>
                </a:lnTo>
                <a:lnTo>
                  <a:pt x="10" y="314"/>
                </a:lnTo>
                <a:lnTo>
                  <a:pt x="54" y="330"/>
                </a:lnTo>
                <a:lnTo>
                  <a:pt x="154" y="314"/>
                </a:lnTo>
                <a:lnTo>
                  <a:pt x="174" y="268"/>
                </a:lnTo>
                <a:lnTo>
                  <a:pt x="242" y="240"/>
                </a:lnTo>
                <a:lnTo>
                  <a:pt x="248" y="200"/>
                </a:lnTo>
                <a:lnTo>
                  <a:pt x="274" y="188"/>
                </a:lnTo>
                <a:lnTo>
                  <a:pt x="262" y="166"/>
                </a:lnTo>
                <a:lnTo>
                  <a:pt x="286" y="164"/>
                </a:lnTo>
                <a:lnTo>
                  <a:pt x="304" y="124"/>
                </a:lnTo>
                <a:lnTo>
                  <a:pt x="296" y="84"/>
                </a:lnTo>
                <a:lnTo>
                  <a:pt x="390" y="54"/>
                </a:lnTo>
                <a:lnTo>
                  <a:pt x="394" y="44"/>
                </a:lnTo>
                <a:lnTo>
                  <a:pt x="358" y="36"/>
                </a:lnTo>
                <a:lnTo>
                  <a:pt x="308" y="64"/>
                </a:lnTo>
                <a:lnTo>
                  <a:pt x="286" y="0"/>
                </a:lnTo>
                <a:lnTo>
                  <a:pt x="244" y="50"/>
                </a:lnTo>
                <a:lnTo>
                  <a:pt x="124" y="44"/>
                </a:lnTo>
                <a:lnTo>
                  <a:pt x="62" y="122"/>
                </a:lnTo>
                <a:lnTo>
                  <a:pt x="20" y="96"/>
                </a:lnTo>
                <a:lnTo>
                  <a:pt x="0" y="16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3120" y="3692520"/>
            <a:ext cx="79560" cy="174600"/>
          </a:xfrm>
          <a:custGeom>
            <a:avLst/>
            <a:gdLst/>
            <a:ahLst/>
            <a:rect l="l" t="t" r="r" b="b"/>
            <a:pathLst>
              <a:path w="50" h="110">
                <a:moveTo>
                  <a:pt x="0" y="84"/>
                </a:moveTo>
                <a:lnTo>
                  <a:pt x="2" y="26"/>
                </a:lnTo>
                <a:lnTo>
                  <a:pt x="24" y="0"/>
                </a:lnTo>
                <a:lnTo>
                  <a:pt x="50" y="64"/>
                </a:lnTo>
                <a:lnTo>
                  <a:pt x="26" y="11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041480" y="3289320"/>
            <a:ext cx="336600" cy="152280"/>
          </a:xfrm>
          <a:custGeom>
            <a:avLst/>
            <a:gdLst/>
            <a:ahLst/>
            <a:rect l="l" t="t" r="r" b="b"/>
            <a:pathLst>
              <a:path w="212" h="96">
                <a:moveTo>
                  <a:pt x="0" y="54"/>
                </a:moveTo>
                <a:lnTo>
                  <a:pt x="4" y="60"/>
                </a:lnTo>
                <a:lnTo>
                  <a:pt x="4" y="76"/>
                </a:lnTo>
                <a:lnTo>
                  <a:pt x="28" y="80"/>
                </a:lnTo>
                <a:lnTo>
                  <a:pt x="70" y="72"/>
                </a:lnTo>
                <a:lnTo>
                  <a:pt x="118" y="96"/>
                </a:lnTo>
                <a:lnTo>
                  <a:pt x="184" y="80"/>
                </a:lnTo>
                <a:lnTo>
                  <a:pt x="212" y="30"/>
                </a:lnTo>
                <a:lnTo>
                  <a:pt x="200" y="0"/>
                </a:lnTo>
                <a:lnTo>
                  <a:pt x="120" y="4"/>
                </a:lnTo>
                <a:lnTo>
                  <a:pt x="94" y="54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486320" y="4629240"/>
            <a:ext cx="206280" cy="301680"/>
          </a:xfrm>
          <a:custGeom>
            <a:avLst/>
            <a:gdLst/>
            <a:ahLst/>
            <a:rect l="l" t="t" r="r" b="b"/>
            <a:pathLst>
              <a:path w="130" h="190">
                <a:moveTo>
                  <a:pt x="0" y="56"/>
                </a:moveTo>
                <a:lnTo>
                  <a:pt x="16" y="76"/>
                </a:lnTo>
                <a:lnTo>
                  <a:pt x="26" y="166"/>
                </a:lnTo>
                <a:lnTo>
                  <a:pt x="60" y="162"/>
                </a:lnTo>
                <a:lnTo>
                  <a:pt x="78" y="122"/>
                </a:lnTo>
                <a:lnTo>
                  <a:pt x="104" y="132"/>
                </a:lnTo>
                <a:lnTo>
                  <a:pt x="120" y="190"/>
                </a:lnTo>
                <a:lnTo>
                  <a:pt x="130" y="158"/>
                </a:lnTo>
                <a:lnTo>
                  <a:pt x="118" y="96"/>
                </a:lnTo>
                <a:lnTo>
                  <a:pt x="104" y="118"/>
                </a:lnTo>
                <a:lnTo>
                  <a:pt x="86" y="88"/>
                </a:lnTo>
                <a:lnTo>
                  <a:pt x="118" y="50"/>
                </a:lnTo>
                <a:lnTo>
                  <a:pt x="58" y="42"/>
                </a:lnTo>
                <a:lnTo>
                  <a:pt x="14" y="0"/>
                </a:lnTo>
                <a:lnTo>
                  <a:pt x="4" y="22"/>
                </a:lnTo>
                <a:lnTo>
                  <a:pt x="16" y="42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52400" y="311148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16"/>
                </a:moveTo>
                <a:lnTo>
                  <a:pt x="20" y="4"/>
                </a:lnTo>
                <a:lnTo>
                  <a:pt x="60" y="0"/>
                </a:lnTo>
                <a:lnTo>
                  <a:pt x="90" y="32"/>
                </a:lnTo>
                <a:lnTo>
                  <a:pt x="90" y="56"/>
                </a:lnTo>
                <a:lnTo>
                  <a:pt x="82" y="78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530600" y="4533840"/>
            <a:ext cx="136800" cy="85680"/>
          </a:xfrm>
          <a:custGeom>
            <a:avLst/>
            <a:gdLst/>
            <a:ahLst/>
            <a:rect l="l" t="t" r="r" b="b"/>
            <a:pathLst>
              <a:path w="86" h="54">
                <a:moveTo>
                  <a:pt x="0" y="32"/>
                </a:moveTo>
                <a:lnTo>
                  <a:pt x="10" y="54"/>
                </a:lnTo>
                <a:lnTo>
                  <a:pt x="86" y="44"/>
                </a:lnTo>
                <a:lnTo>
                  <a:pt x="80" y="14"/>
                </a:lnTo>
                <a:lnTo>
                  <a:pt x="28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12800" y="3587760"/>
            <a:ext cx="273240" cy="181080"/>
          </a:xfrm>
          <a:custGeom>
            <a:avLst/>
            <a:gdLst/>
            <a:ahLst/>
            <a:rect l="l" t="t" r="r" b="b"/>
            <a:pathLst>
              <a:path w="172" h="114">
                <a:moveTo>
                  <a:pt x="0" y="80"/>
                </a:moveTo>
                <a:lnTo>
                  <a:pt x="10" y="0"/>
                </a:lnTo>
                <a:lnTo>
                  <a:pt x="172" y="18"/>
                </a:lnTo>
                <a:lnTo>
                  <a:pt x="142" y="66"/>
                </a:lnTo>
                <a:lnTo>
                  <a:pt x="154" y="92"/>
                </a:lnTo>
                <a:lnTo>
                  <a:pt x="112" y="96"/>
                </a:lnTo>
                <a:lnTo>
                  <a:pt x="86" y="114"/>
                </a:lnTo>
                <a:lnTo>
                  <a:pt x="16" y="112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676760" y="4540320"/>
            <a:ext cx="396720" cy="961920"/>
          </a:xfrm>
          <a:custGeom>
            <a:avLst/>
            <a:gdLst/>
            <a:ahLst/>
            <a:rect l="l" t="t" r="r" b="b"/>
            <a:pathLst>
              <a:path w="250" h="606">
                <a:moveTo>
                  <a:pt x="0" y="246"/>
                </a:moveTo>
                <a:lnTo>
                  <a:pt x="10" y="212"/>
                </a:lnTo>
                <a:lnTo>
                  <a:pt x="82" y="56"/>
                </a:lnTo>
                <a:lnTo>
                  <a:pt x="130" y="34"/>
                </a:lnTo>
                <a:lnTo>
                  <a:pt x="142" y="0"/>
                </a:lnTo>
                <a:lnTo>
                  <a:pt x="180" y="20"/>
                </a:lnTo>
                <a:lnTo>
                  <a:pt x="180" y="52"/>
                </a:lnTo>
                <a:lnTo>
                  <a:pt x="148" y="148"/>
                </a:lnTo>
                <a:lnTo>
                  <a:pt x="182" y="140"/>
                </a:lnTo>
                <a:lnTo>
                  <a:pt x="196" y="204"/>
                </a:lnTo>
                <a:lnTo>
                  <a:pt x="250" y="220"/>
                </a:lnTo>
                <a:lnTo>
                  <a:pt x="224" y="254"/>
                </a:lnTo>
                <a:lnTo>
                  <a:pt x="164" y="294"/>
                </a:lnTo>
                <a:lnTo>
                  <a:pt x="148" y="334"/>
                </a:lnTo>
                <a:lnTo>
                  <a:pt x="182" y="408"/>
                </a:lnTo>
                <a:lnTo>
                  <a:pt x="168" y="450"/>
                </a:lnTo>
                <a:lnTo>
                  <a:pt x="208" y="546"/>
                </a:lnTo>
                <a:lnTo>
                  <a:pt x="180" y="606"/>
                </a:lnTo>
                <a:lnTo>
                  <a:pt x="150" y="398"/>
                </a:lnTo>
                <a:lnTo>
                  <a:pt x="126" y="364"/>
                </a:lnTo>
                <a:lnTo>
                  <a:pt x="86" y="422"/>
                </a:lnTo>
                <a:lnTo>
                  <a:pt x="56" y="410"/>
                </a:lnTo>
                <a:lnTo>
                  <a:pt x="62" y="336"/>
                </a:lnTo>
                <a:lnTo>
                  <a:pt x="0" y="24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130720" y="5264280"/>
            <a:ext cx="219240" cy="222120"/>
          </a:xfrm>
          <a:custGeom>
            <a:avLst/>
            <a:gdLst/>
            <a:ahLst/>
            <a:rect l="l" t="t" r="r" b="b"/>
            <a:pathLst>
              <a:path w="138" h="140">
                <a:moveTo>
                  <a:pt x="0" y="28"/>
                </a:moveTo>
                <a:lnTo>
                  <a:pt x="10" y="98"/>
                </a:lnTo>
                <a:lnTo>
                  <a:pt x="28" y="134"/>
                </a:lnTo>
                <a:lnTo>
                  <a:pt x="54" y="140"/>
                </a:lnTo>
                <a:lnTo>
                  <a:pt x="138" y="74"/>
                </a:lnTo>
                <a:lnTo>
                  <a:pt x="136" y="0"/>
                </a:lnTo>
                <a:lnTo>
                  <a:pt x="72" y="12"/>
                </a:lnTo>
                <a:lnTo>
                  <a:pt x="18" y="8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137120" y="5521320"/>
            <a:ext cx="79200" cy="193680"/>
          </a:xfrm>
          <a:custGeom>
            <a:avLst/>
            <a:gdLst/>
            <a:ahLst/>
            <a:rect l="l" t="t" r="r" b="b"/>
            <a:pathLst>
              <a:path w="50" h="122">
                <a:moveTo>
                  <a:pt x="0" y="0"/>
                </a:moveTo>
                <a:lnTo>
                  <a:pt x="8" y="122"/>
                </a:lnTo>
                <a:lnTo>
                  <a:pt x="50" y="100"/>
                </a:lnTo>
                <a:lnTo>
                  <a:pt x="3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403960" y="4981680"/>
            <a:ext cx="95040" cy="91800"/>
          </a:xfrm>
          <a:custGeom>
            <a:avLst/>
            <a:gdLst/>
            <a:ahLst/>
            <a:rect l="l" t="t" r="r" b="b"/>
            <a:pathLst>
              <a:path w="60" h="58">
                <a:moveTo>
                  <a:pt x="0" y="48"/>
                </a:moveTo>
                <a:lnTo>
                  <a:pt x="18" y="0"/>
                </a:lnTo>
                <a:lnTo>
                  <a:pt x="60" y="10"/>
                </a:lnTo>
                <a:lnTo>
                  <a:pt x="26" y="58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899320" y="4711680"/>
            <a:ext cx="75960" cy="165240"/>
          </a:xfrm>
          <a:custGeom>
            <a:avLst/>
            <a:gdLst/>
            <a:ahLst/>
            <a:rect l="l" t="t" r="r" b="b"/>
            <a:pathLst>
              <a:path w="48" h="104">
                <a:moveTo>
                  <a:pt x="0" y="44"/>
                </a:moveTo>
                <a:lnTo>
                  <a:pt x="20" y="104"/>
                </a:lnTo>
                <a:lnTo>
                  <a:pt x="48" y="0"/>
                </a:lnTo>
                <a:lnTo>
                  <a:pt x="24" y="2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149480" y="3137040"/>
            <a:ext cx="460080" cy="218880"/>
          </a:xfrm>
          <a:custGeom>
            <a:avLst/>
            <a:gdLst/>
            <a:ahLst/>
            <a:rect l="l" t="t" r="r" b="b"/>
            <a:pathLst>
              <a:path w="290" h="138">
                <a:moveTo>
                  <a:pt x="0" y="36"/>
                </a:moveTo>
                <a:lnTo>
                  <a:pt x="52" y="100"/>
                </a:lnTo>
                <a:lnTo>
                  <a:pt x="132" y="96"/>
                </a:lnTo>
                <a:lnTo>
                  <a:pt x="144" y="126"/>
                </a:lnTo>
                <a:lnTo>
                  <a:pt x="182" y="138"/>
                </a:lnTo>
                <a:lnTo>
                  <a:pt x="246" y="108"/>
                </a:lnTo>
                <a:lnTo>
                  <a:pt x="284" y="114"/>
                </a:lnTo>
                <a:lnTo>
                  <a:pt x="290" y="86"/>
                </a:lnTo>
                <a:lnTo>
                  <a:pt x="220" y="78"/>
                </a:lnTo>
                <a:lnTo>
                  <a:pt x="80" y="12"/>
                </a:lnTo>
                <a:lnTo>
                  <a:pt x="6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987480" y="2666880"/>
            <a:ext cx="114120" cy="203400"/>
          </a:xfrm>
          <a:custGeom>
            <a:avLst/>
            <a:gdLst/>
            <a:ahLst/>
            <a:rect l="l" t="t" r="r" b="b"/>
            <a:pathLst>
              <a:path w="72" h="128">
                <a:moveTo>
                  <a:pt x="0" y="100"/>
                </a:moveTo>
                <a:lnTo>
                  <a:pt x="4" y="36"/>
                </a:lnTo>
                <a:lnTo>
                  <a:pt x="62" y="0"/>
                </a:lnTo>
                <a:lnTo>
                  <a:pt x="52" y="52"/>
                </a:lnTo>
                <a:lnTo>
                  <a:pt x="72" y="66"/>
                </a:lnTo>
                <a:lnTo>
                  <a:pt x="36" y="94"/>
                </a:lnTo>
                <a:lnTo>
                  <a:pt x="34" y="128"/>
                </a:lnTo>
                <a:lnTo>
                  <a:pt x="12" y="128"/>
                </a:lnTo>
                <a:lnTo>
                  <a:pt x="0" y="1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063800" y="282564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14"/>
                </a:moveTo>
                <a:lnTo>
                  <a:pt x="22" y="0"/>
                </a:lnTo>
                <a:lnTo>
                  <a:pt x="26" y="1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117440" y="2781360"/>
            <a:ext cx="66960" cy="82440"/>
          </a:xfrm>
          <a:custGeom>
            <a:avLst/>
            <a:gdLst/>
            <a:ahLst/>
            <a:rect l="l" t="t" r="r" b="b"/>
            <a:pathLst>
              <a:path w="42" h="52">
                <a:moveTo>
                  <a:pt x="0" y="28"/>
                </a:moveTo>
                <a:lnTo>
                  <a:pt x="34" y="52"/>
                </a:lnTo>
                <a:lnTo>
                  <a:pt x="42" y="26"/>
                </a:lnTo>
                <a:lnTo>
                  <a:pt x="38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533600" y="1660680"/>
            <a:ext cx="485640" cy="853920"/>
          </a:xfrm>
          <a:custGeom>
            <a:avLst/>
            <a:gdLst/>
            <a:ahLst/>
            <a:rect l="l" t="t" r="r" b="b"/>
            <a:pathLst>
              <a:path w="306" h="538">
                <a:moveTo>
                  <a:pt x="0" y="50"/>
                </a:moveTo>
                <a:lnTo>
                  <a:pt x="22" y="38"/>
                </a:lnTo>
                <a:lnTo>
                  <a:pt x="52" y="66"/>
                </a:lnTo>
                <a:lnTo>
                  <a:pt x="106" y="72"/>
                </a:lnTo>
                <a:lnTo>
                  <a:pt x="136" y="60"/>
                </a:lnTo>
                <a:lnTo>
                  <a:pt x="152" y="6"/>
                </a:lnTo>
                <a:lnTo>
                  <a:pt x="206" y="0"/>
                </a:lnTo>
                <a:lnTo>
                  <a:pt x="234" y="8"/>
                </a:lnTo>
                <a:lnTo>
                  <a:pt x="232" y="52"/>
                </a:lnTo>
                <a:lnTo>
                  <a:pt x="232" y="68"/>
                </a:lnTo>
                <a:lnTo>
                  <a:pt x="226" y="96"/>
                </a:lnTo>
                <a:lnTo>
                  <a:pt x="266" y="138"/>
                </a:lnTo>
                <a:lnTo>
                  <a:pt x="242" y="176"/>
                </a:lnTo>
                <a:lnTo>
                  <a:pt x="268" y="232"/>
                </a:lnTo>
                <a:lnTo>
                  <a:pt x="260" y="286"/>
                </a:lnTo>
                <a:lnTo>
                  <a:pt x="306" y="392"/>
                </a:lnTo>
                <a:lnTo>
                  <a:pt x="188" y="504"/>
                </a:lnTo>
                <a:lnTo>
                  <a:pt x="62" y="538"/>
                </a:lnTo>
                <a:lnTo>
                  <a:pt x="56" y="514"/>
                </a:lnTo>
                <a:lnTo>
                  <a:pt x="14" y="498"/>
                </a:lnTo>
                <a:lnTo>
                  <a:pt x="8" y="396"/>
                </a:lnTo>
                <a:lnTo>
                  <a:pt x="130" y="284"/>
                </a:lnTo>
                <a:lnTo>
                  <a:pt x="92" y="218"/>
                </a:lnTo>
                <a:lnTo>
                  <a:pt x="78" y="106"/>
                </a:lnTo>
                <a:lnTo>
                  <a:pt x="0" y="5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31640" y="3137040"/>
            <a:ext cx="552600" cy="568080"/>
          </a:xfrm>
          <a:custGeom>
            <a:avLst/>
            <a:gdLst/>
            <a:ahLst/>
            <a:rect l="l" t="t" r="r" b="b"/>
            <a:pathLst>
              <a:path w="348" h="358">
                <a:moveTo>
                  <a:pt x="0" y="108"/>
                </a:moveTo>
                <a:lnTo>
                  <a:pt x="8" y="138"/>
                </a:lnTo>
                <a:lnTo>
                  <a:pt x="82" y="162"/>
                </a:lnTo>
                <a:lnTo>
                  <a:pt x="68" y="178"/>
                </a:lnTo>
                <a:lnTo>
                  <a:pt x="96" y="202"/>
                </a:lnTo>
                <a:lnTo>
                  <a:pt x="110" y="242"/>
                </a:lnTo>
                <a:lnTo>
                  <a:pt x="76" y="318"/>
                </a:lnTo>
                <a:lnTo>
                  <a:pt x="164" y="348"/>
                </a:lnTo>
                <a:lnTo>
                  <a:pt x="172" y="352"/>
                </a:lnTo>
                <a:lnTo>
                  <a:pt x="214" y="358"/>
                </a:lnTo>
                <a:lnTo>
                  <a:pt x="214" y="326"/>
                </a:lnTo>
                <a:lnTo>
                  <a:pt x="238" y="312"/>
                </a:lnTo>
                <a:lnTo>
                  <a:pt x="294" y="330"/>
                </a:lnTo>
                <a:lnTo>
                  <a:pt x="330" y="300"/>
                </a:lnTo>
                <a:lnTo>
                  <a:pt x="308" y="256"/>
                </a:lnTo>
                <a:lnTo>
                  <a:pt x="318" y="216"/>
                </a:lnTo>
                <a:lnTo>
                  <a:pt x="290" y="192"/>
                </a:lnTo>
                <a:lnTo>
                  <a:pt x="330" y="142"/>
                </a:lnTo>
                <a:lnTo>
                  <a:pt x="348" y="90"/>
                </a:lnTo>
                <a:lnTo>
                  <a:pt x="296" y="68"/>
                </a:lnTo>
                <a:lnTo>
                  <a:pt x="284" y="62"/>
                </a:lnTo>
                <a:lnTo>
                  <a:pt x="202" y="0"/>
                </a:lnTo>
                <a:lnTo>
                  <a:pt x="174" y="12"/>
                </a:lnTo>
                <a:lnTo>
                  <a:pt x="142" y="70"/>
                </a:lnTo>
                <a:lnTo>
                  <a:pt x="76" y="60"/>
                </a:lnTo>
                <a:lnTo>
                  <a:pt x="86" y="104"/>
                </a:lnTo>
                <a:lnTo>
                  <a:pt x="0" y="10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006560" y="3664080"/>
            <a:ext cx="31680" cy="101520"/>
          </a:xfrm>
          <a:custGeom>
            <a:avLst/>
            <a:gdLst/>
            <a:ahLst/>
            <a:rect l="l" t="t" r="r" b="b"/>
            <a:pathLst>
              <a:path w="20" h="64">
                <a:moveTo>
                  <a:pt x="0" y="34"/>
                </a:moveTo>
                <a:lnTo>
                  <a:pt x="18" y="64"/>
                </a:lnTo>
                <a:lnTo>
                  <a:pt x="20" y="0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514520" y="3740040"/>
            <a:ext cx="272880" cy="324000"/>
          </a:xfrm>
          <a:custGeom>
            <a:avLst/>
            <a:gdLst/>
            <a:ahLst/>
            <a:rect l="l" t="t" r="r" b="b"/>
            <a:pathLst>
              <a:path w="172" h="204">
                <a:moveTo>
                  <a:pt x="0" y="80"/>
                </a:moveTo>
                <a:lnTo>
                  <a:pt x="24" y="34"/>
                </a:lnTo>
                <a:lnTo>
                  <a:pt x="78" y="16"/>
                </a:lnTo>
                <a:lnTo>
                  <a:pt x="148" y="18"/>
                </a:lnTo>
                <a:lnTo>
                  <a:pt x="172" y="0"/>
                </a:lnTo>
                <a:lnTo>
                  <a:pt x="162" y="42"/>
                </a:lnTo>
                <a:lnTo>
                  <a:pt x="116" y="32"/>
                </a:lnTo>
                <a:lnTo>
                  <a:pt x="92" y="68"/>
                </a:lnTo>
                <a:lnTo>
                  <a:pt x="70" y="46"/>
                </a:lnTo>
                <a:lnTo>
                  <a:pt x="88" y="102"/>
                </a:lnTo>
                <a:lnTo>
                  <a:pt x="64" y="112"/>
                </a:lnTo>
                <a:lnTo>
                  <a:pt x="106" y="136"/>
                </a:lnTo>
                <a:lnTo>
                  <a:pt x="106" y="156"/>
                </a:lnTo>
                <a:lnTo>
                  <a:pt x="72" y="162"/>
                </a:lnTo>
                <a:lnTo>
                  <a:pt x="82" y="204"/>
                </a:lnTo>
                <a:lnTo>
                  <a:pt x="42" y="190"/>
                </a:lnTo>
                <a:lnTo>
                  <a:pt x="28" y="152"/>
                </a:lnTo>
                <a:lnTo>
                  <a:pt x="84" y="140"/>
                </a:lnTo>
                <a:lnTo>
                  <a:pt x="28" y="132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660680" y="4118040"/>
            <a:ext cx="12672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0" y="12"/>
                </a:moveTo>
                <a:lnTo>
                  <a:pt x="8" y="0"/>
                </a:lnTo>
                <a:lnTo>
                  <a:pt x="80" y="12"/>
                </a:lnTo>
                <a:lnTo>
                  <a:pt x="26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336680" y="3308400"/>
            <a:ext cx="291960" cy="181080"/>
          </a:xfrm>
          <a:custGeom>
            <a:avLst/>
            <a:gdLst/>
            <a:ahLst/>
            <a:rect l="l" t="t" r="r" b="b"/>
            <a:pathLst>
              <a:path w="184" h="114">
                <a:moveTo>
                  <a:pt x="0" y="66"/>
                </a:moveTo>
                <a:lnTo>
                  <a:pt x="26" y="18"/>
                </a:lnTo>
                <a:lnTo>
                  <a:pt x="66" y="30"/>
                </a:lnTo>
                <a:lnTo>
                  <a:pt x="128" y="0"/>
                </a:lnTo>
                <a:lnTo>
                  <a:pt x="166" y="6"/>
                </a:lnTo>
                <a:lnTo>
                  <a:pt x="184" y="22"/>
                </a:lnTo>
                <a:lnTo>
                  <a:pt x="112" y="100"/>
                </a:lnTo>
                <a:lnTo>
                  <a:pt x="52" y="114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619440" y="4092480"/>
            <a:ext cx="1279440" cy="1514520"/>
          </a:xfrm>
          <a:custGeom>
            <a:avLst/>
            <a:gdLst/>
            <a:ahLst/>
            <a:rect l="l" t="t" r="r" b="b"/>
            <a:pathLst>
              <a:path w="806" h="954">
                <a:moveTo>
                  <a:pt x="0" y="434"/>
                </a:moveTo>
                <a:lnTo>
                  <a:pt x="22" y="412"/>
                </a:lnTo>
                <a:lnTo>
                  <a:pt x="84" y="412"/>
                </a:lnTo>
                <a:lnTo>
                  <a:pt x="38" y="314"/>
                </a:lnTo>
                <a:lnTo>
                  <a:pt x="64" y="286"/>
                </a:lnTo>
                <a:lnTo>
                  <a:pt x="100" y="288"/>
                </a:lnTo>
                <a:lnTo>
                  <a:pt x="184" y="180"/>
                </a:lnTo>
                <a:lnTo>
                  <a:pt x="180" y="150"/>
                </a:lnTo>
                <a:lnTo>
                  <a:pt x="200" y="132"/>
                </a:lnTo>
                <a:lnTo>
                  <a:pt x="162" y="98"/>
                </a:lnTo>
                <a:lnTo>
                  <a:pt x="162" y="46"/>
                </a:lnTo>
                <a:lnTo>
                  <a:pt x="242" y="46"/>
                </a:lnTo>
                <a:lnTo>
                  <a:pt x="264" y="20"/>
                </a:lnTo>
                <a:lnTo>
                  <a:pt x="306" y="0"/>
                </a:lnTo>
                <a:lnTo>
                  <a:pt x="336" y="20"/>
                </a:lnTo>
                <a:lnTo>
                  <a:pt x="298" y="72"/>
                </a:lnTo>
                <a:lnTo>
                  <a:pt x="316" y="118"/>
                </a:lnTo>
                <a:lnTo>
                  <a:pt x="288" y="124"/>
                </a:lnTo>
                <a:lnTo>
                  <a:pt x="300" y="182"/>
                </a:lnTo>
                <a:lnTo>
                  <a:pt x="358" y="206"/>
                </a:lnTo>
                <a:lnTo>
                  <a:pt x="328" y="258"/>
                </a:lnTo>
                <a:lnTo>
                  <a:pt x="404" y="310"/>
                </a:lnTo>
                <a:lnTo>
                  <a:pt x="550" y="340"/>
                </a:lnTo>
                <a:lnTo>
                  <a:pt x="552" y="292"/>
                </a:lnTo>
                <a:lnTo>
                  <a:pt x="570" y="286"/>
                </a:lnTo>
                <a:lnTo>
                  <a:pt x="574" y="310"/>
                </a:lnTo>
                <a:lnTo>
                  <a:pt x="584" y="332"/>
                </a:lnTo>
                <a:lnTo>
                  <a:pt x="660" y="322"/>
                </a:lnTo>
                <a:lnTo>
                  <a:pt x="654" y="292"/>
                </a:lnTo>
                <a:lnTo>
                  <a:pt x="770" y="232"/>
                </a:lnTo>
                <a:lnTo>
                  <a:pt x="780" y="268"/>
                </a:lnTo>
                <a:lnTo>
                  <a:pt x="806" y="282"/>
                </a:lnTo>
                <a:lnTo>
                  <a:pt x="796" y="318"/>
                </a:lnTo>
                <a:lnTo>
                  <a:pt x="748" y="338"/>
                </a:lnTo>
                <a:lnTo>
                  <a:pt x="676" y="496"/>
                </a:lnTo>
                <a:lnTo>
                  <a:pt x="664" y="434"/>
                </a:lnTo>
                <a:lnTo>
                  <a:pt x="650" y="456"/>
                </a:lnTo>
                <a:lnTo>
                  <a:pt x="632" y="426"/>
                </a:lnTo>
                <a:lnTo>
                  <a:pt x="664" y="388"/>
                </a:lnTo>
                <a:lnTo>
                  <a:pt x="604" y="380"/>
                </a:lnTo>
                <a:lnTo>
                  <a:pt x="560" y="338"/>
                </a:lnTo>
                <a:lnTo>
                  <a:pt x="550" y="360"/>
                </a:lnTo>
                <a:lnTo>
                  <a:pt x="564" y="380"/>
                </a:lnTo>
                <a:lnTo>
                  <a:pt x="546" y="394"/>
                </a:lnTo>
                <a:lnTo>
                  <a:pt x="562" y="414"/>
                </a:lnTo>
                <a:lnTo>
                  <a:pt x="574" y="504"/>
                </a:lnTo>
                <a:lnTo>
                  <a:pt x="550" y="490"/>
                </a:lnTo>
                <a:lnTo>
                  <a:pt x="504" y="562"/>
                </a:lnTo>
                <a:lnTo>
                  <a:pt x="334" y="706"/>
                </a:lnTo>
                <a:lnTo>
                  <a:pt x="322" y="886"/>
                </a:lnTo>
                <a:lnTo>
                  <a:pt x="254" y="954"/>
                </a:lnTo>
                <a:lnTo>
                  <a:pt x="190" y="818"/>
                </a:lnTo>
                <a:lnTo>
                  <a:pt x="166" y="710"/>
                </a:lnTo>
                <a:lnTo>
                  <a:pt x="142" y="684"/>
                </a:lnTo>
                <a:lnTo>
                  <a:pt x="128" y="484"/>
                </a:lnTo>
                <a:lnTo>
                  <a:pt x="112" y="480"/>
                </a:lnTo>
                <a:lnTo>
                  <a:pt x="102" y="522"/>
                </a:lnTo>
                <a:lnTo>
                  <a:pt x="64" y="534"/>
                </a:lnTo>
                <a:lnTo>
                  <a:pt x="24" y="480"/>
                </a:lnTo>
                <a:lnTo>
                  <a:pt x="62" y="454"/>
                </a:lnTo>
                <a:lnTo>
                  <a:pt x="24" y="462"/>
                </a:lnTo>
                <a:lnTo>
                  <a:pt x="0" y="43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568600" y="3857760"/>
            <a:ext cx="834840" cy="847440"/>
          </a:xfrm>
          <a:custGeom>
            <a:avLst/>
            <a:gdLst/>
            <a:ahLst/>
            <a:rect l="l" t="t" r="r" b="b"/>
            <a:pathLst>
              <a:path w="526" h="534">
                <a:moveTo>
                  <a:pt x="0" y="16"/>
                </a:moveTo>
                <a:lnTo>
                  <a:pt x="10" y="0"/>
                </a:lnTo>
                <a:lnTo>
                  <a:pt x="52" y="38"/>
                </a:lnTo>
                <a:lnTo>
                  <a:pt x="104" y="6"/>
                </a:lnTo>
                <a:lnTo>
                  <a:pt x="108" y="38"/>
                </a:lnTo>
                <a:lnTo>
                  <a:pt x="130" y="48"/>
                </a:lnTo>
                <a:lnTo>
                  <a:pt x="136" y="82"/>
                </a:lnTo>
                <a:lnTo>
                  <a:pt x="208" y="122"/>
                </a:lnTo>
                <a:lnTo>
                  <a:pt x="274" y="110"/>
                </a:lnTo>
                <a:lnTo>
                  <a:pt x="270" y="88"/>
                </a:lnTo>
                <a:lnTo>
                  <a:pt x="358" y="56"/>
                </a:lnTo>
                <a:lnTo>
                  <a:pt x="470" y="116"/>
                </a:lnTo>
                <a:lnTo>
                  <a:pt x="472" y="148"/>
                </a:lnTo>
                <a:lnTo>
                  <a:pt x="452" y="212"/>
                </a:lnTo>
                <a:lnTo>
                  <a:pt x="456" y="298"/>
                </a:lnTo>
                <a:lnTo>
                  <a:pt x="484" y="324"/>
                </a:lnTo>
                <a:lnTo>
                  <a:pt x="462" y="366"/>
                </a:lnTo>
                <a:lnTo>
                  <a:pt x="526" y="466"/>
                </a:lnTo>
                <a:lnTo>
                  <a:pt x="484" y="534"/>
                </a:lnTo>
                <a:lnTo>
                  <a:pt x="366" y="510"/>
                </a:lnTo>
                <a:lnTo>
                  <a:pt x="340" y="466"/>
                </a:lnTo>
                <a:lnTo>
                  <a:pt x="258" y="482"/>
                </a:lnTo>
                <a:lnTo>
                  <a:pt x="200" y="440"/>
                </a:lnTo>
                <a:lnTo>
                  <a:pt x="158" y="356"/>
                </a:lnTo>
                <a:lnTo>
                  <a:pt x="130" y="344"/>
                </a:lnTo>
                <a:lnTo>
                  <a:pt x="120" y="360"/>
                </a:lnTo>
                <a:lnTo>
                  <a:pt x="84" y="278"/>
                </a:lnTo>
                <a:lnTo>
                  <a:pt x="32" y="228"/>
                </a:lnTo>
                <a:lnTo>
                  <a:pt x="56" y="148"/>
                </a:lnTo>
                <a:lnTo>
                  <a:pt x="36" y="140"/>
                </a:lnTo>
                <a:lnTo>
                  <a:pt x="16" y="9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327400" y="4013280"/>
            <a:ext cx="431640" cy="469800"/>
          </a:xfrm>
          <a:custGeom>
            <a:avLst/>
            <a:gdLst/>
            <a:ahLst/>
            <a:rect l="l" t="t" r="r" b="b"/>
            <a:pathLst>
              <a:path w="272" h="296">
                <a:moveTo>
                  <a:pt x="0" y="142"/>
                </a:moveTo>
                <a:lnTo>
                  <a:pt x="12" y="186"/>
                </a:lnTo>
                <a:lnTo>
                  <a:pt x="136" y="252"/>
                </a:lnTo>
                <a:lnTo>
                  <a:pt x="138" y="274"/>
                </a:lnTo>
                <a:lnTo>
                  <a:pt x="168" y="292"/>
                </a:lnTo>
                <a:lnTo>
                  <a:pt x="218" y="296"/>
                </a:lnTo>
                <a:lnTo>
                  <a:pt x="258" y="264"/>
                </a:lnTo>
                <a:lnTo>
                  <a:pt x="272" y="262"/>
                </a:lnTo>
                <a:lnTo>
                  <a:pt x="236" y="180"/>
                </a:lnTo>
                <a:lnTo>
                  <a:pt x="184" y="130"/>
                </a:lnTo>
                <a:lnTo>
                  <a:pt x="208" y="50"/>
                </a:lnTo>
                <a:lnTo>
                  <a:pt x="188" y="42"/>
                </a:lnTo>
                <a:lnTo>
                  <a:pt x="168" y="0"/>
                </a:lnTo>
                <a:lnTo>
                  <a:pt x="108" y="2"/>
                </a:lnTo>
                <a:lnTo>
                  <a:pt x="78" y="30"/>
                </a:lnTo>
                <a:lnTo>
                  <a:pt x="66" y="102"/>
                </a:lnTo>
                <a:lnTo>
                  <a:pt x="0" y="1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923760" y="3403440"/>
            <a:ext cx="514440" cy="568440"/>
          </a:xfrm>
          <a:custGeom>
            <a:avLst/>
            <a:gdLst/>
            <a:ahLst/>
            <a:rect l="l" t="t" r="r" b="b"/>
            <a:pathLst>
              <a:path w="324" h="358">
                <a:moveTo>
                  <a:pt x="0" y="88"/>
                </a:moveTo>
                <a:lnTo>
                  <a:pt x="8" y="48"/>
                </a:lnTo>
                <a:lnTo>
                  <a:pt x="46" y="28"/>
                </a:lnTo>
                <a:lnTo>
                  <a:pt x="64" y="48"/>
                </a:lnTo>
                <a:lnTo>
                  <a:pt x="102" y="8"/>
                </a:lnTo>
                <a:lnTo>
                  <a:pt x="144" y="0"/>
                </a:lnTo>
                <a:lnTo>
                  <a:pt x="192" y="24"/>
                </a:lnTo>
                <a:lnTo>
                  <a:pt x="192" y="64"/>
                </a:lnTo>
                <a:lnTo>
                  <a:pt x="156" y="70"/>
                </a:lnTo>
                <a:lnTo>
                  <a:pt x="160" y="118"/>
                </a:lnTo>
                <a:lnTo>
                  <a:pt x="222" y="200"/>
                </a:lnTo>
                <a:lnTo>
                  <a:pt x="258" y="204"/>
                </a:lnTo>
                <a:lnTo>
                  <a:pt x="254" y="222"/>
                </a:lnTo>
                <a:lnTo>
                  <a:pt x="324" y="274"/>
                </a:lnTo>
                <a:lnTo>
                  <a:pt x="276" y="266"/>
                </a:lnTo>
                <a:lnTo>
                  <a:pt x="286" y="316"/>
                </a:lnTo>
                <a:lnTo>
                  <a:pt x="258" y="358"/>
                </a:lnTo>
                <a:lnTo>
                  <a:pt x="244" y="278"/>
                </a:lnTo>
                <a:lnTo>
                  <a:pt x="124" y="186"/>
                </a:lnTo>
                <a:lnTo>
                  <a:pt x="94" y="126"/>
                </a:lnTo>
                <a:lnTo>
                  <a:pt x="56" y="106"/>
                </a:lnTo>
                <a:lnTo>
                  <a:pt x="20" y="132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990720" y="3768840"/>
            <a:ext cx="60120" cy="136440"/>
          </a:xfrm>
          <a:custGeom>
            <a:avLst/>
            <a:gdLst/>
            <a:ahLst/>
            <a:rect l="l" t="t" r="r" b="b"/>
            <a:pathLst>
              <a:path w="38" h="86">
                <a:moveTo>
                  <a:pt x="0" y="14"/>
                </a:moveTo>
                <a:lnTo>
                  <a:pt x="6" y="82"/>
                </a:lnTo>
                <a:lnTo>
                  <a:pt x="24" y="86"/>
                </a:lnTo>
                <a:lnTo>
                  <a:pt x="38" y="36"/>
                </a:lnTo>
                <a:lnTo>
                  <a:pt x="24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181160" y="3956040"/>
            <a:ext cx="12996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0" y="12"/>
                </a:moveTo>
                <a:lnTo>
                  <a:pt x="68" y="54"/>
                </a:lnTo>
                <a:lnTo>
                  <a:pt x="82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321600" y="4216320"/>
            <a:ext cx="101520" cy="142920"/>
          </a:xfrm>
          <a:custGeom>
            <a:avLst/>
            <a:gdLst/>
            <a:ahLst/>
            <a:rect l="l" t="t" r="r" b="b"/>
            <a:pathLst>
              <a:path w="64" h="90">
                <a:moveTo>
                  <a:pt x="0" y="24"/>
                </a:moveTo>
                <a:lnTo>
                  <a:pt x="2" y="46"/>
                </a:lnTo>
                <a:lnTo>
                  <a:pt x="18" y="24"/>
                </a:lnTo>
                <a:lnTo>
                  <a:pt x="24" y="38"/>
                </a:lnTo>
                <a:lnTo>
                  <a:pt x="18" y="90"/>
                </a:lnTo>
                <a:lnTo>
                  <a:pt x="46" y="90"/>
                </a:lnTo>
                <a:lnTo>
                  <a:pt x="64" y="34"/>
                </a:lnTo>
                <a:lnTo>
                  <a:pt x="54" y="4"/>
                </a:lnTo>
                <a:lnTo>
                  <a:pt x="24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375240" y="3765600"/>
            <a:ext cx="495360" cy="469800"/>
          </a:xfrm>
          <a:custGeom>
            <a:avLst/>
            <a:gdLst/>
            <a:ahLst/>
            <a:rect l="l" t="t" r="r" b="b"/>
            <a:pathLst>
              <a:path w="312" h="296">
                <a:moveTo>
                  <a:pt x="0" y="278"/>
                </a:moveTo>
                <a:lnTo>
                  <a:pt x="56" y="224"/>
                </a:lnTo>
                <a:lnTo>
                  <a:pt x="134" y="224"/>
                </a:lnTo>
                <a:lnTo>
                  <a:pt x="166" y="154"/>
                </a:lnTo>
                <a:lnTo>
                  <a:pt x="180" y="152"/>
                </a:lnTo>
                <a:lnTo>
                  <a:pt x="180" y="174"/>
                </a:lnTo>
                <a:lnTo>
                  <a:pt x="214" y="152"/>
                </a:lnTo>
                <a:lnTo>
                  <a:pt x="246" y="100"/>
                </a:lnTo>
                <a:lnTo>
                  <a:pt x="260" y="14"/>
                </a:lnTo>
                <a:lnTo>
                  <a:pt x="284" y="18"/>
                </a:lnTo>
                <a:lnTo>
                  <a:pt x="276" y="0"/>
                </a:lnTo>
                <a:lnTo>
                  <a:pt x="292" y="0"/>
                </a:lnTo>
                <a:lnTo>
                  <a:pt x="312" y="72"/>
                </a:lnTo>
                <a:lnTo>
                  <a:pt x="284" y="120"/>
                </a:lnTo>
                <a:lnTo>
                  <a:pt x="284" y="166"/>
                </a:lnTo>
                <a:lnTo>
                  <a:pt x="264" y="234"/>
                </a:lnTo>
                <a:lnTo>
                  <a:pt x="250" y="244"/>
                </a:lnTo>
                <a:lnTo>
                  <a:pt x="248" y="218"/>
                </a:lnTo>
                <a:lnTo>
                  <a:pt x="206" y="256"/>
                </a:lnTo>
                <a:lnTo>
                  <a:pt x="166" y="240"/>
                </a:lnTo>
                <a:lnTo>
                  <a:pt x="168" y="270"/>
                </a:lnTo>
                <a:lnTo>
                  <a:pt x="134" y="296"/>
                </a:lnTo>
                <a:lnTo>
                  <a:pt x="126" y="254"/>
                </a:lnTo>
                <a:lnTo>
                  <a:pt x="0" y="27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432480" y="4197240"/>
            <a:ext cx="98640" cy="82800"/>
          </a:xfrm>
          <a:custGeom>
            <a:avLst/>
            <a:gdLst/>
            <a:ahLst/>
            <a:rect l="l" t="t" r="r" b="b"/>
            <a:pathLst>
              <a:path w="62" h="52">
                <a:moveTo>
                  <a:pt x="0" y="26"/>
                </a:moveTo>
                <a:lnTo>
                  <a:pt x="24" y="52"/>
                </a:lnTo>
                <a:lnTo>
                  <a:pt x="60" y="32"/>
                </a:lnTo>
                <a:lnTo>
                  <a:pt x="62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72320" y="3514680"/>
            <a:ext cx="257040" cy="247680"/>
          </a:xfrm>
          <a:custGeom>
            <a:avLst/>
            <a:gdLst/>
            <a:ahLst/>
            <a:rect l="l" t="t" r="r" b="b"/>
            <a:pathLst>
              <a:path w="162" h="156">
                <a:moveTo>
                  <a:pt x="0" y="112"/>
                </a:moveTo>
                <a:lnTo>
                  <a:pt x="6" y="156"/>
                </a:lnTo>
                <a:lnTo>
                  <a:pt x="34" y="142"/>
                </a:lnTo>
                <a:lnTo>
                  <a:pt x="16" y="114"/>
                </a:lnTo>
                <a:lnTo>
                  <a:pt x="94" y="138"/>
                </a:lnTo>
                <a:lnTo>
                  <a:pt x="112" y="100"/>
                </a:lnTo>
                <a:lnTo>
                  <a:pt x="162" y="90"/>
                </a:lnTo>
                <a:lnTo>
                  <a:pt x="144" y="64"/>
                </a:lnTo>
                <a:lnTo>
                  <a:pt x="150" y="42"/>
                </a:lnTo>
                <a:lnTo>
                  <a:pt x="106" y="46"/>
                </a:lnTo>
                <a:lnTo>
                  <a:pt x="56" y="0"/>
                </a:lnTo>
                <a:lnTo>
                  <a:pt x="38" y="90"/>
                </a:lnTo>
                <a:lnTo>
                  <a:pt x="14" y="84"/>
                </a:lnTo>
                <a:lnTo>
                  <a:pt x="0" y="11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089760" y="3673440"/>
            <a:ext cx="272880" cy="314280"/>
          </a:xfrm>
          <a:custGeom>
            <a:avLst/>
            <a:gdLst/>
            <a:ahLst/>
            <a:rect l="l" t="t" r="r" b="b"/>
            <a:pathLst>
              <a:path w="172" h="198">
                <a:moveTo>
                  <a:pt x="0" y="114"/>
                </a:moveTo>
                <a:lnTo>
                  <a:pt x="30" y="130"/>
                </a:lnTo>
                <a:lnTo>
                  <a:pt x="10" y="188"/>
                </a:lnTo>
                <a:lnTo>
                  <a:pt x="60" y="198"/>
                </a:lnTo>
                <a:lnTo>
                  <a:pt x="110" y="166"/>
                </a:lnTo>
                <a:lnTo>
                  <a:pt x="88" y="118"/>
                </a:lnTo>
                <a:lnTo>
                  <a:pt x="146" y="76"/>
                </a:lnTo>
                <a:lnTo>
                  <a:pt x="172" y="20"/>
                </a:lnTo>
                <a:lnTo>
                  <a:pt x="170" y="12"/>
                </a:lnTo>
                <a:lnTo>
                  <a:pt x="160" y="0"/>
                </a:lnTo>
                <a:lnTo>
                  <a:pt x="108" y="38"/>
                </a:lnTo>
                <a:lnTo>
                  <a:pt x="108" y="58"/>
                </a:lnTo>
                <a:lnTo>
                  <a:pt x="68" y="52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3936960"/>
            <a:ext cx="146160" cy="250920"/>
          </a:xfrm>
          <a:custGeom>
            <a:avLst/>
            <a:gdLst/>
            <a:ahLst/>
            <a:rect l="l" t="t" r="r" b="b"/>
            <a:pathLst>
              <a:path w="92" h="158">
                <a:moveTo>
                  <a:pt x="0" y="158"/>
                </a:moveTo>
                <a:lnTo>
                  <a:pt x="8" y="32"/>
                </a:lnTo>
                <a:lnTo>
                  <a:pt x="58" y="0"/>
                </a:lnTo>
                <a:lnTo>
                  <a:pt x="92" y="94"/>
                </a:lnTo>
                <a:lnTo>
                  <a:pt x="58" y="140"/>
                </a:lnTo>
                <a:lnTo>
                  <a:pt x="0" y="15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032440" y="4851360"/>
            <a:ext cx="314280" cy="432000"/>
          </a:xfrm>
          <a:custGeom>
            <a:avLst/>
            <a:gdLst/>
            <a:ahLst/>
            <a:rect l="l" t="t" r="r" b="b"/>
            <a:pathLst>
              <a:path w="198" h="272">
                <a:moveTo>
                  <a:pt x="0" y="58"/>
                </a:moveTo>
                <a:lnTo>
                  <a:pt x="26" y="96"/>
                </a:lnTo>
                <a:lnTo>
                  <a:pt x="16" y="164"/>
                </a:lnTo>
                <a:lnTo>
                  <a:pt x="86" y="136"/>
                </a:lnTo>
                <a:lnTo>
                  <a:pt x="116" y="164"/>
                </a:lnTo>
                <a:lnTo>
                  <a:pt x="142" y="232"/>
                </a:lnTo>
                <a:lnTo>
                  <a:pt x="134" y="272"/>
                </a:lnTo>
                <a:lnTo>
                  <a:pt x="198" y="260"/>
                </a:lnTo>
                <a:lnTo>
                  <a:pt x="166" y="170"/>
                </a:lnTo>
                <a:lnTo>
                  <a:pt x="100" y="108"/>
                </a:lnTo>
                <a:lnTo>
                  <a:pt x="116" y="70"/>
                </a:lnTo>
                <a:lnTo>
                  <a:pt x="80" y="48"/>
                </a:lnTo>
                <a:lnTo>
                  <a:pt x="50" y="0"/>
                </a:lnTo>
                <a:lnTo>
                  <a:pt x="34" y="2"/>
                </a:lnTo>
                <a:lnTo>
                  <a:pt x="36" y="36"/>
                </a:lnTo>
                <a:lnTo>
                  <a:pt x="26" y="24"/>
                </a:lnTo>
                <a:lnTo>
                  <a:pt x="0" y="5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873000" y="320364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12" y="0"/>
                </a:moveTo>
                <a:lnTo>
                  <a:pt x="20" y="2"/>
                </a:lnTo>
                <a:lnTo>
                  <a:pt x="24" y="12"/>
                </a:lnTo>
                <a:lnTo>
                  <a:pt x="20" y="22"/>
                </a:lnTo>
                <a:lnTo>
                  <a:pt x="12" y="24"/>
                </a:lnTo>
                <a:lnTo>
                  <a:pt x="4" y="22"/>
                </a:lnTo>
                <a:lnTo>
                  <a:pt x="0" y="12"/>
                </a:lnTo>
                <a:lnTo>
                  <a:pt x="4" y="2"/>
                </a:lnTo>
                <a:lnTo>
                  <a:pt x="12" y="0"/>
                </a:lnTo>
                <a:lnTo>
                  <a:pt x="12" y="0"/>
                </a:lnTo>
                <a:lnTo>
                  <a:pt x="20" y="2"/>
                </a:lnTo>
                <a:lnTo>
                  <a:pt x="24" y="12"/>
                </a:lnTo>
                <a:lnTo>
                  <a:pt x="20" y="22"/>
                </a:lnTo>
                <a:lnTo>
                  <a:pt x="12" y="24"/>
                </a:lnTo>
                <a:lnTo>
                  <a:pt x="4" y="22"/>
                </a:lnTo>
                <a:lnTo>
                  <a:pt x="0" y="12"/>
                </a:lnTo>
                <a:lnTo>
                  <a:pt x="4" y="2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6f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92080" y="32227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6e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92080" y="32227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6e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882720" y="3235320"/>
            <a:ext cx="1440" cy="1440"/>
          </a:xfrm>
          <a:prstGeom prst="line">
            <a:avLst/>
          </a:prstGeom>
          <a:ln w="3240">
            <a:solidFill>
              <a:srgbClr val="c7c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035680" y="5689440"/>
            <a:ext cx="158760" cy="260640"/>
          </a:xfrm>
          <a:custGeom>
            <a:avLst/>
            <a:gdLst/>
            <a:ahLst/>
            <a:rect l="l" t="t" r="r" b="b"/>
            <a:pathLst>
              <a:path w="100" h="164">
                <a:moveTo>
                  <a:pt x="0" y="0"/>
                </a:moveTo>
                <a:lnTo>
                  <a:pt x="20" y="0"/>
                </a:lnTo>
                <a:lnTo>
                  <a:pt x="24" y="30"/>
                </a:lnTo>
                <a:lnTo>
                  <a:pt x="50" y="12"/>
                </a:lnTo>
                <a:lnTo>
                  <a:pt x="86" y="48"/>
                </a:lnTo>
                <a:lnTo>
                  <a:pt x="100" y="164"/>
                </a:lnTo>
                <a:lnTo>
                  <a:pt x="100" y="164"/>
                </a:lnTo>
                <a:lnTo>
                  <a:pt x="30" y="1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483080" y="3063960"/>
            <a:ext cx="1387440" cy="689040"/>
          </a:xfrm>
          <a:custGeom>
            <a:avLst/>
            <a:gdLst/>
            <a:ahLst/>
            <a:rect l="l" t="t" r="r" b="b"/>
            <a:pathLst>
              <a:path w="874" h="434">
                <a:moveTo>
                  <a:pt x="0" y="136"/>
                </a:moveTo>
                <a:lnTo>
                  <a:pt x="28" y="180"/>
                </a:lnTo>
                <a:lnTo>
                  <a:pt x="66" y="196"/>
                </a:lnTo>
                <a:lnTo>
                  <a:pt x="82" y="288"/>
                </a:lnTo>
                <a:lnTo>
                  <a:pt x="204" y="326"/>
                </a:lnTo>
                <a:lnTo>
                  <a:pt x="256" y="388"/>
                </a:lnTo>
                <a:lnTo>
                  <a:pt x="356" y="384"/>
                </a:lnTo>
                <a:lnTo>
                  <a:pt x="470" y="434"/>
                </a:lnTo>
                <a:lnTo>
                  <a:pt x="620" y="388"/>
                </a:lnTo>
                <a:lnTo>
                  <a:pt x="668" y="350"/>
                </a:lnTo>
                <a:lnTo>
                  <a:pt x="668" y="302"/>
                </a:lnTo>
                <a:lnTo>
                  <a:pt x="708" y="306"/>
                </a:lnTo>
                <a:lnTo>
                  <a:pt x="802" y="236"/>
                </a:lnTo>
                <a:lnTo>
                  <a:pt x="874" y="230"/>
                </a:lnTo>
                <a:lnTo>
                  <a:pt x="842" y="176"/>
                </a:lnTo>
                <a:lnTo>
                  <a:pt x="770" y="188"/>
                </a:lnTo>
                <a:lnTo>
                  <a:pt x="770" y="128"/>
                </a:lnTo>
                <a:lnTo>
                  <a:pt x="788" y="94"/>
                </a:lnTo>
                <a:lnTo>
                  <a:pt x="738" y="86"/>
                </a:lnTo>
                <a:lnTo>
                  <a:pt x="606" y="124"/>
                </a:lnTo>
                <a:lnTo>
                  <a:pt x="490" y="68"/>
                </a:lnTo>
                <a:lnTo>
                  <a:pt x="418" y="76"/>
                </a:lnTo>
                <a:lnTo>
                  <a:pt x="390" y="28"/>
                </a:lnTo>
                <a:lnTo>
                  <a:pt x="316" y="0"/>
                </a:lnTo>
                <a:lnTo>
                  <a:pt x="278" y="30"/>
                </a:lnTo>
                <a:lnTo>
                  <a:pt x="276" y="94"/>
                </a:lnTo>
                <a:lnTo>
                  <a:pt x="110" y="66"/>
                </a:lnTo>
                <a:lnTo>
                  <a:pt x="0" y="13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916360" y="4724280"/>
            <a:ext cx="336600" cy="444600"/>
          </a:xfrm>
          <a:custGeom>
            <a:avLst/>
            <a:gdLst/>
            <a:ahLst/>
            <a:rect l="l" t="t" r="r" b="b"/>
            <a:pathLst>
              <a:path w="212" h="280">
                <a:moveTo>
                  <a:pt x="0" y="200"/>
                </a:moveTo>
                <a:lnTo>
                  <a:pt x="28" y="280"/>
                </a:lnTo>
                <a:lnTo>
                  <a:pt x="78" y="270"/>
                </a:lnTo>
                <a:lnTo>
                  <a:pt x="156" y="198"/>
                </a:lnTo>
                <a:lnTo>
                  <a:pt x="154" y="164"/>
                </a:lnTo>
                <a:lnTo>
                  <a:pt x="208" y="104"/>
                </a:lnTo>
                <a:lnTo>
                  <a:pt x="212" y="84"/>
                </a:lnTo>
                <a:lnTo>
                  <a:pt x="182" y="46"/>
                </a:lnTo>
                <a:lnTo>
                  <a:pt x="116" y="0"/>
                </a:lnTo>
                <a:lnTo>
                  <a:pt x="100" y="0"/>
                </a:lnTo>
                <a:lnTo>
                  <a:pt x="110" y="26"/>
                </a:lnTo>
                <a:lnTo>
                  <a:pt x="88" y="74"/>
                </a:lnTo>
                <a:lnTo>
                  <a:pt x="100" y="98"/>
                </a:lnTo>
                <a:lnTo>
                  <a:pt x="80" y="166"/>
                </a:lnTo>
                <a:lnTo>
                  <a:pt x="0" y="2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143240" y="4419720"/>
            <a:ext cx="352440" cy="212760"/>
          </a:xfrm>
          <a:custGeom>
            <a:avLst/>
            <a:gdLst/>
            <a:ahLst/>
            <a:rect l="l" t="t" r="r" b="b"/>
            <a:pathLst>
              <a:path w="222" h="134">
                <a:moveTo>
                  <a:pt x="0" y="52"/>
                </a:moveTo>
                <a:lnTo>
                  <a:pt x="28" y="0"/>
                </a:lnTo>
                <a:lnTo>
                  <a:pt x="116" y="32"/>
                </a:lnTo>
                <a:lnTo>
                  <a:pt x="162" y="86"/>
                </a:lnTo>
                <a:lnTo>
                  <a:pt x="222" y="86"/>
                </a:lnTo>
                <a:lnTo>
                  <a:pt x="220" y="134"/>
                </a:lnTo>
                <a:lnTo>
                  <a:pt x="74" y="104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84080" y="2990880"/>
            <a:ext cx="158760" cy="171360"/>
          </a:xfrm>
          <a:custGeom>
            <a:avLst/>
            <a:gdLst/>
            <a:ahLst/>
            <a:rect l="l" t="t" r="r" b="b"/>
            <a:pathLst>
              <a:path w="100" h="108">
                <a:moveTo>
                  <a:pt x="0" y="80"/>
                </a:moveTo>
                <a:lnTo>
                  <a:pt x="38" y="68"/>
                </a:lnTo>
                <a:lnTo>
                  <a:pt x="20" y="54"/>
                </a:lnTo>
                <a:lnTo>
                  <a:pt x="38" y="18"/>
                </a:lnTo>
                <a:lnTo>
                  <a:pt x="54" y="42"/>
                </a:lnTo>
                <a:lnTo>
                  <a:pt x="54" y="0"/>
                </a:lnTo>
                <a:lnTo>
                  <a:pt x="100" y="0"/>
                </a:lnTo>
                <a:lnTo>
                  <a:pt x="96" y="42"/>
                </a:lnTo>
                <a:lnTo>
                  <a:pt x="66" y="56"/>
                </a:lnTo>
                <a:lnTo>
                  <a:pt x="68" y="108"/>
                </a:lnTo>
                <a:lnTo>
                  <a:pt x="40" y="76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51040" y="1555920"/>
            <a:ext cx="1143000" cy="1076040"/>
          </a:xfrm>
          <a:custGeom>
            <a:avLst/>
            <a:gdLst/>
            <a:ahLst/>
            <a:rect l="l" t="t" r="r" b="b"/>
            <a:pathLst>
              <a:path w="720" h="678">
                <a:moveTo>
                  <a:pt x="0" y="510"/>
                </a:moveTo>
                <a:lnTo>
                  <a:pt x="2" y="536"/>
                </a:lnTo>
                <a:lnTo>
                  <a:pt x="66" y="518"/>
                </a:lnTo>
                <a:lnTo>
                  <a:pt x="68" y="528"/>
                </a:lnTo>
                <a:lnTo>
                  <a:pt x="0" y="546"/>
                </a:lnTo>
                <a:lnTo>
                  <a:pt x="20" y="558"/>
                </a:lnTo>
                <a:lnTo>
                  <a:pt x="12" y="596"/>
                </a:lnTo>
                <a:lnTo>
                  <a:pt x="60" y="564"/>
                </a:lnTo>
                <a:lnTo>
                  <a:pt x="8" y="616"/>
                </a:lnTo>
                <a:lnTo>
                  <a:pt x="36" y="616"/>
                </a:lnTo>
                <a:lnTo>
                  <a:pt x="20" y="660"/>
                </a:lnTo>
                <a:lnTo>
                  <a:pt x="86" y="678"/>
                </a:lnTo>
                <a:lnTo>
                  <a:pt x="140" y="636"/>
                </a:lnTo>
                <a:lnTo>
                  <a:pt x="154" y="596"/>
                </a:lnTo>
                <a:lnTo>
                  <a:pt x="170" y="636"/>
                </a:lnTo>
                <a:lnTo>
                  <a:pt x="204" y="586"/>
                </a:lnTo>
                <a:lnTo>
                  <a:pt x="196" y="542"/>
                </a:lnTo>
                <a:lnTo>
                  <a:pt x="210" y="526"/>
                </a:lnTo>
                <a:lnTo>
                  <a:pt x="196" y="504"/>
                </a:lnTo>
                <a:lnTo>
                  <a:pt x="200" y="406"/>
                </a:lnTo>
                <a:lnTo>
                  <a:pt x="250" y="384"/>
                </a:lnTo>
                <a:lnTo>
                  <a:pt x="240" y="356"/>
                </a:lnTo>
                <a:lnTo>
                  <a:pt x="262" y="282"/>
                </a:lnTo>
                <a:lnTo>
                  <a:pt x="310" y="228"/>
                </a:lnTo>
                <a:lnTo>
                  <a:pt x="320" y="184"/>
                </a:lnTo>
                <a:lnTo>
                  <a:pt x="352" y="174"/>
                </a:lnTo>
                <a:lnTo>
                  <a:pt x="364" y="146"/>
                </a:lnTo>
                <a:lnTo>
                  <a:pt x="416" y="154"/>
                </a:lnTo>
                <a:lnTo>
                  <a:pt x="416" y="118"/>
                </a:lnTo>
                <a:lnTo>
                  <a:pt x="428" y="118"/>
                </a:lnTo>
                <a:lnTo>
                  <a:pt x="448" y="102"/>
                </a:lnTo>
                <a:lnTo>
                  <a:pt x="480" y="134"/>
                </a:lnTo>
                <a:lnTo>
                  <a:pt x="538" y="138"/>
                </a:lnTo>
                <a:lnTo>
                  <a:pt x="572" y="118"/>
                </a:lnTo>
                <a:lnTo>
                  <a:pt x="580" y="74"/>
                </a:lnTo>
                <a:lnTo>
                  <a:pt x="634" y="62"/>
                </a:lnTo>
                <a:lnTo>
                  <a:pt x="664" y="80"/>
                </a:lnTo>
                <a:lnTo>
                  <a:pt x="664" y="120"/>
                </a:lnTo>
                <a:lnTo>
                  <a:pt x="720" y="80"/>
                </a:lnTo>
                <a:lnTo>
                  <a:pt x="682" y="80"/>
                </a:lnTo>
                <a:lnTo>
                  <a:pt x="688" y="70"/>
                </a:lnTo>
                <a:lnTo>
                  <a:pt x="652" y="58"/>
                </a:lnTo>
                <a:lnTo>
                  <a:pt x="714" y="38"/>
                </a:lnTo>
                <a:lnTo>
                  <a:pt x="664" y="10"/>
                </a:lnTo>
                <a:lnTo>
                  <a:pt x="632" y="38"/>
                </a:lnTo>
                <a:lnTo>
                  <a:pt x="650" y="2"/>
                </a:lnTo>
                <a:lnTo>
                  <a:pt x="622" y="0"/>
                </a:lnTo>
                <a:lnTo>
                  <a:pt x="604" y="38"/>
                </a:lnTo>
                <a:lnTo>
                  <a:pt x="594" y="40"/>
                </a:lnTo>
                <a:lnTo>
                  <a:pt x="594" y="8"/>
                </a:lnTo>
                <a:lnTo>
                  <a:pt x="552" y="62"/>
                </a:lnTo>
                <a:lnTo>
                  <a:pt x="574" y="12"/>
                </a:lnTo>
                <a:lnTo>
                  <a:pt x="552" y="4"/>
                </a:lnTo>
                <a:lnTo>
                  <a:pt x="502" y="66"/>
                </a:lnTo>
                <a:lnTo>
                  <a:pt x="456" y="46"/>
                </a:lnTo>
                <a:lnTo>
                  <a:pt x="468" y="80"/>
                </a:lnTo>
                <a:lnTo>
                  <a:pt x="448" y="62"/>
                </a:lnTo>
                <a:lnTo>
                  <a:pt x="416" y="102"/>
                </a:lnTo>
                <a:lnTo>
                  <a:pt x="420" y="68"/>
                </a:lnTo>
                <a:lnTo>
                  <a:pt x="400" y="96"/>
                </a:lnTo>
                <a:lnTo>
                  <a:pt x="386" y="76"/>
                </a:lnTo>
                <a:lnTo>
                  <a:pt x="398" y="106"/>
                </a:lnTo>
                <a:lnTo>
                  <a:pt x="360" y="96"/>
                </a:lnTo>
                <a:lnTo>
                  <a:pt x="350" y="134"/>
                </a:lnTo>
                <a:lnTo>
                  <a:pt x="316" y="148"/>
                </a:lnTo>
                <a:lnTo>
                  <a:pt x="348" y="152"/>
                </a:lnTo>
                <a:lnTo>
                  <a:pt x="290" y="172"/>
                </a:lnTo>
                <a:lnTo>
                  <a:pt x="280" y="200"/>
                </a:lnTo>
                <a:lnTo>
                  <a:pt x="298" y="200"/>
                </a:lnTo>
                <a:lnTo>
                  <a:pt x="228" y="248"/>
                </a:lnTo>
                <a:lnTo>
                  <a:pt x="206" y="328"/>
                </a:lnTo>
                <a:lnTo>
                  <a:pt x="126" y="396"/>
                </a:lnTo>
                <a:lnTo>
                  <a:pt x="140" y="412"/>
                </a:lnTo>
                <a:lnTo>
                  <a:pt x="172" y="402"/>
                </a:lnTo>
                <a:lnTo>
                  <a:pt x="96" y="422"/>
                </a:lnTo>
                <a:lnTo>
                  <a:pt x="60" y="448"/>
                </a:lnTo>
                <a:lnTo>
                  <a:pt x="66" y="462"/>
                </a:lnTo>
                <a:lnTo>
                  <a:pt x="38" y="462"/>
                </a:lnTo>
                <a:lnTo>
                  <a:pt x="40" y="486"/>
                </a:lnTo>
                <a:lnTo>
                  <a:pt x="4" y="486"/>
                </a:lnTo>
                <a:lnTo>
                  <a:pt x="38" y="496"/>
                </a:lnTo>
                <a:lnTo>
                  <a:pt x="0" y="51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305160" y="4025880"/>
            <a:ext cx="730440" cy="755640"/>
          </a:xfrm>
          <a:custGeom>
            <a:avLst/>
            <a:gdLst/>
            <a:ahLst/>
            <a:rect l="l" t="t" r="r" b="b"/>
            <a:pathLst>
              <a:path w="460" h="476">
                <a:moveTo>
                  <a:pt x="0" y="260"/>
                </a:moveTo>
                <a:lnTo>
                  <a:pt x="42" y="278"/>
                </a:lnTo>
                <a:lnTo>
                  <a:pt x="142" y="260"/>
                </a:lnTo>
                <a:lnTo>
                  <a:pt x="162" y="214"/>
                </a:lnTo>
                <a:lnTo>
                  <a:pt x="230" y="186"/>
                </a:lnTo>
                <a:lnTo>
                  <a:pt x="236" y="146"/>
                </a:lnTo>
                <a:lnTo>
                  <a:pt x="262" y="134"/>
                </a:lnTo>
                <a:lnTo>
                  <a:pt x="250" y="112"/>
                </a:lnTo>
                <a:lnTo>
                  <a:pt x="274" y="110"/>
                </a:lnTo>
                <a:lnTo>
                  <a:pt x="292" y="70"/>
                </a:lnTo>
                <a:lnTo>
                  <a:pt x="284" y="30"/>
                </a:lnTo>
                <a:lnTo>
                  <a:pt x="378" y="0"/>
                </a:lnTo>
                <a:lnTo>
                  <a:pt x="460" y="60"/>
                </a:lnTo>
                <a:lnTo>
                  <a:pt x="440" y="86"/>
                </a:lnTo>
                <a:lnTo>
                  <a:pt x="358" y="86"/>
                </a:lnTo>
                <a:lnTo>
                  <a:pt x="360" y="140"/>
                </a:lnTo>
                <a:lnTo>
                  <a:pt x="396" y="174"/>
                </a:lnTo>
                <a:lnTo>
                  <a:pt x="376" y="192"/>
                </a:lnTo>
                <a:lnTo>
                  <a:pt x="382" y="222"/>
                </a:lnTo>
                <a:lnTo>
                  <a:pt x="298" y="330"/>
                </a:lnTo>
                <a:lnTo>
                  <a:pt x="262" y="328"/>
                </a:lnTo>
                <a:lnTo>
                  <a:pt x="236" y="356"/>
                </a:lnTo>
                <a:lnTo>
                  <a:pt x="280" y="454"/>
                </a:lnTo>
                <a:lnTo>
                  <a:pt x="218" y="454"/>
                </a:lnTo>
                <a:lnTo>
                  <a:pt x="196" y="476"/>
                </a:lnTo>
                <a:lnTo>
                  <a:pt x="150" y="416"/>
                </a:lnTo>
                <a:lnTo>
                  <a:pt x="20" y="428"/>
                </a:lnTo>
                <a:lnTo>
                  <a:pt x="64" y="358"/>
                </a:lnTo>
                <a:lnTo>
                  <a:pt x="0" y="26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892840" y="5060880"/>
            <a:ext cx="181080" cy="311400"/>
          </a:xfrm>
          <a:custGeom>
            <a:avLst/>
            <a:gdLst/>
            <a:ahLst/>
            <a:rect l="l" t="t" r="r" b="b"/>
            <a:pathLst>
              <a:path w="114" h="196">
                <a:moveTo>
                  <a:pt x="0" y="76"/>
                </a:moveTo>
                <a:lnTo>
                  <a:pt x="22" y="0"/>
                </a:lnTo>
                <a:lnTo>
                  <a:pt x="64" y="0"/>
                </a:lnTo>
                <a:lnTo>
                  <a:pt x="72" y="52"/>
                </a:lnTo>
                <a:lnTo>
                  <a:pt x="40" y="106"/>
                </a:lnTo>
                <a:lnTo>
                  <a:pt x="48" y="136"/>
                </a:lnTo>
                <a:lnTo>
                  <a:pt x="108" y="156"/>
                </a:lnTo>
                <a:lnTo>
                  <a:pt x="114" y="196"/>
                </a:lnTo>
                <a:lnTo>
                  <a:pt x="74" y="156"/>
                </a:lnTo>
                <a:lnTo>
                  <a:pt x="74" y="176"/>
                </a:lnTo>
                <a:lnTo>
                  <a:pt x="22" y="156"/>
                </a:lnTo>
                <a:lnTo>
                  <a:pt x="0" y="7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247760" y="2879640"/>
            <a:ext cx="434880" cy="393840"/>
          </a:xfrm>
          <a:custGeom>
            <a:avLst/>
            <a:gdLst/>
            <a:ahLst/>
            <a:rect l="l" t="t" r="r" b="b"/>
            <a:pathLst>
              <a:path w="274" h="248">
                <a:moveTo>
                  <a:pt x="0" y="46"/>
                </a:moveTo>
                <a:lnTo>
                  <a:pt x="18" y="174"/>
                </a:lnTo>
                <a:lnTo>
                  <a:pt x="158" y="240"/>
                </a:lnTo>
                <a:lnTo>
                  <a:pt x="230" y="248"/>
                </a:lnTo>
                <a:lnTo>
                  <a:pt x="274" y="182"/>
                </a:lnTo>
                <a:lnTo>
                  <a:pt x="252" y="110"/>
                </a:lnTo>
                <a:lnTo>
                  <a:pt x="268" y="90"/>
                </a:lnTo>
                <a:lnTo>
                  <a:pt x="258" y="32"/>
                </a:lnTo>
                <a:lnTo>
                  <a:pt x="150" y="14"/>
                </a:lnTo>
                <a:lnTo>
                  <a:pt x="82" y="0"/>
                </a:lnTo>
                <a:lnTo>
                  <a:pt x="0" y="4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514520" y="3327480"/>
            <a:ext cx="419040" cy="288720"/>
          </a:xfrm>
          <a:custGeom>
            <a:avLst/>
            <a:gdLst/>
            <a:ahLst/>
            <a:rect l="l" t="t" r="r" b="b"/>
            <a:pathLst>
              <a:path w="264" h="182">
                <a:moveTo>
                  <a:pt x="0" y="88"/>
                </a:moveTo>
                <a:lnTo>
                  <a:pt x="72" y="162"/>
                </a:lnTo>
                <a:lnTo>
                  <a:pt x="234" y="182"/>
                </a:lnTo>
                <a:lnTo>
                  <a:pt x="264" y="118"/>
                </a:lnTo>
                <a:lnTo>
                  <a:pt x="220" y="114"/>
                </a:lnTo>
                <a:lnTo>
                  <a:pt x="216" y="58"/>
                </a:lnTo>
                <a:lnTo>
                  <a:pt x="180" y="0"/>
                </a:lnTo>
                <a:lnTo>
                  <a:pt x="72" y="10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149560" y="4308480"/>
            <a:ext cx="923760" cy="911160"/>
          </a:xfrm>
          <a:custGeom>
            <a:avLst/>
            <a:gdLst/>
            <a:ahLst/>
            <a:rect l="l" t="t" r="r" b="b"/>
            <a:pathLst>
              <a:path w="582" h="574">
                <a:moveTo>
                  <a:pt x="0" y="150"/>
                </a:moveTo>
                <a:lnTo>
                  <a:pt x="10" y="100"/>
                </a:lnTo>
                <a:lnTo>
                  <a:pt x="40" y="110"/>
                </a:lnTo>
                <a:lnTo>
                  <a:pt x="76" y="78"/>
                </a:lnTo>
                <a:lnTo>
                  <a:pt x="94" y="58"/>
                </a:lnTo>
                <a:lnTo>
                  <a:pt x="62" y="24"/>
                </a:lnTo>
                <a:lnTo>
                  <a:pt x="126" y="0"/>
                </a:lnTo>
                <a:lnTo>
                  <a:pt x="248" y="66"/>
                </a:lnTo>
                <a:lnTo>
                  <a:pt x="250" y="88"/>
                </a:lnTo>
                <a:lnTo>
                  <a:pt x="280" y="106"/>
                </a:lnTo>
                <a:lnTo>
                  <a:pt x="304" y="122"/>
                </a:lnTo>
                <a:lnTo>
                  <a:pt x="330" y="110"/>
                </a:lnTo>
                <a:lnTo>
                  <a:pt x="380" y="130"/>
                </a:lnTo>
                <a:lnTo>
                  <a:pt x="448" y="260"/>
                </a:lnTo>
                <a:lnTo>
                  <a:pt x="456" y="268"/>
                </a:lnTo>
                <a:lnTo>
                  <a:pt x="482" y="320"/>
                </a:lnTo>
                <a:lnTo>
                  <a:pt x="570" y="332"/>
                </a:lnTo>
                <a:lnTo>
                  <a:pt x="582" y="356"/>
                </a:lnTo>
                <a:lnTo>
                  <a:pt x="562" y="424"/>
                </a:lnTo>
                <a:lnTo>
                  <a:pt x="482" y="458"/>
                </a:lnTo>
                <a:lnTo>
                  <a:pt x="394" y="482"/>
                </a:lnTo>
                <a:lnTo>
                  <a:pt x="320" y="574"/>
                </a:lnTo>
                <a:lnTo>
                  <a:pt x="320" y="536"/>
                </a:lnTo>
                <a:lnTo>
                  <a:pt x="270" y="512"/>
                </a:lnTo>
                <a:lnTo>
                  <a:pt x="224" y="546"/>
                </a:lnTo>
                <a:lnTo>
                  <a:pt x="170" y="442"/>
                </a:lnTo>
                <a:lnTo>
                  <a:pt x="130" y="400"/>
                </a:lnTo>
                <a:lnTo>
                  <a:pt x="106" y="294"/>
                </a:lnTo>
                <a:lnTo>
                  <a:pt x="0" y="15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854760" y="2914560"/>
            <a:ext cx="127080" cy="561960"/>
          </a:xfrm>
          <a:custGeom>
            <a:avLst/>
            <a:gdLst/>
            <a:ahLst/>
            <a:rect l="l" t="t" r="r" b="b"/>
            <a:pathLst>
              <a:path w="80" h="354">
                <a:moveTo>
                  <a:pt x="0" y="90"/>
                </a:moveTo>
                <a:lnTo>
                  <a:pt x="12" y="134"/>
                </a:lnTo>
                <a:lnTo>
                  <a:pt x="12" y="354"/>
                </a:lnTo>
                <a:lnTo>
                  <a:pt x="26" y="328"/>
                </a:lnTo>
                <a:lnTo>
                  <a:pt x="48" y="344"/>
                </a:lnTo>
                <a:lnTo>
                  <a:pt x="22" y="282"/>
                </a:lnTo>
                <a:lnTo>
                  <a:pt x="38" y="222"/>
                </a:lnTo>
                <a:lnTo>
                  <a:pt x="80" y="242"/>
                </a:lnTo>
                <a:lnTo>
                  <a:pt x="40" y="122"/>
                </a:lnTo>
                <a:lnTo>
                  <a:pt x="26" y="0"/>
                </a:ln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120680" y="1743120"/>
            <a:ext cx="561960" cy="1092240"/>
          </a:xfrm>
          <a:custGeom>
            <a:avLst/>
            <a:gdLst/>
            <a:ahLst/>
            <a:rect l="l" t="t" r="r" b="b"/>
            <a:pathLst>
              <a:path w="354" h="688">
                <a:moveTo>
                  <a:pt x="0" y="518"/>
                </a:moveTo>
                <a:lnTo>
                  <a:pt x="14" y="598"/>
                </a:lnTo>
                <a:lnTo>
                  <a:pt x="46" y="634"/>
                </a:lnTo>
                <a:lnTo>
                  <a:pt x="44" y="688"/>
                </a:lnTo>
                <a:lnTo>
                  <a:pt x="128" y="654"/>
                </a:lnTo>
                <a:lnTo>
                  <a:pt x="152" y="544"/>
                </a:lnTo>
                <a:lnTo>
                  <a:pt x="136" y="540"/>
                </a:lnTo>
                <a:lnTo>
                  <a:pt x="200" y="506"/>
                </a:lnTo>
                <a:lnTo>
                  <a:pt x="138" y="498"/>
                </a:lnTo>
                <a:lnTo>
                  <a:pt x="184" y="506"/>
                </a:lnTo>
                <a:lnTo>
                  <a:pt x="210" y="478"/>
                </a:lnTo>
                <a:lnTo>
                  <a:pt x="170" y="442"/>
                </a:lnTo>
                <a:lnTo>
                  <a:pt x="136" y="466"/>
                </a:lnTo>
                <a:lnTo>
                  <a:pt x="164" y="444"/>
                </a:lnTo>
                <a:lnTo>
                  <a:pt x="164" y="344"/>
                </a:lnTo>
                <a:lnTo>
                  <a:pt x="286" y="252"/>
                </a:lnTo>
                <a:lnTo>
                  <a:pt x="276" y="230"/>
                </a:lnTo>
                <a:lnTo>
                  <a:pt x="298" y="184"/>
                </a:lnTo>
                <a:lnTo>
                  <a:pt x="354" y="168"/>
                </a:lnTo>
                <a:lnTo>
                  <a:pt x="340" y="56"/>
                </a:lnTo>
                <a:lnTo>
                  <a:pt x="260" y="0"/>
                </a:lnTo>
                <a:lnTo>
                  <a:pt x="246" y="0"/>
                </a:lnTo>
                <a:lnTo>
                  <a:pt x="246" y="36"/>
                </a:lnTo>
                <a:lnTo>
                  <a:pt x="194" y="28"/>
                </a:lnTo>
                <a:lnTo>
                  <a:pt x="184" y="56"/>
                </a:lnTo>
                <a:lnTo>
                  <a:pt x="150" y="66"/>
                </a:lnTo>
                <a:lnTo>
                  <a:pt x="140" y="110"/>
                </a:lnTo>
                <a:lnTo>
                  <a:pt x="94" y="164"/>
                </a:lnTo>
                <a:lnTo>
                  <a:pt x="70" y="238"/>
                </a:lnTo>
                <a:lnTo>
                  <a:pt x="80" y="266"/>
                </a:lnTo>
                <a:lnTo>
                  <a:pt x="30" y="288"/>
                </a:lnTo>
                <a:lnTo>
                  <a:pt x="26" y="386"/>
                </a:lnTo>
                <a:lnTo>
                  <a:pt x="40" y="408"/>
                </a:lnTo>
                <a:lnTo>
                  <a:pt x="26" y="424"/>
                </a:lnTo>
                <a:lnTo>
                  <a:pt x="34" y="468"/>
                </a:lnTo>
                <a:lnTo>
                  <a:pt x="0" y="51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95320" y="3365640"/>
            <a:ext cx="190440" cy="114120"/>
          </a:xfrm>
          <a:custGeom>
            <a:avLst/>
            <a:gdLst/>
            <a:ahLst/>
            <a:rect l="l" t="t" r="r" b="b"/>
            <a:pathLst>
              <a:path w="120" h="72">
                <a:moveTo>
                  <a:pt x="0" y="48"/>
                </a:moveTo>
                <a:lnTo>
                  <a:pt x="26" y="72"/>
                </a:lnTo>
                <a:lnTo>
                  <a:pt x="66" y="52"/>
                </a:lnTo>
                <a:lnTo>
                  <a:pt x="82" y="72"/>
                </a:lnTo>
                <a:lnTo>
                  <a:pt x="120" y="32"/>
                </a:lnTo>
                <a:lnTo>
                  <a:pt x="96" y="28"/>
                </a:lnTo>
                <a:lnTo>
                  <a:pt x="96" y="12"/>
                </a:lnTo>
                <a:lnTo>
                  <a:pt x="92" y="6"/>
                </a:lnTo>
                <a:lnTo>
                  <a:pt x="38" y="0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184480" y="4019400"/>
            <a:ext cx="314280" cy="282600"/>
          </a:xfrm>
          <a:custGeom>
            <a:avLst/>
            <a:gdLst/>
            <a:ahLst/>
            <a:rect l="l" t="t" r="r" b="b"/>
            <a:pathLst>
              <a:path w="198" h="178">
                <a:moveTo>
                  <a:pt x="0" y="164"/>
                </a:moveTo>
                <a:lnTo>
                  <a:pt x="2" y="146"/>
                </a:lnTo>
                <a:lnTo>
                  <a:pt x="30" y="106"/>
                </a:lnTo>
                <a:lnTo>
                  <a:pt x="16" y="90"/>
                </a:lnTo>
                <a:lnTo>
                  <a:pt x="16" y="44"/>
                </a:lnTo>
                <a:lnTo>
                  <a:pt x="30" y="8"/>
                </a:lnTo>
                <a:lnTo>
                  <a:pt x="198" y="0"/>
                </a:lnTo>
                <a:lnTo>
                  <a:pt x="168" y="26"/>
                </a:lnTo>
                <a:lnTo>
                  <a:pt x="156" y="98"/>
                </a:lnTo>
                <a:lnTo>
                  <a:pt x="88" y="138"/>
                </a:lnTo>
                <a:lnTo>
                  <a:pt x="28" y="178"/>
                </a:lnTo>
                <a:lnTo>
                  <a:pt x="0" y="16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11840" y="4943520"/>
            <a:ext cx="345960" cy="793800"/>
          </a:xfrm>
          <a:custGeom>
            <a:avLst/>
            <a:gdLst/>
            <a:ahLst/>
            <a:rect l="l" t="t" r="r" b="b"/>
            <a:pathLst>
              <a:path w="218" h="500">
                <a:moveTo>
                  <a:pt x="0" y="80"/>
                </a:moveTo>
                <a:lnTo>
                  <a:pt x="16" y="40"/>
                </a:lnTo>
                <a:lnTo>
                  <a:pt x="76" y="0"/>
                </a:lnTo>
                <a:lnTo>
                  <a:pt x="102" y="38"/>
                </a:lnTo>
                <a:lnTo>
                  <a:pt x="92" y="106"/>
                </a:lnTo>
                <a:lnTo>
                  <a:pt x="164" y="78"/>
                </a:lnTo>
                <a:lnTo>
                  <a:pt x="192" y="106"/>
                </a:lnTo>
                <a:lnTo>
                  <a:pt x="218" y="174"/>
                </a:lnTo>
                <a:lnTo>
                  <a:pt x="210" y="214"/>
                </a:lnTo>
                <a:lnTo>
                  <a:pt x="156" y="212"/>
                </a:lnTo>
                <a:lnTo>
                  <a:pt x="138" y="230"/>
                </a:lnTo>
                <a:lnTo>
                  <a:pt x="148" y="300"/>
                </a:lnTo>
                <a:lnTo>
                  <a:pt x="78" y="240"/>
                </a:lnTo>
                <a:lnTo>
                  <a:pt x="46" y="350"/>
                </a:lnTo>
                <a:lnTo>
                  <a:pt x="80" y="446"/>
                </a:lnTo>
                <a:lnTo>
                  <a:pt x="128" y="482"/>
                </a:lnTo>
                <a:lnTo>
                  <a:pt x="102" y="500"/>
                </a:lnTo>
                <a:lnTo>
                  <a:pt x="98" y="470"/>
                </a:lnTo>
                <a:lnTo>
                  <a:pt x="78" y="470"/>
                </a:lnTo>
                <a:lnTo>
                  <a:pt x="22" y="414"/>
                </a:lnTo>
                <a:lnTo>
                  <a:pt x="32" y="354"/>
                </a:lnTo>
                <a:lnTo>
                  <a:pt x="60" y="292"/>
                </a:lnTo>
                <a:lnTo>
                  <a:pt x="20" y="198"/>
                </a:lnTo>
                <a:lnTo>
                  <a:pt x="34" y="154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873520" y="4648320"/>
            <a:ext cx="225360" cy="187200"/>
          </a:xfrm>
          <a:custGeom>
            <a:avLst/>
            <a:gdLst/>
            <a:ahLst/>
            <a:rect l="l" t="t" r="r" b="b"/>
            <a:pathLst>
              <a:path w="142" h="118">
                <a:moveTo>
                  <a:pt x="0" y="54"/>
                </a:moveTo>
                <a:lnTo>
                  <a:pt x="8" y="52"/>
                </a:lnTo>
                <a:lnTo>
                  <a:pt x="18" y="72"/>
                </a:lnTo>
                <a:lnTo>
                  <a:pt x="78" y="70"/>
                </a:lnTo>
                <a:lnTo>
                  <a:pt x="136" y="0"/>
                </a:lnTo>
                <a:lnTo>
                  <a:pt x="142" y="42"/>
                </a:lnTo>
                <a:lnTo>
                  <a:pt x="126" y="44"/>
                </a:lnTo>
                <a:lnTo>
                  <a:pt x="136" y="70"/>
                </a:lnTo>
                <a:lnTo>
                  <a:pt x="114" y="118"/>
                </a:lnTo>
                <a:lnTo>
                  <a:pt x="26" y="106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74800" y="3733920"/>
            <a:ext cx="120600" cy="108000"/>
          </a:xfrm>
          <a:custGeom>
            <a:avLst/>
            <a:gdLst/>
            <a:ahLst/>
            <a:rect l="l" t="t" r="r" b="b"/>
            <a:pathLst>
              <a:path w="76" h="68">
                <a:moveTo>
                  <a:pt x="0" y="46"/>
                </a:moveTo>
                <a:lnTo>
                  <a:pt x="10" y="2"/>
                </a:lnTo>
                <a:lnTo>
                  <a:pt x="52" y="0"/>
                </a:lnTo>
                <a:lnTo>
                  <a:pt x="76" y="32"/>
                </a:lnTo>
                <a:lnTo>
                  <a:pt x="42" y="34"/>
                </a:lnTo>
                <a:lnTo>
                  <a:pt x="4" y="68"/>
                </a:lnTo>
                <a:lnTo>
                  <a:pt x="20" y="48"/>
                </a:lnTo>
                <a:lnTo>
                  <a:pt x="0" y="4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787400" y="3720960"/>
            <a:ext cx="806400" cy="368280"/>
          </a:xfrm>
          <a:custGeom>
            <a:avLst/>
            <a:gdLst/>
            <a:ahLst/>
            <a:rect l="l" t="t" r="r" b="b"/>
            <a:pathLst>
              <a:path w="508" h="232">
                <a:moveTo>
                  <a:pt x="0" y="78"/>
                </a:moveTo>
                <a:lnTo>
                  <a:pt x="22" y="138"/>
                </a:lnTo>
                <a:lnTo>
                  <a:pt x="0" y="146"/>
                </a:lnTo>
                <a:lnTo>
                  <a:pt x="22" y="154"/>
                </a:lnTo>
                <a:lnTo>
                  <a:pt x="30" y="192"/>
                </a:lnTo>
                <a:lnTo>
                  <a:pt x="56" y="188"/>
                </a:lnTo>
                <a:lnTo>
                  <a:pt x="30" y="204"/>
                </a:lnTo>
                <a:lnTo>
                  <a:pt x="62" y="198"/>
                </a:lnTo>
                <a:lnTo>
                  <a:pt x="98" y="222"/>
                </a:lnTo>
                <a:lnTo>
                  <a:pt x="130" y="196"/>
                </a:lnTo>
                <a:lnTo>
                  <a:pt x="178" y="230"/>
                </a:lnTo>
                <a:lnTo>
                  <a:pt x="268" y="196"/>
                </a:lnTo>
                <a:lnTo>
                  <a:pt x="266" y="232"/>
                </a:lnTo>
                <a:lnTo>
                  <a:pt x="280" y="196"/>
                </a:lnTo>
                <a:lnTo>
                  <a:pt x="448" y="188"/>
                </a:lnTo>
                <a:lnTo>
                  <a:pt x="508" y="184"/>
                </a:lnTo>
                <a:lnTo>
                  <a:pt x="490" y="102"/>
                </a:lnTo>
                <a:lnTo>
                  <a:pt x="502" y="86"/>
                </a:lnTo>
                <a:lnTo>
                  <a:pt x="452" y="14"/>
                </a:lnTo>
                <a:lnTo>
                  <a:pt x="418" y="14"/>
                </a:lnTo>
                <a:lnTo>
                  <a:pt x="324" y="46"/>
                </a:lnTo>
                <a:lnTo>
                  <a:pt x="242" y="0"/>
                </a:lnTo>
                <a:lnTo>
                  <a:pt x="196" y="2"/>
                </a:lnTo>
                <a:lnTo>
                  <a:pt x="132" y="42"/>
                </a:lnTo>
                <a:lnTo>
                  <a:pt x="78" y="30"/>
                </a:lnTo>
                <a:lnTo>
                  <a:pt x="96" y="52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79360" y="2841480"/>
            <a:ext cx="111240" cy="92160"/>
          </a:xfrm>
          <a:custGeom>
            <a:avLst/>
            <a:gdLst/>
            <a:ahLst/>
            <a:rect l="l" t="t" r="r" b="b"/>
            <a:pathLst>
              <a:path w="70" h="58">
                <a:moveTo>
                  <a:pt x="0" y="38"/>
                </a:moveTo>
                <a:lnTo>
                  <a:pt x="10" y="50"/>
                </a:lnTo>
                <a:lnTo>
                  <a:pt x="38" y="40"/>
                </a:lnTo>
                <a:lnTo>
                  <a:pt x="54" y="58"/>
                </a:lnTo>
                <a:lnTo>
                  <a:pt x="70" y="38"/>
                </a:lnTo>
                <a:lnTo>
                  <a:pt x="54" y="8"/>
                </a:lnTo>
                <a:lnTo>
                  <a:pt x="22" y="0"/>
                </a:lnTo>
                <a:lnTo>
                  <a:pt x="14" y="2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30120" y="2625840"/>
            <a:ext cx="2880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0" y="24"/>
                </a:moveTo>
                <a:lnTo>
                  <a:pt x="0" y="4"/>
                </a:lnTo>
                <a:lnTo>
                  <a:pt x="18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43080" y="2666880"/>
            <a:ext cx="25200" cy="28800"/>
          </a:xfrm>
          <a:custGeom>
            <a:avLst/>
            <a:gdLst/>
            <a:ahLst/>
            <a:rect l="l" t="t" r="r" b="b"/>
            <a:pathLst>
              <a:path w="16" h="18">
                <a:moveTo>
                  <a:pt x="0" y="14"/>
                </a:moveTo>
                <a:lnTo>
                  <a:pt x="8" y="0"/>
                </a:lnTo>
                <a:lnTo>
                  <a:pt x="16" y="18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68280" y="2603520"/>
            <a:ext cx="336600" cy="609480"/>
          </a:xfrm>
          <a:custGeom>
            <a:avLst/>
            <a:gdLst/>
            <a:ahLst/>
            <a:rect l="l" t="t" r="r" b="b"/>
            <a:pathLst>
              <a:path w="212" h="384">
                <a:moveTo>
                  <a:pt x="0" y="90"/>
                </a:moveTo>
                <a:lnTo>
                  <a:pt x="8" y="38"/>
                </a:lnTo>
                <a:lnTo>
                  <a:pt x="32" y="0"/>
                </a:lnTo>
                <a:lnTo>
                  <a:pt x="80" y="0"/>
                </a:lnTo>
                <a:lnTo>
                  <a:pt x="50" y="46"/>
                </a:lnTo>
                <a:lnTo>
                  <a:pt x="116" y="56"/>
                </a:lnTo>
                <a:lnTo>
                  <a:pt x="78" y="118"/>
                </a:lnTo>
                <a:lnTo>
                  <a:pt x="126" y="140"/>
                </a:lnTo>
                <a:lnTo>
                  <a:pt x="172" y="220"/>
                </a:lnTo>
                <a:lnTo>
                  <a:pt x="156" y="224"/>
                </a:lnTo>
                <a:lnTo>
                  <a:pt x="178" y="244"/>
                </a:lnTo>
                <a:lnTo>
                  <a:pt x="166" y="264"/>
                </a:lnTo>
                <a:lnTo>
                  <a:pt x="212" y="268"/>
                </a:lnTo>
                <a:lnTo>
                  <a:pt x="186" y="318"/>
                </a:lnTo>
                <a:lnTo>
                  <a:pt x="204" y="334"/>
                </a:lnTo>
                <a:lnTo>
                  <a:pt x="12" y="384"/>
                </a:lnTo>
                <a:lnTo>
                  <a:pt x="98" y="312"/>
                </a:lnTo>
                <a:lnTo>
                  <a:pt x="72" y="324"/>
                </a:lnTo>
                <a:lnTo>
                  <a:pt x="24" y="302"/>
                </a:lnTo>
                <a:lnTo>
                  <a:pt x="60" y="276"/>
                </a:lnTo>
                <a:lnTo>
                  <a:pt x="38" y="264"/>
                </a:lnTo>
                <a:lnTo>
                  <a:pt x="88" y="236"/>
                </a:lnTo>
                <a:lnTo>
                  <a:pt x="92" y="200"/>
                </a:lnTo>
                <a:lnTo>
                  <a:pt x="66" y="188"/>
                </a:lnTo>
                <a:lnTo>
                  <a:pt x="80" y="170"/>
                </a:lnTo>
                <a:lnTo>
                  <a:pt x="32" y="180"/>
                </a:lnTo>
                <a:lnTo>
                  <a:pt x="32" y="124"/>
                </a:lnTo>
                <a:lnTo>
                  <a:pt x="8" y="150"/>
                </a:lnTo>
                <a:lnTo>
                  <a:pt x="20" y="92"/>
                </a:ln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114880" y="4809960"/>
            <a:ext cx="308160" cy="774720"/>
          </a:xfrm>
          <a:custGeom>
            <a:avLst/>
            <a:gdLst/>
            <a:ahLst/>
            <a:rect l="l" t="t" r="r" b="b"/>
            <a:pathLst>
              <a:path w="194" h="488">
                <a:moveTo>
                  <a:pt x="0" y="26"/>
                </a:moveTo>
                <a:lnTo>
                  <a:pt x="28" y="74"/>
                </a:lnTo>
                <a:lnTo>
                  <a:pt x="66" y="96"/>
                </a:lnTo>
                <a:lnTo>
                  <a:pt x="48" y="134"/>
                </a:lnTo>
                <a:lnTo>
                  <a:pt x="114" y="196"/>
                </a:lnTo>
                <a:lnTo>
                  <a:pt x="146" y="286"/>
                </a:lnTo>
                <a:lnTo>
                  <a:pt x="148" y="360"/>
                </a:lnTo>
                <a:lnTo>
                  <a:pt x="64" y="426"/>
                </a:lnTo>
                <a:lnTo>
                  <a:pt x="80" y="488"/>
                </a:lnTo>
                <a:lnTo>
                  <a:pt x="104" y="442"/>
                </a:lnTo>
                <a:lnTo>
                  <a:pt x="120" y="454"/>
                </a:lnTo>
                <a:lnTo>
                  <a:pt x="128" y="428"/>
                </a:lnTo>
                <a:lnTo>
                  <a:pt x="194" y="384"/>
                </a:lnTo>
                <a:lnTo>
                  <a:pt x="184" y="262"/>
                </a:lnTo>
                <a:lnTo>
                  <a:pt x="94" y="150"/>
                </a:lnTo>
                <a:lnTo>
                  <a:pt x="104" y="112"/>
                </a:lnTo>
                <a:lnTo>
                  <a:pt x="158" y="56"/>
                </a:lnTo>
                <a:lnTo>
                  <a:pt x="82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536920" y="5035680"/>
            <a:ext cx="422280" cy="333360"/>
          </a:xfrm>
          <a:custGeom>
            <a:avLst/>
            <a:gdLst/>
            <a:ahLst/>
            <a:rect l="l" t="t" r="r" b="b"/>
            <a:pathLst>
              <a:path w="266" h="210">
                <a:moveTo>
                  <a:pt x="0" y="210"/>
                </a:moveTo>
                <a:lnTo>
                  <a:pt x="68" y="166"/>
                </a:lnTo>
                <a:lnTo>
                  <a:pt x="56" y="142"/>
                </a:lnTo>
                <a:lnTo>
                  <a:pt x="76" y="116"/>
                </a:lnTo>
                <a:lnTo>
                  <a:pt x="148" y="24"/>
                </a:lnTo>
                <a:lnTo>
                  <a:pt x="236" y="0"/>
                </a:lnTo>
                <a:lnTo>
                  <a:pt x="266" y="82"/>
                </a:lnTo>
                <a:lnTo>
                  <a:pt x="242" y="116"/>
                </a:lnTo>
                <a:lnTo>
                  <a:pt x="140" y="170"/>
                </a:lnTo>
                <a:lnTo>
                  <a:pt x="0" y="21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505240" y="5124600"/>
            <a:ext cx="152280" cy="244440"/>
          </a:xfrm>
          <a:custGeom>
            <a:avLst/>
            <a:gdLst/>
            <a:ahLst/>
            <a:rect l="l" t="t" r="r" b="b"/>
            <a:pathLst>
              <a:path w="96" h="154">
                <a:moveTo>
                  <a:pt x="0" y="32"/>
                </a:moveTo>
                <a:lnTo>
                  <a:pt x="20" y="154"/>
                </a:lnTo>
                <a:lnTo>
                  <a:pt x="88" y="110"/>
                </a:lnTo>
                <a:lnTo>
                  <a:pt x="78" y="86"/>
                </a:lnTo>
                <a:lnTo>
                  <a:pt x="96" y="60"/>
                </a:lnTo>
                <a:lnTo>
                  <a:pt x="96" y="22"/>
                </a:lnTo>
                <a:lnTo>
                  <a:pt x="46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228680" y="3416400"/>
            <a:ext cx="409680" cy="377640"/>
          </a:xfrm>
          <a:custGeom>
            <a:avLst/>
            <a:gdLst/>
            <a:ahLst/>
            <a:rect l="l" t="t" r="r" b="b"/>
            <a:pathLst>
              <a:path w="258" h="238">
                <a:moveTo>
                  <a:pt x="0" y="58"/>
                </a:moveTo>
                <a:lnTo>
                  <a:pt x="0" y="16"/>
                </a:lnTo>
                <a:lnTo>
                  <a:pt x="66" y="0"/>
                </a:lnTo>
                <a:lnTo>
                  <a:pt x="118" y="48"/>
                </a:lnTo>
                <a:lnTo>
                  <a:pt x="180" y="32"/>
                </a:lnTo>
                <a:lnTo>
                  <a:pt x="252" y="108"/>
                </a:lnTo>
                <a:lnTo>
                  <a:pt x="242" y="188"/>
                </a:lnTo>
                <a:lnTo>
                  <a:pt x="258" y="220"/>
                </a:lnTo>
                <a:lnTo>
                  <a:pt x="204" y="238"/>
                </a:lnTo>
                <a:lnTo>
                  <a:pt x="178" y="174"/>
                </a:lnTo>
                <a:lnTo>
                  <a:pt x="156" y="200"/>
                </a:lnTo>
                <a:lnTo>
                  <a:pt x="66" y="136"/>
                </a:lnTo>
                <a:lnTo>
                  <a:pt x="24" y="66"/>
                </a:lnTo>
                <a:lnTo>
                  <a:pt x="2" y="80"/>
                </a:lnTo>
                <a:lnTo>
                  <a:pt x="0" y="5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650960" y="2822400"/>
            <a:ext cx="345960" cy="314640"/>
          </a:xfrm>
          <a:custGeom>
            <a:avLst/>
            <a:gdLst/>
            <a:ahLst/>
            <a:rect l="l" t="t" r="r" b="b"/>
            <a:pathLst>
              <a:path w="218" h="198">
                <a:moveTo>
                  <a:pt x="70" y="0"/>
                </a:moveTo>
                <a:lnTo>
                  <a:pt x="88" y="4"/>
                </a:lnTo>
                <a:lnTo>
                  <a:pt x="108" y="20"/>
                </a:lnTo>
                <a:lnTo>
                  <a:pt x="136" y="20"/>
                </a:lnTo>
                <a:lnTo>
                  <a:pt x="168" y="24"/>
                </a:lnTo>
                <a:lnTo>
                  <a:pt x="184" y="46"/>
                </a:lnTo>
                <a:lnTo>
                  <a:pt x="196" y="82"/>
                </a:lnTo>
                <a:lnTo>
                  <a:pt x="198" y="92"/>
                </a:lnTo>
                <a:lnTo>
                  <a:pt x="210" y="104"/>
                </a:lnTo>
                <a:lnTo>
                  <a:pt x="218" y="112"/>
                </a:lnTo>
                <a:lnTo>
                  <a:pt x="218" y="126"/>
                </a:lnTo>
                <a:lnTo>
                  <a:pt x="204" y="126"/>
                </a:lnTo>
                <a:lnTo>
                  <a:pt x="186" y="126"/>
                </a:lnTo>
                <a:lnTo>
                  <a:pt x="196" y="138"/>
                </a:lnTo>
                <a:lnTo>
                  <a:pt x="200" y="148"/>
                </a:lnTo>
                <a:lnTo>
                  <a:pt x="204" y="164"/>
                </a:lnTo>
                <a:lnTo>
                  <a:pt x="196" y="172"/>
                </a:lnTo>
                <a:lnTo>
                  <a:pt x="180" y="172"/>
                </a:lnTo>
                <a:lnTo>
                  <a:pt x="178" y="172"/>
                </a:lnTo>
                <a:lnTo>
                  <a:pt x="168" y="178"/>
                </a:lnTo>
                <a:lnTo>
                  <a:pt x="168" y="196"/>
                </a:lnTo>
                <a:lnTo>
                  <a:pt x="154" y="198"/>
                </a:lnTo>
                <a:lnTo>
                  <a:pt x="146" y="192"/>
                </a:lnTo>
                <a:lnTo>
                  <a:pt x="128" y="188"/>
                </a:lnTo>
                <a:lnTo>
                  <a:pt x="112" y="178"/>
                </a:lnTo>
                <a:lnTo>
                  <a:pt x="96" y="184"/>
                </a:lnTo>
                <a:lnTo>
                  <a:pt x="52" y="164"/>
                </a:lnTo>
                <a:lnTo>
                  <a:pt x="34" y="168"/>
                </a:lnTo>
                <a:lnTo>
                  <a:pt x="18" y="164"/>
                </a:lnTo>
                <a:lnTo>
                  <a:pt x="8" y="178"/>
                </a:lnTo>
                <a:lnTo>
                  <a:pt x="0" y="146"/>
                </a:lnTo>
                <a:lnTo>
                  <a:pt x="18" y="126"/>
                </a:lnTo>
                <a:lnTo>
                  <a:pt x="4" y="82"/>
                </a:lnTo>
                <a:lnTo>
                  <a:pt x="18" y="86"/>
                </a:lnTo>
                <a:lnTo>
                  <a:pt x="20" y="78"/>
                </a:lnTo>
                <a:lnTo>
                  <a:pt x="24" y="62"/>
                </a:lnTo>
                <a:lnTo>
                  <a:pt x="30" y="52"/>
                </a:lnTo>
                <a:lnTo>
                  <a:pt x="34" y="34"/>
                </a:lnTo>
                <a:lnTo>
                  <a:pt x="48" y="16"/>
                </a:lnTo>
                <a:lnTo>
                  <a:pt x="60" y="0"/>
                </a:lnTo>
                <a:lnTo>
                  <a:pt x="7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600200" y="3054240"/>
            <a:ext cx="768240" cy="520920"/>
          </a:xfrm>
          <a:custGeom>
            <a:avLst/>
            <a:gdLst/>
            <a:ahLst/>
            <a:rect l="l" t="t" r="r" b="b"/>
            <a:pathLst>
              <a:path w="484" h="328">
                <a:moveTo>
                  <a:pt x="240" y="12"/>
                </a:moveTo>
                <a:lnTo>
                  <a:pt x="250" y="10"/>
                </a:lnTo>
                <a:lnTo>
                  <a:pt x="262" y="2"/>
                </a:lnTo>
                <a:lnTo>
                  <a:pt x="274" y="0"/>
                </a:lnTo>
                <a:lnTo>
                  <a:pt x="292" y="2"/>
                </a:lnTo>
                <a:lnTo>
                  <a:pt x="302" y="18"/>
                </a:lnTo>
                <a:lnTo>
                  <a:pt x="308" y="38"/>
                </a:lnTo>
                <a:lnTo>
                  <a:pt x="314" y="44"/>
                </a:lnTo>
                <a:lnTo>
                  <a:pt x="326" y="40"/>
                </a:lnTo>
                <a:lnTo>
                  <a:pt x="348" y="66"/>
                </a:lnTo>
                <a:lnTo>
                  <a:pt x="360" y="90"/>
                </a:lnTo>
                <a:lnTo>
                  <a:pt x="392" y="106"/>
                </a:lnTo>
                <a:lnTo>
                  <a:pt x="416" y="108"/>
                </a:lnTo>
                <a:lnTo>
                  <a:pt x="426" y="106"/>
                </a:lnTo>
                <a:lnTo>
                  <a:pt x="446" y="116"/>
                </a:lnTo>
                <a:lnTo>
                  <a:pt x="472" y="118"/>
                </a:lnTo>
                <a:lnTo>
                  <a:pt x="484" y="168"/>
                </a:lnTo>
                <a:lnTo>
                  <a:pt x="462" y="178"/>
                </a:lnTo>
                <a:lnTo>
                  <a:pt x="456" y="200"/>
                </a:lnTo>
                <a:lnTo>
                  <a:pt x="418" y="226"/>
                </a:lnTo>
                <a:lnTo>
                  <a:pt x="360" y="244"/>
                </a:lnTo>
                <a:lnTo>
                  <a:pt x="356" y="268"/>
                </a:lnTo>
                <a:lnTo>
                  <a:pt x="334" y="258"/>
                </a:lnTo>
                <a:lnTo>
                  <a:pt x="358" y="288"/>
                </a:lnTo>
                <a:lnTo>
                  <a:pt x="392" y="294"/>
                </a:lnTo>
                <a:lnTo>
                  <a:pt x="328" y="328"/>
                </a:lnTo>
                <a:lnTo>
                  <a:pt x="288" y="290"/>
                </a:lnTo>
                <a:lnTo>
                  <a:pt x="322" y="262"/>
                </a:lnTo>
                <a:lnTo>
                  <a:pt x="288" y="254"/>
                </a:lnTo>
                <a:lnTo>
                  <a:pt x="272" y="254"/>
                </a:lnTo>
                <a:lnTo>
                  <a:pt x="276" y="230"/>
                </a:lnTo>
                <a:lnTo>
                  <a:pt x="270" y="234"/>
                </a:lnTo>
                <a:lnTo>
                  <a:pt x="222" y="248"/>
                </a:lnTo>
                <a:lnTo>
                  <a:pt x="210" y="290"/>
                </a:lnTo>
                <a:lnTo>
                  <a:pt x="178" y="288"/>
                </a:lnTo>
                <a:lnTo>
                  <a:pt x="184" y="258"/>
                </a:lnTo>
                <a:lnTo>
                  <a:pt x="186" y="244"/>
                </a:lnTo>
                <a:lnTo>
                  <a:pt x="206" y="238"/>
                </a:lnTo>
                <a:lnTo>
                  <a:pt x="214" y="228"/>
                </a:lnTo>
                <a:lnTo>
                  <a:pt x="216" y="220"/>
                </a:lnTo>
                <a:lnTo>
                  <a:pt x="206" y="216"/>
                </a:lnTo>
                <a:lnTo>
                  <a:pt x="190" y="184"/>
                </a:lnTo>
                <a:lnTo>
                  <a:pt x="170" y="166"/>
                </a:lnTo>
                <a:lnTo>
                  <a:pt x="148" y="166"/>
                </a:lnTo>
                <a:lnTo>
                  <a:pt x="116" y="174"/>
                </a:lnTo>
                <a:lnTo>
                  <a:pt x="72" y="178"/>
                </a:lnTo>
                <a:lnTo>
                  <a:pt x="50" y="182"/>
                </a:lnTo>
                <a:lnTo>
                  <a:pt x="18" y="182"/>
                </a:lnTo>
                <a:lnTo>
                  <a:pt x="0" y="164"/>
                </a:lnTo>
                <a:lnTo>
                  <a:pt x="12" y="134"/>
                </a:lnTo>
                <a:lnTo>
                  <a:pt x="30" y="104"/>
                </a:lnTo>
                <a:lnTo>
                  <a:pt x="52" y="70"/>
                </a:lnTo>
                <a:lnTo>
                  <a:pt x="40" y="32"/>
                </a:lnTo>
                <a:lnTo>
                  <a:pt x="42" y="26"/>
                </a:lnTo>
                <a:lnTo>
                  <a:pt x="50" y="18"/>
                </a:lnTo>
                <a:lnTo>
                  <a:pt x="66" y="22"/>
                </a:lnTo>
                <a:lnTo>
                  <a:pt x="84" y="18"/>
                </a:lnTo>
                <a:lnTo>
                  <a:pt x="104" y="28"/>
                </a:lnTo>
                <a:lnTo>
                  <a:pt x="128" y="38"/>
                </a:lnTo>
                <a:lnTo>
                  <a:pt x="144" y="32"/>
                </a:lnTo>
                <a:lnTo>
                  <a:pt x="160" y="42"/>
                </a:lnTo>
                <a:lnTo>
                  <a:pt x="178" y="44"/>
                </a:lnTo>
                <a:lnTo>
                  <a:pt x="186" y="52"/>
                </a:lnTo>
                <a:lnTo>
                  <a:pt x="200" y="50"/>
                </a:lnTo>
                <a:lnTo>
                  <a:pt x="202" y="32"/>
                </a:lnTo>
                <a:lnTo>
                  <a:pt x="210" y="26"/>
                </a:lnTo>
                <a:lnTo>
                  <a:pt x="228" y="26"/>
                </a:lnTo>
                <a:lnTo>
                  <a:pt x="232" y="22"/>
                </a:lnTo>
                <a:lnTo>
                  <a:pt x="240" y="1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797120" y="3317760"/>
            <a:ext cx="146160" cy="190440"/>
          </a:xfrm>
          <a:custGeom>
            <a:avLst/>
            <a:gdLst/>
            <a:ahLst/>
            <a:rect l="l" t="t" r="r" b="b"/>
            <a:pathLst>
              <a:path w="92" h="120">
                <a:moveTo>
                  <a:pt x="20" y="34"/>
                </a:moveTo>
                <a:lnTo>
                  <a:pt x="32" y="50"/>
                </a:lnTo>
                <a:lnTo>
                  <a:pt x="38" y="64"/>
                </a:lnTo>
                <a:lnTo>
                  <a:pt x="44" y="120"/>
                </a:lnTo>
                <a:lnTo>
                  <a:pt x="54" y="120"/>
                </a:lnTo>
                <a:lnTo>
                  <a:pt x="60" y="92"/>
                </a:lnTo>
                <a:lnTo>
                  <a:pt x="62" y="78"/>
                </a:lnTo>
                <a:lnTo>
                  <a:pt x="88" y="68"/>
                </a:lnTo>
                <a:lnTo>
                  <a:pt x="92" y="56"/>
                </a:lnTo>
                <a:lnTo>
                  <a:pt x="84" y="52"/>
                </a:lnTo>
                <a:lnTo>
                  <a:pt x="66" y="22"/>
                </a:lnTo>
                <a:lnTo>
                  <a:pt x="46" y="0"/>
                </a:lnTo>
                <a:lnTo>
                  <a:pt x="24" y="0"/>
                </a:lnTo>
                <a:lnTo>
                  <a:pt x="0" y="2"/>
                </a:lnTo>
                <a:lnTo>
                  <a:pt x="20" y="3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327400" y="3578400"/>
            <a:ext cx="320400" cy="164880"/>
          </a:xfrm>
          <a:custGeom>
            <a:avLst/>
            <a:gdLst/>
            <a:ahLst/>
            <a:rect l="l" t="t" r="r" b="b"/>
            <a:pathLst>
              <a:path w="202" h="104">
                <a:moveTo>
                  <a:pt x="0" y="4"/>
                </a:moveTo>
                <a:lnTo>
                  <a:pt x="48" y="0"/>
                </a:lnTo>
                <a:lnTo>
                  <a:pt x="94" y="20"/>
                </a:lnTo>
                <a:lnTo>
                  <a:pt x="114" y="44"/>
                </a:lnTo>
                <a:lnTo>
                  <a:pt x="138" y="44"/>
                </a:lnTo>
                <a:lnTo>
                  <a:pt x="154" y="34"/>
                </a:lnTo>
                <a:lnTo>
                  <a:pt x="168" y="30"/>
                </a:lnTo>
                <a:lnTo>
                  <a:pt x="180" y="58"/>
                </a:lnTo>
                <a:lnTo>
                  <a:pt x="200" y="62"/>
                </a:lnTo>
                <a:lnTo>
                  <a:pt x="198" y="72"/>
                </a:lnTo>
                <a:lnTo>
                  <a:pt x="202" y="92"/>
                </a:lnTo>
                <a:lnTo>
                  <a:pt x="200" y="104"/>
                </a:lnTo>
                <a:lnTo>
                  <a:pt x="180" y="82"/>
                </a:lnTo>
                <a:lnTo>
                  <a:pt x="168" y="76"/>
                </a:lnTo>
                <a:lnTo>
                  <a:pt x="156" y="76"/>
                </a:lnTo>
                <a:lnTo>
                  <a:pt x="152" y="102"/>
                </a:lnTo>
                <a:lnTo>
                  <a:pt x="136" y="94"/>
                </a:lnTo>
                <a:lnTo>
                  <a:pt x="110" y="104"/>
                </a:lnTo>
                <a:lnTo>
                  <a:pt x="80" y="104"/>
                </a:lnTo>
                <a:lnTo>
                  <a:pt x="78" y="62"/>
                </a:lnTo>
                <a:lnTo>
                  <a:pt x="26" y="2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568600" y="3676680"/>
            <a:ext cx="263520" cy="257040"/>
          </a:xfrm>
          <a:custGeom>
            <a:avLst/>
            <a:gdLst/>
            <a:ahLst/>
            <a:rect l="l" t="t" r="r" b="b"/>
            <a:pathLst>
              <a:path w="166" h="162">
                <a:moveTo>
                  <a:pt x="62" y="6"/>
                </a:moveTo>
                <a:lnTo>
                  <a:pt x="72" y="6"/>
                </a:lnTo>
                <a:lnTo>
                  <a:pt x="98" y="14"/>
                </a:lnTo>
                <a:lnTo>
                  <a:pt x="120" y="36"/>
                </a:lnTo>
                <a:lnTo>
                  <a:pt x="136" y="60"/>
                </a:lnTo>
                <a:lnTo>
                  <a:pt x="166" y="92"/>
                </a:lnTo>
                <a:lnTo>
                  <a:pt x="150" y="98"/>
                </a:lnTo>
                <a:lnTo>
                  <a:pt x="140" y="118"/>
                </a:lnTo>
                <a:lnTo>
                  <a:pt x="138" y="128"/>
                </a:lnTo>
                <a:lnTo>
                  <a:pt x="130" y="162"/>
                </a:lnTo>
                <a:lnTo>
                  <a:pt x="108" y="152"/>
                </a:lnTo>
                <a:lnTo>
                  <a:pt x="102" y="120"/>
                </a:lnTo>
                <a:lnTo>
                  <a:pt x="78" y="134"/>
                </a:lnTo>
                <a:lnTo>
                  <a:pt x="54" y="152"/>
                </a:lnTo>
                <a:lnTo>
                  <a:pt x="40" y="146"/>
                </a:lnTo>
                <a:lnTo>
                  <a:pt x="28" y="134"/>
                </a:lnTo>
                <a:lnTo>
                  <a:pt x="22" y="118"/>
                </a:lnTo>
                <a:lnTo>
                  <a:pt x="30" y="102"/>
                </a:lnTo>
                <a:lnTo>
                  <a:pt x="38" y="116"/>
                </a:lnTo>
                <a:lnTo>
                  <a:pt x="68" y="132"/>
                </a:lnTo>
                <a:lnTo>
                  <a:pt x="76" y="116"/>
                </a:lnTo>
                <a:lnTo>
                  <a:pt x="44" y="92"/>
                </a:lnTo>
                <a:lnTo>
                  <a:pt x="36" y="70"/>
                </a:lnTo>
                <a:lnTo>
                  <a:pt x="28" y="60"/>
                </a:lnTo>
                <a:lnTo>
                  <a:pt x="28" y="48"/>
                </a:lnTo>
                <a:lnTo>
                  <a:pt x="16" y="42"/>
                </a:lnTo>
                <a:lnTo>
                  <a:pt x="0" y="40"/>
                </a:lnTo>
                <a:lnTo>
                  <a:pt x="2" y="26"/>
                </a:lnTo>
                <a:lnTo>
                  <a:pt x="4" y="14"/>
                </a:lnTo>
                <a:lnTo>
                  <a:pt x="18" y="14"/>
                </a:lnTo>
                <a:lnTo>
                  <a:pt x="28" y="20"/>
                </a:lnTo>
                <a:lnTo>
                  <a:pt x="48" y="42"/>
                </a:lnTo>
                <a:lnTo>
                  <a:pt x="50" y="30"/>
                </a:lnTo>
                <a:lnTo>
                  <a:pt x="44" y="12"/>
                </a:lnTo>
                <a:lnTo>
                  <a:pt x="48" y="0"/>
                </a:lnTo>
                <a:lnTo>
                  <a:pt x="62" y="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508120" y="3727440"/>
            <a:ext cx="181080" cy="155520"/>
          </a:xfrm>
          <a:custGeom>
            <a:avLst/>
            <a:gdLst/>
            <a:ahLst/>
            <a:rect l="l" t="t" r="r" b="b"/>
            <a:pathLst>
              <a:path w="114" h="98">
                <a:moveTo>
                  <a:pt x="0" y="14"/>
                </a:moveTo>
                <a:lnTo>
                  <a:pt x="12" y="30"/>
                </a:lnTo>
                <a:lnTo>
                  <a:pt x="30" y="54"/>
                </a:lnTo>
                <a:lnTo>
                  <a:pt x="56" y="88"/>
                </a:lnTo>
                <a:lnTo>
                  <a:pt x="72" y="68"/>
                </a:lnTo>
                <a:lnTo>
                  <a:pt x="74" y="84"/>
                </a:lnTo>
                <a:lnTo>
                  <a:pt x="86" y="88"/>
                </a:lnTo>
                <a:lnTo>
                  <a:pt x="106" y="98"/>
                </a:lnTo>
                <a:lnTo>
                  <a:pt x="114" y="84"/>
                </a:lnTo>
                <a:lnTo>
                  <a:pt x="84" y="60"/>
                </a:lnTo>
                <a:lnTo>
                  <a:pt x="76" y="38"/>
                </a:lnTo>
                <a:lnTo>
                  <a:pt x="66" y="28"/>
                </a:lnTo>
                <a:lnTo>
                  <a:pt x="66" y="16"/>
                </a:lnTo>
                <a:lnTo>
                  <a:pt x="54" y="10"/>
                </a:lnTo>
                <a:lnTo>
                  <a:pt x="36" y="8"/>
                </a:lnTo>
                <a:lnTo>
                  <a:pt x="20" y="0"/>
                </a:lnTo>
                <a:lnTo>
                  <a:pt x="2" y="2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425760" y="3203640"/>
            <a:ext cx="206280" cy="2062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64" y="0"/>
                </a:moveTo>
                <a:lnTo>
                  <a:pt x="70" y="0"/>
                </a:lnTo>
                <a:lnTo>
                  <a:pt x="76" y="0"/>
                </a:lnTo>
                <a:lnTo>
                  <a:pt x="90" y="4"/>
                </a:lnTo>
                <a:lnTo>
                  <a:pt x="110" y="18"/>
                </a:lnTo>
                <a:lnTo>
                  <a:pt x="124" y="40"/>
                </a:lnTo>
                <a:lnTo>
                  <a:pt x="130" y="66"/>
                </a:lnTo>
                <a:lnTo>
                  <a:pt x="124" y="92"/>
                </a:lnTo>
                <a:lnTo>
                  <a:pt x="110" y="112"/>
                </a:lnTo>
                <a:lnTo>
                  <a:pt x="90" y="126"/>
                </a:lnTo>
                <a:lnTo>
                  <a:pt x="76" y="130"/>
                </a:lnTo>
                <a:lnTo>
                  <a:pt x="70" y="130"/>
                </a:lnTo>
                <a:lnTo>
                  <a:pt x="64" y="130"/>
                </a:lnTo>
                <a:lnTo>
                  <a:pt x="58" y="130"/>
                </a:lnTo>
                <a:lnTo>
                  <a:pt x="52" y="130"/>
                </a:lnTo>
                <a:lnTo>
                  <a:pt x="40" y="126"/>
                </a:lnTo>
                <a:lnTo>
                  <a:pt x="18" y="112"/>
                </a:lnTo>
                <a:lnTo>
                  <a:pt x="4" y="92"/>
                </a:lnTo>
                <a:lnTo>
                  <a:pt x="0" y="66"/>
                </a:lnTo>
                <a:lnTo>
                  <a:pt x="4" y="40"/>
                </a:lnTo>
                <a:lnTo>
                  <a:pt x="18" y="18"/>
                </a:lnTo>
                <a:lnTo>
                  <a:pt x="40" y="4"/>
                </a:lnTo>
                <a:lnTo>
                  <a:pt x="52" y="0"/>
                </a:lnTo>
                <a:lnTo>
                  <a:pt x="58" y="0"/>
                </a:lnTo>
                <a:lnTo>
                  <a:pt x="64" y="0"/>
                </a:lnTo>
                <a:lnTo>
                  <a:pt x="64" y="10"/>
                </a:lnTo>
                <a:lnTo>
                  <a:pt x="74" y="12"/>
                </a:lnTo>
                <a:lnTo>
                  <a:pt x="86" y="14"/>
                </a:lnTo>
                <a:lnTo>
                  <a:pt x="102" y="26"/>
                </a:lnTo>
                <a:lnTo>
                  <a:pt x="114" y="44"/>
                </a:lnTo>
                <a:lnTo>
                  <a:pt x="118" y="66"/>
                </a:lnTo>
                <a:lnTo>
                  <a:pt x="114" y="88"/>
                </a:lnTo>
                <a:lnTo>
                  <a:pt x="102" y="104"/>
                </a:lnTo>
                <a:lnTo>
                  <a:pt x="86" y="116"/>
                </a:lnTo>
                <a:lnTo>
                  <a:pt x="74" y="120"/>
                </a:lnTo>
                <a:lnTo>
                  <a:pt x="64" y="120"/>
                </a:lnTo>
                <a:lnTo>
                  <a:pt x="54" y="120"/>
                </a:lnTo>
                <a:lnTo>
                  <a:pt x="44" y="116"/>
                </a:lnTo>
                <a:lnTo>
                  <a:pt x="26" y="104"/>
                </a:lnTo>
                <a:lnTo>
                  <a:pt x="14" y="88"/>
                </a:lnTo>
                <a:lnTo>
                  <a:pt x="10" y="66"/>
                </a:lnTo>
                <a:lnTo>
                  <a:pt x="14" y="44"/>
                </a:lnTo>
                <a:lnTo>
                  <a:pt x="26" y="26"/>
                </a:lnTo>
                <a:lnTo>
                  <a:pt x="44" y="14"/>
                </a:lnTo>
                <a:lnTo>
                  <a:pt x="54" y="12"/>
                </a:lnTo>
                <a:lnTo>
                  <a:pt x="64" y="10"/>
                </a:lnTo>
                <a:lnTo>
                  <a:pt x="64" y="0"/>
                </a:lnTo>
                <a:close/>
              </a:path>
            </a:pathLst>
          </a:cu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441600" y="3222720"/>
            <a:ext cx="17172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54" y="0"/>
                </a:moveTo>
                <a:lnTo>
                  <a:pt x="64" y="0"/>
                </a:lnTo>
                <a:lnTo>
                  <a:pt x="76" y="2"/>
                </a:lnTo>
                <a:lnTo>
                  <a:pt x="94" y="14"/>
                </a:lnTo>
                <a:lnTo>
                  <a:pt x="104" y="32"/>
                </a:lnTo>
                <a:lnTo>
                  <a:pt x="108" y="54"/>
                </a:lnTo>
                <a:lnTo>
                  <a:pt x="104" y="76"/>
                </a:lnTo>
                <a:lnTo>
                  <a:pt x="94" y="92"/>
                </a:lnTo>
                <a:lnTo>
                  <a:pt x="76" y="104"/>
                </a:lnTo>
                <a:lnTo>
                  <a:pt x="64" y="108"/>
                </a:lnTo>
                <a:lnTo>
                  <a:pt x="54" y="108"/>
                </a:lnTo>
                <a:lnTo>
                  <a:pt x="44" y="108"/>
                </a:lnTo>
                <a:lnTo>
                  <a:pt x="34" y="104"/>
                </a:lnTo>
                <a:lnTo>
                  <a:pt x="16" y="92"/>
                </a:lnTo>
                <a:lnTo>
                  <a:pt x="4" y="76"/>
                </a:lnTo>
                <a:lnTo>
                  <a:pt x="0" y="54"/>
                </a:lnTo>
                <a:lnTo>
                  <a:pt x="4" y="32"/>
                </a:lnTo>
                <a:lnTo>
                  <a:pt x="16" y="14"/>
                </a:lnTo>
                <a:lnTo>
                  <a:pt x="34" y="2"/>
                </a:lnTo>
                <a:lnTo>
                  <a:pt x="44" y="0"/>
                </a:lnTo>
                <a:lnTo>
                  <a:pt x="54" y="0"/>
                </a:lnTo>
                <a:lnTo>
                  <a:pt x="54" y="10"/>
                </a:lnTo>
                <a:lnTo>
                  <a:pt x="62" y="10"/>
                </a:lnTo>
                <a:lnTo>
                  <a:pt x="72" y="12"/>
                </a:lnTo>
                <a:lnTo>
                  <a:pt x="86" y="22"/>
                </a:lnTo>
                <a:lnTo>
                  <a:pt x="94" y="36"/>
                </a:lnTo>
                <a:lnTo>
                  <a:pt x="98" y="54"/>
                </a:lnTo>
                <a:lnTo>
                  <a:pt x="94" y="72"/>
                </a:lnTo>
                <a:lnTo>
                  <a:pt x="86" y="84"/>
                </a:lnTo>
                <a:lnTo>
                  <a:pt x="72" y="94"/>
                </a:lnTo>
                <a:lnTo>
                  <a:pt x="62" y="96"/>
                </a:lnTo>
                <a:lnTo>
                  <a:pt x="54" y="98"/>
                </a:lnTo>
                <a:lnTo>
                  <a:pt x="46" y="96"/>
                </a:lnTo>
                <a:lnTo>
                  <a:pt x="38" y="94"/>
                </a:lnTo>
                <a:lnTo>
                  <a:pt x="24" y="84"/>
                </a:lnTo>
                <a:lnTo>
                  <a:pt x="14" y="72"/>
                </a:lnTo>
                <a:lnTo>
                  <a:pt x="10" y="54"/>
                </a:lnTo>
                <a:lnTo>
                  <a:pt x="14" y="36"/>
                </a:lnTo>
                <a:lnTo>
                  <a:pt x="24" y="22"/>
                </a:lnTo>
                <a:lnTo>
                  <a:pt x="38" y="12"/>
                </a:lnTo>
                <a:lnTo>
                  <a:pt x="46" y="10"/>
                </a:lnTo>
                <a:lnTo>
                  <a:pt x="54" y="10"/>
                </a:lnTo>
                <a:lnTo>
                  <a:pt x="54" y="0"/>
                </a:lnTo>
                <a:close/>
              </a:path>
            </a:pathLst>
          </a:cu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57440" y="3238560"/>
            <a:ext cx="139680" cy="136440"/>
          </a:xfrm>
          <a:custGeom>
            <a:avLst/>
            <a:gdLst/>
            <a:ahLst/>
            <a:rect l="l" t="t" r="r" b="b"/>
            <a:pathLst>
              <a:path w="88" h="86">
                <a:moveTo>
                  <a:pt x="44" y="0"/>
                </a:moveTo>
                <a:lnTo>
                  <a:pt x="52" y="0"/>
                </a:lnTo>
                <a:lnTo>
                  <a:pt x="60" y="2"/>
                </a:lnTo>
                <a:lnTo>
                  <a:pt x="74" y="12"/>
                </a:lnTo>
                <a:lnTo>
                  <a:pt x="84" y="26"/>
                </a:lnTo>
                <a:lnTo>
                  <a:pt x="88" y="42"/>
                </a:lnTo>
                <a:lnTo>
                  <a:pt x="84" y="60"/>
                </a:lnTo>
                <a:lnTo>
                  <a:pt x="74" y="74"/>
                </a:lnTo>
                <a:lnTo>
                  <a:pt x="60" y="84"/>
                </a:lnTo>
                <a:lnTo>
                  <a:pt x="52" y="86"/>
                </a:lnTo>
                <a:lnTo>
                  <a:pt x="44" y="86"/>
                </a:lnTo>
                <a:lnTo>
                  <a:pt x="36" y="86"/>
                </a:lnTo>
                <a:lnTo>
                  <a:pt x="28" y="84"/>
                </a:lnTo>
                <a:lnTo>
                  <a:pt x="14" y="74"/>
                </a:lnTo>
                <a:lnTo>
                  <a:pt x="4" y="60"/>
                </a:lnTo>
                <a:lnTo>
                  <a:pt x="0" y="42"/>
                </a:lnTo>
                <a:lnTo>
                  <a:pt x="4" y="26"/>
                </a:lnTo>
                <a:lnTo>
                  <a:pt x="14" y="12"/>
                </a:lnTo>
                <a:lnTo>
                  <a:pt x="28" y="2"/>
                </a:lnTo>
                <a:lnTo>
                  <a:pt x="36" y="0"/>
                </a:lnTo>
                <a:lnTo>
                  <a:pt x="44" y="0"/>
                </a:lnTo>
                <a:lnTo>
                  <a:pt x="44" y="10"/>
                </a:lnTo>
                <a:lnTo>
                  <a:pt x="50" y="10"/>
                </a:lnTo>
                <a:lnTo>
                  <a:pt x="56" y="12"/>
                </a:lnTo>
                <a:lnTo>
                  <a:pt x="66" y="20"/>
                </a:lnTo>
                <a:lnTo>
                  <a:pt x="78" y="42"/>
                </a:lnTo>
                <a:lnTo>
                  <a:pt x="66" y="66"/>
                </a:lnTo>
                <a:lnTo>
                  <a:pt x="56" y="74"/>
                </a:lnTo>
                <a:lnTo>
                  <a:pt x="50" y="76"/>
                </a:lnTo>
                <a:lnTo>
                  <a:pt x="44" y="76"/>
                </a:lnTo>
                <a:lnTo>
                  <a:pt x="38" y="76"/>
                </a:lnTo>
                <a:lnTo>
                  <a:pt x="32" y="74"/>
                </a:lnTo>
                <a:lnTo>
                  <a:pt x="22" y="66"/>
                </a:lnTo>
                <a:lnTo>
                  <a:pt x="12" y="42"/>
                </a:lnTo>
                <a:lnTo>
                  <a:pt x="22" y="20"/>
                </a:lnTo>
                <a:lnTo>
                  <a:pt x="32" y="12"/>
                </a:lnTo>
                <a:lnTo>
                  <a:pt x="38" y="10"/>
                </a:lnTo>
                <a:lnTo>
                  <a:pt x="44" y="10"/>
                </a:lnTo>
                <a:lnTo>
                  <a:pt x="44" y="0"/>
                </a:lnTo>
                <a:close/>
              </a:path>
            </a:pathLst>
          </a:cu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476520" y="3254400"/>
            <a:ext cx="101880" cy="104760"/>
          </a:xfrm>
          <a:custGeom>
            <a:avLst/>
            <a:gdLst/>
            <a:ahLst/>
            <a:rect l="l" t="t" r="r" b="b"/>
            <a:pathLst>
              <a:path w="64" h="66">
                <a:moveTo>
                  <a:pt x="32" y="0"/>
                </a:moveTo>
                <a:lnTo>
                  <a:pt x="38" y="0"/>
                </a:lnTo>
                <a:lnTo>
                  <a:pt x="44" y="2"/>
                </a:lnTo>
                <a:lnTo>
                  <a:pt x="54" y="10"/>
                </a:lnTo>
                <a:lnTo>
                  <a:pt x="64" y="32"/>
                </a:lnTo>
                <a:lnTo>
                  <a:pt x="54" y="56"/>
                </a:lnTo>
                <a:lnTo>
                  <a:pt x="44" y="64"/>
                </a:lnTo>
                <a:lnTo>
                  <a:pt x="38" y="66"/>
                </a:lnTo>
                <a:lnTo>
                  <a:pt x="32" y="66"/>
                </a:lnTo>
                <a:lnTo>
                  <a:pt x="26" y="66"/>
                </a:lnTo>
                <a:lnTo>
                  <a:pt x="20" y="64"/>
                </a:lnTo>
                <a:lnTo>
                  <a:pt x="8" y="56"/>
                </a:lnTo>
                <a:lnTo>
                  <a:pt x="0" y="32"/>
                </a:lnTo>
                <a:lnTo>
                  <a:pt x="8" y="10"/>
                </a:lnTo>
                <a:lnTo>
                  <a:pt x="20" y="2"/>
                </a:lnTo>
                <a:lnTo>
                  <a:pt x="26" y="0"/>
                </a:lnTo>
                <a:lnTo>
                  <a:pt x="32" y="0"/>
                </a:lnTo>
                <a:lnTo>
                  <a:pt x="32" y="12"/>
                </a:lnTo>
                <a:lnTo>
                  <a:pt x="38" y="12"/>
                </a:lnTo>
                <a:lnTo>
                  <a:pt x="46" y="18"/>
                </a:lnTo>
                <a:lnTo>
                  <a:pt x="54" y="32"/>
                </a:lnTo>
                <a:lnTo>
                  <a:pt x="46" y="48"/>
                </a:lnTo>
                <a:lnTo>
                  <a:pt x="38" y="54"/>
                </a:lnTo>
                <a:lnTo>
                  <a:pt x="32" y="54"/>
                </a:lnTo>
                <a:lnTo>
                  <a:pt x="24" y="54"/>
                </a:lnTo>
                <a:lnTo>
                  <a:pt x="16" y="48"/>
                </a:lnTo>
                <a:lnTo>
                  <a:pt x="10" y="32"/>
                </a:lnTo>
                <a:lnTo>
                  <a:pt x="16" y="18"/>
                </a:lnTo>
                <a:lnTo>
                  <a:pt x="24" y="12"/>
                </a:lnTo>
                <a:lnTo>
                  <a:pt x="32" y="12"/>
                </a:lnTo>
                <a:lnTo>
                  <a:pt x="32" y="0"/>
                </a:lnTo>
                <a:close/>
              </a:path>
            </a:pathLst>
          </a:custGeom>
          <a:solidFill>
            <a:srgbClr val="f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95600" y="327348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20" y="0"/>
                </a:moveTo>
                <a:lnTo>
                  <a:pt x="28" y="2"/>
                </a:lnTo>
                <a:lnTo>
                  <a:pt x="36" y="6"/>
                </a:lnTo>
                <a:lnTo>
                  <a:pt x="42" y="22"/>
                </a:lnTo>
                <a:lnTo>
                  <a:pt x="36" y="38"/>
                </a:lnTo>
                <a:lnTo>
                  <a:pt x="28" y="42"/>
                </a:lnTo>
                <a:lnTo>
                  <a:pt x="20" y="42"/>
                </a:lnTo>
                <a:lnTo>
                  <a:pt x="14" y="42"/>
                </a:lnTo>
                <a:lnTo>
                  <a:pt x="6" y="38"/>
                </a:lnTo>
                <a:lnTo>
                  <a:pt x="0" y="22"/>
                </a:lnTo>
                <a:lnTo>
                  <a:pt x="6" y="6"/>
                </a:lnTo>
                <a:lnTo>
                  <a:pt x="14" y="2"/>
                </a:lnTo>
                <a:lnTo>
                  <a:pt x="20" y="0"/>
                </a:lnTo>
                <a:lnTo>
                  <a:pt x="20" y="10"/>
                </a:lnTo>
                <a:lnTo>
                  <a:pt x="28" y="14"/>
                </a:lnTo>
                <a:lnTo>
                  <a:pt x="32" y="22"/>
                </a:lnTo>
                <a:lnTo>
                  <a:pt x="28" y="30"/>
                </a:lnTo>
                <a:lnTo>
                  <a:pt x="20" y="32"/>
                </a:lnTo>
                <a:lnTo>
                  <a:pt x="14" y="30"/>
                </a:lnTo>
                <a:lnTo>
                  <a:pt x="10" y="22"/>
                </a:lnTo>
                <a:lnTo>
                  <a:pt x="14" y="14"/>
                </a:lnTo>
                <a:lnTo>
                  <a:pt x="20" y="10"/>
                </a:lnTo>
                <a:lnTo>
                  <a:pt x="20" y="0"/>
                </a:lnTo>
                <a:close/>
              </a:path>
            </a:pathLst>
          </a:custGeom>
          <a:solidFill>
            <a:srgbClr val="f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511440" y="3289320"/>
            <a:ext cx="3204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10" y="0"/>
                </a:moveTo>
                <a:lnTo>
                  <a:pt x="18" y="4"/>
                </a:lnTo>
                <a:lnTo>
                  <a:pt x="20" y="10"/>
                </a:lnTo>
                <a:lnTo>
                  <a:pt x="18" y="18"/>
                </a:lnTo>
                <a:lnTo>
                  <a:pt x="10" y="22"/>
                </a:lnTo>
                <a:lnTo>
                  <a:pt x="4" y="18"/>
                </a:lnTo>
                <a:lnTo>
                  <a:pt x="0" y="10"/>
                </a:lnTo>
                <a:lnTo>
                  <a:pt x="4" y="4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590920" y="2819520"/>
            <a:ext cx="1828800" cy="955440"/>
          </a:xfrm>
          <a:custGeom>
            <a:avLst/>
            <a:gdLst/>
            <a:ahLst/>
            <a:rect l="l" t="t" r="r" b="b"/>
            <a:pathLst>
              <a:path w="1152" h="602">
                <a:moveTo>
                  <a:pt x="1126" y="300"/>
                </a:moveTo>
                <a:lnTo>
                  <a:pt x="1152" y="288"/>
                </a:lnTo>
                <a:lnTo>
                  <a:pt x="1096" y="242"/>
                </a:lnTo>
                <a:lnTo>
                  <a:pt x="1060" y="260"/>
                </a:lnTo>
                <a:lnTo>
                  <a:pt x="1006" y="244"/>
                </a:lnTo>
                <a:lnTo>
                  <a:pt x="980" y="228"/>
                </a:lnTo>
                <a:lnTo>
                  <a:pt x="958" y="228"/>
                </a:lnTo>
                <a:lnTo>
                  <a:pt x="946" y="200"/>
                </a:lnTo>
                <a:lnTo>
                  <a:pt x="936" y="180"/>
                </a:lnTo>
                <a:lnTo>
                  <a:pt x="918" y="180"/>
                </a:lnTo>
                <a:lnTo>
                  <a:pt x="900" y="180"/>
                </a:lnTo>
                <a:lnTo>
                  <a:pt x="884" y="188"/>
                </a:lnTo>
                <a:lnTo>
                  <a:pt x="856" y="156"/>
                </a:lnTo>
                <a:lnTo>
                  <a:pt x="844" y="162"/>
                </a:lnTo>
                <a:lnTo>
                  <a:pt x="830" y="166"/>
                </a:lnTo>
                <a:lnTo>
                  <a:pt x="818" y="174"/>
                </a:lnTo>
                <a:lnTo>
                  <a:pt x="792" y="150"/>
                </a:lnTo>
                <a:lnTo>
                  <a:pt x="734" y="96"/>
                </a:lnTo>
                <a:lnTo>
                  <a:pt x="690" y="64"/>
                </a:lnTo>
                <a:lnTo>
                  <a:pt x="662" y="34"/>
                </a:lnTo>
                <a:lnTo>
                  <a:pt x="614" y="72"/>
                </a:lnTo>
                <a:lnTo>
                  <a:pt x="606" y="44"/>
                </a:lnTo>
                <a:lnTo>
                  <a:pt x="540" y="40"/>
                </a:lnTo>
                <a:lnTo>
                  <a:pt x="532" y="40"/>
                </a:lnTo>
                <a:lnTo>
                  <a:pt x="502" y="0"/>
                </a:lnTo>
                <a:lnTo>
                  <a:pt x="470" y="4"/>
                </a:lnTo>
                <a:lnTo>
                  <a:pt x="448" y="22"/>
                </a:lnTo>
                <a:lnTo>
                  <a:pt x="408" y="32"/>
                </a:lnTo>
                <a:lnTo>
                  <a:pt x="392" y="24"/>
                </a:lnTo>
                <a:lnTo>
                  <a:pt x="370" y="48"/>
                </a:lnTo>
                <a:lnTo>
                  <a:pt x="354" y="44"/>
                </a:lnTo>
                <a:lnTo>
                  <a:pt x="294" y="50"/>
                </a:lnTo>
                <a:lnTo>
                  <a:pt x="284" y="48"/>
                </a:lnTo>
                <a:lnTo>
                  <a:pt x="274" y="54"/>
                </a:lnTo>
                <a:lnTo>
                  <a:pt x="291" y="89"/>
                </a:lnTo>
                <a:lnTo>
                  <a:pt x="284" y="116"/>
                </a:lnTo>
                <a:lnTo>
                  <a:pt x="286" y="138"/>
                </a:lnTo>
                <a:lnTo>
                  <a:pt x="286" y="148"/>
                </a:lnTo>
                <a:lnTo>
                  <a:pt x="299" y="171"/>
                </a:lnTo>
                <a:lnTo>
                  <a:pt x="321" y="174"/>
                </a:lnTo>
                <a:lnTo>
                  <a:pt x="326" y="188"/>
                </a:lnTo>
                <a:lnTo>
                  <a:pt x="316" y="192"/>
                </a:lnTo>
                <a:lnTo>
                  <a:pt x="304" y="180"/>
                </a:lnTo>
                <a:lnTo>
                  <a:pt x="290" y="188"/>
                </a:lnTo>
                <a:lnTo>
                  <a:pt x="284" y="198"/>
                </a:lnTo>
                <a:lnTo>
                  <a:pt x="258" y="180"/>
                </a:lnTo>
                <a:lnTo>
                  <a:pt x="252" y="164"/>
                </a:lnTo>
                <a:lnTo>
                  <a:pt x="230" y="172"/>
                </a:lnTo>
                <a:lnTo>
                  <a:pt x="230" y="178"/>
                </a:lnTo>
                <a:lnTo>
                  <a:pt x="216" y="164"/>
                </a:lnTo>
                <a:lnTo>
                  <a:pt x="194" y="180"/>
                </a:lnTo>
                <a:lnTo>
                  <a:pt x="170" y="188"/>
                </a:lnTo>
                <a:lnTo>
                  <a:pt x="164" y="180"/>
                </a:lnTo>
                <a:lnTo>
                  <a:pt x="156" y="164"/>
                </a:lnTo>
                <a:lnTo>
                  <a:pt x="124" y="162"/>
                </a:lnTo>
                <a:lnTo>
                  <a:pt x="70" y="156"/>
                </a:lnTo>
                <a:lnTo>
                  <a:pt x="58" y="162"/>
                </a:lnTo>
                <a:lnTo>
                  <a:pt x="54" y="172"/>
                </a:lnTo>
                <a:lnTo>
                  <a:pt x="46" y="166"/>
                </a:lnTo>
                <a:lnTo>
                  <a:pt x="38" y="186"/>
                </a:lnTo>
                <a:lnTo>
                  <a:pt x="26" y="200"/>
                </a:lnTo>
                <a:lnTo>
                  <a:pt x="26" y="206"/>
                </a:lnTo>
                <a:lnTo>
                  <a:pt x="34" y="218"/>
                </a:lnTo>
                <a:lnTo>
                  <a:pt x="24" y="222"/>
                </a:lnTo>
                <a:lnTo>
                  <a:pt x="16" y="200"/>
                </a:lnTo>
                <a:lnTo>
                  <a:pt x="2" y="202"/>
                </a:lnTo>
                <a:lnTo>
                  <a:pt x="0" y="234"/>
                </a:lnTo>
                <a:lnTo>
                  <a:pt x="0" y="252"/>
                </a:lnTo>
                <a:lnTo>
                  <a:pt x="0" y="268"/>
                </a:lnTo>
                <a:lnTo>
                  <a:pt x="4" y="282"/>
                </a:lnTo>
                <a:lnTo>
                  <a:pt x="12" y="294"/>
                </a:lnTo>
                <a:lnTo>
                  <a:pt x="12" y="312"/>
                </a:lnTo>
                <a:lnTo>
                  <a:pt x="21" y="333"/>
                </a:lnTo>
                <a:lnTo>
                  <a:pt x="44" y="330"/>
                </a:lnTo>
                <a:lnTo>
                  <a:pt x="53" y="327"/>
                </a:lnTo>
                <a:lnTo>
                  <a:pt x="62" y="328"/>
                </a:lnTo>
                <a:lnTo>
                  <a:pt x="69" y="350"/>
                </a:lnTo>
                <a:lnTo>
                  <a:pt x="84" y="376"/>
                </a:lnTo>
                <a:lnTo>
                  <a:pt x="110" y="368"/>
                </a:lnTo>
                <a:lnTo>
                  <a:pt x="148" y="360"/>
                </a:lnTo>
                <a:lnTo>
                  <a:pt x="208" y="350"/>
                </a:lnTo>
                <a:lnTo>
                  <a:pt x="222" y="372"/>
                </a:lnTo>
                <a:lnTo>
                  <a:pt x="226" y="412"/>
                </a:lnTo>
                <a:lnTo>
                  <a:pt x="196" y="420"/>
                </a:lnTo>
                <a:lnTo>
                  <a:pt x="170" y="428"/>
                </a:lnTo>
                <a:lnTo>
                  <a:pt x="176" y="456"/>
                </a:lnTo>
                <a:lnTo>
                  <a:pt x="136" y="456"/>
                </a:lnTo>
                <a:lnTo>
                  <a:pt x="170" y="514"/>
                </a:lnTo>
                <a:lnTo>
                  <a:pt x="186" y="518"/>
                </a:lnTo>
                <a:lnTo>
                  <a:pt x="202" y="524"/>
                </a:lnTo>
                <a:lnTo>
                  <a:pt x="212" y="546"/>
                </a:lnTo>
                <a:lnTo>
                  <a:pt x="222" y="538"/>
                </a:lnTo>
                <a:lnTo>
                  <a:pt x="252" y="532"/>
                </a:lnTo>
                <a:lnTo>
                  <a:pt x="268" y="544"/>
                </a:lnTo>
                <a:lnTo>
                  <a:pt x="284" y="554"/>
                </a:lnTo>
                <a:lnTo>
                  <a:pt x="292" y="544"/>
                </a:lnTo>
                <a:lnTo>
                  <a:pt x="326" y="562"/>
                </a:lnTo>
                <a:lnTo>
                  <a:pt x="292" y="426"/>
                </a:lnTo>
                <a:lnTo>
                  <a:pt x="310" y="420"/>
                </a:lnTo>
                <a:lnTo>
                  <a:pt x="346" y="394"/>
                </a:lnTo>
                <a:lnTo>
                  <a:pt x="344" y="378"/>
                </a:lnTo>
                <a:lnTo>
                  <a:pt x="336" y="368"/>
                </a:lnTo>
                <a:lnTo>
                  <a:pt x="348" y="374"/>
                </a:lnTo>
                <a:lnTo>
                  <a:pt x="348" y="360"/>
                </a:lnTo>
                <a:lnTo>
                  <a:pt x="354" y="350"/>
                </a:lnTo>
                <a:lnTo>
                  <a:pt x="358" y="354"/>
                </a:lnTo>
                <a:lnTo>
                  <a:pt x="368" y="354"/>
                </a:lnTo>
                <a:lnTo>
                  <a:pt x="378" y="362"/>
                </a:lnTo>
                <a:lnTo>
                  <a:pt x="390" y="346"/>
                </a:lnTo>
                <a:lnTo>
                  <a:pt x="400" y="350"/>
                </a:lnTo>
                <a:lnTo>
                  <a:pt x="390" y="374"/>
                </a:lnTo>
                <a:lnTo>
                  <a:pt x="398" y="404"/>
                </a:lnTo>
                <a:lnTo>
                  <a:pt x="420" y="422"/>
                </a:lnTo>
                <a:lnTo>
                  <a:pt x="420" y="428"/>
                </a:lnTo>
                <a:lnTo>
                  <a:pt x="412" y="442"/>
                </a:lnTo>
                <a:lnTo>
                  <a:pt x="414" y="450"/>
                </a:lnTo>
                <a:lnTo>
                  <a:pt x="446" y="462"/>
                </a:lnTo>
                <a:lnTo>
                  <a:pt x="470" y="496"/>
                </a:lnTo>
                <a:lnTo>
                  <a:pt x="498" y="488"/>
                </a:lnTo>
                <a:lnTo>
                  <a:pt x="534" y="480"/>
                </a:lnTo>
                <a:lnTo>
                  <a:pt x="540" y="522"/>
                </a:lnTo>
                <a:lnTo>
                  <a:pt x="550" y="550"/>
                </a:lnTo>
                <a:lnTo>
                  <a:pt x="542" y="556"/>
                </a:lnTo>
                <a:lnTo>
                  <a:pt x="536" y="566"/>
                </a:lnTo>
                <a:lnTo>
                  <a:pt x="558" y="578"/>
                </a:lnTo>
                <a:lnTo>
                  <a:pt x="586" y="596"/>
                </a:lnTo>
                <a:lnTo>
                  <a:pt x="626" y="602"/>
                </a:lnTo>
                <a:lnTo>
                  <a:pt x="626" y="598"/>
                </a:lnTo>
                <a:lnTo>
                  <a:pt x="654" y="586"/>
                </a:lnTo>
                <a:lnTo>
                  <a:pt x="676" y="582"/>
                </a:lnTo>
                <a:lnTo>
                  <a:pt x="702" y="580"/>
                </a:lnTo>
                <a:lnTo>
                  <a:pt x="726" y="580"/>
                </a:lnTo>
                <a:lnTo>
                  <a:pt x="722" y="560"/>
                </a:lnTo>
                <a:lnTo>
                  <a:pt x="724" y="544"/>
                </a:lnTo>
                <a:lnTo>
                  <a:pt x="710" y="534"/>
                </a:lnTo>
                <a:lnTo>
                  <a:pt x="724" y="528"/>
                </a:lnTo>
                <a:lnTo>
                  <a:pt x="740" y="525"/>
                </a:lnTo>
                <a:lnTo>
                  <a:pt x="773" y="536"/>
                </a:lnTo>
                <a:lnTo>
                  <a:pt x="748" y="516"/>
                </a:lnTo>
                <a:lnTo>
                  <a:pt x="759" y="528"/>
                </a:lnTo>
                <a:lnTo>
                  <a:pt x="783" y="534"/>
                </a:lnTo>
                <a:lnTo>
                  <a:pt x="779" y="507"/>
                </a:lnTo>
                <a:lnTo>
                  <a:pt x="797" y="504"/>
                </a:lnTo>
                <a:lnTo>
                  <a:pt x="839" y="510"/>
                </a:lnTo>
                <a:lnTo>
                  <a:pt x="893" y="518"/>
                </a:lnTo>
                <a:lnTo>
                  <a:pt x="936" y="530"/>
                </a:lnTo>
                <a:lnTo>
                  <a:pt x="950" y="539"/>
                </a:lnTo>
                <a:lnTo>
                  <a:pt x="964" y="554"/>
                </a:lnTo>
                <a:lnTo>
                  <a:pt x="980" y="502"/>
                </a:lnTo>
                <a:lnTo>
                  <a:pt x="958" y="444"/>
                </a:lnTo>
                <a:lnTo>
                  <a:pt x="1028" y="428"/>
                </a:lnTo>
                <a:lnTo>
                  <a:pt x="1036" y="396"/>
                </a:lnTo>
                <a:lnTo>
                  <a:pt x="1046" y="350"/>
                </a:lnTo>
                <a:lnTo>
                  <a:pt x="1116" y="354"/>
                </a:lnTo>
                <a:lnTo>
                  <a:pt x="1126" y="300"/>
                </a:lnTo>
              </a:path>
            </a:pathLst>
          </a:custGeom>
          <a:solidFill>
            <a:srgbClr val="00ff00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403880" y="3317760"/>
            <a:ext cx="1440" cy="1800"/>
          </a:xfrm>
          <a:prstGeom prst="line">
            <a:avLst/>
          </a:prstGeom>
          <a:ln w="3240">
            <a:solidFill>
              <a:srgbClr val="a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054240" y="3444840"/>
            <a:ext cx="800280" cy="574560"/>
          </a:xfrm>
          <a:custGeom>
            <a:avLst/>
            <a:gdLst/>
            <a:ahLst/>
            <a:rect l="l" t="t" r="r" b="b"/>
            <a:pathLst>
              <a:path w="504" h="362">
                <a:moveTo>
                  <a:pt x="34" y="166"/>
                </a:moveTo>
                <a:lnTo>
                  <a:pt x="46" y="164"/>
                </a:lnTo>
                <a:lnTo>
                  <a:pt x="52" y="148"/>
                </a:lnTo>
                <a:lnTo>
                  <a:pt x="58" y="134"/>
                </a:lnTo>
                <a:lnTo>
                  <a:pt x="70" y="142"/>
                </a:lnTo>
                <a:lnTo>
                  <a:pt x="66" y="122"/>
                </a:lnTo>
                <a:lnTo>
                  <a:pt x="80" y="116"/>
                </a:lnTo>
                <a:lnTo>
                  <a:pt x="88" y="128"/>
                </a:lnTo>
                <a:lnTo>
                  <a:pt x="100" y="128"/>
                </a:lnTo>
                <a:lnTo>
                  <a:pt x="114" y="138"/>
                </a:lnTo>
                <a:lnTo>
                  <a:pt x="122" y="142"/>
                </a:lnTo>
                <a:lnTo>
                  <a:pt x="122" y="144"/>
                </a:lnTo>
                <a:lnTo>
                  <a:pt x="122" y="156"/>
                </a:lnTo>
                <a:lnTo>
                  <a:pt x="134" y="164"/>
                </a:lnTo>
                <a:lnTo>
                  <a:pt x="134" y="178"/>
                </a:lnTo>
                <a:lnTo>
                  <a:pt x="146" y="202"/>
                </a:lnTo>
                <a:lnTo>
                  <a:pt x="162" y="206"/>
                </a:lnTo>
                <a:lnTo>
                  <a:pt x="166" y="198"/>
                </a:lnTo>
                <a:lnTo>
                  <a:pt x="180" y="188"/>
                </a:lnTo>
                <a:lnTo>
                  <a:pt x="194" y="202"/>
                </a:lnTo>
                <a:lnTo>
                  <a:pt x="208" y="224"/>
                </a:lnTo>
                <a:lnTo>
                  <a:pt x="234" y="252"/>
                </a:lnTo>
                <a:lnTo>
                  <a:pt x="274" y="264"/>
                </a:lnTo>
                <a:lnTo>
                  <a:pt x="278" y="282"/>
                </a:lnTo>
                <a:lnTo>
                  <a:pt x="304" y="294"/>
                </a:lnTo>
                <a:lnTo>
                  <a:pt x="318" y="312"/>
                </a:lnTo>
                <a:lnTo>
                  <a:pt x="308" y="362"/>
                </a:lnTo>
                <a:lnTo>
                  <a:pt x="332" y="362"/>
                </a:lnTo>
                <a:lnTo>
                  <a:pt x="350" y="336"/>
                </a:lnTo>
                <a:lnTo>
                  <a:pt x="358" y="322"/>
                </a:lnTo>
                <a:lnTo>
                  <a:pt x="366" y="310"/>
                </a:lnTo>
                <a:lnTo>
                  <a:pt x="362" y="286"/>
                </a:lnTo>
                <a:lnTo>
                  <a:pt x="342" y="276"/>
                </a:lnTo>
                <a:lnTo>
                  <a:pt x="348" y="230"/>
                </a:lnTo>
                <a:lnTo>
                  <a:pt x="366" y="212"/>
                </a:lnTo>
                <a:lnTo>
                  <a:pt x="382" y="220"/>
                </a:lnTo>
                <a:lnTo>
                  <a:pt x="418" y="210"/>
                </a:lnTo>
                <a:lnTo>
                  <a:pt x="422" y="230"/>
                </a:lnTo>
                <a:lnTo>
                  <a:pt x="444" y="228"/>
                </a:lnTo>
                <a:lnTo>
                  <a:pt x="490" y="224"/>
                </a:lnTo>
                <a:lnTo>
                  <a:pt x="504" y="202"/>
                </a:lnTo>
                <a:lnTo>
                  <a:pt x="490" y="190"/>
                </a:lnTo>
                <a:lnTo>
                  <a:pt x="462" y="190"/>
                </a:lnTo>
                <a:lnTo>
                  <a:pt x="410" y="190"/>
                </a:lnTo>
                <a:lnTo>
                  <a:pt x="388" y="190"/>
                </a:lnTo>
                <a:lnTo>
                  <a:pt x="368" y="188"/>
                </a:lnTo>
                <a:lnTo>
                  <a:pt x="334" y="206"/>
                </a:lnTo>
                <a:lnTo>
                  <a:pt x="330" y="202"/>
                </a:lnTo>
                <a:lnTo>
                  <a:pt x="324" y="194"/>
                </a:lnTo>
                <a:lnTo>
                  <a:pt x="308" y="198"/>
                </a:lnTo>
                <a:lnTo>
                  <a:pt x="292" y="206"/>
                </a:lnTo>
                <a:lnTo>
                  <a:pt x="288" y="202"/>
                </a:lnTo>
                <a:lnTo>
                  <a:pt x="284" y="194"/>
                </a:lnTo>
                <a:lnTo>
                  <a:pt x="264" y="188"/>
                </a:lnTo>
                <a:lnTo>
                  <a:pt x="258" y="186"/>
                </a:lnTo>
                <a:lnTo>
                  <a:pt x="262" y="176"/>
                </a:lnTo>
                <a:lnTo>
                  <a:pt x="274" y="170"/>
                </a:lnTo>
                <a:lnTo>
                  <a:pt x="258" y="134"/>
                </a:lnTo>
                <a:lnTo>
                  <a:pt x="238" y="84"/>
                </a:lnTo>
                <a:lnTo>
                  <a:pt x="178" y="100"/>
                </a:lnTo>
                <a:lnTo>
                  <a:pt x="166" y="84"/>
                </a:lnTo>
                <a:lnTo>
                  <a:pt x="138" y="70"/>
                </a:lnTo>
                <a:lnTo>
                  <a:pt x="114" y="90"/>
                </a:lnTo>
                <a:lnTo>
                  <a:pt x="90" y="86"/>
                </a:lnTo>
                <a:lnTo>
                  <a:pt x="62" y="62"/>
                </a:lnTo>
                <a:lnTo>
                  <a:pt x="58" y="36"/>
                </a:lnTo>
                <a:lnTo>
                  <a:pt x="60" y="18"/>
                </a:lnTo>
                <a:lnTo>
                  <a:pt x="58" y="0"/>
                </a:lnTo>
                <a:lnTo>
                  <a:pt x="0" y="36"/>
                </a:lnTo>
                <a:lnTo>
                  <a:pt x="34" y="16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46240" y="3629160"/>
            <a:ext cx="613080" cy="504720"/>
          </a:xfrm>
          <a:custGeom>
            <a:avLst/>
            <a:gdLst/>
            <a:ahLst/>
            <a:rect l="l" t="t" r="r" b="b"/>
            <a:pathLst>
              <a:path w="386" h="318">
                <a:moveTo>
                  <a:pt x="0" y="48"/>
                </a:moveTo>
                <a:lnTo>
                  <a:pt x="2" y="86"/>
                </a:lnTo>
                <a:lnTo>
                  <a:pt x="22" y="62"/>
                </a:lnTo>
                <a:lnTo>
                  <a:pt x="52" y="94"/>
                </a:lnTo>
                <a:lnTo>
                  <a:pt x="38" y="114"/>
                </a:lnTo>
                <a:lnTo>
                  <a:pt x="6" y="94"/>
                </a:lnTo>
                <a:lnTo>
                  <a:pt x="2" y="124"/>
                </a:lnTo>
                <a:lnTo>
                  <a:pt x="6" y="138"/>
                </a:lnTo>
                <a:lnTo>
                  <a:pt x="22" y="144"/>
                </a:lnTo>
                <a:lnTo>
                  <a:pt x="16" y="162"/>
                </a:lnTo>
                <a:lnTo>
                  <a:pt x="32" y="174"/>
                </a:lnTo>
                <a:lnTo>
                  <a:pt x="32" y="232"/>
                </a:lnTo>
                <a:lnTo>
                  <a:pt x="84" y="216"/>
                </a:lnTo>
                <a:lnTo>
                  <a:pt x="114" y="198"/>
                </a:lnTo>
                <a:lnTo>
                  <a:pt x="182" y="236"/>
                </a:lnTo>
                <a:lnTo>
                  <a:pt x="224" y="260"/>
                </a:lnTo>
                <a:lnTo>
                  <a:pt x="234" y="270"/>
                </a:lnTo>
                <a:lnTo>
                  <a:pt x="236" y="298"/>
                </a:lnTo>
                <a:lnTo>
                  <a:pt x="276" y="318"/>
                </a:lnTo>
                <a:lnTo>
                  <a:pt x="338" y="242"/>
                </a:lnTo>
                <a:lnTo>
                  <a:pt x="376" y="242"/>
                </a:lnTo>
                <a:lnTo>
                  <a:pt x="382" y="212"/>
                </a:lnTo>
                <a:lnTo>
                  <a:pt x="386" y="196"/>
                </a:lnTo>
                <a:lnTo>
                  <a:pt x="374" y="176"/>
                </a:lnTo>
                <a:lnTo>
                  <a:pt x="346" y="164"/>
                </a:lnTo>
                <a:lnTo>
                  <a:pt x="342" y="148"/>
                </a:lnTo>
                <a:lnTo>
                  <a:pt x="302" y="136"/>
                </a:lnTo>
                <a:lnTo>
                  <a:pt x="276" y="106"/>
                </a:lnTo>
                <a:lnTo>
                  <a:pt x="270" y="90"/>
                </a:lnTo>
                <a:lnTo>
                  <a:pt x="248" y="72"/>
                </a:lnTo>
                <a:lnTo>
                  <a:pt x="236" y="82"/>
                </a:lnTo>
                <a:lnTo>
                  <a:pt x="230" y="90"/>
                </a:lnTo>
                <a:lnTo>
                  <a:pt x="214" y="86"/>
                </a:lnTo>
                <a:lnTo>
                  <a:pt x="202" y="62"/>
                </a:lnTo>
                <a:lnTo>
                  <a:pt x="202" y="48"/>
                </a:lnTo>
                <a:lnTo>
                  <a:pt x="190" y="40"/>
                </a:lnTo>
                <a:lnTo>
                  <a:pt x="186" y="26"/>
                </a:lnTo>
                <a:lnTo>
                  <a:pt x="168" y="12"/>
                </a:lnTo>
                <a:lnTo>
                  <a:pt x="156" y="12"/>
                </a:lnTo>
                <a:lnTo>
                  <a:pt x="148" y="0"/>
                </a:lnTo>
                <a:lnTo>
                  <a:pt x="134" y="6"/>
                </a:lnTo>
                <a:lnTo>
                  <a:pt x="138" y="26"/>
                </a:lnTo>
                <a:lnTo>
                  <a:pt x="132" y="22"/>
                </a:lnTo>
                <a:lnTo>
                  <a:pt x="126" y="18"/>
                </a:lnTo>
                <a:lnTo>
                  <a:pt x="114" y="48"/>
                </a:lnTo>
                <a:lnTo>
                  <a:pt x="100" y="48"/>
                </a:lnTo>
                <a:lnTo>
                  <a:pt x="84" y="44"/>
                </a:lnTo>
                <a:lnTo>
                  <a:pt x="74" y="58"/>
                </a:lnTo>
                <a:lnTo>
                  <a:pt x="60" y="48"/>
                </a:lnTo>
                <a:lnTo>
                  <a:pt x="42" y="34"/>
                </a:lnTo>
                <a:lnTo>
                  <a:pt x="0" y="48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635280" y="3622680"/>
            <a:ext cx="505080" cy="257040"/>
          </a:xfrm>
          <a:custGeom>
            <a:avLst/>
            <a:gdLst/>
            <a:ahLst/>
            <a:rect l="l" t="t" r="r" b="b"/>
            <a:pathLst>
              <a:path w="318" h="162">
                <a:moveTo>
                  <a:pt x="80" y="116"/>
                </a:moveTo>
                <a:lnTo>
                  <a:pt x="56" y="116"/>
                </a:lnTo>
                <a:lnTo>
                  <a:pt x="10" y="120"/>
                </a:lnTo>
                <a:lnTo>
                  <a:pt x="0" y="140"/>
                </a:lnTo>
                <a:lnTo>
                  <a:pt x="10" y="148"/>
                </a:lnTo>
                <a:lnTo>
                  <a:pt x="18" y="154"/>
                </a:lnTo>
                <a:lnTo>
                  <a:pt x="84" y="152"/>
                </a:lnTo>
                <a:lnTo>
                  <a:pt x="128" y="152"/>
                </a:lnTo>
                <a:lnTo>
                  <a:pt x="148" y="162"/>
                </a:lnTo>
                <a:lnTo>
                  <a:pt x="154" y="142"/>
                </a:lnTo>
                <a:lnTo>
                  <a:pt x="174" y="140"/>
                </a:lnTo>
                <a:lnTo>
                  <a:pt x="200" y="132"/>
                </a:lnTo>
                <a:lnTo>
                  <a:pt x="222" y="128"/>
                </a:lnTo>
                <a:lnTo>
                  <a:pt x="264" y="100"/>
                </a:lnTo>
                <a:lnTo>
                  <a:pt x="306" y="76"/>
                </a:lnTo>
                <a:lnTo>
                  <a:pt x="318" y="62"/>
                </a:lnTo>
                <a:lnTo>
                  <a:pt x="314" y="38"/>
                </a:lnTo>
                <a:lnTo>
                  <a:pt x="294" y="38"/>
                </a:lnTo>
                <a:lnTo>
                  <a:pt x="274" y="26"/>
                </a:lnTo>
                <a:lnTo>
                  <a:pt x="250" y="16"/>
                </a:lnTo>
                <a:lnTo>
                  <a:pt x="198" y="10"/>
                </a:lnTo>
                <a:lnTo>
                  <a:pt x="130" y="0"/>
                </a:lnTo>
                <a:lnTo>
                  <a:pt x="120" y="4"/>
                </a:lnTo>
                <a:lnTo>
                  <a:pt x="122" y="16"/>
                </a:lnTo>
                <a:lnTo>
                  <a:pt x="128" y="30"/>
                </a:lnTo>
                <a:lnTo>
                  <a:pt x="112" y="32"/>
                </a:lnTo>
                <a:lnTo>
                  <a:pt x="106" y="26"/>
                </a:lnTo>
                <a:lnTo>
                  <a:pt x="82" y="22"/>
                </a:lnTo>
                <a:lnTo>
                  <a:pt x="54" y="26"/>
                </a:lnTo>
                <a:lnTo>
                  <a:pt x="66" y="32"/>
                </a:lnTo>
                <a:lnTo>
                  <a:pt x="66" y="42"/>
                </a:lnTo>
                <a:lnTo>
                  <a:pt x="62" y="54"/>
                </a:lnTo>
                <a:lnTo>
                  <a:pt x="62" y="70"/>
                </a:lnTo>
                <a:lnTo>
                  <a:pt x="68" y="80"/>
                </a:lnTo>
                <a:lnTo>
                  <a:pt x="112" y="80"/>
                </a:lnTo>
                <a:lnTo>
                  <a:pt x="124" y="78"/>
                </a:lnTo>
                <a:lnTo>
                  <a:pt x="138" y="94"/>
                </a:lnTo>
                <a:lnTo>
                  <a:pt x="124" y="112"/>
                </a:lnTo>
                <a:lnTo>
                  <a:pt x="110" y="112"/>
                </a:lnTo>
                <a:lnTo>
                  <a:pt x="96" y="112"/>
                </a:lnTo>
                <a:lnTo>
                  <a:pt x="88" y="112"/>
                </a:lnTo>
                <a:lnTo>
                  <a:pt x="80" y="11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7760" y="3778200"/>
            <a:ext cx="324000" cy="263520"/>
          </a:xfrm>
          <a:custGeom>
            <a:avLst/>
            <a:gdLst/>
            <a:ahLst/>
            <a:rect l="l" t="t" r="r" b="b"/>
            <a:pathLst>
              <a:path w="204" h="166">
                <a:moveTo>
                  <a:pt x="0" y="144"/>
                </a:moveTo>
                <a:lnTo>
                  <a:pt x="2" y="150"/>
                </a:lnTo>
                <a:lnTo>
                  <a:pt x="18" y="152"/>
                </a:lnTo>
                <a:lnTo>
                  <a:pt x="54" y="154"/>
                </a:lnTo>
                <a:lnTo>
                  <a:pt x="96" y="100"/>
                </a:lnTo>
                <a:lnTo>
                  <a:pt x="106" y="134"/>
                </a:lnTo>
                <a:lnTo>
                  <a:pt x="118" y="166"/>
                </a:lnTo>
                <a:lnTo>
                  <a:pt x="146" y="154"/>
                </a:lnTo>
                <a:lnTo>
                  <a:pt x="174" y="142"/>
                </a:lnTo>
                <a:lnTo>
                  <a:pt x="204" y="152"/>
                </a:lnTo>
                <a:lnTo>
                  <a:pt x="204" y="102"/>
                </a:lnTo>
                <a:lnTo>
                  <a:pt x="184" y="94"/>
                </a:lnTo>
                <a:lnTo>
                  <a:pt x="172" y="96"/>
                </a:lnTo>
                <a:lnTo>
                  <a:pt x="180" y="64"/>
                </a:lnTo>
                <a:lnTo>
                  <a:pt x="156" y="56"/>
                </a:lnTo>
                <a:lnTo>
                  <a:pt x="138" y="54"/>
                </a:lnTo>
                <a:lnTo>
                  <a:pt x="108" y="54"/>
                </a:lnTo>
                <a:lnTo>
                  <a:pt x="84" y="54"/>
                </a:lnTo>
                <a:lnTo>
                  <a:pt x="56" y="54"/>
                </a:lnTo>
                <a:lnTo>
                  <a:pt x="34" y="50"/>
                </a:lnTo>
                <a:lnTo>
                  <a:pt x="30" y="44"/>
                </a:lnTo>
                <a:lnTo>
                  <a:pt x="36" y="32"/>
                </a:lnTo>
                <a:lnTo>
                  <a:pt x="46" y="22"/>
                </a:lnTo>
                <a:lnTo>
                  <a:pt x="84" y="16"/>
                </a:lnTo>
                <a:lnTo>
                  <a:pt x="82" y="0"/>
                </a:lnTo>
                <a:lnTo>
                  <a:pt x="52" y="6"/>
                </a:lnTo>
                <a:lnTo>
                  <a:pt x="26" y="4"/>
                </a:lnTo>
                <a:lnTo>
                  <a:pt x="12" y="20"/>
                </a:lnTo>
                <a:lnTo>
                  <a:pt x="4" y="54"/>
                </a:lnTo>
                <a:lnTo>
                  <a:pt x="6" y="62"/>
                </a:lnTo>
                <a:lnTo>
                  <a:pt x="4" y="64"/>
                </a:lnTo>
                <a:lnTo>
                  <a:pt x="22" y="72"/>
                </a:lnTo>
                <a:lnTo>
                  <a:pt x="32" y="90"/>
                </a:lnTo>
                <a:lnTo>
                  <a:pt x="26" y="112"/>
                </a:lnTo>
                <a:lnTo>
                  <a:pt x="22" y="116"/>
                </a:lnTo>
                <a:lnTo>
                  <a:pt x="14" y="124"/>
                </a:lnTo>
                <a:lnTo>
                  <a:pt x="0" y="144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ae00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2362320"/>
            <a:ext cx="24444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432800" y="2362320"/>
            <a:ext cx="246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219320" y="2514600"/>
            <a:ext cx="29196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216440" y="2514600"/>
            <a:ext cx="293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Stokholm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09480" y="3048120"/>
            <a:ext cx="349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Amsterdam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80880" y="3048120"/>
            <a:ext cx="23184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6200" y="2895480"/>
            <a:ext cx="238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30280" y="3251160"/>
            <a:ext cx="15876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076400" y="3581280"/>
            <a:ext cx="17784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012680" y="3317760"/>
            <a:ext cx="20952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647720" y="3882960"/>
            <a:ext cx="2160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645560" y="3882960"/>
            <a:ext cx="217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768320" y="2666880"/>
            <a:ext cx="13968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81600" y="3505320"/>
            <a:ext cx="21240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025800" y="4565520"/>
            <a:ext cx="14292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023640" y="4565520"/>
            <a:ext cx="144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Abu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025800" y="4638600"/>
            <a:ext cx="17784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023640" y="4638600"/>
            <a:ext cx="178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Dhabi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759120" y="3651120"/>
            <a:ext cx="200160" cy="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882960" y="4267080"/>
            <a:ext cx="31104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880440" y="4267080"/>
            <a:ext cx="31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Islamabad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952880" y="3352680"/>
            <a:ext cx="32076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52160" y="3352680"/>
            <a:ext cx="317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UlanBaator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29200" y="5172120"/>
            <a:ext cx="27000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130720" y="5638680"/>
            <a:ext cx="19044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128920" y="5638680"/>
            <a:ext cx="192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Kuala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30720" y="5711760"/>
            <a:ext cx="23832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128200" y="5711760"/>
            <a:ext cx="24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Lumpur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280120" y="5877000"/>
            <a:ext cx="31104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07240" y="3949560"/>
            <a:ext cx="174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805800" y="3949560"/>
            <a:ext cx="17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315120" y="3962520"/>
            <a:ext cx="16488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315120" y="3962520"/>
            <a:ext cx="162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Seou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65240" y="3124080"/>
            <a:ext cx="13644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708200" y="2514600"/>
            <a:ext cx="20628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704240" y="2514600"/>
            <a:ext cx="209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Tallin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689120" y="3581280"/>
            <a:ext cx="15876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687320" y="3657600"/>
            <a:ext cx="1576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Sofia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384200" y="2971800"/>
            <a:ext cx="24156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383480" y="2971800"/>
            <a:ext cx="241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Warsaw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523880" y="2736720"/>
            <a:ext cx="228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521360" y="2736720"/>
            <a:ext cx="22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Vilnuy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17720" y="2971800"/>
            <a:ext cx="182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324080" y="3200400"/>
            <a:ext cx="21564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50880" y="2666880"/>
            <a:ext cx="38412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5840" y="2666880"/>
            <a:ext cx="389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Kopenhage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549520" y="2743200"/>
            <a:ext cx="22536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305000" y="3444840"/>
            <a:ext cx="269640" cy="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309320" y="3444840"/>
            <a:ext cx="258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Arial"/>
              </a:rPr>
              <a:t>Budapesht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209680" y="4191120"/>
            <a:ext cx="27324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206440" y="4191120"/>
            <a:ext cx="27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Baghdad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996920" y="3825720"/>
            <a:ext cx="177840" cy="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743200" y="4124160"/>
            <a:ext cx="21276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741040" y="412416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Tehra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57440" y="4495680"/>
            <a:ext cx="23508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56360" y="4495680"/>
            <a:ext cx="234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Karachi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920880" y="2438280"/>
            <a:ext cx="14292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18720" y="2438280"/>
            <a:ext cx="144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Oslo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705120" y="3902040"/>
            <a:ext cx="254160" cy="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695760" y="4038480"/>
            <a:ext cx="17784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731760" y="4114800"/>
            <a:ext cx="178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Kabu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523880" y="3733920"/>
            <a:ext cx="26352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521360" y="3733920"/>
            <a:ext cx="264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Istambu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879640" y="3276720"/>
            <a:ext cx="18756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762600" y="405756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2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235560" y="395928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2" y="2"/>
                </a:lnTo>
                <a:lnTo>
                  <a:pt x="14" y="0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0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0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2" y="22"/>
                </a:lnTo>
                <a:lnTo>
                  <a:pt x="10" y="22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4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644480" y="39434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4" y="2"/>
                </a:lnTo>
                <a:lnTo>
                  <a:pt x="16" y="0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2" y="6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6" y="22"/>
                </a:lnTo>
                <a:lnTo>
                  <a:pt x="12" y="22"/>
                </a:lnTo>
                <a:lnTo>
                  <a:pt x="10" y="24"/>
                </a:lnTo>
                <a:lnTo>
                  <a:pt x="10" y="22"/>
                </a:lnTo>
                <a:lnTo>
                  <a:pt x="6" y="22"/>
                </a:lnTo>
                <a:lnTo>
                  <a:pt x="6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6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10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073240" y="378468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2"/>
                </a:lnTo>
                <a:lnTo>
                  <a:pt x="16" y="4"/>
                </a:lnTo>
                <a:lnTo>
                  <a:pt x="20" y="4"/>
                </a:lnTo>
                <a:lnTo>
                  <a:pt x="20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8"/>
                </a:lnTo>
                <a:lnTo>
                  <a:pt x="20" y="18"/>
                </a:lnTo>
                <a:lnTo>
                  <a:pt x="20" y="20"/>
                </a:lnTo>
                <a:lnTo>
                  <a:pt x="16" y="20"/>
                </a:lnTo>
                <a:lnTo>
                  <a:pt x="14" y="24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4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8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809720" y="375588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2" y="0"/>
                </a:move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20" y="4"/>
                </a:lnTo>
                <a:lnTo>
                  <a:pt x="20" y="6"/>
                </a:lnTo>
                <a:lnTo>
                  <a:pt x="22" y="8"/>
                </a:lnTo>
                <a:lnTo>
                  <a:pt x="22" y="10"/>
                </a:lnTo>
                <a:lnTo>
                  <a:pt x="22" y="12"/>
                </a:lnTo>
                <a:lnTo>
                  <a:pt x="22" y="14"/>
                </a:lnTo>
                <a:lnTo>
                  <a:pt x="22" y="18"/>
                </a:lnTo>
                <a:lnTo>
                  <a:pt x="20" y="18"/>
                </a:lnTo>
                <a:lnTo>
                  <a:pt x="20" y="20"/>
                </a:lnTo>
                <a:lnTo>
                  <a:pt x="16" y="20"/>
                </a:lnTo>
                <a:lnTo>
                  <a:pt x="16" y="24"/>
                </a:lnTo>
                <a:lnTo>
                  <a:pt x="12" y="22"/>
                </a:lnTo>
                <a:lnTo>
                  <a:pt x="12" y="24"/>
                </a:lnTo>
                <a:lnTo>
                  <a:pt x="10" y="22"/>
                </a:lnTo>
                <a:lnTo>
                  <a:pt x="8" y="24"/>
                </a:lnTo>
                <a:lnTo>
                  <a:pt x="6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8" y="0"/>
                </a:lnTo>
                <a:lnTo>
                  <a:pt x="10" y="2"/>
                </a:lnTo>
                <a:lnTo>
                  <a:pt x="12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650960" y="36291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2" y="2"/>
                </a:lnTo>
                <a:lnTo>
                  <a:pt x="16" y="0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2" y="6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2" y="22"/>
                </a:lnTo>
                <a:lnTo>
                  <a:pt x="10" y="22"/>
                </a:lnTo>
                <a:lnTo>
                  <a:pt x="8" y="22"/>
                </a:lnTo>
                <a:lnTo>
                  <a:pt x="6" y="22"/>
                </a:lnTo>
                <a:lnTo>
                  <a:pt x="6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406520" y="338148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2" y="0"/>
                </a:moveTo>
                <a:lnTo>
                  <a:pt x="14" y="2"/>
                </a:lnTo>
                <a:lnTo>
                  <a:pt x="16" y="0"/>
                </a:lnTo>
                <a:lnTo>
                  <a:pt x="16" y="4"/>
                </a:lnTo>
                <a:lnTo>
                  <a:pt x="20" y="4"/>
                </a:lnTo>
                <a:lnTo>
                  <a:pt x="20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20" y="16"/>
                </a:lnTo>
                <a:lnTo>
                  <a:pt x="20" y="20"/>
                </a:lnTo>
                <a:lnTo>
                  <a:pt x="16" y="20"/>
                </a:lnTo>
                <a:lnTo>
                  <a:pt x="14" y="22"/>
                </a:lnTo>
                <a:lnTo>
                  <a:pt x="12" y="22"/>
                </a:lnTo>
                <a:lnTo>
                  <a:pt x="12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165320" y="30225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6" y="2"/>
                </a:lnTo>
                <a:lnTo>
                  <a:pt x="18" y="2"/>
                </a:lnTo>
                <a:lnTo>
                  <a:pt x="18" y="4"/>
                </a:lnTo>
                <a:lnTo>
                  <a:pt x="20" y="6"/>
                </a:lnTo>
                <a:lnTo>
                  <a:pt x="20" y="8"/>
                </a:lnTo>
                <a:lnTo>
                  <a:pt x="22" y="10"/>
                </a:lnTo>
                <a:lnTo>
                  <a:pt x="20" y="12"/>
                </a:lnTo>
                <a:lnTo>
                  <a:pt x="20" y="16"/>
                </a:lnTo>
                <a:lnTo>
                  <a:pt x="18" y="16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0" y="20"/>
                </a:lnTo>
                <a:lnTo>
                  <a:pt x="10" y="22"/>
                </a:lnTo>
                <a:lnTo>
                  <a:pt x="8" y="20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73000" y="300996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0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93640" y="29973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2" y="0"/>
                </a:lnTo>
                <a:lnTo>
                  <a:pt x="16" y="0"/>
                </a:lnTo>
                <a:lnTo>
                  <a:pt x="16" y="2"/>
                </a:lnTo>
                <a:lnTo>
                  <a:pt x="18" y="2"/>
                </a:lnTo>
                <a:lnTo>
                  <a:pt x="18" y="4"/>
                </a:lnTo>
                <a:lnTo>
                  <a:pt x="22" y="6"/>
                </a:lnTo>
                <a:lnTo>
                  <a:pt x="20" y="8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6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2" y="20"/>
                </a:lnTo>
                <a:lnTo>
                  <a:pt x="10" y="22"/>
                </a:lnTo>
                <a:lnTo>
                  <a:pt x="8" y="20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8"/>
                </a:lnTo>
                <a:lnTo>
                  <a:pt x="0" y="6"/>
                </a:lnTo>
                <a:lnTo>
                  <a:pt x="2" y="4"/>
                </a:ln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238400" y="331488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4" y="0"/>
                </a:lnTo>
                <a:lnTo>
                  <a:pt x="16" y="0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2" y="6"/>
                </a:lnTo>
                <a:lnTo>
                  <a:pt x="20" y="8"/>
                </a:lnTo>
                <a:lnTo>
                  <a:pt x="22" y="10"/>
                </a:lnTo>
                <a:lnTo>
                  <a:pt x="20" y="14"/>
                </a:lnTo>
                <a:lnTo>
                  <a:pt x="22" y="16"/>
                </a:lnTo>
                <a:lnTo>
                  <a:pt x="18" y="16"/>
                </a:lnTo>
                <a:lnTo>
                  <a:pt x="18" y="18"/>
                </a:lnTo>
                <a:lnTo>
                  <a:pt x="16" y="18"/>
                </a:lnTo>
                <a:lnTo>
                  <a:pt x="14" y="22"/>
                </a:lnTo>
                <a:lnTo>
                  <a:pt x="12" y="20"/>
                </a:lnTo>
                <a:lnTo>
                  <a:pt x="10" y="22"/>
                </a:lnTo>
                <a:lnTo>
                  <a:pt x="10" y="20"/>
                </a:lnTo>
                <a:lnTo>
                  <a:pt x="6" y="22"/>
                </a:lnTo>
                <a:lnTo>
                  <a:pt x="6" y="18"/>
                </a:lnTo>
                <a:lnTo>
                  <a:pt x="2" y="18"/>
                </a:lnTo>
                <a:lnTo>
                  <a:pt x="2" y="16"/>
                </a:lnTo>
                <a:lnTo>
                  <a:pt x="0" y="14"/>
                </a:lnTo>
                <a:lnTo>
                  <a:pt x="2" y="14"/>
                </a:lnTo>
                <a:lnTo>
                  <a:pt x="0" y="10"/>
                </a:lnTo>
                <a:lnTo>
                  <a:pt x="2" y="8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057320" y="2752560"/>
            <a:ext cx="31680" cy="38160"/>
          </a:xfrm>
          <a:custGeom>
            <a:avLst/>
            <a:gdLst/>
            <a:ahLst/>
            <a:rect l="l" t="t" r="r" b="b"/>
            <a:pathLst>
              <a:path w="20" h="24">
                <a:moveTo>
                  <a:pt x="10" y="0"/>
                </a:moveTo>
                <a:lnTo>
                  <a:pt x="12" y="2"/>
                </a:lnTo>
                <a:lnTo>
                  <a:pt x="14" y="0"/>
                </a:lnTo>
                <a:lnTo>
                  <a:pt x="14" y="2"/>
                </a:lnTo>
                <a:lnTo>
                  <a:pt x="18" y="2"/>
                </a:lnTo>
                <a:lnTo>
                  <a:pt x="18" y="6"/>
                </a:lnTo>
                <a:lnTo>
                  <a:pt x="20" y="6"/>
                </a:lnTo>
                <a:lnTo>
                  <a:pt x="20" y="10"/>
                </a:lnTo>
                <a:lnTo>
                  <a:pt x="20" y="12"/>
                </a:lnTo>
                <a:lnTo>
                  <a:pt x="20" y="14"/>
                </a:lnTo>
                <a:lnTo>
                  <a:pt x="20" y="16"/>
                </a:lnTo>
                <a:lnTo>
                  <a:pt x="18" y="18"/>
                </a:lnTo>
                <a:lnTo>
                  <a:pt x="18" y="20"/>
                </a:lnTo>
                <a:lnTo>
                  <a:pt x="14" y="20"/>
                </a:lnTo>
                <a:lnTo>
                  <a:pt x="14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4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057320" y="24890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2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0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0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4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4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4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70040" y="25560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2" y="0"/>
                </a:moveTo>
                <a:lnTo>
                  <a:pt x="14" y="2"/>
                </a:lnTo>
                <a:lnTo>
                  <a:pt x="16" y="0"/>
                </a:lnTo>
                <a:lnTo>
                  <a:pt x="16" y="2"/>
                </a:lnTo>
                <a:lnTo>
                  <a:pt x="20" y="2"/>
                </a:lnTo>
                <a:lnTo>
                  <a:pt x="20" y="6"/>
                </a:lnTo>
                <a:lnTo>
                  <a:pt x="22" y="6"/>
                </a:lnTo>
                <a:lnTo>
                  <a:pt x="22" y="10"/>
                </a:lnTo>
                <a:lnTo>
                  <a:pt x="22" y="12"/>
                </a:lnTo>
                <a:lnTo>
                  <a:pt x="22" y="14"/>
                </a:lnTo>
                <a:lnTo>
                  <a:pt x="22" y="16"/>
                </a:lnTo>
                <a:lnTo>
                  <a:pt x="20" y="18"/>
                </a:lnTo>
                <a:lnTo>
                  <a:pt x="20" y="20"/>
                </a:lnTo>
                <a:lnTo>
                  <a:pt x="16" y="20"/>
                </a:lnTo>
                <a:lnTo>
                  <a:pt x="16" y="22"/>
                </a:lnTo>
                <a:lnTo>
                  <a:pt x="14" y="22"/>
                </a:lnTo>
                <a:lnTo>
                  <a:pt x="12" y="22"/>
                </a:lnTo>
                <a:lnTo>
                  <a:pt x="10" y="22"/>
                </a:lnTo>
                <a:lnTo>
                  <a:pt x="6" y="22"/>
                </a:lnTo>
                <a:lnTo>
                  <a:pt x="6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10" y="2"/>
                </a:lnTo>
                <a:lnTo>
                  <a:pt x="12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936800" y="249228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0"/>
                </a:lnTo>
                <a:lnTo>
                  <a:pt x="16" y="4"/>
                </a:lnTo>
                <a:lnTo>
                  <a:pt x="20" y="4"/>
                </a:lnTo>
                <a:lnTo>
                  <a:pt x="20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20" y="18"/>
                </a:lnTo>
                <a:lnTo>
                  <a:pt x="20" y="20"/>
                </a:lnTo>
                <a:lnTo>
                  <a:pt x="16" y="20"/>
                </a:lnTo>
                <a:lnTo>
                  <a:pt x="16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505240" y="419724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10" y="0"/>
                </a:moveTo>
                <a:lnTo>
                  <a:pt x="12" y="2"/>
                </a:lnTo>
                <a:lnTo>
                  <a:pt x="14" y="0"/>
                </a:lnTo>
                <a:lnTo>
                  <a:pt x="14" y="2"/>
                </a:lnTo>
                <a:lnTo>
                  <a:pt x="18" y="2"/>
                </a:lnTo>
                <a:lnTo>
                  <a:pt x="18" y="6"/>
                </a:lnTo>
                <a:lnTo>
                  <a:pt x="20" y="6"/>
                </a:lnTo>
                <a:lnTo>
                  <a:pt x="20" y="8"/>
                </a:lnTo>
                <a:lnTo>
                  <a:pt x="20" y="10"/>
                </a:lnTo>
                <a:lnTo>
                  <a:pt x="20" y="14"/>
                </a:lnTo>
                <a:lnTo>
                  <a:pt x="20" y="16"/>
                </a:lnTo>
                <a:lnTo>
                  <a:pt x="18" y="16"/>
                </a:lnTo>
                <a:lnTo>
                  <a:pt x="18" y="20"/>
                </a:lnTo>
                <a:lnTo>
                  <a:pt x="14" y="20"/>
                </a:lnTo>
                <a:lnTo>
                  <a:pt x="14" y="22"/>
                </a:lnTo>
                <a:lnTo>
                  <a:pt x="10" y="22"/>
                </a:lnTo>
                <a:lnTo>
                  <a:pt x="10" y="22"/>
                </a:lnTo>
                <a:lnTo>
                  <a:pt x="6" y="22"/>
                </a:lnTo>
                <a:lnTo>
                  <a:pt x="4" y="22"/>
                </a:lnTo>
                <a:lnTo>
                  <a:pt x="4" y="20"/>
                </a:lnTo>
                <a:lnTo>
                  <a:pt x="0" y="20"/>
                </a:lnTo>
                <a:lnTo>
                  <a:pt x="0" y="16"/>
                </a:lnTo>
                <a:lnTo>
                  <a:pt x="0" y="16"/>
                </a:lnTo>
                <a:lnTo>
                  <a:pt x="0" y="14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6"/>
                </a:ln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6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978280" y="41688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2" y="0"/>
                </a:move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2" y="8"/>
                </a:lnTo>
                <a:lnTo>
                  <a:pt x="22" y="10"/>
                </a:lnTo>
                <a:lnTo>
                  <a:pt x="22" y="12"/>
                </a:lnTo>
                <a:lnTo>
                  <a:pt x="22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4"/>
                </a:lnTo>
                <a:lnTo>
                  <a:pt x="12" y="22"/>
                </a:lnTo>
                <a:lnTo>
                  <a:pt x="12" y="24"/>
                </a:lnTo>
                <a:lnTo>
                  <a:pt x="10" y="22"/>
                </a:lnTo>
                <a:lnTo>
                  <a:pt x="6" y="24"/>
                </a:lnTo>
                <a:lnTo>
                  <a:pt x="6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10" y="2"/>
                </a:lnTo>
                <a:lnTo>
                  <a:pt x="12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654360" y="41148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2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6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4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03760" y="43020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2" y="0"/>
                </a:moveTo>
                <a:lnTo>
                  <a:pt x="14" y="2"/>
                </a:lnTo>
                <a:lnTo>
                  <a:pt x="16" y="0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0" y="6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0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6" y="22"/>
                </a:lnTo>
                <a:lnTo>
                  <a:pt x="12" y="22"/>
                </a:lnTo>
                <a:lnTo>
                  <a:pt x="12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6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543480" y="461952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0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0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0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4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4" y="24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4" y="4"/>
                </a:lnTo>
                <a:lnTo>
                  <a:pt x="4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90880" y="4762440"/>
            <a:ext cx="38160" cy="34920"/>
          </a:xfrm>
          <a:custGeom>
            <a:avLst/>
            <a:gdLst/>
            <a:ahLst/>
            <a:rect l="l" t="t" r="r" b="b"/>
            <a:pathLst>
              <a:path w="24" h="22">
                <a:moveTo>
                  <a:pt x="10" y="0"/>
                </a:moveTo>
                <a:lnTo>
                  <a:pt x="14" y="2"/>
                </a:lnTo>
                <a:lnTo>
                  <a:pt x="16" y="0"/>
                </a:lnTo>
                <a:lnTo>
                  <a:pt x="18" y="2"/>
                </a:lnTo>
                <a:lnTo>
                  <a:pt x="20" y="2"/>
                </a:lnTo>
                <a:lnTo>
                  <a:pt x="20" y="6"/>
                </a:lnTo>
                <a:lnTo>
                  <a:pt x="22" y="8"/>
                </a:lnTo>
                <a:lnTo>
                  <a:pt x="22" y="10"/>
                </a:lnTo>
                <a:lnTo>
                  <a:pt x="24" y="12"/>
                </a:lnTo>
                <a:lnTo>
                  <a:pt x="22" y="12"/>
                </a:lnTo>
                <a:lnTo>
                  <a:pt x="22" y="16"/>
                </a:lnTo>
                <a:lnTo>
                  <a:pt x="20" y="16"/>
                </a:lnTo>
                <a:lnTo>
                  <a:pt x="20" y="20"/>
                </a:lnTo>
                <a:lnTo>
                  <a:pt x="18" y="20"/>
                </a:lnTo>
                <a:lnTo>
                  <a:pt x="16" y="22"/>
                </a:lnTo>
                <a:lnTo>
                  <a:pt x="14" y="22"/>
                </a:lnTo>
                <a:lnTo>
                  <a:pt x="10" y="22"/>
                </a:lnTo>
                <a:lnTo>
                  <a:pt x="8" y="22"/>
                </a:lnTo>
                <a:lnTo>
                  <a:pt x="6" y="22"/>
                </a:lnTo>
                <a:lnTo>
                  <a:pt x="6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2" y="12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987800" y="53150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2" y="0"/>
                </a:moveTo>
                <a:lnTo>
                  <a:pt x="14" y="2"/>
                </a:lnTo>
                <a:lnTo>
                  <a:pt x="16" y="0"/>
                </a:lnTo>
                <a:lnTo>
                  <a:pt x="16" y="2"/>
                </a:lnTo>
                <a:lnTo>
                  <a:pt x="20" y="2"/>
                </a:lnTo>
                <a:lnTo>
                  <a:pt x="20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8"/>
                </a:lnTo>
                <a:lnTo>
                  <a:pt x="20" y="18"/>
                </a:lnTo>
                <a:lnTo>
                  <a:pt x="20" y="20"/>
                </a:lnTo>
                <a:lnTo>
                  <a:pt x="16" y="20"/>
                </a:lnTo>
                <a:lnTo>
                  <a:pt x="16" y="22"/>
                </a:lnTo>
                <a:lnTo>
                  <a:pt x="12" y="22"/>
                </a:lnTo>
                <a:lnTo>
                  <a:pt x="12" y="24"/>
                </a:lnTo>
                <a:lnTo>
                  <a:pt x="8" y="22"/>
                </a:lnTo>
                <a:lnTo>
                  <a:pt x="6" y="22"/>
                </a:lnTo>
                <a:lnTo>
                  <a:pt x="6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226120" y="342576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4" y="0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2" y="6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6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6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241800" y="2971800"/>
            <a:ext cx="26640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590920" y="3124080"/>
            <a:ext cx="19656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936760" y="4327560"/>
            <a:ext cx="324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733400" y="2895480"/>
            <a:ext cx="18108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731240" y="2895480"/>
            <a:ext cx="182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Minsk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933640" y="3562200"/>
            <a:ext cx="17784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384720" y="2286000"/>
            <a:ext cx="27612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48320" y="2209680"/>
            <a:ext cx="35532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572000" y="3581280"/>
            <a:ext cx="22536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724280" y="3733920"/>
            <a:ext cx="15876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987800" y="3809880"/>
            <a:ext cx="19692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796000" y="3645000"/>
            <a:ext cx="298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98880" y="3943440"/>
            <a:ext cx="20340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029200" y="4467240"/>
            <a:ext cx="27612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985000" y="4264200"/>
            <a:ext cx="4032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597640" y="4178160"/>
            <a:ext cx="21276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318280" y="4556160"/>
            <a:ext cx="18720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97600" y="4575240"/>
            <a:ext cx="2602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673600" y="3733920"/>
            <a:ext cx="27324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276720" y="3124080"/>
            <a:ext cx="21276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514520" y="30416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4" y="0"/>
                </a:lnTo>
                <a:lnTo>
                  <a:pt x="16" y="0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2" y="8"/>
                </a:lnTo>
                <a:lnTo>
                  <a:pt x="20" y="8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6" y="22"/>
                </a:lnTo>
                <a:lnTo>
                  <a:pt x="12" y="20"/>
                </a:lnTo>
                <a:lnTo>
                  <a:pt x="10" y="22"/>
                </a:lnTo>
                <a:lnTo>
                  <a:pt x="8" y="20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8"/>
                </a:lnTo>
                <a:lnTo>
                  <a:pt x="0" y="8"/>
                </a:lnTo>
                <a:lnTo>
                  <a:pt x="2" y="6"/>
                </a:ln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285920" y="3197160"/>
            <a:ext cx="31680" cy="38160"/>
          </a:xfrm>
          <a:custGeom>
            <a:avLst/>
            <a:gdLst/>
            <a:ahLst/>
            <a:rect l="l" t="t" r="r" b="b"/>
            <a:pathLst>
              <a:path w="20" h="24">
                <a:moveTo>
                  <a:pt x="10" y="0"/>
                </a:moveTo>
                <a:lnTo>
                  <a:pt x="12" y="2"/>
                </a:lnTo>
                <a:lnTo>
                  <a:pt x="14" y="0"/>
                </a:lnTo>
                <a:lnTo>
                  <a:pt x="14" y="4"/>
                </a:lnTo>
                <a:lnTo>
                  <a:pt x="18" y="4"/>
                </a:lnTo>
                <a:lnTo>
                  <a:pt x="18" y="6"/>
                </a:lnTo>
                <a:lnTo>
                  <a:pt x="20" y="8"/>
                </a:lnTo>
                <a:lnTo>
                  <a:pt x="18" y="10"/>
                </a:lnTo>
                <a:lnTo>
                  <a:pt x="20" y="12"/>
                </a:lnTo>
                <a:lnTo>
                  <a:pt x="18" y="14"/>
                </a:lnTo>
                <a:lnTo>
                  <a:pt x="20" y="16"/>
                </a:lnTo>
                <a:lnTo>
                  <a:pt x="18" y="18"/>
                </a:lnTo>
                <a:lnTo>
                  <a:pt x="18" y="20"/>
                </a:lnTo>
                <a:lnTo>
                  <a:pt x="14" y="20"/>
                </a:lnTo>
                <a:lnTo>
                  <a:pt x="14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4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797120" y="29592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2" y="0"/>
                </a:moveTo>
                <a:lnTo>
                  <a:pt x="12" y="2"/>
                </a:lnTo>
                <a:lnTo>
                  <a:pt x="16" y="0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0" y="6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0" y="16"/>
                </a:lnTo>
                <a:lnTo>
                  <a:pt x="18" y="16"/>
                </a:lnTo>
                <a:lnTo>
                  <a:pt x="18" y="20"/>
                </a:lnTo>
                <a:lnTo>
                  <a:pt x="16" y="20"/>
                </a:lnTo>
                <a:lnTo>
                  <a:pt x="16" y="22"/>
                </a:lnTo>
                <a:lnTo>
                  <a:pt x="12" y="22"/>
                </a:lnTo>
                <a:lnTo>
                  <a:pt x="12" y="22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6"/>
                </a:lnTo>
                <a:lnTo>
                  <a:pt x="2" y="6"/>
                </a:lnTo>
                <a:lnTo>
                  <a:pt x="2" y="4"/>
                </a:lnTo>
                <a:lnTo>
                  <a:pt x="4" y="4"/>
                </a:lnTo>
                <a:lnTo>
                  <a:pt x="6" y="0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920960" y="32130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2" y="0"/>
                </a:lnTo>
                <a:lnTo>
                  <a:pt x="16" y="0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0" y="6"/>
                </a:lnTo>
                <a:lnTo>
                  <a:pt x="20" y="8"/>
                </a:lnTo>
                <a:lnTo>
                  <a:pt x="22" y="12"/>
                </a:lnTo>
                <a:lnTo>
                  <a:pt x="20" y="12"/>
                </a:lnTo>
                <a:lnTo>
                  <a:pt x="20" y="16"/>
                </a:lnTo>
                <a:lnTo>
                  <a:pt x="18" y="16"/>
                </a:lnTo>
                <a:lnTo>
                  <a:pt x="18" y="18"/>
                </a:lnTo>
                <a:lnTo>
                  <a:pt x="16" y="18"/>
                </a:lnTo>
                <a:lnTo>
                  <a:pt x="14" y="22"/>
                </a:lnTo>
                <a:lnTo>
                  <a:pt x="12" y="20"/>
                </a:lnTo>
                <a:lnTo>
                  <a:pt x="10" y="22"/>
                </a:lnTo>
                <a:lnTo>
                  <a:pt x="10" y="20"/>
                </a:lnTo>
                <a:lnTo>
                  <a:pt x="6" y="22"/>
                </a:lnTo>
                <a:lnTo>
                  <a:pt x="6" y="18"/>
                </a:lnTo>
                <a:lnTo>
                  <a:pt x="2" y="18"/>
                </a:lnTo>
                <a:lnTo>
                  <a:pt x="2" y="16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8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575320" y="3413160"/>
            <a:ext cx="2476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124080" y="2590920"/>
            <a:ext cx="36216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114800" y="3276720"/>
            <a:ext cx="21600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714760" y="2971800"/>
            <a:ext cx="320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647720" y="280656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0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2" y="6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6"/>
                </a:lnTo>
                <a:lnTo>
                  <a:pt x="18" y="20"/>
                </a:lnTo>
                <a:lnTo>
                  <a:pt x="16" y="20"/>
                </a:lnTo>
                <a:lnTo>
                  <a:pt x="14" y="24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4"/>
                </a:lnTo>
                <a:lnTo>
                  <a:pt x="6" y="20"/>
                </a:lnTo>
                <a:lnTo>
                  <a:pt x="2" y="20"/>
                </a:lnTo>
                <a:lnTo>
                  <a:pt x="2" y="16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6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403280" y="24890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0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0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4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4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4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89120" y="2419200"/>
            <a:ext cx="31680" cy="38160"/>
          </a:xfrm>
          <a:custGeom>
            <a:avLst/>
            <a:gdLst/>
            <a:ahLst/>
            <a:rect l="l" t="t" r="r" b="b"/>
            <a:pathLst>
              <a:path w="20" h="24">
                <a:moveTo>
                  <a:pt x="10" y="0"/>
                </a:moveTo>
                <a:lnTo>
                  <a:pt x="12" y="2"/>
                </a:lnTo>
                <a:lnTo>
                  <a:pt x="14" y="0"/>
                </a:lnTo>
                <a:lnTo>
                  <a:pt x="16" y="2"/>
                </a:lnTo>
                <a:lnTo>
                  <a:pt x="18" y="2"/>
                </a:lnTo>
                <a:lnTo>
                  <a:pt x="18" y="6"/>
                </a:lnTo>
                <a:lnTo>
                  <a:pt x="20" y="8"/>
                </a:lnTo>
                <a:lnTo>
                  <a:pt x="20" y="10"/>
                </a:lnTo>
                <a:lnTo>
                  <a:pt x="20" y="12"/>
                </a:lnTo>
                <a:lnTo>
                  <a:pt x="20" y="14"/>
                </a:lnTo>
                <a:lnTo>
                  <a:pt x="20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4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117880" y="3429000"/>
            <a:ext cx="19044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971800" y="2781360"/>
            <a:ext cx="374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99120" y="3400560"/>
            <a:ext cx="3171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095560" y="115920"/>
            <a:ext cx="542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VSM implementation in Eurasia region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7 November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2011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635360" y="3048120"/>
            <a:ext cx="33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445000" y="4829040"/>
            <a:ext cx="4795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219640" y="60228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2" y="0"/>
                </a:moveTo>
                <a:lnTo>
                  <a:pt x="14" y="2"/>
                </a:lnTo>
                <a:lnTo>
                  <a:pt x="16" y="0"/>
                </a:lnTo>
                <a:lnTo>
                  <a:pt x="16" y="2"/>
                </a:lnTo>
                <a:lnTo>
                  <a:pt x="20" y="2"/>
                </a:lnTo>
                <a:lnTo>
                  <a:pt x="20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20" y="18"/>
                </a:lnTo>
                <a:lnTo>
                  <a:pt x="20" y="20"/>
                </a:lnTo>
                <a:lnTo>
                  <a:pt x="16" y="20"/>
                </a:lnTo>
                <a:lnTo>
                  <a:pt x="16" y="22"/>
                </a:lnTo>
                <a:lnTo>
                  <a:pt x="14" y="22"/>
                </a:lnTo>
                <a:lnTo>
                  <a:pt x="12" y="24"/>
                </a:lnTo>
                <a:lnTo>
                  <a:pt x="10" y="22"/>
                </a:lnTo>
                <a:lnTo>
                  <a:pt x="6" y="22"/>
                </a:lnTo>
                <a:lnTo>
                  <a:pt x="6" y="20"/>
                </a:lnTo>
                <a:lnTo>
                  <a:pt x="4" y="20"/>
                </a:lnTo>
                <a:lnTo>
                  <a:pt x="4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0"/>
                </a:lnTo>
                <a:lnTo>
                  <a:pt x="10" y="2"/>
                </a:lnTo>
                <a:lnTo>
                  <a:pt x="12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087880" y="5765760"/>
            <a:ext cx="31680" cy="38160"/>
          </a:xfrm>
          <a:custGeom>
            <a:avLst/>
            <a:gdLst/>
            <a:ahLst/>
            <a:rect l="l" t="t" r="r" b="b"/>
            <a:pathLst>
              <a:path w="20" h="24">
                <a:moveTo>
                  <a:pt x="10" y="0"/>
                </a:move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8" y="4"/>
                </a:lnTo>
                <a:lnTo>
                  <a:pt x="18" y="6"/>
                </a:lnTo>
                <a:lnTo>
                  <a:pt x="20" y="8"/>
                </a:lnTo>
                <a:lnTo>
                  <a:pt x="18" y="10"/>
                </a:lnTo>
                <a:lnTo>
                  <a:pt x="20" y="12"/>
                </a:lnTo>
                <a:lnTo>
                  <a:pt x="18" y="14"/>
                </a:lnTo>
                <a:lnTo>
                  <a:pt x="20" y="16"/>
                </a:lnTo>
                <a:lnTo>
                  <a:pt x="18" y="18"/>
                </a:lnTo>
                <a:lnTo>
                  <a:pt x="18" y="20"/>
                </a:lnTo>
                <a:lnTo>
                  <a:pt x="14" y="20"/>
                </a:lnTo>
                <a:lnTo>
                  <a:pt x="14" y="22"/>
                </a:lnTo>
                <a:lnTo>
                  <a:pt x="10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010520" y="3317760"/>
            <a:ext cx="210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Vienna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065600" y="3200400"/>
            <a:ext cx="217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Pragu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64520" y="3124080"/>
            <a:ext cx="135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9920" y="3505320"/>
            <a:ext cx="156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50880" y="34290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0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990000" y="3581280"/>
            <a:ext cx="177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143000" y="36576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0" y="0"/>
                </a:moveTo>
                <a:lnTo>
                  <a:pt x="12" y="2"/>
                </a:lnTo>
                <a:lnTo>
                  <a:pt x="16" y="0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6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4" y="22"/>
                </a:lnTo>
                <a:lnTo>
                  <a:pt x="12" y="22"/>
                </a:lnTo>
                <a:lnTo>
                  <a:pt x="10" y="24"/>
                </a:lnTo>
                <a:lnTo>
                  <a:pt x="8" y="22"/>
                </a:lnTo>
                <a:lnTo>
                  <a:pt x="6" y="22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8" y="2"/>
                </a:lnTo>
                <a:lnTo>
                  <a:pt x="10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481360" y="4876920"/>
            <a:ext cx="348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Hong Ko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603760" y="480060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2" y="0"/>
                </a:move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8" y="4"/>
                </a:lnTo>
                <a:lnTo>
                  <a:pt x="18" y="6"/>
                </a:lnTo>
                <a:lnTo>
                  <a:pt x="22" y="8"/>
                </a:lnTo>
                <a:lnTo>
                  <a:pt x="20" y="10"/>
                </a:lnTo>
                <a:lnTo>
                  <a:pt x="22" y="12"/>
                </a:lnTo>
                <a:lnTo>
                  <a:pt x="20" y="14"/>
                </a:lnTo>
                <a:lnTo>
                  <a:pt x="22" y="18"/>
                </a:lnTo>
                <a:lnTo>
                  <a:pt x="18" y="18"/>
                </a:lnTo>
                <a:lnTo>
                  <a:pt x="18" y="20"/>
                </a:lnTo>
                <a:lnTo>
                  <a:pt x="16" y="20"/>
                </a:lnTo>
                <a:lnTo>
                  <a:pt x="16" y="24"/>
                </a:lnTo>
                <a:lnTo>
                  <a:pt x="14" y="22"/>
                </a:lnTo>
                <a:lnTo>
                  <a:pt x="12" y="24"/>
                </a:lnTo>
                <a:lnTo>
                  <a:pt x="10" y="22"/>
                </a:lnTo>
                <a:lnTo>
                  <a:pt x="6" y="24"/>
                </a:lnTo>
                <a:lnTo>
                  <a:pt x="6" y="20"/>
                </a:lnTo>
                <a:lnTo>
                  <a:pt x="2" y="20"/>
                </a:lnTo>
                <a:lnTo>
                  <a:pt x="2" y="18"/>
                </a:lnTo>
                <a:lnTo>
                  <a:pt x="0" y="16"/>
                </a:lnTo>
                <a:lnTo>
                  <a:pt x="2" y="14"/>
                </a:lnTo>
                <a:lnTo>
                  <a:pt x="0" y="12"/>
                </a:lnTo>
                <a:lnTo>
                  <a:pt x="2" y="10"/>
                </a:lnTo>
                <a:lnTo>
                  <a:pt x="0" y="8"/>
                </a:lnTo>
                <a:lnTo>
                  <a:pt x="2" y="6"/>
                </a:lnTo>
                <a:lnTo>
                  <a:pt x="2" y="4"/>
                </a:lnTo>
                <a:lnTo>
                  <a:pt x="6" y="4"/>
                </a:lnTo>
                <a:lnTo>
                  <a:pt x="6" y="0"/>
                </a:lnTo>
                <a:lnTo>
                  <a:pt x="10" y="2"/>
                </a:lnTo>
                <a:lnTo>
                  <a:pt x="12" y="0"/>
                </a:lnTo>
                <a:close/>
              </a:path>
            </a:pathLst>
          </a:custGeom>
          <a:solidFill>
            <a:srgbClr val="c7c7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436360" y="43657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924360" y="3573360"/>
            <a:ext cx="1655640" cy="216000"/>
          </a:xfrm>
          <a:prstGeom prst="leftArrowCallout">
            <a:avLst>
              <a:gd name="adj1" fmla="val 25002"/>
              <a:gd name="adj2" fmla="val 25000"/>
              <a:gd name="adj3" fmla="val 127750"/>
              <a:gd name="adj4" fmla="val 66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5400000">
            <a:off x="2254320" y="3054240"/>
            <a:ext cx="217440" cy="1827360"/>
          </a:xfrm>
          <a:prstGeom prst="upArrowCallout">
            <a:avLst>
              <a:gd name="adj1" fmla="val 25002"/>
              <a:gd name="adj2" fmla="val 25000"/>
              <a:gd name="adj3" fmla="val 140066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3059280" y="3141720"/>
            <a:ext cx="1024920" cy="216000"/>
            <a:chOff x="3059280" y="3141720"/>
            <a:chExt cx="1024920" cy="216000"/>
          </a:xfrm>
        </p:grpSpPr>
        <p:sp>
          <p:nvSpPr>
            <p:cNvPr id="1159" name=""/>
            <p:cNvSpPr/>
            <p:nvPr/>
          </p:nvSpPr>
          <p:spPr>
            <a:xfrm>
              <a:off x="3204000" y="317016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AZAKHSTA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059280" y="3141720"/>
              <a:ext cx="10062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4284000" y="2205000"/>
            <a:ext cx="1427040" cy="216000"/>
            <a:chOff x="4284000" y="2205000"/>
            <a:chExt cx="1427040" cy="216000"/>
          </a:xfrm>
        </p:grpSpPr>
        <p:sp>
          <p:nvSpPr>
            <p:cNvPr id="1162" name=""/>
            <p:cNvSpPr/>
            <p:nvPr/>
          </p:nvSpPr>
          <p:spPr>
            <a:xfrm>
              <a:off x="4284000" y="2233440"/>
              <a:ext cx="142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USSIAN FEDERA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502160" y="2205000"/>
              <a:ext cx="10065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971640" y="383220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14"/>
                </a:solidFill>
                <a:latin typeface="Arial"/>
              </a:rPr>
              <a:t>TURKMENIST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003640" y="3213000"/>
            <a:ext cx="1656000" cy="216000"/>
          </a:xfrm>
          <a:prstGeom prst="leftArrowCallout">
            <a:avLst>
              <a:gd name="adj1" fmla="val 25002"/>
              <a:gd name="adj2" fmla="val 25000"/>
              <a:gd name="adj3" fmla="val 127778"/>
              <a:gd name="adj4" fmla="val 666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GOL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508720" y="6238800"/>
            <a:ext cx="43344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77080" y="628164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gion of RVSM implem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rot="5400000">
            <a:off x="2397240" y="2768400"/>
            <a:ext cx="217440" cy="1827360"/>
          </a:xfrm>
          <a:prstGeom prst="upArrowCallout">
            <a:avLst>
              <a:gd name="adj1" fmla="val 25002"/>
              <a:gd name="adj2" fmla="val 25000"/>
              <a:gd name="adj3" fmla="val 140066"/>
              <a:gd name="adj4" fmla="val 666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87280" y="357336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14"/>
                </a:solidFill>
                <a:latin typeface="Arial"/>
              </a:rPr>
              <a:t>UZBEKIST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780000" y="3860640"/>
            <a:ext cx="1655640" cy="216000"/>
          </a:xfrm>
          <a:prstGeom prst="leftArrowCallout">
            <a:avLst>
              <a:gd name="adj1" fmla="val 25002"/>
              <a:gd name="adj2" fmla="val 25000"/>
              <a:gd name="adj3" fmla="val 127750"/>
              <a:gd name="adj4" fmla="val 66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DJIKIST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955-B87B-41D1-81B2-90A3C90BD1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" descr="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9180360" cy="683568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/>
          <p:nvPr/>
        </p:nvSpPr>
        <p:spPr>
          <a:xfrm>
            <a:off x="7224840" y="4944960"/>
            <a:ext cx="612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810000"/>
          </a:solidFill>
          <a:ln w="1872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905120" y="5486400"/>
            <a:ext cx="533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5433840"/>
            <a:ext cx="533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2120" y="5448240"/>
            <a:ext cx="4413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590920" y="57150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534520" y="3200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962520" y="55627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28600" y="-65160"/>
            <a:ext cx="815976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Implementation of a new flight level system with RVSM in Republic of Kazakhstan </a:t>
            </a:r>
            <a:br>
              <a:rPr sz="2400"/>
            </a:b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from November 17,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68360" y="1619280"/>
            <a:ext cx="842472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6 additional flight levels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reducing controller workload, reducing traffic conflicts at crossing points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2-3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imes more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increasing en-route capacity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fficient air traffic service and usage of optimum flight levels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positive responses from airlines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87B-1348-4566-A0EC-CF1E16E93F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745"/>
          <p:cNvGrpSpPr/>
          <p:nvPr/>
        </p:nvGrpSpPr>
        <p:grpSpPr>
          <a:xfrm>
            <a:off x="228600" y="5638680"/>
            <a:ext cx="601560" cy="164520"/>
            <a:chOff x="228600" y="5638680"/>
            <a:chExt cx="601560" cy="164520"/>
          </a:xfrm>
        </p:grpSpPr>
        <p:grpSp>
          <p:nvGrpSpPr>
            <p:cNvPr id="1182" name="Group 746"/>
            <p:cNvGrpSpPr/>
            <p:nvPr/>
          </p:nvGrpSpPr>
          <p:grpSpPr>
            <a:xfrm>
              <a:off x="244800" y="5638680"/>
              <a:ext cx="585360" cy="142200"/>
              <a:chOff x="244800" y="5638680"/>
              <a:chExt cx="585360" cy="142200"/>
            </a:xfrm>
          </p:grpSpPr>
          <p:sp>
            <p:nvSpPr>
              <p:cNvPr id="1183" name="Freeform 747"/>
              <p:cNvSpPr/>
              <p:nvPr/>
            </p:nvSpPr>
            <p:spPr>
              <a:xfrm>
                <a:off x="244800" y="5638680"/>
                <a:ext cx="585360" cy="14220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4" name="Group 748"/>
              <p:cNvGrpSpPr/>
              <p:nvPr/>
            </p:nvGrpSpPr>
            <p:grpSpPr>
              <a:xfrm>
                <a:off x="348120" y="5734080"/>
                <a:ext cx="436680" cy="26280"/>
                <a:chOff x="348120" y="5734080"/>
                <a:chExt cx="436680" cy="26280"/>
              </a:xfrm>
            </p:grpSpPr>
            <p:sp>
              <p:nvSpPr>
                <p:cNvPr id="1185" name="Freeform 749"/>
                <p:cNvSpPr/>
                <p:nvPr/>
              </p:nvSpPr>
              <p:spPr>
                <a:xfrm>
                  <a:off x="773280" y="573408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750"/>
                <p:cNvSpPr/>
                <p:nvPr/>
              </p:nvSpPr>
              <p:spPr>
                <a:xfrm>
                  <a:off x="655200" y="573516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751"/>
                <p:cNvSpPr/>
                <p:nvPr/>
              </p:nvSpPr>
              <p:spPr>
                <a:xfrm>
                  <a:off x="453240" y="573660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52"/>
                <p:cNvSpPr/>
                <p:nvPr/>
              </p:nvSpPr>
              <p:spPr>
                <a:xfrm>
                  <a:off x="348120" y="573804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9" name="Group 753"/>
              <p:cNvGrpSpPr/>
              <p:nvPr/>
            </p:nvGrpSpPr>
            <p:grpSpPr>
              <a:xfrm>
                <a:off x="361800" y="5738040"/>
                <a:ext cx="397080" cy="9720"/>
                <a:chOff x="361800" y="5738040"/>
                <a:chExt cx="397080" cy="9720"/>
              </a:xfrm>
            </p:grpSpPr>
            <p:grpSp>
              <p:nvGrpSpPr>
                <p:cNvPr id="1190" name="Group 754"/>
                <p:cNvGrpSpPr/>
                <p:nvPr/>
              </p:nvGrpSpPr>
              <p:grpSpPr>
                <a:xfrm>
                  <a:off x="399240" y="5742720"/>
                  <a:ext cx="44280" cy="3600"/>
                  <a:chOff x="399240" y="5742720"/>
                  <a:chExt cx="44280" cy="3600"/>
                </a:xfrm>
              </p:grpSpPr>
              <p:sp>
                <p:nvSpPr>
                  <p:cNvPr id="1191" name="Oval 755"/>
                  <p:cNvSpPr/>
                  <p:nvPr/>
                </p:nvSpPr>
                <p:spPr>
                  <a:xfrm>
                    <a:off x="437760" y="57427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Oval 756"/>
                  <p:cNvSpPr/>
                  <p:nvPr/>
                </p:nvSpPr>
                <p:spPr>
                  <a:xfrm>
                    <a:off x="431640" y="57427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Oval 757"/>
                  <p:cNvSpPr/>
                  <p:nvPr/>
                </p:nvSpPr>
                <p:spPr>
                  <a:xfrm>
                    <a:off x="425880" y="57427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Oval 758"/>
                  <p:cNvSpPr/>
                  <p:nvPr/>
                </p:nvSpPr>
                <p:spPr>
                  <a:xfrm>
                    <a:off x="419040" y="57427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Oval 759"/>
                  <p:cNvSpPr/>
                  <p:nvPr/>
                </p:nvSpPr>
                <p:spPr>
                  <a:xfrm>
                    <a:off x="412920" y="574272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Oval 760"/>
                  <p:cNvSpPr/>
                  <p:nvPr/>
                </p:nvSpPr>
                <p:spPr>
                  <a:xfrm>
                    <a:off x="406080" y="57438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Oval 761"/>
                  <p:cNvSpPr/>
                  <p:nvPr/>
                </p:nvSpPr>
                <p:spPr>
                  <a:xfrm>
                    <a:off x="399240" y="57438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" name="Group 762"/>
                <p:cNvGrpSpPr/>
                <p:nvPr/>
              </p:nvGrpSpPr>
              <p:grpSpPr>
                <a:xfrm>
                  <a:off x="598680" y="5738040"/>
                  <a:ext cx="160200" cy="6120"/>
                  <a:chOff x="598680" y="5738040"/>
                  <a:chExt cx="160200" cy="6120"/>
                </a:xfrm>
              </p:grpSpPr>
              <p:grpSp>
                <p:nvGrpSpPr>
                  <p:cNvPr id="1199" name="Group 763"/>
                  <p:cNvGrpSpPr/>
                  <p:nvPr/>
                </p:nvGrpSpPr>
                <p:grpSpPr>
                  <a:xfrm>
                    <a:off x="713520" y="5738040"/>
                    <a:ext cx="45360" cy="3600"/>
                    <a:chOff x="713520" y="5738040"/>
                    <a:chExt cx="45360" cy="3600"/>
                  </a:xfrm>
                </p:grpSpPr>
                <p:sp>
                  <p:nvSpPr>
                    <p:cNvPr id="1200" name="Oval 764"/>
                    <p:cNvSpPr/>
                    <p:nvPr/>
                  </p:nvSpPr>
                  <p:spPr>
                    <a:xfrm>
                      <a:off x="754560" y="573804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1" name="Oval 765"/>
                    <p:cNvSpPr/>
                    <p:nvPr/>
                  </p:nvSpPr>
                  <p:spPr>
                    <a:xfrm>
                      <a:off x="747360" y="573804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2" name="Oval 766"/>
                    <p:cNvSpPr/>
                    <p:nvPr/>
                  </p:nvSpPr>
                  <p:spPr>
                    <a:xfrm>
                      <a:off x="740520" y="5738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Oval 767"/>
                    <p:cNvSpPr/>
                    <p:nvPr/>
                  </p:nvSpPr>
                  <p:spPr>
                    <a:xfrm>
                      <a:off x="733320" y="5738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Oval 768"/>
                    <p:cNvSpPr/>
                    <p:nvPr/>
                  </p:nvSpPr>
                  <p:spPr>
                    <a:xfrm>
                      <a:off x="726480" y="5738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Oval 769"/>
                    <p:cNvSpPr/>
                    <p:nvPr/>
                  </p:nvSpPr>
                  <p:spPr>
                    <a:xfrm>
                      <a:off x="720360" y="573804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Oval 770"/>
                    <p:cNvSpPr/>
                    <p:nvPr/>
                  </p:nvSpPr>
                  <p:spPr>
                    <a:xfrm>
                      <a:off x="713520" y="5738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7" name="Group 771"/>
                  <p:cNvGrpSpPr/>
                  <p:nvPr/>
                </p:nvGrpSpPr>
                <p:grpSpPr>
                  <a:xfrm>
                    <a:off x="665640" y="5738040"/>
                    <a:ext cx="46440" cy="4680"/>
                    <a:chOff x="665640" y="5738040"/>
                    <a:chExt cx="46440" cy="4680"/>
                  </a:xfrm>
                </p:grpSpPr>
                <p:sp>
                  <p:nvSpPr>
                    <p:cNvPr id="1208" name="Oval 772"/>
                    <p:cNvSpPr/>
                    <p:nvPr/>
                  </p:nvSpPr>
                  <p:spPr>
                    <a:xfrm>
                      <a:off x="706320" y="5738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Oval 773"/>
                    <p:cNvSpPr/>
                    <p:nvPr/>
                  </p:nvSpPr>
                  <p:spPr>
                    <a:xfrm>
                      <a:off x="699120" y="5738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0" name="Oval 774"/>
                    <p:cNvSpPr/>
                    <p:nvPr/>
                  </p:nvSpPr>
                  <p:spPr>
                    <a:xfrm>
                      <a:off x="693360" y="573912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Oval 775"/>
                    <p:cNvSpPr/>
                    <p:nvPr/>
                  </p:nvSpPr>
                  <p:spPr>
                    <a:xfrm>
                      <a:off x="686520" y="573912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Oval 776"/>
                    <p:cNvSpPr/>
                    <p:nvPr/>
                  </p:nvSpPr>
                  <p:spPr>
                    <a:xfrm>
                      <a:off x="679320" y="573912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Oval 777"/>
                    <p:cNvSpPr/>
                    <p:nvPr/>
                  </p:nvSpPr>
                  <p:spPr>
                    <a:xfrm>
                      <a:off x="672480" y="573912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Oval 778"/>
                    <p:cNvSpPr/>
                    <p:nvPr/>
                  </p:nvSpPr>
                  <p:spPr>
                    <a:xfrm>
                      <a:off x="665640" y="57391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5" name="Group 779"/>
                  <p:cNvGrpSpPr/>
                  <p:nvPr/>
                </p:nvGrpSpPr>
                <p:grpSpPr>
                  <a:xfrm>
                    <a:off x="598680" y="5739120"/>
                    <a:ext cx="46800" cy="5040"/>
                    <a:chOff x="598680" y="5739120"/>
                    <a:chExt cx="46800" cy="5040"/>
                  </a:xfrm>
                </p:grpSpPr>
                <p:sp>
                  <p:nvSpPr>
                    <p:cNvPr id="1216" name="Oval 780"/>
                    <p:cNvSpPr/>
                    <p:nvPr/>
                  </p:nvSpPr>
                  <p:spPr>
                    <a:xfrm>
                      <a:off x="639720" y="57391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Oval 781"/>
                    <p:cNvSpPr/>
                    <p:nvPr/>
                  </p:nvSpPr>
                  <p:spPr>
                    <a:xfrm>
                      <a:off x="632520" y="57391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Oval 782"/>
                    <p:cNvSpPr/>
                    <p:nvPr/>
                  </p:nvSpPr>
                  <p:spPr>
                    <a:xfrm>
                      <a:off x="625680" y="57391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9" name="Oval 783"/>
                    <p:cNvSpPr/>
                    <p:nvPr/>
                  </p:nvSpPr>
                  <p:spPr>
                    <a:xfrm>
                      <a:off x="619560" y="573912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Oval 784"/>
                    <p:cNvSpPr/>
                    <p:nvPr/>
                  </p:nvSpPr>
                  <p:spPr>
                    <a:xfrm>
                      <a:off x="612720" y="574020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Oval 785"/>
                    <p:cNvSpPr/>
                    <p:nvPr/>
                  </p:nvSpPr>
                  <p:spPr>
                    <a:xfrm>
                      <a:off x="598680" y="574020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22" name="Group 786"/>
                <p:cNvGrpSpPr/>
                <p:nvPr/>
              </p:nvGrpSpPr>
              <p:grpSpPr>
                <a:xfrm>
                  <a:off x="555120" y="5740200"/>
                  <a:ext cx="37080" cy="3600"/>
                  <a:chOff x="555120" y="5740200"/>
                  <a:chExt cx="37080" cy="3600"/>
                </a:xfrm>
              </p:grpSpPr>
              <p:sp>
                <p:nvSpPr>
                  <p:cNvPr id="1223" name="Oval 787"/>
                  <p:cNvSpPr/>
                  <p:nvPr/>
                </p:nvSpPr>
                <p:spPr>
                  <a:xfrm>
                    <a:off x="586440" y="57402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Oval 788"/>
                  <p:cNvSpPr/>
                  <p:nvPr/>
                </p:nvSpPr>
                <p:spPr>
                  <a:xfrm>
                    <a:off x="579600" y="57402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Oval 789"/>
                  <p:cNvSpPr/>
                  <p:nvPr/>
                </p:nvSpPr>
                <p:spPr>
                  <a:xfrm>
                    <a:off x="573840" y="57402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Oval 790"/>
                  <p:cNvSpPr/>
                  <p:nvPr/>
                </p:nvSpPr>
                <p:spPr>
                  <a:xfrm>
                    <a:off x="568080" y="57402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Oval 791"/>
                  <p:cNvSpPr/>
                  <p:nvPr/>
                </p:nvSpPr>
                <p:spPr>
                  <a:xfrm>
                    <a:off x="560880" y="57402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Oval 792"/>
                  <p:cNvSpPr/>
                  <p:nvPr/>
                </p:nvSpPr>
                <p:spPr>
                  <a:xfrm>
                    <a:off x="555120" y="57402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9" name="Group 793"/>
                <p:cNvGrpSpPr/>
                <p:nvPr/>
              </p:nvGrpSpPr>
              <p:grpSpPr>
                <a:xfrm>
                  <a:off x="361800" y="5744160"/>
                  <a:ext cx="36000" cy="3600"/>
                  <a:chOff x="361800" y="5744160"/>
                  <a:chExt cx="36000" cy="3600"/>
                </a:xfrm>
              </p:grpSpPr>
              <p:sp>
                <p:nvSpPr>
                  <p:cNvPr id="1230" name="Oval 794"/>
                  <p:cNvSpPr/>
                  <p:nvPr/>
                </p:nvSpPr>
                <p:spPr>
                  <a:xfrm>
                    <a:off x="393480" y="574416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Oval 795"/>
                  <p:cNvSpPr/>
                  <p:nvPr/>
                </p:nvSpPr>
                <p:spPr>
                  <a:xfrm>
                    <a:off x="386280" y="574416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Oval 796"/>
                  <p:cNvSpPr/>
                  <p:nvPr/>
                </p:nvSpPr>
                <p:spPr>
                  <a:xfrm>
                    <a:off x="380520" y="57441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Oval 797"/>
                  <p:cNvSpPr/>
                  <p:nvPr/>
                </p:nvSpPr>
                <p:spPr>
                  <a:xfrm>
                    <a:off x="373680" y="57441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Oval 798"/>
                  <p:cNvSpPr/>
                  <p:nvPr/>
                </p:nvSpPr>
                <p:spPr>
                  <a:xfrm>
                    <a:off x="367560" y="574416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Oval 799"/>
                  <p:cNvSpPr/>
                  <p:nvPr/>
                </p:nvSpPr>
                <p:spPr>
                  <a:xfrm>
                    <a:off x="361800" y="574416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36" name="Freeform 800"/>
            <p:cNvSpPr/>
            <p:nvPr/>
          </p:nvSpPr>
          <p:spPr>
            <a:xfrm>
              <a:off x="262440" y="5691240"/>
              <a:ext cx="567360" cy="7668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7" name="Group 801"/>
            <p:cNvGrpSpPr/>
            <p:nvPr/>
          </p:nvGrpSpPr>
          <p:grpSpPr>
            <a:xfrm>
              <a:off x="801720" y="5738400"/>
              <a:ext cx="12600" cy="4680"/>
              <a:chOff x="801720" y="5738400"/>
              <a:chExt cx="12600" cy="4680"/>
            </a:xfrm>
          </p:grpSpPr>
          <p:sp>
            <p:nvSpPr>
              <p:cNvPr id="1238" name="Freeform 802"/>
              <p:cNvSpPr/>
              <p:nvPr/>
            </p:nvSpPr>
            <p:spPr>
              <a:xfrm>
                <a:off x="801720" y="573840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Freeform 803"/>
              <p:cNvSpPr/>
              <p:nvPr/>
            </p:nvSpPr>
            <p:spPr>
              <a:xfrm>
                <a:off x="806400" y="573840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804"/>
              <p:cNvSpPr/>
              <p:nvPr/>
            </p:nvSpPr>
            <p:spPr>
              <a:xfrm>
                <a:off x="810720" y="5739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1" name="Arc 805"/>
            <p:cNvSpPr/>
            <p:nvPr/>
          </p:nvSpPr>
          <p:spPr>
            <a:xfrm>
              <a:off x="238680" y="574200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Freeform 806"/>
            <p:cNvSpPr/>
            <p:nvPr/>
          </p:nvSpPr>
          <p:spPr>
            <a:xfrm>
              <a:off x="527400" y="575316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3" name="Group 807"/>
            <p:cNvGrpSpPr/>
            <p:nvPr/>
          </p:nvGrpSpPr>
          <p:grpSpPr>
            <a:xfrm>
              <a:off x="451440" y="5752080"/>
              <a:ext cx="188640" cy="51120"/>
              <a:chOff x="451440" y="5752080"/>
              <a:chExt cx="188640" cy="51120"/>
            </a:xfrm>
          </p:grpSpPr>
          <p:grpSp>
            <p:nvGrpSpPr>
              <p:cNvPr id="1244" name="Group 808"/>
              <p:cNvGrpSpPr/>
              <p:nvPr/>
            </p:nvGrpSpPr>
            <p:grpSpPr>
              <a:xfrm>
                <a:off x="451440" y="5752080"/>
                <a:ext cx="188640" cy="29880"/>
                <a:chOff x="451440" y="5752080"/>
                <a:chExt cx="188640" cy="29880"/>
              </a:xfrm>
            </p:grpSpPr>
            <p:sp>
              <p:nvSpPr>
                <p:cNvPr id="1245" name="Freeform 809"/>
                <p:cNvSpPr/>
                <p:nvPr/>
              </p:nvSpPr>
              <p:spPr>
                <a:xfrm>
                  <a:off x="451440" y="575208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810"/>
                <p:cNvSpPr/>
                <p:nvPr/>
              </p:nvSpPr>
              <p:spPr>
                <a:xfrm>
                  <a:off x="451440" y="575712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Group 811"/>
              <p:cNvGrpSpPr/>
              <p:nvPr/>
            </p:nvGrpSpPr>
            <p:grpSpPr>
              <a:xfrm>
                <a:off x="562680" y="5789520"/>
                <a:ext cx="49680" cy="13680"/>
                <a:chOff x="562680" y="5789520"/>
                <a:chExt cx="49680" cy="13680"/>
              </a:xfrm>
            </p:grpSpPr>
            <p:grpSp>
              <p:nvGrpSpPr>
                <p:cNvPr id="1248" name="Group 812"/>
                <p:cNvGrpSpPr/>
                <p:nvPr/>
              </p:nvGrpSpPr>
              <p:grpSpPr>
                <a:xfrm>
                  <a:off x="562680" y="5789520"/>
                  <a:ext cx="49680" cy="13680"/>
                  <a:chOff x="562680" y="5789520"/>
                  <a:chExt cx="49680" cy="13680"/>
                </a:xfrm>
              </p:grpSpPr>
              <p:grpSp>
                <p:nvGrpSpPr>
                  <p:cNvPr id="1249" name="Group 813"/>
                  <p:cNvGrpSpPr/>
                  <p:nvPr/>
                </p:nvGrpSpPr>
                <p:grpSpPr>
                  <a:xfrm>
                    <a:off x="562680" y="5789520"/>
                    <a:ext cx="4320" cy="12240"/>
                    <a:chOff x="562680" y="5789520"/>
                    <a:chExt cx="4320" cy="12240"/>
                  </a:xfrm>
                </p:grpSpPr>
                <p:sp>
                  <p:nvSpPr>
                    <p:cNvPr id="1250" name="Freeform 814"/>
                    <p:cNvSpPr/>
                    <p:nvPr/>
                  </p:nvSpPr>
                  <p:spPr>
                    <a:xfrm>
                      <a:off x="562680" y="578952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Freeform 815"/>
                    <p:cNvSpPr/>
                    <p:nvPr/>
                  </p:nvSpPr>
                  <p:spPr>
                    <a:xfrm>
                      <a:off x="562680" y="578952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Freeform 816"/>
                    <p:cNvSpPr/>
                    <p:nvPr/>
                  </p:nvSpPr>
                  <p:spPr>
                    <a:xfrm>
                      <a:off x="562680" y="579564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3" name="Freeform 817"/>
                  <p:cNvSpPr/>
                  <p:nvPr/>
                </p:nvSpPr>
                <p:spPr>
                  <a:xfrm>
                    <a:off x="572760" y="578952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4" name="Freeform 818"/>
                <p:cNvSpPr/>
                <p:nvPr/>
              </p:nvSpPr>
              <p:spPr>
                <a:xfrm>
                  <a:off x="572760" y="579312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Group 819"/>
              <p:cNvGrpSpPr/>
              <p:nvPr/>
            </p:nvGrpSpPr>
            <p:grpSpPr>
              <a:xfrm>
                <a:off x="556560" y="5758200"/>
                <a:ext cx="70560" cy="32040"/>
                <a:chOff x="556560" y="5758200"/>
                <a:chExt cx="70560" cy="32040"/>
              </a:xfrm>
            </p:grpSpPr>
            <p:grpSp>
              <p:nvGrpSpPr>
                <p:cNvPr id="1256" name="Group 820"/>
                <p:cNvGrpSpPr/>
                <p:nvPr/>
              </p:nvGrpSpPr>
              <p:grpSpPr>
                <a:xfrm>
                  <a:off x="556560" y="5765760"/>
                  <a:ext cx="5760" cy="15840"/>
                  <a:chOff x="556560" y="5765760"/>
                  <a:chExt cx="5760" cy="15840"/>
                </a:xfrm>
              </p:grpSpPr>
              <p:sp>
                <p:nvSpPr>
                  <p:cNvPr id="1257" name="Freeform 821"/>
                  <p:cNvSpPr/>
                  <p:nvPr/>
                </p:nvSpPr>
                <p:spPr>
                  <a:xfrm>
                    <a:off x="556560" y="576576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Freeform 822"/>
                  <p:cNvSpPr/>
                  <p:nvPr/>
                </p:nvSpPr>
                <p:spPr>
                  <a:xfrm>
                    <a:off x="556560" y="577044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Freeform 823"/>
                  <p:cNvSpPr/>
                  <p:nvPr/>
                </p:nvSpPr>
                <p:spPr>
                  <a:xfrm>
                    <a:off x="556560" y="576792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824"/>
                  <p:cNvSpPr/>
                  <p:nvPr/>
                </p:nvSpPr>
                <p:spPr>
                  <a:xfrm>
                    <a:off x="556560" y="577800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Group 825"/>
                <p:cNvGrpSpPr/>
                <p:nvPr/>
              </p:nvGrpSpPr>
              <p:grpSpPr>
                <a:xfrm>
                  <a:off x="568440" y="5758200"/>
                  <a:ext cx="58680" cy="32040"/>
                  <a:chOff x="568440" y="5758200"/>
                  <a:chExt cx="58680" cy="32040"/>
                </a:xfrm>
              </p:grpSpPr>
              <p:sp>
                <p:nvSpPr>
                  <p:cNvPr id="1262" name="Freeform 826"/>
                  <p:cNvSpPr/>
                  <p:nvPr/>
                </p:nvSpPr>
                <p:spPr>
                  <a:xfrm>
                    <a:off x="568440" y="575820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Freeform 827"/>
                  <p:cNvSpPr/>
                  <p:nvPr/>
                </p:nvSpPr>
                <p:spPr>
                  <a:xfrm>
                    <a:off x="570240" y="576432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4" name="Group 828"/>
                  <p:cNvGrpSpPr/>
                  <p:nvPr/>
                </p:nvGrpSpPr>
                <p:grpSpPr>
                  <a:xfrm>
                    <a:off x="592560" y="5764320"/>
                    <a:ext cx="34560" cy="25920"/>
                    <a:chOff x="592560" y="5764320"/>
                    <a:chExt cx="34560" cy="25920"/>
                  </a:xfrm>
                </p:grpSpPr>
                <p:sp>
                  <p:nvSpPr>
                    <p:cNvPr id="1265" name="Line 829"/>
                    <p:cNvSpPr/>
                    <p:nvPr/>
                  </p:nvSpPr>
                  <p:spPr>
                    <a:xfrm>
                      <a:off x="607680" y="576432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6" name="Line 830"/>
                    <p:cNvSpPr/>
                    <p:nvPr/>
                  </p:nvSpPr>
                  <p:spPr>
                    <a:xfrm flipH="1">
                      <a:off x="617040" y="576432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7" name="Line 831"/>
                    <p:cNvSpPr/>
                    <p:nvPr/>
                  </p:nvSpPr>
                  <p:spPr>
                    <a:xfrm>
                      <a:off x="592560" y="576432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68" name="Group 832"/>
            <p:cNvGrpSpPr/>
            <p:nvPr/>
          </p:nvGrpSpPr>
          <p:grpSpPr>
            <a:xfrm>
              <a:off x="228600" y="5638680"/>
              <a:ext cx="340560" cy="133200"/>
              <a:chOff x="228600" y="5638680"/>
              <a:chExt cx="340560" cy="133200"/>
            </a:xfrm>
          </p:grpSpPr>
          <p:sp>
            <p:nvSpPr>
              <p:cNvPr id="1269" name="Freeform 833"/>
              <p:cNvSpPr/>
              <p:nvPr/>
            </p:nvSpPr>
            <p:spPr>
              <a:xfrm>
                <a:off x="244800" y="5638680"/>
                <a:ext cx="107640" cy="92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0" name="Group 834"/>
              <p:cNvGrpSpPr/>
              <p:nvPr/>
            </p:nvGrpSpPr>
            <p:grpSpPr>
              <a:xfrm>
                <a:off x="228600" y="5700240"/>
                <a:ext cx="340560" cy="71640"/>
                <a:chOff x="228600" y="5700240"/>
                <a:chExt cx="340560" cy="71640"/>
              </a:xfrm>
            </p:grpSpPr>
            <p:sp>
              <p:nvSpPr>
                <p:cNvPr id="1271" name="Freeform 835"/>
                <p:cNvSpPr/>
                <p:nvPr/>
              </p:nvSpPr>
              <p:spPr>
                <a:xfrm>
                  <a:off x="276480" y="5754240"/>
                  <a:ext cx="47520" cy="17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2" name="Group 836"/>
                <p:cNvGrpSpPr/>
                <p:nvPr/>
              </p:nvGrpSpPr>
              <p:grpSpPr>
                <a:xfrm>
                  <a:off x="228600" y="5700240"/>
                  <a:ext cx="340560" cy="50040"/>
                  <a:chOff x="228600" y="5700240"/>
                  <a:chExt cx="340560" cy="50040"/>
                </a:xfrm>
              </p:grpSpPr>
              <p:sp>
                <p:nvSpPr>
                  <p:cNvPr id="1273" name="Freeform 837"/>
                  <p:cNvSpPr/>
                  <p:nvPr/>
                </p:nvSpPr>
                <p:spPr>
                  <a:xfrm>
                    <a:off x="228600" y="572904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Freeform 838"/>
                  <p:cNvSpPr/>
                  <p:nvPr/>
                </p:nvSpPr>
                <p:spPr>
                  <a:xfrm>
                    <a:off x="445320" y="5700240"/>
                    <a:ext cx="123840" cy="5004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5" name="Group 839"/>
                  <p:cNvGrpSpPr/>
                  <p:nvPr/>
                </p:nvGrpSpPr>
                <p:grpSpPr>
                  <a:xfrm>
                    <a:off x="465120" y="5727600"/>
                    <a:ext cx="56160" cy="17280"/>
                    <a:chOff x="465120" y="5727600"/>
                    <a:chExt cx="56160" cy="17280"/>
                  </a:xfrm>
                </p:grpSpPr>
                <p:grpSp>
                  <p:nvGrpSpPr>
                    <p:cNvPr id="1276" name="Group 840"/>
                    <p:cNvGrpSpPr/>
                    <p:nvPr/>
                  </p:nvGrpSpPr>
                  <p:grpSpPr>
                    <a:xfrm>
                      <a:off x="478080" y="5739840"/>
                      <a:ext cx="43200" cy="5040"/>
                      <a:chOff x="478080" y="5739840"/>
                      <a:chExt cx="43200" cy="5040"/>
                    </a:xfrm>
                  </p:grpSpPr>
                  <p:sp>
                    <p:nvSpPr>
                      <p:cNvPr id="1277" name="Freeform 841"/>
                      <p:cNvSpPr/>
                      <p:nvPr/>
                    </p:nvSpPr>
                    <p:spPr>
                      <a:xfrm>
                        <a:off x="478080" y="573984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Freeform 842"/>
                      <p:cNvSpPr/>
                      <p:nvPr/>
                    </p:nvSpPr>
                    <p:spPr>
                      <a:xfrm>
                        <a:off x="491040" y="573984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9" name="Group 843"/>
                    <p:cNvGrpSpPr/>
                    <p:nvPr/>
                  </p:nvGrpSpPr>
                  <p:grpSpPr>
                    <a:xfrm>
                      <a:off x="465120" y="5727600"/>
                      <a:ext cx="31680" cy="5040"/>
                      <a:chOff x="465120" y="5727600"/>
                      <a:chExt cx="31680" cy="5040"/>
                    </a:xfrm>
                  </p:grpSpPr>
                  <p:sp>
                    <p:nvSpPr>
                      <p:cNvPr id="1280" name="Freeform 844"/>
                      <p:cNvSpPr/>
                      <p:nvPr/>
                    </p:nvSpPr>
                    <p:spPr>
                      <a:xfrm>
                        <a:off x="465120" y="572760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1" name="Freeform 845"/>
                      <p:cNvSpPr/>
                      <p:nvPr/>
                    </p:nvSpPr>
                    <p:spPr>
                      <a:xfrm>
                        <a:off x="478080" y="572760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cxnSp>
        <p:nvCxnSpPr>
          <p:cNvPr id="1282" name="Прямая со стрелкой 2774"/>
          <p:cNvCxnSpPr/>
          <p:nvPr/>
        </p:nvCxnSpPr>
        <p:spPr>
          <a:xfrm flipV="1">
            <a:off x="971640" y="5792040"/>
            <a:ext cx="1086480" cy="1332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283" name="Group 745" descr=""/>
          <p:cNvPicPr/>
          <p:nvPr/>
        </p:nvPicPr>
        <p:blipFill>
          <a:blip r:embed="rId2"/>
          <a:stretch/>
        </p:blipFill>
        <p:spPr>
          <a:xfrm>
            <a:off x="2882880" y="4791240"/>
            <a:ext cx="714240" cy="250560"/>
          </a:xfrm>
          <a:prstGeom prst="rect">
            <a:avLst/>
          </a:prstGeom>
          <a:ln w="0">
            <a:noFill/>
          </a:ln>
        </p:spPr>
      </p:pic>
      <p:cxnSp>
        <p:nvCxnSpPr>
          <p:cNvPr id="1284" name="Прямая со стрелкой 2980"/>
          <p:cNvCxnSpPr/>
          <p:nvPr/>
        </p:nvCxnSpPr>
        <p:spPr>
          <a:xfrm flipH="1">
            <a:off x="1752120" y="4952520"/>
            <a:ext cx="1067760" cy="1080"/>
          </a:xfrm>
          <a:prstGeom prst="straightConnector1">
            <a:avLst/>
          </a:prstGeom>
          <a:ln cap="rnd" w="28440">
            <a:solidFill>
              <a:srgbClr val="1e23ee"/>
            </a:solidFill>
            <a:miter/>
            <a:tailEnd len="med" type="arrow" w="med"/>
          </a:ln>
        </p:spPr>
      </p:cxnSp>
      <p:cxnSp>
        <p:nvCxnSpPr>
          <p:cNvPr id="1285" name="Прямая со стрелкой 2981"/>
          <p:cNvCxnSpPr/>
          <p:nvPr/>
        </p:nvCxnSpPr>
        <p:spPr>
          <a:xfrm flipH="1">
            <a:off x="1828080" y="3352320"/>
            <a:ext cx="1067400" cy="1080"/>
          </a:xfrm>
          <a:prstGeom prst="straightConnector1">
            <a:avLst/>
          </a:prstGeom>
          <a:ln cap="rnd" w="28440">
            <a:solidFill>
              <a:srgbClr val="1e23ee"/>
            </a:solidFill>
            <a:miter/>
            <a:tailEnd len="med" type="arrow" w="med"/>
          </a:ln>
        </p:spPr>
      </p:cxnSp>
      <p:cxnSp>
        <p:nvCxnSpPr>
          <p:cNvPr id="1286" name="Прямая со стрелкой 2982"/>
          <p:cNvCxnSpPr/>
          <p:nvPr/>
        </p:nvCxnSpPr>
        <p:spPr>
          <a:xfrm flipH="1">
            <a:off x="1752120" y="1676160"/>
            <a:ext cx="1067760" cy="1080"/>
          </a:xfrm>
          <a:prstGeom prst="straightConnector1">
            <a:avLst/>
          </a:prstGeom>
          <a:ln cap="rnd" w="28440">
            <a:solidFill>
              <a:srgbClr val="1e23ee"/>
            </a:solidFill>
            <a:miter/>
            <a:tailEnd len="med" type="arrow" w="med"/>
          </a:ln>
        </p:spPr>
      </p:cxnSp>
      <p:cxnSp>
        <p:nvCxnSpPr>
          <p:cNvPr id="1287" name="Прямая со стрелкой 2986"/>
          <p:cNvCxnSpPr/>
          <p:nvPr/>
        </p:nvCxnSpPr>
        <p:spPr>
          <a:xfrm>
            <a:off x="914040" y="411444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88" name="Прямая со стрелкой 2987"/>
          <p:cNvCxnSpPr/>
          <p:nvPr/>
        </p:nvCxnSpPr>
        <p:spPr>
          <a:xfrm>
            <a:off x="914040" y="251424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89" name="Прямая со стрелкой 2988"/>
          <p:cNvCxnSpPr/>
          <p:nvPr/>
        </p:nvCxnSpPr>
        <p:spPr>
          <a:xfrm>
            <a:off x="914040" y="83772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grpSp>
        <p:nvGrpSpPr>
          <p:cNvPr id="1290" name="Group 745"/>
          <p:cNvGrpSpPr/>
          <p:nvPr/>
        </p:nvGrpSpPr>
        <p:grpSpPr>
          <a:xfrm>
            <a:off x="152280" y="3962520"/>
            <a:ext cx="601920" cy="164160"/>
            <a:chOff x="152280" y="3962520"/>
            <a:chExt cx="601920" cy="164160"/>
          </a:xfrm>
        </p:grpSpPr>
        <p:grpSp>
          <p:nvGrpSpPr>
            <p:cNvPr id="1291" name="Group 746"/>
            <p:cNvGrpSpPr/>
            <p:nvPr/>
          </p:nvGrpSpPr>
          <p:grpSpPr>
            <a:xfrm>
              <a:off x="168480" y="3962520"/>
              <a:ext cx="585720" cy="141840"/>
              <a:chOff x="168480" y="3962520"/>
              <a:chExt cx="585720" cy="141840"/>
            </a:xfrm>
          </p:grpSpPr>
          <p:sp>
            <p:nvSpPr>
              <p:cNvPr id="1292" name="Freeform 747"/>
              <p:cNvSpPr/>
              <p:nvPr/>
            </p:nvSpPr>
            <p:spPr>
              <a:xfrm>
                <a:off x="168480" y="3962520"/>
                <a:ext cx="585720" cy="14184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3" name="Group 748"/>
              <p:cNvGrpSpPr/>
              <p:nvPr/>
            </p:nvGrpSpPr>
            <p:grpSpPr>
              <a:xfrm>
                <a:off x="271800" y="4057920"/>
                <a:ext cx="437040" cy="26280"/>
                <a:chOff x="271800" y="4057920"/>
                <a:chExt cx="437040" cy="26280"/>
              </a:xfrm>
            </p:grpSpPr>
            <p:sp>
              <p:nvSpPr>
                <p:cNvPr id="1294" name="Freeform 749"/>
                <p:cNvSpPr/>
                <p:nvPr/>
              </p:nvSpPr>
              <p:spPr>
                <a:xfrm>
                  <a:off x="697320" y="405792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50"/>
                <p:cNvSpPr/>
                <p:nvPr/>
              </p:nvSpPr>
              <p:spPr>
                <a:xfrm>
                  <a:off x="578880" y="405900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51"/>
                <p:cNvSpPr/>
                <p:nvPr/>
              </p:nvSpPr>
              <p:spPr>
                <a:xfrm>
                  <a:off x="376920" y="406044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52"/>
                <p:cNvSpPr/>
                <p:nvPr/>
              </p:nvSpPr>
              <p:spPr>
                <a:xfrm>
                  <a:off x="271800" y="406188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Group 753"/>
              <p:cNvGrpSpPr/>
              <p:nvPr/>
            </p:nvGrpSpPr>
            <p:grpSpPr>
              <a:xfrm>
                <a:off x="285840" y="4061880"/>
                <a:ext cx="397080" cy="9720"/>
                <a:chOff x="285840" y="4061880"/>
                <a:chExt cx="397080" cy="9720"/>
              </a:xfrm>
            </p:grpSpPr>
            <p:grpSp>
              <p:nvGrpSpPr>
                <p:cNvPr id="1299" name="Group 754"/>
                <p:cNvGrpSpPr/>
                <p:nvPr/>
              </p:nvGrpSpPr>
              <p:grpSpPr>
                <a:xfrm>
                  <a:off x="323280" y="4066560"/>
                  <a:ext cx="44280" cy="3600"/>
                  <a:chOff x="323280" y="4066560"/>
                  <a:chExt cx="44280" cy="3600"/>
                </a:xfrm>
              </p:grpSpPr>
              <p:sp>
                <p:nvSpPr>
                  <p:cNvPr id="1300" name="Oval 755"/>
                  <p:cNvSpPr/>
                  <p:nvPr/>
                </p:nvSpPr>
                <p:spPr>
                  <a:xfrm>
                    <a:off x="361800" y="40665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Oval 756"/>
                  <p:cNvSpPr/>
                  <p:nvPr/>
                </p:nvSpPr>
                <p:spPr>
                  <a:xfrm>
                    <a:off x="355680" y="40665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Oval 757"/>
                  <p:cNvSpPr/>
                  <p:nvPr/>
                </p:nvSpPr>
                <p:spPr>
                  <a:xfrm>
                    <a:off x="349920" y="40665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Oval 758"/>
                  <p:cNvSpPr/>
                  <p:nvPr/>
                </p:nvSpPr>
                <p:spPr>
                  <a:xfrm>
                    <a:off x="343080" y="40665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Oval 759"/>
                  <p:cNvSpPr/>
                  <p:nvPr/>
                </p:nvSpPr>
                <p:spPr>
                  <a:xfrm>
                    <a:off x="336960" y="406656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Oval 760"/>
                  <p:cNvSpPr/>
                  <p:nvPr/>
                </p:nvSpPr>
                <p:spPr>
                  <a:xfrm>
                    <a:off x="330120" y="40676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Oval 761"/>
                  <p:cNvSpPr/>
                  <p:nvPr/>
                </p:nvSpPr>
                <p:spPr>
                  <a:xfrm>
                    <a:off x="323280" y="40676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" name="Group 762"/>
                <p:cNvGrpSpPr/>
                <p:nvPr/>
              </p:nvGrpSpPr>
              <p:grpSpPr>
                <a:xfrm>
                  <a:off x="522720" y="4061880"/>
                  <a:ext cx="160200" cy="6120"/>
                  <a:chOff x="522720" y="4061880"/>
                  <a:chExt cx="160200" cy="6120"/>
                </a:xfrm>
              </p:grpSpPr>
              <p:grpSp>
                <p:nvGrpSpPr>
                  <p:cNvPr id="1308" name="Group 763"/>
                  <p:cNvGrpSpPr/>
                  <p:nvPr/>
                </p:nvGrpSpPr>
                <p:grpSpPr>
                  <a:xfrm>
                    <a:off x="637560" y="4061880"/>
                    <a:ext cx="45360" cy="3600"/>
                    <a:chOff x="637560" y="4061880"/>
                    <a:chExt cx="45360" cy="3600"/>
                  </a:xfrm>
                </p:grpSpPr>
                <p:sp>
                  <p:nvSpPr>
                    <p:cNvPr id="1309" name="Oval 764"/>
                    <p:cNvSpPr/>
                    <p:nvPr/>
                  </p:nvSpPr>
                  <p:spPr>
                    <a:xfrm>
                      <a:off x="678600" y="406188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0" name="Oval 765"/>
                    <p:cNvSpPr/>
                    <p:nvPr/>
                  </p:nvSpPr>
                  <p:spPr>
                    <a:xfrm>
                      <a:off x="671400" y="406188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1" name="Oval 766"/>
                    <p:cNvSpPr/>
                    <p:nvPr/>
                  </p:nvSpPr>
                  <p:spPr>
                    <a:xfrm>
                      <a:off x="664560" y="40618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2" name="Oval 767"/>
                    <p:cNvSpPr/>
                    <p:nvPr/>
                  </p:nvSpPr>
                  <p:spPr>
                    <a:xfrm>
                      <a:off x="657360" y="40618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3" name="Oval 768"/>
                    <p:cNvSpPr/>
                    <p:nvPr/>
                  </p:nvSpPr>
                  <p:spPr>
                    <a:xfrm>
                      <a:off x="650520" y="40618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4" name="Oval 769"/>
                    <p:cNvSpPr/>
                    <p:nvPr/>
                  </p:nvSpPr>
                  <p:spPr>
                    <a:xfrm>
                      <a:off x="644400" y="406188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5" name="Oval 770"/>
                    <p:cNvSpPr/>
                    <p:nvPr/>
                  </p:nvSpPr>
                  <p:spPr>
                    <a:xfrm>
                      <a:off x="637560" y="40618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6" name="Group 771"/>
                  <p:cNvGrpSpPr/>
                  <p:nvPr/>
                </p:nvGrpSpPr>
                <p:grpSpPr>
                  <a:xfrm>
                    <a:off x="589680" y="4061880"/>
                    <a:ext cx="46440" cy="4680"/>
                    <a:chOff x="589680" y="4061880"/>
                    <a:chExt cx="46440" cy="4680"/>
                  </a:xfrm>
                </p:grpSpPr>
                <p:sp>
                  <p:nvSpPr>
                    <p:cNvPr id="1317" name="Oval 772"/>
                    <p:cNvSpPr/>
                    <p:nvPr/>
                  </p:nvSpPr>
                  <p:spPr>
                    <a:xfrm>
                      <a:off x="630360" y="40618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8" name="Oval 773"/>
                    <p:cNvSpPr/>
                    <p:nvPr/>
                  </p:nvSpPr>
                  <p:spPr>
                    <a:xfrm>
                      <a:off x="623160" y="40618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Oval 774"/>
                    <p:cNvSpPr/>
                    <p:nvPr/>
                  </p:nvSpPr>
                  <p:spPr>
                    <a:xfrm>
                      <a:off x="617400" y="406296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0" name="Oval 775"/>
                    <p:cNvSpPr/>
                    <p:nvPr/>
                  </p:nvSpPr>
                  <p:spPr>
                    <a:xfrm>
                      <a:off x="610560" y="406296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1" name="Oval 776"/>
                    <p:cNvSpPr/>
                    <p:nvPr/>
                  </p:nvSpPr>
                  <p:spPr>
                    <a:xfrm>
                      <a:off x="603360" y="406296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2" name="Oval 777"/>
                    <p:cNvSpPr/>
                    <p:nvPr/>
                  </p:nvSpPr>
                  <p:spPr>
                    <a:xfrm>
                      <a:off x="596520" y="406296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Oval 778"/>
                    <p:cNvSpPr/>
                    <p:nvPr/>
                  </p:nvSpPr>
                  <p:spPr>
                    <a:xfrm>
                      <a:off x="589680" y="4062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4" name="Group 779"/>
                  <p:cNvGrpSpPr/>
                  <p:nvPr/>
                </p:nvGrpSpPr>
                <p:grpSpPr>
                  <a:xfrm>
                    <a:off x="522720" y="4062960"/>
                    <a:ext cx="46800" cy="5040"/>
                    <a:chOff x="522720" y="4062960"/>
                    <a:chExt cx="46800" cy="5040"/>
                  </a:xfrm>
                </p:grpSpPr>
                <p:sp>
                  <p:nvSpPr>
                    <p:cNvPr id="1325" name="Oval 780"/>
                    <p:cNvSpPr/>
                    <p:nvPr/>
                  </p:nvSpPr>
                  <p:spPr>
                    <a:xfrm>
                      <a:off x="563760" y="4062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6" name="Oval 781"/>
                    <p:cNvSpPr/>
                    <p:nvPr/>
                  </p:nvSpPr>
                  <p:spPr>
                    <a:xfrm>
                      <a:off x="556560" y="4062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Oval 782"/>
                    <p:cNvSpPr/>
                    <p:nvPr/>
                  </p:nvSpPr>
                  <p:spPr>
                    <a:xfrm>
                      <a:off x="549720" y="4062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Oval 783"/>
                    <p:cNvSpPr/>
                    <p:nvPr/>
                  </p:nvSpPr>
                  <p:spPr>
                    <a:xfrm>
                      <a:off x="543600" y="406296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9" name="Oval 784"/>
                    <p:cNvSpPr/>
                    <p:nvPr/>
                  </p:nvSpPr>
                  <p:spPr>
                    <a:xfrm>
                      <a:off x="536760" y="406404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Oval 785"/>
                    <p:cNvSpPr/>
                    <p:nvPr/>
                  </p:nvSpPr>
                  <p:spPr>
                    <a:xfrm>
                      <a:off x="522720" y="406404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1" name="Group 786"/>
                <p:cNvGrpSpPr/>
                <p:nvPr/>
              </p:nvGrpSpPr>
              <p:grpSpPr>
                <a:xfrm>
                  <a:off x="479520" y="4064040"/>
                  <a:ext cx="37080" cy="3600"/>
                  <a:chOff x="479520" y="4064040"/>
                  <a:chExt cx="37080" cy="3600"/>
                </a:xfrm>
              </p:grpSpPr>
              <p:sp>
                <p:nvSpPr>
                  <p:cNvPr id="1332" name="Oval 787"/>
                  <p:cNvSpPr/>
                  <p:nvPr/>
                </p:nvSpPr>
                <p:spPr>
                  <a:xfrm>
                    <a:off x="510840" y="40640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Oval 788"/>
                  <p:cNvSpPr/>
                  <p:nvPr/>
                </p:nvSpPr>
                <p:spPr>
                  <a:xfrm>
                    <a:off x="504000" y="40640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Oval 789"/>
                  <p:cNvSpPr/>
                  <p:nvPr/>
                </p:nvSpPr>
                <p:spPr>
                  <a:xfrm>
                    <a:off x="498240" y="40640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Oval 790"/>
                  <p:cNvSpPr/>
                  <p:nvPr/>
                </p:nvSpPr>
                <p:spPr>
                  <a:xfrm>
                    <a:off x="492480" y="40640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Oval 791"/>
                  <p:cNvSpPr/>
                  <p:nvPr/>
                </p:nvSpPr>
                <p:spPr>
                  <a:xfrm>
                    <a:off x="485280" y="40640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Oval 792"/>
                  <p:cNvSpPr/>
                  <p:nvPr/>
                </p:nvSpPr>
                <p:spPr>
                  <a:xfrm>
                    <a:off x="479520" y="40640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" name="Group 793"/>
                <p:cNvGrpSpPr/>
                <p:nvPr/>
              </p:nvGrpSpPr>
              <p:grpSpPr>
                <a:xfrm>
                  <a:off x="285840" y="4068000"/>
                  <a:ext cx="36000" cy="3600"/>
                  <a:chOff x="285840" y="4068000"/>
                  <a:chExt cx="36000" cy="3600"/>
                </a:xfrm>
              </p:grpSpPr>
              <p:sp>
                <p:nvSpPr>
                  <p:cNvPr id="1339" name="Oval 794"/>
                  <p:cNvSpPr/>
                  <p:nvPr/>
                </p:nvSpPr>
                <p:spPr>
                  <a:xfrm>
                    <a:off x="317520" y="406800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Oval 795"/>
                  <p:cNvSpPr/>
                  <p:nvPr/>
                </p:nvSpPr>
                <p:spPr>
                  <a:xfrm>
                    <a:off x="310320" y="40680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Oval 796"/>
                  <p:cNvSpPr/>
                  <p:nvPr/>
                </p:nvSpPr>
                <p:spPr>
                  <a:xfrm>
                    <a:off x="304560" y="40680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Oval 797"/>
                  <p:cNvSpPr/>
                  <p:nvPr/>
                </p:nvSpPr>
                <p:spPr>
                  <a:xfrm>
                    <a:off x="297720" y="40680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Oval 798"/>
                  <p:cNvSpPr/>
                  <p:nvPr/>
                </p:nvSpPr>
                <p:spPr>
                  <a:xfrm>
                    <a:off x="291600" y="406800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Oval 799"/>
                  <p:cNvSpPr/>
                  <p:nvPr/>
                </p:nvSpPr>
                <p:spPr>
                  <a:xfrm>
                    <a:off x="285840" y="406800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45" name="Freeform 800"/>
            <p:cNvSpPr/>
            <p:nvPr/>
          </p:nvSpPr>
          <p:spPr>
            <a:xfrm>
              <a:off x="186120" y="4015080"/>
              <a:ext cx="567720" cy="76680"/>
            </a:xfrm>
            <a:custGeom>
              <a:avLst/>
              <a:gdLst>
                <a:gd name="textAreaLeft" fmla="*/ 0 w 567720"/>
                <a:gd name="textAreaRight" fmla="*/ 568080 w 567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6" name="Group 801"/>
            <p:cNvGrpSpPr/>
            <p:nvPr/>
          </p:nvGrpSpPr>
          <p:grpSpPr>
            <a:xfrm>
              <a:off x="725760" y="4061880"/>
              <a:ext cx="12600" cy="4680"/>
              <a:chOff x="725760" y="4061880"/>
              <a:chExt cx="12600" cy="4680"/>
            </a:xfrm>
          </p:grpSpPr>
          <p:sp>
            <p:nvSpPr>
              <p:cNvPr id="1347" name="Freeform 802"/>
              <p:cNvSpPr/>
              <p:nvPr/>
            </p:nvSpPr>
            <p:spPr>
              <a:xfrm>
                <a:off x="725760" y="406188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Freeform 803"/>
              <p:cNvSpPr/>
              <p:nvPr/>
            </p:nvSpPr>
            <p:spPr>
              <a:xfrm>
                <a:off x="730440" y="40618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Freeform 804"/>
              <p:cNvSpPr/>
              <p:nvPr/>
            </p:nvSpPr>
            <p:spPr>
              <a:xfrm>
                <a:off x="734760" y="40629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0" name="Arc 805"/>
            <p:cNvSpPr/>
            <p:nvPr/>
          </p:nvSpPr>
          <p:spPr>
            <a:xfrm>
              <a:off x="162360" y="406548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Freeform 806"/>
            <p:cNvSpPr/>
            <p:nvPr/>
          </p:nvSpPr>
          <p:spPr>
            <a:xfrm>
              <a:off x="451080" y="407664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2" name="Group 807"/>
            <p:cNvGrpSpPr/>
            <p:nvPr/>
          </p:nvGrpSpPr>
          <p:grpSpPr>
            <a:xfrm>
              <a:off x="375120" y="4075560"/>
              <a:ext cx="188640" cy="51120"/>
              <a:chOff x="375120" y="4075560"/>
              <a:chExt cx="188640" cy="51120"/>
            </a:xfrm>
          </p:grpSpPr>
          <p:grpSp>
            <p:nvGrpSpPr>
              <p:cNvPr id="1353" name="Group 808"/>
              <p:cNvGrpSpPr/>
              <p:nvPr/>
            </p:nvGrpSpPr>
            <p:grpSpPr>
              <a:xfrm>
                <a:off x="375120" y="4075560"/>
                <a:ext cx="188640" cy="29880"/>
                <a:chOff x="375120" y="4075560"/>
                <a:chExt cx="188640" cy="29880"/>
              </a:xfrm>
            </p:grpSpPr>
            <p:sp>
              <p:nvSpPr>
                <p:cNvPr id="1354" name="Freeform 809"/>
                <p:cNvSpPr/>
                <p:nvPr/>
              </p:nvSpPr>
              <p:spPr>
                <a:xfrm>
                  <a:off x="375120" y="407556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810"/>
                <p:cNvSpPr/>
                <p:nvPr/>
              </p:nvSpPr>
              <p:spPr>
                <a:xfrm>
                  <a:off x="375120" y="408060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6" name="Group 811"/>
              <p:cNvGrpSpPr/>
              <p:nvPr/>
            </p:nvGrpSpPr>
            <p:grpSpPr>
              <a:xfrm>
                <a:off x="486360" y="4113000"/>
                <a:ext cx="49680" cy="13680"/>
                <a:chOff x="486360" y="4113000"/>
                <a:chExt cx="49680" cy="13680"/>
              </a:xfrm>
            </p:grpSpPr>
            <p:grpSp>
              <p:nvGrpSpPr>
                <p:cNvPr id="1357" name="Group 812"/>
                <p:cNvGrpSpPr/>
                <p:nvPr/>
              </p:nvGrpSpPr>
              <p:grpSpPr>
                <a:xfrm>
                  <a:off x="486360" y="4113000"/>
                  <a:ext cx="49680" cy="13680"/>
                  <a:chOff x="486360" y="4113000"/>
                  <a:chExt cx="49680" cy="13680"/>
                </a:xfrm>
              </p:grpSpPr>
              <p:grpSp>
                <p:nvGrpSpPr>
                  <p:cNvPr id="1358" name="Group 813"/>
                  <p:cNvGrpSpPr/>
                  <p:nvPr/>
                </p:nvGrpSpPr>
                <p:grpSpPr>
                  <a:xfrm>
                    <a:off x="486360" y="4113000"/>
                    <a:ext cx="4320" cy="12240"/>
                    <a:chOff x="486360" y="4113000"/>
                    <a:chExt cx="4320" cy="12240"/>
                  </a:xfrm>
                </p:grpSpPr>
                <p:sp>
                  <p:nvSpPr>
                    <p:cNvPr id="1359" name="Freeform 814"/>
                    <p:cNvSpPr/>
                    <p:nvPr/>
                  </p:nvSpPr>
                  <p:spPr>
                    <a:xfrm>
                      <a:off x="486360" y="411300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Freeform 815"/>
                    <p:cNvSpPr/>
                    <p:nvPr/>
                  </p:nvSpPr>
                  <p:spPr>
                    <a:xfrm>
                      <a:off x="486360" y="411300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Freeform 816"/>
                    <p:cNvSpPr/>
                    <p:nvPr/>
                  </p:nvSpPr>
                  <p:spPr>
                    <a:xfrm>
                      <a:off x="486360" y="411912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2" name="Freeform 817"/>
                  <p:cNvSpPr/>
                  <p:nvPr/>
                </p:nvSpPr>
                <p:spPr>
                  <a:xfrm>
                    <a:off x="496440" y="411300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3" name="Freeform 818"/>
                <p:cNvSpPr/>
                <p:nvPr/>
              </p:nvSpPr>
              <p:spPr>
                <a:xfrm>
                  <a:off x="496440" y="411660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Group 819"/>
              <p:cNvGrpSpPr/>
              <p:nvPr/>
            </p:nvGrpSpPr>
            <p:grpSpPr>
              <a:xfrm>
                <a:off x="480240" y="4081680"/>
                <a:ext cx="70560" cy="32040"/>
                <a:chOff x="480240" y="4081680"/>
                <a:chExt cx="70560" cy="32040"/>
              </a:xfrm>
            </p:grpSpPr>
            <p:grpSp>
              <p:nvGrpSpPr>
                <p:cNvPr id="1365" name="Group 820"/>
                <p:cNvGrpSpPr/>
                <p:nvPr/>
              </p:nvGrpSpPr>
              <p:grpSpPr>
                <a:xfrm>
                  <a:off x="480240" y="4089240"/>
                  <a:ext cx="5760" cy="15840"/>
                  <a:chOff x="480240" y="4089240"/>
                  <a:chExt cx="5760" cy="15840"/>
                </a:xfrm>
              </p:grpSpPr>
              <p:sp>
                <p:nvSpPr>
                  <p:cNvPr id="1366" name="Freeform 821"/>
                  <p:cNvSpPr/>
                  <p:nvPr/>
                </p:nvSpPr>
                <p:spPr>
                  <a:xfrm>
                    <a:off x="480240" y="408924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Freeform 822"/>
                  <p:cNvSpPr/>
                  <p:nvPr/>
                </p:nvSpPr>
                <p:spPr>
                  <a:xfrm>
                    <a:off x="480240" y="409392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823"/>
                  <p:cNvSpPr/>
                  <p:nvPr/>
                </p:nvSpPr>
                <p:spPr>
                  <a:xfrm>
                    <a:off x="480240" y="409140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824"/>
                  <p:cNvSpPr/>
                  <p:nvPr/>
                </p:nvSpPr>
                <p:spPr>
                  <a:xfrm>
                    <a:off x="480240" y="410148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825"/>
                <p:cNvGrpSpPr/>
                <p:nvPr/>
              </p:nvGrpSpPr>
              <p:grpSpPr>
                <a:xfrm>
                  <a:off x="492120" y="4081680"/>
                  <a:ext cx="58680" cy="32040"/>
                  <a:chOff x="492120" y="4081680"/>
                  <a:chExt cx="58680" cy="32040"/>
                </a:xfrm>
              </p:grpSpPr>
              <p:sp>
                <p:nvSpPr>
                  <p:cNvPr id="1371" name="Freeform 826"/>
                  <p:cNvSpPr/>
                  <p:nvPr/>
                </p:nvSpPr>
                <p:spPr>
                  <a:xfrm>
                    <a:off x="492120" y="408168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827"/>
                  <p:cNvSpPr/>
                  <p:nvPr/>
                </p:nvSpPr>
                <p:spPr>
                  <a:xfrm>
                    <a:off x="493920" y="408780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3" name="Group 828"/>
                  <p:cNvGrpSpPr/>
                  <p:nvPr/>
                </p:nvGrpSpPr>
                <p:grpSpPr>
                  <a:xfrm>
                    <a:off x="516240" y="4087800"/>
                    <a:ext cx="34560" cy="25920"/>
                    <a:chOff x="516240" y="4087800"/>
                    <a:chExt cx="34560" cy="25920"/>
                  </a:xfrm>
                </p:grpSpPr>
                <p:sp>
                  <p:nvSpPr>
                    <p:cNvPr id="1374" name="Line 829"/>
                    <p:cNvSpPr/>
                    <p:nvPr/>
                  </p:nvSpPr>
                  <p:spPr>
                    <a:xfrm>
                      <a:off x="531360" y="408780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5" name="Line 830"/>
                    <p:cNvSpPr/>
                    <p:nvPr/>
                  </p:nvSpPr>
                  <p:spPr>
                    <a:xfrm flipH="1">
                      <a:off x="540720" y="408780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6" name="Line 831"/>
                    <p:cNvSpPr/>
                    <p:nvPr/>
                  </p:nvSpPr>
                  <p:spPr>
                    <a:xfrm>
                      <a:off x="516240" y="408780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77" name="Group 832"/>
            <p:cNvGrpSpPr/>
            <p:nvPr/>
          </p:nvGrpSpPr>
          <p:grpSpPr>
            <a:xfrm>
              <a:off x="152280" y="3962520"/>
              <a:ext cx="341280" cy="133200"/>
              <a:chOff x="152280" y="3962520"/>
              <a:chExt cx="341280" cy="133200"/>
            </a:xfrm>
          </p:grpSpPr>
          <p:sp>
            <p:nvSpPr>
              <p:cNvPr id="1378" name="Freeform 833"/>
              <p:cNvSpPr/>
              <p:nvPr/>
            </p:nvSpPr>
            <p:spPr>
              <a:xfrm>
                <a:off x="168480" y="3962520"/>
                <a:ext cx="108000" cy="928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9" name="Group 834"/>
              <p:cNvGrpSpPr/>
              <p:nvPr/>
            </p:nvGrpSpPr>
            <p:grpSpPr>
              <a:xfrm>
                <a:off x="152280" y="4024080"/>
                <a:ext cx="341280" cy="71640"/>
                <a:chOff x="152280" y="4024080"/>
                <a:chExt cx="341280" cy="71640"/>
              </a:xfrm>
            </p:grpSpPr>
            <p:sp>
              <p:nvSpPr>
                <p:cNvPr id="1380" name="Freeform 835"/>
                <p:cNvSpPr/>
                <p:nvPr/>
              </p:nvSpPr>
              <p:spPr>
                <a:xfrm>
                  <a:off x="200160" y="4078080"/>
                  <a:ext cx="47880" cy="1764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1" name="Group 836"/>
                <p:cNvGrpSpPr/>
                <p:nvPr/>
              </p:nvGrpSpPr>
              <p:grpSpPr>
                <a:xfrm>
                  <a:off x="152280" y="4024080"/>
                  <a:ext cx="341280" cy="50040"/>
                  <a:chOff x="152280" y="4024080"/>
                  <a:chExt cx="341280" cy="50040"/>
                </a:xfrm>
              </p:grpSpPr>
              <p:sp>
                <p:nvSpPr>
                  <p:cNvPr id="1382" name="Freeform 837"/>
                  <p:cNvSpPr/>
                  <p:nvPr/>
                </p:nvSpPr>
                <p:spPr>
                  <a:xfrm>
                    <a:off x="152280" y="405288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Freeform 838"/>
                  <p:cNvSpPr/>
                  <p:nvPr/>
                </p:nvSpPr>
                <p:spPr>
                  <a:xfrm>
                    <a:off x="369360" y="4024080"/>
                    <a:ext cx="124200" cy="50040"/>
                  </a:xfrm>
                  <a:custGeom>
                    <a:avLst/>
                    <a:gdLst>
                      <a:gd name="textAreaLeft" fmla="*/ 0 w 124200"/>
                      <a:gd name="textAreaRight" fmla="*/ 124560 w 12420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84" name="Group 839"/>
                  <p:cNvGrpSpPr/>
                  <p:nvPr/>
                </p:nvGrpSpPr>
                <p:grpSpPr>
                  <a:xfrm>
                    <a:off x="388800" y="4051440"/>
                    <a:ext cx="56160" cy="17280"/>
                    <a:chOff x="388800" y="4051440"/>
                    <a:chExt cx="56160" cy="17280"/>
                  </a:xfrm>
                </p:grpSpPr>
                <p:grpSp>
                  <p:nvGrpSpPr>
                    <p:cNvPr id="1385" name="Group 840"/>
                    <p:cNvGrpSpPr/>
                    <p:nvPr/>
                  </p:nvGrpSpPr>
                  <p:grpSpPr>
                    <a:xfrm>
                      <a:off x="401760" y="4063680"/>
                      <a:ext cx="43200" cy="5040"/>
                      <a:chOff x="401760" y="4063680"/>
                      <a:chExt cx="43200" cy="5040"/>
                    </a:xfrm>
                  </p:grpSpPr>
                  <p:sp>
                    <p:nvSpPr>
                      <p:cNvPr id="1386" name="Freeform 841"/>
                      <p:cNvSpPr/>
                      <p:nvPr/>
                    </p:nvSpPr>
                    <p:spPr>
                      <a:xfrm>
                        <a:off x="401760" y="406368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7" name="Freeform 842"/>
                      <p:cNvSpPr/>
                      <p:nvPr/>
                    </p:nvSpPr>
                    <p:spPr>
                      <a:xfrm>
                        <a:off x="414720" y="406368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8" name="Group 843"/>
                    <p:cNvGrpSpPr/>
                    <p:nvPr/>
                  </p:nvGrpSpPr>
                  <p:grpSpPr>
                    <a:xfrm>
                      <a:off x="388800" y="4051440"/>
                      <a:ext cx="31680" cy="5040"/>
                      <a:chOff x="388800" y="4051440"/>
                      <a:chExt cx="31680" cy="5040"/>
                    </a:xfrm>
                  </p:grpSpPr>
                  <p:sp>
                    <p:nvSpPr>
                      <p:cNvPr id="1389" name="Freeform 844"/>
                      <p:cNvSpPr/>
                      <p:nvPr/>
                    </p:nvSpPr>
                    <p:spPr>
                      <a:xfrm>
                        <a:off x="388800" y="405144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0" name="Freeform 845"/>
                      <p:cNvSpPr/>
                      <p:nvPr/>
                    </p:nvSpPr>
                    <p:spPr>
                      <a:xfrm>
                        <a:off x="401760" y="405144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391" name="Group 745"/>
          <p:cNvGrpSpPr/>
          <p:nvPr/>
        </p:nvGrpSpPr>
        <p:grpSpPr>
          <a:xfrm>
            <a:off x="152280" y="2362320"/>
            <a:ext cx="601920" cy="164160"/>
            <a:chOff x="152280" y="2362320"/>
            <a:chExt cx="601920" cy="164160"/>
          </a:xfrm>
        </p:grpSpPr>
        <p:grpSp>
          <p:nvGrpSpPr>
            <p:cNvPr id="1392" name="Group 746"/>
            <p:cNvGrpSpPr/>
            <p:nvPr/>
          </p:nvGrpSpPr>
          <p:grpSpPr>
            <a:xfrm>
              <a:off x="168480" y="2362320"/>
              <a:ext cx="585720" cy="141840"/>
              <a:chOff x="168480" y="2362320"/>
              <a:chExt cx="585720" cy="141840"/>
            </a:xfrm>
          </p:grpSpPr>
          <p:sp>
            <p:nvSpPr>
              <p:cNvPr id="1393" name="Freeform 747"/>
              <p:cNvSpPr/>
              <p:nvPr/>
            </p:nvSpPr>
            <p:spPr>
              <a:xfrm>
                <a:off x="168480" y="2362320"/>
                <a:ext cx="585720" cy="14184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94" name="Group 748"/>
              <p:cNvGrpSpPr/>
              <p:nvPr/>
            </p:nvGrpSpPr>
            <p:grpSpPr>
              <a:xfrm>
                <a:off x="271800" y="2457720"/>
                <a:ext cx="437040" cy="26280"/>
                <a:chOff x="271800" y="2457720"/>
                <a:chExt cx="437040" cy="26280"/>
              </a:xfrm>
            </p:grpSpPr>
            <p:sp>
              <p:nvSpPr>
                <p:cNvPr id="1395" name="Freeform 749"/>
                <p:cNvSpPr/>
                <p:nvPr/>
              </p:nvSpPr>
              <p:spPr>
                <a:xfrm>
                  <a:off x="697320" y="245772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750"/>
                <p:cNvSpPr/>
                <p:nvPr/>
              </p:nvSpPr>
              <p:spPr>
                <a:xfrm>
                  <a:off x="578880" y="245880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751"/>
                <p:cNvSpPr/>
                <p:nvPr/>
              </p:nvSpPr>
              <p:spPr>
                <a:xfrm>
                  <a:off x="376920" y="246024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752"/>
                <p:cNvSpPr/>
                <p:nvPr/>
              </p:nvSpPr>
              <p:spPr>
                <a:xfrm>
                  <a:off x="271800" y="246168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Group 753"/>
              <p:cNvGrpSpPr/>
              <p:nvPr/>
            </p:nvGrpSpPr>
            <p:grpSpPr>
              <a:xfrm>
                <a:off x="285840" y="2461680"/>
                <a:ext cx="397080" cy="9720"/>
                <a:chOff x="285840" y="2461680"/>
                <a:chExt cx="397080" cy="9720"/>
              </a:xfrm>
            </p:grpSpPr>
            <p:grpSp>
              <p:nvGrpSpPr>
                <p:cNvPr id="1400" name="Group 754"/>
                <p:cNvGrpSpPr/>
                <p:nvPr/>
              </p:nvGrpSpPr>
              <p:grpSpPr>
                <a:xfrm>
                  <a:off x="323280" y="2466360"/>
                  <a:ext cx="44280" cy="3600"/>
                  <a:chOff x="323280" y="2466360"/>
                  <a:chExt cx="44280" cy="3600"/>
                </a:xfrm>
              </p:grpSpPr>
              <p:sp>
                <p:nvSpPr>
                  <p:cNvPr id="1401" name="Oval 755"/>
                  <p:cNvSpPr/>
                  <p:nvPr/>
                </p:nvSpPr>
                <p:spPr>
                  <a:xfrm>
                    <a:off x="361800" y="2466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Oval 756"/>
                  <p:cNvSpPr/>
                  <p:nvPr/>
                </p:nvSpPr>
                <p:spPr>
                  <a:xfrm>
                    <a:off x="355680" y="2466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Oval 757"/>
                  <p:cNvSpPr/>
                  <p:nvPr/>
                </p:nvSpPr>
                <p:spPr>
                  <a:xfrm>
                    <a:off x="349920" y="2466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Oval 758"/>
                  <p:cNvSpPr/>
                  <p:nvPr/>
                </p:nvSpPr>
                <p:spPr>
                  <a:xfrm>
                    <a:off x="343080" y="2466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Oval 759"/>
                  <p:cNvSpPr/>
                  <p:nvPr/>
                </p:nvSpPr>
                <p:spPr>
                  <a:xfrm>
                    <a:off x="336960" y="246636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Oval 760"/>
                  <p:cNvSpPr/>
                  <p:nvPr/>
                </p:nvSpPr>
                <p:spPr>
                  <a:xfrm>
                    <a:off x="330120" y="24674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Oval 761"/>
                  <p:cNvSpPr/>
                  <p:nvPr/>
                </p:nvSpPr>
                <p:spPr>
                  <a:xfrm>
                    <a:off x="323280" y="24674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762"/>
                <p:cNvGrpSpPr/>
                <p:nvPr/>
              </p:nvGrpSpPr>
              <p:grpSpPr>
                <a:xfrm>
                  <a:off x="522720" y="2461680"/>
                  <a:ext cx="160200" cy="6120"/>
                  <a:chOff x="522720" y="2461680"/>
                  <a:chExt cx="160200" cy="6120"/>
                </a:xfrm>
              </p:grpSpPr>
              <p:grpSp>
                <p:nvGrpSpPr>
                  <p:cNvPr id="1409" name="Group 763"/>
                  <p:cNvGrpSpPr/>
                  <p:nvPr/>
                </p:nvGrpSpPr>
                <p:grpSpPr>
                  <a:xfrm>
                    <a:off x="637560" y="2461680"/>
                    <a:ext cx="45360" cy="3600"/>
                    <a:chOff x="637560" y="2461680"/>
                    <a:chExt cx="45360" cy="3600"/>
                  </a:xfrm>
                </p:grpSpPr>
                <p:sp>
                  <p:nvSpPr>
                    <p:cNvPr id="1410" name="Oval 764"/>
                    <p:cNvSpPr/>
                    <p:nvPr/>
                  </p:nvSpPr>
                  <p:spPr>
                    <a:xfrm>
                      <a:off x="678600" y="246168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1" name="Oval 765"/>
                    <p:cNvSpPr/>
                    <p:nvPr/>
                  </p:nvSpPr>
                  <p:spPr>
                    <a:xfrm>
                      <a:off x="671400" y="246168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2" name="Oval 766"/>
                    <p:cNvSpPr/>
                    <p:nvPr/>
                  </p:nvSpPr>
                  <p:spPr>
                    <a:xfrm>
                      <a:off x="66456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3" name="Oval 767"/>
                    <p:cNvSpPr/>
                    <p:nvPr/>
                  </p:nvSpPr>
                  <p:spPr>
                    <a:xfrm>
                      <a:off x="65736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4" name="Oval 768"/>
                    <p:cNvSpPr/>
                    <p:nvPr/>
                  </p:nvSpPr>
                  <p:spPr>
                    <a:xfrm>
                      <a:off x="65052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Oval 769"/>
                    <p:cNvSpPr/>
                    <p:nvPr/>
                  </p:nvSpPr>
                  <p:spPr>
                    <a:xfrm>
                      <a:off x="644400" y="246168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6" name="Oval 770"/>
                    <p:cNvSpPr/>
                    <p:nvPr/>
                  </p:nvSpPr>
                  <p:spPr>
                    <a:xfrm>
                      <a:off x="63756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7" name="Group 771"/>
                  <p:cNvGrpSpPr/>
                  <p:nvPr/>
                </p:nvGrpSpPr>
                <p:grpSpPr>
                  <a:xfrm>
                    <a:off x="589680" y="2461680"/>
                    <a:ext cx="46440" cy="4680"/>
                    <a:chOff x="589680" y="2461680"/>
                    <a:chExt cx="46440" cy="4680"/>
                  </a:xfrm>
                </p:grpSpPr>
                <p:sp>
                  <p:nvSpPr>
                    <p:cNvPr id="1418" name="Oval 772"/>
                    <p:cNvSpPr/>
                    <p:nvPr/>
                  </p:nvSpPr>
                  <p:spPr>
                    <a:xfrm>
                      <a:off x="63036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9" name="Oval 773"/>
                    <p:cNvSpPr/>
                    <p:nvPr/>
                  </p:nvSpPr>
                  <p:spPr>
                    <a:xfrm>
                      <a:off x="62316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0" name="Oval 774"/>
                    <p:cNvSpPr/>
                    <p:nvPr/>
                  </p:nvSpPr>
                  <p:spPr>
                    <a:xfrm>
                      <a:off x="617400" y="246276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Oval 775"/>
                    <p:cNvSpPr/>
                    <p:nvPr/>
                  </p:nvSpPr>
                  <p:spPr>
                    <a:xfrm>
                      <a:off x="610560" y="246276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Oval 776"/>
                    <p:cNvSpPr/>
                    <p:nvPr/>
                  </p:nvSpPr>
                  <p:spPr>
                    <a:xfrm>
                      <a:off x="603360" y="246276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Oval 777"/>
                    <p:cNvSpPr/>
                    <p:nvPr/>
                  </p:nvSpPr>
                  <p:spPr>
                    <a:xfrm>
                      <a:off x="596520" y="246276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Oval 778"/>
                    <p:cNvSpPr/>
                    <p:nvPr/>
                  </p:nvSpPr>
                  <p:spPr>
                    <a:xfrm>
                      <a:off x="589680" y="2462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779"/>
                  <p:cNvGrpSpPr/>
                  <p:nvPr/>
                </p:nvGrpSpPr>
                <p:grpSpPr>
                  <a:xfrm>
                    <a:off x="522720" y="2462760"/>
                    <a:ext cx="46800" cy="5040"/>
                    <a:chOff x="522720" y="2462760"/>
                    <a:chExt cx="46800" cy="5040"/>
                  </a:xfrm>
                </p:grpSpPr>
                <p:sp>
                  <p:nvSpPr>
                    <p:cNvPr id="1426" name="Oval 780"/>
                    <p:cNvSpPr/>
                    <p:nvPr/>
                  </p:nvSpPr>
                  <p:spPr>
                    <a:xfrm>
                      <a:off x="563760" y="2462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Oval 781"/>
                    <p:cNvSpPr/>
                    <p:nvPr/>
                  </p:nvSpPr>
                  <p:spPr>
                    <a:xfrm>
                      <a:off x="556560" y="2462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8" name="Oval 782"/>
                    <p:cNvSpPr/>
                    <p:nvPr/>
                  </p:nvSpPr>
                  <p:spPr>
                    <a:xfrm>
                      <a:off x="549720" y="2462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Oval 783"/>
                    <p:cNvSpPr/>
                    <p:nvPr/>
                  </p:nvSpPr>
                  <p:spPr>
                    <a:xfrm>
                      <a:off x="543600" y="246276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Oval 784"/>
                    <p:cNvSpPr/>
                    <p:nvPr/>
                  </p:nvSpPr>
                  <p:spPr>
                    <a:xfrm>
                      <a:off x="536760" y="246384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1" name="Oval 785"/>
                    <p:cNvSpPr/>
                    <p:nvPr/>
                  </p:nvSpPr>
                  <p:spPr>
                    <a:xfrm>
                      <a:off x="522720" y="246384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32" name="Group 786"/>
                <p:cNvGrpSpPr/>
                <p:nvPr/>
              </p:nvGrpSpPr>
              <p:grpSpPr>
                <a:xfrm>
                  <a:off x="479520" y="2463840"/>
                  <a:ext cx="37080" cy="3600"/>
                  <a:chOff x="479520" y="2463840"/>
                  <a:chExt cx="37080" cy="3600"/>
                </a:xfrm>
              </p:grpSpPr>
              <p:sp>
                <p:nvSpPr>
                  <p:cNvPr id="1433" name="Oval 787"/>
                  <p:cNvSpPr/>
                  <p:nvPr/>
                </p:nvSpPr>
                <p:spPr>
                  <a:xfrm>
                    <a:off x="510840" y="2463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Oval 788"/>
                  <p:cNvSpPr/>
                  <p:nvPr/>
                </p:nvSpPr>
                <p:spPr>
                  <a:xfrm>
                    <a:off x="504000" y="2463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Oval 789"/>
                  <p:cNvSpPr/>
                  <p:nvPr/>
                </p:nvSpPr>
                <p:spPr>
                  <a:xfrm>
                    <a:off x="498240" y="2463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Oval 790"/>
                  <p:cNvSpPr/>
                  <p:nvPr/>
                </p:nvSpPr>
                <p:spPr>
                  <a:xfrm>
                    <a:off x="492480" y="2463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Oval 791"/>
                  <p:cNvSpPr/>
                  <p:nvPr/>
                </p:nvSpPr>
                <p:spPr>
                  <a:xfrm>
                    <a:off x="485280" y="2463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Oval 792"/>
                  <p:cNvSpPr/>
                  <p:nvPr/>
                </p:nvSpPr>
                <p:spPr>
                  <a:xfrm>
                    <a:off x="479520" y="2463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9" name="Group 793"/>
                <p:cNvGrpSpPr/>
                <p:nvPr/>
              </p:nvGrpSpPr>
              <p:grpSpPr>
                <a:xfrm>
                  <a:off x="285840" y="2467800"/>
                  <a:ext cx="36000" cy="3600"/>
                  <a:chOff x="285840" y="2467800"/>
                  <a:chExt cx="36000" cy="3600"/>
                </a:xfrm>
              </p:grpSpPr>
              <p:sp>
                <p:nvSpPr>
                  <p:cNvPr id="1440" name="Oval 794"/>
                  <p:cNvSpPr/>
                  <p:nvPr/>
                </p:nvSpPr>
                <p:spPr>
                  <a:xfrm>
                    <a:off x="317520" y="246780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Oval 795"/>
                  <p:cNvSpPr/>
                  <p:nvPr/>
                </p:nvSpPr>
                <p:spPr>
                  <a:xfrm>
                    <a:off x="310320" y="24678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Oval 796"/>
                  <p:cNvSpPr/>
                  <p:nvPr/>
                </p:nvSpPr>
                <p:spPr>
                  <a:xfrm>
                    <a:off x="304560" y="24678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Oval 797"/>
                  <p:cNvSpPr/>
                  <p:nvPr/>
                </p:nvSpPr>
                <p:spPr>
                  <a:xfrm>
                    <a:off x="297720" y="24678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Oval 798"/>
                  <p:cNvSpPr/>
                  <p:nvPr/>
                </p:nvSpPr>
                <p:spPr>
                  <a:xfrm>
                    <a:off x="291600" y="246780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Oval 799"/>
                  <p:cNvSpPr/>
                  <p:nvPr/>
                </p:nvSpPr>
                <p:spPr>
                  <a:xfrm>
                    <a:off x="285840" y="246780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46" name="Freeform 800"/>
            <p:cNvSpPr/>
            <p:nvPr/>
          </p:nvSpPr>
          <p:spPr>
            <a:xfrm>
              <a:off x="186120" y="2414880"/>
              <a:ext cx="567720" cy="76680"/>
            </a:xfrm>
            <a:custGeom>
              <a:avLst/>
              <a:gdLst>
                <a:gd name="textAreaLeft" fmla="*/ 0 w 567720"/>
                <a:gd name="textAreaRight" fmla="*/ 568080 w 567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7" name="Group 801"/>
            <p:cNvGrpSpPr/>
            <p:nvPr/>
          </p:nvGrpSpPr>
          <p:grpSpPr>
            <a:xfrm>
              <a:off x="725760" y="2461680"/>
              <a:ext cx="12600" cy="4680"/>
              <a:chOff x="725760" y="2461680"/>
              <a:chExt cx="12600" cy="4680"/>
            </a:xfrm>
          </p:grpSpPr>
          <p:sp>
            <p:nvSpPr>
              <p:cNvPr id="1448" name="Freeform 802"/>
              <p:cNvSpPr/>
              <p:nvPr/>
            </p:nvSpPr>
            <p:spPr>
              <a:xfrm>
                <a:off x="725760" y="246168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803"/>
              <p:cNvSpPr/>
              <p:nvPr/>
            </p:nvSpPr>
            <p:spPr>
              <a:xfrm>
                <a:off x="730440" y="24616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804"/>
              <p:cNvSpPr/>
              <p:nvPr/>
            </p:nvSpPr>
            <p:spPr>
              <a:xfrm>
                <a:off x="734760" y="2462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1" name="Arc 805"/>
            <p:cNvSpPr/>
            <p:nvPr/>
          </p:nvSpPr>
          <p:spPr>
            <a:xfrm>
              <a:off x="162360" y="246528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Freeform 806"/>
            <p:cNvSpPr/>
            <p:nvPr/>
          </p:nvSpPr>
          <p:spPr>
            <a:xfrm>
              <a:off x="451080" y="247644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3" name="Group 807"/>
            <p:cNvGrpSpPr/>
            <p:nvPr/>
          </p:nvGrpSpPr>
          <p:grpSpPr>
            <a:xfrm>
              <a:off x="375120" y="2475360"/>
              <a:ext cx="188640" cy="51120"/>
              <a:chOff x="375120" y="2475360"/>
              <a:chExt cx="188640" cy="51120"/>
            </a:xfrm>
          </p:grpSpPr>
          <p:grpSp>
            <p:nvGrpSpPr>
              <p:cNvPr id="1454" name="Group 808"/>
              <p:cNvGrpSpPr/>
              <p:nvPr/>
            </p:nvGrpSpPr>
            <p:grpSpPr>
              <a:xfrm>
                <a:off x="375120" y="2475360"/>
                <a:ext cx="188640" cy="29880"/>
                <a:chOff x="375120" y="2475360"/>
                <a:chExt cx="188640" cy="29880"/>
              </a:xfrm>
            </p:grpSpPr>
            <p:sp>
              <p:nvSpPr>
                <p:cNvPr id="1455" name="Freeform 809"/>
                <p:cNvSpPr/>
                <p:nvPr/>
              </p:nvSpPr>
              <p:spPr>
                <a:xfrm>
                  <a:off x="375120" y="247536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Freeform 810"/>
                <p:cNvSpPr/>
                <p:nvPr/>
              </p:nvSpPr>
              <p:spPr>
                <a:xfrm>
                  <a:off x="375120" y="248040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7" name="Group 811"/>
              <p:cNvGrpSpPr/>
              <p:nvPr/>
            </p:nvGrpSpPr>
            <p:grpSpPr>
              <a:xfrm>
                <a:off x="486360" y="2512800"/>
                <a:ext cx="49680" cy="13680"/>
                <a:chOff x="486360" y="2512800"/>
                <a:chExt cx="49680" cy="13680"/>
              </a:xfrm>
            </p:grpSpPr>
            <p:grpSp>
              <p:nvGrpSpPr>
                <p:cNvPr id="1458" name="Group 812"/>
                <p:cNvGrpSpPr/>
                <p:nvPr/>
              </p:nvGrpSpPr>
              <p:grpSpPr>
                <a:xfrm>
                  <a:off x="486360" y="2512800"/>
                  <a:ext cx="49680" cy="13680"/>
                  <a:chOff x="486360" y="2512800"/>
                  <a:chExt cx="49680" cy="13680"/>
                </a:xfrm>
              </p:grpSpPr>
              <p:grpSp>
                <p:nvGrpSpPr>
                  <p:cNvPr id="1459" name="Group 813"/>
                  <p:cNvGrpSpPr/>
                  <p:nvPr/>
                </p:nvGrpSpPr>
                <p:grpSpPr>
                  <a:xfrm>
                    <a:off x="486360" y="2512800"/>
                    <a:ext cx="4320" cy="12240"/>
                    <a:chOff x="486360" y="2512800"/>
                    <a:chExt cx="4320" cy="12240"/>
                  </a:xfrm>
                </p:grpSpPr>
                <p:sp>
                  <p:nvSpPr>
                    <p:cNvPr id="1460" name="Freeform 814"/>
                    <p:cNvSpPr/>
                    <p:nvPr/>
                  </p:nvSpPr>
                  <p:spPr>
                    <a:xfrm>
                      <a:off x="486360" y="251280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815"/>
                    <p:cNvSpPr/>
                    <p:nvPr/>
                  </p:nvSpPr>
                  <p:spPr>
                    <a:xfrm>
                      <a:off x="486360" y="251280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Freeform 816"/>
                    <p:cNvSpPr/>
                    <p:nvPr/>
                  </p:nvSpPr>
                  <p:spPr>
                    <a:xfrm>
                      <a:off x="486360" y="251892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3" name="Freeform 817"/>
                  <p:cNvSpPr/>
                  <p:nvPr/>
                </p:nvSpPr>
                <p:spPr>
                  <a:xfrm>
                    <a:off x="496440" y="251280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4" name="Freeform 818"/>
                <p:cNvSpPr/>
                <p:nvPr/>
              </p:nvSpPr>
              <p:spPr>
                <a:xfrm>
                  <a:off x="496440" y="251640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5" name="Group 819"/>
              <p:cNvGrpSpPr/>
              <p:nvPr/>
            </p:nvGrpSpPr>
            <p:grpSpPr>
              <a:xfrm>
                <a:off x="480240" y="2481480"/>
                <a:ext cx="70560" cy="32040"/>
                <a:chOff x="480240" y="2481480"/>
                <a:chExt cx="70560" cy="32040"/>
              </a:xfrm>
            </p:grpSpPr>
            <p:grpSp>
              <p:nvGrpSpPr>
                <p:cNvPr id="1466" name="Group 820"/>
                <p:cNvGrpSpPr/>
                <p:nvPr/>
              </p:nvGrpSpPr>
              <p:grpSpPr>
                <a:xfrm>
                  <a:off x="480240" y="2489040"/>
                  <a:ext cx="5760" cy="15840"/>
                  <a:chOff x="480240" y="2489040"/>
                  <a:chExt cx="5760" cy="15840"/>
                </a:xfrm>
              </p:grpSpPr>
              <p:sp>
                <p:nvSpPr>
                  <p:cNvPr id="1467" name="Freeform 821"/>
                  <p:cNvSpPr/>
                  <p:nvPr/>
                </p:nvSpPr>
                <p:spPr>
                  <a:xfrm>
                    <a:off x="480240" y="248904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Freeform 822"/>
                  <p:cNvSpPr/>
                  <p:nvPr/>
                </p:nvSpPr>
                <p:spPr>
                  <a:xfrm>
                    <a:off x="480240" y="249372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Freeform 823"/>
                  <p:cNvSpPr/>
                  <p:nvPr/>
                </p:nvSpPr>
                <p:spPr>
                  <a:xfrm>
                    <a:off x="480240" y="249120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Freeform 824"/>
                  <p:cNvSpPr/>
                  <p:nvPr/>
                </p:nvSpPr>
                <p:spPr>
                  <a:xfrm>
                    <a:off x="480240" y="250128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1" name="Group 825"/>
                <p:cNvGrpSpPr/>
                <p:nvPr/>
              </p:nvGrpSpPr>
              <p:grpSpPr>
                <a:xfrm>
                  <a:off x="492120" y="2481480"/>
                  <a:ext cx="58680" cy="32040"/>
                  <a:chOff x="492120" y="2481480"/>
                  <a:chExt cx="58680" cy="32040"/>
                </a:xfrm>
              </p:grpSpPr>
              <p:sp>
                <p:nvSpPr>
                  <p:cNvPr id="1472" name="Freeform 826"/>
                  <p:cNvSpPr/>
                  <p:nvPr/>
                </p:nvSpPr>
                <p:spPr>
                  <a:xfrm>
                    <a:off x="492120" y="248148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Freeform 827"/>
                  <p:cNvSpPr/>
                  <p:nvPr/>
                </p:nvSpPr>
                <p:spPr>
                  <a:xfrm>
                    <a:off x="493920" y="248760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4" name="Group 828"/>
                  <p:cNvGrpSpPr/>
                  <p:nvPr/>
                </p:nvGrpSpPr>
                <p:grpSpPr>
                  <a:xfrm>
                    <a:off x="516240" y="2487600"/>
                    <a:ext cx="34560" cy="25920"/>
                    <a:chOff x="516240" y="2487600"/>
                    <a:chExt cx="34560" cy="25920"/>
                  </a:xfrm>
                </p:grpSpPr>
                <p:sp>
                  <p:nvSpPr>
                    <p:cNvPr id="1475" name="Line 829"/>
                    <p:cNvSpPr/>
                    <p:nvPr/>
                  </p:nvSpPr>
                  <p:spPr>
                    <a:xfrm>
                      <a:off x="531360" y="248760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Line 830"/>
                    <p:cNvSpPr/>
                    <p:nvPr/>
                  </p:nvSpPr>
                  <p:spPr>
                    <a:xfrm flipH="1">
                      <a:off x="540720" y="248760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831"/>
                    <p:cNvSpPr/>
                    <p:nvPr/>
                  </p:nvSpPr>
                  <p:spPr>
                    <a:xfrm>
                      <a:off x="516240" y="248760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478" name="Group 832"/>
            <p:cNvGrpSpPr/>
            <p:nvPr/>
          </p:nvGrpSpPr>
          <p:grpSpPr>
            <a:xfrm>
              <a:off x="152280" y="2362320"/>
              <a:ext cx="341280" cy="133200"/>
              <a:chOff x="152280" y="2362320"/>
              <a:chExt cx="341280" cy="133200"/>
            </a:xfrm>
          </p:grpSpPr>
          <p:sp>
            <p:nvSpPr>
              <p:cNvPr id="1479" name="Freeform 833"/>
              <p:cNvSpPr/>
              <p:nvPr/>
            </p:nvSpPr>
            <p:spPr>
              <a:xfrm>
                <a:off x="168480" y="2362320"/>
                <a:ext cx="108000" cy="928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0" name="Group 834"/>
              <p:cNvGrpSpPr/>
              <p:nvPr/>
            </p:nvGrpSpPr>
            <p:grpSpPr>
              <a:xfrm>
                <a:off x="152280" y="2423880"/>
                <a:ext cx="341280" cy="71640"/>
                <a:chOff x="152280" y="2423880"/>
                <a:chExt cx="341280" cy="71640"/>
              </a:xfrm>
            </p:grpSpPr>
            <p:sp>
              <p:nvSpPr>
                <p:cNvPr id="1481" name="Freeform 835"/>
                <p:cNvSpPr/>
                <p:nvPr/>
              </p:nvSpPr>
              <p:spPr>
                <a:xfrm>
                  <a:off x="200160" y="2477880"/>
                  <a:ext cx="47880" cy="1764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2" name="Group 836"/>
                <p:cNvGrpSpPr/>
                <p:nvPr/>
              </p:nvGrpSpPr>
              <p:grpSpPr>
                <a:xfrm>
                  <a:off x="152280" y="2423880"/>
                  <a:ext cx="341280" cy="50040"/>
                  <a:chOff x="152280" y="2423880"/>
                  <a:chExt cx="341280" cy="50040"/>
                </a:xfrm>
              </p:grpSpPr>
              <p:sp>
                <p:nvSpPr>
                  <p:cNvPr id="1483" name="Freeform 837"/>
                  <p:cNvSpPr/>
                  <p:nvPr/>
                </p:nvSpPr>
                <p:spPr>
                  <a:xfrm>
                    <a:off x="152280" y="245268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Freeform 838"/>
                  <p:cNvSpPr/>
                  <p:nvPr/>
                </p:nvSpPr>
                <p:spPr>
                  <a:xfrm>
                    <a:off x="369360" y="2423880"/>
                    <a:ext cx="124200" cy="50040"/>
                  </a:xfrm>
                  <a:custGeom>
                    <a:avLst/>
                    <a:gdLst>
                      <a:gd name="textAreaLeft" fmla="*/ 0 w 124200"/>
                      <a:gd name="textAreaRight" fmla="*/ 124560 w 12420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5" name="Group 839"/>
                  <p:cNvGrpSpPr/>
                  <p:nvPr/>
                </p:nvGrpSpPr>
                <p:grpSpPr>
                  <a:xfrm>
                    <a:off x="388800" y="2451240"/>
                    <a:ext cx="56160" cy="17280"/>
                    <a:chOff x="388800" y="2451240"/>
                    <a:chExt cx="56160" cy="17280"/>
                  </a:xfrm>
                </p:grpSpPr>
                <p:grpSp>
                  <p:nvGrpSpPr>
                    <p:cNvPr id="1486" name="Group 840"/>
                    <p:cNvGrpSpPr/>
                    <p:nvPr/>
                  </p:nvGrpSpPr>
                  <p:grpSpPr>
                    <a:xfrm>
                      <a:off x="401760" y="2463480"/>
                      <a:ext cx="43200" cy="5040"/>
                      <a:chOff x="401760" y="2463480"/>
                      <a:chExt cx="43200" cy="5040"/>
                    </a:xfrm>
                  </p:grpSpPr>
                  <p:sp>
                    <p:nvSpPr>
                      <p:cNvPr id="1487" name="Freeform 841"/>
                      <p:cNvSpPr/>
                      <p:nvPr/>
                    </p:nvSpPr>
                    <p:spPr>
                      <a:xfrm>
                        <a:off x="401760" y="246348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Freeform 842"/>
                      <p:cNvSpPr/>
                      <p:nvPr/>
                    </p:nvSpPr>
                    <p:spPr>
                      <a:xfrm>
                        <a:off x="414720" y="246348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89" name="Group 843"/>
                    <p:cNvGrpSpPr/>
                    <p:nvPr/>
                  </p:nvGrpSpPr>
                  <p:grpSpPr>
                    <a:xfrm>
                      <a:off x="388800" y="2451240"/>
                      <a:ext cx="31680" cy="5040"/>
                      <a:chOff x="388800" y="2451240"/>
                      <a:chExt cx="31680" cy="5040"/>
                    </a:xfrm>
                  </p:grpSpPr>
                  <p:sp>
                    <p:nvSpPr>
                      <p:cNvPr id="1490" name="Freeform 844"/>
                      <p:cNvSpPr/>
                      <p:nvPr/>
                    </p:nvSpPr>
                    <p:spPr>
                      <a:xfrm>
                        <a:off x="388800" y="245124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Freeform 845"/>
                      <p:cNvSpPr/>
                      <p:nvPr/>
                    </p:nvSpPr>
                    <p:spPr>
                      <a:xfrm>
                        <a:off x="401760" y="245124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492" name="Group 745"/>
          <p:cNvGrpSpPr/>
          <p:nvPr/>
        </p:nvGrpSpPr>
        <p:grpSpPr>
          <a:xfrm>
            <a:off x="228600" y="685800"/>
            <a:ext cx="601560" cy="164520"/>
            <a:chOff x="228600" y="685800"/>
            <a:chExt cx="601560" cy="164520"/>
          </a:xfrm>
        </p:grpSpPr>
        <p:grpSp>
          <p:nvGrpSpPr>
            <p:cNvPr id="1493" name="Group 746"/>
            <p:cNvGrpSpPr/>
            <p:nvPr/>
          </p:nvGrpSpPr>
          <p:grpSpPr>
            <a:xfrm>
              <a:off x="244800" y="685800"/>
              <a:ext cx="585360" cy="142200"/>
              <a:chOff x="244800" y="685800"/>
              <a:chExt cx="585360" cy="142200"/>
            </a:xfrm>
          </p:grpSpPr>
          <p:sp>
            <p:nvSpPr>
              <p:cNvPr id="1494" name="Freeform 747"/>
              <p:cNvSpPr/>
              <p:nvPr/>
            </p:nvSpPr>
            <p:spPr>
              <a:xfrm>
                <a:off x="244800" y="685800"/>
                <a:ext cx="585360" cy="14220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95" name="Group 748"/>
              <p:cNvGrpSpPr/>
              <p:nvPr/>
            </p:nvGrpSpPr>
            <p:grpSpPr>
              <a:xfrm>
                <a:off x="348120" y="781200"/>
                <a:ext cx="436680" cy="26280"/>
                <a:chOff x="348120" y="781200"/>
                <a:chExt cx="436680" cy="26280"/>
              </a:xfrm>
            </p:grpSpPr>
            <p:sp>
              <p:nvSpPr>
                <p:cNvPr id="1496" name="Freeform 749"/>
                <p:cNvSpPr/>
                <p:nvPr/>
              </p:nvSpPr>
              <p:spPr>
                <a:xfrm>
                  <a:off x="773280" y="78120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7" name="Freeform 750"/>
                <p:cNvSpPr/>
                <p:nvPr/>
              </p:nvSpPr>
              <p:spPr>
                <a:xfrm>
                  <a:off x="655200" y="78228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8" name="Freeform 751"/>
                <p:cNvSpPr/>
                <p:nvPr/>
              </p:nvSpPr>
              <p:spPr>
                <a:xfrm>
                  <a:off x="453240" y="78372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9" name="Freeform 752"/>
                <p:cNvSpPr/>
                <p:nvPr/>
              </p:nvSpPr>
              <p:spPr>
                <a:xfrm>
                  <a:off x="348120" y="78516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0" name="Group 753"/>
              <p:cNvGrpSpPr/>
              <p:nvPr/>
            </p:nvGrpSpPr>
            <p:grpSpPr>
              <a:xfrm>
                <a:off x="361800" y="785160"/>
                <a:ext cx="397080" cy="9720"/>
                <a:chOff x="361800" y="785160"/>
                <a:chExt cx="397080" cy="9720"/>
              </a:xfrm>
            </p:grpSpPr>
            <p:grpSp>
              <p:nvGrpSpPr>
                <p:cNvPr id="1501" name="Group 754"/>
                <p:cNvGrpSpPr/>
                <p:nvPr/>
              </p:nvGrpSpPr>
              <p:grpSpPr>
                <a:xfrm>
                  <a:off x="399240" y="789840"/>
                  <a:ext cx="44280" cy="3600"/>
                  <a:chOff x="399240" y="789840"/>
                  <a:chExt cx="44280" cy="3600"/>
                </a:xfrm>
              </p:grpSpPr>
              <p:sp>
                <p:nvSpPr>
                  <p:cNvPr id="1502" name="Oval 755"/>
                  <p:cNvSpPr/>
                  <p:nvPr/>
                </p:nvSpPr>
                <p:spPr>
                  <a:xfrm>
                    <a:off x="437760" y="789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Oval 756"/>
                  <p:cNvSpPr/>
                  <p:nvPr/>
                </p:nvSpPr>
                <p:spPr>
                  <a:xfrm>
                    <a:off x="431640" y="789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Oval 757"/>
                  <p:cNvSpPr/>
                  <p:nvPr/>
                </p:nvSpPr>
                <p:spPr>
                  <a:xfrm>
                    <a:off x="425880" y="789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Oval 758"/>
                  <p:cNvSpPr/>
                  <p:nvPr/>
                </p:nvSpPr>
                <p:spPr>
                  <a:xfrm>
                    <a:off x="419040" y="789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Oval 759"/>
                  <p:cNvSpPr/>
                  <p:nvPr/>
                </p:nvSpPr>
                <p:spPr>
                  <a:xfrm>
                    <a:off x="412920" y="78984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Oval 760"/>
                  <p:cNvSpPr/>
                  <p:nvPr/>
                </p:nvSpPr>
                <p:spPr>
                  <a:xfrm>
                    <a:off x="406080" y="7909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Oval 761"/>
                  <p:cNvSpPr/>
                  <p:nvPr/>
                </p:nvSpPr>
                <p:spPr>
                  <a:xfrm>
                    <a:off x="399240" y="7909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9" name="Group 762"/>
                <p:cNvGrpSpPr/>
                <p:nvPr/>
              </p:nvGrpSpPr>
              <p:grpSpPr>
                <a:xfrm>
                  <a:off x="598680" y="785160"/>
                  <a:ext cx="160200" cy="6120"/>
                  <a:chOff x="598680" y="785160"/>
                  <a:chExt cx="160200" cy="6120"/>
                </a:xfrm>
              </p:grpSpPr>
              <p:grpSp>
                <p:nvGrpSpPr>
                  <p:cNvPr id="1510" name="Group 763"/>
                  <p:cNvGrpSpPr/>
                  <p:nvPr/>
                </p:nvGrpSpPr>
                <p:grpSpPr>
                  <a:xfrm>
                    <a:off x="713520" y="785160"/>
                    <a:ext cx="45360" cy="3600"/>
                    <a:chOff x="713520" y="785160"/>
                    <a:chExt cx="45360" cy="3600"/>
                  </a:xfrm>
                </p:grpSpPr>
                <p:sp>
                  <p:nvSpPr>
                    <p:cNvPr id="1511" name="Oval 764"/>
                    <p:cNvSpPr/>
                    <p:nvPr/>
                  </p:nvSpPr>
                  <p:spPr>
                    <a:xfrm>
                      <a:off x="754560" y="78516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2" name="Oval 765"/>
                    <p:cNvSpPr/>
                    <p:nvPr/>
                  </p:nvSpPr>
                  <p:spPr>
                    <a:xfrm>
                      <a:off x="747360" y="78516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3" name="Oval 766"/>
                    <p:cNvSpPr/>
                    <p:nvPr/>
                  </p:nvSpPr>
                  <p:spPr>
                    <a:xfrm>
                      <a:off x="7405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Oval 767"/>
                    <p:cNvSpPr/>
                    <p:nvPr/>
                  </p:nvSpPr>
                  <p:spPr>
                    <a:xfrm>
                      <a:off x="7333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5" name="Oval 768"/>
                    <p:cNvSpPr/>
                    <p:nvPr/>
                  </p:nvSpPr>
                  <p:spPr>
                    <a:xfrm>
                      <a:off x="72648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6" name="Oval 769"/>
                    <p:cNvSpPr/>
                    <p:nvPr/>
                  </p:nvSpPr>
                  <p:spPr>
                    <a:xfrm>
                      <a:off x="720360" y="78516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Oval 770"/>
                    <p:cNvSpPr/>
                    <p:nvPr/>
                  </p:nvSpPr>
                  <p:spPr>
                    <a:xfrm>
                      <a:off x="7135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771"/>
                  <p:cNvGrpSpPr/>
                  <p:nvPr/>
                </p:nvGrpSpPr>
                <p:grpSpPr>
                  <a:xfrm>
                    <a:off x="665640" y="785160"/>
                    <a:ext cx="46440" cy="4680"/>
                    <a:chOff x="665640" y="785160"/>
                    <a:chExt cx="46440" cy="4680"/>
                  </a:xfrm>
                </p:grpSpPr>
                <p:sp>
                  <p:nvSpPr>
                    <p:cNvPr id="1519" name="Oval 772"/>
                    <p:cNvSpPr/>
                    <p:nvPr/>
                  </p:nvSpPr>
                  <p:spPr>
                    <a:xfrm>
                      <a:off x="7063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Oval 773"/>
                    <p:cNvSpPr/>
                    <p:nvPr/>
                  </p:nvSpPr>
                  <p:spPr>
                    <a:xfrm>
                      <a:off x="6991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Oval 774"/>
                    <p:cNvSpPr/>
                    <p:nvPr/>
                  </p:nvSpPr>
                  <p:spPr>
                    <a:xfrm>
                      <a:off x="693360" y="78624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Oval 775"/>
                    <p:cNvSpPr/>
                    <p:nvPr/>
                  </p:nvSpPr>
                  <p:spPr>
                    <a:xfrm>
                      <a:off x="686520" y="78624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776"/>
                    <p:cNvSpPr/>
                    <p:nvPr/>
                  </p:nvSpPr>
                  <p:spPr>
                    <a:xfrm>
                      <a:off x="679320" y="78624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Oval 777"/>
                    <p:cNvSpPr/>
                    <p:nvPr/>
                  </p:nvSpPr>
                  <p:spPr>
                    <a:xfrm>
                      <a:off x="672480" y="78624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Oval 778"/>
                    <p:cNvSpPr/>
                    <p:nvPr/>
                  </p:nvSpPr>
                  <p:spPr>
                    <a:xfrm>
                      <a:off x="665640" y="786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6" name="Group 779"/>
                  <p:cNvGrpSpPr/>
                  <p:nvPr/>
                </p:nvGrpSpPr>
                <p:grpSpPr>
                  <a:xfrm>
                    <a:off x="598680" y="786240"/>
                    <a:ext cx="46800" cy="5040"/>
                    <a:chOff x="598680" y="786240"/>
                    <a:chExt cx="46800" cy="5040"/>
                  </a:xfrm>
                </p:grpSpPr>
                <p:sp>
                  <p:nvSpPr>
                    <p:cNvPr id="1527" name="Oval 780"/>
                    <p:cNvSpPr/>
                    <p:nvPr/>
                  </p:nvSpPr>
                  <p:spPr>
                    <a:xfrm>
                      <a:off x="639720" y="786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Oval 781"/>
                    <p:cNvSpPr/>
                    <p:nvPr/>
                  </p:nvSpPr>
                  <p:spPr>
                    <a:xfrm>
                      <a:off x="632520" y="786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Oval 782"/>
                    <p:cNvSpPr/>
                    <p:nvPr/>
                  </p:nvSpPr>
                  <p:spPr>
                    <a:xfrm>
                      <a:off x="625680" y="786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783"/>
                    <p:cNvSpPr/>
                    <p:nvPr/>
                  </p:nvSpPr>
                  <p:spPr>
                    <a:xfrm>
                      <a:off x="619560" y="78624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Oval 784"/>
                    <p:cNvSpPr/>
                    <p:nvPr/>
                  </p:nvSpPr>
                  <p:spPr>
                    <a:xfrm>
                      <a:off x="612720" y="78732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Oval 785"/>
                    <p:cNvSpPr/>
                    <p:nvPr/>
                  </p:nvSpPr>
                  <p:spPr>
                    <a:xfrm>
                      <a:off x="598680" y="78732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33" name="Group 786"/>
                <p:cNvGrpSpPr/>
                <p:nvPr/>
              </p:nvGrpSpPr>
              <p:grpSpPr>
                <a:xfrm>
                  <a:off x="555120" y="787320"/>
                  <a:ext cx="37080" cy="3600"/>
                  <a:chOff x="555120" y="787320"/>
                  <a:chExt cx="37080" cy="3600"/>
                </a:xfrm>
              </p:grpSpPr>
              <p:sp>
                <p:nvSpPr>
                  <p:cNvPr id="1534" name="Oval 787"/>
                  <p:cNvSpPr/>
                  <p:nvPr/>
                </p:nvSpPr>
                <p:spPr>
                  <a:xfrm>
                    <a:off x="586440" y="7873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Oval 788"/>
                  <p:cNvSpPr/>
                  <p:nvPr/>
                </p:nvSpPr>
                <p:spPr>
                  <a:xfrm>
                    <a:off x="579600" y="7873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Oval 789"/>
                  <p:cNvSpPr/>
                  <p:nvPr/>
                </p:nvSpPr>
                <p:spPr>
                  <a:xfrm>
                    <a:off x="573840" y="7873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Oval 790"/>
                  <p:cNvSpPr/>
                  <p:nvPr/>
                </p:nvSpPr>
                <p:spPr>
                  <a:xfrm>
                    <a:off x="568080" y="7873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Oval 791"/>
                  <p:cNvSpPr/>
                  <p:nvPr/>
                </p:nvSpPr>
                <p:spPr>
                  <a:xfrm>
                    <a:off x="560880" y="7873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Oval 792"/>
                  <p:cNvSpPr/>
                  <p:nvPr/>
                </p:nvSpPr>
                <p:spPr>
                  <a:xfrm>
                    <a:off x="555120" y="7873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Group 793"/>
                <p:cNvGrpSpPr/>
                <p:nvPr/>
              </p:nvGrpSpPr>
              <p:grpSpPr>
                <a:xfrm>
                  <a:off x="361800" y="791280"/>
                  <a:ext cx="36000" cy="3600"/>
                  <a:chOff x="361800" y="791280"/>
                  <a:chExt cx="36000" cy="3600"/>
                </a:xfrm>
              </p:grpSpPr>
              <p:sp>
                <p:nvSpPr>
                  <p:cNvPr id="1541" name="Oval 794"/>
                  <p:cNvSpPr/>
                  <p:nvPr/>
                </p:nvSpPr>
                <p:spPr>
                  <a:xfrm>
                    <a:off x="393480" y="79128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Oval 795"/>
                  <p:cNvSpPr/>
                  <p:nvPr/>
                </p:nvSpPr>
                <p:spPr>
                  <a:xfrm>
                    <a:off x="386280" y="79128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Oval 796"/>
                  <p:cNvSpPr/>
                  <p:nvPr/>
                </p:nvSpPr>
                <p:spPr>
                  <a:xfrm>
                    <a:off x="380520" y="79128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Oval 797"/>
                  <p:cNvSpPr/>
                  <p:nvPr/>
                </p:nvSpPr>
                <p:spPr>
                  <a:xfrm>
                    <a:off x="373680" y="79128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Oval 798"/>
                  <p:cNvSpPr/>
                  <p:nvPr/>
                </p:nvSpPr>
                <p:spPr>
                  <a:xfrm>
                    <a:off x="367560" y="79128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Oval 799"/>
                  <p:cNvSpPr/>
                  <p:nvPr/>
                </p:nvSpPr>
                <p:spPr>
                  <a:xfrm>
                    <a:off x="361800" y="79128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47" name="Freeform 800"/>
            <p:cNvSpPr/>
            <p:nvPr/>
          </p:nvSpPr>
          <p:spPr>
            <a:xfrm>
              <a:off x="262440" y="738360"/>
              <a:ext cx="567360" cy="7668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8" name="Group 801"/>
            <p:cNvGrpSpPr/>
            <p:nvPr/>
          </p:nvGrpSpPr>
          <p:grpSpPr>
            <a:xfrm>
              <a:off x="801720" y="785520"/>
              <a:ext cx="12600" cy="4680"/>
              <a:chOff x="801720" y="785520"/>
              <a:chExt cx="12600" cy="4680"/>
            </a:xfrm>
          </p:grpSpPr>
          <p:sp>
            <p:nvSpPr>
              <p:cNvPr id="1549" name="Freeform 802"/>
              <p:cNvSpPr/>
              <p:nvPr/>
            </p:nvSpPr>
            <p:spPr>
              <a:xfrm>
                <a:off x="801720" y="78552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803"/>
              <p:cNvSpPr/>
              <p:nvPr/>
            </p:nvSpPr>
            <p:spPr>
              <a:xfrm>
                <a:off x="806400" y="78552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804"/>
              <p:cNvSpPr/>
              <p:nvPr/>
            </p:nvSpPr>
            <p:spPr>
              <a:xfrm>
                <a:off x="810720" y="7866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2" name="Arc 805"/>
            <p:cNvSpPr/>
            <p:nvPr/>
          </p:nvSpPr>
          <p:spPr>
            <a:xfrm>
              <a:off x="238680" y="78912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Freeform 806"/>
            <p:cNvSpPr/>
            <p:nvPr/>
          </p:nvSpPr>
          <p:spPr>
            <a:xfrm>
              <a:off x="527400" y="80028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4" name="Group 807"/>
            <p:cNvGrpSpPr/>
            <p:nvPr/>
          </p:nvGrpSpPr>
          <p:grpSpPr>
            <a:xfrm>
              <a:off x="451440" y="799200"/>
              <a:ext cx="188640" cy="51120"/>
              <a:chOff x="451440" y="799200"/>
              <a:chExt cx="188640" cy="51120"/>
            </a:xfrm>
          </p:grpSpPr>
          <p:grpSp>
            <p:nvGrpSpPr>
              <p:cNvPr id="1555" name="Group 808"/>
              <p:cNvGrpSpPr/>
              <p:nvPr/>
            </p:nvGrpSpPr>
            <p:grpSpPr>
              <a:xfrm>
                <a:off x="451440" y="799200"/>
                <a:ext cx="188640" cy="29880"/>
                <a:chOff x="451440" y="799200"/>
                <a:chExt cx="188640" cy="29880"/>
              </a:xfrm>
            </p:grpSpPr>
            <p:sp>
              <p:nvSpPr>
                <p:cNvPr id="1556" name="Freeform 809"/>
                <p:cNvSpPr/>
                <p:nvPr/>
              </p:nvSpPr>
              <p:spPr>
                <a:xfrm>
                  <a:off x="451440" y="79920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810"/>
                <p:cNvSpPr/>
                <p:nvPr/>
              </p:nvSpPr>
              <p:spPr>
                <a:xfrm>
                  <a:off x="451440" y="80424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8" name="Group 811"/>
              <p:cNvGrpSpPr/>
              <p:nvPr/>
            </p:nvGrpSpPr>
            <p:grpSpPr>
              <a:xfrm>
                <a:off x="562680" y="836640"/>
                <a:ext cx="49680" cy="13680"/>
                <a:chOff x="562680" y="836640"/>
                <a:chExt cx="49680" cy="13680"/>
              </a:xfrm>
            </p:grpSpPr>
            <p:grpSp>
              <p:nvGrpSpPr>
                <p:cNvPr id="1559" name="Group 812"/>
                <p:cNvGrpSpPr/>
                <p:nvPr/>
              </p:nvGrpSpPr>
              <p:grpSpPr>
                <a:xfrm>
                  <a:off x="562680" y="836640"/>
                  <a:ext cx="49680" cy="13680"/>
                  <a:chOff x="562680" y="836640"/>
                  <a:chExt cx="49680" cy="13680"/>
                </a:xfrm>
              </p:grpSpPr>
              <p:grpSp>
                <p:nvGrpSpPr>
                  <p:cNvPr id="1560" name="Group 813"/>
                  <p:cNvGrpSpPr/>
                  <p:nvPr/>
                </p:nvGrpSpPr>
                <p:grpSpPr>
                  <a:xfrm>
                    <a:off x="562680" y="836640"/>
                    <a:ext cx="4320" cy="12240"/>
                    <a:chOff x="562680" y="836640"/>
                    <a:chExt cx="4320" cy="12240"/>
                  </a:xfrm>
                </p:grpSpPr>
                <p:sp>
                  <p:nvSpPr>
                    <p:cNvPr id="1561" name="Freeform 814"/>
                    <p:cNvSpPr/>
                    <p:nvPr/>
                  </p:nvSpPr>
                  <p:spPr>
                    <a:xfrm>
                      <a:off x="562680" y="83664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815"/>
                    <p:cNvSpPr/>
                    <p:nvPr/>
                  </p:nvSpPr>
                  <p:spPr>
                    <a:xfrm>
                      <a:off x="562680" y="83664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Freeform 816"/>
                    <p:cNvSpPr/>
                    <p:nvPr/>
                  </p:nvSpPr>
                  <p:spPr>
                    <a:xfrm>
                      <a:off x="562680" y="84276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4" name="Freeform 817"/>
                  <p:cNvSpPr/>
                  <p:nvPr/>
                </p:nvSpPr>
                <p:spPr>
                  <a:xfrm>
                    <a:off x="572760" y="83664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5" name="Freeform 818"/>
                <p:cNvSpPr/>
                <p:nvPr/>
              </p:nvSpPr>
              <p:spPr>
                <a:xfrm>
                  <a:off x="572760" y="84024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6" name="Group 819"/>
              <p:cNvGrpSpPr/>
              <p:nvPr/>
            </p:nvGrpSpPr>
            <p:grpSpPr>
              <a:xfrm>
                <a:off x="556560" y="805320"/>
                <a:ext cx="70560" cy="32040"/>
                <a:chOff x="556560" y="805320"/>
                <a:chExt cx="70560" cy="32040"/>
              </a:xfrm>
            </p:grpSpPr>
            <p:grpSp>
              <p:nvGrpSpPr>
                <p:cNvPr id="1567" name="Group 820"/>
                <p:cNvGrpSpPr/>
                <p:nvPr/>
              </p:nvGrpSpPr>
              <p:grpSpPr>
                <a:xfrm>
                  <a:off x="556560" y="812880"/>
                  <a:ext cx="5760" cy="15840"/>
                  <a:chOff x="556560" y="812880"/>
                  <a:chExt cx="5760" cy="15840"/>
                </a:xfrm>
              </p:grpSpPr>
              <p:sp>
                <p:nvSpPr>
                  <p:cNvPr id="1568" name="Freeform 821"/>
                  <p:cNvSpPr/>
                  <p:nvPr/>
                </p:nvSpPr>
                <p:spPr>
                  <a:xfrm>
                    <a:off x="556560" y="81288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Freeform 822"/>
                  <p:cNvSpPr/>
                  <p:nvPr/>
                </p:nvSpPr>
                <p:spPr>
                  <a:xfrm>
                    <a:off x="556560" y="81756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Freeform 823"/>
                  <p:cNvSpPr/>
                  <p:nvPr/>
                </p:nvSpPr>
                <p:spPr>
                  <a:xfrm>
                    <a:off x="556560" y="81504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Freeform 824"/>
                  <p:cNvSpPr/>
                  <p:nvPr/>
                </p:nvSpPr>
                <p:spPr>
                  <a:xfrm>
                    <a:off x="556560" y="82512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2" name="Group 825"/>
                <p:cNvGrpSpPr/>
                <p:nvPr/>
              </p:nvGrpSpPr>
              <p:grpSpPr>
                <a:xfrm>
                  <a:off x="568440" y="805320"/>
                  <a:ext cx="58680" cy="32040"/>
                  <a:chOff x="568440" y="805320"/>
                  <a:chExt cx="58680" cy="32040"/>
                </a:xfrm>
              </p:grpSpPr>
              <p:sp>
                <p:nvSpPr>
                  <p:cNvPr id="1573" name="Freeform 826"/>
                  <p:cNvSpPr/>
                  <p:nvPr/>
                </p:nvSpPr>
                <p:spPr>
                  <a:xfrm>
                    <a:off x="568440" y="80532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Freeform 827"/>
                  <p:cNvSpPr/>
                  <p:nvPr/>
                </p:nvSpPr>
                <p:spPr>
                  <a:xfrm>
                    <a:off x="570240" y="81144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75" name="Group 828"/>
                  <p:cNvGrpSpPr/>
                  <p:nvPr/>
                </p:nvGrpSpPr>
                <p:grpSpPr>
                  <a:xfrm>
                    <a:off x="592560" y="811440"/>
                    <a:ext cx="34560" cy="25920"/>
                    <a:chOff x="592560" y="811440"/>
                    <a:chExt cx="34560" cy="25920"/>
                  </a:xfrm>
                </p:grpSpPr>
                <p:sp>
                  <p:nvSpPr>
                    <p:cNvPr id="1576" name="Line 829"/>
                    <p:cNvSpPr/>
                    <p:nvPr/>
                  </p:nvSpPr>
                  <p:spPr>
                    <a:xfrm>
                      <a:off x="607680" y="81144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7" name="Line 830"/>
                    <p:cNvSpPr/>
                    <p:nvPr/>
                  </p:nvSpPr>
                  <p:spPr>
                    <a:xfrm flipH="1">
                      <a:off x="617040" y="81144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Line 831"/>
                    <p:cNvSpPr/>
                    <p:nvPr/>
                  </p:nvSpPr>
                  <p:spPr>
                    <a:xfrm>
                      <a:off x="592560" y="81144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79" name="Group 832"/>
            <p:cNvGrpSpPr/>
            <p:nvPr/>
          </p:nvGrpSpPr>
          <p:grpSpPr>
            <a:xfrm>
              <a:off x="228600" y="685800"/>
              <a:ext cx="340560" cy="133200"/>
              <a:chOff x="228600" y="685800"/>
              <a:chExt cx="340560" cy="133200"/>
            </a:xfrm>
          </p:grpSpPr>
          <p:sp>
            <p:nvSpPr>
              <p:cNvPr id="1580" name="Freeform 833"/>
              <p:cNvSpPr/>
              <p:nvPr/>
            </p:nvSpPr>
            <p:spPr>
              <a:xfrm>
                <a:off x="244800" y="685800"/>
                <a:ext cx="107640" cy="92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1" name="Group 834"/>
              <p:cNvGrpSpPr/>
              <p:nvPr/>
            </p:nvGrpSpPr>
            <p:grpSpPr>
              <a:xfrm>
                <a:off x="228600" y="747360"/>
                <a:ext cx="340560" cy="71640"/>
                <a:chOff x="228600" y="747360"/>
                <a:chExt cx="340560" cy="71640"/>
              </a:xfrm>
            </p:grpSpPr>
            <p:sp>
              <p:nvSpPr>
                <p:cNvPr id="1582" name="Freeform 835"/>
                <p:cNvSpPr/>
                <p:nvPr/>
              </p:nvSpPr>
              <p:spPr>
                <a:xfrm>
                  <a:off x="276480" y="801360"/>
                  <a:ext cx="47520" cy="17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Group 836"/>
                <p:cNvGrpSpPr/>
                <p:nvPr/>
              </p:nvGrpSpPr>
              <p:grpSpPr>
                <a:xfrm>
                  <a:off x="228600" y="747360"/>
                  <a:ext cx="340560" cy="50040"/>
                  <a:chOff x="228600" y="747360"/>
                  <a:chExt cx="340560" cy="50040"/>
                </a:xfrm>
              </p:grpSpPr>
              <p:sp>
                <p:nvSpPr>
                  <p:cNvPr id="1584" name="Freeform 837"/>
                  <p:cNvSpPr/>
                  <p:nvPr/>
                </p:nvSpPr>
                <p:spPr>
                  <a:xfrm>
                    <a:off x="228600" y="77616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838"/>
                  <p:cNvSpPr/>
                  <p:nvPr/>
                </p:nvSpPr>
                <p:spPr>
                  <a:xfrm>
                    <a:off x="445320" y="747360"/>
                    <a:ext cx="123840" cy="5004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839"/>
                  <p:cNvGrpSpPr/>
                  <p:nvPr/>
                </p:nvGrpSpPr>
                <p:grpSpPr>
                  <a:xfrm>
                    <a:off x="465120" y="774720"/>
                    <a:ext cx="56160" cy="17280"/>
                    <a:chOff x="465120" y="774720"/>
                    <a:chExt cx="56160" cy="17280"/>
                  </a:xfrm>
                </p:grpSpPr>
                <p:grpSp>
                  <p:nvGrpSpPr>
                    <p:cNvPr id="1587" name="Group 840"/>
                    <p:cNvGrpSpPr/>
                    <p:nvPr/>
                  </p:nvGrpSpPr>
                  <p:grpSpPr>
                    <a:xfrm>
                      <a:off x="478080" y="786960"/>
                      <a:ext cx="43200" cy="5040"/>
                      <a:chOff x="478080" y="786960"/>
                      <a:chExt cx="43200" cy="5040"/>
                    </a:xfrm>
                  </p:grpSpPr>
                  <p:sp>
                    <p:nvSpPr>
                      <p:cNvPr id="1588" name="Freeform 841"/>
                      <p:cNvSpPr/>
                      <p:nvPr/>
                    </p:nvSpPr>
                    <p:spPr>
                      <a:xfrm>
                        <a:off x="478080" y="78696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99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Freeform 842"/>
                      <p:cNvSpPr/>
                      <p:nvPr/>
                    </p:nvSpPr>
                    <p:spPr>
                      <a:xfrm>
                        <a:off x="491040" y="78696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99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3"/>
                    <p:cNvGrpSpPr/>
                    <p:nvPr/>
                  </p:nvGrpSpPr>
                  <p:grpSpPr>
                    <a:xfrm>
                      <a:off x="465120" y="774720"/>
                      <a:ext cx="31680" cy="5040"/>
                      <a:chOff x="465120" y="774720"/>
                      <a:chExt cx="31680" cy="5040"/>
                    </a:xfrm>
                  </p:grpSpPr>
                  <p:sp>
                    <p:nvSpPr>
                      <p:cNvPr id="1591" name="Freeform 844"/>
                      <p:cNvSpPr/>
                      <p:nvPr/>
                    </p:nvSpPr>
                    <p:spPr>
                      <a:xfrm>
                        <a:off x="465120" y="77472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99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45"/>
                      <p:cNvSpPr/>
                      <p:nvPr/>
                    </p:nvSpPr>
                    <p:spPr>
                      <a:xfrm>
                        <a:off x="478080" y="77472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99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593" name="TextBox 3497"/>
          <p:cNvSpPr/>
          <p:nvPr/>
        </p:nvSpPr>
        <p:spPr>
          <a:xfrm>
            <a:off x="1066680" y="5486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910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TextBox 3501"/>
          <p:cNvSpPr/>
          <p:nvPr/>
        </p:nvSpPr>
        <p:spPr>
          <a:xfrm>
            <a:off x="1981080" y="137160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1160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TextBox 3502"/>
          <p:cNvSpPr/>
          <p:nvPr/>
        </p:nvSpPr>
        <p:spPr>
          <a:xfrm>
            <a:off x="2057400" y="3048120"/>
            <a:ext cx="9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1060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TextBox 3503"/>
          <p:cNvSpPr/>
          <p:nvPr/>
        </p:nvSpPr>
        <p:spPr>
          <a:xfrm>
            <a:off x="1981080" y="4648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960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TextBox 3505"/>
          <p:cNvSpPr/>
          <p:nvPr/>
        </p:nvSpPr>
        <p:spPr>
          <a:xfrm>
            <a:off x="1066680" y="220968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1110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TextBox 3506"/>
          <p:cNvSpPr/>
          <p:nvPr/>
        </p:nvSpPr>
        <p:spPr>
          <a:xfrm>
            <a:off x="990720" y="3809880"/>
            <a:ext cx="9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1010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Box 3508"/>
          <p:cNvSpPr/>
          <p:nvPr/>
        </p:nvSpPr>
        <p:spPr>
          <a:xfrm>
            <a:off x="1066680" y="53352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1210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0" name="Прямая со стрелкой 4239"/>
          <p:cNvCxnSpPr/>
          <p:nvPr/>
        </p:nvCxnSpPr>
        <p:spPr>
          <a:xfrm>
            <a:off x="5333760" y="167616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01" name="Прямая со стрелкой 4240"/>
          <p:cNvCxnSpPr/>
          <p:nvPr/>
        </p:nvCxnSpPr>
        <p:spPr>
          <a:xfrm>
            <a:off x="5333760" y="251424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02" name="Прямая со стрелкой 4241"/>
          <p:cNvCxnSpPr/>
          <p:nvPr/>
        </p:nvCxnSpPr>
        <p:spPr>
          <a:xfrm>
            <a:off x="5333760" y="335232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03" name="Прямая со стрелкой 4242"/>
          <p:cNvCxnSpPr/>
          <p:nvPr/>
        </p:nvCxnSpPr>
        <p:spPr>
          <a:xfrm>
            <a:off x="5333760" y="419076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04" name="Прямая со стрелкой 4243"/>
          <p:cNvCxnSpPr/>
          <p:nvPr/>
        </p:nvCxnSpPr>
        <p:spPr>
          <a:xfrm>
            <a:off x="5333760" y="495252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05" name="Прямая со стрелкой 4244"/>
          <p:cNvCxnSpPr/>
          <p:nvPr/>
        </p:nvCxnSpPr>
        <p:spPr>
          <a:xfrm>
            <a:off x="5333760" y="571464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606" name="TextBox 4245"/>
          <p:cNvSpPr/>
          <p:nvPr/>
        </p:nvSpPr>
        <p:spPr>
          <a:xfrm>
            <a:off x="5410080" y="5410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2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TextBox 4246"/>
          <p:cNvSpPr/>
          <p:nvPr/>
        </p:nvSpPr>
        <p:spPr>
          <a:xfrm>
            <a:off x="5410080" y="13716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TextBox 4247"/>
          <p:cNvSpPr/>
          <p:nvPr/>
        </p:nvSpPr>
        <p:spPr>
          <a:xfrm>
            <a:off x="5410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TextBox 4248"/>
          <p:cNvSpPr/>
          <p:nvPr/>
        </p:nvSpPr>
        <p:spPr>
          <a:xfrm>
            <a:off x="5410080" y="3048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TextBox 4249"/>
          <p:cNvSpPr/>
          <p:nvPr/>
        </p:nvSpPr>
        <p:spPr>
          <a:xfrm>
            <a:off x="5410080" y="38862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Box 4250"/>
          <p:cNvSpPr/>
          <p:nvPr/>
        </p:nvSpPr>
        <p:spPr>
          <a:xfrm>
            <a:off x="5410080" y="4648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TextBox 4251"/>
          <p:cNvSpPr/>
          <p:nvPr/>
        </p:nvSpPr>
        <p:spPr>
          <a:xfrm>
            <a:off x="5410080" y="5335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4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3" name="Прямая со стрелкой 4252"/>
          <p:cNvCxnSpPr/>
          <p:nvPr/>
        </p:nvCxnSpPr>
        <p:spPr>
          <a:xfrm>
            <a:off x="5333760" y="837720"/>
            <a:ext cx="1143720" cy="108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4" name="Прямая со стрелкой 4253"/>
          <p:cNvCxnSpPr/>
          <p:nvPr/>
        </p:nvCxnSpPr>
        <p:spPr>
          <a:xfrm flipH="1">
            <a:off x="6400080" y="5333760"/>
            <a:ext cx="1067400" cy="1080"/>
          </a:xfrm>
          <a:prstGeom prst="straightConnector1">
            <a:avLst/>
          </a:prstGeom>
          <a:ln cap="rnd" w="28440">
            <a:solidFill>
              <a:srgbClr val="1e23ee"/>
            </a:solidFill>
            <a:miter/>
            <a:tailEnd len="med" type="arrow" w="med"/>
          </a:ln>
        </p:spPr>
      </p:cxnSp>
      <p:cxnSp>
        <p:nvCxnSpPr>
          <p:cNvPr id="1615" name="Прямая со стрелкой 4255"/>
          <p:cNvCxnSpPr/>
          <p:nvPr/>
        </p:nvCxnSpPr>
        <p:spPr>
          <a:xfrm flipH="1">
            <a:off x="6247800" y="1218960"/>
            <a:ext cx="1067400" cy="1080"/>
          </a:xfrm>
          <a:prstGeom prst="straightConnector1">
            <a:avLst/>
          </a:prstGeom>
          <a:ln cap="rnd" w="28440">
            <a:solidFill>
              <a:srgbClr val="1e23ee"/>
            </a:solidFill>
            <a:miter/>
            <a:tailEnd len="med" type="arrow" w="med"/>
          </a:ln>
        </p:spPr>
      </p:cxnSp>
      <p:cxnSp>
        <p:nvCxnSpPr>
          <p:cNvPr id="1616" name="Прямая со стрелкой 4256"/>
          <p:cNvCxnSpPr/>
          <p:nvPr/>
        </p:nvCxnSpPr>
        <p:spPr>
          <a:xfrm flipH="1">
            <a:off x="6324120" y="2057040"/>
            <a:ext cx="1067760" cy="1080"/>
          </a:xfrm>
          <a:prstGeom prst="straightConnector1">
            <a:avLst/>
          </a:prstGeom>
          <a:ln cap="rnd" w="28440">
            <a:solidFill>
              <a:srgbClr val="1e23ee"/>
            </a:solidFill>
            <a:miter/>
            <a:tailEnd len="med" type="arrow" w="med"/>
          </a:ln>
        </p:spPr>
      </p:cxnSp>
      <p:cxnSp>
        <p:nvCxnSpPr>
          <p:cNvPr id="1617" name="Прямая со стрелкой 4257"/>
          <p:cNvCxnSpPr/>
          <p:nvPr/>
        </p:nvCxnSpPr>
        <p:spPr>
          <a:xfrm flipH="1">
            <a:off x="6324120" y="2895120"/>
            <a:ext cx="1067760" cy="1080"/>
          </a:xfrm>
          <a:prstGeom prst="straightConnector1">
            <a:avLst/>
          </a:prstGeom>
          <a:ln cap="rnd" w="28440">
            <a:solidFill>
              <a:srgbClr val="1e23ee"/>
            </a:solidFill>
            <a:miter/>
            <a:tailEnd len="med" type="arrow" w="med"/>
          </a:ln>
        </p:spPr>
      </p:cxnSp>
      <p:cxnSp>
        <p:nvCxnSpPr>
          <p:cNvPr id="1618" name="Прямая со стрелкой 4258"/>
          <p:cNvCxnSpPr/>
          <p:nvPr/>
        </p:nvCxnSpPr>
        <p:spPr>
          <a:xfrm flipH="1">
            <a:off x="6324120" y="3733560"/>
            <a:ext cx="1067760" cy="1080"/>
          </a:xfrm>
          <a:prstGeom prst="straightConnector1">
            <a:avLst/>
          </a:prstGeom>
          <a:ln cap="rnd" w="28440">
            <a:solidFill>
              <a:srgbClr val="1e23ee"/>
            </a:solidFill>
            <a:miter/>
            <a:tailEnd len="med" type="arrow" w="med"/>
          </a:ln>
        </p:spPr>
      </p:cxnSp>
      <p:cxnSp>
        <p:nvCxnSpPr>
          <p:cNvPr id="1619" name="Прямая со стрелкой 4259"/>
          <p:cNvCxnSpPr/>
          <p:nvPr/>
        </p:nvCxnSpPr>
        <p:spPr>
          <a:xfrm flipH="1">
            <a:off x="6400080" y="4571640"/>
            <a:ext cx="1067400" cy="1080"/>
          </a:xfrm>
          <a:prstGeom prst="straightConnector1">
            <a:avLst/>
          </a:prstGeom>
          <a:ln cap="rnd" w="28440">
            <a:solidFill>
              <a:srgbClr val="1e23ee"/>
            </a:solidFill>
            <a:miter/>
            <a:tailEnd len="med" type="arrow" w="med"/>
          </a:ln>
        </p:spPr>
      </p:cxnSp>
      <p:sp>
        <p:nvSpPr>
          <p:cNvPr id="1620" name="TextBox 4260"/>
          <p:cNvSpPr/>
          <p:nvPr/>
        </p:nvSpPr>
        <p:spPr>
          <a:xfrm>
            <a:off x="6477120" y="914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4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TextBox 4261"/>
          <p:cNvSpPr/>
          <p:nvPr/>
        </p:nvSpPr>
        <p:spPr>
          <a:xfrm>
            <a:off x="65530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TextBox 4262"/>
          <p:cNvSpPr/>
          <p:nvPr/>
        </p:nvSpPr>
        <p:spPr>
          <a:xfrm>
            <a:off x="65530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TextBox 4263"/>
          <p:cNvSpPr/>
          <p:nvPr/>
        </p:nvSpPr>
        <p:spPr>
          <a:xfrm>
            <a:off x="6553080" y="2590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Box 4264"/>
          <p:cNvSpPr/>
          <p:nvPr/>
        </p:nvSpPr>
        <p:spPr>
          <a:xfrm>
            <a:off x="6629400" y="4267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TextBox 4265"/>
          <p:cNvSpPr/>
          <p:nvPr/>
        </p:nvSpPr>
        <p:spPr>
          <a:xfrm>
            <a:off x="6629400" y="50292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L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Group 745" descr=""/>
          <p:cNvPicPr/>
          <p:nvPr/>
        </p:nvPicPr>
        <p:blipFill>
          <a:blip r:embed="rId3"/>
          <a:stretch/>
        </p:blipFill>
        <p:spPr>
          <a:xfrm>
            <a:off x="2882880" y="1511280"/>
            <a:ext cx="714240" cy="257040"/>
          </a:xfrm>
          <a:prstGeom prst="rect">
            <a:avLst/>
          </a:prstGeom>
          <a:ln w="0">
            <a:noFill/>
          </a:ln>
        </p:spPr>
      </p:pic>
      <p:pic>
        <p:nvPicPr>
          <p:cNvPr id="1627" name="Group 745" descr=""/>
          <p:cNvPicPr/>
          <p:nvPr/>
        </p:nvPicPr>
        <p:blipFill>
          <a:blip r:embed="rId4"/>
          <a:stretch/>
        </p:blipFill>
        <p:spPr>
          <a:xfrm>
            <a:off x="2962440" y="3187800"/>
            <a:ext cx="707760" cy="257040"/>
          </a:xfrm>
          <a:prstGeom prst="rect">
            <a:avLst/>
          </a:prstGeom>
          <a:ln w="0">
            <a:noFill/>
          </a:ln>
        </p:spPr>
      </p:pic>
      <p:pic>
        <p:nvPicPr>
          <p:cNvPr id="1628" name="Group 745" descr=""/>
          <p:cNvPicPr/>
          <p:nvPr/>
        </p:nvPicPr>
        <p:blipFill>
          <a:blip r:embed="rId5"/>
          <a:stretch/>
        </p:blipFill>
        <p:spPr>
          <a:xfrm>
            <a:off x="7381800" y="1054080"/>
            <a:ext cx="708120" cy="257040"/>
          </a:xfrm>
          <a:prstGeom prst="rect">
            <a:avLst/>
          </a:prstGeom>
          <a:ln w="0">
            <a:noFill/>
          </a:ln>
        </p:spPr>
      </p:pic>
      <p:pic>
        <p:nvPicPr>
          <p:cNvPr id="1629" name="Group 745" descr=""/>
          <p:cNvPicPr/>
          <p:nvPr/>
        </p:nvPicPr>
        <p:blipFill>
          <a:blip r:embed="rId6"/>
          <a:stretch/>
        </p:blipFill>
        <p:spPr>
          <a:xfrm>
            <a:off x="7454880" y="1895400"/>
            <a:ext cx="714240" cy="250920"/>
          </a:xfrm>
          <a:prstGeom prst="rect">
            <a:avLst/>
          </a:prstGeom>
          <a:ln w="0">
            <a:noFill/>
          </a:ln>
        </p:spPr>
      </p:pic>
      <p:pic>
        <p:nvPicPr>
          <p:cNvPr id="1630" name="Group 745" descr=""/>
          <p:cNvPicPr/>
          <p:nvPr/>
        </p:nvPicPr>
        <p:blipFill>
          <a:blip r:embed="rId7"/>
          <a:stretch/>
        </p:blipFill>
        <p:spPr>
          <a:xfrm>
            <a:off x="7454880" y="2730600"/>
            <a:ext cx="714240" cy="257040"/>
          </a:xfrm>
          <a:prstGeom prst="rect">
            <a:avLst/>
          </a:prstGeom>
          <a:ln w="0">
            <a:noFill/>
          </a:ln>
        </p:spPr>
      </p:pic>
      <p:pic>
        <p:nvPicPr>
          <p:cNvPr id="1631" name="Group 745" descr=""/>
          <p:cNvPicPr/>
          <p:nvPr/>
        </p:nvPicPr>
        <p:blipFill>
          <a:blip r:embed="rId8"/>
          <a:stretch/>
        </p:blipFill>
        <p:spPr>
          <a:xfrm>
            <a:off x="7454880" y="3571920"/>
            <a:ext cx="714240" cy="250920"/>
          </a:xfrm>
          <a:prstGeom prst="rect">
            <a:avLst/>
          </a:prstGeom>
          <a:ln w="0">
            <a:noFill/>
          </a:ln>
        </p:spPr>
      </p:pic>
      <p:pic>
        <p:nvPicPr>
          <p:cNvPr id="1632" name="Group 745" descr=""/>
          <p:cNvPicPr/>
          <p:nvPr/>
        </p:nvPicPr>
        <p:blipFill>
          <a:blip r:embed="rId9"/>
          <a:stretch/>
        </p:blipFill>
        <p:spPr>
          <a:xfrm>
            <a:off x="7534440" y="4406760"/>
            <a:ext cx="707760" cy="257400"/>
          </a:xfrm>
          <a:prstGeom prst="rect">
            <a:avLst/>
          </a:prstGeom>
          <a:ln w="0">
            <a:noFill/>
          </a:ln>
        </p:spPr>
      </p:pic>
      <p:pic>
        <p:nvPicPr>
          <p:cNvPr id="1633" name="Group 745" descr=""/>
          <p:cNvPicPr/>
          <p:nvPr/>
        </p:nvPicPr>
        <p:blipFill>
          <a:blip r:embed="rId10"/>
          <a:stretch/>
        </p:blipFill>
        <p:spPr>
          <a:xfrm>
            <a:off x="7534440" y="5168880"/>
            <a:ext cx="707760" cy="257040"/>
          </a:xfrm>
          <a:prstGeom prst="rect">
            <a:avLst/>
          </a:prstGeom>
          <a:ln w="0">
            <a:noFill/>
          </a:ln>
        </p:spPr>
      </p:pic>
      <p:grpSp>
        <p:nvGrpSpPr>
          <p:cNvPr id="1634" name="Group 745"/>
          <p:cNvGrpSpPr/>
          <p:nvPr/>
        </p:nvGrpSpPr>
        <p:grpSpPr>
          <a:xfrm>
            <a:off x="4648320" y="5562720"/>
            <a:ext cx="601560" cy="164160"/>
            <a:chOff x="4648320" y="5562720"/>
            <a:chExt cx="601560" cy="164160"/>
          </a:xfrm>
        </p:grpSpPr>
        <p:grpSp>
          <p:nvGrpSpPr>
            <p:cNvPr id="1635" name="Group 746"/>
            <p:cNvGrpSpPr/>
            <p:nvPr/>
          </p:nvGrpSpPr>
          <p:grpSpPr>
            <a:xfrm>
              <a:off x="4664520" y="5562720"/>
              <a:ext cx="585360" cy="141840"/>
              <a:chOff x="4664520" y="5562720"/>
              <a:chExt cx="585360" cy="141840"/>
            </a:xfrm>
          </p:grpSpPr>
          <p:sp>
            <p:nvSpPr>
              <p:cNvPr id="1636" name="Freeform 747"/>
              <p:cNvSpPr/>
              <p:nvPr/>
            </p:nvSpPr>
            <p:spPr>
              <a:xfrm>
                <a:off x="4664520" y="5562720"/>
                <a:ext cx="585360" cy="14184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37" name="Group 748"/>
              <p:cNvGrpSpPr/>
              <p:nvPr/>
            </p:nvGrpSpPr>
            <p:grpSpPr>
              <a:xfrm>
                <a:off x="4767840" y="5658120"/>
                <a:ext cx="436680" cy="26280"/>
                <a:chOff x="4767840" y="5658120"/>
                <a:chExt cx="436680" cy="26280"/>
              </a:xfrm>
            </p:grpSpPr>
            <p:sp>
              <p:nvSpPr>
                <p:cNvPr id="1638" name="Freeform 749"/>
                <p:cNvSpPr/>
                <p:nvPr/>
              </p:nvSpPr>
              <p:spPr>
                <a:xfrm>
                  <a:off x="5193000" y="565812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9" name="Freeform 750"/>
                <p:cNvSpPr/>
                <p:nvPr/>
              </p:nvSpPr>
              <p:spPr>
                <a:xfrm>
                  <a:off x="5074920" y="565920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0" name="Freeform 751"/>
                <p:cNvSpPr/>
                <p:nvPr/>
              </p:nvSpPr>
              <p:spPr>
                <a:xfrm>
                  <a:off x="4872960" y="566064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1" name="Freeform 752"/>
                <p:cNvSpPr/>
                <p:nvPr/>
              </p:nvSpPr>
              <p:spPr>
                <a:xfrm>
                  <a:off x="4767840" y="566208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2" name="Group 753"/>
              <p:cNvGrpSpPr/>
              <p:nvPr/>
            </p:nvGrpSpPr>
            <p:grpSpPr>
              <a:xfrm>
                <a:off x="4781520" y="5662080"/>
                <a:ext cx="397080" cy="9720"/>
                <a:chOff x="4781520" y="5662080"/>
                <a:chExt cx="397080" cy="9720"/>
              </a:xfrm>
            </p:grpSpPr>
            <p:grpSp>
              <p:nvGrpSpPr>
                <p:cNvPr id="1643" name="Group 754"/>
                <p:cNvGrpSpPr/>
                <p:nvPr/>
              </p:nvGrpSpPr>
              <p:grpSpPr>
                <a:xfrm>
                  <a:off x="4818960" y="5666760"/>
                  <a:ext cx="44280" cy="3600"/>
                  <a:chOff x="4818960" y="5666760"/>
                  <a:chExt cx="44280" cy="3600"/>
                </a:xfrm>
              </p:grpSpPr>
              <p:sp>
                <p:nvSpPr>
                  <p:cNvPr id="1644" name="Oval 755"/>
                  <p:cNvSpPr/>
                  <p:nvPr/>
                </p:nvSpPr>
                <p:spPr>
                  <a:xfrm>
                    <a:off x="4857480" y="56667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Oval 756"/>
                  <p:cNvSpPr/>
                  <p:nvPr/>
                </p:nvSpPr>
                <p:spPr>
                  <a:xfrm>
                    <a:off x="4851360" y="56667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Oval 757"/>
                  <p:cNvSpPr/>
                  <p:nvPr/>
                </p:nvSpPr>
                <p:spPr>
                  <a:xfrm>
                    <a:off x="4845600" y="56667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Oval 758"/>
                  <p:cNvSpPr/>
                  <p:nvPr/>
                </p:nvSpPr>
                <p:spPr>
                  <a:xfrm>
                    <a:off x="4838760" y="56667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Oval 759"/>
                  <p:cNvSpPr/>
                  <p:nvPr/>
                </p:nvSpPr>
                <p:spPr>
                  <a:xfrm>
                    <a:off x="4832640" y="566676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Oval 760"/>
                  <p:cNvSpPr/>
                  <p:nvPr/>
                </p:nvSpPr>
                <p:spPr>
                  <a:xfrm>
                    <a:off x="4825800" y="5667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Oval 761"/>
                  <p:cNvSpPr/>
                  <p:nvPr/>
                </p:nvSpPr>
                <p:spPr>
                  <a:xfrm>
                    <a:off x="4818960" y="5667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1" name="Group 762"/>
                <p:cNvGrpSpPr/>
                <p:nvPr/>
              </p:nvGrpSpPr>
              <p:grpSpPr>
                <a:xfrm>
                  <a:off x="5018400" y="5662080"/>
                  <a:ext cx="160200" cy="6120"/>
                  <a:chOff x="5018400" y="5662080"/>
                  <a:chExt cx="160200" cy="6120"/>
                </a:xfrm>
              </p:grpSpPr>
              <p:grpSp>
                <p:nvGrpSpPr>
                  <p:cNvPr id="1652" name="Group 763"/>
                  <p:cNvGrpSpPr/>
                  <p:nvPr/>
                </p:nvGrpSpPr>
                <p:grpSpPr>
                  <a:xfrm>
                    <a:off x="5133240" y="5662080"/>
                    <a:ext cx="45360" cy="3600"/>
                    <a:chOff x="5133240" y="5662080"/>
                    <a:chExt cx="45360" cy="3600"/>
                  </a:xfrm>
                </p:grpSpPr>
                <p:sp>
                  <p:nvSpPr>
                    <p:cNvPr id="1653" name="Oval 764"/>
                    <p:cNvSpPr/>
                    <p:nvPr/>
                  </p:nvSpPr>
                  <p:spPr>
                    <a:xfrm>
                      <a:off x="5174280" y="566208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4" name="Oval 765"/>
                    <p:cNvSpPr/>
                    <p:nvPr/>
                  </p:nvSpPr>
                  <p:spPr>
                    <a:xfrm>
                      <a:off x="5167080" y="566208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Oval 766"/>
                    <p:cNvSpPr/>
                    <p:nvPr/>
                  </p:nvSpPr>
                  <p:spPr>
                    <a:xfrm>
                      <a:off x="5160240" y="56620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Oval 767"/>
                    <p:cNvSpPr/>
                    <p:nvPr/>
                  </p:nvSpPr>
                  <p:spPr>
                    <a:xfrm>
                      <a:off x="5153040" y="56620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Oval 768"/>
                    <p:cNvSpPr/>
                    <p:nvPr/>
                  </p:nvSpPr>
                  <p:spPr>
                    <a:xfrm>
                      <a:off x="5146200" y="56620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8" name="Oval 769"/>
                    <p:cNvSpPr/>
                    <p:nvPr/>
                  </p:nvSpPr>
                  <p:spPr>
                    <a:xfrm>
                      <a:off x="5140080" y="566208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9" name="Oval 770"/>
                    <p:cNvSpPr/>
                    <p:nvPr/>
                  </p:nvSpPr>
                  <p:spPr>
                    <a:xfrm>
                      <a:off x="5133240" y="56620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0" name="Group 771"/>
                  <p:cNvGrpSpPr/>
                  <p:nvPr/>
                </p:nvGrpSpPr>
                <p:grpSpPr>
                  <a:xfrm>
                    <a:off x="5085360" y="5662080"/>
                    <a:ext cx="46440" cy="4680"/>
                    <a:chOff x="5085360" y="5662080"/>
                    <a:chExt cx="46440" cy="4680"/>
                  </a:xfrm>
                </p:grpSpPr>
                <p:sp>
                  <p:nvSpPr>
                    <p:cNvPr id="1661" name="Oval 772"/>
                    <p:cNvSpPr/>
                    <p:nvPr/>
                  </p:nvSpPr>
                  <p:spPr>
                    <a:xfrm>
                      <a:off x="5126040" y="56620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2" name="Oval 773"/>
                    <p:cNvSpPr/>
                    <p:nvPr/>
                  </p:nvSpPr>
                  <p:spPr>
                    <a:xfrm>
                      <a:off x="5118840" y="56620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3" name="Oval 774"/>
                    <p:cNvSpPr/>
                    <p:nvPr/>
                  </p:nvSpPr>
                  <p:spPr>
                    <a:xfrm>
                      <a:off x="5113080" y="566316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4" name="Oval 775"/>
                    <p:cNvSpPr/>
                    <p:nvPr/>
                  </p:nvSpPr>
                  <p:spPr>
                    <a:xfrm>
                      <a:off x="5106240" y="566316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5" name="Oval 776"/>
                    <p:cNvSpPr/>
                    <p:nvPr/>
                  </p:nvSpPr>
                  <p:spPr>
                    <a:xfrm>
                      <a:off x="5099040" y="566316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6" name="Oval 777"/>
                    <p:cNvSpPr/>
                    <p:nvPr/>
                  </p:nvSpPr>
                  <p:spPr>
                    <a:xfrm>
                      <a:off x="5092200" y="566316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7" name="Oval 778"/>
                    <p:cNvSpPr/>
                    <p:nvPr/>
                  </p:nvSpPr>
                  <p:spPr>
                    <a:xfrm>
                      <a:off x="5085360" y="5663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8" name="Group 779"/>
                  <p:cNvGrpSpPr/>
                  <p:nvPr/>
                </p:nvGrpSpPr>
                <p:grpSpPr>
                  <a:xfrm>
                    <a:off x="5018400" y="5663160"/>
                    <a:ext cx="46800" cy="5040"/>
                    <a:chOff x="5018400" y="5663160"/>
                    <a:chExt cx="46800" cy="5040"/>
                  </a:xfrm>
                </p:grpSpPr>
                <p:sp>
                  <p:nvSpPr>
                    <p:cNvPr id="1669" name="Oval 780"/>
                    <p:cNvSpPr/>
                    <p:nvPr/>
                  </p:nvSpPr>
                  <p:spPr>
                    <a:xfrm>
                      <a:off x="5059440" y="5663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Oval 781"/>
                    <p:cNvSpPr/>
                    <p:nvPr/>
                  </p:nvSpPr>
                  <p:spPr>
                    <a:xfrm>
                      <a:off x="5052240" y="5663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Oval 782"/>
                    <p:cNvSpPr/>
                    <p:nvPr/>
                  </p:nvSpPr>
                  <p:spPr>
                    <a:xfrm>
                      <a:off x="5045400" y="5663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Oval 783"/>
                    <p:cNvSpPr/>
                    <p:nvPr/>
                  </p:nvSpPr>
                  <p:spPr>
                    <a:xfrm>
                      <a:off x="5039280" y="566316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Oval 784"/>
                    <p:cNvSpPr/>
                    <p:nvPr/>
                  </p:nvSpPr>
                  <p:spPr>
                    <a:xfrm>
                      <a:off x="5032440" y="566424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Oval 785"/>
                    <p:cNvSpPr/>
                    <p:nvPr/>
                  </p:nvSpPr>
                  <p:spPr>
                    <a:xfrm>
                      <a:off x="5018400" y="566424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75" name="Group 786"/>
                <p:cNvGrpSpPr/>
                <p:nvPr/>
              </p:nvGrpSpPr>
              <p:grpSpPr>
                <a:xfrm>
                  <a:off x="4974840" y="5664240"/>
                  <a:ext cx="37080" cy="3600"/>
                  <a:chOff x="4974840" y="5664240"/>
                  <a:chExt cx="37080" cy="3600"/>
                </a:xfrm>
              </p:grpSpPr>
              <p:sp>
                <p:nvSpPr>
                  <p:cNvPr id="1676" name="Oval 787"/>
                  <p:cNvSpPr/>
                  <p:nvPr/>
                </p:nvSpPr>
                <p:spPr>
                  <a:xfrm>
                    <a:off x="5006160" y="56642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7" name="Oval 788"/>
                  <p:cNvSpPr/>
                  <p:nvPr/>
                </p:nvSpPr>
                <p:spPr>
                  <a:xfrm>
                    <a:off x="4999320" y="56642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Oval 789"/>
                  <p:cNvSpPr/>
                  <p:nvPr/>
                </p:nvSpPr>
                <p:spPr>
                  <a:xfrm>
                    <a:off x="4993560" y="56642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Oval 790"/>
                  <p:cNvSpPr/>
                  <p:nvPr/>
                </p:nvSpPr>
                <p:spPr>
                  <a:xfrm>
                    <a:off x="4987800" y="56642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Oval 791"/>
                  <p:cNvSpPr/>
                  <p:nvPr/>
                </p:nvSpPr>
                <p:spPr>
                  <a:xfrm>
                    <a:off x="4980600" y="56642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Oval 792"/>
                  <p:cNvSpPr/>
                  <p:nvPr/>
                </p:nvSpPr>
                <p:spPr>
                  <a:xfrm>
                    <a:off x="4974840" y="56642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2" name="Group 793"/>
                <p:cNvGrpSpPr/>
                <p:nvPr/>
              </p:nvGrpSpPr>
              <p:grpSpPr>
                <a:xfrm>
                  <a:off x="4781520" y="5668200"/>
                  <a:ext cx="36000" cy="3600"/>
                  <a:chOff x="4781520" y="5668200"/>
                  <a:chExt cx="36000" cy="3600"/>
                </a:xfrm>
              </p:grpSpPr>
              <p:sp>
                <p:nvSpPr>
                  <p:cNvPr id="1683" name="Oval 794"/>
                  <p:cNvSpPr/>
                  <p:nvPr/>
                </p:nvSpPr>
                <p:spPr>
                  <a:xfrm>
                    <a:off x="4813200" y="566820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Oval 795"/>
                  <p:cNvSpPr/>
                  <p:nvPr/>
                </p:nvSpPr>
                <p:spPr>
                  <a:xfrm>
                    <a:off x="4806000" y="56682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Oval 796"/>
                  <p:cNvSpPr/>
                  <p:nvPr/>
                </p:nvSpPr>
                <p:spPr>
                  <a:xfrm>
                    <a:off x="4800240" y="56682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Oval 797"/>
                  <p:cNvSpPr/>
                  <p:nvPr/>
                </p:nvSpPr>
                <p:spPr>
                  <a:xfrm>
                    <a:off x="4793400" y="56682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Oval 798"/>
                  <p:cNvSpPr/>
                  <p:nvPr/>
                </p:nvSpPr>
                <p:spPr>
                  <a:xfrm>
                    <a:off x="4787280" y="566820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Oval 799"/>
                  <p:cNvSpPr/>
                  <p:nvPr/>
                </p:nvSpPr>
                <p:spPr>
                  <a:xfrm>
                    <a:off x="4781520" y="566820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89" name="Freeform 800"/>
            <p:cNvSpPr/>
            <p:nvPr/>
          </p:nvSpPr>
          <p:spPr>
            <a:xfrm>
              <a:off x="4682160" y="5615280"/>
              <a:ext cx="567360" cy="7668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0" name="Group 801"/>
            <p:cNvGrpSpPr/>
            <p:nvPr/>
          </p:nvGrpSpPr>
          <p:grpSpPr>
            <a:xfrm>
              <a:off x="5221440" y="5662080"/>
              <a:ext cx="12600" cy="4680"/>
              <a:chOff x="5221440" y="5662080"/>
              <a:chExt cx="12600" cy="4680"/>
            </a:xfrm>
          </p:grpSpPr>
          <p:sp>
            <p:nvSpPr>
              <p:cNvPr id="1691" name="Freeform 802"/>
              <p:cNvSpPr/>
              <p:nvPr/>
            </p:nvSpPr>
            <p:spPr>
              <a:xfrm>
                <a:off x="5221440" y="566208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803"/>
              <p:cNvSpPr/>
              <p:nvPr/>
            </p:nvSpPr>
            <p:spPr>
              <a:xfrm>
                <a:off x="5226120" y="56620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Freeform 804"/>
              <p:cNvSpPr/>
              <p:nvPr/>
            </p:nvSpPr>
            <p:spPr>
              <a:xfrm>
                <a:off x="5230440" y="56631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4" name="Arc 805"/>
            <p:cNvSpPr/>
            <p:nvPr/>
          </p:nvSpPr>
          <p:spPr>
            <a:xfrm>
              <a:off x="4658400" y="566568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Freeform 806"/>
            <p:cNvSpPr/>
            <p:nvPr/>
          </p:nvSpPr>
          <p:spPr>
            <a:xfrm>
              <a:off x="4947120" y="567684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6" name="Group 807"/>
            <p:cNvGrpSpPr/>
            <p:nvPr/>
          </p:nvGrpSpPr>
          <p:grpSpPr>
            <a:xfrm>
              <a:off x="4871160" y="5675760"/>
              <a:ext cx="188640" cy="51120"/>
              <a:chOff x="4871160" y="5675760"/>
              <a:chExt cx="188640" cy="51120"/>
            </a:xfrm>
          </p:grpSpPr>
          <p:grpSp>
            <p:nvGrpSpPr>
              <p:cNvPr id="1697" name="Group 808"/>
              <p:cNvGrpSpPr/>
              <p:nvPr/>
            </p:nvGrpSpPr>
            <p:grpSpPr>
              <a:xfrm>
                <a:off x="4871160" y="5675760"/>
                <a:ext cx="188640" cy="29880"/>
                <a:chOff x="4871160" y="5675760"/>
                <a:chExt cx="188640" cy="29880"/>
              </a:xfrm>
            </p:grpSpPr>
            <p:sp>
              <p:nvSpPr>
                <p:cNvPr id="1698" name="Freeform 809"/>
                <p:cNvSpPr/>
                <p:nvPr/>
              </p:nvSpPr>
              <p:spPr>
                <a:xfrm>
                  <a:off x="4871160" y="567576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9" name="Freeform 810"/>
                <p:cNvSpPr/>
                <p:nvPr/>
              </p:nvSpPr>
              <p:spPr>
                <a:xfrm>
                  <a:off x="4871160" y="568080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0" name="Group 811"/>
              <p:cNvGrpSpPr/>
              <p:nvPr/>
            </p:nvGrpSpPr>
            <p:grpSpPr>
              <a:xfrm>
                <a:off x="4982400" y="5713200"/>
                <a:ext cx="49680" cy="13680"/>
                <a:chOff x="4982400" y="5713200"/>
                <a:chExt cx="49680" cy="13680"/>
              </a:xfrm>
            </p:grpSpPr>
            <p:grpSp>
              <p:nvGrpSpPr>
                <p:cNvPr id="1701" name="Group 812"/>
                <p:cNvGrpSpPr/>
                <p:nvPr/>
              </p:nvGrpSpPr>
              <p:grpSpPr>
                <a:xfrm>
                  <a:off x="4982400" y="5713200"/>
                  <a:ext cx="49680" cy="13680"/>
                  <a:chOff x="4982400" y="5713200"/>
                  <a:chExt cx="49680" cy="13680"/>
                </a:xfrm>
              </p:grpSpPr>
              <p:grpSp>
                <p:nvGrpSpPr>
                  <p:cNvPr id="1702" name="Group 813"/>
                  <p:cNvGrpSpPr/>
                  <p:nvPr/>
                </p:nvGrpSpPr>
                <p:grpSpPr>
                  <a:xfrm>
                    <a:off x="4982400" y="5713200"/>
                    <a:ext cx="4320" cy="12240"/>
                    <a:chOff x="4982400" y="5713200"/>
                    <a:chExt cx="4320" cy="12240"/>
                  </a:xfrm>
                </p:grpSpPr>
                <p:sp>
                  <p:nvSpPr>
                    <p:cNvPr id="1703" name="Freeform 814"/>
                    <p:cNvSpPr/>
                    <p:nvPr/>
                  </p:nvSpPr>
                  <p:spPr>
                    <a:xfrm>
                      <a:off x="4982400" y="571320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815"/>
                    <p:cNvSpPr/>
                    <p:nvPr/>
                  </p:nvSpPr>
                  <p:spPr>
                    <a:xfrm>
                      <a:off x="4982400" y="571320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816"/>
                    <p:cNvSpPr/>
                    <p:nvPr/>
                  </p:nvSpPr>
                  <p:spPr>
                    <a:xfrm>
                      <a:off x="4982400" y="571932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6" name="Freeform 817"/>
                  <p:cNvSpPr/>
                  <p:nvPr/>
                </p:nvSpPr>
                <p:spPr>
                  <a:xfrm>
                    <a:off x="4992480" y="571320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7" name="Freeform 818"/>
                <p:cNvSpPr/>
                <p:nvPr/>
              </p:nvSpPr>
              <p:spPr>
                <a:xfrm>
                  <a:off x="4992480" y="571680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8" name="Group 819"/>
              <p:cNvGrpSpPr/>
              <p:nvPr/>
            </p:nvGrpSpPr>
            <p:grpSpPr>
              <a:xfrm>
                <a:off x="4976280" y="5681880"/>
                <a:ext cx="70560" cy="32040"/>
                <a:chOff x="4976280" y="5681880"/>
                <a:chExt cx="70560" cy="32040"/>
              </a:xfrm>
            </p:grpSpPr>
            <p:grpSp>
              <p:nvGrpSpPr>
                <p:cNvPr id="1709" name="Group 820"/>
                <p:cNvGrpSpPr/>
                <p:nvPr/>
              </p:nvGrpSpPr>
              <p:grpSpPr>
                <a:xfrm>
                  <a:off x="4976280" y="5689440"/>
                  <a:ext cx="5760" cy="15840"/>
                  <a:chOff x="4976280" y="5689440"/>
                  <a:chExt cx="5760" cy="15840"/>
                </a:xfrm>
              </p:grpSpPr>
              <p:sp>
                <p:nvSpPr>
                  <p:cNvPr id="1710" name="Freeform 821"/>
                  <p:cNvSpPr/>
                  <p:nvPr/>
                </p:nvSpPr>
                <p:spPr>
                  <a:xfrm>
                    <a:off x="4976280" y="568944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Freeform 822"/>
                  <p:cNvSpPr/>
                  <p:nvPr/>
                </p:nvSpPr>
                <p:spPr>
                  <a:xfrm>
                    <a:off x="4976280" y="569412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Freeform 823"/>
                  <p:cNvSpPr/>
                  <p:nvPr/>
                </p:nvSpPr>
                <p:spPr>
                  <a:xfrm>
                    <a:off x="4976280" y="569160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Freeform 824"/>
                  <p:cNvSpPr/>
                  <p:nvPr/>
                </p:nvSpPr>
                <p:spPr>
                  <a:xfrm>
                    <a:off x="4976280" y="570168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4" name="Group 825"/>
                <p:cNvGrpSpPr/>
                <p:nvPr/>
              </p:nvGrpSpPr>
              <p:grpSpPr>
                <a:xfrm>
                  <a:off x="4988160" y="5681880"/>
                  <a:ext cx="58680" cy="32040"/>
                  <a:chOff x="4988160" y="5681880"/>
                  <a:chExt cx="58680" cy="32040"/>
                </a:xfrm>
              </p:grpSpPr>
              <p:sp>
                <p:nvSpPr>
                  <p:cNvPr id="1715" name="Freeform 826"/>
                  <p:cNvSpPr/>
                  <p:nvPr/>
                </p:nvSpPr>
                <p:spPr>
                  <a:xfrm>
                    <a:off x="4988160" y="568188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Freeform 827"/>
                  <p:cNvSpPr/>
                  <p:nvPr/>
                </p:nvSpPr>
                <p:spPr>
                  <a:xfrm>
                    <a:off x="4989960" y="568800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17" name="Group 828"/>
                  <p:cNvGrpSpPr/>
                  <p:nvPr/>
                </p:nvGrpSpPr>
                <p:grpSpPr>
                  <a:xfrm>
                    <a:off x="5012280" y="5688000"/>
                    <a:ext cx="34560" cy="25920"/>
                    <a:chOff x="5012280" y="5688000"/>
                    <a:chExt cx="34560" cy="25920"/>
                  </a:xfrm>
                </p:grpSpPr>
                <p:sp>
                  <p:nvSpPr>
                    <p:cNvPr id="1718" name="Line 829"/>
                    <p:cNvSpPr/>
                    <p:nvPr/>
                  </p:nvSpPr>
                  <p:spPr>
                    <a:xfrm>
                      <a:off x="5027400" y="568800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Line 830"/>
                    <p:cNvSpPr/>
                    <p:nvPr/>
                  </p:nvSpPr>
                  <p:spPr>
                    <a:xfrm flipH="1">
                      <a:off x="5036760" y="568800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Line 831"/>
                    <p:cNvSpPr/>
                    <p:nvPr/>
                  </p:nvSpPr>
                  <p:spPr>
                    <a:xfrm>
                      <a:off x="5012280" y="568800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21" name="Group 832"/>
            <p:cNvGrpSpPr/>
            <p:nvPr/>
          </p:nvGrpSpPr>
          <p:grpSpPr>
            <a:xfrm>
              <a:off x="4648320" y="5562720"/>
              <a:ext cx="340560" cy="133200"/>
              <a:chOff x="4648320" y="5562720"/>
              <a:chExt cx="340560" cy="133200"/>
            </a:xfrm>
          </p:grpSpPr>
          <p:sp>
            <p:nvSpPr>
              <p:cNvPr id="1722" name="Freeform 833"/>
              <p:cNvSpPr/>
              <p:nvPr/>
            </p:nvSpPr>
            <p:spPr>
              <a:xfrm>
                <a:off x="4664520" y="5562720"/>
                <a:ext cx="107640" cy="92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23" name="Group 834"/>
              <p:cNvGrpSpPr/>
              <p:nvPr/>
            </p:nvGrpSpPr>
            <p:grpSpPr>
              <a:xfrm>
                <a:off x="4648320" y="5624280"/>
                <a:ext cx="340560" cy="71640"/>
                <a:chOff x="4648320" y="5624280"/>
                <a:chExt cx="340560" cy="71640"/>
              </a:xfrm>
            </p:grpSpPr>
            <p:sp>
              <p:nvSpPr>
                <p:cNvPr id="1724" name="Freeform 835"/>
                <p:cNvSpPr/>
                <p:nvPr/>
              </p:nvSpPr>
              <p:spPr>
                <a:xfrm>
                  <a:off x="4696200" y="5678280"/>
                  <a:ext cx="47520" cy="17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25" name="Group 836"/>
                <p:cNvGrpSpPr/>
                <p:nvPr/>
              </p:nvGrpSpPr>
              <p:grpSpPr>
                <a:xfrm>
                  <a:off x="4648320" y="5624280"/>
                  <a:ext cx="340560" cy="50040"/>
                  <a:chOff x="4648320" y="5624280"/>
                  <a:chExt cx="340560" cy="50040"/>
                </a:xfrm>
              </p:grpSpPr>
              <p:sp>
                <p:nvSpPr>
                  <p:cNvPr id="1726" name="Freeform 837"/>
                  <p:cNvSpPr/>
                  <p:nvPr/>
                </p:nvSpPr>
                <p:spPr>
                  <a:xfrm>
                    <a:off x="4648320" y="565308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Freeform 838"/>
                  <p:cNvSpPr/>
                  <p:nvPr/>
                </p:nvSpPr>
                <p:spPr>
                  <a:xfrm>
                    <a:off x="4865040" y="5624280"/>
                    <a:ext cx="123840" cy="5004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28" name="Group 839"/>
                  <p:cNvGrpSpPr/>
                  <p:nvPr/>
                </p:nvGrpSpPr>
                <p:grpSpPr>
                  <a:xfrm>
                    <a:off x="4884840" y="5651640"/>
                    <a:ext cx="56160" cy="17280"/>
                    <a:chOff x="4884840" y="5651640"/>
                    <a:chExt cx="56160" cy="17280"/>
                  </a:xfrm>
                </p:grpSpPr>
                <p:grpSp>
                  <p:nvGrpSpPr>
                    <p:cNvPr id="1729" name="Group 840"/>
                    <p:cNvGrpSpPr/>
                    <p:nvPr/>
                  </p:nvGrpSpPr>
                  <p:grpSpPr>
                    <a:xfrm>
                      <a:off x="4897800" y="5663880"/>
                      <a:ext cx="43200" cy="5040"/>
                      <a:chOff x="4897800" y="5663880"/>
                      <a:chExt cx="43200" cy="5040"/>
                    </a:xfrm>
                  </p:grpSpPr>
                  <p:sp>
                    <p:nvSpPr>
                      <p:cNvPr id="1730" name="Freeform 841"/>
                      <p:cNvSpPr/>
                      <p:nvPr/>
                    </p:nvSpPr>
                    <p:spPr>
                      <a:xfrm>
                        <a:off x="4897800" y="566388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842"/>
                      <p:cNvSpPr/>
                      <p:nvPr/>
                    </p:nvSpPr>
                    <p:spPr>
                      <a:xfrm>
                        <a:off x="4910760" y="566388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32" name="Group 843"/>
                    <p:cNvGrpSpPr/>
                    <p:nvPr/>
                  </p:nvGrpSpPr>
                  <p:grpSpPr>
                    <a:xfrm>
                      <a:off x="4884840" y="5651640"/>
                      <a:ext cx="31680" cy="5040"/>
                      <a:chOff x="4884840" y="5651640"/>
                      <a:chExt cx="31680" cy="5040"/>
                    </a:xfrm>
                  </p:grpSpPr>
                  <p:sp>
                    <p:nvSpPr>
                      <p:cNvPr id="1733" name="Freeform 844"/>
                      <p:cNvSpPr/>
                      <p:nvPr/>
                    </p:nvSpPr>
                    <p:spPr>
                      <a:xfrm>
                        <a:off x="4884840" y="565164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845"/>
                      <p:cNvSpPr/>
                      <p:nvPr/>
                    </p:nvSpPr>
                    <p:spPr>
                      <a:xfrm>
                        <a:off x="4897800" y="565164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735" name="Group 745"/>
          <p:cNvGrpSpPr/>
          <p:nvPr/>
        </p:nvGrpSpPr>
        <p:grpSpPr>
          <a:xfrm>
            <a:off x="4572000" y="4800600"/>
            <a:ext cx="601560" cy="164520"/>
            <a:chOff x="4572000" y="4800600"/>
            <a:chExt cx="601560" cy="164520"/>
          </a:xfrm>
        </p:grpSpPr>
        <p:grpSp>
          <p:nvGrpSpPr>
            <p:cNvPr id="1736" name="Group 746"/>
            <p:cNvGrpSpPr/>
            <p:nvPr/>
          </p:nvGrpSpPr>
          <p:grpSpPr>
            <a:xfrm>
              <a:off x="4588200" y="4800600"/>
              <a:ext cx="585360" cy="142200"/>
              <a:chOff x="4588200" y="4800600"/>
              <a:chExt cx="585360" cy="142200"/>
            </a:xfrm>
          </p:grpSpPr>
          <p:sp>
            <p:nvSpPr>
              <p:cNvPr id="1737" name="Freeform 747"/>
              <p:cNvSpPr/>
              <p:nvPr/>
            </p:nvSpPr>
            <p:spPr>
              <a:xfrm>
                <a:off x="4588200" y="4800600"/>
                <a:ext cx="585360" cy="14220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8" name="Group 748"/>
              <p:cNvGrpSpPr/>
              <p:nvPr/>
            </p:nvGrpSpPr>
            <p:grpSpPr>
              <a:xfrm>
                <a:off x="4691520" y="4896000"/>
                <a:ext cx="436680" cy="26280"/>
                <a:chOff x="4691520" y="4896000"/>
                <a:chExt cx="436680" cy="26280"/>
              </a:xfrm>
            </p:grpSpPr>
            <p:sp>
              <p:nvSpPr>
                <p:cNvPr id="1739" name="Freeform 749"/>
                <p:cNvSpPr/>
                <p:nvPr/>
              </p:nvSpPr>
              <p:spPr>
                <a:xfrm>
                  <a:off x="5116680" y="489600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0" name="Freeform 750"/>
                <p:cNvSpPr/>
                <p:nvPr/>
              </p:nvSpPr>
              <p:spPr>
                <a:xfrm>
                  <a:off x="4998600" y="489708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1" name="Freeform 751"/>
                <p:cNvSpPr/>
                <p:nvPr/>
              </p:nvSpPr>
              <p:spPr>
                <a:xfrm>
                  <a:off x="4796640" y="489852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2" name="Freeform 752"/>
                <p:cNvSpPr/>
                <p:nvPr/>
              </p:nvSpPr>
              <p:spPr>
                <a:xfrm>
                  <a:off x="4691520" y="489996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3" name="Group 753"/>
              <p:cNvGrpSpPr/>
              <p:nvPr/>
            </p:nvGrpSpPr>
            <p:grpSpPr>
              <a:xfrm>
                <a:off x="4705200" y="4899960"/>
                <a:ext cx="397080" cy="9720"/>
                <a:chOff x="4705200" y="4899960"/>
                <a:chExt cx="397080" cy="9720"/>
              </a:xfrm>
            </p:grpSpPr>
            <p:grpSp>
              <p:nvGrpSpPr>
                <p:cNvPr id="1744" name="Group 754"/>
                <p:cNvGrpSpPr/>
                <p:nvPr/>
              </p:nvGrpSpPr>
              <p:grpSpPr>
                <a:xfrm>
                  <a:off x="4742640" y="4904640"/>
                  <a:ext cx="44280" cy="3600"/>
                  <a:chOff x="4742640" y="4904640"/>
                  <a:chExt cx="44280" cy="3600"/>
                </a:xfrm>
              </p:grpSpPr>
              <p:sp>
                <p:nvSpPr>
                  <p:cNvPr id="1745" name="Oval 755"/>
                  <p:cNvSpPr/>
                  <p:nvPr/>
                </p:nvSpPr>
                <p:spPr>
                  <a:xfrm>
                    <a:off x="4781160" y="49046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Oval 756"/>
                  <p:cNvSpPr/>
                  <p:nvPr/>
                </p:nvSpPr>
                <p:spPr>
                  <a:xfrm>
                    <a:off x="4775040" y="49046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Oval 757"/>
                  <p:cNvSpPr/>
                  <p:nvPr/>
                </p:nvSpPr>
                <p:spPr>
                  <a:xfrm>
                    <a:off x="4769280" y="49046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Oval 758"/>
                  <p:cNvSpPr/>
                  <p:nvPr/>
                </p:nvSpPr>
                <p:spPr>
                  <a:xfrm>
                    <a:off x="4762440" y="49046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Oval 759"/>
                  <p:cNvSpPr/>
                  <p:nvPr/>
                </p:nvSpPr>
                <p:spPr>
                  <a:xfrm>
                    <a:off x="4756320" y="490464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Oval 760"/>
                  <p:cNvSpPr/>
                  <p:nvPr/>
                </p:nvSpPr>
                <p:spPr>
                  <a:xfrm>
                    <a:off x="4749480" y="49057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Oval 761"/>
                  <p:cNvSpPr/>
                  <p:nvPr/>
                </p:nvSpPr>
                <p:spPr>
                  <a:xfrm>
                    <a:off x="4742640" y="49057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2" name="Group 762"/>
                <p:cNvGrpSpPr/>
                <p:nvPr/>
              </p:nvGrpSpPr>
              <p:grpSpPr>
                <a:xfrm>
                  <a:off x="4942080" y="4899960"/>
                  <a:ext cx="160200" cy="6120"/>
                  <a:chOff x="4942080" y="4899960"/>
                  <a:chExt cx="160200" cy="6120"/>
                </a:xfrm>
              </p:grpSpPr>
              <p:grpSp>
                <p:nvGrpSpPr>
                  <p:cNvPr id="1753" name="Group 763"/>
                  <p:cNvGrpSpPr/>
                  <p:nvPr/>
                </p:nvGrpSpPr>
                <p:grpSpPr>
                  <a:xfrm>
                    <a:off x="5056920" y="4899960"/>
                    <a:ext cx="45360" cy="3600"/>
                    <a:chOff x="5056920" y="4899960"/>
                    <a:chExt cx="45360" cy="3600"/>
                  </a:xfrm>
                </p:grpSpPr>
                <p:sp>
                  <p:nvSpPr>
                    <p:cNvPr id="1754" name="Oval 764"/>
                    <p:cNvSpPr/>
                    <p:nvPr/>
                  </p:nvSpPr>
                  <p:spPr>
                    <a:xfrm>
                      <a:off x="5097960" y="489996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5" name="Oval 765"/>
                    <p:cNvSpPr/>
                    <p:nvPr/>
                  </p:nvSpPr>
                  <p:spPr>
                    <a:xfrm>
                      <a:off x="5090760" y="489996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Oval 766"/>
                    <p:cNvSpPr/>
                    <p:nvPr/>
                  </p:nvSpPr>
                  <p:spPr>
                    <a:xfrm>
                      <a:off x="5083920" y="4899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Oval 767"/>
                    <p:cNvSpPr/>
                    <p:nvPr/>
                  </p:nvSpPr>
                  <p:spPr>
                    <a:xfrm>
                      <a:off x="5076720" y="4899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Oval 768"/>
                    <p:cNvSpPr/>
                    <p:nvPr/>
                  </p:nvSpPr>
                  <p:spPr>
                    <a:xfrm>
                      <a:off x="5069880" y="4899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Oval 769"/>
                    <p:cNvSpPr/>
                    <p:nvPr/>
                  </p:nvSpPr>
                  <p:spPr>
                    <a:xfrm>
                      <a:off x="5063760" y="489996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Oval 770"/>
                    <p:cNvSpPr/>
                    <p:nvPr/>
                  </p:nvSpPr>
                  <p:spPr>
                    <a:xfrm>
                      <a:off x="5056920" y="4899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1" name="Group 771"/>
                  <p:cNvGrpSpPr/>
                  <p:nvPr/>
                </p:nvGrpSpPr>
                <p:grpSpPr>
                  <a:xfrm>
                    <a:off x="5009040" y="4899960"/>
                    <a:ext cx="46440" cy="4680"/>
                    <a:chOff x="5009040" y="4899960"/>
                    <a:chExt cx="46440" cy="4680"/>
                  </a:xfrm>
                </p:grpSpPr>
                <p:sp>
                  <p:nvSpPr>
                    <p:cNvPr id="1762" name="Oval 772"/>
                    <p:cNvSpPr/>
                    <p:nvPr/>
                  </p:nvSpPr>
                  <p:spPr>
                    <a:xfrm>
                      <a:off x="5049720" y="4899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Oval 773"/>
                    <p:cNvSpPr/>
                    <p:nvPr/>
                  </p:nvSpPr>
                  <p:spPr>
                    <a:xfrm>
                      <a:off x="5042520" y="48999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Oval 774"/>
                    <p:cNvSpPr/>
                    <p:nvPr/>
                  </p:nvSpPr>
                  <p:spPr>
                    <a:xfrm>
                      <a:off x="5036760" y="490104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Oval 775"/>
                    <p:cNvSpPr/>
                    <p:nvPr/>
                  </p:nvSpPr>
                  <p:spPr>
                    <a:xfrm>
                      <a:off x="5029920" y="490104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Oval 776"/>
                    <p:cNvSpPr/>
                    <p:nvPr/>
                  </p:nvSpPr>
                  <p:spPr>
                    <a:xfrm>
                      <a:off x="5022720" y="490104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7" name="Oval 777"/>
                    <p:cNvSpPr/>
                    <p:nvPr/>
                  </p:nvSpPr>
                  <p:spPr>
                    <a:xfrm>
                      <a:off x="5015880" y="490104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Oval 778"/>
                    <p:cNvSpPr/>
                    <p:nvPr/>
                  </p:nvSpPr>
                  <p:spPr>
                    <a:xfrm>
                      <a:off x="5009040" y="4901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9" name="Group 779"/>
                  <p:cNvGrpSpPr/>
                  <p:nvPr/>
                </p:nvGrpSpPr>
                <p:grpSpPr>
                  <a:xfrm>
                    <a:off x="4942080" y="4901040"/>
                    <a:ext cx="46800" cy="5040"/>
                    <a:chOff x="4942080" y="4901040"/>
                    <a:chExt cx="46800" cy="5040"/>
                  </a:xfrm>
                </p:grpSpPr>
                <p:sp>
                  <p:nvSpPr>
                    <p:cNvPr id="1770" name="Oval 780"/>
                    <p:cNvSpPr/>
                    <p:nvPr/>
                  </p:nvSpPr>
                  <p:spPr>
                    <a:xfrm>
                      <a:off x="4983120" y="4901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Oval 781"/>
                    <p:cNvSpPr/>
                    <p:nvPr/>
                  </p:nvSpPr>
                  <p:spPr>
                    <a:xfrm>
                      <a:off x="4975920" y="4901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Oval 782"/>
                    <p:cNvSpPr/>
                    <p:nvPr/>
                  </p:nvSpPr>
                  <p:spPr>
                    <a:xfrm>
                      <a:off x="4969080" y="49010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Oval 783"/>
                    <p:cNvSpPr/>
                    <p:nvPr/>
                  </p:nvSpPr>
                  <p:spPr>
                    <a:xfrm>
                      <a:off x="4962960" y="490104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Oval 784"/>
                    <p:cNvSpPr/>
                    <p:nvPr/>
                  </p:nvSpPr>
                  <p:spPr>
                    <a:xfrm>
                      <a:off x="4956120" y="490212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Oval 785"/>
                    <p:cNvSpPr/>
                    <p:nvPr/>
                  </p:nvSpPr>
                  <p:spPr>
                    <a:xfrm>
                      <a:off x="4942080" y="490212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76" name="Group 786"/>
                <p:cNvGrpSpPr/>
                <p:nvPr/>
              </p:nvGrpSpPr>
              <p:grpSpPr>
                <a:xfrm>
                  <a:off x="4898520" y="4902120"/>
                  <a:ext cx="37080" cy="3600"/>
                  <a:chOff x="4898520" y="4902120"/>
                  <a:chExt cx="37080" cy="3600"/>
                </a:xfrm>
              </p:grpSpPr>
              <p:sp>
                <p:nvSpPr>
                  <p:cNvPr id="1777" name="Oval 787"/>
                  <p:cNvSpPr/>
                  <p:nvPr/>
                </p:nvSpPr>
                <p:spPr>
                  <a:xfrm>
                    <a:off x="4929840" y="49021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Oval 788"/>
                  <p:cNvSpPr/>
                  <p:nvPr/>
                </p:nvSpPr>
                <p:spPr>
                  <a:xfrm>
                    <a:off x="4923000" y="49021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Oval 789"/>
                  <p:cNvSpPr/>
                  <p:nvPr/>
                </p:nvSpPr>
                <p:spPr>
                  <a:xfrm>
                    <a:off x="4917240" y="49021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Oval 790"/>
                  <p:cNvSpPr/>
                  <p:nvPr/>
                </p:nvSpPr>
                <p:spPr>
                  <a:xfrm>
                    <a:off x="4911480" y="49021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Oval 791"/>
                  <p:cNvSpPr/>
                  <p:nvPr/>
                </p:nvSpPr>
                <p:spPr>
                  <a:xfrm>
                    <a:off x="4904280" y="49021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Oval 792"/>
                  <p:cNvSpPr/>
                  <p:nvPr/>
                </p:nvSpPr>
                <p:spPr>
                  <a:xfrm>
                    <a:off x="4898520" y="49021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3" name="Group 793"/>
                <p:cNvGrpSpPr/>
                <p:nvPr/>
              </p:nvGrpSpPr>
              <p:grpSpPr>
                <a:xfrm>
                  <a:off x="4705200" y="4906080"/>
                  <a:ext cx="36000" cy="3600"/>
                  <a:chOff x="4705200" y="4906080"/>
                  <a:chExt cx="36000" cy="3600"/>
                </a:xfrm>
              </p:grpSpPr>
              <p:sp>
                <p:nvSpPr>
                  <p:cNvPr id="1784" name="Oval 794"/>
                  <p:cNvSpPr/>
                  <p:nvPr/>
                </p:nvSpPr>
                <p:spPr>
                  <a:xfrm>
                    <a:off x="4736880" y="490608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Oval 795"/>
                  <p:cNvSpPr/>
                  <p:nvPr/>
                </p:nvSpPr>
                <p:spPr>
                  <a:xfrm>
                    <a:off x="4729680" y="490608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Oval 796"/>
                  <p:cNvSpPr/>
                  <p:nvPr/>
                </p:nvSpPr>
                <p:spPr>
                  <a:xfrm>
                    <a:off x="4723920" y="490608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7" name="Oval 797"/>
                  <p:cNvSpPr/>
                  <p:nvPr/>
                </p:nvSpPr>
                <p:spPr>
                  <a:xfrm>
                    <a:off x="4717080" y="490608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Oval 798"/>
                  <p:cNvSpPr/>
                  <p:nvPr/>
                </p:nvSpPr>
                <p:spPr>
                  <a:xfrm>
                    <a:off x="4710960" y="490608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Oval 799"/>
                  <p:cNvSpPr/>
                  <p:nvPr/>
                </p:nvSpPr>
                <p:spPr>
                  <a:xfrm>
                    <a:off x="4705200" y="490608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90" name="Freeform 800"/>
            <p:cNvSpPr/>
            <p:nvPr/>
          </p:nvSpPr>
          <p:spPr>
            <a:xfrm>
              <a:off x="4605840" y="4853160"/>
              <a:ext cx="567360" cy="7668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1" name="Group 801"/>
            <p:cNvGrpSpPr/>
            <p:nvPr/>
          </p:nvGrpSpPr>
          <p:grpSpPr>
            <a:xfrm>
              <a:off x="5145120" y="4900320"/>
              <a:ext cx="12600" cy="4680"/>
              <a:chOff x="5145120" y="4900320"/>
              <a:chExt cx="12600" cy="4680"/>
            </a:xfrm>
          </p:grpSpPr>
          <p:sp>
            <p:nvSpPr>
              <p:cNvPr id="1792" name="Freeform 802"/>
              <p:cNvSpPr/>
              <p:nvPr/>
            </p:nvSpPr>
            <p:spPr>
              <a:xfrm>
                <a:off x="5145120" y="490032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Freeform 803"/>
              <p:cNvSpPr/>
              <p:nvPr/>
            </p:nvSpPr>
            <p:spPr>
              <a:xfrm>
                <a:off x="5149800" y="490032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804"/>
              <p:cNvSpPr/>
              <p:nvPr/>
            </p:nvSpPr>
            <p:spPr>
              <a:xfrm>
                <a:off x="5154120" y="49014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5" name="Arc 805"/>
            <p:cNvSpPr/>
            <p:nvPr/>
          </p:nvSpPr>
          <p:spPr>
            <a:xfrm>
              <a:off x="4582080" y="490392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806"/>
            <p:cNvSpPr/>
            <p:nvPr/>
          </p:nvSpPr>
          <p:spPr>
            <a:xfrm>
              <a:off x="4870800" y="491508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7" name="Group 807"/>
            <p:cNvGrpSpPr/>
            <p:nvPr/>
          </p:nvGrpSpPr>
          <p:grpSpPr>
            <a:xfrm>
              <a:off x="4794840" y="4914000"/>
              <a:ext cx="188640" cy="51120"/>
              <a:chOff x="4794840" y="4914000"/>
              <a:chExt cx="188640" cy="51120"/>
            </a:xfrm>
          </p:grpSpPr>
          <p:grpSp>
            <p:nvGrpSpPr>
              <p:cNvPr id="1798" name="Group 808"/>
              <p:cNvGrpSpPr/>
              <p:nvPr/>
            </p:nvGrpSpPr>
            <p:grpSpPr>
              <a:xfrm>
                <a:off x="4794840" y="4914000"/>
                <a:ext cx="188640" cy="29880"/>
                <a:chOff x="4794840" y="4914000"/>
                <a:chExt cx="188640" cy="29880"/>
              </a:xfrm>
            </p:grpSpPr>
            <p:sp>
              <p:nvSpPr>
                <p:cNvPr id="1799" name="Freeform 809"/>
                <p:cNvSpPr/>
                <p:nvPr/>
              </p:nvSpPr>
              <p:spPr>
                <a:xfrm>
                  <a:off x="4794840" y="491400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0" name="Freeform 810"/>
                <p:cNvSpPr/>
                <p:nvPr/>
              </p:nvSpPr>
              <p:spPr>
                <a:xfrm>
                  <a:off x="4794840" y="491904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Group 811"/>
              <p:cNvGrpSpPr/>
              <p:nvPr/>
            </p:nvGrpSpPr>
            <p:grpSpPr>
              <a:xfrm>
                <a:off x="4906080" y="4951440"/>
                <a:ext cx="49680" cy="13680"/>
                <a:chOff x="4906080" y="4951440"/>
                <a:chExt cx="49680" cy="13680"/>
              </a:xfrm>
            </p:grpSpPr>
            <p:grpSp>
              <p:nvGrpSpPr>
                <p:cNvPr id="1802" name="Group 812"/>
                <p:cNvGrpSpPr/>
                <p:nvPr/>
              </p:nvGrpSpPr>
              <p:grpSpPr>
                <a:xfrm>
                  <a:off x="4906080" y="4951440"/>
                  <a:ext cx="49680" cy="13680"/>
                  <a:chOff x="4906080" y="4951440"/>
                  <a:chExt cx="49680" cy="13680"/>
                </a:xfrm>
              </p:grpSpPr>
              <p:grpSp>
                <p:nvGrpSpPr>
                  <p:cNvPr id="1803" name="Group 813"/>
                  <p:cNvGrpSpPr/>
                  <p:nvPr/>
                </p:nvGrpSpPr>
                <p:grpSpPr>
                  <a:xfrm>
                    <a:off x="4906080" y="4951440"/>
                    <a:ext cx="4320" cy="12240"/>
                    <a:chOff x="4906080" y="4951440"/>
                    <a:chExt cx="4320" cy="12240"/>
                  </a:xfrm>
                </p:grpSpPr>
                <p:sp>
                  <p:nvSpPr>
                    <p:cNvPr id="1804" name="Freeform 814"/>
                    <p:cNvSpPr/>
                    <p:nvPr/>
                  </p:nvSpPr>
                  <p:spPr>
                    <a:xfrm>
                      <a:off x="4906080" y="495144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Freeform 815"/>
                    <p:cNvSpPr/>
                    <p:nvPr/>
                  </p:nvSpPr>
                  <p:spPr>
                    <a:xfrm>
                      <a:off x="4906080" y="495144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Freeform 816"/>
                    <p:cNvSpPr/>
                    <p:nvPr/>
                  </p:nvSpPr>
                  <p:spPr>
                    <a:xfrm>
                      <a:off x="4906080" y="495756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07" name="Freeform 817"/>
                  <p:cNvSpPr/>
                  <p:nvPr/>
                </p:nvSpPr>
                <p:spPr>
                  <a:xfrm>
                    <a:off x="4916160" y="495144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8" name="Freeform 818"/>
                <p:cNvSpPr/>
                <p:nvPr/>
              </p:nvSpPr>
              <p:spPr>
                <a:xfrm>
                  <a:off x="4916160" y="495504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9" name="Group 819"/>
              <p:cNvGrpSpPr/>
              <p:nvPr/>
            </p:nvGrpSpPr>
            <p:grpSpPr>
              <a:xfrm>
                <a:off x="4899960" y="4920120"/>
                <a:ext cx="70560" cy="32040"/>
                <a:chOff x="4899960" y="4920120"/>
                <a:chExt cx="70560" cy="32040"/>
              </a:xfrm>
            </p:grpSpPr>
            <p:grpSp>
              <p:nvGrpSpPr>
                <p:cNvPr id="1810" name="Group 820"/>
                <p:cNvGrpSpPr/>
                <p:nvPr/>
              </p:nvGrpSpPr>
              <p:grpSpPr>
                <a:xfrm>
                  <a:off x="4899960" y="4927680"/>
                  <a:ext cx="5760" cy="15840"/>
                  <a:chOff x="4899960" y="4927680"/>
                  <a:chExt cx="5760" cy="15840"/>
                </a:xfrm>
              </p:grpSpPr>
              <p:sp>
                <p:nvSpPr>
                  <p:cNvPr id="1811" name="Freeform 821"/>
                  <p:cNvSpPr/>
                  <p:nvPr/>
                </p:nvSpPr>
                <p:spPr>
                  <a:xfrm>
                    <a:off x="4899960" y="492768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Freeform 822"/>
                  <p:cNvSpPr/>
                  <p:nvPr/>
                </p:nvSpPr>
                <p:spPr>
                  <a:xfrm>
                    <a:off x="4899960" y="493236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Freeform 823"/>
                  <p:cNvSpPr/>
                  <p:nvPr/>
                </p:nvSpPr>
                <p:spPr>
                  <a:xfrm>
                    <a:off x="4899960" y="492984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Freeform 824"/>
                  <p:cNvSpPr/>
                  <p:nvPr/>
                </p:nvSpPr>
                <p:spPr>
                  <a:xfrm>
                    <a:off x="4899960" y="493992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5" name="Group 825"/>
                <p:cNvGrpSpPr/>
                <p:nvPr/>
              </p:nvGrpSpPr>
              <p:grpSpPr>
                <a:xfrm>
                  <a:off x="4911840" y="4920120"/>
                  <a:ext cx="58680" cy="32040"/>
                  <a:chOff x="4911840" y="4920120"/>
                  <a:chExt cx="58680" cy="32040"/>
                </a:xfrm>
              </p:grpSpPr>
              <p:sp>
                <p:nvSpPr>
                  <p:cNvPr id="1816" name="Freeform 826"/>
                  <p:cNvSpPr/>
                  <p:nvPr/>
                </p:nvSpPr>
                <p:spPr>
                  <a:xfrm>
                    <a:off x="4911840" y="492012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Freeform 827"/>
                  <p:cNvSpPr/>
                  <p:nvPr/>
                </p:nvSpPr>
                <p:spPr>
                  <a:xfrm>
                    <a:off x="4913640" y="492624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18" name="Group 828"/>
                  <p:cNvGrpSpPr/>
                  <p:nvPr/>
                </p:nvGrpSpPr>
                <p:grpSpPr>
                  <a:xfrm>
                    <a:off x="4935960" y="4926240"/>
                    <a:ext cx="34560" cy="25920"/>
                    <a:chOff x="4935960" y="4926240"/>
                    <a:chExt cx="34560" cy="25920"/>
                  </a:xfrm>
                </p:grpSpPr>
                <p:sp>
                  <p:nvSpPr>
                    <p:cNvPr id="1819" name="Line 829"/>
                    <p:cNvSpPr/>
                    <p:nvPr/>
                  </p:nvSpPr>
                  <p:spPr>
                    <a:xfrm>
                      <a:off x="4951080" y="492624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Line 830"/>
                    <p:cNvSpPr/>
                    <p:nvPr/>
                  </p:nvSpPr>
                  <p:spPr>
                    <a:xfrm flipH="1">
                      <a:off x="4960440" y="492624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1" name="Line 831"/>
                    <p:cNvSpPr/>
                    <p:nvPr/>
                  </p:nvSpPr>
                  <p:spPr>
                    <a:xfrm>
                      <a:off x="4935960" y="492624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22" name="Group 832"/>
            <p:cNvGrpSpPr/>
            <p:nvPr/>
          </p:nvGrpSpPr>
          <p:grpSpPr>
            <a:xfrm>
              <a:off x="4572000" y="4800600"/>
              <a:ext cx="340560" cy="133200"/>
              <a:chOff x="4572000" y="4800600"/>
              <a:chExt cx="340560" cy="133200"/>
            </a:xfrm>
          </p:grpSpPr>
          <p:sp>
            <p:nvSpPr>
              <p:cNvPr id="1823" name="Freeform 833"/>
              <p:cNvSpPr/>
              <p:nvPr/>
            </p:nvSpPr>
            <p:spPr>
              <a:xfrm>
                <a:off x="4588200" y="4800600"/>
                <a:ext cx="107640" cy="92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4" name="Group 834"/>
              <p:cNvGrpSpPr/>
              <p:nvPr/>
            </p:nvGrpSpPr>
            <p:grpSpPr>
              <a:xfrm>
                <a:off x="4572000" y="4862160"/>
                <a:ext cx="340560" cy="71640"/>
                <a:chOff x="4572000" y="4862160"/>
                <a:chExt cx="340560" cy="71640"/>
              </a:xfrm>
            </p:grpSpPr>
            <p:sp>
              <p:nvSpPr>
                <p:cNvPr id="1825" name="Freeform 835"/>
                <p:cNvSpPr/>
                <p:nvPr/>
              </p:nvSpPr>
              <p:spPr>
                <a:xfrm>
                  <a:off x="4619880" y="4916160"/>
                  <a:ext cx="47520" cy="17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26" name="Group 836"/>
                <p:cNvGrpSpPr/>
                <p:nvPr/>
              </p:nvGrpSpPr>
              <p:grpSpPr>
                <a:xfrm>
                  <a:off x="4572000" y="4862160"/>
                  <a:ext cx="340560" cy="50040"/>
                  <a:chOff x="4572000" y="4862160"/>
                  <a:chExt cx="340560" cy="50040"/>
                </a:xfrm>
              </p:grpSpPr>
              <p:sp>
                <p:nvSpPr>
                  <p:cNvPr id="1827" name="Freeform 837"/>
                  <p:cNvSpPr/>
                  <p:nvPr/>
                </p:nvSpPr>
                <p:spPr>
                  <a:xfrm>
                    <a:off x="4572000" y="489096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Freeform 838"/>
                  <p:cNvSpPr/>
                  <p:nvPr/>
                </p:nvSpPr>
                <p:spPr>
                  <a:xfrm>
                    <a:off x="4788720" y="4862160"/>
                    <a:ext cx="123840" cy="5004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29" name="Group 839"/>
                  <p:cNvGrpSpPr/>
                  <p:nvPr/>
                </p:nvGrpSpPr>
                <p:grpSpPr>
                  <a:xfrm>
                    <a:off x="4808520" y="4889520"/>
                    <a:ext cx="56160" cy="17280"/>
                    <a:chOff x="4808520" y="4889520"/>
                    <a:chExt cx="56160" cy="17280"/>
                  </a:xfrm>
                </p:grpSpPr>
                <p:grpSp>
                  <p:nvGrpSpPr>
                    <p:cNvPr id="1830" name="Group 840"/>
                    <p:cNvGrpSpPr/>
                    <p:nvPr/>
                  </p:nvGrpSpPr>
                  <p:grpSpPr>
                    <a:xfrm>
                      <a:off x="4821480" y="4901760"/>
                      <a:ext cx="43200" cy="5040"/>
                      <a:chOff x="4821480" y="4901760"/>
                      <a:chExt cx="43200" cy="5040"/>
                    </a:xfrm>
                  </p:grpSpPr>
                  <p:sp>
                    <p:nvSpPr>
                      <p:cNvPr id="1831" name="Freeform 841"/>
                      <p:cNvSpPr/>
                      <p:nvPr/>
                    </p:nvSpPr>
                    <p:spPr>
                      <a:xfrm>
                        <a:off x="4821480" y="490176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842"/>
                      <p:cNvSpPr/>
                      <p:nvPr/>
                    </p:nvSpPr>
                    <p:spPr>
                      <a:xfrm>
                        <a:off x="4834440" y="490176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33" name="Group 843"/>
                    <p:cNvGrpSpPr/>
                    <p:nvPr/>
                  </p:nvGrpSpPr>
                  <p:grpSpPr>
                    <a:xfrm>
                      <a:off x="4808520" y="4889520"/>
                      <a:ext cx="31680" cy="5040"/>
                      <a:chOff x="4808520" y="4889520"/>
                      <a:chExt cx="31680" cy="5040"/>
                    </a:xfrm>
                  </p:grpSpPr>
                  <p:sp>
                    <p:nvSpPr>
                      <p:cNvPr id="1834" name="Freeform 844"/>
                      <p:cNvSpPr/>
                      <p:nvPr/>
                    </p:nvSpPr>
                    <p:spPr>
                      <a:xfrm>
                        <a:off x="4808520" y="488952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Freeform 845"/>
                      <p:cNvSpPr/>
                      <p:nvPr/>
                    </p:nvSpPr>
                    <p:spPr>
                      <a:xfrm>
                        <a:off x="4821480" y="488952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836" name="Group 745"/>
          <p:cNvGrpSpPr/>
          <p:nvPr/>
        </p:nvGrpSpPr>
        <p:grpSpPr>
          <a:xfrm>
            <a:off x="4648320" y="4038480"/>
            <a:ext cx="601560" cy="164520"/>
            <a:chOff x="4648320" y="4038480"/>
            <a:chExt cx="601560" cy="164520"/>
          </a:xfrm>
        </p:grpSpPr>
        <p:grpSp>
          <p:nvGrpSpPr>
            <p:cNvPr id="1837" name="Group 746"/>
            <p:cNvGrpSpPr/>
            <p:nvPr/>
          </p:nvGrpSpPr>
          <p:grpSpPr>
            <a:xfrm>
              <a:off x="4664520" y="4038480"/>
              <a:ext cx="585360" cy="142200"/>
              <a:chOff x="4664520" y="4038480"/>
              <a:chExt cx="585360" cy="142200"/>
            </a:xfrm>
          </p:grpSpPr>
          <p:sp>
            <p:nvSpPr>
              <p:cNvPr id="1838" name="Freeform 747"/>
              <p:cNvSpPr/>
              <p:nvPr/>
            </p:nvSpPr>
            <p:spPr>
              <a:xfrm>
                <a:off x="4664520" y="4038480"/>
                <a:ext cx="585360" cy="14220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39" name="Group 748"/>
              <p:cNvGrpSpPr/>
              <p:nvPr/>
            </p:nvGrpSpPr>
            <p:grpSpPr>
              <a:xfrm>
                <a:off x="4767840" y="4133880"/>
                <a:ext cx="436680" cy="26280"/>
                <a:chOff x="4767840" y="4133880"/>
                <a:chExt cx="436680" cy="26280"/>
              </a:xfrm>
            </p:grpSpPr>
            <p:sp>
              <p:nvSpPr>
                <p:cNvPr id="1840" name="Freeform 749"/>
                <p:cNvSpPr/>
                <p:nvPr/>
              </p:nvSpPr>
              <p:spPr>
                <a:xfrm>
                  <a:off x="5193000" y="413388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1" name="Freeform 750"/>
                <p:cNvSpPr/>
                <p:nvPr/>
              </p:nvSpPr>
              <p:spPr>
                <a:xfrm>
                  <a:off x="5074920" y="413496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2" name="Freeform 751"/>
                <p:cNvSpPr/>
                <p:nvPr/>
              </p:nvSpPr>
              <p:spPr>
                <a:xfrm>
                  <a:off x="4872960" y="413640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3" name="Freeform 752"/>
                <p:cNvSpPr/>
                <p:nvPr/>
              </p:nvSpPr>
              <p:spPr>
                <a:xfrm>
                  <a:off x="4767840" y="413784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4" name="Group 753"/>
              <p:cNvGrpSpPr/>
              <p:nvPr/>
            </p:nvGrpSpPr>
            <p:grpSpPr>
              <a:xfrm>
                <a:off x="4781520" y="4137840"/>
                <a:ext cx="397080" cy="9720"/>
                <a:chOff x="4781520" y="4137840"/>
                <a:chExt cx="397080" cy="9720"/>
              </a:xfrm>
            </p:grpSpPr>
            <p:grpSp>
              <p:nvGrpSpPr>
                <p:cNvPr id="1845" name="Group 754"/>
                <p:cNvGrpSpPr/>
                <p:nvPr/>
              </p:nvGrpSpPr>
              <p:grpSpPr>
                <a:xfrm>
                  <a:off x="4818960" y="4142520"/>
                  <a:ext cx="44280" cy="3600"/>
                  <a:chOff x="4818960" y="4142520"/>
                  <a:chExt cx="44280" cy="3600"/>
                </a:xfrm>
              </p:grpSpPr>
              <p:sp>
                <p:nvSpPr>
                  <p:cNvPr id="1846" name="Oval 755"/>
                  <p:cNvSpPr/>
                  <p:nvPr/>
                </p:nvSpPr>
                <p:spPr>
                  <a:xfrm>
                    <a:off x="4857480" y="41425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Oval 756"/>
                  <p:cNvSpPr/>
                  <p:nvPr/>
                </p:nvSpPr>
                <p:spPr>
                  <a:xfrm>
                    <a:off x="4851360" y="41425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Oval 757"/>
                  <p:cNvSpPr/>
                  <p:nvPr/>
                </p:nvSpPr>
                <p:spPr>
                  <a:xfrm>
                    <a:off x="4845600" y="41425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9" name="Oval 758"/>
                  <p:cNvSpPr/>
                  <p:nvPr/>
                </p:nvSpPr>
                <p:spPr>
                  <a:xfrm>
                    <a:off x="4838760" y="41425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Oval 759"/>
                  <p:cNvSpPr/>
                  <p:nvPr/>
                </p:nvSpPr>
                <p:spPr>
                  <a:xfrm>
                    <a:off x="4832640" y="414252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Oval 760"/>
                  <p:cNvSpPr/>
                  <p:nvPr/>
                </p:nvSpPr>
                <p:spPr>
                  <a:xfrm>
                    <a:off x="4825800" y="41436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Oval 761"/>
                  <p:cNvSpPr/>
                  <p:nvPr/>
                </p:nvSpPr>
                <p:spPr>
                  <a:xfrm>
                    <a:off x="4818960" y="41436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3" name="Group 762"/>
                <p:cNvGrpSpPr/>
                <p:nvPr/>
              </p:nvGrpSpPr>
              <p:grpSpPr>
                <a:xfrm>
                  <a:off x="5018400" y="4137840"/>
                  <a:ext cx="160200" cy="6120"/>
                  <a:chOff x="5018400" y="4137840"/>
                  <a:chExt cx="160200" cy="6120"/>
                </a:xfrm>
              </p:grpSpPr>
              <p:grpSp>
                <p:nvGrpSpPr>
                  <p:cNvPr id="1854" name="Group 763"/>
                  <p:cNvGrpSpPr/>
                  <p:nvPr/>
                </p:nvGrpSpPr>
                <p:grpSpPr>
                  <a:xfrm>
                    <a:off x="5133240" y="4137840"/>
                    <a:ext cx="45360" cy="3600"/>
                    <a:chOff x="5133240" y="4137840"/>
                    <a:chExt cx="45360" cy="3600"/>
                  </a:xfrm>
                </p:grpSpPr>
                <p:sp>
                  <p:nvSpPr>
                    <p:cNvPr id="1855" name="Oval 764"/>
                    <p:cNvSpPr/>
                    <p:nvPr/>
                  </p:nvSpPr>
                  <p:spPr>
                    <a:xfrm>
                      <a:off x="5174280" y="413784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Oval 765"/>
                    <p:cNvSpPr/>
                    <p:nvPr/>
                  </p:nvSpPr>
                  <p:spPr>
                    <a:xfrm>
                      <a:off x="5167080" y="413784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Oval 766"/>
                    <p:cNvSpPr/>
                    <p:nvPr/>
                  </p:nvSpPr>
                  <p:spPr>
                    <a:xfrm>
                      <a:off x="5160240" y="4137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Oval 767"/>
                    <p:cNvSpPr/>
                    <p:nvPr/>
                  </p:nvSpPr>
                  <p:spPr>
                    <a:xfrm>
                      <a:off x="5153040" y="4137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Oval 768"/>
                    <p:cNvSpPr/>
                    <p:nvPr/>
                  </p:nvSpPr>
                  <p:spPr>
                    <a:xfrm>
                      <a:off x="5146200" y="4137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Oval 769"/>
                    <p:cNvSpPr/>
                    <p:nvPr/>
                  </p:nvSpPr>
                  <p:spPr>
                    <a:xfrm>
                      <a:off x="5140080" y="413784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Oval 770"/>
                    <p:cNvSpPr/>
                    <p:nvPr/>
                  </p:nvSpPr>
                  <p:spPr>
                    <a:xfrm>
                      <a:off x="5133240" y="4137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2" name="Group 771"/>
                  <p:cNvGrpSpPr/>
                  <p:nvPr/>
                </p:nvGrpSpPr>
                <p:grpSpPr>
                  <a:xfrm>
                    <a:off x="5085360" y="4137840"/>
                    <a:ext cx="46440" cy="4680"/>
                    <a:chOff x="5085360" y="4137840"/>
                    <a:chExt cx="46440" cy="4680"/>
                  </a:xfrm>
                </p:grpSpPr>
                <p:sp>
                  <p:nvSpPr>
                    <p:cNvPr id="1863" name="Oval 772"/>
                    <p:cNvSpPr/>
                    <p:nvPr/>
                  </p:nvSpPr>
                  <p:spPr>
                    <a:xfrm>
                      <a:off x="5126040" y="4137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Oval 773"/>
                    <p:cNvSpPr/>
                    <p:nvPr/>
                  </p:nvSpPr>
                  <p:spPr>
                    <a:xfrm>
                      <a:off x="5118840" y="4137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Oval 774"/>
                    <p:cNvSpPr/>
                    <p:nvPr/>
                  </p:nvSpPr>
                  <p:spPr>
                    <a:xfrm>
                      <a:off x="5113080" y="413892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6" name="Oval 775"/>
                    <p:cNvSpPr/>
                    <p:nvPr/>
                  </p:nvSpPr>
                  <p:spPr>
                    <a:xfrm>
                      <a:off x="5106240" y="413892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7" name="Oval 776"/>
                    <p:cNvSpPr/>
                    <p:nvPr/>
                  </p:nvSpPr>
                  <p:spPr>
                    <a:xfrm>
                      <a:off x="5099040" y="413892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8" name="Oval 777"/>
                    <p:cNvSpPr/>
                    <p:nvPr/>
                  </p:nvSpPr>
                  <p:spPr>
                    <a:xfrm>
                      <a:off x="5092200" y="413892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9" name="Oval 778"/>
                    <p:cNvSpPr/>
                    <p:nvPr/>
                  </p:nvSpPr>
                  <p:spPr>
                    <a:xfrm>
                      <a:off x="5085360" y="41389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0" name="Group 779"/>
                  <p:cNvGrpSpPr/>
                  <p:nvPr/>
                </p:nvGrpSpPr>
                <p:grpSpPr>
                  <a:xfrm>
                    <a:off x="5018400" y="4138920"/>
                    <a:ext cx="46800" cy="5040"/>
                    <a:chOff x="5018400" y="4138920"/>
                    <a:chExt cx="46800" cy="5040"/>
                  </a:xfrm>
                </p:grpSpPr>
                <p:sp>
                  <p:nvSpPr>
                    <p:cNvPr id="1871" name="Oval 780"/>
                    <p:cNvSpPr/>
                    <p:nvPr/>
                  </p:nvSpPr>
                  <p:spPr>
                    <a:xfrm>
                      <a:off x="5059440" y="41389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2" name="Oval 781"/>
                    <p:cNvSpPr/>
                    <p:nvPr/>
                  </p:nvSpPr>
                  <p:spPr>
                    <a:xfrm>
                      <a:off x="5052240" y="41389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3" name="Oval 782"/>
                    <p:cNvSpPr/>
                    <p:nvPr/>
                  </p:nvSpPr>
                  <p:spPr>
                    <a:xfrm>
                      <a:off x="5045400" y="41389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4" name="Oval 783"/>
                    <p:cNvSpPr/>
                    <p:nvPr/>
                  </p:nvSpPr>
                  <p:spPr>
                    <a:xfrm>
                      <a:off x="5039280" y="413892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5" name="Oval 784"/>
                    <p:cNvSpPr/>
                    <p:nvPr/>
                  </p:nvSpPr>
                  <p:spPr>
                    <a:xfrm>
                      <a:off x="5032440" y="414000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6" name="Oval 785"/>
                    <p:cNvSpPr/>
                    <p:nvPr/>
                  </p:nvSpPr>
                  <p:spPr>
                    <a:xfrm>
                      <a:off x="5018400" y="414000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77" name="Group 786"/>
                <p:cNvGrpSpPr/>
                <p:nvPr/>
              </p:nvGrpSpPr>
              <p:grpSpPr>
                <a:xfrm>
                  <a:off x="4974840" y="4140000"/>
                  <a:ext cx="37080" cy="3600"/>
                  <a:chOff x="4974840" y="4140000"/>
                  <a:chExt cx="37080" cy="3600"/>
                </a:xfrm>
              </p:grpSpPr>
              <p:sp>
                <p:nvSpPr>
                  <p:cNvPr id="1878" name="Oval 787"/>
                  <p:cNvSpPr/>
                  <p:nvPr/>
                </p:nvSpPr>
                <p:spPr>
                  <a:xfrm>
                    <a:off x="5006160" y="41400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Oval 788"/>
                  <p:cNvSpPr/>
                  <p:nvPr/>
                </p:nvSpPr>
                <p:spPr>
                  <a:xfrm>
                    <a:off x="4999320" y="41400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Oval 789"/>
                  <p:cNvSpPr/>
                  <p:nvPr/>
                </p:nvSpPr>
                <p:spPr>
                  <a:xfrm>
                    <a:off x="4993560" y="41400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Oval 790"/>
                  <p:cNvSpPr/>
                  <p:nvPr/>
                </p:nvSpPr>
                <p:spPr>
                  <a:xfrm>
                    <a:off x="4987800" y="41400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Oval 791"/>
                  <p:cNvSpPr/>
                  <p:nvPr/>
                </p:nvSpPr>
                <p:spPr>
                  <a:xfrm>
                    <a:off x="4980600" y="41400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Oval 792"/>
                  <p:cNvSpPr/>
                  <p:nvPr/>
                </p:nvSpPr>
                <p:spPr>
                  <a:xfrm>
                    <a:off x="4974840" y="41400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4" name="Group 793"/>
                <p:cNvGrpSpPr/>
                <p:nvPr/>
              </p:nvGrpSpPr>
              <p:grpSpPr>
                <a:xfrm>
                  <a:off x="4781520" y="4143960"/>
                  <a:ext cx="36000" cy="3600"/>
                  <a:chOff x="4781520" y="4143960"/>
                  <a:chExt cx="36000" cy="3600"/>
                </a:xfrm>
              </p:grpSpPr>
              <p:sp>
                <p:nvSpPr>
                  <p:cNvPr id="1885" name="Oval 794"/>
                  <p:cNvSpPr/>
                  <p:nvPr/>
                </p:nvSpPr>
                <p:spPr>
                  <a:xfrm>
                    <a:off x="4813200" y="414396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Oval 795"/>
                  <p:cNvSpPr/>
                  <p:nvPr/>
                </p:nvSpPr>
                <p:spPr>
                  <a:xfrm>
                    <a:off x="4806000" y="414396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Oval 796"/>
                  <p:cNvSpPr/>
                  <p:nvPr/>
                </p:nvSpPr>
                <p:spPr>
                  <a:xfrm>
                    <a:off x="4800240" y="41439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Oval 797"/>
                  <p:cNvSpPr/>
                  <p:nvPr/>
                </p:nvSpPr>
                <p:spPr>
                  <a:xfrm>
                    <a:off x="4793400" y="41439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Oval 798"/>
                  <p:cNvSpPr/>
                  <p:nvPr/>
                </p:nvSpPr>
                <p:spPr>
                  <a:xfrm>
                    <a:off x="4787280" y="414396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Oval 799"/>
                  <p:cNvSpPr/>
                  <p:nvPr/>
                </p:nvSpPr>
                <p:spPr>
                  <a:xfrm>
                    <a:off x="4781520" y="414396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91" name="Freeform 800"/>
            <p:cNvSpPr/>
            <p:nvPr/>
          </p:nvSpPr>
          <p:spPr>
            <a:xfrm>
              <a:off x="4682160" y="4091040"/>
              <a:ext cx="567360" cy="7668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2" name="Group 801"/>
            <p:cNvGrpSpPr/>
            <p:nvPr/>
          </p:nvGrpSpPr>
          <p:grpSpPr>
            <a:xfrm>
              <a:off x="5221440" y="4138200"/>
              <a:ext cx="12600" cy="4680"/>
              <a:chOff x="5221440" y="4138200"/>
              <a:chExt cx="12600" cy="4680"/>
            </a:xfrm>
          </p:grpSpPr>
          <p:sp>
            <p:nvSpPr>
              <p:cNvPr id="1893" name="Freeform 802"/>
              <p:cNvSpPr/>
              <p:nvPr/>
            </p:nvSpPr>
            <p:spPr>
              <a:xfrm>
                <a:off x="5221440" y="413820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Freeform 803"/>
              <p:cNvSpPr/>
              <p:nvPr/>
            </p:nvSpPr>
            <p:spPr>
              <a:xfrm>
                <a:off x="5226120" y="413820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Freeform 804"/>
              <p:cNvSpPr/>
              <p:nvPr/>
            </p:nvSpPr>
            <p:spPr>
              <a:xfrm>
                <a:off x="5230440" y="4139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6" name="Arc 805"/>
            <p:cNvSpPr/>
            <p:nvPr/>
          </p:nvSpPr>
          <p:spPr>
            <a:xfrm>
              <a:off x="4658400" y="414180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Freeform 806"/>
            <p:cNvSpPr/>
            <p:nvPr/>
          </p:nvSpPr>
          <p:spPr>
            <a:xfrm>
              <a:off x="4947120" y="415296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8" name="Group 807"/>
            <p:cNvGrpSpPr/>
            <p:nvPr/>
          </p:nvGrpSpPr>
          <p:grpSpPr>
            <a:xfrm>
              <a:off x="4871160" y="4151880"/>
              <a:ext cx="188640" cy="51120"/>
              <a:chOff x="4871160" y="4151880"/>
              <a:chExt cx="188640" cy="51120"/>
            </a:xfrm>
          </p:grpSpPr>
          <p:grpSp>
            <p:nvGrpSpPr>
              <p:cNvPr id="1899" name="Group 808"/>
              <p:cNvGrpSpPr/>
              <p:nvPr/>
            </p:nvGrpSpPr>
            <p:grpSpPr>
              <a:xfrm>
                <a:off x="4871160" y="4151880"/>
                <a:ext cx="188640" cy="29880"/>
                <a:chOff x="4871160" y="4151880"/>
                <a:chExt cx="188640" cy="29880"/>
              </a:xfrm>
            </p:grpSpPr>
            <p:sp>
              <p:nvSpPr>
                <p:cNvPr id="1900" name="Freeform 809"/>
                <p:cNvSpPr/>
                <p:nvPr/>
              </p:nvSpPr>
              <p:spPr>
                <a:xfrm>
                  <a:off x="4871160" y="415188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810"/>
                <p:cNvSpPr/>
                <p:nvPr/>
              </p:nvSpPr>
              <p:spPr>
                <a:xfrm>
                  <a:off x="4871160" y="415692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811"/>
              <p:cNvGrpSpPr/>
              <p:nvPr/>
            </p:nvGrpSpPr>
            <p:grpSpPr>
              <a:xfrm>
                <a:off x="4982400" y="4189320"/>
                <a:ext cx="49680" cy="13680"/>
                <a:chOff x="4982400" y="4189320"/>
                <a:chExt cx="49680" cy="13680"/>
              </a:xfrm>
            </p:grpSpPr>
            <p:grpSp>
              <p:nvGrpSpPr>
                <p:cNvPr id="1903" name="Group 812"/>
                <p:cNvGrpSpPr/>
                <p:nvPr/>
              </p:nvGrpSpPr>
              <p:grpSpPr>
                <a:xfrm>
                  <a:off x="4982400" y="4189320"/>
                  <a:ext cx="49680" cy="13680"/>
                  <a:chOff x="4982400" y="4189320"/>
                  <a:chExt cx="49680" cy="13680"/>
                </a:xfrm>
              </p:grpSpPr>
              <p:grpSp>
                <p:nvGrpSpPr>
                  <p:cNvPr id="1904" name="Group 813"/>
                  <p:cNvGrpSpPr/>
                  <p:nvPr/>
                </p:nvGrpSpPr>
                <p:grpSpPr>
                  <a:xfrm>
                    <a:off x="4982400" y="4189320"/>
                    <a:ext cx="4320" cy="12240"/>
                    <a:chOff x="4982400" y="4189320"/>
                    <a:chExt cx="4320" cy="12240"/>
                  </a:xfrm>
                </p:grpSpPr>
                <p:sp>
                  <p:nvSpPr>
                    <p:cNvPr id="1905" name="Freeform 814"/>
                    <p:cNvSpPr/>
                    <p:nvPr/>
                  </p:nvSpPr>
                  <p:spPr>
                    <a:xfrm>
                      <a:off x="4982400" y="418932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6" name="Freeform 815"/>
                    <p:cNvSpPr/>
                    <p:nvPr/>
                  </p:nvSpPr>
                  <p:spPr>
                    <a:xfrm>
                      <a:off x="4982400" y="418932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Freeform 816"/>
                    <p:cNvSpPr/>
                    <p:nvPr/>
                  </p:nvSpPr>
                  <p:spPr>
                    <a:xfrm>
                      <a:off x="4982400" y="419544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08" name="Freeform 817"/>
                  <p:cNvSpPr/>
                  <p:nvPr/>
                </p:nvSpPr>
                <p:spPr>
                  <a:xfrm>
                    <a:off x="4992480" y="418932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9" name="Freeform 818"/>
                <p:cNvSpPr/>
                <p:nvPr/>
              </p:nvSpPr>
              <p:spPr>
                <a:xfrm>
                  <a:off x="4992480" y="419292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0" name="Group 819"/>
              <p:cNvGrpSpPr/>
              <p:nvPr/>
            </p:nvGrpSpPr>
            <p:grpSpPr>
              <a:xfrm>
                <a:off x="4976280" y="4158000"/>
                <a:ext cx="70560" cy="32040"/>
                <a:chOff x="4976280" y="4158000"/>
                <a:chExt cx="70560" cy="32040"/>
              </a:xfrm>
            </p:grpSpPr>
            <p:grpSp>
              <p:nvGrpSpPr>
                <p:cNvPr id="1911" name="Group 820"/>
                <p:cNvGrpSpPr/>
                <p:nvPr/>
              </p:nvGrpSpPr>
              <p:grpSpPr>
                <a:xfrm>
                  <a:off x="4976280" y="4165560"/>
                  <a:ext cx="5760" cy="15840"/>
                  <a:chOff x="4976280" y="4165560"/>
                  <a:chExt cx="5760" cy="15840"/>
                </a:xfrm>
              </p:grpSpPr>
              <p:sp>
                <p:nvSpPr>
                  <p:cNvPr id="1912" name="Freeform 821"/>
                  <p:cNvSpPr/>
                  <p:nvPr/>
                </p:nvSpPr>
                <p:spPr>
                  <a:xfrm>
                    <a:off x="4976280" y="416556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Freeform 822"/>
                  <p:cNvSpPr/>
                  <p:nvPr/>
                </p:nvSpPr>
                <p:spPr>
                  <a:xfrm>
                    <a:off x="4976280" y="417024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823"/>
                  <p:cNvSpPr/>
                  <p:nvPr/>
                </p:nvSpPr>
                <p:spPr>
                  <a:xfrm>
                    <a:off x="4976280" y="416772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824"/>
                  <p:cNvSpPr/>
                  <p:nvPr/>
                </p:nvSpPr>
                <p:spPr>
                  <a:xfrm>
                    <a:off x="4976280" y="417780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6" name="Group 825"/>
                <p:cNvGrpSpPr/>
                <p:nvPr/>
              </p:nvGrpSpPr>
              <p:grpSpPr>
                <a:xfrm>
                  <a:off x="4988160" y="4158000"/>
                  <a:ext cx="58680" cy="32040"/>
                  <a:chOff x="4988160" y="4158000"/>
                  <a:chExt cx="58680" cy="32040"/>
                </a:xfrm>
              </p:grpSpPr>
              <p:sp>
                <p:nvSpPr>
                  <p:cNvPr id="1917" name="Freeform 826"/>
                  <p:cNvSpPr/>
                  <p:nvPr/>
                </p:nvSpPr>
                <p:spPr>
                  <a:xfrm>
                    <a:off x="4988160" y="415800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Freeform 827"/>
                  <p:cNvSpPr/>
                  <p:nvPr/>
                </p:nvSpPr>
                <p:spPr>
                  <a:xfrm>
                    <a:off x="4989960" y="416412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9" name="Group 828"/>
                  <p:cNvGrpSpPr/>
                  <p:nvPr/>
                </p:nvGrpSpPr>
                <p:grpSpPr>
                  <a:xfrm>
                    <a:off x="5012280" y="4164120"/>
                    <a:ext cx="34560" cy="25920"/>
                    <a:chOff x="5012280" y="4164120"/>
                    <a:chExt cx="34560" cy="25920"/>
                  </a:xfrm>
                </p:grpSpPr>
                <p:sp>
                  <p:nvSpPr>
                    <p:cNvPr id="1920" name="Line 829"/>
                    <p:cNvSpPr/>
                    <p:nvPr/>
                  </p:nvSpPr>
                  <p:spPr>
                    <a:xfrm>
                      <a:off x="5027400" y="416412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Line 830"/>
                    <p:cNvSpPr/>
                    <p:nvPr/>
                  </p:nvSpPr>
                  <p:spPr>
                    <a:xfrm flipH="1">
                      <a:off x="5036760" y="416412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831"/>
                    <p:cNvSpPr/>
                    <p:nvPr/>
                  </p:nvSpPr>
                  <p:spPr>
                    <a:xfrm>
                      <a:off x="5012280" y="416412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23" name="Group 832"/>
            <p:cNvGrpSpPr/>
            <p:nvPr/>
          </p:nvGrpSpPr>
          <p:grpSpPr>
            <a:xfrm>
              <a:off x="4648320" y="4038480"/>
              <a:ext cx="340560" cy="133200"/>
              <a:chOff x="4648320" y="4038480"/>
              <a:chExt cx="340560" cy="133200"/>
            </a:xfrm>
          </p:grpSpPr>
          <p:sp>
            <p:nvSpPr>
              <p:cNvPr id="1924" name="Freeform 833"/>
              <p:cNvSpPr/>
              <p:nvPr/>
            </p:nvSpPr>
            <p:spPr>
              <a:xfrm>
                <a:off x="4664520" y="4038480"/>
                <a:ext cx="107640" cy="92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25" name="Group 834"/>
              <p:cNvGrpSpPr/>
              <p:nvPr/>
            </p:nvGrpSpPr>
            <p:grpSpPr>
              <a:xfrm>
                <a:off x="4648320" y="4100040"/>
                <a:ext cx="340560" cy="71640"/>
                <a:chOff x="4648320" y="4100040"/>
                <a:chExt cx="340560" cy="71640"/>
              </a:xfrm>
            </p:grpSpPr>
            <p:sp>
              <p:nvSpPr>
                <p:cNvPr id="1926" name="Freeform 835"/>
                <p:cNvSpPr/>
                <p:nvPr/>
              </p:nvSpPr>
              <p:spPr>
                <a:xfrm>
                  <a:off x="4696200" y="4154040"/>
                  <a:ext cx="47520" cy="17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27" name="Group 836"/>
                <p:cNvGrpSpPr/>
                <p:nvPr/>
              </p:nvGrpSpPr>
              <p:grpSpPr>
                <a:xfrm>
                  <a:off x="4648320" y="4100040"/>
                  <a:ext cx="340560" cy="50040"/>
                  <a:chOff x="4648320" y="4100040"/>
                  <a:chExt cx="340560" cy="50040"/>
                </a:xfrm>
              </p:grpSpPr>
              <p:sp>
                <p:nvSpPr>
                  <p:cNvPr id="1928" name="Freeform 837"/>
                  <p:cNvSpPr/>
                  <p:nvPr/>
                </p:nvSpPr>
                <p:spPr>
                  <a:xfrm>
                    <a:off x="4648320" y="412884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Freeform 838"/>
                  <p:cNvSpPr/>
                  <p:nvPr/>
                </p:nvSpPr>
                <p:spPr>
                  <a:xfrm>
                    <a:off x="4865040" y="4100040"/>
                    <a:ext cx="123840" cy="5004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0" name="Group 839"/>
                  <p:cNvGrpSpPr/>
                  <p:nvPr/>
                </p:nvGrpSpPr>
                <p:grpSpPr>
                  <a:xfrm>
                    <a:off x="4884840" y="4127400"/>
                    <a:ext cx="56160" cy="17280"/>
                    <a:chOff x="4884840" y="4127400"/>
                    <a:chExt cx="56160" cy="17280"/>
                  </a:xfrm>
                </p:grpSpPr>
                <p:grpSp>
                  <p:nvGrpSpPr>
                    <p:cNvPr id="1931" name="Group 840"/>
                    <p:cNvGrpSpPr/>
                    <p:nvPr/>
                  </p:nvGrpSpPr>
                  <p:grpSpPr>
                    <a:xfrm>
                      <a:off x="4897800" y="4139640"/>
                      <a:ext cx="43200" cy="5040"/>
                      <a:chOff x="4897800" y="4139640"/>
                      <a:chExt cx="43200" cy="5040"/>
                    </a:xfrm>
                  </p:grpSpPr>
                  <p:sp>
                    <p:nvSpPr>
                      <p:cNvPr id="1932" name="Freeform 841"/>
                      <p:cNvSpPr/>
                      <p:nvPr/>
                    </p:nvSpPr>
                    <p:spPr>
                      <a:xfrm>
                        <a:off x="4897800" y="413964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Freeform 842"/>
                      <p:cNvSpPr/>
                      <p:nvPr/>
                    </p:nvSpPr>
                    <p:spPr>
                      <a:xfrm>
                        <a:off x="4910760" y="413964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843"/>
                    <p:cNvGrpSpPr/>
                    <p:nvPr/>
                  </p:nvGrpSpPr>
                  <p:grpSpPr>
                    <a:xfrm>
                      <a:off x="4884840" y="4127400"/>
                      <a:ext cx="31680" cy="5040"/>
                      <a:chOff x="4884840" y="4127400"/>
                      <a:chExt cx="31680" cy="5040"/>
                    </a:xfrm>
                  </p:grpSpPr>
                  <p:sp>
                    <p:nvSpPr>
                      <p:cNvPr id="1935" name="Freeform 844"/>
                      <p:cNvSpPr/>
                      <p:nvPr/>
                    </p:nvSpPr>
                    <p:spPr>
                      <a:xfrm>
                        <a:off x="4884840" y="412740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Freeform 845"/>
                      <p:cNvSpPr/>
                      <p:nvPr/>
                    </p:nvSpPr>
                    <p:spPr>
                      <a:xfrm>
                        <a:off x="4897800" y="412740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937" name="Group 745"/>
          <p:cNvGrpSpPr/>
          <p:nvPr/>
        </p:nvGrpSpPr>
        <p:grpSpPr>
          <a:xfrm>
            <a:off x="4648320" y="3200400"/>
            <a:ext cx="601560" cy="164520"/>
            <a:chOff x="4648320" y="3200400"/>
            <a:chExt cx="601560" cy="164520"/>
          </a:xfrm>
        </p:grpSpPr>
        <p:grpSp>
          <p:nvGrpSpPr>
            <p:cNvPr id="1938" name="Group 746"/>
            <p:cNvGrpSpPr/>
            <p:nvPr/>
          </p:nvGrpSpPr>
          <p:grpSpPr>
            <a:xfrm>
              <a:off x="4664520" y="3200400"/>
              <a:ext cx="585360" cy="142200"/>
              <a:chOff x="4664520" y="3200400"/>
              <a:chExt cx="585360" cy="142200"/>
            </a:xfrm>
          </p:grpSpPr>
          <p:sp>
            <p:nvSpPr>
              <p:cNvPr id="1939" name="Freeform 747"/>
              <p:cNvSpPr/>
              <p:nvPr/>
            </p:nvSpPr>
            <p:spPr>
              <a:xfrm>
                <a:off x="4664520" y="3200400"/>
                <a:ext cx="585360" cy="14220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40" name="Group 748"/>
              <p:cNvGrpSpPr/>
              <p:nvPr/>
            </p:nvGrpSpPr>
            <p:grpSpPr>
              <a:xfrm>
                <a:off x="4767840" y="3295800"/>
                <a:ext cx="436680" cy="26280"/>
                <a:chOff x="4767840" y="3295800"/>
                <a:chExt cx="436680" cy="26280"/>
              </a:xfrm>
            </p:grpSpPr>
            <p:sp>
              <p:nvSpPr>
                <p:cNvPr id="1941" name="Freeform 749"/>
                <p:cNvSpPr/>
                <p:nvPr/>
              </p:nvSpPr>
              <p:spPr>
                <a:xfrm>
                  <a:off x="5193000" y="329580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2" name="Freeform 750"/>
                <p:cNvSpPr/>
                <p:nvPr/>
              </p:nvSpPr>
              <p:spPr>
                <a:xfrm>
                  <a:off x="5074920" y="329688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3" name="Freeform 751"/>
                <p:cNvSpPr/>
                <p:nvPr/>
              </p:nvSpPr>
              <p:spPr>
                <a:xfrm>
                  <a:off x="4872960" y="329832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4" name="Freeform 752"/>
                <p:cNvSpPr/>
                <p:nvPr/>
              </p:nvSpPr>
              <p:spPr>
                <a:xfrm>
                  <a:off x="4767840" y="329976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5" name="Group 753"/>
              <p:cNvGrpSpPr/>
              <p:nvPr/>
            </p:nvGrpSpPr>
            <p:grpSpPr>
              <a:xfrm>
                <a:off x="4781520" y="3299760"/>
                <a:ext cx="397080" cy="9720"/>
                <a:chOff x="4781520" y="3299760"/>
                <a:chExt cx="397080" cy="9720"/>
              </a:xfrm>
            </p:grpSpPr>
            <p:grpSp>
              <p:nvGrpSpPr>
                <p:cNvPr id="1946" name="Group 754"/>
                <p:cNvGrpSpPr/>
                <p:nvPr/>
              </p:nvGrpSpPr>
              <p:grpSpPr>
                <a:xfrm>
                  <a:off x="4818960" y="3304440"/>
                  <a:ext cx="44280" cy="3600"/>
                  <a:chOff x="4818960" y="3304440"/>
                  <a:chExt cx="44280" cy="3600"/>
                </a:xfrm>
              </p:grpSpPr>
              <p:sp>
                <p:nvSpPr>
                  <p:cNvPr id="1947" name="Oval 755"/>
                  <p:cNvSpPr/>
                  <p:nvPr/>
                </p:nvSpPr>
                <p:spPr>
                  <a:xfrm>
                    <a:off x="4857480" y="33044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Oval 756"/>
                  <p:cNvSpPr/>
                  <p:nvPr/>
                </p:nvSpPr>
                <p:spPr>
                  <a:xfrm>
                    <a:off x="4851360" y="33044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Oval 757"/>
                  <p:cNvSpPr/>
                  <p:nvPr/>
                </p:nvSpPr>
                <p:spPr>
                  <a:xfrm>
                    <a:off x="4845600" y="33044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0" name="Oval 758"/>
                  <p:cNvSpPr/>
                  <p:nvPr/>
                </p:nvSpPr>
                <p:spPr>
                  <a:xfrm>
                    <a:off x="4838760" y="33044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Oval 759"/>
                  <p:cNvSpPr/>
                  <p:nvPr/>
                </p:nvSpPr>
                <p:spPr>
                  <a:xfrm>
                    <a:off x="4832640" y="330444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Oval 760"/>
                  <p:cNvSpPr/>
                  <p:nvPr/>
                </p:nvSpPr>
                <p:spPr>
                  <a:xfrm>
                    <a:off x="4825800" y="33055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3" name="Oval 761"/>
                  <p:cNvSpPr/>
                  <p:nvPr/>
                </p:nvSpPr>
                <p:spPr>
                  <a:xfrm>
                    <a:off x="4818960" y="33055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4" name="Group 762"/>
                <p:cNvGrpSpPr/>
                <p:nvPr/>
              </p:nvGrpSpPr>
              <p:grpSpPr>
                <a:xfrm>
                  <a:off x="5018400" y="3299760"/>
                  <a:ext cx="160200" cy="6120"/>
                  <a:chOff x="5018400" y="3299760"/>
                  <a:chExt cx="160200" cy="6120"/>
                </a:xfrm>
              </p:grpSpPr>
              <p:grpSp>
                <p:nvGrpSpPr>
                  <p:cNvPr id="1955" name="Group 763"/>
                  <p:cNvGrpSpPr/>
                  <p:nvPr/>
                </p:nvGrpSpPr>
                <p:grpSpPr>
                  <a:xfrm>
                    <a:off x="5133240" y="3299760"/>
                    <a:ext cx="45360" cy="3600"/>
                    <a:chOff x="5133240" y="3299760"/>
                    <a:chExt cx="45360" cy="3600"/>
                  </a:xfrm>
                </p:grpSpPr>
                <p:sp>
                  <p:nvSpPr>
                    <p:cNvPr id="1956" name="Oval 764"/>
                    <p:cNvSpPr/>
                    <p:nvPr/>
                  </p:nvSpPr>
                  <p:spPr>
                    <a:xfrm>
                      <a:off x="5174280" y="329976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Oval 765"/>
                    <p:cNvSpPr/>
                    <p:nvPr/>
                  </p:nvSpPr>
                  <p:spPr>
                    <a:xfrm>
                      <a:off x="5167080" y="329976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Oval 766"/>
                    <p:cNvSpPr/>
                    <p:nvPr/>
                  </p:nvSpPr>
                  <p:spPr>
                    <a:xfrm>
                      <a:off x="5160240" y="3299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Oval 767"/>
                    <p:cNvSpPr/>
                    <p:nvPr/>
                  </p:nvSpPr>
                  <p:spPr>
                    <a:xfrm>
                      <a:off x="5153040" y="3299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Oval 768"/>
                    <p:cNvSpPr/>
                    <p:nvPr/>
                  </p:nvSpPr>
                  <p:spPr>
                    <a:xfrm>
                      <a:off x="5146200" y="3299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Oval 769"/>
                    <p:cNvSpPr/>
                    <p:nvPr/>
                  </p:nvSpPr>
                  <p:spPr>
                    <a:xfrm>
                      <a:off x="5140080" y="329976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Oval 770"/>
                    <p:cNvSpPr/>
                    <p:nvPr/>
                  </p:nvSpPr>
                  <p:spPr>
                    <a:xfrm>
                      <a:off x="5133240" y="3299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3" name="Group 771"/>
                  <p:cNvGrpSpPr/>
                  <p:nvPr/>
                </p:nvGrpSpPr>
                <p:grpSpPr>
                  <a:xfrm>
                    <a:off x="5085360" y="3299760"/>
                    <a:ext cx="46440" cy="4680"/>
                    <a:chOff x="5085360" y="3299760"/>
                    <a:chExt cx="46440" cy="4680"/>
                  </a:xfrm>
                </p:grpSpPr>
                <p:sp>
                  <p:nvSpPr>
                    <p:cNvPr id="1964" name="Oval 772"/>
                    <p:cNvSpPr/>
                    <p:nvPr/>
                  </p:nvSpPr>
                  <p:spPr>
                    <a:xfrm>
                      <a:off x="5126040" y="3299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Oval 773"/>
                    <p:cNvSpPr/>
                    <p:nvPr/>
                  </p:nvSpPr>
                  <p:spPr>
                    <a:xfrm>
                      <a:off x="5118840" y="3299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Oval 774"/>
                    <p:cNvSpPr/>
                    <p:nvPr/>
                  </p:nvSpPr>
                  <p:spPr>
                    <a:xfrm>
                      <a:off x="5113080" y="330084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Oval 775"/>
                    <p:cNvSpPr/>
                    <p:nvPr/>
                  </p:nvSpPr>
                  <p:spPr>
                    <a:xfrm>
                      <a:off x="5106240" y="330084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Oval 776"/>
                    <p:cNvSpPr/>
                    <p:nvPr/>
                  </p:nvSpPr>
                  <p:spPr>
                    <a:xfrm>
                      <a:off x="5099040" y="330084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Oval 777"/>
                    <p:cNvSpPr/>
                    <p:nvPr/>
                  </p:nvSpPr>
                  <p:spPr>
                    <a:xfrm>
                      <a:off x="5092200" y="330084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Oval 778"/>
                    <p:cNvSpPr/>
                    <p:nvPr/>
                  </p:nvSpPr>
                  <p:spPr>
                    <a:xfrm>
                      <a:off x="5085360" y="3300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1" name="Group 779"/>
                  <p:cNvGrpSpPr/>
                  <p:nvPr/>
                </p:nvGrpSpPr>
                <p:grpSpPr>
                  <a:xfrm>
                    <a:off x="5018400" y="3300840"/>
                    <a:ext cx="46800" cy="5040"/>
                    <a:chOff x="5018400" y="3300840"/>
                    <a:chExt cx="46800" cy="5040"/>
                  </a:xfrm>
                </p:grpSpPr>
                <p:sp>
                  <p:nvSpPr>
                    <p:cNvPr id="1972" name="Oval 780"/>
                    <p:cNvSpPr/>
                    <p:nvPr/>
                  </p:nvSpPr>
                  <p:spPr>
                    <a:xfrm>
                      <a:off x="5059440" y="3300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Oval 781"/>
                    <p:cNvSpPr/>
                    <p:nvPr/>
                  </p:nvSpPr>
                  <p:spPr>
                    <a:xfrm>
                      <a:off x="5052240" y="3300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Oval 782"/>
                    <p:cNvSpPr/>
                    <p:nvPr/>
                  </p:nvSpPr>
                  <p:spPr>
                    <a:xfrm>
                      <a:off x="5045400" y="33008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Oval 783"/>
                    <p:cNvSpPr/>
                    <p:nvPr/>
                  </p:nvSpPr>
                  <p:spPr>
                    <a:xfrm>
                      <a:off x="5039280" y="330084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Oval 784"/>
                    <p:cNvSpPr/>
                    <p:nvPr/>
                  </p:nvSpPr>
                  <p:spPr>
                    <a:xfrm>
                      <a:off x="5032440" y="330192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Oval 785"/>
                    <p:cNvSpPr/>
                    <p:nvPr/>
                  </p:nvSpPr>
                  <p:spPr>
                    <a:xfrm>
                      <a:off x="5018400" y="330192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78" name="Group 786"/>
                <p:cNvGrpSpPr/>
                <p:nvPr/>
              </p:nvGrpSpPr>
              <p:grpSpPr>
                <a:xfrm>
                  <a:off x="4974840" y="3301920"/>
                  <a:ext cx="37080" cy="3600"/>
                  <a:chOff x="4974840" y="3301920"/>
                  <a:chExt cx="37080" cy="3600"/>
                </a:xfrm>
              </p:grpSpPr>
              <p:sp>
                <p:nvSpPr>
                  <p:cNvPr id="1979" name="Oval 787"/>
                  <p:cNvSpPr/>
                  <p:nvPr/>
                </p:nvSpPr>
                <p:spPr>
                  <a:xfrm>
                    <a:off x="5006160" y="33019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Oval 788"/>
                  <p:cNvSpPr/>
                  <p:nvPr/>
                </p:nvSpPr>
                <p:spPr>
                  <a:xfrm>
                    <a:off x="4999320" y="33019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Oval 789"/>
                  <p:cNvSpPr/>
                  <p:nvPr/>
                </p:nvSpPr>
                <p:spPr>
                  <a:xfrm>
                    <a:off x="4993560" y="33019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Oval 790"/>
                  <p:cNvSpPr/>
                  <p:nvPr/>
                </p:nvSpPr>
                <p:spPr>
                  <a:xfrm>
                    <a:off x="4987800" y="33019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Oval 791"/>
                  <p:cNvSpPr/>
                  <p:nvPr/>
                </p:nvSpPr>
                <p:spPr>
                  <a:xfrm>
                    <a:off x="4980600" y="33019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Oval 792"/>
                  <p:cNvSpPr/>
                  <p:nvPr/>
                </p:nvSpPr>
                <p:spPr>
                  <a:xfrm>
                    <a:off x="4974840" y="33019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5" name="Group 793"/>
                <p:cNvGrpSpPr/>
                <p:nvPr/>
              </p:nvGrpSpPr>
              <p:grpSpPr>
                <a:xfrm>
                  <a:off x="4781520" y="3305880"/>
                  <a:ext cx="36000" cy="3600"/>
                  <a:chOff x="4781520" y="3305880"/>
                  <a:chExt cx="36000" cy="3600"/>
                </a:xfrm>
              </p:grpSpPr>
              <p:sp>
                <p:nvSpPr>
                  <p:cNvPr id="1986" name="Oval 794"/>
                  <p:cNvSpPr/>
                  <p:nvPr/>
                </p:nvSpPr>
                <p:spPr>
                  <a:xfrm>
                    <a:off x="4813200" y="330588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Oval 795"/>
                  <p:cNvSpPr/>
                  <p:nvPr/>
                </p:nvSpPr>
                <p:spPr>
                  <a:xfrm>
                    <a:off x="4806000" y="330588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Oval 796"/>
                  <p:cNvSpPr/>
                  <p:nvPr/>
                </p:nvSpPr>
                <p:spPr>
                  <a:xfrm>
                    <a:off x="4800240" y="330588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Oval 797"/>
                  <p:cNvSpPr/>
                  <p:nvPr/>
                </p:nvSpPr>
                <p:spPr>
                  <a:xfrm>
                    <a:off x="4793400" y="330588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Oval 798"/>
                  <p:cNvSpPr/>
                  <p:nvPr/>
                </p:nvSpPr>
                <p:spPr>
                  <a:xfrm>
                    <a:off x="4787280" y="330588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Oval 799"/>
                  <p:cNvSpPr/>
                  <p:nvPr/>
                </p:nvSpPr>
                <p:spPr>
                  <a:xfrm>
                    <a:off x="4781520" y="330588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92" name="Freeform 800"/>
            <p:cNvSpPr/>
            <p:nvPr/>
          </p:nvSpPr>
          <p:spPr>
            <a:xfrm>
              <a:off x="4682160" y="3252960"/>
              <a:ext cx="567360" cy="7668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3" name="Group 801"/>
            <p:cNvGrpSpPr/>
            <p:nvPr/>
          </p:nvGrpSpPr>
          <p:grpSpPr>
            <a:xfrm>
              <a:off x="5221440" y="3300120"/>
              <a:ext cx="12600" cy="4680"/>
              <a:chOff x="5221440" y="3300120"/>
              <a:chExt cx="12600" cy="4680"/>
            </a:xfrm>
          </p:grpSpPr>
          <p:sp>
            <p:nvSpPr>
              <p:cNvPr id="1994" name="Freeform 802"/>
              <p:cNvSpPr/>
              <p:nvPr/>
            </p:nvSpPr>
            <p:spPr>
              <a:xfrm>
                <a:off x="5221440" y="330012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5" name="Freeform 803"/>
              <p:cNvSpPr/>
              <p:nvPr/>
            </p:nvSpPr>
            <p:spPr>
              <a:xfrm>
                <a:off x="5226120" y="330012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6" name="Freeform 804"/>
              <p:cNvSpPr/>
              <p:nvPr/>
            </p:nvSpPr>
            <p:spPr>
              <a:xfrm>
                <a:off x="5230440" y="3301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7" name="Arc 805"/>
            <p:cNvSpPr/>
            <p:nvPr/>
          </p:nvSpPr>
          <p:spPr>
            <a:xfrm>
              <a:off x="4658400" y="330372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806"/>
            <p:cNvSpPr/>
            <p:nvPr/>
          </p:nvSpPr>
          <p:spPr>
            <a:xfrm>
              <a:off x="4947120" y="331488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9" name="Group 807"/>
            <p:cNvGrpSpPr/>
            <p:nvPr/>
          </p:nvGrpSpPr>
          <p:grpSpPr>
            <a:xfrm>
              <a:off x="4871160" y="3313800"/>
              <a:ext cx="188640" cy="51120"/>
              <a:chOff x="4871160" y="3313800"/>
              <a:chExt cx="188640" cy="51120"/>
            </a:xfrm>
          </p:grpSpPr>
          <p:grpSp>
            <p:nvGrpSpPr>
              <p:cNvPr id="2000" name="Group 808"/>
              <p:cNvGrpSpPr/>
              <p:nvPr/>
            </p:nvGrpSpPr>
            <p:grpSpPr>
              <a:xfrm>
                <a:off x="4871160" y="3313800"/>
                <a:ext cx="188640" cy="29880"/>
                <a:chOff x="4871160" y="3313800"/>
                <a:chExt cx="188640" cy="29880"/>
              </a:xfrm>
            </p:grpSpPr>
            <p:sp>
              <p:nvSpPr>
                <p:cNvPr id="2001" name="Freeform 809"/>
                <p:cNvSpPr/>
                <p:nvPr/>
              </p:nvSpPr>
              <p:spPr>
                <a:xfrm>
                  <a:off x="4871160" y="331380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Freeform 810"/>
                <p:cNvSpPr/>
                <p:nvPr/>
              </p:nvSpPr>
              <p:spPr>
                <a:xfrm>
                  <a:off x="4871160" y="331884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3" name="Group 811"/>
              <p:cNvGrpSpPr/>
              <p:nvPr/>
            </p:nvGrpSpPr>
            <p:grpSpPr>
              <a:xfrm>
                <a:off x="4982400" y="3351240"/>
                <a:ext cx="49680" cy="13680"/>
                <a:chOff x="4982400" y="3351240"/>
                <a:chExt cx="49680" cy="13680"/>
              </a:xfrm>
            </p:grpSpPr>
            <p:grpSp>
              <p:nvGrpSpPr>
                <p:cNvPr id="2004" name="Group 812"/>
                <p:cNvGrpSpPr/>
                <p:nvPr/>
              </p:nvGrpSpPr>
              <p:grpSpPr>
                <a:xfrm>
                  <a:off x="4982400" y="3351240"/>
                  <a:ext cx="49680" cy="13680"/>
                  <a:chOff x="4982400" y="3351240"/>
                  <a:chExt cx="49680" cy="13680"/>
                </a:xfrm>
              </p:grpSpPr>
              <p:grpSp>
                <p:nvGrpSpPr>
                  <p:cNvPr id="2005" name="Group 813"/>
                  <p:cNvGrpSpPr/>
                  <p:nvPr/>
                </p:nvGrpSpPr>
                <p:grpSpPr>
                  <a:xfrm>
                    <a:off x="4982400" y="3351240"/>
                    <a:ext cx="4320" cy="12240"/>
                    <a:chOff x="4982400" y="3351240"/>
                    <a:chExt cx="4320" cy="12240"/>
                  </a:xfrm>
                </p:grpSpPr>
                <p:sp>
                  <p:nvSpPr>
                    <p:cNvPr id="2006" name="Freeform 814"/>
                    <p:cNvSpPr/>
                    <p:nvPr/>
                  </p:nvSpPr>
                  <p:spPr>
                    <a:xfrm>
                      <a:off x="4982400" y="335124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Freeform 815"/>
                    <p:cNvSpPr/>
                    <p:nvPr/>
                  </p:nvSpPr>
                  <p:spPr>
                    <a:xfrm>
                      <a:off x="4982400" y="335124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Freeform 816"/>
                    <p:cNvSpPr/>
                    <p:nvPr/>
                  </p:nvSpPr>
                  <p:spPr>
                    <a:xfrm>
                      <a:off x="4982400" y="335736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09" name="Freeform 817"/>
                  <p:cNvSpPr/>
                  <p:nvPr/>
                </p:nvSpPr>
                <p:spPr>
                  <a:xfrm>
                    <a:off x="4992480" y="335124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0" name="Freeform 818"/>
                <p:cNvSpPr/>
                <p:nvPr/>
              </p:nvSpPr>
              <p:spPr>
                <a:xfrm>
                  <a:off x="4992480" y="335484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1" name="Group 819"/>
              <p:cNvGrpSpPr/>
              <p:nvPr/>
            </p:nvGrpSpPr>
            <p:grpSpPr>
              <a:xfrm>
                <a:off x="4976280" y="3319920"/>
                <a:ext cx="70560" cy="32040"/>
                <a:chOff x="4976280" y="3319920"/>
                <a:chExt cx="70560" cy="32040"/>
              </a:xfrm>
            </p:grpSpPr>
            <p:grpSp>
              <p:nvGrpSpPr>
                <p:cNvPr id="2012" name="Group 820"/>
                <p:cNvGrpSpPr/>
                <p:nvPr/>
              </p:nvGrpSpPr>
              <p:grpSpPr>
                <a:xfrm>
                  <a:off x="4976280" y="3327480"/>
                  <a:ext cx="5760" cy="15840"/>
                  <a:chOff x="4976280" y="3327480"/>
                  <a:chExt cx="5760" cy="15840"/>
                </a:xfrm>
              </p:grpSpPr>
              <p:sp>
                <p:nvSpPr>
                  <p:cNvPr id="2013" name="Freeform 821"/>
                  <p:cNvSpPr/>
                  <p:nvPr/>
                </p:nvSpPr>
                <p:spPr>
                  <a:xfrm>
                    <a:off x="4976280" y="332748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Freeform 822"/>
                  <p:cNvSpPr/>
                  <p:nvPr/>
                </p:nvSpPr>
                <p:spPr>
                  <a:xfrm>
                    <a:off x="4976280" y="333216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Freeform 823"/>
                  <p:cNvSpPr/>
                  <p:nvPr/>
                </p:nvSpPr>
                <p:spPr>
                  <a:xfrm>
                    <a:off x="4976280" y="332964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Freeform 824"/>
                  <p:cNvSpPr/>
                  <p:nvPr/>
                </p:nvSpPr>
                <p:spPr>
                  <a:xfrm>
                    <a:off x="4976280" y="333972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7" name="Group 825"/>
                <p:cNvGrpSpPr/>
                <p:nvPr/>
              </p:nvGrpSpPr>
              <p:grpSpPr>
                <a:xfrm>
                  <a:off x="4988160" y="3319920"/>
                  <a:ext cx="58680" cy="32040"/>
                  <a:chOff x="4988160" y="3319920"/>
                  <a:chExt cx="58680" cy="32040"/>
                </a:xfrm>
              </p:grpSpPr>
              <p:sp>
                <p:nvSpPr>
                  <p:cNvPr id="2018" name="Freeform 826"/>
                  <p:cNvSpPr/>
                  <p:nvPr/>
                </p:nvSpPr>
                <p:spPr>
                  <a:xfrm>
                    <a:off x="4988160" y="331992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Freeform 827"/>
                  <p:cNvSpPr/>
                  <p:nvPr/>
                </p:nvSpPr>
                <p:spPr>
                  <a:xfrm>
                    <a:off x="4989960" y="332604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0" name="Group 828"/>
                  <p:cNvGrpSpPr/>
                  <p:nvPr/>
                </p:nvGrpSpPr>
                <p:grpSpPr>
                  <a:xfrm>
                    <a:off x="5012280" y="3326040"/>
                    <a:ext cx="34560" cy="25920"/>
                    <a:chOff x="5012280" y="3326040"/>
                    <a:chExt cx="34560" cy="25920"/>
                  </a:xfrm>
                </p:grpSpPr>
                <p:sp>
                  <p:nvSpPr>
                    <p:cNvPr id="2021" name="Line 829"/>
                    <p:cNvSpPr/>
                    <p:nvPr/>
                  </p:nvSpPr>
                  <p:spPr>
                    <a:xfrm>
                      <a:off x="5027400" y="332604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830"/>
                    <p:cNvSpPr/>
                    <p:nvPr/>
                  </p:nvSpPr>
                  <p:spPr>
                    <a:xfrm flipH="1">
                      <a:off x="5036760" y="332604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831"/>
                    <p:cNvSpPr/>
                    <p:nvPr/>
                  </p:nvSpPr>
                  <p:spPr>
                    <a:xfrm>
                      <a:off x="5012280" y="332604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24" name="Group 832"/>
            <p:cNvGrpSpPr/>
            <p:nvPr/>
          </p:nvGrpSpPr>
          <p:grpSpPr>
            <a:xfrm>
              <a:off x="4648320" y="3200400"/>
              <a:ext cx="340560" cy="133200"/>
              <a:chOff x="4648320" y="3200400"/>
              <a:chExt cx="340560" cy="133200"/>
            </a:xfrm>
          </p:grpSpPr>
          <p:sp>
            <p:nvSpPr>
              <p:cNvPr id="2025" name="Freeform 833"/>
              <p:cNvSpPr/>
              <p:nvPr/>
            </p:nvSpPr>
            <p:spPr>
              <a:xfrm>
                <a:off x="4664520" y="3200400"/>
                <a:ext cx="107640" cy="92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26" name="Group 834"/>
              <p:cNvGrpSpPr/>
              <p:nvPr/>
            </p:nvGrpSpPr>
            <p:grpSpPr>
              <a:xfrm>
                <a:off x="4648320" y="3261960"/>
                <a:ext cx="340560" cy="71640"/>
                <a:chOff x="4648320" y="3261960"/>
                <a:chExt cx="340560" cy="71640"/>
              </a:xfrm>
            </p:grpSpPr>
            <p:sp>
              <p:nvSpPr>
                <p:cNvPr id="2027" name="Freeform 835"/>
                <p:cNvSpPr/>
                <p:nvPr/>
              </p:nvSpPr>
              <p:spPr>
                <a:xfrm>
                  <a:off x="4696200" y="3315960"/>
                  <a:ext cx="47520" cy="17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8" name="Group 836"/>
                <p:cNvGrpSpPr/>
                <p:nvPr/>
              </p:nvGrpSpPr>
              <p:grpSpPr>
                <a:xfrm>
                  <a:off x="4648320" y="3261960"/>
                  <a:ext cx="340560" cy="50040"/>
                  <a:chOff x="4648320" y="3261960"/>
                  <a:chExt cx="340560" cy="50040"/>
                </a:xfrm>
              </p:grpSpPr>
              <p:sp>
                <p:nvSpPr>
                  <p:cNvPr id="2029" name="Freeform 837"/>
                  <p:cNvSpPr/>
                  <p:nvPr/>
                </p:nvSpPr>
                <p:spPr>
                  <a:xfrm>
                    <a:off x="4648320" y="329076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Freeform 838"/>
                  <p:cNvSpPr/>
                  <p:nvPr/>
                </p:nvSpPr>
                <p:spPr>
                  <a:xfrm>
                    <a:off x="4865040" y="3261960"/>
                    <a:ext cx="123840" cy="5004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31" name="Group 839"/>
                  <p:cNvGrpSpPr/>
                  <p:nvPr/>
                </p:nvGrpSpPr>
                <p:grpSpPr>
                  <a:xfrm>
                    <a:off x="4884840" y="3289320"/>
                    <a:ext cx="56160" cy="17280"/>
                    <a:chOff x="4884840" y="3289320"/>
                    <a:chExt cx="56160" cy="17280"/>
                  </a:xfrm>
                </p:grpSpPr>
                <p:grpSp>
                  <p:nvGrpSpPr>
                    <p:cNvPr id="2032" name="Group 840"/>
                    <p:cNvGrpSpPr/>
                    <p:nvPr/>
                  </p:nvGrpSpPr>
                  <p:grpSpPr>
                    <a:xfrm>
                      <a:off x="4897800" y="3301560"/>
                      <a:ext cx="43200" cy="5040"/>
                      <a:chOff x="4897800" y="3301560"/>
                      <a:chExt cx="43200" cy="5040"/>
                    </a:xfrm>
                  </p:grpSpPr>
                  <p:sp>
                    <p:nvSpPr>
                      <p:cNvPr id="2033" name="Freeform 841"/>
                      <p:cNvSpPr/>
                      <p:nvPr/>
                    </p:nvSpPr>
                    <p:spPr>
                      <a:xfrm>
                        <a:off x="4897800" y="330156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4" name="Freeform 842"/>
                      <p:cNvSpPr/>
                      <p:nvPr/>
                    </p:nvSpPr>
                    <p:spPr>
                      <a:xfrm>
                        <a:off x="4910760" y="330156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35" name="Group 843"/>
                    <p:cNvGrpSpPr/>
                    <p:nvPr/>
                  </p:nvGrpSpPr>
                  <p:grpSpPr>
                    <a:xfrm>
                      <a:off x="4884840" y="3289320"/>
                      <a:ext cx="31680" cy="5040"/>
                      <a:chOff x="4884840" y="3289320"/>
                      <a:chExt cx="31680" cy="5040"/>
                    </a:xfrm>
                  </p:grpSpPr>
                  <p:sp>
                    <p:nvSpPr>
                      <p:cNvPr id="2036" name="Freeform 844"/>
                      <p:cNvSpPr/>
                      <p:nvPr/>
                    </p:nvSpPr>
                    <p:spPr>
                      <a:xfrm>
                        <a:off x="4884840" y="328932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7" name="Freeform 845"/>
                      <p:cNvSpPr/>
                      <p:nvPr/>
                    </p:nvSpPr>
                    <p:spPr>
                      <a:xfrm>
                        <a:off x="4897800" y="328932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2038" name="Group 745"/>
          <p:cNvGrpSpPr/>
          <p:nvPr/>
        </p:nvGrpSpPr>
        <p:grpSpPr>
          <a:xfrm>
            <a:off x="4648320" y="2362320"/>
            <a:ext cx="601560" cy="164160"/>
            <a:chOff x="4648320" y="2362320"/>
            <a:chExt cx="601560" cy="164160"/>
          </a:xfrm>
        </p:grpSpPr>
        <p:grpSp>
          <p:nvGrpSpPr>
            <p:cNvPr id="2039" name="Group 746"/>
            <p:cNvGrpSpPr/>
            <p:nvPr/>
          </p:nvGrpSpPr>
          <p:grpSpPr>
            <a:xfrm>
              <a:off x="4664520" y="2362320"/>
              <a:ext cx="585360" cy="141840"/>
              <a:chOff x="4664520" y="2362320"/>
              <a:chExt cx="585360" cy="141840"/>
            </a:xfrm>
          </p:grpSpPr>
          <p:sp>
            <p:nvSpPr>
              <p:cNvPr id="2040" name="Freeform 747"/>
              <p:cNvSpPr/>
              <p:nvPr/>
            </p:nvSpPr>
            <p:spPr>
              <a:xfrm>
                <a:off x="4664520" y="2362320"/>
                <a:ext cx="585360" cy="14184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41" name="Group 748"/>
              <p:cNvGrpSpPr/>
              <p:nvPr/>
            </p:nvGrpSpPr>
            <p:grpSpPr>
              <a:xfrm>
                <a:off x="4767840" y="2457720"/>
                <a:ext cx="436680" cy="26280"/>
                <a:chOff x="4767840" y="2457720"/>
                <a:chExt cx="436680" cy="26280"/>
              </a:xfrm>
            </p:grpSpPr>
            <p:sp>
              <p:nvSpPr>
                <p:cNvPr id="2042" name="Freeform 749"/>
                <p:cNvSpPr/>
                <p:nvPr/>
              </p:nvSpPr>
              <p:spPr>
                <a:xfrm>
                  <a:off x="5193000" y="245772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Freeform 750"/>
                <p:cNvSpPr/>
                <p:nvPr/>
              </p:nvSpPr>
              <p:spPr>
                <a:xfrm>
                  <a:off x="5074920" y="245880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Freeform 751"/>
                <p:cNvSpPr/>
                <p:nvPr/>
              </p:nvSpPr>
              <p:spPr>
                <a:xfrm>
                  <a:off x="4872960" y="246024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Freeform 752"/>
                <p:cNvSpPr/>
                <p:nvPr/>
              </p:nvSpPr>
              <p:spPr>
                <a:xfrm>
                  <a:off x="4767840" y="246168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6" name="Group 753"/>
              <p:cNvGrpSpPr/>
              <p:nvPr/>
            </p:nvGrpSpPr>
            <p:grpSpPr>
              <a:xfrm>
                <a:off x="4781520" y="2461680"/>
                <a:ext cx="397080" cy="9720"/>
                <a:chOff x="4781520" y="2461680"/>
                <a:chExt cx="397080" cy="9720"/>
              </a:xfrm>
            </p:grpSpPr>
            <p:grpSp>
              <p:nvGrpSpPr>
                <p:cNvPr id="2047" name="Group 754"/>
                <p:cNvGrpSpPr/>
                <p:nvPr/>
              </p:nvGrpSpPr>
              <p:grpSpPr>
                <a:xfrm>
                  <a:off x="4818960" y="2466360"/>
                  <a:ext cx="44280" cy="3600"/>
                  <a:chOff x="4818960" y="2466360"/>
                  <a:chExt cx="44280" cy="3600"/>
                </a:xfrm>
              </p:grpSpPr>
              <p:sp>
                <p:nvSpPr>
                  <p:cNvPr id="2048" name="Oval 755"/>
                  <p:cNvSpPr/>
                  <p:nvPr/>
                </p:nvSpPr>
                <p:spPr>
                  <a:xfrm>
                    <a:off x="4857480" y="2466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Oval 756"/>
                  <p:cNvSpPr/>
                  <p:nvPr/>
                </p:nvSpPr>
                <p:spPr>
                  <a:xfrm>
                    <a:off x="4851360" y="2466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Oval 757"/>
                  <p:cNvSpPr/>
                  <p:nvPr/>
                </p:nvSpPr>
                <p:spPr>
                  <a:xfrm>
                    <a:off x="4845600" y="2466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Oval 758"/>
                  <p:cNvSpPr/>
                  <p:nvPr/>
                </p:nvSpPr>
                <p:spPr>
                  <a:xfrm>
                    <a:off x="4838760" y="2466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Oval 759"/>
                  <p:cNvSpPr/>
                  <p:nvPr/>
                </p:nvSpPr>
                <p:spPr>
                  <a:xfrm>
                    <a:off x="4832640" y="246636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Oval 760"/>
                  <p:cNvSpPr/>
                  <p:nvPr/>
                </p:nvSpPr>
                <p:spPr>
                  <a:xfrm>
                    <a:off x="4825800" y="24674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Oval 761"/>
                  <p:cNvSpPr/>
                  <p:nvPr/>
                </p:nvSpPr>
                <p:spPr>
                  <a:xfrm>
                    <a:off x="4818960" y="24674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5" name="Group 762"/>
                <p:cNvGrpSpPr/>
                <p:nvPr/>
              </p:nvGrpSpPr>
              <p:grpSpPr>
                <a:xfrm>
                  <a:off x="5018400" y="2461680"/>
                  <a:ext cx="160200" cy="6120"/>
                  <a:chOff x="5018400" y="2461680"/>
                  <a:chExt cx="160200" cy="6120"/>
                </a:xfrm>
              </p:grpSpPr>
              <p:grpSp>
                <p:nvGrpSpPr>
                  <p:cNvPr id="2056" name="Group 763"/>
                  <p:cNvGrpSpPr/>
                  <p:nvPr/>
                </p:nvGrpSpPr>
                <p:grpSpPr>
                  <a:xfrm>
                    <a:off x="5133240" y="2461680"/>
                    <a:ext cx="45360" cy="3600"/>
                    <a:chOff x="5133240" y="2461680"/>
                    <a:chExt cx="45360" cy="3600"/>
                  </a:xfrm>
                </p:grpSpPr>
                <p:sp>
                  <p:nvSpPr>
                    <p:cNvPr id="2057" name="Oval 764"/>
                    <p:cNvSpPr/>
                    <p:nvPr/>
                  </p:nvSpPr>
                  <p:spPr>
                    <a:xfrm>
                      <a:off x="5174280" y="246168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Oval 765"/>
                    <p:cNvSpPr/>
                    <p:nvPr/>
                  </p:nvSpPr>
                  <p:spPr>
                    <a:xfrm>
                      <a:off x="5167080" y="246168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Oval 766"/>
                    <p:cNvSpPr/>
                    <p:nvPr/>
                  </p:nvSpPr>
                  <p:spPr>
                    <a:xfrm>
                      <a:off x="516024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Oval 767"/>
                    <p:cNvSpPr/>
                    <p:nvPr/>
                  </p:nvSpPr>
                  <p:spPr>
                    <a:xfrm>
                      <a:off x="515304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Oval 768"/>
                    <p:cNvSpPr/>
                    <p:nvPr/>
                  </p:nvSpPr>
                  <p:spPr>
                    <a:xfrm>
                      <a:off x="514620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Oval 769"/>
                    <p:cNvSpPr/>
                    <p:nvPr/>
                  </p:nvSpPr>
                  <p:spPr>
                    <a:xfrm>
                      <a:off x="5140080" y="246168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Oval 770"/>
                    <p:cNvSpPr/>
                    <p:nvPr/>
                  </p:nvSpPr>
                  <p:spPr>
                    <a:xfrm>
                      <a:off x="513324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4" name="Group 771"/>
                  <p:cNvGrpSpPr/>
                  <p:nvPr/>
                </p:nvGrpSpPr>
                <p:grpSpPr>
                  <a:xfrm>
                    <a:off x="5085360" y="2461680"/>
                    <a:ext cx="46440" cy="4680"/>
                    <a:chOff x="5085360" y="2461680"/>
                    <a:chExt cx="46440" cy="4680"/>
                  </a:xfrm>
                </p:grpSpPr>
                <p:sp>
                  <p:nvSpPr>
                    <p:cNvPr id="2065" name="Oval 772"/>
                    <p:cNvSpPr/>
                    <p:nvPr/>
                  </p:nvSpPr>
                  <p:spPr>
                    <a:xfrm>
                      <a:off x="512604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Oval 773"/>
                    <p:cNvSpPr/>
                    <p:nvPr/>
                  </p:nvSpPr>
                  <p:spPr>
                    <a:xfrm>
                      <a:off x="5118840" y="246168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Oval 774"/>
                    <p:cNvSpPr/>
                    <p:nvPr/>
                  </p:nvSpPr>
                  <p:spPr>
                    <a:xfrm>
                      <a:off x="5113080" y="246276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Oval 775"/>
                    <p:cNvSpPr/>
                    <p:nvPr/>
                  </p:nvSpPr>
                  <p:spPr>
                    <a:xfrm>
                      <a:off x="5106240" y="246276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Oval 776"/>
                    <p:cNvSpPr/>
                    <p:nvPr/>
                  </p:nvSpPr>
                  <p:spPr>
                    <a:xfrm>
                      <a:off x="5099040" y="246276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Oval 777"/>
                    <p:cNvSpPr/>
                    <p:nvPr/>
                  </p:nvSpPr>
                  <p:spPr>
                    <a:xfrm>
                      <a:off x="5092200" y="246276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Oval 778"/>
                    <p:cNvSpPr/>
                    <p:nvPr/>
                  </p:nvSpPr>
                  <p:spPr>
                    <a:xfrm>
                      <a:off x="5085360" y="2462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2" name="Group 779"/>
                  <p:cNvGrpSpPr/>
                  <p:nvPr/>
                </p:nvGrpSpPr>
                <p:grpSpPr>
                  <a:xfrm>
                    <a:off x="5018400" y="2462760"/>
                    <a:ext cx="46800" cy="5040"/>
                    <a:chOff x="5018400" y="2462760"/>
                    <a:chExt cx="46800" cy="5040"/>
                  </a:xfrm>
                </p:grpSpPr>
                <p:sp>
                  <p:nvSpPr>
                    <p:cNvPr id="2073" name="Oval 780"/>
                    <p:cNvSpPr/>
                    <p:nvPr/>
                  </p:nvSpPr>
                  <p:spPr>
                    <a:xfrm>
                      <a:off x="5059440" y="2462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Oval 781"/>
                    <p:cNvSpPr/>
                    <p:nvPr/>
                  </p:nvSpPr>
                  <p:spPr>
                    <a:xfrm>
                      <a:off x="5052240" y="2462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Oval 782"/>
                    <p:cNvSpPr/>
                    <p:nvPr/>
                  </p:nvSpPr>
                  <p:spPr>
                    <a:xfrm>
                      <a:off x="5045400" y="24627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Oval 783"/>
                    <p:cNvSpPr/>
                    <p:nvPr/>
                  </p:nvSpPr>
                  <p:spPr>
                    <a:xfrm>
                      <a:off x="5039280" y="246276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Oval 784"/>
                    <p:cNvSpPr/>
                    <p:nvPr/>
                  </p:nvSpPr>
                  <p:spPr>
                    <a:xfrm>
                      <a:off x="5032440" y="246384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Oval 785"/>
                    <p:cNvSpPr/>
                    <p:nvPr/>
                  </p:nvSpPr>
                  <p:spPr>
                    <a:xfrm>
                      <a:off x="5018400" y="246384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79" name="Group 786"/>
                <p:cNvGrpSpPr/>
                <p:nvPr/>
              </p:nvGrpSpPr>
              <p:grpSpPr>
                <a:xfrm>
                  <a:off x="4974840" y="2463840"/>
                  <a:ext cx="37080" cy="3600"/>
                  <a:chOff x="4974840" y="2463840"/>
                  <a:chExt cx="37080" cy="3600"/>
                </a:xfrm>
              </p:grpSpPr>
              <p:sp>
                <p:nvSpPr>
                  <p:cNvPr id="2080" name="Oval 787"/>
                  <p:cNvSpPr/>
                  <p:nvPr/>
                </p:nvSpPr>
                <p:spPr>
                  <a:xfrm>
                    <a:off x="5006160" y="2463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Oval 788"/>
                  <p:cNvSpPr/>
                  <p:nvPr/>
                </p:nvSpPr>
                <p:spPr>
                  <a:xfrm>
                    <a:off x="4999320" y="2463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789"/>
                  <p:cNvSpPr/>
                  <p:nvPr/>
                </p:nvSpPr>
                <p:spPr>
                  <a:xfrm>
                    <a:off x="4993560" y="2463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Oval 790"/>
                  <p:cNvSpPr/>
                  <p:nvPr/>
                </p:nvSpPr>
                <p:spPr>
                  <a:xfrm>
                    <a:off x="4987800" y="2463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Oval 791"/>
                  <p:cNvSpPr/>
                  <p:nvPr/>
                </p:nvSpPr>
                <p:spPr>
                  <a:xfrm>
                    <a:off x="4980600" y="2463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Oval 792"/>
                  <p:cNvSpPr/>
                  <p:nvPr/>
                </p:nvSpPr>
                <p:spPr>
                  <a:xfrm>
                    <a:off x="4974840" y="246384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793"/>
                <p:cNvGrpSpPr/>
                <p:nvPr/>
              </p:nvGrpSpPr>
              <p:grpSpPr>
                <a:xfrm>
                  <a:off x="4781520" y="2467800"/>
                  <a:ext cx="36000" cy="3600"/>
                  <a:chOff x="4781520" y="2467800"/>
                  <a:chExt cx="36000" cy="3600"/>
                </a:xfrm>
              </p:grpSpPr>
              <p:sp>
                <p:nvSpPr>
                  <p:cNvPr id="2087" name="Oval 794"/>
                  <p:cNvSpPr/>
                  <p:nvPr/>
                </p:nvSpPr>
                <p:spPr>
                  <a:xfrm>
                    <a:off x="4813200" y="246780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Oval 795"/>
                  <p:cNvSpPr/>
                  <p:nvPr/>
                </p:nvSpPr>
                <p:spPr>
                  <a:xfrm>
                    <a:off x="4806000" y="24678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796"/>
                  <p:cNvSpPr/>
                  <p:nvPr/>
                </p:nvSpPr>
                <p:spPr>
                  <a:xfrm>
                    <a:off x="4800240" y="24678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Oval 797"/>
                  <p:cNvSpPr/>
                  <p:nvPr/>
                </p:nvSpPr>
                <p:spPr>
                  <a:xfrm>
                    <a:off x="4793400" y="24678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Oval 798"/>
                  <p:cNvSpPr/>
                  <p:nvPr/>
                </p:nvSpPr>
                <p:spPr>
                  <a:xfrm>
                    <a:off x="4787280" y="246780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Oval 799"/>
                  <p:cNvSpPr/>
                  <p:nvPr/>
                </p:nvSpPr>
                <p:spPr>
                  <a:xfrm>
                    <a:off x="4781520" y="246780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93" name="Freeform 800"/>
            <p:cNvSpPr/>
            <p:nvPr/>
          </p:nvSpPr>
          <p:spPr>
            <a:xfrm>
              <a:off x="4682160" y="2414880"/>
              <a:ext cx="567360" cy="7668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4" name="Group 801"/>
            <p:cNvGrpSpPr/>
            <p:nvPr/>
          </p:nvGrpSpPr>
          <p:grpSpPr>
            <a:xfrm>
              <a:off x="5221440" y="2461680"/>
              <a:ext cx="12600" cy="4680"/>
              <a:chOff x="5221440" y="2461680"/>
              <a:chExt cx="12600" cy="4680"/>
            </a:xfrm>
          </p:grpSpPr>
          <p:sp>
            <p:nvSpPr>
              <p:cNvPr id="2095" name="Freeform 802"/>
              <p:cNvSpPr/>
              <p:nvPr/>
            </p:nvSpPr>
            <p:spPr>
              <a:xfrm>
                <a:off x="5221440" y="246168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Freeform 803"/>
              <p:cNvSpPr/>
              <p:nvPr/>
            </p:nvSpPr>
            <p:spPr>
              <a:xfrm>
                <a:off x="5226120" y="24616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04"/>
              <p:cNvSpPr/>
              <p:nvPr/>
            </p:nvSpPr>
            <p:spPr>
              <a:xfrm>
                <a:off x="5230440" y="24627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8" name="Arc 805"/>
            <p:cNvSpPr/>
            <p:nvPr/>
          </p:nvSpPr>
          <p:spPr>
            <a:xfrm>
              <a:off x="4658400" y="246528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806"/>
            <p:cNvSpPr/>
            <p:nvPr/>
          </p:nvSpPr>
          <p:spPr>
            <a:xfrm>
              <a:off x="4947120" y="247644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0" name="Group 807"/>
            <p:cNvGrpSpPr/>
            <p:nvPr/>
          </p:nvGrpSpPr>
          <p:grpSpPr>
            <a:xfrm>
              <a:off x="4871160" y="2475360"/>
              <a:ext cx="188640" cy="51120"/>
              <a:chOff x="4871160" y="2475360"/>
              <a:chExt cx="188640" cy="51120"/>
            </a:xfrm>
          </p:grpSpPr>
          <p:grpSp>
            <p:nvGrpSpPr>
              <p:cNvPr id="2101" name="Group 808"/>
              <p:cNvGrpSpPr/>
              <p:nvPr/>
            </p:nvGrpSpPr>
            <p:grpSpPr>
              <a:xfrm>
                <a:off x="4871160" y="2475360"/>
                <a:ext cx="188640" cy="29880"/>
                <a:chOff x="4871160" y="2475360"/>
                <a:chExt cx="188640" cy="29880"/>
              </a:xfrm>
            </p:grpSpPr>
            <p:sp>
              <p:nvSpPr>
                <p:cNvPr id="2102" name="Freeform 809"/>
                <p:cNvSpPr/>
                <p:nvPr/>
              </p:nvSpPr>
              <p:spPr>
                <a:xfrm>
                  <a:off x="4871160" y="247536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Freeform 810"/>
                <p:cNvSpPr/>
                <p:nvPr/>
              </p:nvSpPr>
              <p:spPr>
                <a:xfrm>
                  <a:off x="4871160" y="248040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4" name="Group 811"/>
              <p:cNvGrpSpPr/>
              <p:nvPr/>
            </p:nvGrpSpPr>
            <p:grpSpPr>
              <a:xfrm>
                <a:off x="4982400" y="2512800"/>
                <a:ext cx="49680" cy="13680"/>
                <a:chOff x="4982400" y="2512800"/>
                <a:chExt cx="49680" cy="13680"/>
              </a:xfrm>
            </p:grpSpPr>
            <p:grpSp>
              <p:nvGrpSpPr>
                <p:cNvPr id="2105" name="Group 812"/>
                <p:cNvGrpSpPr/>
                <p:nvPr/>
              </p:nvGrpSpPr>
              <p:grpSpPr>
                <a:xfrm>
                  <a:off x="4982400" y="2512800"/>
                  <a:ext cx="49680" cy="13680"/>
                  <a:chOff x="4982400" y="2512800"/>
                  <a:chExt cx="49680" cy="13680"/>
                </a:xfrm>
              </p:grpSpPr>
              <p:grpSp>
                <p:nvGrpSpPr>
                  <p:cNvPr id="2106" name="Group 813"/>
                  <p:cNvGrpSpPr/>
                  <p:nvPr/>
                </p:nvGrpSpPr>
                <p:grpSpPr>
                  <a:xfrm>
                    <a:off x="4982400" y="2512800"/>
                    <a:ext cx="4320" cy="12240"/>
                    <a:chOff x="4982400" y="2512800"/>
                    <a:chExt cx="4320" cy="12240"/>
                  </a:xfrm>
                </p:grpSpPr>
                <p:sp>
                  <p:nvSpPr>
                    <p:cNvPr id="2107" name="Freeform 814"/>
                    <p:cNvSpPr/>
                    <p:nvPr/>
                  </p:nvSpPr>
                  <p:spPr>
                    <a:xfrm>
                      <a:off x="4982400" y="251280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815"/>
                    <p:cNvSpPr/>
                    <p:nvPr/>
                  </p:nvSpPr>
                  <p:spPr>
                    <a:xfrm>
                      <a:off x="4982400" y="251280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Freeform 816"/>
                    <p:cNvSpPr/>
                    <p:nvPr/>
                  </p:nvSpPr>
                  <p:spPr>
                    <a:xfrm>
                      <a:off x="4982400" y="251892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0" name="Freeform 817"/>
                  <p:cNvSpPr/>
                  <p:nvPr/>
                </p:nvSpPr>
                <p:spPr>
                  <a:xfrm>
                    <a:off x="4992480" y="251280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1" name="Freeform 818"/>
                <p:cNvSpPr/>
                <p:nvPr/>
              </p:nvSpPr>
              <p:spPr>
                <a:xfrm>
                  <a:off x="4992480" y="251640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2" name="Group 819"/>
              <p:cNvGrpSpPr/>
              <p:nvPr/>
            </p:nvGrpSpPr>
            <p:grpSpPr>
              <a:xfrm>
                <a:off x="4976280" y="2481480"/>
                <a:ext cx="70560" cy="32040"/>
                <a:chOff x="4976280" y="2481480"/>
                <a:chExt cx="70560" cy="32040"/>
              </a:xfrm>
            </p:grpSpPr>
            <p:grpSp>
              <p:nvGrpSpPr>
                <p:cNvPr id="2113" name="Group 820"/>
                <p:cNvGrpSpPr/>
                <p:nvPr/>
              </p:nvGrpSpPr>
              <p:grpSpPr>
                <a:xfrm>
                  <a:off x="4976280" y="2489040"/>
                  <a:ext cx="5760" cy="15840"/>
                  <a:chOff x="4976280" y="2489040"/>
                  <a:chExt cx="5760" cy="15840"/>
                </a:xfrm>
              </p:grpSpPr>
              <p:sp>
                <p:nvSpPr>
                  <p:cNvPr id="2114" name="Freeform 821"/>
                  <p:cNvSpPr/>
                  <p:nvPr/>
                </p:nvSpPr>
                <p:spPr>
                  <a:xfrm>
                    <a:off x="4976280" y="248904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Freeform 822"/>
                  <p:cNvSpPr/>
                  <p:nvPr/>
                </p:nvSpPr>
                <p:spPr>
                  <a:xfrm>
                    <a:off x="4976280" y="249372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Freeform 823"/>
                  <p:cNvSpPr/>
                  <p:nvPr/>
                </p:nvSpPr>
                <p:spPr>
                  <a:xfrm>
                    <a:off x="4976280" y="249120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Freeform 824"/>
                  <p:cNvSpPr/>
                  <p:nvPr/>
                </p:nvSpPr>
                <p:spPr>
                  <a:xfrm>
                    <a:off x="4976280" y="250128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8" name="Group 825"/>
                <p:cNvGrpSpPr/>
                <p:nvPr/>
              </p:nvGrpSpPr>
              <p:grpSpPr>
                <a:xfrm>
                  <a:off x="4988160" y="2481480"/>
                  <a:ext cx="58680" cy="32040"/>
                  <a:chOff x="4988160" y="2481480"/>
                  <a:chExt cx="58680" cy="32040"/>
                </a:xfrm>
              </p:grpSpPr>
              <p:sp>
                <p:nvSpPr>
                  <p:cNvPr id="2119" name="Freeform 826"/>
                  <p:cNvSpPr/>
                  <p:nvPr/>
                </p:nvSpPr>
                <p:spPr>
                  <a:xfrm>
                    <a:off x="4988160" y="248148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Freeform 827"/>
                  <p:cNvSpPr/>
                  <p:nvPr/>
                </p:nvSpPr>
                <p:spPr>
                  <a:xfrm>
                    <a:off x="4989960" y="248760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1" name="Group 828"/>
                  <p:cNvGrpSpPr/>
                  <p:nvPr/>
                </p:nvGrpSpPr>
                <p:grpSpPr>
                  <a:xfrm>
                    <a:off x="5012280" y="2487600"/>
                    <a:ext cx="34560" cy="25920"/>
                    <a:chOff x="5012280" y="2487600"/>
                    <a:chExt cx="34560" cy="25920"/>
                  </a:xfrm>
                </p:grpSpPr>
                <p:sp>
                  <p:nvSpPr>
                    <p:cNvPr id="2122" name="Line 829"/>
                    <p:cNvSpPr/>
                    <p:nvPr/>
                  </p:nvSpPr>
                  <p:spPr>
                    <a:xfrm>
                      <a:off x="5027400" y="248760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3" name="Line 830"/>
                    <p:cNvSpPr/>
                    <p:nvPr/>
                  </p:nvSpPr>
                  <p:spPr>
                    <a:xfrm flipH="1">
                      <a:off x="5036760" y="248760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4" name="Line 831"/>
                    <p:cNvSpPr/>
                    <p:nvPr/>
                  </p:nvSpPr>
                  <p:spPr>
                    <a:xfrm>
                      <a:off x="5012280" y="248760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25" name="Group 832"/>
            <p:cNvGrpSpPr/>
            <p:nvPr/>
          </p:nvGrpSpPr>
          <p:grpSpPr>
            <a:xfrm>
              <a:off x="4648320" y="2362320"/>
              <a:ext cx="340560" cy="133200"/>
              <a:chOff x="4648320" y="2362320"/>
              <a:chExt cx="340560" cy="133200"/>
            </a:xfrm>
          </p:grpSpPr>
          <p:sp>
            <p:nvSpPr>
              <p:cNvPr id="2126" name="Freeform 833"/>
              <p:cNvSpPr/>
              <p:nvPr/>
            </p:nvSpPr>
            <p:spPr>
              <a:xfrm>
                <a:off x="4664520" y="2362320"/>
                <a:ext cx="107640" cy="92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7" name="Group 834"/>
              <p:cNvGrpSpPr/>
              <p:nvPr/>
            </p:nvGrpSpPr>
            <p:grpSpPr>
              <a:xfrm>
                <a:off x="4648320" y="2423880"/>
                <a:ext cx="340560" cy="71640"/>
                <a:chOff x="4648320" y="2423880"/>
                <a:chExt cx="340560" cy="71640"/>
              </a:xfrm>
            </p:grpSpPr>
            <p:sp>
              <p:nvSpPr>
                <p:cNvPr id="2128" name="Freeform 835"/>
                <p:cNvSpPr/>
                <p:nvPr/>
              </p:nvSpPr>
              <p:spPr>
                <a:xfrm>
                  <a:off x="4696200" y="2477880"/>
                  <a:ext cx="47520" cy="17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29" name="Group 836"/>
                <p:cNvGrpSpPr/>
                <p:nvPr/>
              </p:nvGrpSpPr>
              <p:grpSpPr>
                <a:xfrm>
                  <a:off x="4648320" y="2423880"/>
                  <a:ext cx="340560" cy="50040"/>
                  <a:chOff x="4648320" y="2423880"/>
                  <a:chExt cx="340560" cy="50040"/>
                </a:xfrm>
              </p:grpSpPr>
              <p:sp>
                <p:nvSpPr>
                  <p:cNvPr id="2130" name="Freeform 837"/>
                  <p:cNvSpPr/>
                  <p:nvPr/>
                </p:nvSpPr>
                <p:spPr>
                  <a:xfrm>
                    <a:off x="4648320" y="245268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Freeform 838"/>
                  <p:cNvSpPr/>
                  <p:nvPr/>
                </p:nvSpPr>
                <p:spPr>
                  <a:xfrm>
                    <a:off x="4865040" y="2423880"/>
                    <a:ext cx="123840" cy="5004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32" name="Group 839"/>
                  <p:cNvGrpSpPr/>
                  <p:nvPr/>
                </p:nvGrpSpPr>
                <p:grpSpPr>
                  <a:xfrm>
                    <a:off x="4884840" y="2451240"/>
                    <a:ext cx="56160" cy="17280"/>
                    <a:chOff x="4884840" y="2451240"/>
                    <a:chExt cx="56160" cy="17280"/>
                  </a:xfrm>
                </p:grpSpPr>
                <p:grpSp>
                  <p:nvGrpSpPr>
                    <p:cNvPr id="2133" name="Group 840"/>
                    <p:cNvGrpSpPr/>
                    <p:nvPr/>
                  </p:nvGrpSpPr>
                  <p:grpSpPr>
                    <a:xfrm>
                      <a:off x="4897800" y="2463480"/>
                      <a:ext cx="43200" cy="5040"/>
                      <a:chOff x="4897800" y="2463480"/>
                      <a:chExt cx="43200" cy="5040"/>
                    </a:xfrm>
                  </p:grpSpPr>
                  <p:sp>
                    <p:nvSpPr>
                      <p:cNvPr id="2134" name="Freeform 841"/>
                      <p:cNvSpPr/>
                      <p:nvPr/>
                    </p:nvSpPr>
                    <p:spPr>
                      <a:xfrm>
                        <a:off x="4897800" y="246348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5" name="Freeform 842"/>
                      <p:cNvSpPr/>
                      <p:nvPr/>
                    </p:nvSpPr>
                    <p:spPr>
                      <a:xfrm>
                        <a:off x="4910760" y="246348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36" name="Group 843"/>
                    <p:cNvGrpSpPr/>
                    <p:nvPr/>
                  </p:nvGrpSpPr>
                  <p:grpSpPr>
                    <a:xfrm>
                      <a:off x="4884840" y="2451240"/>
                      <a:ext cx="31680" cy="5040"/>
                      <a:chOff x="4884840" y="2451240"/>
                      <a:chExt cx="31680" cy="5040"/>
                    </a:xfrm>
                  </p:grpSpPr>
                  <p:sp>
                    <p:nvSpPr>
                      <p:cNvPr id="2137" name="Freeform 844"/>
                      <p:cNvSpPr/>
                      <p:nvPr/>
                    </p:nvSpPr>
                    <p:spPr>
                      <a:xfrm>
                        <a:off x="4884840" y="245124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8" name="Freeform 845"/>
                      <p:cNvSpPr/>
                      <p:nvPr/>
                    </p:nvSpPr>
                    <p:spPr>
                      <a:xfrm>
                        <a:off x="4897800" y="245124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2139" name="Group 745"/>
          <p:cNvGrpSpPr/>
          <p:nvPr/>
        </p:nvGrpSpPr>
        <p:grpSpPr>
          <a:xfrm>
            <a:off x="4572000" y="1523880"/>
            <a:ext cx="601560" cy="164520"/>
            <a:chOff x="4572000" y="1523880"/>
            <a:chExt cx="601560" cy="164520"/>
          </a:xfrm>
        </p:grpSpPr>
        <p:grpSp>
          <p:nvGrpSpPr>
            <p:cNvPr id="2140" name="Group 746"/>
            <p:cNvGrpSpPr/>
            <p:nvPr/>
          </p:nvGrpSpPr>
          <p:grpSpPr>
            <a:xfrm>
              <a:off x="4588200" y="1523880"/>
              <a:ext cx="585360" cy="142200"/>
              <a:chOff x="4588200" y="1523880"/>
              <a:chExt cx="585360" cy="142200"/>
            </a:xfrm>
          </p:grpSpPr>
          <p:sp>
            <p:nvSpPr>
              <p:cNvPr id="2141" name="Freeform 747"/>
              <p:cNvSpPr/>
              <p:nvPr/>
            </p:nvSpPr>
            <p:spPr>
              <a:xfrm>
                <a:off x="4588200" y="1523880"/>
                <a:ext cx="585360" cy="14220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2" name="Group 748"/>
              <p:cNvGrpSpPr/>
              <p:nvPr/>
            </p:nvGrpSpPr>
            <p:grpSpPr>
              <a:xfrm>
                <a:off x="4691520" y="1619280"/>
                <a:ext cx="436680" cy="26280"/>
                <a:chOff x="4691520" y="1619280"/>
                <a:chExt cx="436680" cy="26280"/>
              </a:xfrm>
            </p:grpSpPr>
            <p:sp>
              <p:nvSpPr>
                <p:cNvPr id="2143" name="Freeform 749"/>
                <p:cNvSpPr/>
                <p:nvPr/>
              </p:nvSpPr>
              <p:spPr>
                <a:xfrm>
                  <a:off x="5116680" y="161928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Freeform 750"/>
                <p:cNvSpPr/>
                <p:nvPr/>
              </p:nvSpPr>
              <p:spPr>
                <a:xfrm>
                  <a:off x="4998600" y="162036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Freeform 751"/>
                <p:cNvSpPr/>
                <p:nvPr/>
              </p:nvSpPr>
              <p:spPr>
                <a:xfrm>
                  <a:off x="4796640" y="162180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Freeform 752"/>
                <p:cNvSpPr/>
                <p:nvPr/>
              </p:nvSpPr>
              <p:spPr>
                <a:xfrm>
                  <a:off x="4691520" y="162324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753"/>
              <p:cNvGrpSpPr/>
              <p:nvPr/>
            </p:nvGrpSpPr>
            <p:grpSpPr>
              <a:xfrm>
                <a:off x="4705200" y="1623240"/>
                <a:ext cx="397080" cy="9720"/>
                <a:chOff x="4705200" y="1623240"/>
                <a:chExt cx="397080" cy="9720"/>
              </a:xfrm>
            </p:grpSpPr>
            <p:grpSp>
              <p:nvGrpSpPr>
                <p:cNvPr id="2148" name="Group 754"/>
                <p:cNvGrpSpPr/>
                <p:nvPr/>
              </p:nvGrpSpPr>
              <p:grpSpPr>
                <a:xfrm>
                  <a:off x="4742640" y="1627920"/>
                  <a:ext cx="44280" cy="3600"/>
                  <a:chOff x="4742640" y="1627920"/>
                  <a:chExt cx="44280" cy="3600"/>
                </a:xfrm>
              </p:grpSpPr>
              <p:sp>
                <p:nvSpPr>
                  <p:cNvPr id="2149" name="Oval 755"/>
                  <p:cNvSpPr/>
                  <p:nvPr/>
                </p:nvSpPr>
                <p:spPr>
                  <a:xfrm>
                    <a:off x="4781160" y="16279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Oval 756"/>
                  <p:cNvSpPr/>
                  <p:nvPr/>
                </p:nvSpPr>
                <p:spPr>
                  <a:xfrm>
                    <a:off x="4775040" y="16279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Oval 757"/>
                  <p:cNvSpPr/>
                  <p:nvPr/>
                </p:nvSpPr>
                <p:spPr>
                  <a:xfrm>
                    <a:off x="4769280" y="16279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Oval 758"/>
                  <p:cNvSpPr/>
                  <p:nvPr/>
                </p:nvSpPr>
                <p:spPr>
                  <a:xfrm>
                    <a:off x="4762440" y="16279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3" name="Oval 759"/>
                  <p:cNvSpPr/>
                  <p:nvPr/>
                </p:nvSpPr>
                <p:spPr>
                  <a:xfrm>
                    <a:off x="4756320" y="162792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4" name="Oval 760"/>
                  <p:cNvSpPr/>
                  <p:nvPr/>
                </p:nvSpPr>
                <p:spPr>
                  <a:xfrm>
                    <a:off x="4749480" y="16290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Oval 761"/>
                  <p:cNvSpPr/>
                  <p:nvPr/>
                </p:nvSpPr>
                <p:spPr>
                  <a:xfrm>
                    <a:off x="4742640" y="16290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6" name="Group 762"/>
                <p:cNvGrpSpPr/>
                <p:nvPr/>
              </p:nvGrpSpPr>
              <p:grpSpPr>
                <a:xfrm>
                  <a:off x="4942080" y="1623240"/>
                  <a:ext cx="160200" cy="6120"/>
                  <a:chOff x="4942080" y="1623240"/>
                  <a:chExt cx="160200" cy="6120"/>
                </a:xfrm>
              </p:grpSpPr>
              <p:grpSp>
                <p:nvGrpSpPr>
                  <p:cNvPr id="2157" name="Group 763"/>
                  <p:cNvGrpSpPr/>
                  <p:nvPr/>
                </p:nvGrpSpPr>
                <p:grpSpPr>
                  <a:xfrm>
                    <a:off x="5056920" y="1623240"/>
                    <a:ext cx="45360" cy="3600"/>
                    <a:chOff x="5056920" y="1623240"/>
                    <a:chExt cx="45360" cy="3600"/>
                  </a:xfrm>
                </p:grpSpPr>
                <p:sp>
                  <p:nvSpPr>
                    <p:cNvPr id="2158" name="Oval 764"/>
                    <p:cNvSpPr/>
                    <p:nvPr/>
                  </p:nvSpPr>
                  <p:spPr>
                    <a:xfrm>
                      <a:off x="5097960" y="162324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9" name="Oval 765"/>
                    <p:cNvSpPr/>
                    <p:nvPr/>
                  </p:nvSpPr>
                  <p:spPr>
                    <a:xfrm>
                      <a:off x="5090760" y="162324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0" name="Oval 766"/>
                    <p:cNvSpPr/>
                    <p:nvPr/>
                  </p:nvSpPr>
                  <p:spPr>
                    <a:xfrm>
                      <a:off x="5083920" y="1623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1" name="Oval 767"/>
                    <p:cNvSpPr/>
                    <p:nvPr/>
                  </p:nvSpPr>
                  <p:spPr>
                    <a:xfrm>
                      <a:off x="5076720" y="1623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2" name="Oval 768"/>
                    <p:cNvSpPr/>
                    <p:nvPr/>
                  </p:nvSpPr>
                  <p:spPr>
                    <a:xfrm>
                      <a:off x="5069880" y="1623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3" name="Oval 769"/>
                    <p:cNvSpPr/>
                    <p:nvPr/>
                  </p:nvSpPr>
                  <p:spPr>
                    <a:xfrm>
                      <a:off x="5063760" y="162324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4" name="Oval 770"/>
                    <p:cNvSpPr/>
                    <p:nvPr/>
                  </p:nvSpPr>
                  <p:spPr>
                    <a:xfrm>
                      <a:off x="5056920" y="1623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5" name="Group 771"/>
                  <p:cNvGrpSpPr/>
                  <p:nvPr/>
                </p:nvGrpSpPr>
                <p:grpSpPr>
                  <a:xfrm>
                    <a:off x="5009040" y="1623240"/>
                    <a:ext cx="46440" cy="4680"/>
                    <a:chOff x="5009040" y="1623240"/>
                    <a:chExt cx="46440" cy="4680"/>
                  </a:xfrm>
                </p:grpSpPr>
                <p:sp>
                  <p:nvSpPr>
                    <p:cNvPr id="2166" name="Oval 772"/>
                    <p:cNvSpPr/>
                    <p:nvPr/>
                  </p:nvSpPr>
                  <p:spPr>
                    <a:xfrm>
                      <a:off x="5049720" y="1623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7" name="Oval 773"/>
                    <p:cNvSpPr/>
                    <p:nvPr/>
                  </p:nvSpPr>
                  <p:spPr>
                    <a:xfrm>
                      <a:off x="5042520" y="1623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8" name="Oval 774"/>
                    <p:cNvSpPr/>
                    <p:nvPr/>
                  </p:nvSpPr>
                  <p:spPr>
                    <a:xfrm>
                      <a:off x="5036760" y="162432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9" name="Oval 775"/>
                    <p:cNvSpPr/>
                    <p:nvPr/>
                  </p:nvSpPr>
                  <p:spPr>
                    <a:xfrm>
                      <a:off x="5029920" y="162432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0" name="Oval 776"/>
                    <p:cNvSpPr/>
                    <p:nvPr/>
                  </p:nvSpPr>
                  <p:spPr>
                    <a:xfrm>
                      <a:off x="5022720" y="162432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1" name="Oval 777"/>
                    <p:cNvSpPr/>
                    <p:nvPr/>
                  </p:nvSpPr>
                  <p:spPr>
                    <a:xfrm>
                      <a:off x="5015880" y="162432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2" name="Oval 778"/>
                    <p:cNvSpPr/>
                    <p:nvPr/>
                  </p:nvSpPr>
                  <p:spPr>
                    <a:xfrm>
                      <a:off x="5009040" y="16243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3" name="Group 779"/>
                  <p:cNvGrpSpPr/>
                  <p:nvPr/>
                </p:nvGrpSpPr>
                <p:grpSpPr>
                  <a:xfrm>
                    <a:off x="4942080" y="1624320"/>
                    <a:ext cx="46800" cy="5040"/>
                    <a:chOff x="4942080" y="1624320"/>
                    <a:chExt cx="46800" cy="5040"/>
                  </a:xfrm>
                </p:grpSpPr>
                <p:sp>
                  <p:nvSpPr>
                    <p:cNvPr id="2174" name="Oval 780"/>
                    <p:cNvSpPr/>
                    <p:nvPr/>
                  </p:nvSpPr>
                  <p:spPr>
                    <a:xfrm>
                      <a:off x="4983120" y="16243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5" name="Oval 781"/>
                    <p:cNvSpPr/>
                    <p:nvPr/>
                  </p:nvSpPr>
                  <p:spPr>
                    <a:xfrm>
                      <a:off x="4975920" y="16243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6" name="Oval 782"/>
                    <p:cNvSpPr/>
                    <p:nvPr/>
                  </p:nvSpPr>
                  <p:spPr>
                    <a:xfrm>
                      <a:off x="4969080" y="162432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7" name="Oval 783"/>
                    <p:cNvSpPr/>
                    <p:nvPr/>
                  </p:nvSpPr>
                  <p:spPr>
                    <a:xfrm>
                      <a:off x="4962960" y="162432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8" name="Oval 784"/>
                    <p:cNvSpPr/>
                    <p:nvPr/>
                  </p:nvSpPr>
                  <p:spPr>
                    <a:xfrm>
                      <a:off x="4956120" y="162540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9" name="Oval 785"/>
                    <p:cNvSpPr/>
                    <p:nvPr/>
                  </p:nvSpPr>
                  <p:spPr>
                    <a:xfrm>
                      <a:off x="4942080" y="162540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80" name="Group 786"/>
                <p:cNvGrpSpPr/>
                <p:nvPr/>
              </p:nvGrpSpPr>
              <p:grpSpPr>
                <a:xfrm>
                  <a:off x="4898520" y="1625400"/>
                  <a:ext cx="37080" cy="3600"/>
                  <a:chOff x="4898520" y="1625400"/>
                  <a:chExt cx="37080" cy="3600"/>
                </a:xfrm>
              </p:grpSpPr>
              <p:sp>
                <p:nvSpPr>
                  <p:cNvPr id="2181" name="Oval 787"/>
                  <p:cNvSpPr/>
                  <p:nvPr/>
                </p:nvSpPr>
                <p:spPr>
                  <a:xfrm>
                    <a:off x="4929840" y="16254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Oval 788"/>
                  <p:cNvSpPr/>
                  <p:nvPr/>
                </p:nvSpPr>
                <p:spPr>
                  <a:xfrm>
                    <a:off x="4923000" y="162540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Oval 789"/>
                  <p:cNvSpPr/>
                  <p:nvPr/>
                </p:nvSpPr>
                <p:spPr>
                  <a:xfrm>
                    <a:off x="4917240" y="16254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Oval 790"/>
                  <p:cNvSpPr/>
                  <p:nvPr/>
                </p:nvSpPr>
                <p:spPr>
                  <a:xfrm>
                    <a:off x="4911480" y="16254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Oval 791"/>
                  <p:cNvSpPr/>
                  <p:nvPr/>
                </p:nvSpPr>
                <p:spPr>
                  <a:xfrm>
                    <a:off x="4904280" y="16254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6" name="Oval 792"/>
                  <p:cNvSpPr/>
                  <p:nvPr/>
                </p:nvSpPr>
                <p:spPr>
                  <a:xfrm>
                    <a:off x="4898520" y="162540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7" name="Group 793"/>
                <p:cNvGrpSpPr/>
                <p:nvPr/>
              </p:nvGrpSpPr>
              <p:grpSpPr>
                <a:xfrm>
                  <a:off x="4705200" y="1629360"/>
                  <a:ext cx="36000" cy="3600"/>
                  <a:chOff x="4705200" y="1629360"/>
                  <a:chExt cx="36000" cy="3600"/>
                </a:xfrm>
              </p:grpSpPr>
              <p:sp>
                <p:nvSpPr>
                  <p:cNvPr id="2188" name="Oval 794"/>
                  <p:cNvSpPr/>
                  <p:nvPr/>
                </p:nvSpPr>
                <p:spPr>
                  <a:xfrm>
                    <a:off x="4736880" y="162936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9" name="Oval 795"/>
                  <p:cNvSpPr/>
                  <p:nvPr/>
                </p:nvSpPr>
                <p:spPr>
                  <a:xfrm>
                    <a:off x="4729680" y="162936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0" name="Oval 796"/>
                  <p:cNvSpPr/>
                  <p:nvPr/>
                </p:nvSpPr>
                <p:spPr>
                  <a:xfrm>
                    <a:off x="4723920" y="1629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1" name="Oval 797"/>
                  <p:cNvSpPr/>
                  <p:nvPr/>
                </p:nvSpPr>
                <p:spPr>
                  <a:xfrm>
                    <a:off x="4717080" y="162936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Oval 798"/>
                  <p:cNvSpPr/>
                  <p:nvPr/>
                </p:nvSpPr>
                <p:spPr>
                  <a:xfrm>
                    <a:off x="4710960" y="162936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3" name="Oval 799"/>
                  <p:cNvSpPr/>
                  <p:nvPr/>
                </p:nvSpPr>
                <p:spPr>
                  <a:xfrm>
                    <a:off x="4705200" y="162936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94" name="Freeform 800"/>
            <p:cNvSpPr/>
            <p:nvPr/>
          </p:nvSpPr>
          <p:spPr>
            <a:xfrm>
              <a:off x="4605840" y="1576440"/>
              <a:ext cx="567360" cy="7668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5" name="Group 801"/>
            <p:cNvGrpSpPr/>
            <p:nvPr/>
          </p:nvGrpSpPr>
          <p:grpSpPr>
            <a:xfrm>
              <a:off x="5145120" y="1623600"/>
              <a:ext cx="12600" cy="4680"/>
              <a:chOff x="5145120" y="1623600"/>
              <a:chExt cx="12600" cy="4680"/>
            </a:xfrm>
          </p:grpSpPr>
          <p:sp>
            <p:nvSpPr>
              <p:cNvPr id="2196" name="Freeform 802"/>
              <p:cNvSpPr/>
              <p:nvPr/>
            </p:nvSpPr>
            <p:spPr>
              <a:xfrm>
                <a:off x="5145120" y="162360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Freeform 803"/>
              <p:cNvSpPr/>
              <p:nvPr/>
            </p:nvSpPr>
            <p:spPr>
              <a:xfrm>
                <a:off x="5149800" y="162360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Freeform 804"/>
              <p:cNvSpPr/>
              <p:nvPr/>
            </p:nvSpPr>
            <p:spPr>
              <a:xfrm>
                <a:off x="5154120" y="16246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9" name="Arc 805"/>
            <p:cNvSpPr/>
            <p:nvPr/>
          </p:nvSpPr>
          <p:spPr>
            <a:xfrm>
              <a:off x="4582080" y="162720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Freeform 806"/>
            <p:cNvSpPr/>
            <p:nvPr/>
          </p:nvSpPr>
          <p:spPr>
            <a:xfrm>
              <a:off x="4870800" y="163836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1" name="Group 807"/>
            <p:cNvGrpSpPr/>
            <p:nvPr/>
          </p:nvGrpSpPr>
          <p:grpSpPr>
            <a:xfrm>
              <a:off x="4794840" y="1637280"/>
              <a:ext cx="188640" cy="51120"/>
              <a:chOff x="4794840" y="1637280"/>
              <a:chExt cx="188640" cy="51120"/>
            </a:xfrm>
          </p:grpSpPr>
          <p:grpSp>
            <p:nvGrpSpPr>
              <p:cNvPr id="2202" name="Group 808"/>
              <p:cNvGrpSpPr/>
              <p:nvPr/>
            </p:nvGrpSpPr>
            <p:grpSpPr>
              <a:xfrm>
                <a:off x="4794840" y="1637280"/>
                <a:ext cx="188640" cy="29880"/>
                <a:chOff x="4794840" y="1637280"/>
                <a:chExt cx="188640" cy="29880"/>
              </a:xfrm>
            </p:grpSpPr>
            <p:sp>
              <p:nvSpPr>
                <p:cNvPr id="2203" name="Freeform 809"/>
                <p:cNvSpPr/>
                <p:nvPr/>
              </p:nvSpPr>
              <p:spPr>
                <a:xfrm>
                  <a:off x="4794840" y="163728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4" name="Freeform 810"/>
                <p:cNvSpPr/>
                <p:nvPr/>
              </p:nvSpPr>
              <p:spPr>
                <a:xfrm>
                  <a:off x="4794840" y="164232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5" name="Group 811"/>
              <p:cNvGrpSpPr/>
              <p:nvPr/>
            </p:nvGrpSpPr>
            <p:grpSpPr>
              <a:xfrm>
                <a:off x="4906080" y="1674720"/>
                <a:ext cx="49680" cy="13680"/>
                <a:chOff x="4906080" y="1674720"/>
                <a:chExt cx="49680" cy="13680"/>
              </a:xfrm>
            </p:grpSpPr>
            <p:grpSp>
              <p:nvGrpSpPr>
                <p:cNvPr id="2206" name="Group 812"/>
                <p:cNvGrpSpPr/>
                <p:nvPr/>
              </p:nvGrpSpPr>
              <p:grpSpPr>
                <a:xfrm>
                  <a:off x="4906080" y="1674720"/>
                  <a:ext cx="49680" cy="13680"/>
                  <a:chOff x="4906080" y="1674720"/>
                  <a:chExt cx="49680" cy="13680"/>
                </a:xfrm>
              </p:grpSpPr>
              <p:grpSp>
                <p:nvGrpSpPr>
                  <p:cNvPr id="2207" name="Group 813"/>
                  <p:cNvGrpSpPr/>
                  <p:nvPr/>
                </p:nvGrpSpPr>
                <p:grpSpPr>
                  <a:xfrm>
                    <a:off x="4906080" y="1674720"/>
                    <a:ext cx="4320" cy="12240"/>
                    <a:chOff x="4906080" y="1674720"/>
                    <a:chExt cx="4320" cy="12240"/>
                  </a:xfrm>
                </p:grpSpPr>
                <p:sp>
                  <p:nvSpPr>
                    <p:cNvPr id="2208" name="Freeform 814"/>
                    <p:cNvSpPr/>
                    <p:nvPr/>
                  </p:nvSpPr>
                  <p:spPr>
                    <a:xfrm>
                      <a:off x="4906080" y="167472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9" name="Freeform 815"/>
                    <p:cNvSpPr/>
                    <p:nvPr/>
                  </p:nvSpPr>
                  <p:spPr>
                    <a:xfrm>
                      <a:off x="4906080" y="167472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0" name="Freeform 816"/>
                    <p:cNvSpPr/>
                    <p:nvPr/>
                  </p:nvSpPr>
                  <p:spPr>
                    <a:xfrm>
                      <a:off x="4906080" y="168084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11" name="Freeform 817"/>
                  <p:cNvSpPr/>
                  <p:nvPr/>
                </p:nvSpPr>
                <p:spPr>
                  <a:xfrm>
                    <a:off x="4916160" y="167472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2" name="Freeform 818"/>
                <p:cNvSpPr/>
                <p:nvPr/>
              </p:nvSpPr>
              <p:spPr>
                <a:xfrm>
                  <a:off x="4916160" y="167832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3" name="Group 819"/>
              <p:cNvGrpSpPr/>
              <p:nvPr/>
            </p:nvGrpSpPr>
            <p:grpSpPr>
              <a:xfrm>
                <a:off x="4899960" y="1643400"/>
                <a:ext cx="70560" cy="32040"/>
                <a:chOff x="4899960" y="1643400"/>
                <a:chExt cx="70560" cy="32040"/>
              </a:xfrm>
            </p:grpSpPr>
            <p:grpSp>
              <p:nvGrpSpPr>
                <p:cNvPr id="2214" name="Group 820"/>
                <p:cNvGrpSpPr/>
                <p:nvPr/>
              </p:nvGrpSpPr>
              <p:grpSpPr>
                <a:xfrm>
                  <a:off x="4899960" y="1650960"/>
                  <a:ext cx="5760" cy="15840"/>
                  <a:chOff x="4899960" y="1650960"/>
                  <a:chExt cx="5760" cy="15840"/>
                </a:xfrm>
              </p:grpSpPr>
              <p:sp>
                <p:nvSpPr>
                  <p:cNvPr id="2215" name="Freeform 821"/>
                  <p:cNvSpPr/>
                  <p:nvPr/>
                </p:nvSpPr>
                <p:spPr>
                  <a:xfrm>
                    <a:off x="4899960" y="165096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Freeform 822"/>
                  <p:cNvSpPr/>
                  <p:nvPr/>
                </p:nvSpPr>
                <p:spPr>
                  <a:xfrm>
                    <a:off x="4899960" y="165564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Freeform 823"/>
                  <p:cNvSpPr/>
                  <p:nvPr/>
                </p:nvSpPr>
                <p:spPr>
                  <a:xfrm>
                    <a:off x="4899960" y="165312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Freeform 824"/>
                  <p:cNvSpPr/>
                  <p:nvPr/>
                </p:nvSpPr>
                <p:spPr>
                  <a:xfrm>
                    <a:off x="4899960" y="166320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9" name="Group 825"/>
                <p:cNvGrpSpPr/>
                <p:nvPr/>
              </p:nvGrpSpPr>
              <p:grpSpPr>
                <a:xfrm>
                  <a:off x="4911840" y="1643400"/>
                  <a:ext cx="58680" cy="32040"/>
                  <a:chOff x="4911840" y="1643400"/>
                  <a:chExt cx="58680" cy="32040"/>
                </a:xfrm>
              </p:grpSpPr>
              <p:sp>
                <p:nvSpPr>
                  <p:cNvPr id="2220" name="Freeform 826"/>
                  <p:cNvSpPr/>
                  <p:nvPr/>
                </p:nvSpPr>
                <p:spPr>
                  <a:xfrm>
                    <a:off x="4911840" y="164340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Freeform 827"/>
                  <p:cNvSpPr/>
                  <p:nvPr/>
                </p:nvSpPr>
                <p:spPr>
                  <a:xfrm>
                    <a:off x="4913640" y="164952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22" name="Group 828"/>
                  <p:cNvGrpSpPr/>
                  <p:nvPr/>
                </p:nvGrpSpPr>
                <p:grpSpPr>
                  <a:xfrm>
                    <a:off x="4935960" y="1649520"/>
                    <a:ext cx="34560" cy="25920"/>
                    <a:chOff x="4935960" y="1649520"/>
                    <a:chExt cx="34560" cy="25920"/>
                  </a:xfrm>
                </p:grpSpPr>
                <p:sp>
                  <p:nvSpPr>
                    <p:cNvPr id="2223" name="Line 829"/>
                    <p:cNvSpPr/>
                    <p:nvPr/>
                  </p:nvSpPr>
                  <p:spPr>
                    <a:xfrm>
                      <a:off x="4951080" y="164952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4" name="Line 830"/>
                    <p:cNvSpPr/>
                    <p:nvPr/>
                  </p:nvSpPr>
                  <p:spPr>
                    <a:xfrm flipH="1">
                      <a:off x="4960440" y="164952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5" name="Line 831"/>
                    <p:cNvSpPr/>
                    <p:nvPr/>
                  </p:nvSpPr>
                  <p:spPr>
                    <a:xfrm>
                      <a:off x="4935960" y="164952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26" name="Group 832"/>
            <p:cNvGrpSpPr/>
            <p:nvPr/>
          </p:nvGrpSpPr>
          <p:grpSpPr>
            <a:xfrm>
              <a:off x="4572000" y="1523880"/>
              <a:ext cx="340560" cy="133200"/>
              <a:chOff x="4572000" y="1523880"/>
              <a:chExt cx="340560" cy="133200"/>
            </a:xfrm>
          </p:grpSpPr>
          <p:sp>
            <p:nvSpPr>
              <p:cNvPr id="2227" name="Freeform 833"/>
              <p:cNvSpPr/>
              <p:nvPr/>
            </p:nvSpPr>
            <p:spPr>
              <a:xfrm>
                <a:off x="4588200" y="1523880"/>
                <a:ext cx="107640" cy="92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28" name="Group 834"/>
              <p:cNvGrpSpPr/>
              <p:nvPr/>
            </p:nvGrpSpPr>
            <p:grpSpPr>
              <a:xfrm>
                <a:off x="4572000" y="1585440"/>
                <a:ext cx="340560" cy="71640"/>
                <a:chOff x="4572000" y="1585440"/>
                <a:chExt cx="340560" cy="71640"/>
              </a:xfrm>
            </p:grpSpPr>
            <p:sp>
              <p:nvSpPr>
                <p:cNvPr id="2229" name="Freeform 835"/>
                <p:cNvSpPr/>
                <p:nvPr/>
              </p:nvSpPr>
              <p:spPr>
                <a:xfrm>
                  <a:off x="4619880" y="1639440"/>
                  <a:ext cx="47520" cy="17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30" name="Group 836"/>
                <p:cNvGrpSpPr/>
                <p:nvPr/>
              </p:nvGrpSpPr>
              <p:grpSpPr>
                <a:xfrm>
                  <a:off x="4572000" y="1585440"/>
                  <a:ext cx="340560" cy="50040"/>
                  <a:chOff x="4572000" y="1585440"/>
                  <a:chExt cx="340560" cy="50040"/>
                </a:xfrm>
              </p:grpSpPr>
              <p:sp>
                <p:nvSpPr>
                  <p:cNvPr id="2231" name="Freeform 837"/>
                  <p:cNvSpPr/>
                  <p:nvPr/>
                </p:nvSpPr>
                <p:spPr>
                  <a:xfrm>
                    <a:off x="4572000" y="161424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2" name="Freeform 838"/>
                  <p:cNvSpPr/>
                  <p:nvPr/>
                </p:nvSpPr>
                <p:spPr>
                  <a:xfrm>
                    <a:off x="4788720" y="1585440"/>
                    <a:ext cx="123840" cy="5004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33" name="Group 839"/>
                  <p:cNvGrpSpPr/>
                  <p:nvPr/>
                </p:nvGrpSpPr>
                <p:grpSpPr>
                  <a:xfrm>
                    <a:off x="4808520" y="1612800"/>
                    <a:ext cx="56160" cy="17280"/>
                    <a:chOff x="4808520" y="1612800"/>
                    <a:chExt cx="56160" cy="17280"/>
                  </a:xfrm>
                </p:grpSpPr>
                <p:grpSp>
                  <p:nvGrpSpPr>
                    <p:cNvPr id="2234" name="Group 840"/>
                    <p:cNvGrpSpPr/>
                    <p:nvPr/>
                  </p:nvGrpSpPr>
                  <p:grpSpPr>
                    <a:xfrm>
                      <a:off x="4821480" y="1625040"/>
                      <a:ext cx="43200" cy="5040"/>
                      <a:chOff x="4821480" y="1625040"/>
                      <a:chExt cx="43200" cy="5040"/>
                    </a:xfrm>
                  </p:grpSpPr>
                  <p:sp>
                    <p:nvSpPr>
                      <p:cNvPr id="2235" name="Freeform 841"/>
                      <p:cNvSpPr/>
                      <p:nvPr/>
                    </p:nvSpPr>
                    <p:spPr>
                      <a:xfrm>
                        <a:off x="4821480" y="162504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6" name="Freeform 842"/>
                      <p:cNvSpPr/>
                      <p:nvPr/>
                    </p:nvSpPr>
                    <p:spPr>
                      <a:xfrm>
                        <a:off x="4834440" y="162504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37" name="Group 843"/>
                    <p:cNvGrpSpPr/>
                    <p:nvPr/>
                  </p:nvGrpSpPr>
                  <p:grpSpPr>
                    <a:xfrm>
                      <a:off x="4808520" y="1612800"/>
                      <a:ext cx="31680" cy="5040"/>
                      <a:chOff x="4808520" y="1612800"/>
                      <a:chExt cx="31680" cy="5040"/>
                    </a:xfrm>
                  </p:grpSpPr>
                  <p:sp>
                    <p:nvSpPr>
                      <p:cNvPr id="2238" name="Freeform 844"/>
                      <p:cNvSpPr/>
                      <p:nvPr/>
                    </p:nvSpPr>
                    <p:spPr>
                      <a:xfrm>
                        <a:off x="4808520" y="161280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9" name="Freeform 845"/>
                      <p:cNvSpPr/>
                      <p:nvPr/>
                    </p:nvSpPr>
                    <p:spPr>
                      <a:xfrm>
                        <a:off x="4821480" y="161280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2240" name="Group 745"/>
          <p:cNvGrpSpPr/>
          <p:nvPr/>
        </p:nvGrpSpPr>
        <p:grpSpPr>
          <a:xfrm>
            <a:off x="4572000" y="685800"/>
            <a:ext cx="601560" cy="164520"/>
            <a:chOff x="4572000" y="685800"/>
            <a:chExt cx="601560" cy="164520"/>
          </a:xfrm>
        </p:grpSpPr>
        <p:grpSp>
          <p:nvGrpSpPr>
            <p:cNvPr id="2241" name="Group 746"/>
            <p:cNvGrpSpPr/>
            <p:nvPr/>
          </p:nvGrpSpPr>
          <p:grpSpPr>
            <a:xfrm>
              <a:off x="4588200" y="685800"/>
              <a:ext cx="585360" cy="142200"/>
              <a:chOff x="4588200" y="685800"/>
              <a:chExt cx="585360" cy="142200"/>
            </a:xfrm>
          </p:grpSpPr>
          <p:sp>
            <p:nvSpPr>
              <p:cNvPr id="2242" name="Freeform 747"/>
              <p:cNvSpPr/>
              <p:nvPr/>
            </p:nvSpPr>
            <p:spPr>
              <a:xfrm>
                <a:off x="4588200" y="685800"/>
                <a:ext cx="585360" cy="14220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499" h="113">
                    <a:moveTo>
                      <a:pt x="0" y="0"/>
                    </a:moveTo>
                    <a:lnTo>
                      <a:pt x="25" y="0"/>
                    </a:lnTo>
                    <a:lnTo>
                      <a:pt x="91" y="64"/>
                    </a:lnTo>
                    <a:lnTo>
                      <a:pt x="93" y="65"/>
                    </a:lnTo>
                    <a:lnTo>
                      <a:pt x="94" y="67"/>
                    </a:lnTo>
                    <a:lnTo>
                      <a:pt x="97" y="68"/>
                    </a:lnTo>
                    <a:lnTo>
                      <a:pt x="224" y="69"/>
                    </a:lnTo>
                    <a:lnTo>
                      <a:pt x="306" y="68"/>
                    </a:lnTo>
                    <a:lnTo>
                      <a:pt x="447" y="65"/>
                    </a:lnTo>
                    <a:lnTo>
                      <a:pt x="450" y="66"/>
                    </a:lnTo>
                    <a:lnTo>
                      <a:pt x="454" y="66"/>
                    </a:lnTo>
                    <a:lnTo>
                      <a:pt x="457" y="66"/>
                    </a:lnTo>
                    <a:lnTo>
                      <a:pt x="460" y="67"/>
                    </a:lnTo>
                    <a:lnTo>
                      <a:pt x="464" y="68"/>
                    </a:lnTo>
                    <a:lnTo>
                      <a:pt x="467" y="69"/>
                    </a:lnTo>
                    <a:lnTo>
                      <a:pt x="469" y="71"/>
                    </a:lnTo>
                    <a:lnTo>
                      <a:pt x="471" y="72"/>
                    </a:lnTo>
                    <a:lnTo>
                      <a:pt x="474" y="74"/>
                    </a:lnTo>
                    <a:lnTo>
                      <a:pt x="477" y="75"/>
                    </a:lnTo>
                    <a:lnTo>
                      <a:pt x="479" y="77"/>
                    </a:lnTo>
                    <a:lnTo>
                      <a:pt x="481" y="79"/>
                    </a:lnTo>
                    <a:lnTo>
                      <a:pt x="483" y="82"/>
                    </a:lnTo>
                    <a:lnTo>
                      <a:pt x="485" y="83"/>
                    </a:lnTo>
                    <a:lnTo>
                      <a:pt x="488" y="84"/>
                    </a:lnTo>
                    <a:lnTo>
                      <a:pt x="491" y="86"/>
                    </a:lnTo>
                    <a:lnTo>
                      <a:pt x="492" y="87"/>
                    </a:lnTo>
                    <a:lnTo>
                      <a:pt x="494" y="88"/>
                    </a:lnTo>
                    <a:lnTo>
                      <a:pt x="495" y="89"/>
                    </a:lnTo>
                    <a:lnTo>
                      <a:pt x="496" y="90"/>
                    </a:lnTo>
                    <a:lnTo>
                      <a:pt x="497" y="91"/>
                    </a:lnTo>
                    <a:lnTo>
                      <a:pt x="497" y="92"/>
                    </a:lnTo>
                    <a:lnTo>
                      <a:pt x="498" y="93"/>
                    </a:lnTo>
                    <a:lnTo>
                      <a:pt x="498" y="94"/>
                    </a:lnTo>
                    <a:lnTo>
                      <a:pt x="498" y="95"/>
                    </a:lnTo>
                    <a:lnTo>
                      <a:pt x="497" y="97"/>
                    </a:lnTo>
                    <a:lnTo>
                      <a:pt x="496" y="98"/>
                    </a:lnTo>
                    <a:lnTo>
                      <a:pt x="494" y="99"/>
                    </a:lnTo>
                    <a:lnTo>
                      <a:pt x="492" y="101"/>
                    </a:lnTo>
                    <a:lnTo>
                      <a:pt x="488" y="102"/>
                    </a:lnTo>
                    <a:lnTo>
                      <a:pt x="484" y="103"/>
                    </a:lnTo>
                    <a:lnTo>
                      <a:pt x="481" y="104"/>
                    </a:lnTo>
                    <a:lnTo>
                      <a:pt x="477" y="105"/>
                    </a:lnTo>
                    <a:lnTo>
                      <a:pt x="472" y="105"/>
                    </a:lnTo>
                    <a:lnTo>
                      <a:pt x="467" y="105"/>
                    </a:lnTo>
                    <a:lnTo>
                      <a:pt x="460" y="106"/>
                    </a:lnTo>
                    <a:lnTo>
                      <a:pt x="455" y="106"/>
                    </a:lnTo>
                    <a:lnTo>
                      <a:pt x="443" y="107"/>
                    </a:lnTo>
                    <a:lnTo>
                      <a:pt x="409" y="107"/>
                    </a:lnTo>
                    <a:lnTo>
                      <a:pt x="338" y="108"/>
                    </a:lnTo>
                    <a:lnTo>
                      <a:pt x="190" y="112"/>
                    </a:lnTo>
                    <a:lnTo>
                      <a:pt x="182" y="112"/>
                    </a:lnTo>
                    <a:lnTo>
                      <a:pt x="133" y="112"/>
                    </a:lnTo>
                    <a:lnTo>
                      <a:pt x="122" y="111"/>
                    </a:lnTo>
                    <a:lnTo>
                      <a:pt x="102" y="109"/>
                    </a:lnTo>
                    <a:lnTo>
                      <a:pt x="92" y="108"/>
                    </a:lnTo>
                    <a:lnTo>
                      <a:pt x="84" y="107"/>
                    </a:lnTo>
                    <a:lnTo>
                      <a:pt x="78" y="106"/>
                    </a:lnTo>
                    <a:lnTo>
                      <a:pt x="71" y="105"/>
                    </a:lnTo>
                    <a:lnTo>
                      <a:pt x="63" y="103"/>
                    </a:lnTo>
                    <a:lnTo>
                      <a:pt x="27" y="94"/>
                    </a:lnTo>
                    <a:lnTo>
                      <a:pt x="18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14" y="81"/>
                    </a:lnTo>
                    <a:lnTo>
                      <a:pt x="29" y="75"/>
                    </a:lnTo>
                    <a:lnTo>
                      <a:pt x="20" y="53"/>
                    </a:lnTo>
                    <a:lnTo>
                      <a:pt x="12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3" name="Group 748"/>
              <p:cNvGrpSpPr/>
              <p:nvPr/>
            </p:nvGrpSpPr>
            <p:grpSpPr>
              <a:xfrm>
                <a:off x="4691520" y="781200"/>
                <a:ext cx="436680" cy="26280"/>
                <a:chOff x="4691520" y="781200"/>
                <a:chExt cx="436680" cy="26280"/>
              </a:xfrm>
            </p:grpSpPr>
            <p:sp>
              <p:nvSpPr>
                <p:cNvPr id="2244" name="Freeform 749"/>
                <p:cNvSpPr/>
                <p:nvPr/>
              </p:nvSpPr>
              <p:spPr>
                <a:xfrm>
                  <a:off x="5116680" y="78120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5" name="Freeform 750"/>
                <p:cNvSpPr/>
                <p:nvPr/>
              </p:nvSpPr>
              <p:spPr>
                <a:xfrm>
                  <a:off x="4998600" y="782280"/>
                  <a:ext cx="11520" cy="248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0" h="2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6" name="Freeform 751"/>
                <p:cNvSpPr/>
                <p:nvPr/>
              </p:nvSpPr>
              <p:spPr>
                <a:xfrm>
                  <a:off x="4796640" y="78372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7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7" name="Freeform 752"/>
                <p:cNvSpPr/>
                <p:nvPr/>
              </p:nvSpPr>
              <p:spPr>
                <a:xfrm>
                  <a:off x="4691520" y="785160"/>
                  <a:ext cx="11520" cy="22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18">
                      <a:moveTo>
                        <a:pt x="9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14"/>
                      </a:lnTo>
                      <a:lnTo>
                        <a:pt x="1" y="17"/>
                      </a:lnTo>
                      <a:lnTo>
                        <a:pt x="9" y="17"/>
                      </a:lnTo>
                      <a:lnTo>
                        <a:pt x="8" y="15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8" name="Group 753"/>
              <p:cNvGrpSpPr/>
              <p:nvPr/>
            </p:nvGrpSpPr>
            <p:grpSpPr>
              <a:xfrm>
                <a:off x="4705200" y="785160"/>
                <a:ext cx="397080" cy="9720"/>
                <a:chOff x="4705200" y="785160"/>
                <a:chExt cx="397080" cy="9720"/>
              </a:xfrm>
            </p:grpSpPr>
            <p:grpSp>
              <p:nvGrpSpPr>
                <p:cNvPr id="2249" name="Group 754"/>
                <p:cNvGrpSpPr/>
                <p:nvPr/>
              </p:nvGrpSpPr>
              <p:grpSpPr>
                <a:xfrm>
                  <a:off x="4742640" y="789840"/>
                  <a:ext cx="44280" cy="3600"/>
                  <a:chOff x="4742640" y="789840"/>
                  <a:chExt cx="44280" cy="3600"/>
                </a:xfrm>
              </p:grpSpPr>
              <p:sp>
                <p:nvSpPr>
                  <p:cNvPr id="2250" name="Oval 755"/>
                  <p:cNvSpPr/>
                  <p:nvPr/>
                </p:nvSpPr>
                <p:spPr>
                  <a:xfrm>
                    <a:off x="4781160" y="789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Oval 756"/>
                  <p:cNvSpPr/>
                  <p:nvPr/>
                </p:nvSpPr>
                <p:spPr>
                  <a:xfrm>
                    <a:off x="4775040" y="789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Oval 757"/>
                  <p:cNvSpPr/>
                  <p:nvPr/>
                </p:nvSpPr>
                <p:spPr>
                  <a:xfrm>
                    <a:off x="4769280" y="789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Oval 758"/>
                  <p:cNvSpPr/>
                  <p:nvPr/>
                </p:nvSpPr>
                <p:spPr>
                  <a:xfrm>
                    <a:off x="4762440" y="78984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Oval 759"/>
                  <p:cNvSpPr/>
                  <p:nvPr/>
                </p:nvSpPr>
                <p:spPr>
                  <a:xfrm>
                    <a:off x="4756320" y="78984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Oval 760"/>
                  <p:cNvSpPr/>
                  <p:nvPr/>
                </p:nvSpPr>
                <p:spPr>
                  <a:xfrm>
                    <a:off x="4749480" y="7909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Oval 761"/>
                  <p:cNvSpPr/>
                  <p:nvPr/>
                </p:nvSpPr>
                <p:spPr>
                  <a:xfrm>
                    <a:off x="4742640" y="7909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7" name="Group 762"/>
                <p:cNvGrpSpPr/>
                <p:nvPr/>
              </p:nvGrpSpPr>
              <p:grpSpPr>
                <a:xfrm>
                  <a:off x="4942080" y="785160"/>
                  <a:ext cx="160200" cy="6120"/>
                  <a:chOff x="4942080" y="785160"/>
                  <a:chExt cx="160200" cy="6120"/>
                </a:xfrm>
              </p:grpSpPr>
              <p:grpSp>
                <p:nvGrpSpPr>
                  <p:cNvPr id="2258" name="Group 763"/>
                  <p:cNvGrpSpPr/>
                  <p:nvPr/>
                </p:nvGrpSpPr>
                <p:grpSpPr>
                  <a:xfrm>
                    <a:off x="5056920" y="785160"/>
                    <a:ext cx="45360" cy="3600"/>
                    <a:chOff x="5056920" y="785160"/>
                    <a:chExt cx="45360" cy="3600"/>
                  </a:xfrm>
                </p:grpSpPr>
                <p:sp>
                  <p:nvSpPr>
                    <p:cNvPr id="2259" name="Oval 764"/>
                    <p:cNvSpPr/>
                    <p:nvPr/>
                  </p:nvSpPr>
                  <p:spPr>
                    <a:xfrm>
                      <a:off x="5097960" y="785160"/>
                      <a:ext cx="432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0" name="Oval 765"/>
                    <p:cNvSpPr/>
                    <p:nvPr/>
                  </p:nvSpPr>
                  <p:spPr>
                    <a:xfrm>
                      <a:off x="5090760" y="785160"/>
                      <a:ext cx="5760" cy="21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1" name="Oval 766"/>
                    <p:cNvSpPr/>
                    <p:nvPr/>
                  </p:nvSpPr>
                  <p:spPr>
                    <a:xfrm>
                      <a:off x="50839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2" name="Oval 767"/>
                    <p:cNvSpPr/>
                    <p:nvPr/>
                  </p:nvSpPr>
                  <p:spPr>
                    <a:xfrm>
                      <a:off x="50767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3" name="Oval 768"/>
                    <p:cNvSpPr/>
                    <p:nvPr/>
                  </p:nvSpPr>
                  <p:spPr>
                    <a:xfrm>
                      <a:off x="506988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4" name="Oval 769"/>
                    <p:cNvSpPr/>
                    <p:nvPr/>
                  </p:nvSpPr>
                  <p:spPr>
                    <a:xfrm>
                      <a:off x="5063760" y="78516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5" name="Oval 770"/>
                    <p:cNvSpPr/>
                    <p:nvPr/>
                  </p:nvSpPr>
                  <p:spPr>
                    <a:xfrm>
                      <a:off x="50569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66" name="Group 771"/>
                  <p:cNvGrpSpPr/>
                  <p:nvPr/>
                </p:nvGrpSpPr>
                <p:grpSpPr>
                  <a:xfrm>
                    <a:off x="5009040" y="785160"/>
                    <a:ext cx="46440" cy="4680"/>
                    <a:chOff x="5009040" y="785160"/>
                    <a:chExt cx="46440" cy="4680"/>
                  </a:xfrm>
                </p:grpSpPr>
                <p:sp>
                  <p:nvSpPr>
                    <p:cNvPr id="2267" name="Oval 772"/>
                    <p:cNvSpPr/>
                    <p:nvPr/>
                  </p:nvSpPr>
                  <p:spPr>
                    <a:xfrm>
                      <a:off x="50497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8" name="Oval 773"/>
                    <p:cNvSpPr/>
                    <p:nvPr/>
                  </p:nvSpPr>
                  <p:spPr>
                    <a:xfrm>
                      <a:off x="5042520" y="78516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9" name="Oval 774"/>
                    <p:cNvSpPr/>
                    <p:nvPr/>
                  </p:nvSpPr>
                  <p:spPr>
                    <a:xfrm>
                      <a:off x="5036760" y="78624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0" name="Oval 775"/>
                    <p:cNvSpPr/>
                    <p:nvPr/>
                  </p:nvSpPr>
                  <p:spPr>
                    <a:xfrm>
                      <a:off x="5029920" y="786240"/>
                      <a:ext cx="468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1" name="Oval 776"/>
                    <p:cNvSpPr/>
                    <p:nvPr/>
                  </p:nvSpPr>
                  <p:spPr>
                    <a:xfrm>
                      <a:off x="5022720" y="786240"/>
                      <a:ext cx="612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2" name="Oval 777"/>
                    <p:cNvSpPr/>
                    <p:nvPr/>
                  </p:nvSpPr>
                  <p:spPr>
                    <a:xfrm>
                      <a:off x="5015880" y="78624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3" name="Oval 778"/>
                    <p:cNvSpPr/>
                    <p:nvPr/>
                  </p:nvSpPr>
                  <p:spPr>
                    <a:xfrm>
                      <a:off x="5009040" y="786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4" name="Group 779"/>
                  <p:cNvGrpSpPr/>
                  <p:nvPr/>
                </p:nvGrpSpPr>
                <p:grpSpPr>
                  <a:xfrm>
                    <a:off x="4942080" y="786240"/>
                    <a:ext cx="46800" cy="5040"/>
                    <a:chOff x="4942080" y="786240"/>
                    <a:chExt cx="46800" cy="5040"/>
                  </a:xfrm>
                </p:grpSpPr>
                <p:sp>
                  <p:nvSpPr>
                    <p:cNvPr id="2275" name="Oval 780"/>
                    <p:cNvSpPr/>
                    <p:nvPr/>
                  </p:nvSpPr>
                  <p:spPr>
                    <a:xfrm>
                      <a:off x="4983120" y="786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6" name="Oval 781"/>
                    <p:cNvSpPr/>
                    <p:nvPr/>
                  </p:nvSpPr>
                  <p:spPr>
                    <a:xfrm>
                      <a:off x="4975920" y="786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7" name="Oval 782"/>
                    <p:cNvSpPr/>
                    <p:nvPr/>
                  </p:nvSpPr>
                  <p:spPr>
                    <a:xfrm>
                      <a:off x="4969080" y="786240"/>
                      <a:ext cx="576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8" name="Oval 783"/>
                    <p:cNvSpPr/>
                    <p:nvPr/>
                  </p:nvSpPr>
                  <p:spPr>
                    <a:xfrm>
                      <a:off x="4962960" y="786240"/>
                      <a:ext cx="4320" cy="360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9" name="Oval 784"/>
                    <p:cNvSpPr/>
                    <p:nvPr/>
                  </p:nvSpPr>
                  <p:spPr>
                    <a:xfrm>
                      <a:off x="4956120" y="787320"/>
                      <a:ext cx="5760" cy="252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0" name="Oval 785"/>
                    <p:cNvSpPr/>
                    <p:nvPr/>
                  </p:nvSpPr>
                  <p:spPr>
                    <a:xfrm>
                      <a:off x="4942080" y="787320"/>
                      <a:ext cx="5760" cy="3960"/>
                    </a:xfrm>
                    <a:prstGeom prst="ellipse">
                      <a:avLst/>
                    </a:prstGeom>
                    <a:solidFill>
                      <a:srgbClr val="a3f25f"/>
                    </a:solidFill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81" name="Group 786"/>
                <p:cNvGrpSpPr/>
                <p:nvPr/>
              </p:nvGrpSpPr>
              <p:grpSpPr>
                <a:xfrm>
                  <a:off x="4898520" y="787320"/>
                  <a:ext cx="37080" cy="3600"/>
                  <a:chOff x="4898520" y="787320"/>
                  <a:chExt cx="37080" cy="3600"/>
                </a:xfrm>
              </p:grpSpPr>
              <p:sp>
                <p:nvSpPr>
                  <p:cNvPr id="2282" name="Oval 787"/>
                  <p:cNvSpPr/>
                  <p:nvPr/>
                </p:nvSpPr>
                <p:spPr>
                  <a:xfrm>
                    <a:off x="4929840" y="7873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Oval 788"/>
                  <p:cNvSpPr/>
                  <p:nvPr/>
                </p:nvSpPr>
                <p:spPr>
                  <a:xfrm>
                    <a:off x="4923000" y="78732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Oval 789"/>
                  <p:cNvSpPr/>
                  <p:nvPr/>
                </p:nvSpPr>
                <p:spPr>
                  <a:xfrm>
                    <a:off x="4917240" y="7873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Oval 790"/>
                  <p:cNvSpPr/>
                  <p:nvPr/>
                </p:nvSpPr>
                <p:spPr>
                  <a:xfrm>
                    <a:off x="4911480" y="7873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Oval 791"/>
                  <p:cNvSpPr/>
                  <p:nvPr/>
                </p:nvSpPr>
                <p:spPr>
                  <a:xfrm>
                    <a:off x="4904280" y="7873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Oval 792"/>
                  <p:cNvSpPr/>
                  <p:nvPr/>
                </p:nvSpPr>
                <p:spPr>
                  <a:xfrm>
                    <a:off x="4898520" y="78732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8" name="Group 793"/>
                <p:cNvGrpSpPr/>
                <p:nvPr/>
              </p:nvGrpSpPr>
              <p:grpSpPr>
                <a:xfrm>
                  <a:off x="4705200" y="791280"/>
                  <a:ext cx="36000" cy="3600"/>
                  <a:chOff x="4705200" y="791280"/>
                  <a:chExt cx="36000" cy="3600"/>
                </a:xfrm>
              </p:grpSpPr>
              <p:sp>
                <p:nvSpPr>
                  <p:cNvPr id="2289" name="Oval 794"/>
                  <p:cNvSpPr/>
                  <p:nvPr/>
                </p:nvSpPr>
                <p:spPr>
                  <a:xfrm>
                    <a:off x="4736880" y="791280"/>
                    <a:ext cx="432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Oval 795"/>
                  <p:cNvSpPr/>
                  <p:nvPr/>
                </p:nvSpPr>
                <p:spPr>
                  <a:xfrm>
                    <a:off x="4729680" y="791280"/>
                    <a:ext cx="5760" cy="216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Oval 796"/>
                  <p:cNvSpPr/>
                  <p:nvPr/>
                </p:nvSpPr>
                <p:spPr>
                  <a:xfrm>
                    <a:off x="4723920" y="79128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Oval 797"/>
                  <p:cNvSpPr/>
                  <p:nvPr/>
                </p:nvSpPr>
                <p:spPr>
                  <a:xfrm>
                    <a:off x="4717080" y="791280"/>
                    <a:ext cx="576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Oval 798"/>
                  <p:cNvSpPr/>
                  <p:nvPr/>
                </p:nvSpPr>
                <p:spPr>
                  <a:xfrm>
                    <a:off x="4710960" y="791280"/>
                    <a:ext cx="612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Oval 799"/>
                  <p:cNvSpPr/>
                  <p:nvPr/>
                </p:nvSpPr>
                <p:spPr>
                  <a:xfrm>
                    <a:off x="4705200" y="791280"/>
                    <a:ext cx="4680" cy="3600"/>
                  </a:xfrm>
                  <a:prstGeom prst="ellipse">
                    <a:avLst/>
                  </a:prstGeom>
                  <a:solidFill>
                    <a:srgbClr val="a3f25f"/>
                  </a:solidFill>
                  <a:ln w="1260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295" name="Freeform 800"/>
            <p:cNvSpPr/>
            <p:nvPr/>
          </p:nvSpPr>
          <p:spPr>
            <a:xfrm>
              <a:off x="4605840" y="738360"/>
              <a:ext cx="567360" cy="7668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84" h="61">
                  <a:moveTo>
                    <a:pt x="0" y="0"/>
                  </a:moveTo>
                  <a:lnTo>
                    <a:pt x="40" y="35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8" y="45"/>
                  </a:lnTo>
                  <a:lnTo>
                    <a:pt x="61" y="45"/>
                  </a:lnTo>
                  <a:lnTo>
                    <a:pt x="65" y="46"/>
                  </a:lnTo>
                  <a:lnTo>
                    <a:pt x="440" y="43"/>
                  </a:lnTo>
                  <a:lnTo>
                    <a:pt x="448" y="43"/>
                  </a:lnTo>
                  <a:lnTo>
                    <a:pt x="457" y="42"/>
                  </a:lnTo>
                  <a:lnTo>
                    <a:pt x="471" y="41"/>
                  </a:lnTo>
                  <a:lnTo>
                    <a:pt x="473" y="42"/>
                  </a:lnTo>
                  <a:lnTo>
                    <a:pt x="475" y="43"/>
                  </a:lnTo>
                  <a:lnTo>
                    <a:pt x="476" y="45"/>
                  </a:lnTo>
                  <a:lnTo>
                    <a:pt x="478" y="46"/>
                  </a:lnTo>
                  <a:lnTo>
                    <a:pt x="480" y="47"/>
                  </a:lnTo>
                  <a:lnTo>
                    <a:pt x="481" y="48"/>
                  </a:lnTo>
                  <a:lnTo>
                    <a:pt x="482" y="49"/>
                  </a:lnTo>
                  <a:lnTo>
                    <a:pt x="483" y="50"/>
                  </a:lnTo>
                  <a:lnTo>
                    <a:pt x="483" y="52"/>
                  </a:lnTo>
                  <a:lnTo>
                    <a:pt x="482" y="54"/>
                  </a:lnTo>
                  <a:lnTo>
                    <a:pt x="482" y="55"/>
                  </a:lnTo>
                  <a:lnTo>
                    <a:pt x="481" y="56"/>
                  </a:lnTo>
                  <a:lnTo>
                    <a:pt x="478" y="57"/>
                  </a:lnTo>
                  <a:lnTo>
                    <a:pt x="477" y="58"/>
                  </a:lnTo>
                  <a:lnTo>
                    <a:pt x="475" y="59"/>
                  </a:lnTo>
                  <a:lnTo>
                    <a:pt x="472" y="60"/>
                  </a:lnTo>
                  <a:lnTo>
                    <a:pt x="471" y="57"/>
                  </a:lnTo>
                  <a:lnTo>
                    <a:pt x="470" y="56"/>
                  </a:lnTo>
                  <a:lnTo>
                    <a:pt x="469" y="55"/>
                  </a:lnTo>
                  <a:lnTo>
                    <a:pt x="468" y="54"/>
                  </a:lnTo>
                  <a:lnTo>
                    <a:pt x="466" y="53"/>
                  </a:lnTo>
                  <a:lnTo>
                    <a:pt x="465" y="51"/>
                  </a:lnTo>
                  <a:lnTo>
                    <a:pt x="463" y="50"/>
                  </a:lnTo>
                  <a:lnTo>
                    <a:pt x="461" y="49"/>
                  </a:lnTo>
                  <a:lnTo>
                    <a:pt x="459" y="48"/>
                  </a:lnTo>
                  <a:lnTo>
                    <a:pt x="457" y="48"/>
                  </a:lnTo>
                  <a:lnTo>
                    <a:pt x="454" y="47"/>
                  </a:lnTo>
                  <a:lnTo>
                    <a:pt x="451" y="46"/>
                  </a:lnTo>
                  <a:lnTo>
                    <a:pt x="444" y="47"/>
                  </a:lnTo>
                  <a:lnTo>
                    <a:pt x="440" y="47"/>
                  </a:lnTo>
                  <a:lnTo>
                    <a:pt x="435" y="47"/>
                  </a:lnTo>
                  <a:lnTo>
                    <a:pt x="65" y="49"/>
                  </a:lnTo>
                  <a:lnTo>
                    <a:pt x="61" y="49"/>
                  </a:lnTo>
                  <a:lnTo>
                    <a:pt x="57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41" y="47"/>
                  </a:lnTo>
                  <a:lnTo>
                    <a:pt x="6" y="15"/>
                  </a:lnTo>
                  <a:lnTo>
                    <a:pt x="0" y="0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6" name="Group 801"/>
            <p:cNvGrpSpPr/>
            <p:nvPr/>
          </p:nvGrpSpPr>
          <p:grpSpPr>
            <a:xfrm>
              <a:off x="5145120" y="785520"/>
              <a:ext cx="12600" cy="4680"/>
              <a:chOff x="5145120" y="785520"/>
              <a:chExt cx="12600" cy="4680"/>
            </a:xfrm>
          </p:grpSpPr>
          <p:sp>
            <p:nvSpPr>
              <p:cNvPr id="2297" name="Freeform 802"/>
              <p:cNvSpPr/>
              <p:nvPr/>
            </p:nvSpPr>
            <p:spPr>
              <a:xfrm>
                <a:off x="5145120" y="78552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803"/>
              <p:cNvSpPr/>
              <p:nvPr/>
            </p:nvSpPr>
            <p:spPr>
              <a:xfrm>
                <a:off x="5149800" y="78552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Freeform 804"/>
              <p:cNvSpPr/>
              <p:nvPr/>
            </p:nvSpPr>
            <p:spPr>
              <a:xfrm>
                <a:off x="5154120" y="7866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0" name="Arc 805"/>
            <p:cNvSpPr/>
            <p:nvPr/>
          </p:nvSpPr>
          <p:spPr>
            <a:xfrm>
              <a:off x="4582080" y="789120"/>
              <a:ext cx="6840" cy="16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fill="none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</a:path>
                <a:path stroke="0" w="21600" h="42946">
                  <a:moveTo>
                    <a:pt x="21600" y="42946"/>
                  </a:moveTo>
                  <a:cubicBezTo>
                    <a:pt x="9670" y="42946"/>
                    <a:pt x="0" y="33275"/>
                    <a:pt x="0" y="21346"/>
                  </a:cubicBezTo>
                  <a:cubicBezTo>
                    <a:pt x="-1" y="10692"/>
                    <a:pt x="7767" y="1629"/>
                    <a:pt x="18296" y="0"/>
                  </a:cubicBezTo>
                  <a:lnTo>
                    <a:pt x="21600" y="21346"/>
                  </a:lnTo>
                  <a:close/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806"/>
            <p:cNvSpPr/>
            <p:nvPr/>
          </p:nvSpPr>
          <p:spPr>
            <a:xfrm>
              <a:off x="4870800" y="800280"/>
              <a:ext cx="57240" cy="7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9" h="6">
                  <a:moveTo>
                    <a:pt x="0" y="1"/>
                  </a:moveTo>
                  <a:lnTo>
                    <a:pt x="13" y="2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9" y="3"/>
                  </a:lnTo>
                  <a:lnTo>
                    <a:pt x="0" y="1"/>
                  </a:lnTo>
                </a:path>
              </a:pathLst>
            </a:custGeom>
            <a:solidFill>
              <a:srgbClr val="a3f25f"/>
            </a:solidFill>
            <a:ln cap="rnd"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2" name="Group 807"/>
            <p:cNvGrpSpPr/>
            <p:nvPr/>
          </p:nvGrpSpPr>
          <p:grpSpPr>
            <a:xfrm>
              <a:off x="4794840" y="799200"/>
              <a:ext cx="188640" cy="51120"/>
              <a:chOff x="4794840" y="799200"/>
              <a:chExt cx="188640" cy="51120"/>
            </a:xfrm>
          </p:grpSpPr>
          <p:grpSp>
            <p:nvGrpSpPr>
              <p:cNvPr id="2303" name="Group 808"/>
              <p:cNvGrpSpPr/>
              <p:nvPr/>
            </p:nvGrpSpPr>
            <p:grpSpPr>
              <a:xfrm>
                <a:off x="4794840" y="799200"/>
                <a:ext cx="188640" cy="29880"/>
                <a:chOff x="4794840" y="799200"/>
                <a:chExt cx="188640" cy="29880"/>
              </a:xfrm>
            </p:grpSpPr>
            <p:sp>
              <p:nvSpPr>
                <p:cNvPr id="2304" name="Freeform 809"/>
                <p:cNvSpPr/>
                <p:nvPr/>
              </p:nvSpPr>
              <p:spPr>
                <a:xfrm>
                  <a:off x="4794840" y="799200"/>
                  <a:ext cx="188640" cy="298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61" h="24">
                      <a:moveTo>
                        <a:pt x="40" y="4"/>
                      </a:moveTo>
                      <a:lnTo>
                        <a:pt x="34" y="4"/>
                      </a:lnTo>
                      <a:lnTo>
                        <a:pt x="29" y="7"/>
                      </a:lnTo>
                      <a:lnTo>
                        <a:pt x="23" y="8"/>
                      </a:lnTo>
                      <a:lnTo>
                        <a:pt x="15" y="9"/>
                      </a:lnTo>
                      <a:lnTo>
                        <a:pt x="10" y="11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5" y="19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6" y="22"/>
                      </a:lnTo>
                      <a:lnTo>
                        <a:pt x="23" y="22"/>
                      </a:lnTo>
                      <a:lnTo>
                        <a:pt x="28" y="22"/>
                      </a:lnTo>
                      <a:lnTo>
                        <a:pt x="44" y="23"/>
                      </a:lnTo>
                      <a:lnTo>
                        <a:pt x="57" y="23"/>
                      </a:lnTo>
                      <a:lnTo>
                        <a:pt x="75" y="23"/>
                      </a:lnTo>
                      <a:lnTo>
                        <a:pt x="91" y="23"/>
                      </a:lnTo>
                      <a:lnTo>
                        <a:pt x="129" y="23"/>
                      </a:lnTo>
                      <a:lnTo>
                        <a:pt x="139" y="22"/>
                      </a:lnTo>
                      <a:lnTo>
                        <a:pt x="143" y="22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5" y="17"/>
                      </a:lnTo>
                      <a:lnTo>
                        <a:pt x="159" y="15"/>
                      </a:lnTo>
                      <a:lnTo>
                        <a:pt x="160" y="12"/>
                      </a:lnTo>
                      <a:lnTo>
                        <a:pt x="159" y="11"/>
                      </a:lnTo>
                      <a:lnTo>
                        <a:pt x="157" y="9"/>
                      </a:lnTo>
                      <a:lnTo>
                        <a:pt x="153" y="7"/>
                      </a:lnTo>
                      <a:lnTo>
                        <a:pt x="150" y="5"/>
                      </a:lnTo>
                      <a:lnTo>
                        <a:pt x="146" y="4"/>
                      </a:lnTo>
                      <a:lnTo>
                        <a:pt x="140" y="4"/>
                      </a:lnTo>
                      <a:lnTo>
                        <a:pt x="135" y="3"/>
                      </a:lnTo>
                      <a:lnTo>
                        <a:pt x="131" y="3"/>
                      </a:lnTo>
                      <a:lnTo>
                        <a:pt x="130" y="2"/>
                      </a:lnTo>
                      <a:lnTo>
                        <a:pt x="125" y="1"/>
                      </a:lnTo>
                      <a:lnTo>
                        <a:pt x="119" y="1"/>
                      </a:lnTo>
                      <a:lnTo>
                        <a:pt x="111" y="0"/>
                      </a:lnTo>
                      <a:lnTo>
                        <a:pt x="101" y="1"/>
                      </a:lnTo>
                      <a:lnTo>
                        <a:pt x="40" y="4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810"/>
                <p:cNvSpPr/>
                <p:nvPr/>
              </p:nvSpPr>
              <p:spPr>
                <a:xfrm>
                  <a:off x="4794840" y="804240"/>
                  <a:ext cx="187200" cy="248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60" h="20">
                      <a:moveTo>
                        <a:pt x="40" y="0"/>
                      </a:moveTo>
                      <a:lnTo>
                        <a:pt x="41" y="1"/>
                      </a:lnTo>
                      <a:lnTo>
                        <a:pt x="42" y="4"/>
                      </a:lnTo>
                      <a:lnTo>
                        <a:pt x="42" y="6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2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2" y="13"/>
                      </a:lnTo>
                      <a:lnTo>
                        <a:pt x="9" y="12"/>
                      </a:ln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7"/>
                      </a:lnTo>
                      <a:lnTo>
                        <a:pt x="15" y="18"/>
                      </a:lnTo>
                      <a:lnTo>
                        <a:pt x="21" y="18"/>
                      </a:lnTo>
                      <a:lnTo>
                        <a:pt x="28" y="18"/>
                      </a:lnTo>
                      <a:lnTo>
                        <a:pt x="55" y="18"/>
                      </a:lnTo>
                      <a:lnTo>
                        <a:pt x="77" y="19"/>
                      </a:lnTo>
                      <a:lnTo>
                        <a:pt x="91" y="18"/>
                      </a:lnTo>
                      <a:lnTo>
                        <a:pt x="128" y="18"/>
                      </a:lnTo>
                      <a:lnTo>
                        <a:pt x="137" y="18"/>
                      </a:lnTo>
                      <a:lnTo>
                        <a:pt x="141" y="18"/>
                      </a:lnTo>
                      <a:lnTo>
                        <a:pt x="145" y="17"/>
                      </a:lnTo>
                      <a:lnTo>
                        <a:pt x="149" y="16"/>
                      </a:lnTo>
                      <a:lnTo>
                        <a:pt x="151" y="15"/>
                      </a:lnTo>
                      <a:lnTo>
                        <a:pt x="155" y="13"/>
                      </a:lnTo>
                      <a:lnTo>
                        <a:pt x="158" y="12"/>
                      </a:lnTo>
                      <a:lnTo>
                        <a:pt x="159" y="11"/>
                      </a:lnTo>
                      <a:lnTo>
                        <a:pt x="159" y="9"/>
                      </a:lnTo>
                      <a:lnTo>
                        <a:pt x="159" y="8"/>
                      </a:lnTo>
                      <a:lnTo>
                        <a:pt x="156" y="6"/>
                      </a:lnTo>
                      <a:lnTo>
                        <a:pt x="155" y="7"/>
                      </a:lnTo>
                      <a:lnTo>
                        <a:pt x="152" y="9"/>
                      </a:lnTo>
                      <a:lnTo>
                        <a:pt x="150" y="10"/>
                      </a:lnTo>
                      <a:lnTo>
                        <a:pt x="148" y="11"/>
                      </a:lnTo>
                      <a:lnTo>
                        <a:pt x="142" y="11"/>
                      </a:lnTo>
                      <a:lnTo>
                        <a:pt x="137" y="11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79" y="6"/>
                      </a:lnTo>
                      <a:lnTo>
                        <a:pt x="71" y="4"/>
                      </a:lnTo>
                      <a:lnTo>
                        <a:pt x="69" y="3"/>
                      </a:lnTo>
                      <a:lnTo>
                        <a:pt x="65" y="1"/>
                      </a:lnTo>
                      <a:lnTo>
                        <a:pt x="64" y="1"/>
                      </a:lnTo>
                      <a:lnTo>
                        <a:pt x="55" y="1"/>
                      </a:lnTo>
                      <a:lnTo>
                        <a:pt x="48" y="0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6" name="Group 811"/>
              <p:cNvGrpSpPr/>
              <p:nvPr/>
            </p:nvGrpSpPr>
            <p:grpSpPr>
              <a:xfrm>
                <a:off x="4906080" y="836640"/>
                <a:ext cx="49680" cy="13680"/>
                <a:chOff x="4906080" y="836640"/>
                <a:chExt cx="49680" cy="13680"/>
              </a:xfrm>
            </p:grpSpPr>
            <p:grpSp>
              <p:nvGrpSpPr>
                <p:cNvPr id="2307" name="Group 812"/>
                <p:cNvGrpSpPr/>
                <p:nvPr/>
              </p:nvGrpSpPr>
              <p:grpSpPr>
                <a:xfrm>
                  <a:off x="4906080" y="836640"/>
                  <a:ext cx="49680" cy="13680"/>
                  <a:chOff x="4906080" y="836640"/>
                  <a:chExt cx="49680" cy="13680"/>
                </a:xfrm>
              </p:grpSpPr>
              <p:grpSp>
                <p:nvGrpSpPr>
                  <p:cNvPr id="2308" name="Group 813"/>
                  <p:cNvGrpSpPr/>
                  <p:nvPr/>
                </p:nvGrpSpPr>
                <p:grpSpPr>
                  <a:xfrm>
                    <a:off x="4906080" y="836640"/>
                    <a:ext cx="4320" cy="12240"/>
                    <a:chOff x="4906080" y="836640"/>
                    <a:chExt cx="4320" cy="12240"/>
                  </a:xfrm>
                </p:grpSpPr>
                <p:sp>
                  <p:nvSpPr>
                    <p:cNvPr id="2309" name="Freeform 814"/>
                    <p:cNvSpPr/>
                    <p:nvPr/>
                  </p:nvSpPr>
                  <p:spPr>
                    <a:xfrm>
                      <a:off x="4906080" y="836640"/>
                      <a:ext cx="4320" cy="756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6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3" y="5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0" name="Freeform 815"/>
                    <p:cNvSpPr/>
                    <p:nvPr/>
                  </p:nvSpPr>
                  <p:spPr>
                    <a:xfrm>
                      <a:off x="4906080" y="836640"/>
                      <a:ext cx="3240" cy="612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" h="5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1" name="Freeform 816"/>
                    <p:cNvSpPr/>
                    <p:nvPr/>
                  </p:nvSpPr>
                  <p:spPr>
                    <a:xfrm>
                      <a:off x="4906080" y="842760"/>
                      <a:ext cx="4320" cy="61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4" h="5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3f25f"/>
                    </a:solidFill>
                    <a:ln cap="rnd" w="12600">
                      <a:solidFill>
                        <a:srgbClr val="ff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2" name="Freeform 817"/>
                  <p:cNvSpPr/>
                  <p:nvPr/>
                </p:nvSpPr>
                <p:spPr>
                  <a:xfrm>
                    <a:off x="4916160" y="836640"/>
                    <a:ext cx="39600" cy="136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34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4" y="8"/>
                        </a:lnTo>
                        <a:lnTo>
                          <a:pt x="7" y="9"/>
                        </a:lnTo>
                        <a:lnTo>
                          <a:pt x="10" y="9"/>
                        </a:lnTo>
                        <a:lnTo>
                          <a:pt x="15" y="10"/>
                        </a:lnTo>
                        <a:lnTo>
                          <a:pt x="22" y="10"/>
                        </a:lnTo>
                        <a:lnTo>
                          <a:pt x="27" y="9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8"/>
                        </a:lnTo>
                        <a:lnTo>
                          <a:pt x="33" y="7"/>
                        </a:lnTo>
                        <a:lnTo>
                          <a:pt x="33" y="4"/>
                        </a:lnTo>
                        <a:lnTo>
                          <a:pt x="33" y="2"/>
                        </a:lnTo>
                        <a:lnTo>
                          <a:pt x="22" y="2"/>
                        </a:lnTo>
                        <a:lnTo>
                          <a:pt x="13" y="2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3" name="Freeform 818"/>
                <p:cNvSpPr/>
                <p:nvPr/>
              </p:nvSpPr>
              <p:spPr>
                <a:xfrm>
                  <a:off x="4916160" y="840240"/>
                  <a:ext cx="39600" cy="97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34" h="8">
                      <a:moveTo>
                        <a:pt x="30" y="0"/>
                      </a:moveTo>
                      <a:lnTo>
                        <a:pt x="29" y="1"/>
                      </a:ln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5" y="4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4" y="5"/>
                      </a:lnTo>
                      <a:lnTo>
                        <a:pt x="7" y="5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4" name="Group 819"/>
              <p:cNvGrpSpPr/>
              <p:nvPr/>
            </p:nvGrpSpPr>
            <p:grpSpPr>
              <a:xfrm>
                <a:off x="4899960" y="805320"/>
                <a:ext cx="70560" cy="32040"/>
                <a:chOff x="4899960" y="805320"/>
                <a:chExt cx="70560" cy="32040"/>
              </a:xfrm>
            </p:grpSpPr>
            <p:grpSp>
              <p:nvGrpSpPr>
                <p:cNvPr id="2315" name="Group 820"/>
                <p:cNvGrpSpPr/>
                <p:nvPr/>
              </p:nvGrpSpPr>
              <p:grpSpPr>
                <a:xfrm>
                  <a:off x="4899960" y="812880"/>
                  <a:ext cx="5760" cy="15840"/>
                  <a:chOff x="4899960" y="812880"/>
                  <a:chExt cx="5760" cy="15840"/>
                </a:xfrm>
              </p:grpSpPr>
              <p:sp>
                <p:nvSpPr>
                  <p:cNvPr id="2316" name="Freeform 821"/>
                  <p:cNvSpPr/>
                  <p:nvPr/>
                </p:nvSpPr>
                <p:spPr>
                  <a:xfrm>
                    <a:off x="4899960" y="812880"/>
                    <a:ext cx="5760" cy="133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Freeform 822"/>
                  <p:cNvSpPr/>
                  <p:nvPr/>
                </p:nvSpPr>
                <p:spPr>
                  <a:xfrm>
                    <a:off x="4899960" y="817560"/>
                    <a:ext cx="4320" cy="46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Freeform 823"/>
                  <p:cNvSpPr/>
                  <p:nvPr/>
                </p:nvSpPr>
                <p:spPr>
                  <a:xfrm>
                    <a:off x="4899960" y="815040"/>
                    <a:ext cx="4320" cy="61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0" y="1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Freeform 824"/>
                  <p:cNvSpPr/>
                  <p:nvPr/>
                </p:nvSpPr>
                <p:spPr>
                  <a:xfrm>
                    <a:off x="4899960" y="825120"/>
                    <a:ext cx="5760" cy="36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0" name="Group 825"/>
                <p:cNvGrpSpPr/>
                <p:nvPr/>
              </p:nvGrpSpPr>
              <p:grpSpPr>
                <a:xfrm>
                  <a:off x="4911840" y="805320"/>
                  <a:ext cx="58680" cy="32040"/>
                  <a:chOff x="4911840" y="805320"/>
                  <a:chExt cx="58680" cy="32040"/>
                </a:xfrm>
              </p:grpSpPr>
              <p:sp>
                <p:nvSpPr>
                  <p:cNvPr id="2321" name="Freeform 826"/>
                  <p:cNvSpPr/>
                  <p:nvPr/>
                </p:nvSpPr>
                <p:spPr>
                  <a:xfrm>
                    <a:off x="4911840" y="805320"/>
                    <a:ext cx="50040" cy="27360"/>
                  </a:xfrm>
                  <a:custGeom>
                    <a:avLst/>
                    <a:gdLst>
                      <a:gd name="textAreaLeft" fmla="*/ 0 w 50040"/>
                      <a:gd name="textAreaRight" fmla="*/ 50400 w 500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43" h="22">
                        <a:moveTo>
                          <a:pt x="2" y="3"/>
                        </a:move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9" y="1"/>
                        </a:lnTo>
                        <a:lnTo>
                          <a:pt x="40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2" y="3"/>
                        </a:lnTo>
                        <a:lnTo>
                          <a:pt x="42" y="4"/>
                        </a:lnTo>
                        <a:lnTo>
                          <a:pt x="42" y="10"/>
                        </a:lnTo>
                        <a:lnTo>
                          <a:pt x="41" y="17"/>
                        </a:lnTo>
                        <a:lnTo>
                          <a:pt x="41" y="18"/>
                        </a:lnTo>
                        <a:lnTo>
                          <a:pt x="41" y="19"/>
                        </a:lnTo>
                        <a:lnTo>
                          <a:pt x="40" y="20"/>
                        </a:lnTo>
                        <a:lnTo>
                          <a:pt x="39" y="20"/>
                        </a:lnTo>
                        <a:lnTo>
                          <a:pt x="37" y="20"/>
                        </a:lnTo>
                        <a:lnTo>
                          <a:pt x="33" y="21"/>
                        </a:lnTo>
                        <a:lnTo>
                          <a:pt x="29" y="21"/>
                        </a:lnTo>
                        <a:lnTo>
                          <a:pt x="24" y="21"/>
                        </a:lnTo>
                        <a:lnTo>
                          <a:pt x="21" y="21"/>
                        </a:lnTo>
                        <a:lnTo>
                          <a:pt x="17" y="21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9" y="20"/>
                        </a:lnTo>
                        <a:lnTo>
                          <a:pt x="7" y="20"/>
                        </a:lnTo>
                        <a:lnTo>
                          <a:pt x="3" y="19"/>
                        </a:lnTo>
                        <a:lnTo>
                          <a:pt x="2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1" y="12"/>
                        </a:lnTo>
                        <a:lnTo>
                          <a:pt x="0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2" name="Freeform 827"/>
                  <p:cNvSpPr/>
                  <p:nvPr/>
                </p:nvSpPr>
                <p:spPr>
                  <a:xfrm>
                    <a:off x="4913640" y="811440"/>
                    <a:ext cx="47880" cy="2088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41" h="17">
                        <a:moveTo>
                          <a:pt x="0" y="13"/>
                        </a:moveTo>
                        <a:lnTo>
                          <a:pt x="2" y="13"/>
                        </a:lnTo>
                        <a:lnTo>
                          <a:pt x="4" y="14"/>
                        </a:lnTo>
                        <a:lnTo>
                          <a:pt x="8" y="14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4" y="15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1" y="14"/>
                        </a:lnTo>
                        <a:lnTo>
                          <a:pt x="33" y="13"/>
                        </a:lnTo>
                        <a:lnTo>
                          <a:pt x="34" y="13"/>
                        </a:lnTo>
                        <a:lnTo>
                          <a:pt x="35" y="11"/>
                        </a:lnTo>
                        <a:lnTo>
                          <a:pt x="37" y="10"/>
                        </a:lnTo>
                        <a:lnTo>
                          <a:pt x="38" y="9"/>
                        </a:lnTo>
                        <a:lnTo>
                          <a:pt x="38" y="7"/>
                        </a:lnTo>
                        <a:lnTo>
                          <a:pt x="38" y="5"/>
                        </a:lnTo>
                        <a:lnTo>
                          <a:pt x="39" y="4"/>
                        </a:lnTo>
                        <a:lnTo>
                          <a:pt x="39" y="3"/>
                        </a:lnTo>
                        <a:lnTo>
                          <a:pt x="40" y="0"/>
                        </a:lnTo>
                        <a:lnTo>
                          <a:pt x="39" y="13"/>
                        </a:lnTo>
                        <a:lnTo>
                          <a:pt x="39" y="14"/>
                        </a:lnTo>
                        <a:lnTo>
                          <a:pt x="39" y="15"/>
                        </a:lnTo>
                        <a:lnTo>
                          <a:pt x="38" y="15"/>
                        </a:lnTo>
                        <a:lnTo>
                          <a:pt x="37" y="15"/>
                        </a:lnTo>
                        <a:lnTo>
                          <a:pt x="35" y="15"/>
                        </a:lnTo>
                        <a:lnTo>
                          <a:pt x="26" y="16"/>
                        </a:lnTo>
                        <a:lnTo>
                          <a:pt x="22" y="16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0" y="15"/>
                        </a:lnTo>
                        <a:lnTo>
                          <a:pt x="8" y="15"/>
                        </a:lnTo>
                        <a:lnTo>
                          <a:pt x="5" y="15"/>
                        </a:lnTo>
                        <a:lnTo>
                          <a:pt x="3" y="14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23" name="Group 828"/>
                  <p:cNvGrpSpPr/>
                  <p:nvPr/>
                </p:nvGrpSpPr>
                <p:grpSpPr>
                  <a:xfrm>
                    <a:off x="4935960" y="811440"/>
                    <a:ext cx="34560" cy="25920"/>
                    <a:chOff x="4935960" y="811440"/>
                    <a:chExt cx="34560" cy="25920"/>
                  </a:xfrm>
                </p:grpSpPr>
                <p:sp>
                  <p:nvSpPr>
                    <p:cNvPr id="2324" name="Line 829"/>
                    <p:cNvSpPr/>
                    <p:nvPr/>
                  </p:nvSpPr>
                  <p:spPr>
                    <a:xfrm>
                      <a:off x="4951080" y="81144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5" name="Line 830"/>
                    <p:cNvSpPr/>
                    <p:nvPr/>
                  </p:nvSpPr>
                  <p:spPr>
                    <a:xfrm flipH="1">
                      <a:off x="4960440" y="811440"/>
                      <a:ext cx="10080" cy="2448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6" name="Line 831"/>
                    <p:cNvSpPr/>
                    <p:nvPr/>
                  </p:nvSpPr>
                  <p:spPr>
                    <a:xfrm>
                      <a:off x="4935960" y="811440"/>
                      <a:ext cx="0" cy="25920"/>
                    </a:xfrm>
                    <a:prstGeom prst="line">
                      <a:avLst/>
                    </a:prstGeom>
                    <a:ln w="1260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27" name="Group 832"/>
            <p:cNvGrpSpPr/>
            <p:nvPr/>
          </p:nvGrpSpPr>
          <p:grpSpPr>
            <a:xfrm>
              <a:off x="4572000" y="685800"/>
              <a:ext cx="340560" cy="133200"/>
              <a:chOff x="4572000" y="685800"/>
              <a:chExt cx="340560" cy="133200"/>
            </a:xfrm>
          </p:grpSpPr>
          <p:sp>
            <p:nvSpPr>
              <p:cNvPr id="2328" name="Freeform 833"/>
              <p:cNvSpPr/>
              <p:nvPr/>
            </p:nvSpPr>
            <p:spPr>
              <a:xfrm>
                <a:off x="4588200" y="685800"/>
                <a:ext cx="107640" cy="928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2" h="74">
                    <a:moveTo>
                      <a:pt x="0" y="0"/>
                    </a:moveTo>
                    <a:lnTo>
                      <a:pt x="23" y="0"/>
                    </a:lnTo>
                    <a:lnTo>
                      <a:pt x="85" y="62"/>
                    </a:lnTo>
                    <a:lnTo>
                      <a:pt x="87" y="65"/>
                    </a:lnTo>
                    <a:lnTo>
                      <a:pt x="88" y="66"/>
                    </a:lnTo>
                    <a:lnTo>
                      <a:pt x="91" y="66"/>
                    </a:lnTo>
                    <a:lnTo>
                      <a:pt x="82" y="67"/>
                    </a:lnTo>
                    <a:lnTo>
                      <a:pt x="71" y="68"/>
                    </a:lnTo>
                    <a:lnTo>
                      <a:pt x="58" y="68"/>
                    </a:lnTo>
                    <a:lnTo>
                      <a:pt x="41" y="70"/>
                    </a:lnTo>
                    <a:lnTo>
                      <a:pt x="27" y="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3f25f"/>
              </a:solidFill>
              <a:ln cap="rnd"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29" name="Group 834"/>
              <p:cNvGrpSpPr/>
              <p:nvPr/>
            </p:nvGrpSpPr>
            <p:grpSpPr>
              <a:xfrm>
                <a:off x="4572000" y="747360"/>
                <a:ext cx="340560" cy="71640"/>
                <a:chOff x="4572000" y="747360"/>
                <a:chExt cx="340560" cy="71640"/>
              </a:xfrm>
            </p:grpSpPr>
            <p:sp>
              <p:nvSpPr>
                <p:cNvPr id="2330" name="Freeform 835"/>
                <p:cNvSpPr/>
                <p:nvPr/>
              </p:nvSpPr>
              <p:spPr>
                <a:xfrm>
                  <a:off x="4619880" y="801360"/>
                  <a:ext cx="47520" cy="17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34" y="0"/>
                      </a:moveTo>
                      <a:lnTo>
                        <a:pt x="33" y="2"/>
                      </a:lnTo>
                      <a:lnTo>
                        <a:pt x="33" y="5"/>
                      </a:lnTo>
                      <a:lnTo>
                        <a:pt x="34" y="7"/>
                      </a:lnTo>
                      <a:lnTo>
                        <a:pt x="35" y="9"/>
                      </a:lnTo>
                      <a:lnTo>
                        <a:pt x="36" y="10"/>
                      </a:lnTo>
                      <a:lnTo>
                        <a:pt x="38" y="11"/>
                      </a:lnTo>
                      <a:lnTo>
                        <a:pt x="38" y="12"/>
                      </a:lnTo>
                      <a:lnTo>
                        <a:pt x="40" y="13"/>
                      </a:lnTo>
                      <a:lnTo>
                        <a:pt x="33" y="12"/>
                      </a:lnTo>
                      <a:lnTo>
                        <a:pt x="26" y="11"/>
                      </a:lnTo>
                      <a:lnTo>
                        <a:pt x="15" y="8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6" y="2"/>
                      </a:lnTo>
                      <a:lnTo>
                        <a:pt x="21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a3f25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31" name="Group 836"/>
                <p:cNvGrpSpPr/>
                <p:nvPr/>
              </p:nvGrpSpPr>
              <p:grpSpPr>
                <a:xfrm>
                  <a:off x="4572000" y="747360"/>
                  <a:ext cx="340560" cy="50040"/>
                  <a:chOff x="4572000" y="747360"/>
                  <a:chExt cx="340560" cy="50040"/>
                </a:xfrm>
              </p:grpSpPr>
              <p:sp>
                <p:nvSpPr>
                  <p:cNvPr id="2332" name="Freeform 837"/>
                  <p:cNvSpPr/>
                  <p:nvPr/>
                </p:nvSpPr>
                <p:spPr>
                  <a:xfrm>
                    <a:off x="4572000" y="776160"/>
                    <a:ext cx="87480" cy="198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5" h="16">
                        <a:moveTo>
                          <a:pt x="0" y="1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41" y="6"/>
                        </a:lnTo>
                        <a:lnTo>
                          <a:pt x="74" y="13"/>
                        </a:lnTo>
                        <a:lnTo>
                          <a:pt x="73" y="14"/>
                        </a:lnTo>
                        <a:lnTo>
                          <a:pt x="72" y="14"/>
                        </a:lnTo>
                        <a:lnTo>
                          <a:pt x="70" y="15"/>
                        </a:lnTo>
                        <a:lnTo>
                          <a:pt x="69" y="15"/>
                        </a:lnTo>
                        <a:lnTo>
                          <a:pt x="66" y="15"/>
                        </a:lnTo>
                        <a:lnTo>
                          <a:pt x="54" y="15"/>
                        </a:lnTo>
                        <a:lnTo>
                          <a:pt x="43" y="14"/>
                        </a:lnTo>
                        <a:lnTo>
                          <a:pt x="37" y="1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Freeform 838"/>
                  <p:cNvSpPr/>
                  <p:nvPr/>
                </p:nvSpPr>
                <p:spPr>
                  <a:xfrm>
                    <a:off x="4788720" y="747360"/>
                    <a:ext cx="123840" cy="5004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06" h="4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0" y="0"/>
                        </a:lnTo>
                        <a:lnTo>
                          <a:pt x="46" y="12"/>
                        </a:lnTo>
                        <a:lnTo>
                          <a:pt x="66" y="21"/>
                        </a:lnTo>
                        <a:lnTo>
                          <a:pt x="85" y="28"/>
                        </a:lnTo>
                        <a:lnTo>
                          <a:pt x="105" y="35"/>
                        </a:lnTo>
                        <a:lnTo>
                          <a:pt x="99" y="37"/>
                        </a:lnTo>
                        <a:lnTo>
                          <a:pt x="93" y="37"/>
                        </a:lnTo>
                        <a:lnTo>
                          <a:pt x="86" y="38"/>
                        </a:lnTo>
                        <a:lnTo>
                          <a:pt x="75" y="39"/>
                        </a:lnTo>
                        <a:lnTo>
                          <a:pt x="66" y="39"/>
                        </a:lnTo>
                        <a:lnTo>
                          <a:pt x="52" y="37"/>
                        </a:lnTo>
                        <a:lnTo>
                          <a:pt x="44" y="37"/>
                        </a:lnTo>
                        <a:lnTo>
                          <a:pt x="41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3f25f"/>
                  </a:solidFill>
                  <a:ln cap="rnd" w="1260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34" name="Group 839"/>
                  <p:cNvGrpSpPr/>
                  <p:nvPr/>
                </p:nvGrpSpPr>
                <p:grpSpPr>
                  <a:xfrm>
                    <a:off x="4808520" y="774720"/>
                    <a:ext cx="56160" cy="17280"/>
                    <a:chOff x="4808520" y="774720"/>
                    <a:chExt cx="56160" cy="17280"/>
                  </a:xfrm>
                </p:grpSpPr>
                <p:grpSp>
                  <p:nvGrpSpPr>
                    <p:cNvPr id="2335" name="Group 840"/>
                    <p:cNvGrpSpPr/>
                    <p:nvPr/>
                  </p:nvGrpSpPr>
                  <p:grpSpPr>
                    <a:xfrm>
                      <a:off x="4821480" y="786960"/>
                      <a:ext cx="43200" cy="5040"/>
                      <a:chOff x="4821480" y="786960"/>
                      <a:chExt cx="43200" cy="5040"/>
                    </a:xfrm>
                  </p:grpSpPr>
                  <p:sp>
                    <p:nvSpPr>
                      <p:cNvPr id="2336" name="Freeform 841"/>
                      <p:cNvSpPr/>
                      <p:nvPr/>
                    </p:nvSpPr>
                    <p:spPr>
                      <a:xfrm>
                        <a:off x="4821480" y="786960"/>
                        <a:ext cx="42120" cy="5040"/>
                      </a:xfrm>
                      <a:custGeom>
                        <a:avLst/>
                        <a:gdLst>
                          <a:gd name="textAreaLeft" fmla="*/ 0 w 42120"/>
                          <a:gd name="textAreaRight" fmla="*/ 42480 w 421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6" h="4">
                            <a:moveTo>
                              <a:pt x="0" y="2"/>
                            </a:moveTo>
                            <a:lnTo>
                              <a:pt x="8" y="0"/>
                            </a:lnTo>
                            <a:lnTo>
                              <a:pt x="11" y="1"/>
                            </a:lnTo>
                            <a:lnTo>
                              <a:pt x="15" y="1"/>
                            </a:lnTo>
                            <a:lnTo>
                              <a:pt x="17" y="1"/>
                            </a:lnTo>
                            <a:lnTo>
                              <a:pt x="35" y="2"/>
                            </a:lnTo>
                            <a:lnTo>
                              <a:pt x="26" y="3"/>
                            </a:lnTo>
                            <a:lnTo>
                              <a:pt x="20" y="3"/>
                            </a:lnTo>
                            <a:lnTo>
                              <a:pt x="15" y="3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7" name="Freeform 842"/>
                      <p:cNvSpPr/>
                      <p:nvPr/>
                    </p:nvSpPr>
                    <p:spPr>
                      <a:xfrm>
                        <a:off x="4834440" y="786960"/>
                        <a:ext cx="30240" cy="5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6" h="4">
                            <a:moveTo>
                              <a:pt x="0" y="0"/>
                            </a:moveTo>
                            <a:lnTo>
                              <a:pt x="2" y="1"/>
                            </a:lnTo>
                            <a:lnTo>
                              <a:pt x="5" y="1"/>
                            </a:lnTo>
                            <a:lnTo>
                              <a:pt x="8" y="1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11" y="3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38" name="Group 843"/>
                    <p:cNvGrpSpPr/>
                    <p:nvPr/>
                  </p:nvGrpSpPr>
                  <p:grpSpPr>
                    <a:xfrm>
                      <a:off x="4808520" y="774720"/>
                      <a:ext cx="31680" cy="5040"/>
                      <a:chOff x="4808520" y="774720"/>
                      <a:chExt cx="31680" cy="5040"/>
                    </a:xfrm>
                  </p:grpSpPr>
                  <p:sp>
                    <p:nvSpPr>
                      <p:cNvPr id="2339" name="Freeform 844"/>
                      <p:cNvSpPr/>
                      <p:nvPr/>
                    </p:nvSpPr>
                    <p:spPr>
                      <a:xfrm>
                        <a:off x="4808520" y="774720"/>
                        <a:ext cx="31680" cy="50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27" h="4">
                            <a:moveTo>
                              <a:pt x="8" y="0"/>
                            </a:move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9" y="1"/>
                            </a:lnTo>
                            <a:lnTo>
                              <a:pt x="21" y="2"/>
                            </a:lnTo>
                            <a:lnTo>
                              <a:pt x="26" y="2"/>
                            </a:lnTo>
                            <a:lnTo>
                              <a:pt x="21" y="2"/>
                            </a:lnTo>
                            <a:lnTo>
                              <a:pt x="17" y="3"/>
                            </a:lnTo>
                            <a:lnTo>
                              <a:pt x="13" y="3"/>
                            </a:lnTo>
                            <a:lnTo>
                              <a:pt x="10" y="2"/>
                            </a:lnTo>
                            <a:lnTo>
                              <a:pt x="6" y="2"/>
                            </a:lnTo>
                            <a:lnTo>
                              <a:pt x="3" y="2"/>
                            </a:lnTo>
                            <a:lnTo>
                              <a:pt x="0" y="1"/>
                            </a:lnTo>
                            <a:lnTo>
                              <a:pt x="4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0" name="Freeform 845"/>
                      <p:cNvSpPr/>
                      <p:nvPr/>
                    </p:nvSpPr>
                    <p:spPr>
                      <a:xfrm>
                        <a:off x="4821480" y="774720"/>
                        <a:ext cx="18720" cy="50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6" h="4">
                            <a:moveTo>
                              <a:pt x="0" y="0"/>
                            </a:moveTo>
                            <a:lnTo>
                              <a:pt x="4" y="1"/>
                            </a:lnTo>
                            <a:lnTo>
                              <a:pt x="7" y="1"/>
                            </a:lnTo>
                            <a:lnTo>
                              <a:pt x="9" y="1"/>
                            </a:lnTo>
                            <a:lnTo>
                              <a:pt x="11" y="2"/>
                            </a:lnTo>
                            <a:lnTo>
                              <a:pt x="15" y="2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3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3f25f"/>
                      </a:solidFill>
                      <a:ln cap="rnd" w="1260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341" name="TextBox 2062"/>
          <p:cNvSpPr/>
          <p:nvPr/>
        </p:nvSpPr>
        <p:spPr>
          <a:xfrm>
            <a:off x="0" y="44280"/>
            <a:ext cx="37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ertical separation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efore November 17, 2011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500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ters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TextBox 2063"/>
          <p:cNvSpPr/>
          <p:nvPr/>
        </p:nvSpPr>
        <p:spPr>
          <a:xfrm>
            <a:off x="5105520" y="44280"/>
            <a:ext cx="37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ertical separation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rom November 17, 2011 (in 300 mete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3" name="Прямая со стрелкой 2065"/>
          <p:cNvCxnSpPr/>
          <p:nvPr/>
        </p:nvCxnSpPr>
        <p:spPr>
          <a:xfrm>
            <a:off x="1904760" y="5028840"/>
            <a:ext cx="1080" cy="686520"/>
          </a:xfrm>
          <a:prstGeom prst="straightConnector1">
            <a:avLst/>
          </a:prstGeom>
          <a:ln cap="rnd"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44" name="TextBox 2066"/>
          <p:cNvSpPr/>
          <p:nvPr/>
        </p:nvSpPr>
        <p:spPr>
          <a:xfrm>
            <a:off x="1981080" y="5257800"/>
            <a:ext cx="6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50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TextBox 2067"/>
          <p:cNvSpPr/>
          <p:nvPr/>
        </p:nvSpPr>
        <p:spPr>
          <a:xfrm>
            <a:off x="6491160" y="541008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300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6" name="Прямая со стрелкой 2068"/>
          <p:cNvCxnSpPr/>
          <p:nvPr/>
        </p:nvCxnSpPr>
        <p:spPr>
          <a:xfrm>
            <a:off x="6400440" y="5334120"/>
            <a:ext cx="1080" cy="381600"/>
          </a:xfrm>
          <a:prstGeom prst="straightConnector1">
            <a:avLst/>
          </a:prstGeom>
          <a:ln cap="rnd"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677-D5A6-4CFF-8B88-B2FB7D36F3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2:51:42Z</dcterms:created>
  <dc:creator>Михайлов</dc:creator>
  <dc:description/>
  <dc:language>en-US</dc:language>
  <cp:lastModifiedBy>XXX</cp:lastModifiedBy>
  <dcterms:modified xsi:type="dcterms:W3CDTF">2011-12-06T04:41:39Z</dcterms:modified>
  <cp:revision>100</cp:revision>
  <dc:subject/>
  <dc:title>ПРОФЕССИОНАЛЬНАЯ ПОДГОТОВКА СПЕЦИАЛИСТОВ ПО ОБСЛУЖИВАНИЮ ВОЗДУШНОГО ДВИЖЕНИЯ  РГП «КАЗАЭРОНАВИГАЦИЯ»  Генеральный директор С. Кульназаров  15 июля 2005 года</dc:title>
</cp:coreProperties>
</file>