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28480" y="6335640"/>
            <a:ext cx="3294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6324480"/>
            <a:ext cx="761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Emirates"/>
          <p:cNvPicPr/>
          <p:nvPr/>
        </p:nvPicPr>
        <p:blipFill>
          <a:blip r:embed="rId2"/>
          <a:stretch/>
        </p:blipFill>
        <p:spPr>
          <a:xfrm>
            <a:off x="0" y="5913360"/>
            <a:ext cx="1098720" cy="94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24000"/>
          </a:blip>
          <a:srcRect l="34545" t="0" r="32437" b="0"/>
          <a:stretch/>
        </p:blipFill>
        <p:spPr>
          <a:xfrm>
            <a:off x="1828800" y="685800"/>
            <a:ext cx="7315200" cy="95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24000"/>
          </a:blip>
          <a:srcRect l="0" t="0" r="30233" b="0"/>
          <a:stretch/>
        </p:blipFill>
        <p:spPr>
          <a:xfrm>
            <a:off x="0" y="685800"/>
            <a:ext cx="9144000" cy="957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24000"/>
          </a:blip>
          <a:srcRect l="34545" t="0" r="32437" b="0"/>
          <a:stretch/>
        </p:blipFill>
        <p:spPr>
          <a:xfrm>
            <a:off x="1832040" y="685800"/>
            <a:ext cx="7315200" cy="95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3000" y="760320"/>
            <a:ext cx="37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pdate 20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2819520"/>
            <a:ext cx="304920" cy="304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5530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5105520"/>
            <a:ext cx="53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g Mich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Services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g.michael@emirat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659772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PWG/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l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59 x Passe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 x Fre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68 x WB (20 x A3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uture 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82 x Passenger (in 18 x B777, 11 x A3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1 x Freighter (in 4 x B777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93 x WB (31 x A3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659772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4152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stin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6 destinations in 68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5 x passenger, 11 x freight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passenger destinations 2012 (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llas/Fort W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s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merous freight dest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59772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lar F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ly 7 x polar flights da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2 x flights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1 x flight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A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1 x flight daily (pola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FW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– 1 x flight daily (pola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– 1 x flight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YYZ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tentially polar region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38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rews now trained for polar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55308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G359 ANODI - AB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inc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ODI-NILMA-ABERI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as implemented in AIRAC 1110 it has been used exten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01 Decemb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64 x west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8 x east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ypical saving of 6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750kg fuel s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388kg CO2 emissions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9680" y="655308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K 225 DXB-SFO 05 Dec 201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3080" y="175248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a ANODI-AB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e - 15.0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el - 118,332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a BJO-792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e - 15.19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el - 120,970 k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6400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00:01:08Z</dcterms:created>
  <dc:creator>Alan-Sony</dc:creator>
  <dc:description/>
  <dc:language>en-US</dc:language>
  <cp:lastModifiedBy>douglas michael</cp:lastModifiedBy>
  <cp:lastPrinted>2001-05-10T19:30:27Z</cp:lastPrinted>
  <dcterms:modified xsi:type="dcterms:W3CDTF">2011-12-05T09:10:23Z</dcterms:modified>
  <cp:revision>323</cp:revision>
  <dc:subject/>
  <dc:title>RNAV (RNP) SAAAR (Special Aircraft &amp; Aircrew Authorization Required)</dc:title>
</cp:coreProperties>
</file>