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645275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6821-3799-4B28-B1AE-79D79048BB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2F2B-7B08-4CE7-BDFA-08626091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F175-BD33-46EB-A283-8DA9D17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FD42-2998-49E5-81C2-6DCE113D9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DF32D-1403-4CAD-8179-CF8713AD9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435F3-F64C-43B6-938C-9D5BBABD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309E-5E41-4BC5-ADC9-34338AB5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43CEF-70CB-440C-AE4F-2859509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CD7F-25C5-4F39-A98F-78692D2C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6AE96-340F-4BB4-9112-CC10C6F5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C3C08-1BEF-4BBA-ADB5-045AF58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C93A-BD82-43F8-8221-1A1653AB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471C0-D338-4523-B273-997B4B2D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B8B50-36A9-4E55-BAA9-7358390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8370A-0DF4-4E30-82DC-3871B8C7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9B0EB-3905-4AF5-9DB0-49893E7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64A8B-83E3-4EDA-A8C0-59545035D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54E-FA6B-4C6D-B59B-873B9038C3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7F81-5B9A-4C5D-A81D-BE49EFC5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7D0-8C55-44D8-9B90-880291FE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3629-87FB-41E4-8359-EC562E9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334F-EC26-49ED-870E-CFE514A1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421A-8CFF-4BAB-A0C8-A1BB22F4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62C-4E55-4BC2-A747-FBC2BB02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3FA6-243C-48F6-A3FA-BA6EECD7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EDD-E354-4F00-B9A2-80105A3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C588-A53D-4D5F-8A2E-A7830106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943B-9F62-4BF5-8F70-F6B5498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32AE-2F56-4297-9677-176AEB8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7E74-6960-483F-A9CC-7D227B25D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2D6FE-D902-4813-85F3-F4573FC9E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65630-634A-4703-8725-2694AAA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E8184-D696-4BD9-89FB-7CD494A9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93FE-AD35-4B99-9F43-BE3C044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83CD1-6D37-4651-A5FB-EDA73C46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53B0F-186F-4634-92DA-28F56C79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17233-B86E-46A5-A5EC-996D047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3E867-9A23-4BF8-8795-B20FA4E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342E4-D09E-46C9-9CDD-C04A482F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343CD-43CD-48A4-A612-C268E948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A182C-AF7A-4600-9AE7-F91D9717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B1D27-22BA-45B0-9D24-1363F0C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3568B-54B9-4028-AFBD-43BAD8A35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633F-C7B1-4545-8821-367FE156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2A0D-BEB2-46CD-BAA8-6EEE192E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6D21-E3A2-4631-8306-7A0AC498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86B0-1068-4EE9-887F-7382708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8EC7-0B04-41B0-A5B6-7A62FA3F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8DE19-C64A-4299-A4CB-9D12ED0ED5B5}" type="datetime">
              <a:rPr b="0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0F774-E6EE-4FB1-8B8A-AA866BA7F1B3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2E643-1AF6-4B51-9E00-3330C07D1AB8}" type="datetime">
              <a:rPr b="0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FA1AE-3F77-4D39-8F9A-3FF287CAD315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47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8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D1C61-9684-44CF-A503-C4D395AA7EC7}" type="datetime">
              <a:rPr b="1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76E29-A12E-48FC-8FFC-64A1F05917C4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F5B3D-2813-4D7A-A7C8-FD814CDD034F}" type="datetime">
              <a:rPr b="1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9E5F2-B25C-407C-8532-E87D7718D6DD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e 5" descr="Himmel_1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02564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Avinor update CPWG/12  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eijing 7-8 December 2011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Oceanic FIR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ssholder for dato 3"/>
          <p:cNvSpPr/>
          <p:nvPr/>
        </p:nvSpPr>
        <p:spPr>
          <a:xfrm>
            <a:off x="53964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48470-9CF1-4E4A-9003-4C940AEEA233}" type="datetime">
              <a:rPr b="0" lang="nn-NO" sz="700" spc="-1" strike="noStrike">
                <a:solidFill>
                  <a:srgbClr val="595959"/>
                </a:solidFill>
                <a:latin typeface="Arial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ssholder for lysbilde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D569A-694A-4066-B823-66FD11228ADA}" type="slidenum">
              <a:rPr b="0" lang="nn-NO" sz="800" spc="-1" strike="noStrike">
                <a:solidFill>
                  <a:srgbClr val="595959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258920" y="609480"/>
            <a:ext cx="6408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ATCC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Free rout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Currently not data-link equipped (CPDLC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400" spc="-1" strike="noStrike">
                <a:solidFill>
                  <a:srgbClr val="595959"/>
                </a:solidFill>
                <a:latin typeface="Arial"/>
              </a:rPr>
              <a:t>Have contract with ARINC to receive ADS-C position reports (logon: ENOB) and FMC WPR. 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VHF radio coverage in most parts of the FIR (FL300+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400" spc="-1" strike="noStrike">
                <a:solidFill>
                  <a:srgbClr val="595959"/>
                </a:solidFill>
                <a:latin typeface="Arial"/>
              </a:rPr>
              <a:t>Bodo radio provides HF communication in FIR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Radar coverage in southern part and north to BJO (Bear Island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b-NO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635040"/>
            <a:ext cx="82818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b-NO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635040"/>
            <a:ext cx="82296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b-NO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57200" y="635040"/>
            <a:ext cx="82296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600" spc="-1" strike="noStrike">
                <a:solidFill>
                  <a:srgbClr val="c0504d"/>
                </a:solidFill>
                <a:latin typeface="Arial"/>
              </a:rPr>
              <a:t>Longyear airport</a:t>
            </a:r>
            <a:endParaRPr b="1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ossible en-route alternat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Located at 78</a:t>
            </a:r>
            <a:r>
              <a:rPr b="0" lang="en-US" sz="1600" spc="-1" strike="noStrike">
                <a:solidFill>
                  <a:srgbClr val="59595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14.8’ N and longitude 015</a:t>
            </a:r>
            <a:r>
              <a:rPr b="0" lang="en-US" sz="1600" spc="-1" strike="noStrike">
                <a:solidFill>
                  <a:srgbClr val="59595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27.9’ 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rves commercial aircraft operations throughout the year.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ublished Runway dimensions are 2323 X 45m (7,621 X 148 FT ).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Bilde 9" descr="Light.jpg"/>
          <p:cNvPicPr/>
          <p:nvPr/>
        </p:nvPicPr>
        <p:blipFill>
          <a:blip r:embed="rId1"/>
          <a:stretch/>
        </p:blipFill>
        <p:spPr>
          <a:xfrm>
            <a:off x="0" y="90972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92360" y="1025280"/>
            <a:ext cx="3165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8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8:45:23Z</dcterms:created>
  <dc:creator>Hanne Pe</dc:creator>
  <dc:description/>
  <dc:language>en-US</dc:language>
  <cp:lastModifiedBy>Tjønndal, Morten</cp:lastModifiedBy>
  <cp:lastPrinted>2009-08-26T11:42:17Z</cp:lastPrinted>
  <dcterms:modified xsi:type="dcterms:W3CDTF">2011-12-08T01:50:52Z</dcterms:modified>
  <cp:revision>120</cp:revision>
  <dc:subject/>
  <dc:title>Lysbilde 1</dc:title>
</cp:coreProperties>
</file>