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2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11.png" ContentType="image/png"/>
  <Override PartName="/ppt/media/image7.jpeg" ContentType="image/jpeg"/>
  <Override PartName="/ppt/media/image28.jpeg" ContentType="image/jpeg"/>
  <Override PartName="/ppt/media/image2.jpeg" ContentType="image/jpeg"/>
  <Override PartName="/ppt/media/image20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22A3-39E7-4F05-A512-ED368D5C1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F2B0-AD02-4019-8596-C2CDEEE13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raft ConOps is on the ICAO website through June 2012 for comment. The ConOps will be matured by the fall with a complete set of SWx aviation user requirements to be validated via a virtual exercise in 2013 while being adopted as a SWx RoadMap and one source for implementing international operational procedures in 2016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B7DC-9498-49B0-8446-1169B45E6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FC8-D7CF-40B5-B190-1F74B94A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31D-70B3-4B02-B920-00D69314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A6A-96E2-4C54-A1A1-91D3404F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3BE-4742-481C-ABC0-AD6949DA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2A08-24A7-46CD-B4AF-5B4498BF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D634-CAC4-43E1-A472-F1A8127A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2B43-E7D2-4372-9FDE-02A73293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C15C-464F-4D5A-ADAC-86690293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6FC2-D8BB-41DC-8305-D9F92F68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EFE4-1DCF-4043-8379-BE36C003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886E-A0E8-4314-99D2-092F3E03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C13-2388-4593-9A80-E4E946A2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DC35-4475-433C-9CC6-4639887A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F2A2-1EA2-4246-96FE-ADDBAF01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CF6D-B4D8-4248-981D-F4F6F80F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8EEC-D588-4F11-8613-D3DC290F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30FE-F699-4724-9ACF-6DBFB544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5F2-0734-4CC4-81AB-64A50D68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D44591-7C88-4594-B5E0-3B63F3DC5C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A08F4-F3A0-4F9D-9EAE-B71A7A7277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205A7B-4774-43B1-8E5F-57AEE04D2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39B-2293-42D7-9957-B2E520CD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B9AF5-5207-4F64-81F3-08D289EF64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2337F-B087-458A-9E02-E27E01BAEC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0B845A-C7BF-486F-8421-BE4E5BE24D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4E21AF-E285-4F57-948F-C3993CE6E2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1842BB-1FA3-4BEC-8AFC-7B7AAA865C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37E76-3B20-436B-997E-8E6450A7B0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E80836-4F80-4B57-B226-7C795E0BEA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D991B8-B2EF-4E46-8190-1636DA1862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0372CD-69F8-47B1-9903-B896C438888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81F-BF14-4F4A-840C-C90828AA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5C2-866A-4A18-AF6E-5014901B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2241D-5496-4276-B368-2E60CF63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27AEFC-7789-4AD9-8C1E-7673BAD2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D11BF-63C3-4201-BBD7-FFEC586C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5FADC-F1EC-437E-9066-A0E549A6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90167-C71E-4C39-A929-A77F31FE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EECE9F-4448-42B3-95F5-DE57911D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4F8A1-E2F8-46F9-A9B3-FDD99D77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53EC09-3DA6-432B-873A-609F295F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C90DD7-F79B-44A0-823C-F7EECA75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F4F-0C55-4D9F-9100-F9B1812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4AC2F-C0C9-4657-8726-4A793F36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D9A71-234B-4A87-96D5-FE25DCA0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C5505-7828-4D00-AC8F-38619715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6FDFB-108C-482A-9DFE-AF6DDB20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424727-FC7A-4CC3-A972-45CD5BCE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F003E5-0298-4273-82FA-D47EDD5E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9197A7-C0D4-49F6-B94E-E4A1E8FA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9E8395-D00D-4310-92B0-2830A943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CFC835-6834-4CE4-8A47-C50A4870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D45A10-28CB-4A06-AD15-48491010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E26-EAB9-401D-8DC1-93D493BF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C57F6B-7D90-4B96-8C93-DB1EDD35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BECC1A-6528-46C3-8E67-BFD99E3F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C6EAE7-CBA6-47A1-842D-C035FC48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9F2890-14BB-4E9F-9634-BD2B791A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A945B3-82A9-43A6-ADA2-D58EF950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3C0-E776-4202-AD05-7799E867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F7AF-8FCA-4F0E-8FF7-E9287F114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0187-0A80-4DA2-8A16-ADF3C0428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9508-6F36-4DF1-8DEA-AF8F180D02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49" name="Picture 26" descr="NEW FAA LOGO"/>
            <p:cNvPicPr/>
            <p:nvPr/>
          </p:nvPicPr>
          <p:blipFill>
            <a:blip r:embed="rId2"/>
            <a:srcRect l="14357" t="3756" r="14973" b="4557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29"/>
          <p:cNvSpPr/>
          <p:nvPr/>
        </p:nvSpPr>
        <p:spPr>
          <a:xfrm>
            <a:off x="449280" y="6205680"/>
            <a:ext cx="564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MS Forum – Session 10  SWx Impacts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2 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81" descr="sunrise_plane_powerpoint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51"/>
          <p:cNvSpPr/>
          <p:nvPr/>
        </p:nvSpPr>
        <p:spPr>
          <a:xfrm>
            <a:off x="426960" y="4497480"/>
            <a:ext cx="48229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080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92" name="Picture 1079" descr="NEW FAA LOGO"/>
            <p:cNvPicPr/>
            <p:nvPr/>
          </p:nvPicPr>
          <p:blipFill>
            <a:blip r:embed="rId3"/>
            <a:srcRect l="14350" t="3733" r="1496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071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89A5-91CC-4657-A12A-9DBAD6D5E7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135" name="Picture 26" descr="NEW FAA LOGO"/>
            <p:cNvPicPr/>
            <p:nvPr/>
          </p:nvPicPr>
          <p:blipFill>
            <a:blip r:embed="rId2"/>
            <a:srcRect l="14357" t="3756" r="14973" b="4557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29"/>
          <p:cNvSpPr/>
          <p:nvPr/>
        </p:nvSpPr>
        <p:spPr>
          <a:xfrm>
            <a:off x="449280" y="6205680"/>
            <a:ext cx="564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MS Forum – Session 10  SWx Impacts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2 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970E-D93C-4CA0-BC6B-3286CD9017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181" name="Picture 26" descr="NEW FAA LOGO"/>
            <p:cNvPicPr/>
            <p:nvPr/>
          </p:nvPicPr>
          <p:blipFill>
            <a:blip r:embed="rId2"/>
            <a:srcRect l="14357" t="3756" r="14973" b="4557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29"/>
          <p:cNvSpPr/>
          <p:nvPr/>
        </p:nvSpPr>
        <p:spPr>
          <a:xfrm>
            <a:off x="449280" y="6205680"/>
            <a:ext cx="564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MS Forum – Session 10  SWx Impacts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2 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A202-1F49-4B61-A066-82FA383D77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226" name="Picture 26" descr="NEW FAA LOGO"/>
            <p:cNvPicPr/>
            <p:nvPr/>
          </p:nvPicPr>
          <p:blipFill>
            <a:blip r:embed="rId2"/>
            <a:srcRect l="14357" t="3756" r="14973" b="4557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29"/>
          <p:cNvSpPr/>
          <p:nvPr/>
        </p:nvSpPr>
        <p:spPr>
          <a:xfrm>
            <a:off x="449280" y="6205680"/>
            <a:ext cx="564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MS Forum – Session 10  SWx Impacts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2 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39EA-F509-494B-BE14-9E0C49EC76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274" name="Picture 26" descr="NEW FAA LOGO"/>
            <p:cNvPicPr/>
            <p:nvPr/>
          </p:nvPicPr>
          <p:blipFill>
            <a:blip r:embed="rId2"/>
            <a:srcRect l="14357" t="3756" r="14973" b="4557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29"/>
          <p:cNvSpPr/>
          <p:nvPr/>
        </p:nvSpPr>
        <p:spPr>
          <a:xfrm>
            <a:off x="449280" y="6205680"/>
            <a:ext cx="564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MS Forum – Session 10  SWx Impacts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2 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7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1319-AEAD-40FD-A343-6601F3355A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25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322" name="Picture 26" descr="NEW FAA LOGO"/>
            <p:cNvPicPr/>
            <p:nvPr/>
          </p:nvPicPr>
          <p:blipFill>
            <a:blip r:embed="rId2"/>
            <a:srcRect l="14357" t="3756" r="14973" b="4557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27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29"/>
          <p:cNvSpPr/>
          <p:nvPr/>
        </p:nvSpPr>
        <p:spPr>
          <a:xfrm>
            <a:off x="449280" y="6205680"/>
            <a:ext cx="564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MS Forum – Session 10  SWx Impacts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0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2 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www.spaceweather.com/images2012/27jan12/ipad/x2.m4v?PHPSESSID=3vnvt6uohd3i0qvbba62m6fs42" TargetMode="External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hyperlink" Target="http://www.spaceweather.com/images2012/23jan12/m9.jpg?PHPSESSID=p02e8hn4nu0idm412jrct7jic3" TargetMode="External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ce Weather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e Ku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AA Space Weather Prediction Center, 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PWG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ykjav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2"/>
          <p:cNvSpPr/>
          <p:nvPr/>
        </p:nvSpPr>
        <p:spPr>
          <a:xfrm>
            <a:off x="2600640" y="76320"/>
            <a:ext cx="29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ch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185400" y="762120"/>
            <a:ext cx="5686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 and R3 Solar Flare Radio Black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Radiatio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3 Geomagnetic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7"/>
          <p:cNvSpPr/>
          <p:nvPr/>
        </p:nvSpPr>
        <p:spPr>
          <a:xfrm>
            <a:off x="1757520" y="441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J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1"/>
          <a:srcRect l="11250" t="26000" r="45626" b="8000"/>
          <a:stretch/>
        </p:blipFill>
        <p:spPr>
          <a:xfrm>
            <a:off x="3733920" y="1676520"/>
            <a:ext cx="525780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3" name="Picture 2" descr="http://www.spaceweather.com/images2012/07mar12/hmi4096_blank.jpg?PHPSESSID=omsv2ivho1hkgv3eb95imulbc0"/>
          <p:cNvPicPr/>
          <p:nvPr/>
        </p:nvPicPr>
        <p:blipFill>
          <a:blip r:embed="rId2"/>
          <a:srcRect l="0" t="0" r="35159" b="35159"/>
          <a:stretch/>
        </p:blipFill>
        <p:spPr>
          <a:xfrm>
            <a:off x="228600" y="33526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8"/>
          <p:cNvSpPr/>
          <p:nvPr/>
        </p:nvSpPr>
        <p:spPr>
          <a:xfrm>
            <a:off x="768600" y="5207040"/>
            <a:ext cx="133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 14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 7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7"/>
          <p:cNvSpPr/>
          <p:nvPr/>
        </p:nvSpPr>
        <p:spPr>
          <a:xfrm>
            <a:off x="342360" y="152280"/>
            <a:ext cx="83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rst R3/S3/G3 Space Weather Storm of the Solar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7" descr="http://www.spaceweather.com/images2012/07mar12/hmi4096_blank.jpg?PHPSESSID=omsv2ivho1hkgv3eb95imulbc0"/>
          <p:cNvPicPr/>
          <p:nvPr/>
        </p:nvPicPr>
        <p:blipFill>
          <a:blip r:embed="rId1"/>
          <a:srcRect l="0" t="0" r="0" b="55669"/>
          <a:stretch/>
        </p:blipFill>
        <p:spPr>
          <a:xfrm>
            <a:off x="4343400" y="914400"/>
            <a:ext cx="3094200" cy="1371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http://www.swpc.noaa.gov/ftpdir/plots/xray/20120308_xray.gif"/>
          <p:cNvPicPr/>
          <p:nvPr/>
        </p:nvPicPr>
        <p:blipFill>
          <a:blip r:embed="rId2"/>
          <a:stretch/>
        </p:blipFill>
        <p:spPr>
          <a:xfrm>
            <a:off x="5452920" y="1496880"/>
            <a:ext cx="3005280" cy="22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1" name="Picture 21" descr="http://www.swpc.noaa.gov/ftpdir/plots/proton/20120308_proton.gif"/>
          <p:cNvPicPr/>
          <p:nvPr/>
        </p:nvPicPr>
        <p:blipFill>
          <a:blip r:embed="rId3"/>
          <a:stretch/>
        </p:blipFill>
        <p:spPr>
          <a:xfrm>
            <a:off x="5029200" y="4191120"/>
            <a:ext cx="34290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2" name="Picture 8" descr="http://www.nowtheendbegins.com/blog/wp-content/uploads/massive-solar-flares-heading-for-earth-sun-spots-march-7-2012.jpg"/>
          <p:cNvPicPr/>
          <p:nvPr/>
        </p:nvPicPr>
        <p:blipFill>
          <a:blip r:embed="rId4"/>
          <a:srcRect l="0" t="0" r="0" b="2471"/>
          <a:stretch/>
        </p:blipFill>
        <p:spPr>
          <a:xfrm>
            <a:off x="7162920" y="838080"/>
            <a:ext cx="1666800" cy="14367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29"/>
          <p:cNvSpPr/>
          <p:nvPr/>
        </p:nvSpPr>
        <p:spPr>
          <a:xfrm>
            <a:off x="152280" y="412596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Radiation Storm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ation Storm Warning issued at Mar 7, 00:19 U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lmost five hours warning (lead)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2"/>
          <p:cNvSpPr/>
          <p:nvPr/>
        </p:nvSpPr>
        <p:spPr>
          <a:xfrm>
            <a:off x="249840" y="5486400"/>
            <a:ext cx="3295800" cy="36828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ctual:   Onset – Mar 7, 05:10 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3"/>
          <p:cNvSpPr/>
          <p:nvPr/>
        </p:nvSpPr>
        <p:spPr>
          <a:xfrm>
            <a:off x="304920" y="838080"/>
            <a:ext cx="388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olar Flare Radio Blackout Forec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ecast for Mar 6-7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sued: Mar 5, 22:00 U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1 (Minor) – R2 (Moderate)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3 (Strong)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5"/>
          <p:cNvSpPr/>
          <p:nvPr/>
        </p:nvSpPr>
        <p:spPr>
          <a:xfrm>
            <a:off x="323280" y="3200400"/>
            <a:ext cx="3499920" cy="36828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ctual:   R3 Flare – Mar 7, 00:24 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38"/>
          <p:cNvSpPr/>
          <p:nvPr/>
        </p:nvSpPr>
        <p:spPr>
          <a:xfrm>
            <a:off x="914400" y="3886200"/>
            <a:ext cx="6781680" cy="0"/>
          </a:xfrm>
          <a:prstGeom prst="line">
            <a:avLst/>
          </a:prstGeom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7"/>
          <p:cNvSpPr/>
          <p:nvPr/>
        </p:nvSpPr>
        <p:spPr>
          <a:xfrm>
            <a:off x="685800" y="6019920"/>
            <a:ext cx="3809880" cy="761760"/>
          </a:xfrm>
          <a:prstGeom prst="rect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tual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Arrival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Mar 8, 11:05U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Intensity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G3 st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0" y="4606560"/>
            <a:ext cx="487692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eomagnetic Storm Forec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rrival time is estimated to be Mar 8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06:00-10:00UTC.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iods reaching the G3 (Strong) Level Likely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"/>
          <p:cNvSpPr/>
          <p:nvPr/>
        </p:nvSpPr>
        <p:spPr>
          <a:xfrm>
            <a:off x="327960" y="15228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omagnetic Storm Forecast, March 7, 20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1"/>
          <p:cNvGrpSpPr/>
          <p:nvPr/>
        </p:nvGrpSpPr>
        <p:grpSpPr>
          <a:xfrm>
            <a:off x="4724280" y="5048280"/>
            <a:ext cx="4343400" cy="1581120"/>
            <a:chOff x="4724280" y="5048280"/>
            <a:chExt cx="4343400" cy="1581120"/>
          </a:xfrm>
        </p:grpSpPr>
        <p:pic>
          <p:nvPicPr>
            <p:cNvPr id="492" name="Picture 2" descr="http://www.swpc.noaa.gov/ftpdir/plots/satenv/20120309_satenv.gif"/>
            <p:cNvPicPr/>
            <p:nvPr/>
          </p:nvPicPr>
          <p:blipFill>
            <a:blip r:embed="rId1"/>
            <a:srcRect l="31879" t="68756" r="0" b="0"/>
            <a:stretch/>
          </p:blipFill>
          <p:spPr>
            <a:xfrm>
              <a:off x="5070240" y="5048280"/>
              <a:ext cx="399744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" descr="http://www.swpc.noaa.gov/ftpdir/plots/satenv/20120309_satenv.gif"/>
            <p:cNvPicPr/>
            <p:nvPr/>
          </p:nvPicPr>
          <p:blipFill>
            <a:blip r:embed="rId2"/>
            <a:srcRect l="0" t="68756" r="93758" b="0"/>
            <a:stretch/>
          </p:blipFill>
          <p:spPr>
            <a:xfrm>
              <a:off x="4724280" y="5048280"/>
              <a:ext cx="3664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8"/>
          <p:cNvSpPr/>
          <p:nvPr/>
        </p:nvSpPr>
        <p:spPr>
          <a:xfrm>
            <a:off x="7470720" y="50292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0"/>
          <p:cNvSpPr/>
          <p:nvPr/>
        </p:nvSpPr>
        <p:spPr>
          <a:xfrm>
            <a:off x="5416560" y="47242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m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Straight Arrow Connector 22"/>
          <p:cNvCxnSpPr/>
          <p:nvPr/>
        </p:nvCxnSpPr>
        <p:spPr>
          <a:xfrm>
            <a:off x="5943240" y="5062680"/>
            <a:ext cx="1080" cy="381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00" name="Picture 24" descr="wsa_enlil_20120307_1302.png"/>
          <p:cNvPicPr/>
          <p:nvPr/>
        </p:nvPicPr>
        <p:blipFill>
          <a:blip r:embed="rId3"/>
          <a:stretch/>
        </p:blipFill>
        <p:spPr>
          <a:xfrm>
            <a:off x="3703680" y="1136520"/>
            <a:ext cx="5364000" cy="3353040"/>
          </a:xfrm>
          <a:prstGeom prst="rect">
            <a:avLst/>
          </a:prstGeom>
          <a:ln w="0">
            <a:noFill/>
          </a:ln>
        </p:spPr>
      </p:pic>
      <p:sp>
        <p:nvSpPr>
          <p:cNvPr id="501" name="TextBox 19"/>
          <p:cNvSpPr/>
          <p:nvPr/>
        </p:nvSpPr>
        <p:spPr>
          <a:xfrm>
            <a:off x="228600" y="1295280"/>
            <a:ext cx="3581280" cy="40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SA/Enlil model indic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Mar 8, 10UTC arrival at Ear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3 Watch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issu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Mar 7 at 17:42UTC…17 hours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efore the storm onse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tronger storming w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xpected on Mar 8, but sol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wind not suitable for stron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torming until Mar 9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WPC ACE RTSW MAG &amp; SWEPAM 7-day Updating Plot"/>
          <p:cNvPicPr/>
          <p:nvPr/>
        </p:nvPicPr>
        <p:blipFill>
          <a:blip r:embed="rId1"/>
          <a:srcRect l="0" t="92818" r="0" b="0"/>
          <a:stretch/>
        </p:blipFill>
        <p:spPr>
          <a:xfrm>
            <a:off x="762120" y="1676520"/>
            <a:ext cx="7772400" cy="4474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SWPC ACE RTSW MAG &amp; SWEPAM 7-day Updating Plot"/>
          <p:cNvPicPr/>
          <p:nvPr/>
        </p:nvPicPr>
        <p:blipFill>
          <a:blip r:embed="rId2"/>
          <a:srcRect l="0" t="0" r="0" b="77353"/>
          <a:stretch/>
        </p:blipFill>
        <p:spPr>
          <a:xfrm>
            <a:off x="762120" y="304920"/>
            <a:ext cx="7772400" cy="1407960"/>
          </a:xfrm>
          <a:prstGeom prst="rect">
            <a:avLst/>
          </a:prstGeom>
          <a:ln w="0">
            <a:noFill/>
          </a:ln>
        </p:spPr>
      </p:pic>
      <p:sp>
        <p:nvSpPr>
          <p:cNvPr id="504" name="Straight Connector 3"/>
          <p:cNvSpPr/>
          <p:nvPr/>
        </p:nvSpPr>
        <p:spPr>
          <a:xfrm>
            <a:off x="3886200" y="1295280"/>
            <a:ext cx="0" cy="1295640"/>
          </a:xfrm>
          <a:prstGeom prst="line">
            <a:avLst/>
          </a:prstGeom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6"/>
          <p:cNvSpPr/>
          <p:nvPr/>
        </p:nvSpPr>
        <p:spPr>
          <a:xfrm>
            <a:off x="4572000" y="1295280"/>
            <a:ext cx="0" cy="1295640"/>
          </a:xfrm>
          <a:prstGeom prst="line">
            <a:avLst/>
          </a:prstGeom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7"/>
          <p:cNvSpPr/>
          <p:nvPr/>
        </p:nvSpPr>
        <p:spPr>
          <a:xfrm>
            <a:off x="3064320" y="259092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5 hours before Bz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12"/>
          <p:cNvGrpSpPr/>
          <p:nvPr/>
        </p:nvGrpSpPr>
        <p:grpSpPr>
          <a:xfrm>
            <a:off x="152280" y="3124080"/>
            <a:ext cx="8686800" cy="2133720"/>
            <a:chOff x="152280" y="3124080"/>
            <a:chExt cx="8686800" cy="2133720"/>
          </a:xfrm>
        </p:grpSpPr>
        <p:pic>
          <p:nvPicPr>
            <p:cNvPr id="508" name="Picture 2" descr="http://www.ngdc.noaa.gov/stp/drap/data/2012/03/07/SWX_DRAP20_C_SWPC_20120307004400_GLOBAL.png"/>
            <p:cNvPicPr/>
            <p:nvPr/>
          </p:nvPicPr>
          <p:blipFill>
            <a:blip r:embed="rId1"/>
            <a:stretch/>
          </p:blipFill>
          <p:spPr>
            <a:xfrm>
              <a:off x="5020920" y="3124080"/>
              <a:ext cx="38181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Rectangle 2"/>
            <p:cNvSpPr/>
            <p:nvPr/>
          </p:nvSpPr>
          <p:spPr>
            <a:xfrm>
              <a:off x="152280" y="3276360"/>
              <a:ext cx="4572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6-7 March 2012:  “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vere impact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 2249Z initially affecting CWP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[Central West Pacific]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ut by 2400Z, impact peaked and was affecting all communications. 25 ATC messages were delayed.”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- Air Traffic Commun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Rectangle 3"/>
          <p:cNvSpPr/>
          <p:nvPr/>
        </p:nvSpPr>
        <p:spPr>
          <a:xfrm>
            <a:off x="152280" y="1371600"/>
            <a:ext cx="48769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 March 2012: INCERFA was issued for Air Canada 003 (Vancouver to Tokyo) until communications were established with the f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(INCERFA is issued when there is uncertainty as to the safety of an aircraft and its occupants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2"/>
          <a:srcRect l="23126" t="14998" r="25626" b="55002"/>
          <a:stretch/>
        </p:blipFill>
        <p:spPr>
          <a:xfrm>
            <a:off x="5013360" y="152280"/>
            <a:ext cx="3749760" cy="13716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"/>
          <p:cNvPicPr/>
          <p:nvPr/>
        </p:nvPicPr>
        <p:blipFill>
          <a:blip r:embed="rId3"/>
          <a:srcRect l="24374" t="32003" r="25626" b="37002"/>
          <a:stretch/>
        </p:blipFill>
        <p:spPr>
          <a:xfrm>
            <a:off x="5046840" y="1523880"/>
            <a:ext cx="3735360" cy="15242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7"/>
          <p:cNvSpPr/>
          <p:nvPr/>
        </p:nvSpPr>
        <p:spPr>
          <a:xfrm>
            <a:off x="5029200" y="152280"/>
            <a:ext cx="3733920" cy="28958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13"/>
          <p:cNvGrpSpPr/>
          <p:nvPr/>
        </p:nvGrpSpPr>
        <p:grpSpPr>
          <a:xfrm>
            <a:off x="0" y="5181480"/>
            <a:ext cx="8915400" cy="1611360"/>
            <a:chOff x="0" y="5181480"/>
            <a:chExt cx="8915400" cy="1611360"/>
          </a:xfrm>
        </p:grpSpPr>
        <p:sp>
          <p:nvSpPr>
            <p:cNvPr id="515" name="Rectangle 8"/>
            <p:cNvSpPr/>
            <p:nvPr/>
          </p:nvSpPr>
          <p:spPr>
            <a:xfrm>
              <a:off x="0" y="5227920"/>
              <a:ext cx="8382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everal polar flights altere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umerous reports of HF communication outages 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ower-latitude trans-oceanic flight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AA WAAS reported the detection of minor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r GPS users in Alask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6" descr="http://www.ngdc.noaa.gov/stp/drap/data/2012/03/08/SWX_DRAP20_C_SWPC_20120308203000_N-POLE.png"/>
            <p:cNvPicPr/>
            <p:nvPr/>
          </p:nvPicPr>
          <p:blipFill>
            <a:blip r:embed="rId4"/>
            <a:stretch/>
          </p:blipFill>
          <p:spPr>
            <a:xfrm>
              <a:off x="7086600" y="5181480"/>
              <a:ext cx="1828800" cy="16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5" descr="globus.jpg"/>
            <p:cNvPicPr/>
            <p:nvPr/>
          </p:nvPicPr>
          <p:blipFill>
            <a:blip r:embed="rId5"/>
            <a:stretch/>
          </p:blipFill>
          <p:spPr>
            <a:xfrm>
              <a:off x="5334120" y="5523480"/>
              <a:ext cx="1904760" cy="125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18" name="TextBox 11"/>
          <p:cNvSpPr/>
          <p:nvPr/>
        </p:nvSpPr>
        <p:spPr>
          <a:xfrm>
            <a:off x="243000" y="228600"/>
            <a:ext cx="312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acts on A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2 Out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5924520" cy="4525920"/>
          </a:xfrm>
          <a:prstGeom prst="rect">
            <a:avLst/>
          </a:prstGeom>
          <a:ln w="0">
            <a:noFill/>
          </a:ln>
        </p:spPr>
      </p:pic>
      <p:cxnSp>
        <p:nvCxnSpPr>
          <p:cNvPr id="521" name="Straight Arrow Connector 10"/>
          <p:cNvCxnSpPr/>
          <p:nvPr/>
        </p:nvCxnSpPr>
        <p:spPr>
          <a:xfrm>
            <a:off x="6629040" y="3428640"/>
            <a:ext cx="1143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2" name="TextBox 11"/>
          <p:cNvSpPr/>
          <p:nvPr/>
        </p:nvSpPr>
        <p:spPr>
          <a:xfrm>
            <a:off x="6479640" y="30481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380880" y="2286000"/>
            <a:ext cx="243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activity (5-10 episodes per year) through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2012, probably another 5-7 surges of space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rge may last 2-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CAO Space Weather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is now occurring to spell out aviation requirements for space weather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nOps (draft) circulated for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 term goal, November 1, 2012 – Space Weather ConOps and draft SARP submitted to ICAO Secretari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A Contact, Steve Albersheim, Steven.Albersheim@faa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chedul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47400" y="1089000"/>
            <a:ext cx="849132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1: Draft Con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2:  Develop initial set of Performa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ments and Complete Con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Requirements (Current capab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3: Validate Performance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4: Adopt ConOps and SWx SARP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ICAO/WMO Divisional Me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6: Implementing SWx procedures (SARP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Points – aviation imp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2 events and imp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ook for the rest of the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O Space Weather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ce Weather Impacts to Polar Av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F impacted by Solar Radiation and Geomagnetic Storms (NOA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ca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and onboard systems impacted by Solar Radiation Storms (NOA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c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v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tellite navigation (GPS) affected by Geomagnetic Storms (NOA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c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ce Weather Sc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419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Categ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magnetic St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M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ar Radiation St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article Even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o Blacko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lar Fla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4" descr="NOAA_Scales_all"/>
          <p:cNvPicPr/>
          <p:nvPr/>
        </p:nvPicPr>
        <p:blipFill>
          <a:blip r:embed="rId1"/>
          <a:stretch/>
        </p:blipFill>
        <p:spPr>
          <a:xfrm>
            <a:off x="4467240" y="0"/>
            <a:ext cx="4676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5" descr=""/>
          <p:cNvPicPr/>
          <p:nvPr/>
        </p:nvPicPr>
        <p:blipFill>
          <a:blip r:embed="rId1"/>
          <a:srcRect l="11250" t="14998" r="46250" b="20000"/>
          <a:stretch/>
        </p:blipFill>
        <p:spPr>
          <a:xfrm>
            <a:off x="3505320" y="2590920"/>
            <a:ext cx="4800600" cy="40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TextBox 2"/>
          <p:cNvSpPr/>
          <p:nvPr/>
        </p:nvSpPr>
        <p:spPr>
          <a:xfrm>
            <a:off x="2608560" y="76320"/>
            <a:ext cx="32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anuary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338040" y="914400"/>
            <a:ext cx="5686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 and R3 Solar Flare Radio Black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Radiatio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-G2 Geomagnetic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http://www.spaceweather.com/images2012/18jan12/hmi4096_blank.jpg?PHPSESSID=429ie99gbas60qhc19fhkt13f0"/>
          <p:cNvPicPr/>
          <p:nvPr/>
        </p:nvPicPr>
        <p:blipFill>
          <a:blip r:embed="rId2"/>
          <a:srcRect l="0" t="0" r="0" b="52747"/>
          <a:stretch/>
        </p:blipFill>
        <p:spPr>
          <a:xfrm>
            <a:off x="228600" y="3505320"/>
            <a:ext cx="2819520" cy="1331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http://www.spaceweather.com/images2012/23jan12/hmi4096_blank.jpg?PHPSESSID=p02e8hn4nu0idm412jrct7jic3"/>
          <p:cNvPicPr/>
          <p:nvPr/>
        </p:nvPicPr>
        <p:blipFill>
          <a:blip r:embed="rId3"/>
          <a:srcRect l="0" t="0" r="0" b="52736"/>
          <a:stretch/>
        </p:blipFill>
        <p:spPr>
          <a:xfrm>
            <a:off x="228600" y="5181480"/>
            <a:ext cx="2901960" cy="13716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7"/>
          <p:cNvSpPr/>
          <p:nvPr/>
        </p:nvSpPr>
        <p:spPr>
          <a:xfrm>
            <a:off x="1757520" y="441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J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843120" y="6172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 J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1" descr="http://www.solarham.com/gallery/var/albums/2012-Photos/jan17_2012_ne.jpg?m=1328627104"/>
          <p:cNvPicPr/>
          <p:nvPr/>
        </p:nvPicPr>
        <p:blipFill>
          <a:blip r:embed="rId4"/>
          <a:stretch/>
        </p:blipFill>
        <p:spPr>
          <a:xfrm>
            <a:off x="1371600" y="2743200"/>
            <a:ext cx="17524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1440" y="907920"/>
            <a:ext cx="9144000" cy="88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8" descr="http://www.swpc.noaa.gov/ftpdir/warehouse/2012/2012_plots/proton/20120125_proton.gif"/>
          <p:cNvPicPr/>
          <p:nvPr/>
        </p:nvPicPr>
        <p:blipFill>
          <a:blip r:embed="rId1"/>
          <a:stretch/>
        </p:blipFill>
        <p:spPr>
          <a:xfrm>
            <a:off x="187200" y="955800"/>
            <a:ext cx="2925720" cy="292572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"/>
          <p:cNvSpPr/>
          <p:nvPr/>
        </p:nvSpPr>
        <p:spPr>
          <a:xfrm>
            <a:off x="0" y="230040"/>
            <a:ext cx="9144000" cy="581400"/>
          </a:xfrm>
          <a:prstGeom prst="rect">
            <a:avLst/>
          </a:prstGeom>
          <a:solidFill>
            <a:srgbClr val="4f81bd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Januar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0"/>
          <p:cNvSpPr/>
          <p:nvPr/>
        </p:nvSpPr>
        <p:spPr>
          <a:xfrm>
            <a:off x="8783640" y="73897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6" descr="http://www.swpc.noaa.gov/ftpdir/plots/xray/20120125_xray.gif"/>
          <p:cNvPicPr/>
          <p:nvPr/>
        </p:nvPicPr>
        <p:blipFill>
          <a:blip r:embed="rId2"/>
          <a:stretch/>
        </p:blipFill>
        <p:spPr>
          <a:xfrm>
            <a:off x="182520" y="3657600"/>
            <a:ext cx="3002040" cy="2925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8" descr="http://www.swpc.noaa.gov/ftpdir/plots/xray/20120128_xray.gif"/>
          <p:cNvPicPr/>
          <p:nvPr/>
        </p:nvPicPr>
        <p:blipFill>
          <a:blip r:embed="rId3"/>
          <a:srcRect l="10849" t="0" r="0" b="0"/>
          <a:stretch/>
        </p:blipFill>
        <p:spPr>
          <a:xfrm>
            <a:off x="2808360" y="3664080"/>
            <a:ext cx="2693880" cy="2925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0" descr="http://www.swpc.noaa.gov/ftpdir/plots/xray/20120131_xray.gif"/>
          <p:cNvPicPr/>
          <p:nvPr/>
        </p:nvPicPr>
        <p:blipFill>
          <a:blip r:embed="rId4"/>
          <a:srcRect l="11114" t="0" r="2811" b="0"/>
          <a:stretch/>
        </p:blipFill>
        <p:spPr>
          <a:xfrm>
            <a:off x="5121360" y="3666960"/>
            <a:ext cx="2608200" cy="2927520"/>
          </a:xfrm>
          <a:prstGeom prst="rect">
            <a:avLst/>
          </a:prstGeom>
          <a:ln w="0">
            <a:noFill/>
          </a:ln>
        </p:spPr>
      </p:pic>
      <p:sp>
        <p:nvSpPr>
          <p:cNvPr id="395" name="Straight Connector 77"/>
          <p:cNvSpPr/>
          <p:nvPr/>
        </p:nvSpPr>
        <p:spPr>
          <a:xfrm flipH="1">
            <a:off x="515520" y="4889520"/>
            <a:ext cx="6885000" cy="3240"/>
          </a:xfrm>
          <a:prstGeom prst="line">
            <a:avLst/>
          </a:prstGeom>
          <a:ln w="25560">
            <a:solidFill>
              <a:srgbClr val="5a9f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78"/>
          <p:cNvSpPr/>
          <p:nvPr/>
        </p:nvSpPr>
        <p:spPr>
          <a:xfrm flipH="1">
            <a:off x="525600" y="4656240"/>
            <a:ext cx="6875280" cy="792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79"/>
          <p:cNvSpPr/>
          <p:nvPr/>
        </p:nvSpPr>
        <p:spPr>
          <a:xfrm flipH="1" flipV="1">
            <a:off x="515880" y="4545000"/>
            <a:ext cx="6888240" cy="9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80"/>
          <p:cNvSpPr/>
          <p:nvPr/>
        </p:nvSpPr>
        <p:spPr>
          <a:xfrm>
            <a:off x="7694280" y="47214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9fde"/>
                </a:solidFill>
                <a:latin typeface="Calibri"/>
              </a:rPr>
              <a:t>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7"/>
          <p:cNvSpPr/>
          <p:nvPr/>
        </p:nvSpPr>
        <p:spPr>
          <a:xfrm>
            <a:off x="7687800" y="447660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Calibri"/>
              </a:rPr>
              <a:t>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8"/>
          <p:cNvSpPr/>
          <p:nvPr/>
        </p:nvSpPr>
        <p:spPr>
          <a:xfrm>
            <a:off x="7689600" y="432900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Calibri"/>
              </a:rPr>
              <a:t>R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3"/>
          <p:cNvSpPr/>
          <p:nvPr/>
        </p:nvSpPr>
        <p:spPr>
          <a:xfrm>
            <a:off x="6843600" y="40305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4"/>
          <p:cNvSpPr/>
          <p:nvPr/>
        </p:nvSpPr>
        <p:spPr>
          <a:xfrm>
            <a:off x="6823080" y="4030560"/>
            <a:ext cx="1857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6"/>
          <p:cNvSpPr/>
          <p:nvPr/>
        </p:nvSpPr>
        <p:spPr>
          <a:xfrm>
            <a:off x="6838920" y="4373640"/>
            <a:ext cx="173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88"/>
          <p:cNvSpPr/>
          <p:nvPr/>
        </p:nvSpPr>
        <p:spPr>
          <a:xfrm flipH="1">
            <a:off x="522000" y="4219560"/>
            <a:ext cx="6878520" cy="32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89"/>
          <p:cNvSpPr/>
          <p:nvPr/>
        </p:nvSpPr>
        <p:spPr>
          <a:xfrm flipH="1">
            <a:off x="528480" y="4118040"/>
            <a:ext cx="6880320" cy="3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8"/>
          <p:cNvSpPr/>
          <p:nvPr/>
        </p:nvSpPr>
        <p:spPr>
          <a:xfrm>
            <a:off x="7694280" y="407844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000"/>
                </a:solidFill>
                <a:latin typeface="Calibri"/>
              </a:rPr>
              <a:t>R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8"/>
          <p:cNvSpPr/>
          <p:nvPr/>
        </p:nvSpPr>
        <p:spPr>
          <a:xfrm>
            <a:off x="7694280" y="393552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R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98"/>
          <p:cNvSpPr/>
          <p:nvPr/>
        </p:nvSpPr>
        <p:spPr>
          <a:xfrm>
            <a:off x="7689960" y="2179800"/>
            <a:ext cx="30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9fde"/>
                </a:solidFill>
                <a:latin typeface="Calibri"/>
              </a:rPr>
              <a:t>S</a:t>
            </a:r>
            <a:r>
              <a:rPr b="1" lang="en-US" sz="1000" spc="-1" strike="noStrike">
                <a:solidFill>
                  <a:srgbClr val="5a9fde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1"/>
          <p:cNvSpPr/>
          <p:nvPr/>
        </p:nvSpPr>
        <p:spPr>
          <a:xfrm>
            <a:off x="7682040" y="179532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Calibri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2"/>
          <p:cNvSpPr/>
          <p:nvPr/>
        </p:nvSpPr>
        <p:spPr>
          <a:xfrm>
            <a:off x="7689960" y="140652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Calibri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3"/>
          <p:cNvSpPr/>
          <p:nvPr/>
        </p:nvSpPr>
        <p:spPr>
          <a:xfrm>
            <a:off x="7689960" y="100332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000"/>
                </a:solidFill>
                <a:latin typeface="Calibri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0" descr="http://www.swpc.noaa.gov/ftpdir/warehouse/2012/2012_plots/proton/20120128_proton.gif"/>
          <p:cNvPicPr/>
          <p:nvPr/>
        </p:nvPicPr>
        <p:blipFill>
          <a:blip r:embed="rId5"/>
          <a:srcRect l="11173" t="0" r="0" b="0"/>
          <a:stretch/>
        </p:blipFill>
        <p:spPr>
          <a:xfrm>
            <a:off x="2814480" y="955800"/>
            <a:ext cx="2600640" cy="2925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2" descr="http://www.swpc.noaa.gov/ftpdir/warehouse/2012/2012_plots/proton/20120131_proton.gif"/>
          <p:cNvPicPr/>
          <p:nvPr/>
        </p:nvPicPr>
        <p:blipFill>
          <a:blip r:embed="rId6"/>
          <a:srcRect l="10825" t="0" r="0" b="0"/>
          <a:stretch/>
        </p:blipFill>
        <p:spPr>
          <a:xfrm>
            <a:off x="5116680" y="955800"/>
            <a:ext cx="2609640" cy="2925720"/>
          </a:xfrm>
          <a:prstGeom prst="rect">
            <a:avLst/>
          </a:prstGeom>
          <a:ln w="0">
            <a:noFill/>
          </a:ln>
        </p:spPr>
      </p:pic>
      <p:sp>
        <p:nvSpPr>
          <p:cNvPr id="414" name="Straight Connector 67"/>
          <p:cNvSpPr/>
          <p:nvPr/>
        </p:nvSpPr>
        <p:spPr>
          <a:xfrm flipH="1">
            <a:off x="509400" y="2336760"/>
            <a:ext cx="6924600" cy="15840"/>
          </a:xfrm>
          <a:prstGeom prst="line">
            <a:avLst/>
          </a:prstGeom>
          <a:ln w="25560">
            <a:solidFill>
              <a:srgbClr val="5a9f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69"/>
          <p:cNvSpPr/>
          <p:nvPr/>
        </p:nvSpPr>
        <p:spPr>
          <a:xfrm flipH="1" flipV="1">
            <a:off x="498240" y="1941120"/>
            <a:ext cx="6926040" cy="1260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68"/>
          <p:cNvSpPr/>
          <p:nvPr/>
        </p:nvSpPr>
        <p:spPr>
          <a:xfrm flipH="1" flipV="1">
            <a:off x="514440" y="1562040"/>
            <a:ext cx="6927840" cy="6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04"/>
          <p:cNvSpPr/>
          <p:nvPr/>
        </p:nvSpPr>
        <p:spPr>
          <a:xfrm flipH="1" flipV="1">
            <a:off x="512280" y="1169640"/>
            <a:ext cx="6921720" cy="46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4" descr="http://www.spaceweather.com/images2012/27jan12/x2_strip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00600" y="3863880"/>
            <a:ext cx="1676520" cy="11653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34"/>
          <p:cNvGrpSpPr/>
          <p:nvPr/>
        </p:nvGrpSpPr>
        <p:grpSpPr>
          <a:xfrm>
            <a:off x="838080" y="3886200"/>
            <a:ext cx="1679760" cy="1012680"/>
            <a:chOff x="838080" y="3886200"/>
            <a:chExt cx="1679760" cy="1012680"/>
          </a:xfrm>
        </p:grpSpPr>
        <p:pic>
          <p:nvPicPr>
            <p:cNvPr id="420" name="Picture 36" descr="http://www.spaceweather.com/images2012/23jan12/hmi4096_blank.jpg?PHPSESSID=p02e8hn4nu0idm412jrct7jic3"/>
            <p:cNvPicPr/>
            <p:nvPr/>
          </p:nvPicPr>
          <p:blipFill>
            <a:blip r:embed="rId9"/>
            <a:srcRect l="32229" t="0" r="8787" b="64458"/>
            <a:stretch/>
          </p:blipFill>
          <p:spPr>
            <a:xfrm>
              <a:off x="838080" y="3886200"/>
              <a:ext cx="16797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Rectangle 32"/>
            <p:cNvSpPr/>
            <p:nvPr/>
          </p:nvSpPr>
          <p:spPr>
            <a:xfrm>
              <a:off x="914040" y="4005360"/>
              <a:ext cx="1346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M8.7 (R2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Box 35"/>
          <p:cNvSpPr/>
          <p:nvPr/>
        </p:nvSpPr>
        <p:spPr>
          <a:xfrm>
            <a:off x="5793120" y="3886200"/>
            <a:ext cx="60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Calibri"/>
              </a:rPr>
              <a:t>X2 (R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8" descr="http://www.spaceweather.com/images2012/23jan12/m9_512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33720" y="3657600"/>
            <a:ext cx="1288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"/>
          <p:cNvSpPr/>
          <p:nvPr/>
        </p:nvSpPr>
        <p:spPr>
          <a:xfrm>
            <a:off x="304920" y="2437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adio Communications Center reported that the CEP (Central East Pacific) and CWP (Central West Pacific) regions were impacted sever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by solar activity between 183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and 1930Z on 27 Jan due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3 solar flare radio blacko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hirteen requests were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rom ATC for overdue 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repor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http://www.ngdc.noaa.gov/stp/drap/data/2012/01/27/SWX_DRAP20_C_SWPC_20120127190000_GLOBAL.png"/>
          <p:cNvPicPr/>
          <p:nvPr/>
        </p:nvPicPr>
        <p:blipFill>
          <a:blip r:embed="rId1"/>
          <a:stretch/>
        </p:blipFill>
        <p:spPr>
          <a:xfrm>
            <a:off x="5029200" y="1219320"/>
            <a:ext cx="3733920" cy="20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TextBox 4"/>
          <p:cNvSpPr/>
          <p:nvPr/>
        </p:nvSpPr>
        <p:spPr>
          <a:xfrm>
            <a:off x="380880" y="44956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everal Polar flights altered due to S3 Radiatio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23-25 J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7" descr="http://www.ngdc.noaa.gov/stp/drap/data/2012/01/24/SWX_DRAP20_C_SWPC_20120124001300_GLOBAL.png"/>
          <p:cNvPicPr/>
          <p:nvPr/>
        </p:nvPicPr>
        <p:blipFill>
          <a:blip r:embed="rId2"/>
          <a:stretch/>
        </p:blipFill>
        <p:spPr>
          <a:xfrm>
            <a:off x="4419720" y="3886200"/>
            <a:ext cx="44193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0" descr="http://www.swpc.noaa.gov/ftpdir/warehouse/2012/2012_plots/proton/20120128_proton.gif"/>
          <p:cNvPicPr/>
          <p:nvPr/>
        </p:nvPicPr>
        <p:blipFill>
          <a:blip r:embed="rId1"/>
          <a:srcRect l="11173" t="0" r="0" b="0"/>
          <a:stretch/>
        </p:blipFill>
        <p:spPr>
          <a:xfrm>
            <a:off x="228600" y="2103480"/>
            <a:ext cx="2600280" cy="2925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http://www.ngdc.noaa.gov/stp/drap/data/2012/01/28/SWX_DRAP20_C_SWPC_20120128122000_GLOBAL.png"/>
          <p:cNvPicPr/>
          <p:nvPr/>
        </p:nvPicPr>
        <p:blipFill>
          <a:blip r:embed="rId2"/>
          <a:stretch/>
        </p:blipFill>
        <p:spPr>
          <a:xfrm>
            <a:off x="3581280" y="2133720"/>
            <a:ext cx="5270760" cy="294480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4"/>
          <p:cNvCxnSpPr/>
          <p:nvPr/>
        </p:nvCxnSpPr>
        <p:spPr>
          <a:xfrm>
            <a:off x="2742840" y="3352320"/>
            <a:ext cx="7628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1" name="TextBox 6"/>
          <p:cNvSpPr/>
          <p:nvPr/>
        </p:nvSpPr>
        <p:spPr>
          <a:xfrm>
            <a:off x="240120" y="30492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575280" y="1219320"/>
            <a:ext cx="76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2 events can cause significant HF degradati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228600" y="56408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jor airline re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 “…some of our polar flights (but not all) have reported HF comm outages/issues over the past 3 nights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1440" y="907920"/>
            <a:ext cx="9144000" cy="88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2" descr="http://www.swpc.noaa.gov/ftpdir/warehouse/2012/2012_plots/kp/20120125_kp.gif"/>
          <p:cNvPicPr/>
          <p:nvPr/>
        </p:nvPicPr>
        <p:blipFill>
          <a:blip r:embed="rId1"/>
          <a:stretch/>
        </p:blipFill>
        <p:spPr>
          <a:xfrm>
            <a:off x="165240" y="968400"/>
            <a:ext cx="3030480" cy="292572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2"/>
          <p:cNvSpPr/>
          <p:nvPr/>
        </p:nvSpPr>
        <p:spPr>
          <a:xfrm>
            <a:off x="0" y="230040"/>
            <a:ext cx="9144000" cy="581400"/>
          </a:xfrm>
          <a:prstGeom prst="rect">
            <a:avLst/>
          </a:prstGeom>
          <a:solidFill>
            <a:srgbClr val="4f81bd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January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0"/>
          <p:cNvSpPr/>
          <p:nvPr/>
        </p:nvSpPr>
        <p:spPr>
          <a:xfrm>
            <a:off x="8783640" y="73897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6" descr="http://www.swpc.noaa.gov/ftpdir/plots/xray/20120125_xray.gif"/>
          <p:cNvPicPr/>
          <p:nvPr/>
        </p:nvPicPr>
        <p:blipFill>
          <a:blip r:embed="rId2"/>
          <a:srcRect l="1341" t="0" r="0" b="0"/>
          <a:stretch/>
        </p:blipFill>
        <p:spPr>
          <a:xfrm>
            <a:off x="165240" y="3657600"/>
            <a:ext cx="3019320" cy="29257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8" descr="http://www.swpc.noaa.gov/ftpdir/plots/xray/20120128_xray.gif"/>
          <p:cNvPicPr/>
          <p:nvPr/>
        </p:nvPicPr>
        <p:blipFill>
          <a:blip r:embed="rId3"/>
          <a:srcRect l="10849" t="0" r="0" b="0"/>
          <a:stretch/>
        </p:blipFill>
        <p:spPr>
          <a:xfrm>
            <a:off x="2808360" y="3664080"/>
            <a:ext cx="2693880" cy="2925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0" descr="http://www.swpc.noaa.gov/ftpdir/plots/xray/20120131_xray.gif"/>
          <p:cNvPicPr/>
          <p:nvPr/>
        </p:nvPicPr>
        <p:blipFill>
          <a:blip r:embed="rId4"/>
          <a:srcRect l="11114" t="0" r="2811" b="0"/>
          <a:stretch/>
        </p:blipFill>
        <p:spPr>
          <a:xfrm>
            <a:off x="5121360" y="3666960"/>
            <a:ext cx="2566800" cy="2927520"/>
          </a:xfrm>
          <a:prstGeom prst="rect">
            <a:avLst/>
          </a:prstGeom>
          <a:ln w="0">
            <a:noFill/>
          </a:ln>
        </p:spPr>
      </p:pic>
      <p:sp>
        <p:nvSpPr>
          <p:cNvPr id="441" name="Straight Connector 77"/>
          <p:cNvSpPr/>
          <p:nvPr/>
        </p:nvSpPr>
        <p:spPr>
          <a:xfrm flipH="1">
            <a:off x="515520" y="4889520"/>
            <a:ext cx="6885000" cy="3240"/>
          </a:xfrm>
          <a:prstGeom prst="line">
            <a:avLst/>
          </a:prstGeom>
          <a:ln w="25560">
            <a:solidFill>
              <a:srgbClr val="5a9f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78"/>
          <p:cNvSpPr/>
          <p:nvPr/>
        </p:nvSpPr>
        <p:spPr>
          <a:xfrm flipH="1">
            <a:off x="525600" y="4656240"/>
            <a:ext cx="6875280" cy="792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79"/>
          <p:cNvSpPr/>
          <p:nvPr/>
        </p:nvSpPr>
        <p:spPr>
          <a:xfrm flipH="1" flipV="1">
            <a:off x="515880" y="4545000"/>
            <a:ext cx="6888240" cy="9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80"/>
          <p:cNvSpPr/>
          <p:nvPr/>
        </p:nvSpPr>
        <p:spPr>
          <a:xfrm>
            <a:off x="7694280" y="47214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9fde"/>
                </a:solidFill>
                <a:latin typeface="Calibri"/>
              </a:rPr>
              <a:t>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37"/>
          <p:cNvSpPr/>
          <p:nvPr/>
        </p:nvSpPr>
        <p:spPr>
          <a:xfrm>
            <a:off x="7687800" y="447660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Calibri"/>
              </a:rPr>
              <a:t>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38"/>
          <p:cNvSpPr/>
          <p:nvPr/>
        </p:nvSpPr>
        <p:spPr>
          <a:xfrm>
            <a:off x="7689600" y="432900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Calibri"/>
              </a:rPr>
              <a:t>R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3"/>
          <p:cNvSpPr/>
          <p:nvPr/>
        </p:nvSpPr>
        <p:spPr>
          <a:xfrm>
            <a:off x="6843600" y="40305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84"/>
          <p:cNvSpPr/>
          <p:nvPr/>
        </p:nvSpPr>
        <p:spPr>
          <a:xfrm>
            <a:off x="6823080" y="4030560"/>
            <a:ext cx="1857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86"/>
          <p:cNvSpPr/>
          <p:nvPr/>
        </p:nvSpPr>
        <p:spPr>
          <a:xfrm>
            <a:off x="6838920" y="4373640"/>
            <a:ext cx="173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88"/>
          <p:cNvSpPr/>
          <p:nvPr/>
        </p:nvSpPr>
        <p:spPr>
          <a:xfrm flipH="1">
            <a:off x="522000" y="4219560"/>
            <a:ext cx="6878520" cy="324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89"/>
          <p:cNvSpPr/>
          <p:nvPr/>
        </p:nvSpPr>
        <p:spPr>
          <a:xfrm flipH="1">
            <a:off x="528480" y="4118040"/>
            <a:ext cx="6880320" cy="3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8"/>
          <p:cNvSpPr/>
          <p:nvPr/>
        </p:nvSpPr>
        <p:spPr>
          <a:xfrm>
            <a:off x="7694280" y="407844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000"/>
                </a:solidFill>
                <a:latin typeface="Calibri"/>
              </a:rPr>
              <a:t>R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38"/>
          <p:cNvSpPr/>
          <p:nvPr/>
        </p:nvSpPr>
        <p:spPr>
          <a:xfrm>
            <a:off x="7694280" y="3935520"/>
            <a:ext cx="31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R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98"/>
          <p:cNvSpPr/>
          <p:nvPr/>
        </p:nvSpPr>
        <p:spPr>
          <a:xfrm>
            <a:off x="7689960" y="2066760"/>
            <a:ext cx="3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a9fde"/>
                </a:solidFill>
                <a:latin typeface="Calibri"/>
              </a:rPr>
              <a:t>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1"/>
          <p:cNvSpPr/>
          <p:nvPr/>
        </p:nvSpPr>
        <p:spPr>
          <a:xfrm>
            <a:off x="7681680" y="1806480"/>
            <a:ext cx="3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Calibri"/>
              </a:rPr>
              <a:t>G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2"/>
          <p:cNvSpPr/>
          <p:nvPr/>
        </p:nvSpPr>
        <p:spPr>
          <a:xfrm>
            <a:off x="7689960" y="1542960"/>
            <a:ext cx="3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Calibri"/>
              </a:rPr>
              <a:t>G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3"/>
          <p:cNvSpPr/>
          <p:nvPr/>
        </p:nvSpPr>
        <p:spPr>
          <a:xfrm>
            <a:off x="7689960" y="1308240"/>
            <a:ext cx="3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000"/>
                </a:solidFill>
                <a:latin typeface="Calibri"/>
              </a:rPr>
              <a:t>G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7686000" y="1025640"/>
            <a:ext cx="3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G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4" descr="http://www.swpc.noaa.gov/ftpdir/warehouse/2012/2012_plots/kp/20120128_kp.gif"/>
          <p:cNvPicPr/>
          <p:nvPr/>
        </p:nvPicPr>
        <p:blipFill>
          <a:blip r:embed="rId5"/>
          <a:srcRect l="8717" t="0" r="0" b="0"/>
          <a:stretch/>
        </p:blipFill>
        <p:spPr>
          <a:xfrm>
            <a:off x="2814480" y="968400"/>
            <a:ext cx="2671920" cy="2925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6" descr="http://www.swpc.noaa.gov/ftpdir/warehouse/2012/2012_plots/kp/20120131_kp.gif"/>
          <p:cNvPicPr/>
          <p:nvPr/>
        </p:nvPicPr>
        <p:blipFill>
          <a:blip r:embed="rId6"/>
          <a:srcRect l="8362" t="0" r="2150" b="0"/>
          <a:stretch/>
        </p:blipFill>
        <p:spPr>
          <a:xfrm>
            <a:off x="5116680" y="968400"/>
            <a:ext cx="256824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Straight Connector 67"/>
          <p:cNvSpPr/>
          <p:nvPr/>
        </p:nvSpPr>
        <p:spPr>
          <a:xfrm flipH="1">
            <a:off x="441360" y="2216160"/>
            <a:ext cx="6950160" cy="12600"/>
          </a:xfrm>
          <a:prstGeom prst="line">
            <a:avLst/>
          </a:prstGeom>
          <a:ln w="25560">
            <a:solidFill>
              <a:srgbClr val="5a9f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69"/>
          <p:cNvSpPr/>
          <p:nvPr/>
        </p:nvSpPr>
        <p:spPr>
          <a:xfrm flipH="1" flipV="1">
            <a:off x="465120" y="1963440"/>
            <a:ext cx="6926400" cy="1260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68"/>
          <p:cNvSpPr/>
          <p:nvPr/>
        </p:nvSpPr>
        <p:spPr>
          <a:xfrm flipH="1">
            <a:off x="445680" y="1700280"/>
            <a:ext cx="6945480" cy="9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04"/>
          <p:cNvSpPr/>
          <p:nvPr/>
        </p:nvSpPr>
        <p:spPr>
          <a:xfrm flipH="1" flipV="1">
            <a:off x="428400" y="1452600"/>
            <a:ext cx="6962760" cy="64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103"/>
          <p:cNvSpPr/>
          <p:nvPr/>
        </p:nvSpPr>
        <p:spPr>
          <a:xfrm flipH="1">
            <a:off x="445680" y="1192320"/>
            <a:ext cx="6945480" cy="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7"/>
          <p:cNvGrpSpPr/>
          <p:nvPr/>
        </p:nvGrpSpPr>
        <p:grpSpPr>
          <a:xfrm>
            <a:off x="914400" y="1219320"/>
            <a:ext cx="5943600" cy="4754520"/>
            <a:chOff x="914400" y="1219320"/>
            <a:chExt cx="5943600" cy="4754520"/>
          </a:xfrm>
        </p:grpSpPr>
        <p:pic>
          <p:nvPicPr>
            <p:cNvPr id="467" name="Picture 34" descr=""/>
            <p:cNvPicPr/>
            <p:nvPr/>
          </p:nvPicPr>
          <p:blipFill>
            <a:blip r:embed="rId7"/>
            <a:stretch/>
          </p:blipFill>
          <p:spPr>
            <a:xfrm>
              <a:off x="914400" y="1219320"/>
              <a:ext cx="5943600" cy="47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36" descr=""/>
            <p:cNvPicPr/>
            <p:nvPr/>
          </p:nvPicPr>
          <p:blipFill>
            <a:blip r:embed="rId8"/>
            <a:stretch/>
          </p:blipFill>
          <p:spPr>
            <a:xfrm>
              <a:off x="990360" y="3733920"/>
              <a:ext cx="3429000" cy="2108520"/>
            </a:xfrm>
            <a:prstGeom prst="rect">
              <a:avLst/>
            </a:prstGeom>
            <a:ln w="41400">
              <a:solidFill>
                <a:srgbClr val="ffff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22:18:47Z</dcterms:created>
  <dc:creator>william.murtagh</dc:creator>
  <dc:description/>
  <dc:language>en-US</dc:language>
  <cp:lastModifiedBy>Joseph Kunches</cp:lastModifiedBy>
  <dcterms:modified xsi:type="dcterms:W3CDTF">2012-06-04T16:52:20Z</dcterms:modified>
  <cp:revision>22</cp:revision>
  <dc:subject/>
  <dc:title>Slide 1</dc:title>
</cp:coreProperties>
</file>