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EA5B-57C0-45F9-A7EA-3210D796FDD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7C7-FB25-4F95-8363-C15FAB7143DD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6C28-D34F-43A0-A0CC-3DFCECF36B0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15B-4198-45E3-B0FD-19CF172317AA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obert Fiege, Manager Area Control Centre Operations,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411-DDCA-43ED-9334-CDB1ED7A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057-BE0A-46A9-962A-0E7C4895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DCD-D264-4477-A3F7-5E1E76A1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D74-AD39-4101-AD13-B6640AA5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FCDDD-B39A-424E-B657-41F11C20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4A754-7922-4B28-82AB-BC6B9B5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F8B23-5FDA-4C6F-9044-80030249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ABBE6-5B8A-49CD-AD82-1FFBDD53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59F4-D52C-4B89-B05E-6CEB3022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825C2-ED35-4124-BEB0-7B693528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C3560-4666-477E-8C7E-D6C952C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E99-ADF9-4A23-85A2-8C7C2E1E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8B742-62A3-46CB-9454-826F2C4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02B1A-E051-480D-82D4-B750E38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2034E-AFEA-4522-9322-7DC5F167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AE7F3-6AB5-496C-A441-EE93AC6B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742CC-92D7-447F-B548-25FEBCA6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604-2293-444D-82D6-52B16BE8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913-FFCC-4E73-BDE0-0B6B220F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CC8-39D1-4E67-8126-8DFDE9EF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D7F-5434-46F5-B17F-6FEFB15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E87-6D69-40E5-90B5-3DDA3830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19A-0A86-4CA0-972C-636EFE14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FE1-10DA-48FD-AAC4-D84CDAB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DB9D-31BC-426B-925B-8FAC6C6FD1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D7CC-8DBB-4BED-9B59-50C74271F529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AV_PPT-med_title-e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ZEG-ACC-200105-01 crop640"/>
          <p:cNvPicPr/>
          <p:nvPr/>
        </p:nvPicPr>
        <p:blipFill>
          <a:blip r:embed="rId2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ZEG-ACC-200105-07 640"/>
          <p:cNvPicPr/>
          <p:nvPr/>
        </p:nvPicPr>
        <p:blipFill>
          <a:blip r:embed="rId3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RW_2874a 640"/>
          <p:cNvPicPr/>
          <p:nvPr/>
        </p:nvPicPr>
        <p:blipFill>
          <a:blip r:embed="rId4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RW_2881a 640"/>
          <p:cNvPicPr/>
          <p:nvPr/>
        </p:nvPicPr>
        <p:blipFill>
          <a:blip r:embed="rId5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395280" y="1341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Edmonton ACC Airspace Amalgamation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ykjavik,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Lýðveldið Ís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une 19-22, 201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yon Carl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CC North High &amp; Shield Supervisor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airspace"/>
          <p:cNvPicPr/>
          <p:nvPr/>
        </p:nvPicPr>
        <p:blipFill>
          <a:blip r:embed="rId1"/>
          <a:stretch/>
        </p:blipFill>
        <p:spPr>
          <a:xfrm>
            <a:off x="1974960" y="247680"/>
            <a:ext cx="4660920" cy="437976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3"/>
          <p:cNvSpPr/>
          <p:nvPr/>
        </p:nvSpPr>
        <p:spPr>
          <a:xfrm>
            <a:off x="3714840" y="485640"/>
            <a:ext cx="745920" cy="4152960"/>
          </a:xfrm>
          <a:custGeom>
            <a:avLst/>
            <a:gdLst/>
            <a:ahLst/>
            <a:rect l="l" t="t" r="r" b="b"/>
            <a:pathLst>
              <a:path w="470" h="2616">
                <a:moveTo>
                  <a:pt x="470" y="2616"/>
                </a:moveTo>
                <a:cubicBezTo>
                  <a:pt x="421" y="2473"/>
                  <a:pt x="275" y="2063"/>
                  <a:pt x="234" y="1932"/>
                </a:cubicBezTo>
                <a:lnTo>
                  <a:pt x="222" y="1830"/>
                </a:lnTo>
                <a:cubicBezTo>
                  <a:pt x="219" y="1808"/>
                  <a:pt x="218" y="1786"/>
                  <a:pt x="216" y="1764"/>
                </a:cubicBezTo>
                <a:cubicBezTo>
                  <a:pt x="214" y="1748"/>
                  <a:pt x="211" y="1732"/>
                  <a:pt x="210" y="1716"/>
                </a:cubicBezTo>
                <a:cubicBezTo>
                  <a:pt x="207" y="1686"/>
                  <a:pt x="206" y="1656"/>
                  <a:pt x="204" y="1626"/>
                </a:cubicBezTo>
                <a:cubicBezTo>
                  <a:pt x="202" y="1608"/>
                  <a:pt x="202" y="1606"/>
                  <a:pt x="198" y="1572"/>
                </a:cubicBezTo>
                <a:cubicBezTo>
                  <a:pt x="194" y="1538"/>
                  <a:pt x="184" y="1461"/>
                  <a:pt x="180" y="1422"/>
                </a:cubicBezTo>
                <a:cubicBezTo>
                  <a:pt x="176" y="1383"/>
                  <a:pt x="177" y="1371"/>
                  <a:pt x="174" y="1338"/>
                </a:cubicBezTo>
                <a:cubicBezTo>
                  <a:pt x="171" y="1305"/>
                  <a:pt x="165" y="1250"/>
                  <a:pt x="162" y="1224"/>
                </a:cubicBezTo>
                <a:cubicBezTo>
                  <a:pt x="159" y="1198"/>
                  <a:pt x="158" y="1196"/>
                  <a:pt x="156" y="1182"/>
                </a:cubicBezTo>
                <a:cubicBezTo>
                  <a:pt x="154" y="1162"/>
                  <a:pt x="153" y="1142"/>
                  <a:pt x="150" y="1122"/>
                </a:cubicBezTo>
                <a:cubicBezTo>
                  <a:pt x="149" y="1112"/>
                  <a:pt x="147" y="1110"/>
                  <a:pt x="144" y="1092"/>
                </a:cubicBezTo>
                <a:cubicBezTo>
                  <a:pt x="141" y="1074"/>
                  <a:pt x="140" y="1067"/>
                  <a:pt x="132" y="1014"/>
                </a:cubicBezTo>
                <a:cubicBezTo>
                  <a:pt x="124" y="961"/>
                  <a:pt x="104" y="830"/>
                  <a:pt x="96" y="774"/>
                </a:cubicBezTo>
                <a:cubicBezTo>
                  <a:pt x="88" y="718"/>
                  <a:pt x="87" y="699"/>
                  <a:pt x="84" y="678"/>
                </a:cubicBezTo>
                <a:cubicBezTo>
                  <a:pt x="81" y="657"/>
                  <a:pt x="80" y="658"/>
                  <a:pt x="78" y="648"/>
                </a:cubicBezTo>
                <a:cubicBezTo>
                  <a:pt x="74" y="619"/>
                  <a:pt x="73" y="612"/>
                  <a:pt x="60" y="504"/>
                </a:cubicBezTo>
                <a:cubicBezTo>
                  <a:pt x="47" y="396"/>
                  <a:pt x="13" y="105"/>
                  <a:pt x="0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Freeform 4"/>
          <p:cNvSpPr/>
          <p:nvPr/>
        </p:nvSpPr>
        <p:spPr>
          <a:xfrm>
            <a:off x="4356000" y="457200"/>
            <a:ext cx="352440" cy="4172040"/>
          </a:xfrm>
          <a:custGeom>
            <a:avLst/>
            <a:gdLst/>
            <a:ahLst/>
            <a:rect l="l" t="t" r="r" b="b"/>
            <a:pathLst>
              <a:path w="352425" h="4171950">
                <a:moveTo>
                  <a:pt x="352425" y="4171950"/>
                </a:moveTo>
                <a:cubicBezTo>
                  <a:pt x="351102" y="4056195"/>
                  <a:pt x="347133" y="3780367"/>
                  <a:pt x="346075" y="3616325"/>
                </a:cubicBezTo>
                <a:cubicBezTo>
                  <a:pt x="345017" y="3452283"/>
                  <a:pt x="349250" y="3286125"/>
                  <a:pt x="346075" y="3187700"/>
                </a:cubicBezTo>
                <a:cubicBezTo>
                  <a:pt x="342900" y="3089275"/>
                  <a:pt x="339178" y="3129077"/>
                  <a:pt x="327025" y="3025775"/>
                </a:cubicBezTo>
                <a:cubicBezTo>
                  <a:pt x="322927" y="2990946"/>
                  <a:pt x="321171" y="2955876"/>
                  <a:pt x="317500" y="2921000"/>
                </a:cubicBezTo>
                <a:cubicBezTo>
                  <a:pt x="314820" y="2895543"/>
                  <a:pt x="314325" y="2917825"/>
                  <a:pt x="307975" y="2844800"/>
                </a:cubicBezTo>
                <a:cubicBezTo>
                  <a:pt x="301625" y="2771775"/>
                  <a:pt x="284162" y="2684462"/>
                  <a:pt x="279400" y="2482850"/>
                </a:cubicBezTo>
                <a:cubicBezTo>
                  <a:pt x="274638" y="2281238"/>
                  <a:pt x="291571" y="1875367"/>
                  <a:pt x="279400" y="1635125"/>
                </a:cubicBezTo>
                <a:cubicBezTo>
                  <a:pt x="267229" y="1394883"/>
                  <a:pt x="223837" y="1189037"/>
                  <a:pt x="206375" y="1041400"/>
                </a:cubicBezTo>
                <a:cubicBezTo>
                  <a:pt x="188913" y="893763"/>
                  <a:pt x="209021" y="922867"/>
                  <a:pt x="174625" y="749300"/>
                </a:cubicBezTo>
                <a:cubicBezTo>
                  <a:pt x="140229" y="575733"/>
                  <a:pt x="4630" y="156104"/>
                  <a:pt x="0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4417920" y="431640"/>
            <a:ext cx="1376280" cy="4216680"/>
          </a:xfrm>
          <a:custGeom>
            <a:avLst/>
            <a:gdLst/>
            <a:ahLst/>
            <a:rect l="l" t="t" r="r" b="b"/>
            <a:pathLst>
              <a:path w="1375036" h="4216400">
                <a:moveTo>
                  <a:pt x="1375036" y="4216400"/>
                </a:moveTo>
                <a:cubicBezTo>
                  <a:pt x="1328734" y="3892286"/>
                  <a:pt x="1187182" y="2925233"/>
                  <a:pt x="1133736" y="2584450"/>
                </a:cubicBezTo>
                <a:cubicBezTo>
                  <a:pt x="1080290" y="2243667"/>
                  <a:pt x="1082936" y="2316162"/>
                  <a:pt x="1054361" y="2171700"/>
                </a:cubicBezTo>
                <a:cubicBezTo>
                  <a:pt x="1025786" y="2027238"/>
                  <a:pt x="1001444" y="1886479"/>
                  <a:pt x="962286" y="1717675"/>
                </a:cubicBezTo>
                <a:cubicBezTo>
                  <a:pt x="923128" y="1548871"/>
                  <a:pt x="880794" y="1319212"/>
                  <a:pt x="819411" y="1158875"/>
                </a:cubicBezTo>
                <a:cubicBezTo>
                  <a:pt x="758028" y="998538"/>
                  <a:pt x="690823" y="895879"/>
                  <a:pt x="593986" y="755650"/>
                </a:cubicBezTo>
                <a:cubicBezTo>
                  <a:pt x="497149" y="615421"/>
                  <a:pt x="337340" y="443442"/>
                  <a:pt x="238386" y="317500"/>
                </a:cubicBezTo>
                <a:cubicBezTo>
                  <a:pt x="139432" y="191558"/>
                  <a:pt x="-7015" y="35719"/>
                  <a:pt x="261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4438800" y="546120"/>
            <a:ext cx="860400" cy="4092480"/>
          </a:xfrm>
          <a:custGeom>
            <a:avLst/>
            <a:gdLst/>
            <a:ahLst/>
            <a:rect l="l" t="t" r="r" b="b"/>
            <a:pathLst>
              <a:path w="860425" h="4057650">
                <a:moveTo>
                  <a:pt x="860425" y="4057650"/>
                </a:moveTo>
                <a:cubicBezTo>
                  <a:pt x="852488" y="3887655"/>
                  <a:pt x="824971" y="3315229"/>
                  <a:pt x="815975" y="3095625"/>
                </a:cubicBezTo>
                <a:cubicBezTo>
                  <a:pt x="806979" y="2876021"/>
                  <a:pt x="822325" y="2899304"/>
                  <a:pt x="806450" y="2740025"/>
                </a:cubicBezTo>
                <a:cubicBezTo>
                  <a:pt x="790575" y="2580746"/>
                  <a:pt x="760942" y="2320925"/>
                  <a:pt x="720725" y="2139950"/>
                </a:cubicBezTo>
                <a:cubicBezTo>
                  <a:pt x="680508" y="1958975"/>
                  <a:pt x="628650" y="1876425"/>
                  <a:pt x="565150" y="1654175"/>
                </a:cubicBezTo>
                <a:cubicBezTo>
                  <a:pt x="501650" y="1431925"/>
                  <a:pt x="433917" y="1082146"/>
                  <a:pt x="339725" y="806450"/>
                </a:cubicBezTo>
                <a:cubicBezTo>
                  <a:pt x="245533" y="530754"/>
                  <a:pt x="4630" y="156104"/>
                  <a:pt x="0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Freeform 7"/>
          <p:cNvSpPr/>
          <p:nvPr/>
        </p:nvSpPr>
        <p:spPr>
          <a:xfrm>
            <a:off x="3321000" y="539640"/>
            <a:ext cx="2546280" cy="4083120"/>
          </a:xfrm>
          <a:custGeom>
            <a:avLst/>
            <a:gdLst/>
            <a:ahLst/>
            <a:rect l="l" t="t" r="r" b="b"/>
            <a:pathLst>
              <a:path w="2546350" h="4083050">
                <a:moveTo>
                  <a:pt x="2546350" y="4083050"/>
                </a:moveTo>
                <a:cubicBezTo>
                  <a:pt x="2526506" y="4036748"/>
                  <a:pt x="2488142" y="3945467"/>
                  <a:pt x="2451100" y="3860800"/>
                </a:cubicBezTo>
                <a:cubicBezTo>
                  <a:pt x="2414058" y="3776133"/>
                  <a:pt x="2364317" y="3660775"/>
                  <a:pt x="2324100" y="3575050"/>
                </a:cubicBezTo>
                <a:cubicBezTo>
                  <a:pt x="2283883" y="3489325"/>
                  <a:pt x="2242608" y="3412067"/>
                  <a:pt x="2209800" y="3346450"/>
                </a:cubicBezTo>
                <a:cubicBezTo>
                  <a:pt x="2176992" y="3280833"/>
                  <a:pt x="2157942" y="3233208"/>
                  <a:pt x="2127250" y="3181350"/>
                </a:cubicBezTo>
                <a:cubicBezTo>
                  <a:pt x="2096558" y="3129492"/>
                  <a:pt x="2060575" y="3082925"/>
                  <a:pt x="2025650" y="3035300"/>
                </a:cubicBezTo>
                <a:cubicBezTo>
                  <a:pt x="1990725" y="2987675"/>
                  <a:pt x="1951567" y="2940050"/>
                  <a:pt x="1917700" y="2895600"/>
                </a:cubicBezTo>
                <a:cubicBezTo>
                  <a:pt x="1883833" y="2851150"/>
                  <a:pt x="1857375" y="2819400"/>
                  <a:pt x="1822450" y="2768600"/>
                </a:cubicBezTo>
                <a:cubicBezTo>
                  <a:pt x="1787525" y="2717800"/>
                  <a:pt x="1736725" y="2634192"/>
                  <a:pt x="1708150" y="2590800"/>
                </a:cubicBezTo>
                <a:cubicBezTo>
                  <a:pt x="1679575" y="2547408"/>
                  <a:pt x="1664758" y="2528358"/>
                  <a:pt x="1651000" y="2508250"/>
                </a:cubicBezTo>
                <a:cubicBezTo>
                  <a:pt x="1637242" y="2488142"/>
                  <a:pt x="1641475" y="2494492"/>
                  <a:pt x="1625600" y="2470150"/>
                </a:cubicBezTo>
                <a:cubicBezTo>
                  <a:pt x="1609725" y="2445808"/>
                  <a:pt x="1582208" y="2401358"/>
                  <a:pt x="1555750" y="2362200"/>
                </a:cubicBezTo>
                <a:cubicBezTo>
                  <a:pt x="1529292" y="2323042"/>
                  <a:pt x="1502833" y="2287058"/>
                  <a:pt x="1466850" y="2235200"/>
                </a:cubicBezTo>
                <a:cubicBezTo>
                  <a:pt x="1430867" y="2183342"/>
                  <a:pt x="1369483" y="2092325"/>
                  <a:pt x="1339850" y="2051050"/>
                </a:cubicBezTo>
                <a:cubicBezTo>
                  <a:pt x="1310217" y="2009775"/>
                  <a:pt x="1320800" y="2025650"/>
                  <a:pt x="1289050" y="1987550"/>
                </a:cubicBezTo>
                <a:cubicBezTo>
                  <a:pt x="1257300" y="1949450"/>
                  <a:pt x="1192742" y="1880658"/>
                  <a:pt x="1149350" y="1822450"/>
                </a:cubicBezTo>
                <a:cubicBezTo>
                  <a:pt x="1105958" y="1764242"/>
                  <a:pt x="1065742" y="1695450"/>
                  <a:pt x="1028700" y="1638300"/>
                </a:cubicBezTo>
                <a:cubicBezTo>
                  <a:pt x="991658" y="1581150"/>
                  <a:pt x="971550" y="1555750"/>
                  <a:pt x="927100" y="1479550"/>
                </a:cubicBezTo>
                <a:cubicBezTo>
                  <a:pt x="882650" y="1403350"/>
                  <a:pt x="831850" y="1321858"/>
                  <a:pt x="762000" y="1181100"/>
                </a:cubicBezTo>
                <a:cubicBezTo>
                  <a:pt x="692150" y="1040342"/>
                  <a:pt x="635000" y="831850"/>
                  <a:pt x="508000" y="635000"/>
                </a:cubicBezTo>
                <a:cubicBezTo>
                  <a:pt x="381000" y="438150"/>
                  <a:pt x="105833" y="132292"/>
                  <a:pt x="0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59" name="Straight Arrow Connector 9"/>
          <p:cNvCxnSpPr/>
          <p:nvPr/>
        </p:nvCxnSpPr>
        <p:spPr>
          <a:xfrm flipH="1" flipV="1">
            <a:off x="2268000" y="1628280"/>
            <a:ext cx="2666160" cy="30823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13"/>
          <p:cNvCxnSpPr/>
          <p:nvPr/>
        </p:nvCxnSpPr>
        <p:spPr>
          <a:xfrm flipH="1" flipV="1">
            <a:off x="3131280" y="545400"/>
            <a:ext cx="2088360" cy="41029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21"/>
          <p:cNvCxnSpPr/>
          <p:nvPr/>
        </p:nvCxnSpPr>
        <p:spPr>
          <a:xfrm flipV="1">
            <a:off x="2555640" y="2276280"/>
            <a:ext cx="3601080" cy="1513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22"/>
          <p:cNvCxnSpPr/>
          <p:nvPr/>
        </p:nvCxnSpPr>
        <p:spPr>
          <a:xfrm flipV="1">
            <a:off x="2707920" y="3364920"/>
            <a:ext cx="2880360" cy="64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23"/>
          <p:cNvCxnSpPr/>
          <p:nvPr/>
        </p:nvCxnSpPr>
        <p:spPr>
          <a:xfrm flipV="1">
            <a:off x="3059280" y="2520360"/>
            <a:ext cx="3250080" cy="1772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27"/>
          <p:cNvCxnSpPr/>
          <p:nvPr/>
        </p:nvCxnSpPr>
        <p:spPr>
          <a:xfrm flipV="1">
            <a:off x="2916360" y="2348640"/>
            <a:ext cx="3302640" cy="1872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Freeform 5"/>
          <p:cNvSpPr/>
          <p:nvPr/>
        </p:nvSpPr>
        <p:spPr>
          <a:xfrm>
            <a:off x="2556000" y="1679400"/>
            <a:ext cx="1380960" cy="1908360"/>
          </a:xfrm>
          <a:custGeom>
            <a:avLst/>
            <a:gdLst/>
            <a:ahLst/>
            <a:rect l="l" t="t" r="r" b="b"/>
            <a:pathLst>
              <a:path w="870" h="1202">
                <a:moveTo>
                  <a:pt x="326" y="0"/>
                </a:moveTo>
                <a:lnTo>
                  <a:pt x="90" y="139"/>
                </a:lnTo>
                <a:lnTo>
                  <a:pt x="0" y="275"/>
                </a:lnTo>
                <a:lnTo>
                  <a:pt x="45" y="411"/>
                </a:lnTo>
                <a:lnTo>
                  <a:pt x="0" y="592"/>
                </a:lnTo>
                <a:lnTo>
                  <a:pt x="181" y="864"/>
                </a:lnTo>
                <a:lnTo>
                  <a:pt x="181" y="1001"/>
                </a:lnTo>
                <a:lnTo>
                  <a:pt x="408" y="955"/>
                </a:lnTo>
                <a:lnTo>
                  <a:pt x="406" y="1114"/>
                </a:lnTo>
                <a:lnTo>
                  <a:pt x="470" y="1158"/>
                </a:lnTo>
                <a:lnTo>
                  <a:pt x="590" y="1202"/>
                </a:lnTo>
                <a:lnTo>
                  <a:pt x="870" y="1106"/>
                </a:lnTo>
                <a:lnTo>
                  <a:pt x="559" y="571"/>
                </a:lnTo>
                <a:lnTo>
                  <a:pt x="634" y="450"/>
                </a:lnTo>
                <a:lnTo>
                  <a:pt x="326" y="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Freeform 6"/>
          <p:cNvSpPr/>
          <p:nvPr/>
        </p:nvSpPr>
        <p:spPr>
          <a:xfrm>
            <a:off x="3492360" y="3429000"/>
            <a:ext cx="1152720" cy="795240"/>
          </a:xfrm>
          <a:custGeom>
            <a:avLst/>
            <a:gdLst/>
            <a:ahLst/>
            <a:rect l="l" t="t" r="r" b="b"/>
            <a:pathLst>
              <a:path w="726" h="501">
                <a:moveTo>
                  <a:pt x="454" y="2"/>
                </a:moveTo>
                <a:lnTo>
                  <a:pt x="718" y="321"/>
                </a:lnTo>
                <a:lnTo>
                  <a:pt x="726" y="365"/>
                </a:lnTo>
                <a:lnTo>
                  <a:pt x="499" y="501"/>
                </a:lnTo>
                <a:lnTo>
                  <a:pt x="331" y="423"/>
                </a:lnTo>
                <a:lnTo>
                  <a:pt x="250" y="423"/>
                </a:lnTo>
                <a:lnTo>
                  <a:pt x="91" y="138"/>
                </a:lnTo>
                <a:lnTo>
                  <a:pt x="31" y="159"/>
                </a:lnTo>
                <a:lnTo>
                  <a:pt x="0" y="93"/>
                </a:lnTo>
                <a:lnTo>
                  <a:pt x="277" y="0"/>
                </a:lnTo>
                <a:lnTo>
                  <a:pt x="318" y="48"/>
                </a:lnTo>
                <a:lnTo>
                  <a:pt x="454" y="2"/>
                </a:lnTo>
                <a:close/>
              </a:path>
            </a:pathLst>
          </a:custGeom>
          <a:solidFill>
            <a:srgbClr val="0000ff">
              <a:alpha val="2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4305240" y="3716280"/>
            <a:ext cx="1008000" cy="863640"/>
          </a:xfrm>
          <a:custGeom>
            <a:avLst/>
            <a:gdLst/>
            <a:ahLst/>
            <a:rect l="l" t="t" r="r" b="b"/>
            <a:pathLst>
              <a:path w="635" h="544">
                <a:moveTo>
                  <a:pt x="227" y="136"/>
                </a:moveTo>
                <a:lnTo>
                  <a:pt x="499" y="136"/>
                </a:lnTo>
                <a:lnTo>
                  <a:pt x="635" y="0"/>
                </a:lnTo>
                <a:lnTo>
                  <a:pt x="635" y="317"/>
                </a:lnTo>
                <a:lnTo>
                  <a:pt x="454" y="544"/>
                </a:lnTo>
                <a:lnTo>
                  <a:pt x="0" y="317"/>
                </a:lnTo>
                <a:lnTo>
                  <a:pt x="227" y="181"/>
                </a:lnTo>
                <a:lnTo>
                  <a:pt x="227" y="136"/>
                </a:lnTo>
                <a:close/>
              </a:path>
            </a:pathLst>
          </a:custGeom>
          <a:solidFill>
            <a:srgbClr val="0000ff">
              <a:alpha val="2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Freeform 17"/>
          <p:cNvSpPr/>
          <p:nvPr/>
        </p:nvSpPr>
        <p:spPr>
          <a:xfrm>
            <a:off x="4211640" y="3213000"/>
            <a:ext cx="1079640" cy="727200"/>
          </a:xfrm>
          <a:custGeom>
            <a:avLst/>
            <a:gdLst/>
            <a:ahLst/>
            <a:rect l="l" t="t" r="r" b="b"/>
            <a:pathLst>
              <a:path w="680" h="458">
                <a:moveTo>
                  <a:pt x="366" y="6"/>
                </a:moveTo>
                <a:cubicBezTo>
                  <a:pt x="404" y="14"/>
                  <a:pt x="447" y="3"/>
                  <a:pt x="486" y="0"/>
                </a:cubicBezTo>
                <a:cubicBezTo>
                  <a:pt x="542" y="3"/>
                  <a:pt x="594" y="3"/>
                  <a:pt x="651" y="3"/>
                </a:cubicBezTo>
                <a:lnTo>
                  <a:pt x="680" y="322"/>
                </a:lnTo>
                <a:lnTo>
                  <a:pt x="544" y="458"/>
                </a:lnTo>
                <a:lnTo>
                  <a:pt x="272" y="458"/>
                </a:lnTo>
                <a:lnTo>
                  <a:pt x="0" y="140"/>
                </a:lnTo>
                <a:lnTo>
                  <a:pt x="366" y="6"/>
                </a:lnTo>
                <a:close/>
              </a:path>
            </a:pathLst>
          </a:custGeom>
          <a:solidFill>
            <a:srgbClr val="ff6600">
              <a:alpha val="2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35"/>
          <p:cNvSpPr/>
          <p:nvPr/>
        </p:nvSpPr>
        <p:spPr>
          <a:xfrm>
            <a:off x="1116000" y="472428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Examples of harmonized traffic planning and managemen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NAT – harmonized planning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vs. fragmented planning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PAC &amp; Polar: harmonized planning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vs. fragmented planning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0" name="Straight Arrow Connector 36"/>
          <p:cNvCxnSpPr/>
          <p:nvPr/>
        </p:nvCxnSpPr>
        <p:spPr>
          <a:xfrm flipV="1">
            <a:off x="2195640" y="1784160"/>
            <a:ext cx="3599280" cy="1792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Freeform 25"/>
          <p:cNvSpPr/>
          <p:nvPr/>
        </p:nvSpPr>
        <p:spPr>
          <a:xfrm>
            <a:off x="3562200" y="2209680"/>
            <a:ext cx="2463840" cy="2178000"/>
          </a:xfrm>
          <a:custGeom>
            <a:avLst/>
            <a:gdLst/>
            <a:ahLst/>
            <a:rect l="l" t="t" r="r" b="b"/>
            <a:pathLst>
              <a:path w="1552" h="1372">
                <a:moveTo>
                  <a:pt x="0" y="1372"/>
                </a:moveTo>
                <a:cubicBezTo>
                  <a:pt x="5" y="1350"/>
                  <a:pt x="13" y="1325"/>
                  <a:pt x="32" y="1312"/>
                </a:cubicBezTo>
                <a:cubicBezTo>
                  <a:pt x="49" y="1291"/>
                  <a:pt x="77" y="1272"/>
                  <a:pt x="104" y="1248"/>
                </a:cubicBezTo>
                <a:cubicBezTo>
                  <a:pt x="120" y="1223"/>
                  <a:pt x="171" y="1189"/>
                  <a:pt x="196" y="1168"/>
                </a:cubicBezTo>
                <a:cubicBezTo>
                  <a:pt x="229" y="1139"/>
                  <a:pt x="271" y="1102"/>
                  <a:pt x="304" y="1072"/>
                </a:cubicBezTo>
                <a:cubicBezTo>
                  <a:pt x="327" y="1038"/>
                  <a:pt x="358" y="1011"/>
                  <a:pt x="392" y="988"/>
                </a:cubicBezTo>
                <a:cubicBezTo>
                  <a:pt x="421" y="955"/>
                  <a:pt x="443" y="912"/>
                  <a:pt x="480" y="872"/>
                </a:cubicBezTo>
                <a:cubicBezTo>
                  <a:pt x="530" y="825"/>
                  <a:pt x="645" y="741"/>
                  <a:pt x="692" y="704"/>
                </a:cubicBezTo>
                <a:cubicBezTo>
                  <a:pt x="751" y="660"/>
                  <a:pt x="781" y="642"/>
                  <a:pt x="832" y="608"/>
                </a:cubicBezTo>
                <a:cubicBezTo>
                  <a:pt x="881" y="566"/>
                  <a:pt x="938" y="529"/>
                  <a:pt x="996" y="500"/>
                </a:cubicBezTo>
                <a:cubicBezTo>
                  <a:pt x="1028" y="484"/>
                  <a:pt x="1041" y="448"/>
                  <a:pt x="1076" y="436"/>
                </a:cubicBezTo>
                <a:cubicBezTo>
                  <a:pt x="1103" y="415"/>
                  <a:pt x="1130" y="403"/>
                  <a:pt x="1160" y="376"/>
                </a:cubicBezTo>
                <a:cubicBezTo>
                  <a:pt x="1183" y="354"/>
                  <a:pt x="1230" y="299"/>
                  <a:pt x="1256" y="272"/>
                </a:cubicBezTo>
                <a:cubicBezTo>
                  <a:pt x="1286" y="241"/>
                  <a:pt x="1316" y="209"/>
                  <a:pt x="1340" y="192"/>
                </a:cubicBezTo>
                <a:cubicBezTo>
                  <a:pt x="1379" y="158"/>
                  <a:pt x="1455" y="95"/>
                  <a:pt x="1488" y="68"/>
                </a:cubicBezTo>
                <a:cubicBezTo>
                  <a:pt x="1496" y="44"/>
                  <a:pt x="1513" y="36"/>
                  <a:pt x="1536" y="28"/>
                </a:cubicBezTo>
                <a:cubicBezTo>
                  <a:pt x="1546" y="18"/>
                  <a:pt x="1552" y="14"/>
                  <a:pt x="1552" y="0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26"/>
          <p:cNvSpPr/>
          <p:nvPr/>
        </p:nvSpPr>
        <p:spPr>
          <a:xfrm flipV="1">
            <a:off x="3708360" y="3644640"/>
            <a:ext cx="1871640" cy="863640"/>
          </a:xfrm>
          <a:prstGeom prst="line">
            <a:avLst/>
          </a:prstGeom>
          <a:ln w="381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reeform 17"/>
          <p:cNvSpPr/>
          <p:nvPr/>
        </p:nvSpPr>
        <p:spPr>
          <a:xfrm>
            <a:off x="4211640" y="3213000"/>
            <a:ext cx="1079640" cy="727200"/>
          </a:xfrm>
          <a:custGeom>
            <a:avLst/>
            <a:gdLst/>
            <a:ahLst/>
            <a:rect l="l" t="t" r="r" b="b"/>
            <a:pathLst>
              <a:path w="680" h="458">
                <a:moveTo>
                  <a:pt x="366" y="6"/>
                </a:moveTo>
                <a:cubicBezTo>
                  <a:pt x="404" y="14"/>
                  <a:pt x="447" y="3"/>
                  <a:pt x="486" y="0"/>
                </a:cubicBezTo>
                <a:cubicBezTo>
                  <a:pt x="542" y="3"/>
                  <a:pt x="594" y="3"/>
                  <a:pt x="651" y="3"/>
                </a:cubicBezTo>
                <a:lnTo>
                  <a:pt x="680" y="322"/>
                </a:lnTo>
                <a:lnTo>
                  <a:pt x="544" y="458"/>
                </a:lnTo>
                <a:lnTo>
                  <a:pt x="272" y="458"/>
                </a:lnTo>
                <a:lnTo>
                  <a:pt x="0" y="140"/>
                </a:lnTo>
                <a:lnTo>
                  <a:pt x="366" y="6"/>
                </a:lnTo>
                <a:close/>
              </a:path>
            </a:pathLst>
          </a:cu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2730600" y="666720"/>
            <a:ext cx="2368440" cy="3898800"/>
          </a:xfrm>
          <a:custGeom>
            <a:avLst/>
            <a:gdLst/>
            <a:ahLst/>
            <a:rect l="l" t="t" r="r" b="b"/>
            <a:pathLst>
              <a:path w="1492" h="2456">
                <a:moveTo>
                  <a:pt x="1492" y="2456"/>
                </a:moveTo>
                <a:cubicBezTo>
                  <a:pt x="1483" y="2442"/>
                  <a:pt x="1478" y="2430"/>
                  <a:pt x="1468" y="2416"/>
                </a:cubicBezTo>
                <a:cubicBezTo>
                  <a:pt x="1459" y="2390"/>
                  <a:pt x="1441" y="2372"/>
                  <a:pt x="1428" y="2348"/>
                </a:cubicBezTo>
                <a:cubicBezTo>
                  <a:pt x="1399" y="2297"/>
                  <a:pt x="1367" y="2247"/>
                  <a:pt x="1332" y="2200"/>
                </a:cubicBezTo>
                <a:cubicBezTo>
                  <a:pt x="1297" y="2148"/>
                  <a:pt x="1255" y="2082"/>
                  <a:pt x="1220" y="2036"/>
                </a:cubicBezTo>
                <a:cubicBezTo>
                  <a:pt x="1190" y="1998"/>
                  <a:pt x="1147" y="1955"/>
                  <a:pt x="1120" y="1924"/>
                </a:cubicBezTo>
                <a:cubicBezTo>
                  <a:pt x="1063" y="1862"/>
                  <a:pt x="930" y="1718"/>
                  <a:pt x="880" y="1664"/>
                </a:cubicBezTo>
                <a:cubicBezTo>
                  <a:pt x="857" y="1639"/>
                  <a:pt x="861" y="1646"/>
                  <a:pt x="816" y="1596"/>
                </a:cubicBezTo>
                <a:cubicBezTo>
                  <a:pt x="777" y="1553"/>
                  <a:pt x="661" y="1424"/>
                  <a:pt x="608" y="1364"/>
                </a:cubicBezTo>
                <a:cubicBezTo>
                  <a:pt x="579" y="1334"/>
                  <a:pt x="524" y="1273"/>
                  <a:pt x="496" y="1236"/>
                </a:cubicBezTo>
                <a:cubicBezTo>
                  <a:pt x="459" y="1180"/>
                  <a:pt x="417" y="1099"/>
                  <a:pt x="384" y="1028"/>
                </a:cubicBezTo>
                <a:cubicBezTo>
                  <a:pt x="347" y="921"/>
                  <a:pt x="307" y="705"/>
                  <a:pt x="272" y="594"/>
                </a:cubicBezTo>
                <a:cubicBezTo>
                  <a:pt x="257" y="536"/>
                  <a:pt x="187" y="414"/>
                  <a:pt x="172" y="364"/>
                </a:cubicBezTo>
                <a:cubicBezTo>
                  <a:pt x="131" y="273"/>
                  <a:pt x="57" y="109"/>
                  <a:pt x="28" y="48"/>
                </a:cubicBezTo>
                <a:cubicBezTo>
                  <a:pt x="22" y="38"/>
                  <a:pt x="5" y="0"/>
                  <a:pt x="0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avats1B"/>
          <p:cNvPicPr/>
          <p:nvPr/>
        </p:nvPicPr>
        <p:blipFill>
          <a:blip r:embed="rId1"/>
          <a:stretch/>
        </p:blipFill>
        <p:spPr>
          <a:xfrm>
            <a:off x="1692360" y="0"/>
            <a:ext cx="5854680" cy="516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324000" y="5445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malgamated Northern airspace has numerous published airways and way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4"/>
          <p:cNvSpPr/>
          <p:nvPr/>
        </p:nvSpPr>
        <p:spPr>
          <a:xfrm>
            <a:off x="2700360" y="90360"/>
            <a:ext cx="4224240" cy="4896000"/>
          </a:xfrm>
          <a:custGeom>
            <a:avLst/>
            <a:gdLst/>
            <a:ahLst/>
            <a:rect l="l" t="t" r="r" b="b"/>
            <a:pathLst>
              <a:path w="2661" h="3084">
                <a:moveTo>
                  <a:pt x="582" y="2352"/>
                </a:moveTo>
                <a:cubicBezTo>
                  <a:pt x="570" y="2344"/>
                  <a:pt x="558" y="2336"/>
                  <a:pt x="546" y="2328"/>
                </a:cubicBezTo>
                <a:cubicBezTo>
                  <a:pt x="533" y="2309"/>
                  <a:pt x="498" y="2288"/>
                  <a:pt x="477" y="2277"/>
                </a:cubicBezTo>
                <a:cubicBezTo>
                  <a:pt x="467" y="2272"/>
                  <a:pt x="458" y="2270"/>
                  <a:pt x="450" y="2262"/>
                </a:cubicBezTo>
                <a:lnTo>
                  <a:pt x="453" y="2058"/>
                </a:lnTo>
                <a:lnTo>
                  <a:pt x="216" y="2055"/>
                </a:lnTo>
                <a:lnTo>
                  <a:pt x="207" y="1977"/>
                </a:lnTo>
                <a:lnTo>
                  <a:pt x="0" y="1649"/>
                </a:lnTo>
                <a:lnTo>
                  <a:pt x="42" y="1515"/>
                </a:lnTo>
                <a:lnTo>
                  <a:pt x="51" y="1455"/>
                </a:lnTo>
                <a:lnTo>
                  <a:pt x="51" y="1419"/>
                </a:lnTo>
                <a:lnTo>
                  <a:pt x="0" y="1287"/>
                </a:lnTo>
                <a:lnTo>
                  <a:pt x="15" y="1263"/>
                </a:lnTo>
                <a:lnTo>
                  <a:pt x="36" y="1248"/>
                </a:lnTo>
                <a:lnTo>
                  <a:pt x="21" y="1239"/>
                </a:lnTo>
                <a:lnTo>
                  <a:pt x="96" y="1110"/>
                </a:lnTo>
                <a:lnTo>
                  <a:pt x="1032" y="543"/>
                </a:lnTo>
                <a:lnTo>
                  <a:pt x="1908" y="0"/>
                </a:lnTo>
                <a:lnTo>
                  <a:pt x="2136" y="546"/>
                </a:lnTo>
                <a:lnTo>
                  <a:pt x="2022" y="894"/>
                </a:lnTo>
                <a:lnTo>
                  <a:pt x="2031" y="1044"/>
                </a:lnTo>
                <a:lnTo>
                  <a:pt x="2661" y="1674"/>
                </a:lnTo>
                <a:lnTo>
                  <a:pt x="2643" y="1698"/>
                </a:lnTo>
                <a:lnTo>
                  <a:pt x="2376" y="1833"/>
                </a:lnTo>
                <a:lnTo>
                  <a:pt x="1998" y="2070"/>
                </a:lnTo>
                <a:lnTo>
                  <a:pt x="2037" y="2820"/>
                </a:lnTo>
                <a:lnTo>
                  <a:pt x="1776" y="3084"/>
                </a:lnTo>
                <a:lnTo>
                  <a:pt x="1092" y="2754"/>
                </a:lnTo>
                <a:lnTo>
                  <a:pt x="990" y="2751"/>
                </a:lnTo>
                <a:lnTo>
                  <a:pt x="867" y="2550"/>
                </a:lnTo>
                <a:lnTo>
                  <a:pt x="792" y="2415"/>
                </a:lnTo>
                <a:lnTo>
                  <a:pt x="729" y="2430"/>
                </a:lnTo>
                <a:lnTo>
                  <a:pt x="747" y="2391"/>
                </a:lnTo>
                <a:lnTo>
                  <a:pt x="627" y="2328"/>
                </a:lnTo>
                <a:lnTo>
                  <a:pt x="591" y="2352"/>
                </a:lnTo>
              </a:path>
            </a:pathLst>
          </a:custGeom>
          <a:noFill/>
          <a:ln w="255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537372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Reducing</a:t>
            </a: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 the number of published airways and waypoints reduces training time and knowledge retention - with a definite customer service benefit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Reference to separate CPWG/13 presentation: “NAV CANADA Northern Airspace Plan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" descr="Picture1"/>
          <p:cNvPicPr/>
          <p:nvPr/>
        </p:nvPicPr>
        <p:blipFill>
          <a:blip r:embed="rId1"/>
          <a:stretch/>
        </p:blipFill>
        <p:spPr>
          <a:xfrm>
            <a:off x="1690560" y="0"/>
            <a:ext cx="5851800" cy="5162400"/>
          </a:xfrm>
          <a:prstGeom prst="rect">
            <a:avLst/>
          </a:prstGeom>
          <a:ln w="0">
            <a:noFill/>
          </a:ln>
        </p:spPr>
      </p:pic>
      <p:sp>
        <p:nvSpPr>
          <p:cNvPr id="180" name="Freeform 4"/>
          <p:cNvSpPr/>
          <p:nvPr/>
        </p:nvSpPr>
        <p:spPr>
          <a:xfrm>
            <a:off x="2736720" y="115920"/>
            <a:ext cx="4222800" cy="4849920"/>
          </a:xfrm>
          <a:custGeom>
            <a:avLst/>
            <a:gdLst/>
            <a:ahLst/>
            <a:rect l="l" t="t" r="r" b="b"/>
            <a:pathLst>
              <a:path w="2660" h="3055">
                <a:moveTo>
                  <a:pt x="610" y="2342"/>
                </a:moveTo>
                <a:lnTo>
                  <a:pt x="532" y="2291"/>
                </a:lnTo>
                <a:lnTo>
                  <a:pt x="472" y="2081"/>
                </a:lnTo>
                <a:lnTo>
                  <a:pt x="238" y="2117"/>
                </a:lnTo>
                <a:lnTo>
                  <a:pt x="238" y="1972"/>
                </a:lnTo>
                <a:lnTo>
                  <a:pt x="0" y="1623"/>
                </a:lnTo>
                <a:lnTo>
                  <a:pt x="48" y="1507"/>
                </a:lnTo>
                <a:lnTo>
                  <a:pt x="74" y="1464"/>
                </a:lnTo>
                <a:lnTo>
                  <a:pt x="82" y="1424"/>
                </a:lnTo>
                <a:lnTo>
                  <a:pt x="22" y="1284"/>
                </a:lnTo>
                <a:lnTo>
                  <a:pt x="32" y="1247"/>
                </a:lnTo>
                <a:lnTo>
                  <a:pt x="100" y="1107"/>
                </a:lnTo>
                <a:lnTo>
                  <a:pt x="1020" y="552"/>
                </a:lnTo>
                <a:lnTo>
                  <a:pt x="1906" y="0"/>
                </a:lnTo>
                <a:lnTo>
                  <a:pt x="2128" y="531"/>
                </a:lnTo>
                <a:lnTo>
                  <a:pt x="2030" y="880"/>
                </a:lnTo>
                <a:lnTo>
                  <a:pt x="2034" y="1052"/>
                </a:lnTo>
                <a:lnTo>
                  <a:pt x="2660" y="1659"/>
                </a:lnTo>
                <a:lnTo>
                  <a:pt x="2624" y="1687"/>
                </a:lnTo>
                <a:lnTo>
                  <a:pt x="2364" y="1842"/>
                </a:lnTo>
                <a:lnTo>
                  <a:pt x="2006" y="2060"/>
                </a:lnTo>
                <a:lnTo>
                  <a:pt x="2042" y="2804"/>
                </a:lnTo>
                <a:lnTo>
                  <a:pt x="1764" y="3055"/>
                </a:lnTo>
                <a:lnTo>
                  <a:pt x="1118" y="2748"/>
                </a:lnTo>
                <a:lnTo>
                  <a:pt x="1014" y="2744"/>
                </a:lnTo>
                <a:lnTo>
                  <a:pt x="890" y="2544"/>
                </a:lnTo>
                <a:lnTo>
                  <a:pt x="810" y="2416"/>
                </a:lnTo>
                <a:lnTo>
                  <a:pt x="750" y="2440"/>
                </a:lnTo>
                <a:lnTo>
                  <a:pt x="762" y="2384"/>
                </a:lnTo>
                <a:lnTo>
                  <a:pt x="652" y="2330"/>
                </a:lnTo>
                <a:lnTo>
                  <a:pt x="613" y="2336"/>
                </a:lnTo>
              </a:path>
            </a:pathLst>
          </a:custGeom>
          <a:noFill/>
          <a:ln w="255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Questions/Discu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0" spc="-1" strike="noStrike">
                <a:solidFill>
                  <a:srgbClr val="ffffff"/>
                </a:solidFill>
                <a:latin typeface="Tahoma"/>
              </a:rPr>
              <a:t>??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NAV CANADA has always desired airspace efficiency improv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 Summer, 2010, Edmonton ACC was tasked with re-analyzing it’s air sp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Various options were examined, including the transfer of some Edmonton airspace to YUL &amp;/or YW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nternal Edmonton proposal was put forward in September, 2011 to amalgamate “North High” and “Shield” special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lan was approved in January, 201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ross-training began in February, 201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42 Controllers &amp; 9 Supervisors in amalgamated special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ll 9 Supervisors fully cross-trained as of May, 201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7 Controllers fully cross-trained &amp; 6 Controllers partially cross-trained as of Summer 201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~1200 “person-days” of cross-training through to completion of the project in 201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How to make this work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omprehensive, individual cross-training plans were created, reflecting individual experience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ome low level (below FL290) airspace was delegated to “North Low” specialty as of May 31, 2012. This follows the theory of “putting like with like” – low level and high level standards are very differ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igh traffic density airspace in the Calgary-Edmonton-Ft. McMurray corridor to be delegated elsewhere within Edmonton ACC. This will separate “arrival/departure” control, on a small radar scale, from pure “enroute” control, on a large scale.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~ 2.5 million miles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of airspace in amalgamated specialt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~ 1.4  million miles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(~56%) is radar and/or ADS-B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Flight count = 400+ flights/da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tremely large specialty in area, but with low traffic dens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45 VHF frequenc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6 main radar &amp; 8 ADS-B sources, combined with 10 radar sources fed from adjacent jurisdict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oordination with 7 external uni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navats1"/>
          <p:cNvPicPr/>
          <p:nvPr/>
        </p:nvPicPr>
        <p:blipFill>
          <a:blip r:embed="rId1"/>
          <a:stretch/>
        </p:blipFill>
        <p:spPr>
          <a:xfrm>
            <a:off x="1619280" y="0"/>
            <a:ext cx="5340240" cy="5019840"/>
          </a:xfrm>
          <a:prstGeom prst="rect">
            <a:avLst/>
          </a:prstGeom>
          <a:ln w="0">
            <a:noFill/>
          </a:ln>
        </p:spPr>
      </p:pic>
      <p:sp>
        <p:nvSpPr>
          <p:cNvPr id="111" name="Freeform 3"/>
          <p:cNvSpPr/>
          <p:nvPr/>
        </p:nvSpPr>
        <p:spPr>
          <a:xfrm>
            <a:off x="3657600" y="69840"/>
            <a:ext cx="1968480" cy="2076480"/>
          </a:xfrm>
          <a:custGeom>
            <a:avLst/>
            <a:gdLst/>
            <a:ahLst/>
            <a:rect l="l" t="t" r="r" b="b"/>
            <a:pathLst>
              <a:path w="1240" h="1308">
                <a:moveTo>
                  <a:pt x="0" y="688"/>
                </a:moveTo>
                <a:lnTo>
                  <a:pt x="1044" y="0"/>
                </a:lnTo>
                <a:lnTo>
                  <a:pt x="1240" y="544"/>
                </a:lnTo>
                <a:lnTo>
                  <a:pt x="1140" y="852"/>
                </a:lnTo>
                <a:lnTo>
                  <a:pt x="1148" y="1016"/>
                </a:lnTo>
                <a:lnTo>
                  <a:pt x="1202" y="1082"/>
                </a:lnTo>
                <a:lnTo>
                  <a:pt x="872" y="1308"/>
                </a:lnTo>
                <a:lnTo>
                  <a:pt x="448" y="1116"/>
                </a:lnTo>
                <a:lnTo>
                  <a:pt x="0" y="688"/>
                </a:lnTo>
                <a:close/>
              </a:path>
            </a:pathLst>
          </a:custGeom>
          <a:solidFill>
            <a:srgbClr val="00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3098880" y="1162080"/>
            <a:ext cx="1257120" cy="1263600"/>
          </a:xfrm>
          <a:custGeom>
            <a:avLst/>
            <a:gdLst/>
            <a:ahLst/>
            <a:rect l="l" t="t" r="r" b="b"/>
            <a:pathLst>
              <a:path w="792" h="796">
                <a:moveTo>
                  <a:pt x="0" y="224"/>
                </a:moveTo>
                <a:lnTo>
                  <a:pt x="348" y="0"/>
                </a:lnTo>
                <a:lnTo>
                  <a:pt x="792" y="432"/>
                </a:lnTo>
                <a:lnTo>
                  <a:pt x="592" y="756"/>
                </a:lnTo>
                <a:lnTo>
                  <a:pt x="432" y="796"/>
                </a:lnTo>
                <a:lnTo>
                  <a:pt x="0" y="224"/>
                </a:lnTo>
                <a:close/>
              </a:path>
            </a:pathLst>
          </a:cu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Freeform 5"/>
          <p:cNvSpPr/>
          <p:nvPr/>
        </p:nvSpPr>
        <p:spPr>
          <a:xfrm>
            <a:off x="2752560" y="1533600"/>
            <a:ext cx="1035360" cy="1469880"/>
          </a:xfrm>
          <a:custGeom>
            <a:avLst/>
            <a:gdLst/>
            <a:ahLst/>
            <a:rect l="l" t="t" r="r" b="b"/>
            <a:pathLst>
              <a:path w="652" h="926">
                <a:moveTo>
                  <a:pt x="0" y="140"/>
                </a:moveTo>
                <a:lnTo>
                  <a:pt x="216" y="0"/>
                </a:lnTo>
                <a:lnTo>
                  <a:pt x="652" y="570"/>
                </a:lnTo>
                <a:lnTo>
                  <a:pt x="642" y="822"/>
                </a:lnTo>
                <a:lnTo>
                  <a:pt x="488" y="926"/>
                </a:lnTo>
                <a:lnTo>
                  <a:pt x="0" y="140"/>
                </a:lnTo>
                <a:close/>
              </a:path>
            </a:pathLst>
          </a:cu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2527200" y="1752480"/>
            <a:ext cx="657360" cy="1190880"/>
          </a:xfrm>
          <a:custGeom>
            <a:avLst/>
            <a:gdLst/>
            <a:ahLst/>
            <a:rect l="l" t="t" r="r" b="b"/>
            <a:pathLst>
              <a:path w="414" h="750">
                <a:moveTo>
                  <a:pt x="136" y="0"/>
                </a:moveTo>
                <a:lnTo>
                  <a:pt x="414" y="456"/>
                </a:lnTo>
                <a:lnTo>
                  <a:pt x="122" y="750"/>
                </a:lnTo>
                <a:lnTo>
                  <a:pt x="0" y="546"/>
                </a:lnTo>
                <a:lnTo>
                  <a:pt x="48" y="436"/>
                </a:lnTo>
                <a:lnTo>
                  <a:pt x="62" y="330"/>
                </a:lnTo>
                <a:lnTo>
                  <a:pt x="6" y="196"/>
                </a:lnTo>
                <a:lnTo>
                  <a:pt x="92" y="36"/>
                </a:lnTo>
                <a:lnTo>
                  <a:pt x="136" y="0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2717640" y="2476440"/>
            <a:ext cx="812880" cy="885960"/>
          </a:xfrm>
          <a:custGeom>
            <a:avLst/>
            <a:gdLst/>
            <a:ahLst/>
            <a:rect l="l" t="t" r="r" b="b"/>
            <a:pathLst>
              <a:path w="512" h="558">
                <a:moveTo>
                  <a:pt x="0" y="296"/>
                </a:moveTo>
                <a:lnTo>
                  <a:pt x="298" y="0"/>
                </a:lnTo>
                <a:lnTo>
                  <a:pt x="512" y="342"/>
                </a:lnTo>
                <a:lnTo>
                  <a:pt x="420" y="522"/>
                </a:lnTo>
                <a:lnTo>
                  <a:pt x="316" y="554"/>
                </a:lnTo>
                <a:lnTo>
                  <a:pt x="304" y="516"/>
                </a:lnTo>
                <a:lnTo>
                  <a:pt x="92" y="558"/>
                </a:lnTo>
                <a:lnTo>
                  <a:pt x="82" y="418"/>
                </a:lnTo>
                <a:lnTo>
                  <a:pt x="0" y="296"/>
                </a:lnTo>
                <a:close/>
              </a:path>
            </a:pathLst>
          </a:cu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3772080" y="1847880"/>
            <a:ext cx="1269720" cy="1200240"/>
          </a:xfrm>
          <a:custGeom>
            <a:avLst/>
            <a:gdLst/>
            <a:ahLst/>
            <a:rect l="l" t="t" r="r" b="b"/>
            <a:pathLst>
              <a:path w="800" h="756">
                <a:moveTo>
                  <a:pt x="376" y="0"/>
                </a:moveTo>
                <a:lnTo>
                  <a:pt x="800" y="188"/>
                </a:lnTo>
                <a:lnTo>
                  <a:pt x="760" y="552"/>
                </a:lnTo>
                <a:lnTo>
                  <a:pt x="476" y="536"/>
                </a:lnTo>
                <a:lnTo>
                  <a:pt x="106" y="756"/>
                </a:lnTo>
                <a:lnTo>
                  <a:pt x="0" y="628"/>
                </a:lnTo>
                <a:lnTo>
                  <a:pt x="12" y="372"/>
                </a:lnTo>
                <a:lnTo>
                  <a:pt x="172" y="328"/>
                </a:lnTo>
                <a:lnTo>
                  <a:pt x="376" y="0"/>
                </a:lnTo>
                <a:close/>
              </a:path>
            </a:pathLst>
          </a:cu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3940200" y="2701800"/>
            <a:ext cx="1035000" cy="1003320"/>
          </a:xfrm>
          <a:custGeom>
            <a:avLst/>
            <a:gdLst/>
            <a:ahLst/>
            <a:rect l="l" t="t" r="r" b="b"/>
            <a:pathLst>
              <a:path w="652" h="632">
                <a:moveTo>
                  <a:pt x="652" y="8"/>
                </a:moveTo>
                <a:lnTo>
                  <a:pt x="608" y="382"/>
                </a:lnTo>
                <a:lnTo>
                  <a:pt x="334" y="620"/>
                </a:lnTo>
                <a:lnTo>
                  <a:pt x="270" y="632"/>
                </a:lnTo>
                <a:lnTo>
                  <a:pt x="0" y="224"/>
                </a:lnTo>
                <a:lnTo>
                  <a:pt x="370" y="0"/>
                </a:lnTo>
                <a:lnTo>
                  <a:pt x="652" y="8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4978440" y="1793880"/>
            <a:ext cx="1174680" cy="917640"/>
          </a:xfrm>
          <a:custGeom>
            <a:avLst/>
            <a:gdLst/>
            <a:ahLst/>
            <a:rect l="l" t="t" r="r" b="b"/>
            <a:pathLst>
              <a:path w="740" h="578">
                <a:moveTo>
                  <a:pt x="48" y="226"/>
                </a:moveTo>
                <a:lnTo>
                  <a:pt x="374" y="0"/>
                </a:lnTo>
                <a:lnTo>
                  <a:pt x="740" y="398"/>
                </a:lnTo>
                <a:lnTo>
                  <a:pt x="384" y="574"/>
                </a:lnTo>
                <a:lnTo>
                  <a:pt x="0" y="578"/>
                </a:lnTo>
                <a:lnTo>
                  <a:pt x="48" y="226"/>
                </a:lnTo>
                <a:close/>
              </a:path>
            </a:pathLst>
          </a:custGeom>
          <a:solidFill>
            <a:srgbClr val="cc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reeform 11"/>
          <p:cNvSpPr/>
          <p:nvPr/>
        </p:nvSpPr>
        <p:spPr>
          <a:xfrm>
            <a:off x="4908600" y="2428920"/>
            <a:ext cx="1476360" cy="873000"/>
          </a:xfrm>
          <a:custGeom>
            <a:avLst/>
            <a:gdLst/>
            <a:ahLst/>
            <a:rect l="l" t="t" r="r" b="b"/>
            <a:pathLst>
              <a:path w="930" h="550">
                <a:moveTo>
                  <a:pt x="44" y="180"/>
                </a:moveTo>
                <a:lnTo>
                  <a:pt x="428" y="178"/>
                </a:lnTo>
                <a:lnTo>
                  <a:pt x="786" y="0"/>
                </a:lnTo>
                <a:lnTo>
                  <a:pt x="930" y="150"/>
                </a:lnTo>
                <a:lnTo>
                  <a:pt x="900" y="184"/>
                </a:lnTo>
                <a:lnTo>
                  <a:pt x="678" y="300"/>
                </a:lnTo>
                <a:lnTo>
                  <a:pt x="330" y="528"/>
                </a:lnTo>
                <a:lnTo>
                  <a:pt x="0" y="550"/>
                </a:lnTo>
                <a:lnTo>
                  <a:pt x="44" y="180"/>
                </a:lnTo>
                <a:close/>
              </a:path>
            </a:pathLst>
          </a:custGeom>
          <a:solidFill>
            <a:srgbClr val="33cc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3216240" y="2843280"/>
            <a:ext cx="1006560" cy="900000"/>
          </a:xfrm>
          <a:custGeom>
            <a:avLst/>
            <a:gdLst/>
            <a:ahLst/>
            <a:rect l="l" t="t" r="r" b="b"/>
            <a:pathLst>
              <a:path w="634" h="567">
                <a:moveTo>
                  <a:pt x="146" y="537"/>
                </a:moveTo>
                <a:cubicBezTo>
                  <a:pt x="139" y="535"/>
                  <a:pt x="135" y="551"/>
                  <a:pt x="118" y="545"/>
                </a:cubicBezTo>
                <a:lnTo>
                  <a:pt x="46" y="501"/>
                </a:lnTo>
                <a:lnTo>
                  <a:pt x="0" y="323"/>
                </a:lnTo>
                <a:lnTo>
                  <a:pt x="110" y="289"/>
                </a:lnTo>
                <a:lnTo>
                  <a:pt x="200" y="105"/>
                </a:lnTo>
                <a:lnTo>
                  <a:pt x="344" y="3"/>
                </a:lnTo>
                <a:cubicBezTo>
                  <a:pt x="360" y="8"/>
                  <a:pt x="381" y="0"/>
                  <a:pt x="454" y="133"/>
                </a:cubicBezTo>
                <a:lnTo>
                  <a:pt x="634" y="407"/>
                </a:lnTo>
                <a:lnTo>
                  <a:pt x="208" y="567"/>
                </a:lnTo>
              </a:path>
            </a:pathLst>
          </a:custGeom>
          <a:solidFill>
            <a:srgbClr val="6666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Freeform 13"/>
          <p:cNvSpPr/>
          <p:nvPr/>
        </p:nvSpPr>
        <p:spPr>
          <a:xfrm>
            <a:off x="4368960" y="3279600"/>
            <a:ext cx="1089000" cy="1006560"/>
          </a:xfrm>
          <a:custGeom>
            <a:avLst/>
            <a:gdLst/>
            <a:ahLst/>
            <a:rect l="l" t="t" r="r" b="b"/>
            <a:pathLst>
              <a:path w="686" h="634">
                <a:moveTo>
                  <a:pt x="0" y="272"/>
                </a:moveTo>
                <a:lnTo>
                  <a:pt x="66" y="258"/>
                </a:lnTo>
                <a:lnTo>
                  <a:pt x="338" y="24"/>
                </a:lnTo>
                <a:lnTo>
                  <a:pt x="670" y="0"/>
                </a:lnTo>
                <a:lnTo>
                  <a:pt x="686" y="406"/>
                </a:lnTo>
                <a:lnTo>
                  <a:pt x="524" y="548"/>
                </a:lnTo>
                <a:lnTo>
                  <a:pt x="262" y="634"/>
                </a:lnTo>
                <a:lnTo>
                  <a:pt x="0" y="272"/>
                </a:lnTo>
                <a:close/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Freeform 14"/>
          <p:cNvSpPr/>
          <p:nvPr/>
        </p:nvSpPr>
        <p:spPr>
          <a:xfrm>
            <a:off x="3552840" y="3489480"/>
            <a:ext cx="863640" cy="583920"/>
          </a:xfrm>
          <a:custGeom>
            <a:avLst/>
            <a:gdLst/>
            <a:ahLst/>
            <a:rect l="l" t="t" r="r" b="b"/>
            <a:pathLst>
              <a:path w="544" h="368">
                <a:moveTo>
                  <a:pt x="0" y="166"/>
                </a:moveTo>
                <a:lnTo>
                  <a:pt x="420" y="0"/>
                </a:lnTo>
                <a:lnTo>
                  <a:pt x="544" y="178"/>
                </a:lnTo>
                <a:lnTo>
                  <a:pt x="172" y="368"/>
                </a:lnTo>
                <a:lnTo>
                  <a:pt x="84" y="202"/>
                </a:lnTo>
                <a:lnTo>
                  <a:pt x="22" y="226"/>
                </a:lnTo>
                <a:lnTo>
                  <a:pt x="44" y="184"/>
                </a:lnTo>
                <a:lnTo>
                  <a:pt x="0" y="166"/>
                </a:lnTo>
                <a:close/>
              </a:path>
            </a:pathLst>
          </a:custGeom>
          <a:solidFill>
            <a:srgbClr val="99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Freeform 15"/>
          <p:cNvSpPr/>
          <p:nvPr/>
        </p:nvSpPr>
        <p:spPr>
          <a:xfrm>
            <a:off x="3835440" y="3774960"/>
            <a:ext cx="946080" cy="758880"/>
          </a:xfrm>
          <a:custGeom>
            <a:avLst/>
            <a:gdLst/>
            <a:ahLst/>
            <a:rect l="l" t="t" r="r" b="b"/>
            <a:pathLst>
              <a:path w="596" h="478">
                <a:moveTo>
                  <a:pt x="362" y="0"/>
                </a:moveTo>
                <a:lnTo>
                  <a:pt x="596" y="328"/>
                </a:lnTo>
                <a:lnTo>
                  <a:pt x="430" y="478"/>
                </a:lnTo>
                <a:lnTo>
                  <a:pt x="182" y="354"/>
                </a:lnTo>
                <a:lnTo>
                  <a:pt x="90" y="354"/>
                </a:lnTo>
                <a:lnTo>
                  <a:pt x="0" y="192"/>
                </a:lnTo>
                <a:lnTo>
                  <a:pt x="362" y="0"/>
                </a:lnTo>
                <a:close/>
              </a:path>
            </a:pathLst>
          </a:custGeom>
          <a:solidFill>
            <a:srgbClr val="33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Freeform 16"/>
          <p:cNvSpPr/>
          <p:nvPr/>
        </p:nvSpPr>
        <p:spPr>
          <a:xfrm>
            <a:off x="4524480" y="3933720"/>
            <a:ext cx="958680" cy="905040"/>
          </a:xfrm>
          <a:custGeom>
            <a:avLst/>
            <a:gdLst/>
            <a:ahLst/>
            <a:rect l="l" t="t" r="r" b="b"/>
            <a:pathLst>
              <a:path w="604" h="570">
                <a:moveTo>
                  <a:pt x="590" y="0"/>
                </a:moveTo>
                <a:lnTo>
                  <a:pt x="604" y="318"/>
                </a:lnTo>
                <a:lnTo>
                  <a:pt x="358" y="570"/>
                </a:lnTo>
                <a:lnTo>
                  <a:pt x="0" y="380"/>
                </a:lnTo>
                <a:lnTo>
                  <a:pt x="164" y="232"/>
                </a:lnTo>
                <a:lnTo>
                  <a:pt x="434" y="140"/>
                </a:lnTo>
                <a:lnTo>
                  <a:pt x="590" y="0"/>
                </a:lnTo>
                <a:close/>
              </a:path>
            </a:pathLst>
          </a:custGeom>
          <a:solidFill>
            <a:srgbClr val="33cc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324000" y="5229360"/>
            <a:ext cx="86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14 internal se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With 30+ consolidation combinations, including a few commonly us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Freeform 30"/>
          <p:cNvSpPr/>
          <p:nvPr/>
        </p:nvSpPr>
        <p:spPr>
          <a:xfrm>
            <a:off x="2843280" y="2276640"/>
            <a:ext cx="509400" cy="631800"/>
          </a:xfrm>
          <a:custGeom>
            <a:avLst/>
            <a:gdLst/>
            <a:ahLst/>
            <a:rect l="l" t="t" r="r" b="b"/>
            <a:pathLst>
              <a:path w="312" h="408">
                <a:moveTo>
                  <a:pt x="0" y="0"/>
                </a:moveTo>
                <a:lnTo>
                  <a:pt x="312" y="0"/>
                </a:lnTo>
                <a:lnTo>
                  <a:pt x="264" y="4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4932360" y="3716280"/>
            <a:ext cx="28728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32"/>
          <p:cNvSpPr/>
          <p:nvPr/>
        </p:nvSpPr>
        <p:spPr>
          <a:xfrm>
            <a:off x="4859280" y="1413000"/>
            <a:ext cx="79236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33"/>
          <p:cNvSpPr/>
          <p:nvPr/>
        </p:nvSpPr>
        <p:spPr>
          <a:xfrm>
            <a:off x="3708360" y="3284640"/>
            <a:ext cx="358920" cy="50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34"/>
          <p:cNvSpPr/>
          <p:nvPr/>
        </p:nvSpPr>
        <p:spPr>
          <a:xfrm>
            <a:off x="4284720" y="2349360"/>
            <a:ext cx="431640" cy="71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35"/>
          <p:cNvSpPr/>
          <p:nvPr/>
        </p:nvSpPr>
        <p:spPr>
          <a:xfrm>
            <a:off x="2771640" y="2276640"/>
            <a:ext cx="432000" cy="718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6"/>
          <p:cNvSpPr/>
          <p:nvPr/>
        </p:nvSpPr>
        <p:spPr>
          <a:xfrm flipH="1">
            <a:off x="4427640" y="3716280"/>
            <a:ext cx="504720" cy="57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8"/>
          <p:cNvSpPr/>
          <p:nvPr/>
        </p:nvSpPr>
        <p:spPr>
          <a:xfrm flipV="1">
            <a:off x="2700360" y="1988640"/>
            <a:ext cx="431640" cy="289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9"/>
          <p:cNvSpPr/>
          <p:nvPr/>
        </p:nvSpPr>
        <p:spPr>
          <a:xfrm>
            <a:off x="5580000" y="2349360"/>
            <a:ext cx="144360" cy="5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40"/>
          <p:cNvSpPr/>
          <p:nvPr/>
        </p:nvSpPr>
        <p:spPr>
          <a:xfrm flipV="1">
            <a:off x="2771640" y="1699920"/>
            <a:ext cx="936720" cy="576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reeform 41"/>
          <p:cNvSpPr/>
          <p:nvPr/>
        </p:nvSpPr>
        <p:spPr>
          <a:xfrm>
            <a:off x="3755880" y="1282680"/>
            <a:ext cx="1746360" cy="987480"/>
          </a:xfrm>
          <a:custGeom>
            <a:avLst/>
            <a:gdLst/>
            <a:ahLst/>
            <a:rect l="l" t="t" r="r" b="b"/>
            <a:pathLst>
              <a:path w="1100" h="622">
                <a:moveTo>
                  <a:pt x="0" y="252"/>
                </a:moveTo>
                <a:lnTo>
                  <a:pt x="754" y="0"/>
                </a:lnTo>
                <a:lnTo>
                  <a:pt x="1100" y="62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3924360" y="3716280"/>
            <a:ext cx="35856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826920" y="-171360"/>
            <a:ext cx="7601040" cy="8661240"/>
          </a:xfrm>
          <a:prstGeom prst="rect">
            <a:avLst/>
          </a:prstGeom>
          <a:ln w="0">
            <a:noFill/>
          </a:ln>
        </p:spPr>
      </p:pic>
      <p:sp>
        <p:nvSpPr>
          <p:cNvPr id="139" name="Freeform 12"/>
          <p:cNvSpPr/>
          <p:nvPr/>
        </p:nvSpPr>
        <p:spPr>
          <a:xfrm>
            <a:off x="2411280" y="-674640"/>
            <a:ext cx="4362480" cy="5418000"/>
          </a:xfrm>
          <a:custGeom>
            <a:avLst/>
            <a:gdLst/>
            <a:ahLst/>
            <a:rect l="l" t="t" r="r" b="b"/>
            <a:pathLst>
              <a:path w="2748" h="3413">
                <a:moveTo>
                  <a:pt x="1397" y="0"/>
                </a:moveTo>
                <a:lnTo>
                  <a:pt x="372" y="1709"/>
                </a:lnTo>
                <a:cubicBezTo>
                  <a:pt x="139" y="2096"/>
                  <a:pt x="60" y="2211"/>
                  <a:pt x="0" y="2325"/>
                </a:cubicBezTo>
                <a:lnTo>
                  <a:pt x="12" y="2393"/>
                </a:lnTo>
                <a:lnTo>
                  <a:pt x="82" y="2473"/>
                </a:lnTo>
                <a:cubicBezTo>
                  <a:pt x="97" y="2493"/>
                  <a:pt x="76" y="2462"/>
                  <a:pt x="103" y="2514"/>
                </a:cubicBezTo>
                <a:lnTo>
                  <a:pt x="198" y="2602"/>
                </a:lnTo>
                <a:lnTo>
                  <a:pt x="202" y="2715"/>
                </a:lnTo>
                <a:cubicBezTo>
                  <a:pt x="253" y="2767"/>
                  <a:pt x="432" y="2867"/>
                  <a:pt x="503" y="2914"/>
                </a:cubicBezTo>
                <a:lnTo>
                  <a:pt x="625" y="2995"/>
                </a:lnTo>
                <a:lnTo>
                  <a:pt x="733" y="2975"/>
                </a:lnTo>
                <a:lnTo>
                  <a:pt x="869" y="3083"/>
                </a:lnTo>
                <a:lnTo>
                  <a:pt x="977" y="3076"/>
                </a:lnTo>
                <a:cubicBezTo>
                  <a:pt x="1003" y="3063"/>
                  <a:pt x="1010" y="3017"/>
                  <a:pt x="1024" y="3002"/>
                </a:cubicBezTo>
                <a:cubicBezTo>
                  <a:pt x="1038" y="2987"/>
                  <a:pt x="1049" y="2984"/>
                  <a:pt x="1062" y="2987"/>
                </a:cubicBezTo>
                <a:cubicBezTo>
                  <a:pt x="1075" y="2990"/>
                  <a:pt x="1097" y="2999"/>
                  <a:pt x="1102" y="3019"/>
                </a:cubicBezTo>
                <a:cubicBezTo>
                  <a:pt x="1107" y="3039"/>
                  <a:pt x="1065" y="3077"/>
                  <a:pt x="1092" y="3110"/>
                </a:cubicBezTo>
                <a:lnTo>
                  <a:pt x="1264" y="3217"/>
                </a:lnTo>
                <a:lnTo>
                  <a:pt x="1408" y="3217"/>
                </a:lnTo>
                <a:lnTo>
                  <a:pt x="2148" y="3413"/>
                </a:lnTo>
                <a:lnTo>
                  <a:pt x="2378" y="3129"/>
                </a:lnTo>
                <a:lnTo>
                  <a:pt x="2163" y="2453"/>
                </a:lnTo>
                <a:lnTo>
                  <a:pt x="2495" y="2141"/>
                </a:lnTo>
                <a:cubicBezTo>
                  <a:pt x="2531" y="2110"/>
                  <a:pt x="2568" y="2079"/>
                  <a:pt x="2610" y="2053"/>
                </a:cubicBezTo>
                <a:cubicBezTo>
                  <a:pt x="2652" y="2027"/>
                  <a:pt x="2732" y="2004"/>
                  <a:pt x="2748" y="1985"/>
                </a:cubicBezTo>
                <a:lnTo>
                  <a:pt x="2705" y="1938"/>
                </a:lnTo>
                <a:lnTo>
                  <a:pt x="1987" y="1375"/>
                </a:lnTo>
                <a:cubicBezTo>
                  <a:pt x="1947" y="1318"/>
                  <a:pt x="1918" y="1283"/>
                  <a:pt x="1899" y="1213"/>
                </a:cubicBezTo>
                <a:cubicBezTo>
                  <a:pt x="1888" y="1125"/>
                  <a:pt x="1914" y="919"/>
                  <a:pt x="1919" y="847"/>
                </a:cubicBezTo>
                <a:lnTo>
                  <a:pt x="1930" y="779"/>
                </a:lnTo>
                <a:lnTo>
                  <a:pt x="138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3635280" y="3213000"/>
            <a:ext cx="2232000" cy="863640"/>
          </a:xfrm>
          <a:custGeom>
            <a:avLst/>
            <a:gdLst/>
            <a:ahLst/>
            <a:rect l="l" t="t" r="r" b="b"/>
            <a:pathLst>
              <a:path w="1360" h="520">
                <a:moveTo>
                  <a:pt x="1360" y="0"/>
                </a:moveTo>
                <a:lnTo>
                  <a:pt x="640" y="336"/>
                </a:lnTo>
                <a:lnTo>
                  <a:pt x="64" y="37"/>
                </a:lnTo>
                <a:lnTo>
                  <a:pt x="0" y="52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492360" y="2349360"/>
            <a:ext cx="237672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riginal boundary between special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4066920" y="299736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5651640" y="2997360"/>
            <a:ext cx="7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450864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826920" y="4941720"/>
            <a:ext cx="7920360" cy="3293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outline of the amalgamated specialty on a “North American” scal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0.02916 0.45555 E">
                                      <p:cBhvr>
                                        <p:cTn id="25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Polar%20Stereographic"/>
          <p:cNvPicPr/>
          <p:nvPr/>
        </p:nvPicPr>
        <p:blipFill>
          <a:blip r:embed="rId1"/>
          <a:stretch/>
        </p:blipFill>
        <p:spPr>
          <a:xfrm>
            <a:off x="-108000" y="-1108080"/>
            <a:ext cx="9252000" cy="908676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5"/>
          <p:cNvSpPr/>
          <p:nvPr/>
        </p:nvSpPr>
        <p:spPr>
          <a:xfrm>
            <a:off x="3571920" y="3438360"/>
            <a:ext cx="1439640" cy="1632240"/>
          </a:xfrm>
          <a:custGeom>
            <a:avLst/>
            <a:gdLst/>
            <a:ahLst/>
            <a:rect l="l" t="t" r="r" b="b"/>
            <a:pathLst>
              <a:path w="907" h="1028">
                <a:moveTo>
                  <a:pt x="591" y="0"/>
                </a:moveTo>
                <a:cubicBezTo>
                  <a:pt x="493" y="80"/>
                  <a:pt x="93" y="390"/>
                  <a:pt x="0" y="483"/>
                </a:cubicBezTo>
                <a:lnTo>
                  <a:pt x="32" y="557"/>
                </a:lnTo>
                <a:cubicBezTo>
                  <a:pt x="36" y="579"/>
                  <a:pt x="8" y="582"/>
                  <a:pt x="26" y="614"/>
                </a:cubicBezTo>
                <a:lnTo>
                  <a:pt x="137" y="749"/>
                </a:lnTo>
                <a:lnTo>
                  <a:pt x="173" y="719"/>
                </a:lnTo>
                <a:lnTo>
                  <a:pt x="224" y="791"/>
                </a:lnTo>
                <a:lnTo>
                  <a:pt x="295" y="810"/>
                </a:lnTo>
                <a:cubicBezTo>
                  <a:pt x="309" y="807"/>
                  <a:pt x="301" y="777"/>
                  <a:pt x="311" y="770"/>
                </a:cubicBezTo>
                <a:cubicBezTo>
                  <a:pt x="318" y="767"/>
                  <a:pt x="344" y="782"/>
                  <a:pt x="351" y="782"/>
                </a:cubicBezTo>
                <a:cubicBezTo>
                  <a:pt x="364" y="782"/>
                  <a:pt x="336" y="820"/>
                  <a:pt x="351" y="842"/>
                </a:cubicBezTo>
                <a:lnTo>
                  <a:pt x="440" y="911"/>
                </a:lnTo>
                <a:lnTo>
                  <a:pt x="512" y="938"/>
                </a:lnTo>
                <a:lnTo>
                  <a:pt x="692" y="1028"/>
                </a:lnTo>
                <a:lnTo>
                  <a:pt x="768" y="945"/>
                </a:lnTo>
                <a:lnTo>
                  <a:pt x="723" y="699"/>
                </a:lnTo>
                <a:lnTo>
                  <a:pt x="803" y="612"/>
                </a:lnTo>
                <a:lnTo>
                  <a:pt x="907" y="538"/>
                </a:lnTo>
                <a:lnTo>
                  <a:pt x="715" y="366"/>
                </a:lnTo>
                <a:cubicBezTo>
                  <a:pt x="675" y="329"/>
                  <a:pt x="672" y="342"/>
                  <a:pt x="669" y="318"/>
                </a:cubicBezTo>
                <a:cubicBezTo>
                  <a:pt x="666" y="294"/>
                  <a:pt x="690" y="243"/>
                  <a:pt x="695" y="220"/>
                </a:cubicBezTo>
                <a:cubicBezTo>
                  <a:pt x="700" y="197"/>
                  <a:pt x="716" y="217"/>
                  <a:pt x="699" y="181"/>
                </a:cubicBezTo>
                <a:lnTo>
                  <a:pt x="594" y="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-252360" y="-1108080"/>
            <a:ext cx="9577440" cy="2064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  …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nd on a “Northern Hemisphere” scale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20017 -0.19422 E">
                                      <p:cBhvr>
                                        <p:cTn id="26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Customer benef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taff availability &amp; flexibility. Instead of staffing two separate specialties with inherent duplications, only one specialty will be staffed with no du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ill allow human resources to be efficiently focused where nee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lights will be controlled on a large scale, with one ATC unit controlling a flight, vs. many ATC units being involv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Using Polar flights as an example, Edmonton can control a flight for 30% of total air time, and Edmonton’s control actions can have a “down-line” effect for up to 50% of an individual flight’s air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3:26:09Z</dcterms:created>
  <dc:creator>carlsob</dc:creator>
  <dc:description/>
  <dc:language>en-US</dc:language>
  <cp:lastModifiedBy>User</cp:lastModifiedBy>
  <dcterms:modified xsi:type="dcterms:W3CDTF">2012-06-08T15:46:42Z</dcterms:modified>
  <cp:revision>59</cp:revision>
  <dc:subject/>
  <dc:title>Edmonton Airspace Amalgamation</dc:title>
</cp:coreProperties>
</file>