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9A7-F23B-4C72-AE5B-8C57E7D0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A1E-2EEA-424D-833E-A93C1057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11A-766E-49B1-9894-0DA1DB6C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220-BF14-4273-A740-2984352C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A86-CD04-44D6-98D3-8CBA539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27C-3D36-45BB-B04A-7985430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DD7-1952-4DFA-BC0F-7E76A4D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FA0-2641-4962-8132-4A6F027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3B1-C5DF-46AF-A9D5-8DA772DA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78C-44AD-456B-AA82-6CE1B6D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EBB-5561-44E4-AE35-9CE65B56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0C3-6162-4CFE-AD03-9053FB2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448-C274-4154-B6EE-A8C75119A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770480" y="47628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te ATM Corporation of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3419640" y="1773360"/>
            <a:ext cx="2592360" cy="2663640"/>
            <a:chOff x="3419640" y="1773360"/>
            <a:chExt cx="2592360" cy="2663640"/>
          </a:xfrm>
        </p:grpSpPr>
        <p:sp>
          <p:nvSpPr>
            <p:cNvPr id="44" name="Oval 3"/>
            <p:cNvSpPr/>
            <p:nvPr/>
          </p:nvSpPr>
          <p:spPr>
            <a:xfrm>
              <a:off x="3419640" y="1773360"/>
              <a:ext cx="2412000" cy="247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6" descr="знак"/>
            <p:cNvPicPr/>
            <p:nvPr/>
          </p:nvPicPr>
          <p:blipFill>
            <a:blip r:embed="rId1"/>
            <a:stretch/>
          </p:blipFill>
          <p:spPr>
            <a:xfrm>
              <a:off x="3419640" y="1773360"/>
              <a:ext cx="259236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 Box 8"/>
          <p:cNvSpPr/>
          <p:nvPr/>
        </p:nvSpPr>
        <p:spPr>
          <a:xfrm>
            <a:off x="2363040" y="4724280"/>
            <a:ext cx="42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rovements to ATS Rou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une 20 – 22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hanges to the Number of ATS Routes in 2001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12600" y="407880"/>
            <a:ext cx="9080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ansion of ATS Route Mileage in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2001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155520" y="622440"/>
            <a:ext cx="8997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0" y="482760"/>
            <a:ext cx="9105840" cy="6375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136440"/>
            <a:ext cx="89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umber of New ATS Routes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4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7" descr=""/>
          <p:cNvPicPr/>
          <p:nvPr/>
        </p:nvPicPr>
        <p:blipFill>
          <a:blip r:embed="rId1"/>
          <a:stretch/>
        </p:blipFill>
        <p:spPr>
          <a:xfrm>
            <a:off x="0" y="258840"/>
            <a:ext cx="9134640" cy="6599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 Consolidation i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2000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out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общ"/>
          <p:cNvPicPr/>
          <p:nvPr/>
        </p:nvPicPr>
        <p:blipFill>
          <a:blip r:embed="rId1"/>
          <a:stretch/>
        </p:blipFill>
        <p:spPr>
          <a:xfrm>
            <a:off x="30240" y="1574640"/>
            <a:ext cx="9113760" cy="528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сущ трассы"/>
          <p:cNvPicPr/>
          <p:nvPr/>
        </p:nvPicPr>
        <p:blipFill>
          <a:blip r:embed="rId2"/>
          <a:stretch/>
        </p:blipFill>
        <p:spPr>
          <a:xfrm>
            <a:off x="0" y="1558800"/>
            <a:ext cx="9144000" cy="529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персп трассы"/>
          <p:cNvPicPr/>
          <p:nvPr/>
        </p:nvPicPr>
        <p:blipFill>
          <a:blip r:embed="rId3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6:47:20Z</dcterms:created>
  <dc:creator>Mitin</dc:creator>
  <dc:description/>
  <dc:language>en-US</dc:language>
  <cp:lastModifiedBy>Alex</cp:lastModifiedBy>
  <dcterms:modified xsi:type="dcterms:W3CDTF">2012-06-13T13:51:33Z</dcterms:modified>
  <cp:revision>32</cp:revision>
  <dc:subject/>
  <dc:title>Слайд 1</dc:title>
</cp:coreProperties>
</file>