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C99-1269-4556-9FA7-10AF0AD2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48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8F9-E787-40A4-B1CE-48433601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A1F-04D0-4E02-8B1D-D37C642E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48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48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48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1B0-7971-412E-877D-750096F3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944-1D2F-4932-BC20-53162BF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48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48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48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48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48800"/>
            <a:ext cx="264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46E-89B6-468B-9582-3D651D56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29F-7B1C-4202-8401-4128397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B23-CFAD-4C10-86FA-C71AA5D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DD1-9AF3-437E-ABEA-1F1D4FEC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41A-3784-48E9-AF66-973C9C1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4880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270-96A1-4431-A235-E7D8C5C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488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CD3-C7E4-4C5B-9AC3-1D8FD217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6920" y="647676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1920" y="6476760"/>
            <a:ext cx="3124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62520" y="6476760"/>
            <a:ext cx="121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75b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1117-F1F3-41F1-8871-C8E058BE5264}" type="slidenum">
              <a:rPr b="1" lang="en-US" sz="1000" spc="-1" strike="noStrike">
                <a:solidFill>
                  <a:srgbClr val="0075b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dynamicSky_5thPage"/>
          <p:cNvPicPr/>
          <p:nvPr/>
        </p:nvPicPr>
        <p:blipFill>
          <a:blip r:embed="rId2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9080">
            <a:solidFill>
              <a:srgbClr val="007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dynamicSky_3rdPage"/>
          <p:cNvPicPr/>
          <p:nvPr/>
        </p:nvPicPr>
        <p:blipFill>
          <a:blip r:embed="rId2"/>
          <a:stretch/>
        </p:blipFill>
        <p:spPr>
          <a:xfrm>
            <a:off x="0" y="0"/>
            <a:ext cx="9144000" cy="294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124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4279"/>
                </a:solidFill>
                <a:latin typeface="Arial"/>
              </a:rPr>
              <a:t>PACIFIC PROJECT</a:t>
            </a:r>
            <a:br>
              <a:rPr sz="4400"/>
            </a:br>
            <a:r>
              <a:rPr b="1" lang="en-US" sz="4400" spc="-1" strike="noStrike">
                <a:solidFill>
                  <a:srgbClr val="0a4279"/>
                </a:solidFill>
                <a:latin typeface="Arial"/>
              </a:rPr>
              <a:t>Where to now?</a:t>
            </a:r>
            <a:br>
              <a:rPr sz="4400"/>
            </a:br>
            <a:r>
              <a:rPr b="1" lang="en-US" sz="4400" spc="-1" strike="noStrike">
                <a:solidFill>
                  <a:srgbClr val="0a4279"/>
                </a:solidFill>
                <a:latin typeface="Arial"/>
              </a:rPr>
              <a:t>IATA</a:t>
            </a:r>
            <a:br>
              <a:rPr sz="4400"/>
            </a:br>
            <a:r>
              <a:rPr b="1" lang="en-US" sz="2000" spc="-1" strike="noStrike">
                <a:solidFill>
                  <a:srgbClr val="0a4279"/>
                </a:solidFill>
                <a:latin typeface="Arial"/>
              </a:rPr>
              <a:t>PPT/3 Reykjavik 19 June 2012</a:t>
            </a:r>
            <a:endParaRPr b="0" lang="en-US" sz="2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739A-1B38-46D3-8A87-5677D206A12A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gree a set of principles to guide the discussion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gree on a series of alternative or options which will deliver benefit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Select the most appropriate options or series of option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Plan implementation with specific action and timeframe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 commitment from all partie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A7D-220D-4FF5-BE50-F7EA7E15F624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Today and for our next meeting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gree this group is appropriate now - or suggest an alternative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gree a set of principles which guides the discussion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Workshop the restriction on UPR today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Next meeting of Pacific Project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 commitment from ANSP/States to be present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More than three hours 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What is ICAO’s commitment to this project – are they playing lip service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Between now and next meeting develop strategies to unlock restriction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802-6F06-4C93-8304-821DB5D2C2E5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Principles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Make best use of avionics today and planned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Performance based objective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Compliance with ICAO or State Regulatory regime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Safety case and positive cost benefit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Best equipped best served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SBU roadmap for change to facilitate global harmonization –  is PP the NextGen/SESAR crossroad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Options?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Why can’t we implement UPR today on North Pacific Tracks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Lack of surveillance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Lack of conflict probe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Airlines ability to file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Lack of harmonization between States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Interoperability between providers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61A-3E49-48BE-9205-C27A23F3600C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Select option/s today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Need to take a long term view but also short term initiatives 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Plan for tomorrow but deliver BENEFITS today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The Industry has too many “uncashed” promises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Why can’t we implement UPR today on North Pacific Tracks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Lack of surveillance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Lack of conflict probe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Airlines ability to file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Lack of harmonization between States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Interoperability between providers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5bd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What is our aim short term (12 months max) and long term (five years max)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C6E-B057-4E55-9F32-4AFDA29C6FD9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895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Having listed the impediment then what is needed to unlock these impediments – States affected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gree a timeframe for change – States affected/airline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gree an implementation schedule - All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llocate the work, safety cases etc - All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0CD-3124-43CF-BB49-C0AB227659F0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CA81-2995-47DF-ADF1-545E0D768B0C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pic>
        <p:nvPicPr>
          <p:cNvPr id="155" name="Picture 2" descr="AirlinersNetPhotoID246872v2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06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0" y="1405080"/>
            <a:ext cx="4648320" cy="2274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361960" y="51811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5bd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12408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4279"/>
                </a:solidFill>
                <a:latin typeface="Arial"/>
              </a:rPr>
              <a:t>PACIFIC PROJECT</a:t>
            </a:r>
            <a:br>
              <a:rPr sz="4400"/>
            </a:br>
            <a:endParaRPr b="0" lang="en-US" sz="4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553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Is this the right forum for this discussion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If so then how do we move forward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This presentation sets out the strategic context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Proposes a workshop at next meeting to make progress 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Importance of Air Transport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437920"/>
            <a:ext cx="2819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To what extent to we think the current infrastructure can support this growth?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484-9DB0-4ACE-BC46-6C49442957EF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pic>
        <p:nvPicPr>
          <p:cNvPr id="90" name="Picture 2" descr="C:\Users\mcleank\AppData\Local\Microsoft\Windows\Temporary Internet Files\Content.Outlook\3HTKJTPJ\Description http__www bangkokpost com_media_content_20120618_398576.jpg"/>
          <p:cNvPicPr/>
          <p:nvPr/>
        </p:nvPicPr>
        <p:blipFill>
          <a:blip r:embed="rId1"/>
          <a:stretch/>
        </p:blipFill>
        <p:spPr>
          <a:xfrm>
            <a:off x="3276720" y="2514600"/>
            <a:ext cx="5333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Regulatory not in step with technology?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437920"/>
            <a:ext cx="2819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One example of where technology improvement is not recognized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5854-3A6F-4540-9B04-711B5F274958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525840" y="243828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Traffic growth prediction ICAO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D3D-3405-4887-B648-FF10B3CCAD36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8305560" cy="373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Traffic growth prediction ICAO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A51-770E-4983-9B99-237CEC43B132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  <p:pic>
        <p:nvPicPr>
          <p:cNvPr id="106" name="Picture 3" descr="Description: cid:image001.png@01CD029B.53D6B9A0"/>
          <p:cNvPicPr/>
          <p:nvPr/>
        </p:nvPicPr>
        <p:blipFill>
          <a:blip r:embed="rId1"/>
          <a:stretch/>
        </p:blipFill>
        <p:spPr>
          <a:xfrm>
            <a:off x="1066680" y="2590920"/>
            <a:ext cx="7620120" cy="349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Evolution – can we wait?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8951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1940/50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5bd"/>
                </a:solidFill>
                <a:latin typeface="Arial"/>
              </a:rPr>
              <a:t>Air Traffic Control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–tactical ATC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1990/2000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5bd"/>
                </a:solidFill>
                <a:latin typeface="Arial"/>
              </a:rPr>
              <a:t>Air Traffic management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trategic flows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2040/50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75bd"/>
                </a:solidFill>
                <a:latin typeface="Arial"/>
              </a:rPr>
              <a:t>Air Traffic Monitoring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– self 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75bd"/>
                </a:solidFill>
                <a:latin typeface="Arial"/>
              </a:rPr>
              <a:t>separation, autonomous flight</a:t>
            </a: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84D-5EF6-4217-B1E6-6E5F61515E12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Evolution – can we wait?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6668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Can the 192 ANSP’s, and their associated Regulators, adopt the Regulatory changes necessary for autonomous flight in future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Will the divide of the “can” and “can’t” simply widen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These questions go beyond our task but Pacific Project could have huge strategic significance if we can make it work?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A56B-E515-4135-942A-834747B66F52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4279"/>
                </a:solidFill>
                <a:latin typeface="Arial"/>
              </a:rPr>
              <a:t>But it is not a one sided discussion</a:t>
            </a:r>
            <a:endParaRPr b="0" lang="en-US" sz="36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8954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Two IP’s to CPWG indicate States are making an effort but airlines are failing to make use of the potential benefit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Low Density on new RNAV routes – State ATM Russia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Lack of RNP4 filing in Oakland FIR – FAA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a4279"/>
              </a:buClr>
              <a:buSzPct val="6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The myriad of conflicting route requests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a4279"/>
              </a:buClr>
              <a:buSzPct val="85000"/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d"/>
                </a:solidFill>
                <a:latin typeface="Arial"/>
              </a:rPr>
              <a:t>Airlines need to smarten up and get educated</a:t>
            </a:r>
            <a:endParaRPr b="0" lang="en-US" sz="2000" spc="-1" strike="noStrike">
              <a:solidFill>
                <a:srgbClr val="0075bd"/>
              </a:solidFill>
              <a:latin typeface="Arial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867280" y="6477120"/>
            <a:ext cx="304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152280" y="6477120"/>
            <a:ext cx="312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4279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62520" y="64771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9F7E-AD6D-4AFE-95E8-9D290BA9548A}" type="slidenum">
              <a:rPr b="1" lang="en-US" sz="1000" spc="-1" strike="noStrike">
                <a:solidFill>
                  <a:srgbClr val="0075b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a427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5:31:22Z</dcterms:created>
  <dc:creator>mcleank</dc:creator>
  <dc:description/>
  <dc:language>en-US</dc:language>
  <cp:lastModifiedBy>IATA</cp:lastModifiedBy>
  <cp:lastPrinted>2012-03-28T11:06:47Z</cp:lastPrinted>
  <dcterms:modified xsi:type="dcterms:W3CDTF">2012-06-19T00:12:35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