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4057-B676-42EB-BF83-70C9AA80D21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B39C-6812-43F1-B5E2-4D56A0B6D2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990F-C4FA-4D37-BD64-A1EFEDA883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DD0F-07A6-433C-8A07-1C9A0A2992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Present at CPWG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iege, Manager, Edmonton Area Control Centre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/Mean = In mathematics and statistics, the arithmetic mean, or simply the mean or average when the context is clear, is the central tendency of a collection of numbers taken as the sum of the numbers divided by the size of the col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 = In statistics, the mode is the value that occurs most frequently in a data set or a probability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7AEA-384E-4765-919F-DDC4AD2912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value occurs when the flight reaches the fix earlier than the estimate. The formula used was actual time minus estimated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9 value was due to a CAATS software e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9 &amp; -10 values were due to a more direct routing for a CPA flight off ETOPS route to direct ro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37B0-2C65-4347-98A9-F09A18088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averages at 141W. Data also available for individual air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s at FL350 @ 141W were cleared to FL360 to reach FL360 by 165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CB2-46E4-4441-9DFF-328C2772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EC5-BD9C-41AE-B13E-232E8F18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935-B69B-4E1A-B2A9-81C2D614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5D1-A069-48B0-87CA-FF11EC73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0D144-33CC-4216-B752-2C82CCD8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D121A-1C13-4149-8395-766070A2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40858-52D4-4888-92E3-42BCABF5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3457A-3A81-4764-A046-467D1A64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9F84E-6B05-4F29-9ED3-128FC221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F3CAC-A030-4EC7-8F87-D6409FA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3FBD5-969E-4E91-A470-A298F72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9A7-DF52-4A23-B80E-AD98FC76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FE270-A871-40DC-98B4-0809183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E3BB0-117F-4D47-82B2-42B9B778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1BE57-8401-4E5C-828B-08EA39AB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2AEF6-B6A5-41DA-8E3A-130A2D03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D893C-9BFD-454B-8E71-DC1EE2E1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611B-AF3A-4CCD-B55B-639CA75C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BB4C-80FA-41A0-B76F-E3220058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A8FD-E5BE-4E82-BBDE-6BEEB4A6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D926-936B-4CE9-93FD-FC0240A6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AA44-1CFE-4BDB-8DBB-4AE1EE28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4EE-A99D-45FB-ACAB-F999827F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C5B3-EB11-4D69-85D3-F0D96DA8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9197-E0B2-4E51-95E3-5E1FE327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5601-1D8D-4704-B9F3-3714AA0F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83EA-468B-45EF-B67B-49FE5DAE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DC76-614E-4104-AF39-25F98B2E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8DF2-B359-45D7-810F-BE08DCAE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3923-614F-478A-8E51-AC6E985F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C872C-32FE-4571-B556-40A4778C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0B693-48F7-47A3-928B-DE18661B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A762F-B455-4733-98CD-A488C312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0F2-8D7D-4E77-B8DB-E27D8C09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C29D6-A1D7-4FD0-9854-C43673F1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22954-9AD1-42C0-A361-D2D92784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F3B65-F209-41DE-8B84-6BAF0099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51480-ED31-47A7-B143-EC3BC33D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E016A-8E0B-44B6-B51B-C5CEB56D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FE9CA-198B-4BF4-81C6-131FDD6D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9B567-0F77-45D2-AA2A-C3F96D28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79B90-1C15-4C8D-8C0B-BCA5E0DC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BE219-A96F-4BD5-AEB4-D3C5C57E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107-ED32-4AFA-A3B4-0EB44F09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A1C-75E3-4079-9C03-47A9E2AB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7BA-B819-4B52-BD0E-E0810D4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005-AA0D-418D-8C79-43168FA5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928-18C7-40A4-AAD9-8C389BC5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B4F4-AAB1-49CF-BFF2-D04E938BDC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24ED-B35B-4234-8F0C-D4C7A0D0C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A2C-6DBC-4734-A70A-2DD653D6608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2E10-348D-4C4A-8D1B-58733E617E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NAV_PPT-med_title-e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ZEG-ACC-200105-01 crop640"/>
          <p:cNvPicPr/>
          <p:nvPr/>
        </p:nvPicPr>
        <p:blipFill>
          <a:blip r:embed="rId2"/>
          <a:stretch/>
        </p:blipFill>
        <p:spPr>
          <a:xfrm>
            <a:off x="4643280" y="429264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ZEG-ACC-200105-07 640"/>
          <p:cNvPicPr/>
          <p:nvPr/>
        </p:nvPicPr>
        <p:blipFill>
          <a:blip r:embed="rId3"/>
          <a:stretch/>
        </p:blipFill>
        <p:spPr>
          <a:xfrm>
            <a:off x="6948360" y="4292640"/>
            <a:ext cx="2195640" cy="1846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RW_2874a 640"/>
          <p:cNvPicPr/>
          <p:nvPr/>
        </p:nvPicPr>
        <p:blipFill>
          <a:blip r:embed="rId4"/>
          <a:srcRect l="0" t="8935" r="0" b="0"/>
          <a:stretch/>
        </p:blipFill>
        <p:spPr>
          <a:xfrm>
            <a:off x="2050920" y="429264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CRW_2881a 640"/>
          <p:cNvPicPr/>
          <p:nvPr/>
        </p:nvPicPr>
        <p:blipFill>
          <a:blip r:embed="rId5"/>
          <a:stretch/>
        </p:blipFill>
        <p:spPr>
          <a:xfrm>
            <a:off x="0" y="429264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395280" y="1341360"/>
            <a:ext cx="856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 Area Control Centre presentation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POLAR WORKING GROU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DPO Update – A NAV CANADA Perspectiv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ykjavik,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Lýðveldið Ís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9-22, 201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by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yon Carl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 ACC North High &amp; Shield Supervisor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lculation Sheet Sam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1" name="Picture 8" descr="img003"/>
          <p:cNvPicPr/>
          <p:nvPr/>
        </p:nvPicPr>
        <p:blipFill>
          <a:blip r:embed="rId1"/>
          <a:stretch/>
        </p:blipFill>
        <p:spPr>
          <a:xfrm>
            <a:off x="1042920" y="1828800"/>
            <a:ext cx="3886200" cy="502920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9"/>
          <p:cNvSpPr/>
          <p:nvPr/>
        </p:nvSpPr>
        <p:spPr>
          <a:xfrm>
            <a:off x="1835280" y="2781360"/>
            <a:ext cx="43164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4284720" y="3933720"/>
            <a:ext cx="504720" cy="35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1258920" y="3068640"/>
            <a:ext cx="2736720" cy="576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AutoShape 12"/>
          <p:cNvSpPr/>
          <p:nvPr/>
        </p:nvSpPr>
        <p:spPr>
          <a:xfrm>
            <a:off x="2124000" y="4653000"/>
            <a:ext cx="43200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AutoShape 13"/>
          <p:cNvSpPr/>
          <p:nvPr/>
        </p:nvSpPr>
        <p:spPr>
          <a:xfrm>
            <a:off x="4284720" y="5516640"/>
            <a:ext cx="504720" cy="358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2627280" y="5950080"/>
            <a:ext cx="2162160" cy="358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1403280" y="5661000"/>
            <a:ext cx="8650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5292720" y="1989000"/>
            <a:ext cx="36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5076720" y="1916280"/>
            <a:ext cx="406728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Key dat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Time of initial calc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Speed &amp; altitude for calc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Initial estimate for 14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º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W &amp; Russian en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ntry time into CZE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Speed &amp;/or altitude adjus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update for 14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º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W/Russian en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Final 14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º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W speed, altitude &amp; time, with ETA for Russian en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68360" y="2638440"/>
            <a:ext cx="2951280" cy="287280"/>
          </a:xfrm>
          <a:custGeom>
            <a:avLst/>
            <a:gdLst/>
            <a:ahLst/>
            <a:rect l="l" t="t" r="r" b="b"/>
            <a:pathLst>
              <a:path w="1859" h="181">
                <a:moveTo>
                  <a:pt x="0" y="181"/>
                </a:moveTo>
                <a:lnTo>
                  <a:pt x="1169" y="126"/>
                </a:lnTo>
                <a:lnTo>
                  <a:pt x="1859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3995640" y="3068640"/>
            <a:ext cx="1224000" cy="73080"/>
          </a:xfrm>
          <a:custGeom>
            <a:avLst/>
            <a:gdLst/>
            <a:ahLst/>
            <a:rect l="l" t="t" r="r" b="b"/>
            <a:pathLst>
              <a:path w="771" h="46">
                <a:moveTo>
                  <a:pt x="0" y="46"/>
                </a:moveTo>
                <a:lnTo>
                  <a:pt x="771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4788000" y="3500280"/>
            <a:ext cx="431640" cy="505080"/>
          </a:xfrm>
          <a:custGeom>
            <a:avLst/>
            <a:gdLst/>
            <a:ahLst/>
            <a:rect l="l" t="t" r="r" b="b"/>
            <a:pathLst>
              <a:path w="240" h="127">
                <a:moveTo>
                  <a:pt x="0" y="127"/>
                </a:moveTo>
                <a:lnTo>
                  <a:pt x="240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Freeform 23"/>
          <p:cNvSpPr/>
          <p:nvPr/>
        </p:nvSpPr>
        <p:spPr>
          <a:xfrm>
            <a:off x="2556000" y="4292640"/>
            <a:ext cx="2663640" cy="506520"/>
          </a:xfrm>
          <a:custGeom>
            <a:avLst/>
            <a:gdLst/>
            <a:ahLst/>
            <a:rect l="l" t="t" r="r" b="b"/>
            <a:pathLst>
              <a:path w="1633" h="228">
                <a:moveTo>
                  <a:pt x="0" y="228"/>
                </a:moveTo>
                <a:lnTo>
                  <a:pt x="1633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268360" y="4724280"/>
            <a:ext cx="2951280" cy="1081080"/>
          </a:xfrm>
          <a:custGeom>
            <a:avLst/>
            <a:gdLst/>
            <a:ahLst/>
            <a:rect l="l" t="t" r="r" b="b"/>
            <a:pathLst>
              <a:path w="1859" h="681">
                <a:moveTo>
                  <a:pt x="0" y="681"/>
                </a:moveTo>
                <a:lnTo>
                  <a:pt x="843" y="500"/>
                </a:lnTo>
                <a:lnTo>
                  <a:pt x="1859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4788000" y="5157720"/>
            <a:ext cx="431640" cy="432000"/>
          </a:xfrm>
          <a:custGeom>
            <a:avLst/>
            <a:gdLst/>
            <a:ahLst/>
            <a:rect l="l" t="t" r="r" b="b"/>
            <a:pathLst>
              <a:path w="264" h="153">
                <a:moveTo>
                  <a:pt x="0" y="153"/>
                </a:moveTo>
                <a:lnTo>
                  <a:pt x="264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716360" y="5877000"/>
            <a:ext cx="503280" cy="73080"/>
          </a:xfrm>
          <a:custGeom>
            <a:avLst/>
            <a:gdLst/>
            <a:ahLst/>
            <a:rect l="l" t="t" r="r" b="b"/>
            <a:pathLst>
              <a:path w="256" h="93">
                <a:moveTo>
                  <a:pt x="0" y="93"/>
                </a:moveTo>
                <a:lnTo>
                  <a:pt x="25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nalysis resul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hen comparing the initial Edmonton calculation for the Russian entry point, vs. the final pilot estimate for the Russian entry point (from the 14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 position report), Edmonton was “off” by an </a:t>
            </a:r>
            <a:r>
              <a:rPr b="1" lang="en-CA" sz="2400" spc="-1" strike="noStrike" u="sng">
                <a:solidFill>
                  <a:srgbClr val="ffffff"/>
                </a:solidFill>
                <a:uFillTx/>
                <a:latin typeface="Tahoma"/>
              </a:rPr>
              <a:t>average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of………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6 seconds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s compared to the GRL times being off by an average of 9 minutes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is data </a:t>
            </a:r>
            <a:r>
              <a:rPr b="0" lang="en-CA" sz="2400" spc="-1" strike="noStrike" u="sng">
                <a:solidFill>
                  <a:srgbClr val="ffffff"/>
                </a:solidFill>
                <a:uFillTx/>
                <a:latin typeface="Tahoma"/>
              </a:rPr>
              <a:t>includes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2 CPA flights that were cleared off ETOPS routes on to more direct routes, saving 9 &amp; 10 minu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500" autoRev="1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5"/>
          <p:cNvGraphicFramePr/>
          <p:nvPr/>
        </p:nvGraphicFramePr>
        <p:xfrm>
          <a:off x="395280" y="404640"/>
          <a:ext cx="856944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856944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6"/>
          <p:cNvSpPr/>
          <p:nvPr/>
        </p:nvSpPr>
        <p:spPr>
          <a:xfrm>
            <a:off x="324000" y="62784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 deviation was 2 minutes 20 second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Line 11"/>
          <p:cNvSpPr/>
          <p:nvPr/>
        </p:nvSpPr>
        <p:spPr>
          <a:xfrm>
            <a:off x="4211640" y="1484280"/>
            <a:ext cx="1440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4211640" y="1197000"/>
            <a:ext cx="0" cy="273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13"/>
          <p:cNvSpPr/>
          <p:nvPr/>
        </p:nvSpPr>
        <p:spPr>
          <a:xfrm flipV="1">
            <a:off x="5651640" y="1197000"/>
            <a:ext cx="0" cy="273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95280" y="4900680"/>
            <a:ext cx="8748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is “a measure of how widely values are dispersed from the average value (the mean)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4932360" y="11970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2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5"/>
          <p:cNvGraphicFramePr/>
          <p:nvPr/>
        </p:nvGraphicFramePr>
        <p:xfrm>
          <a:off x="395280" y="404640"/>
          <a:ext cx="849780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849780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6"/>
          <p:cNvSpPr/>
          <p:nvPr/>
        </p:nvSpPr>
        <p:spPr>
          <a:xfrm>
            <a:off x="611280" y="5229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 deviation was 1 minute 53 seco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7"/>
          <p:cNvSpPr/>
          <p:nvPr/>
        </p:nvSpPr>
        <p:spPr>
          <a:xfrm flipV="1">
            <a:off x="4427640" y="112500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Line 8"/>
          <p:cNvSpPr/>
          <p:nvPr/>
        </p:nvSpPr>
        <p:spPr>
          <a:xfrm flipV="1">
            <a:off x="5435640" y="1197000"/>
            <a:ext cx="0" cy="273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4427640" y="141300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250" autoRev="1" fill="hold"/>
                                        <p:tgtEl>
                                          <p:spTgt spid="2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25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ther data collect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ified average aircraft altitudes &amp; speeds – critical for calculating accurate “long range” estimates, and for determining altitude priority when need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4360" y="3357720"/>
          <a:ext cx="8459640" cy="3211200"/>
        </p:xfrm>
        <a:graphic>
          <a:graphicData uri="http://schemas.openxmlformats.org/drawingml/2006/table">
            <a:tbl>
              <a:tblPr/>
              <a:tblGrid>
                <a:gridCol w="1692000"/>
                <a:gridCol w="1692360"/>
                <a:gridCol w="1690560"/>
                <a:gridCol w="1692360"/>
                <a:gridCol w="1692360"/>
              </a:tblGrid>
              <a:tr h="46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erage. Al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 Al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g. Spe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 Spe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3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77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7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77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3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.8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eaeaea"/>
                </a:solidFill>
                <a:latin typeface="Tahoma"/>
              </a:rPr>
              <a:t>Altitude distribution @ 141</a:t>
            </a:r>
            <a:r>
              <a:rPr b="1" lang="en-US" sz="4200" spc="-1" strike="noStrike">
                <a:solidFill>
                  <a:srgbClr val="eaeaea"/>
                </a:solidFill>
                <a:latin typeface="Tahoma"/>
                <a:ea typeface="Tahoma"/>
              </a:rPr>
              <a:t>°</a:t>
            </a:r>
            <a:r>
              <a:rPr b="1" lang="en-CA" sz="4200" spc="-1" strike="noStrike">
                <a:solidFill>
                  <a:srgbClr val="eaeaea"/>
                </a:solidFill>
                <a:latin typeface="Tahoma"/>
              </a:rPr>
              <a:t>W</a:t>
            </a:r>
            <a:endParaRPr b="1" lang="en-US" sz="4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280" y="1980720"/>
            <a:ext cx="82090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L300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L320 – 8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L340 – 23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L350 –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L360 – 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L380 –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= 358/365 Fl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+ 14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 data for 5 flights never collected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+ 2 ACA flights diverted prior to 141W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= 365 Fl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Freeform 5"/>
          <p:cNvSpPr/>
          <p:nvPr/>
        </p:nvSpPr>
        <p:spPr>
          <a:xfrm>
            <a:off x="2984400" y="3479760"/>
            <a:ext cx="451080" cy="432000"/>
          </a:xfrm>
          <a:custGeom>
            <a:avLst/>
            <a:gdLst/>
            <a:ahLst/>
            <a:rect l="l" t="t" r="r" b="b"/>
            <a:pathLst>
              <a:path w="284" h="272">
                <a:moveTo>
                  <a:pt x="0" y="0"/>
                </a:moveTo>
                <a:lnTo>
                  <a:pt x="284" y="0"/>
                </a:lnTo>
                <a:lnTo>
                  <a:pt x="276" y="272"/>
                </a:lnTo>
                <a:lnTo>
                  <a:pt x="8" y="27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oing forward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MU access granted. Attempted to use some of the data calculated in previous slid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ftware issu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PO not upd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ld information “stuck” in DP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ble to logon &amp; view, but not always change, even with TMU level acc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oing forward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discussions with FAA technical support in Atlantic 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FAA software deployment on May 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2012 with several issues to be addres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ible “Parallel/test bed” system access in future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oing forwa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May 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2012 software chan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local Edmonton protocol for daily, consistent, updating of DP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of DPO to NAV CANADA portal/NOC p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0" y="-531720"/>
            <a:ext cx="9650520" cy="69850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8"/>
          <p:cNvSpPr/>
          <p:nvPr/>
        </p:nvSpPr>
        <p:spPr>
          <a:xfrm>
            <a:off x="0" y="4221000"/>
            <a:ext cx="9144000" cy="2399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TC estimat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imes for RAMEL for ACA031 &amp; CPA831 (both flights were still south of CZEG air space) were: 0136Z &amp; 0143Z – 7 minutes in tra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A was unable faster than M.83, so CPA was reduced to A.82- while still in YUL airspa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is screen shot, internal CZEG comments showed Assigned spee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PO was updated to show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evis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TC estimated ti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4067280" y="3860640"/>
            <a:ext cx="503280" cy="266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4932360" y="3860640"/>
            <a:ext cx="503280" cy="266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AutoShape 11"/>
          <p:cNvSpPr/>
          <p:nvPr/>
        </p:nvSpPr>
        <p:spPr>
          <a:xfrm>
            <a:off x="250920" y="3860640"/>
            <a:ext cx="503280" cy="266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0" y="-530280"/>
            <a:ext cx="9252000" cy="1922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DPO Exampl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250" autoRev="1" fill="hold"/>
                                        <p:tgtEl>
                                          <p:spTgt spid="3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etting Started with DP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dmonton ACC/NAV CANADA gained access to DPO (“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Tahoma"/>
              </a:rPr>
              <a:t>D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OTS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lus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nline”) in August, 2011, after over 1 year of preparations with the FAA at the IT level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all of 2011 - the connectivity was evaluated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ll “logon/logoff” connections functioned!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otential for future use of DPO was then further evaluated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is evaluation took place from Fall/2011 to Spring/2012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-531720"/>
            <a:ext cx="9651960" cy="698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0" y="4365720"/>
            <a:ext cx="9144000" cy="2094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0 minutes later, ACA was able M.84, and was assigned A.84+.                  CPA maintained the reduced A.82-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is screen shot, internal CZEG comments showed Assigned speed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PO was updated to show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evis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TC estimated ti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067280" y="4005360"/>
            <a:ext cx="503280" cy="266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5003640" y="4005360"/>
            <a:ext cx="503280" cy="266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25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aeaea"/>
                </a:solidFill>
                <a:latin typeface="Tahoma"/>
              </a:rPr>
              <a:t>NAV CANADA’s DPO Objectiv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onsistently enter accurate data for the benefit of all DPO us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066320" y="537660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4" descr="World3"/>
          <p:cNvPicPr/>
          <p:nvPr/>
        </p:nvPicPr>
        <p:blipFill>
          <a:blip r:embed="rId1"/>
          <a:stretch/>
        </p:blipFill>
        <p:spPr>
          <a:xfrm>
            <a:off x="-1141560" y="-674640"/>
            <a:ext cx="10285560" cy="1028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Freeform 5"/>
          <p:cNvSpPr/>
          <p:nvPr/>
        </p:nvSpPr>
        <p:spPr>
          <a:xfrm rot="19847400">
            <a:off x="3708000" y="1844280"/>
            <a:ext cx="48276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7152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Freeform 6"/>
          <p:cNvSpPr/>
          <p:nvPr/>
        </p:nvSpPr>
        <p:spPr>
          <a:xfrm rot="18966600">
            <a:off x="5651640" y="2707920"/>
            <a:ext cx="48240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cc3300"/>
              </a:gs>
            </a:gsLst>
            <a:lin ang="8034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Freeform 7"/>
          <p:cNvSpPr/>
          <p:nvPr/>
        </p:nvSpPr>
        <p:spPr>
          <a:xfrm rot="19709400">
            <a:off x="3348000" y="2997000"/>
            <a:ext cx="482760" cy="46008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66"/>
              </a:gs>
            </a:gsLst>
            <a:lin ang="1890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3708360" y="414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5364000" y="5013360"/>
            <a:ext cx="378000" cy="360360"/>
          </a:xfrm>
          <a:custGeom>
            <a:avLst/>
            <a:gdLst/>
            <a:ahLst/>
            <a:rect l="l" t="t" r="r" b="b"/>
            <a:pathLst>
              <a:path w="377825" h="360363">
                <a:moveTo>
                  <a:pt x="0" y="137646"/>
                </a:moveTo>
                <a:lnTo>
                  <a:pt x="144317" y="137647"/>
                </a:lnTo>
                <a:lnTo>
                  <a:pt x="188913" y="0"/>
                </a:lnTo>
                <a:lnTo>
                  <a:pt x="233508" y="137647"/>
                </a:lnTo>
                <a:lnTo>
                  <a:pt x="377825" y="137646"/>
                </a:lnTo>
                <a:lnTo>
                  <a:pt x="261069" y="222716"/>
                </a:lnTo>
                <a:lnTo>
                  <a:pt x="305667" y="360362"/>
                </a:lnTo>
                <a:lnTo>
                  <a:pt x="188913" y="275291"/>
                </a:lnTo>
                <a:lnTo>
                  <a:pt x="72158" y="360362"/>
                </a:lnTo>
                <a:lnTo>
                  <a:pt x="116756" y="222716"/>
                </a:lnTo>
                <a:lnTo>
                  <a:pt x="0" y="137646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AutoShape 11"/>
          <p:cNvSpPr/>
          <p:nvPr/>
        </p:nvSpPr>
        <p:spPr>
          <a:xfrm>
            <a:off x="5076720" y="6021360"/>
            <a:ext cx="378000" cy="360360"/>
          </a:xfrm>
          <a:custGeom>
            <a:avLst/>
            <a:gdLst/>
            <a:ahLst/>
            <a:rect l="l" t="t" r="r" b="b"/>
            <a:pathLst>
              <a:path w="377825" h="360362">
                <a:moveTo>
                  <a:pt x="0" y="137646"/>
                </a:moveTo>
                <a:lnTo>
                  <a:pt x="144317" y="137647"/>
                </a:lnTo>
                <a:lnTo>
                  <a:pt x="188913" y="0"/>
                </a:lnTo>
                <a:lnTo>
                  <a:pt x="233508" y="137647"/>
                </a:lnTo>
                <a:lnTo>
                  <a:pt x="377825" y="137646"/>
                </a:lnTo>
                <a:lnTo>
                  <a:pt x="261069" y="222715"/>
                </a:lnTo>
                <a:lnTo>
                  <a:pt x="305667" y="360361"/>
                </a:lnTo>
                <a:lnTo>
                  <a:pt x="188913" y="275290"/>
                </a:lnTo>
                <a:lnTo>
                  <a:pt x="72158" y="360361"/>
                </a:lnTo>
                <a:lnTo>
                  <a:pt x="116756" y="222715"/>
                </a:lnTo>
                <a:lnTo>
                  <a:pt x="0" y="13764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00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AutoShape 12"/>
          <p:cNvSpPr/>
          <p:nvPr/>
        </p:nvSpPr>
        <p:spPr>
          <a:xfrm>
            <a:off x="5796000" y="4653000"/>
            <a:ext cx="377640" cy="360360"/>
          </a:xfrm>
          <a:custGeom>
            <a:avLst/>
            <a:gdLst/>
            <a:ahLst/>
            <a:rect l="l" t="t" r="r" b="b"/>
            <a:pathLst>
              <a:path w="377825" h="360362">
                <a:moveTo>
                  <a:pt x="0" y="137646"/>
                </a:moveTo>
                <a:lnTo>
                  <a:pt x="144317" y="137647"/>
                </a:lnTo>
                <a:lnTo>
                  <a:pt x="188913" y="0"/>
                </a:lnTo>
                <a:lnTo>
                  <a:pt x="233508" y="137647"/>
                </a:lnTo>
                <a:lnTo>
                  <a:pt x="377825" y="137646"/>
                </a:lnTo>
                <a:lnTo>
                  <a:pt x="261069" y="222715"/>
                </a:lnTo>
                <a:lnTo>
                  <a:pt x="305667" y="360361"/>
                </a:lnTo>
                <a:lnTo>
                  <a:pt x="188913" y="275290"/>
                </a:lnTo>
                <a:lnTo>
                  <a:pt x="72158" y="360361"/>
                </a:lnTo>
                <a:lnTo>
                  <a:pt x="116756" y="222715"/>
                </a:lnTo>
                <a:lnTo>
                  <a:pt x="0" y="137646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AutoShape 13"/>
          <p:cNvSpPr/>
          <p:nvPr/>
        </p:nvSpPr>
        <p:spPr>
          <a:xfrm>
            <a:off x="5940360" y="5661000"/>
            <a:ext cx="378000" cy="360360"/>
          </a:xfrm>
          <a:custGeom>
            <a:avLst/>
            <a:gdLst/>
            <a:ahLst/>
            <a:rect l="l" t="t" r="r" b="b"/>
            <a:pathLst>
              <a:path w="377825" h="360363">
                <a:moveTo>
                  <a:pt x="0" y="137646"/>
                </a:moveTo>
                <a:lnTo>
                  <a:pt x="144317" y="137647"/>
                </a:lnTo>
                <a:lnTo>
                  <a:pt x="188913" y="0"/>
                </a:lnTo>
                <a:lnTo>
                  <a:pt x="233508" y="137647"/>
                </a:lnTo>
                <a:lnTo>
                  <a:pt x="377825" y="137646"/>
                </a:lnTo>
                <a:lnTo>
                  <a:pt x="261069" y="222716"/>
                </a:lnTo>
                <a:lnTo>
                  <a:pt x="305667" y="360362"/>
                </a:lnTo>
                <a:lnTo>
                  <a:pt x="188913" y="275291"/>
                </a:lnTo>
                <a:lnTo>
                  <a:pt x="72158" y="360362"/>
                </a:lnTo>
                <a:lnTo>
                  <a:pt x="116756" y="222716"/>
                </a:lnTo>
                <a:lnTo>
                  <a:pt x="0" y="137646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AutoShape 14"/>
          <p:cNvSpPr/>
          <p:nvPr/>
        </p:nvSpPr>
        <p:spPr>
          <a:xfrm>
            <a:off x="6084720" y="4869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AutoShape 15"/>
          <p:cNvSpPr/>
          <p:nvPr/>
        </p:nvSpPr>
        <p:spPr>
          <a:xfrm>
            <a:off x="6012000" y="4365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22" name="AutoShape 18"/>
          <p:cNvCxnSpPr>
            <a:stCxn id="315" idx="0"/>
            <a:endCxn id="320" idx="0"/>
          </p:cNvCxnSpPr>
          <p:nvPr/>
        </p:nvCxnSpPr>
        <p:spPr>
          <a:xfrm>
            <a:off x="4165200" y="4378320"/>
            <a:ext cx="19198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AutoShape 21"/>
          <p:cNvCxnSpPr>
            <a:stCxn id="320" idx="1"/>
            <a:endCxn id="319" idx="0"/>
          </p:cNvCxnSpPr>
          <p:nvPr/>
        </p:nvCxnSpPr>
        <p:spPr>
          <a:xfrm flipH="1">
            <a:off x="6128640" y="5326200"/>
            <a:ext cx="1846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4" name="AutoShape 22"/>
          <p:cNvCxnSpPr>
            <a:stCxn id="320" idx="2"/>
            <a:endCxn id="317" idx="0"/>
          </p:cNvCxnSpPr>
          <p:nvPr/>
        </p:nvCxnSpPr>
        <p:spPr>
          <a:xfrm flipH="1">
            <a:off x="5265360" y="5325840"/>
            <a:ext cx="104832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5" name="AutoShape 23"/>
          <p:cNvCxnSpPr>
            <a:stCxn id="320" idx="3"/>
            <a:endCxn id="316" idx="4"/>
          </p:cNvCxnSpPr>
          <p:nvPr/>
        </p:nvCxnSpPr>
        <p:spPr>
          <a:xfrm flipH="1" flipV="1">
            <a:off x="5741280" y="5150880"/>
            <a:ext cx="5720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6" name="AutoShape 24"/>
          <p:cNvCxnSpPr>
            <a:stCxn id="320" idx="4"/>
            <a:endCxn id="318" idx="3"/>
          </p:cNvCxnSpPr>
          <p:nvPr/>
        </p:nvCxnSpPr>
        <p:spPr>
          <a:xfrm flipH="1" flipV="1">
            <a:off x="6100560" y="5012640"/>
            <a:ext cx="21312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7" name="AutoShape 30"/>
          <p:cNvCxnSpPr>
            <a:stCxn id="319" idx="4"/>
            <a:endCxn id="313" idx="8"/>
          </p:cNvCxnSpPr>
          <p:nvPr/>
        </p:nvCxnSpPr>
        <p:spPr>
          <a:xfrm flipH="1" flipV="1">
            <a:off x="5970240" y="2980800"/>
            <a:ext cx="348480" cy="2818800"/>
          </a:xfrm>
          <a:prstGeom prst="curvedConnector5">
            <a:avLst>
              <a:gd name="adj1" fmla="val -84384"/>
              <a:gd name="adj2" fmla="val 48077"/>
              <a:gd name="adj3" fmla="val -8438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8" name="AutoShape 31"/>
          <p:cNvCxnSpPr>
            <a:stCxn id="316" idx="1"/>
            <a:endCxn id="312" idx="9"/>
          </p:cNvCxnSpPr>
          <p:nvPr/>
        </p:nvCxnSpPr>
        <p:spPr>
          <a:xfrm flipH="1" flipV="1">
            <a:off x="4064760" y="2230200"/>
            <a:ext cx="1299240" cy="292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9" name="Curved Connector 3"/>
          <p:cNvCxnSpPr>
            <a:stCxn id="317" idx="1"/>
          </p:cNvCxnSpPr>
          <p:nvPr/>
        </p:nvCxnSpPr>
        <p:spPr>
          <a:xfrm rot="10800000">
            <a:off x="3707640" y="3459960"/>
            <a:ext cx="1369080" cy="2699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0" name="Text Box 26"/>
          <p:cNvSpPr/>
          <p:nvPr/>
        </p:nvSpPr>
        <p:spPr>
          <a:xfrm>
            <a:off x="468360" y="4797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ATC – ATC li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250920" y="4653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AA/ATC -  Dispat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179280" y="508464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spatch-Flig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AutoShape 9"/>
          <p:cNvSpPr/>
          <p:nvPr/>
        </p:nvSpPr>
        <p:spPr>
          <a:xfrm>
            <a:off x="2268360" y="3141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34" name="AutoShape 30"/>
          <p:cNvCxnSpPr>
            <a:stCxn id="333" idx="0"/>
            <a:endCxn id="320" idx="5"/>
          </p:cNvCxnSpPr>
          <p:nvPr/>
        </p:nvCxnSpPr>
        <p:spPr>
          <a:xfrm>
            <a:off x="2725200" y="3370320"/>
            <a:ext cx="3359880" cy="1728000"/>
          </a:xfrm>
          <a:prstGeom prst="curvedConnector5">
            <a:avLst>
              <a:gd name="adj1" fmla="val 21260"/>
              <a:gd name="adj2" fmla="val 49989"/>
              <a:gd name="adj3" fmla="val 212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5" name="AutoShape 32"/>
          <p:cNvCxnSpPr>
            <a:stCxn id="320" idx="6"/>
            <a:endCxn id="321" idx="0"/>
          </p:cNvCxnSpPr>
          <p:nvPr/>
        </p:nvCxnSpPr>
        <p:spPr>
          <a:xfrm flipH="1" flipV="1">
            <a:off x="6240240" y="4822560"/>
            <a:ext cx="7344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6" name="AutoShape 37"/>
          <p:cNvCxnSpPr/>
          <p:nvPr/>
        </p:nvCxnSpPr>
        <p:spPr>
          <a:xfrm>
            <a:off x="156744720" y="-715104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7" name="AutoShape 40"/>
          <p:cNvCxnSpPr/>
          <p:nvPr/>
        </p:nvCxnSpPr>
        <p:spPr>
          <a:xfrm flipH="1" flipV="1" rot="10800000">
            <a:off x="156744720" y="-71510040"/>
            <a:ext cx="2160" cy="2160"/>
          </a:xfrm>
          <a:prstGeom prst="curvedConnector5">
            <a:avLst>
              <a:gd name="adj1" fmla="val -2147480000"/>
              <a:gd name="adj2" fmla="val 40000"/>
              <a:gd name="adj3" fmla="val -214748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8" name="AutoShape 41"/>
          <p:cNvCxnSpPr/>
          <p:nvPr/>
        </p:nvCxnSpPr>
        <p:spPr>
          <a:xfrm flipH="1" flipV="1" rot="10800000">
            <a:off x="156744720" y="-71510040"/>
            <a:ext cx="2160" cy="2160"/>
          </a:xfrm>
          <a:prstGeom prst="curvedConnector5">
            <a:avLst>
              <a:gd name="adj1" fmla="val -2147480000"/>
              <a:gd name="adj2" fmla="val 40000"/>
              <a:gd name="adj3" fmla="val -214748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9" name="AutoShape 42"/>
          <p:cNvCxnSpPr>
            <a:endCxn id="312" idx="2"/>
          </p:cNvCxnSpPr>
          <p:nvPr/>
        </p:nvCxnSpPr>
        <p:spPr>
          <a:xfrm>
            <a:off x="156745080" y="-71510400"/>
            <a:ext cx="2591280" cy="838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0" name="AutoShape 44"/>
          <p:cNvCxnSpPr/>
          <p:nvPr/>
        </p:nvCxnSpPr>
        <p:spPr>
          <a:xfrm>
            <a:off x="137196000" y="-105948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1" name="AutoShape 45"/>
          <p:cNvCxnSpPr/>
          <p:nvPr/>
        </p:nvCxnSpPr>
        <p:spPr>
          <a:xfrm>
            <a:off x="156744720" y="-715104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2" name="AutoShape 47"/>
          <p:cNvCxnSpPr/>
          <p:nvPr/>
        </p:nvCxnSpPr>
        <p:spPr>
          <a:xfrm>
            <a:off x="137196000" y="-105948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Line 49"/>
          <p:cNvSpPr/>
          <p:nvPr/>
        </p:nvSpPr>
        <p:spPr>
          <a:xfrm flipH="1" flipV="1">
            <a:off x="5580000" y="407628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Freeform 6"/>
          <p:cNvSpPr/>
          <p:nvPr/>
        </p:nvSpPr>
        <p:spPr>
          <a:xfrm rot="18966600">
            <a:off x="5148360" y="3644640"/>
            <a:ext cx="48240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lin ang="8034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3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250" autoRev="1" fill="hold"/>
                                        <p:tgtEl>
                                          <p:spTgt spid="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250" autoRev="1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estions/Discus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755640" y="2276640"/>
            <a:ext cx="8209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Tahoma"/>
              </a:rPr>
              <a:t>??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valuating DP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ffffff"/>
                </a:solidFill>
                <a:latin typeface="Tahoma"/>
              </a:rPr>
              <a:t>Initial access level was “Airline Dispatcher,” which is mostly “read only.”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ffffff"/>
                </a:solidFill>
                <a:latin typeface="Tahoma"/>
              </a:rPr>
              <a:t>NAV CANADA requires the ability to make changes to DPO…..…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ffffff"/>
                </a:solidFill>
                <a:latin typeface="Tahoma"/>
              </a:rPr>
              <a:t>Access level was later upgraded to “TMU” – a level between “Airline Dispatcher” and “Administrator” giving the ability to change the GRL and override TKA’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ffffff"/>
                </a:solidFill>
                <a:latin typeface="Tahoma"/>
              </a:rPr>
              <a:t>NAV CANADA is the only agency in the world currently with TMU level acces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ffffff"/>
                </a:solidFill>
                <a:latin typeface="Tahoma"/>
              </a:rPr>
              <a:t>This access level allows update of DPO/GRL to show “real time” vs. “planned” information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acting with DP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54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f the ability exists to update DPO,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accurac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of entered dat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be verifi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thodology was then developed to verify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accuracy,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consistenc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, of Edmonton’s entered dat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included a comparison of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initial ATC estimates,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final pilot estimate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rom 141W position), for Russian entry points.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acting with DP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65 flights were evaluated from Oct 12, 2011 to January 24, 20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ample siz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bo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2% of all Polar westbound flights between ORVIT &amp; DEVID during that time peri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ple included most airlines and types across 24 hour r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914400" y="1844640"/>
          <a:ext cx="7834320" cy="4981680"/>
        </p:xfrm>
        <a:graphic>
          <a:graphicData uri="http://schemas.openxmlformats.org/drawingml/2006/table">
            <a:tbl>
              <a:tblPr/>
              <a:tblGrid>
                <a:gridCol w="979560"/>
                <a:gridCol w="979560"/>
                <a:gridCol w="979200"/>
                <a:gridCol w="979560"/>
                <a:gridCol w="978120"/>
                <a:gridCol w="979200"/>
                <a:gridCol w="979560"/>
                <a:gridCol w="979560"/>
              </a:tblGrid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77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77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77W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74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34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38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C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P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A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V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549000"/>
            <a:ext cx="806436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tribution by Airline &amp; Typ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acting with DP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ree main ste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1) An initial calculation of 14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 &amp; Russian entry fix times when Current Flight Plan data was received from ATC units to the south (Winnipeg, Montreal, Gande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2) A second calculation upon actual entry into the Edmonton F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3) A comparison of the calculations in steps #1 &amp; #2, vs. the pilot estimate for the Russian entry point from the 14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 pos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1"/>
          <a:stretch/>
        </p:blipFill>
        <p:spPr>
          <a:xfrm>
            <a:off x="1042920" y="-171360"/>
            <a:ext cx="7601040" cy="8661240"/>
          </a:xfrm>
          <a:prstGeom prst="rect">
            <a:avLst/>
          </a:prstGeom>
          <a:ln w="0">
            <a:noFill/>
          </a:ln>
        </p:spPr>
      </p:pic>
      <p:sp>
        <p:nvSpPr>
          <p:cNvPr id="226" name="Line 6"/>
          <p:cNvSpPr/>
          <p:nvPr/>
        </p:nvSpPr>
        <p:spPr>
          <a:xfrm flipH="1">
            <a:off x="2340000" y="-674640"/>
            <a:ext cx="2448000" cy="172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Freeform 6"/>
          <p:cNvSpPr/>
          <p:nvPr/>
        </p:nvSpPr>
        <p:spPr>
          <a:xfrm rot="19848600">
            <a:off x="6803640" y="4797000"/>
            <a:ext cx="48276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cc3300"/>
              </a:gs>
            </a:gsLst>
            <a:lin ang="7152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Freeform 7"/>
          <p:cNvSpPr/>
          <p:nvPr/>
        </p:nvSpPr>
        <p:spPr>
          <a:xfrm rot="20067000">
            <a:off x="5508720" y="5084280"/>
            <a:ext cx="48240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66"/>
              </a:gs>
            </a:gsLst>
            <a:lin ang="1536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Freeform 12"/>
          <p:cNvSpPr/>
          <p:nvPr/>
        </p:nvSpPr>
        <p:spPr>
          <a:xfrm>
            <a:off x="2603520" y="-674640"/>
            <a:ext cx="4362480" cy="5418000"/>
          </a:xfrm>
          <a:custGeom>
            <a:avLst/>
            <a:gdLst/>
            <a:ahLst/>
            <a:rect l="l" t="t" r="r" b="b"/>
            <a:pathLst>
              <a:path w="2748" h="3413">
                <a:moveTo>
                  <a:pt x="1397" y="0"/>
                </a:moveTo>
                <a:lnTo>
                  <a:pt x="372" y="1709"/>
                </a:lnTo>
                <a:cubicBezTo>
                  <a:pt x="139" y="2096"/>
                  <a:pt x="60" y="2211"/>
                  <a:pt x="0" y="2325"/>
                </a:cubicBezTo>
                <a:lnTo>
                  <a:pt x="12" y="2393"/>
                </a:lnTo>
                <a:lnTo>
                  <a:pt x="82" y="2473"/>
                </a:lnTo>
                <a:cubicBezTo>
                  <a:pt x="97" y="2493"/>
                  <a:pt x="76" y="2462"/>
                  <a:pt x="103" y="2514"/>
                </a:cubicBezTo>
                <a:lnTo>
                  <a:pt x="198" y="2602"/>
                </a:lnTo>
                <a:cubicBezTo>
                  <a:pt x="219" y="2672"/>
                  <a:pt x="175" y="2707"/>
                  <a:pt x="238" y="2737"/>
                </a:cubicBezTo>
                <a:cubicBezTo>
                  <a:pt x="289" y="2789"/>
                  <a:pt x="439" y="2871"/>
                  <a:pt x="503" y="2914"/>
                </a:cubicBezTo>
                <a:cubicBezTo>
                  <a:pt x="526" y="2950"/>
                  <a:pt x="593" y="2965"/>
                  <a:pt x="625" y="2995"/>
                </a:cubicBezTo>
                <a:cubicBezTo>
                  <a:pt x="649" y="3020"/>
                  <a:pt x="692" y="2960"/>
                  <a:pt x="733" y="2975"/>
                </a:cubicBezTo>
                <a:cubicBezTo>
                  <a:pt x="774" y="2990"/>
                  <a:pt x="828" y="3066"/>
                  <a:pt x="869" y="3083"/>
                </a:cubicBezTo>
                <a:cubicBezTo>
                  <a:pt x="921" y="3086"/>
                  <a:pt x="956" y="3095"/>
                  <a:pt x="977" y="3076"/>
                </a:cubicBezTo>
                <a:cubicBezTo>
                  <a:pt x="1003" y="3063"/>
                  <a:pt x="1004" y="3013"/>
                  <a:pt x="1024" y="3002"/>
                </a:cubicBezTo>
                <a:cubicBezTo>
                  <a:pt x="1042" y="2984"/>
                  <a:pt x="1073" y="3013"/>
                  <a:pt x="1099" y="3009"/>
                </a:cubicBezTo>
                <a:cubicBezTo>
                  <a:pt x="1138" y="2995"/>
                  <a:pt x="1057" y="3133"/>
                  <a:pt x="1092" y="3110"/>
                </a:cubicBezTo>
                <a:cubicBezTo>
                  <a:pt x="1193" y="3171"/>
                  <a:pt x="1621" y="3283"/>
                  <a:pt x="1797" y="3334"/>
                </a:cubicBezTo>
                <a:lnTo>
                  <a:pt x="2148" y="3413"/>
                </a:lnTo>
                <a:lnTo>
                  <a:pt x="2378" y="3129"/>
                </a:lnTo>
                <a:lnTo>
                  <a:pt x="2163" y="2453"/>
                </a:lnTo>
                <a:lnTo>
                  <a:pt x="2495" y="2141"/>
                </a:lnTo>
                <a:cubicBezTo>
                  <a:pt x="2531" y="2110"/>
                  <a:pt x="2568" y="2079"/>
                  <a:pt x="2610" y="2053"/>
                </a:cubicBezTo>
                <a:cubicBezTo>
                  <a:pt x="2652" y="2027"/>
                  <a:pt x="2732" y="2004"/>
                  <a:pt x="2748" y="1985"/>
                </a:cubicBezTo>
                <a:lnTo>
                  <a:pt x="2705" y="1938"/>
                </a:lnTo>
                <a:lnTo>
                  <a:pt x="1987" y="1375"/>
                </a:lnTo>
                <a:cubicBezTo>
                  <a:pt x="1947" y="1318"/>
                  <a:pt x="1918" y="1283"/>
                  <a:pt x="1899" y="1213"/>
                </a:cubicBezTo>
                <a:cubicBezTo>
                  <a:pt x="1888" y="1125"/>
                  <a:pt x="1919" y="929"/>
                  <a:pt x="1919" y="847"/>
                </a:cubicBezTo>
                <a:cubicBezTo>
                  <a:pt x="1919" y="765"/>
                  <a:pt x="1987" y="858"/>
                  <a:pt x="1899" y="718"/>
                </a:cubicBezTo>
                <a:lnTo>
                  <a:pt x="1389" y="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Line 10"/>
          <p:cNvSpPr/>
          <p:nvPr/>
        </p:nvSpPr>
        <p:spPr>
          <a:xfrm flipH="1" flipV="1">
            <a:off x="4013280" y="-136800"/>
            <a:ext cx="2952720" cy="511308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11"/>
          <p:cNvSpPr/>
          <p:nvPr/>
        </p:nvSpPr>
        <p:spPr>
          <a:xfrm flipH="1" flipV="1">
            <a:off x="3347640" y="404280"/>
            <a:ext cx="2376360" cy="496908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12"/>
          <p:cNvSpPr/>
          <p:nvPr/>
        </p:nvSpPr>
        <p:spPr>
          <a:xfrm flipH="1" flipV="1">
            <a:off x="4140360" y="-171360"/>
            <a:ext cx="3024000" cy="496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13"/>
          <p:cNvSpPr/>
          <p:nvPr/>
        </p:nvSpPr>
        <p:spPr>
          <a:xfrm flipH="1" flipV="1">
            <a:off x="3203640" y="475920"/>
            <a:ext cx="2232000" cy="475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6732720" y="5300640"/>
            <a:ext cx="1911240" cy="951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Edmonton Calcul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~-2500NM/-5h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419640" y="5398920"/>
            <a:ext cx="1981080" cy="951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Edmonton Calcul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~-2500NM/-5h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6141960" y="2276640"/>
            <a:ext cx="2087640" cy="951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Edmonton Upd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~-1700NM/-3.5h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2340000" y="3860640"/>
            <a:ext cx="2303280" cy="75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Edmonton Upd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~-2200NM/-4.5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4211640" y="-100080"/>
            <a:ext cx="1944720" cy="309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3132000" y="549360"/>
            <a:ext cx="1800360" cy="374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4813200" y="189000"/>
            <a:ext cx="2152800" cy="11091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1ºW Posi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30NM to -150N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4’ to -20’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403280" y="1390680"/>
            <a:ext cx="2160720" cy="11091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1ºW Posi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150NM to -350N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20’ to -45’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Freeform 6"/>
          <p:cNvSpPr/>
          <p:nvPr/>
        </p:nvSpPr>
        <p:spPr>
          <a:xfrm rot="19848600">
            <a:off x="5632200" y="2658960"/>
            <a:ext cx="48240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cc3300"/>
              </a:gs>
            </a:gsLst>
            <a:lin ang="7152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Freeform 7"/>
          <p:cNvSpPr/>
          <p:nvPr/>
        </p:nvSpPr>
        <p:spPr>
          <a:xfrm rot="20067000">
            <a:off x="5072040" y="4025520"/>
            <a:ext cx="48276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66"/>
              </a:gs>
            </a:gsLst>
            <a:lin ang="1536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Freeform 7"/>
          <p:cNvSpPr/>
          <p:nvPr/>
        </p:nvSpPr>
        <p:spPr>
          <a:xfrm rot="20067000">
            <a:off x="5508720" y="5094000"/>
            <a:ext cx="48240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66"/>
              </a:gs>
            </a:gsLst>
            <a:lin ang="1536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Freeform 6"/>
          <p:cNvSpPr/>
          <p:nvPr/>
        </p:nvSpPr>
        <p:spPr>
          <a:xfrm rot="19848600">
            <a:off x="6803640" y="4797000"/>
            <a:ext cx="48276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cc3300"/>
              </a:gs>
            </a:gsLst>
            <a:lin ang="7152000"/>
          </a:gra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46" name="Straight Arrow Connector 2"/>
          <p:cNvCxnSpPr/>
          <p:nvPr/>
        </p:nvCxnSpPr>
        <p:spPr>
          <a:xfrm>
            <a:off x="3274560" y="453600"/>
            <a:ext cx="36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7" name="Straight Arrow Connector 28"/>
          <p:cNvCxnSpPr/>
          <p:nvPr/>
        </p:nvCxnSpPr>
        <p:spPr>
          <a:xfrm>
            <a:off x="3852360" y="-32040"/>
            <a:ext cx="28836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05 -0.13843 E">
                                      <p:cBhvr>
                                        <p:cTn id="13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-0.12882 -0.30671 E">
                                      <p:cBhvr>
                                        <p:cTn id="135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051 L -0.17448 -0.36759 E">
                                      <p:cBhvr>
                                        <p:cTn id="158" dur="5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16545 -0.44097 E">
                                      <p:cBhvr>
                                        <p:cTn id="160" dur="5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nalysis resul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average,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itial Edmont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lculations were made 5 hours and 7 minutes before the times for the Russian entry point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average,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irst Edmonton upd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lculations were made 4 hours and 31 minutes before the times for the Russian entry points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3:26:09Z</dcterms:created>
  <dc:creator>carlsob</dc:creator>
  <dc:description/>
  <dc:language>en-US</dc:language>
  <cp:lastModifiedBy>carlsob</cp:lastModifiedBy>
  <dcterms:modified xsi:type="dcterms:W3CDTF">2012-06-05T15:22:43Z</dcterms:modified>
  <cp:revision>100</cp:revision>
  <dc:subject/>
  <dc:title>DPO Update</dc:title>
</cp:coreProperties>
</file>