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698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69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492520" y="-36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366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3257640"/>
            <a:ext cx="77612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492520" y="6513120"/>
            <a:ext cx="4203720" cy="3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DB91-459A-4B2D-B5CF-0CFC7D8FC8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5492880" y="6513480"/>
            <a:ext cx="420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7E63-F4C1-4938-941F-CC16634CC8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492880" y="6513480"/>
            <a:ext cx="4205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80716D4-D221-43CF-8F43-C3691C1D53F6}" type="slidenum">
              <a:rPr b="1" lang="en-US" sz="1200" spc="-1" strike="noStrike">
                <a:solidFill>
                  <a:srgbClr val="3e13f3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138480" y="515880"/>
            <a:ext cx="3427560" cy="2570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93480" y="3257640"/>
            <a:ext cx="7110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492880" y="6513480"/>
            <a:ext cx="4203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C29F-45E2-4E2F-8FD2-040F53AE5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5492880" y="6513480"/>
            <a:ext cx="4205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5F9E20-48FC-4909-908B-1061E94735B2}" type="slidenum">
              <a:rPr b="1" lang="en-US" sz="1200" spc="-1" strike="noStrike">
                <a:solidFill>
                  <a:srgbClr val="3e13f3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138480" y="515880"/>
            <a:ext cx="3427560" cy="257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93480" y="3257640"/>
            <a:ext cx="7110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FDE6-9E69-4367-9B37-F3876E0C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C221-364B-4A85-91F8-38200A66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A08-C2D0-4F9C-B35B-85FA4C1B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A23-CC38-4266-8BA7-4EA9CD18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09E-80EC-4724-B0C7-6C2B7772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8734-370B-42DF-BEB3-E9FBFBC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C028-D489-40CE-AE0F-90AAAA5E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6C1-4C39-4AAB-8875-A66808B2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803-F1A4-4FDB-A1AA-D532AAEF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590-55B6-4800-8DDC-ADFF87F8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EC3-067E-4652-B366-6547D0E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E5A-8FEA-48AB-AEA5-FB902AA5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57E-21E0-42AE-9D4F-E4D7AB049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0" y="0"/>
            <a:ext cx="9144000" cy="5092560"/>
            <a:chOff x="0" y="0"/>
            <a:chExt cx="9144000" cy="5092560"/>
          </a:xfrm>
        </p:grpSpPr>
        <p:sp>
          <p:nvSpPr>
            <p:cNvPr id="49" name="Text Box 4"/>
            <p:cNvSpPr/>
            <p:nvPr/>
          </p:nvSpPr>
          <p:spPr>
            <a:xfrm>
              <a:off x="0" y="0"/>
              <a:ext cx="9144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"/>
            <p:cNvSpPr/>
            <p:nvPr/>
          </p:nvSpPr>
          <p:spPr>
            <a:xfrm>
              <a:off x="1764000" y="476280"/>
              <a:ext cx="49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State ATM Corporation of Russia</a:t>
              </a:r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7"/>
            <p:cNvGrpSpPr/>
            <p:nvPr/>
          </p:nvGrpSpPr>
          <p:grpSpPr>
            <a:xfrm>
              <a:off x="3419640" y="1773360"/>
              <a:ext cx="2592360" cy="2663640"/>
              <a:chOff x="3419640" y="1773360"/>
              <a:chExt cx="2592360" cy="2663640"/>
            </a:xfrm>
          </p:grpSpPr>
          <p:sp>
            <p:nvSpPr>
              <p:cNvPr id="52" name="Oval 3"/>
              <p:cNvSpPr/>
              <p:nvPr/>
            </p:nvSpPr>
            <p:spPr>
              <a:xfrm>
                <a:off x="3419640" y="1773360"/>
                <a:ext cx="2412000" cy="2470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" name="Picture 6" descr="знак"/>
              <p:cNvPicPr/>
              <p:nvPr/>
            </p:nvPicPr>
            <p:blipFill>
              <a:blip r:embed="rId2"/>
              <a:stretch/>
            </p:blipFill>
            <p:spPr>
              <a:xfrm>
                <a:off x="3419640" y="1773360"/>
                <a:ext cx="2592360" cy="26636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" name="Text Box 8"/>
            <p:cNvSpPr/>
            <p:nvPr/>
          </p:nvSpPr>
          <p:spPr>
            <a:xfrm>
              <a:off x="1997280" y="4724280"/>
              <a:ext cx="49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raffic Density in January – November 2012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ject 2" descr=""/>
          <p:cNvPicPr/>
          <p:nvPr/>
        </p:nvPicPr>
        <p:blipFill>
          <a:blip r:embed="rId2"/>
          <a:stretch/>
        </p:blipFill>
        <p:spPr>
          <a:xfrm>
            <a:off x="0" y="1341360"/>
            <a:ext cx="9150480" cy="51832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1440" y="258120"/>
            <a:ext cx="91425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ffic Density Dynamics in 1998 - 201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81160" y="189000"/>
            <a:ext cx="86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ffic Density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January – November 2006 - 20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6"/>
          <p:cNvGraphicFramePr/>
          <p:nvPr/>
        </p:nvGraphicFramePr>
        <p:xfrm>
          <a:off x="25560" y="1054080"/>
          <a:ext cx="911844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560" y="1054080"/>
                    <a:ext cx="911844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81160" y="0"/>
            <a:ext cx="869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ffic Densit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January – November 20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-57240" y="1590840"/>
          <a:ext cx="8543880" cy="486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57240" y="1590840"/>
                    <a:ext cx="854388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360" y="0"/>
            <a:ext cx="913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in Traffic Flow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January –November 2012/201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8" descr="основные трассы"/>
          <p:cNvPicPr/>
          <p:nvPr/>
        </p:nvPicPr>
        <p:blipFill>
          <a:blip r:embed="rId2"/>
          <a:stretch/>
        </p:blipFill>
        <p:spPr>
          <a:xfrm>
            <a:off x="-4680" y="1414440"/>
            <a:ext cx="9148680" cy="5421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7601040" y="1339920"/>
            <a:ext cx="154764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21233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+10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8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699960" y="128736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east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7327800" y="1565280"/>
            <a:ext cx="779400" cy="1089000"/>
          </a:xfrm>
          <a:custGeom>
            <a:avLst/>
            <a:gdLst/>
            <a:ahLst/>
            <a:rect l="l" t="t" r="r" b="b"/>
            <a:pathLst>
              <a:path w="491" h="686">
                <a:moveTo>
                  <a:pt x="491" y="0"/>
                </a:moveTo>
                <a:lnTo>
                  <a:pt x="0" y="68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8001000" y="1600200"/>
            <a:ext cx="101520" cy="1593720"/>
          </a:xfrm>
          <a:custGeom>
            <a:avLst/>
            <a:gdLst/>
            <a:ahLst/>
            <a:rect l="l" t="t" r="r" b="b"/>
            <a:pathLst>
              <a:path w="64" h="1004">
                <a:moveTo>
                  <a:pt x="64" y="0"/>
                </a:moveTo>
                <a:lnTo>
                  <a:pt x="0" y="100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0"/>
          <p:cNvSpPr/>
          <p:nvPr/>
        </p:nvSpPr>
        <p:spPr>
          <a:xfrm>
            <a:off x="8105760" y="1565280"/>
            <a:ext cx="339840" cy="1914480"/>
          </a:xfrm>
          <a:custGeom>
            <a:avLst/>
            <a:gdLst/>
            <a:ahLst/>
            <a:rect l="l" t="t" r="r" b="b"/>
            <a:pathLst>
              <a:path w="214" h="1206">
                <a:moveTo>
                  <a:pt x="0" y="0"/>
                </a:moveTo>
                <a:lnTo>
                  <a:pt x="214" y="120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8105760" y="1565280"/>
            <a:ext cx="695520" cy="2257560"/>
          </a:xfrm>
          <a:custGeom>
            <a:avLst/>
            <a:gdLst/>
            <a:ahLst/>
            <a:rect l="l" t="t" r="r" b="b"/>
            <a:pathLst>
              <a:path w="438" h="1422">
                <a:moveTo>
                  <a:pt x="0" y="0"/>
                </a:moveTo>
                <a:lnTo>
                  <a:pt x="438" y="142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937040" y="1339920"/>
            <a:ext cx="157968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334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+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02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074120" y="120024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rosspolar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 flipH="1">
            <a:off x="4289040" y="1639800"/>
            <a:ext cx="107964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5"/>
          <p:cNvSpPr/>
          <p:nvPr/>
        </p:nvSpPr>
        <p:spPr>
          <a:xfrm>
            <a:off x="4680000" y="1639800"/>
            <a:ext cx="689040" cy="1040040"/>
          </a:xfrm>
          <a:custGeom>
            <a:avLst/>
            <a:gdLst/>
            <a:ahLst/>
            <a:rect l="l" t="t" r="r" b="b"/>
            <a:pathLst>
              <a:path w="434" h="655">
                <a:moveTo>
                  <a:pt x="434" y="0"/>
                </a:moveTo>
                <a:lnTo>
                  <a:pt x="0" y="6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H="1">
            <a:off x="4937040" y="1639800"/>
            <a:ext cx="432000" cy="10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7"/>
          <p:cNvSpPr/>
          <p:nvPr/>
        </p:nvSpPr>
        <p:spPr>
          <a:xfrm>
            <a:off x="5369040" y="1639800"/>
            <a:ext cx="1197000" cy="1065240"/>
          </a:xfrm>
          <a:custGeom>
            <a:avLst/>
            <a:gdLst/>
            <a:ahLst/>
            <a:rect l="l" t="t" r="r" b="b"/>
            <a:pathLst>
              <a:path w="754" h="671">
                <a:moveTo>
                  <a:pt x="0" y="0"/>
                </a:moveTo>
                <a:lnTo>
                  <a:pt x="754" y="67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5369040" y="1639800"/>
            <a:ext cx="863640" cy="10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>
            <a:off x="5369040" y="1639800"/>
            <a:ext cx="576000" cy="11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489040" y="1863720"/>
            <a:ext cx="158292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3911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(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3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2792880" y="141444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polar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3352680" y="2165400"/>
            <a:ext cx="177840" cy="1022400"/>
          </a:xfrm>
          <a:custGeom>
            <a:avLst/>
            <a:gdLst/>
            <a:ahLst/>
            <a:rect l="l" t="t" r="r" b="b"/>
            <a:pathLst>
              <a:path w="112" h="644">
                <a:moveTo>
                  <a:pt x="0" y="0"/>
                </a:moveTo>
                <a:lnTo>
                  <a:pt x="112" y="6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3"/>
          <p:cNvSpPr/>
          <p:nvPr/>
        </p:nvSpPr>
        <p:spPr>
          <a:xfrm flipH="1">
            <a:off x="3063960" y="2165400"/>
            <a:ext cx="288720" cy="17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4"/>
          <p:cNvSpPr/>
          <p:nvPr/>
        </p:nvSpPr>
        <p:spPr>
          <a:xfrm>
            <a:off x="1351080" y="2421000"/>
            <a:ext cx="106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-Siberian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1093680" y="2817720"/>
            <a:ext cx="158436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391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5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1685880" y="3086280"/>
            <a:ext cx="82440" cy="1190520"/>
          </a:xfrm>
          <a:custGeom>
            <a:avLst/>
            <a:gdLst/>
            <a:ahLst/>
            <a:rect l="l" t="t" r="r" b="b"/>
            <a:pathLst>
              <a:path w="52" h="750">
                <a:moveTo>
                  <a:pt x="0" y="0"/>
                </a:moveTo>
                <a:lnTo>
                  <a:pt x="42" y="750"/>
                </a:lnTo>
                <a:lnTo>
                  <a:pt x="52" y="69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1704960" y="3076560"/>
            <a:ext cx="1724040" cy="2028960"/>
          </a:xfrm>
          <a:custGeom>
            <a:avLst/>
            <a:gdLst/>
            <a:ahLst/>
            <a:rect l="l" t="t" r="r" b="b"/>
            <a:pathLst>
              <a:path w="1086" h="1278">
                <a:moveTo>
                  <a:pt x="0" y="0"/>
                </a:moveTo>
                <a:lnTo>
                  <a:pt x="1086" y="127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1762200" y="3086280"/>
            <a:ext cx="1590480" cy="1476360"/>
          </a:xfrm>
          <a:custGeom>
            <a:avLst/>
            <a:gdLst/>
            <a:ahLst/>
            <a:rect l="l" t="t" r="r" b="b"/>
            <a:pathLst>
              <a:path w="1002" h="930">
                <a:moveTo>
                  <a:pt x="0" y="0"/>
                </a:moveTo>
                <a:lnTo>
                  <a:pt x="1002" y="93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1587600" y="6308640"/>
            <a:ext cx="1368360" cy="23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4991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-1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8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1770120" y="5911920"/>
            <a:ext cx="91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rans-Asian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1886040" y="5162400"/>
            <a:ext cx="257040" cy="847800"/>
          </a:xfrm>
          <a:custGeom>
            <a:avLst/>
            <a:gdLst/>
            <a:ahLst/>
            <a:rect l="l" t="t" r="r" b="b"/>
            <a:pathLst>
              <a:path w="162" h="534">
                <a:moveTo>
                  <a:pt x="162" y="53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2"/>
          <p:cNvSpPr/>
          <p:nvPr/>
        </p:nvSpPr>
        <p:spPr>
          <a:xfrm>
            <a:off x="1190520" y="4352760"/>
            <a:ext cx="695520" cy="1619280"/>
          </a:xfrm>
          <a:custGeom>
            <a:avLst/>
            <a:gdLst/>
            <a:ahLst/>
            <a:rect l="l" t="t" r="r" b="b"/>
            <a:pathLst>
              <a:path w="438" h="1020">
                <a:moveTo>
                  <a:pt x="438" y="102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3"/>
          <p:cNvSpPr/>
          <p:nvPr/>
        </p:nvSpPr>
        <p:spPr>
          <a:xfrm>
            <a:off x="2400480" y="5991120"/>
            <a:ext cx="1447560" cy="28800"/>
          </a:xfrm>
          <a:custGeom>
            <a:avLst/>
            <a:gdLst/>
            <a:ahLst/>
            <a:rect l="l" t="t" r="r" b="b"/>
            <a:pathLst>
              <a:path w="912" h="18">
                <a:moveTo>
                  <a:pt x="0" y="0"/>
                </a:moveTo>
                <a:lnTo>
                  <a:pt x="912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4680" y="5011560"/>
            <a:ext cx="1368360" cy="231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6669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-4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172080" y="456264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sian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6"/>
          <p:cNvSpPr/>
          <p:nvPr/>
        </p:nvSpPr>
        <p:spPr>
          <a:xfrm flipH="1">
            <a:off x="328320" y="5237280"/>
            <a:ext cx="144360" cy="37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7"/>
          <p:cNvSpPr/>
          <p:nvPr/>
        </p:nvSpPr>
        <p:spPr>
          <a:xfrm>
            <a:off x="473040" y="5237280"/>
            <a:ext cx="358920" cy="29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8"/>
          <p:cNvSpPr/>
          <p:nvPr/>
        </p:nvSpPr>
        <p:spPr>
          <a:xfrm>
            <a:off x="473040" y="5237280"/>
            <a:ext cx="21600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-12600" y="1287360"/>
            <a:ext cx="277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012 totals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262004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flights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(+0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33%)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408240" y="1714680"/>
            <a:ext cx="91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Kaliningrad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S Routes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112680" y="2120760"/>
            <a:ext cx="1584360" cy="231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6449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lights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(+5,05%)</a:t>
            </a:r>
            <a:endParaRPr b="0" i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2"/>
          <p:cNvSpPr/>
          <p:nvPr/>
        </p:nvSpPr>
        <p:spPr>
          <a:xfrm>
            <a:off x="619200" y="2378160"/>
            <a:ext cx="212760" cy="1384200"/>
          </a:xfrm>
          <a:custGeom>
            <a:avLst/>
            <a:gdLst/>
            <a:ahLst/>
            <a:rect l="l" t="t" r="r" b="b"/>
            <a:pathLst>
              <a:path w="134" h="872">
                <a:moveTo>
                  <a:pt x="134" y="0"/>
                </a:moveTo>
                <a:lnTo>
                  <a:pt x="0" y="8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179280" y="10800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rosspolar Traffic Densit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2000 – 201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8440" y="1270080"/>
          <a:ext cx="9153720" cy="463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40" y="1270080"/>
                    <a:ext cx="91537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0" y="115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rosspolar Traffic Density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in November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006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201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-409680" y="1052640"/>
          <a:ext cx="9553680" cy="591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09680" y="1052640"/>
                    <a:ext cx="9553680" cy="59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Rectangle 3"/>
          <p:cNvGraphicFramePr/>
          <p:nvPr/>
        </p:nvGraphicFramePr>
        <p:xfrm>
          <a:off x="9360" y="766800"/>
          <a:ext cx="9315720" cy="6475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766800"/>
                    <a:ext cx="9315720" cy="64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0" y="11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Crosspolar Traffic between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Jan and Nov 2006-2012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12:07:16Z</dcterms:created>
  <dc:creator>konovalov</dc:creator>
  <dc:description/>
  <dc:language>en-US</dc:language>
  <cp:lastModifiedBy>alexey</cp:lastModifiedBy>
  <dcterms:modified xsi:type="dcterms:W3CDTF">2012-12-05T06:21:57Z</dcterms:modified>
  <cp:revision>435</cp:revision>
  <dc:subject/>
  <dc:title>Слайд 1</dc:title>
</cp:coreProperties>
</file>