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E2FD341-B795-4C9B-B371-2ADE691D045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125766F-5416-4B31-A7A6-D1BBD0E8C48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F3666FA-6EB3-48FC-991E-F7EA029B29E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F6829FC-0714-47C8-801C-EFD268A9149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17DA40E-F9FD-4BFA-B475-C597F0A2082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so Present at CPWG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obert Fiege, Manager, Edmonton Area Control Centre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FF8-18F1-4713-BC1D-E32D6B52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393B-D66B-48A9-A35A-CA154073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6720-0B94-42BE-8CC0-A1332A5C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932-5C1D-4302-ACAE-2812B42F0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CF9-E5D3-4360-A941-FC200B4D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BC1-3584-4612-BC72-F101F539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3F4-6B47-490C-A8FB-98CDBC90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F06-E883-4AD4-86DA-8D5E505B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A93-ABA2-43F1-8A97-F3A128A5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064-EC2C-4286-B800-3560624E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38D8-347C-419E-9983-C8C691FD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785-543D-4A5C-A397-8F0F7AE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4E32-87D2-41E4-9570-8E661EE02DC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NAV_PPT-med_title-e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ZEG-ACC-200105-01 crop640"/>
          <p:cNvPicPr/>
          <p:nvPr/>
        </p:nvPicPr>
        <p:blipFill>
          <a:blip r:embed="rId2"/>
          <a:stretch/>
        </p:blipFill>
        <p:spPr>
          <a:xfrm>
            <a:off x="4643280" y="4292640"/>
            <a:ext cx="230508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ZEG-ACC-200105-07 640"/>
          <p:cNvPicPr/>
          <p:nvPr/>
        </p:nvPicPr>
        <p:blipFill>
          <a:blip r:embed="rId3"/>
          <a:stretch/>
        </p:blipFill>
        <p:spPr>
          <a:xfrm>
            <a:off x="6948360" y="4292640"/>
            <a:ext cx="2195640" cy="1846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RW_2874a 640"/>
          <p:cNvPicPr/>
          <p:nvPr/>
        </p:nvPicPr>
        <p:blipFill>
          <a:blip r:embed="rId4"/>
          <a:srcRect l="0" t="8935" r="0" b="0"/>
          <a:stretch/>
        </p:blipFill>
        <p:spPr>
          <a:xfrm>
            <a:off x="2050920" y="429264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RW_2881a 640"/>
          <p:cNvPicPr/>
          <p:nvPr/>
        </p:nvPicPr>
        <p:blipFill>
          <a:blip r:embed="rId5"/>
          <a:stretch/>
        </p:blipFill>
        <p:spPr>
          <a:xfrm>
            <a:off x="0" y="429264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395280" y="1341360"/>
            <a:ext cx="8569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rea Control Centre presentation to th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NAV CANADA DPO Upd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cago, Illinois, U.S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0-14, 201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ed b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yon Carl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monton ACC Arctic High Supervisor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533556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World3"/>
          <p:cNvPicPr/>
          <p:nvPr/>
        </p:nvPicPr>
        <p:blipFill>
          <a:blip r:embed="rId1"/>
          <a:stretch/>
        </p:blipFill>
        <p:spPr>
          <a:xfrm>
            <a:off x="-1141560" y="-674640"/>
            <a:ext cx="10285560" cy="10285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Freeform 5"/>
          <p:cNvSpPr/>
          <p:nvPr/>
        </p:nvSpPr>
        <p:spPr>
          <a:xfrm rot="19847400">
            <a:off x="3708000" y="1844280"/>
            <a:ext cx="48276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7152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"/>
          <p:cNvSpPr/>
          <p:nvPr/>
        </p:nvSpPr>
        <p:spPr>
          <a:xfrm rot="18966600">
            <a:off x="5651640" y="2707920"/>
            <a:ext cx="48240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cc3300"/>
              </a:gs>
            </a:gsLst>
            <a:lin ang="803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 rot="19709400">
            <a:off x="3348000" y="2997000"/>
            <a:ext cx="482760" cy="46008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89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>
            <a:off x="3708360" y="4149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5364000" y="5013360"/>
            <a:ext cx="378000" cy="360360"/>
          </a:xfrm>
          <a:custGeom>
            <a:avLst/>
            <a:gdLst/>
            <a:ahLst/>
            <a:rect l="l" t="t" r="r" b="b"/>
            <a:pathLst>
              <a:path w="377825" h="360363">
                <a:moveTo>
                  <a:pt x="0" y="137646"/>
                </a:moveTo>
                <a:lnTo>
                  <a:pt x="144317" y="137647"/>
                </a:lnTo>
                <a:lnTo>
                  <a:pt x="188913" y="0"/>
                </a:lnTo>
                <a:lnTo>
                  <a:pt x="233508" y="137647"/>
                </a:lnTo>
                <a:lnTo>
                  <a:pt x="377825" y="137646"/>
                </a:lnTo>
                <a:lnTo>
                  <a:pt x="261069" y="222716"/>
                </a:lnTo>
                <a:lnTo>
                  <a:pt x="305667" y="360362"/>
                </a:lnTo>
                <a:lnTo>
                  <a:pt x="188913" y="275291"/>
                </a:lnTo>
                <a:lnTo>
                  <a:pt x="72158" y="360362"/>
                </a:lnTo>
                <a:lnTo>
                  <a:pt x="116756" y="222716"/>
                </a:lnTo>
                <a:lnTo>
                  <a:pt x="0" y="13764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5076720" y="6021360"/>
            <a:ext cx="378000" cy="360360"/>
          </a:xfrm>
          <a:custGeom>
            <a:avLst/>
            <a:gdLst/>
            <a:ahLst/>
            <a:rect l="l" t="t" r="r" b="b"/>
            <a:pathLst>
              <a:path w="377825" h="360362">
                <a:moveTo>
                  <a:pt x="0" y="137646"/>
                </a:moveTo>
                <a:lnTo>
                  <a:pt x="144317" y="137647"/>
                </a:lnTo>
                <a:lnTo>
                  <a:pt x="188913" y="0"/>
                </a:lnTo>
                <a:lnTo>
                  <a:pt x="233508" y="137647"/>
                </a:lnTo>
                <a:lnTo>
                  <a:pt x="377825" y="137646"/>
                </a:lnTo>
                <a:lnTo>
                  <a:pt x="261069" y="222715"/>
                </a:lnTo>
                <a:lnTo>
                  <a:pt x="305667" y="360361"/>
                </a:lnTo>
                <a:lnTo>
                  <a:pt x="188913" y="275290"/>
                </a:lnTo>
                <a:lnTo>
                  <a:pt x="72158" y="360361"/>
                </a:lnTo>
                <a:lnTo>
                  <a:pt x="116756" y="222715"/>
                </a:lnTo>
                <a:lnTo>
                  <a:pt x="0" y="13764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5796000" y="4653000"/>
            <a:ext cx="377640" cy="360360"/>
          </a:xfrm>
          <a:custGeom>
            <a:avLst/>
            <a:gdLst/>
            <a:ahLst/>
            <a:rect l="l" t="t" r="r" b="b"/>
            <a:pathLst>
              <a:path w="377825" h="360362">
                <a:moveTo>
                  <a:pt x="0" y="137646"/>
                </a:moveTo>
                <a:lnTo>
                  <a:pt x="144317" y="137647"/>
                </a:lnTo>
                <a:lnTo>
                  <a:pt x="188913" y="0"/>
                </a:lnTo>
                <a:lnTo>
                  <a:pt x="233508" y="137647"/>
                </a:lnTo>
                <a:lnTo>
                  <a:pt x="377825" y="137646"/>
                </a:lnTo>
                <a:lnTo>
                  <a:pt x="261069" y="222715"/>
                </a:lnTo>
                <a:lnTo>
                  <a:pt x="305667" y="360361"/>
                </a:lnTo>
                <a:lnTo>
                  <a:pt x="188913" y="275290"/>
                </a:lnTo>
                <a:lnTo>
                  <a:pt x="72158" y="360361"/>
                </a:lnTo>
                <a:lnTo>
                  <a:pt x="116756" y="222715"/>
                </a:lnTo>
                <a:lnTo>
                  <a:pt x="0" y="13764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5940360" y="5661000"/>
            <a:ext cx="378000" cy="360360"/>
          </a:xfrm>
          <a:custGeom>
            <a:avLst/>
            <a:gdLst/>
            <a:ahLst/>
            <a:rect l="l" t="t" r="r" b="b"/>
            <a:pathLst>
              <a:path w="377825" h="360363">
                <a:moveTo>
                  <a:pt x="0" y="137646"/>
                </a:moveTo>
                <a:lnTo>
                  <a:pt x="144317" y="137647"/>
                </a:lnTo>
                <a:lnTo>
                  <a:pt x="188913" y="0"/>
                </a:lnTo>
                <a:lnTo>
                  <a:pt x="233508" y="137647"/>
                </a:lnTo>
                <a:lnTo>
                  <a:pt x="377825" y="137646"/>
                </a:lnTo>
                <a:lnTo>
                  <a:pt x="261069" y="222716"/>
                </a:lnTo>
                <a:lnTo>
                  <a:pt x="305667" y="360362"/>
                </a:lnTo>
                <a:lnTo>
                  <a:pt x="188913" y="275291"/>
                </a:lnTo>
                <a:lnTo>
                  <a:pt x="72158" y="360362"/>
                </a:lnTo>
                <a:lnTo>
                  <a:pt x="116756" y="222716"/>
                </a:lnTo>
                <a:lnTo>
                  <a:pt x="0" y="137646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>
            <a:off x="6084720" y="486900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6012000" y="4365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18"/>
          <p:cNvCxnSpPr>
            <a:stCxn id="106" idx="0"/>
            <a:endCxn id="111" idx="0"/>
          </p:cNvCxnSpPr>
          <p:nvPr/>
        </p:nvCxnSpPr>
        <p:spPr>
          <a:xfrm>
            <a:off x="4165200" y="4378320"/>
            <a:ext cx="19198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" name="AutoShape 21"/>
          <p:cNvCxnSpPr>
            <a:stCxn id="111" idx="1"/>
            <a:endCxn id="110" idx="0"/>
          </p:cNvCxnSpPr>
          <p:nvPr/>
        </p:nvCxnSpPr>
        <p:spPr>
          <a:xfrm flipH="1">
            <a:off x="6128640" y="5326200"/>
            <a:ext cx="1846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5" name="AutoShape 22"/>
          <p:cNvCxnSpPr>
            <a:stCxn id="111" idx="2"/>
            <a:endCxn id="108" idx="0"/>
          </p:cNvCxnSpPr>
          <p:nvPr/>
        </p:nvCxnSpPr>
        <p:spPr>
          <a:xfrm flipH="1">
            <a:off x="5265360" y="5325840"/>
            <a:ext cx="104832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6" name="AutoShape 23"/>
          <p:cNvCxnSpPr>
            <a:stCxn id="111" idx="3"/>
            <a:endCxn id="107" idx="4"/>
          </p:cNvCxnSpPr>
          <p:nvPr/>
        </p:nvCxnSpPr>
        <p:spPr>
          <a:xfrm flipH="1" flipV="1">
            <a:off x="5741280" y="5150880"/>
            <a:ext cx="57204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AutoShape 24"/>
          <p:cNvCxnSpPr>
            <a:stCxn id="111" idx="4"/>
            <a:endCxn id="109" idx="3"/>
          </p:cNvCxnSpPr>
          <p:nvPr/>
        </p:nvCxnSpPr>
        <p:spPr>
          <a:xfrm flipH="1" flipV="1">
            <a:off x="6100560" y="5012640"/>
            <a:ext cx="213120" cy="31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AutoShape 30"/>
          <p:cNvCxnSpPr>
            <a:stCxn id="110" idx="4"/>
            <a:endCxn id="104" idx="8"/>
          </p:cNvCxnSpPr>
          <p:nvPr/>
        </p:nvCxnSpPr>
        <p:spPr>
          <a:xfrm flipH="1" flipV="1">
            <a:off x="5970240" y="2980800"/>
            <a:ext cx="348480" cy="2818800"/>
          </a:xfrm>
          <a:prstGeom prst="curvedConnector5">
            <a:avLst>
              <a:gd name="adj1" fmla="val -84384"/>
              <a:gd name="adj2" fmla="val 48077"/>
              <a:gd name="adj3" fmla="val -8438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AutoShape 31"/>
          <p:cNvCxnSpPr>
            <a:stCxn id="107" idx="1"/>
            <a:endCxn id="103" idx="9"/>
          </p:cNvCxnSpPr>
          <p:nvPr/>
        </p:nvCxnSpPr>
        <p:spPr>
          <a:xfrm flipH="1" flipV="1">
            <a:off x="4064760" y="2230200"/>
            <a:ext cx="1299240" cy="292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" name="Curved Connector 3"/>
          <p:cNvCxnSpPr>
            <a:stCxn id="108" idx="1"/>
          </p:cNvCxnSpPr>
          <p:nvPr/>
        </p:nvCxnSpPr>
        <p:spPr>
          <a:xfrm rot="10800000">
            <a:off x="3707640" y="3459960"/>
            <a:ext cx="1369080" cy="269964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Text Box 26"/>
          <p:cNvSpPr/>
          <p:nvPr/>
        </p:nvSpPr>
        <p:spPr>
          <a:xfrm>
            <a:off x="468360" y="4797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ATC – ATC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250920" y="4653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FAA/ATC -  Disp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179280" y="508464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ahoma"/>
              </a:rPr>
              <a:t>Dispatch-F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2268360" y="3141720"/>
            <a:ext cx="457200" cy="457200"/>
          </a:xfrm>
          <a:custGeom>
            <a:avLst/>
            <a:gdLst>
              <a:gd name="textAreaLeft" fmla="*/ 188280 w 457200"/>
              <a:gd name="textAreaRight" fmla="*/ 268920 w 45720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30"/>
          <p:cNvCxnSpPr>
            <a:stCxn id="124" idx="0"/>
            <a:endCxn id="111" idx="5"/>
          </p:cNvCxnSpPr>
          <p:nvPr/>
        </p:nvCxnSpPr>
        <p:spPr>
          <a:xfrm>
            <a:off x="2725200" y="3370320"/>
            <a:ext cx="3359880" cy="1728000"/>
          </a:xfrm>
          <a:prstGeom prst="curvedConnector5">
            <a:avLst>
              <a:gd name="adj1" fmla="val 21260"/>
              <a:gd name="adj2" fmla="val 49989"/>
              <a:gd name="adj3" fmla="val 212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AutoShape 32"/>
          <p:cNvCxnSpPr>
            <a:stCxn id="111" idx="6"/>
            <a:endCxn id="112" idx="0"/>
          </p:cNvCxnSpPr>
          <p:nvPr/>
        </p:nvCxnSpPr>
        <p:spPr>
          <a:xfrm flipH="1" flipV="1">
            <a:off x="6240240" y="4822560"/>
            <a:ext cx="7344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AutoShape 37"/>
          <p:cNvCxnSpPr/>
          <p:nvPr/>
        </p:nvCxnSpPr>
        <p:spPr>
          <a:xfrm>
            <a:off x="156744720" y="-71510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8" name="AutoShape 40"/>
          <p:cNvCxnSpPr/>
          <p:nvPr/>
        </p:nvCxnSpPr>
        <p:spPr>
          <a:xfrm flipH="1" flipV="1" rot="10800000">
            <a:off x="156744720" y="-71510040"/>
            <a:ext cx="2160" cy="2160"/>
          </a:xfrm>
          <a:prstGeom prst="curvedConnector5">
            <a:avLst>
              <a:gd name="adj1" fmla="val -2147480000"/>
              <a:gd name="adj2" fmla="val 40000"/>
              <a:gd name="adj3" fmla="val -21474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9" name="AutoShape 41"/>
          <p:cNvCxnSpPr/>
          <p:nvPr/>
        </p:nvCxnSpPr>
        <p:spPr>
          <a:xfrm flipH="1" flipV="1" rot="10800000">
            <a:off x="156744720" y="-71510040"/>
            <a:ext cx="2160" cy="2160"/>
          </a:xfrm>
          <a:prstGeom prst="curvedConnector5">
            <a:avLst>
              <a:gd name="adj1" fmla="val -2147480000"/>
              <a:gd name="adj2" fmla="val 40000"/>
              <a:gd name="adj3" fmla="val -214748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0" name="AutoShape 42"/>
          <p:cNvCxnSpPr>
            <a:endCxn id="103" idx="2"/>
          </p:cNvCxnSpPr>
          <p:nvPr/>
        </p:nvCxnSpPr>
        <p:spPr>
          <a:xfrm>
            <a:off x="156745080" y="-71510400"/>
            <a:ext cx="25912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AutoShape 44"/>
          <p:cNvCxnSpPr/>
          <p:nvPr/>
        </p:nvCxnSpPr>
        <p:spPr>
          <a:xfrm>
            <a:off x="137196000" y="-105948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2" name="AutoShape 45"/>
          <p:cNvCxnSpPr/>
          <p:nvPr/>
        </p:nvCxnSpPr>
        <p:spPr>
          <a:xfrm>
            <a:off x="156744720" y="-715104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AutoShape 47"/>
          <p:cNvCxnSpPr/>
          <p:nvPr/>
        </p:nvCxnSpPr>
        <p:spPr>
          <a:xfrm>
            <a:off x="137196000" y="-105948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" name="Line 49"/>
          <p:cNvSpPr/>
          <p:nvPr/>
        </p:nvSpPr>
        <p:spPr>
          <a:xfrm flipH="1" flipV="1">
            <a:off x="5580000" y="407628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"/>
          <p:cNvSpPr/>
          <p:nvPr/>
        </p:nvSpPr>
        <p:spPr>
          <a:xfrm rot="18966600">
            <a:off x="5148360" y="3644640"/>
            <a:ext cx="482400" cy="460440"/>
          </a:xfrm>
          <a:custGeom>
            <a:avLst/>
            <a:gdLst/>
            <a:ahLst/>
            <a:rect l="l" t="t" r="r" b="b"/>
            <a:pathLst>
              <a:path w="608" h="581">
                <a:moveTo>
                  <a:pt x="12" y="404"/>
                </a:moveTo>
                <a:lnTo>
                  <a:pt x="268" y="260"/>
                </a:lnTo>
                <a:lnTo>
                  <a:pt x="272" y="20"/>
                </a:lnTo>
                <a:lnTo>
                  <a:pt x="308" y="0"/>
                </a:lnTo>
                <a:lnTo>
                  <a:pt x="340" y="20"/>
                </a:lnTo>
                <a:lnTo>
                  <a:pt x="344" y="256"/>
                </a:lnTo>
                <a:lnTo>
                  <a:pt x="596" y="396"/>
                </a:lnTo>
                <a:lnTo>
                  <a:pt x="608" y="445"/>
                </a:lnTo>
                <a:lnTo>
                  <a:pt x="336" y="399"/>
                </a:lnTo>
                <a:lnTo>
                  <a:pt x="336" y="535"/>
                </a:lnTo>
                <a:lnTo>
                  <a:pt x="427" y="581"/>
                </a:lnTo>
                <a:lnTo>
                  <a:pt x="212" y="580"/>
                </a:lnTo>
                <a:lnTo>
                  <a:pt x="276" y="532"/>
                </a:lnTo>
                <a:lnTo>
                  <a:pt x="272" y="400"/>
                </a:lnTo>
                <a:lnTo>
                  <a:pt x="0" y="444"/>
                </a:lnTo>
                <a:lnTo>
                  <a:pt x="8" y="40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cc3300"/>
              </a:gs>
            </a:gsLst>
            <a:lin ang="8034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2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Questions/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55640" y="2276640"/>
            <a:ext cx="8209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0" spc="-1" strike="noStrike">
                <a:solidFill>
                  <a:srgbClr val="000000"/>
                </a:solidFill>
                <a:latin typeface="Tahoma"/>
              </a:rPr>
              <a:t>??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P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me DPO software issues were identified prior to CPWG/13 in Reykjavik, and have since been rec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major FAA DPO software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y 30, August 7 &amp; November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mportant items, from the NAV CANADA perspective, were fix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DPO was not upd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Old information was “stuck” in D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- Were able to logon &amp; view, but not always chang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ble to customize column layout of DPO without jeopardizing overall function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PO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5219640" y="2708280"/>
            <a:ext cx="704880" cy="414360"/>
          </a:xfrm>
          <a:custGeom>
            <a:avLst/>
            <a:gdLst/>
            <a:ahLst/>
            <a:rect l="l" t="t" r="r" b="b"/>
            <a:pathLst>
              <a:path w="444" h="261">
                <a:moveTo>
                  <a:pt x="0" y="38"/>
                </a:moveTo>
                <a:cubicBezTo>
                  <a:pt x="0" y="112"/>
                  <a:pt x="0" y="187"/>
                  <a:pt x="0" y="261"/>
                </a:cubicBezTo>
                <a:lnTo>
                  <a:pt x="444" y="0"/>
                </a:lnTo>
                <a:lnTo>
                  <a:pt x="35" y="182"/>
                </a:lnTo>
                <a:lnTo>
                  <a:pt x="0" y="38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7451640" y="3284640"/>
            <a:ext cx="704880" cy="414360"/>
          </a:xfrm>
          <a:custGeom>
            <a:avLst/>
            <a:gdLst/>
            <a:ahLst/>
            <a:rect l="l" t="t" r="r" b="b"/>
            <a:pathLst>
              <a:path w="444" h="261">
                <a:moveTo>
                  <a:pt x="0" y="38"/>
                </a:moveTo>
                <a:cubicBezTo>
                  <a:pt x="0" y="112"/>
                  <a:pt x="0" y="187"/>
                  <a:pt x="0" y="261"/>
                </a:cubicBezTo>
                <a:lnTo>
                  <a:pt x="444" y="0"/>
                </a:lnTo>
                <a:lnTo>
                  <a:pt x="35" y="182"/>
                </a:lnTo>
                <a:lnTo>
                  <a:pt x="0" y="38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8172360" y="4292640"/>
            <a:ext cx="704880" cy="414360"/>
          </a:xfrm>
          <a:custGeom>
            <a:avLst/>
            <a:gdLst/>
            <a:ahLst/>
            <a:rect l="l" t="t" r="r" b="b"/>
            <a:pathLst>
              <a:path w="444" h="261">
                <a:moveTo>
                  <a:pt x="0" y="38"/>
                </a:moveTo>
                <a:cubicBezTo>
                  <a:pt x="0" y="112"/>
                  <a:pt x="0" y="187"/>
                  <a:pt x="0" y="261"/>
                </a:cubicBezTo>
                <a:lnTo>
                  <a:pt x="444" y="0"/>
                </a:lnTo>
                <a:lnTo>
                  <a:pt x="35" y="182"/>
                </a:lnTo>
                <a:lnTo>
                  <a:pt x="0" y="38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8172360" y="5229360"/>
            <a:ext cx="704880" cy="414360"/>
          </a:xfrm>
          <a:custGeom>
            <a:avLst/>
            <a:gdLst/>
            <a:ahLst/>
            <a:rect l="l" t="t" r="r" b="b"/>
            <a:pathLst>
              <a:path w="444" h="261">
                <a:moveTo>
                  <a:pt x="0" y="38"/>
                </a:moveTo>
                <a:cubicBezTo>
                  <a:pt x="0" y="112"/>
                  <a:pt x="0" y="187"/>
                  <a:pt x="0" y="261"/>
                </a:cubicBezTo>
                <a:lnTo>
                  <a:pt x="444" y="0"/>
                </a:lnTo>
                <a:lnTo>
                  <a:pt x="35" y="182"/>
                </a:lnTo>
                <a:lnTo>
                  <a:pt x="0" y="38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PO Future in NAV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ily “routine” use in Edmonton ACC in very near 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AV CANADA upgrade from IE6 to IE9 in 2013 will correct some current web browser defici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pports a NAV CANADA Corporate objective of “…providing value to our customers by assisting in improving operational efficiency through innovative uses of technology and delivery of service, domestically &amp; internationally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uture Changes &amp;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event overwrite of “Estimated Fix Time” whenever a new “Assigned Fix Time” is en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ments” column to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possibl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be broadcast extern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ds t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hanced ability for all (Airlines &amp; ATC) to see potential conflicts several hou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ability to see what plan ATC is implemen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eeting general industry goal of traffic solutions (speed adjustments) being implemented gradually over long periods of time vs. “at the last minut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uture Changes &amp;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-3143160"/>
            <a:ext cx="16002000" cy="10001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179280" y="5229360"/>
            <a:ext cx="10801440" cy="2558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In this example, speeds were assigned to increase sepa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Can this information be broadcast to all DPO Users so that everyone                                                                             is “in the picture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7380360" y="3789360"/>
            <a:ext cx="431640" cy="574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574560"/>
              <a:gd name="textAreaBottom" fmla="*/ 553680 h 574560"/>
            </a:gdLst>
            <a:ahLst/>
            <a:rect l="textAreaLeft" t="textAreaTop" r="textAreaRight" b="textAreaBottom"/>
            <a:pathLst>
              <a:path w="21600" h="28746">
                <a:moveTo>
                  <a:pt x="3600" y="0"/>
                </a:moveTo>
                <a:arcTo wR="3600" hR="3600" stAng="16200000" swAng="-5400000"/>
                <a:lnTo>
                  <a:pt x="0" y="25146"/>
                </a:lnTo>
                <a:arcTo wR="3600" hR="3600" stAng="10800000" swAng="-5400000"/>
                <a:lnTo>
                  <a:pt x="18000" y="287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395280" y="-3143160"/>
            <a:ext cx="16002000" cy="10001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468360" y="5229360"/>
            <a:ext cx="11017080" cy="25585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A traffic situation involving more than 1 airl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Greater awareness, and earlier intervention and collaboration,                                           will result in the most effective solutions for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6804000" y="3645000"/>
            <a:ext cx="360360" cy="863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863640"/>
              <a:gd name="textAreaBottom" fmla="*/ 846360 h 863640"/>
            </a:gdLst>
            <a:ahLst/>
            <a:rect l="textAreaLeft" t="textAreaTop" r="textAreaRight" b="textAreaBottom"/>
            <a:pathLst>
              <a:path w="21600" h="51737">
                <a:moveTo>
                  <a:pt x="3600" y="0"/>
                </a:moveTo>
                <a:arcTo wR="3600" hR="3600" stAng="16200000" swAng="-5400000"/>
                <a:lnTo>
                  <a:pt x="0" y="48137"/>
                </a:lnTo>
                <a:arcTo wR="3600" hR="3600" stAng="10800000" swAng="-5400000"/>
                <a:lnTo>
                  <a:pt x="18000" y="517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755640" y="3645000"/>
            <a:ext cx="539640" cy="792000"/>
          </a:xfrm>
          <a:custGeom>
            <a:avLst/>
            <a:gdLst>
              <a:gd name="textAreaLeft" fmla="*/ 26280 w 539640"/>
              <a:gd name="textAreaRight" fmla="*/ 513360 w 539640"/>
              <a:gd name="textAreaTop" fmla="*/ 26280 h 792000"/>
              <a:gd name="textAreaBottom" fmla="*/ 765720 h 792000"/>
            </a:gdLst>
            <a:ahLst/>
            <a:rect l="textAreaLeft" t="textAreaTop" r="textAreaRight" b="textAreaBottom"/>
            <a:pathLst>
              <a:path w="21600" h="31694">
                <a:moveTo>
                  <a:pt x="3600" y="0"/>
                </a:moveTo>
                <a:arcTo wR="3600" hR="3600" stAng="16200000" swAng="-5400000"/>
                <a:lnTo>
                  <a:pt x="0" y="28094"/>
                </a:lnTo>
                <a:arcTo wR="3600" hR="3600" stAng="10800000" swAng="-5400000"/>
                <a:lnTo>
                  <a:pt x="18000" y="31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9"/>
          <p:cNvSpPr/>
          <p:nvPr/>
        </p:nvSpPr>
        <p:spPr>
          <a:xfrm>
            <a:off x="5724360" y="3645000"/>
            <a:ext cx="360360" cy="863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863640"/>
              <a:gd name="textAreaBottom" fmla="*/ 846360 h 863640"/>
            </a:gdLst>
            <a:ahLst/>
            <a:rect l="textAreaLeft" t="textAreaTop" r="textAreaRight" b="textAreaBottom"/>
            <a:pathLst>
              <a:path w="21600" h="51737">
                <a:moveTo>
                  <a:pt x="3600" y="0"/>
                </a:moveTo>
                <a:arcTo wR="3600" hR="3600" stAng="16200000" swAng="-5400000"/>
                <a:lnTo>
                  <a:pt x="0" y="48137"/>
                </a:lnTo>
                <a:arcTo wR="3600" hR="3600" stAng="10800000" swAng="-5400000"/>
                <a:lnTo>
                  <a:pt x="18000" y="517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84200" y="-2763720"/>
            <a:ext cx="16002000" cy="10001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14440" y="1940040"/>
            <a:ext cx="11619000" cy="23058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Traffic scenario from November 27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KAL094 estimate was updated to 2328Z in DPO by Edmonton; an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DAL181 estimate was updated to 2335Z in DPO by Edmont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Conflict was shown in DPO between KAL094 &amp; DAL181:   </a:t>
            </a:r>
            <a:r>
              <a:rPr b="0" lang="en-CA" sz="1600" spc="-1" strike="noStrike" u="sng">
                <a:solidFill>
                  <a:srgbClr val="ffffff"/>
                </a:solidFill>
                <a:uFillTx/>
                <a:latin typeface="Tahoma"/>
              </a:rPr>
              <a:t>7’ in trail @ FL3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DAL dispatcher checked with pilot, and updated DPO/GRL to 2338Z &amp; </a:t>
            </a:r>
            <a:r>
              <a:rPr b="0" lang="en-CA" sz="1600" spc="-1" strike="noStrike" u="sng">
                <a:solidFill>
                  <a:srgbClr val="ffffff"/>
                </a:solidFill>
                <a:uFillTx/>
                <a:latin typeface="Tahoma"/>
              </a:rPr>
              <a:t>FL360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 –                                                                                   well before the flight was in Edmonton airspace! </a:t>
            </a:r>
            <a:r>
              <a:rPr b="0" lang="en-CA" sz="1600" spc="-1" strike="noStrike" u="sng">
                <a:solidFill>
                  <a:srgbClr val="ffffff"/>
                </a:solidFill>
                <a:uFillTx/>
                <a:latin typeface="Tahoma"/>
              </a:rPr>
              <a:t>Conflict solved early &amp; effectively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!!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851040" y="5300640"/>
            <a:ext cx="502920" cy="208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851040" y="5950080"/>
            <a:ext cx="492120" cy="209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6265800" y="5904000"/>
            <a:ext cx="538200" cy="296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6278400" y="5315040"/>
            <a:ext cx="525600" cy="207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6302520" y="5950080"/>
            <a:ext cx="431640" cy="215640"/>
          </a:xfrm>
          <a:prstGeom prst="rect">
            <a:avLst/>
          </a:prstGeom>
          <a:solidFill>
            <a:srgbClr val="fa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4d4d4d"/>
                </a:solidFill>
                <a:latin typeface="Arial"/>
              </a:rPr>
              <a:t>23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5273640" y="5950080"/>
            <a:ext cx="360360" cy="215640"/>
          </a:xfrm>
          <a:prstGeom prst="rect">
            <a:avLst/>
          </a:prstGeom>
          <a:solidFill>
            <a:srgbClr val="fa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4d4d4d"/>
                </a:solidFill>
                <a:latin typeface="Arial"/>
              </a:rPr>
              <a:t>3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9"/>
          <p:cNvSpPr/>
          <p:nvPr/>
        </p:nvSpPr>
        <p:spPr>
          <a:xfrm>
            <a:off x="5207040" y="5904000"/>
            <a:ext cx="468360" cy="290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5221440" y="5310360"/>
            <a:ext cx="431640" cy="207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6921360" y="5943600"/>
            <a:ext cx="505080" cy="21564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4d4d4d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5746680" y="5942160"/>
            <a:ext cx="465120" cy="215640"/>
          </a:xfrm>
          <a:prstGeom prst="rect">
            <a:avLst/>
          </a:prstGeom>
          <a:solidFill>
            <a:srgbClr val="fa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800" spc="-1" strike="noStrike">
                <a:solidFill>
                  <a:srgbClr val="4d4d4d"/>
                </a:solidFill>
                <a:latin typeface="Arial"/>
              </a:rPr>
              <a:t>23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84200" y="6308640"/>
            <a:ext cx="12326760" cy="91692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3333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10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10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9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9" dur="10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0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1000" autoRev="1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0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00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10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10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10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22:13:04Z</dcterms:created>
  <dc:creator>carlsob</dc:creator>
  <dc:description/>
  <dc:language>en-US</dc:language>
  <cp:lastModifiedBy>User</cp:lastModifiedBy>
  <dcterms:modified xsi:type="dcterms:W3CDTF">2012-11-30T07:42:17Z</dcterms:modified>
  <cp:revision>30</cp:revision>
  <dc:subject/>
  <dc:title>Slide 1</dc:title>
</cp:coreProperties>
</file>