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000" y="1507680"/>
            <a:ext cx="804708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5000" y="3864600"/>
            <a:ext cx="804708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000" y="1507680"/>
            <a:ext cx="392688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18440" y="1507680"/>
            <a:ext cx="392688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95000" y="3864600"/>
            <a:ext cx="392688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18440" y="3864600"/>
            <a:ext cx="392688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000" y="1507680"/>
            <a:ext cx="259092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15880" y="1507680"/>
            <a:ext cx="259092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36760" y="1507680"/>
            <a:ext cx="259092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5000" y="3864600"/>
            <a:ext cx="259092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15880" y="3864600"/>
            <a:ext cx="259092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36760" y="3864600"/>
            <a:ext cx="259092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95000" y="1507680"/>
            <a:ext cx="8047080" cy="45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507680"/>
            <a:ext cx="804708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507680"/>
            <a:ext cx="392688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18440" y="1507680"/>
            <a:ext cx="392688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95000" y="223560"/>
            <a:ext cx="804708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507680"/>
            <a:ext cx="392688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18440" y="1507680"/>
            <a:ext cx="392688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864600"/>
            <a:ext cx="392688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95000" y="1507680"/>
            <a:ext cx="8047080" cy="45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507680"/>
            <a:ext cx="392688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18440" y="1507680"/>
            <a:ext cx="392688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18440" y="3864600"/>
            <a:ext cx="392688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000" y="1507680"/>
            <a:ext cx="392688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18440" y="1507680"/>
            <a:ext cx="392688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000" y="3864600"/>
            <a:ext cx="804708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507680"/>
            <a:ext cx="804708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5000" y="3864600"/>
            <a:ext cx="804708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000" y="1507680"/>
            <a:ext cx="392688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8440" y="1507680"/>
            <a:ext cx="392688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5000" y="3864600"/>
            <a:ext cx="392688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18440" y="3864600"/>
            <a:ext cx="392688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000" y="1507680"/>
            <a:ext cx="259092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15880" y="1507680"/>
            <a:ext cx="259092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36760" y="1507680"/>
            <a:ext cx="259092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95000" y="3864600"/>
            <a:ext cx="259092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15880" y="3864600"/>
            <a:ext cx="259092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36760" y="3864600"/>
            <a:ext cx="259092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507680"/>
            <a:ext cx="804708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507680"/>
            <a:ext cx="392688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18440" y="1507680"/>
            <a:ext cx="392688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95000" y="223560"/>
            <a:ext cx="804708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507680"/>
            <a:ext cx="392688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18440" y="1507680"/>
            <a:ext cx="392688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864600"/>
            <a:ext cx="392688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000" y="1507680"/>
            <a:ext cx="392688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18440" y="1507680"/>
            <a:ext cx="392688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18440" y="3864600"/>
            <a:ext cx="392688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507680"/>
            <a:ext cx="392688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18440" y="1507680"/>
            <a:ext cx="392688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5000" y="3864600"/>
            <a:ext cx="8047080" cy="21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046920"/>
            <a:ext cx="9144000" cy="815760"/>
          </a:xfrm>
          <a:prstGeom prst="rect">
            <a:avLst/>
          </a:prstGeom>
          <a:solidFill>
            <a:srgbClr val="1d2f68"/>
          </a:solidFill>
          <a:ln w="9360">
            <a:solidFill>
              <a:srgbClr val="1d2f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95000" y="1507680"/>
            <a:ext cx="804708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449280" y="6194520"/>
            <a:ext cx="216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GOLD Amendment Program</a:t>
            </a:r>
            <a:br>
              <a:rPr sz="1200"/>
            </a:br>
            <a:r>
              <a:rPr b="0" lang="en-US" sz="1200" spc="-1" strike="noStrike">
                <a:solidFill>
                  <a:srgbClr val="c0c0c0"/>
                </a:solidFill>
                <a:latin typeface="Arial"/>
              </a:rPr>
              <a:t>13 December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694044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AEBE-83B6-4B22-933C-FE4365CB07E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5708520" y="6124680"/>
            <a:ext cx="2047680" cy="662040"/>
            <a:chOff x="5708520" y="6124680"/>
            <a:chExt cx="2047680" cy="662040"/>
          </a:xfrm>
        </p:grpSpPr>
        <p:pic>
          <p:nvPicPr>
            <p:cNvPr id="5" name="Picture 7" descr="NEW FAA LOGO"/>
            <p:cNvPicPr/>
            <p:nvPr/>
          </p:nvPicPr>
          <p:blipFill>
            <a:blip r:embed="rId2"/>
            <a:srcRect l="14357" t="3756" r="14973" b="4557"/>
            <a:stretch/>
          </p:blipFill>
          <p:spPr>
            <a:xfrm>
              <a:off x="5708520" y="6124680"/>
              <a:ext cx="66060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Text Box 8"/>
            <p:cNvSpPr/>
            <p:nvPr/>
          </p:nvSpPr>
          <p:spPr>
            <a:xfrm>
              <a:off x="6386760" y="6243480"/>
              <a:ext cx="1369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grpSp>
        <p:nvGrpSpPr>
          <p:cNvPr id="8" name="Group 54"/>
          <p:cNvGrpSpPr/>
          <p:nvPr/>
        </p:nvGrpSpPr>
        <p:grpSpPr>
          <a:xfrm>
            <a:off x="2690640" y="6046920"/>
            <a:ext cx="2514600" cy="837720"/>
            <a:chOff x="2690640" y="6046920"/>
            <a:chExt cx="2514600" cy="837720"/>
          </a:xfrm>
        </p:grpSpPr>
        <p:sp>
          <p:nvSpPr>
            <p:cNvPr id="9" name="Text Box 55"/>
            <p:cNvSpPr/>
            <p:nvPr/>
          </p:nvSpPr>
          <p:spPr>
            <a:xfrm>
              <a:off x="3376440" y="6199200"/>
              <a:ext cx="18288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cc00"/>
                  </a:solidFill>
                  <a:latin typeface="Arial Black"/>
                </a:rPr>
                <a:t>GOLD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" name="Group 56"/>
            <p:cNvGrpSpPr/>
            <p:nvPr/>
          </p:nvGrpSpPr>
          <p:grpSpPr>
            <a:xfrm>
              <a:off x="2690640" y="6046920"/>
              <a:ext cx="685440" cy="837720"/>
              <a:chOff x="2690640" y="6046920"/>
              <a:chExt cx="685440" cy="837720"/>
            </a:xfrm>
          </p:grpSpPr>
          <p:sp>
            <p:nvSpPr>
              <p:cNvPr id="11" name="Freeform 57"/>
              <p:cNvSpPr/>
              <p:nvPr/>
            </p:nvSpPr>
            <p:spPr>
              <a:xfrm>
                <a:off x="2690640" y="6046920"/>
                <a:ext cx="685440" cy="837720"/>
              </a:xfrm>
              <a:custGeom>
                <a:avLst/>
                <a:gdLst>
                  <a:gd name="textAreaLeft" fmla="*/ 0 w 685440"/>
                  <a:gd name="textAreaRight" fmla="*/ 685800 w 685440"/>
                  <a:gd name="textAreaTop" fmla="*/ 0 h 837720"/>
                  <a:gd name="textAreaBottom" fmla="*/ 838080 h 837720"/>
                </a:gdLst>
                <a:ahLst/>
                <a:rect l="textAreaLeft" t="textAreaTop" r="textAreaRight" b="textAreaBottom"/>
                <a:pathLst>
                  <a:path w="403" h="459">
                    <a:moveTo>
                      <a:pt x="226" y="0"/>
                    </a:moveTo>
                    <a:lnTo>
                      <a:pt x="111" y="66"/>
                    </a:lnTo>
                    <a:lnTo>
                      <a:pt x="3" y="140"/>
                    </a:lnTo>
                    <a:lnTo>
                      <a:pt x="0" y="158"/>
                    </a:lnTo>
                    <a:lnTo>
                      <a:pt x="1" y="180"/>
                    </a:lnTo>
                    <a:lnTo>
                      <a:pt x="0" y="227"/>
                    </a:lnTo>
                    <a:lnTo>
                      <a:pt x="19" y="351"/>
                    </a:lnTo>
                    <a:lnTo>
                      <a:pt x="33" y="402"/>
                    </a:lnTo>
                    <a:lnTo>
                      <a:pt x="51" y="443"/>
                    </a:lnTo>
                    <a:lnTo>
                      <a:pt x="63" y="450"/>
                    </a:lnTo>
                    <a:lnTo>
                      <a:pt x="78" y="453"/>
                    </a:lnTo>
                    <a:lnTo>
                      <a:pt x="142" y="459"/>
                    </a:lnTo>
                    <a:lnTo>
                      <a:pt x="175" y="459"/>
                    </a:lnTo>
                    <a:lnTo>
                      <a:pt x="198" y="446"/>
                    </a:lnTo>
                    <a:lnTo>
                      <a:pt x="228" y="444"/>
                    </a:lnTo>
                    <a:lnTo>
                      <a:pt x="268" y="435"/>
                    </a:lnTo>
                    <a:lnTo>
                      <a:pt x="358" y="410"/>
                    </a:lnTo>
                    <a:lnTo>
                      <a:pt x="403" y="393"/>
                    </a:lnTo>
                    <a:lnTo>
                      <a:pt x="388" y="329"/>
                    </a:lnTo>
                    <a:lnTo>
                      <a:pt x="384" y="273"/>
                    </a:lnTo>
                    <a:lnTo>
                      <a:pt x="379" y="215"/>
                    </a:lnTo>
                    <a:lnTo>
                      <a:pt x="381" y="152"/>
                    </a:lnTo>
                    <a:lnTo>
                      <a:pt x="390" y="102"/>
                    </a:lnTo>
                    <a:lnTo>
                      <a:pt x="394" y="51"/>
                    </a:lnTo>
                    <a:lnTo>
                      <a:pt x="355" y="62"/>
                    </a:lnTo>
                    <a:lnTo>
                      <a:pt x="310" y="75"/>
                    </a:lnTo>
                    <a:lnTo>
                      <a:pt x="255" y="93"/>
                    </a:lnTo>
                    <a:lnTo>
                      <a:pt x="204" y="114"/>
                    </a:lnTo>
                    <a:lnTo>
                      <a:pt x="151" y="135"/>
                    </a:lnTo>
                    <a:lnTo>
                      <a:pt x="39" y="134"/>
                    </a:lnTo>
                    <a:lnTo>
                      <a:pt x="228" y="8"/>
                    </a:lnTo>
                    <a:lnTo>
                      <a:pt x="226" y="0"/>
                    </a:lnTo>
                    <a:close/>
                  </a:path>
                </a:pathLst>
              </a:custGeom>
              <a:solidFill>
                <a:srgbClr val="cc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58"/>
              <p:cNvSpPr/>
              <p:nvPr/>
            </p:nvSpPr>
            <p:spPr>
              <a:xfrm>
                <a:off x="2758680" y="6057360"/>
                <a:ext cx="590400" cy="235440"/>
              </a:xfrm>
              <a:custGeom>
                <a:avLst/>
                <a:gdLst>
                  <a:gd name="textAreaLeft" fmla="*/ 0 w 590400"/>
                  <a:gd name="textAreaRight" fmla="*/ 590760 w 590400"/>
                  <a:gd name="textAreaTop" fmla="*/ 0 h 235440"/>
                  <a:gd name="textAreaBottom" fmla="*/ 235800 h 235440"/>
                </a:gdLst>
                <a:ahLst/>
                <a:rect l="textAreaLeft" t="textAreaTop" r="textAreaRight" b="textAreaBottom"/>
                <a:pathLst>
                  <a:path w="347" h="129">
                    <a:moveTo>
                      <a:pt x="182" y="18"/>
                    </a:moveTo>
                    <a:lnTo>
                      <a:pt x="188" y="0"/>
                    </a:lnTo>
                    <a:lnTo>
                      <a:pt x="0" y="126"/>
                    </a:lnTo>
                    <a:lnTo>
                      <a:pt x="102" y="129"/>
                    </a:lnTo>
                    <a:lnTo>
                      <a:pt x="179" y="102"/>
                    </a:lnTo>
                    <a:lnTo>
                      <a:pt x="258" y="72"/>
                    </a:lnTo>
                    <a:lnTo>
                      <a:pt x="347" y="41"/>
                    </a:lnTo>
                    <a:lnTo>
                      <a:pt x="321" y="47"/>
                    </a:lnTo>
                    <a:lnTo>
                      <a:pt x="323" y="39"/>
                    </a:lnTo>
                    <a:lnTo>
                      <a:pt x="312" y="44"/>
                    </a:lnTo>
                    <a:lnTo>
                      <a:pt x="305" y="36"/>
                    </a:lnTo>
                    <a:lnTo>
                      <a:pt x="294" y="39"/>
                    </a:lnTo>
                    <a:lnTo>
                      <a:pt x="288" y="32"/>
                    </a:lnTo>
                    <a:lnTo>
                      <a:pt x="270" y="36"/>
                    </a:lnTo>
                    <a:lnTo>
                      <a:pt x="261" y="30"/>
                    </a:lnTo>
                    <a:lnTo>
                      <a:pt x="243" y="35"/>
                    </a:lnTo>
                    <a:lnTo>
                      <a:pt x="239" y="24"/>
                    </a:lnTo>
                    <a:lnTo>
                      <a:pt x="222" y="29"/>
                    </a:lnTo>
                    <a:lnTo>
                      <a:pt x="224" y="17"/>
                    </a:lnTo>
                    <a:lnTo>
                      <a:pt x="204" y="27"/>
                    </a:lnTo>
                    <a:lnTo>
                      <a:pt x="198" y="18"/>
                    </a:lnTo>
                    <a:lnTo>
                      <a:pt x="182" y="18"/>
                    </a:lnTo>
                    <a:close/>
                  </a:path>
                </a:pathLst>
              </a:custGeom>
              <a:solidFill>
                <a:srgbClr val="f8f8f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59"/>
              <p:cNvSpPr/>
              <p:nvPr/>
            </p:nvSpPr>
            <p:spPr>
              <a:xfrm>
                <a:off x="2962800" y="6138000"/>
                <a:ext cx="66240" cy="4356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39" h="24">
                    <a:moveTo>
                      <a:pt x="0" y="24"/>
                    </a:moveTo>
                    <a:lnTo>
                      <a:pt x="39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60"/>
              <p:cNvSpPr/>
              <p:nvPr/>
            </p:nvSpPr>
            <p:spPr>
              <a:xfrm>
                <a:off x="3029400" y="6143040"/>
                <a:ext cx="33840" cy="2772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0" y="15"/>
                    </a:moveTo>
                    <a:lnTo>
                      <a:pt x="2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61"/>
              <p:cNvSpPr/>
              <p:nvPr/>
            </p:nvSpPr>
            <p:spPr>
              <a:xfrm>
                <a:off x="3039480" y="6194520"/>
                <a:ext cx="35640" cy="2160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1" h="12">
                    <a:moveTo>
                      <a:pt x="0" y="12"/>
                    </a:moveTo>
                    <a:lnTo>
                      <a:pt x="2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Freeform 62"/>
              <p:cNvSpPr/>
              <p:nvPr/>
            </p:nvSpPr>
            <p:spPr>
              <a:xfrm>
                <a:off x="2950920" y="6211080"/>
                <a:ext cx="30240" cy="2520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18" h="14">
                    <a:moveTo>
                      <a:pt x="0" y="14"/>
                    </a:moveTo>
                    <a:lnTo>
                      <a:pt x="1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63"/>
              <p:cNvSpPr/>
              <p:nvPr/>
            </p:nvSpPr>
            <p:spPr>
              <a:xfrm>
                <a:off x="2731320" y="6391800"/>
                <a:ext cx="194040" cy="173160"/>
              </a:xfrm>
              <a:custGeom>
                <a:avLst/>
                <a:gdLst>
                  <a:gd name="textAreaLeft" fmla="*/ 0 w 194040"/>
                  <a:gd name="textAreaRight" fmla="*/ 194400 w 194040"/>
                  <a:gd name="textAreaTop" fmla="*/ 0 h 173160"/>
                  <a:gd name="textAreaBottom" fmla="*/ 173520 h 173160"/>
                </a:gdLst>
                <a:ahLst/>
                <a:rect l="textAreaLeft" t="textAreaTop" r="textAreaRight" b="textAreaBottom"/>
                <a:pathLst>
                  <a:path w="114" h="95">
                    <a:moveTo>
                      <a:pt x="0" y="15"/>
                    </a:moveTo>
                    <a:lnTo>
                      <a:pt x="0" y="39"/>
                    </a:lnTo>
                    <a:lnTo>
                      <a:pt x="1" y="63"/>
                    </a:lnTo>
                    <a:lnTo>
                      <a:pt x="6" y="80"/>
                    </a:lnTo>
                    <a:lnTo>
                      <a:pt x="13" y="93"/>
                    </a:lnTo>
                    <a:lnTo>
                      <a:pt x="31" y="95"/>
                    </a:lnTo>
                    <a:lnTo>
                      <a:pt x="54" y="95"/>
                    </a:lnTo>
                    <a:lnTo>
                      <a:pt x="91" y="93"/>
                    </a:lnTo>
                    <a:lnTo>
                      <a:pt x="109" y="83"/>
                    </a:lnTo>
                    <a:lnTo>
                      <a:pt x="114" y="54"/>
                    </a:lnTo>
                    <a:lnTo>
                      <a:pt x="109" y="29"/>
                    </a:lnTo>
                    <a:lnTo>
                      <a:pt x="103" y="11"/>
                    </a:lnTo>
                    <a:lnTo>
                      <a:pt x="91" y="6"/>
                    </a:lnTo>
                    <a:lnTo>
                      <a:pt x="48" y="0"/>
                    </a:lnTo>
                    <a:lnTo>
                      <a:pt x="12" y="3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64"/>
              <p:cNvSpPr/>
              <p:nvPr/>
            </p:nvSpPr>
            <p:spPr>
              <a:xfrm>
                <a:off x="2950920" y="6347880"/>
                <a:ext cx="66240" cy="47628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476280"/>
                  <a:gd name="textAreaBottom" fmla="*/ 476640 h 476280"/>
                </a:gdLst>
                <a:ahLst/>
                <a:rect l="textAreaLeft" t="textAreaTop" r="textAreaRight" b="textAreaBottom"/>
                <a:pathLst>
                  <a:path w="39" h="261">
                    <a:moveTo>
                      <a:pt x="0" y="0"/>
                    </a:moveTo>
                    <a:lnTo>
                      <a:pt x="1" y="44"/>
                    </a:lnTo>
                    <a:lnTo>
                      <a:pt x="3" y="92"/>
                    </a:lnTo>
                    <a:lnTo>
                      <a:pt x="13" y="159"/>
                    </a:lnTo>
                    <a:lnTo>
                      <a:pt x="25" y="219"/>
                    </a:lnTo>
                    <a:lnTo>
                      <a:pt x="39" y="26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65"/>
              <p:cNvSpPr/>
              <p:nvPr/>
            </p:nvSpPr>
            <p:spPr>
              <a:xfrm>
                <a:off x="2952360" y="6353640"/>
                <a:ext cx="23760" cy="28440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14" h="156">
                    <a:moveTo>
                      <a:pt x="0" y="0"/>
                    </a:moveTo>
                    <a:lnTo>
                      <a:pt x="5" y="80"/>
                    </a:lnTo>
                    <a:lnTo>
                      <a:pt x="14" y="15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9" descr=""/>
          <p:cNvPicPr/>
          <p:nvPr/>
        </p:nvPicPr>
        <p:blipFill>
          <a:blip r:embed="rId2"/>
          <a:srcRect l="10050" t="0" r="0" b="0"/>
          <a:stretch/>
        </p:blipFill>
        <p:spPr>
          <a:xfrm>
            <a:off x="5288040" y="0"/>
            <a:ext cx="3855960" cy="685152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5"/>
          <p:cNvGrpSpPr/>
          <p:nvPr/>
        </p:nvGrpSpPr>
        <p:grpSpPr>
          <a:xfrm>
            <a:off x="5873760" y="270000"/>
            <a:ext cx="2894040" cy="911160"/>
            <a:chOff x="5873760" y="270000"/>
            <a:chExt cx="2894040" cy="911160"/>
          </a:xfrm>
        </p:grpSpPr>
        <p:pic>
          <p:nvPicPr>
            <p:cNvPr id="58" name="Picture 6" descr="NEW FAA LOGO"/>
            <p:cNvPicPr/>
            <p:nvPr/>
          </p:nvPicPr>
          <p:blipFill>
            <a:blip r:embed="rId3"/>
            <a:srcRect l="14350" t="3733" r="14966" b="4567"/>
            <a:stretch/>
          </p:blipFill>
          <p:spPr>
            <a:xfrm>
              <a:off x="5873760" y="270000"/>
              <a:ext cx="90972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7"/>
            <p:cNvSpPr/>
            <p:nvPr/>
          </p:nvSpPr>
          <p:spPr>
            <a:xfrm>
              <a:off x="6808680" y="457200"/>
              <a:ext cx="19591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ederal Av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495000" y="1507680"/>
            <a:ext cx="804708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om.kraft@faa.gov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6040" y="312480"/>
            <a:ext cx="4983120" cy="18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Global Operational Data Link Document (GOLD)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49280" y="244908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Amendment Pro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82760" y="5867280"/>
            <a:ext cx="447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39800" indent="-7398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 December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482760" y="4638600"/>
            <a:ext cx="44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55640" indent="-1655640"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ed to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WG/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482760" y="5100480"/>
            <a:ext cx="447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 Kraft</a:t>
            </a:r>
            <a:br>
              <a:rPr sz="20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om.kraft@faa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GOLD/6 Meeting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000" y="1507680"/>
            <a:ext cx="8047080" cy="21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8 January through 4 February 201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oenix, Arizona US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eting starts the week prior to the AEEC Data Link Users’ Forum (DLUF), also in Phoe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95360" y="3544920"/>
          <a:ext cx="8047080" cy="2346120"/>
        </p:xfrm>
        <a:graphic>
          <a:graphicData uri="http://schemas.openxmlformats.org/drawingml/2006/table">
            <a:tbl>
              <a:tblPr/>
              <a:tblGrid>
                <a:gridCol w="804960"/>
                <a:gridCol w="804600"/>
                <a:gridCol w="803520"/>
                <a:gridCol w="804600"/>
                <a:gridCol w="806400"/>
                <a:gridCol w="804960"/>
                <a:gridCol w="804960"/>
                <a:gridCol w="804960"/>
                <a:gridCol w="803160"/>
                <a:gridCol w="804960"/>
              </a:tblGrid>
              <a:tr h="436680">
                <a:tc gridSpan="10">
                  <a:txBody>
                    <a:bodyPr lIns="45720" rIns="4572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ed work program for GOLD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28080">
                      <a:solidFill>
                        <a:srgbClr val="1d2f68"/>
                      </a:solidFill>
                    </a:lnL>
                    <a:lnR w="28080">
                      <a:solidFill>
                        <a:srgbClr val="1d2f68"/>
                      </a:solidFill>
                    </a:lnR>
                    <a:lnT w="2808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040"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8 Ja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2808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e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9 Ja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d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0 Ja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u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1 Ja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 Fe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 Fe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 Fe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 Fe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e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 Fe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d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 Fe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2808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37760"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LD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2808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LD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LD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LD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LD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LD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LD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E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E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2808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en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2808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-Grou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-Grou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-Grou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en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-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-Gro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LU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LU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2808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</a:tr>
              <a:tr h="435600">
                <a:tc gridSpan="10">
                  <a:txBody>
                    <a:bodyPr lIns="45720" rIns="45720" anchor="ctr">
                      <a:no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enary sessions will be scheduled on Tue-Thu, as necess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28080">
                      <a:solidFill>
                        <a:srgbClr val="1d2f68"/>
                      </a:solidFill>
                    </a:lnL>
                    <a:lnR w="2808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28080">
                      <a:solidFill>
                        <a:srgbClr val="1d2f68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cloud_question_mark"/>
          <p:cNvPicPr/>
          <p:nvPr/>
        </p:nvPicPr>
        <p:blipFill>
          <a:blip r:embed="rId1"/>
          <a:stretch/>
        </p:blipFill>
        <p:spPr>
          <a:xfrm>
            <a:off x="0" y="468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GOLD Introduction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000" y="1507680"/>
            <a:ext cx="8047080" cy="45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June 2010, the North Atlantic (NAT) and Asia-Pacific (APAC) Regions endorsed the use of the Global Operational Data Link Document (GOLD), First Ed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OLD now supersedes both the NAT Data Link Guidance Material and FANS 1/A Operations Manual (FOM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GOLD Contents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507680"/>
            <a:ext cx="8047080" cy="45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OLD includes guidance material for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link service pro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or preparation and aircraft equi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er and flight crew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P-RSP specif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implementation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GOLD Application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507680"/>
            <a:ext cx="8047080" cy="45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LD is a very significant step towards the global harmonization of ADS-C and CPDLC procedures for pilots and air traffic controll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endment program will allow GOLD to be applicable to existing and new data link implementations throughout the world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Participating ICAO Regions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507680"/>
            <a:ext cx="8047080" cy="45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ia Reg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cific (PAC) Reg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uropean (EUR) Reg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rth Atlantic (NAT) Reg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uth American (SAM) Reg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rth American (NAM) Reg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rican-Indian Ocean (AFI) Reg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GOLD Working Group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000" y="1355760"/>
            <a:ext cx="8047080" cy="21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1 GOLD subscrib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5 different organiz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 different sta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95360" y="3025800"/>
          <a:ext cx="8047080" cy="3017880"/>
        </p:xfrm>
        <a:graphic>
          <a:graphicData uri="http://schemas.openxmlformats.org/drawingml/2006/table">
            <a:tbl>
              <a:tblPr/>
              <a:tblGrid>
                <a:gridCol w="2681280"/>
                <a:gridCol w="2684520"/>
                <a:gridCol w="2681280"/>
              </a:tblGrid>
              <a:tr h="335160"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STRAL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2808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2808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LAY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2808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USSIAN FED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28080">
                      <a:solidFill>
                        <a:srgbClr val="1d2f68"/>
                      </a:solidFill>
                    </a:lnR>
                    <a:lnT w="2808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5160"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LG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2808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X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NE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2808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5880"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N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2808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THERLAN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NGAP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2808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5160"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2808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W ZEAL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2808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5160"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RMA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2808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M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AIL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2808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5160"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CEL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2808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NI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2808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5880"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A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2808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UG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TED ARAB EMIR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2808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5160"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P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2808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UBLIC OF KO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TED KINGD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2808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5160"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B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2808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28080">
                      <a:solidFill>
                        <a:srgbClr val="1d2f68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M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28080">
                      <a:solidFill>
                        <a:srgbClr val="1d2f68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ITED ST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2808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28080">
                      <a:solidFill>
                        <a:srgbClr val="1d2f68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p:transition spd="med"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Recent activity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507680"/>
            <a:ext cx="8047080" cy="45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LD Working Group continues to identify and resolve iss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/5 in Miami, Florida USA, 10-15 June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 v1.3 Working Draft package was produced on 30 June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 Web 5.1 meeting on 17 Octo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 v1.4 Working Draft package was produced on 4 November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Comment Scorecard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sp>
        <p:nvSpPr>
          <p:cNvPr id="117" name="Text Box 191"/>
          <p:cNvSpPr/>
          <p:nvPr/>
        </p:nvSpPr>
        <p:spPr>
          <a:xfrm>
            <a:off x="366840" y="1123920"/>
            <a:ext cx="8410320" cy="124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347760"/>
                <a:tab algn="l" pos="2631960"/>
                <a:tab algn="l" pos="3089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gend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itional materia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iew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using, inconsistenc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ous – special attention require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toria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/y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 = total number of comments and y = open comments remain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95360" y="2217600"/>
          <a:ext cx="8047080" cy="3687840"/>
        </p:xfrm>
        <a:graphic>
          <a:graphicData uri="http://schemas.openxmlformats.org/drawingml/2006/table">
            <a:tbl>
              <a:tblPr/>
              <a:tblGrid>
                <a:gridCol w="850680"/>
                <a:gridCol w="1036800"/>
                <a:gridCol w="922320"/>
                <a:gridCol w="920880"/>
                <a:gridCol w="922320"/>
                <a:gridCol w="863640"/>
                <a:gridCol w="865080"/>
                <a:gridCol w="863640"/>
                <a:gridCol w="801720"/>
              </a:tblGrid>
              <a:tr h="193680">
                <a:tc gridSpan="9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OLD Comments Scorecard – Overall – 1 December 20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28080">
                      <a:solidFill>
                        <a:srgbClr val="1d2f68"/>
                      </a:solidFill>
                    </a:lnL>
                    <a:lnR w="28080">
                      <a:solidFill>
                        <a:srgbClr val="1d2f68"/>
                      </a:solidFill>
                    </a:lnR>
                    <a:lnT w="2808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916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OLD Chap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2808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 of Com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o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br>
                        <a:rPr sz="1200"/>
                      </a:b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/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 </a:t>
                      </a:r>
                      <a:br>
                        <a:rPr sz="1200"/>
                      </a:b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/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 </a:t>
                      </a:r>
                      <a:br>
                        <a:rPr sz="1200"/>
                      </a:b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/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 </a:t>
                      </a:r>
                      <a:br>
                        <a:rPr sz="1200"/>
                      </a:b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/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 </a:t>
                      </a:r>
                      <a:br>
                        <a:rPr sz="1200"/>
                      </a:b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/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2808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9368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ne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2808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/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/</a:t>
                      </a:r>
                      <a:r>
                        <a:rPr b="1" lang="pt-BR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/</a:t>
                      </a:r>
                      <a:r>
                        <a:rPr b="1" lang="pt-BR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/</a:t>
                      </a:r>
                      <a:r>
                        <a:rPr b="1" lang="pt-BR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2808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ew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2808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/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/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/</a:t>
                      </a:r>
                      <a:r>
                        <a:rPr b="1" lang="pt-BR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2808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</a:tr>
              <a:tr h="19512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2808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/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/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/</a:t>
                      </a:r>
                      <a:r>
                        <a:rPr b="1" lang="pt-BR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/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2808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2808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0/</a:t>
                      </a:r>
                      <a:r>
                        <a:rPr b="1" lang="pt-BR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55/</a:t>
                      </a:r>
                      <a:r>
                        <a:rPr b="1" lang="pt-BR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98/</a:t>
                      </a:r>
                      <a:r>
                        <a:rPr b="1" lang="pt-BR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4/</a:t>
                      </a:r>
                      <a:r>
                        <a:rPr b="1" lang="pt-BR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/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2808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2808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/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9/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/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/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/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2808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2808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0/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26/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3/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6/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5/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2808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</a:tr>
              <a:tr h="19512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2808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1/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1/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8/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/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9/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2808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2808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/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2/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/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2808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2808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2808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2808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/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/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/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/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/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2808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</a:tr>
              <a:tr h="19548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2808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/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/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/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2808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x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2808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/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2808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x 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2808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/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/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2808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x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2808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/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/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/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/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2808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</a:tr>
              <a:tr h="19512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x 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2808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/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/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2808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2808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28080">
                      <a:solidFill>
                        <a:srgbClr val="1d2f68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9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2808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2808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3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2808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0/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2808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89/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2808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83/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1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2808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6/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28080">
                      <a:solidFill>
                        <a:srgbClr val="1d2f68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0/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MS Mincho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2808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28080">
                      <a:solidFill>
                        <a:srgbClr val="1d2f6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Oval 189"/>
          <p:cNvSpPr/>
          <p:nvPr/>
        </p:nvSpPr>
        <p:spPr>
          <a:xfrm>
            <a:off x="190440" y="5560920"/>
            <a:ext cx="8817120" cy="51768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223560"/>
            <a:ext cx="804708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2f68"/>
                </a:solidFill>
                <a:latin typeface="Arial"/>
              </a:rPr>
              <a:t>GOLD Schedule</a:t>
            </a:r>
            <a:endParaRPr b="1" lang="en-US" sz="3600" spc="-1" strike="noStrike">
              <a:solidFill>
                <a:srgbClr val="1d2f68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95360" y="1066680"/>
          <a:ext cx="8047080" cy="4807080"/>
        </p:xfrm>
        <a:graphic>
          <a:graphicData uri="http://schemas.openxmlformats.org/drawingml/2006/table">
            <a:tbl>
              <a:tblPr/>
              <a:tblGrid>
                <a:gridCol w="1392120"/>
                <a:gridCol w="1238400"/>
                <a:gridCol w="1496880"/>
                <a:gridCol w="1306440"/>
                <a:gridCol w="1306800"/>
                <a:gridCol w="1306440"/>
              </a:tblGrid>
              <a:tr h="335160">
                <a:tc gridSpan="6">
                  <a:txBody>
                    <a:bodyPr lIns="45720" rIns="45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old"/>
                          <a:ea typeface="MS Mincho"/>
                        </a:rPr>
                        <a:t>GOLD Schedu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28080">
                      <a:solidFill>
                        <a:srgbClr val="1d2f68"/>
                      </a:solidFill>
                    </a:lnL>
                    <a:lnR w="28080">
                      <a:solidFill>
                        <a:srgbClr val="1d2f68"/>
                      </a:solidFill>
                    </a:lnR>
                    <a:lnT w="2808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old"/>
                          <a:ea typeface="MS Mincho"/>
                        </a:rPr>
                        <a:t>Eve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2808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old"/>
                          <a:ea typeface="MS Mincho"/>
                        </a:rPr>
                        <a:t>GOLD/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old"/>
                          <a:ea typeface="MS Mincho"/>
                        </a:rPr>
                        <a:t>Web 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old"/>
                          <a:ea typeface="MS Mincho"/>
                        </a:rPr>
                        <a:t>GOLD/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old"/>
                          <a:ea typeface="MS Mincho"/>
                        </a:rPr>
                        <a:t>Web 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old"/>
                          <a:ea typeface="MS Mincho"/>
                        </a:rPr>
                        <a:t>GOLD/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2808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21880"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old"/>
                          <a:ea typeface="MS Mincho"/>
                        </a:rPr>
                        <a:t>Actions/ comments d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2808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 Jul 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0 Apr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(Matrix updat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1 May 2012, if a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Oct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9 Jan 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2808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old"/>
                          <a:ea typeface="MS Mincho"/>
                        </a:rPr>
                        <a:t>Pre Meeting GOLD up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2808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0 Aug 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(Matrix onl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 May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(Matrix onl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8 May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(Matrix onl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 Oct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(Matrix onl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6 Jan 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(v1.4.1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entat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2808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old"/>
                          <a:ea typeface="MS Mincho"/>
                        </a:rPr>
                        <a:t>Mee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2808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-14 Oct 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9 May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(1300 UTC for 2 h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-15 Jun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(5 day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(Miam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7 Oct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(1300 UTC for 2 h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8 Jan – 4 Feb 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(7 day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(PHX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2808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old"/>
                          <a:ea typeface="MS Mincho"/>
                        </a:rPr>
                        <a:t>Post Meeting GOLD up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2808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1 Oct 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(v1.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4 May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(V1.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0 Jun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(v1.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 Nov 2012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(v1.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7-Feb 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(v1.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entat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2808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5760">
                      <a:solidFill>
                        <a:srgbClr val="1d2f68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old"/>
                          <a:ea typeface="MS Mincho"/>
                        </a:rPr>
                        <a:t>Desk Revie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old"/>
                          <a:ea typeface="MS Mincho"/>
                        </a:rPr>
                        <a:t>(approx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2808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28080">
                      <a:solidFill>
                        <a:srgbClr val="1d2f68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(6+ month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28080">
                      <a:solidFill>
                        <a:srgbClr val="1d2f68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(1- mont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28080">
                      <a:solidFill>
                        <a:srgbClr val="1d2f68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(3+ month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28080">
                      <a:solidFill>
                        <a:srgbClr val="1d2f68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(2+ month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576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28080">
                      <a:solidFill>
                        <a:srgbClr val="1d2f6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 Mar 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(Edition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1d2f68"/>
                      </a:solidFill>
                    </a:lnL>
                    <a:lnR w="28080">
                      <a:solidFill>
                        <a:srgbClr val="1d2f68"/>
                      </a:solidFill>
                    </a:lnR>
                    <a:lnT w="5760">
                      <a:solidFill>
                        <a:srgbClr val="1d2f68"/>
                      </a:solidFill>
                    </a:lnT>
                    <a:lnB w="28080">
                      <a:solidFill>
                        <a:srgbClr val="1d2f6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Oval 594"/>
          <p:cNvSpPr/>
          <p:nvPr/>
        </p:nvSpPr>
        <p:spPr>
          <a:xfrm>
            <a:off x="7164360" y="5214960"/>
            <a:ext cx="1496880" cy="7812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0T14:07:04Z</dcterms:created>
  <dc:creator>Tom Kraft</dc:creator>
  <dc:description/>
  <cp:keywords/>
  <dc:language>en-US</dc:language>
  <cp:lastModifiedBy>Leslie McCormick</cp:lastModifiedBy>
  <cp:lastPrinted>1999-05-01T20:41:40Z</cp:lastPrinted>
  <dcterms:modified xsi:type="dcterms:W3CDTF">2012-12-02T15:39:48Z</dcterms:modified>
  <cp:revision>837</cp:revision>
  <dc:subject/>
  <dc:title>RCP and RSP Planning and Implem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y">
    <vt:lpwstr>1) CSTA Presentation</vt:lpwstr>
  </property>
  <property fmtid="{D5CDD505-2E9C-101B-9397-08002B2CF9AE}" pid="3" name="Doc">
    <vt:lpwstr/>
  </property>
  <property fmtid="{D5CDD505-2E9C-101B-9397-08002B2CF9AE}" pid="4" name="Order">
    <vt:lpwstr>4600.00000000000</vt:lpwstr>
  </property>
  <property fmtid="{D5CDD505-2E9C-101B-9397-08002B2CF9AE}" pid="5" name="Presenter">
    <vt:lpwstr>Tom Kraft</vt:lpwstr>
  </property>
</Properties>
</file>