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23560"/>
            <a:ext cx="8047080" cy="8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507680"/>
            <a:ext cx="8047080" cy="215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5000" y="3864600"/>
            <a:ext cx="8047080" cy="215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95000" y="223560"/>
            <a:ext cx="8047080" cy="8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95000" y="1507680"/>
            <a:ext cx="3926880" cy="215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18440" y="1507680"/>
            <a:ext cx="3926880" cy="215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95000" y="3864600"/>
            <a:ext cx="3926880" cy="215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18440" y="3864600"/>
            <a:ext cx="3926880" cy="215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95000" y="223560"/>
            <a:ext cx="8047080" cy="8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95000" y="1507680"/>
            <a:ext cx="2590920" cy="215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15880" y="1507680"/>
            <a:ext cx="2590920" cy="215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36760" y="1507680"/>
            <a:ext cx="2590920" cy="215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95000" y="3864600"/>
            <a:ext cx="2590920" cy="215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15880" y="3864600"/>
            <a:ext cx="2590920" cy="215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36760" y="3864600"/>
            <a:ext cx="2590920" cy="215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95000" y="223560"/>
            <a:ext cx="8047080" cy="8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95000" y="1507680"/>
            <a:ext cx="8047080" cy="45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95000" y="223560"/>
            <a:ext cx="8047080" cy="8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95000" y="1507680"/>
            <a:ext cx="8047080" cy="451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95000" y="223560"/>
            <a:ext cx="8047080" cy="8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95000" y="1507680"/>
            <a:ext cx="3926880" cy="451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18440" y="1507680"/>
            <a:ext cx="3926880" cy="451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95000" y="223560"/>
            <a:ext cx="8047080" cy="8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95000" y="223560"/>
            <a:ext cx="8047080" cy="393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95000" y="223560"/>
            <a:ext cx="8047080" cy="8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95000" y="1507680"/>
            <a:ext cx="3926880" cy="215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18440" y="1507680"/>
            <a:ext cx="3926880" cy="451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5000" y="3864600"/>
            <a:ext cx="3926880" cy="215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95000" y="223560"/>
            <a:ext cx="8047080" cy="8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95000" y="1507680"/>
            <a:ext cx="8047080" cy="45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95000" y="223560"/>
            <a:ext cx="8047080" cy="8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95000" y="1507680"/>
            <a:ext cx="3926880" cy="451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18440" y="1507680"/>
            <a:ext cx="3926880" cy="215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18440" y="3864600"/>
            <a:ext cx="3926880" cy="215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95000" y="223560"/>
            <a:ext cx="8047080" cy="8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95000" y="1507680"/>
            <a:ext cx="3926880" cy="215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18440" y="1507680"/>
            <a:ext cx="3926880" cy="215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5000" y="3864600"/>
            <a:ext cx="8047080" cy="215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95000" y="223560"/>
            <a:ext cx="8047080" cy="8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95000" y="1507680"/>
            <a:ext cx="8047080" cy="215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5000" y="3864600"/>
            <a:ext cx="8047080" cy="215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95000" y="223560"/>
            <a:ext cx="8047080" cy="8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95000" y="1507680"/>
            <a:ext cx="3926880" cy="215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18440" y="1507680"/>
            <a:ext cx="3926880" cy="215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5000" y="3864600"/>
            <a:ext cx="3926880" cy="215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18440" y="3864600"/>
            <a:ext cx="3926880" cy="215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95000" y="223560"/>
            <a:ext cx="8047080" cy="8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95000" y="1507680"/>
            <a:ext cx="2590920" cy="215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15880" y="1507680"/>
            <a:ext cx="2590920" cy="215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36760" y="1507680"/>
            <a:ext cx="2590920" cy="215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95000" y="3864600"/>
            <a:ext cx="2590920" cy="215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15880" y="3864600"/>
            <a:ext cx="2590920" cy="215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36760" y="3864600"/>
            <a:ext cx="2590920" cy="215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95000" y="223560"/>
            <a:ext cx="8047080" cy="8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95000" y="1507680"/>
            <a:ext cx="8047080" cy="451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23560"/>
            <a:ext cx="8047080" cy="8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95000" y="1507680"/>
            <a:ext cx="3926880" cy="451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18440" y="1507680"/>
            <a:ext cx="3926880" cy="451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95000" y="223560"/>
            <a:ext cx="8047080" cy="8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95000" y="223560"/>
            <a:ext cx="8047080" cy="393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95000" y="223560"/>
            <a:ext cx="8047080" cy="8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95000" y="1507680"/>
            <a:ext cx="3926880" cy="215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18440" y="1507680"/>
            <a:ext cx="3926880" cy="451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5000" y="3864600"/>
            <a:ext cx="3926880" cy="215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95000" y="223560"/>
            <a:ext cx="8047080" cy="8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95000" y="1507680"/>
            <a:ext cx="3926880" cy="451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18440" y="1507680"/>
            <a:ext cx="3926880" cy="215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18440" y="3864600"/>
            <a:ext cx="3926880" cy="215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95000" y="223560"/>
            <a:ext cx="8047080" cy="8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95000" y="1507680"/>
            <a:ext cx="3926880" cy="215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18440" y="1507680"/>
            <a:ext cx="3926880" cy="215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5000" y="3864600"/>
            <a:ext cx="8047080" cy="215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6046920"/>
            <a:ext cx="9144000" cy="815760"/>
          </a:xfrm>
          <a:prstGeom prst="rect">
            <a:avLst/>
          </a:prstGeom>
          <a:solidFill>
            <a:srgbClr val="1d2f68"/>
          </a:solidFill>
          <a:ln w="9360">
            <a:solidFill>
              <a:srgbClr val="1d2f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95000" y="1507680"/>
            <a:ext cx="8047080" cy="451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7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7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4"/>
          <p:cNvSpPr/>
          <p:nvPr/>
        </p:nvSpPr>
        <p:spPr>
          <a:xfrm>
            <a:off x="449280" y="6194520"/>
            <a:ext cx="3489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SVGM</a:t>
            </a:r>
            <a:br>
              <a:rPr sz="1200"/>
            </a:b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13 December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6940440" y="63054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49BA2-7EA5-4452-871C-E992AF38879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5708520" y="6124680"/>
            <a:ext cx="2047680" cy="662040"/>
            <a:chOff x="5708520" y="6124680"/>
            <a:chExt cx="2047680" cy="662040"/>
          </a:xfrm>
        </p:grpSpPr>
        <p:pic>
          <p:nvPicPr>
            <p:cNvPr id="5" name="Picture 7" descr="NEW FAA LOGO"/>
            <p:cNvPicPr/>
            <p:nvPr/>
          </p:nvPicPr>
          <p:blipFill>
            <a:blip r:embed="rId2"/>
            <a:srcRect l="14357" t="3733" r="14973" b="4579"/>
            <a:stretch/>
          </p:blipFill>
          <p:spPr>
            <a:xfrm>
              <a:off x="5708520" y="6124680"/>
              <a:ext cx="660600" cy="66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" name="Text Box 8"/>
            <p:cNvSpPr/>
            <p:nvPr/>
          </p:nvSpPr>
          <p:spPr>
            <a:xfrm>
              <a:off x="6386760" y="6243480"/>
              <a:ext cx="13694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Federal Avi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dministr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2"/>
          <p:cNvSpPr>
            <a:spLocks noGrp="1"/>
          </p:cNvSpPr>
          <p:nvPr>
            <p:ph type="title"/>
          </p:nvPr>
        </p:nvSpPr>
        <p:spPr>
          <a:xfrm>
            <a:off x="495000" y="223560"/>
            <a:ext cx="8047080" cy="8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d2f6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9" descr=""/>
          <p:cNvPicPr/>
          <p:nvPr/>
        </p:nvPicPr>
        <p:blipFill>
          <a:blip r:embed="rId2"/>
          <a:srcRect l="10050" t="0" r="0" b="0"/>
          <a:stretch/>
        </p:blipFill>
        <p:spPr>
          <a:xfrm>
            <a:off x="5288040" y="0"/>
            <a:ext cx="3855960" cy="6851520"/>
          </a:xfrm>
          <a:prstGeom prst="rect">
            <a:avLst/>
          </a:prstGeom>
          <a:ln w="0">
            <a:noFill/>
          </a:ln>
        </p:spPr>
      </p:pic>
      <p:grpSp>
        <p:nvGrpSpPr>
          <p:cNvPr id="45" name="Group 5"/>
          <p:cNvGrpSpPr/>
          <p:nvPr/>
        </p:nvGrpSpPr>
        <p:grpSpPr>
          <a:xfrm>
            <a:off x="5873760" y="270000"/>
            <a:ext cx="2894040" cy="911160"/>
            <a:chOff x="5873760" y="270000"/>
            <a:chExt cx="2894040" cy="911160"/>
          </a:xfrm>
        </p:grpSpPr>
        <p:pic>
          <p:nvPicPr>
            <p:cNvPr id="46" name="Picture 6" descr="NEW FAA LOGO"/>
            <p:cNvPicPr/>
            <p:nvPr/>
          </p:nvPicPr>
          <p:blipFill>
            <a:blip r:embed="rId3"/>
            <a:srcRect l="14334" t="3733" r="14976" b="4567"/>
            <a:stretch/>
          </p:blipFill>
          <p:spPr>
            <a:xfrm>
              <a:off x="5873760" y="270000"/>
              <a:ext cx="909720" cy="9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Text Box 7"/>
            <p:cNvSpPr/>
            <p:nvPr/>
          </p:nvSpPr>
          <p:spPr>
            <a:xfrm>
              <a:off x="6808680" y="457200"/>
              <a:ext cx="1959120" cy="55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Federal Avi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Administr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495000" y="1507680"/>
            <a:ext cx="8047080" cy="451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7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7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495000" y="223560"/>
            <a:ext cx="8047080" cy="8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d2f6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tom.kraft@faa.gov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45680" y="312840"/>
            <a:ext cx="3435480" cy="242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d2f68"/>
                </a:solidFill>
                <a:latin typeface="Arial"/>
              </a:rPr>
              <a:t>SATVOICE Guidance Material (SVGM)</a:t>
            </a: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49280" y="3058920"/>
            <a:ext cx="2797200" cy="65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First Edi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4"/>
          <p:cNvSpPr/>
          <p:nvPr/>
        </p:nvSpPr>
        <p:spPr>
          <a:xfrm>
            <a:off x="482760" y="5867280"/>
            <a:ext cx="447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39800" indent="-7398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e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3 December 20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482760" y="4638600"/>
            <a:ext cx="448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55640" indent="-1655640"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sented to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PWG/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6"/>
          <p:cNvSpPr/>
          <p:nvPr/>
        </p:nvSpPr>
        <p:spPr>
          <a:xfrm>
            <a:off x="482760" y="5100480"/>
            <a:ext cx="4479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5120" indent="-46512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m Kraft</a:t>
            </a:r>
            <a:br>
              <a:rPr sz="2000"/>
            </a:b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tom.kraft@faa.go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2" descr="SATVOICE GM_v1"/>
          <p:cNvPicPr/>
          <p:nvPr/>
        </p:nvPicPr>
        <p:blipFill>
          <a:blip r:embed="rId2"/>
          <a:stretch/>
        </p:blipFill>
        <p:spPr>
          <a:xfrm>
            <a:off x="4802040" y="203040"/>
            <a:ext cx="4113360" cy="5324760"/>
          </a:xfrm>
          <a:prstGeom prst="rect">
            <a:avLst/>
          </a:prstGeom>
          <a:ln w="0">
            <a:noFill/>
          </a:ln>
        </p:spPr>
      </p:pic>
    </p:spTree>
  </p:cSld>
  <p:transition spd="med">
    <p:pull dir="l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cloud_question_mark"/>
          <p:cNvPicPr/>
          <p:nvPr/>
        </p:nvPicPr>
        <p:blipFill>
          <a:blip r:embed="rId1"/>
          <a:stretch/>
        </p:blipFill>
        <p:spPr>
          <a:xfrm>
            <a:off x="0" y="4680"/>
            <a:ext cx="9142560" cy="6848640"/>
          </a:xfrm>
          <a:prstGeom prst="rect">
            <a:avLst/>
          </a:prstGeom>
          <a:ln w="0">
            <a:noFill/>
          </a:ln>
        </p:spPr>
      </p:pic>
    </p:spTree>
  </p:cSld>
  <p:transition spd="med">
    <p:pull dir="l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95000" y="223560"/>
            <a:ext cx="804708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d2f68"/>
                </a:solidFill>
                <a:latin typeface="Arial"/>
              </a:rPr>
              <a:t>SVGM Introduction</a:t>
            </a: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95000" y="1507680"/>
            <a:ext cx="8047080" cy="45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 June 2010,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NAT Supplementary Procedure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(Doc 7030/5) were amended to permit the use of SATVOICE for ATS communica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t that time, the NAT SPG and APANPIRG tasked an IRSVTF to develop globally applicable SATVOICE guidance material, in response to a request from ICA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IRSVTF has completed the task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95000" y="223560"/>
            <a:ext cx="804708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d2f68"/>
                </a:solidFill>
                <a:latin typeface="Arial"/>
              </a:rPr>
              <a:t>SVGM Contents</a:t>
            </a: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95000" y="1507680"/>
            <a:ext cx="8047080" cy="45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SVGM includes guidance material for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TVOICE service provi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rator preparation and aircraft equip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ler and flight crew proced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CP-RSP specif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t-implementation monito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000" y="223560"/>
            <a:ext cx="804708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d2f68"/>
                </a:solidFill>
                <a:latin typeface="Arial"/>
              </a:rPr>
              <a:t>SVGM Application</a:t>
            </a: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95000" y="1507680"/>
            <a:ext cx="8047080" cy="45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VGM is intended to promote global harmonization of SATVOICE services whe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IP notifies airspace users of available services and the operator files the capability in Item 10a of the flight plan (M1, M2 or M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operator seeks MEL relief of HF radio equipment based on the use of SATVO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VGM does not advocate or mandate the use of SATVOI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95000" y="223560"/>
            <a:ext cx="804708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d2f68"/>
                </a:solidFill>
                <a:latin typeface="Arial"/>
              </a:rPr>
              <a:t>Participating ICAO Regions</a:t>
            </a: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95000" y="1507680"/>
            <a:ext cx="8047080" cy="45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sia-Pacific (PAC) Reg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rth Atlantic (NAT) Reg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95000" y="223560"/>
            <a:ext cx="804708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d2f68"/>
                </a:solidFill>
                <a:latin typeface="Arial"/>
              </a:rPr>
              <a:t>IRSVTF</a:t>
            </a: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495360" y="1508040"/>
          <a:ext cx="8047080" cy="4511880"/>
        </p:xfrm>
        <a:graphic>
          <a:graphicData uri="http://schemas.openxmlformats.org/drawingml/2006/table">
            <a:tbl>
              <a:tblPr/>
              <a:tblGrid>
                <a:gridCol w="1714320"/>
                <a:gridCol w="966960"/>
                <a:gridCol w="1341360"/>
                <a:gridCol w="1343160"/>
                <a:gridCol w="784080"/>
                <a:gridCol w="1897200"/>
              </a:tblGrid>
              <a:tr h="376200">
                <a:tc gridSpan="6">
                  <a:txBody>
                    <a:bodyPr lIns="45720" rIns="4572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CA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28080">
                      <a:solidFill>
                        <a:srgbClr val="1d2f68"/>
                      </a:solidFill>
                    </a:lnL>
                    <a:lnR w="28080">
                      <a:solidFill>
                        <a:srgbClr val="1d2f68"/>
                      </a:solidFill>
                    </a:lnR>
                    <a:lnT w="28080">
                      <a:solidFill>
                        <a:srgbClr val="1d2f68"/>
                      </a:solidFill>
                    </a:lnT>
                    <a:lnB w="5760">
                      <a:solidFill>
                        <a:srgbClr val="1d2f68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6200">
                <a:tc gridSpan="2">
                  <a:txBody>
                    <a:bodyPr lIns="45720" rIns="4572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aris (EUR-NA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28080">
                      <a:solidFill>
                        <a:srgbClr val="1d2f68"/>
                      </a:solidFill>
                    </a:lnL>
                    <a:lnR w="5760">
                      <a:solidFill>
                        <a:srgbClr val="1d2f68"/>
                      </a:solidFill>
                    </a:lnR>
                    <a:lnT w="5760">
                      <a:solidFill>
                        <a:srgbClr val="1d2f68"/>
                      </a:solidFill>
                    </a:lnT>
                    <a:lnB w="5760">
                      <a:solidFill>
                        <a:srgbClr val="1d2f68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5720" rIns="4572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angkok (APAC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1d2f68"/>
                      </a:solidFill>
                    </a:lnL>
                    <a:lnR w="5760">
                      <a:solidFill>
                        <a:srgbClr val="1d2f68"/>
                      </a:solidFill>
                    </a:lnR>
                    <a:lnT w="5760">
                      <a:solidFill>
                        <a:srgbClr val="1d2f68"/>
                      </a:solidFill>
                    </a:lnT>
                    <a:lnB w="5760">
                      <a:solidFill>
                        <a:srgbClr val="1d2f68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5720" rIns="4572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ntreal (HQ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1d2f68"/>
                      </a:solidFill>
                    </a:lnL>
                    <a:lnR w="28080">
                      <a:solidFill>
                        <a:srgbClr val="1d2f68"/>
                      </a:solidFill>
                    </a:lnR>
                    <a:lnT w="5760">
                      <a:solidFill>
                        <a:srgbClr val="1d2f68"/>
                      </a:solidFill>
                    </a:lnT>
                    <a:lnB w="5760">
                      <a:solidFill>
                        <a:srgbClr val="1d2f68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6560">
                <a:tc gridSpan="6">
                  <a:txBody>
                    <a:bodyPr lIns="45720" rIns="4572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ates/ANSP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28080">
                      <a:solidFill>
                        <a:srgbClr val="1d2f68"/>
                      </a:solidFill>
                    </a:lnL>
                    <a:lnR w="28080">
                      <a:solidFill>
                        <a:srgbClr val="1d2f68"/>
                      </a:solidFill>
                    </a:lnR>
                    <a:lnT w="5760">
                      <a:solidFill>
                        <a:srgbClr val="1d2f68"/>
                      </a:solidFill>
                    </a:lnT>
                    <a:lnB w="5760">
                      <a:solidFill>
                        <a:srgbClr val="1d2f68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4400"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ustral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28080">
                      <a:solidFill>
                        <a:srgbClr val="1d2f68"/>
                      </a:solidFill>
                    </a:lnL>
                    <a:lnR w="5760">
                      <a:solidFill>
                        <a:srgbClr val="1d2f68"/>
                      </a:solidFill>
                    </a:lnR>
                    <a:lnT w="5760">
                      <a:solidFill>
                        <a:srgbClr val="1d2f68"/>
                      </a:solidFill>
                    </a:lnT>
                    <a:lnB w="5760">
                      <a:solidFill>
                        <a:srgbClr val="1d2f68"/>
                      </a:solidFill>
                    </a:lnB>
                    <a:noFill/>
                  </a:tcPr>
                </a:tc>
                <a:tc gridSpan="2">
                  <a:txBody>
                    <a:bodyPr lIns="45720" rIns="4572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anglades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1d2f68"/>
                      </a:solidFill>
                    </a:lnL>
                    <a:lnR w="5760">
                      <a:solidFill>
                        <a:srgbClr val="1d2f68"/>
                      </a:solidFill>
                    </a:lnR>
                    <a:lnT w="5760">
                      <a:solidFill>
                        <a:srgbClr val="1d2f68"/>
                      </a:solidFill>
                    </a:lnT>
                    <a:lnB w="5760">
                      <a:solidFill>
                        <a:srgbClr val="1d2f68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5720" rIns="4572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na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1d2f68"/>
                      </a:solidFill>
                    </a:lnL>
                    <a:lnR w="5760">
                      <a:solidFill>
                        <a:srgbClr val="1d2f68"/>
                      </a:solidFill>
                    </a:lnR>
                    <a:lnT w="5760">
                      <a:solidFill>
                        <a:srgbClr val="1d2f68"/>
                      </a:solidFill>
                    </a:lnT>
                    <a:lnB w="5760">
                      <a:solidFill>
                        <a:srgbClr val="1d2f68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i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1d2f68"/>
                      </a:solidFill>
                    </a:lnL>
                    <a:lnR w="28080">
                      <a:solidFill>
                        <a:srgbClr val="1d2f68"/>
                      </a:solidFill>
                    </a:lnR>
                    <a:lnT w="5760">
                      <a:solidFill>
                        <a:srgbClr val="1d2f68"/>
                      </a:solidFill>
                    </a:lnT>
                    <a:lnB w="5760">
                      <a:solidFill>
                        <a:srgbClr val="1d2f68"/>
                      </a:solidFill>
                    </a:lnB>
                    <a:noFill/>
                  </a:tcPr>
                </a:tc>
              </a:tr>
              <a:tr h="376200"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urope (EAS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28080">
                      <a:solidFill>
                        <a:srgbClr val="1d2f68"/>
                      </a:solidFill>
                    </a:lnL>
                    <a:lnR w="5760">
                      <a:solidFill>
                        <a:srgbClr val="1d2f68"/>
                      </a:solidFill>
                    </a:lnR>
                    <a:lnT w="5760">
                      <a:solidFill>
                        <a:srgbClr val="1d2f68"/>
                      </a:solidFill>
                    </a:lnT>
                    <a:lnB w="5760">
                      <a:solidFill>
                        <a:srgbClr val="1d2f68"/>
                      </a:solidFill>
                    </a:lnB>
                    <a:noFill/>
                  </a:tcPr>
                </a:tc>
                <a:tc gridSpan="2">
                  <a:txBody>
                    <a:bodyPr lIns="45720" rIns="4572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rench Polynes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1d2f68"/>
                      </a:solidFill>
                    </a:lnL>
                    <a:lnR w="5760">
                      <a:solidFill>
                        <a:srgbClr val="1d2f68"/>
                      </a:solidFill>
                    </a:lnR>
                    <a:lnT w="5760">
                      <a:solidFill>
                        <a:srgbClr val="1d2f68"/>
                      </a:solidFill>
                    </a:lnT>
                    <a:lnB w="5760">
                      <a:solidFill>
                        <a:srgbClr val="1d2f68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5720" rIns="4572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cela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1d2f68"/>
                      </a:solidFill>
                    </a:lnL>
                    <a:lnR w="5760">
                      <a:solidFill>
                        <a:srgbClr val="1d2f68"/>
                      </a:solidFill>
                    </a:lnR>
                    <a:lnT w="5760">
                      <a:solidFill>
                        <a:srgbClr val="1d2f68"/>
                      </a:solidFill>
                    </a:lnT>
                    <a:lnB w="5760">
                      <a:solidFill>
                        <a:srgbClr val="1d2f68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rela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1d2f68"/>
                      </a:solidFill>
                    </a:lnL>
                    <a:lnR w="28080">
                      <a:solidFill>
                        <a:srgbClr val="1d2f68"/>
                      </a:solidFill>
                    </a:lnR>
                    <a:lnT w="5760">
                      <a:solidFill>
                        <a:srgbClr val="1d2f68"/>
                      </a:solidFill>
                    </a:lnT>
                    <a:lnB w="5760">
                      <a:solidFill>
                        <a:srgbClr val="1d2f68"/>
                      </a:solidFill>
                    </a:lnB>
                    <a:noFill/>
                  </a:tcPr>
                </a:tc>
              </a:tr>
              <a:tr h="376200"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ap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28080">
                      <a:solidFill>
                        <a:srgbClr val="1d2f68"/>
                      </a:solidFill>
                    </a:lnL>
                    <a:lnR w="5760">
                      <a:solidFill>
                        <a:srgbClr val="1d2f68"/>
                      </a:solidFill>
                    </a:lnR>
                    <a:lnT w="5760">
                      <a:solidFill>
                        <a:srgbClr val="1d2f68"/>
                      </a:solidFill>
                    </a:lnT>
                    <a:lnB w="5760">
                      <a:solidFill>
                        <a:srgbClr val="1d2f68"/>
                      </a:solidFill>
                    </a:lnB>
                    <a:noFill/>
                  </a:tcPr>
                </a:tc>
                <a:tc gridSpan="2">
                  <a:txBody>
                    <a:bodyPr lIns="45720" rIns="4572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alays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1d2f68"/>
                      </a:solidFill>
                    </a:lnL>
                    <a:lnR w="5760">
                      <a:solidFill>
                        <a:srgbClr val="1d2f68"/>
                      </a:solidFill>
                    </a:lnR>
                    <a:lnT w="5760">
                      <a:solidFill>
                        <a:srgbClr val="1d2f68"/>
                      </a:solidFill>
                    </a:lnT>
                    <a:lnB w="5760">
                      <a:solidFill>
                        <a:srgbClr val="1d2f68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5720" rIns="4572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ew Zeala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1d2f68"/>
                      </a:solidFill>
                    </a:lnL>
                    <a:lnR w="5760">
                      <a:solidFill>
                        <a:srgbClr val="1d2f68"/>
                      </a:solidFill>
                    </a:lnR>
                    <a:lnT w="5760">
                      <a:solidFill>
                        <a:srgbClr val="1d2f68"/>
                      </a:solidFill>
                    </a:lnT>
                    <a:lnB w="5760">
                      <a:solidFill>
                        <a:srgbClr val="1d2f68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hilippin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1d2f68"/>
                      </a:solidFill>
                    </a:lnL>
                    <a:lnR w="28080">
                      <a:solidFill>
                        <a:srgbClr val="1d2f68"/>
                      </a:solidFill>
                    </a:lnR>
                    <a:lnT w="5760">
                      <a:solidFill>
                        <a:srgbClr val="1d2f68"/>
                      </a:solidFill>
                    </a:lnT>
                    <a:lnB w="5760">
                      <a:solidFill>
                        <a:srgbClr val="1d2f68"/>
                      </a:solidFill>
                    </a:lnB>
                    <a:noFill/>
                  </a:tcPr>
                </a:tc>
              </a:tr>
              <a:tr h="376560"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rtug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28080">
                      <a:solidFill>
                        <a:srgbClr val="1d2f68"/>
                      </a:solidFill>
                    </a:lnL>
                    <a:lnR w="5760">
                      <a:solidFill>
                        <a:srgbClr val="1d2f68"/>
                      </a:solidFill>
                    </a:lnR>
                    <a:lnT w="5760">
                      <a:solidFill>
                        <a:srgbClr val="1d2f68"/>
                      </a:solidFill>
                    </a:lnT>
                    <a:lnB w="5760">
                      <a:solidFill>
                        <a:srgbClr val="1d2f68"/>
                      </a:solidFill>
                    </a:lnB>
                    <a:noFill/>
                  </a:tcPr>
                </a:tc>
                <a:tc gridSpan="2">
                  <a:txBody>
                    <a:bodyPr lIns="45720" rIns="4572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ngapo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1d2f68"/>
                      </a:solidFill>
                    </a:lnL>
                    <a:lnR w="5760">
                      <a:solidFill>
                        <a:srgbClr val="1d2f68"/>
                      </a:solidFill>
                    </a:lnR>
                    <a:lnT w="5760">
                      <a:solidFill>
                        <a:srgbClr val="1d2f68"/>
                      </a:solidFill>
                    </a:lnT>
                    <a:lnB w="5760">
                      <a:solidFill>
                        <a:srgbClr val="1d2f68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5720" rIns="4572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haila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1d2f68"/>
                      </a:solidFill>
                    </a:lnL>
                    <a:lnR w="5760">
                      <a:solidFill>
                        <a:srgbClr val="1d2f68"/>
                      </a:solidFill>
                    </a:lnR>
                    <a:lnT w="5760">
                      <a:solidFill>
                        <a:srgbClr val="1d2f68"/>
                      </a:solidFill>
                    </a:lnT>
                    <a:lnB w="5760">
                      <a:solidFill>
                        <a:srgbClr val="1d2f68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nited Kingd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1d2f68"/>
                      </a:solidFill>
                    </a:lnL>
                    <a:lnR w="28080">
                      <a:solidFill>
                        <a:srgbClr val="1d2f68"/>
                      </a:solidFill>
                    </a:lnR>
                    <a:lnT w="5760">
                      <a:solidFill>
                        <a:srgbClr val="1d2f68"/>
                      </a:solidFill>
                    </a:lnT>
                    <a:lnB w="5760">
                      <a:solidFill>
                        <a:srgbClr val="1d2f68"/>
                      </a:solidFill>
                    </a:lnB>
                    <a:noFill/>
                  </a:tcPr>
                </a:tc>
              </a:tr>
              <a:tr h="376200"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nited Sta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28080">
                      <a:solidFill>
                        <a:srgbClr val="1d2f68"/>
                      </a:solidFill>
                    </a:lnL>
                    <a:lnR w="5760">
                      <a:solidFill>
                        <a:srgbClr val="1d2f68"/>
                      </a:solidFill>
                    </a:lnR>
                    <a:lnT w="5760">
                      <a:solidFill>
                        <a:srgbClr val="1d2f68"/>
                      </a:solidFill>
                    </a:lnT>
                    <a:lnB w="5760">
                      <a:solidFill>
                        <a:srgbClr val="1d2f68"/>
                      </a:solidFill>
                    </a:lnB>
                    <a:noFill/>
                  </a:tcPr>
                </a:tc>
                <a:tc gridSpan="2">
                  <a:txBody>
                    <a:bodyPr lIns="45720" rIns="4572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1d2f68"/>
                      </a:solidFill>
                    </a:lnL>
                    <a:lnR w="5760">
                      <a:solidFill>
                        <a:srgbClr val="1d2f68"/>
                      </a:solidFill>
                    </a:lnR>
                    <a:lnT w="5760">
                      <a:solidFill>
                        <a:srgbClr val="1d2f68"/>
                      </a:solidFill>
                    </a:lnT>
                    <a:lnB w="5760">
                      <a:solidFill>
                        <a:srgbClr val="1d2f68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5720" rIns="4572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1d2f68"/>
                      </a:solidFill>
                    </a:lnL>
                    <a:lnR w="5760">
                      <a:solidFill>
                        <a:srgbClr val="1d2f68"/>
                      </a:solidFill>
                    </a:lnR>
                    <a:lnT w="5760">
                      <a:solidFill>
                        <a:srgbClr val="1d2f68"/>
                      </a:solidFill>
                    </a:lnT>
                    <a:lnB w="5760">
                      <a:solidFill>
                        <a:srgbClr val="1d2f68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5720" rIns="4572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1d2f68"/>
                      </a:solidFill>
                    </a:lnL>
                    <a:lnR w="28080">
                      <a:solidFill>
                        <a:srgbClr val="1d2f68"/>
                      </a:solidFill>
                    </a:lnR>
                    <a:lnT w="5760">
                      <a:solidFill>
                        <a:srgbClr val="1d2f68"/>
                      </a:solidFill>
                    </a:lnT>
                    <a:lnB w="5760">
                      <a:solidFill>
                        <a:srgbClr val="1d2f68"/>
                      </a:solidFill>
                    </a:lnB>
                    <a:noFill/>
                  </a:tcPr>
                </a:tc>
              </a:tr>
              <a:tr h="376200">
                <a:tc gridSpan="6">
                  <a:txBody>
                    <a:bodyPr lIns="45720" rIns="4572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dust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28080">
                      <a:solidFill>
                        <a:srgbClr val="1d2f68"/>
                      </a:solidFill>
                    </a:lnL>
                    <a:lnR w="28080">
                      <a:solidFill>
                        <a:srgbClr val="1d2f68"/>
                      </a:solidFill>
                    </a:lnR>
                    <a:lnT w="5760">
                      <a:solidFill>
                        <a:srgbClr val="1d2f68"/>
                      </a:solidFill>
                    </a:lnT>
                    <a:lnB w="5760">
                      <a:solidFill>
                        <a:srgbClr val="1d2f68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4400">
                <a:tc gridSpan="3">
                  <a:txBody>
                    <a:bodyPr lIns="45720" rIns="4572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mmunication service provid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28080">
                      <a:solidFill>
                        <a:srgbClr val="1d2f68"/>
                      </a:solidFill>
                    </a:lnL>
                    <a:lnR w="5760">
                      <a:solidFill>
                        <a:srgbClr val="1d2f68"/>
                      </a:solidFill>
                    </a:lnR>
                    <a:lnT w="5760">
                      <a:solidFill>
                        <a:srgbClr val="1d2f68"/>
                      </a:solidFill>
                    </a:lnT>
                    <a:lnB w="5760">
                      <a:solidFill>
                        <a:srgbClr val="1d2f68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45720" rIns="4572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vionics manufactur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1d2f68"/>
                      </a:solidFill>
                    </a:lnL>
                    <a:lnR w="28080">
                      <a:solidFill>
                        <a:srgbClr val="1d2f68"/>
                      </a:solidFill>
                    </a:lnR>
                    <a:lnT w="5760">
                      <a:solidFill>
                        <a:srgbClr val="1d2f68"/>
                      </a:solidFill>
                    </a:lnT>
                    <a:lnB w="5760">
                      <a:solidFill>
                        <a:srgbClr val="1d2f68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6560">
                <a:tc gridSpan="3">
                  <a:txBody>
                    <a:bodyPr lIns="45720" rIns="4572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tellite service provid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28080">
                      <a:solidFill>
                        <a:srgbClr val="1d2f68"/>
                      </a:solidFill>
                    </a:lnL>
                    <a:lnR w="5760">
                      <a:solidFill>
                        <a:srgbClr val="1d2f68"/>
                      </a:solidFill>
                    </a:lnR>
                    <a:lnT w="5760">
                      <a:solidFill>
                        <a:srgbClr val="1d2f68"/>
                      </a:solidFill>
                    </a:lnT>
                    <a:lnB w="5760">
                      <a:solidFill>
                        <a:srgbClr val="1d2f68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45720" rIns="4572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ircraft operato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1d2f68"/>
                      </a:solidFill>
                    </a:lnL>
                    <a:lnR w="28080">
                      <a:solidFill>
                        <a:srgbClr val="1d2f68"/>
                      </a:solidFill>
                    </a:lnR>
                    <a:lnT w="5760">
                      <a:solidFill>
                        <a:srgbClr val="1d2f68"/>
                      </a:solidFill>
                    </a:lnT>
                    <a:lnB w="5760">
                      <a:solidFill>
                        <a:srgbClr val="1d2f68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6200">
                <a:tc gridSpan="3">
                  <a:txBody>
                    <a:bodyPr lIns="45720" rIns="4572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ircraft manufactur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28080">
                      <a:solidFill>
                        <a:srgbClr val="1d2f68"/>
                      </a:solidFill>
                    </a:lnL>
                    <a:lnR w="5760">
                      <a:solidFill>
                        <a:srgbClr val="1d2f68"/>
                      </a:solidFill>
                    </a:lnR>
                    <a:lnT w="5760">
                      <a:solidFill>
                        <a:srgbClr val="1d2f68"/>
                      </a:solidFill>
                    </a:lnT>
                    <a:lnB w="28080">
                      <a:solidFill>
                        <a:srgbClr val="1d2f68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45720" rIns="4572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eronautical stations (provider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1d2f68"/>
                      </a:solidFill>
                    </a:lnL>
                    <a:lnR w="28080">
                      <a:solidFill>
                        <a:srgbClr val="1d2f68"/>
                      </a:solidFill>
                    </a:lnR>
                    <a:lnT w="5760">
                      <a:solidFill>
                        <a:srgbClr val="1d2f68"/>
                      </a:solidFill>
                    </a:lnT>
                    <a:lnB w="28080">
                      <a:solidFill>
                        <a:srgbClr val="1d2f68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 spd="med">
    <p:pull dir="l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95000" y="223560"/>
            <a:ext cx="804708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d2f68"/>
                </a:solidFill>
                <a:latin typeface="Arial"/>
              </a:rPr>
              <a:t>Current status (1 of 2)</a:t>
            </a: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95000" y="1507680"/>
            <a:ext cx="8047080" cy="45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4 July – IRSVTF issues SVGM, First Edi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ges satisfactorily addressed comments from the NAT Region, including comments from I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4 September – APANPIRG/2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orsed the SVGM, First Ed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sked CNS/MET SG to review the strategy for use of SATVOICE in the Asia/Pacific Reg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servations from Australia and IATA concerns with co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95000" y="223560"/>
            <a:ext cx="804708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d2f68"/>
                </a:solidFill>
                <a:latin typeface="Arial"/>
              </a:rPr>
              <a:t>Current status (2 of 2)</a:t>
            </a: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95000" y="1507680"/>
            <a:ext cx="8047080" cy="45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9 November – NAT IMG/41 under auspices and direction of NAT SP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orsed the SVGM, First  Ed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ested the Secretariat to initiate a proposal for amendment to SVGM to address any remaining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RSVTF has been disband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endments to SVGM will be processed by Secretariat of participating ICAO regional off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95000" y="223560"/>
            <a:ext cx="804708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d2f68"/>
                </a:solidFill>
                <a:latin typeface="Arial"/>
              </a:rPr>
              <a:t>Additional considerations</a:t>
            </a: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95000" y="1507680"/>
            <a:ext cx="8047080" cy="45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RSVTF terms of reference are limited to the development of globally applicable guidance materia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perational Data Link Panel (OPLINKP) may consider amendments to annexes and procedures for air navigation (PANS) to support SATVOICE implementation for ATS communications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1-20T14:07:04Z</dcterms:created>
  <dc:creator>Tom Kraft</dc:creator>
  <dc:description/>
  <cp:keywords/>
  <dc:language>en-US</dc:language>
  <cp:lastModifiedBy>Leslie McCormick</cp:lastModifiedBy>
  <cp:lastPrinted>1999-05-01T20:41:40Z</cp:lastPrinted>
  <dcterms:modified xsi:type="dcterms:W3CDTF">2012-12-02T14:25:17Z</dcterms:modified>
  <cp:revision>839</cp:revision>
  <dc:subject/>
  <dc:title>RCP and RSP Planning and Implem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ay">
    <vt:lpwstr>1) CSTA Presentation</vt:lpwstr>
  </property>
  <property fmtid="{D5CDD505-2E9C-101B-9397-08002B2CF9AE}" pid="3" name="Doc">
    <vt:lpwstr/>
  </property>
  <property fmtid="{D5CDD505-2E9C-101B-9397-08002B2CF9AE}" pid="4" name="Order">
    <vt:lpwstr>4600.00000000000</vt:lpwstr>
  </property>
  <property fmtid="{D5CDD505-2E9C-101B-9397-08002B2CF9AE}" pid="5" name="Presenter">
    <vt:lpwstr>Tom Kraft</vt:lpwstr>
  </property>
</Properties>
</file>