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645275" cy="9544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20768-17F2-4106-827F-6F9D34A5EA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1B85-7BDA-41F2-ACAF-5011B25B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D6CF-8358-4B10-B94C-07615EB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A796-B1F2-490A-B935-C2CCED5739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E1E8E-6CA0-4688-916F-A9B20C0570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C8E7A-6830-4068-AEE5-8C431B9E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C17DF-97CD-4490-BCB5-6A25CCDA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7D5A9-F0BE-4565-BA5E-5CBDA8D8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24040-4A45-41AE-B5EE-3B5663BBB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AAFF6-CDAD-4279-AF96-7FAC7905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81639-C221-4510-858C-4D4764C8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1C2D4-09A2-4C5E-A7BC-F20AF7A0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7C4C1-B60C-4BE2-824A-8ABA8D58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3B17E-BFC0-4A3B-925C-D6BAB938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725F1-9FE2-4800-B2E7-96907FC2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B8384-7E4E-4FB5-973F-88E8FF253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EA6EA-DD92-41BF-8C01-C843E2C37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130F-45B1-4BAD-BC9D-82E8DCDD74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E9F0-1F3F-48B7-88CA-832DA431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033E-401E-4D41-8883-A9763FFA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18A2-E8A5-4789-8C4B-8FD10E17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57E1-A971-4C29-A3E9-B9AA9C14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1B56-CF5A-4394-A8B6-EF2B27CA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3F32-883F-4C93-B616-9C586DD2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9F4D-6977-4F77-8D19-76B4E494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4C31-900F-4B1D-9DE8-BAA942B0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0CAEE-09E3-43E2-BCE7-98531189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285C-402F-412F-8730-30A0421B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48E8-8336-4ADD-BD0C-4674EB7F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4F4A-F35D-4339-8D5C-379FA8E7DA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AB1F8-64A3-4B27-8FB1-EE5733FCEE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BD72D-3667-44A2-9A19-6E9535FB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DAEF7-BE31-45A4-AA9A-8D23F640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5E93-FF20-4DD4-9C0E-95499B67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2D2A7-22AA-46BB-8187-CF2E5763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EE8AC-1C7B-435B-B6A4-09C54D28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2FF637-4906-4D68-B8C5-ED719100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11C563-B959-44C2-B67B-751506F5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44F7F-0B42-47E3-BD64-A52514CF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2E732-F95D-4D13-83E9-CD7A8D13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2B1BC-9EB9-4607-9256-EF0C9B3A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7FB29-FCF8-40A6-A3B5-3AA5EEE8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0943A-9BD1-4777-AD8B-EC3CDD79CE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59B4-ACED-45C8-9645-CDEFCBDB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35040"/>
            <a:ext cx="6781680" cy="16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EC143-D406-456B-96D6-B13D1CC5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64B5-C40F-4E6C-A1F7-54042FAC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AEB1B-3059-402D-A56C-7FBA9DFB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CE2D-11E8-4E2F-B43D-776938CB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CFFB77-5046-4F31-8476-E43127B35DED}" type="datetime">
              <a:rPr b="0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3FFFF-5CAF-4D09-8FC2-CA9299B7AF6B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5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C0ECC-B949-4783-947A-E51AE49DE241}" type="datetime">
              <a:rPr b="0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06811D-DE76-4AE3-8C3C-B2663CDE8D22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47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85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7D39E-A64D-4A28-A36A-AA920203C2AE}" type="datetime">
              <a:rPr b="1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9B8F64-1A42-417F-B9DC-E1A7A30BA5D3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ilde 6" descr="Avinor_logo_cmyk.eps"/>
          <p:cNvPicPr/>
          <p:nvPr/>
        </p:nvPicPr>
        <p:blipFill>
          <a:blip r:embed="rId2"/>
          <a:stretch/>
        </p:blipFill>
        <p:spPr>
          <a:xfrm>
            <a:off x="7805880" y="182520"/>
            <a:ext cx="880920" cy="351000"/>
          </a:xfrm>
          <a:prstGeom prst="rect">
            <a:avLst/>
          </a:prstGeom>
          <a:ln w="0">
            <a:noFill/>
          </a:ln>
        </p:spPr>
      </p:pic>
      <p:sp>
        <p:nvSpPr>
          <p:cNvPr id="127" name="Rett linje 8"/>
          <p:cNvSpPr/>
          <p:nvPr/>
        </p:nvSpPr>
        <p:spPr>
          <a:xfrm>
            <a:off x="457200" y="1017720"/>
            <a:ext cx="8229600" cy="144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e46c0a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e46c0a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3928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n-NO" sz="7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7C16CD-3882-44D5-8E44-4BABA63A3CDB}" type="datetime">
              <a:rPr b="1" lang="nn-NO" sz="700" spc="-1" strike="noStrike">
                <a:solidFill>
                  <a:srgbClr val="595959"/>
                </a:solidFill>
                <a:latin typeface="Times New Roman"/>
                <a:ea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n-NO" sz="800" spc="-1" strike="noStrike">
                <a:solidFill>
                  <a:srgbClr val="59595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A35243-D7E7-4071-921C-22172B8B5DF8}" type="slidenum">
              <a:rPr b="0" lang="nn-NO" sz="800" spc="-1" strike="noStrike">
                <a:solidFill>
                  <a:srgbClr val="595959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ippc.no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Bilde 5" descr="Himmel_1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038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025640"/>
            <a:ext cx="80010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Avinor update CPWG/14  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Chicago 12-14 December 2012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odo ACC </a:t>
            </a:r>
            <a:br>
              <a:rPr sz="2000"/>
            </a:br>
            <a:r>
              <a:rPr b="1" lang="nn-NO" sz="2000" spc="-1" strike="noStrike">
                <a:solidFill>
                  <a:srgbClr val="ffffff"/>
                </a:solidFill>
                <a:latin typeface="Arial"/>
              </a:rPr>
              <a:t>Bodo Oceanic FIR</a:t>
            </a:r>
            <a:endParaRPr b="1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1600" spc="-1" strike="noStrike">
                <a:solidFill>
                  <a:srgbClr val="c0504d"/>
                </a:solidFill>
                <a:latin typeface="Arial"/>
              </a:rPr>
              <a:t>Longyear airport</a:t>
            </a:r>
            <a:endParaRPr b="1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331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ossible en-route alternat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Located at 78</a:t>
            </a:r>
            <a:r>
              <a:rPr b="0" lang="en-US" sz="1600" spc="-1" strike="noStrike">
                <a:solidFill>
                  <a:srgbClr val="59595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14.8’ N and longitude 015</a:t>
            </a:r>
            <a:r>
              <a:rPr b="0" lang="en-US" sz="1600" spc="-1" strike="noStrike">
                <a:solidFill>
                  <a:srgbClr val="595959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27.9’ 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Serves commercial aircraft operations throughout the year (B737).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Published Runway dimensions are 2323 X 45m (7,621 X 148 FT ).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Hotel and Hospital in Longyear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1800" spc="-1" strike="noStrike">
                <a:solidFill>
                  <a:srgbClr val="c0504d"/>
                </a:solidFill>
                <a:latin typeface="Arial"/>
              </a:rPr>
              <a:t>CPWG 15 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457200" y="1120680"/>
            <a:ext cx="797076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1800" spc="-1" strike="noStrike">
                <a:solidFill>
                  <a:srgbClr val="c0504d"/>
                </a:solidFill>
                <a:latin typeface="Arial"/>
              </a:rPr>
              <a:t>www. visitbodo.com</a:t>
            </a:r>
            <a:r>
              <a:rPr b="1" lang="nn-NO" sz="1800" spc="-1" strike="noStrike">
                <a:solidFill>
                  <a:srgbClr val="c0504d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ssholder for dato 3"/>
          <p:cNvSpPr/>
          <p:nvPr/>
        </p:nvSpPr>
        <p:spPr>
          <a:xfrm>
            <a:off x="53964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9447A-08D5-4004-BF47-56C9B64AFE12}" type="datetime">
              <a:rPr b="0" lang="nn-NO" sz="700" spc="-1" strike="noStrike">
                <a:solidFill>
                  <a:srgbClr val="595959"/>
                </a:solidFill>
                <a:latin typeface="Arial"/>
                <a:ea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ssholder for lysbilde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61C80-C533-4233-9DAE-C2687761487A}" type="slidenum">
              <a:rPr b="0" lang="nn-NO" sz="800" spc="-1" strike="noStrike">
                <a:solidFill>
                  <a:srgbClr val="595959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539640" y="1236600"/>
            <a:ext cx="81471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ssholder for dato 3"/>
          <p:cNvSpPr/>
          <p:nvPr/>
        </p:nvSpPr>
        <p:spPr>
          <a:xfrm>
            <a:off x="539640" y="635652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48FA7-965F-4648-8051-F708257C5706}" type="datetime">
              <a:rPr b="0" lang="nn-NO" sz="700" spc="-1" strike="noStrike">
                <a:solidFill>
                  <a:srgbClr val="595959"/>
                </a:solidFill>
                <a:latin typeface="Arial"/>
                <a:ea typeface="Arial"/>
              </a:rPr>
              <a:t>28.07.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ssholder for lysbildenumm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FE871-CD21-4C76-A7C3-39C90876C0BE}" type="slidenum">
              <a:rPr b="0" lang="nn-NO" sz="800" spc="-1" strike="noStrike">
                <a:solidFill>
                  <a:srgbClr val="595959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tretch/>
        </p:blipFill>
        <p:spPr>
          <a:xfrm>
            <a:off x="1258920" y="609480"/>
            <a:ext cx="6408720" cy="5747040"/>
          </a:xfrm>
          <a:prstGeom prst="rect">
            <a:avLst/>
          </a:prstGeom>
          <a:ln w="0">
            <a:noFill/>
          </a:ln>
        </p:spPr>
      </p:pic>
      <p:sp>
        <p:nvSpPr>
          <p:cNvPr id="175" name="TekstSylinder 1"/>
          <p:cNvSpPr/>
          <p:nvPr/>
        </p:nvSpPr>
        <p:spPr>
          <a:xfrm>
            <a:off x="4393800" y="50371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Arial"/>
              </a:rPr>
              <a:t>EN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Rett pil 3"/>
          <p:cNvCxnSpPr/>
          <p:nvPr/>
        </p:nvCxnSpPr>
        <p:spPr>
          <a:xfrm>
            <a:off x="5283360" y="5203440"/>
            <a:ext cx="575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800" spc="-1" strike="noStrike">
                <a:solidFill>
                  <a:srgbClr val="c0504d"/>
                </a:solidFill>
                <a:latin typeface="Arial"/>
              </a:rPr>
              <a:t>Bodo ATCC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Bodø ATCC area of responsibility in both EUR and NAT region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Bodø Oceanic FIR in the NAT region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Norway FIR in EUR region includes all Norwegian domestic airspace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Three Area control centers in Norwa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e46c0a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Oslo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e46c0a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Stavanger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e46c0a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Bodø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28920"/>
            <a:ext cx="67816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b-NO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1"/>
          <a:stretch/>
        </p:blipFill>
        <p:spPr>
          <a:xfrm>
            <a:off x="457200" y="635040"/>
            <a:ext cx="8229600" cy="57466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2"/>
          <p:cNvSpPr/>
          <p:nvPr/>
        </p:nvSpPr>
        <p:spPr>
          <a:xfrm>
            <a:off x="3132000" y="126828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Bodo Oceanic F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465280" y="49356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Stavanger A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3708360" y="507204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Oslo A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4140360" y="25653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b-NO" sz="1200" spc="-1" strike="noStrike">
                <a:solidFill>
                  <a:srgbClr val="000000"/>
                </a:solidFill>
                <a:latin typeface="Arial"/>
              </a:rPr>
              <a:t>Bodo A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kstSylinder 1"/>
          <p:cNvSpPr/>
          <p:nvPr/>
        </p:nvSpPr>
        <p:spPr>
          <a:xfrm rot="17910000">
            <a:off x="3527280" y="412488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Arial"/>
              </a:rPr>
              <a:t>Norway F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kstSylinder 2"/>
          <p:cNvSpPr/>
          <p:nvPr/>
        </p:nvSpPr>
        <p:spPr>
          <a:xfrm>
            <a:off x="1260360" y="1628640"/>
            <a:ext cx="119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Reykjavik A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kstSylinder 3"/>
          <p:cNvSpPr/>
          <p:nvPr/>
        </p:nvSpPr>
        <p:spPr>
          <a:xfrm>
            <a:off x="7192440" y="1069920"/>
            <a:ext cx="125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Murmansk A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kstSylinder 4"/>
          <p:cNvSpPr/>
          <p:nvPr/>
        </p:nvSpPr>
        <p:spPr>
          <a:xfrm>
            <a:off x="4849200" y="3362400"/>
            <a:ext cx="125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Stockholm A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kstSylinder 5"/>
          <p:cNvSpPr/>
          <p:nvPr/>
        </p:nvSpPr>
        <p:spPr>
          <a:xfrm>
            <a:off x="6219720" y="389268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Tampere A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Oceanic – VHF Communications 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Established new VHF stations for Oceanic use (127,725 Mhz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Coverage in most parts of Oceanic airspace FL300+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rcRect l="0" t="0" r="0" b="4254"/>
          <a:stretch/>
        </p:blipFill>
        <p:spPr>
          <a:xfrm>
            <a:off x="9360" y="2781360"/>
            <a:ext cx="4270680" cy="3709800"/>
          </a:xfrm>
          <a:prstGeom prst="rect">
            <a:avLst/>
          </a:prstGeom>
          <a:ln w="0">
            <a:noFill/>
          </a:ln>
        </p:spPr>
      </p:pic>
      <p:sp>
        <p:nvSpPr>
          <p:cNvPr id="193" name="TekstSylinder 1"/>
          <p:cNvSpPr/>
          <p:nvPr/>
        </p:nvSpPr>
        <p:spPr>
          <a:xfrm>
            <a:off x="260280" y="3149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rcRect l="0" t="0" r="0" b="7314"/>
          <a:stretch/>
        </p:blipFill>
        <p:spPr>
          <a:xfrm>
            <a:off x="4392720" y="2781360"/>
            <a:ext cx="4643280" cy="3898800"/>
          </a:xfrm>
          <a:prstGeom prst="rect">
            <a:avLst/>
          </a:prstGeom>
          <a:ln w="0">
            <a:noFill/>
          </a:ln>
        </p:spPr>
      </p:pic>
      <p:sp>
        <p:nvSpPr>
          <p:cNvPr id="195" name="TekstSylinder 2"/>
          <p:cNvSpPr/>
          <p:nvPr/>
        </p:nvSpPr>
        <p:spPr>
          <a:xfrm>
            <a:off x="4721400" y="2965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81992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TekstSylinder 2"/>
          <p:cNvSpPr/>
          <p:nvPr/>
        </p:nvSpPr>
        <p:spPr>
          <a:xfrm>
            <a:off x="833040" y="54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Oceanic – Radar 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coverage</a:t>
            </a: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78580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c0504d"/>
                </a:solidFill>
                <a:latin typeface="Arial"/>
              </a:rPr>
              <a:t>Bodo Oceanic – </a:t>
            </a: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Other</a:t>
            </a:r>
            <a:endParaRPr b="1" lang="en-US" sz="18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Data-link (CPDLC and ADS-C) in new Oceanic ATM system 2013/2014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Arial"/>
              </a:rPr>
              <a:t>Oceanic clearance via CPDLC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New HF transmitter and receiver stations in 2013/2014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Free routing i Oceanic airspac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Routes in domestic airspace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Dct filing accepted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Internet pilot planning center (IPPC) website for information and access to publications useful for flight planning in Norwegian airspace.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www.ippc.no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6781680" cy="3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n-NO" sz="1600" spc="-1" strike="noStrike">
                <a:solidFill>
                  <a:srgbClr val="c0504d"/>
                </a:solidFill>
                <a:latin typeface="Arial"/>
              </a:rPr>
              <a:t>Longyear airport - ENSB</a:t>
            </a:r>
            <a:endParaRPr b="1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7859880" cy="5245200"/>
          </a:xfrm>
          <a:prstGeom prst="rect">
            <a:avLst/>
          </a:prstGeom>
          <a:ln w="0">
            <a:noFill/>
          </a:ln>
        </p:spPr>
      </p:pic>
      <p:sp>
        <p:nvSpPr>
          <p:cNvPr id="206" name="TekstSylinder 1"/>
          <p:cNvSpPr/>
          <p:nvPr/>
        </p:nvSpPr>
        <p:spPr>
          <a:xfrm>
            <a:off x="3984840" y="417996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Arial"/>
              </a:rPr>
              <a:t>EN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8:45:23Z</dcterms:created>
  <dc:creator>Hanne Pe</dc:creator>
  <dc:description/>
  <dc:language>en-US</dc:language>
  <cp:lastModifiedBy>Tjønndal, Morten</cp:lastModifiedBy>
  <cp:lastPrinted>2009-08-26T11:42:17Z</cp:lastPrinted>
  <dcterms:modified xsi:type="dcterms:W3CDTF">2012-12-13T14:50:13Z</dcterms:modified>
  <cp:revision>148</cp:revision>
  <dc:subject/>
  <dc:title>Lysbilde 1</dc:title>
</cp:coreProperties>
</file>