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645275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54D0-28D8-439B-B0E5-944EEE223B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F6AFB-F8C2-4EB4-9CB4-ED39722B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4AD0-7A55-44AE-9323-D32DB80D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EEE6-66E7-4783-8660-0DBBA570A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C28BD-840B-4B24-A801-909FB0104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C47D1-749E-49A4-B68F-1FB4171E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DC291-AF24-4308-A481-86CDC201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C529C-DBD6-4A48-AD51-9A2B00BA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C9516-2C13-4342-B054-C0E2115F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DCFF0-650E-4F40-B1AF-98BEBEC3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9D142-A1F1-450D-88B1-28CF03FD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9F45-3C67-4273-8DE8-47180FA7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F6D53-C0BF-41BA-9DA2-70D5715C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0D98A-2CA9-43B3-B51B-D7E08945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71CD4-D3D0-4066-AE48-0F22B0BF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5E64E-A496-4C86-87D3-731C9E65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22925-0C6C-4F1F-8451-91C3448CC4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7BBF-F6D7-4F23-BE76-DB9E97E12A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B188-CEE9-4EA0-A17F-D514510B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A622-E37F-4BE5-8CF4-822F7DCA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BFF5-93B6-4CC1-B881-A3574DA6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BCF0-F294-44C7-8CF2-B66C79AC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7B2A-BD68-4EA3-AB1F-ACE49D26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9DCF-6DCF-44D1-A1ED-5A0A831A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0830-78A4-491E-AB12-35B9033D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3D15-B58F-42E2-9CDD-B50E190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1FBF-8F14-4EB5-AC8C-8A5FC0F4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8800-301A-4ADE-9787-5E3547B2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7DD5-A766-466C-9003-CDC1B033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FD75-856F-46F2-BC45-6322F7DE0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F5854-8557-4BDD-8DFF-2F8793E1A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F40AA-004D-4BF1-BA0F-E01984E8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E9106-F0C2-4323-BB5E-235F8E57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479E-7DE3-40FF-B348-F98E52C2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79A9D-7648-49FA-93D5-F246638E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5E9A9-908A-4C07-A8F5-E5E3D5E3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60B6C-5FCD-44C1-BE8A-D9979BC6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6672B-08F2-4785-AE95-5698BC70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FDE7E-FA74-466C-A8ED-67BDDC70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09697-6554-4023-8D8D-A02D14C3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2B17D-7321-48CB-9E68-3A9D43B1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95BFE-0C48-4F98-B183-56AECAB8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E6B87-A787-4A8F-807B-2B0102E9B0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C77B-82ED-4BC8-B0AA-F4249087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65B8-09BD-4262-9E0A-A42F69A1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F5D1-F383-475A-AD67-A696FE65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7D8B-897F-4BD9-9E8B-F4CDFC9E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5EC3-DB2B-4379-A907-B14C7658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514AD-81D5-4123-951E-2D90EC88E4D0}" type="datetime">
              <a:rPr b="0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086D2-931B-4DD0-88A0-32F6F58FDE40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5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9D21A-E0A8-424E-87C6-5BB6ABE9170C}" type="datetime">
              <a:rPr b="0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73D5D-D3DD-4AC7-BFD1-DFD5147A1113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47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85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5D2E1-B23E-40CF-8E45-C72378352B03}" type="datetime">
              <a:rPr b="1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6E2C5-8F30-4797-8755-B5DEE463B92F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127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E31F5-AF8F-4389-A3AD-57F567FA425D}" type="datetime">
              <a:rPr b="1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ABA32-B60E-4828-A7C7-26909C546F23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ippc.no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Bilde 5" descr="Himmel_1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038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025640"/>
            <a:ext cx="8001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Avinor update CPWG/15  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Bodo 14-17 May 2013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Bodo ACC 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Bodo Oceanic FIR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ssholder for dato 3"/>
          <p:cNvSpPr/>
          <p:nvPr/>
        </p:nvSpPr>
        <p:spPr>
          <a:xfrm>
            <a:off x="53964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51695-7764-4EBE-8C0D-BE67FE8640DD}" type="datetime">
              <a:rPr b="0" lang="nn-NO" sz="700" spc="-1" strike="noStrike">
                <a:solidFill>
                  <a:srgbClr val="595959"/>
                </a:solidFill>
                <a:latin typeface="Arial"/>
                <a:ea typeface="Arial"/>
              </a:rPr>
              <a:t>30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ssholder for lysbilde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D4AB5-BF1D-4E7E-82A2-1CF6055071B4}" type="slidenum">
              <a:rPr b="0" lang="nn-NO" sz="800" spc="-1" strike="noStrike">
                <a:solidFill>
                  <a:srgbClr val="595959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258920" y="609480"/>
            <a:ext cx="6408720" cy="5747040"/>
          </a:xfrm>
          <a:prstGeom prst="rect">
            <a:avLst/>
          </a:prstGeom>
          <a:ln w="0">
            <a:noFill/>
          </a:ln>
        </p:spPr>
      </p:pic>
      <p:sp>
        <p:nvSpPr>
          <p:cNvPr id="175" name="TekstSylinder 1"/>
          <p:cNvSpPr/>
          <p:nvPr/>
        </p:nvSpPr>
        <p:spPr>
          <a:xfrm>
            <a:off x="4393800" y="50371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EN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Rett pil 3"/>
          <p:cNvCxnSpPr/>
          <p:nvPr/>
        </p:nvCxnSpPr>
        <p:spPr>
          <a:xfrm>
            <a:off x="5283360" y="5203440"/>
            <a:ext cx="575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Bodo Oceanic – VHF Communications 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Established new VHF stations for Oceanic use (127,725 Mhz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overage in most parts of Oceanic airspace FL300+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rcRect l="0" t="0" r="0" b="4254"/>
          <a:stretch/>
        </p:blipFill>
        <p:spPr>
          <a:xfrm>
            <a:off x="9360" y="2781360"/>
            <a:ext cx="4270680" cy="3709800"/>
          </a:xfrm>
          <a:prstGeom prst="rect">
            <a:avLst/>
          </a:prstGeom>
          <a:ln w="0">
            <a:noFill/>
          </a:ln>
        </p:spPr>
      </p:pic>
      <p:sp>
        <p:nvSpPr>
          <p:cNvPr id="180" name="TekstSylinder 1"/>
          <p:cNvSpPr/>
          <p:nvPr/>
        </p:nvSpPr>
        <p:spPr>
          <a:xfrm>
            <a:off x="260280" y="3149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2"/>
          <a:srcRect l="0" t="0" r="0" b="7314"/>
          <a:stretch/>
        </p:blipFill>
        <p:spPr>
          <a:xfrm>
            <a:off x="4392720" y="2781360"/>
            <a:ext cx="4643280" cy="3898800"/>
          </a:xfrm>
          <a:prstGeom prst="rect">
            <a:avLst/>
          </a:prstGeom>
          <a:ln w="0">
            <a:noFill/>
          </a:ln>
        </p:spPr>
      </p:pic>
      <p:sp>
        <p:nvSpPr>
          <p:cNvPr id="182" name="TekstSylinder 2"/>
          <p:cNvSpPr/>
          <p:nvPr/>
        </p:nvSpPr>
        <p:spPr>
          <a:xfrm>
            <a:off x="4721400" y="2965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782028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kstSylinder 2"/>
          <p:cNvSpPr/>
          <p:nvPr/>
        </p:nvSpPr>
        <p:spPr>
          <a:xfrm>
            <a:off x="841320" y="549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Expected end of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Bodo Oceanic – Radar 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coverage</a:t>
            </a: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8580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Bodo Oceanic – 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New ATM system (BOAS)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ADACEL  Aurora system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actory acceptance test September 2013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Instructor training and simulator design October-Desember 2013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Installation Bodo  ACC November 2013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ontroller training January- April 2014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Operational on AIRAC April 2014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Improvements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Data-link (CPDLC and ADS-C) service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Oceanic clearance via CPDLC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AIDC/ OLDI capability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Reduces controller workload and increases sector capacity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Bodo Oceanic – 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Other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Project for replacing old HF transmitter and receiver stations.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One expected late 2013, and the other two is scheduled for 2014 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Agreement between governments in NEFAB- NUAC states to implement free route airspace.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arget implementation November 2015.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UPR in the Nordic countries and across the north Atlantic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ADS-B in Bodo Oceanic FIR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ADS-B project in the North Sea to provide surveillance for offshore helicopter operations.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Next is to establish an ADS-B corridor between Norwegian mainland and the Svalbard Island.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Internet pilot planning center (IPPC)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website for information and access to publications useful for flight planning in Norwegian airspace.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ippc.no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8:45:23Z</dcterms:created>
  <dc:creator>Hanne Pe</dc:creator>
  <dc:description/>
  <dc:language>en-US</dc:language>
  <cp:lastModifiedBy>Morten Tjønndal</cp:lastModifiedBy>
  <cp:lastPrinted>2009-08-26T11:42:17Z</cp:lastPrinted>
  <dcterms:modified xsi:type="dcterms:W3CDTF">2013-05-15T13:01:23Z</dcterms:modified>
  <cp:revision>158</cp:revision>
  <dc:subject/>
  <dc:title>Lysbilde 1</dc:title>
</cp:coreProperties>
</file>