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43080" y="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2096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6640" y="4387680"/>
            <a:ext cx="5100840" cy="4160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43080" y="8774280"/>
            <a:ext cx="3011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B1F9FC-F850-40C0-8ACD-CEB8C1A9F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6640" y="4387680"/>
            <a:ext cx="5100840" cy="4160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ots of coordination between speci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eed back from terminal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ost important part for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98A-5BE9-4EFA-A94D-4393B0B6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DDD-96A0-494A-A6C4-E0B0363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290-0DAE-4E52-AEFA-374D3800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04E-6E36-4E7C-A7CB-1BE2F52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A28-392D-4C30-A44B-196AC95A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0EF7-B81A-456A-888C-1E24A0E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4FF7-2759-4252-8510-29C166BA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07C0-071C-48CB-9028-3379AAC1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5999-CD09-485B-8902-3D0F6AA0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5BE-734A-4725-9164-82D058D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0071-AD9E-4148-8F97-7AD9908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C16-2DE2-4B3F-9C13-530B0A3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C5EF-6655-4E63-9DE0-83415FD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3806-B6A2-4AED-829C-F0A6C0E3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4E1-2BA1-43DA-AE09-36B50D0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6499-107E-4421-96AD-6AD1B0C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98900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4150080"/>
            <a:ext cx="264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156C-F130-4A9B-9319-FFF3F7B2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D0D-8531-48F1-AA80-1B06E05C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7E2-1174-44BB-A4B2-9092067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717-F291-4342-9D59-E677DBA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3A4-81E6-493D-88A3-6198E40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36F-A9A0-4827-945A-C4F4080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5008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96E-265B-4DAB-A0CA-18D382C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989000"/>
            <a:ext cx="4005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50080"/>
            <a:ext cx="8207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8DD-872E-47B5-A996-EE23BA4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97500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8D0-D816-4E82-ABC9-4271C61F462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80360" y="6219720"/>
            <a:ext cx="1536480" cy="449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4480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4480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4480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8FA6-72FD-498C-B70D-48424471649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Arial"/>
              </a:rPr>
              <a:t>NAV CANADA</a:t>
            </a:r>
            <a:br>
              <a:rPr sz="54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Random Routing Upd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515736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PWG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May 13-17 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19400" y="343080"/>
            <a:ext cx="4657680" cy="135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11280" y="6261120"/>
            <a:ext cx="4321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66"/>
                </a:solidFill>
                <a:latin typeface="Arial"/>
              </a:rPr>
              <a:t>Random Routing Update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arted Dec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xtended Feb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mplete NOR OTS Removal May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arting Changes Winter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66"/>
                </a:solidFill>
                <a:latin typeface="Arial"/>
              </a:rPr>
              <a:t>Supporting Technology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P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dium Term Conflict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utomated Iceland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ATS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load Supports Random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66"/>
                </a:solidFill>
                <a:latin typeface="Arial"/>
              </a:rPr>
              <a:t>Random Rout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stomer Impact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ultations Dec and J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Negative Custome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rollers Seeing Gain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 Routing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tter Flow With Pola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Issues With Adjacent FIR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66"/>
                </a:solidFill>
                <a:latin typeface="Arial"/>
              </a:rPr>
              <a:t>Next </a:t>
            </a:r>
            <a:r>
              <a:rPr b="1" lang="en-CA" sz="5400" spc="-1" strike="noStrike">
                <a:solidFill>
                  <a:srgbClr val="000066"/>
                </a:solidFill>
                <a:latin typeface="Arial"/>
              </a:rPr>
              <a:t>Step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stomer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ach Out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SP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tain Ability To Publish NOR 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rge Weather Di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mergenc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lcan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66"/>
                </a:solidFill>
                <a:latin typeface="Arial"/>
              </a:rPr>
              <a:t>Random Routing Suppor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stomer Support For C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PDLC Phase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roller Education for Dat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N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oser Coordination with D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AA / State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66"/>
                </a:solidFill>
                <a:latin typeface="Arial"/>
              </a:rPr>
              <a:t>Waypoint Naming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ndom Routing Has Lessened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d Consultation With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ions With 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ing With Individual Customers To Verify They Are Still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urther Discussions Required For ICAO Naming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35280" y="1989000"/>
            <a:ext cx="61927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For further questions or comments please 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Jeff Dawson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613-563-7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Stephen Middleton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780-890-83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48:30Z</dcterms:created>
  <dc:creator/>
  <dc:description/>
  <cp:keywords/>
  <dc:language>en-US</dc:language>
  <cp:lastModifiedBy>fieger</cp:lastModifiedBy>
  <cp:lastPrinted>2005-06-13T15:16:13Z</cp:lastPrinted>
  <dcterms:modified xsi:type="dcterms:W3CDTF">2013-05-06T19:20:23Z</dcterms:modified>
  <cp:revision>435</cp:revision>
  <dc:subject>NAV CANADA template</dc:subject>
  <dc:title>NAV CANADA template</dc:title>
</cp:coreProperties>
</file>