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F577-D705-4DD6-8933-67B84465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49D-2A86-47B5-86DE-20B58455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56D-D22C-4DF2-8651-13F010E7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721B-ACAD-43CF-9CC2-11A3845C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EF7-9BFB-4EE3-A21E-7F2BF23D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41A-6EFB-4629-80FE-DD48AEBD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719-3F99-4BA3-AAE7-FD49715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E59-B334-43E3-8728-DBEFF7E0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5D8-5ED8-4F7A-BEE8-23767FC5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215-70B0-449F-B496-90785F0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6E7-D82E-4AA3-A39D-2376F13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09B-A78A-4C61-B468-52E0E1E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DC47-7170-4E0E-B19B-8E3B6627C74A}" type="slidenum">
              <a:rPr b="1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CA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6699"/>
                </a:solidFill>
                <a:latin typeface="Arial"/>
              </a:rPr>
              <a:t>Proof of Concept Trial</a:t>
            </a:r>
            <a:br>
              <a:rPr sz="3200"/>
            </a:br>
            <a:r>
              <a:rPr b="1" lang="en-CA" sz="3200" spc="-1" strike="noStrike">
                <a:solidFill>
                  <a:srgbClr val="006699"/>
                </a:solidFill>
                <a:latin typeface="Arial"/>
              </a:rPr>
              <a:t>SATCOM Voice</a:t>
            </a:r>
            <a:br>
              <a:rPr sz="4000"/>
            </a:br>
            <a:r>
              <a:rPr b="1" lang="en-CA" sz="4000" spc="-1" strike="noStrike">
                <a:solidFill>
                  <a:srgbClr val="006699"/>
                </a:solidFill>
                <a:latin typeface="Arial"/>
              </a:rPr>
              <a:t>Northern Canada</a:t>
            </a:r>
            <a:br>
              <a:rPr sz="40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979280" y="5084640"/>
            <a:ext cx="460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6699"/>
                </a:solidFill>
                <a:latin typeface="Arial"/>
              </a:rPr>
              <a:t>NAM/EUR ATFM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6699"/>
                </a:solidFill>
                <a:latin typeface="Arial"/>
              </a:rPr>
              <a:t>May 2-3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6699"/>
                </a:solidFill>
                <a:latin typeface="Arial"/>
              </a:rPr>
              <a:t>Brest,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0040" y="5105520"/>
            <a:ext cx="4027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TCOM Voice has proven to be a viable and reliable medium to conduct routine ATS Commun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gent on robust operational procedures and automated system capable of secure, efficient and accurate SATCOM di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2B2-3419-4CCE-868E-A01EA536A2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55450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grate NAVCAN STAR functionality into voice switch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mend CFS to allow for use of SATCOM Voice for routine ATS communications with Gander IFSS and Arctic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ll not replace HF but be available as an altern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sultation with Transport Canada to determine feasibility of long-term go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EA6-B460-4A27-A77C-1EAE4FC3854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53262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Future Advantages 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ewer instances of lost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upport HF regression as backup to CPD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EL 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inue random route operations during poor HF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Greater intervention cap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sed to support distance based separation applications if CPDLC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procedures and software to allow direct SATCOM calls to ATC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07B-A103-420E-8765-AEDC2EA67D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765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SATCOM Voice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TCOM Voice currently limited to emergency and non routine ATS communications in NAT and Canadian air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ess the feasibility of using SATCOM voice for routine ATS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ducted a Proof of Concept Trial with limited participation (BAW, CPA, JAL, SAS, U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ADC-8039-49A7-A235-2A403AB5A5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88640"/>
            <a:ext cx="5326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SATCOM Voice T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rial conducted between November 1, 2006 and December 20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TCOM used for all ATS communications normally on HF through Arctic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 March HF frequencies transferred to Gander IF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l costs borne by the initiator of each SATCOM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ults were shared with NAT SV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7BE-B1C1-470A-A641-A9F0F1CBC76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5254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Trial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ain operational and technical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alidate aircrew and radio operator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the SATCOM sha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times compared to HF Radio for ground and airborne initiated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existing ATS and flight crew proced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rity of voice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, availability and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ssociated with use of SATCOM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D81-D58C-494A-82FB-A9237744A23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53262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Trial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ead time required for crew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ticence on the part of some flight crews no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leconferences held during and after the trial to assess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ircrew and Aeradio procedures reported to be valid, relevant and sufficiently rob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 impact on other Aircrew or ATS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FD30-343B-4ECB-A42B-9C591CC6368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5616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Trial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minal SATCOM shadow considered to be north of 80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me SATCOM connections as far as 84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64 calls initiated by Arctic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verage connection time 27.3 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98 calls reported as readability 4 or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23 calls reported as readability 3 or 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13 of those from within SATCOM sha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8B1-DD94-42F3-9C9C-60FC0BDB0A6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53989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Trial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AVCAN STAR used for secure, efficient and accurate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nique PIN built into automated dialling 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commend Q12 be reserved for ATS communications and Q10 reserved for A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portant for crews to display priority of incoming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AVCAN STAR proved reliable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21B-27B6-4ABE-A141-D80AF67CE5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51814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Trial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ositive feedback from Air Crews and Aeradio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rctic Radio reported SATCOM Voice superior in delivering clearances during poor HF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UAL pilots reported SATCOM superior when conducting complex negotiations approaching Polar Route entry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A7E-5449-4794-A29C-BB101D41777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52545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Arial"/>
              </a:rPr>
              <a:t>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AV CANADA incurred a cost of $1,500.00 USD to conduct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cludes testing and training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AS reported a cost of $197.50 USD to participate in 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ed on arrangement wherein fixed rate for set number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$197.50 is ex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994-54A7-4A66-8DE2-3075D92D26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4T16:47:12Z</dcterms:created>
  <dc:creator>Don Harris</dc:creator>
  <dc:description/>
  <dc:language>en-US</dc:language>
  <cp:lastModifiedBy>Michelle Bishop</cp:lastModifiedBy>
  <cp:lastPrinted>2005-04-27T22:53:21Z</cp:lastPrinted>
  <dcterms:modified xsi:type="dcterms:W3CDTF">2007-04-11T17:34:49Z</dcterms:modified>
  <cp:revision>782</cp:revision>
  <dc:subject/>
  <dc:title> Concepts of Operations  - Northern Airspace -   </dc:title>
</cp:coreProperties>
</file>