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wmf" ContentType="image/x-wmf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9366-26FB-4E28-9471-F82D84111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Began including mid shift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63B-6A70-44CD-ABE2-0744DCB4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41F-0954-4CFA-9ECF-8D056EC5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1E7-9F38-466B-BE21-F5920E42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1E3-9370-46F2-AE48-9D8F92B7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CA8-26F3-4432-B36E-AF6F805F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8EA3-9CE4-4373-8D2F-DC3F7CDA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029-0E22-407C-BD2F-63FAC56A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2BAE-5088-4951-9078-4AA1AB10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21D-B76E-4994-BC55-20A65039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30CE-BF10-4104-9496-C113BB62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429F-D580-46F1-B234-75A21F40B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9600" y="372960"/>
            <a:ext cx="84726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1732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39280" y="150804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536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1732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39280" y="3801960"/>
            <a:ext cx="259200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8E3B-7C7B-4A3B-B932-C50CFE4E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0600" y="380196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0600" y="1508040"/>
            <a:ext cx="3928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801960"/>
            <a:ext cx="8050320" cy="20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386760" y="626580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E044-7686-4157-954F-7F0470605B9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037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Cross Polar WG /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April 24-26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708520" y="6124680"/>
            <a:ext cx="66060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sp>
          <p:nvSpPr>
            <p:cNvPr id="49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85152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86760" y="6265800"/>
            <a:ext cx="13694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deral Av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BFC0-59FA-48E1-A38A-FE93564AAB0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6037200"/>
            <a:ext cx="9144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280" y="6205680"/>
            <a:ext cx="478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&lt;Presentation Title – Change on Master Slid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360" y="6384960"/>
            <a:ext cx="374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&lt;Date of Presentation – Change on Master Slid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14334" t="3733" r="14975" b="4562"/>
          <a:stretch/>
        </p:blipFill>
        <p:spPr>
          <a:xfrm>
            <a:off x="5708520" y="6124680"/>
            <a:ext cx="660600" cy="6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591160" y="0"/>
            <a:ext cx="35528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6960" y="4497480"/>
            <a:ext cx="4822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esented 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sp>
          <p:nvSpPr>
            <p:cNvPr id="137" name="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3"/>
            <a:srcRect l="14334" t="3733" r="14975" b="4562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A344-E577-45CB-AEDE-C8B06A2FE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aa.gov/ats/ato/ipacg.htm" TargetMode="External"/><Relationship Id="rId2" Type="http://schemas.openxmlformats.org/officeDocument/2006/relationships/hyperlink" Target="http://www.faa.gov/ats/ato/ipacg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dennis.addison@faa.go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6040" y="312840"/>
            <a:ext cx="498312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chorage ARTCC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49280" y="1754280"/>
            <a:ext cx="495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69696"/>
                </a:solidFill>
                <a:latin typeface="Arial"/>
              </a:rPr>
              <a:t>Airspace and Procedures Update</a:t>
            </a:r>
            <a:endParaRPr b="1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46360" y="4497480"/>
            <a:ext cx="38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ss Polar WG / 3, Washington, D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3120" y="4859280"/>
            <a:ext cx="438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chorage ARTCC Airspace and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81000" y="5219640"/>
            <a:ext cx="419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 24-26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233360" y="0"/>
            <a:ext cx="67248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P / Ocean 21 Imple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 Study begun to examine proposal of incorporating Anchorage Arctic airspace into Ocean21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05000" y="0"/>
            <a:ext cx="681984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9600" y="326160"/>
            <a:ext cx="8472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90560" y="0"/>
            <a:ext cx="75628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P / Ocean 21 Imple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 includes adaptation of airspace parameters, i.e. boundaries, airways, airports, etc., and construction of airspace specific “dynamic” traffic sce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 of the stud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system adequ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ine cost/benefit detai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ar and Trans East Traffic Cou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47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ar and Trans Eas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tal Traffic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95360" y="1544760"/>
          <a:ext cx="8050320" cy="431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544760"/>
                    <a:ext cx="8050320" cy="43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ar and Trans Ea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tal Traffic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95360" y="1508040"/>
          <a:ext cx="8050320" cy="4391280"/>
        </p:xfrm>
        <a:graphic>
          <a:graphicData uri="http://schemas.openxmlformats.org/drawingml/2006/table">
            <a:tbl>
              <a:tblPr/>
              <a:tblGrid>
                <a:gridCol w="1311120"/>
                <a:gridCol w="838440"/>
                <a:gridCol w="836640"/>
                <a:gridCol w="836280"/>
                <a:gridCol w="838440"/>
                <a:gridCol w="836640"/>
                <a:gridCol w="857160"/>
                <a:gridCol w="858960"/>
                <a:gridCol w="836640"/>
              </a:tblGrid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66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Incre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ar and Trans Ea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affic Distribu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95360" y="1371600"/>
          <a:ext cx="8050320" cy="415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371600"/>
                    <a:ext cx="805032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ar and Trans Ea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affic Distribu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u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95360" y="1508040"/>
          <a:ext cx="8050320" cy="4391280"/>
        </p:xfrm>
        <a:graphic>
          <a:graphicData uri="http://schemas.openxmlformats.org/drawingml/2006/table">
            <a:tbl>
              <a:tblPr/>
              <a:tblGrid>
                <a:gridCol w="879480"/>
                <a:gridCol w="880920"/>
                <a:gridCol w="879480"/>
                <a:gridCol w="881280"/>
                <a:gridCol w="714240"/>
                <a:gridCol w="733320"/>
                <a:gridCol w="789120"/>
                <a:gridCol w="806400"/>
                <a:gridCol w="771480"/>
                <a:gridCol w="714600"/>
              </a:tblGrid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M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V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K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rspace and Procedures Updat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CG / Oceanic Working Gro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OP/Ocean21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nd Trans East Traffic Cou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ffic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ar and Trans Ea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affic Distribu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95360" y="1400040"/>
          <a:ext cx="8050320" cy="448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400040"/>
                    <a:ext cx="80503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 East and Polar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raffic Distribu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Numb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95360" y="1508040"/>
          <a:ext cx="8050320" cy="4391280"/>
        </p:xfrm>
        <a:graphic>
          <a:graphicData uri="http://schemas.openxmlformats.org/drawingml/2006/table">
            <a:tbl>
              <a:tblPr/>
              <a:tblGrid>
                <a:gridCol w="879480"/>
                <a:gridCol w="880920"/>
                <a:gridCol w="879480"/>
                <a:gridCol w="881280"/>
                <a:gridCol w="714240"/>
                <a:gridCol w="733320"/>
                <a:gridCol w="789120"/>
                <a:gridCol w="806400"/>
                <a:gridCol w="771480"/>
                <a:gridCol w="714600"/>
              </a:tblGrid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V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M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V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N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OK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ffic Manag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ing operations in the OME – BESAT - NEONN triangl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ffic Manag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42960" y="1104840"/>
            <a:ext cx="78865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ffic Manag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atest operational challenge is use of Metric altitude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Metric altitude conflicts with two conventional altitudes.  (10,600 meters = FL 34.8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ffic at VALDA constitutes approximately ½ of 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FE/Polar traffic.  (7597 out of 15447 total operations*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th FAA and Russian FANA preparing for new routes thru the Trans East* airspac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oss Polar IP/3 will discuss future plans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ormerly referred to as Russian Far East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685800" y="914400"/>
            <a:ext cx="250524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9aef9"/>
                    </a:gs>
                    <a:gs pos="100000">
                      <a:srgbClr val="0b5072"/>
                    </a:gs>
                  </a:gsLst>
                  <a:lin ang="5400000"/>
                </a:gradFill>
                <a:latin typeface="Arial Black"/>
              </a:rPr>
              <a:t>Questions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9aef9"/>
                  </a:gs>
                  <a:gs pos="100000">
                    <a:srgbClr val="0b507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ACG / Oceanic Working Gro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ACG – Informal Pacific ATC Coordinating Gro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erned with mid to long term ATM, ATFM and Oceanic Separation Redu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 meeting; Anchorage, AK, May 14-18, 200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ails from former meetings and agenda for May meeting available at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a.gov/ats/ato/ipacg.ht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gnificance to Cross Polar WG –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l” status;  (reference Cross Polar Terms of Refer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 independently of, but corresponds with, ICAO Asia/Pacific off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AO invited as “observ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ceanic Working Grou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junct of IPAC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ings held quarterly at the Aeronautical Radio Incorporated (ARINC) facility in Livermore, C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st meeting conducted April 11, 200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k concerns short to mid term ATM and ATFM issu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 of last meeting available upon request from Mr. Dennis Addison of Oakland ARTCC – email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nnis.addison@faa.gov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xt meeting scheduled  for September 12, 2007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gnificance to Cross Polar WG 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constituents nearly identical to Cross Polar W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 ATM and CNS issues, i.e., Communications – CPDLC and/or HF,  Navigation – long range oceanic, Surveillance – procedural/A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P / Ocean21 Imple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lemented in Anchorage ARTCC Sectors 10 and 11 on March 1, 2007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TOP / Ocean21 Implement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623880" y="-185760"/>
            <a:ext cx="10391760" cy="72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P / Ocean 21 Imple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y few problems during system cuto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DC functioning between Anchorage / Oakland and Anchorage / Fukuok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PDLC communications and  ADS position reporting functioning norm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or, but persistent problems not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ight plans not filed with both system addresses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ight plans contain supplemental data (i.e. field 19 data) in field 1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ight crews logging on in-correct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AZAZQZX and PAZNZQZX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9600" y="372960"/>
            <a:ext cx="8472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OP / Ocean 21 Implement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-2880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April 12, 2007 Sectors 10 and 11 were expanded to enhance Ocean21 oper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-2880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aptation work begun to permit study of including  Anchorage Arctic airspace into Ocean21 system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6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2f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9600" y="356400"/>
            <a:ext cx="8472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360" y="1508040"/>
            <a:ext cx="80503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05080" y="0"/>
            <a:ext cx="681984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23:28:33Z</dcterms:created>
  <dc:creator>mmcclure</dc:creator>
  <dc:description/>
  <dc:language>en-US</dc:language>
  <cp:lastModifiedBy> </cp:lastModifiedBy>
  <dcterms:modified xsi:type="dcterms:W3CDTF">2007-04-24T13:40:36Z</dcterms:modified>
  <cp:revision>17</cp:revision>
  <dc:subject/>
  <dc:title>Anchorage ARTCC </dc:title>
</cp:coreProperties>
</file>