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B3F3E9-49C7-463B-BEC0-7F6E8FD4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Attende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is Rami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y F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a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 Spe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mitry Savitsky, Deputy Director 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ily Topchiev, Head of International Organizations and Protocol Support Division, Department of International Relations, 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alia Kirillova, 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ury Tokarev, F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gey Pogrebnov, AT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Buevich, Manager, Operational User Support, State ATM Corpo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8F73-EBA7-467F-A160-933D19D4C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3465E-26D4-4EF7-8F45-73AA36580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F635-FC47-45AA-BD99-457B83661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DE1C-881C-4383-A512-4881552BE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1709-A16A-4C4A-B7C7-211E019C3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FB2B-4488-4F2D-8EF5-3750954FC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C2FB9-CEAA-478A-A3D1-952A3FE02A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E37B-D128-450E-A33F-70869CEEC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28760" y="344160"/>
            <a:ext cx="847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31332-261E-465D-ABF9-B73C6658C9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FB3BE-863E-40E4-8703-A216499F4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7083-CC60-40F3-88EB-6C59B8D371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297360"/>
            <a:ext cx="8472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EA472-2DFF-4D0F-89B4-2C981E62C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C0F0-009C-4CD8-918C-928B83F97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3576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5C4B-EEAF-4601-82E9-20C956351F0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7" name="" descr=""/>
            <p:cNvPicPr/>
            <p:nvPr/>
          </p:nvPicPr>
          <p:blipFill>
            <a:blip r:embed="rId2"/>
            <a:srcRect l="14334" t="3733" r="14975" b="4562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386760" y="6265800"/>
              <a:ext cx="1369440" cy="4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441360" y="646128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pril 26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49280" y="626256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ICAO TRASAS/1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26960" y="4497480"/>
            <a:ext cx="4822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8960" y="37620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ross Polar Trans East Air Traffic Management Work Group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2200" y="33670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CAO Trans-East Regional Airspace Organization and ATM supporting Steering Group Meeting (TRASAS/1)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ay 2-3, 2007 Paris</a:t>
            </a:r>
            <a:endParaRPr b="1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9600" y="5192640"/>
            <a:ext cx="47196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sented by: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ey Fagan, Director of ATO Operations Planning Inter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490760" indent="-1490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490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e: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pril 2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47124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2f68"/>
                </a:solidFill>
                <a:latin typeface="Arial"/>
              </a:rPr>
              <a:t>Trans-Regional Airspace and Supporting ATM Systems Steering Group First Meeting (TRASAS/1)</a:t>
            </a:r>
            <a:endParaRPr b="1" lang="en-US" sz="28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9660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AS involves States and Organizations from the following ICAO reg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 Atlan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es include: Canada, China, Democratic People’s Republic of Korea,  Denmark, Finland, Iceland, Japan, Mongolia, Norway, Republic of Korea, Russian Federation, United States, IACA, IATA, IBAC, IFALPA and Chairman of APANPIRG, EANPG, and NAT SP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F4D71-1D1A-404C-A94A-C487177987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RASA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AS intends to be high level steering group for major stakeholders to attend and establish policy guidelines on particular issues and delegate action to appropriate technical body/bo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Objectives to Establis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clude time frames and 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91A0-3163-4469-92F5-C2A51EEBA1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34416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TRASAS  Terms of Reference - highligh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SAS shall work under auspices of ICA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/NAT office shall provide full secretariat support to the gro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SAS shall not substitute itself for other planning bodies which are active under auspices of ICAO (EANPG, NATSPG, APANPIRG, etc.) or bodies operating bilaterally/multilater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provide guidance as well as coordinating function for these groups on various technical and operational aspects and combine results into one coherent overall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ead to changes/amendment to ICAO Regional Air Navig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Establish Contributory Working Bodies (CWB) that shall work on its behalf on specific exper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41FF-BD36-455E-B900-E603FEC0AC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6632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2f68"/>
                </a:solidFill>
                <a:latin typeface="Arial"/>
              </a:rPr>
              <a:t>TRASAS Agenda - Key Discussion Areas</a:t>
            </a:r>
            <a:endParaRPr b="1" lang="en-US" sz="32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898200"/>
            <a:ext cx="805032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AS Terms of Re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work currently underway to enhance ATS Route network using current and future technologies and need to plan for transition to performance based navigation sys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hort, medium and long term goals of TRASAS including establishing work program, methods, timeframe and deliver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F638-0F3D-4FBE-80EC-2148557B03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661680"/>
            <a:ext cx="847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ross Polar Trans-East Traffic Management Working Group (CPWG)</a:t>
            </a:r>
            <a:br>
              <a:rPr sz="3600"/>
            </a:b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360" y="1431720"/>
            <a:ext cx="80503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forum to improve air traffic services (ATS) for aircraft transiting polar and Russian Trans East Airspac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s of air navigation service provider representatives from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sia, Canada, Iceland, the United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organizations representing airspace operator groups (e.g., the International Air Transport Association (IATA) International Business Aviation Council (IBAC)) who operate in that air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work cooperatively to identify and resolve issues that impact the efficiency of ATS primarily for flights operating in the airspace between North America and As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focus primarily on Polar and Trans-East airspace issues, in order to promote seamless, efficient and safe 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esentatives from other organizations and ANS providers, including, but not limited to China, Mongolia and Japan, may also be invited to participate in Cross Polar WG activities, as appropriate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DEFC-FC10-4BC1-AE8B-000F8BD9C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8T20:32:53Z</dcterms:created>
  <dc:creator>MTONEY</dc:creator>
  <dc:description/>
  <dc:language>en-US</dc:language>
  <cp:lastModifiedBy>leah moebius</cp:lastModifiedBy>
  <dcterms:modified xsi:type="dcterms:W3CDTF">2007-04-30T19:01:18Z</dcterms:modified>
  <cp:revision>2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31025842</vt:r8>
  </property>
  <property fmtid="{D5CDD505-2E9C-101B-9397-08002B2CF9AE}" pid="3" name="_AuthorEmail">
    <vt:lpwstr>rgreenawalt@cssiinc.com</vt:lpwstr>
  </property>
  <property fmtid="{D5CDD505-2E9C-101B-9397-08002B2CF9AE}" pid="4" name="_AuthorEmailDisplayName">
    <vt:lpwstr>Roger Greenawalt</vt:lpwstr>
  </property>
  <property fmtid="{D5CDD505-2E9C-101B-9397-08002B2CF9AE}" pid="5" name="_EmailSubject">
    <vt:lpwstr>Cross Polar China Brief 2.0</vt:lpwstr>
  </property>
  <property fmtid="{D5CDD505-2E9C-101B-9397-08002B2CF9AE}" pid="6" name="_PreviousAdHocReviewCycleID">
    <vt:r8>713272918</vt:r8>
  </property>
  <property fmtid="{D5CDD505-2E9C-101B-9397-08002B2CF9AE}" pid="7" name="_ReviewingToolsShownOnce">
    <vt:lpwstr/>
  </property>
</Properties>
</file>