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26.png" ContentType="image/png"/>
  <Override PartName="/ppt/media/image23.wmf" ContentType="image/x-wmf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8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1.png" ContentType="image/png"/>
  <Override PartName="/ppt/media/image22.wmf" ContentType="image/x-wmf"/>
  <Override PartName="/ppt/media/image19.png" ContentType="image/png"/>
  <Override PartName="/ppt/media/image17.png" ContentType="image/png"/>
  <Override PartName="/ppt/media/image20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0E5-835E-402F-99D8-24E84B3F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841-FC69-47B3-BE1F-F96723A5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565A-E927-411D-A799-C977DF09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C9B-706B-4E90-B2D8-9C056341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512B-C8BA-4C79-B6E7-91FE8F2E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AE2-99B9-44BB-AEE0-FD36E25E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13C1-7560-469D-B344-CF2B0CC6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E08A-7E5B-44D4-AE92-7371E7B0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56D-0E20-490A-ADAD-4C1270F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0983-9E9E-4326-9A54-013365AD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B77-4BBD-44B1-A46C-A10B175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4F0-77FF-4152-821F-2F3AB860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7CDC-EC66-42D4-8416-0C9EA9BD1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timum routes for LAX-HKG within Russian Airspace in WIN06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verview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FLOW%20IN%20WIN06" descr=""/>
          <p:cNvPicPr/>
          <p:nvPr/>
        </p:nvPicPr>
        <p:blipFill>
          <a:blip r:embed="rId3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12952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1066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flows of optimum routes in monthly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VS%20CURRENT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12952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1066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flows of optimum routes in monthly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FLOW%20IN%20WIN06%20A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0" y="12952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066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flows of optimum routes in WIN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VS%20CURRENT%20A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1295280"/>
            <a:ext cx="9144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10666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flows of optimum routes in WIN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NOV06%20WP" descr=""/>
          <p:cNvPicPr/>
          <p:nvPr/>
        </p:nvPicPr>
        <p:blipFill>
          <a:blip r:embed="rId3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312920" y="12762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 for optimum routes in Nov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DEC06%20WP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12920" y="12762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 for optimum routes in Dec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JAN07%20WP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12920" y="12762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 for optimum routes in Jan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FEB07%20WP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12920" y="12762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 for optimum routes in Feb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AR07%20WP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12920" y="1276200"/>
            <a:ext cx="329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y points for optimum routes in Mar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he major route structure of  optimum ro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potential new entry points in Russian bou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Copy%20of%20ENTRY" descr=""/>
          <p:cNvPicPr/>
          <p:nvPr/>
        </p:nvPicPr>
        <p:blipFill>
          <a:blip r:embed="rId1"/>
          <a:stretch/>
        </p:blipFill>
        <p:spPr>
          <a:xfrm>
            <a:off x="-17640" y="517680"/>
            <a:ext cx="9174240" cy="584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12920" y="1276200"/>
            <a:ext cx="329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view for the entry points of optimum routes in WIN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434880"/>
            <a:ext cx="9144000" cy="564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2600" y="5170320"/>
            <a:ext cx="75960" cy="304920"/>
          </a:xfrm>
          <a:prstGeom prst="upArrow">
            <a:avLst>
              <a:gd name="adj1" fmla="val 50000"/>
              <a:gd name="adj2" fmla="val 100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23080" y="5184720"/>
            <a:ext cx="76320" cy="304920"/>
          </a:xfrm>
          <a:prstGeom prst="upArrow">
            <a:avLst>
              <a:gd name="adj1" fmla="val 50000"/>
              <a:gd name="adj2" fmla="val 998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5195880"/>
            <a:ext cx="75960" cy="304920"/>
          </a:xfrm>
          <a:prstGeom prst="upArrow">
            <a:avLst>
              <a:gd name="adj1" fmla="val 50000"/>
              <a:gd name="adj2" fmla="val 1003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25560" y="5210280"/>
            <a:ext cx="76320" cy="304560"/>
          </a:xfrm>
          <a:prstGeom prst="upArrow">
            <a:avLst>
              <a:gd name="adj1" fmla="val 50000"/>
              <a:gd name="adj2" fmla="val 9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3120" y="5257800"/>
            <a:ext cx="41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9760" y="5270400"/>
            <a:ext cx="57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roposed%20entry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33560" y="1314360"/>
            <a:ext cx="35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8400" y="1359000"/>
            <a:ext cx="381240" cy="317520"/>
          </a:xfrm>
          <a:prstGeom prst="triangle">
            <a:avLst>
              <a:gd name="adj" fmla="val 50000"/>
            </a:avLst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351480" y="1819440"/>
            <a:ext cx="1978200" cy="23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288120" y="2111400"/>
            <a:ext cx="1977840" cy="23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6072120" y="2720880"/>
            <a:ext cx="1978200" cy="23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0" name="" descr=""/>
          <p:cNvPicPr/>
          <p:nvPr/>
        </p:nvPicPr>
        <p:blipFill>
          <a:blip r:embed="rId7"/>
          <a:stretch/>
        </p:blipFill>
        <p:spPr>
          <a:xfrm>
            <a:off x="3760920" y="5286240"/>
            <a:ext cx="1977840" cy="2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roposed%20entry%20vs%20Nov06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33560" y="1314360"/>
            <a:ext cx="35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 with entry points of optimum routes in Nov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roposed%20entry%20vs%20Dec06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7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33560" y="1314360"/>
            <a:ext cx="35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 with entry points of optimum routes in Dec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roposed%20entry%20vs%20Jan07" descr=""/>
          <p:cNvPicPr/>
          <p:nvPr/>
        </p:nvPicPr>
        <p:blipFill>
          <a:blip r:embed="rId1"/>
          <a:stretch/>
        </p:blipFill>
        <p:spPr>
          <a:xfrm>
            <a:off x="0" y="479520"/>
            <a:ext cx="925524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33560" y="1314360"/>
            <a:ext cx="35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 with entry points of optimum routes in Jan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roposed%20entry%20vs%20Feb07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3560" y="1314360"/>
            <a:ext cx="35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 with entry points of optimum routes in Feb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roposed%20entry%20vs%20Mar07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62720" y="11462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10320" y="10288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5480" y="9460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8287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319800" y="7747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48320" y="5716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86400" y="127944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12096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9520" y="143208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0548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10440" y="14889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14840" y="1162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48240" y="140328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38960" y="14097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67360" y="254628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14960" y="242892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1720" y="34416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629320" y="3324240"/>
            <a:ext cx="90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24320" y="38703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72280" y="375300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33560" y="1314360"/>
            <a:ext cx="35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 with entry points of optimum routes in Mar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571680" y="965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fference betwee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um and current routes 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COTS and RFE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 daily fligh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482760" y="2602080"/>
            <a:ext cx="82040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Copy%20of%20Summary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716040" y="1111320"/>
            <a:ext cx="35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new entry points with major flow of optimum routes in WIN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1200" y="830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56320" y="123660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75480" y="110484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427880" y="106992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18240" y="90504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T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342200" y="92700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413480" y="7192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413480" y="1355760"/>
            <a:ext cx="5580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537320" y="128124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46880" y="1488960"/>
            <a:ext cx="5580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70640" y="148608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37520" y="152244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80000" y="123840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56600" y="14605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413480" y="14572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075440" y="24033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23040" y="228600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37320" y="3170160"/>
            <a:ext cx="55440" cy="6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784920" y="3052800"/>
            <a:ext cx="90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27800" y="3517920"/>
            <a:ext cx="55440" cy="633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75400" y="3400560"/>
            <a:ext cx="8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OK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7381800" y="1832040"/>
            <a:ext cx="1635120" cy="1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7318440" y="2124000"/>
            <a:ext cx="1635120" cy="1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7" name="" descr=""/>
          <p:cNvPicPr/>
          <p:nvPr/>
        </p:nvPicPr>
        <p:blipFill>
          <a:blip r:embed="rId6"/>
          <a:stretch/>
        </p:blipFill>
        <p:spPr>
          <a:xfrm>
            <a:off x="7102440" y="2581200"/>
            <a:ext cx="1635120" cy="1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8" name="" descr=""/>
          <p:cNvPicPr/>
          <p:nvPr/>
        </p:nvPicPr>
        <p:blipFill>
          <a:blip r:embed="rId7"/>
          <a:stretch/>
        </p:blipFill>
        <p:spPr>
          <a:xfrm>
            <a:off x="5133960" y="4740120"/>
            <a:ext cx="1635120" cy="1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-162000" y="762120"/>
            <a:ext cx="930600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NOV06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route for LAX-HKG within Russian airspace in Nov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EC06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route for LAX-HKG within Russian airspace in Dec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JAN07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route for LAX-HKG within Russian airspace in Jan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FEB07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route for LAX-HKG within Russian airspace in Feb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AR07" descr=""/>
          <p:cNvPicPr/>
          <p:nvPr/>
        </p:nvPicPr>
        <p:blipFill>
          <a:blip r:embed="rId1"/>
          <a:stretch/>
        </p:blipFill>
        <p:spPr>
          <a:xfrm>
            <a:off x="-55440" y="479520"/>
            <a:ext cx="9254880" cy="589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5964120" y="0"/>
          <a:ext cx="3179880" cy="45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64120" y="0"/>
                    <a:ext cx="31798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1556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609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route for LAX-HKG within Russian airspace in Mar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3:57:32Z</dcterms:created>
  <dc:creator>Cathay Pacific Airways</dc:creator>
  <dc:description/>
  <dc:language>en-US</dc:language>
  <cp:lastModifiedBy>Cathay Pacific Airways</cp:lastModifiedBy>
  <dcterms:modified xsi:type="dcterms:W3CDTF">2007-04-24T15:23:36Z</dcterms:modified>
  <cp:revision>7</cp:revision>
  <dc:subject/>
  <dc:title>No Slide Title</dc:title>
</cp:coreProperties>
</file>