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0E4F-7FE6-43A1-936F-4ACA199A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A34-3068-45FC-8699-0B47E198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F4A-A3D1-4ED0-84FF-5BC9DDC2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0A6-D153-4A42-9516-0D7BBC2E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9240" y="-74880"/>
            <a:ext cx="67291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5B5-CECA-479A-A84E-15A2C01F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2992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29920"/>
            <a:ext cx="271116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342-CB34-4328-9084-2A6876E2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B2E-95DF-4CDF-98E5-2B76E119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43A-BB0D-4476-8F4F-189764B4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9240" y="-74880"/>
            <a:ext cx="672912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6D4-5DC1-4DEE-9BE5-96C8EBB8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CABE-0F0A-4F87-95B5-A7C3EB90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2992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384-13FB-42AE-8901-3ECB587F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29920"/>
            <a:ext cx="8420040" cy="196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3F2-74BD-4CBF-B429-E932FE52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4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096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09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09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096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09760" cy="47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  <a:defRPr b="0" lang="fr-C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3480"/>
            <a:ext cx="3136680" cy="47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  <a:defRPr b="0" lang="fr-C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1000" y="6243480"/>
            <a:ext cx="2309760" cy="47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  <a:defRPr b="0" lang="fr-CA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25C07260-E41C-4761-9993-4B87BBB9101C}" type="slidenum">
              <a:rPr b="0" lang="fr-C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692280" indent="-266760">
              <a:spcBef>
                <a:spcPts val="700"/>
              </a:spcBef>
              <a:buClr>
                <a:srgbClr val="3333cc"/>
              </a:buClr>
              <a:buFont typeface="Helvetica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1063800" indent="-2127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488960" indent="-210960">
              <a:spcBef>
                <a:spcPts val="700"/>
              </a:spcBef>
              <a:buClr>
                <a:srgbClr val="3333cc"/>
              </a:buClr>
              <a:buFont typeface="Helvetica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914480" indent="-210960">
              <a:spcBef>
                <a:spcPts val="700"/>
              </a:spcBef>
              <a:buClr>
                <a:srgbClr val="3333cc"/>
              </a:buClr>
              <a:buFont typeface="Helvetica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914480" indent="-21096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914480" indent="-210960"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6272280"/>
            <a:ext cx="2063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fld id="{6F897D59-26D0-4350-BC3A-C4BB1EA3FA3D}" type="slidenum">
              <a:rPr b="0" lang="en-US" sz="13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file:///tmp/home/.config/libreoffice/4/user/gallery/BAW283.wav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0"/>
          <a:ext cx="953784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37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849320" y="617400"/>
            <a:ext cx="632484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spcBef>
                <a:spcPts val="3563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CA" sz="5700" spc="-1" strike="noStrike">
                <a:solidFill>
                  <a:srgbClr val="000000"/>
                </a:solidFill>
                <a:latin typeface="Arial"/>
              </a:rPr>
              <a:t>NAV STAR 1.0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12880" y="5267160"/>
            <a:ext cx="6637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CA" sz="3200" spc="-1" strike="noStrike">
                <a:solidFill>
                  <a:srgbClr val="000000"/>
                </a:solidFill>
                <a:latin typeface="Arial"/>
              </a:rPr>
              <a:t>SATCOM FOR PILOTS AND A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3400" spc="-1" strike="noStrike">
                <a:solidFill>
                  <a:srgbClr val="66ffff"/>
                </a:solidFill>
                <a:latin typeface="Arial"/>
              </a:rPr>
              <a:t>Background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95400" indent="-95400">
              <a:spcBef>
                <a:spcPts val="675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Original system developed by Montreal ACC to determine NAT track loading, based on proposed flight plan info.</a:t>
            </a:r>
            <a:endParaRPr b="0" lang="en-US" sz="27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75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System evolved to include SATCOM, again based on proposed flight plan info.</a:t>
            </a:r>
            <a:endParaRPr b="0" lang="en-US" sz="27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75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The acronym NAV STAR stands for </a:t>
            </a:r>
            <a:r>
              <a:rPr b="1" lang="fr-FR" sz="2700" spc="-1" strike="noStrike">
                <a:solidFill>
                  <a:srgbClr val="ff0000"/>
                </a:solidFill>
                <a:latin typeface="Arial"/>
              </a:rPr>
              <a:t>NAV</a:t>
            </a: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 CANADA </a:t>
            </a:r>
            <a:r>
              <a:rPr b="1" lang="fr-FR" sz="27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atellite </a:t>
            </a:r>
            <a:r>
              <a:rPr b="1" lang="fr-FR" sz="27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erminal for </a:t>
            </a:r>
            <a:r>
              <a:rPr b="1" lang="fr-FR" sz="27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TC </a:t>
            </a:r>
            <a:r>
              <a:rPr b="1" lang="fr-FR" sz="27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fr-FR" sz="2700" spc="-1" strike="noStrike">
                <a:solidFill>
                  <a:srgbClr val="3333cc"/>
                </a:solidFill>
                <a:latin typeface="Arial"/>
              </a:rPr>
              <a:t>elays</a:t>
            </a:r>
            <a:endParaRPr b="0" lang="en-US" sz="2700" spc="-1" strike="noStrike">
              <a:solidFill>
                <a:srgbClr val="3333cc"/>
              </a:solidFill>
              <a:latin typeface="Arial"/>
            </a:endParaRPr>
          </a:p>
          <a:p>
            <a:pPr marL="95400" indent="0">
              <a:spcBef>
                <a:spcPts val="675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700" spc="-1" strike="noStrike">
              <a:solidFill>
                <a:srgbClr val="3333cc"/>
              </a:solidFill>
              <a:latin typeface="Arial"/>
            </a:endParaRPr>
          </a:p>
          <a:p>
            <a:pPr marL="95400" indent="0">
              <a:spcBef>
                <a:spcPts val="675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7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Key features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95400" indent="-95400">
              <a:spcBef>
                <a:spcPts val="601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Stand alone system, not hooked up to any network.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Simple PC or LAPTOP require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NAV STAR « listens » on AFTN (RJ45 network cable), and retrieves data regarding A/C IDENT and tail #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INMARSAT database (tail # and corresponding phone #) is uploaded in NAV STAR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-95400">
              <a:spcBef>
                <a:spcPts val="601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NAV STAR does the « dialing » if a match is found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95400" indent="0">
              <a:spcBef>
                <a:spcPts val="601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Security issues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71992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PIN is required to dial u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Call is made to INMARSAT first;INMARSAT will not uplink the call unless the caller ID is an approved on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The process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0880" y="1412640"/>
            <a:ext cx="8359560" cy="411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ATC asks NAV STAR if a match is availabl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3485" t="6684" r="2019" b="7683"/>
          <a:stretch/>
        </p:blipFill>
        <p:spPr>
          <a:xfrm>
            <a:off x="1352520" y="1876320"/>
            <a:ext cx="7329600" cy="4981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248520" y="2924280"/>
            <a:ext cx="57600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rcRect l="48522" t="32293" r="35239" b="62805"/>
          <a:stretch/>
        </p:blipFill>
        <p:spPr>
          <a:xfrm>
            <a:off x="4881600" y="3357720"/>
            <a:ext cx="1224000" cy="277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The process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5240" y="6200640"/>
            <a:ext cx="8359920" cy="657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800" spc="-1" strike="noStrike">
                <a:solidFill>
                  <a:srgbClr val="3333cc"/>
                </a:solidFill>
                <a:latin typeface="Arial"/>
              </a:rPr>
              <a:t>If a match is found, the following will appear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485" t="6684" r="2750" b="7683"/>
          <a:stretch/>
        </p:blipFill>
        <p:spPr>
          <a:xfrm>
            <a:off x="1496880" y="1413000"/>
            <a:ext cx="6912000" cy="4733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84520" y="3284640"/>
            <a:ext cx="331128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073240" y="4076640"/>
            <a:ext cx="1079640" cy="19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3485" t="6684" r="2750" b="7683"/>
          <a:stretch/>
        </p:blipFill>
        <p:spPr>
          <a:xfrm>
            <a:off x="1496880" y="1413000"/>
            <a:ext cx="6912000" cy="4733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The process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0880" y="6210000"/>
            <a:ext cx="7881840" cy="647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499"/>
              </a:spcBef>
              <a:buClr>
                <a:srgbClr val="3333cc"/>
              </a:buClr>
              <a:buFont typeface="Helvetica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2000" spc="-1" strike="noStrike">
                <a:solidFill>
                  <a:srgbClr val="3333cc"/>
                </a:solidFill>
                <a:latin typeface="Arial"/>
              </a:rPr>
              <a:t>Automatic dialing will take place when clicking this button (try it!)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224160" y="3860640"/>
            <a:ext cx="1079640" cy="187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rId3"/>
          </p:cNvPr>
          <p:cNvSpPr/>
          <p:nvPr/>
        </p:nvSpPr>
        <p:spPr>
          <a:xfrm>
            <a:off x="4376880" y="3357720"/>
            <a:ext cx="576000" cy="5029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4736" h="21600">
                <a:moveTo>
                  <a:pt x="0" y="0"/>
                </a:moveTo>
                <a:lnTo>
                  <a:pt x="24736" y="0"/>
                </a:lnTo>
                <a:lnTo>
                  <a:pt x="24736" y="21600"/>
                </a:lnTo>
                <a:lnTo>
                  <a:pt x="0" y="21600"/>
                </a:lnTo>
                <a:close/>
              </a:path>
              <a:path fill="lightenLess" w="24736" h="21600">
                <a:moveTo>
                  <a:pt x="0" y="0"/>
                </a:moveTo>
                <a:lnTo>
                  <a:pt x="24736" y="0"/>
                </a:lnTo>
                <a:lnTo>
                  <a:pt x="23337" y="1400"/>
                </a:lnTo>
                <a:lnTo>
                  <a:pt x="1400" y="1400"/>
                </a:lnTo>
                <a:close/>
              </a:path>
              <a:path fill="darken" w="24736" h="21600">
                <a:moveTo>
                  <a:pt x="24736" y="0"/>
                </a:moveTo>
                <a:lnTo>
                  <a:pt x="24736" y="21600"/>
                </a:lnTo>
                <a:lnTo>
                  <a:pt x="23337" y="20200"/>
                </a:lnTo>
                <a:lnTo>
                  <a:pt x="23337" y="1400"/>
                </a:lnTo>
                <a:close/>
              </a:path>
              <a:path fill="darkenLess" w="24736" h="21600">
                <a:moveTo>
                  <a:pt x="247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7" y="20200"/>
                </a:lnTo>
                <a:close/>
              </a:path>
              <a:path fill="lighten" w="247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9240" y="-74880"/>
            <a:ext cx="6729120" cy="1320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fr-CA" sz="3400" spc="-1" strike="noStrike">
                <a:solidFill>
                  <a:srgbClr val="66ffff"/>
                </a:solidFill>
                <a:latin typeface="Arial"/>
              </a:rPr>
              <a:t>If no match is found…</a:t>
            </a:r>
            <a:endParaRPr b="0" lang="en-US" sz="34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3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3485" t="6684" r="2750" b="6684"/>
          <a:stretch/>
        </p:blipFill>
        <p:spPr>
          <a:xfrm>
            <a:off x="1496880" y="1370160"/>
            <a:ext cx="7920000" cy="5487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5:33:34Z</dcterms:created>
  <dc:creator>roberfr</dc:creator>
  <dc:description/>
  <dc:language>en-US</dc:language>
  <cp:lastModifiedBy>romed</cp:lastModifiedBy>
  <dcterms:modified xsi:type="dcterms:W3CDTF">2007-04-24T16:01:32Z</dcterms:modified>
  <cp:revision>10</cp:revision>
  <dc:subject/>
  <dc:title>Diapositive 1</dc:title>
</cp:coreProperties>
</file>