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E0F5-4153-4882-AA43-FEAAED991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C489-69BA-49A6-94DC-93AA01B9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F236-AA54-4912-8C53-0B2F2E6E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88E8-536E-4DA0-811C-01DA0822C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0106-EB67-474D-8D6A-B89D74B4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EBA3-9213-4282-8D2C-BA5606B0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E056-9CA1-4CB3-A50B-1BE3FE4E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0169-227D-43D8-868E-51203C9C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B4BE-5063-400E-B6E0-5F0C0E6D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B9BB-E111-4453-BB25-A2BDA2A3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74DC-5D85-4C87-B92E-1A4CD908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BF4F-F066-4D7E-906A-6D535562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91C3-8645-4999-AC18-1E0D5A24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C680-B6B2-460D-A82C-89C64DD1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7B18-53DE-4B1B-9D22-EC599871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5780-5AF1-4D11-BE53-DD7D95C57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51AB-D210-4AC9-A8FB-2ABA9D72E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34DB-91D4-4253-B715-06755CC8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A32E-B6BB-4FBF-9052-3585945E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E1FD-1885-45A2-9909-6B4A49CE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77AD-2370-4800-9FB1-FABCE2D8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A640-4E48-4E78-AE81-3F513631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A223-9ED2-4829-9D5B-2B85A045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5AEA-12B3-4F06-931F-3B46D335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3A4A-E33C-4E47-862B-43F0A854005D}" type="slidenum">
              <a:rPr b="0" lang="en-C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B0C4-1EE9-4E5A-AD34-4CBA3171C264}" type="slidenum">
              <a:rPr b="0" lang="en-C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419720" cy="35812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0" y="-380880"/>
            <a:ext cx="4370400" cy="37335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4267080" y="3048120"/>
            <a:ext cx="4876920" cy="38098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"/>
          <a:stretch/>
        </p:blipFill>
        <p:spPr>
          <a:xfrm>
            <a:off x="4343400" y="-380880"/>
            <a:ext cx="4800600" cy="373356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c4c3aa"/>
                </a:solidFill>
                <a:latin typeface="Arial"/>
              </a:rPr>
              <a:t>CROSS POLAR WORKING GROUP</a:t>
            </a:r>
            <a:br>
              <a:rPr sz="3800"/>
            </a:br>
            <a:br>
              <a:rPr sz="3800"/>
            </a:br>
            <a:r>
              <a:rPr b="1" lang="en-US" sz="3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4c3aa"/>
                </a:solidFill>
                <a:latin typeface="Arial"/>
              </a:rPr>
              <a:t>Edmonton Area Control Centre</a:t>
            </a:r>
            <a:r>
              <a:rPr b="1" lang="en-US" sz="4700" spc="-1" strike="noStrike">
                <a:solidFill>
                  <a:srgbClr val="c4c3aa"/>
                </a:solidFill>
                <a:latin typeface="Arial"/>
              </a:rPr>
              <a:t> </a:t>
            </a:r>
            <a:br>
              <a:rPr sz="4700"/>
            </a:br>
            <a:br>
              <a:rPr sz="4700"/>
            </a:br>
            <a:r>
              <a:rPr b="1" lang="en-US" sz="3000" spc="-1" strike="noStrike">
                <a:solidFill>
                  <a:srgbClr val="c4c3aa"/>
                </a:solidFill>
                <a:latin typeface="Arial"/>
              </a:rPr>
              <a:t>September 18-20, 2007</a:t>
            </a:r>
            <a:br>
              <a:rPr sz="3000"/>
            </a:br>
            <a:br>
              <a:rPr sz="3800"/>
            </a:br>
            <a:r>
              <a:rPr b="1" lang="en-US" sz="3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INTRODUCTION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68360" y="1844280"/>
            <a:ext cx="82072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Verdana"/>
              </a:rPr>
              <a:t>April 2007 – At CPWG 3 Edmonton ACC agreed to track the use of FL380 at the Russian entry points:  RAMEL, ORVIT, NIKI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Verdana"/>
              </a:rPr>
              <a:t>Concerns had been raised regarding aircraft non-compliance when cleared to FL380 at those fix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CA" sz="2000" spc="-1" strike="noStrike">
                <a:solidFill>
                  <a:srgbClr val="ffffff"/>
                </a:solidFill>
                <a:latin typeface="Verdana"/>
              </a:rPr>
              <a:t>Aircraft which had reserved FL380 and then advis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CA" sz="2000" spc="-1" strike="noStrike">
                <a:solidFill>
                  <a:srgbClr val="ffffff"/>
                </a:solidFill>
                <a:latin typeface="Verdana"/>
              </a:rPr>
              <a:t>unable when clear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CA" sz="2000" spc="-1" strike="noStrike">
                <a:solidFill>
                  <a:srgbClr val="ffffff"/>
                </a:solidFill>
                <a:latin typeface="Verdana"/>
              </a:rPr>
              <a:t>Aircraft which had been filed either FL320 or FL340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CA" sz="2000" spc="-1" strike="noStrike">
                <a:solidFill>
                  <a:srgbClr val="ffffff"/>
                </a:solidFill>
                <a:latin typeface="Verdana"/>
              </a:rPr>
              <a:t>the pilots then indicated they were able FL380 prior t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CA" sz="2000" spc="-1" strike="noStrike">
                <a:solidFill>
                  <a:srgbClr val="ffffff"/>
                </a:solidFill>
                <a:latin typeface="Verdana"/>
              </a:rPr>
              <a:t>entry point(s), then declined the altitude when offere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8229600" y="6440400"/>
            <a:ext cx="838080" cy="3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229600" y="6440400"/>
            <a:ext cx="838080" cy="38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9" name=""/>
          <p:cNvGraphicFramePr/>
          <p:nvPr/>
        </p:nvGraphicFramePr>
        <p:xfrm>
          <a:off x="179280" y="765000"/>
          <a:ext cx="8820000" cy="4376520"/>
        </p:xfrm>
        <a:graphic>
          <a:graphicData uri="http://schemas.openxmlformats.org/drawingml/2006/table">
            <a:tbl>
              <a:tblPr/>
              <a:tblGrid>
                <a:gridCol w="922320"/>
                <a:gridCol w="1047600"/>
                <a:gridCol w="828720"/>
                <a:gridCol w="1092240"/>
                <a:gridCol w="1092240"/>
                <a:gridCol w="1236600"/>
                <a:gridCol w="2600280"/>
              </a:tblGrid>
              <a:tr h="3823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Arial"/>
                        </a:rPr>
                        <a:t>May 31 – August 31: 17 Flights Option FL3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D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Fligh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Fi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Fix Estim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GRL altitu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Resul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May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COA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B7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ORV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22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3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Reached FL3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May 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AAL28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B7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RAM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2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3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Reached FL3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May 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ACA0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A3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RAM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3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Reached FL3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June 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COA8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B7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RAM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22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3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Reached FL3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June 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COA8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B7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RAM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23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3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Reached FL3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June 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ACA0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A3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RAM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00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3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Reached FL3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June 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ACA0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A3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RAM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21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3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Reached FL3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June 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ACA08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A3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RAM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204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3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Reached FL3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June 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AAL28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B7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ORV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21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3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Times New Roman"/>
                          <a:ea typeface="Times New Roman"/>
                        </a:rPr>
                        <a:t>Reached FL3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8229600" y="6440400"/>
            <a:ext cx="838080" cy="38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1" name=""/>
          <p:cNvGraphicFramePr/>
          <p:nvPr/>
        </p:nvGraphicFramePr>
        <p:xfrm>
          <a:off x="250920" y="785880"/>
          <a:ext cx="8642160" cy="4478400"/>
        </p:xfrm>
        <a:graphic>
          <a:graphicData uri="http://schemas.openxmlformats.org/drawingml/2006/table">
            <a:tbl>
              <a:tblPr/>
              <a:tblGrid>
                <a:gridCol w="792000"/>
                <a:gridCol w="1008000"/>
                <a:gridCol w="792360"/>
                <a:gridCol w="865080"/>
                <a:gridCol w="1289160"/>
                <a:gridCol w="1095480"/>
                <a:gridCol w="2800080"/>
              </a:tblGrid>
              <a:tr h="64260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Verdana"/>
                        </a:rPr>
                        <a:t>May 31 – August 31 (cont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D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Fligh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Fi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Fix Estim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GRL Altitu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Resul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July 2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CPA83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A34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RAME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024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3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Cleared FL380, unable.   Re-cleared FL3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4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Aug 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ACA03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A34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RAME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00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Reached FL3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Aug 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CPA83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A34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RAME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023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3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Cleared FL380 to cross 140W level. Unable, re-cleared FL3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Aug2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KAL03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B77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ORVI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00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Reached FL3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Aug 2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CPA83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A34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RAME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024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Reached FL3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Aug 2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KAL08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B74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RAME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004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3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Cleared FL380 to cross 141W level. Unable, re-cleared FL340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Aug 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ACA08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A34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RAME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210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  <a:ea typeface="Times New Roman"/>
                        </a:rPr>
                        <a:t>Reached FL3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</a:rPr>
                        <a:t>Aug 3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</a:rPr>
                        <a:t>ACA08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</a:rPr>
                        <a:t>A34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</a:rPr>
                        <a:t>RAME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</a:rPr>
                        <a:t>213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</a:rPr>
                        <a:t>3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Arial"/>
                        </a:rPr>
                        <a:t>Reached FL3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USE OF FL380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324000" y="1989000"/>
            <a:ext cx="8496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otal of 1105 flights westbound from Canada and USA over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AMEL, NIKIN, and ORVIT in May – August perio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7 involved clearances to FL380 –&gt; 17/1105 = 1.54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ctoring in potential omissions in data collectio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= approximately 3.08% of all westbound flight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volving the use of FL380; either planned in the GRL, or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quested by ATC due traffi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s this statistically significant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8229600" y="6440400"/>
            <a:ext cx="838080" cy="3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-17172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USE OF FL380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8229600" y="6440400"/>
            <a:ext cx="838080" cy="38268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539640" y="299736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1413000"/>
            <a:ext cx="914400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f the 17 flights where use of FL380 was a facto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4 flights reached FL380.  Of those, 10 were flight plann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L380 at their Russian entry points, 3 were flight planned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L340 and 1 was planned FL32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ll flights flight planned for FL380 reached that altitud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ree flights failed to reach FL380 when clear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one of the 3 were flight planned at FL380 (2 A346, 1 B74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y were they unsuccessfu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ower fuel burn than expect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AT too low/high? Season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ir thinner than expect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olar radiation higher than expect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s this a crew education issu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324000" y="1989000"/>
            <a:ext cx="8496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s limited analysis supports the continued use, for the time being, of FL380 in the GRL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dmonton ACC controllers will be reminded to use diligence when considering clearing aircraft to FL380 that have not filed FL380 in their flight plan, and/or the GRL.  This reminder will apply especially to B744 and A346 aircraf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dmonton ACC will continue data collection and analysis, and report back to next CPWG meeting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8229600" y="6440400"/>
            <a:ext cx="838080" cy="3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8229600" y="6440400"/>
            <a:ext cx="838080" cy="3826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-4680" y="0"/>
            <a:ext cx="9153360" cy="6386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7:06:22Z</dcterms:created>
  <dc:creator>Michel Lamoureux</dc:creator>
  <dc:description/>
  <dc:language>en-US</dc:language>
  <cp:lastModifiedBy> </cp:lastModifiedBy>
  <dcterms:modified xsi:type="dcterms:W3CDTF">2007-09-18T15:30:42Z</dcterms:modified>
  <cp:revision>15</cp:revision>
  <dc:subject/>
  <dc:title>CPWG Sept 2007 Use of FL380</dc:title>
</cp:coreProperties>
</file>