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79B-4D15-423F-A4F9-8C927A46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DCF-F90B-4423-B9D0-48A99185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B09-057A-405F-8F54-9BE01B96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8856-5749-4D90-9DD7-D454866F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916C-2847-47E0-A35E-D7D3316D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1F12-B57D-4966-9C24-346A6A4A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B00D-44D9-43EF-95CD-39E62358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1EAB-8473-4AFE-AC89-88C9F704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3CD2-49C2-40B5-9AA9-A91CF9CD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60F4-23B6-480C-BBA5-A0B2727E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BB1E-16EC-444E-964D-E3FAAC1B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5B79-8F34-4D9C-B4A2-4B1844D4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14B9-E330-4091-9131-629F28DF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4315-00EC-4F6E-B11E-C3D28D6D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D7BC-0DDE-44B3-A8B6-1EEEBA86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016F-0CC3-4463-A1D8-19B31B87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FE24-C8D3-473A-8177-08A03A4C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8F6-93DF-4045-B56C-557AEBC7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051-D7DC-4A24-89B5-86F2DB0E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29AF-4471-471E-A776-D46260ED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887-18DD-4262-8508-26FF9607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D91-DC03-4671-BB40-17144190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E6BB-CF3D-4FDE-8E8E-5E6FF16E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149-A421-4C64-8440-21A4811B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3AB1-6BCD-4688-A71F-D810205B09F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0412-7466-4660-A4DF-C4E1C7747B4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428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63640" y="1268280"/>
            <a:ext cx="73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35040" y="3112920"/>
            <a:ext cx="76453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8000" y="115920"/>
            <a:ext cx="72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ATM Corp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908000" y="1935000"/>
            <a:ext cx="6840720" cy="23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rosspolar/Transeast Traffic Statist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2687760" y="6108840"/>
            <a:ext cx="57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PWG/4, Edmonton, Canada September 18-20,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42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763640" y="1268280"/>
            <a:ext cx="73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35040" y="3112920"/>
            <a:ext cx="76453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8000" y="115920"/>
            <a:ext cx="72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ATM Corp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14560" y="433440"/>
          <a:ext cx="8767800" cy="5194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4560" y="433440"/>
                    <a:ext cx="8767800" cy="51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428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763640" y="1268280"/>
            <a:ext cx="73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35040" y="3112920"/>
            <a:ext cx="76453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08000" y="115920"/>
            <a:ext cx="72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ATM Corp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700280" y="1268280"/>
          <a:ext cx="7443720" cy="4199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00280" y="1268280"/>
                    <a:ext cx="74437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428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763640" y="1268280"/>
            <a:ext cx="73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35040" y="3112920"/>
            <a:ext cx="76453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8000" y="115920"/>
            <a:ext cx="72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ATM Corp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20600" y="1268280"/>
          <a:ext cx="8123400" cy="472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20600" y="1268280"/>
                    <a:ext cx="8123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6661440" y="5970600"/>
            <a:ext cx="15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ccff"/>
                </a:solidFill>
                <a:latin typeface="Arial"/>
              </a:rPr>
              <a:t>Total</a:t>
            </a:r>
            <a:r>
              <a:rPr b="1" i="1" lang="ru-RU" sz="1800" spc="-1" strike="noStrike">
                <a:solidFill>
                  <a:srgbClr val="66ccff"/>
                </a:solidFill>
                <a:latin typeface="Arial"/>
              </a:rPr>
              <a:t>: 17739</a:t>
            </a:r>
            <a:r>
              <a:rPr b="0" i="1" lang="en-US" sz="18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ccff"/>
                </a:solidFill>
                <a:latin typeface="Arial"/>
              </a:rPr>
              <a:t>Chg </a:t>
            </a:r>
            <a:r>
              <a:rPr b="1" i="1" lang="ru-RU" sz="1800" spc="-1" strike="noStrike">
                <a:solidFill>
                  <a:srgbClr val="66ccff"/>
                </a:solidFill>
                <a:latin typeface="Arial"/>
              </a:rPr>
              <a:t>19</a:t>
            </a:r>
            <a:r>
              <a:rPr b="1" i="1" lang="en-US" sz="1800" spc="-1" strike="noStrike">
                <a:solidFill>
                  <a:srgbClr val="66ccff"/>
                </a:solidFill>
                <a:latin typeface="Arial"/>
              </a:rPr>
              <a:t>.</a:t>
            </a:r>
            <a:r>
              <a:rPr b="1" i="1" lang="ru-RU" sz="1800" spc="-1" strike="noStrike">
                <a:solidFill>
                  <a:srgbClr val="66ccff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66ccff"/>
                </a:solidFill>
                <a:latin typeface="Arial"/>
              </a:rPr>
              <a:t>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428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763640" y="1268280"/>
            <a:ext cx="73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35040" y="3112920"/>
            <a:ext cx="76453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08000" y="115920"/>
            <a:ext cx="72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ATM Corp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754280" y="1333440"/>
          <a:ext cx="7210440" cy="5046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4280" y="1333440"/>
                    <a:ext cx="7210440" cy="50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428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763640" y="1268280"/>
            <a:ext cx="73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35040" y="3112920"/>
            <a:ext cx="76453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08000" y="115920"/>
            <a:ext cx="72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ATM Corp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44200" y="1600200"/>
            <a:ext cx="66927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New services in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 2007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/2008</a:t>
            </a:r>
            <a:r>
              <a:rPr b="0" lang="ru-RU" sz="2000" spc="-1" strike="noStrike">
                <a:solidFill>
                  <a:srgbClr val="66c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24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2401"/>
                </a:solidFill>
                <a:latin typeface="Arial"/>
              </a:rPr>
              <a:t>UAL KIAD – ZBAA</a:t>
            </a:r>
            <a:r>
              <a:rPr b="0" lang="ru-RU" sz="2000" spc="-1" strike="noStrike">
                <a:solidFill>
                  <a:srgbClr val="f324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32401"/>
                </a:solidFill>
                <a:latin typeface="Arial"/>
              </a:rPr>
              <a:t> March 11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24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2401"/>
                </a:solidFill>
                <a:latin typeface="Arial"/>
              </a:rPr>
              <a:t>JAL KORD-RJAA, KJFK – RJAA March 25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24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2401"/>
                </a:solidFill>
                <a:latin typeface="Arial"/>
              </a:rPr>
              <a:t>DAL KATL – RKSI June 4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24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2401"/>
                </a:solidFill>
                <a:latin typeface="Arial"/>
              </a:rPr>
              <a:t>COA KEWR-VABB-KEWR Oct 1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24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2401"/>
                </a:solidFill>
                <a:latin typeface="Arial"/>
              </a:rPr>
              <a:t>CPA CYYZ-VHHH-CYYZ Dec 1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324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2401"/>
                </a:solidFill>
                <a:latin typeface="Arial"/>
              </a:rPr>
              <a:t>CPA KJFK-VHHH-KJFK (additional) Nov 15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a0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a01c"/>
                </a:solidFill>
                <a:latin typeface="Arial"/>
              </a:rPr>
              <a:t>UAE OMDB – KIAH, CYYZ 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VDA/AWB UNKL – CYYZ Nov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AIC KJFK-VABB 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JAI KJFK-VABB 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AAR KORD-RKSI, KJFK-RKSI 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ANA KORD-RJAA, KJFK – RJAA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a01c"/>
                </a:solidFill>
                <a:latin typeface="Arial"/>
              </a:rPr>
              <a:t>* currently filed non-Crosspolar routes due to missing lin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a01c"/>
                </a:solidFill>
                <a:latin typeface="Arial"/>
              </a:rPr>
              <a:t>routes to Crosspolar ro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428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763640" y="1268280"/>
            <a:ext cx="73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35040" y="3112920"/>
            <a:ext cx="76453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115920"/>
            <a:ext cx="72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ATM Corp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662120" y="1252440"/>
          <a:ext cx="7481880" cy="4624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2120" y="1252440"/>
                    <a:ext cx="7481880" cy="46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4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763640" y="1268280"/>
            <a:ext cx="73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35040" y="3112920"/>
            <a:ext cx="76453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8000" y="115920"/>
            <a:ext cx="72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ATM Corp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332000" y="1197000"/>
          <a:ext cx="7767720" cy="496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197000"/>
                    <a:ext cx="776772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428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763640" y="1268280"/>
            <a:ext cx="73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35040" y="3112920"/>
            <a:ext cx="76453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8000" y="115920"/>
            <a:ext cx="72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ATM Corp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589040" y="1413000"/>
          <a:ext cx="7591320" cy="442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89040" y="1413000"/>
                    <a:ext cx="759132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7418160" y="58831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ccff"/>
                </a:solidFill>
                <a:latin typeface="Arial"/>
              </a:rPr>
              <a:t>Total</a:t>
            </a:r>
            <a:r>
              <a:rPr b="1" i="1" lang="ru-RU" sz="1800" spc="-1" strike="noStrike">
                <a:solidFill>
                  <a:srgbClr val="66ccff"/>
                </a:solidFill>
                <a:latin typeface="Arial"/>
              </a:rPr>
              <a:t>: </a:t>
            </a:r>
            <a:r>
              <a:rPr b="1" i="1" lang="en-US" sz="1800" spc="-1" strike="noStrike">
                <a:solidFill>
                  <a:srgbClr val="66ccff"/>
                </a:solidFill>
                <a:latin typeface="Arial"/>
              </a:rPr>
              <a:t>53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ccff"/>
                </a:solidFill>
                <a:latin typeface="Arial"/>
              </a:rPr>
              <a:t>Chg 42.3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428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763640" y="1268280"/>
            <a:ext cx="73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35040" y="3112920"/>
            <a:ext cx="76453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8000" y="115920"/>
            <a:ext cx="72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ATM Corp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35040" y="1268280"/>
          <a:ext cx="7697880" cy="5424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5040" y="1268280"/>
                    <a:ext cx="7697880" cy="54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428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763640" y="1268280"/>
            <a:ext cx="73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35040" y="3112920"/>
            <a:ext cx="76453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08000" y="115920"/>
            <a:ext cx="72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ATM Corp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31960" y="1347840"/>
          <a:ext cx="8288280" cy="459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1960" y="1347840"/>
                    <a:ext cx="8288280" cy="45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428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763640" y="1268280"/>
            <a:ext cx="73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35040" y="3112920"/>
            <a:ext cx="76453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8000" y="115920"/>
            <a:ext cx="72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ATM Corp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531800" y="1531800"/>
          <a:ext cx="7701120" cy="4273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1800" y="1531800"/>
                    <a:ext cx="770112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42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763640" y="1268280"/>
            <a:ext cx="73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35040" y="3112920"/>
            <a:ext cx="76453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8000" y="115920"/>
            <a:ext cx="72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ATM Corp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63640" y="1268280"/>
          <a:ext cx="7429680" cy="4243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268280"/>
                    <a:ext cx="7429680" cy="42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428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763640" y="1268280"/>
            <a:ext cx="73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35040" y="3112920"/>
            <a:ext cx="76453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8000" y="115920"/>
            <a:ext cx="72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ATM Corp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417680" y="1341360"/>
          <a:ext cx="8339040" cy="4273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7680" y="1341360"/>
                    <a:ext cx="833904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7:20:04Z</dcterms:created>
  <dc:creator>Gkovd</dc:creator>
  <dc:description/>
  <dc:language>en-US</dc:language>
  <cp:lastModifiedBy> </cp:lastModifiedBy>
  <dcterms:modified xsi:type="dcterms:W3CDTF">2007-09-18T20:20:23Z</dcterms:modified>
  <cp:revision>98</cp:revision>
  <dc:subject/>
  <dc:title>Слайд 1</dc:title>
</cp:coreProperties>
</file>