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63d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63d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Arial Narrow Special G1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Arial Narrow Special G1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Arial Narrow Special G1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Arial Narrow Special G1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 Narrow Special G1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 Narrow Special G1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Cross Polar Trans East Working Group – Fourth Meeting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28240" y="25905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Edmonton Canada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September 18-20, 2007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Gene Camero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Manager Global Support Flight Operations United Airlin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457840" y="-3260520"/>
            <a:ext cx="152280" cy="667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  <a:ea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-305280"/>
            <a:ext cx="7696080" cy="716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Air Traffic Management September 13, 2007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UAL835 KORD-ZSPD 13 September 2007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Out of Blocks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1536Z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:04 Early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Wheels up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1604Z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(wheels up 1600-1610Z)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ETO NIKIN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2203Z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(Slot – 2200Z)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FL340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OVR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NIKIN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201Z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FL34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UAL829  KORD-VHHH 13 September 2007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Out of Blocks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1607Z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:17 late Ramp delay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Wheels up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1638Z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(wheels up slot 1609-1619Z)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ETO RAMEL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2236Z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(Slot 2224Z)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FL34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OVR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RAMEL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231Z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FL34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AAL289 KORD-ZSPD 13 September 2007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Out of Blocks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NA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Wheels Up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1608Z (wheels up slot 1602-1612Z)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ETO RAMEL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2210Z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(Slot – 2204Z)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FL34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OVR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 RAMEL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211Z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FL34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9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9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Times New Roman"/>
              </a:rPr>
              <a:t>En-Route Restrictions - CZEG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5400" y="2591280"/>
            <a:ext cx="8955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0698/07 -  DUE ANTICIPATED TFC DEMAND, ACFT OPR BI-DIRECTIONAL BTN CONTINENTAL USA/CANADA AND ASIA/ALASKA CROSSING CZEG FIR N OF 5600N AT FL290 TO FL370 INCLUSIVE SHALL FLT PLAN VIA AWY, NCA TRACKS OR LATERAL TRACKS WHILE W OF J526 OR N OF NCA22. POLAR FLT NOT AFFECTED FL290 FL370 01 MAR 19:04 2007 UNTIL 31 OCT 23:59 2007 2100/0700 D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83808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  <a:ea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Route Comparison based on Edmonton routing restric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Chicago to Shanghai</a:t>
            </a: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(9/10/07)</a:t>
            </a: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Min Time through CZEGn to LISKI A21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Route  optimization thru CZE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KORD DCT BAE J101 GRB DCT MPCEG DCT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YIV D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0N096W DCT 65N102W DCT 68N110W DCT 70N120W DCT 72N141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CT 72N150W DCT LISKI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A218 UHMI B337 ODORA B233 DE B467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KANSU B332 JEC V30 DGC V28 FU A593 DUMET DCT KSP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IST 6494 ESAD 6924  MINF 370377  TRIPF 345156  EET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14.2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COST FUEL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114150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TIME 13778 OVRFLT 8743 TOTAL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136671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Route via airways thru CZE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KORD DCT BAE J101 GRB DCT MPCEG DCT YRL D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55N098W DCT BOPAP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NCA22 YSF NCA23 ADREW DCT 70N152W D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LISKI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A218 UHMI B337 ODORA B233 DE B467 KANSU B332 JEC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V30 DGC V28 FU A593 DUMET DCT KSP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IST 6440 ESAD 7006  MINF 376329  TRIPF 351108  EET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14.32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COST FUEL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116101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TIME 13965 OVRFLT 8686 TOTAL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138752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5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6" dur="5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5" dur="500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500"/>
                                        <p:tgtEl>
                                          <p:spTgt spid="9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3" dur="500"/>
                                        <p:tgtEl>
                                          <p:spTgt spid="9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Times New Roman"/>
              </a:rPr>
              <a:t>Route Comparison Washington to Tokyo September 11, 2007</a:t>
            </a:r>
            <a:br>
              <a:rPr sz="2000"/>
            </a:b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Route with “free flight” thru CZEG to LISKI: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KIAD JERES J220 BUF DCT YYB NCA31 SEDA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CT 110L DCT 71N120W DCT 72N141W DCT 72N150W DCT LISKI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A218 UHMI B337 AWE V7 CHE V11 MWE DCT HPE Y10 GOC R211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KASMI DCT  RJA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IST 6046 ESAD 6429  MINF 224580  TRIPF 211148 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EET 13.41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COST FUEL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71735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TIME 11103 OVRFLT 7093 TOTAL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89931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Route via CZEG NOTAM constraints to LISKI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KIAD DCT JERES J220 BUF DCT YYB NCA31 VOLOB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CT LISKI A218 UHMI B337 AWE V7 CHE V11 MWE DCT HPE Y1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GOC R211 KASMI D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IST 6055 ESAD 6453  MINF 225711  TRIPF 212279 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EET 13.44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COST FUEL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72117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TIME 11142 OVRFLT 7079 TOTAL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90338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5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8" dur="5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9" dur="500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Times New Roman"/>
              </a:rPr>
              <a:t>Washington to Tokyo</a:t>
            </a:r>
            <a:br>
              <a:rPr sz="2400"/>
            </a:b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86868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457840" y="-3260520"/>
            <a:ext cx="152280" cy="667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  <a:ea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0"/>
            <a:ext cx="769608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80880"/>
            <a:ext cx="64008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lar 1 Operations and Reykjavik F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slot allocation program for ABERI en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gust 25, 2007 United Airl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AL897 passed ABERI at FL 330 at time 233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AL851 passed ABERI at FL 350 at time 235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AL895 passed ABERI at FL 330 at time 000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 the flights that enter NAT Region require Oceanic Cleara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248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14600" y="838080"/>
            <a:ext cx="4038480" cy="609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Who’s Flying Polar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57913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ited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icago: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ong Kong,  Beijing , Tokyo,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anghai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ashington (IAD):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okyo, Beij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ntinenta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wark: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ong Kong, Beijing, Tokyo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ir Chin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w York (JFK):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thay Pacific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w York (JFK):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Hong Kong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ngapor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wark: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ngapor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ir Canad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oronto: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ong Kong, Beijing, Shanghai, Seoul,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okyo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rthwest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troit: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okyo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ai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w York (JFK):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Bangkok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meric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icago: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anghai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re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JFK,IAD, ORD, ATL,YYZ: Seou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ina Easter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w York: (JFK)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anghai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xpected to Fly Polar: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siana, Japan, All Nippon, Air India, Emirates, Malaysian, China, EVA ??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01000" cy="6858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ED AIRLINES POLAR OPERATIONS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999 Through August 31, 2007</a:t>
            </a:r>
            <a:br>
              <a:rPr sz="2400"/>
            </a:br>
            <a:br>
              <a:rPr sz="32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999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00           253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     466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02            461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03            578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04          1096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05          1402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06          1484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07          1260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010 Total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Polar 1   Polar 2   Polar 3   NIKIN  Polar 4       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37        750       3197        17      2909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Slot Allocation Factor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urrent Slots limits:</a:t>
            </a:r>
            <a:br>
              <a:rPr sz="2800"/>
            </a:b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lar slots are 20 to 25 minutes between flights. </a:t>
            </a:r>
            <a:br>
              <a:rPr sz="2800"/>
            </a:b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ussia Far East Routes are 20 minut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lot Delays or inability to obtain the desired flight level could result in less than optimum operation.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57840" y="-3260520"/>
            <a:ext cx="152280" cy="667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  <a:ea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0"/>
            <a:ext cx="769608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ANCHORAGE GRL  September 24, 2006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ANALYSIS OF ABOVE ADVISORY                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NUMBER OF FLIGHTS PUT INTO PROGRAM:              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1 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NUMBER OF FLIGHTS SCHEDULED ON-TIME:             42  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NUMBER OF FLIGHTS SCHEDULED WITH DELAY:    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19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MINIMUM DELAY:   4   MAXIMUM DELAY:  22        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AVERAGE DELAY TIME:  11.4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*******************************************************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ANCHORAGE GRL  September 12, 2007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                                            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ANALYSIS OF ABOVE ADVISORY                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NUMBER OF FLIGHTS PUT INTO PROGRAM:             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0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NUMBER OF FLIGHTS SCHEDULED ON-TIME:            51  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NUMBER OF FLIGHTS SCHEDULED WITH DELAY:     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9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MINIMUM DELAY:   2   MAXIMUM DELAY:  12        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AVERAGE DELAY TIME:   6.8^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8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7696080" cy="62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GATEWAY RESERVATION LIST (COMPILED 09/11/07 21:12)                                                  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ANCHORAGE ARTCC                         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                 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TRAFFIC MANAGEMENT        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              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GATEWAY RESERVATION LIS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=REQUESTED=             =RELEASED=    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WHEEL CROSS             WHEEL CROSS   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UP    FIX             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 UP    FIX   RELEASED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FLIGHT   TIME  TIME  DEPT  DEST  TIME  TIME  ALT TRK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=========================================================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                                            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FLIGHTS FOR TRACK  DEVID   CROSSING FIX DEVID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                                                    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UAL829    1614  2227  KORD  VHHH  1614  2227  350  DEVID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PA831D  1620  2232  KJFK  VHHH  1640  2252  350  DEVI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UAL895     1748  2359  KORD  VHHH  1748  2359  350  DEVID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ACA015     1935  0124  CYYZ  VHHH  1935  0124  350  DEVID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CPA831     2005  0215  KJFK  VHHH  2005  0215  350  DEVID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CCA982     2045  0255  KJFK  ZBAA  2045  0255  350  DEVID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AAL289     1602  2210  KORD  ZSPD  1602  2210  390  DEVID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ACA031     1825  0013  CYYZ  ZBAA  1825  0013  390  DEVID     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8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57840" y="-3260520"/>
            <a:ext cx="152280" cy="667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-305280"/>
            <a:ext cx="7696080" cy="716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MQ 829-11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ORD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  CAPT: ORD-T J HART            C3    RLS 01 1544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829             ALTN: MFM        RF:WXI     RS:PEK  RA:TSN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RT:2U            B3386 A68 F79 P35 E94               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TGW:A8749/P8214  15:00 :12 :30 :12 :37               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LGW:A6300/E4818  FRDV:  -10                          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S8173 FGCP      SKED: ORD-1550/1614  HKG-0708/0715 ( :17L)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***                                                  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ATOG-S:T59 R32L F10 A2990                            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DPRK O/F GACA-OS-010-07  /MONGOL O/F CAM014/2007S    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RLSD IFR TO PEK VIA WXI. PLAN REDISPATCH TO HKG.  POLAR 2.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PLAN WHEELS UP ORD 1614Z-1624Z TO CROSS DEVID 2227Z-2237Z FL350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HF: SFO 6640/11342/13348  STO 8930/5541   500# HST FUEL UNUSABL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R-ORD     1555/1630        3662 CHI37  1554/1627  3698/3656 Y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BAE         1640     28      3548        OPTIONAL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GRB          1653     28      3465        1652      30    3456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50N087W  1734     28      3259        1733      31    3253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55N087W  1810     30      3087        1809      31    3092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60N086W  1846     30      2931        1845      31    2938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65N086W  1924     30      2773        1922      31    2776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70N086W  2001     34      2605        2003      31    2602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75N085W  2043     34      2441        2045      31    2425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80N084W  2124     34      2272        2123      31    2268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85N090W  2201     34      2118        2201      31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DEKMO    2234     34      1996        OPTIONAL    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DEVID       2237     35      1980        2238      31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BADRO     2327     35      1802        2326      31   1776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TOLIK      0028     35      1555        0026      34   1545         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8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8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8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8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8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8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8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8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8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88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0"/>
            <a:ext cx="769608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GATEWAY RESERVATION LIST (COMPILED 09/13/07 14:39)                                                        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                     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ANCHORAGE ARTCC                         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                   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TRAFFIC MANAGEMENT              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GATEWAY RESERVATION LIST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=REQUESTED=             =RELEASED=          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WHEEL CROSS             WHEEL CROSS         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       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UP    FIX          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   UP    FIX   RELEASED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FLIGHT   TIME  TIME  DEPT  DEST  TIME  TIME  ALT TRK 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============================================================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FLIGHTS FOR TRACK  NIKIN   CROSSING FIX NIKIN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UAL835   1600  2200  KORD  ZSPD          1600  2200  340  NIKIN        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KAL082   1810  0047  KJFK  RKSI            1810  0047  340  NIKIN        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============================================================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FLIGHTS FOR TRACK  RAMEL   CROSSING FIX RAMEL 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ACA087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1450  2049 CYYZ  ZSPD            1450  2049  340 RAMEL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UAL835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1600 2158 KORD ZSPD             1600  2200 340 RAMEL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AAL289   1602  2204  KORD  ZSPD           1602  2204  340  RAMEL    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UAL829   1609  </a:t>
            </a:r>
            <a:r>
              <a:rPr b="1" lang="en-US" sz="1600" spc="-1" strike="noStrike">
                <a:solidFill>
                  <a:srgbClr val="00dfca"/>
                </a:solidFill>
                <a:latin typeface="Times New Roman"/>
              </a:rPr>
              <a:t>2211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  KORD  VHHH         1622  </a:t>
            </a:r>
            <a:r>
              <a:rPr b="1" lang="en-US" sz="1600" spc="-1" strike="noStrike">
                <a:solidFill>
                  <a:srgbClr val="00dfca"/>
                </a:solidFill>
                <a:latin typeface="Times New Roman"/>
              </a:rPr>
              <a:t>2224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  340  RAMEL        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COA89    1635  2303  KEWR  ZBAA          1635  2303  340  RAMEL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UAL897   1638  </a:t>
            </a:r>
            <a:r>
              <a:rPr b="1" lang="en-US" sz="1600" spc="-1" strike="noStrike">
                <a:solidFill>
                  <a:srgbClr val="00dfca"/>
                </a:solidFill>
                <a:latin typeface="Times New Roman"/>
              </a:rPr>
              <a:t>2309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  KIAD  ZBAA            1652  </a:t>
            </a:r>
            <a:r>
              <a:rPr b="1" lang="en-US" sz="1600" spc="-1" strike="noStrike">
                <a:solidFill>
                  <a:srgbClr val="00dfca"/>
                </a:solidFill>
                <a:latin typeface="Times New Roman"/>
              </a:rPr>
              <a:t>2323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  340  RAMEL        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UAL895   1743  2344  KORD  VHHH          1743  2344  340  RAMEL        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KAL094   1745  0019  KIAD  RKSI              1745  0019  340  RAMEL        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CPA831   2005  0234  KJFK  VHHH            2005  0234  340  RAMEL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CCA982   2045  0320  KJFK  ZBAA             2045  0320  340  RAMEL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ACA031   1830  0029  CYYZ  ZBAA            1830  0029  380  RAMEL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9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9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9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9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9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9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9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9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85c"/>
            </a:gs>
            <a:gs pos="50000">
              <a:srgbClr val="063de8"/>
            </a:gs>
            <a:gs pos="100000">
              <a:srgbClr val="0218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0"/>
            <a:ext cx="769608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oute Planning Options and Associat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UAL835 September 13, 2007   Chicago to Shanghai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Issues: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ETD KORD 1536Z  Wheels up 1600Z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AAL289 Chicago to Shanghai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ETD KORD 1535Z Wheels up 1602Z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UAL829 Chicago to Hong Kong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ETD KORD 1550Z Wheels up 1614Z 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UAL835 Optimum route : Polar 3 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13 :42 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314,200 lbs fuel bur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Planned Route: Polar via NIKIN: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13:54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320,200 lbs fuel bur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Cost: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12 minutes and  6000 lbs fuel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$196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(895 gal at 6.7lbs @$2.19 per gal)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Alternatives: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Plan FL310 over Canada, 9600M to TIGLA, 10600M to POLHO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13:48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318,500 lbs fuel bur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Cost: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6 minutes and 4,300 lbs fuel more than optimum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$1406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(642 gal at 6.7lbs @$21.9 per gal)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2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9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9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9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9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9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9" dur="500"/>
                                        <p:tgtEl>
                                          <p:spTgt spid="9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9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2T16:01:10Z</dcterms:created>
  <dc:creator>Watson Tranter</dc:creator>
  <dc:description/>
  <cp:keywords/>
  <dc:language>en-US</dc:language>
  <cp:lastModifiedBy> </cp:lastModifiedBy>
  <cp:lastPrinted>1999-12-01T21:49:46Z</cp:lastPrinted>
  <dcterms:modified xsi:type="dcterms:W3CDTF">2007-09-19T15:23:13Z</dcterms:modified>
  <cp:revision>349</cp:revision>
  <dc:subject/>
  <dc:title>Final Polar PowerPoint</dc:title>
</cp:coreProperties>
</file>