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674C-A406-40A1-B916-AF9970C4E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680" y="3895920"/>
            <a:ext cx="84279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CB2D-C32B-4E3F-932D-F46A84E13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468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24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AA55-7B18-48A0-BD0E-CC678F6B6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4440" y="144108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4108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4680" y="389592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4440" y="389592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89592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89D-AA18-4C97-B9B6-E9714C086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080" y="186840"/>
            <a:ext cx="84470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468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70CC-C8DD-4186-9808-403BF34B1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24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4680" y="3895920"/>
            <a:ext cx="84279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680" y="3895920"/>
            <a:ext cx="84279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468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24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4440" y="144108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4108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4680" y="389592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4440" y="389592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895920"/>
            <a:ext cx="27136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BD94-13D4-472E-B6D1-D0FC2DA9D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47BC-7CFD-417A-9794-815BF95E1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C0B9-52A0-48AD-9B91-21CB7718C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3080" y="186840"/>
            <a:ext cx="84470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B643-819B-4F5F-B1C5-A9B301D79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468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5469-226E-43A2-BD1D-4CCFE755C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240" y="389592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225F-2A58-42DC-A047-2EC3FC853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240" y="1441080"/>
            <a:ext cx="41126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680" y="3895920"/>
            <a:ext cx="84279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62BC-E2E1-4432-8FC4-6B6EBF4E9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2639"/>
              </a:gs>
              <a:gs pos="100000">
                <a:srgbClr val="2653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81480" y="63846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6A20-1A8A-4A7C-81BA-7B259D0D08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281480" y="638028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Moving Research to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3360" y="6184800"/>
            <a:ext cx="24768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653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203040"/>
            <a:ext cx="9144000" cy="2361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0200" y="3492000"/>
            <a:ext cx="66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909800" y="334800"/>
            <a:ext cx="5324400" cy="128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10800" y="126360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ving Research to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50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70000"/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tsplus.cssiinc.com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61596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Overview and Demonst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330200" y="3492000"/>
            <a:ext cx="66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TS+ On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Project St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ed in Java (Java Server Pages and applets), Javascript, and Asynchronous Javascript with XML (AJA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 11,444 lines of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development is approximately 85% comple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deployment expected as scheduled,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tr FY0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17F8-0938-4FE0-9FAE-254F76DB59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’s Demonst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“Testing and Training” server is on the Internet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dotsplus.cssiinc.co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monstration will use this ser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ctual DOTS+ machines are currently connected – a “DOTS Simulator” is performing very limited DOTS fun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ose interested, accounts can be set up to use the Testing and Training ser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F359-01B1-4697-825C-A4E3C268951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2639"/>
              </a:gs>
              <a:gs pos="100000">
                <a:srgbClr val="2653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800" y="2381400"/>
            <a:ext cx="8399520" cy="212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E6A2-02D4-4595-810F-93971E2BD5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DOTS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4680" y="2330280"/>
            <a:ext cx="8427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 is through specific terminals via X.25 protoc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entry can be tedious and error-pr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no notification of changes – updates must be explicitly requested each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6920" y="1150920"/>
            <a:ext cx="89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action with DOTS+ is currently done with plain ASCII messag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2BA0-D13D-49C3-8738-8C7C3DB04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4200" y="912960"/>
            <a:ext cx="8334360" cy="448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OCR A Extended"/>
              </a:rPr>
              <a:t>TKF.AAL934.1010.KIAD.ZSPD.300.ORVIT.2020.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4600" y="2620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ld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EB22-607B-40D7-809E-246ABAE3DB7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250"/>
                            </p:stCondLst>
                            <p:childTnLst>
                              <p:par>
                                <p:cTn id="11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65200" y="2517840"/>
            <a:ext cx="6438960" cy="186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84240" y="2577960"/>
            <a:ext cx="557208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11520" y="3878280"/>
            <a:ext cx="237168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65680" y="2620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w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841400">
            <a:off x="9569160" y="838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6774-DC5B-4C18-A045-D92AFAEA0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8409E-006 C -0.08177 0.00856 -0.16336 0.01711 -0.24253 0.07493 C -0.3217 0.13275 -0.4302 0.28515 -0.47534 0.3469 C -0.52048 0.40865 -0.51718 0.42692 -0.51371 0.44542 E">
                                      <p:cBhvr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DOTS+ On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7920" y="1904760"/>
            <a:ext cx="86040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allow users to do everything with DOTS+ that they do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 is through any common web browser via the Internet (will support Internet Explorer 6.0 and Firefox 2.0 at minimu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ediate validation of data avoids erroneous submis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data is pushed to users automatically in real-time and near real-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tly submitted data can be stored in template-like lists that can be submitted en mas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izable appearance and settings for each 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6920" y="1150920"/>
            <a:ext cx="89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TS+ Online will provide a robust, user-friendly interfa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4489-8B7C-413A-B743-B920F19753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Status Moni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system status is monitored and displayed (indicates connectivity with DOTS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st update time for the GRL is display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urrent DOTS+ phase (e.g., “PLANNING”) is display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ime remaining in the current phase is display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68760" y="3924360"/>
            <a:ext cx="3581280" cy="123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42E8-137A-43D7-9136-C1E2FF5B36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red Reservation Requ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4680" y="1441440"/>
            <a:ext cx="84279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uently used requests can be stored for regular submi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ed requests can be modified as needed before being submit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0360" y="3621240"/>
            <a:ext cx="581976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104A-B892-4C7F-A6FA-0243990B7A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namic GR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4680" y="1467000"/>
            <a:ext cx="842796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teway Reservation List has two view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ble Vi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hows all data in a sortable spreadsheet-style l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s containing updated data are highligh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47880" y="3033720"/>
            <a:ext cx="7248240" cy="79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4346640" y="3646440"/>
            <a:ext cx="325440" cy="874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38440" y="443376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114200" y="3672000"/>
            <a:ext cx="1150920" cy="1776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66480" y="533412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d row indicator (click to clear highl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B563-9878-407F-BE3B-D6C9C5F8A0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86840"/>
            <a:ext cx="84470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namic GR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4680" y="1441080"/>
            <a:ext cx="842796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raphical Vi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hows gateway reservations by altitude over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ations can be dragged to new times and/or altitudes, automatically generating a request to DOTS+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32080" y="3727440"/>
            <a:ext cx="630540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2A61-9B06-4365-9E99-D727CC9E4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8:27:40Z</dcterms:created>
  <dc:creator>John C. Markey</dc:creator>
  <dc:description/>
  <dc:language>en-US</dc:language>
  <cp:lastModifiedBy> </cp:lastModifiedBy>
  <dcterms:modified xsi:type="dcterms:W3CDTF">2007-09-19T15:25:20Z</dcterms:modified>
  <cp:revision>2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0">
    <vt:lpwstr>PRESENTATIONS</vt:lpwstr>
  </property>
</Properties>
</file>