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1797-52ED-424B-B0B7-7FFF46B4D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ceanic traffic count numbers not currently available due to programming issue within Ocean21 system.  FAA Automation researching problem and resolution due shor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 numbers include new NIKIN and KUTAL crossing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and blue outlined area depicts Anchorage Center’s current Sector 4.  Red area depicts the Anchorage Arctic FIR.  Blue area depicts Domestic air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4E3-01FD-486D-B51F-926B7352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398-0B30-41C4-B992-2DA63BE8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35A-FBEE-49AC-B2D6-1D436737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0A7-7897-44FD-8BE4-FC5F229C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4A7-CAFB-4DF9-940B-2892C08F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D0E-4107-4D9A-B89B-DC1E58D2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D78-C18D-413F-8FAC-6397CDB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8C7-1049-4330-B371-CB719A8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9D7-6F5E-41AA-8300-1363650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810-1F20-44E1-8047-576B68BC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574-A352-44AE-A692-D9A8A989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F32-9A16-4B91-BF96-E1DC27C2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663-72E5-4FB7-B4F7-732E768477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Anchorage ARTCC Airspace an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ept. 18-20,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03C5-6589-4CE4-8D37-573BC34D2E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137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193-3AC2-49A1-874E-84C3C8F29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chorage ARTCC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irspace/Procedures and Traffic Management Update -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ross Polar and Russian Trans East Working Group / 4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46360" y="4497480"/>
            <a:ext cx="38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WG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3120" y="4859280"/>
            <a:ext cx="43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chorage ARTC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81000" y="5219640"/>
            <a:ext cx="41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pt. 18-20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 Number Technique*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Murmansk AC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ive Oct. 25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s a reduction in track slot allo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Only effective for same track fligh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erse” Mach Number Technique*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Murmansk and Magadan AC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ive Oct. 25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greater flexibility for “faster in back” situ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Only effective for same track fligh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NIK – B24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DOTS+ effective Oct. 2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stbound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via either OME (Nome) or ENM (Emmona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AN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27200" y="1744200"/>
            <a:ext cx="703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61920" y="1647720"/>
            <a:ext cx="75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9000" y="1409760"/>
            <a:ext cx="752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95360" y="1508040"/>
          <a:ext cx="7986240" cy="4391280"/>
        </p:xfrm>
        <a:graphic>
          <a:graphicData uri="http://schemas.openxmlformats.org/drawingml/2006/table">
            <a:tbl>
              <a:tblPr/>
              <a:tblGrid>
                <a:gridCol w="1302120"/>
                <a:gridCol w="830160"/>
                <a:gridCol w="830520"/>
                <a:gridCol w="830520"/>
                <a:gridCol w="830520"/>
                <a:gridCol w="830520"/>
                <a:gridCol w="850680"/>
                <a:gridCol w="851040"/>
                <a:gridCol w="830160"/>
              </a:tblGrid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95360" y="1508040"/>
          <a:ext cx="8002440" cy="4391280"/>
        </p:xfrm>
        <a:graphic>
          <a:graphicData uri="http://schemas.openxmlformats.org/drawingml/2006/table">
            <a:tbl>
              <a:tblPr/>
              <a:tblGrid>
                <a:gridCol w="728640"/>
                <a:gridCol w="585720"/>
                <a:gridCol w="657360"/>
                <a:gridCol w="685800"/>
                <a:gridCol w="647640"/>
                <a:gridCol w="685800"/>
                <a:gridCol w="647640"/>
                <a:gridCol w="695520"/>
                <a:gridCol w="666720"/>
                <a:gridCol w="657000"/>
                <a:gridCol w="695520"/>
                <a:gridCol w="64908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K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V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K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1880" y="1508040"/>
          <a:ext cx="809640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508040"/>
                    <a:ext cx="80964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685800" y="914400"/>
            <a:ext cx="2505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9aef9"/>
                    </a:gs>
                    <a:gs pos="100000">
                      <a:srgbClr val="0b5072"/>
                    </a:gs>
                  </a:gsLst>
                  <a:lin ang="5400000"/>
                </a:gradFill>
                <a:latin typeface="Arial Black"/>
              </a:rPr>
              <a:t>Question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9aef9"/>
                  </a:gs>
                  <a:gs pos="100000">
                    <a:srgbClr val="0b507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s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chorage ARTCC Airspace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nd RTE Traffic 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rspace Review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ted at the request of Anchorage ARTC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ucted by an independent team formed by FAA’s Western Service Cen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composition includes members from Terminal and Oceanic backgroun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liminary work was completed by core group summer 2007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ll team will continue work at Anchorage during late Septemb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and recommendations to be forwarded by Feb. 2008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hasis on operations to/from Anchorage Intl Airport, however -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 Anchorage ARTCC airspace is being review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automation platforms in use at Z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ean2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DP2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52800" y="1079640"/>
            <a:ext cx="4106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on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ean21 Next Ste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ion of the Anchorage Arctic FIR  into Ocean21 Plat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on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DP2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delivery of HF messages to control posi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d connectivity with the Enhanced Traffic Management System (ETM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23:28:33Z</dcterms:created>
  <dc:creator>mmcclure</dc:creator>
  <dc:description/>
  <dc:language>en-US</dc:language>
  <cp:lastModifiedBy>leah moebius</cp:lastModifiedBy>
  <dcterms:modified xsi:type="dcterms:W3CDTF">2007-10-03T18:19:46Z</dcterms:modified>
  <cp:revision>29</cp:revision>
  <dc:subject/>
  <dc:title>Anchorage ARTCC </dc:title>
</cp:coreProperties>
</file>