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2632-BBD3-469E-9F55-9FDBD6D3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AR GRAPH DRAMATICALLY DEPICTS THE DIFFERENCE IN TRAFFIC OVER VALDA COMPARED TO ALL OTHER POLAR/RTE ENTRY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AR GRAPH DRAMATICALLY DEPICTS THE DIFFERENCE IN TRAFFIC OVER VALDA COMPARED TO ALL OTHER POLAR/RTE ENTRY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1 PERCENT INCREASE.  ALMOST 100 PERCENT INCREASE OVER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1 PERCENT INCREASE.  ALMOST 100 PERCENT INCREASE OVER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B15-EAA8-4954-A38A-44E47AC6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E3E-B160-448F-AD61-E74BFD8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24D-AF81-48FB-9AEE-0857718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953-AE5C-4E86-B689-E17CC51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047-24FB-4AE7-9B23-E527CD62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8FE-64D7-4D3E-84DE-B85E0F3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BBC-2F39-4213-8463-922A455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941-7E08-4B06-9389-4A370E3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7BB-DD83-46E4-902B-7748C73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83D-30A0-4656-8DD8-FC1DF46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DE4-3C15-4A43-B34B-6CDA06D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220-21B1-4D62-A28A-81ACD108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CFC-C54A-423C-A64D-CB6A920CF6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CPWG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3-5 Novem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148-86A4-4AFB-B0DB-DF5D7C3CA9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137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EE04-60F2-4733-855A-E97156C59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chorage ARTCC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92040" y="1725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ross Polar and RTE Traffic Count Updat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360" y="4497480"/>
            <a:ext cx="38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WG/6, Hong Kong SAR, 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3120" y="4859280"/>
            <a:ext cx="43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chorage ART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81000" y="5219640"/>
            <a:ext cx="41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-5 Novemb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Cou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charts depi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astbou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lar and RTE traffic count numbers for the Anchorage FI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Ea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1508040"/>
          <a:ext cx="9144000" cy="4391280"/>
        </p:xfrm>
        <a:graphic>
          <a:graphicData uri="http://schemas.openxmlformats.org/drawingml/2006/table">
            <a:tbl>
              <a:tblPr/>
              <a:tblGrid>
                <a:gridCol w="654120"/>
                <a:gridCol w="650880"/>
                <a:gridCol w="654120"/>
                <a:gridCol w="653760"/>
                <a:gridCol w="606600"/>
                <a:gridCol w="609480"/>
                <a:gridCol w="657360"/>
                <a:gridCol w="666720"/>
                <a:gridCol w="647640"/>
                <a:gridCol w="638280"/>
                <a:gridCol w="676080"/>
                <a:gridCol w="723960"/>
                <a:gridCol w="650880"/>
                <a:gridCol w="65412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K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N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Ea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214280"/>
          <a:ext cx="9144000" cy="481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4280"/>
                    <a:ext cx="9144000" cy="48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Ea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278000"/>
          <a:ext cx="914400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8000"/>
                    <a:ext cx="914400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Counts – new fixes depi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1089000"/>
          <a:ext cx="9144000" cy="4810320"/>
        </p:xfrm>
        <a:graphic>
          <a:graphicData uri="http://schemas.openxmlformats.org/drawingml/2006/table">
            <a:tbl>
              <a:tblPr/>
              <a:tblGrid>
                <a:gridCol w="574560"/>
                <a:gridCol w="568440"/>
                <a:gridCol w="573120"/>
                <a:gridCol w="569880"/>
                <a:gridCol w="573120"/>
                <a:gridCol w="569880"/>
                <a:gridCol w="573120"/>
                <a:gridCol w="571320"/>
                <a:gridCol w="571680"/>
                <a:gridCol w="569880"/>
                <a:gridCol w="573120"/>
                <a:gridCol w="569880"/>
                <a:gridCol w="573120"/>
                <a:gridCol w="569880"/>
                <a:gridCol w="574560"/>
                <a:gridCol w="568440"/>
              </a:tblGrid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K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NI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S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O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94464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464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193760"/>
          <a:ext cx="9144000" cy="48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3760"/>
                    <a:ext cx="91440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R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1136520"/>
          <a:ext cx="91440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6520"/>
                    <a:ext cx="91440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-219240" y="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5800" y="914400"/>
            <a:ext cx="2505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aef9"/>
                    </a:gs>
                    <a:gs pos="100000">
                      <a:srgbClr val="0b5072"/>
                    </a:gs>
                  </a:gsLst>
                  <a:lin ang="5400000"/>
                </a:gradFill>
                <a:latin typeface="Arial Black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aef9"/>
                  </a:gs>
                  <a:gs pos="100000">
                    <a:srgbClr val="0b507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53200" y="3971880"/>
            <a:ext cx="2504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aef9"/>
                    </a:gs>
                    <a:gs pos="100000">
                      <a:srgbClr val="0b5072"/>
                    </a:gs>
                  </a:gsLst>
                  <a:lin ang="5400000"/>
                </a:gradFill>
                <a:latin typeface="Arial Black"/>
              </a:rPr>
              <a:t>Comment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aef9"/>
                  </a:gs>
                  <a:gs pos="100000">
                    <a:srgbClr val="0b507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719 0.04583 C 0.56927 0.05648 0.56128 0.11759 0.56823 0.125 C 0.57483 0.13981 0.53281 0.20069 0.54219 0.20972 C 0.54496 0.21226 0.52257 0.25578 0.52552 0.25972 C 0.52812 0.26805 0.51024 0.29768 0.51615 0.30277 C 0.5184 0.3074 0.50573 0.34282 0.50573 0.34305 C 0.42031 0.34745 0.57257 0.38287 0.48906 0.38055 C 0.48142 0.38935 0.46319 0.3905 0.4599 0.39583 C 0.46059 0.39722 0.4684 0.41134 0.46927 0.4125 C 0.47014 0.41365 0.47674 0.42083 0.4776 0.42222 C 0.48559 0.43495 0.45295 0.44861 0.46406 0.45972 C 0.46632 0.46574 0.45625 0.49513 0.46094 0.49861 C 0.46441 0.51273 0.4783 0.51782 0.48594 0.52777 C 0.49062 0.53425 0.50052 0.56296 0.50469 0.56944 C 0.50781 0.5743 0.06771 0.42569 0.07066 0.43055 C 0.07656 0.43935 0.08038 0.45023 0.08542 0.45972 C 0.08733 0.46342 0.09167 0.47083 0.09167 0.47106 C 0.09392 0.48078 0.10139 0.48634 0.1059 0.49444 C 0.11285 0.50601 0.10729 0.5 0.11319 0.50555 C 0.11805 0.51782 0.12552 0.52708 0.13125 0.53888 C 0.13229 0.54652 0.13333 0.54884 0.13733 0.55416 C 0.13837 0.55972 0.13837 0.56018 0.14028 0.56527 C 0.14149 0.56805 0.14479 0.57361 0.14479 0.57384 C 0.14531 0.57708 0.14653 0.5875 0.14774 0.59027 C 0.14983 0.59398 0.1526 0.59652 0.15503 0.6 C 0.15625 0.60115 0.15833 0.60416 0.15833 0.60439 C 0.16042 0.61157 0.1625 0.61643 0.16771 0.62083 C 0.16944 0.628 0.17344 0.62129 0.17812 0.61921 C 0.1901 0.61342 0.2033 0.60925 0.21562 0.60532 C 0.22951 0.59629 0.24375 0.58912 0.25729 0.57893 C 0.26979 0.56967 0.28073 0.55787 0.29253 0.54722 C 0.30226 0.52777 0.3184 0.5155 0.33108 0.5 C 0.3401 0.48935 0.3474 0.47592 0.3559 0.46527 C 0.37205 0.4456 0.38941 0.42708 0.40295 0.40416 C 0.41476 0.38449 0.39566 0.4162 0.40903 0.39004 C 0.42135 0.36689 0.40486 0.40416 0.41719 0.37754 C 0.42743 0.35694 0.43837 0.33703 0.44878 0.31666 C 0.45868 0.29583 0.44722 0.31805 0.45295 0.30277 C 0.45573 0.2956 0.45955 0.28958 0.46302 0.28333 C 0.46736 0.27476 0.46996 0.26666 0.47691 0.26111 C 0.48403 0.24467 0.49219 0.22986 0.50208 0.21527 C 0.50955 0.20347 0.51458 0.19004 0.52187 0.17777 C 0.52413 0.1662 0.52847 0.15416 0.53229 0.14305 C 0.53611 0.13148 0.53819 0.1199 0.54167 0.10833 C 0.5434 0.08055 -0.09219 0.16111 -0.09219 0.12222 E">
                                      <p:cBhvr>
                                        <p:cTn id="1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85 -0.47639 L -0.17865 0.09028 L -0.5224 -0.35972 E">
                                      <p:cBhvr>
                                        <p:cTn id="2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Cou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charts depi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estbou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lar and RTE traffic count numbers for the Anchorage FI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508040"/>
          <a:ext cx="9144000" cy="4391280"/>
        </p:xfrm>
        <a:graphic>
          <a:graphicData uri="http://schemas.openxmlformats.org/drawingml/2006/table">
            <a:tbl>
              <a:tblPr/>
              <a:tblGrid>
                <a:gridCol w="652320"/>
                <a:gridCol w="652680"/>
                <a:gridCol w="655560"/>
                <a:gridCol w="611280"/>
                <a:gridCol w="619200"/>
                <a:gridCol w="657000"/>
                <a:gridCol w="619200"/>
                <a:gridCol w="676440"/>
                <a:gridCol w="676080"/>
                <a:gridCol w="676440"/>
                <a:gridCol w="657000"/>
                <a:gridCol w="685800"/>
                <a:gridCol w="652680"/>
                <a:gridCol w="65232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K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N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95360" y="1158840"/>
          <a:ext cx="8050320" cy="48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158840"/>
                    <a:ext cx="805032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Westbound Polar and RTE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89000"/>
          <a:ext cx="9144000" cy="49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9000"/>
                    <a:ext cx="914400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8 Westbound Polar and RTE Traffic 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1508040"/>
          <a:ext cx="9144000" cy="4391280"/>
        </p:xfrm>
        <a:graphic>
          <a:graphicData uri="http://schemas.openxmlformats.org/drawingml/2006/table">
            <a:tbl>
              <a:tblPr/>
              <a:tblGrid>
                <a:gridCol w="1355760"/>
                <a:gridCol w="865080"/>
                <a:gridCol w="866880"/>
                <a:gridCol w="865080"/>
                <a:gridCol w="863640"/>
                <a:gridCol w="868320"/>
                <a:gridCol w="885960"/>
                <a:gridCol w="885600"/>
                <a:gridCol w="885960"/>
                <a:gridCol w="801720"/>
              </a:tblGrid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8 Westbound Polar and RTE Traffic 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508040"/>
          <a:ext cx="9144000" cy="4391280"/>
        </p:xfrm>
        <a:graphic>
          <a:graphicData uri="http://schemas.openxmlformats.org/drawingml/2006/table">
            <a:tbl>
              <a:tblPr/>
              <a:tblGrid>
                <a:gridCol w="1355760"/>
                <a:gridCol w="865080"/>
                <a:gridCol w="866880"/>
                <a:gridCol w="865080"/>
                <a:gridCol w="863640"/>
                <a:gridCol w="868320"/>
                <a:gridCol w="885960"/>
                <a:gridCol w="885600"/>
                <a:gridCol w="885960"/>
                <a:gridCol w="801720"/>
              </a:tblGrid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36</a:t>
                      </a: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88</a:t>
                      </a: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25</a:t>
                      </a: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93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8 Westbound Polar and RTE Traffic 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66840" y="1190520"/>
          <a:ext cx="8388360" cy="48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190520"/>
                    <a:ext cx="838836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8 Westbound Polar and RTE Traffic Cou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1125360"/>
          <a:ext cx="9144000" cy="488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3:28:33Z</dcterms:created>
  <dc:creator>mmcclure</dc:creator>
  <dc:description/>
  <dc:language>en-US</dc:language>
  <cp:lastModifiedBy> </cp:lastModifiedBy>
  <dcterms:modified xsi:type="dcterms:W3CDTF">2008-11-01T06:40:42Z</dcterms:modified>
  <cp:revision>40</cp:revision>
  <dc:subject/>
  <dc:title>Anchorage ARTCC </dc:title>
</cp:coreProperties>
</file>