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5CD-E198-4FC5-A49C-B4FFC379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E2F-F39A-4F0D-AEE0-D3A910DB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A43-0D95-49D4-8E4F-425093F7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3B0-BE44-4EE5-AF10-28524597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ABD-9F9B-4328-B2F9-35F1C807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587-5146-4193-84E5-03B5564B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50A-3A5F-4873-AC26-8E0757C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3C2-B44D-43FD-B5BE-593B1BBA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2F1-70B7-4665-82D3-D52C5C58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256-F6C6-44BC-8091-F57D229F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B27-7315-4C9C-A4EC-4DD24B2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788-EC28-4DC2-8F39-2826C6B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068-0A3D-459D-B6DB-79F120AF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Flightplanning@isavia.is" TargetMode="External"/><Relationship Id="rId3" Type="http://schemas.openxmlformats.org/officeDocument/2006/relationships/hyperlink" Target="mailto:procedures@isavia.i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ykjav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CPW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CPDLC – South of 8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ADS-C - South of 8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ATCOM – Reliable south of 8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F Datalink – Som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Flight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1646280"/>
            <a:ext cx="54864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Operation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Flight Plans not addressed to Reykjav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BIRDZQZ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Questions regarding F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lightplanning@isavia.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Questions regard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cedures@isavia.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Questions regarding F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fans@isavia.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Traffic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704960"/>
          <a:ext cx="7488000" cy="415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04960"/>
                    <a:ext cx="748800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19240" y="2019240"/>
            <a:ext cx="69055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2880" y="1647720"/>
          <a:ext cx="7977240" cy="415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647720"/>
                    <a:ext cx="797724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Presently 3 stations in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Planned additional s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Faroes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Cooperation with Nav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Possible ADS-B coverage for crossing problems of Polar flights versus EUR-NAM f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Increase in Surveilanc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44:08Z</dcterms:created>
  <dc:creator>Sigurleifur Kristjánsson</dc:creator>
  <dc:description/>
  <dc:language>en-US</dc:language>
  <cp:lastModifiedBy>Sigurleifur Kristjánsson</cp:lastModifiedBy>
  <dcterms:modified xsi:type="dcterms:W3CDTF">2008-10-27T16:09:55Z</dcterms:modified>
  <cp:revision>6</cp:revision>
  <dc:subject/>
  <dc:title>Slide 1</dc:title>
</cp:coreProperties>
</file>