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07F-19C3-430C-A9FA-77E961E2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0DF-18F1-40A1-BB7E-A501120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42C-8080-49E0-8B3A-A85989C4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DF-3D3C-45B5-9638-320F0D9A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66D-EBD9-4E72-A2B6-59C2E735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CA5-ED6F-4348-83C8-B24943AF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CCC-40E5-4D31-BD37-2064131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B7F-7337-410B-8136-024AA1C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41B-7D38-43D7-AB74-C60BFC7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0DC-18B8-4248-ABBD-7F7372E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427-F0EB-4C5B-B03F-5A14D4A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33D-204A-4D16-90C0-F073666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774B-E398-41AD-B8CA-EE306BBA0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7" name="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E6C-5421-449E-B540-27753F7F7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720" y="436320"/>
            <a:ext cx="833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S Inter-Facility Data Communications (AIDC)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9880" y="1206000"/>
            <a:ext cx="8624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C implementation has proven highly successful and has provided significant benefits inclu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d workload for contro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tion of readback/hearback errors during coord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tion of gross navigation errors and large height deviations which are the result of “controller to controller” coordination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ion of operational initiatives – UPR/DA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C has been further enhanced with the implementation of the FAA’s Advanced Technologies and Oceanic Procedure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E62-B2AD-4CBD-B5DF-9749FEF850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AIDC ICD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560" y="1206000"/>
            <a:ext cx="868356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Atlantic Common Coordination ICD Version 1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sa/Pacific Region AIDC Version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nsensus on which ICD CPWG wants to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F6D-60AC-4D96-B7A1-DA796DEBA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360" y="1206000"/>
            <a:ext cx="82854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information in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easures to reach the goal of a seamless, global air traffic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to add AIDC to the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to work toward implementation of AI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concept of a Globally harmonized AIDC I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2BF-BE51-40DC-8439-3CC6C22E5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Air Traffic Organization</cp:lastModifiedBy>
  <dcterms:modified xsi:type="dcterms:W3CDTF">2008-11-02T22:00:36Z</dcterms:modified>
  <cp:revision>96</cp:revision>
  <dc:subject/>
  <dc:title>PowerPoint Presentation</dc:title>
</cp:coreProperties>
</file>