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036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03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0" name="PlaceHolder 1"/>
          <p:cNvSpPr>
            <a:spLocks noGrp="1"/>
          </p:cNvSpPr>
          <p:nvPr>
            <p:ph type="hdr"/>
          </p:nvPr>
        </p:nvSpPr>
        <p:spPr>
          <a:xfrm>
            <a:off x="-360" y="-360"/>
            <a:ext cx="2971800" cy="45252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4"/>
          </p:nvPr>
        </p:nvSpPr>
        <p:spPr>
          <a:xfrm>
            <a:off x="3885840" y="-360"/>
            <a:ext cx="2971800" cy="45252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71440" y="677880"/>
            <a:ext cx="4518000" cy="3387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move the slide</a:t>
            </a:r>
            <a:endParaRPr b="1" lang="en-US" sz="4000" spc="-1" strike="noStrike">
              <a:solidFill>
                <a:srgbClr val="1d2f68"/>
              </a:solidFill>
              <a:latin typeface="Arial"/>
            </a:endParaRPr>
          </a:p>
        </p:txBody>
      </p:sp>
      <p:sp>
        <p:nvSpPr>
          <p:cNvPr id="93" name="PlaceHolder 4"/>
          <p:cNvSpPr>
            <a:spLocks noGrp="1"/>
          </p:cNvSpPr>
          <p:nvPr>
            <p:ph type="body"/>
          </p:nvPr>
        </p:nvSpPr>
        <p:spPr>
          <a:xfrm>
            <a:off x="914400" y="4292280"/>
            <a:ext cx="5029200" cy="40640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5"/>
          </p:nvPr>
        </p:nvSpPr>
        <p:spPr>
          <a:xfrm>
            <a:off x="-360" y="8581680"/>
            <a:ext cx="2971800" cy="45252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6"/>
          </p:nvPr>
        </p:nvSpPr>
        <p:spPr>
          <a:xfrm>
            <a:off x="3885840" y="8581680"/>
            <a:ext cx="2971800" cy="452520"/>
          </a:xfrm>
          <a:prstGeom prst="rect">
            <a:avLst/>
          </a:prstGeom>
          <a:noFill/>
          <a:ln w="0">
            <a:noFill/>
          </a:ln>
        </p:spPr>
        <p:txBody>
          <a:bodyPr lIns="91080" rIns="91080" tIns="45360" bIns="4536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30F32F4-D51C-40B1-B22A-87F75ABDC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582040"/>
            <a:ext cx="2971800" cy="4525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B61357B-B570-47B1-952D-3A3C5650E8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71440" y="677880"/>
            <a:ext cx="4518000" cy="3387600"/>
          </a:xfrm>
          <a:prstGeom prst="rect">
            <a:avLst/>
          </a:prstGeom>
          <a:ln w="0">
            <a:noFill/>
          </a:ln>
        </p:spPr>
      </p:sp>
      <p:sp>
        <p:nvSpPr>
          <p:cNvPr id="117" name="PlaceHolder 2"/>
          <p:cNvSpPr>
            <a:spLocks noGrp="1"/>
          </p:cNvSpPr>
          <p:nvPr>
            <p:ph type="body"/>
          </p:nvPr>
        </p:nvSpPr>
        <p:spPr>
          <a:xfrm>
            <a:off x="914400" y="4292280"/>
            <a:ext cx="5029200" cy="40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582040"/>
            <a:ext cx="2971800" cy="4525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397F2A1-AF60-4350-A181-DEF4122C72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71440" y="677880"/>
            <a:ext cx="4518000" cy="3387600"/>
          </a:xfrm>
          <a:prstGeom prst="rect">
            <a:avLst/>
          </a:prstGeom>
          <a:ln w="0">
            <a:noFill/>
          </a:ln>
        </p:spPr>
      </p:sp>
      <p:sp>
        <p:nvSpPr>
          <p:cNvPr id="120" name="PlaceHolder 2"/>
          <p:cNvSpPr>
            <a:spLocks noGrp="1"/>
          </p:cNvSpPr>
          <p:nvPr>
            <p:ph type="body"/>
          </p:nvPr>
        </p:nvSpPr>
        <p:spPr>
          <a:xfrm>
            <a:off x="914400" y="4292280"/>
            <a:ext cx="5029200" cy="4064040"/>
          </a:xfrm>
          <a:prstGeom prst="rect">
            <a:avLst/>
          </a:prstGeom>
          <a:noFill/>
          <a:ln w="0">
            <a:noFill/>
          </a:ln>
        </p:spPr>
        <p:txBody>
          <a:bodyPr lIns="91080" rIns="91080" tIns="45360" bIns="45360" anchor="t">
            <a:noAutofit/>
          </a:bodyPr>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sed on the successful outcome of the trial of ATFM) procedures on Polar routes DEVID, RAMEL, NIKIN and ORVIT, and discussions during the 5th Mtg of the Cross Polar Trans East ATM Providers' Working Group (CPWG/5) held earlier this month in Ft Worth, Texas, the </a:t>
            </a:r>
            <a:r>
              <a:rPr b="1" lang="en-US" sz="900" spc="-1" strike="noStrike">
                <a:solidFill>
                  <a:srgbClr val="000000"/>
                </a:solidFill>
                <a:latin typeface="Times New Roman"/>
              </a:rPr>
              <a:t>FAA and NAV CANADA have agreed that the procedures will be made permanent for DEVID, RAMEL, NIKIN and ORVIT.   </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he trial procedures have now been expanded to include Russian Trans East (RTE) fix LISKI.  The trial started at 1430 UTC on April 7, 2008 and will continue through May 10, 2008. </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views of the trial will be conducted weekly by telcon hosted by the ATCSCC, permitting a consensus decision to be made at the end of the trial period concerning the permanent adoption of the trial concept and procedures. Changes to the agreed procedures will be coordinated with the customers in advance of implementation. </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elcon participants will be Anchorage ARTCC, NAV CANADA NOC, Edmonton ACC, and interested airspace operators. </a:t>
            </a:r>
            <a:r>
              <a:rPr b="1" lang="en-US" sz="900" spc="-1" strike="noStrike">
                <a:solidFill>
                  <a:srgbClr val="000000"/>
                </a:solidFill>
                <a:latin typeface="Times New Roman"/>
              </a:rPr>
              <a:t>Telcons will be conducted on Fridays through May 9 at 1900 UTC. Participants may dial in by calling +1 703 925 5387 and entering PIN 2777#.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rocedures: </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a:t>
            </a:r>
            <a:r>
              <a:rPr b="1" lang="en-US" sz="900" spc="-1" strike="noStrike">
                <a:solidFill>
                  <a:srgbClr val="000000"/>
                </a:solidFill>
                <a:latin typeface="Times New Roman"/>
              </a:rPr>
              <a:t>ATCSCC will no longer issue CDTs for flights destined to RTE entry fix LISKI. </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light crews are still expected to depart during their 10-minute departure window.  Dispatchers must continue to comply with all current Anchorage ARTCC track advisory procedures </a:t>
            </a:r>
            <a:r>
              <a:rPr b="0" lang="en-US" sz="900" spc="-1" strike="noStrike">
                <a:solidFill>
                  <a:srgbClr val="000000"/>
                </a:solidFill>
                <a:latin typeface="Times New Roman"/>
              </a:rPr>
              <a:t>and will provide feedback during ATCSCC hosted review telcons.  This will permit flight dispatchers to remain aware of other traffic which may have flight planned over LISKI.  </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OTS+ will provide 10 minutes longitudinal separation between flights going to LISKI at the same altitude. No additional buffer will be provided. </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th the ATCSCC and the NOC will continue to monitor ETMS and DOTS+ to identify possible flight conflicts and implement conflict resolution as needed.  The ATCSCC will coordinate with dispatch when appropriate and U.S. ATC units if a conflict or resolution takes place in U.S. airspace. The NOC will coordinate with dispatch when appropriate and Canadian ATC units if a conflict or resolution takes place in Canadian airspace. </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appropriate facility or facilities will determine the appropriate mitigation. </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n conjunction with airline operators, the NOC, and Anchorage ARTCC Traffic Management Unit (TMU), will collect documentation related to the test on flights filed over LISKI. Documentation may include, but is not limited to actual departure times, flight planned altitude at LISKI, and actual altitude crossing at LISKI. </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2445E-A906-4A70-B6F3-AB0FEC367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3"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0B90F-E4A2-4A94-8DB9-5F7143569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2CC24-8B06-4A5F-919E-8F362E440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1"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78D07-5C10-4A2A-93B6-82C4B7E49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4"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6"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884F7-3B5F-4363-97A6-C6B7E51E7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5"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3"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5D891-FFAD-449A-9EF3-A47C73E61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6FBD9-7E3A-4E85-944F-3B6D3B845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94706-BAD7-42A6-9787-0145C937B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79E6A-2A6F-4410-9456-62D2CA878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C10C6-A000-4D2A-826A-DA744E044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B38AE-71A1-4CF9-9F7F-9C446260C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B2D03-4CC6-4EB4-81DD-D3B251BC3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D651-C606-42F6-AD8C-E76FEF5AEF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12"/>
          <p:cNvSpPr/>
          <p:nvPr/>
        </p:nvSpPr>
        <p:spPr>
          <a:xfrm>
            <a:off x="0" y="6041880"/>
            <a:ext cx="9144000" cy="8161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19A4-085D-43F3-99A2-3CD03F5F8277}"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7" name="Group 25"/>
          <p:cNvGrpSpPr/>
          <p:nvPr/>
        </p:nvGrpSpPr>
        <p:grpSpPr>
          <a:xfrm>
            <a:off x="5708520" y="6124680"/>
            <a:ext cx="2047680" cy="662040"/>
            <a:chOff x="5708520" y="6124680"/>
            <a:chExt cx="2047680" cy="662040"/>
          </a:xfrm>
        </p:grpSpPr>
        <p:pic>
          <p:nvPicPr>
            <p:cNvPr id="8" name="Picture 26" descr="NEW FAA LOGO"/>
            <p:cNvPicPr/>
            <p:nvPr/>
          </p:nvPicPr>
          <p:blipFill>
            <a:blip r:embed="rId2"/>
            <a:srcRect l="14357" t="3733" r="14973" b="4579"/>
            <a:stretch/>
          </p:blipFill>
          <p:spPr>
            <a:xfrm>
              <a:off x="5708520" y="6124680"/>
              <a:ext cx="660600" cy="662040"/>
            </a:xfrm>
            <a:prstGeom prst="rect">
              <a:avLst/>
            </a:prstGeom>
            <a:ln w="0">
              <a:noFill/>
            </a:ln>
          </p:spPr>
        </p:pic>
        <p:sp>
          <p:nvSpPr>
            <p:cNvPr id="9" name="Text Box 2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10" name="Text Box 30"/>
          <p:cNvSpPr/>
          <p:nvPr/>
        </p:nvSpPr>
        <p:spPr>
          <a:xfrm>
            <a:off x="466560" y="6410160"/>
            <a:ext cx="374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CPWG/6</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47" name="Picture 1078" descr="title_imagery_nologo"/>
          <p:cNvPicPr/>
          <p:nvPr/>
        </p:nvPicPr>
        <p:blipFill>
          <a:blip r:embed="rId2"/>
          <a:stretch/>
        </p:blipFill>
        <p:spPr>
          <a:xfrm>
            <a:off x="5591160" y="0"/>
            <a:ext cx="3552840" cy="6858000"/>
          </a:xfrm>
          <a:prstGeom prst="rect">
            <a:avLst/>
          </a:prstGeom>
          <a:ln w="0">
            <a:noFill/>
          </a:ln>
        </p:spPr>
      </p:pic>
      <p:grpSp>
        <p:nvGrpSpPr>
          <p:cNvPr id="48" name="Group 1080"/>
          <p:cNvGrpSpPr/>
          <p:nvPr/>
        </p:nvGrpSpPr>
        <p:grpSpPr>
          <a:xfrm>
            <a:off x="5873760" y="270000"/>
            <a:ext cx="2894040" cy="911160"/>
            <a:chOff x="5873760" y="270000"/>
            <a:chExt cx="2894040" cy="911160"/>
          </a:xfrm>
        </p:grpSpPr>
        <p:pic>
          <p:nvPicPr>
            <p:cNvPr id="49" name="Picture 1079" descr="NEW FAA LOGO"/>
            <p:cNvPicPr/>
            <p:nvPr/>
          </p:nvPicPr>
          <p:blipFill>
            <a:blip r:embed="rId3"/>
            <a:srcRect l="14334" t="3733" r="14976" b="4567"/>
            <a:stretch/>
          </p:blipFill>
          <p:spPr>
            <a:xfrm>
              <a:off x="5873760" y="270000"/>
              <a:ext cx="909720" cy="911160"/>
            </a:xfrm>
            <a:prstGeom prst="rect">
              <a:avLst/>
            </a:prstGeom>
            <a:ln w="0">
              <a:noFill/>
            </a:ln>
          </p:spPr>
        </p:pic>
        <p:sp>
          <p:nvSpPr>
            <p:cNvPr id="50" name="Text Box 1071"/>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5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52" name="PlaceHolder 2"/>
          <p:cNvSpPr>
            <a:spLocks noGrp="1"/>
          </p:cNvSpPr>
          <p:nvPr>
            <p:ph type="body"/>
          </p:nvPr>
        </p:nvSpPr>
        <p:spPr>
          <a:xfrm>
            <a:off x="368280" y="141912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96" name="Picture 4" descr=""/>
          <p:cNvPicPr/>
          <p:nvPr/>
        </p:nvPicPr>
        <p:blipFill>
          <a:blip r:embed="rId1"/>
          <a:srcRect l="20832" t="0" r="0" b="0"/>
          <a:stretch/>
        </p:blipFill>
        <p:spPr>
          <a:xfrm>
            <a:off x="149400" y="3267000"/>
            <a:ext cx="5371920" cy="3591000"/>
          </a:xfrm>
          <a:prstGeom prst="rect">
            <a:avLst/>
          </a:prstGeom>
          <a:ln w="0">
            <a:noFill/>
          </a:ln>
        </p:spPr>
      </p:pic>
      <p:sp>
        <p:nvSpPr>
          <p:cNvPr id="97" name="PlaceHolder 1"/>
          <p:cNvSpPr>
            <a:spLocks noGrp="1"/>
          </p:cNvSpPr>
          <p:nvPr>
            <p:ph type="title"/>
          </p:nvPr>
        </p:nvSpPr>
        <p:spPr>
          <a:xfrm>
            <a:off x="446040" y="312840"/>
            <a:ext cx="4983120" cy="13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PWG/6 – WP/9</a:t>
            </a:r>
            <a:r>
              <a:rPr b="1" lang="en-US" sz="3600" spc="-1" strike="noStrike">
                <a:solidFill>
                  <a:srgbClr val="ffffff"/>
                </a:solidFill>
                <a:latin typeface="Arial"/>
              </a:rPr>
              <a:t>	</a:t>
            </a:r>
            <a:endParaRPr b="1" lang="en-US" sz="3600" spc="-1" strike="noStrike">
              <a:solidFill>
                <a:srgbClr val="1d2f68"/>
              </a:solidFill>
              <a:latin typeface="Arial"/>
            </a:endParaRPr>
          </a:p>
        </p:txBody>
      </p:sp>
      <p:sp>
        <p:nvSpPr>
          <p:cNvPr id="98" name="PlaceHolder 2"/>
          <p:cNvSpPr>
            <a:spLocks noGrp="1"/>
          </p:cNvSpPr>
          <p:nvPr>
            <p:ph type="subTitle"/>
          </p:nvPr>
        </p:nvSpPr>
        <p:spPr>
          <a:xfrm>
            <a:off x="474480" y="1639440"/>
            <a:ext cx="4951080" cy="175284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c0c0"/>
                </a:solidFill>
                <a:latin typeface="Arial"/>
              </a:rPr>
              <a:t>Action Item 090734</a:t>
            </a:r>
            <a:endParaRPr b="1" lang="en-US" sz="3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ATFM procedures for Polar Fixes and Russian Trans East Fix</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PWG/5  Discussions</a:t>
            </a:r>
            <a:endParaRPr b="1" lang="en-US" sz="3600" spc="-1" strike="noStrike">
              <a:solidFill>
                <a:srgbClr val="1d2f68"/>
              </a:solidFill>
              <a:latin typeface="Arial"/>
            </a:endParaRPr>
          </a:p>
        </p:txBody>
      </p:sp>
      <p:sp>
        <p:nvSpPr>
          <p:cNvPr id="10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 was given on the successful trial outcome of eliminating Gateway Reservation List (GRL) buffer times on Polar routes DEVID, RAMEL, NIKIN and ORVIT</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anent Procedures were proposed and agreed upon for DEVID, RAMEL, NIKIN and ORVI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 for a similar trial for Russian Trans East Fix LISKI was propos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LISKI Trial</a:t>
            </a:r>
            <a:endParaRPr b="1" lang="en-US" sz="3600" spc="-1" strike="noStrike">
              <a:solidFill>
                <a:srgbClr val="1d2f68"/>
              </a:solidFill>
              <a:latin typeface="Arial"/>
            </a:endParaRPr>
          </a:p>
        </p:txBody>
      </p:sp>
      <p:sp>
        <p:nvSpPr>
          <p:cNvPr id="102"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SKI trial ran from April 7, 2008 through May 10, 2008. </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s of the trial were conducted weekly by telcon with the Air Traffic Control System Command Center (ATCSCC), Anchorage ARTCC (ZAN), NAV CANADA National Operations Center (NOC), Edmonton ACC, and interested airspace operators. </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CSCC monitored the LISKI flow via Traffic Flow Management (TFM) tools and the Dynamic Ocean Tracking System (DOTS+)</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C and ZAN utilized TFM tools along with speed control and vectors to mitigate conflicts to provide 10 minute separation over LISKI</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LISKI Trial Results</a:t>
            </a:r>
            <a:endParaRPr b="1" lang="en-US" sz="3600" spc="-1" strike="noStrike">
              <a:solidFill>
                <a:srgbClr val="1d2f68"/>
              </a:solidFill>
              <a:latin typeface="Arial"/>
            </a:endParaRPr>
          </a:p>
        </p:txBody>
      </p:sp>
      <p:sp>
        <p:nvSpPr>
          <p:cNvPr id="10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ights denied requested altitude dropped from 10% to 8%</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nal telcon on May 9, 2008, including the ATCSCC, Anchorage ARTCC, NAV CANADA NOC, Edmonton ACC, IATA, Continental Airlines, United Airlines and Delta Airlines allowed a consensus decision permanently adopting the trial procedures.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manent procedures were effective May 11, 2008</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PILUN Fix </a:t>
            </a:r>
            <a:endParaRPr b="1" lang="en-US" sz="3600" spc="-1" strike="noStrike">
              <a:solidFill>
                <a:srgbClr val="1d2f68"/>
              </a:solidFill>
              <a:latin typeface="Arial"/>
            </a:endParaRPr>
          </a:p>
        </p:txBody>
      </p:sp>
      <p:sp>
        <p:nvSpPr>
          <p:cNvPr id="106" name="PlaceHolder 2"/>
          <p:cNvSpPr>
            <a:spLocks noGrp="1"/>
          </p:cNvSpPr>
          <p:nvPr>
            <p:ph/>
          </p:nvPr>
        </p:nvSpPr>
        <p:spPr>
          <a:xfrm>
            <a:off x="672840" y="1983960"/>
            <a:ext cx="8049960" cy="4390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LUN fix was a added to the Polar Fix procedures on July 31, 2008</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d2f68"/>
                </a:solidFill>
                <a:latin typeface="Arial"/>
              </a:rPr>
              <a:t>Track Advisory User’s Guide for Dispatchers</a:t>
            </a:r>
            <a:endParaRPr b="1" lang="en-US" sz="3000" spc="-1" strike="noStrike">
              <a:solidFill>
                <a:srgbClr val="1d2f68"/>
              </a:solidFill>
              <a:latin typeface="Arial"/>
            </a:endParaRPr>
          </a:p>
        </p:txBody>
      </p:sp>
      <p:sp>
        <p:nvSpPr>
          <p:cNvPr id="108" name="PlaceHolder 2"/>
          <p:cNvSpPr>
            <a:spLocks noGrp="1"/>
          </p:cNvSpPr>
          <p:nvPr>
            <p:ph/>
          </p:nvPr>
        </p:nvSpPr>
        <p:spPr>
          <a:xfrm>
            <a:off x="495360" y="1063800"/>
            <a:ext cx="8050320" cy="483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nded October 1, 2008 to include:</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flights transiting LISKI and North, tactical sequencing will be utilized to ensure required in-trail spacing for aircraft at the same altitude. This may include speed control and/or vectors to accomplish the required spacing. For flights transiting via FRENK and south, aircraft must arrive at the gateway fix at the GRL gateway time or no more than 10 minutes later to increase the probability of being assigned the GRL altitude for the waypoints with 20 minutes-in-trail trackload spac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d2f68"/>
                </a:solidFill>
                <a:latin typeface="Arial"/>
              </a:rPr>
              <a:t>Thank You</a:t>
            </a:r>
            <a:endParaRPr b="1" lang="en-US" sz="4800" spc="-1" strike="noStrike">
              <a:solidFill>
                <a:srgbClr val="1d2f68"/>
              </a:solidFill>
              <a:latin typeface="Arial"/>
            </a:endParaRPr>
          </a:p>
        </p:txBody>
      </p:sp>
      <p:pic>
        <p:nvPicPr>
          <p:cNvPr id="110" name="Picture 4" descr=""/>
          <p:cNvPicPr/>
          <p:nvPr/>
        </p:nvPicPr>
        <p:blipFill>
          <a:blip r:embed="rId1"/>
          <a:srcRect l="20832" t="0" r="0" b="0"/>
          <a:stretch/>
        </p:blipFill>
        <p:spPr>
          <a:xfrm>
            <a:off x="1533600" y="1076400"/>
            <a:ext cx="6261120" cy="48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pic>
        <p:nvPicPr>
          <p:cNvPr id="112" name="" descr=""/>
          <p:cNvPicPr/>
          <p:nvPr/>
        </p:nvPicPr>
        <p:blipFill>
          <a:blip r:embed="rId1"/>
          <a:stretch/>
        </p:blipFill>
        <p:spPr>
          <a:xfrm>
            <a:off x="1473120" y="1538280"/>
            <a:ext cx="6096240" cy="422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4" name="PlaceHolder 2"/>
          <p:cNvSpPr>
            <a:spLocks noGrp="1"/>
          </p:cNvSpPr>
          <p:nvPr>
            <p:ph/>
          </p:nvPr>
        </p:nvSpPr>
        <p:spPr>
          <a:xfrm>
            <a:off x="495360" y="860040"/>
            <a:ext cx="8050320" cy="5038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cedures: </a:t>
            </a: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a:t>
            </a:r>
            <a:r>
              <a:rPr b="0" lang="en-US" sz="1600" spc="-1" strike="noStrike">
                <a:solidFill>
                  <a:srgbClr val="000000"/>
                </a:solidFill>
                <a:latin typeface="Arial"/>
              </a:rPr>
              <a:t>ATCSCC will no longer issue CDTs for flights destined to RTE entry fix LISKI. </a:t>
            </a: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ight crews are still expected to depart during their 10-minute departure window.  Dispatchers must continue to comply with all current Anchorage ARTCC track advisory procedures </a:t>
            </a:r>
            <a:r>
              <a:rPr b="1" lang="en-US" sz="1600" spc="-1" strike="noStrike">
                <a:solidFill>
                  <a:srgbClr val="000000"/>
                </a:solidFill>
                <a:latin typeface="Arial"/>
              </a:rPr>
              <a:t>and will provide feedback during ATCSCC hosted review telcons.  This will permit flight dispatchers to remain aware of other traffic which may have flight planned over LISKI.  </a:t>
            </a: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TS+ will provide 10 minutes longitudinal separation between flights going to LISKI at the same altitude. No additional buffer will be provided. </a:t>
            </a: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th the ATCSCC and the NOC will continue to monitor ETMS and DOTS+ to identify possible flight conflicts and implement conflict resolution as needed.  The ATCSCC will coordinate with dispatch when appropriate and U.S. ATC units if a conflict or resolution takes place in U.S. airspace. The NOC will coordinate with dispatch when appropriate and Canadian ATC units if a conflict or resolution takes place in Canadian airspace. </a:t>
            </a: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appropriate facility or facilities will determine the appropriate mitigation. </a:t>
            </a:r>
            <a:endParaRPr b="1"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conjunction with airline operators, the NOC, and Anchorage ARTCC Traffic Management Unit (TMU), will collect documentation related to the test on flights filed over LISKI. Documentation may include, but is not limited to actual departure times, flight planned altitude at LISKI, and actual altitude crossing at LISKI. </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MTONEY</dc:creator>
  <dc:description/>
  <dc:language>en-US</dc:language>
  <cp:lastModifiedBy>Timothy</cp:lastModifiedBy>
  <dcterms:modified xsi:type="dcterms:W3CDTF">2008-11-02T23:44:41Z</dcterms:modified>
  <cp:revision>219</cp:revision>
  <dc:subject/>
  <dc:title>PowerPoint Presentation</dc:title>
</cp:coreProperties>
</file>