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jpeg" ContentType="image/jpe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B9B-CD49-4857-BBE0-75FFBAD9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0F2-0126-4ED4-93A7-935355BB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D89-2935-4B07-8B4B-0AA38F13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B77-80DD-42E6-A5BF-68F9567C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903-F493-4B65-A343-06C32A36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F74-7736-4C46-822B-132EA778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026-0940-47CE-83AB-F4EE22DF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886-6F77-4D06-9932-260AE1C5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DB1-58B2-4370-9DA5-A0B33D35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277-49EA-4D8A-9DD2-A20145D9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285-65D8-4632-8184-5923D778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367-8BC7-4755-BC94-752D2ADD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9461-09A5-4F43-88A5-0C35EDDCA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889280" y="838080"/>
            <a:ext cx="5543280" cy="5002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889280" y="838080"/>
            <a:ext cx="5543280" cy="5002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889280" y="838080"/>
            <a:ext cx="5543280" cy="5002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1887480" y="8128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1901880" y="83664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1901880" y="8380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1901880" y="8380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898640" y="8380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1908000" y="83664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1866960" y="874800"/>
            <a:ext cx="5543640" cy="5002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00000" y="304920"/>
            <a:ext cx="712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ff99ff">
                      <a:alpha val="50000"/>
                    </a:srgbClr>
                  </a:outerShdw>
                </a:effectLst>
                <a:latin typeface="Impact"/>
              </a:rPr>
              <a:t>FSUE "State ATM Corporation"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40186" dir="4303641" blurRad="0" rotWithShape="0">
                  <a:srgbClr val="ff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59280" y="6308640"/>
            <a:ext cx="31683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99ff">
                      <a:alpha val="50000"/>
                    </a:srgbClr>
                  </a:outerShdw>
                </a:effectLst>
                <a:latin typeface="Impact"/>
              </a:rPr>
              <a:t>St.Petersburg  2008</a:t>
            </a:r>
            <a:endParaRPr b="0" lang="en-US" sz="20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ff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1905120" y="762120"/>
            <a:ext cx="5543280" cy="500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39640" y="5516640"/>
            <a:ext cx="8153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003b3b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oudy Old Style"/>
              </a:rPr>
              <a:t>Branch "North-West Air Navigation"</a:t>
            </a:r>
            <a:endParaRPr b="1" lang="en-US" sz="4400" spc="1" strike="noStrike">
              <a:ln w="1908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003b3b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oudy Old Style"/>
              <a:ea typeface="Goudy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" fill="hold"/>
                                        <p:tgtEl>
                                          <p:spTgt spid="4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44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500" fill="hold"/>
                                        <p:tgtEl>
                                          <p:spTgt spid="4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-0.00139 -0.06459 E">
                                      <p:cBhvr>
                                        <p:cTn id="85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-0.00139 -0.06459 E">
                                      <p:cBhvr>
                                        <p:cTn id="87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-0.00139 -0.06459 E">
                                      <p:cBhvr>
                                        <p:cTn id="89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85185E-006 L -0.00122 -0.06088 E">
                                      <p:cBhvr>
                                        <p:cTn id="91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-0.00278 -0.06435 E">
                                      <p:cBhvr>
                                        <p:cTn id="93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00278 -0.06459 E">
                                      <p:cBhvr>
                                        <p:cTn id="95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00278 -0.06459 E">
                                      <p:cBhvr>
                                        <p:cTn id="97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00243 -0.06459 E">
                                      <p:cBhvr>
                                        <p:cTn id="99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-0.00348 -0.06435 E">
                                      <p:cBhvr>
                                        <p:cTn id="101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L 0.00104 -0.06991 E">
                                      <p:cBhvr>
                                        <p:cTn id="103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00313 -0.05347 E">
                                      <p:cBhvr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-3364200"/>
            <a:ext cx="64764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 rot="21235800">
            <a:off x="2774520" y="5659200"/>
            <a:ext cx="424332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3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t. Petersburg  20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26920" y="46080"/>
          <a:ext cx="7618680" cy="681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46080"/>
                    <a:ext cx="7618680" cy="68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097000" y="3043080"/>
            <a:ext cx="7210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Arial"/>
              </a:rPr>
              <a:t>Париж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76640" y="3429000"/>
            <a:ext cx="568440" cy="888840"/>
          </a:xfrm>
          <a:custGeom>
            <a:avLst/>
            <a:gdLst/>
            <a:ahLst/>
            <a:rect l="l" t="t" r="r" b="b"/>
            <a:pathLst>
              <a:path w="358" h="560">
                <a:moveTo>
                  <a:pt x="358" y="0"/>
                </a:moveTo>
                <a:cubicBezTo>
                  <a:pt x="330" y="37"/>
                  <a:pt x="252" y="127"/>
                  <a:pt x="192" y="220"/>
                </a:cubicBezTo>
                <a:cubicBezTo>
                  <a:pt x="132" y="313"/>
                  <a:pt x="40" y="489"/>
                  <a:pt x="0" y="560"/>
                </a:cubicBez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8080" y="3435480"/>
            <a:ext cx="65160" cy="698400"/>
          </a:xfrm>
          <a:custGeom>
            <a:avLst/>
            <a:gdLst/>
            <a:ahLst/>
            <a:rect l="l" t="t" r="r" b="b"/>
            <a:pathLst>
              <a:path w="41" h="440">
                <a:moveTo>
                  <a:pt x="13" y="0"/>
                </a:moveTo>
                <a:cubicBezTo>
                  <a:pt x="12" y="39"/>
                  <a:pt x="0" y="155"/>
                  <a:pt x="5" y="228"/>
                </a:cubicBezTo>
                <a:cubicBezTo>
                  <a:pt x="10" y="301"/>
                  <a:pt x="33" y="396"/>
                  <a:pt x="41" y="440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3520" y="3395520"/>
            <a:ext cx="1974600" cy="781200"/>
          </a:xfrm>
          <a:custGeom>
            <a:avLst/>
            <a:gdLst/>
            <a:ahLst/>
            <a:rect l="l" t="t" r="r" b="b"/>
            <a:pathLst>
              <a:path w="1244" h="492">
                <a:moveTo>
                  <a:pt x="1106" y="9"/>
                </a:moveTo>
                <a:cubicBezTo>
                  <a:pt x="1130" y="7"/>
                  <a:pt x="1086" y="0"/>
                  <a:pt x="1109" y="6"/>
                </a:cubicBezTo>
                <a:cubicBezTo>
                  <a:pt x="1132" y="12"/>
                  <a:pt x="1224" y="31"/>
                  <a:pt x="1244" y="42"/>
                </a:cubicBezTo>
                <a:cubicBezTo>
                  <a:pt x="1244" y="48"/>
                  <a:pt x="1239" y="62"/>
                  <a:pt x="1229" y="75"/>
                </a:cubicBezTo>
                <a:cubicBezTo>
                  <a:pt x="1221" y="93"/>
                  <a:pt x="1204" y="103"/>
                  <a:pt x="1196" y="120"/>
                </a:cubicBezTo>
                <a:cubicBezTo>
                  <a:pt x="1188" y="136"/>
                  <a:pt x="1185" y="152"/>
                  <a:pt x="1172" y="165"/>
                </a:cubicBezTo>
                <a:cubicBezTo>
                  <a:pt x="1169" y="175"/>
                  <a:pt x="1160" y="182"/>
                  <a:pt x="1157" y="192"/>
                </a:cubicBezTo>
                <a:cubicBezTo>
                  <a:pt x="1144" y="232"/>
                  <a:pt x="1127" y="279"/>
                  <a:pt x="1097" y="309"/>
                </a:cubicBezTo>
                <a:cubicBezTo>
                  <a:pt x="1091" y="328"/>
                  <a:pt x="1078" y="358"/>
                  <a:pt x="1061" y="369"/>
                </a:cubicBezTo>
                <a:cubicBezTo>
                  <a:pt x="1027" y="347"/>
                  <a:pt x="971" y="356"/>
                  <a:pt x="932" y="354"/>
                </a:cubicBezTo>
                <a:cubicBezTo>
                  <a:pt x="910" y="347"/>
                  <a:pt x="888" y="340"/>
                  <a:pt x="866" y="333"/>
                </a:cubicBezTo>
                <a:cubicBezTo>
                  <a:pt x="798" y="334"/>
                  <a:pt x="730" y="333"/>
                  <a:pt x="662" y="336"/>
                </a:cubicBezTo>
                <a:cubicBezTo>
                  <a:pt x="658" y="336"/>
                  <a:pt x="656" y="340"/>
                  <a:pt x="653" y="342"/>
                </a:cubicBezTo>
                <a:cubicBezTo>
                  <a:pt x="650" y="343"/>
                  <a:pt x="647" y="344"/>
                  <a:pt x="644" y="345"/>
                </a:cubicBezTo>
                <a:cubicBezTo>
                  <a:pt x="630" y="366"/>
                  <a:pt x="639" y="361"/>
                  <a:pt x="623" y="366"/>
                </a:cubicBezTo>
                <a:cubicBezTo>
                  <a:pt x="607" y="378"/>
                  <a:pt x="595" y="394"/>
                  <a:pt x="578" y="405"/>
                </a:cubicBezTo>
                <a:cubicBezTo>
                  <a:pt x="565" y="424"/>
                  <a:pt x="549" y="437"/>
                  <a:pt x="527" y="444"/>
                </a:cubicBezTo>
                <a:cubicBezTo>
                  <a:pt x="517" y="447"/>
                  <a:pt x="509" y="459"/>
                  <a:pt x="500" y="465"/>
                </a:cubicBezTo>
                <a:cubicBezTo>
                  <a:pt x="491" y="492"/>
                  <a:pt x="434" y="467"/>
                  <a:pt x="410" y="462"/>
                </a:cubicBezTo>
                <a:cubicBezTo>
                  <a:pt x="373" y="437"/>
                  <a:pt x="341" y="432"/>
                  <a:pt x="296" y="429"/>
                </a:cubicBezTo>
                <a:cubicBezTo>
                  <a:pt x="277" y="416"/>
                  <a:pt x="270" y="365"/>
                  <a:pt x="254" y="349"/>
                </a:cubicBezTo>
                <a:cubicBezTo>
                  <a:pt x="249" y="333"/>
                  <a:pt x="217" y="339"/>
                  <a:pt x="202" y="329"/>
                </a:cubicBezTo>
                <a:cubicBezTo>
                  <a:pt x="189" y="309"/>
                  <a:pt x="98" y="323"/>
                  <a:pt x="78" y="309"/>
                </a:cubicBezTo>
                <a:cubicBezTo>
                  <a:pt x="67" y="286"/>
                  <a:pt x="11" y="227"/>
                  <a:pt x="6" y="197"/>
                </a:cubicBezTo>
                <a:cubicBezTo>
                  <a:pt x="0" y="173"/>
                  <a:pt x="35" y="176"/>
                  <a:pt x="42" y="165"/>
                </a:cubicBezTo>
                <a:cubicBezTo>
                  <a:pt x="49" y="154"/>
                  <a:pt x="32" y="141"/>
                  <a:pt x="50" y="133"/>
                </a:cubicBezTo>
                <a:cubicBezTo>
                  <a:pt x="46" y="122"/>
                  <a:pt x="156" y="126"/>
                  <a:pt x="152" y="117"/>
                </a:cubicBezTo>
                <a:cubicBezTo>
                  <a:pt x="159" y="116"/>
                  <a:pt x="163" y="138"/>
                  <a:pt x="176" y="138"/>
                </a:cubicBezTo>
                <a:cubicBezTo>
                  <a:pt x="186" y="108"/>
                  <a:pt x="198" y="126"/>
                  <a:pt x="239" y="123"/>
                </a:cubicBezTo>
                <a:cubicBezTo>
                  <a:pt x="255" y="117"/>
                  <a:pt x="262" y="120"/>
                  <a:pt x="278" y="117"/>
                </a:cubicBezTo>
                <a:cubicBezTo>
                  <a:pt x="294" y="114"/>
                  <a:pt x="319" y="109"/>
                  <a:pt x="335" y="105"/>
                </a:cubicBezTo>
                <a:cubicBezTo>
                  <a:pt x="348" y="102"/>
                  <a:pt x="361" y="97"/>
                  <a:pt x="374" y="93"/>
                </a:cubicBezTo>
                <a:cubicBezTo>
                  <a:pt x="390" y="88"/>
                  <a:pt x="402" y="72"/>
                  <a:pt x="419" y="66"/>
                </a:cubicBezTo>
                <a:cubicBezTo>
                  <a:pt x="451" y="77"/>
                  <a:pt x="431" y="72"/>
                  <a:pt x="482" y="69"/>
                </a:cubicBezTo>
                <a:cubicBezTo>
                  <a:pt x="492" y="71"/>
                  <a:pt x="475" y="74"/>
                  <a:pt x="478" y="77"/>
                </a:cubicBezTo>
                <a:cubicBezTo>
                  <a:pt x="481" y="80"/>
                  <a:pt x="488" y="88"/>
                  <a:pt x="502" y="89"/>
                </a:cubicBezTo>
                <a:cubicBezTo>
                  <a:pt x="520" y="103"/>
                  <a:pt x="537" y="83"/>
                  <a:pt x="560" y="84"/>
                </a:cubicBezTo>
                <a:cubicBezTo>
                  <a:pt x="561" y="88"/>
                  <a:pt x="566" y="96"/>
                  <a:pt x="569" y="99"/>
                </a:cubicBezTo>
                <a:cubicBezTo>
                  <a:pt x="601" y="96"/>
                  <a:pt x="672" y="81"/>
                  <a:pt x="761" y="66"/>
                </a:cubicBezTo>
                <a:cubicBezTo>
                  <a:pt x="836" y="53"/>
                  <a:pt x="1048" y="17"/>
                  <a:pt x="1106" y="9"/>
                </a:cubicBezTo>
                <a:close/>
              </a:path>
            </a:pathLst>
          </a:custGeom>
          <a:solidFill>
            <a:srgbClr val="ffff00">
              <a:alpha val="27000"/>
            </a:srgbClr>
          </a:solidFill>
          <a:ln w="3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3280" y="404640"/>
            <a:ext cx="6334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ff99ff">
                      <a:alpha val="50000"/>
                    </a:srgbClr>
                  </a:outerShdw>
                </a:effectLst>
                <a:latin typeface="Impact"/>
              </a:rPr>
              <a:t>Continental Flight Routes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40186" dir="4303641" blurRad="0" rotWithShape="0">
                  <a:srgbClr val="ff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79640" y="981000"/>
            <a:ext cx="49338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TC centers of the "North-West Air Navigation" branch</a:t>
            </a:r>
            <a:endParaRPr b="1" lang="en-US" sz="1600" spc="1" strike="noStrike">
              <a:ln w="6480">
                <a:solidFill>
                  <a:srgbClr val="0000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0280" y="4587840"/>
            <a:ext cx="311400" cy="784440"/>
          </a:xfrm>
          <a:custGeom>
            <a:avLst/>
            <a:gdLst/>
            <a:ahLst/>
            <a:rect l="l" t="t" r="r" b="b"/>
            <a:pathLst>
              <a:path w="196" h="494">
                <a:moveTo>
                  <a:pt x="0" y="250"/>
                </a:moveTo>
                <a:cubicBezTo>
                  <a:pt x="16" y="208"/>
                  <a:pt x="72" y="38"/>
                  <a:pt x="96" y="0"/>
                </a:cubicBezTo>
                <a:lnTo>
                  <a:pt x="144" y="16"/>
                </a:lnTo>
                <a:cubicBezTo>
                  <a:pt x="154" y="42"/>
                  <a:pt x="149" y="121"/>
                  <a:pt x="152" y="158"/>
                </a:cubicBezTo>
                <a:cubicBezTo>
                  <a:pt x="154" y="192"/>
                  <a:pt x="155" y="202"/>
                  <a:pt x="158" y="218"/>
                </a:cubicBezTo>
                <a:cubicBezTo>
                  <a:pt x="161" y="234"/>
                  <a:pt x="167" y="243"/>
                  <a:pt x="168" y="256"/>
                </a:cubicBezTo>
                <a:cubicBezTo>
                  <a:pt x="169" y="269"/>
                  <a:pt x="162" y="286"/>
                  <a:pt x="164" y="298"/>
                </a:cubicBezTo>
                <a:cubicBezTo>
                  <a:pt x="169" y="309"/>
                  <a:pt x="170" y="322"/>
                  <a:pt x="182" y="326"/>
                </a:cubicBezTo>
                <a:cubicBezTo>
                  <a:pt x="191" y="353"/>
                  <a:pt x="175" y="378"/>
                  <a:pt x="184" y="406"/>
                </a:cubicBezTo>
                <a:cubicBezTo>
                  <a:pt x="185" y="415"/>
                  <a:pt x="192" y="441"/>
                  <a:pt x="194" y="450"/>
                </a:cubicBezTo>
                <a:cubicBezTo>
                  <a:pt x="195" y="452"/>
                  <a:pt x="196" y="444"/>
                  <a:pt x="196" y="446"/>
                </a:cubicBezTo>
                <a:cubicBezTo>
                  <a:pt x="196" y="453"/>
                  <a:pt x="185" y="454"/>
                  <a:pt x="178" y="454"/>
                </a:cubicBezTo>
                <a:cubicBezTo>
                  <a:pt x="169" y="455"/>
                  <a:pt x="159" y="455"/>
                  <a:pt x="150" y="456"/>
                </a:cubicBezTo>
                <a:cubicBezTo>
                  <a:pt x="143" y="460"/>
                  <a:pt x="144" y="473"/>
                  <a:pt x="140" y="478"/>
                </a:cubicBezTo>
                <a:cubicBezTo>
                  <a:pt x="136" y="483"/>
                  <a:pt x="135" y="494"/>
                  <a:pt x="128" y="488"/>
                </a:cubicBezTo>
                <a:cubicBezTo>
                  <a:pt x="124" y="477"/>
                  <a:pt x="108" y="449"/>
                  <a:pt x="98" y="442"/>
                </a:cubicBezTo>
                <a:cubicBezTo>
                  <a:pt x="90" y="431"/>
                  <a:pt x="76" y="421"/>
                  <a:pt x="70" y="408"/>
                </a:cubicBezTo>
              </a:path>
            </a:pathLst>
          </a:custGeom>
          <a:solidFill>
            <a:srgbClr val="ff00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62080" y="5375160"/>
            <a:ext cx="668160" cy="663840"/>
          </a:xfrm>
          <a:custGeom>
            <a:avLst/>
            <a:gdLst/>
            <a:ahLst/>
            <a:rect l="l" t="t" r="r" b="b"/>
            <a:pathLst>
              <a:path w="421" h="418">
                <a:moveTo>
                  <a:pt x="124" y="18"/>
                </a:moveTo>
                <a:cubicBezTo>
                  <a:pt x="151" y="20"/>
                  <a:pt x="177" y="25"/>
                  <a:pt x="204" y="28"/>
                </a:cubicBezTo>
                <a:cubicBezTo>
                  <a:pt x="223" y="34"/>
                  <a:pt x="235" y="42"/>
                  <a:pt x="256" y="44"/>
                </a:cubicBezTo>
                <a:cubicBezTo>
                  <a:pt x="271" y="53"/>
                  <a:pt x="287" y="59"/>
                  <a:pt x="302" y="68"/>
                </a:cubicBezTo>
                <a:cubicBezTo>
                  <a:pt x="317" y="77"/>
                  <a:pt x="334" y="73"/>
                  <a:pt x="344" y="98"/>
                </a:cubicBezTo>
                <a:cubicBezTo>
                  <a:pt x="344" y="108"/>
                  <a:pt x="339" y="208"/>
                  <a:pt x="362" y="216"/>
                </a:cubicBezTo>
                <a:cubicBezTo>
                  <a:pt x="380" y="234"/>
                  <a:pt x="394" y="259"/>
                  <a:pt x="404" y="282"/>
                </a:cubicBezTo>
                <a:cubicBezTo>
                  <a:pt x="414" y="298"/>
                  <a:pt x="419" y="294"/>
                  <a:pt x="420" y="310"/>
                </a:cubicBezTo>
                <a:cubicBezTo>
                  <a:pt x="421" y="326"/>
                  <a:pt x="421" y="366"/>
                  <a:pt x="408" y="376"/>
                </a:cubicBezTo>
                <a:cubicBezTo>
                  <a:pt x="387" y="373"/>
                  <a:pt x="365" y="372"/>
                  <a:pt x="344" y="370"/>
                </a:cubicBezTo>
                <a:cubicBezTo>
                  <a:pt x="338" y="368"/>
                  <a:pt x="326" y="364"/>
                  <a:pt x="326" y="364"/>
                </a:cubicBezTo>
                <a:cubicBezTo>
                  <a:pt x="320" y="360"/>
                  <a:pt x="306" y="354"/>
                  <a:pt x="306" y="354"/>
                </a:cubicBezTo>
                <a:cubicBezTo>
                  <a:pt x="298" y="348"/>
                  <a:pt x="291" y="343"/>
                  <a:pt x="282" y="340"/>
                </a:cubicBezTo>
                <a:cubicBezTo>
                  <a:pt x="276" y="334"/>
                  <a:pt x="277" y="334"/>
                  <a:pt x="268" y="330"/>
                </a:cubicBezTo>
                <a:cubicBezTo>
                  <a:pt x="264" y="328"/>
                  <a:pt x="256" y="326"/>
                  <a:pt x="256" y="326"/>
                </a:cubicBezTo>
                <a:cubicBezTo>
                  <a:pt x="251" y="321"/>
                  <a:pt x="236" y="314"/>
                  <a:pt x="236" y="314"/>
                </a:cubicBezTo>
                <a:cubicBezTo>
                  <a:pt x="213" y="320"/>
                  <a:pt x="202" y="344"/>
                  <a:pt x="178" y="350"/>
                </a:cubicBezTo>
                <a:cubicBezTo>
                  <a:pt x="167" y="358"/>
                  <a:pt x="161" y="369"/>
                  <a:pt x="152" y="378"/>
                </a:cubicBezTo>
                <a:cubicBezTo>
                  <a:pt x="141" y="387"/>
                  <a:pt x="126" y="399"/>
                  <a:pt x="114" y="406"/>
                </a:cubicBezTo>
                <a:cubicBezTo>
                  <a:pt x="102" y="412"/>
                  <a:pt x="89" y="410"/>
                  <a:pt x="78" y="418"/>
                </a:cubicBezTo>
                <a:cubicBezTo>
                  <a:pt x="65" y="398"/>
                  <a:pt x="75" y="389"/>
                  <a:pt x="70" y="358"/>
                </a:cubicBezTo>
                <a:cubicBezTo>
                  <a:pt x="69" y="350"/>
                  <a:pt x="51" y="345"/>
                  <a:pt x="46" y="340"/>
                </a:cubicBezTo>
                <a:cubicBezTo>
                  <a:pt x="40" y="334"/>
                  <a:pt x="20" y="322"/>
                  <a:pt x="20" y="318"/>
                </a:cubicBezTo>
                <a:cubicBezTo>
                  <a:pt x="22" y="301"/>
                  <a:pt x="27" y="303"/>
                  <a:pt x="40" y="294"/>
                </a:cubicBezTo>
                <a:cubicBezTo>
                  <a:pt x="38" y="274"/>
                  <a:pt x="40" y="274"/>
                  <a:pt x="22" y="270"/>
                </a:cubicBezTo>
                <a:cubicBezTo>
                  <a:pt x="14" y="265"/>
                  <a:pt x="15" y="260"/>
                  <a:pt x="12" y="252"/>
                </a:cubicBezTo>
                <a:cubicBezTo>
                  <a:pt x="14" y="232"/>
                  <a:pt x="12" y="221"/>
                  <a:pt x="0" y="204"/>
                </a:cubicBezTo>
                <a:cubicBezTo>
                  <a:pt x="3" y="195"/>
                  <a:pt x="14" y="198"/>
                  <a:pt x="22" y="194"/>
                </a:cubicBezTo>
                <a:cubicBezTo>
                  <a:pt x="28" y="185"/>
                  <a:pt x="29" y="178"/>
                  <a:pt x="38" y="172"/>
                </a:cubicBezTo>
                <a:cubicBezTo>
                  <a:pt x="41" y="168"/>
                  <a:pt x="45" y="165"/>
                  <a:pt x="48" y="160"/>
                </a:cubicBezTo>
                <a:cubicBezTo>
                  <a:pt x="52" y="153"/>
                  <a:pt x="48" y="143"/>
                  <a:pt x="54" y="138"/>
                </a:cubicBezTo>
                <a:cubicBezTo>
                  <a:pt x="57" y="135"/>
                  <a:pt x="62" y="137"/>
                  <a:pt x="66" y="136"/>
                </a:cubicBezTo>
                <a:cubicBezTo>
                  <a:pt x="71" y="122"/>
                  <a:pt x="74" y="112"/>
                  <a:pt x="60" y="102"/>
                </a:cubicBezTo>
                <a:cubicBezTo>
                  <a:pt x="84" y="86"/>
                  <a:pt x="93" y="103"/>
                  <a:pt x="114" y="72"/>
                </a:cubicBezTo>
                <a:cubicBezTo>
                  <a:pt x="117" y="0"/>
                  <a:pt x="104" y="20"/>
                  <a:pt x="148" y="20"/>
                </a:cubicBezTo>
              </a:path>
            </a:pathLst>
          </a:custGeom>
          <a:solidFill>
            <a:srgbClr val="ff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36760" y="4946760"/>
            <a:ext cx="1042920" cy="1117440"/>
          </a:xfrm>
          <a:custGeom>
            <a:avLst/>
            <a:gdLst/>
            <a:ahLst/>
            <a:rect l="l" t="t" r="r" b="b"/>
            <a:pathLst>
              <a:path w="657" h="704">
                <a:moveTo>
                  <a:pt x="5" y="288"/>
                </a:moveTo>
                <a:cubicBezTo>
                  <a:pt x="7" y="276"/>
                  <a:pt x="0" y="269"/>
                  <a:pt x="11" y="264"/>
                </a:cubicBezTo>
                <a:cubicBezTo>
                  <a:pt x="16" y="249"/>
                  <a:pt x="31" y="246"/>
                  <a:pt x="45" y="242"/>
                </a:cubicBezTo>
                <a:cubicBezTo>
                  <a:pt x="49" y="231"/>
                  <a:pt x="51" y="226"/>
                  <a:pt x="59" y="218"/>
                </a:cubicBezTo>
                <a:cubicBezTo>
                  <a:pt x="62" y="205"/>
                  <a:pt x="68" y="200"/>
                  <a:pt x="79" y="192"/>
                </a:cubicBezTo>
                <a:cubicBezTo>
                  <a:pt x="93" y="197"/>
                  <a:pt x="93" y="199"/>
                  <a:pt x="103" y="196"/>
                </a:cubicBezTo>
                <a:cubicBezTo>
                  <a:pt x="110" y="191"/>
                  <a:pt x="114" y="185"/>
                  <a:pt x="121" y="180"/>
                </a:cubicBezTo>
                <a:cubicBezTo>
                  <a:pt x="129" y="177"/>
                  <a:pt x="141" y="176"/>
                  <a:pt x="151" y="176"/>
                </a:cubicBezTo>
                <a:cubicBezTo>
                  <a:pt x="161" y="176"/>
                  <a:pt x="175" y="189"/>
                  <a:pt x="181" y="182"/>
                </a:cubicBezTo>
                <a:cubicBezTo>
                  <a:pt x="192" y="175"/>
                  <a:pt x="188" y="157"/>
                  <a:pt x="185" y="136"/>
                </a:cubicBezTo>
                <a:cubicBezTo>
                  <a:pt x="182" y="115"/>
                  <a:pt x="167" y="79"/>
                  <a:pt x="161" y="58"/>
                </a:cubicBezTo>
                <a:cubicBezTo>
                  <a:pt x="156" y="29"/>
                  <a:pt x="150" y="16"/>
                  <a:pt x="149" y="8"/>
                </a:cubicBezTo>
                <a:cubicBezTo>
                  <a:pt x="152" y="0"/>
                  <a:pt x="166" y="5"/>
                  <a:pt x="179" y="12"/>
                </a:cubicBezTo>
                <a:cubicBezTo>
                  <a:pt x="192" y="19"/>
                  <a:pt x="214" y="38"/>
                  <a:pt x="225" y="48"/>
                </a:cubicBezTo>
                <a:cubicBezTo>
                  <a:pt x="232" y="58"/>
                  <a:pt x="229" y="67"/>
                  <a:pt x="243" y="70"/>
                </a:cubicBezTo>
                <a:cubicBezTo>
                  <a:pt x="253" y="73"/>
                  <a:pt x="272" y="62"/>
                  <a:pt x="285" y="60"/>
                </a:cubicBezTo>
                <a:cubicBezTo>
                  <a:pt x="298" y="58"/>
                  <a:pt x="299" y="58"/>
                  <a:pt x="323" y="60"/>
                </a:cubicBezTo>
                <a:cubicBezTo>
                  <a:pt x="347" y="59"/>
                  <a:pt x="406" y="67"/>
                  <a:pt x="429" y="70"/>
                </a:cubicBezTo>
                <a:cubicBezTo>
                  <a:pt x="452" y="72"/>
                  <a:pt x="461" y="68"/>
                  <a:pt x="459" y="72"/>
                </a:cubicBezTo>
                <a:cubicBezTo>
                  <a:pt x="472" y="89"/>
                  <a:pt x="495" y="144"/>
                  <a:pt x="509" y="170"/>
                </a:cubicBezTo>
                <a:cubicBezTo>
                  <a:pt x="520" y="193"/>
                  <a:pt x="531" y="217"/>
                  <a:pt x="537" y="230"/>
                </a:cubicBezTo>
                <a:cubicBezTo>
                  <a:pt x="545" y="246"/>
                  <a:pt x="552" y="249"/>
                  <a:pt x="555" y="264"/>
                </a:cubicBezTo>
                <a:cubicBezTo>
                  <a:pt x="557" y="275"/>
                  <a:pt x="537" y="286"/>
                  <a:pt x="555" y="318"/>
                </a:cubicBezTo>
                <a:lnTo>
                  <a:pt x="657" y="452"/>
                </a:lnTo>
                <a:lnTo>
                  <a:pt x="605" y="518"/>
                </a:lnTo>
                <a:lnTo>
                  <a:pt x="563" y="580"/>
                </a:lnTo>
                <a:cubicBezTo>
                  <a:pt x="532" y="618"/>
                  <a:pt x="489" y="661"/>
                  <a:pt x="471" y="680"/>
                </a:cubicBezTo>
                <a:cubicBezTo>
                  <a:pt x="465" y="686"/>
                  <a:pt x="460" y="689"/>
                  <a:pt x="453" y="694"/>
                </a:cubicBezTo>
                <a:cubicBezTo>
                  <a:pt x="446" y="704"/>
                  <a:pt x="431" y="697"/>
                  <a:pt x="419" y="696"/>
                </a:cubicBezTo>
                <a:cubicBezTo>
                  <a:pt x="405" y="691"/>
                  <a:pt x="392" y="684"/>
                  <a:pt x="377" y="680"/>
                </a:cubicBezTo>
                <a:cubicBezTo>
                  <a:pt x="368" y="674"/>
                  <a:pt x="358" y="675"/>
                  <a:pt x="349" y="670"/>
                </a:cubicBezTo>
                <a:cubicBezTo>
                  <a:pt x="326" y="658"/>
                  <a:pt x="317" y="654"/>
                  <a:pt x="289" y="652"/>
                </a:cubicBezTo>
                <a:cubicBezTo>
                  <a:pt x="271" y="647"/>
                  <a:pt x="262" y="647"/>
                  <a:pt x="239" y="644"/>
                </a:cubicBezTo>
                <a:cubicBezTo>
                  <a:pt x="240" y="626"/>
                  <a:pt x="239" y="602"/>
                  <a:pt x="245" y="584"/>
                </a:cubicBezTo>
                <a:cubicBezTo>
                  <a:pt x="243" y="562"/>
                  <a:pt x="248" y="556"/>
                  <a:pt x="233" y="546"/>
                </a:cubicBezTo>
                <a:cubicBezTo>
                  <a:pt x="228" y="531"/>
                  <a:pt x="219" y="515"/>
                  <a:pt x="205" y="506"/>
                </a:cubicBezTo>
                <a:cubicBezTo>
                  <a:pt x="195" y="491"/>
                  <a:pt x="189" y="475"/>
                  <a:pt x="179" y="460"/>
                </a:cubicBezTo>
                <a:cubicBezTo>
                  <a:pt x="178" y="443"/>
                  <a:pt x="176" y="426"/>
                  <a:pt x="171" y="410"/>
                </a:cubicBezTo>
                <a:cubicBezTo>
                  <a:pt x="169" y="367"/>
                  <a:pt x="181" y="358"/>
                  <a:pt x="147" y="352"/>
                </a:cubicBezTo>
                <a:cubicBezTo>
                  <a:pt x="135" y="344"/>
                  <a:pt x="112" y="330"/>
                  <a:pt x="97" y="326"/>
                </a:cubicBezTo>
                <a:cubicBezTo>
                  <a:pt x="71" y="309"/>
                  <a:pt x="48" y="296"/>
                  <a:pt x="17" y="294"/>
                </a:cubicBezTo>
                <a:cubicBezTo>
                  <a:pt x="12" y="292"/>
                  <a:pt x="7" y="293"/>
                  <a:pt x="3" y="290"/>
                </a:cubicBezTo>
                <a:cubicBezTo>
                  <a:pt x="1" y="289"/>
                  <a:pt x="0" y="285"/>
                  <a:pt x="1" y="284"/>
                </a:cubicBezTo>
                <a:cubicBezTo>
                  <a:pt x="2" y="283"/>
                  <a:pt x="4" y="287"/>
                  <a:pt x="5" y="288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6560" y="4346640"/>
            <a:ext cx="1218960" cy="1387440"/>
          </a:xfrm>
          <a:custGeom>
            <a:avLst/>
            <a:gdLst/>
            <a:ahLst/>
            <a:rect l="l" t="t" r="r" b="b"/>
            <a:pathLst>
              <a:path w="768" h="874">
                <a:moveTo>
                  <a:pt x="1" y="446"/>
                </a:moveTo>
                <a:cubicBezTo>
                  <a:pt x="11" y="444"/>
                  <a:pt x="27" y="447"/>
                  <a:pt x="47" y="446"/>
                </a:cubicBezTo>
                <a:cubicBezTo>
                  <a:pt x="67" y="445"/>
                  <a:pt x="92" y="442"/>
                  <a:pt x="119" y="442"/>
                </a:cubicBezTo>
                <a:cubicBezTo>
                  <a:pt x="146" y="442"/>
                  <a:pt x="191" y="446"/>
                  <a:pt x="207" y="444"/>
                </a:cubicBezTo>
                <a:cubicBezTo>
                  <a:pt x="226" y="442"/>
                  <a:pt x="224" y="438"/>
                  <a:pt x="231" y="428"/>
                </a:cubicBezTo>
                <a:cubicBezTo>
                  <a:pt x="240" y="414"/>
                  <a:pt x="236" y="399"/>
                  <a:pt x="249" y="386"/>
                </a:cubicBezTo>
                <a:cubicBezTo>
                  <a:pt x="255" y="368"/>
                  <a:pt x="258" y="336"/>
                  <a:pt x="247" y="320"/>
                </a:cubicBezTo>
                <a:cubicBezTo>
                  <a:pt x="248" y="313"/>
                  <a:pt x="248" y="307"/>
                  <a:pt x="249" y="300"/>
                </a:cubicBezTo>
                <a:cubicBezTo>
                  <a:pt x="250" y="296"/>
                  <a:pt x="253" y="288"/>
                  <a:pt x="253" y="288"/>
                </a:cubicBezTo>
                <a:cubicBezTo>
                  <a:pt x="254" y="281"/>
                  <a:pt x="241" y="265"/>
                  <a:pt x="253" y="260"/>
                </a:cubicBezTo>
                <a:cubicBezTo>
                  <a:pt x="263" y="254"/>
                  <a:pt x="298" y="258"/>
                  <a:pt x="311" y="254"/>
                </a:cubicBezTo>
                <a:cubicBezTo>
                  <a:pt x="316" y="239"/>
                  <a:pt x="326" y="250"/>
                  <a:pt x="329" y="238"/>
                </a:cubicBezTo>
                <a:cubicBezTo>
                  <a:pt x="330" y="227"/>
                  <a:pt x="313" y="206"/>
                  <a:pt x="327" y="198"/>
                </a:cubicBezTo>
                <a:cubicBezTo>
                  <a:pt x="331" y="196"/>
                  <a:pt x="341" y="188"/>
                  <a:pt x="345" y="186"/>
                </a:cubicBezTo>
                <a:cubicBezTo>
                  <a:pt x="349" y="183"/>
                  <a:pt x="351" y="185"/>
                  <a:pt x="355" y="182"/>
                </a:cubicBezTo>
                <a:cubicBezTo>
                  <a:pt x="357" y="181"/>
                  <a:pt x="367" y="172"/>
                  <a:pt x="367" y="172"/>
                </a:cubicBezTo>
                <a:cubicBezTo>
                  <a:pt x="371" y="161"/>
                  <a:pt x="370" y="149"/>
                  <a:pt x="355" y="144"/>
                </a:cubicBezTo>
                <a:cubicBezTo>
                  <a:pt x="357" y="134"/>
                  <a:pt x="370" y="125"/>
                  <a:pt x="379" y="122"/>
                </a:cubicBezTo>
                <a:cubicBezTo>
                  <a:pt x="388" y="119"/>
                  <a:pt x="401" y="128"/>
                  <a:pt x="407" y="124"/>
                </a:cubicBezTo>
                <a:cubicBezTo>
                  <a:pt x="406" y="117"/>
                  <a:pt x="407" y="104"/>
                  <a:pt x="413" y="100"/>
                </a:cubicBezTo>
                <a:cubicBezTo>
                  <a:pt x="423" y="93"/>
                  <a:pt x="423" y="87"/>
                  <a:pt x="435" y="84"/>
                </a:cubicBezTo>
                <a:cubicBezTo>
                  <a:pt x="443" y="79"/>
                  <a:pt x="452" y="76"/>
                  <a:pt x="457" y="68"/>
                </a:cubicBezTo>
                <a:cubicBezTo>
                  <a:pt x="467" y="78"/>
                  <a:pt x="464" y="78"/>
                  <a:pt x="485" y="72"/>
                </a:cubicBezTo>
                <a:cubicBezTo>
                  <a:pt x="489" y="71"/>
                  <a:pt x="492" y="57"/>
                  <a:pt x="495" y="54"/>
                </a:cubicBezTo>
                <a:cubicBezTo>
                  <a:pt x="508" y="39"/>
                  <a:pt x="511" y="18"/>
                  <a:pt x="525" y="4"/>
                </a:cubicBezTo>
                <a:cubicBezTo>
                  <a:pt x="535" y="0"/>
                  <a:pt x="541" y="14"/>
                  <a:pt x="553" y="28"/>
                </a:cubicBezTo>
                <a:cubicBezTo>
                  <a:pt x="561" y="38"/>
                  <a:pt x="585" y="75"/>
                  <a:pt x="595" y="86"/>
                </a:cubicBezTo>
                <a:cubicBezTo>
                  <a:pt x="610" y="106"/>
                  <a:pt x="632" y="136"/>
                  <a:pt x="643" y="148"/>
                </a:cubicBezTo>
                <a:cubicBezTo>
                  <a:pt x="658" y="167"/>
                  <a:pt x="675" y="189"/>
                  <a:pt x="685" y="200"/>
                </a:cubicBezTo>
                <a:cubicBezTo>
                  <a:pt x="699" y="217"/>
                  <a:pt x="716" y="235"/>
                  <a:pt x="725" y="252"/>
                </a:cubicBezTo>
                <a:cubicBezTo>
                  <a:pt x="728" y="262"/>
                  <a:pt x="735" y="286"/>
                  <a:pt x="737" y="304"/>
                </a:cubicBezTo>
                <a:cubicBezTo>
                  <a:pt x="740" y="320"/>
                  <a:pt x="768" y="332"/>
                  <a:pt x="743" y="346"/>
                </a:cubicBezTo>
                <a:cubicBezTo>
                  <a:pt x="719" y="360"/>
                  <a:pt x="618" y="366"/>
                  <a:pt x="591" y="386"/>
                </a:cubicBezTo>
                <a:cubicBezTo>
                  <a:pt x="564" y="406"/>
                  <a:pt x="587" y="444"/>
                  <a:pt x="583" y="464"/>
                </a:cubicBezTo>
                <a:cubicBezTo>
                  <a:pt x="579" y="484"/>
                  <a:pt x="576" y="490"/>
                  <a:pt x="569" y="504"/>
                </a:cubicBezTo>
                <a:cubicBezTo>
                  <a:pt x="559" y="521"/>
                  <a:pt x="556" y="521"/>
                  <a:pt x="525" y="568"/>
                </a:cubicBezTo>
                <a:cubicBezTo>
                  <a:pt x="498" y="608"/>
                  <a:pt x="407" y="747"/>
                  <a:pt x="381" y="786"/>
                </a:cubicBezTo>
                <a:cubicBezTo>
                  <a:pt x="346" y="837"/>
                  <a:pt x="332" y="864"/>
                  <a:pt x="317" y="874"/>
                </a:cubicBezTo>
                <a:cubicBezTo>
                  <a:pt x="312" y="871"/>
                  <a:pt x="299" y="854"/>
                  <a:pt x="291" y="848"/>
                </a:cubicBezTo>
                <a:cubicBezTo>
                  <a:pt x="286" y="846"/>
                  <a:pt x="272" y="841"/>
                  <a:pt x="267" y="840"/>
                </a:cubicBezTo>
                <a:cubicBezTo>
                  <a:pt x="250" y="838"/>
                  <a:pt x="215" y="836"/>
                  <a:pt x="215" y="836"/>
                </a:cubicBezTo>
                <a:cubicBezTo>
                  <a:pt x="208" y="834"/>
                  <a:pt x="200" y="835"/>
                  <a:pt x="193" y="832"/>
                </a:cubicBezTo>
                <a:cubicBezTo>
                  <a:pt x="180" y="820"/>
                  <a:pt x="148" y="780"/>
                  <a:pt x="139" y="766"/>
                </a:cubicBezTo>
                <a:cubicBezTo>
                  <a:pt x="130" y="752"/>
                  <a:pt x="149" y="763"/>
                  <a:pt x="141" y="750"/>
                </a:cubicBezTo>
                <a:cubicBezTo>
                  <a:pt x="129" y="734"/>
                  <a:pt x="102" y="705"/>
                  <a:pt x="93" y="686"/>
                </a:cubicBezTo>
                <a:cubicBezTo>
                  <a:pt x="90" y="675"/>
                  <a:pt x="96" y="657"/>
                  <a:pt x="87" y="634"/>
                </a:cubicBezTo>
                <a:cubicBezTo>
                  <a:pt x="79" y="612"/>
                  <a:pt x="50" y="570"/>
                  <a:pt x="43" y="552"/>
                </a:cubicBezTo>
                <a:cubicBezTo>
                  <a:pt x="29" y="521"/>
                  <a:pt x="0" y="464"/>
                  <a:pt x="1" y="446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52800" y="5675400"/>
            <a:ext cx="1062000" cy="1112760"/>
          </a:xfrm>
          <a:custGeom>
            <a:avLst/>
            <a:gdLst/>
            <a:ahLst/>
            <a:rect l="l" t="t" r="r" b="b"/>
            <a:pathLst>
              <a:path w="669" h="701">
                <a:moveTo>
                  <a:pt x="0" y="239"/>
                </a:moveTo>
                <a:cubicBezTo>
                  <a:pt x="6" y="235"/>
                  <a:pt x="12" y="229"/>
                  <a:pt x="18" y="225"/>
                </a:cubicBezTo>
                <a:cubicBezTo>
                  <a:pt x="35" y="208"/>
                  <a:pt x="86" y="156"/>
                  <a:pt x="102" y="139"/>
                </a:cubicBezTo>
                <a:cubicBezTo>
                  <a:pt x="105" y="131"/>
                  <a:pt x="110" y="131"/>
                  <a:pt x="116" y="125"/>
                </a:cubicBezTo>
                <a:cubicBezTo>
                  <a:pt x="121" y="109"/>
                  <a:pt x="113" y="128"/>
                  <a:pt x="124" y="117"/>
                </a:cubicBezTo>
                <a:cubicBezTo>
                  <a:pt x="131" y="108"/>
                  <a:pt x="147" y="83"/>
                  <a:pt x="156" y="69"/>
                </a:cubicBezTo>
                <a:cubicBezTo>
                  <a:pt x="160" y="56"/>
                  <a:pt x="162" y="36"/>
                  <a:pt x="176" y="31"/>
                </a:cubicBezTo>
                <a:cubicBezTo>
                  <a:pt x="179" y="21"/>
                  <a:pt x="203" y="7"/>
                  <a:pt x="212" y="1"/>
                </a:cubicBezTo>
                <a:cubicBezTo>
                  <a:pt x="237" y="2"/>
                  <a:pt x="261" y="0"/>
                  <a:pt x="286" y="3"/>
                </a:cubicBezTo>
                <a:cubicBezTo>
                  <a:pt x="303" y="6"/>
                  <a:pt x="306" y="14"/>
                  <a:pt x="314" y="19"/>
                </a:cubicBezTo>
                <a:cubicBezTo>
                  <a:pt x="320" y="28"/>
                  <a:pt x="323" y="31"/>
                  <a:pt x="334" y="33"/>
                </a:cubicBezTo>
                <a:cubicBezTo>
                  <a:pt x="352" y="52"/>
                  <a:pt x="405" y="112"/>
                  <a:pt x="426" y="137"/>
                </a:cubicBezTo>
                <a:cubicBezTo>
                  <a:pt x="451" y="167"/>
                  <a:pt x="462" y="183"/>
                  <a:pt x="486" y="213"/>
                </a:cubicBezTo>
                <a:cubicBezTo>
                  <a:pt x="504" y="236"/>
                  <a:pt x="555" y="296"/>
                  <a:pt x="570" y="319"/>
                </a:cubicBezTo>
                <a:cubicBezTo>
                  <a:pt x="588" y="362"/>
                  <a:pt x="584" y="440"/>
                  <a:pt x="592" y="469"/>
                </a:cubicBezTo>
                <a:cubicBezTo>
                  <a:pt x="600" y="498"/>
                  <a:pt x="610" y="484"/>
                  <a:pt x="618" y="495"/>
                </a:cubicBezTo>
                <a:cubicBezTo>
                  <a:pt x="631" y="517"/>
                  <a:pt x="667" y="581"/>
                  <a:pt x="668" y="599"/>
                </a:cubicBezTo>
                <a:cubicBezTo>
                  <a:pt x="669" y="618"/>
                  <a:pt x="638" y="606"/>
                  <a:pt x="624" y="611"/>
                </a:cubicBezTo>
                <a:cubicBezTo>
                  <a:pt x="610" y="616"/>
                  <a:pt x="596" y="619"/>
                  <a:pt x="584" y="627"/>
                </a:cubicBezTo>
                <a:cubicBezTo>
                  <a:pt x="568" y="636"/>
                  <a:pt x="546" y="645"/>
                  <a:pt x="530" y="655"/>
                </a:cubicBezTo>
                <a:cubicBezTo>
                  <a:pt x="514" y="665"/>
                  <a:pt x="518" y="701"/>
                  <a:pt x="488" y="685"/>
                </a:cubicBezTo>
                <a:cubicBezTo>
                  <a:pt x="461" y="665"/>
                  <a:pt x="383" y="589"/>
                  <a:pt x="348" y="557"/>
                </a:cubicBezTo>
                <a:cubicBezTo>
                  <a:pt x="332" y="541"/>
                  <a:pt x="302" y="515"/>
                  <a:pt x="278" y="493"/>
                </a:cubicBezTo>
                <a:cubicBezTo>
                  <a:pt x="257" y="476"/>
                  <a:pt x="230" y="450"/>
                  <a:pt x="202" y="425"/>
                </a:cubicBezTo>
                <a:cubicBezTo>
                  <a:pt x="185" y="412"/>
                  <a:pt x="132" y="360"/>
                  <a:pt x="112" y="343"/>
                </a:cubicBezTo>
                <a:cubicBezTo>
                  <a:pt x="106" y="338"/>
                  <a:pt x="105" y="336"/>
                  <a:pt x="86" y="319"/>
                </a:cubicBezTo>
                <a:cubicBezTo>
                  <a:pt x="70" y="304"/>
                  <a:pt x="11" y="255"/>
                  <a:pt x="0" y="239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89360" y="5886360"/>
            <a:ext cx="760320" cy="857520"/>
          </a:xfrm>
          <a:custGeom>
            <a:avLst/>
            <a:gdLst/>
            <a:ahLst/>
            <a:rect l="l" t="t" r="r" b="b"/>
            <a:pathLst>
              <a:path w="479" h="540">
                <a:moveTo>
                  <a:pt x="442" y="112"/>
                </a:moveTo>
                <a:cubicBezTo>
                  <a:pt x="455" y="131"/>
                  <a:pt x="457" y="137"/>
                  <a:pt x="478" y="144"/>
                </a:cubicBezTo>
                <a:cubicBezTo>
                  <a:pt x="477" y="204"/>
                  <a:pt x="479" y="264"/>
                  <a:pt x="476" y="324"/>
                </a:cubicBezTo>
                <a:cubicBezTo>
                  <a:pt x="473" y="356"/>
                  <a:pt x="472" y="318"/>
                  <a:pt x="462" y="338"/>
                </a:cubicBezTo>
                <a:cubicBezTo>
                  <a:pt x="442" y="374"/>
                  <a:pt x="379" y="508"/>
                  <a:pt x="358" y="540"/>
                </a:cubicBezTo>
                <a:lnTo>
                  <a:pt x="292" y="510"/>
                </a:lnTo>
                <a:cubicBezTo>
                  <a:pt x="267" y="499"/>
                  <a:pt x="230" y="498"/>
                  <a:pt x="210" y="476"/>
                </a:cubicBezTo>
                <a:cubicBezTo>
                  <a:pt x="187" y="452"/>
                  <a:pt x="167" y="386"/>
                  <a:pt x="154" y="364"/>
                </a:cubicBezTo>
                <a:cubicBezTo>
                  <a:pt x="141" y="342"/>
                  <a:pt x="137" y="350"/>
                  <a:pt x="132" y="342"/>
                </a:cubicBezTo>
                <a:cubicBezTo>
                  <a:pt x="129" y="329"/>
                  <a:pt x="135" y="327"/>
                  <a:pt x="126" y="318"/>
                </a:cubicBezTo>
                <a:cubicBezTo>
                  <a:pt x="122" y="279"/>
                  <a:pt x="118" y="239"/>
                  <a:pt x="114" y="200"/>
                </a:cubicBezTo>
                <a:cubicBezTo>
                  <a:pt x="114" y="197"/>
                  <a:pt x="105" y="171"/>
                  <a:pt x="104" y="170"/>
                </a:cubicBezTo>
                <a:cubicBezTo>
                  <a:pt x="86" y="146"/>
                  <a:pt x="7" y="84"/>
                  <a:pt x="8" y="56"/>
                </a:cubicBezTo>
                <a:cubicBezTo>
                  <a:pt x="0" y="31"/>
                  <a:pt x="41" y="33"/>
                  <a:pt x="58" y="24"/>
                </a:cubicBezTo>
                <a:cubicBezTo>
                  <a:pt x="75" y="15"/>
                  <a:pt x="75" y="0"/>
                  <a:pt x="112" y="2"/>
                </a:cubicBezTo>
                <a:cubicBezTo>
                  <a:pt x="149" y="4"/>
                  <a:pt x="243" y="27"/>
                  <a:pt x="282" y="34"/>
                </a:cubicBezTo>
                <a:cubicBezTo>
                  <a:pt x="321" y="41"/>
                  <a:pt x="335" y="41"/>
                  <a:pt x="346" y="42"/>
                </a:cubicBez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44960" y="1047600"/>
            <a:ext cx="4959360" cy="3805560"/>
          </a:xfrm>
          <a:custGeom>
            <a:avLst/>
            <a:gdLst/>
            <a:ahLst/>
            <a:rect l="l" t="t" r="r" b="b"/>
            <a:pathLst>
              <a:path w="3124" h="2397">
                <a:moveTo>
                  <a:pt x="0" y="1664"/>
                </a:moveTo>
                <a:lnTo>
                  <a:pt x="254" y="1431"/>
                </a:lnTo>
                <a:lnTo>
                  <a:pt x="338" y="1515"/>
                </a:lnTo>
                <a:cubicBezTo>
                  <a:pt x="484" y="1396"/>
                  <a:pt x="1009" y="858"/>
                  <a:pt x="1132" y="716"/>
                </a:cubicBezTo>
                <a:lnTo>
                  <a:pt x="1076" y="660"/>
                </a:lnTo>
                <a:lnTo>
                  <a:pt x="1787" y="0"/>
                </a:lnTo>
                <a:lnTo>
                  <a:pt x="3062" y="12"/>
                </a:lnTo>
                <a:lnTo>
                  <a:pt x="3124" y="1748"/>
                </a:lnTo>
                <a:lnTo>
                  <a:pt x="2324" y="1948"/>
                </a:lnTo>
                <a:lnTo>
                  <a:pt x="2009" y="2250"/>
                </a:lnTo>
                <a:lnTo>
                  <a:pt x="1568" y="2259"/>
                </a:lnTo>
                <a:lnTo>
                  <a:pt x="659" y="2037"/>
                </a:lnTo>
                <a:lnTo>
                  <a:pt x="80" y="2397"/>
                </a:ln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14640" y="3686040"/>
            <a:ext cx="1160640" cy="1467000"/>
          </a:xfrm>
          <a:custGeom>
            <a:avLst/>
            <a:gdLst/>
            <a:ahLst/>
            <a:rect l="l" t="t" r="r" b="b"/>
            <a:pathLst>
              <a:path w="731" h="924">
                <a:moveTo>
                  <a:pt x="731" y="732"/>
                </a:moveTo>
                <a:cubicBezTo>
                  <a:pt x="729" y="735"/>
                  <a:pt x="725" y="744"/>
                  <a:pt x="721" y="750"/>
                </a:cubicBezTo>
                <a:lnTo>
                  <a:pt x="631" y="838"/>
                </a:lnTo>
                <a:lnTo>
                  <a:pt x="531" y="924"/>
                </a:lnTo>
                <a:lnTo>
                  <a:pt x="331" y="868"/>
                </a:lnTo>
                <a:lnTo>
                  <a:pt x="291" y="844"/>
                </a:lnTo>
                <a:lnTo>
                  <a:pt x="223" y="766"/>
                </a:lnTo>
                <a:lnTo>
                  <a:pt x="197" y="666"/>
                </a:lnTo>
                <a:lnTo>
                  <a:pt x="1" y="410"/>
                </a:lnTo>
                <a:cubicBezTo>
                  <a:pt x="0" y="401"/>
                  <a:pt x="9" y="396"/>
                  <a:pt x="17" y="382"/>
                </a:cubicBezTo>
                <a:cubicBezTo>
                  <a:pt x="20" y="361"/>
                  <a:pt x="29" y="340"/>
                  <a:pt x="47" y="328"/>
                </a:cubicBezTo>
                <a:cubicBezTo>
                  <a:pt x="61" y="319"/>
                  <a:pt x="80" y="327"/>
                  <a:pt x="97" y="326"/>
                </a:cubicBezTo>
                <a:cubicBezTo>
                  <a:pt x="119" y="322"/>
                  <a:pt x="124" y="321"/>
                  <a:pt x="153" y="320"/>
                </a:cubicBezTo>
                <a:cubicBezTo>
                  <a:pt x="155" y="301"/>
                  <a:pt x="152" y="282"/>
                  <a:pt x="157" y="264"/>
                </a:cubicBezTo>
                <a:cubicBezTo>
                  <a:pt x="160" y="254"/>
                  <a:pt x="175" y="252"/>
                  <a:pt x="181" y="244"/>
                </a:cubicBezTo>
                <a:cubicBezTo>
                  <a:pt x="180" y="231"/>
                  <a:pt x="169" y="217"/>
                  <a:pt x="167" y="204"/>
                </a:cubicBezTo>
                <a:cubicBezTo>
                  <a:pt x="166" y="198"/>
                  <a:pt x="173" y="186"/>
                  <a:pt x="173" y="186"/>
                </a:cubicBezTo>
                <a:cubicBezTo>
                  <a:pt x="177" y="173"/>
                  <a:pt x="177" y="172"/>
                  <a:pt x="189" y="168"/>
                </a:cubicBezTo>
                <a:cubicBezTo>
                  <a:pt x="198" y="159"/>
                  <a:pt x="198" y="153"/>
                  <a:pt x="211" y="150"/>
                </a:cubicBezTo>
                <a:cubicBezTo>
                  <a:pt x="219" y="146"/>
                  <a:pt x="222" y="141"/>
                  <a:pt x="229" y="136"/>
                </a:cubicBezTo>
                <a:cubicBezTo>
                  <a:pt x="246" y="148"/>
                  <a:pt x="233" y="123"/>
                  <a:pt x="237" y="118"/>
                </a:cubicBezTo>
                <a:cubicBezTo>
                  <a:pt x="240" y="114"/>
                  <a:pt x="246" y="119"/>
                  <a:pt x="251" y="120"/>
                </a:cubicBezTo>
                <a:cubicBezTo>
                  <a:pt x="260" y="123"/>
                  <a:pt x="274" y="123"/>
                  <a:pt x="281" y="130"/>
                </a:cubicBezTo>
                <a:cubicBezTo>
                  <a:pt x="297" y="128"/>
                  <a:pt x="303" y="129"/>
                  <a:pt x="317" y="120"/>
                </a:cubicBezTo>
                <a:cubicBezTo>
                  <a:pt x="336" y="122"/>
                  <a:pt x="331" y="122"/>
                  <a:pt x="343" y="134"/>
                </a:cubicBezTo>
                <a:cubicBezTo>
                  <a:pt x="373" y="132"/>
                  <a:pt x="355" y="123"/>
                  <a:pt x="375" y="116"/>
                </a:cubicBezTo>
                <a:cubicBezTo>
                  <a:pt x="379" y="129"/>
                  <a:pt x="382" y="152"/>
                  <a:pt x="395" y="160"/>
                </a:cubicBezTo>
                <a:cubicBezTo>
                  <a:pt x="401" y="154"/>
                  <a:pt x="401" y="148"/>
                  <a:pt x="407" y="142"/>
                </a:cubicBezTo>
                <a:cubicBezTo>
                  <a:pt x="412" y="137"/>
                  <a:pt x="419" y="136"/>
                  <a:pt x="425" y="132"/>
                </a:cubicBezTo>
                <a:cubicBezTo>
                  <a:pt x="505" y="135"/>
                  <a:pt x="454" y="139"/>
                  <a:pt x="487" y="150"/>
                </a:cubicBezTo>
                <a:lnTo>
                  <a:pt x="647" y="0"/>
                </a:ln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92440" y="4857840"/>
            <a:ext cx="1641600" cy="1251000"/>
          </a:xfrm>
          <a:custGeom>
            <a:avLst/>
            <a:gdLst/>
            <a:ahLst/>
            <a:rect l="l" t="t" r="r" b="b"/>
            <a:pathLst>
              <a:path w="1034" h="788">
                <a:moveTo>
                  <a:pt x="940" y="0"/>
                </a:moveTo>
                <a:lnTo>
                  <a:pt x="1034" y="130"/>
                </a:lnTo>
                <a:lnTo>
                  <a:pt x="1012" y="218"/>
                </a:lnTo>
                <a:lnTo>
                  <a:pt x="948" y="186"/>
                </a:lnTo>
                <a:lnTo>
                  <a:pt x="892" y="208"/>
                </a:lnTo>
                <a:lnTo>
                  <a:pt x="898" y="340"/>
                </a:lnTo>
                <a:cubicBezTo>
                  <a:pt x="898" y="342"/>
                  <a:pt x="916" y="348"/>
                  <a:pt x="918" y="350"/>
                </a:cubicBezTo>
                <a:cubicBezTo>
                  <a:pt x="927" y="357"/>
                  <a:pt x="943" y="372"/>
                  <a:pt x="950" y="380"/>
                </a:cubicBezTo>
                <a:cubicBezTo>
                  <a:pt x="954" y="383"/>
                  <a:pt x="962" y="396"/>
                  <a:pt x="962" y="396"/>
                </a:cubicBezTo>
                <a:cubicBezTo>
                  <a:pt x="965" y="409"/>
                  <a:pt x="974" y="424"/>
                  <a:pt x="982" y="436"/>
                </a:cubicBezTo>
                <a:lnTo>
                  <a:pt x="986" y="576"/>
                </a:lnTo>
                <a:cubicBezTo>
                  <a:pt x="985" y="604"/>
                  <a:pt x="985" y="583"/>
                  <a:pt x="976" y="604"/>
                </a:cubicBezTo>
                <a:lnTo>
                  <a:pt x="932" y="700"/>
                </a:lnTo>
                <a:lnTo>
                  <a:pt x="784" y="740"/>
                </a:lnTo>
                <a:lnTo>
                  <a:pt x="602" y="788"/>
                </a:lnTo>
                <a:lnTo>
                  <a:pt x="460" y="690"/>
                </a:lnTo>
                <a:cubicBezTo>
                  <a:pt x="424" y="672"/>
                  <a:pt x="409" y="682"/>
                  <a:pt x="388" y="678"/>
                </a:cubicBezTo>
                <a:cubicBezTo>
                  <a:pt x="370" y="676"/>
                  <a:pt x="354" y="670"/>
                  <a:pt x="336" y="668"/>
                </a:cubicBezTo>
                <a:lnTo>
                  <a:pt x="224" y="656"/>
                </a:lnTo>
                <a:lnTo>
                  <a:pt x="130" y="702"/>
                </a:lnTo>
                <a:cubicBezTo>
                  <a:pt x="125" y="694"/>
                  <a:pt x="119" y="689"/>
                  <a:pt x="116" y="680"/>
                </a:cubicBezTo>
                <a:cubicBezTo>
                  <a:pt x="113" y="671"/>
                  <a:pt x="106" y="668"/>
                  <a:pt x="102" y="660"/>
                </a:cubicBezTo>
                <a:cubicBezTo>
                  <a:pt x="87" y="644"/>
                  <a:pt x="43" y="602"/>
                  <a:pt x="26" y="584"/>
                </a:cubicBezTo>
                <a:lnTo>
                  <a:pt x="0" y="554"/>
                </a:lnTo>
                <a:lnTo>
                  <a:pt x="150" y="332"/>
                </a:lnTo>
                <a:lnTo>
                  <a:pt x="258" y="142"/>
                </a:lnTo>
                <a:lnTo>
                  <a:pt x="270" y="64"/>
                </a:lnTo>
                <a:lnTo>
                  <a:pt x="422" y="22"/>
                </a:lnTo>
                <a:lnTo>
                  <a:pt x="488" y="104"/>
                </a:lnTo>
                <a:lnTo>
                  <a:pt x="536" y="130"/>
                </a:lnTo>
                <a:lnTo>
                  <a:pt x="634" y="156"/>
                </a:lnTo>
                <a:lnTo>
                  <a:pt x="740" y="182"/>
                </a:lnTo>
                <a:lnTo>
                  <a:pt x="942" y="2"/>
                </a:lnTo>
                <a:cubicBezTo>
                  <a:pt x="943" y="0"/>
                  <a:pt x="940" y="0"/>
                  <a:pt x="942" y="0"/>
                </a:cubicBezTo>
                <a:cubicBezTo>
                  <a:pt x="942" y="0"/>
                  <a:pt x="940" y="0"/>
                  <a:pt x="940" y="0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1560" y="4422600"/>
            <a:ext cx="1197000" cy="1479600"/>
          </a:xfrm>
          <a:custGeom>
            <a:avLst/>
            <a:gdLst/>
            <a:ahLst/>
            <a:rect l="l" t="t" r="r" b="b"/>
            <a:pathLst>
              <a:path w="754" h="932">
                <a:moveTo>
                  <a:pt x="46" y="268"/>
                </a:moveTo>
                <a:lnTo>
                  <a:pt x="486" y="0"/>
                </a:lnTo>
                <a:cubicBezTo>
                  <a:pt x="487" y="39"/>
                  <a:pt x="493" y="38"/>
                  <a:pt x="512" y="130"/>
                </a:cubicBezTo>
                <a:lnTo>
                  <a:pt x="602" y="552"/>
                </a:lnTo>
                <a:lnTo>
                  <a:pt x="702" y="740"/>
                </a:lnTo>
                <a:cubicBezTo>
                  <a:pt x="709" y="758"/>
                  <a:pt x="754" y="768"/>
                  <a:pt x="734" y="800"/>
                </a:cubicBezTo>
                <a:lnTo>
                  <a:pt x="584" y="932"/>
                </a:lnTo>
                <a:lnTo>
                  <a:pt x="258" y="794"/>
                </a:lnTo>
                <a:lnTo>
                  <a:pt x="92" y="850"/>
                </a:lnTo>
                <a:cubicBezTo>
                  <a:pt x="101" y="877"/>
                  <a:pt x="92" y="856"/>
                  <a:pt x="94" y="806"/>
                </a:cubicBezTo>
                <a:lnTo>
                  <a:pt x="90" y="706"/>
                </a:lnTo>
                <a:cubicBezTo>
                  <a:pt x="88" y="703"/>
                  <a:pt x="70" y="671"/>
                  <a:pt x="68" y="668"/>
                </a:cubicBezTo>
                <a:cubicBezTo>
                  <a:pt x="66" y="665"/>
                  <a:pt x="62" y="663"/>
                  <a:pt x="60" y="660"/>
                </a:cubicBezTo>
                <a:cubicBezTo>
                  <a:pt x="50" y="649"/>
                  <a:pt x="16" y="633"/>
                  <a:pt x="6" y="604"/>
                </a:cubicBezTo>
                <a:lnTo>
                  <a:pt x="0" y="488"/>
                </a:lnTo>
                <a:lnTo>
                  <a:pt x="58" y="464"/>
                </a:lnTo>
                <a:lnTo>
                  <a:pt x="110" y="496"/>
                </a:lnTo>
                <a:cubicBezTo>
                  <a:pt x="123" y="483"/>
                  <a:pt x="131" y="408"/>
                  <a:pt x="134" y="388"/>
                </a:cubicBezTo>
                <a:cubicBezTo>
                  <a:pt x="134" y="381"/>
                  <a:pt x="128" y="384"/>
                  <a:pt x="130" y="376"/>
                </a:cubicBezTo>
                <a:lnTo>
                  <a:pt x="46" y="268"/>
                </a:ln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83040" y="4286160"/>
            <a:ext cx="1654200" cy="1575000"/>
          </a:xfrm>
          <a:custGeom>
            <a:avLst/>
            <a:gdLst/>
            <a:ahLst/>
            <a:rect l="l" t="t" r="r" b="b"/>
            <a:pathLst>
              <a:path w="1042" h="992">
                <a:moveTo>
                  <a:pt x="0" y="84"/>
                </a:moveTo>
                <a:lnTo>
                  <a:pt x="146" y="0"/>
                </a:lnTo>
                <a:lnTo>
                  <a:pt x="1042" y="238"/>
                </a:lnTo>
                <a:lnTo>
                  <a:pt x="1012" y="364"/>
                </a:lnTo>
                <a:lnTo>
                  <a:pt x="924" y="334"/>
                </a:lnTo>
                <a:lnTo>
                  <a:pt x="652" y="694"/>
                </a:lnTo>
                <a:lnTo>
                  <a:pt x="604" y="992"/>
                </a:lnTo>
                <a:lnTo>
                  <a:pt x="250" y="880"/>
                </a:lnTo>
                <a:lnTo>
                  <a:pt x="114" y="630"/>
                </a:lnTo>
                <a:lnTo>
                  <a:pt x="102" y="544"/>
                </a:lnTo>
                <a:lnTo>
                  <a:pt x="2" y="86"/>
                </a:ln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333360"/>
            <a:ext cx="67244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d7afff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d7afff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TC centers of the "North-West Air Navigation" branch</a:t>
            </a:r>
            <a:endParaRPr b="0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d7afff">
                  <a:alpha val="99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191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Kaliningrad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5516640"/>
            <a:ext cx="99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Velik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Luki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515772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St.Petersb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458136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Petrozavod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58770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Volog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149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Murman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2819520"/>
            <a:ext cx="144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Murman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Oceanic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60930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Kot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522936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rkhangel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5589720"/>
            <a:ext cx="1147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Leshukonsko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uxiliary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48690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Naryan-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uxiliary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4653000"/>
            <a:ext cx="91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mde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29600" y="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US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83664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Iceland FI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2205000"/>
            <a:ext cx="1209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Norway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63640" y="3716280"/>
            <a:ext cx="122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Finland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495680"/>
            <a:ext cx="122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Estoni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72428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Lithuani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941720"/>
            <a:ext cx="11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Latvi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00640"/>
            <a:ext cx="111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Poland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56272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Belarus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860640"/>
            <a:ext cx="118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Sweden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268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rvice area of the ACC services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3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llio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q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m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,3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llio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q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m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rspace above the Arctic Ocea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146160" y="260280"/>
            <a:ext cx="9290160" cy="6337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36760" y="358920"/>
            <a:ext cx="6807240" cy="4998960"/>
          </a:xfrm>
          <a:custGeom>
            <a:avLst/>
            <a:gdLst/>
            <a:ahLst/>
            <a:rect l="l" t="t" r="r" b="b"/>
            <a:pathLst>
              <a:path w="4288" h="3149">
                <a:moveTo>
                  <a:pt x="0" y="2159"/>
                </a:moveTo>
                <a:lnTo>
                  <a:pt x="442" y="1871"/>
                </a:lnTo>
                <a:lnTo>
                  <a:pt x="539" y="2011"/>
                </a:lnTo>
                <a:lnTo>
                  <a:pt x="1744" y="1167"/>
                </a:lnTo>
                <a:lnTo>
                  <a:pt x="1701" y="1097"/>
                </a:lnTo>
                <a:lnTo>
                  <a:pt x="3288" y="95"/>
                </a:lnTo>
                <a:lnTo>
                  <a:pt x="3813" y="0"/>
                </a:lnTo>
                <a:lnTo>
                  <a:pt x="4288" y="2119"/>
                </a:lnTo>
                <a:lnTo>
                  <a:pt x="4284" y="2391"/>
                </a:lnTo>
                <a:lnTo>
                  <a:pt x="3264" y="2755"/>
                </a:lnTo>
                <a:lnTo>
                  <a:pt x="2862" y="3108"/>
                </a:lnTo>
                <a:lnTo>
                  <a:pt x="2200" y="3143"/>
                </a:lnTo>
                <a:lnTo>
                  <a:pt x="969" y="2779"/>
                </a:lnTo>
                <a:lnTo>
                  <a:pt x="22" y="3149"/>
                </a:ln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3440" y="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Anch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</a:t>
            </a: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Revised: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0.25.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610600">
            <a:off x="6469200" y="314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 4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4831800">
            <a:off x="7984080" y="2614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 4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4528800">
            <a:off x="7096320" y="27594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B 9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668800">
            <a:off x="7450920" y="26463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 4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0720" y="2637000"/>
            <a:ext cx="109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Bod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02.15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1080" y="981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REYKJAV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</a:t>
            </a: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Revised: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0.25.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20840"/>
            <a:ext cx="4572000" cy="2288520"/>
          </a:xfrm>
          <a:prstGeom prst="rect">
            <a:avLst/>
          </a:prstGeom>
          <a:solidFill>
            <a:srgbClr val="ccffc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greement on coordination procedures between Anchorage ARTCC,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ykjavik OACC,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odø ATCC and Murmansk ACC was amended. The longitudinal separation for flights at the same level in the same direction was reduced to 10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520" y="4678200"/>
            <a:ext cx="2781360" cy="1204920"/>
          </a:xfrm>
          <a:custGeom>
            <a:avLst/>
            <a:gdLst/>
            <a:ahLst/>
            <a:rect l="l" t="t" r="r" b="b"/>
            <a:pathLst>
              <a:path w="1752" h="759">
                <a:moveTo>
                  <a:pt x="0" y="0"/>
                </a:moveTo>
                <a:lnTo>
                  <a:pt x="639" y="322"/>
                </a:lnTo>
                <a:lnTo>
                  <a:pt x="1067" y="528"/>
                </a:lnTo>
                <a:lnTo>
                  <a:pt x="1752" y="759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1760" y="3716280"/>
            <a:ext cx="7405920" cy="1283040"/>
          </a:xfrm>
          <a:prstGeom prst="rect">
            <a:avLst/>
          </a:prstGeom>
          <a:solidFill>
            <a:srgbClr val="66ff9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360 (GATRI – RINOV) –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nce 5 September 2008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TAM A5212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/0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light operation  with 15-minute separation between aircra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ceeding  in the same direction has been orga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-107280" y="4221000"/>
            <a:ext cx="973080" cy="398880"/>
          </a:xfrm>
          <a:prstGeom prst="rect">
            <a:avLst/>
          </a:prstGeom>
          <a:solidFill>
            <a:srgbClr val="66ff9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A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9320" y="5892840"/>
            <a:ext cx="1697040" cy="70488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61640" y="5589720"/>
            <a:ext cx="1672920" cy="398880"/>
          </a:xfrm>
          <a:prstGeom prst="rect">
            <a:avLst/>
          </a:prstGeom>
          <a:solidFill>
            <a:srgbClr val="66ff9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46160" y="260280"/>
            <a:ext cx="9290160" cy="633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36760" y="358920"/>
            <a:ext cx="6807240" cy="4998960"/>
          </a:xfrm>
          <a:custGeom>
            <a:avLst/>
            <a:gdLst/>
            <a:ahLst/>
            <a:rect l="l" t="t" r="r" b="b"/>
            <a:pathLst>
              <a:path w="4288" h="3149">
                <a:moveTo>
                  <a:pt x="0" y="2159"/>
                </a:moveTo>
                <a:lnTo>
                  <a:pt x="442" y="1871"/>
                </a:lnTo>
                <a:lnTo>
                  <a:pt x="539" y="2011"/>
                </a:lnTo>
                <a:lnTo>
                  <a:pt x="1744" y="1167"/>
                </a:lnTo>
                <a:lnTo>
                  <a:pt x="1701" y="1097"/>
                </a:lnTo>
                <a:lnTo>
                  <a:pt x="3288" y="95"/>
                </a:lnTo>
                <a:lnTo>
                  <a:pt x="3813" y="0"/>
                </a:lnTo>
                <a:lnTo>
                  <a:pt x="4288" y="2119"/>
                </a:lnTo>
                <a:lnTo>
                  <a:pt x="4284" y="2391"/>
                </a:lnTo>
                <a:lnTo>
                  <a:pt x="3264" y="2755"/>
                </a:lnTo>
                <a:lnTo>
                  <a:pt x="2862" y="3108"/>
                </a:lnTo>
                <a:lnTo>
                  <a:pt x="2200" y="3143"/>
                </a:lnTo>
                <a:lnTo>
                  <a:pt x="969" y="2779"/>
                </a:lnTo>
                <a:lnTo>
                  <a:pt x="22" y="3149"/>
                </a:ln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33880" y="3543480"/>
            <a:ext cx="68040" cy="1447560"/>
          </a:xfrm>
          <a:custGeom>
            <a:avLst/>
            <a:gdLst/>
            <a:ahLst/>
            <a:rect l="l" t="t" r="r" b="b"/>
            <a:pathLst>
              <a:path w="43" h="912">
                <a:moveTo>
                  <a:pt x="0" y="0"/>
                </a:moveTo>
                <a:lnTo>
                  <a:pt x="43" y="912"/>
                </a:ln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86280" y="4986360"/>
            <a:ext cx="214200" cy="1633680"/>
          </a:xfrm>
          <a:custGeom>
            <a:avLst/>
            <a:gdLst/>
            <a:ahLst/>
            <a:rect l="l" t="t" r="r" b="b"/>
            <a:pathLst>
              <a:path w="135" h="1029">
                <a:moveTo>
                  <a:pt x="135" y="0"/>
                </a:moveTo>
                <a:lnTo>
                  <a:pt x="0" y="1029"/>
                </a:ln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20040" y="1528920"/>
            <a:ext cx="219240" cy="2261880"/>
          </a:xfrm>
          <a:custGeom>
            <a:avLst/>
            <a:gdLst/>
            <a:ahLst/>
            <a:rect l="l" t="t" r="r" b="b"/>
            <a:pathLst>
              <a:path w="138" h="1425">
                <a:moveTo>
                  <a:pt x="0" y="1425"/>
                </a:moveTo>
                <a:lnTo>
                  <a:pt x="138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643960" y="281160"/>
            <a:ext cx="185760" cy="12096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02560" y="1501920"/>
            <a:ext cx="71640" cy="36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31600" y="12682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8331,1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12736,3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8720" y="115920"/>
            <a:ext cx="5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RAM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98960" y="3516480"/>
            <a:ext cx="71280" cy="36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1600" y="335772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7402,7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03500,6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30880" y="486900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7131,0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04623,0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62320" y="4957920"/>
            <a:ext cx="71280" cy="36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0080" y="2349360"/>
            <a:ext cx="41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or flights between the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astern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f Northern America and Indi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520" y="4678200"/>
            <a:ext cx="4452840" cy="1903680"/>
          </a:xfrm>
          <a:custGeom>
            <a:avLst/>
            <a:gdLst/>
            <a:ahLst/>
            <a:rect l="l" t="t" r="r" b="b"/>
            <a:pathLst>
              <a:path w="2805" h="1199">
                <a:moveTo>
                  <a:pt x="0" y="0"/>
                </a:moveTo>
                <a:lnTo>
                  <a:pt x="1017" y="509"/>
                </a:lnTo>
                <a:lnTo>
                  <a:pt x="1752" y="754"/>
                </a:lnTo>
                <a:lnTo>
                  <a:pt x="2805" y="1199"/>
                </a:ln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549360"/>
            <a:ext cx="3456000" cy="368280"/>
          </a:xfrm>
          <a:prstGeom prst="rect">
            <a:avLst/>
          </a:prstGeom>
          <a:solidFill>
            <a:srgbClr val="99cc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- - -  Ready for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600" y="1657440"/>
            <a:ext cx="914400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 survey of the positions of the receiving and transmitting radio centers of HF radio communications was carried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 A Requirement specification was developed on radio-receiving and transmitting HF facilities, antenna-feeder de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 A S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tat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ontract for work on equipment on HF radi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acilities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has been developed. The projec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ill be copmpleted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in March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The equipment will be put into operation in about January 2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Oceanic Sector is equipped with the track according to the plan in Alpha-3 system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040" y="417600"/>
            <a:ext cx="8226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tivities to improve the quality of HF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the Oceanic Sector of Murmansk ACC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16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836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e of FL360 (320,340,430) RVSM in the AoR of Oceanic Sector of Murmansk ACC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6000" y="2298600"/>
            <a:ext cx="89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ch separation standards are not included in the national regulations;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60" y="3357720"/>
            <a:ext cx="891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roduction of RVSM is within the competence of specially author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it in the field of air navigation services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920" y="4838760"/>
            <a:ext cx="891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L suggested could lead to a breach of vertical separation betwe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ircraft in terms of HF communications and a lack of radar control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9280" y="2205000"/>
            <a:ext cx="29527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10240" y="1641600"/>
            <a:ext cx="3168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649120" y="1425960"/>
            <a:ext cx="793800" cy="177480"/>
            <a:chOff x="5649120" y="1425960"/>
            <a:chExt cx="793800" cy="177480"/>
          </a:xfrm>
        </p:grpSpPr>
        <p:sp>
          <p:nvSpPr>
            <p:cNvPr id="140" name=""/>
            <p:cNvSpPr/>
            <p:nvPr/>
          </p:nvSpPr>
          <p:spPr>
            <a:xfrm rot="21463800">
              <a:off x="5651640" y="1441440"/>
              <a:ext cx="788760" cy="146160"/>
            </a:xfrm>
            <a:custGeom>
              <a:avLst/>
              <a:gdLst/>
              <a:ahLst/>
              <a:rect l="l" t="t" r="r" b="b"/>
              <a:pathLst>
                <a:path w="10932" h="2518">
                  <a:moveTo>
                    <a:pt x="1126" y="2296"/>
                  </a:moveTo>
                  <a:cubicBezTo>
                    <a:pt x="0" y="2147"/>
                    <a:pt x="1283" y="1722"/>
                    <a:pt x="2316" y="1594"/>
                  </a:cubicBezTo>
                  <a:cubicBezTo>
                    <a:pt x="3349" y="1466"/>
                    <a:pt x="6206" y="1726"/>
                    <a:pt x="7323" y="1528"/>
                  </a:cubicBezTo>
                  <a:cubicBezTo>
                    <a:pt x="8440" y="1330"/>
                    <a:pt x="8711" y="647"/>
                    <a:pt x="9016" y="407"/>
                  </a:cubicBezTo>
                  <a:cubicBezTo>
                    <a:pt x="9321" y="167"/>
                    <a:pt x="8878" y="154"/>
                    <a:pt x="9156" y="88"/>
                  </a:cubicBezTo>
                  <a:cubicBezTo>
                    <a:pt x="9434" y="22"/>
                    <a:pt x="10436" y="0"/>
                    <a:pt x="10684" y="13"/>
                  </a:cubicBezTo>
                  <a:cubicBezTo>
                    <a:pt x="10932" y="26"/>
                    <a:pt x="10755" y="39"/>
                    <a:pt x="10645" y="165"/>
                  </a:cubicBezTo>
                  <a:cubicBezTo>
                    <a:pt x="10536" y="291"/>
                    <a:pt x="10251" y="487"/>
                    <a:pt x="10030" y="774"/>
                  </a:cubicBezTo>
                  <a:cubicBezTo>
                    <a:pt x="9809" y="1061"/>
                    <a:pt x="9449" y="1664"/>
                    <a:pt x="9320" y="1888"/>
                  </a:cubicBezTo>
                  <a:cubicBezTo>
                    <a:pt x="9191" y="2112"/>
                    <a:pt x="9210" y="2041"/>
                    <a:pt x="9254" y="2117"/>
                  </a:cubicBezTo>
                  <a:cubicBezTo>
                    <a:pt x="9298" y="2193"/>
                    <a:pt x="9663" y="2281"/>
                    <a:pt x="9581" y="2346"/>
                  </a:cubicBezTo>
                  <a:cubicBezTo>
                    <a:pt x="9499" y="2411"/>
                    <a:pt x="10172" y="2518"/>
                    <a:pt x="8763" y="2510"/>
                  </a:cubicBezTo>
                  <a:cubicBezTo>
                    <a:pt x="7354" y="2502"/>
                    <a:pt x="2717" y="2341"/>
                    <a:pt x="1126" y="229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266880" y="1455120"/>
              <a:ext cx="108720" cy="49320"/>
              <a:chOff x="6266880" y="1455120"/>
              <a:chExt cx="108720" cy="49320"/>
            </a:xfrm>
          </p:grpSpPr>
          <p:sp>
            <p:nvSpPr>
              <p:cNvPr id="142" name=""/>
              <p:cNvSpPr/>
              <p:nvPr/>
            </p:nvSpPr>
            <p:spPr>
              <a:xfrm flipH="1" rot="482400">
                <a:off x="6276960" y="1461600"/>
                <a:ext cx="96840" cy="30960"/>
              </a:xfrm>
              <a:custGeom>
                <a:avLst/>
                <a:gdLst>
                  <a:gd name="textAreaLeft" fmla="*/ 19080 w 96840"/>
                  <a:gd name="textAreaRight" fmla="*/ 77400 w 96840"/>
                  <a:gd name="textAreaTop" fmla="*/ 6120 h 30960"/>
                  <a:gd name="textAreaBottom" fmla="*/ 24840 h 3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rot="482400">
                <a:off x="6274440" y="1467000"/>
                <a:ext cx="95040" cy="27720"/>
              </a:xfrm>
              <a:custGeom>
                <a:avLst/>
                <a:gdLst>
                  <a:gd name="textAreaLeft" fmla="*/ 19440 w 95040"/>
                  <a:gd name="textAreaRight" fmla="*/ 76680 w 95040"/>
                  <a:gd name="textAreaTop" fmla="*/ 5400 h 27720"/>
                  <a:gd name="textAreaBottom" fmla="*/ 22320 h 2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rot="482400">
                <a:off x="6267600" y="1472760"/>
                <a:ext cx="97200" cy="24840"/>
              </a:xfrm>
              <a:custGeom>
                <a:avLst/>
                <a:gdLst>
                  <a:gd name="textAreaLeft" fmla="*/ 19440 w 97200"/>
                  <a:gd name="textAreaRight" fmla="*/ 77760 w 97200"/>
                  <a:gd name="textAreaTop" fmla="*/ 5040 h 24840"/>
                  <a:gd name="textAreaBottom" fmla="*/ 19800 h 2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263320" y="1957680"/>
            <a:ext cx="799920" cy="202680"/>
            <a:chOff x="2263320" y="1957680"/>
            <a:chExt cx="799920" cy="202680"/>
          </a:xfrm>
        </p:grpSpPr>
        <p:sp>
          <p:nvSpPr>
            <p:cNvPr id="146" name=""/>
            <p:cNvSpPr/>
            <p:nvPr/>
          </p:nvSpPr>
          <p:spPr>
            <a:xfrm flipV="1" rot="10933800">
              <a:off x="2266200" y="1972800"/>
              <a:ext cx="793800" cy="171720"/>
            </a:xfrm>
            <a:custGeom>
              <a:avLst/>
              <a:gdLst/>
              <a:ahLst/>
              <a:rect l="l" t="t" r="r" b="b"/>
              <a:pathLst>
                <a:path w="10932" h="2518">
                  <a:moveTo>
                    <a:pt x="1126" y="2296"/>
                  </a:moveTo>
                  <a:cubicBezTo>
                    <a:pt x="0" y="2147"/>
                    <a:pt x="1283" y="1722"/>
                    <a:pt x="2316" y="1594"/>
                  </a:cubicBezTo>
                  <a:cubicBezTo>
                    <a:pt x="3349" y="1466"/>
                    <a:pt x="6206" y="1726"/>
                    <a:pt x="7323" y="1528"/>
                  </a:cubicBezTo>
                  <a:cubicBezTo>
                    <a:pt x="8440" y="1330"/>
                    <a:pt x="8711" y="647"/>
                    <a:pt x="9016" y="407"/>
                  </a:cubicBezTo>
                  <a:cubicBezTo>
                    <a:pt x="9321" y="167"/>
                    <a:pt x="8878" y="154"/>
                    <a:pt x="9156" y="88"/>
                  </a:cubicBezTo>
                  <a:cubicBezTo>
                    <a:pt x="9434" y="22"/>
                    <a:pt x="10436" y="0"/>
                    <a:pt x="10684" y="13"/>
                  </a:cubicBezTo>
                  <a:cubicBezTo>
                    <a:pt x="10932" y="26"/>
                    <a:pt x="10755" y="39"/>
                    <a:pt x="10645" y="165"/>
                  </a:cubicBezTo>
                  <a:cubicBezTo>
                    <a:pt x="10536" y="291"/>
                    <a:pt x="10251" y="487"/>
                    <a:pt x="10030" y="774"/>
                  </a:cubicBezTo>
                  <a:cubicBezTo>
                    <a:pt x="9809" y="1061"/>
                    <a:pt x="9449" y="1664"/>
                    <a:pt x="9320" y="1888"/>
                  </a:cubicBezTo>
                  <a:cubicBezTo>
                    <a:pt x="9191" y="2112"/>
                    <a:pt x="9210" y="2041"/>
                    <a:pt x="9254" y="2117"/>
                  </a:cubicBezTo>
                  <a:cubicBezTo>
                    <a:pt x="9298" y="2193"/>
                    <a:pt x="9663" y="2281"/>
                    <a:pt x="9581" y="2346"/>
                  </a:cubicBezTo>
                  <a:cubicBezTo>
                    <a:pt x="9499" y="2411"/>
                    <a:pt x="10172" y="2518"/>
                    <a:pt x="8763" y="2510"/>
                  </a:cubicBezTo>
                  <a:cubicBezTo>
                    <a:pt x="7354" y="2502"/>
                    <a:pt x="2717" y="2341"/>
                    <a:pt x="1126" y="229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2332440" y="1992240"/>
              <a:ext cx="110160" cy="56160"/>
              <a:chOff x="2332440" y="1992240"/>
              <a:chExt cx="110160" cy="56160"/>
            </a:xfrm>
          </p:grpSpPr>
          <p:sp>
            <p:nvSpPr>
              <p:cNvPr id="148" name=""/>
              <p:cNvSpPr/>
              <p:nvPr/>
            </p:nvSpPr>
            <p:spPr>
              <a:xfrm flipH="1" flipV="1" rot="10314000">
                <a:off x="2334600" y="1998360"/>
                <a:ext cx="97200" cy="36720"/>
              </a:xfrm>
              <a:custGeom>
                <a:avLst/>
                <a:gdLst>
                  <a:gd name="textAreaLeft" fmla="*/ 19440 w 97200"/>
                  <a:gd name="textAreaRight" fmla="*/ 77760 w 97200"/>
                  <a:gd name="textAreaTop" fmla="*/ 7200 h 36720"/>
                  <a:gd name="textAreaBottom" fmla="*/ 29520 h 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 rot="10314000">
                <a:off x="2338200" y="2004480"/>
                <a:ext cx="95400" cy="32760"/>
              </a:xfrm>
              <a:custGeom>
                <a:avLst/>
                <a:gdLst>
                  <a:gd name="textAreaLeft" fmla="*/ 19080 w 95400"/>
                  <a:gd name="textAreaRight" fmla="*/ 76320 w 95400"/>
                  <a:gd name="textAreaTop" fmla="*/ 6480 h 32760"/>
                  <a:gd name="textAreaBottom" fmla="*/ 26280 h 3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 rot="10314000">
                <a:off x="2343240" y="2012400"/>
                <a:ext cx="97560" cy="29160"/>
              </a:xfrm>
              <a:custGeom>
                <a:avLst/>
                <a:gdLst>
                  <a:gd name="textAreaLeft" fmla="*/ 19440 w 97560"/>
                  <a:gd name="textAreaRight" fmla="*/ 78120 w 97560"/>
                  <a:gd name="textAreaTop" fmla="*/ 5760 h 29160"/>
                  <a:gd name="textAreaBottom" fmla="*/ 23400 h 2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47520" y="17953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L430 (1310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637240" y="2682720"/>
            <a:ext cx="3168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651280" y="3789360"/>
            <a:ext cx="31683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675040" y="4834080"/>
            <a:ext cx="3135240" cy="140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689440" y="5950080"/>
            <a:ext cx="3130560" cy="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3913200"/>
            <a:ext cx="28810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70720" y="128916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100m (FL4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373720"/>
            <a:ext cx="288108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653000"/>
            <a:ext cx="280836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691960" y="2462760"/>
            <a:ext cx="793800" cy="177120"/>
            <a:chOff x="5691960" y="2462760"/>
            <a:chExt cx="793800" cy="177120"/>
          </a:xfrm>
        </p:grpSpPr>
        <p:sp>
          <p:nvSpPr>
            <p:cNvPr id="161" name=""/>
            <p:cNvSpPr/>
            <p:nvPr/>
          </p:nvSpPr>
          <p:spPr>
            <a:xfrm rot="21463800">
              <a:off x="5694480" y="2478240"/>
              <a:ext cx="788760" cy="145800"/>
            </a:xfrm>
            <a:custGeom>
              <a:avLst/>
              <a:gdLst/>
              <a:ahLst/>
              <a:rect l="l" t="t" r="r" b="b"/>
              <a:pathLst>
                <a:path w="10932" h="2518">
                  <a:moveTo>
                    <a:pt x="1126" y="2296"/>
                  </a:moveTo>
                  <a:cubicBezTo>
                    <a:pt x="0" y="2147"/>
                    <a:pt x="1283" y="1722"/>
                    <a:pt x="2316" y="1594"/>
                  </a:cubicBezTo>
                  <a:cubicBezTo>
                    <a:pt x="3349" y="1466"/>
                    <a:pt x="6206" y="1726"/>
                    <a:pt x="7323" y="1528"/>
                  </a:cubicBezTo>
                  <a:cubicBezTo>
                    <a:pt x="8440" y="1330"/>
                    <a:pt x="8711" y="647"/>
                    <a:pt x="9016" y="407"/>
                  </a:cubicBezTo>
                  <a:cubicBezTo>
                    <a:pt x="9321" y="167"/>
                    <a:pt x="8878" y="154"/>
                    <a:pt x="9156" y="88"/>
                  </a:cubicBezTo>
                  <a:cubicBezTo>
                    <a:pt x="9434" y="22"/>
                    <a:pt x="10436" y="0"/>
                    <a:pt x="10684" y="13"/>
                  </a:cubicBezTo>
                  <a:cubicBezTo>
                    <a:pt x="10932" y="26"/>
                    <a:pt x="10755" y="39"/>
                    <a:pt x="10645" y="165"/>
                  </a:cubicBezTo>
                  <a:cubicBezTo>
                    <a:pt x="10536" y="291"/>
                    <a:pt x="10251" y="487"/>
                    <a:pt x="10030" y="774"/>
                  </a:cubicBezTo>
                  <a:cubicBezTo>
                    <a:pt x="9809" y="1061"/>
                    <a:pt x="9449" y="1664"/>
                    <a:pt x="9320" y="1888"/>
                  </a:cubicBezTo>
                  <a:cubicBezTo>
                    <a:pt x="9191" y="2112"/>
                    <a:pt x="9210" y="2041"/>
                    <a:pt x="9254" y="2117"/>
                  </a:cubicBezTo>
                  <a:cubicBezTo>
                    <a:pt x="9298" y="2193"/>
                    <a:pt x="9663" y="2281"/>
                    <a:pt x="9581" y="2346"/>
                  </a:cubicBezTo>
                  <a:cubicBezTo>
                    <a:pt x="9499" y="2411"/>
                    <a:pt x="10172" y="2518"/>
                    <a:pt x="8763" y="2510"/>
                  </a:cubicBezTo>
                  <a:cubicBezTo>
                    <a:pt x="7354" y="2502"/>
                    <a:pt x="2717" y="2341"/>
                    <a:pt x="1126" y="229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309720" y="2491920"/>
              <a:ext cx="108720" cy="49320"/>
              <a:chOff x="6309720" y="2491920"/>
              <a:chExt cx="108720" cy="49320"/>
            </a:xfrm>
          </p:grpSpPr>
          <p:sp>
            <p:nvSpPr>
              <p:cNvPr id="163" name=""/>
              <p:cNvSpPr/>
              <p:nvPr/>
            </p:nvSpPr>
            <p:spPr>
              <a:xfrm flipH="1" rot="482400">
                <a:off x="6319800" y="2498400"/>
                <a:ext cx="96840" cy="30960"/>
              </a:xfrm>
              <a:custGeom>
                <a:avLst/>
                <a:gdLst>
                  <a:gd name="textAreaLeft" fmla="*/ 19080 w 96840"/>
                  <a:gd name="textAreaRight" fmla="*/ 77400 w 96840"/>
                  <a:gd name="textAreaTop" fmla="*/ 6120 h 30960"/>
                  <a:gd name="textAreaBottom" fmla="*/ 24840 h 3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482400">
                <a:off x="6317280" y="2503800"/>
                <a:ext cx="95040" cy="27720"/>
              </a:xfrm>
              <a:custGeom>
                <a:avLst/>
                <a:gdLst>
                  <a:gd name="textAreaLeft" fmla="*/ 19440 w 95040"/>
                  <a:gd name="textAreaRight" fmla="*/ 76680 w 95040"/>
                  <a:gd name="textAreaTop" fmla="*/ 5400 h 27720"/>
                  <a:gd name="textAreaBottom" fmla="*/ 22320 h 2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rot="482400">
                <a:off x="6310440" y="2509560"/>
                <a:ext cx="97200" cy="24840"/>
              </a:xfrm>
              <a:custGeom>
                <a:avLst/>
                <a:gdLst>
                  <a:gd name="textAreaLeft" fmla="*/ 19440 w 97200"/>
                  <a:gd name="textAreaRight" fmla="*/ 77760 w 97200"/>
                  <a:gd name="textAreaTop" fmla="*/ 5040 h 24840"/>
                  <a:gd name="textAreaBottom" fmla="*/ 19800 h 2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5720400" y="3573720"/>
            <a:ext cx="794160" cy="174240"/>
            <a:chOff x="5720400" y="3573720"/>
            <a:chExt cx="794160" cy="174240"/>
          </a:xfrm>
        </p:grpSpPr>
        <p:sp>
          <p:nvSpPr>
            <p:cNvPr id="167" name=""/>
            <p:cNvSpPr/>
            <p:nvPr/>
          </p:nvSpPr>
          <p:spPr>
            <a:xfrm rot="21463800">
              <a:off x="5722920" y="3589200"/>
              <a:ext cx="789120" cy="142920"/>
            </a:xfrm>
            <a:custGeom>
              <a:avLst/>
              <a:gdLst/>
              <a:ahLst/>
              <a:rect l="l" t="t" r="r" b="b"/>
              <a:pathLst>
                <a:path w="10932" h="2518">
                  <a:moveTo>
                    <a:pt x="1126" y="2296"/>
                  </a:moveTo>
                  <a:cubicBezTo>
                    <a:pt x="0" y="2147"/>
                    <a:pt x="1283" y="1722"/>
                    <a:pt x="2316" y="1594"/>
                  </a:cubicBezTo>
                  <a:cubicBezTo>
                    <a:pt x="3349" y="1466"/>
                    <a:pt x="6206" y="1726"/>
                    <a:pt x="7323" y="1528"/>
                  </a:cubicBezTo>
                  <a:cubicBezTo>
                    <a:pt x="8440" y="1330"/>
                    <a:pt x="8711" y="647"/>
                    <a:pt x="9016" y="407"/>
                  </a:cubicBezTo>
                  <a:cubicBezTo>
                    <a:pt x="9321" y="167"/>
                    <a:pt x="8878" y="154"/>
                    <a:pt x="9156" y="88"/>
                  </a:cubicBezTo>
                  <a:cubicBezTo>
                    <a:pt x="9434" y="22"/>
                    <a:pt x="10436" y="0"/>
                    <a:pt x="10684" y="13"/>
                  </a:cubicBezTo>
                  <a:cubicBezTo>
                    <a:pt x="10932" y="26"/>
                    <a:pt x="10755" y="39"/>
                    <a:pt x="10645" y="165"/>
                  </a:cubicBezTo>
                  <a:cubicBezTo>
                    <a:pt x="10536" y="291"/>
                    <a:pt x="10251" y="487"/>
                    <a:pt x="10030" y="774"/>
                  </a:cubicBezTo>
                  <a:cubicBezTo>
                    <a:pt x="9809" y="1061"/>
                    <a:pt x="9449" y="1664"/>
                    <a:pt x="9320" y="1888"/>
                  </a:cubicBezTo>
                  <a:cubicBezTo>
                    <a:pt x="9191" y="2112"/>
                    <a:pt x="9210" y="2041"/>
                    <a:pt x="9254" y="2117"/>
                  </a:cubicBezTo>
                  <a:cubicBezTo>
                    <a:pt x="9298" y="2193"/>
                    <a:pt x="9663" y="2281"/>
                    <a:pt x="9581" y="2346"/>
                  </a:cubicBezTo>
                  <a:cubicBezTo>
                    <a:pt x="9499" y="2411"/>
                    <a:pt x="10172" y="2518"/>
                    <a:pt x="8763" y="2510"/>
                  </a:cubicBezTo>
                  <a:cubicBezTo>
                    <a:pt x="7354" y="2502"/>
                    <a:pt x="2717" y="2341"/>
                    <a:pt x="1126" y="229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338520" y="3602160"/>
              <a:ext cx="108720" cy="48600"/>
              <a:chOff x="6338520" y="3602160"/>
              <a:chExt cx="108720" cy="48600"/>
            </a:xfrm>
          </p:grpSpPr>
          <p:sp>
            <p:nvSpPr>
              <p:cNvPr id="169" name=""/>
              <p:cNvSpPr/>
              <p:nvPr/>
            </p:nvSpPr>
            <p:spPr>
              <a:xfrm flipH="1" rot="482400">
                <a:off x="6348600" y="3608640"/>
                <a:ext cx="96840" cy="30240"/>
              </a:xfrm>
              <a:custGeom>
                <a:avLst/>
                <a:gdLst>
                  <a:gd name="textAreaLeft" fmla="*/ 19080 w 96840"/>
                  <a:gd name="textAreaRight" fmla="*/ 77400 w 96840"/>
                  <a:gd name="textAreaTop" fmla="*/ 6120 h 30240"/>
                  <a:gd name="textAreaBottom" fmla="*/ 24120 h 3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rot="482400">
                <a:off x="6345720" y="3613680"/>
                <a:ext cx="95040" cy="27000"/>
              </a:xfrm>
              <a:custGeom>
                <a:avLst/>
                <a:gdLst>
                  <a:gd name="textAreaLeft" fmla="*/ 19440 w 95040"/>
                  <a:gd name="textAreaRight" fmla="*/ 76680 w 95040"/>
                  <a:gd name="textAreaTop" fmla="*/ 5400 h 27000"/>
                  <a:gd name="textAreaBottom" fmla="*/ 21600 h 2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482400">
                <a:off x="6339600" y="3619800"/>
                <a:ext cx="97200" cy="24120"/>
              </a:xfrm>
              <a:custGeom>
                <a:avLst/>
                <a:gdLst>
                  <a:gd name="textAreaLeft" fmla="*/ 19440 w 97200"/>
                  <a:gd name="textAreaRight" fmla="*/ 77760 w 97200"/>
                  <a:gd name="textAreaTop" fmla="*/ 4680 h 24120"/>
                  <a:gd name="textAreaBottom" fmla="*/ 19440 h 2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5762880" y="4617000"/>
            <a:ext cx="794880" cy="188280"/>
            <a:chOff x="5762880" y="4617000"/>
            <a:chExt cx="794880" cy="188280"/>
          </a:xfrm>
        </p:grpSpPr>
        <p:sp>
          <p:nvSpPr>
            <p:cNvPr id="173" name=""/>
            <p:cNvSpPr/>
            <p:nvPr/>
          </p:nvSpPr>
          <p:spPr>
            <a:xfrm rot="21463800">
              <a:off x="5765400" y="4632480"/>
              <a:ext cx="789120" cy="156960"/>
            </a:xfrm>
            <a:custGeom>
              <a:avLst/>
              <a:gdLst/>
              <a:ahLst/>
              <a:rect l="l" t="t" r="r" b="b"/>
              <a:pathLst>
                <a:path w="10932" h="2518">
                  <a:moveTo>
                    <a:pt x="1126" y="2296"/>
                  </a:moveTo>
                  <a:cubicBezTo>
                    <a:pt x="0" y="2147"/>
                    <a:pt x="1283" y="1722"/>
                    <a:pt x="2316" y="1594"/>
                  </a:cubicBezTo>
                  <a:cubicBezTo>
                    <a:pt x="3349" y="1466"/>
                    <a:pt x="6206" y="1726"/>
                    <a:pt x="7323" y="1528"/>
                  </a:cubicBezTo>
                  <a:cubicBezTo>
                    <a:pt x="8440" y="1330"/>
                    <a:pt x="8711" y="647"/>
                    <a:pt x="9016" y="407"/>
                  </a:cubicBezTo>
                  <a:cubicBezTo>
                    <a:pt x="9321" y="167"/>
                    <a:pt x="8878" y="154"/>
                    <a:pt x="9156" y="88"/>
                  </a:cubicBezTo>
                  <a:cubicBezTo>
                    <a:pt x="9434" y="22"/>
                    <a:pt x="10436" y="0"/>
                    <a:pt x="10684" y="13"/>
                  </a:cubicBezTo>
                  <a:cubicBezTo>
                    <a:pt x="10932" y="26"/>
                    <a:pt x="10755" y="39"/>
                    <a:pt x="10645" y="165"/>
                  </a:cubicBezTo>
                  <a:cubicBezTo>
                    <a:pt x="10536" y="291"/>
                    <a:pt x="10251" y="487"/>
                    <a:pt x="10030" y="774"/>
                  </a:cubicBezTo>
                  <a:cubicBezTo>
                    <a:pt x="9809" y="1061"/>
                    <a:pt x="9449" y="1664"/>
                    <a:pt x="9320" y="1888"/>
                  </a:cubicBezTo>
                  <a:cubicBezTo>
                    <a:pt x="9191" y="2112"/>
                    <a:pt x="9210" y="2041"/>
                    <a:pt x="9254" y="2117"/>
                  </a:cubicBezTo>
                  <a:cubicBezTo>
                    <a:pt x="9298" y="2193"/>
                    <a:pt x="9663" y="2281"/>
                    <a:pt x="9581" y="2346"/>
                  </a:cubicBezTo>
                  <a:cubicBezTo>
                    <a:pt x="9499" y="2411"/>
                    <a:pt x="10172" y="2518"/>
                    <a:pt x="8763" y="2510"/>
                  </a:cubicBezTo>
                  <a:cubicBezTo>
                    <a:pt x="7354" y="2502"/>
                    <a:pt x="2717" y="2341"/>
                    <a:pt x="1126" y="229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381360" y="4648320"/>
              <a:ext cx="109080" cy="52200"/>
              <a:chOff x="6381360" y="4648320"/>
              <a:chExt cx="109080" cy="52200"/>
            </a:xfrm>
          </p:grpSpPr>
          <p:sp>
            <p:nvSpPr>
              <p:cNvPr id="175" name=""/>
              <p:cNvSpPr/>
              <p:nvPr/>
            </p:nvSpPr>
            <p:spPr>
              <a:xfrm flipH="1" rot="482400">
                <a:off x="6391440" y="4654800"/>
                <a:ext cx="96840" cy="33120"/>
              </a:xfrm>
              <a:custGeom>
                <a:avLst/>
                <a:gdLst>
                  <a:gd name="textAreaLeft" fmla="*/ 19080 w 96840"/>
                  <a:gd name="textAreaRight" fmla="*/ 77400 w 96840"/>
                  <a:gd name="textAreaTop" fmla="*/ 6480 h 33120"/>
                  <a:gd name="textAreaBottom" fmla="*/ 26640 h 3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482400">
                <a:off x="6387840" y="4660200"/>
                <a:ext cx="95040" cy="29880"/>
              </a:xfrm>
              <a:custGeom>
                <a:avLst/>
                <a:gdLst>
                  <a:gd name="textAreaLeft" fmla="*/ 19440 w 95040"/>
                  <a:gd name="textAreaRight" fmla="*/ 76680 w 95040"/>
                  <a:gd name="textAreaTop" fmla="*/ 5760 h 29880"/>
                  <a:gd name="textAreaBottom" fmla="*/ 24120 h 2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482400">
                <a:off x="6382080" y="4667040"/>
                <a:ext cx="97200" cy="26640"/>
              </a:xfrm>
              <a:custGeom>
                <a:avLst/>
                <a:gdLst>
                  <a:gd name="textAreaLeft" fmla="*/ 19440 w 97200"/>
                  <a:gd name="textAreaRight" fmla="*/ 77760 w 97200"/>
                  <a:gd name="textAreaTop" fmla="*/ 5400 h 26640"/>
                  <a:gd name="textAreaBottom" fmla="*/ 21240 h 26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775840" y="5721840"/>
            <a:ext cx="794160" cy="177120"/>
            <a:chOff x="5775840" y="5721840"/>
            <a:chExt cx="794160" cy="177120"/>
          </a:xfrm>
        </p:grpSpPr>
        <p:sp>
          <p:nvSpPr>
            <p:cNvPr id="179" name=""/>
            <p:cNvSpPr/>
            <p:nvPr/>
          </p:nvSpPr>
          <p:spPr>
            <a:xfrm rot="21463800">
              <a:off x="5778360" y="5737320"/>
              <a:ext cx="789120" cy="145800"/>
            </a:xfrm>
            <a:custGeom>
              <a:avLst/>
              <a:gdLst/>
              <a:ahLst/>
              <a:rect l="l" t="t" r="r" b="b"/>
              <a:pathLst>
                <a:path w="10932" h="2518">
                  <a:moveTo>
                    <a:pt x="1126" y="2296"/>
                  </a:moveTo>
                  <a:cubicBezTo>
                    <a:pt x="0" y="2147"/>
                    <a:pt x="1283" y="1722"/>
                    <a:pt x="2316" y="1594"/>
                  </a:cubicBezTo>
                  <a:cubicBezTo>
                    <a:pt x="3349" y="1466"/>
                    <a:pt x="6206" y="1726"/>
                    <a:pt x="7323" y="1528"/>
                  </a:cubicBezTo>
                  <a:cubicBezTo>
                    <a:pt x="8440" y="1330"/>
                    <a:pt x="8711" y="647"/>
                    <a:pt x="9016" y="407"/>
                  </a:cubicBezTo>
                  <a:cubicBezTo>
                    <a:pt x="9321" y="167"/>
                    <a:pt x="8878" y="154"/>
                    <a:pt x="9156" y="88"/>
                  </a:cubicBezTo>
                  <a:cubicBezTo>
                    <a:pt x="9434" y="22"/>
                    <a:pt x="10436" y="0"/>
                    <a:pt x="10684" y="13"/>
                  </a:cubicBezTo>
                  <a:cubicBezTo>
                    <a:pt x="10932" y="26"/>
                    <a:pt x="10755" y="39"/>
                    <a:pt x="10645" y="165"/>
                  </a:cubicBezTo>
                  <a:cubicBezTo>
                    <a:pt x="10536" y="291"/>
                    <a:pt x="10251" y="487"/>
                    <a:pt x="10030" y="774"/>
                  </a:cubicBezTo>
                  <a:cubicBezTo>
                    <a:pt x="9809" y="1061"/>
                    <a:pt x="9449" y="1664"/>
                    <a:pt x="9320" y="1888"/>
                  </a:cubicBezTo>
                  <a:cubicBezTo>
                    <a:pt x="9191" y="2112"/>
                    <a:pt x="9210" y="2041"/>
                    <a:pt x="9254" y="2117"/>
                  </a:cubicBezTo>
                  <a:cubicBezTo>
                    <a:pt x="9298" y="2193"/>
                    <a:pt x="9663" y="2281"/>
                    <a:pt x="9581" y="2346"/>
                  </a:cubicBezTo>
                  <a:cubicBezTo>
                    <a:pt x="9499" y="2411"/>
                    <a:pt x="10172" y="2518"/>
                    <a:pt x="8763" y="2510"/>
                  </a:cubicBezTo>
                  <a:cubicBezTo>
                    <a:pt x="7354" y="2502"/>
                    <a:pt x="2717" y="2341"/>
                    <a:pt x="1126" y="229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6393960" y="5751000"/>
              <a:ext cx="108720" cy="49320"/>
              <a:chOff x="6393960" y="5751000"/>
              <a:chExt cx="108720" cy="49320"/>
            </a:xfrm>
          </p:grpSpPr>
          <p:sp>
            <p:nvSpPr>
              <p:cNvPr id="181" name=""/>
              <p:cNvSpPr/>
              <p:nvPr/>
            </p:nvSpPr>
            <p:spPr>
              <a:xfrm flipH="1" rot="482400">
                <a:off x="6404040" y="5757480"/>
                <a:ext cx="96840" cy="30960"/>
              </a:xfrm>
              <a:custGeom>
                <a:avLst/>
                <a:gdLst>
                  <a:gd name="textAreaLeft" fmla="*/ 19080 w 96840"/>
                  <a:gd name="textAreaRight" fmla="*/ 77400 w 96840"/>
                  <a:gd name="textAreaTop" fmla="*/ 6120 h 30960"/>
                  <a:gd name="textAreaBottom" fmla="*/ 24840 h 3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482400">
                <a:off x="6401520" y="5762880"/>
                <a:ext cx="95040" cy="27720"/>
              </a:xfrm>
              <a:custGeom>
                <a:avLst/>
                <a:gdLst>
                  <a:gd name="textAreaLeft" fmla="*/ 19440 w 95040"/>
                  <a:gd name="textAreaRight" fmla="*/ 76680 w 95040"/>
                  <a:gd name="textAreaTop" fmla="*/ 5400 h 27720"/>
                  <a:gd name="textAreaBottom" fmla="*/ 22320 h 2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482400">
                <a:off x="6394680" y="5768640"/>
                <a:ext cx="97200" cy="24840"/>
              </a:xfrm>
              <a:custGeom>
                <a:avLst/>
                <a:gdLst>
                  <a:gd name="textAreaLeft" fmla="*/ 19440 w 97200"/>
                  <a:gd name="textAreaRight" fmla="*/ 77760 w 97200"/>
                  <a:gd name="textAreaTop" fmla="*/ 5040 h 24840"/>
                  <a:gd name="textAreaBottom" fmla="*/ 19800 h 2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2291760" y="3672360"/>
            <a:ext cx="799920" cy="202320"/>
            <a:chOff x="2291760" y="3672360"/>
            <a:chExt cx="799920" cy="202320"/>
          </a:xfrm>
        </p:grpSpPr>
        <p:sp>
          <p:nvSpPr>
            <p:cNvPr id="185" name=""/>
            <p:cNvSpPr/>
            <p:nvPr/>
          </p:nvSpPr>
          <p:spPr>
            <a:xfrm flipV="1" rot="10933800">
              <a:off x="2294640" y="3687840"/>
              <a:ext cx="793800" cy="171360"/>
            </a:xfrm>
            <a:custGeom>
              <a:avLst/>
              <a:gdLst/>
              <a:ahLst/>
              <a:rect l="l" t="t" r="r" b="b"/>
              <a:pathLst>
                <a:path w="10932" h="2518">
                  <a:moveTo>
                    <a:pt x="1126" y="2296"/>
                  </a:moveTo>
                  <a:cubicBezTo>
                    <a:pt x="0" y="2147"/>
                    <a:pt x="1283" y="1722"/>
                    <a:pt x="2316" y="1594"/>
                  </a:cubicBezTo>
                  <a:cubicBezTo>
                    <a:pt x="3349" y="1466"/>
                    <a:pt x="6206" y="1726"/>
                    <a:pt x="7323" y="1528"/>
                  </a:cubicBezTo>
                  <a:cubicBezTo>
                    <a:pt x="8440" y="1330"/>
                    <a:pt x="8711" y="647"/>
                    <a:pt x="9016" y="407"/>
                  </a:cubicBezTo>
                  <a:cubicBezTo>
                    <a:pt x="9321" y="167"/>
                    <a:pt x="8878" y="154"/>
                    <a:pt x="9156" y="88"/>
                  </a:cubicBezTo>
                  <a:cubicBezTo>
                    <a:pt x="9434" y="22"/>
                    <a:pt x="10436" y="0"/>
                    <a:pt x="10684" y="13"/>
                  </a:cubicBezTo>
                  <a:cubicBezTo>
                    <a:pt x="10932" y="26"/>
                    <a:pt x="10755" y="39"/>
                    <a:pt x="10645" y="165"/>
                  </a:cubicBezTo>
                  <a:cubicBezTo>
                    <a:pt x="10536" y="291"/>
                    <a:pt x="10251" y="487"/>
                    <a:pt x="10030" y="774"/>
                  </a:cubicBezTo>
                  <a:cubicBezTo>
                    <a:pt x="9809" y="1061"/>
                    <a:pt x="9449" y="1664"/>
                    <a:pt x="9320" y="1888"/>
                  </a:cubicBezTo>
                  <a:cubicBezTo>
                    <a:pt x="9191" y="2112"/>
                    <a:pt x="9210" y="2041"/>
                    <a:pt x="9254" y="2117"/>
                  </a:cubicBezTo>
                  <a:cubicBezTo>
                    <a:pt x="9298" y="2193"/>
                    <a:pt x="9663" y="2281"/>
                    <a:pt x="9581" y="2346"/>
                  </a:cubicBezTo>
                  <a:cubicBezTo>
                    <a:pt x="9499" y="2411"/>
                    <a:pt x="10172" y="2518"/>
                    <a:pt x="8763" y="2510"/>
                  </a:cubicBezTo>
                  <a:cubicBezTo>
                    <a:pt x="7354" y="2502"/>
                    <a:pt x="2717" y="2341"/>
                    <a:pt x="1126" y="229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360880" y="3706920"/>
              <a:ext cx="110160" cy="56160"/>
              <a:chOff x="2360880" y="3706920"/>
              <a:chExt cx="110160" cy="56160"/>
            </a:xfrm>
          </p:grpSpPr>
          <p:sp>
            <p:nvSpPr>
              <p:cNvPr id="187" name=""/>
              <p:cNvSpPr/>
              <p:nvPr/>
            </p:nvSpPr>
            <p:spPr>
              <a:xfrm flipH="1" flipV="1" rot="10314000">
                <a:off x="2363040" y="3713040"/>
                <a:ext cx="97200" cy="36720"/>
              </a:xfrm>
              <a:custGeom>
                <a:avLst/>
                <a:gdLst>
                  <a:gd name="textAreaLeft" fmla="*/ 19440 w 97200"/>
                  <a:gd name="textAreaRight" fmla="*/ 77760 w 97200"/>
                  <a:gd name="textAreaTop" fmla="*/ 7200 h 36720"/>
                  <a:gd name="textAreaBottom" fmla="*/ 29520 h 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flipV="1" rot="10314000">
                <a:off x="2366640" y="3719160"/>
                <a:ext cx="95400" cy="32760"/>
              </a:xfrm>
              <a:custGeom>
                <a:avLst/>
                <a:gdLst>
                  <a:gd name="textAreaLeft" fmla="*/ 19080 w 95400"/>
                  <a:gd name="textAreaRight" fmla="*/ 76320 w 95400"/>
                  <a:gd name="textAreaTop" fmla="*/ 6480 h 32760"/>
                  <a:gd name="textAreaBottom" fmla="*/ 26280 h 3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 rot="10314000">
                <a:off x="2371680" y="3727080"/>
                <a:ext cx="97560" cy="29160"/>
              </a:xfrm>
              <a:custGeom>
                <a:avLst/>
                <a:gdLst>
                  <a:gd name="textAreaLeft" fmla="*/ 19440 w 97560"/>
                  <a:gd name="textAreaRight" fmla="*/ 78120 w 97560"/>
                  <a:gd name="textAreaTop" fmla="*/ 5760 h 29160"/>
                  <a:gd name="textAreaBottom" fmla="*/ 23400 h 2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2233080" y="4397760"/>
            <a:ext cx="799920" cy="202320"/>
            <a:chOff x="2233080" y="4397760"/>
            <a:chExt cx="799920" cy="202320"/>
          </a:xfrm>
        </p:grpSpPr>
        <p:sp>
          <p:nvSpPr>
            <p:cNvPr id="191" name=""/>
            <p:cNvSpPr/>
            <p:nvPr/>
          </p:nvSpPr>
          <p:spPr>
            <a:xfrm flipV="1" rot="10933800">
              <a:off x="2235960" y="4413240"/>
              <a:ext cx="793800" cy="171360"/>
            </a:xfrm>
            <a:custGeom>
              <a:avLst/>
              <a:gdLst/>
              <a:ahLst/>
              <a:rect l="l" t="t" r="r" b="b"/>
              <a:pathLst>
                <a:path w="10932" h="2518">
                  <a:moveTo>
                    <a:pt x="1126" y="2296"/>
                  </a:moveTo>
                  <a:cubicBezTo>
                    <a:pt x="0" y="2147"/>
                    <a:pt x="1283" y="1722"/>
                    <a:pt x="2316" y="1594"/>
                  </a:cubicBezTo>
                  <a:cubicBezTo>
                    <a:pt x="3349" y="1466"/>
                    <a:pt x="6206" y="1726"/>
                    <a:pt x="7323" y="1528"/>
                  </a:cubicBezTo>
                  <a:cubicBezTo>
                    <a:pt x="8440" y="1330"/>
                    <a:pt x="8711" y="647"/>
                    <a:pt x="9016" y="407"/>
                  </a:cubicBezTo>
                  <a:cubicBezTo>
                    <a:pt x="9321" y="167"/>
                    <a:pt x="8878" y="154"/>
                    <a:pt x="9156" y="88"/>
                  </a:cubicBezTo>
                  <a:cubicBezTo>
                    <a:pt x="9434" y="22"/>
                    <a:pt x="10436" y="0"/>
                    <a:pt x="10684" y="13"/>
                  </a:cubicBezTo>
                  <a:cubicBezTo>
                    <a:pt x="10932" y="26"/>
                    <a:pt x="10755" y="39"/>
                    <a:pt x="10645" y="165"/>
                  </a:cubicBezTo>
                  <a:cubicBezTo>
                    <a:pt x="10536" y="291"/>
                    <a:pt x="10251" y="487"/>
                    <a:pt x="10030" y="774"/>
                  </a:cubicBezTo>
                  <a:cubicBezTo>
                    <a:pt x="9809" y="1061"/>
                    <a:pt x="9449" y="1664"/>
                    <a:pt x="9320" y="1888"/>
                  </a:cubicBezTo>
                  <a:cubicBezTo>
                    <a:pt x="9191" y="2112"/>
                    <a:pt x="9210" y="2041"/>
                    <a:pt x="9254" y="2117"/>
                  </a:cubicBezTo>
                  <a:cubicBezTo>
                    <a:pt x="9298" y="2193"/>
                    <a:pt x="9663" y="2281"/>
                    <a:pt x="9581" y="2346"/>
                  </a:cubicBezTo>
                  <a:cubicBezTo>
                    <a:pt x="9499" y="2411"/>
                    <a:pt x="10172" y="2518"/>
                    <a:pt x="8763" y="2510"/>
                  </a:cubicBezTo>
                  <a:cubicBezTo>
                    <a:pt x="7354" y="2502"/>
                    <a:pt x="2717" y="2341"/>
                    <a:pt x="1126" y="229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302200" y="4432320"/>
              <a:ext cx="110160" cy="56160"/>
              <a:chOff x="2302200" y="4432320"/>
              <a:chExt cx="110160" cy="56160"/>
            </a:xfrm>
          </p:grpSpPr>
          <p:sp>
            <p:nvSpPr>
              <p:cNvPr id="193" name=""/>
              <p:cNvSpPr/>
              <p:nvPr/>
            </p:nvSpPr>
            <p:spPr>
              <a:xfrm flipH="1" flipV="1" rot="10314000">
                <a:off x="2304360" y="4438440"/>
                <a:ext cx="97200" cy="36720"/>
              </a:xfrm>
              <a:custGeom>
                <a:avLst/>
                <a:gdLst>
                  <a:gd name="textAreaLeft" fmla="*/ 19440 w 97200"/>
                  <a:gd name="textAreaRight" fmla="*/ 77760 w 97200"/>
                  <a:gd name="textAreaTop" fmla="*/ 7200 h 36720"/>
                  <a:gd name="textAreaBottom" fmla="*/ 29520 h 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 rot="10314000">
                <a:off x="2307960" y="4444560"/>
                <a:ext cx="95400" cy="32760"/>
              </a:xfrm>
              <a:custGeom>
                <a:avLst/>
                <a:gdLst>
                  <a:gd name="textAreaLeft" fmla="*/ 19080 w 95400"/>
                  <a:gd name="textAreaRight" fmla="*/ 76320 w 95400"/>
                  <a:gd name="textAreaTop" fmla="*/ 6480 h 32760"/>
                  <a:gd name="textAreaBottom" fmla="*/ 26280 h 3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 rot="10314000">
                <a:off x="2313000" y="4452480"/>
                <a:ext cx="97560" cy="29160"/>
              </a:xfrm>
              <a:custGeom>
                <a:avLst/>
                <a:gdLst>
                  <a:gd name="textAreaLeft" fmla="*/ 19440 w 97560"/>
                  <a:gd name="textAreaRight" fmla="*/ 78120 w 97560"/>
                  <a:gd name="textAreaTop" fmla="*/ 5760 h 29160"/>
                  <a:gd name="textAreaBottom" fmla="*/ 23400 h 2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2277720" y="5109120"/>
            <a:ext cx="799920" cy="202320"/>
            <a:chOff x="2277720" y="5109120"/>
            <a:chExt cx="799920" cy="202320"/>
          </a:xfrm>
        </p:grpSpPr>
        <p:sp>
          <p:nvSpPr>
            <p:cNvPr id="197" name=""/>
            <p:cNvSpPr/>
            <p:nvPr/>
          </p:nvSpPr>
          <p:spPr>
            <a:xfrm flipV="1" rot="10933800">
              <a:off x="2280600" y="5124600"/>
              <a:ext cx="793800" cy="171360"/>
            </a:xfrm>
            <a:custGeom>
              <a:avLst/>
              <a:gdLst/>
              <a:ahLst/>
              <a:rect l="l" t="t" r="r" b="b"/>
              <a:pathLst>
                <a:path w="10932" h="2518">
                  <a:moveTo>
                    <a:pt x="1126" y="2296"/>
                  </a:moveTo>
                  <a:cubicBezTo>
                    <a:pt x="0" y="2147"/>
                    <a:pt x="1283" y="1722"/>
                    <a:pt x="2316" y="1594"/>
                  </a:cubicBezTo>
                  <a:cubicBezTo>
                    <a:pt x="3349" y="1466"/>
                    <a:pt x="6206" y="1726"/>
                    <a:pt x="7323" y="1528"/>
                  </a:cubicBezTo>
                  <a:cubicBezTo>
                    <a:pt x="8440" y="1330"/>
                    <a:pt x="8711" y="647"/>
                    <a:pt x="9016" y="407"/>
                  </a:cubicBezTo>
                  <a:cubicBezTo>
                    <a:pt x="9321" y="167"/>
                    <a:pt x="8878" y="154"/>
                    <a:pt x="9156" y="88"/>
                  </a:cubicBezTo>
                  <a:cubicBezTo>
                    <a:pt x="9434" y="22"/>
                    <a:pt x="10436" y="0"/>
                    <a:pt x="10684" y="13"/>
                  </a:cubicBezTo>
                  <a:cubicBezTo>
                    <a:pt x="10932" y="26"/>
                    <a:pt x="10755" y="39"/>
                    <a:pt x="10645" y="165"/>
                  </a:cubicBezTo>
                  <a:cubicBezTo>
                    <a:pt x="10536" y="291"/>
                    <a:pt x="10251" y="487"/>
                    <a:pt x="10030" y="774"/>
                  </a:cubicBezTo>
                  <a:cubicBezTo>
                    <a:pt x="9809" y="1061"/>
                    <a:pt x="9449" y="1664"/>
                    <a:pt x="9320" y="1888"/>
                  </a:cubicBezTo>
                  <a:cubicBezTo>
                    <a:pt x="9191" y="2112"/>
                    <a:pt x="9210" y="2041"/>
                    <a:pt x="9254" y="2117"/>
                  </a:cubicBezTo>
                  <a:cubicBezTo>
                    <a:pt x="9298" y="2193"/>
                    <a:pt x="9663" y="2281"/>
                    <a:pt x="9581" y="2346"/>
                  </a:cubicBezTo>
                  <a:cubicBezTo>
                    <a:pt x="9499" y="2411"/>
                    <a:pt x="10172" y="2518"/>
                    <a:pt x="8763" y="2510"/>
                  </a:cubicBezTo>
                  <a:cubicBezTo>
                    <a:pt x="7354" y="2502"/>
                    <a:pt x="2717" y="2341"/>
                    <a:pt x="1126" y="229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346840" y="5143680"/>
              <a:ext cx="110160" cy="56160"/>
              <a:chOff x="2346840" y="5143680"/>
              <a:chExt cx="110160" cy="56160"/>
            </a:xfrm>
          </p:grpSpPr>
          <p:sp>
            <p:nvSpPr>
              <p:cNvPr id="199" name=""/>
              <p:cNvSpPr/>
              <p:nvPr/>
            </p:nvSpPr>
            <p:spPr>
              <a:xfrm flipH="1" flipV="1" rot="10314000">
                <a:off x="2349000" y="5149800"/>
                <a:ext cx="97200" cy="36720"/>
              </a:xfrm>
              <a:custGeom>
                <a:avLst/>
                <a:gdLst>
                  <a:gd name="textAreaLeft" fmla="*/ 19440 w 97200"/>
                  <a:gd name="textAreaRight" fmla="*/ 77760 w 97200"/>
                  <a:gd name="textAreaTop" fmla="*/ 7200 h 36720"/>
                  <a:gd name="textAreaBottom" fmla="*/ 29520 h 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 rot="10314000">
                <a:off x="2352600" y="5155920"/>
                <a:ext cx="95400" cy="32760"/>
              </a:xfrm>
              <a:custGeom>
                <a:avLst/>
                <a:gdLst>
                  <a:gd name="textAreaLeft" fmla="*/ 19080 w 95400"/>
                  <a:gd name="textAreaRight" fmla="*/ 76320 w 95400"/>
                  <a:gd name="textAreaTop" fmla="*/ 6480 h 32760"/>
                  <a:gd name="textAreaBottom" fmla="*/ 26280 h 3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 rot="10314000">
                <a:off x="2357640" y="5163840"/>
                <a:ext cx="97560" cy="29160"/>
              </a:xfrm>
              <a:custGeom>
                <a:avLst/>
                <a:gdLst>
                  <a:gd name="textAreaLeft" fmla="*/ 19440 w 97560"/>
                  <a:gd name="textAreaRight" fmla="*/ 78120 w 97560"/>
                  <a:gd name="textAreaTop" fmla="*/ 5760 h 29160"/>
                  <a:gd name="textAreaBottom" fmla="*/ 23400 h 2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5"/>
                    </a:moveTo>
                    <a:cubicBezTo>
                      <a:pt x="5040" y="-5505"/>
                      <a:pt x="12240" y="9835"/>
                      <a:pt x="17280" y="2165"/>
                    </a:cubicBezTo>
                    <a:lnTo>
                      <a:pt x="21600" y="19435"/>
                    </a:lnTo>
                    <a:cubicBezTo>
                      <a:pt x="16560" y="27105"/>
                      <a:pt x="9360" y="11765"/>
                      <a:pt x="4320" y="19435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6570720" y="228276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100m (FL3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720" y="34480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L360 (1095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70720" y="33764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100m (FL3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9960" y="44560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100m (FL3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62520" y="5537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100m (FL2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720" y="41688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L340 (1035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100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640" y="49608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L320 (975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6920" y="2811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est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68560" y="2811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ast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6360" y="53737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each of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ertical separa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32720" y="5338800"/>
            <a:ext cx="2016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14720" y="4960800"/>
            <a:ext cx="8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60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4292640"/>
            <a:ext cx="19429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40640" y="3179880"/>
            <a:ext cx="2016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32720" y="2133720"/>
            <a:ext cx="19429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43800" y="17208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31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43800" y="28735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16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43800" y="39528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06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07 0.00624 L -0.6658 0.00624 E">
                                      <p:cBhvr>
                                        <p:cTn id="25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8 0.0044 L 0.71024 0.0044 E">
                                      <p:cBhvr>
                                        <p:cTn id="25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4 0.00601 L -0.66979 0.01064 E">
                                      <p:cBhvr>
                                        <p:cTn id="25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88 8.09249E-007 L -0.25 8.09249E-007 E">
                                      <p:cBhvr>
                                        <p:cTn id="26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5 0.00185 L 0.25 4.62428E-006 E">
                                      <p:cBhvr>
                                        <p:cTn id="26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32 -0.00139 L 0.25 -1.15607E-007 E">
                                      <p:cBhvr>
                                        <p:cTn id="264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0.00115 L -0.25 -1.56069E-006 E">
                                      <p:cBhvr>
                                        <p:cTn id="266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59 0.00208 L 0.25 -3.93064E-006 E">
                                      <p:cBhvr>
                                        <p:cTn id="26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37 -2.77457E-006 L -0.67274 0.00416 E">
                                      <p:cBhvr>
                                        <p:cTn id="27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781800" y="54936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IC  06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5520" y="1916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is AIC is published for the purpose of providing flight 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ithin Murmansk and Magadan OC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346320" y="2886120"/>
            <a:ext cx="976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is AIC contains general provisions on Murmansk and Magadan O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procedure of obtaining the oceanic clearance, vertical and longitud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paration, aircraft position reporting procedures, using SELCAL equipm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cedures in case of radio communication failure, flight planning requir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eorological reports, flight level change procedures when cros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ea of responsibility boundaries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3080" y="5373720"/>
            <a:ext cx="65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This AIC will become effective from 20 November 2008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91520" y="1119240"/>
            <a:ext cx="64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LIGHTS WITHIN MURMANSK AND MAGADAN 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3:47Z</dcterms:created>
  <dc:creator>Grishin</dc:creator>
  <dc:description/>
  <dc:language>en-US</dc:language>
  <cp:lastModifiedBy>grishin</cp:lastModifiedBy>
  <dcterms:modified xsi:type="dcterms:W3CDTF">2008-10-28T14:23:24Z</dcterms:modified>
  <cp:revision>71</cp:revision>
  <dc:subject/>
  <dc:title>раб к CPWG5</dc:title>
</cp:coreProperties>
</file>