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B5B-A883-4C7C-A2A2-3E4FA97E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3D6-6110-4353-9135-68274BB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37A-C636-4605-8E6E-5113FF4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5A8-62F3-4AFB-A7D0-0511E4F6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409-61AE-4A60-8C41-F15A43E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F4E-BD28-4C9A-9668-A71DEB34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B2A-5A75-4988-B5B8-A47809E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CA6-8D9E-4136-BFCC-C169A85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DCF-66EA-40EC-AB5A-3C5BFB1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992-4038-4D64-B4F5-F26605A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F38-7442-4457-9BDA-B4A718D1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4E7-9C6A-4F68-9723-5F6AFB84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949-029A-41BF-A094-04A9A1BA57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CPWG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3-5 Jun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0217-E62B-4CEA-846F-1B8C241222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136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CF24-500D-45BE-AF3E-31D06C350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RTE Yearly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95360" y="1508040"/>
          <a:ext cx="8050320" cy="4391280"/>
        </p:xfrm>
        <a:graphic>
          <a:graphicData uri="http://schemas.openxmlformats.org/drawingml/2006/table">
            <a:tbl>
              <a:tblPr/>
              <a:tblGrid>
                <a:gridCol w="1147680"/>
                <a:gridCol w="652320"/>
                <a:gridCol w="650880"/>
                <a:gridCol w="650880"/>
                <a:gridCol w="676440"/>
                <a:gridCol w="711360"/>
                <a:gridCol w="730080"/>
                <a:gridCol w="728640"/>
                <a:gridCol w="730440"/>
                <a:gridCol w="728640"/>
                <a:gridCol w="642960"/>
              </a:tblGrid>
              <a:tr h="4860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ffective May 2008, includes Eastbound 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-09 ZAN Polar and RT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Count By F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4160" y="1236600"/>
            <a:ext cx="8685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3:28:33Z</dcterms:created>
  <dc:creator>GFerguson</dc:creator>
  <dc:description/>
  <dc:language>en-US</dc:language>
  <cp:lastModifiedBy>FAA</cp:lastModifiedBy>
  <dcterms:modified xsi:type="dcterms:W3CDTF">2009-06-04T07:38:08Z</dcterms:modified>
  <cp:revision>78</cp:revision>
  <dc:subject/>
  <dc:title>Anchorage ARTCC </dc:title>
</cp:coreProperties>
</file>