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8D15CD2-3204-4B80-BDA4-9B28A1FFF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C5D2D2B-F18A-4B27-8252-7B6DD61ED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A9E-F1DB-4F57-9876-3EEB5520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DFA-CA37-42A0-9AE5-3CA5165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204-A603-48F7-86A7-7FB804D6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E8F-85BF-41BD-9882-3094F897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FFE-1F5C-4ED8-8392-71B9E37E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2A5-9828-455C-B62E-AC47BBF7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C1D-6C99-413A-B137-20F7F348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FA8-A1C4-428D-B88F-72A523C9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FD7-2696-4F11-B8C6-356F2CD5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B2A-2764-438E-BDFA-F8E39BC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CB5-56E4-47FD-84E5-E93B4629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E55-87E1-443F-8F3A-683B76E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573F-58C0-4C61-B143-A54F08845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41880"/>
            <a:ext cx="9144000" cy="8161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0A81-F814-42C6-8FB9-91CB88248C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Robert Tegeder, June 3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78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  CPWG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  Robert M. Tegeder  FAA AFS-4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  June 3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0" name="Picture 1079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OSS POLAR AND TRANS EAS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AR COMMUNIC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1652040" y="4516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085400"/>
            <a:ext cx="805032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nna Cou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Action with 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Differ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OC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 relay with other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130040"/>
            <a:ext cx="80503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COM VO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mar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-Synchronous Orbit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ice above approximately 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 North or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e to Pol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GES Phoenix, 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 throug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ty Radio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ential as future L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145880"/>
            <a:ext cx="46576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 RAD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LAND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HO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DER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O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A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MAN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95760" y="1203480"/>
            <a:ext cx="394992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MARSAT SAT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IDIUM SAT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DAR RAP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um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468600" y="2128680"/>
            <a:ext cx="296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1B1-C7FD-45EC-92E0-4727BE656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3441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870120"/>
            <a:ext cx="805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  <a:ea typeface="Times New Roman"/>
            </a:endParaRPr>
          </a:p>
        </p:txBody>
      </p:sp>
      <p:pic>
        <p:nvPicPr>
          <p:cNvPr id="103" name="Picture 5" descr="polar comm"/>
          <p:cNvPicPr/>
          <p:nvPr/>
        </p:nvPicPr>
        <p:blipFill>
          <a:blip r:embed="rId1"/>
          <a:stretch/>
        </p:blipFill>
        <p:spPr>
          <a:xfrm>
            <a:off x="-1523880" y="-190440"/>
            <a:ext cx="12191760" cy="7210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 flipV="1" rot="10800000">
            <a:off x="2084400" y="1017360"/>
            <a:ext cx="51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454560" y="3933720"/>
            <a:ext cx="914400" cy="914400"/>
          </a:xfrm>
          <a:custGeom>
            <a:avLst/>
            <a:gdLst>
              <a:gd name="textAreaLeft" fmla="*/ 135360 w 914400"/>
              <a:gd name="textAreaRight" fmla="*/ 779040 w 914400"/>
              <a:gd name="textAreaTop" fmla="*/ 135360 h 914400"/>
              <a:gd name="textAreaBottom" fmla="*/ 7790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773440" y="3048120"/>
            <a:ext cx="1566720" cy="1726920"/>
          </a:xfrm>
          <a:custGeom>
            <a:avLst/>
            <a:gdLst>
              <a:gd name="textAreaLeft" fmla="*/ 645480 w 1566720"/>
              <a:gd name="textAreaRight" fmla="*/ 921240 w 1566720"/>
              <a:gd name="textAreaTop" fmla="*/ 711360 h 1726920"/>
              <a:gd name="textAreaBottom" fmla="*/ 101556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COM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COM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20’s and 193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omm in US airspace until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HF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de Band (SS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0920" y="31392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S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Frequencies 2.0 to 29.999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Value – Reliable Long Range Co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 Signals Reflected back to Earth by Ion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into Audi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LIM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requencies day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Frequencies nigh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ayered Ion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osphere Reflector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F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for Oceanic en-route AT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ght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Dat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through Barrow, 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O assigns frequencies for ATC u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101240"/>
            <a:ext cx="805032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radio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(GP)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Radio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y both ATC and A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Distance Operational Control (LD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ght Regularit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of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craf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058760"/>
            <a:ext cx="805032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holm Radio – Directional Anten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NC Radio – Barrow Alaska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ishead Radio – Europ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Radio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V and WWVH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” Index – Scale One to Nine, (Higher # Poor Propa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Flux – 65 to 400, (Higher # Better Propag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Leslie</cp:lastModifiedBy>
  <dcterms:modified xsi:type="dcterms:W3CDTF">2009-05-18T18:08:09Z</dcterms:modified>
  <cp:revision>274</cp:revision>
  <dc:subject/>
  <dc:title>PowerPoint Presentation</dc:title>
</cp:coreProperties>
</file>