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21F-E4C9-4EDE-9241-5E8F4AE0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7303-B298-48F7-8991-00C868D9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624-2C6A-4229-B526-52A7911D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7028-4070-4B54-97AC-A81E41CE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337C-2640-467F-954A-32F6FA5B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F1B-FD21-44FA-90DC-2D0CC995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1CD-00AB-4C6A-A1E6-B0FB3123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C0B3-89A8-4D05-973F-1EDF7043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E146-F4B4-4B14-AC3F-99747D6C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0EBD-765D-4683-83F4-2D7B882A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CF61-5A70-4DEC-A37E-D9A906A3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B399-C9CA-41FE-A0FA-FB8C2E9D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5F5A-09A3-4E97-B18C-FD52AA1380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41880"/>
            <a:ext cx="9144000" cy="8161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93F3-628E-4044-91B5-22110BA47B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Robert Tegeder, June 3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  CPWG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  Robert M. Tegeder  FAA AFS-4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  June 3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ROSS POLAR AND TRANS EAS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LAR COMMUNICA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52040" y="4516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085400"/>
            <a:ext cx="805032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F TECHNIQ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T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nna Cou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 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s Action with 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Different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OC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F relay with other air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125-6CA7-4938-A62D-A2A46EDA2E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360" y="1130040"/>
            <a:ext cx="80503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TCOM VO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mar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-Synchronous Orbit Satell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rvice above approximately 8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 North or S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ri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e to Pole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ngle GES Phoenix, 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 throug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rty Radio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tential as future LR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B2D-10F7-4877-9469-B399BB868D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145880"/>
            <a:ext cx="46576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P RAD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ELAND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MON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CHOR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NDER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O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A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RMAN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95760" y="1203480"/>
            <a:ext cx="394992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C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MARSAT SAT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&amp;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IDIUM SAT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&amp;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CKHO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IS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DAR RAP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9B2-A41E-4C5C-BDBA-E756EBBCA3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op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pow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rum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pati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15A8-4DCB-4D39-AA50-14A3197082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68600" y="2128680"/>
            <a:ext cx="296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C6B-484B-40B9-8792-6B2361FC2F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34416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870120"/>
            <a:ext cx="805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  <a:ea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523880" y="-190440"/>
            <a:ext cx="12191760" cy="7210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 rot="10800000">
            <a:off x="2084400" y="1017360"/>
            <a:ext cx="51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54560" y="3933720"/>
            <a:ext cx="914400" cy="914400"/>
          </a:xfrm>
          <a:custGeom>
            <a:avLst/>
            <a:gdLst>
              <a:gd name="textAreaLeft" fmla="*/ 135360 w 914400"/>
              <a:gd name="textAreaRight" fmla="*/ 779040 w 914400"/>
              <a:gd name="textAreaTop" fmla="*/ 135360 h 914400"/>
              <a:gd name="textAreaBottom" fmla="*/ 7790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3440" y="3048120"/>
            <a:ext cx="1566720" cy="1726920"/>
          </a:xfrm>
          <a:custGeom>
            <a:avLst/>
            <a:gdLst>
              <a:gd name="textAreaLeft" fmla="*/ 645480 w 1566720"/>
              <a:gd name="textAreaRight" fmla="*/ 921240 w 1566720"/>
              <a:gd name="textAreaTop" fmla="*/ 711360 h 1726920"/>
              <a:gd name="textAreaBottom" fmla="*/ 101556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83C5-56BC-45DC-82A6-3113CA3B3D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F-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F-Dat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F-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F-Dat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COM-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COM-Dat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526-851E-4308-91A3-10E9F9CC50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F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1920’s and 193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omm in US airspace until 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HF Technolo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de Band (SS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841-7D80-4601-A39E-C5E8143BA1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0920" y="31392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AS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Frequencies 2.0 to 29.999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st Value – Reliable Long Range Co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F Signals Reflected back to Earth by Ion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into Audio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y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B936-8D7A-47F5-90FE-BCA29EF760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F LIM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Frequencies day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Frequencies nigh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ayered Ion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osphere Reflector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F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c St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43A-1FE3-4B7B-9321-ADD59B41E1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F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for Oceanic en-route ATC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ght foll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 forec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 Data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ar through Barrow, 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han 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AO assigns frequencies for ATC us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565A-5656-4B96-B2B2-B05A9800AA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101240"/>
            <a:ext cx="8050320" cy="47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F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 radio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Purpose (GP)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y Radio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y both ATC and A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Distance Operational Control (LD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ght Regularity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 of Air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craft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F704-0542-45B2-A033-456B75DFCB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360" y="1058760"/>
            <a:ext cx="805032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F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holm Radio – Directional Anten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NC Radio – Barrow Alaska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ishead Radio – Europe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 Radio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V and WWVH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” Index – Scale One to Nine, (Higher # Poor Propag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 Flux – 65 to 400, (Higher # Better Propag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6CE-6AE2-4CBA-8A50-E1C4ADB935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MTONEY</dc:creator>
  <dc:description/>
  <dc:language>en-US</dc:language>
  <cp:lastModifiedBy>DOT/FAA</cp:lastModifiedBy>
  <dcterms:modified xsi:type="dcterms:W3CDTF">2009-05-13T15:15:05Z</dcterms:modified>
  <cp:revision>272</cp:revision>
  <dc:subject/>
  <dc:title>PowerPoint Presentation</dc:title>
</cp:coreProperties>
</file>