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6B64BF5-3ADE-423E-AA8F-F82BF4054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A telephonic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1F6-4DC7-4831-87C8-39E786AD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578-81C8-4452-9D7B-FDC87F12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C2C-9C88-40EE-B248-F1FB8978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D98A-888D-4B88-8FE3-7FA8738D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F83-7C1F-468E-AF24-68C4AEF8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85A5-9E43-4651-ABF3-6B5F990A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375F-C210-46EA-8FC8-26D36495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A40D-67D7-4039-BC45-E93BE11F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47B2-E7BC-4B3A-AAA0-A9EDA640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DC5A-82F2-4DA4-B26F-FF22A2C0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D40-A50E-4601-AA16-2D46E98D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4DB6-CE33-41EF-8CEA-722B8022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B833-E81D-42AB-A4AC-C26C6F17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E0D0-D776-46B0-BD06-A6E6BE70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DDF4-C80E-43F6-9FD6-0E854DF7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274A-E910-4E43-8BAC-2550C4B1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740C-8B79-427E-AEB0-3E22AC3A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2A51-F016-499F-B127-6C76FCB0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DA2-E7B6-4ED7-A17D-113F88CE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B47-53E6-4D45-A1F9-E7F1D87F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E79-10C6-49F4-89E6-DEF376F4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2FA-EF04-44EC-8211-EA9FE2C1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0A7-8E54-47B7-889E-127B8AC7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889-D02B-482B-9AB3-3D382075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5956-B57D-4470-B8B3-84199F19F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FDF9-7478-4F5A-BC0B-531F5162E5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rcRect l="14357" t="3733" r="14973" b="4579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DOTS+ On-Line Track Advis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June 1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78" descr="title_imagery_nologo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51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PWG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slie McCormick, ATCS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1-3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Picture 1079" descr="NEW FAA LOGO"/>
            <p:cNvPicPr/>
            <p:nvPr/>
          </p:nvPicPr>
          <p:blipFill>
            <a:blip r:embed="rId3"/>
            <a:srcRect l="14334" t="3733" r="14976" b="4567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1E31-6573-4C88-A9C4-19036CEDD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41880"/>
            <a:ext cx="9144000" cy="8161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4496-8CF2-4AF2-B714-A9D4043D43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99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DOTS+ Online – Status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June 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104" name="Picture 26" descr="NEW FAA LOGO"/>
            <p:cNvPicPr/>
            <p:nvPr/>
          </p:nvPicPr>
          <p:blipFill>
            <a:blip r:embed="rId3"/>
            <a:srcRect l="14357" t="3733" r="14973" b="4579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149" name="Picture 26" descr="NEW FAA LOGO"/>
            <p:cNvPicPr/>
            <p:nvPr/>
          </p:nvPicPr>
          <p:blipFill>
            <a:blip r:embed="rId4"/>
            <a:srcRect l="14357" t="3733" r="14973" b="4579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29"/>
          <p:cNvSpPr/>
          <p:nvPr/>
        </p:nvSpPr>
        <p:spPr>
          <a:xfrm>
            <a:off x="449280" y="6205680"/>
            <a:ext cx="4784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441360" y="6384960"/>
            <a:ext cx="37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eschoell@cssiinc.com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TS+ Onlin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49280" y="1511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tatus Update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54280" y="449748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P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9120" y="4875120"/>
            <a:ext cx="34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 McHale, ATCS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0080" y="522432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ne 1, 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42840" y="2700360"/>
            <a:ext cx="545004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urrent Statu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040" y="1047600"/>
            <a:ext cx="805032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O Build has been installed in all oceanic cen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O User Manual has been updated and is available on-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O Training Server is still available for airline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takeholder Participa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S began FTI testing in mid-April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required due to unique configuration for 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AL connection information has been forwarded to the FTI Program Off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 is coordinating directly with FTI/Harris to beg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ta is working with CSSI to begin coordination process with F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ental has been in contact with CSSI and is working internal issues to use the VPN 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What Nex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operational demonstration for Anchorage ARTCC operations was targeted for the fourth quarter 2009. United Parcel Service (UPS) was expected to participate as the lead airline for the demonstration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n-line capability of DOTS Plus is available to all airlines immediately upon successful establishment of VPN connections to FTI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644400"/>
            <a:ext cx="847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360" y="10936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keholders may begin operational use as soon as they can complete connection process with F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S, UAL and DAL have initiated the DPO/FTI connection process and COA is currently working on starting th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lines can immediately start this process by contacting CSSI, Inc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C is Eric Schoell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schoell@cssiin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946080" y="0"/>
            <a:ext cx="7248600" cy="790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1778040" y="5048280"/>
            <a:ext cx="55720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MTONEY</dc:creator>
  <dc:description/>
  <dc:language>en-US</dc:language>
  <cp:lastModifiedBy>Timothy</cp:lastModifiedBy>
  <dcterms:modified xsi:type="dcterms:W3CDTF">2009-06-01T19:50:43Z</dcterms:modified>
  <cp:revision>154</cp:revision>
  <dc:subject/>
  <dc:title>PowerPoint Presentation</dc:title>
</cp:coreProperties>
</file>