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9283700" cy="6997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0"/>
            <a:ext cx="9284400" cy="699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02264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dt" idx="19"/>
          </p:nvPr>
        </p:nvSpPr>
        <p:spPr>
          <a:xfrm>
            <a:off x="5258880" y="0"/>
            <a:ext cx="402300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Img"/>
          </p:nvPr>
        </p:nvSpPr>
        <p:spPr>
          <a:xfrm>
            <a:off x="2895480" y="527040"/>
            <a:ext cx="3494160" cy="262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body"/>
          </p:nvPr>
        </p:nvSpPr>
        <p:spPr>
          <a:xfrm>
            <a:off x="928800" y="3322800"/>
            <a:ext cx="7426080" cy="31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ftr" idx="20"/>
          </p:nvPr>
        </p:nvSpPr>
        <p:spPr>
          <a:xfrm>
            <a:off x="0" y="6647040"/>
            <a:ext cx="402264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 type="sldNum" idx="21"/>
          </p:nvPr>
        </p:nvSpPr>
        <p:spPr>
          <a:xfrm>
            <a:off x="5258880" y="6647040"/>
            <a:ext cx="402300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A21FB-A42D-4353-A92B-A1A4D5D66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5259240" y="6647040"/>
            <a:ext cx="40230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BBA36-1BD3-452D-8069-94B0A7D8A73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2895480" y="527040"/>
            <a:ext cx="3494160" cy="26208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28800" y="3322800"/>
            <a:ext cx="7426080" cy="31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5259240" y="6647040"/>
            <a:ext cx="40230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8170C-9F95-480B-ADE6-48C8669D351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2895480" y="527040"/>
            <a:ext cx="3494160" cy="26208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1238400" y="3322800"/>
            <a:ext cx="6806880" cy="31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5259240" y="6647040"/>
            <a:ext cx="40230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E39FC-C945-4C17-A749-55B33DE8011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2895480" y="527040"/>
            <a:ext cx="3494160" cy="26208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28800" y="3322800"/>
            <a:ext cx="7426080" cy="31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5259240" y="6647040"/>
            <a:ext cx="40230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88B3F-5865-4C00-9CA4-82BB5DD3ED0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2895480" y="527040"/>
            <a:ext cx="3494160" cy="26208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28800" y="3322800"/>
            <a:ext cx="7426080" cy="31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New SWPC model to be deployed for testing later this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Combines low-to-middle latitude absorption driven by solar X-rays with high latitude absorption driven by energetic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Use GOES XRS to measure X-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Use GOES EPS to measure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Challenges include different magnitudes and time scales of absor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Different physical mechanisms and models different latitude ra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Different timeliness for supporting model inpu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5259240" y="6647040"/>
            <a:ext cx="40230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DF2E0-9B32-4F66-B207-1365B8FCD23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2895480" y="527040"/>
            <a:ext cx="3494160" cy="26208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28800" y="3322800"/>
            <a:ext cx="7426080" cy="314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New SWPC model to be deployed for testing later this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Combines low-to-middle latitude absorption driven by solar X-rays with high latitude absorption driven by energetic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Use GOES XRS to measure X-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Use GOES EPS to measure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Challenges include different magnitudes and time scales of absor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Different physical mechanisms and models different latitude ra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Different timeliness for supporting model inpu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5259240" y="6647040"/>
            <a:ext cx="40230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0873E-1174-4E6A-AE1E-2B5592F12F2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2895480" y="527040"/>
            <a:ext cx="3494160" cy="26208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28800" y="3322800"/>
            <a:ext cx="7426080" cy="314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New SWPC model to be deployed for testing later this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Combines low-to-middle latitude absorption driven by solar X-rays with high latitude absorption driven by energetic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Use GOES XRS to measure X-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Use GOES EPS to measure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Challenges include different magnitudes and time scales of absor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Different physical mechanisms and models different latitude ra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Different timeliness for supporting model inpu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5259240" y="6647040"/>
            <a:ext cx="40230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026CC-0C88-4A85-A547-7FED84B0430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2895480" y="527040"/>
            <a:ext cx="3494160" cy="26208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28800" y="3322800"/>
            <a:ext cx="7426080" cy="314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New SWPC model to be deployed for testing later this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Combines low-to-middle latitude absorption driven by solar X-rays with high latitude absorption driven by energetic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Use GOES XRS to measure X-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Use GOES EPS to measure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Challenges include different magnitudes and time scales of absor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Different physical mechanisms and models different latitude ra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Different timeliness for supporting model inpu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5259240" y="6647040"/>
            <a:ext cx="40230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1D405-F38F-4174-A0AD-3EDE523B5B2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495960" cy="2622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28800" y="3322800"/>
            <a:ext cx="7426080" cy="31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66F4-C8B9-4507-9262-A406ECE77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48CF-4B42-4849-80B9-8AD9BAC0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1884-E181-4045-8B11-21D399D86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A1F2-CA94-4F86-86A6-CB609FF91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A833F-9D8E-4BAF-ACAF-207D26916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FB7C9-324D-40BD-A91D-547B205ED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BF575-FCD0-48D6-8AF5-014B4E995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FBFD6-AA4C-41F3-B1CF-D754A8DEE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3529B-A5A4-4332-8A96-011614854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957FE-7A9C-4F75-88B8-663193C4F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857A8-F53E-408B-954D-F90934DC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EA70-A855-40C5-A741-76D1D99CA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497AF-834D-4EAB-8E9C-5F2BB761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9EAE1-33C8-4393-A9B3-69FEC8AE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FAE07-F76E-476A-8A94-C6CC03AFC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D59A9-BFE7-4515-9D93-849F0F4CE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B05CE-05F0-4A07-8D63-778A9EA14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6B438-F881-4E86-9ECC-CB3B211FE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13BE3-3FB0-40D8-BFE2-755A7696C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CA1A9-22B5-418E-8DF7-DDB66DF0F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AC066-1B29-4B45-8A69-DA232BACF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F5506-16B5-43E2-A6B6-B941AD33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176D-D6D6-44D6-97A0-D6781563D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1D0B2-26EE-4A4D-86F7-0B8D89076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F2CB4-DF35-489F-A0CA-D5D7D2F2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7B5A0-A4FB-43FF-9812-388D21BB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E3C4F-53B8-44A2-85DF-BC519DB1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21DA7-44A4-47DC-9F50-9669E024F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D98E6-CBAC-4571-B698-AC89705AE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88B02-ED7F-4F19-BAFE-DE4B3B5D2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6EFAF-124C-4D03-853E-4581A3A20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288B5-A1BC-4C9B-89ED-3E5648BF7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B9E66-A7C0-4A1A-B7F4-A1E3D011D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677B-365D-4C66-BA95-855C85356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863DF-A5A5-4476-98DB-AFD69695B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1F847-EC48-4B2A-9F20-668C895FE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A8CDD-44C5-4D0F-A3AF-785F230CE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08A1E-4857-4BDB-9C35-7059C97E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4C745-D3B0-4D88-AC97-B8E4C8E4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39A9F-A183-4EF7-8552-29A8DA6A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732C3-EC0B-47B5-A315-155B4E748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DCB46-8581-4DB8-AD3A-11ECA8D01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6FAC2-1AFA-43FC-B855-CFC40AE9D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E62CA-2152-43F9-AB0E-C9569258C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111A-7801-4648-BF43-43B621F25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3B6FF-2C88-44E4-9E6F-79A3B2934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B74BF-A7CD-44B0-8717-7C65DAE1E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DF372-4151-4290-AC83-3CDD02735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47A53-1603-4D42-8D2E-CCDDF6AD9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A8E2A-7C60-4E91-8071-B6F253510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1AEA34-478C-4096-BA6A-4B6A7772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FA302-1D26-4D33-89C7-2A59AB7C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6809B-395E-4C0E-A61D-63B34C5B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740F8-1B5A-43A0-BCE9-3CBB2C8C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14484-2054-4777-A894-25E726CA7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DD3C-CBD1-49FD-AC32-3CF71A29E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44FEB-06C8-485A-BA73-A29E7F28E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2908B-4C65-4C7E-9F8F-1326C144C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34947-31B7-4233-B60D-74788792F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50DCA-D87A-4858-8A2A-99CAFDF31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FDFD2-173A-46B6-A8AD-AB39C868A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A8ED2B-37D7-4E03-866E-35B1AF372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E35D8E-4FE7-4F3A-88C4-966E7EB6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61FFB-BA19-42DD-B7A0-AE18B754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2941F-0C26-44D5-B265-3CF2553E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64260-1ED3-4C37-BF1C-916915A3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D9B0-16CC-4739-9867-5FD83473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E6FB6C-381D-4A98-B7B1-87ED74728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643C17-0AC6-4233-9B51-CE417B773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C4B93-7C99-4F3E-8B6C-3310947F4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9BCC-83A2-4820-9E38-B4AEE462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0523-B99D-4576-A5D1-0FF429E8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3AFF1-EADE-425F-9F1E-D282AD80ECBA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Text Box 7"/>
          <p:cNvSpPr/>
          <p:nvPr/>
        </p:nvSpPr>
        <p:spPr>
          <a:xfrm>
            <a:off x="8381880" y="63244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0F5C8-3A0A-40F8-A7C4-5BA8BA475B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12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Freeform 13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6" name="Picture 14" descr="CA852VOH"/>
          <p:cNvPicPr/>
          <p:nvPr/>
        </p:nvPicPr>
        <p:blipFill>
          <a:blip r:embed="rId2"/>
          <a:stretch/>
        </p:blipFill>
        <p:spPr>
          <a:xfrm>
            <a:off x="324000" y="266760"/>
            <a:ext cx="1323720" cy="10206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CC033-7EB7-4BF9-B056-0145A80B66B9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12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Freeform 13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4CA9B-56AC-4E51-9E48-2AA7A90121E5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9F75F-A74A-4BE0-BB7E-F2AC6471586A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8381880" y="63244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3D8F6-2238-448D-8C73-ED0C00D99F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BF6A7-B456-450B-9116-66AEDBB8605A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9B457-108F-4E6B-BB28-9EB397948B6E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Title 1" descr=""/>
          <p:cNvPicPr/>
          <p:nvPr/>
        </p:nvPicPr>
        <p:blipFill>
          <a:blip r:embed="rId1"/>
          <a:stretch/>
        </p:blipFill>
        <p:spPr>
          <a:xfrm>
            <a:off x="901800" y="317520"/>
            <a:ext cx="6858000" cy="2717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925560" y="341640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oe Kunc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AA Space Weather Prediction Ce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ulder, Color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joseph.kunches@noaa.go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Box 3"/>
          <p:cNvSpPr/>
          <p:nvPr/>
        </p:nvSpPr>
        <p:spPr>
          <a:xfrm>
            <a:off x="603360" y="5408640"/>
            <a:ext cx="170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PWG/7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ne 3-5, 2009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i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Nowcast of Atmospheric Ionizing Radiation for Aviation Safety (NAIRAS) Model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4932720" y="2717640"/>
            <a:ext cx="3862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hristopher J. Merte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ASA Langley Research Center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Hampton, Virgini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4648320" y="586728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09" name="Picture 2" descr="flycolorscreen1"/>
          <p:cNvPicPr/>
          <p:nvPr/>
        </p:nvPicPr>
        <p:blipFill>
          <a:blip r:embed="rId1"/>
          <a:stretch/>
        </p:blipFill>
        <p:spPr>
          <a:xfrm>
            <a:off x="539640" y="2133720"/>
            <a:ext cx="3708360" cy="37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Nowcast of Atmospheric Ionizing Radiation for Aviation Safety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NAIRAS Model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60000"/>
              </a:lnSpc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af0a"/>
                </a:solidFill>
                <a:latin typeface="Arial"/>
              </a:rPr>
              <a:t>Develop prototype operational aircraft radiation exposure model (adopt meteorological paradigm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6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lob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6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al-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6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-Driv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6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ynamic Geomagnetic Shiel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6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hysics-based radiation transport and dosime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60000"/>
              </a:lnSpc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af0a"/>
                </a:solidFill>
                <a:latin typeface="Arial"/>
              </a:rPr>
              <a:t>Team Organization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6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ASA Langley Research Cen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6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Space Environment Technologies, In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6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Dartmouth Colle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6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CAR High Altitude Observa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6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OAA/SWP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6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CDC/NIO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6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Line 4"/>
          <p:cNvSpPr/>
          <p:nvPr/>
        </p:nvSpPr>
        <p:spPr>
          <a:xfrm>
            <a:off x="609480" y="1295280"/>
            <a:ext cx="792504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Nowcast of Atmospheric Ionizing Radiation for Aviation Safety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NAIRAS Unique Features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60000"/>
              </a:lnSpc>
              <a:spcBef>
                <a:spcPts val="37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af0a"/>
                </a:solidFill>
                <a:latin typeface="Arial"/>
              </a:rPr>
              <a:t>Global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6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ographic coverage: pole-to-po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6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titude converge: Surface to 100 k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60000"/>
              </a:lnSpc>
              <a:spcBef>
                <a:spcPts val="37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af0a"/>
                </a:solidFill>
                <a:latin typeface="Arial"/>
              </a:rPr>
              <a:t>Real-tim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60000"/>
              </a:lnSpc>
              <a:spcBef>
                <a:spcPts val="374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1 hr SEP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60000"/>
              </a:lnSpc>
              <a:spcBef>
                <a:spcPts val="374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3 hr GCR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60000"/>
              </a:lnSpc>
              <a:spcBef>
                <a:spcPts val="37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af0a"/>
                </a:solidFill>
                <a:latin typeface="Arial"/>
              </a:rPr>
              <a:t>Data-Driven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60000"/>
              </a:lnSpc>
              <a:spcBef>
                <a:spcPts val="374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Solar-Cycle GCR Modulation: Ground-based neutron monitor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60000"/>
              </a:lnSpc>
              <a:spcBef>
                <a:spcPts val="374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SEP spectra: NASA/ACE + NOAA/GOE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60000"/>
              </a:lnSpc>
              <a:spcBef>
                <a:spcPts val="374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Geomagnetic storm effects on cutoff rigidity: NASA/ACE solar wind measurement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60000"/>
              </a:lnSpc>
              <a:spcBef>
                <a:spcPts val="374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Atmospheric density: NCEP Global Forecasting System (GFS) Reanalysis (8x daily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60000"/>
              </a:lnSpc>
              <a:spcBef>
                <a:spcPts val="37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af0a"/>
                </a:solidFill>
                <a:latin typeface="Arial"/>
              </a:rPr>
              <a:t>Geomagnetic Shielding (solar wind-magnetosphere coupling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60000"/>
              </a:lnSpc>
              <a:spcBef>
                <a:spcPts val="374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0000"/>
                </a:solidFill>
                <a:latin typeface="Arial"/>
              </a:rPr>
              <a:t>Internal Field: IGRF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60000"/>
              </a:lnSpc>
              <a:spcBef>
                <a:spcPts val="374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0000"/>
                </a:solidFill>
                <a:latin typeface="Arial"/>
              </a:rPr>
              <a:t>Magnetospheric magnetic fiel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60000"/>
              </a:lnSpc>
              <a:spcBef>
                <a:spcPts val="55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00"/>
                </a:solidFill>
                <a:latin typeface="Arial"/>
              </a:rPr>
              <a:t>Tsyganenko T05 (semi-empirical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60000"/>
              </a:lnSpc>
              <a:spcBef>
                <a:spcPts val="55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00"/>
                </a:solidFill>
                <a:latin typeface="Arial"/>
              </a:rPr>
              <a:t>LFM MHD (physics-ba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60000"/>
              </a:lnSpc>
              <a:spcBef>
                <a:spcPts val="374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0000"/>
                </a:solidFill>
                <a:latin typeface="Arial"/>
              </a:rPr>
              <a:t>Cutoff rigidities: Dartmouth-CISM (physics-based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60000"/>
              </a:lnSpc>
              <a:spcBef>
                <a:spcPts val="37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af0a"/>
                </a:solidFill>
                <a:latin typeface="Arial"/>
              </a:rPr>
              <a:t>Physics-based transport and dosimetry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60000"/>
              </a:lnSpc>
              <a:spcBef>
                <a:spcPts val="374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High Charge and Energy Transport (HZETRN) Mode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60000"/>
              </a:lnSpc>
              <a:spcBef>
                <a:spcPts val="37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Line 5"/>
          <p:cNvSpPr/>
          <p:nvPr/>
        </p:nvSpPr>
        <p:spPr>
          <a:xfrm>
            <a:off x="609480" y="1295280"/>
            <a:ext cx="792504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1" descr="3.png"/>
          <p:cNvPicPr/>
          <p:nvPr/>
        </p:nvPicPr>
        <p:blipFill>
          <a:blip r:embed="rId1"/>
          <a:stretch/>
        </p:blipFill>
        <p:spPr>
          <a:xfrm>
            <a:off x="954000" y="304920"/>
            <a:ext cx="7275600" cy="577512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3"/>
          <p:cNvSpPr/>
          <p:nvPr/>
        </p:nvSpPr>
        <p:spPr>
          <a:xfrm>
            <a:off x="1752480" y="5715000"/>
            <a:ext cx="5923080" cy="7038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AIRAS Operational Distributed Network System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Oval 3"/>
          <p:cNvSpPr/>
          <p:nvPr/>
        </p:nvSpPr>
        <p:spPr>
          <a:xfrm>
            <a:off x="5619600" y="1905120"/>
            <a:ext cx="2390760" cy="2809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Nowcast of Atmospheric Ionizing Radiation for Aviation Safety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Step 1 in NAIRAS Transition to Operations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af0a"/>
                </a:solidFill>
                <a:latin typeface="Arial"/>
              </a:rPr>
              <a:t>Experimental Data Products for Community 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c0000"/>
                </a:solidFill>
                <a:latin typeface="Arial"/>
              </a:rPr>
              <a:t>4-D Effective Dose (netcdf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c0000"/>
                </a:solidFill>
                <a:latin typeface="Arial"/>
              </a:rPr>
              <a:t>Global Effective Dose Graphic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c0000"/>
                </a:solidFill>
                <a:latin typeface="Arial"/>
              </a:rPr>
              <a:t>Routine Flight Planning tools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80000"/>
              </a:lnSpc>
              <a:spcBef>
                <a:spcPts val="476"/>
              </a:spcBef>
              <a:buClr>
                <a:srgbClr val="ccaf0a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00"/>
                </a:solidFill>
                <a:latin typeface="Arial"/>
              </a:rPr>
              <a:t>Professional aviation community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c0000"/>
                </a:solidFill>
                <a:latin typeface="Arial"/>
              </a:rPr>
              <a:t>Browsers and Google Earth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80000"/>
              </a:lnSpc>
              <a:spcBef>
                <a:spcPts val="476"/>
              </a:spcBef>
              <a:buClr>
                <a:srgbClr val="ccaf0a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00"/>
                </a:solidFill>
                <a:latin typeface="Arial"/>
              </a:rPr>
              <a:t>Frequent flyers and public educatio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af0a"/>
                </a:solidFill>
                <a:latin typeface="Arial"/>
              </a:rPr>
              <a:t>Data Availabilit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NOAA Aviation Digital Data Service (ADDS) experimental data products web interface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80000"/>
              </a:lnSpc>
              <a:spcBef>
                <a:spcPts val="476"/>
              </a:spcBef>
              <a:buClr>
                <a:srgbClr val="ccaf0a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Commitment from NOAA NWS Aviation Services Branch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c0000"/>
                </a:solidFill>
                <a:latin typeface="Arial"/>
              </a:rPr>
              <a:t>Space Environment Technologies (SET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80000"/>
              </a:lnSpc>
              <a:spcBef>
                <a:spcPts val="425"/>
              </a:spcBef>
              <a:buClr>
                <a:srgbClr val="ccaf0a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00"/>
                </a:solidFill>
                <a:latin typeface="Arial"/>
              </a:rPr>
              <a:t>IPS MeteoStar</a:t>
            </a:r>
            <a:r>
              <a:rPr b="0" lang="en-US" sz="17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Line 5"/>
          <p:cNvSpPr/>
          <p:nvPr/>
        </p:nvSpPr>
        <p:spPr>
          <a:xfrm>
            <a:off x="609480" y="1295280"/>
            <a:ext cx="792504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Nowcast of Atmospheric Ionizing Radiation for Aviation Safety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Step 1 in NAIRAS Transition to Operations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af0a"/>
                </a:solidFill>
                <a:latin typeface="Arial"/>
              </a:rPr>
              <a:t>Verification and Valid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are establishing a core team to propose new aircraft dosimetric measur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are interested in comparing with previous aircraft dosimetric measurements. Contact m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af0a"/>
                </a:solidFill>
                <a:latin typeface="Arial"/>
              </a:rPr>
              <a:t>Project Status, News, Milestones, and Sample Outpu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Register to keep informed at our public webs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499"/>
              </a:spcBef>
              <a:buClr>
                <a:srgbClr val="ccaf0a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Receive Quarterly Repor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ttp://sol.spacenvironment.net/~nairas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Line 4"/>
          <p:cNvSpPr/>
          <p:nvPr/>
        </p:nvSpPr>
        <p:spPr>
          <a:xfrm>
            <a:off x="609480" y="1295280"/>
            <a:ext cx="792504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CPWG Space Weather Subgroup Requirements Document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3714840"/>
            <a:ext cx="615312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 draft to be released for comment so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im for submission to CPWG/8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Picture 2" descr="SpaceWxAviation"/>
          <p:cNvPicPr/>
          <p:nvPr/>
        </p:nvPicPr>
        <p:blipFill>
          <a:blip r:embed="rId1"/>
          <a:stretch/>
        </p:blipFill>
        <p:spPr>
          <a:xfrm>
            <a:off x="6781680" y="3825720"/>
            <a:ext cx="2133720" cy="238464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19"/>
          <p:cNvSpPr/>
          <p:nvPr/>
        </p:nvSpPr>
        <p:spPr>
          <a:xfrm>
            <a:off x="397080" y="1744560"/>
            <a:ext cx="597168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Integrating Space Weathe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Observations &amp; Forecasts into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Aviation Operation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Arial Black"/>
                <a:ea typeface="Times New Roman"/>
              </a:rPr>
              <a:t>“</a:t>
            </a:r>
            <a:r>
              <a:rPr b="1" lang="en-US" sz="2100" spc="-1" strike="noStrike">
                <a:solidFill>
                  <a:srgbClr val="ffff00"/>
                </a:solidFill>
                <a:latin typeface="Arial"/>
                <a:ea typeface="Times New Roman"/>
              </a:rPr>
              <a:t>Aviation Space Weather User Requirements</a:t>
            </a:r>
            <a:r>
              <a:rPr b="1" lang="en-US" sz="2100" spc="-1" strike="noStrike">
                <a:solidFill>
                  <a:srgbClr val="ffff00"/>
                </a:solidFill>
                <a:latin typeface="Arial Black"/>
                <a:ea typeface="Times New Roman"/>
              </a:rPr>
              <a:t>”</a:t>
            </a:r>
            <a:endParaRPr b="0" lang="en-US" sz="21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Overview</a:t>
            </a:r>
            <a:br>
              <a:rPr sz="4100"/>
            </a:b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ar Radiation Storms affect polar operations in two way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grade/eliminate HF commun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radiation dose to aircr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products in development offer improved response by airl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-Region Absorption Prediction (D-RAP) release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wcast of Atmospheric Ionizing Radiation for Aviation Safety (NAIR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date on CPWG Space Weather Subgroup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666720" y="85680"/>
            <a:ext cx="783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D Region Absorption Prediction: Release 2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1941480" y="2743200"/>
            <a:ext cx="52578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 algn="ctr">
              <a:lnSpc>
                <a:spcPct val="13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Requiremen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231840" indent="-231840" algn="ctr">
              <a:lnSpc>
                <a:spcPct val="13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Produc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231840" indent="-231840" algn="ctr">
              <a:lnSpc>
                <a:spcPct val="13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Validatio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231840" indent="-231840" algn="ctr">
              <a:lnSpc>
                <a:spcPct val="13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Feedback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231840" indent="-231840" algn="ctr">
              <a:lnSpc>
                <a:spcPct val="13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Plan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646200" y="1168560"/>
            <a:ext cx="7851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Arial"/>
              </a:rPr>
              <a:t>S. Hill, R. Akmaev, M. Codrescu, R. Craver, J. Vickroy,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Arial"/>
              </a:rPr>
              <a:t>C. Schulz, L. Mayer, A. Newma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Arial"/>
              </a:rPr>
              <a:t>NOAA Space Weather Prediction  Center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Arial"/>
              </a:rPr>
              <a:t>H. Sauer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Arial"/>
              </a:rPr>
              <a:t>National Geophysical Data Center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8"/>
          <p:cNvSpPr/>
          <p:nvPr/>
        </p:nvSpPr>
        <p:spPr>
          <a:xfrm>
            <a:off x="449280" y="0"/>
            <a:ext cx="836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Requiremen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3" name="Rectangle 11"/>
          <p:cNvSpPr/>
          <p:nvPr/>
        </p:nvSpPr>
        <p:spPr>
          <a:xfrm>
            <a:off x="66600" y="4151160"/>
            <a:ext cx="9077400" cy="266940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mmunication - FAR 121.99 requires reliable communication over the entire flight route - SATCOM is unavailable above 82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174600" indent="-1746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uring solar activity communications can be impacted and HF propagation can be poor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174600" indent="-1746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perational SWPC D Region Absorption Prediction (D RAP) did not accurately represent HF absorption in polar region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274" name="Group 16"/>
          <p:cNvGrpSpPr/>
          <p:nvPr/>
        </p:nvGrpSpPr>
        <p:grpSpPr>
          <a:xfrm>
            <a:off x="344520" y="679320"/>
            <a:ext cx="5040360" cy="3345120"/>
            <a:chOff x="344520" y="679320"/>
            <a:chExt cx="5040360" cy="3345120"/>
          </a:xfrm>
        </p:grpSpPr>
        <p:pic>
          <p:nvPicPr>
            <p:cNvPr id="275" name="Picture 4" descr="polar_fig1"/>
            <p:cNvPicPr/>
            <p:nvPr/>
          </p:nvPicPr>
          <p:blipFill>
            <a:blip r:embed="rId1"/>
            <a:srcRect l="0" t="12659" r="0" b="0"/>
            <a:stretch/>
          </p:blipFill>
          <p:spPr>
            <a:xfrm>
              <a:off x="344520" y="679320"/>
              <a:ext cx="5040360" cy="33451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76" name="Oval 5"/>
            <p:cNvSpPr/>
            <p:nvPr/>
          </p:nvSpPr>
          <p:spPr>
            <a:xfrm>
              <a:off x="2903400" y="1332000"/>
              <a:ext cx="809640" cy="874800"/>
            </a:xfrm>
            <a:prstGeom prst="ellipse">
              <a:avLst/>
            </a:prstGeom>
            <a:solidFill>
              <a:srgbClr val="efeffb">
                <a:alpha val="50000"/>
              </a:srgbClr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77" name="Text Box 6"/>
            <p:cNvSpPr/>
            <p:nvPr/>
          </p:nvSpPr>
          <p:spPr>
            <a:xfrm>
              <a:off x="3473280" y="1147680"/>
              <a:ext cx="1862280" cy="27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HF Communication only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78" name="Line 7"/>
            <p:cNvSpPr/>
            <p:nvPr/>
          </p:nvSpPr>
          <p:spPr>
            <a:xfrm flipH="1">
              <a:off x="3604680" y="1522440"/>
              <a:ext cx="16668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pic>
        <p:nvPicPr>
          <p:cNvPr id="279" name="Picture 20" descr=""/>
          <p:cNvPicPr/>
          <p:nvPr/>
        </p:nvPicPr>
        <p:blipFill>
          <a:blip r:embed="rId2"/>
          <a:srcRect l="0" t="1004" r="28095" b="12239"/>
          <a:stretch/>
        </p:blipFill>
        <p:spPr>
          <a:xfrm>
            <a:off x="5810400" y="203040"/>
            <a:ext cx="2811240" cy="27133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8" descr="D-region Movie"/>
          <p:cNvPicPr/>
          <p:nvPr/>
        </p:nvPicPr>
        <p:blipFill>
          <a:blip r:embed="rId3"/>
          <a:stretch/>
        </p:blipFill>
        <p:spPr>
          <a:xfrm>
            <a:off x="5999040" y="2608200"/>
            <a:ext cx="2955960" cy="14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8"/>
          <p:cNvSpPr/>
          <p:nvPr/>
        </p:nvSpPr>
        <p:spPr>
          <a:xfrm>
            <a:off x="2282040" y="0"/>
            <a:ext cx="456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The Product – Global Map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2" name="Rectangle 8"/>
          <p:cNvSpPr/>
          <p:nvPr/>
        </p:nvSpPr>
        <p:spPr>
          <a:xfrm>
            <a:off x="200160" y="490680"/>
            <a:ext cx="304452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ccurate HF fade anywhere on Earth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174600" indent="-1746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Graphical displays of absorptio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174600" indent="-1746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umerical data for download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174600" indent="-174600">
              <a:lnSpc>
                <a:spcPct val="100000"/>
              </a:lnSpc>
              <a:spcBef>
                <a:spcPts val="15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Feedback survey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nd product documentation link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174600" indent="-1746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ccessible from main SWPC page and operational       D-RAP pag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283" name="Group 15"/>
          <p:cNvGrpSpPr/>
          <p:nvPr/>
        </p:nvGrpSpPr>
        <p:grpSpPr>
          <a:xfrm>
            <a:off x="3281400" y="452520"/>
            <a:ext cx="5734080" cy="6272280"/>
            <a:chOff x="3281400" y="452520"/>
            <a:chExt cx="5734080" cy="6272280"/>
          </a:xfrm>
        </p:grpSpPr>
        <p:pic>
          <p:nvPicPr>
            <p:cNvPr id="284" name="Picture 2" descr=""/>
            <p:cNvPicPr/>
            <p:nvPr/>
          </p:nvPicPr>
          <p:blipFill>
            <a:blip r:embed="rId1"/>
            <a:stretch/>
          </p:blipFill>
          <p:spPr>
            <a:xfrm>
              <a:off x="3281400" y="452520"/>
              <a:ext cx="5734080" cy="627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15" descr="C:\Publications\2009_SWW_Aviation\kqn0pb35.png"/>
            <p:cNvPicPr/>
            <p:nvPr/>
          </p:nvPicPr>
          <p:blipFill>
            <a:blip r:embed="rId2"/>
            <a:stretch/>
          </p:blipFill>
          <p:spPr>
            <a:xfrm>
              <a:off x="3290760" y="1796400"/>
              <a:ext cx="5491440" cy="306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6" name="Rectangle 19"/>
          <p:cNvSpPr/>
          <p:nvPr/>
        </p:nvSpPr>
        <p:spPr>
          <a:xfrm>
            <a:off x="3308400" y="655560"/>
            <a:ext cx="56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96f54"/>
                </a:solidFill>
                <a:latin typeface="Arial Black"/>
              </a:rPr>
              <a:t>http://www.swpc.noaa.gov/drap/index.html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8"/>
          <p:cNvSpPr/>
          <p:nvPr/>
        </p:nvSpPr>
        <p:spPr>
          <a:xfrm>
            <a:off x="3016080" y="0"/>
            <a:ext cx="30513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Polar Views, Tabular Dat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288" name="Group 11"/>
          <p:cNvGrpSpPr/>
          <p:nvPr/>
        </p:nvGrpSpPr>
        <p:grpSpPr>
          <a:xfrm>
            <a:off x="206280" y="1874880"/>
            <a:ext cx="5048280" cy="4803840"/>
            <a:chOff x="206280" y="1874880"/>
            <a:chExt cx="5048280" cy="4803840"/>
          </a:xfrm>
        </p:grpSpPr>
        <p:pic>
          <p:nvPicPr>
            <p:cNvPr id="289" name="Picture 2" descr=""/>
            <p:cNvPicPr/>
            <p:nvPr/>
          </p:nvPicPr>
          <p:blipFill>
            <a:blip r:embed="rId1"/>
            <a:stretch/>
          </p:blipFill>
          <p:spPr>
            <a:xfrm>
              <a:off x="206280" y="1874880"/>
              <a:ext cx="5048280" cy="480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7" descr="http://intranet.swpc.noaa.gov/wiki/images/2/2e/South-pole_2006-12-06_1847UTC.png"/>
            <p:cNvPicPr/>
            <p:nvPr/>
          </p:nvPicPr>
          <p:blipFill>
            <a:blip r:embed="rId2"/>
            <a:stretch/>
          </p:blipFill>
          <p:spPr>
            <a:xfrm>
              <a:off x="259920" y="2168640"/>
              <a:ext cx="3122280" cy="3121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1" name="Group 10"/>
          <p:cNvGrpSpPr/>
          <p:nvPr/>
        </p:nvGrpSpPr>
        <p:grpSpPr>
          <a:xfrm>
            <a:off x="3629160" y="861840"/>
            <a:ext cx="5011560" cy="4792680"/>
            <a:chOff x="3629160" y="861840"/>
            <a:chExt cx="5011560" cy="4792680"/>
          </a:xfrm>
        </p:grpSpPr>
        <p:pic>
          <p:nvPicPr>
            <p:cNvPr id="292" name="Picture 3" descr=""/>
            <p:cNvPicPr/>
            <p:nvPr/>
          </p:nvPicPr>
          <p:blipFill>
            <a:blip r:embed="rId3"/>
            <a:stretch/>
          </p:blipFill>
          <p:spPr>
            <a:xfrm>
              <a:off x="3629160" y="861840"/>
              <a:ext cx="5011560" cy="479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5" descr="http://intranet.swpc.noaa.gov/wiki/images/8/86/North-pole_2006-12-06_1847UTC.png"/>
            <p:cNvPicPr/>
            <p:nvPr/>
          </p:nvPicPr>
          <p:blipFill>
            <a:blip r:embed="rId4"/>
            <a:stretch/>
          </p:blipFill>
          <p:spPr>
            <a:xfrm>
              <a:off x="3691080" y="1140840"/>
              <a:ext cx="3069720" cy="3070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94" name="Picture 10" descr=""/>
          <p:cNvPicPr/>
          <p:nvPr/>
        </p:nvPicPr>
        <p:blipFill>
          <a:blip r:embed="rId5"/>
          <a:srcRect l="0" t="0" r="47053" b="0"/>
          <a:stretch/>
        </p:blipFill>
        <p:spPr>
          <a:xfrm>
            <a:off x="6575400" y="436680"/>
            <a:ext cx="2413080" cy="31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8"/>
          <p:cNvSpPr/>
          <p:nvPr/>
        </p:nvSpPr>
        <p:spPr>
          <a:xfrm>
            <a:off x="1270080" y="0"/>
            <a:ext cx="6575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Validation and Testing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6" name="Rectangle 8"/>
          <p:cNvSpPr/>
          <p:nvPr/>
        </p:nvSpPr>
        <p:spPr>
          <a:xfrm>
            <a:off x="217440" y="633240"/>
            <a:ext cx="8244000" cy="58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urpos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pand upon previous validation of each component model (x-ray and proton)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stablish a basis for ongoing product validatio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stablish basis for integrated system regression testing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174600" indent="-1746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Validation Approach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3 event validation periods including three with combined x-ray and proton events from 1998 to 2005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mparison between model results and measurements from up to 9 ground riometer station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alculate means and variances for both data and model, and root mean square difference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15" descr="C:\Publications\2009_SWW_Aviation\kqn0pb35.png"/>
          <p:cNvPicPr/>
          <p:nvPr/>
        </p:nvPicPr>
        <p:blipFill>
          <a:blip r:embed="rId1"/>
          <a:stretch/>
        </p:blipFill>
        <p:spPr>
          <a:xfrm>
            <a:off x="349200" y="3632040"/>
            <a:ext cx="5491080" cy="30686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5" descr="http://intranet.swpc.noaa.gov/wiki/images/8/86/North-pole_2006-12-06_1847UTC.png"/>
          <p:cNvPicPr/>
          <p:nvPr/>
        </p:nvPicPr>
        <p:blipFill>
          <a:blip r:embed="rId2"/>
          <a:stretch/>
        </p:blipFill>
        <p:spPr>
          <a:xfrm>
            <a:off x="5238720" y="3608280"/>
            <a:ext cx="3122640" cy="3122640"/>
          </a:xfrm>
          <a:prstGeom prst="rect">
            <a:avLst/>
          </a:prstGeom>
          <a:ln w="0">
            <a:noFill/>
          </a:ln>
        </p:spPr>
      </p:pic>
      <p:sp>
        <p:nvSpPr>
          <p:cNvPr id="299" name="Oval 17"/>
          <p:cNvSpPr/>
          <p:nvPr/>
        </p:nvSpPr>
        <p:spPr>
          <a:xfrm>
            <a:off x="2295360" y="5808600"/>
            <a:ext cx="949320" cy="26820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0" name="Oval 18"/>
          <p:cNvSpPr/>
          <p:nvPr/>
        </p:nvSpPr>
        <p:spPr>
          <a:xfrm>
            <a:off x="6970680" y="6126120"/>
            <a:ext cx="951120" cy="26820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1" name="Text Box 8"/>
          <p:cNvSpPr/>
          <p:nvPr/>
        </p:nvSpPr>
        <p:spPr>
          <a:xfrm>
            <a:off x="833400" y="0"/>
            <a:ext cx="7404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oduct Presentation Feedback Request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2" name="Rectangle 8"/>
          <p:cNvSpPr/>
          <p:nvPr/>
        </p:nvSpPr>
        <p:spPr>
          <a:xfrm>
            <a:off x="217440" y="490680"/>
            <a:ext cx="8582040" cy="34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bsorption Thresholds: </a:t>
            </a: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Will color presentation of frequency using a threshold  of 10db on the polar plots (to avoid saturation) versus 1db  on the global plot  prove more confusing than useful?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ap Gridlines: </a:t>
            </a: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Is a finer gird of latitude and longitude on images desirable?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umerical Data: </a:t>
            </a: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Would a format such as NetCDF or GRIB offer better integration into customer systems than the current ASCII format?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OTAM/SIGMET messages: </a:t>
            </a: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Would NOTAM/SIGMET alerts be a beneficial addition?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bsorption Presentation: </a:t>
            </a: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Would presentation of absorption at a specified frequency be a beneficial addition?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3075"/>
          <p:cNvSpPr/>
          <p:nvPr/>
        </p:nvSpPr>
        <p:spPr>
          <a:xfrm>
            <a:off x="4000680" y="150840"/>
            <a:ext cx="11430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Plan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4" name="Text Box 2"/>
          <p:cNvSpPr/>
          <p:nvPr/>
        </p:nvSpPr>
        <p:spPr>
          <a:xfrm>
            <a:off x="2136600" y="3684600"/>
            <a:ext cx="6121440" cy="30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Contact Information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Dr. Steven M Hil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Development and Transition Section Lead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NOAA Space Weather Prediction Center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325 Broadwa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Boulder, CO 80305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303-497-3283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steven.hill@noaa.gov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5" name="Rectangle 11"/>
          <p:cNvSpPr/>
          <p:nvPr/>
        </p:nvSpPr>
        <p:spPr>
          <a:xfrm>
            <a:off x="401760" y="642960"/>
            <a:ext cx="8302680" cy="302004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Summer 2008 – Summer 2009: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Customer Feedback Period on NWS enhanced produc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174600" indent="-17460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Spring 2009 – Summer 2009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– Continued validation, improvements for operational robustness, user requested change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174600" indent="-17460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Fall ’09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– Deploy as an operational NWS product and discontinue old D Region produc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174600" indent="-174600"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000"/>
                </a:solidFill>
                <a:latin typeface="Arial"/>
              </a:rPr>
              <a:t>Sometime, anytime, an x-ray or proton event please!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2T15:57:27Z</dcterms:created>
  <dc:creator>Howard J. Singer</dc:creator>
  <dc:description/>
  <dc:language>en-US</dc:language>
  <cp:lastModifiedBy>Joseph Kunches</cp:lastModifiedBy>
  <dcterms:modified xsi:type="dcterms:W3CDTF">2009-05-15T18:01:58Z</dcterms:modified>
  <cp:revision>744</cp:revision>
  <dc:subject/>
  <dc:title>GOES R AMS 2005</dc:title>
</cp:coreProperties>
</file>