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928198B-FAAC-4D42-9149-E6669C76F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A telephonic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AACD-6DDB-4CDE-8245-1820207BB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DAC6-2AFD-45B4-A57D-6FF739BE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75D3-1011-4532-B6DA-3A2988152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D7B2-CA36-4C32-B4E6-A7585DB53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9E40-49DB-43AD-B40D-221FE9D8A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FC81-6483-47FB-80BA-9358245A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D8FD-C64F-4B6B-900C-0C9C5C78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FFE8-5FE0-474C-97C6-1AC56F3C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4457-C000-4AB8-8E50-1492683B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4BC3-6AEF-4691-B7F9-2BB016B5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2AF8-FD60-4F03-9159-EC0DB077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2E72-CECD-4A6D-98D9-BE46F93F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F467-31BC-43A4-A391-1BDFCE55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5133-21E6-486D-850A-7ACF1CA8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FAC4-58EF-4603-9E35-D7CD5E30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F0D0-2171-4C57-94A8-5B6759E86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9362-9FBA-442B-9FA5-1C2A6AC6B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63B3-E29A-431D-8802-E4FE187A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5BF2-1543-4089-B7E7-43168511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3713-E13A-4DE6-AA63-01DD78EE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49D3-6AA3-4E90-AF43-357832F8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CA43-CC50-4A26-914F-72EC6FB9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412F-9639-4C6C-990C-C50DA366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E37C-874A-4047-BD2C-3DE28B3A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A970-7CBD-4E9A-994F-B15EC7C9D1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AC99-8E10-444E-A2DA-F78B69DFC6C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25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8" name="Picture 26" descr="NEW FAA LOGO"/>
            <p:cNvPicPr/>
            <p:nvPr/>
          </p:nvPicPr>
          <p:blipFill>
            <a:blip r:embed="rId2"/>
            <a:srcRect l="14357" t="3733" r="14973" b="4579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 Box 27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Text Box 29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DOTS+ On-Line Track Advis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0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June 1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CB2A-ADC4-43E6-AB89-A1C14AC678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0" y="6041880"/>
            <a:ext cx="9144000" cy="81612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EBF0-ACFA-46A4-A335-7278EDE3A36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9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56" name="Picture 10" descr="NEW FAA LOGO"/>
            <p:cNvPicPr/>
            <p:nvPr/>
          </p:nvPicPr>
          <p:blipFill>
            <a:blip r:embed="rId2"/>
            <a:srcRect l="14357" t="3733" r="14973" b="4579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1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 Box 12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DOTS+ Online – Status 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June 1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25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61" name="Picture 26" descr="NEW FAA LOGO"/>
            <p:cNvPicPr/>
            <p:nvPr/>
          </p:nvPicPr>
          <p:blipFill>
            <a:blip r:embed="rId3"/>
            <a:srcRect l="14357" t="3733" r="14973" b="4579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27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078" descr="title_imagery_nologo"/>
          <p:cNvPicPr/>
          <p:nvPr/>
        </p:nvPicPr>
        <p:blipFill>
          <a:blip r:embed="rId2"/>
          <a:stretch/>
        </p:blipFill>
        <p:spPr>
          <a:xfrm>
            <a:off x="5591160" y="0"/>
            <a:ext cx="355284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051"/>
          <p:cNvSpPr/>
          <p:nvPr/>
        </p:nvSpPr>
        <p:spPr>
          <a:xfrm>
            <a:off x="426960" y="4497480"/>
            <a:ext cx="4822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d to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PWG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slie McCormick, ATCS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1-3,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080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102" name="Picture 1079" descr="NEW FAA LOGO"/>
            <p:cNvPicPr/>
            <p:nvPr/>
          </p:nvPicPr>
          <p:blipFill>
            <a:blip r:embed="rId3"/>
            <a:srcRect l="14334" t="3733" r="14976" b="4567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071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title_imagery_nologo"/>
          <p:cNvPicPr/>
          <p:nvPr/>
        </p:nvPicPr>
        <p:blipFill>
          <a:blip r:embed="rId2"/>
          <a:stretch/>
        </p:blipFill>
        <p:spPr>
          <a:xfrm>
            <a:off x="5591160" y="0"/>
            <a:ext cx="355284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426960" y="4497480"/>
            <a:ext cx="4822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d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6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145" name="Picture 7" descr="NEW FAA LOGO"/>
            <p:cNvPicPr/>
            <p:nvPr/>
          </p:nvPicPr>
          <p:blipFill>
            <a:blip r:embed="rId3"/>
            <a:srcRect l="14334" t="3733" r="14976" b="4567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8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25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148" name="Picture 26" descr="NEW FAA LOGO"/>
            <p:cNvPicPr/>
            <p:nvPr/>
          </p:nvPicPr>
          <p:blipFill>
            <a:blip r:embed="rId4"/>
            <a:srcRect l="14357" t="3733" r="14973" b="4579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27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29"/>
          <p:cNvSpPr/>
          <p:nvPr/>
        </p:nvSpPr>
        <p:spPr>
          <a:xfrm>
            <a:off x="449280" y="6205680"/>
            <a:ext cx="47847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0"/>
          <p:cNvSpPr/>
          <p:nvPr/>
        </p:nvSpPr>
        <p:spPr>
          <a:xfrm>
            <a:off x="441360" y="6384960"/>
            <a:ext cx="37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eschoell@cssiinc.com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OTS+ Online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49280" y="1511280"/>
            <a:ext cx="4951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Status Update</a:t>
            </a: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1754280" y="449748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PW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789120" y="487512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m McHale, ATCS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1000080" y="5224320"/>
            <a:ext cx="34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une 1, 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42840" y="2700360"/>
            <a:ext cx="5450040" cy="16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urrent Status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65040" y="1047600"/>
            <a:ext cx="805032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PO Build has been installed in all oceanic cent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PO User Manual has been updated and is available on-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PO Training Server is still available for airline u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Stakeholder Participation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S began FTI testing in mid-April 20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required due to unique configuration for 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AL connection information has been forwarded to the FTI Program Off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AL is coordinating directly with FTI/Harris to beg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ta is working with CSSI to begin coordination process with F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ental has been in contact with CSSI and is working internal issues to use the VPN conn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What Nex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operational demonstration for Anchorage ARTCC operations was targeted for the fourth quarter 2009. United Parcel Service (UPS) was expected to participate as the lead airline for the demonstration.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on-line capability of DOTS Plus is available to all airlines immediately upon successful establishment of VPN connections to FTI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8760" y="77292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5360" y="1336320"/>
            <a:ext cx="8050320" cy="36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keholders may begin operational use as soon as they can complete connection process with F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S, UAL and DAL have initiated the DPO/FTI connection process and COA is currently working on starting this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lines can immediately start this process by contacting CSSI, In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C is Eric Schoell at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schoell@cssiin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2"/>
          <a:stretch/>
        </p:blipFill>
        <p:spPr>
          <a:xfrm>
            <a:off x="946080" y="0"/>
            <a:ext cx="7248600" cy="7905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3"/>
          <a:stretch/>
        </p:blipFill>
        <p:spPr>
          <a:xfrm>
            <a:off x="1973160" y="5046840"/>
            <a:ext cx="5572080" cy="102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20:32:53Z</dcterms:created>
  <dc:creator>MTONEY</dc:creator>
  <dc:description/>
  <dc:language>en-US</dc:language>
  <cp:lastModifiedBy>Leslie</cp:lastModifiedBy>
  <dcterms:modified xsi:type="dcterms:W3CDTF">2009-06-01T12:54:57Z</dcterms:modified>
  <cp:revision>154</cp:revision>
  <dc:subject/>
  <dc:title>PowerPoint Presentation</dc:title>
</cp:coreProperties>
</file>