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E82-F8C6-4077-972F-FB7A7807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9CE-E78B-4AB4-A6E5-4EDB4F54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E73-07AF-41FE-8C7B-140F92B4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57D-051A-43D9-8699-E989A1C1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A33-729D-43B8-B798-78A7EB88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718-F174-438D-936D-451C60F8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8C8-332A-4EAF-992E-BC500988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7C4-8135-41AD-9209-54491A7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CCD-E1B7-4240-801F-67947DF4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6D3-3116-4D93-A0F1-AA1E9952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5F9-CE22-40C9-B979-954F524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8A4-A6A1-4D8B-8A63-728FEBE5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431-4863-4232-A072-19DE53895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41880"/>
            <a:ext cx="9144000" cy="8161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0158-8351-43C4-BF45-789ACABB92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Robert Tegeder, June 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  CPWG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  Robert M. Tegeder  FAA AFS-4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  June 3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OSS POLAR AND TRANS EAS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AR COMMUNIC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2040" y="4516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085400"/>
            <a:ext cx="805032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nna Cou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Action with 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Differ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OC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 relay with other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7DE-AD39-4C49-9711-12CCB86531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130040"/>
            <a:ext cx="80503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COM VO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mar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-Synchronous Orbit 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ice above approximately 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 North or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e to Pol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GES Phoenix, 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 throug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ty Radio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ential as future L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678-E640-45DF-9F8F-86601FF77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145880"/>
            <a:ext cx="46576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 RA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LAND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DER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O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A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MAN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95760" y="1203480"/>
            <a:ext cx="39499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MARSAT SAT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IDIUM SAT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831-3A4B-4A4B-8808-8C135A5D6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um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96D-C7C6-418E-934B-93C92912CE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68600" y="2128680"/>
            <a:ext cx="296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2F9-5517-49FE-9B1D-A714812E43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3441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870120"/>
            <a:ext cx="805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23880" y="-190440"/>
            <a:ext cx="12191760" cy="721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 rot="10800000">
            <a:off x="2084400" y="1017360"/>
            <a:ext cx="51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54560" y="3933720"/>
            <a:ext cx="914400" cy="914400"/>
          </a:xfrm>
          <a:custGeom>
            <a:avLst/>
            <a:gdLst>
              <a:gd name="textAreaLeft" fmla="*/ 135360 w 914400"/>
              <a:gd name="textAreaRight" fmla="*/ 779040 w 914400"/>
              <a:gd name="textAreaTop" fmla="*/ 135360 h 914400"/>
              <a:gd name="textAreaBottom" fmla="*/ 7790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3440" y="3048120"/>
            <a:ext cx="1566720" cy="1726920"/>
          </a:xfrm>
          <a:custGeom>
            <a:avLst/>
            <a:gdLst>
              <a:gd name="textAreaLeft" fmla="*/ 645480 w 1566720"/>
              <a:gd name="textAreaRight" fmla="*/ 921240 w 1566720"/>
              <a:gd name="textAreaTop" fmla="*/ 711360 h 1726920"/>
              <a:gd name="textAreaBottom" fmla="*/ 101556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890-6314-4D93-BEE9-3EDD7D3CA8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F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COM-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COM-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267-BAD0-4306-9CC0-4280191BEE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20’s and 193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omm in US airspace until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HF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de Band (SS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207-4430-496A-ACBC-F7DB0E530D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0920" y="3139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S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Frequencies 2.0 to 29.999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Value – Reliable Long Range Co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 Signals Reflected back to Earth by Ion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into Audi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C61-5232-44F6-8367-3788DCF245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LIM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requencies da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Frequencies nigh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ayered Ion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osphere Reflector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F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A62-2A59-4442-97F4-60FFB71E2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for Oceanic en-route AT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Dat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through Barrow, 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O assigns frequencies for ATC u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194-D397-4616-BA75-024F91E11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101240"/>
            <a:ext cx="805032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radio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(GP)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Radio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y both ATC and A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Distance Operational Control (L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Regularit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of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craf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373-4DB0-4D23-8DA6-3BC8D3CACA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POLAR COMMUNICATION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058760"/>
            <a:ext cx="805032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holm Radio – Directional Anten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NC Radio – Barrow Alaska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ishead Radio – Europ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Radio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V and WWVH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” Index – Scale One to Nine, (Higher # Poor Propa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Flux – 65 to 400, (Higher # Better Propag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984-1F11-455A-9F6A-550233554E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DOT/FAA</cp:lastModifiedBy>
  <dcterms:modified xsi:type="dcterms:W3CDTF">2009-06-03T06:32:33Z</dcterms:modified>
  <cp:revision>275</cp:revision>
  <dc:subject/>
  <dc:title>PowerPoint Presentation</dc:title>
</cp:coreProperties>
</file>