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25.png" ContentType="image/png"/>
  <Override PartName="/ppt/media/image5.wmf" ContentType="image/x-wmf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3.wmf" ContentType="image/x-wmf"/>
  <Override PartName="/ppt/media/image2.wmf" ContentType="image/x-wmf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591080"/>
            <a:ext cx="548316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8000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18000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AAE9-2547-4F6F-90AF-A90914AD0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440" y="4591080"/>
            <a:ext cx="548316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роприятия по улучшению качества ВЧ связи 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кеаническом секторе Мурманского РЦ ЕС ОрВ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писан государственный контракт и выполнены проектные работы  по оснащению средствами ВЧ радиосвяз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Проходит согласование  договор на проведение строительных рабо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Ориентировочный срок ввода в эксплуатацию оборудования 2010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2960" y="9180360"/>
            <a:ext cx="2970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0737-0924-4775-AB69-BB2727099E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440" y="4591080"/>
            <a:ext cx="5483160" cy="43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2960" y="9180360"/>
            <a:ext cx="2970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BEC8-A3F9-4D4C-BF75-EA3A604603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3DE-02AF-400B-A3F9-3E42A124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759-08C0-4953-AD73-3C0E7772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521-3467-4A07-AC30-D6FB76327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5879-FFC3-47DF-9F01-23A6F595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A2A-5A28-41B9-B771-F3A7B03F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402-9A02-409B-8234-995FC2B3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DC43-9866-4A61-83D0-868D5F2B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DA1-0A40-4D18-B079-E4F7AE5F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97C-31BF-4B14-91BB-283EFB11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950-B9E9-485D-8EC7-930CD351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CFD-711A-4CD7-8964-685C7497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0D3-4A28-4460-967D-94D4A44C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CBC2-3E7A-418B-8F7E-D07722F124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"/>
          <p:cNvPicPr/>
          <p:nvPr/>
        </p:nvPicPr>
        <p:blipFill>
          <a:blip r:embed="rId2"/>
          <a:stretch/>
        </p:blipFill>
        <p:spPr>
          <a:xfrm>
            <a:off x="1889280" y="838080"/>
            <a:ext cx="5543280" cy="5002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2"/>
          <p:cNvPicPr/>
          <p:nvPr/>
        </p:nvPicPr>
        <p:blipFill>
          <a:blip r:embed="rId3"/>
          <a:stretch/>
        </p:blipFill>
        <p:spPr>
          <a:xfrm>
            <a:off x="1889280" y="838080"/>
            <a:ext cx="5543280" cy="5002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3"/>
          <p:cNvPicPr/>
          <p:nvPr/>
        </p:nvPicPr>
        <p:blipFill>
          <a:blip r:embed="rId4"/>
          <a:stretch/>
        </p:blipFill>
        <p:spPr>
          <a:xfrm>
            <a:off x="1889280" y="838080"/>
            <a:ext cx="5543280" cy="5002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5"/>
          <p:cNvPicPr/>
          <p:nvPr/>
        </p:nvPicPr>
        <p:blipFill>
          <a:blip r:embed="rId5"/>
          <a:stretch/>
        </p:blipFill>
        <p:spPr>
          <a:xfrm>
            <a:off x="1887480" y="81288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6"/>
          <p:cNvPicPr/>
          <p:nvPr/>
        </p:nvPicPr>
        <p:blipFill>
          <a:blip r:embed="rId6"/>
          <a:stretch/>
        </p:blipFill>
        <p:spPr>
          <a:xfrm>
            <a:off x="1901880" y="83664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7"/>
          <p:cNvPicPr/>
          <p:nvPr/>
        </p:nvPicPr>
        <p:blipFill>
          <a:blip r:embed="rId7"/>
          <a:stretch/>
        </p:blipFill>
        <p:spPr>
          <a:xfrm>
            <a:off x="1901880" y="83808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8"/>
          <p:cNvPicPr/>
          <p:nvPr/>
        </p:nvPicPr>
        <p:blipFill>
          <a:blip r:embed="rId8"/>
          <a:stretch/>
        </p:blipFill>
        <p:spPr>
          <a:xfrm>
            <a:off x="1901880" y="83808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12"/>
          <p:cNvPicPr/>
          <p:nvPr/>
        </p:nvPicPr>
        <p:blipFill>
          <a:blip r:embed="rId9"/>
          <a:stretch/>
        </p:blipFill>
        <p:spPr>
          <a:xfrm>
            <a:off x="1898640" y="83808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11"/>
          <p:cNvPicPr/>
          <p:nvPr/>
        </p:nvPicPr>
        <p:blipFill>
          <a:blip r:embed="rId10"/>
          <a:stretch/>
        </p:blipFill>
        <p:spPr>
          <a:xfrm>
            <a:off x="1908000" y="836640"/>
            <a:ext cx="5543640" cy="5002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9"/>
          <p:cNvPicPr/>
          <p:nvPr/>
        </p:nvPicPr>
        <p:blipFill>
          <a:blip r:embed="rId11"/>
          <a:stretch/>
        </p:blipFill>
        <p:spPr>
          <a:xfrm>
            <a:off x="1866960" y="874800"/>
            <a:ext cx="5543640" cy="5002200"/>
          </a:xfrm>
          <a:prstGeom prst="rect">
            <a:avLst/>
          </a:prstGeom>
          <a:ln w="0">
            <a:noFill/>
          </a:ln>
        </p:spPr>
      </p:pic>
      <p:sp>
        <p:nvSpPr>
          <p:cNvPr id="58" name="WordArt 12"/>
          <p:cNvSpPr txBox="1"/>
          <p:nvPr/>
        </p:nvSpPr>
        <p:spPr>
          <a:xfrm>
            <a:off x="900000" y="304920"/>
            <a:ext cx="712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ff99ff">
                      <a:alpha val="50000"/>
                    </a:srgbClr>
                  </a:outerShdw>
                </a:effectLst>
                <a:latin typeface="Impact"/>
              </a:rPr>
              <a:t>FSUE "State ATM Corporation"</a:t>
            </a:r>
            <a:endParaRPr b="1" lang="en-US" sz="18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40186" dir="4303641" blurRad="0" rotWithShape="0">
                  <a:srgbClr val="ff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13"/>
          <p:cNvSpPr txBox="1"/>
          <p:nvPr/>
        </p:nvSpPr>
        <p:spPr>
          <a:xfrm>
            <a:off x="3059280" y="6308640"/>
            <a:ext cx="31683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008080"/>
                    </a:gs>
                    <a:gs pos="100000">
                      <a:srgbClr val="3333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99ff">
                      <a:alpha val="50000"/>
                    </a:srgbClr>
                  </a:outerShdw>
                </a:effectLst>
                <a:latin typeface="Impact"/>
              </a:rPr>
              <a:t>St.Petersburg  2009</a:t>
            </a:r>
            <a:endParaRPr b="0" lang="en-US" sz="20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008080"/>
                  </a:gs>
                  <a:gs pos="100000">
                    <a:srgbClr val="333399"/>
                  </a:gs>
                </a:gsLst>
                <a:lin ang="5400000"/>
              </a:gradFill>
              <a:effectLst>
                <a:outerShdw dist="17819" dir="2700000" blurRad="0" rotWithShape="0">
                  <a:srgbClr val="ff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0" name="Picture 14" descr="10"/>
          <p:cNvPicPr/>
          <p:nvPr/>
        </p:nvPicPr>
        <p:blipFill>
          <a:blip r:embed="rId12"/>
          <a:stretch/>
        </p:blipFill>
        <p:spPr>
          <a:xfrm>
            <a:off x="1905120" y="762120"/>
            <a:ext cx="5543280" cy="5002200"/>
          </a:xfrm>
          <a:prstGeom prst="rect">
            <a:avLst/>
          </a:prstGeom>
          <a:ln w="0">
            <a:noFill/>
          </a:ln>
        </p:spPr>
      </p:pic>
      <p:sp>
        <p:nvSpPr>
          <p:cNvPr id="61" name="WordArt 15"/>
          <p:cNvSpPr txBox="1"/>
          <p:nvPr/>
        </p:nvSpPr>
        <p:spPr>
          <a:xfrm>
            <a:off x="539640" y="5516640"/>
            <a:ext cx="8153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ffff99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Goudy Old Style"/>
              </a:rPr>
              <a:t>Branch "North-West Air Navigation"</a:t>
            </a:r>
            <a:endParaRPr b="1" lang="en-US" sz="4400" spc="1" strike="noStrike">
              <a:ln w="19080">
                <a:solidFill>
                  <a:srgbClr val="ffff99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Goudy Old Style"/>
              <a:ea typeface="Goudy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500"/>
                            </p:stCondLst>
                            <p:childTnLst>
                              <p:par>
                                <p:cTn id="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44444E-006 L -0.00139 -0.06459 E">
                                      <p:cBhvr>
                                        <p:cTn id="85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44444E-006 L -0.00139 -0.06459 E">
                                      <p:cBhvr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4.44444E-006 L -0.00139 -0.06459 E">
                                      <p:cBhvr>
                                        <p:cTn id="89" dur="1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85185E-006 L -0.00122 -0.06088 E">
                                      <p:cBhvr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7407E-006 L -0.00278 -0.06435 E">
                                      <p:cBhvr>
                                        <p:cTn id="93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00278 -0.06459 E">
                                      <p:cBhvr>
                                        <p:cTn id="95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44444E-006 L -0.00278 -0.06459 E">
                                      <p:cBhvr>
                                        <p:cTn id="97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-0.00243 -0.06459 E">
                                      <p:cBhvr>
                                        <p:cTn id="99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-0.00348 -0.06435 E">
                                      <p:cBhvr>
                                        <p:cTn id="101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7 L 0.00104 -0.06991 E">
                                      <p:cBhvr>
                                        <p:cTn id="103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44444E-006 L -0.00313 -0.05347 E">
                                      <p:cBhvr>
                                        <p:cTn id="105" dur="1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71936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2" descr=""/>
          <p:cNvPicPr/>
          <p:nvPr/>
        </p:nvPicPr>
        <p:blipFill>
          <a:blip r:embed="rId2"/>
          <a:stretch/>
        </p:blipFill>
        <p:spPr>
          <a:xfrm>
            <a:off x="104760" y="1538280"/>
            <a:ext cx="8858160" cy="5351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36360" y="272880"/>
            <a:ext cx="908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3760" y="344520"/>
            <a:ext cx="9096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Intensity of ai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ffi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 ABERI via A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489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9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nuary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tob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/0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71936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Object 2" descr=""/>
          <p:cNvPicPr/>
          <p:nvPr/>
        </p:nvPicPr>
        <p:blipFill>
          <a:blip r:embed="rId2"/>
          <a:stretch/>
        </p:blipFill>
        <p:spPr>
          <a:xfrm>
            <a:off x="104760" y="1538280"/>
            <a:ext cx="8858160" cy="5351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36360" y="272880"/>
            <a:ext cx="908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3760" y="344520"/>
            <a:ext cx="9096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Intensity of ai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ffi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 DEV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8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49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nuary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tob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/0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71936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Object 2" descr=""/>
          <p:cNvPicPr/>
          <p:nvPr/>
        </p:nvPicPr>
        <p:blipFill>
          <a:blip r:embed="rId2"/>
          <a:stretch/>
        </p:blipFill>
        <p:spPr>
          <a:xfrm>
            <a:off x="104760" y="1538280"/>
            <a:ext cx="8858160" cy="53514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36360" y="272880"/>
            <a:ext cx="908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3760" y="344520"/>
            <a:ext cx="9096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Intensity of ai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ffi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 LATEN vi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83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nuary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tob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/0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Структура Мурманского РЦ"/>
          <p:cNvPicPr/>
          <p:nvPr/>
        </p:nvPicPr>
        <p:blipFill>
          <a:blip r:embed="rId1"/>
          <a:stretch/>
        </p:blipFill>
        <p:spPr>
          <a:xfrm>
            <a:off x="-146160" y="260280"/>
            <a:ext cx="9290160" cy="6337440"/>
          </a:xfrm>
          <a:prstGeom prst="rect">
            <a:avLst/>
          </a:prstGeom>
          <a:ln w="0">
            <a:noFill/>
          </a:ln>
        </p:spPr>
      </p:pic>
      <p:sp>
        <p:nvSpPr>
          <p:cNvPr id="160" name="Freeform 5"/>
          <p:cNvSpPr/>
          <p:nvPr/>
        </p:nvSpPr>
        <p:spPr>
          <a:xfrm>
            <a:off x="2336760" y="358920"/>
            <a:ext cx="6807240" cy="499896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4998960"/>
              <a:gd name="textAreaBottom" fmla="*/ 4999320 h 4998960"/>
            </a:gdLst>
            <a:ahLst/>
            <a:rect l="textAreaLeft" t="textAreaTop" r="textAreaRight" b="textAreaBottom"/>
            <a:pathLst>
              <a:path w="10000" h="10000">
                <a:moveTo>
                  <a:pt x="0" y="6856"/>
                </a:moveTo>
                <a:lnTo>
                  <a:pt x="1031" y="5942"/>
                </a:lnTo>
                <a:lnTo>
                  <a:pt x="1257" y="6386"/>
                </a:lnTo>
                <a:lnTo>
                  <a:pt x="4067" y="3706"/>
                </a:lnTo>
                <a:cubicBezTo>
                  <a:pt x="4034" y="3632"/>
                  <a:pt x="4000" y="3558"/>
                  <a:pt x="3967" y="3484"/>
                </a:cubicBezTo>
                <a:lnTo>
                  <a:pt x="7668" y="302"/>
                </a:lnTo>
                <a:lnTo>
                  <a:pt x="8892" y="0"/>
                </a:lnTo>
                <a:lnTo>
                  <a:pt x="10000" y="6729"/>
                </a:lnTo>
                <a:lnTo>
                  <a:pt x="9991" y="7593"/>
                </a:lnTo>
                <a:lnTo>
                  <a:pt x="7612" y="8749"/>
                </a:lnTo>
                <a:lnTo>
                  <a:pt x="6642" y="9971"/>
                </a:lnTo>
                <a:lnTo>
                  <a:pt x="5131" y="9981"/>
                </a:lnTo>
                <a:lnTo>
                  <a:pt x="2234" y="8857"/>
                </a:lnTo>
                <a:lnTo>
                  <a:pt x="1500" y="9857"/>
                </a:lnTo>
                <a:lnTo>
                  <a:pt x="51" y="10000"/>
                </a:lnTo>
              </a:path>
            </a:pathLst>
          </a:custGeom>
          <a:solidFill>
            <a:srgbClr val="ff00ff">
              <a:alpha val="17000"/>
            </a:srgbClr>
          </a:solidFill>
          <a:ln w="158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"/>
          <p:cNvSpPr/>
          <p:nvPr/>
        </p:nvSpPr>
        <p:spPr>
          <a:xfrm>
            <a:off x="3233880" y="3543480"/>
            <a:ext cx="68040" cy="1447560"/>
          </a:xfrm>
          <a:custGeom>
            <a:avLst/>
            <a:gdLst>
              <a:gd name="textAreaLeft" fmla="*/ 0 w 68040"/>
              <a:gd name="textAreaRight" fmla="*/ 68400 w 680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43" h="912">
                <a:moveTo>
                  <a:pt x="0" y="0"/>
                </a:moveTo>
                <a:lnTo>
                  <a:pt x="43" y="912"/>
                </a:lnTo>
              </a:path>
            </a:pathLst>
          </a:custGeom>
          <a:noFill/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9"/>
          <p:cNvSpPr/>
          <p:nvPr/>
        </p:nvSpPr>
        <p:spPr>
          <a:xfrm>
            <a:off x="3086280" y="4986360"/>
            <a:ext cx="214200" cy="1633680"/>
          </a:xfrm>
          <a:custGeom>
            <a:avLst/>
            <a:gdLst>
              <a:gd name="textAreaLeft" fmla="*/ 0 w 214200"/>
              <a:gd name="textAreaRight" fmla="*/ 214560 w 214200"/>
              <a:gd name="textAreaTop" fmla="*/ 0 h 1633680"/>
              <a:gd name="textAreaBottom" fmla="*/ 1634040 h 1633680"/>
            </a:gdLst>
            <a:ahLst/>
            <a:rect l="textAreaLeft" t="textAreaTop" r="textAreaRight" b="textAreaBottom"/>
            <a:pathLst>
              <a:path w="135" h="1029">
                <a:moveTo>
                  <a:pt x="135" y="0"/>
                </a:moveTo>
                <a:lnTo>
                  <a:pt x="0" y="1029"/>
                </a:lnTo>
              </a:path>
            </a:pathLst>
          </a:custGeom>
          <a:noFill/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8420040" y="1528920"/>
            <a:ext cx="219240" cy="2261880"/>
          </a:xfrm>
          <a:custGeom>
            <a:avLst/>
            <a:gdLst>
              <a:gd name="textAreaLeft" fmla="*/ 0 w 219240"/>
              <a:gd name="textAreaRight" fmla="*/ 219600 w 219240"/>
              <a:gd name="textAreaTop" fmla="*/ 0 h 2261880"/>
              <a:gd name="textAreaBottom" fmla="*/ 2262240 h 2261880"/>
            </a:gdLst>
            <a:ahLst/>
            <a:rect l="textAreaLeft" t="textAreaTop" r="textAreaRight" b="textAreaBottom"/>
            <a:pathLst>
              <a:path w="138" h="1425">
                <a:moveTo>
                  <a:pt x="0" y="1425"/>
                </a:moveTo>
                <a:lnTo>
                  <a:pt x="138" y="0"/>
                </a:ln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 flipV="1">
            <a:off x="8643960" y="281160"/>
            <a:ext cx="185760" cy="120960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2"/>
          <p:cNvSpPr/>
          <p:nvPr/>
        </p:nvSpPr>
        <p:spPr>
          <a:xfrm>
            <a:off x="8602560" y="1501920"/>
            <a:ext cx="71640" cy="36360"/>
          </a:xfrm>
          <a:prstGeom prst="triangle">
            <a:avLst>
              <a:gd name="adj" fmla="val 50000"/>
            </a:avLst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8028000" y="1285920"/>
            <a:ext cx="187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8388720" y="115920"/>
            <a:ext cx="5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d2d8a"/>
                </a:solidFill>
                <a:latin typeface="Arial"/>
              </a:rPr>
              <a:t>RAM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187800" y="3490920"/>
            <a:ext cx="95040" cy="68400"/>
          </a:xfrm>
          <a:prstGeom prst="triangle">
            <a:avLst>
              <a:gd name="adj" fmla="val 50000"/>
            </a:avLst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3351240" y="3357720"/>
            <a:ext cx="55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d2d8a"/>
                </a:solidFill>
                <a:latin typeface="Arial"/>
              </a:rPr>
              <a:t>AD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2717280" y="485784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d2d8a"/>
                </a:solidFill>
                <a:latin typeface="Arial"/>
              </a:rPr>
              <a:t>GI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3262320" y="4957920"/>
            <a:ext cx="46080" cy="45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0"/>
          <p:cNvSpPr/>
          <p:nvPr/>
        </p:nvSpPr>
        <p:spPr>
          <a:xfrm>
            <a:off x="236520" y="4678200"/>
            <a:ext cx="4452840" cy="1903680"/>
          </a:xfrm>
          <a:custGeom>
            <a:avLst/>
            <a:gdLst>
              <a:gd name="textAreaLeft" fmla="*/ 0 w 4452840"/>
              <a:gd name="textAreaRight" fmla="*/ 4453200 w 445284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2805" h="1199">
                <a:moveTo>
                  <a:pt x="0" y="0"/>
                </a:moveTo>
                <a:lnTo>
                  <a:pt x="1017" y="509"/>
                </a:lnTo>
                <a:lnTo>
                  <a:pt x="1752" y="754"/>
                </a:lnTo>
                <a:lnTo>
                  <a:pt x="2805" y="1199"/>
                </a:ln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16"/>
          <p:cNvSpPr/>
          <p:nvPr/>
        </p:nvSpPr>
        <p:spPr>
          <a:xfrm flipH="1">
            <a:off x="5840280" y="1457280"/>
            <a:ext cx="208080" cy="284004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Равнобедренный треугольник 17"/>
          <p:cNvSpPr/>
          <p:nvPr/>
        </p:nvSpPr>
        <p:spPr>
          <a:xfrm>
            <a:off x="6016680" y="1419120"/>
            <a:ext cx="65160" cy="478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Равнобедренный треугольник 18"/>
          <p:cNvSpPr/>
          <p:nvPr/>
        </p:nvSpPr>
        <p:spPr>
          <a:xfrm>
            <a:off x="4813200" y="2371680"/>
            <a:ext cx="79560" cy="540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19"/>
          <p:cNvSpPr/>
          <p:nvPr/>
        </p:nvSpPr>
        <p:spPr>
          <a:xfrm>
            <a:off x="4857120" y="2428920"/>
            <a:ext cx="971640" cy="185724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20"/>
          <p:cNvSpPr/>
          <p:nvPr/>
        </p:nvSpPr>
        <p:spPr>
          <a:xfrm>
            <a:off x="5850720" y="4313160"/>
            <a:ext cx="784440" cy="15829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21"/>
          <p:cNvSpPr/>
          <p:nvPr/>
        </p:nvSpPr>
        <p:spPr>
          <a:xfrm flipH="1">
            <a:off x="4928760" y="4297320"/>
            <a:ext cx="900360" cy="227484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22"/>
          <p:cNvSpPr/>
          <p:nvPr/>
        </p:nvSpPr>
        <p:spPr>
          <a:xfrm flipH="1">
            <a:off x="5429160" y="4313160"/>
            <a:ext cx="411120" cy="22590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Равнобедренный треугольник 33"/>
          <p:cNvSpPr/>
          <p:nvPr/>
        </p:nvSpPr>
        <p:spPr>
          <a:xfrm>
            <a:off x="5800680" y="4253040"/>
            <a:ext cx="61920" cy="52200"/>
          </a:xfrm>
          <a:prstGeom prst="triangle">
            <a:avLst>
              <a:gd name="adj" fmla="val 50000"/>
            </a:avLst>
          </a:prstGeom>
          <a:solidFill>
            <a:srgbClr val="2d2d8a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34"/>
          <p:cNvSpPr/>
          <p:nvPr/>
        </p:nvSpPr>
        <p:spPr>
          <a:xfrm>
            <a:off x="5459040" y="1133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Arial"/>
              </a:rPr>
              <a:t>8500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Arial"/>
              </a:rPr>
              <a:t>03200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35"/>
          <p:cNvSpPr/>
          <p:nvPr/>
        </p:nvSpPr>
        <p:spPr>
          <a:xfrm>
            <a:off x="4217400" y="2071800"/>
            <a:ext cx="57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Arial"/>
              </a:rPr>
              <a:t>8000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Arial"/>
              </a:rPr>
              <a:t>03500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8"/>
          <p:cNvSpPr/>
          <p:nvPr/>
        </p:nvSpPr>
        <p:spPr>
          <a:xfrm>
            <a:off x="5290560" y="6572160"/>
            <a:ext cx="52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Arial"/>
              </a:rPr>
              <a:t>USM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9"/>
          <p:cNvSpPr/>
          <p:nvPr/>
        </p:nvSpPr>
        <p:spPr>
          <a:xfrm>
            <a:off x="4575600" y="6572160"/>
            <a:ext cx="50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3300"/>
                </a:solidFill>
                <a:latin typeface="Arial"/>
              </a:rPr>
              <a:t>USD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1143000" y="549360"/>
            <a:ext cx="3143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dy for implementation    in the first half of 20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8"/>
          <p:cNvSpPr/>
          <p:nvPr/>
        </p:nvSpPr>
        <p:spPr>
          <a:xfrm>
            <a:off x="218160" y="64296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- -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3500"/>
                            </p:stCondLst>
                            <p:childTnLst>
                              <p:par>
                                <p:cTn id="3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500040" y="2071800"/>
            <a:ext cx="8207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.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 State Contract was signed, and the design works for equipment with HF Communications facilities were execu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The Contract for construction works is being coord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equipment will be put into operation approximately in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857160" y="549360"/>
            <a:ext cx="690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vities to improve the quality of HF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the Oceanic Sector of Murmansk AC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3"/>
          <p:cNvSpPr txBox="1"/>
          <p:nvPr/>
        </p:nvSpPr>
        <p:spPr>
          <a:xfrm>
            <a:off x="2195640" y="981000"/>
            <a:ext cx="6213240" cy="26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8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Thank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for your atten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190" name="WordArt 4"/>
          <p:cNvSpPr txBox="1"/>
          <p:nvPr/>
        </p:nvSpPr>
        <p:spPr>
          <a:xfrm rot="21235800">
            <a:off x="2774520" y="5659200"/>
            <a:ext cx="4243320" cy="80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3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426000"/>
                </a:gradFill>
                <a:latin typeface="Impact"/>
              </a:rPr>
              <a:t>St. Petersburg 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426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826920" y="46080"/>
          <a:ext cx="7618680" cy="681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46080"/>
                    <a:ext cx="7618680" cy="68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3"/>
          <p:cNvSpPr/>
          <p:nvPr/>
        </p:nvSpPr>
        <p:spPr>
          <a:xfrm>
            <a:off x="2097000" y="3043080"/>
            <a:ext cx="72108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300" spc="-1" strike="noStrike">
                <a:solidFill>
                  <a:srgbClr val="000066"/>
                </a:solidFill>
                <a:latin typeface="Arial"/>
              </a:rPr>
              <a:t>Париж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4"/>
          <p:cNvSpPr/>
          <p:nvPr/>
        </p:nvSpPr>
        <p:spPr>
          <a:xfrm>
            <a:off x="4076640" y="3429000"/>
            <a:ext cx="568440" cy="888840"/>
          </a:xfrm>
          <a:custGeom>
            <a:avLst/>
            <a:gdLst>
              <a:gd name="textAreaLeft" fmla="*/ 0 w 568440"/>
              <a:gd name="textAreaRight" fmla="*/ 568800 w 568440"/>
              <a:gd name="textAreaTop" fmla="*/ 0 h 888840"/>
              <a:gd name="textAreaBottom" fmla="*/ 889200 h 888840"/>
            </a:gdLst>
            <a:ahLst/>
            <a:rect l="textAreaLeft" t="textAreaTop" r="textAreaRight" b="textAreaBottom"/>
            <a:pathLst>
              <a:path w="358" h="560">
                <a:moveTo>
                  <a:pt x="358" y="0"/>
                </a:moveTo>
                <a:cubicBezTo>
                  <a:pt x="330" y="37"/>
                  <a:pt x="252" y="127"/>
                  <a:pt x="192" y="220"/>
                </a:cubicBezTo>
                <a:cubicBezTo>
                  <a:pt x="132" y="313"/>
                  <a:pt x="40" y="489"/>
                  <a:pt x="0" y="560"/>
                </a:cubicBez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5"/>
          <p:cNvSpPr/>
          <p:nvPr/>
        </p:nvSpPr>
        <p:spPr>
          <a:xfrm>
            <a:off x="4348080" y="3435480"/>
            <a:ext cx="65160" cy="698400"/>
          </a:xfrm>
          <a:custGeom>
            <a:avLst/>
            <a:gdLst>
              <a:gd name="textAreaLeft" fmla="*/ 0 w 65160"/>
              <a:gd name="textAreaRight" fmla="*/ 65520 w 651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41" h="440">
                <a:moveTo>
                  <a:pt x="13" y="0"/>
                </a:moveTo>
                <a:cubicBezTo>
                  <a:pt x="12" y="39"/>
                  <a:pt x="0" y="155"/>
                  <a:pt x="5" y="228"/>
                </a:cubicBezTo>
                <a:cubicBezTo>
                  <a:pt x="10" y="301"/>
                  <a:pt x="33" y="396"/>
                  <a:pt x="41" y="440"/>
                </a:cubicBezTo>
              </a:path>
            </a:pathLst>
          </a:custGeom>
          <a:noFill/>
          <a:ln w="255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6"/>
          <p:cNvSpPr/>
          <p:nvPr/>
        </p:nvSpPr>
        <p:spPr>
          <a:xfrm>
            <a:off x="2873520" y="3395520"/>
            <a:ext cx="1974600" cy="781200"/>
          </a:xfrm>
          <a:custGeom>
            <a:avLst/>
            <a:gdLst>
              <a:gd name="textAreaLeft" fmla="*/ 0 w 1974600"/>
              <a:gd name="textAreaRight" fmla="*/ 1974960 w 19746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1244" h="492">
                <a:moveTo>
                  <a:pt x="1106" y="9"/>
                </a:moveTo>
                <a:cubicBezTo>
                  <a:pt x="1130" y="7"/>
                  <a:pt x="1086" y="0"/>
                  <a:pt x="1109" y="6"/>
                </a:cubicBezTo>
                <a:cubicBezTo>
                  <a:pt x="1132" y="12"/>
                  <a:pt x="1224" y="31"/>
                  <a:pt x="1244" y="42"/>
                </a:cubicBezTo>
                <a:cubicBezTo>
                  <a:pt x="1244" y="48"/>
                  <a:pt x="1239" y="62"/>
                  <a:pt x="1229" y="75"/>
                </a:cubicBezTo>
                <a:cubicBezTo>
                  <a:pt x="1221" y="93"/>
                  <a:pt x="1204" y="103"/>
                  <a:pt x="1196" y="120"/>
                </a:cubicBezTo>
                <a:cubicBezTo>
                  <a:pt x="1188" y="136"/>
                  <a:pt x="1185" y="152"/>
                  <a:pt x="1172" y="165"/>
                </a:cubicBezTo>
                <a:cubicBezTo>
                  <a:pt x="1169" y="175"/>
                  <a:pt x="1160" y="182"/>
                  <a:pt x="1157" y="192"/>
                </a:cubicBezTo>
                <a:cubicBezTo>
                  <a:pt x="1144" y="232"/>
                  <a:pt x="1127" y="279"/>
                  <a:pt x="1097" y="309"/>
                </a:cubicBezTo>
                <a:cubicBezTo>
                  <a:pt x="1091" y="328"/>
                  <a:pt x="1078" y="358"/>
                  <a:pt x="1061" y="369"/>
                </a:cubicBezTo>
                <a:cubicBezTo>
                  <a:pt x="1027" y="347"/>
                  <a:pt x="971" y="356"/>
                  <a:pt x="932" y="354"/>
                </a:cubicBezTo>
                <a:cubicBezTo>
                  <a:pt x="910" y="347"/>
                  <a:pt x="888" y="340"/>
                  <a:pt x="866" y="333"/>
                </a:cubicBezTo>
                <a:cubicBezTo>
                  <a:pt x="798" y="334"/>
                  <a:pt x="730" y="333"/>
                  <a:pt x="662" y="336"/>
                </a:cubicBezTo>
                <a:cubicBezTo>
                  <a:pt x="658" y="336"/>
                  <a:pt x="656" y="340"/>
                  <a:pt x="653" y="342"/>
                </a:cubicBezTo>
                <a:cubicBezTo>
                  <a:pt x="650" y="343"/>
                  <a:pt x="647" y="344"/>
                  <a:pt x="644" y="345"/>
                </a:cubicBezTo>
                <a:cubicBezTo>
                  <a:pt x="630" y="366"/>
                  <a:pt x="639" y="361"/>
                  <a:pt x="623" y="366"/>
                </a:cubicBezTo>
                <a:cubicBezTo>
                  <a:pt x="607" y="378"/>
                  <a:pt x="595" y="394"/>
                  <a:pt x="578" y="405"/>
                </a:cubicBezTo>
                <a:cubicBezTo>
                  <a:pt x="565" y="424"/>
                  <a:pt x="549" y="437"/>
                  <a:pt x="527" y="444"/>
                </a:cubicBezTo>
                <a:cubicBezTo>
                  <a:pt x="517" y="447"/>
                  <a:pt x="509" y="459"/>
                  <a:pt x="500" y="465"/>
                </a:cubicBezTo>
                <a:cubicBezTo>
                  <a:pt x="491" y="492"/>
                  <a:pt x="434" y="467"/>
                  <a:pt x="410" y="462"/>
                </a:cubicBezTo>
                <a:cubicBezTo>
                  <a:pt x="373" y="437"/>
                  <a:pt x="341" y="432"/>
                  <a:pt x="296" y="429"/>
                </a:cubicBezTo>
                <a:cubicBezTo>
                  <a:pt x="277" y="416"/>
                  <a:pt x="270" y="365"/>
                  <a:pt x="254" y="349"/>
                </a:cubicBezTo>
                <a:cubicBezTo>
                  <a:pt x="249" y="333"/>
                  <a:pt x="217" y="339"/>
                  <a:pt x="202" y="329"/>
                </a:cubicBezTo>
                <a:cubicBezTo>
                  <a:pt x="189" y="309"/>
                  <a:pt x="98" y="323"/>
                  <a:pt x="78" y="309"/>
                </a:cubicBezTo>
                <a:cubicBezTo>
                  <a:pt x="67" y="286"/>
                  <a:pt x="11" y="227"/>
                  <a:pt x="6" y="197"/>
                </a:cubicBezTo>
                <a:cubicBezTo>
                  <a:pt x="0" y="173"/>
                  <a:pt x="35" y="176"/>
                  <a:pt x="42" y="165"/>
                </a:cubicBezTo>
                <a:cubicBezTo>
                  <a:pt x="49" y="154"/>
                  <a:pt x="32" y="141"/>
                  <a:pt x="50" y="133"/>
                </a:cubicBezTo>
                <a:cubicBezTo>
                  <a:pt x="46" y="122"/>
                  <a:pt x="156" y="126"/>
                  <a:pt x="152" y="117"/>
                </a:cubicBezTo>
                <a:cubicBezTo>
                  <a:pt x="159" y="116"/>
                  <a:pt x="163" y="138"/>
                  <a:pt x="176" y="138"/>
                </a:cubicBezTo>
                <a:cubicBezTo>
                  <a:pt x="186" y="108"/>
                  <a:pt x="198" y="126"/>
                  <a:pt x="239" y="123"/>
                </a:cubicBezTo>
                <a:cubicBezTo>
                  <a:pt x="255" y="117"/>
                  <a:pt x="262" y="120"/>
                  <a:pt x="278" y="117"/>
                </a:cubicBezTo>
                <a:cubicBezTo>
                  <a:pt x="294" y="114"/>
                  <a:pt x="319" y="109"/>
                  <a:pt x="335" y="105"/>
                </a:cubicBezTo>
                <a:cubicBezTo>
                  <a:pt x="348" y="102"/>
                  <a:pt x="361" y="97"/>
                  <a:pt x="374" y="93"/>
                </a:cubicBezTo>
                <a:cubicBezTo>
                  <a:pt x="390" y="88"/>
                  <a:pt x="402" y="72"/>
                  <a:pt x="419" y="66"/>
                </a:cubicBezTo>
                <a:cubicBezTo>
                  <a:pt x="451" y="77"/>
                  <a:pt x="431" y="72"/>
                  <a:pt x="482" y="69"/>
                </a:cubicBezTo>
                <a:cubicBezTo>
                  <a:pt x="492" y="71"/>
                  <a:pt x="475" y="74"/>
                  <a:pt x="478" y="77"/>
                </a:cubicBezTo>
                <a:cubicBezTo>
                  <a:pt x="481" y="80"/>
                  <a:pt x="488" y="88"/>
                  <a:pt x="502" y="89"/>
                </a:cubicBezTo>
                <a:cubicBezTo>
                  <a:pt x="520" y="103"/>
                  <a:pt x="537" y="83"/>
                  <a:pt x="560" y="84"/>
                </a:cubicBezTo>
                <a:cubicBezTo>
                  <a:pt x="561" y="88"/>
                  <a:pt x="566" y="96"/>
                  <a:pt x="569" y="99"/>
                </a:cubicBezTo>
                <a:cubicBezTo>
                  <a:pt x="601" y="96"/>
                  <a:pt x="672" y="81"/>
                  <a:pt x="761" y="66"/>
                </a:cubicBezTo>
                <a:cubicBezTo>
                  <a:pt x="836" y="53"/>
                  <a:pt x="1048" y="17"/>
                  <a:pt x="1106" y="9"/>
                </a:cubicBezTo>
                <a:close/>
              </a:path>
            </a:pathLst>
          </a:custGeom>
          <a:solidFill>
            <a:srgbClr val="ffff00">
              <a:alpha val="27000"/>
            </a:srgbClr>
          </a:solidFill>
          <a:ln w="32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1403280" y="404640"/>
            <a:ext cx="63342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ff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808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ff99ff">
                      <a:alpha val="50000"/>
                    </a:srgbClr>
                  </a:outerShdw>
                </a:effectLst>
                <a:latin typeface="Impact"/>
              </a:rPr>
              <a:t>Continental Flight Routes</a:t>
            </a:r>
            <a:endParaRPr b="0" lang="en-US" sz="2400" spc="1" strike="noStrike">
              <a:ln w="9360">
                <a:solidFill>
                  <a:srgbClr val="00ffff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8080"/>
                  </a:gs>
                </a:gsLst>
                <a:lin ang="5400000"/>
              </a:gradFill>
              <a:effectLst>
                <a:outerShdw dist="40186" dir="4303641" blurRad="0" rotWithShape="0">
                  <a:srgbClr val="ff99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8"/>
          <p:cNvSpPr txBox="1"/>
          <p:nvPr/>
        </p:nvSpPr>
        <p:spPr>
          <a:xfrm>
            <a:off x="1979640" y="981000"/>
            <a:ext cx="493380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6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TC centers of the "North-West Air Navigation" branch</a:t>
            </a:r>
            <a:endParaRPr b="1" lang="en-US" sz="1600" spc="1" strike="noStrike">
              <a:ln w="6480">
                <a:solidFill>
                  <a:srgbClr val="000000"/>
                </a:solidFill>
                <a:miter/>
              </a:ln>
              <a:solidFill>
                <a:srgbClr val="ffff00">
                  <a:alpha val="99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АНК М35 2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71" name="Freeform 3"/>
          <p:cNvSpPr/>
          <p:nvPr/>
        </p:nvSpPr>
        <p:spPr>
          <a:xfrm>
            <a:off x="260280" y="4587840"/>
            <a:ext cx="311400" cy="784440"/>
          </a:xfrm>
          <a:custGeom>
            <a:avLst/>
            <a:gdLst>
              <a:gd name="textAreaLeft" fmla="*/ 0 w 311400"/>
              <a:gd name="textAreaRight" fmla="*/ 311760 w 31140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196" h="494">
                <a:moveTo>
                  <a:pt x="0" y="250"/>
                </a:moveTo>
                <a:cubicBezTo>
                  <a:pt x="16" y="208"/>
                  <a:pt x="72" y="38"/>
                  <a:pt x="96" y="0"/>
                </a:cubicBezTo>
                <a:lnTo>
                  <a:pt x="144" y="16"/>
                </a:lnTo>
                <a:cubicBezTo>
                  <a:pt x="154" y="42"/>
                  <a:pt x="149" y="121"/>
                  <a:pt x="152" y="158"/>
                </a:cubicBezTo>
                <a:cubicBezTo>
                  <a:pt x="154" y="192"/>
                  <a:pt x="155" y="202"/>
                  <a:pt x="158" y="218"/>
                </a:cubicBezTo>
                <a:cubicBezTo>
                  <a:pt x="161" y="234"/>
                  <a:pt x="167" y="243"/>
                  <a:pt x="168" y="256"/>
                </a:cubicBezTo>
                <a:cubicBezTo>
                  <a:pt x="169" y="269"/>
                  <a:pt x="162" y="286"/>
                  <a:pt x="164" y="298"/>
                </a:cubicBezTo>
                <a:cubicBezTo>
                  <a:pt x="169" y="309"/>
                  <a:pt x="170" y="322"/>
                  <a:pt x="182" y="326"/>
                </a:cubicBezTo>
                <a:cubicBezTo>
                  <a:pt x="191" y="353"/>
                  <a:pt x="175" y="378"/>
                  <a:pt x="184" y="406"/>
                </a:cubicBezTo>
                <a:cubicBezTo>
                  <a:pt x="185" y="415"/>
                  <a:pt x="192" y="441"/>
                  <a:pt x="194" y="450"/>
                </a:cubicBezTo>
                <a:cubicBezTo>
                  <a:pt x="195" y="452"/>
                  <a:pt x="196" y="444"/>
                  <a:pt x="196" y="446"/>
                </a:cubicBezTo>
                <a:cubicBezTo>
                  <a:pt x="196" y="453"/>
                  <a:pt x="185" y="454"/>
                  <a:pt x="178" y="454"/>
                </a:cubicBezTo>
                <a:cubicBezTo>
                  <a:pt x="169" y="455"/>
                  <a:pt x="159" y="455"/>
                  <a:pt x="150" y="456"/>
                </a:cubicBezTo>
                <a:cubicBezTo>
                  <a:pt x="143" y="460"/>
                  <a:pt x="144" y="473"/>
                  <a:pt x="140" y="478"/>
                </a:cubicBezTo>
                <a:cubicBezTo>
                  <a:pt x="136" y="483"/>
                  <a:pt x="135" y="494"/>
                  <a:pt x="128" y="488"/>
                </a:cubicBezTo>
                <a:cubicBezTo>
                  <a:pt x="124" y="477"/>
                  <a:pt x="108" y="449"/>
                  <a:pt x="98" y="442"/>
                </a:cubicBezTo>
                <a:cubicBezTo>
                  <a:pt x="90" y="431"/>
                  <a:pt x="76" y="421"/>
                  <a:pt x="70" y="408"/>
                </a:cubicBezTo>
              </a:path>
            </a:pathLst>
          </a:custGeom>
          <a:solidFill>
            <a:srgbClr val="ff00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"/>
          <p:cNvSpPr/>
          <p:nvPr/>
        </p:nvSpPr>
        <p:spPr>
          <a:xfrm>
            <a:off x="1162080" y="5375160"/>
            <a:ext cx="668160" cy="663840"/>
          </a:xfrm>
          <a:custGeom>
            <a:avLst/>
            <a:gdLst>
              <a:gd name="textAreaLeft" fmla="*/ 0 w 668160"/>
              <a:gd name="textAreaRight" fmla="*/ 668520 w 668160"/>
              <a:gd name="textAreaTop" fmla="*/ 0 h 663840"/>
              <a:gd name="textAreaBottom" fmla="*/ 664200 h 663840"/>
            </a:gdLst>
            <a:ahLst/>
            <a:rect l="textAreaLeft" t="textAreaTop" r="textAreaRight" b="textAreaBottom"/>
            <a:pathLst>
              <a:path w="421" h="418">
                <a:moveTo>
                  <a:pt x="124" y="18"/>
                </a:moveTo>
                <a:cubicBezTo>
                  <a:pt x="151" y="20"/>
                  <a:pt x="177" y="25"/>
                  <a:pt x="204" y="28"/>
                </a:cubicBezTo>
                <a:cubicBezTo>
                  <a:pt x="223" y="34"/>
                  <a:pt x="235" y="42"/>
                  <a:pt x="256" y="44"/>
                </a:cubicBezTo>
                <a:cubicBezTo>
                  <a:pt x="271" y="53"/>
                  <a:pt x="287" y="59"/>
                  <a:pt x="302" y="68"/>
                </a:cubicBezTo>
                <a:cubicBezTo>
                  <a:pt x="317" y="77"/>
                  <a:pt x="334" y="73"/>
                  <a:pt x="344" y="98"/>
                </a:cubicBezTo>
                <a:cubicBezTo>
                  <a:pt x="344" y="108"/>
                  <a:pt x="339" y="208"/>
                  <a:pt x="362" y="216"/>
                </a:cubicBezTo>
                <a:cubicBezTo>
                  <a:pt x="380" y="234"/>
                  <a:pt x="394" y="259"/>
                  <a:pt x="404" y="282"/>
                </a:cubicBezTo>
                <a:cubicBezTo>
                  <a:pt x="414" y="298"/>
                  <a:pt x="419" y="294"/>
                  <a:pt x="420" y="310"/>
                </a:cubicBezTo>
                <a:cubicBezTo>
                  <a:pt x="421" y="326"/>
                  <a:pt x="421" y="366"/>
                  <a:pt x="408" y="376"/>
                </a:cubicBezTo>
                <a:cubicBezTo>
                  <a:pt x="387" y="373"/>
                  <a:pt x="365" y="372"/>
                  <a:pt x="344" y="370"/>
                </a:cubicBezTo>
                <a:cubicBezTo>
                  <a:pt x="338" y="368"/>
                  <a:pt x="326" y="364"/>
                  <a:pt x="326" y="364"/>
                </a:cubicBezTo>
                <a:cubicBezTo>
                  <a:pt x="320" y="360"/>
                  <a:pt x="306" y="354"/>
                  <a:pt x="306" y="354"/>
                </a:cubicBezTo>
                <a:cubicBezTo>
                  <a:pt x="298" y="348"/>
                  <a:pt x="291" y="343"/>
                  <a:pt x="282" y="340"/>
                </a:cubicBezTo>
                <a:cubicBezTo>
                  <a:pt x="276" y="334"/>
                  <a:pt x="277" y="334"/>
                  <a:pt x="268" y="330"/>
                </a:cubicBezTo>
                <a:cubicBezTo>
                  <a:pt x="264" y="328"/>
                  <a:pt x="256" y="326"/>
                  <a:pt x="256" y="326"/>
                </a:cubicBezTo>
                <a:cubicBezTo>
                  <a:pt x="251" y="321"/>
                  <a:pt x="236" y="314"/>
                  <a:pt x="236" y="314"/>
                </a:cubicBezTo>
                <a:cubicBezTo>
                  <a:pt x="213" y="320"/>
                  <a:pt x="202" y="344"/>
                  <a:pt x="178" y="350"/>
                </a:cubicBezTo>
                <a:cubicBezTo>
                  <a:pt x="167" y="358"/>
                  <a:pt x="161" y="369"/>
                  <a:pt x="152" y="378"/>
                </a:cubicBezTo>
                <a:cubicBezTo>
                  <a:pt x="141" y="387"/>
                  <a:pt x="126" y="399"/>
                  <a:pt x="114" y="406"/>
                </a:cubicBezTo>
                <a:cubicBezTo>
                  <a:pt x="102" y="412"/>
                  <a:pt x="89" y="410"/>
                  <a:pt x="78" y="418"/>
                </a:cubicBezTo>
                <a:cubicBezTo>
                  <a:pt x="65" y="398"/>
                  <a:pt x="75" y="389"/>
                  <a:pt x="70" y="358"/>
                </a:cubicBezTo>
                <a:cubicBezTo>
                  <a:pt x="69" y="350"/>
                  <a:pt x="51" y="345"/>
                  <a:pt x="46" y="340"/>
                </a:cubicBezTo>
                <a:cubicBezTo>
                  <a:pt x="40" y="334"/>
                  <a:pt x="20" y="322"/>
                  <a:pt x="20" y="318"/>
                </a:cubicBezTo>
                <a:cubicBezTo>
                  <a:pt x="22" y="301"/>
                  <a:pt x="27" y="303"/>
                  <a:pt x="40" y="294"/>
                </a:cubicBezTo>
                <a:cubicBezTo>
                  <a:pt x="38" y="274"/>
                  <a:pt x="40" y="274"/>
                  <a:pt x="22" y="270"/>
                </a:cubicBezTo>
                <a:cubicBezTo>
                  <a:pt x="14" y="265"/>
                  <a:pt x="15" y="260"/>
                  <a:pt x="12" y="252"/>
                </a:cubicBezTo>
                <a:cubicBezTo>
                  <a:pt x="14" y="232"/>
                  <a:pt x="12" y="221"/>
                  <a:pt x="0" y="204"/>
                </a:cubicBezTo>
                <a:cubicBezTo>
                  <a:pt x="3" y="195"/>
                  <a:pt x="14" y="198"/>
                  <a:pt x="22" y="194"/>
                </a:cubicBezTo>
                <a:cubicBezTo>
                  <a:pt x="28" y="185"/>
                  <a:pt x="29" y="178"/>
                  <a:pt x="38" y="172"/>
                </a:cubicBezTo>
                <a:cubicBezTo>
                  <a:pt x="41" y="168"/>
                  <a:pt x="45" y="165"/>
                  <a:pt x="48" y="160"/>
                </a:cubicBezTo>
                <a:cubicBezTo>
                  <a:pt x="52" y="153"/>
                  <a:pt x="48" y="143"/>
                  <a:pt x="54" y="138"/>
                </a:cubicBezTo>
                <a:cubicBezTo>
                  <a:pt x="57" y="135"/>
                  <a:pt x="62" y="137"/>
                  <a:pt x="66" y="136"/>
                </a:cubicBezTo>
                <a:cubicBezTo>
                  <a:pt x="71" y="122"/>
                  <a:pt x="74" y="112"/>
                  <a:pt x="60" y="102"/>
                </a:cubicBezTo>
                <a:cubicBezTo>
                  <a:pt x="84" y="86"/>
                  <a:pt x="93" y="103"/>
                  <a:pt x="114" y="72"/>
                </a:cubicBezTo>
                <a:cubicBezTo>
                  <a:pt x="117" y="0"/>
                  <a:pt x="104" y="20"/>
                  <a:pt x="148" y="20"/>
                </a:cubicBezTo>
              </a:path>
            </a:pathLst>
          </a:custGeom>
          <a:solidFill>
            <a:srgbClr val="ff00f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5"/>
          <p:cNvSpPr/>
          <p:nvPr/>
        </p:nvSpPr>
        <p:spPr>
          <a:xfrm>
            <a:off x="1436760" y="4946760"/>
            <a:ext cx="1042920" cy="111744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1117440"/>
              <a:gd name="textAreaBottom" fmla="*/ 1117800 h 1117440"/>
            </a:gdLst>
            <a:ahLst/>
            <a:rect l="textAreaLeft" t="textAreaTop" r="textAreaRight" b="textAreaBottom"/>
            <a:pathLst>
              <a:path w="657" h="704">
                <a:moveTo>
                  <a:pt x="5" y="288"/>
                </a:moveTo>
                <a:cubicBezTo>
                  <a:pt x="7" y="276"/>
                  <a:pt x="0" y="269"/>
                  <a:pt x="11" y="264"/>
                </a:cubicBezTo>
                <a:cubicBezTo>
                  <a:pt x="16" y="249"/>
                  <a:pt x="31" y="246"/>
                  <a:pt x="45" y="242"/>
                </a:cubicBezTo>
                <a:cubicBezTo>
                  <a:pt x="49" y="231"/>
                  <a:pt x="51" y="226"/>
                  <a:pt x="59" y="218"/>
                </a:cubicBezTo>
                <a:cubicBezTo>
                  <a:pt x="62" y="205"/>
                  <a:pt x="68" y="200"/>
                  <a:pt x="79" y="192"/>
                </a:cubicBezTo>
                <a:cubicBezTo>
                  <a:pt x="93" y="197"/>
                  <a:pt x="93" y="199"/>
                  <a:pt x="103" y="196"/>
                </a:cubicBezTo>
                <a:cubicBezTo>
                  <a:pt x="110" y="191"/>
                  <a:pt x="114" y="185"/>
                  <a:pt x="121" y="180"/>
                </a:cubicBezTo>
                <a:cubicBezTo>
                  <a:pt x="129" y="177"/>
                  <a:pt x="141" y="176"/>
                  <a:pt x="151" y="176"/>
                </a:cubicBezTo>
                <a:cubicBezTo>
                  <a:pt x="161" y="176"/>
                  <a:pt x="175" y="189"/>
                  <a:pt x="181" y="182"/>
                </a:cubicBezTo>
                <a:cubicBezTo>
                  <a:pt x="192" y="175"/>
                  <a:pt x="188" y="157"/>
                  <a:pt x="185" y="136"/>
                </a:cubicBezTo>
                <a:cubicBezTo>
                  <a:pt x="182" y="115"/>
                  <a:pt x="167" y="79"/>
                  <a:pt x="161" y="58"/>
                </a:cubicBezTo>
                <a:cubicBezTo>
                  <a:pt x="156" y="29"/>
                  <a:pt x="150" y="16"/>
                  <a:pt x="149" y="8"/>
                </a:cubicBezTo>
                <a:cubicBezTo>
                  <a:pt x="152" y="0"/>
                  <a:pt x="166" y="5"/>
                  <a:pt x="179" y="12"/>
                </a:cubicBezTo>
                <a:cubicBezTo>
                  <a:pt x="192" y="19"/>
                  <a:pt x="214" y="38"/>
                  <a:pt x="225" y="48"/>
                </a:cubicBezTo>
                <a:cubicBezTo>
                  <a:pt x="232" y="58"/>
                  <a:pt x="229" y="67"/>
                  <a:pt x="243" y="70"/>
                </a:cubicBezTo>
                <a:cubicBezTo>
                  <a:pt x="253" y="73"/>
                  <a:pt x="272" y="62"/>
                  <a:pt x="285" y="60"/>
                </a:cubicBezTo>
                <a:cubicBezTo>
                  <a:pt x="298" y="58"/>
                  <a:pt x="299" y="58"/>
                  <a:pt x="323" y="60"/>
                </a:cubicBezTo>
                <a:cubicBezTo>
                  <a:pt x="347" y="59"/>
                  <a:pt x="406" y="67"/>
                  <a:pt x="429" y="70"/>
                </a:cubicBezTo>
                <a:cubicBezTo>
                  <a:pt x="452" y="72"/>
                  <a:pt x="461" y="68"/>
                  <a:pt x="459" y="72"/>
                </a:cubicBezTo>
                <a:cubicBezTo>
                  <a:pt x="472" y="89"/>
                  <a:pt x="495" y="144"/>
                  <a:pt x="509" y="170"/>
                </a:cubicBezTo>
                <a:cubicBezTo>
                  <a:pt x="520" y="193"/>
                  <a:pt x="531" y="217"/>
                  <a:pt x="537" y="230"/>
                </a:cubicBezTo>
                <a:cubicBezTo>
                  <a:pt x="545" y="246"/>
                  <a:pt x="552" y="249"/>
                  <a:pt x="555" y="264"/>
                </a:cubicBezTo>
                <a:cubicBezTo>
                  <a:pt x="557" y="275"/>
                  <a:pt x="537" y="286"/>
                  <a:pt x="555" y="318"/>
                </a:cubicBezTo>
                <a:lnTo>
                  <a:pt x="657" y="452"/>
                </a:lnTo>
                <a:lnTo>
                  <a:pt x="605" y="518"/>
                </a:lnTo>
                <a:lnTo>
                  <a:pt x="563" y="580"/>
                </a:lnTo>
                <a:cubicBezTo>
                  <a:pt x="532" y="618"/>
                  <a:pt x="489" y="661"/>
                  <a:pt x="471" y="680"/>
                </a:cubicBezTo>
                <a:cubicBezTo>
                  <a:pt x="465" y="686"/>
                  <a:pt x="460" y="689"/>
                  <a:pt x="453" y="694"/>
                </a:cubicBezTo>
                <a:cubicBezTo>
                  <a:pt x="446" y="704"/>
                  <a:pt x="431" y="697"/>
                  <a:pt x="419" y="696"/>
                </a:cubicBezTo>
                <a:cubicBezTo>
                  <a:pt x="405" y="691"/>
                  <a:pt x="392" y="684"/>
                  <a:pt x="377" y="680"/>
                </a:cubicBezTo>
                <a:cubicBezTo>
                  <a:pt x="368" y="674"/>
                  <a:pt x="358" y="675"/>
                  <a:pt x="349" y="670"/>
                </a:cubicBezTo>
                <a:cubicBezTo>
                  <a:pt x="326" y="658"/>
                  <a:pt x="317" y="654"/>
                  <a:pt x="289" y="652"/>
                </a:cubicBezTo>
                <a:cubicBezTo>
                  <a:pt x="271" y="647"/>
                  <a:pt x="262" y="647"/>
                  <a:pt x="239" y="644"/>
                </a:cubicBezTo>
                <a:cubicBezTo>
                  <a:pt x="240" y="626"/>
                  <a:pt x="239" y="602"/>
                  <a:pt x="245" y="584"/>
                </a:cubicBezTo>
                <a:cubicBezTo>
                  <a:pt x="243" y="562"/>
                  <a:pt x="248" y="556"/>
                  <a:pt x="233" y="546"/>
                </a:cubicBezTo>
                <a:cubicBezTo>
                  <a:pt x="228" y="531"/>
                  <a:pt x="219" y="515"/>
                  <a:pt x="205" y="506"/>
                </a:cubicBezTo>
                <a:cubicBezTo>
                  <a:pt x="195" y="491"/>
                  <a:pt x="189" y="475"/>
                  <a:pt x="179" y="460"/>
                </a:cubicBezTo>
                <a:cubicBezTo>
                  <a:pt x="178" y="443"/>
                  <a:pt x="176" y="426"/>
                  <a:pt x="171" y="410"/>
                </a:cubicBezTo>
                <a:cubicBezTo>
                  <a:pt x="169" y="367"/>
                  <a:pt x="181" y="358"/>
                  <a:pt x="147" y="352"/>
                </a:cubicBezTo>
                <a:cubicBezTo>
                  <a:pt x="135" y="344"/>
                  <a:pt x="112" y="330"/>
                  <a:pt x="97" y="326"/>
                </a:cubicBezTo>
                <a:cubicBezTo>
                  <a:pt x="71" y="309"/>
                  <a:pt x="48" y="296"/>
                  <a:pt x="17" y="294"/>
                </a:cubicBezTo>
                <a:cubicBezTo>
                  <a:pt x="12" y="292"/>
                  <a:pt x="7" y="293"/>
                  <a:pt x="3" y="290"/>
                </a:cubicBezTo>
                <a:cubicBezTo>
                  <a:pt x="1" y="289"/>
                  <a:pt x="0" y="285"/>
                  <a:pt x="1" y="284"/>
                </a:cubicBezTo>
                <a:cubicBezTo>
                  <a:pt x="2" y="283"/>
                  <a:pt x="4" y="287"/>
                  <a:pt x="5" y="288"/>
                </a:cubicBezTo>
                <a:close/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6"/>
          <p:cNvSpPr/>
          <p:nvPr/>
        </p:nvSpPr>
        <p:spPr>
          <a:xfrm>
            <a:off x="2176560" y="4346640"/>
            <a:ext cx="1218960" cy="138744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387440"/>
              <a:gd name="textAreaBottom" fmla="*/ 1387800 h 1387440"/>
            </a:gdLst>
            <a:ahLst/>
            <a:rect l="textAreaLeft" t="textAreaTop" r="textAreaRight" b="textAreaBottom"/>
            <a:pathLst>
              <a:path w="768" h="874">
                <a:moveTo>
                  <a:pt x="1" y="446"/>
                </a:moveTo>
                <a:cubicBezTo>
                  <a:pt x="11" y="444"/>
                  <a:pt x="27" y="447"/>
                  <a:pt x="47" y="446"/>
                </a:cubicBezTo>
                <a:cubicBezTo>
                  <a:pt x="67" y="445"/>
                  <a:pt x="92" y="442"/>
                  <a:pt x="119" y="442"/>
                </a:cubicBezTo>
                <a:cubicBezTo>
                  <a:pt x="146" y="442"/>
                  <a:pt x="191" y="446"/>
                  <a:pt x="207" y="444"/>
                </a:cubicBezTo>
                <a:cubicBezTo>
                  <a:pt x="226" y="442"/>
                  <a:pt x="224" y="438"/>
                  <a:pt x="231" y="428"/>
                </a:cubicBezTo>
                <a:cubicBezTo>
                  <a:pt x="240" y="414"/>
                  <a:pt x="236" y="399"/>
                  <a:pt x="249" y="386"/>
                </a:cubicBezTo>
                <a:cubicBezTo>
                  <a:pt x="255" y="368"/>
                  <a:pt x="258" y="336"/>
                  <a:pt x="247" y="320"/>
                </a:cubicBezTo>
                <a:cubicBezTo>
                  <a:pt x="248" y="313"/>
                  <a:pt x="248" y="307"/>
                  <a:pt x="249" y="300"/>
                </a:cubicBezTo>
                <a:cubicBezTo>
                  <a:pt x="250" y="296"/>
                  <a:pt x="253" y="288"/>
                  <a:pt x="253" y="288"/>
                </a:cubicBezTo>
                <a:cubicBezTo>
                  <a:pt x="254" y="281"/>
                  <a:pt x="241" y="265"/>
                  <a:pt x="253" y="260"/>
                </a:cubicBezTo>
                <a:cubicBezTo>
                  <a:pt x="263" y="254"/>
                  <a:pt x="298" y="258"/>
                  <a:pt x="311" y="254"/>
                </a:cubicBezTo>
                <a:cubicBezTo>
                  <a:pt x="316" y="239"/>
                  <a:pt x="326" y="250"/>
                  <a:pt x="329" y="238"/>
                </a:cubicBezTo>
                <a:cubicBezTo>
                  <a:pt x="330" y="227"/>
                  <a:pt x="313" y="206"/>
                  <a:pt x="327" y="198"/>
                </a:cubicBezTo>
                <a:cubicBezTo>
                  <a:pt x="331" y="196"/>
                  <a:pt x="341" y="188"/>
                  <a:pt x="345" y="186"/>
                </a:cubicBezTo>
                <a:cubicBezTo>
                  <a:pt x="349" y="183"/>
                  <a:pt x="351" y="185"/>
                  <a:pt x="355" y="182"/>
                </a:cubicBezTo>
                <a:cubicBezTo>
                  <a:pt x="357" y="181"/>
                  <a:pt x="367" y="172"/>
                  <a:pt x="367" y="172"/>
                </a:cubicBezTo>
                <a:cubicBezTo>
                  <a:pt x="371" y="161"/>
                  <a:pt x="370" y="149"/>
                  <a:pt x="355" y="144"/>
                </a:cubicBezTo>
                <a:cubicBezTo>
                  <a:pt x="357" y="134"/>
                  <a:pt x="370" y="125"/>
                  <a:pt x="379" y="122"/>
                </a:cubicBezTo>
                <a:cubicBezTo>
                  <a:pt x="388" y="119"/>
                  <a:pt x="401" y="128"/>
                  <a:pt x="407" y="124"/>
                </a:cubicBezTo>
                <a:cubicBezTo>
                  <a:pt x="406" y="117"/>
                  <a:pt x="407" y="104"/>
                  <a:pt x="413" y="100"/>
                </a:cubicBezTo>
                <a:cubicBezTo>
                  <a:pt x="423" y="93"/>
                  <a:pt x="423" y="87"/>
                  <a:pt x="435" y="84"/>
                </a:cubicBezTo>
                <a:cubicBezTo>
                  <a:pt x="443" y="79"/>
                  <a:pt x="452" y="76"/>
                  <a:pt x="457" y="68"/>
                </a:cubicBezTo>
                <a:cubicBezTo>
                  <a:pt x="467" y="78"/>
                  <a:pt x="464" y="78"/>
                  <a:pt x="485" y="72"/>
                </a:cubicBezTo>
                <a:cubicBezTo>
                  <a:pt x="489" y="71"/>
                  <a:pt x="492" y="57"/>
                  <a:pt x="495" y="54"/>
                </a:cubicBezTo>
                <a:cubicBezTo>
                  <a:pt x="508" y="39"/>
                  <a:pt x="511" y="18"/>
                  <a:pt x="525" y="4"/>
                </a:cubicBezTo>
                <a:cubicBezTo>
                  <a:pt x="535" y="0"/>
                  <a:pt x="541" y="14"/>
                  <a:pt x="553" y="28"/>
                </a:cubicBezTo>
                <a:cubicBezTo>
                  <a:pt x="561" y="38"/>
                  <a:pt x="585" y="75"/>
                  <a:pt x="595" y="86"/>
                </a:cubicBezTo>
                <a:cubicBezTo>
                  <a:pt x="610" y="106"/>
                  <a:pt x="632" y="136"/>
                  <a:pt x="643" y="148"/>
                </a:cubicBezTo>
                <a:cubicBezTo>
                  <a:pt x="658" y="167"/>
                  <a:pt x="675" y="189"/>
                  <a:pt x="685" y="200"/>
                </a:cubicBezTo>
                <a:cubicBezTo>
                  <a:pt x="699" y="217"/>
                  <a:pt x="716" y="235"/>
                  <a:pt x="725" y="252"/>
                </a:cubicBezTo>
                <a:cubicBezTo>
                  <a:pt x="728" y="262"/>
                  <a:pt x="735" y="286"/>
                  <a:pt x="737" y="304"/>
                </a:cubicBezTo>
                <a:cubicBezTo>
                  <a:pt x="740" y="320"/>
                  <a:pt x="768" y="332"/>
                  <a:pt x="743" y="346"/>
                </a:cubicBezTo>
                <a:cubicBezTo>
                  <a:pt x="719" y="360"/>
                  <a:pt x="618" y="366"/>
                  <a:pt x="591" y="386"/>
                </a:cubicBezTo>
                <a:cubicBezTo>
                  <a:pt x="564" y="406"/>
                  <a:pt x="587" y="444"/>
                  <a:pt x="583" y="464"/>
                </a:cubicBezTo>
                <a:cubicBezTo>
                  <a:pt x="579" y="484"/>
                  <a:pt x="576" y="490"/>
                  <a:pt x="569" y="504"/>
                </a:cubicBezTo>
                <a:cubicBezTo>
                  <a:pt x="559" y="521"/>
                  <a:pt x="556" y="521"/>
                  <a:pt x="525" y="568"/>
                </a:cubicBezTo>
                <a:cubicBezTo>
                  <a:pt x="498" y="608"/>
                  <a:pt x="407" y="747"/>
                  <a:pt x="381" y="786"/>
                </a:cubicBezTo>
                <a:cubicBezTo>
                  <a:pt x="346" y="837"/>
                  <a:pt x="332" y="864"/>
                  <a:pt x="317" y="874"/>
                </a:cubicBezTo>
                <a:cubicBezTo>
                  <a:pt x="312" y="871"/>
                  <a:pt x="299" y="854"/>
                  <a:pt x="291" y="848"/>
                </a:cubicBezTo>
                <a:cubicBezTo>
                  <a:pt x="286" y="846"/>
                  <a:pt x="272" y="841"/>
                  <a:pt x="267" y="840"/>
                </a:cubicBezTo>
                <a:cubicBezTo>
                  <a:pt x="250" y="838"/>
                  <a:pt x="215" y="836"/>
                  <a:pt x="215" y="836"/>
                </a:cubicBezTo>
                <a:cubicBezTo>
                  <a:pt x="208" y="834"/>
                  <a:pt x="200" y="835"/>
                  <a:pt x="193" y="832"/>
                </a:cubicBezTo>
                <a:cubicBezTo>
                  <a:pt x="180" y="820"/>
                  <a:pt x="148" y="780"/>
                  <a:pt x="139" y="766"/>
                </a:cubicBezTo>
                <a:cubicBezTo>
                  <a:pt x="130" y="752"/>
                  <a:pt x="149" y="763"/>
                  <a:pt x="141" y="750"/>
                </a:cubicBezTo>
                <a:cubicBezTo>
                  <a:pt x="129" y="734"/>
                  <a:pt x="102" y="705"/>
                  <a:pt x="93" y="686"/>
                </a:cubicBezTo>
                <a:cubicBezTo>
                  <a:pt x="90" y="675"/>
                  <a:pt x="96" y="657"/>
                  <a:pt x="87" y="634"/>
                </a:cubicBezTo>
                <a:cubicBezTo>
                  <a:pt x="79" y="612"/>
                  <a:pt x="50" y="570"/>
                  <a:pt x="43" y="552"/>
                </a:cubicBezTo>
                <a:cubicBezTo>
                  <a:pt x="29" y="521"/>
                  <a:pt x="0" y="464"/>
                  <a:pt x="1" y="446"/>
                </a:cubicBezTo>
                <a:close/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7"/>
          <p:cNvSpPr/>
          <p:nvPr/>
        </p:nvSpPr>
        <p:spPr>
          <a:xfrm>
            <a:off x="2152800" y="5675400"/>
            <a:ext cx="1062000" cy="111276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1112760"/>
              <a:gd name="textAreaBottom" fmla="*/ 1113120 h 1112760"/>
            </a:gdLst>
            <a:ahLst/>
            <a:rect l="textAreaLeft" t="textAreaTop" r="textAreaRight" b="textAreaBottom"/>
            <a:pathLst>
              <a:path w="669" h="701">
                <a:moveTo>
                  <a:pt x="0" y="239"/>
                </a:moveTo>
                <a:cubicBezTo>
                  <a:pt x="6" y="235"/>
                  <a:pt x="12" y="229"/>
                  <a:pt x="18" y="225"/>
                </a:cubicBezTo>
                <a:cubicBezTo>
                  <a:pt x="35" y="208"/>
                  <a:pt x="86" y="156"/>
                  <a:pt x="102" y="139"/>
                </a:cubicBezTo>
                <a:cubicBezTo>
                  <a:pt x="105" y="131"/>
                  <a:pt x="110" y="131"/>
                  <a:pt x="116" y="125"/>
                </a:cubicBezTo>
                <a:cubicBezTo>
                  <a:pt x="121" y="109"/>
                  <a:pt x="113" y="128"/>
                  <a:pt x="124" y="117"/>
                </a:cubicBezTo>
                <a:cubicBezTo>
                  <a:pt x="131" y="108"/>
                  <a:pt x="147" y="83"/>
                  <a:pt x="156" y="69"/>
                </a:cubicBezTo>
                <a:cubicBezTo>
                  <a:pt x="160" y="56"/>
                  <a:pt x="162" y="36"/>
                  <a:pt x="176" y="31"/>
                </a:cubicBezTo>
                <a:cubicBezTo>
                  <a:pt x="179" y="21"/>
                  <a:pt x="203" y="7"/>
                  <a:pt x="212" y="1"/>
                </a:cubicBezTo>
                <a:cubicBezTo>
                  <a:pt x="237" y="2"/>
                  <a:pt x="261" y="0"/>
                  <a:pt x="286" y="3"/>
                </a:cubicBezTo>
                <a:cubicBezTo>
                  <a:pt x="303" y="6"/>
                  <a:pt x="306" y="14"/>
                  <a:pt x="314" y="19"/>
                </a:cubicBezTo>
                <a:cubicBezTo>
                  <a:pt x="320" y="28"/>
                  <a:pt x="323" y="31"/>
                  <a:pt x="334" y="33"/>
                </a:cubicBezTo>
                <a:cubicBezTo>
                  <a:pt x="352" y="52"/>
                  <a:pt x="405" y="112"/>
                  <a:pt x="426" y="137"/>
                </a:cubicBezTo>
                <a:cubicBezTo>
                  <a:pt x="451" y="167"/>
                  <a:pt x="462" y="183"/>
                  <a:pt x="486" y="213"/>
                </a:cubicBezTo>
                <a:cubicBezTo>
                  <a:pt x="504" y="236"/>
                  <a:pt x="555" y="296"/>
                  <a:pt x="570" y="319"/>
                </a:cubicBezTo>
                <a:cubicBezTo>
                  <a:pt x="588" y="362"/>
                  <a:pt x="584" y="440"/>
                  <a:pt x="592" y="469"/>
                </a:cubicBezTo>
                <a:cubicBezTo>
                  <a:pt x="600" y="498"/>
                  <a:pt x="610" y="484"/>
                  <a:pt x="618" y="495"/>
                </a:cubicBezTo>
                <a:cubicBezTo>
                  <a:pt x="631" y="517"/>
                  <a:pt x="667" y="581"/>
                  <a:pt x="668" y="599"/>
                </a:cubicBezTo>
                <a:cubicBezTo>
                  <a:pt x="669" y="618"/>
                  <a:pt x="638" y="606"/>
                  <a:pt x="624" y="611"/>
                </a:cubicBezTo>
                <a:cubicBezTo>
                  <a:pt x="610" y="616"/>
                  <a:pt x="596" y="619"/>
                  <a:pt x="584" y="627"/>
                </a:cubicBezTo>
                <a:cubicBezTo>
                  <a:pt x="568" y="636"/>
                  <a:pt x="546" y="645"/>
                  <a:pt x="530" y="655"/>
                </a:cubicBezTo>
                <a:cubicBezTo>
                  <a:pt x="514" y="665"/>
                  <a:pt x="518" y="701"/>
                  <a:pt x="488" y="685"/>
                </a:cubicBezTo>
                <a:cubicBezTo>
                  <a:pt x="461" y="665"/>
                  <a:pt x="383" y="589"/>
                  <a:pt x="348" y="557"/>
                </a:cubicBezTo>
                <a:cubicBezTo>
                  <a:pt x="332" y="541"/>
                  <a:pt x="302" y="515"/>
                  <a:pt x="278" y="493"/>
                </a:cubicBezTo>
                <a:cubicBezTo>
                  <a:pt x="257" y="476"/>
                  <a:pt x="230" y="450"/>
                  <a:pt x="202" y="425"/>
                </a:cubicBezTo>
                <a:cubicBezTo>
                  <a:pt x="185" y="412"/>
                  <a:pt x="132" y="360"/>
                  <a:pt x="112" y="343"/>
                </a:cubicBezTo>
                <a:cubicBezTo>
                  <a:pt x="106" y="338"/>
                  <a:pt x="105" y="336"/>
                  <a:pt x="86" y="319"/>
                </a:cubicBezTo>
                <a:cubicBezTo>
                  <a:pt x="70" y="304"/>
                  <a:pt x="11" y="255"/>
                  <a:pt x="0" y="239"/>
                </a:cubicBezTo>
                <a:close/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8"/>
          <p:cNvSpPr/>
          <p:nvPr/>
        </p:nvSpPr>
        <p:spPr>
          <a:xfrm>
            <a:off x="2889360" y="5886360"/>
            <a:ext cx="760320" cy="857520"/>
          </a:xfrm>
          <a:custGeom>
            <a:avLst/>
            <a:gdLst>
              <a:gd name="textAreaLeft" fmla="*/ 0 w 760320"/>
              <a:gd name="textAreaRight" fmla="*/ 760680 w 76032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479" h="540">
                <a:moveTo>
                  <a:pt x="442" y="112"/>
                </a:moveTo>
                <a:cubicBezTo>
                  <a:pt x="455" y="131"/>
                  <a:pt x="457" y="137"/>
                  <a:pt x="478" y="144"/>
                </a:cubicBezTo>
                <a:cubicBezTo>
                  <a:pt x="477" y="204"/>
                  <a:pt x="479" y="264"/>
                  <a:pt x="476" y="324"/>
                </a:cubicBezTo>
                <a:cubicBezTo>
                  <a:pt x="473" y="356"/>
                  <a:pt x="472" y="318"/>
                  <a:pt x="462" y="338"/>
                </a:cubicBezTo>
                <a:cubicBezTo>
                  <a:pt x="442" y="374"/>
                  <a:pt x="379" y="508"/>
                  <a:pt x="358" y="540"/>
                </a:cubicBezTo>
                <a:lnTo>
                  <a:pt x="292" y="510"/>
                </a:lnTo>
                <a:cubicBezTo>
                  <a:pt x="267" y="499"/>
                  <a:pt x="230" y="498"/>
                  <a:pt x="210" y="476"/>
                </a:cubicBezTo>
                <a:cubicBezTo>
                  <a:pt x="187" y="452"/>
                  <a:pt x="167" y="386"/>
                  <a:pt x="154" y="364"/>
                </a:cubicBezTo>
                <a:cubicBezTo>
                  <a:pt x="141" y="342"/>
                  <a:pt x="137" y="350"/>
                  <a:pt x="132" y="342"/>
                </a:cubicBezTo>
                <a:cubicBezTo>
                  <a:pt x="129" y="329"/>
                  <a:pt x="135" y="327"/>
                  <a:pt x="126" y="318"/>
                </a:cubicBezTo>
                <a:cubicBezTo>
                  <a:pt x="122" y="279"/>
                  <a:pt x="118" y="239"/>
                  <a:pt x="114" y="200"/>
                </a:cubicBezTo>
                <a:cubicBezTo>
                  <a:pt x="114" y="197"/>
                  <a:pt x="105" y="171"/>
                  <a:pt x="104" y="170"/>
                </a:cubicBezTo>
                <a:cubicBezTo>
                  <a:pt x="86" y="146"/>
                  <a:pt x="7" y="84"/>
                  <a:pt x="8" y="56"/>
                </a:cubicBezTo>
                <a:cubicBezTo>
                  <a:pt x="0" y="31"/>
                  <a:pt x="41" y="33"/>
                  <a:pt x="58" y="24"/>
                </a:cubicBezTo>
                <a:cubicBezTo>
                  <a:pt x="75" y="15"/>
                  <a:pt x="75" y="0"/>
                  <a:pt x="112" y="2"/>
                </a:cubicBezTo>
                <a:cubicBezTo>
                  <a:pt x="149" y="4"/>
                  <a:pt x="243" y="27"/>
                  <a:pt x="282" y="34"/>
                </a:cubicBezTo>
                <a:cubicBezTo>
                  <a:pt x="321" y="41"/>
                  <a:pt x="335" y="41"/>
                  <a:pt x="346" y="42"/>
                </a:cubicBezTo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"/>
          <p:cNvSpPr/>
          <p:nvPr/>
        </p:nvSpPr>
        <p:spPr>
          <a:xfrm>
            <a:off x="4044960" y="1047600"/>
            <a:ext cx="4959360" cy="38055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3805560"/>
              <a:gd name="textAreaBottom" fmla="*/ 3805560 h 3805560"/>
            </a:gdLst>
            <a:ahLst/>
            <a:rect l="textAreaLeft" t="textAreaTop" r="textAreaRight" b="textAreaBottom"/>
            <a:pathLst>
              <a:path w="3124" h="2397">
                <a:moveTo>
                  <a:pt x="0" y="1664"/>
                </a:moveTo>
                <a:lnTo>
                  <a:pt x="254" y="1431"/>
                </a:lnTo>
                <a:lnTo>
                  <a:pt x="338" y="1515"/>
                </a:lnTo>
                <a:cubicBezTo>
                  <a:pt x="484" y="1396"/>
                  <a:pt x="1009" y="858"/>
                  <a:pt x="1132" y="716"/>
                </a:cubicBezTo>
                <a:lnTo>
                  <a:pt x="1076" y="660"/>
                </a:lnTo>
                <a:lnTo>
                  <a:pt x="1787" y="0"/>
                </a:lnTo>
                <a:lnTo>
                  <a:pt x="3062" y="12"/>
                </a:lnTo>
                <a:lnTo>
                  <a:pt x="3124" y="1748"/>
                </a:lnTo>
                <a:lnTo>
                  <a:pt x="2324" y="1948"/>
                </a:lnTo>
                <a:lnTo>
                  <a:pt x="2009" y="2250"/>
                </a:lnTo>
                <a:lnTo>
                  <a:pt x="1568" y="2259"/>
                </a:lnTo>
                <a:lnTo>
                  <a:pt x="659" y="2037"/>
                </a:lnTo>
                <a:lnTo>
                  <a:pt x="80" y="2397"/>
                </a:lnTo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0"/>
          <p:cNvSpPr/>
          <p:nvPr/>
        </p:nvSpPr>
        <p:spPr>
          <a:xfrm>
            <a:off x="3014640" y="3686040"/>
            <a:ext cx="1160640" cy="146700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731" h="924">
                <a:moveTo>
                  <a:pt x="731" y="732"/>
                </a:moveTo>
                <a:cubicBezTo>
                  <a:pt x="729" y="735"/>
                  <a:pt x="725" y="744"/>
                  <a:pt x="721" y="750"/>
                </a:cubicBezTo>
                <a:lnTo>
                  <a:pt x="631" y="838"/>
                </a:lnTo>
                <a:lnTo>
                  <a:pt x="531" y="924"/>
                </a:lnTo>
                <a:lnTo>
                  <a:pt x="331" y="868"/>
                </a:lnTo>
                <a:lnTo>
                  <a:pt x="291" y="844"/>
                </a:lnTo>
                <a:lnTo>
                  <a:pt x="223" y="766"/>
                </a:lnTo>
                <a:lnTo>
                  <a:pt x="197" y="666"/>
                </a:lnTo>
                <a:lnTo>
                  <a:pt x="1" y="410"/>
                </a:lnTo>
                <a:cubicBezTo>
                  <a:pt x="0" y="401"/>
                  <a:pt x="9" y="396"/>
                  <a:pt x="17" y="382"/>
                </a:cubicBezTo>
                <a:cubicBezTo>
                  <a:pt x="20" y="361"/>
                  <a:pt x="29" y="340"/>
                  <a:pt x="47" y="328"/>
                </a:cubicBezTo>
                <a:cubicBezTo>
                  <a:pt x="61" y="319"/>
                  <a:pt x="80" y="327"/>
                  <a:pt x="97" y="326"/>
                </a:cubicBezTo>
                <a:cubicBezTo>
                  <a:pt x="119" y="322"/>
                  <a:pt x="124" y="321"/>
                  <a:pt x="153" y="320"/>
                </a:cubicBezTo>
                <a:cubicBezTo>
                  <a:pt x="155" y="301"/>
                  <a:pt x="152" y="282"/>
                  <a:pt x="157" y="264"/>
                </a:cubicBezTo>
                <a:cubicBezTo>
                  <a:pt x="160" y="254"/>
                  <a:pt x="175" y="252"/>
                  <a:pt x="181" y="244"/>
                </a:cubicBezTo>
                <a:cubicBezTo>
                  <a:pt x="180" y="231"/>
                  <a:pt x="169" y="217"/>
                  <a:pt x="167" y="204"/>
                </a:cubicBezTo>
                <a:cubicBezTo>
                  <a:pt x="166" y="198"/>
                  <a:pt x="173" y="186"/>
                  <a:pt x="173" y="186"/>
                </a:cubicBezTo>
                <a:cubicBezTo>
                  <a:pt x="177" y="173"/>
                  <a:pt x="177" y="172"/>
                  <a:pt x="189" y="168"/>
                </a:cubicBezTo>
                <a:cubicBezTo>
                  <a:pt x="198" y="159"/>
                  <a:pt x="198" y="153"/>
                  <a:pt x="211" y="150"/>
                </a:cubicBezTo>
                <a:cubicBezTo>
                  <a:pt x="219" y="146"/>
                  <a:pt x="222" y="141"/>
                  <a:pt x="229" y="136"/>
                </a:cubicBezTo>
                <a:cubicBezTo>
                  <a:pt x="246" y="148"/>
                  <a:pt x="233" y="123"/>
                  <a:pt x="237" y="118"/>
                </a:cubicBezTo>
                <a:cubicBezTo>
                  <a:pt x="240" y="114"/>
                  <a:pt x="246" y="119"/>
                  <a:pt x="251" y="120"/>
                </a:cubicBezTo>
                <a:cubicBezTo>
                  <a:pt x="260" y="123"/>
                  <a:pt x="274" y="123"/>
                  <a:pt x="281" y="130"/>
                </a:cubicBezTo>
                <a:cubicBezTo>
                  <a:pt x="297" y="128"/>
                  <a:pt x="303" y="129"/>
                  <a:pt x="317" y="120"/>
                </a:cubicBezTo>
                <a:cubicBezTo>
                  <a:pt x="336" y="122"/>
                  <a:pt x="331" y="122"/>
                  <a:pt x="343" y="134"/>
                </a:cubicBezTo>
                <a:cubicBezTo>
                  <a:pt x="373" y="132"/>
                  <a:pt x="355" y="123"/>
                  <a:pt x="375" y="116"/>
                </a:cubicBezTo>
                <a:cubicBezTo>
                  <a:pt x="379" y="129"/>
                  <a:pt x="382" y="152"/>
                  <a:pt x="395" y="160"/>
                </a:cubicBezTo>
                <a:cubicBezTo>
                  <a:pt x="401" y="154"/>
                  <a:pt x="401" y="148"/>
                  <a:pt x="407" y="142"/>
                </a:cubicBezTo>
                <a:cubicBezTo>
                  <a:pt x="412" y="137"/>
                  <a:pt x="419" y="136"/>
                  <a:pt x="425" y="132"/>
                </a:cubicBezTo>
                <a:cubicBezTo>
                  <a:pt x="505" y="135"/>
                  <a:pt x="454" y="139"/>
                  <a:pt x="487" y="150"/>
                </a:cubicBezTo>
                <a:lnTo>
                  <a:pt x="647" y="0"/>
                </a:lnTo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1"/>
          <p:cNvSpPr/>
          <p:nvPr/>
        </p:nvSpPr>
        <p:spPr>
          <a:xfrm>
            <a:off x="2692440" y="4857840"/>
            <a:ext cx="1641600" cy="1251000"/>
          </a:xfrm>
          <a:custGeom>
            <a:avLst/>
            <a:gdLst>
              <a:gd name="textAreaLeft" fmla="*/ 0 w 1641600"/>
              <a:gd name="textAreaRight" fmla="*/ 1641960 w 1641600"/>
              <a:gd name="textAreaTop" fmla="*/ 0 h 1251000"/>
              <a:gd name="textAreaBottom" fmla="*/ 1251000 h 1251000"/>
            </a:gdLst>
            <a:ahLst/>
            <a:rect l="textAreaLeft" t="textAreaTop" r="textAreaRight" b="textAreaBottom"/>
            <a:pathLst>
              <a:path w="1034" h="788">
                <a:moveTo>
                  <a:pt x="940" y="0"/>
                </a:moveTo>
                <a:lnTo>
                  <a:pt x="1034" y="130"/>
                </a:lnTo>
                <a:lnTo>
                  <a:pt x="1012" y="218"/>
                </a:lnTo>
                <a:lnTo>
                  <a:pt x="948" y="186"/>
                </a:lnTo>
                <a:lnTo>
                  <a:pt x="892" y="208"/>
                </a:lnTo>
                <a:lnTo>
                  <a:pt x="898" y="340"/>
                </a:lnTo>
                <a:cubicBezTo>
                  <a:pt x="898" y="342"/>
                  <a:pt x="916" y="348"/>
                  <a:pt x="918" y="350"/>
                </a:cubicBezTo>
                <a:cubicBezTo>
                  <a:pt x="927" y="357"/>
                  <a:pt x="943" y="372"/>
                  <a:pt x="950" y="380"/>
                </a:cubicBezTo>
                <a:cubicBezTo>
                  <a:pt x="954" y="383"/>
                  <a:pt x="962" y="396"/>
                  <a:pt x="962" y="396"/>
                </a:cubicBezTo>
                <a:cubicBezTo>
                  <a:pt x="965" y="409"/>
                  <a:pt x="974" y="424"/>
                  <a:pt x="982" y="436"/>
                </a:cubicBezTo>
                <a:lnTo>
                  <a:pt x="986" y="576"/>
                </a:lnTo>
                <a:cubicBezTo>
                  <a:pt x="985" y="604"/>
                  <a:pt x="985" y="583"/>
                  <a:pt x="976" y="604"/>
                </a:cubicBezTo>
                <a:lnTo>
                  <a:pt x="932" y="700"/>
                </a:lnTo>
                <a:lnTo>
                  <a:pt x="784" y="740"/>
                </a:lnTo>
                <a:lnTo>
                  <a:pt x="602" y="788"/>
                </a:lnTo>
                <a:lnTo>
                  <a:pt x="460" y="690"/>
                </a:lnTo>
                <a:cubicBezTo>
                  <a:pt x="424" y="672"/>
                  <a:pt x="409" y="682"/>
                  <a:pt x="388" y="678"/>
                </a:cubicBezTo>
                <a:cubicBezTo>
                  <a:pt x="370" y="676"/>
                  <a:pt x="354" y="670"/>
                  <a:pt x="336" y="668"/>
                </a:cubicBezTo>
                <a:lnTo>
                  <a:pt x="224" y="656"/>
                </a:lnTo>
                <a:lnTo>
                  <a:pt x="130" y="702"/>
                </a:lnTo>
                <a:cubicBezTo>
                  <a:pt x="125" y="694"/>
                  <a:pt x="119" y="689"/>
                  <a:pt x="116" y="680"/>
                </a:cubicBezTo>
                <a:cubicBezTo>
                  <a:pt x="113" y="671"/>
                  <a:pt x="106" y="668"/>
                  <a:pt x="102" y="660"/>
                </a:cubicBezTo>
                <a:cubicBezTo>
                  <a:pt x="87" y="644"/>
                  <a:pt x="43" y="602"/>
                  <a:pt x="26" y="584"/>
                </a:cubicBezTo>
                <a:lnTo>
                  <a:pt x="0" y="554"/>
                </a:lnTo>
                <a:lnTo>
                  <a:pt x="150" y="332"/>
                </a:lnTo>
                <a:lnTo>
                  <a:pt x="258" y="142"/>
                </a:lnTo>
                <a:lnTo>
                  <a:pt x="270" y="64"/>
                </a:lnTo>
                <a:lnTo>
                  <a:pt x="422" y="22"/>
                </a:lnTo>
                <a:lnTo>
                  <a:pt x="488" y="104"/>
                </a:lnTo>
                <a:lnTo>
                  <a:pt x="536" y="130"/>
                </a:lnTo>
                <a:lnTo>
                  <a:pt x="634" y="156"/>
                </a:lnTo>
                <a:lnTo>
                  <a:pt x="740" y="182"/>
                </a:lnTo>
                <a:lnTo>
                  <a:pt x="942" y="2"/>
                </a:lnTo>
                <a:cubicBezTo>
                  <a:pt x="943" y="0"/>
                  <a:pt x="940" y="0"/>
                  <a:pt x="942" y="0"/>
                </a:cubicBezTo>
                <a:cubicBezTo>
                  <a:pt x="942" y="0"/>
                  <a:pt x="940" y="0"/>
                  <a:pt x="940" y="0"/>
                </a:cubicBezTo>
                <a:close/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2"/>
          <p:cNvSpPr/>
          <p:nvPr/>
        </p:nvSpPr>
        <p:spPr>
          <a:xfrm>
            <a:off x="4111560" y="4422600"/>
            <a:ext cx="1197000" cy="1479600"/>
          </a:xfrm>
          <a:custGeom>
            <a:avLst/>
            <a:gdLst>
              <a:gd name="textAreaLeft" fmla="*/ 0 w 1197000"/>
              <a:gd name="textAreaRight" fmla="*/ 1197360 w 1197000"/>
              <a:gd name="textAreaTop" fmla="*/ 0 h 1479600"/>
              <a:gd name="textAreaBottom" fmla="*/ 1479960 h 1479600"/>
            </a:gdLst>
            <a:ahLst/>
            <a:rect l="textAreaLeft" t="textAreaTop" r="textAreaRight" b="textAreaBottom"/>
            <a:pathLst>
              <a:path w="754" h="932">
                <a:moveTo>
                  <a:pt x="46" y="268"/>
                </a:moveTo>
                <a:lnTo>
                  <a:pt x="486" y="0"/>
                </a:lnTo>
                <a:cubicBezTo>
                  <a:pt x="487" y="39"/>
                  <a:pt x="493" y="38"/>
                  <a:pt x="512" y="130"/>
                </a:cubicBezTo>
                <a:lnTo>
                  <a:pt x="602" y="552"/>
                </a:lnTo>
                <a:lnTo>
                  <a:pt x="702" y="740"/>
                </a:lnTo>
                <a:cubicBezTo>
                  <a:pt x="709" y="758"/>
                  <a:pt x="754" y="768"/>
                  <a:pt x="734" y="800"/>
                </a:cubicBezTo>
                <a:lnTo>
                  <a:pt x="584" y="932"/>
                </a:lnTo>
                <a:lnTo>
                  <a:pt x="258" y="794"/>
                </a:lnTo>
                <a:lnTo>
                  <a:pt x="92" y="850"/>
                </a:lnTo>
                <a:cubicBezTo>
                  <a:pt x="101" y="877"/>
                  <a:pt x="92" y="856"/>
                  <a:pt x="94" y="806"/>
                </a:cubicBezTo>
                <a:lnTo>
                  <a:pt x="90" y="706"/>
                </a:lnTo>
                <a:cubicBezTo>
                  <a:pt x="88" y="703"/>
                  <a:pt x="70" y="671"/>
                  <a:pt x="68" y="668"/>
                </a:cubicBezTo>
                <a:cubicBezTo>
                  <a:pt x="66" y="665"/>
                  <a:pt x="62" y="663"/>
                  <a:pt x="60" y="660"/>
                </a:cubicBezTo>
                <a:cubicBezTo>
                  <a:pt x="50" y="649"/>
                  <a:pt x="16" y="633"/>
                  <a:pt x="6" y="604"/>
                </a:cubicBezTo>
                <a:lnTo>
                  <a:pt x="0" y="488"/>
                </a:lnTo>
                <a:lnTo>
                  <a:pt x="58" y="464"/>
                </a:lnTo>
                <a:lnTo>
                  <a:pt x="110" y="496"/>
                </a:lnTo>
                <a:cubicBezTo>
                  <a:pt x="123" y="483"/>
                  <a:pt x="131" y="408"/>
                  <a:pt x="134" y="388"/>
                </a:cubicBezTo>
                <a:cubicBezTo>
                  <a:pt x="134" y="381"/>
                  <a:pt x="128" y="384"/>
                  <a:pt x="130" y="376"/>
                </a:cubicBezTo>
                <a:lnTo>
                  <a:pt x="46" y="268"/>
                </a:lnTo>
                <a:close/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3"/>
          <p:cNvSpPr/>
          <p:nvPr/>
        </p:nvSpPr>
        <p:spPr>
          <a:xfrm>
            <a:off x="4883040" y="4286160"/>
            <a:ext cx="1654200" cy="1575000"/>
          </a:xfrm>
          <a:custGeom>
            <a:avLst/>
            <a:gdLst>
              <a:gd name="textAreaLeft" fmla="*/ 0 w 1654200"/>
              <a:gd name="textAreaRight" fmla="*/ 1654560 w 1654200"/>
              <a:gd name="textAreaTop" fmla="*/ 0 h 1575000"/>
              <a:gd name="textAreaBottom" fmla="*/ 1575360 h 1575000"/>
            </a:gdLst>
            <a:ahLst/>
            <a:rect l="textAreaLeft" t="textAreaTop" r="textAreaRight" b="textAreaBottom"/>
            <a:pathLst>
              <a:path w="1042" h="992">
                <a:moveTo>
                  <a:pt x="0" y="84"/>
                </a:moveTo>
                <a:lnTo>
                  <a:pt x="146" y="0"/>
                </a:lnTo>
                <a:lnTo>
                  <a:pt x="1042" y="238"/>
                </a:lnTo>
                <a:lnTo>
                  <a:pt x="1012" y="364"/>
                </a:lnTo>
                <a:lnTo>
                  <a:pt x="924" y="334"/>
                </a:lnTo>
                <a:lnTo>
                  <a:pt x="652" y="694"/>
                </a:lnTo>
                <a:lnTo>
                  <a:pt x="604" y="992"/>
                </a:lnTo>
                <a:lnTo>
                  <a:pt x="250" y="880"/>
                </a:lnTo>
                <a:lnTo>
                  <a:pt x="114" y="630"/>
                </a:lnTo>
                <a:lnTo>
                  <a:pt x="102" y="544"/>
                </a:lnTo>
                <a:lnTo>
                  <a:pt x="2" y="86"/>
                </a:lnTo>
              </a:path>
            </a:pathLst>
          </a:custGeom>
          <a:solidFill>
            <a:srgbClr val="ff00ff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14"/>
          <p:cNvSpPr txBox="1"/>
          <p:nvPr/>
        </p:nvSpPr>
        <p:spPr>
          <a:xfrm>
            <a:off x="324000" y="333360"/>
            <a:ext cx="67244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d7afff">
                    <a:alpha val="99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d7afff">
                    <a:alpha val="99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TC centers of the "North-West Air Navigation" branch</a:t>
            </a:r>
            <a:endParaRPr b="0" lang="en-US" sz="2400" spc="1" strike="noStrike">
              <a:ln w="6480">
                <a:solidFill>
                  <a:srgbClr val="000000"/>
                </a:solidFill>
                <a:miter/>
              </a:ln>
              <a:solidFill>
                <a:srgbClr val="d7afff">
                  <a:alpha val="99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152280" y="4191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Kaliningrad 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900000" y="5516640"/>
            <a:ext cx="99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Velik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Luki 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1476360" y="5157720"/>
            <a:ext cx="108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St.Petersbu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268360" y="458136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Petrozavod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2124000" y="58770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Volog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3348000" y="4149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Murman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5486400" y="2819520"/>
            <a:ext cx="144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Murman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Oceanic 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987640" y="60930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Kot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2700360" y="522936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rkhangel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3348000" y="5589720"/>
            <a:ext cx="1147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Leshukonsko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uxiliary 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4140360" y="4869000"/>
            <a:ext cx="1066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Naryan-M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uxiliary 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5076720" y="4653000"/>
            <a:ext cx="91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mde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ee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8229600" y="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USA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5435640" y="836640"/>
            <a:ext cx="1143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Iceland FI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3851280" y="2205000"/>
            <a:ext cx="1209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Norway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1763640" y="3716280"/>
            <a:ext cx="122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Finland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539640" y="4495680"/>
            <a:ext cx="122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Estonia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468360" y="4724280"/>
            <a:ext cx="1295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Lithuania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468360" y="4941720"/>
            <a:ext cx="115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Latvia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0" y="5300640"/>
            <a:ext cx="111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Poland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0" y="5562720"/>
            <a:ext cx="12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Belarus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6"/>
          <p:cNvSpPr/>
          <p:nvPr/>
        </p:nvSpPr>
        <p:spPr>
          <a:xfrm>
            <a:off x="0" y="3860640"/>
            <a:ext cx="1187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Sweden F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7"/>
          <p:cNvSpPr/>
          <p:nvPr/>
        </p:nvSpPr>
        <p:spPr>
          <a:xfrm>
            <a:off x="539640" y="1268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ervice area of the ACC services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3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llion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q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m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clu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,3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illion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q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m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irspace above the Arctic Ocean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3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Структура Мурманского РЦ"/>
          <p:cNvPicPr/>
          <p:nvPr/>
        </p:nvPicPr>
        <p:blipFill>
          <a:blip r:embed="rId1"/>
          <a:stretch/>
        </p:blipFill>
        <p:spPr>
          <a:xfrm>
            <a:off x="-146160" y="260280"/>
            <a:ext cx="9290160" cy="6337440"/>
          </a:xfrm>
          <a:prstGeom prst="rect">
            <a:avLst/>
          </a:prstGeom>
          <a:ln w="0">
            <a:noFill/>
          </a:ln>
        </p:spPr>
      </p:pic>
      <p:sp>
        <p:nvSpPr>
          <p:cNvPr id="107" name="Freeform 5"/>
          <p:cNvSpPr/>
          <p:nvPr/>
        </p:nvSpPr>
        <p:spPr>
          <a:xfrm>
            <a:off x="2336760" y="358920"/>
            <a:ext cx="6807240" cy="499896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4998960"/>
              <a:gd name="textAreaBottom" fmla="*/ 4999320 h 4998960"/>
            </a:gdLst>
            <a:ahLst/>
            <a:rect l="textAreaLeft" t="textAreaTop" r="textAreaRight" b="textAreaBottom"/>
            <a:pathLst>
              <a:path w="10000" h="10000">
                <a:moveTo>
                  <a:pt x="0" y="6856"/>
                </a:moveTo>
                <a:lnTo>
                  <a:pt x="1031" y="5942"/>
                </a:lnTo>
                <a:lnTo>
                  <a:pt x="1257" y="6386"/>
                </a:lnTo>
                <a:lnTo>
                  <a:pt x="4067" y="3706"/>
                </a:lnTo>
                <a:cubicBezTo>
                  <a:pt x="4034" y="3632"/>
                  <a:pt x="4000" y="3558"/>
                  <a:pt x="3967" y="3484"/>
                </a:cubicBezTo>
                <a:lnTo>
                  <a:pt x="7668" y="302"/>
                </a:lnTo>
                <a:lnTo>
                  <a:pt x="8892" y="0"/>
                </a:lnTo>
                <a:lnTo>
                  <a:pt x="10000" y="6729"/>
                </a:lnTo>
                <a:lnTo>
                  <a:pt x="9991" y="7593"/>
                </a:lnTo>
                <a:lnTo>
                  <a:pt x="7612" y="8749"/>
                </a:lnTo>
                <a:lnTo>
                  <a:pt x="6642" y="9971"/>
                </a:lnTo>
                <a:lnTo>
                  <a:pt x="5131" y="9981"/>
                </a:lnTo>
                <a:lnTo>
                  <a:pt x="2234" y="8857"/>
                </a:lnTo>
                <a:lnTo>
                  <a:pt x="1500" y="9857"/>
                </a:lnTo>
                <a:lnTo>
                  <a:pt x="51" y="10000"/>
                </a:lnTo>
              </a:path>
            </a:pathLst>
          </a:custGeom>
          <a:solidFill>
            <a:srgbClr val="ff00ff">
              <a:alpha val="17000"/>
            </a:srgbClr>
          </a:solidFill>
          <a:ln w="158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8"/>
          <p:cNvSpPr/>
          <p:nvPr/>
        </p:nvSpPr>
        <p:spPr>
          <a:xfrm>
            <a:off x="3233880" y="3543480"/>
            <a:ext cx="68040" cy="1447560"/>
          </a:xfrm>
          <a:custGeom>
            <a:avLst/>
            <a:gdLst>
              <a:gd name="textAreaLeft" fmla="*/ 0 w 68040"/>
              <a:gd name="textAreaRight" fmla="*/ 68400 w 680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43" h="912">
                <a:moveTo>
                  <a:pt x="0" y="0"/>
                </a:moveTo>
                <a:lnTo>
                  <a:pt x="43" y="912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9"/>
          <p:cNvSpPr/>
          <p:nvPr/>
        </p:nvSpPr>
        <p:spPr>
          <a:xfrm>
            <a:off x="3086280" y="4986360"/>
            <a:ext cx="214200" cy="1633680"/>
          </a:xfrm>
          <a:custGeom>
            <a:avLst/>
            <a:gdLst>
              <a:gd name="textAreaLeft" fmla="*/ 0 w 214200"/>
              <a:gd name="textAreaRight" fmla="*/ 214560 w 214200"/>
              <a:gd name="textAreaTop" fmla="*/ 0 h 1633680"/>
              <a:gd name="textAreaBottom" fmla="*/ 1634040 h 1633680"/>
            </a:gdLst>
            <a:ahLst/>
            <a:rect l="textAreaLeft" t="textAreaTop" r="textAreaRight" b="textAreaBottom"/>
            <a:pathLst>
              <a:path w="135" h="1029">
                <a:moveTo>
                  <a:pt x="135" y="0"/>
                </a:moveTo>
                <a:lnTo>
                  <a:pt x="0" y="1029"/>
                </a:ln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0"/>
          <p:cNvSpPr/>
          <p:nvPr/>
        </p:nvSpPr>
        <p:spPr>
          <a:xfrm>
            <a:off x="8420040" y="1528920"/>
            <a:ext cx="219240" cy="2261880"/>
          </a:xfrm>
          <a:custGeom>
            <a:avLst/>
            <a:gdLst>
              <a:gd name="textAreaLeft" fmla="*/ 0 w 219240"/>
              <a:gd name="textAreaRight" fmla="*/ 219600 w 219240"/>
              <a:gd name="textAreaTop" fmla="*/ 0 h 2261880"/>
              <a:gd name="textAreaBottom" fmla="*/ 2262240 h 2261880"/>
            </a:gdLst>
            <a:ahLst/>
            <a:rect l="textAreaLeft" t="textAreaTop" r="textAreaRight" b="textAreaBottom"/>
            <a:pathLst>
              <a:path w="138" h="1425">
                <a:moveTo>
                  <a:pt x="0" y="1425"/>
                </a:moveTo>
                <a:lnTo>
                  <a:pt x="138" y="0"/>
                </a:ln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V="1">
            <a:off x="8643960" y="281160"/>
            <a:ext cx="185760" cy="1209600"/>
          </a:xfrm>
          <a:prstGeom prst="line">
            <a:avLst/>
          </a:prstGeom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2"/>
          <p:cNvSpPr/>
          <p:nvPr/>
        </p:nvSpPr>
        <p:spPr>
          <a:xfrm>
            <a:off x="8602560" y="1501920"/>
            <a:ext cx="71640" cy="36360"/>
          </a:xfrm>
          <a:prstGeom prst="triangle">
            <a:avLst>
              <a:gd name="adj" fmla="val 50000"/>
            </a:avLst>
          </a:prstGeom>
          <a:solidFill>
            <a:srgbClr val="2d2d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560" bIns="-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8028000" y="1285920"/>
            <a:ext cx="1872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8388720" y="115920"/>
            <a:ext cx="5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2d2d8a"/>
                </a:solidFill>
                <a:latin typeface="Arial"/>
              </a:rPr>
              <a:t>RAM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5"/>
          <p:cNvSpPr/>
          <p:nvPr/>
        </p:nvSpPr>
        <p:spPr>
          <a:xfrm>
            <a:off x="3181320" y="3490920"/>
            <a:ext cx="46080" cy="81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3351240" y="3357720"/>
            <a:ext cx="55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AD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2717280" y="4857840"/>
            <a:ext cx="52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GI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3262320" y="4957920"/>
            <a:ext cx="46080" cy="457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0"/>
          <p:cNvSpPr/>
          <p:nvPr/>
        </p:nvSpPr>
        <p:spPr>
          <a:xfrm>
            <a:off x="236520" y="4678200"/>
            <a:ext cx="4452840" cy="1903680"/>
          </a:xfrm>
          <a:custGeom>
            <a:avLst/>
            <a:gdLst>
              <a:gd name="textAreaLeft" fmla="*/ 0 w 4452840"/>
              <a:gd name="textAreaRight" fmla="*/ 4453200 w 445284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2805" h="1199">
                <a:moveTo>
                  <a:pt x="0" y="0"/>
                </a:moveTo>
                <a:lnTo>
                  <a:pt x="1017" y="509"/>
                </a:lnTo>
                <a:lnTo>
                  <a:pt x="1752" y="754"/>
                </a:lnTo>
                <a:lnTo>
                  <a:pt x="2805" y="1199"/>
                </a:lnTo>
              </a:path>
            </a:pathLst>
          </a:custGeom>
          <a:noFill/>
          <a:ln w="255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Равнобедренный треугольник 17"/>
          <p:cNvSpPr/>
          <p:nvPr/>
        </p:nvSpPr>
        <p:spPr>
          <a:xfrm>
            <a:off x="5800680" y="4253040"/>
            <a:ext cx="61920" cy="52200"/>
          </a:xfrm>
          <a:prstGeom prst="triangle">
            <a:avLst>
              <a:gd name="adj" fmla="val 50000"/>
            </a:avLst>
          </a:prstGeom>
          <a:solidFill>
            <a:srgbClr val="2d2d8a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843840" y="2873520"/>
            <a:ext cx="4942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108 Implemented since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May 2009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 rot="5610600">
            <a:off x="6505200" y="315864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 4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501080" y="981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REYKJAVI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LoA </a:t>
            </a: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Revised: 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05.26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 rot="5668800">
            <a:off x="7450920" y="264636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G 4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 rot="4528800">
            <a:off x="7096320" y="275940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B 9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 rot="4831800">
            <a:off x="8018640" y="263016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B 4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093440" y="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Anchor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LoA </a:t>
            </a: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Revised: 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10.25.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2505600" y="228600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Bod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LoA </a:t>
            </a:r>
            <a:r>
              <a:rPr b="1" lang="en-GB" sz="1000" spc="-1" strike="noStrike">
                <a:solidFill>
                  <a:srgbClr val="ff3300"/>
                </a:solidFill>
                <a:latin typeface="Arial"/>
              </a:rPr>
              <a:t>Revised: </a:t>
            </a:r>
            <a:r>
              <a:rPr b="1" lang="en-US" sz="1000" spc="-1" strike="noStrike">
                <a:solidFill>
                  <a:srgbClr val="ff3300"/>
                </a:solidFill>
                <a:latin typeface="Arial"/>
              </a:rPr>
              <a:t>01.30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71936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6360" y="272880"/>
            <a:ext cx="908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Object 3" descr=""/>
          <p:cNvPicPr/>
          <p:nvPr/>
        </p:nvPicPr>
        <p:blipFill>
          <a:blip r:embed="rId2"/>
          <a:stretch/>
        </p:blipFill>
        <p:spPr>
          <a:xfrm>
            <a:off x="106200" y="1473120"/>
            <a:ext cx="8939520" cy="43545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0" y="428760"/>
            <a:ext cx="9096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Intensity of ai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ffi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 ADE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8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tob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71936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6360" y="272880"/>
            <a:ext cx="908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3760" y="344520"/>
            <a:ext cx="9096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Intensity of ai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ffi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 ABERI via A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489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9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nuary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ject 7" descr=""/>
          <p:cNvPicPr/>
          <p:nvPr/>
        </p:nvPicPr>
        <p:blipFill>
          <a:blip r:embed="rId2"/>
          <a:stretch/>
        </p:blipFill>
        <p:spPr>
          <a:xfrm>
            <a:off x="104760" y="1538280"/>
            <a:ext cx="8858160" cy="53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71936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6360" y="272880"/>
            <a:ext cx="908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3760" y="344520"/>
            <a:ext cx="9096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Intensity of ai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ffi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 DEV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80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49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nuary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tob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Object 7" descr=""/>
          <p:cNvPicPr/>
          <p:nvPr/>
        </p:nvPicPr>
        <p:blipFill>
          <a:blip r:embed="rId2"/>
          <a:stretch/>
        </p:blipFill>
        <p:spPr>
          <a:xfrm>
            <a:off x="-1440" y="1643040"/>
            <a:ext cx="9150120" cy="52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171936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6360" y="272880"/>
            <a:ext cx="908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3760" y="344520"/>
            <a:ext cx="9096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Intensity of ai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ffi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 LATEN vi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83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nuary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ject 7" descr=""/>
          <p:cNvPicPr/>
          <p:nvPr/>
        </p:nvPicPr>
        <p:blipFill>
          <a:blip r:embed="rId2"/>
          <a:stretch/>
        </p:blipFill>
        <p:spPr>
          <a:xfrm>
            <a:off x="-1440" y="1643040"/>
            <a:ext cx="9150120" cy="52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Диаграмма 4" descr=""/>
          <p:cNvPicPr/>
          <p:nvPr/>
        </p:nvPicPr>
        <p:blipFill>
          <a:blip r:embed="rId2"/>
          <a:stretch/>
        </p:blipFill>
        <p:spPr>
          <a:xfrm>
            <a:off x="500040" y="1428840"/>
            <a:ext cx="7929720" cy="47149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722160" y="500040"/>
            <a:ext cx="76467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Intensity of ai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ffic in the Oceanic Sector of Murmansk A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nuary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tob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2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/09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3:47Z</dcterms:created>
  <dc:creator>Grishin</dc:creator>
  <dc:description/>
  <dc:language>en-US</dc:language>
  <cp:lastModifiedBy>grishin</cp:lastModifiedBy>
  <dcterms:modified xsi:type="dcterms:W3CDTF">2009-11-27T11:50:19Z</dcterms:modified>
  <cp:revision>206</cp:revision>
  <dc:subject/>
  <dc:title>раб к CPWG5</dc:title>
</cp:coreProperties>
</file>