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90BFE-35EB-4223-B345-8BF64925CC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6EA51-BC45-4EB8-ACB2-7DBAB2B4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D186D-9D55-49DB-92B9-BC8D67F4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B8369-4C68-4236-BFB7-141DCF950F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DCD39-6A42-4108-9BA2-6FA2743DC3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F758B-D493-4F5B-AEE0-33485F35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F33AF-4232-4A54-918E-9F548651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0AC73-CA69-49B5-88F6-5B98A757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22237-D27D-46D1-AA68-4A8CE24A4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EEA72-FBEC-4A35-8544-BD4D469B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3937D-6307-4DB9-9B28-D37E7CA6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E22D7-E44B-4A86-B31D-6C3FF46B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D0702-9FD4-4078-A683-DF46D328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ED3B6-5337-44C5-A4A0-940E6C8B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CCF89-D2C1-48A6-BD71-B2ED77D6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D1FE6-418C-4722-8AAE-6DB6A916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E9C14-876A-44C7-987C-29365FEA55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F9F75-95FE-45EC-ADEA-85188BA4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154FC-A9EB-40E8-8924-65F9D451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CCDD6-8DDA-49B3-9E54-E6B391AE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CAB6B-3210-475C-8752-736D389B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C81F6-0E4D-4169-A213-6B61D0FE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1488A-F0DF-4757-89D7-52A3046B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6BDEB-60CB-4E60-8C75-CDAB6F62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31640" y="6524280"/>
            <a:ext cx="12589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627280" y="6524280"/>
            <a:ext cx="720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ADC9-0D8E-4FCF-B25D-4429D84F137F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Slide Splash (dark)"/>
          <p:cNvPicPr/>
          <p:nvPr/>
        </p:nvPicPr>
        <p:blipFill>
          <a:blip r:embed="rId3"/>
          <a:srcRect l="0" t="19276" r="-231" b="25260"/>
          <a:stretch/>
        </p:blipFill>
        <p:spPr>
          <a:xfrm>
            <a:off x="2556000" y="406440"/>
            <a:ext cx="3816360" cy="1582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856B-E71B-43FD-9428-A39B561A1CE2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Arial"/>
              </a:rPr>
              <a:t>National Operations Centre</a:t>
            </a:r>
            <a:br>
              <a:rPr sz="4000"/>
            </a:br>
            <a:r>
              <a:rPr b="1" lang="en-CA" sz="4000" spc="-1" strike="noStrike">
                <a:solidFill>
                  <a:srgbClr val="ffffff"/>
                </a:solidFill>
                <a:latin typeface="Arial"/>
              </a:rPr>
              <a:t>Updat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26920" y="4292640"/>
            <a:ext cx="75614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ighth Meeting of the Cross Polar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-East Air Traffic Management Providers’ Work Group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CPWG/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lanta, 2-4 December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576869">
                  <a:alpha val="5098"/>
                </a:srgbClr>
              </a:gs>
              <a:gs pos="100000">
                <a:srgbClr val="bbe0e3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Tahoma"/>
              </a:rPr>
              <a:t>David R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476360" y="2852640"/>
            <a:ext cx="6191280" cy="155700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100000">
                <a:srgbClr val="bbe0e3">
                  <a:alpha val="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6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National Focal 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2752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ustomer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ystem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raffic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risis Coord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10" descr="NOC 4"/>
          <p:cNvPicPr/>
          <p:nvPr/>
        </p:nvPicPr>
        <p:blipFill>
          <a:blip r:embed="rId1"/>
          <a:stretch/>
        </p:blipFill>
        <p:spPr>
          <a:xfrm>
            <a:off x="179280" y="4076640"/>
            <a:ext cx="878544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3"/>
          <p:cNvSpPr/>
          <p:nvPr/>
        </p:nvSpPr>
        <p:spPr>
          <a:xfrm>
            <a:off x="4788000" y="1628640"/>
            <a:ext cx="417672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orporat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Strategic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The New Shape of</a:t>
            </a:r>
            <a:br>
              <a:rPr sz="4000"/>
            </a:br>
            <a:r>
              <a:rPr b="0" lang="en-CA" sz="4000" spc="-1" strike="noStrike">
                <a:solidFill>
                  <a:srgbClr val="ffffff"/>
                </a:solidFill>
                <a:latin typeface="Arial"/>
              </a:rPr>
              <a:t>Canadian Traffic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riven by both Corporate </a:t>
            </a:r>
            <a:r>
              <a:rPr b="0" i="1" lang="en-CA" sz="3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Customer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haped through Collab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Respectful of the Needs of All 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Organizational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riving Fac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 recognition that traffic managements initiatives in Canada tend to be regional rather than n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 desire for traffic management specialists to be available for evening initiatives in the west which continue past the current NOC closing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 desire to expand the horizons of the existing ‘airport based’ TMUs and allow them to give a greater emphasis to the regional effects of managing traffic at those air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Driving Fac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 desire to address the grey area surrounding whether the NOC was a ‘service delivery’ unit or an ‘operations support’ un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 desire to strengthen and reaffirm the role of the NOC in ensuring that all TMIs meet the needs of our customers through improved collab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A desire to maximize the efficiency of traffic management resources and reduce the cost of those services for our custom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General Concep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raffic Management Specialist positions in the NOC have been redeployed to Vancouver and Toronto TMUs, which have respectively become the Western and Eastern TM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Western TMU will be responsible for implementing TMIs in the Winnipeg, Edmonton and Vancouver F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Eastern TMU will be responsible for implementing TMIs in the Toronto, Montréal, Moncton and Gander FI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ollaboration, coordination and direction of traffic management initiatives will remain the responsibility of the NO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Som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How Will it Wor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Who’s Job is it Anywa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Role of the NOC in Real Time O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Role of the TMUs in Strategic Planni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rotocol &amp; Procedur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How do We Make it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Steering Gro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MFIRs &amp; MACCOs – All AC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CA, WJA, JZA, NAC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MSs – VR, YZ, N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OC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Opportunity Kno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Renew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fficiency G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takeholder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limination of Adversarial Pos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etter Customer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5T13:17:10Z</dcterms:created>
  <dc:creator>Rose, David</dc:creator>
  <dc:description/>
  <dc:language>en-US</dc:language>
  <cp:lastModifiedBy>Leslie</cp:lastModifiedBy>
  <dcterms:modified xsi:type="dcterms:W3CDTF">2009-12-01T21:21:28Z</dcterms:modified>
  <cp:revision>27</cp:revision>
  <dc:subject>NOC Overview</dc:subject>
  <dc:title>NOC Overview</dc:title>
</cp:coreProperties>
</file>