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C748-105D-4149-8EF0-BA56D8665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6C71-5D0D-40FB-A58C-EA1577293B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2EA5-FE94-4A1D-9C02-0C03F23B1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01F2-3DA7-4477-AE1D-292F8290EC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5601-7E36-4621-A088-769A404FA9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4110-7880-40F6-8F4E-038D3C7AEB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5208-0A6E-4F16-80FD-A8E3CD0A34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7F64-A5D5-46DE-B5D1-394C6D9C23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CD93-A447-4AC3-91A7-D58B2BCD70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5798-5938-4FC8-BE1C-2B041B8ED9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ADFA-39B1-4BB1-87BB-4E9DB36B6E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C714-1AA2-4A42-8FEA-73983747D3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69B6-E110-40A2-9F45-92A4EBC734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1823-31C9-40FD-AD78-48D7C21B5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2EF4-19C0-4310-AF64-0F437A52C5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9003-65AE-4216-AB46-B285F0E136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66EA-3AE2-4B97-AF9F-1212DE0CBC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A16C-874A-4D1C-98A6-16E620555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A253-A17E-4950-854A-290AE7D383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6755-6533-4D4C-99B5-7D66AC3C74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DACC-99AC-4741-AD3D-EB2BEB8D36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853A-50D2-48CB-8E0A-E338353DE8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B32-C20D-4EBB-AE96-A7D1CD66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9A9-F348-4CF7-B4CB-9609305C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E679-AAB3-48DF-878B-88473BB2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121A-DC68-4DE4-943D-9F284BBA8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9F2B-0D85-4C30-A1EB-8B984D140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DDA9-06FC-44A4-8F24-A9D2CEC4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B4E5-4E09-4BE7-9000-CBFAA226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202E-898E-4E45-AFA0-D1AFF3D7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E6EC-0124-4D08-931E-95F38ACE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F3C2-6ADF-4D17-84FD-C71039FC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F05F-70F9-408F-AA60-BB37584A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95B6-1ED1-42EF-AF67-7099DE7D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4CC6-F773-4268-AA1B-887143C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3D63-91AF-4E94-AE6D-2FA70583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B9D9-8A4A-4E3E-BC17-CA00B46A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952C-02D6-4C88-830A-FC79CA4F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5710-D96B-4D4B-8209-91915C38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A905-2782-4459-AE0B-974FAE9D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33C9-64DD-4923-A754-F516DBED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6FF2-3C14-4122-89DD-B8F42A2E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950-54EA-4632-94C1-737850DD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D7E-79EF-4C2E-8882-8FFDA60D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755-4BD7-4219-B28B-691EF445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E69-13EA-4427-99C7-2988F9EB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76FA-C8FB-4E8A-9498-79CA243FBBA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0653-ED8F-411B-BAAF-06103FA291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AR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ke Stills- United Airlines 03DEC09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5" repeatCount="1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3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AR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EGRATING SPACE WEATHE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licy Workshop – November 200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4 Recommendation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Communication of Space Weat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Standardization of Information &amp; Regul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mprove Education and Trai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lop Cost Benefit and Risk Analysi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Verdana"/>
              </a:rPr>
              <a:t>ACA,COA,Fedex,NetJets,NWA,UA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3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3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3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3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2860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AMS Policy Program is equipping the scientific community and policy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akers to deal with many policy issues related to meteorology and climate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olicy issues such as the public-private sector partnership, data sharing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certainty, transition from research to operations, and cost-benefit analyse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re just a few of the issues that meteorologists have been dealing with for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cades. These experiences and lessons learned can be applied to other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merging scientific field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 the field of space weather progresses, it appears to have many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monalties with the meteorological field. Both fields consist of research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ground-based and satellite observations, models) and operation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forecasting models, services and products). Additionally, both fields consist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f relationships involving multiple federal agencies, the private sector, and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international community. Already, the space weather field is involved in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milar policy issues that the meteorological field continues to face. Therefor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space weather community may choose to look at the meteorological field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r guidelines in developing prosperous partnership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MS conducts policy study on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dvancing Space Weather Science and its Us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through Policy Research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with support from the NSF. AMS also continues to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llaborate with the aviation industry on increasing the safety, reliability, and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fficiency of the nation's airline operations through more effective use of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pace weather forecasts and information.”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-4643280" y="3814560"/>
            <a:ext cx="18432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ICY COM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International Civil Aviation Organization (ICAO) is a specialized agency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f the United Nations (UN). ICAO sets the standards for aviation safety,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urity, efficiency, and regularity, as well as for aviation environmental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tection, and encourages their implementation. The governing body of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CAO, the Council, has the duty of adopting international standards and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commended practices (SARPs) and incorporating these into the Annexes to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nvention on International Civil Aviation. ICAO also works closely with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ther UN agencies, such as the World Meteorological Organization (WMO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ich promotes standards for meteorological and related observations. Th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ternational Air Transport Association (IATA), the International Federation of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ir Line Pilots’ Associations (IFALPA), and other international organization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articipate in many ICAO meetings”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-4643280" y="3814560"/>
            <a:ext cx="18432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CA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980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CAO recognizes the need for information and products that suppor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national air navigation, but Annex 3 (Meteorological Service for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national Air Navigation) contains no standard or recommend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actices for space weather. Annex 15 (Aeronautical Informa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rvices) does allow for issuance of a NOTAM for solar radiation, bu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vides very little guidance for message content. With the growin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est in space weather, the ICAO International Airways Volcano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tch Operations Group, which currently has responsibility for spa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eather issues, is assessing needs for information about solar radiation storms.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-4643280" y="3814560"/>
            <a:ext cx="18432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ICY FIND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20570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ing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iation operators prefer that the governing fede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international agencies provide a minimum se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requirements, rather than regulations, fo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ing decisions based on space weath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-4643280" y="3814560"/>
            <a:ext cx="18432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ICY WORKSHOP PAP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3200400"/>
            <a:ext cx="822960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ttp://www.ametsoc.org/atmospoli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-4643280" y="3814560"/>
            <a:ext cx="18432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3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PACE WEATHER SUBGROUP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group formed under CPWG to look at user requirements for space weat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group consists of representatives from: NOAA, Natural Resource Canada, American Meteorological Society, NavCanada, United Airlines, SolarMetric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USER REQUIREMENTS DOCU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cus on space weather user requirements for commercial/airline operat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d on user input , define requirements from operational impact (i.e., communication, navigation, avionics and human healt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llow on with consideration of operational processes and timelines during space weather ac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SER REQUIREM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melines for reports to be state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Valid fro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Duration of or valid 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Ongoing changes within du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ports required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7 day forec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3 day forec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30 hour forec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12 hour forec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- 6 hour forec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AR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raft User Requirements Document was submitted to full CPWG for com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sed on feedback, the document is being revised to reflect international audience and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nd Draft will be sent out following CPWG/8 meeting for review/com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ce document is approved by CPWG, information will be provided to AMS to ensure harmonization of requiremen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1"/>
          <a:srcRect l="37338" t="18131" r="38672" b="62927"/>
          <a:stretch/>
        </p:blipFill>
        <p:spPr>
          <a:xfrm>
            <a:off x="6705720" y="1295280"/>
            <a:ext cx="2438280" cy="1203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9" name="Picture 3" descr=""/>
          <p:cNvPicPr/>
          <p:nvPr/>
        </p:nvPicPr>
        <p:blipFill>
          <a:blip r:embed="rId2"/>
          <a:srcRect l="6563" t="58760" r="59071" b="27505"/>
          <a:stretch/>
        </p:blipFill>
        <p:spPr>
          <a:xfrm>
            <a:off x="152280" y="4648320"/>
            <a:ext cx="5105520" cy="1520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0" name="Picture 4" descr=""/>
          <p:cNvPicPr/>
          <p:nvPr/>
        </p:nvPicPr>
        <p:blipFill>
          <a:blip r:embed="rId3"/>
          <a:srcRect l="938" t="32505" r="32818" b="6251"/>
          <a:stretch/>
        </p:blipFill>
        <p:spPr>
          <a:xfrm>
            <a:off x="76320" y="76320"/>
            <a:ext cx="4038480" cy="2798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1" name="Picture 5" descr=""/>
          <p:cNvPicPr/>
          <p:nvPr/>
        </p:nvPicPr>
        <p:blipFill>
          <a:blip r:embed="rId4"/>
          <a:srcRect l="0" t="17065" r="66009" b="55461"/>
          <a:stretch/>
        </p:blipFill>
        <p:spPr>
          <a:xfrm>
            <a:off x="3657600" y="228600"/>
            <a:ext cx="2824200" cy="142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2" name="Picture 6" descr=""/>
          <p:cNvPicPr/>
          <p:nvPr/>
        </p:nvPicPr>
        <p:blipFill>
          <a:blip r:embed="rId5"/>
          <a:srcRect l="15940" t="58759" r="54384" b="28754"/>
          <a:stretch/>
        </p:blipFill>
        <p:spPr>
          <a:xfrm>
            <a:off x="6248520" y="76320"/>
            <a:ext cx="274320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3" name="Picture 7" descr=""/>
          <p:cNvPicPr/>
          <p:nvPr/>
        </p:nvPicPr>
        <p:blipFill>
          <a:blip r:embed="rId6"/>
          <a:srcRect l="15335" t="34130" r="43339" b="10666"/>
          <a:stretch/>
        </p:blipFill>
        <p:spPr>
          <a:xfrm>
            <a:off x="2666880" y="1825560"/>
            <a:ext cx="3657600" cy="305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4" name="Picture 8" descr=""/>
          <p:cNvPicPr/>
          <p:nvPr/>
        </p:nvPicPr>
        <p:blipFill>
          <a:blip r:embed="rId7"/>
          <a:srcRect l="16002" t="54394" r="42008" b="29864"/>
          <a:stretch/>
        </p:blipFill>
        <p:spPr>
          <a:xfrm>
            <a:off x="76320" y="5638680"/>
            <a:ext cx="4876560" cy="1143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5" name="Picture 9" descr=""/>
          <p:cNvPicPr/>
          <p:nvPr/>
        </p:nvPicPr>
        <p:blipFill>
          <a:blip r:embed="rId8"/>
          <a:srcRect l="3751" t="55008" r="40319" b="10001"/>
          <a:stretch/>
        </p:blipFill>
        <p:spPr>
          <a:xfrm>
            <a:off x="5410080" y="4648320"/>
            <a:ext cx="3667320" cy="1722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6" name="Picture 12" descr=""/>
          <p:cNvPicPr/>
          <p:nvPr/>
        </p:nvPicPr>
        <p:blipFill>
          <a:blip r:embed="rId9"/>
          <a:srcRect l="3050" t="16269" r="11185" b="6779"/>
          <a:stretch/>
        </p:blipFill>
        <p:spPr>
          <a:xfrm>
            <a:off x="6324480" y="2590920"/>
            <a:ext cx="2819520" cy="194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7" name="Picture 11" descr=""/>
          <p:cNvPicPr/>
          <p:nvPr/>
        </p:nvPicPr>
        <p:blipFill>
          <a:blip r:embed="rId10"/>
          <a:srcRect l="938" t="32350" r="37506" b="5176"/>
          <a:stretch/>
        </p:blipFill>
        <p:spPr>
          <a:xfrm>
            <a:off x="152280" y="2666880"/>
            <a:ext cx="2514600" cy="1846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228" name="Group 13"/>
          <p:cNvGrpSpPr/>
          <p:nvPr/>
        </p:nvGrpSpPr>
        <p:grpSpPr>
          <a:xfrm>
            <a:off x="4800600" y="5715000"/>
            <a:ext cx="4191120" cy="1100160"/>
            <a:chOff x="4800600" y="5715000"/>
            <a:chExt cx="4191120" cy="1100160"/>
          </a:xfrm>
        </p:grpSpPr>
        <p:pic>
          <p:nvPicPr>
            <p:cNvPr id="229" name="Picture 10" descr=""/>
            <p:cNvPicPr/>
            <p:nvPr/>
          </p:nvPicPr>
          <p:blipFill>
            <a:blip r:embed="rId11"/>
            <a:srcRect l="1334" t="44795" r="71345" b="43729"/>
            <a:stretch/>
          </p:blipFill>
          <p:spPr>
            <a:xfrm>
              <a:off x="4800600" y="5715000"/>
              <a:ext cx="4191120" cy="110016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230" name="TextBox 12"/>
            <p:cNvSpPr/>
            <p:nvPr/>
          </p:nvSpPr>
          <p:spPr>
            <a:xfrm>
              <a:off x="8265240" y="6460920"/>
              <a:ext cx="6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Vweb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AR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AR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403848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urce Docu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4038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AR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40384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*SFU is Solar Flux Unit, literally the power of the radio burst measured on Earth at a given frequenc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* PFU is Particle Flux Units, the count of protons or electr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* Region 486 is located at (S17E04). The heliocentric co-ordinate system is in degrees from the center of the disk.  04 degrees to the left of center and 17 degrees below the solar equator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AR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40384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pplicabil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dabilit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fficiency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-4643280" y="3814560"/>
            <a:ext cx="18432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7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AR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8394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LAR DA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6:32:59Z</dcterms:created>
  <dc:creator>Administrator</dc:creator>
  <dc:description/>
  <dc:language>en-US</dc:language>
  <cp:lastModifiedBy>Leslie</cp:lastModifiedBy>
  <dcterms:modified xsi:type="dcterms:W3CDTF">2009-11-20T00:51:11Z</dcterms:modified>
  <cp:revision>34</cp:revision>
  <dc:subject/>
  <dc:title>SOLAR DATA</dc:title>
</cp:coreProperties>
</file>