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A31A-EBC5-4132-8F4A-A7B53A27D7B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55C1-0E90-457B-BA80-BEFD434551D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228600" y="4416480"/>
            <a:ext cx="64008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AC25-1E4C-454C-9244-A2CC98955D7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066680" y="677880"/>
            <a:ext cx="4724640" cy="35431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03240" y="4295880"/>
            <a:ext cx="4975200" cy="40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6D2B-482C-453A-B673-31E06DB9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5832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484280"/>
            <a:ext cx="8540640" cy="21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3794760"/>
            <a:ext cx="8540640" cy="21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8DB5-AC82-482A-9CFE-08860838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5832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484280"/>
            <a:ext cx="4167720" cy="21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484280"/>
            <a:ext cx="4167720" cy="21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794760"/>
            <a:ext cx="4167720" cy="21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794760"/>
            <a:ext cx="4167720" cy="21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647D-090D-4942-904C-06BD45C0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5832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484280"/>
            <a:ext cx="2749680" cy="21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484280"/>
            <a:ext cx="2749680" cy="21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484280"/>
            <a:ext cx="2749680" cy="21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3794760"/>
            <a:ext cx="2749680" cy="21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3794760"/>
            <a:ext cx="2749680" cy="21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3794760"/>
            <a:ext cx="2749680" cy="21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6E5F-EB75-4818-92D8-F22A4715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5832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484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B469-7E4A-4575-8767-FDE4B9E8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5832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484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C1D-DC68-4688-B68F-D39E67CE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5832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484280"/>
            <a:ext cx="41677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484280"/>
            <a:ext cx="41677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AD3-F2A1-42DA-A7DD-23AE44CF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5832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7E7D-0C6F-4BC2-A3BF-437CC176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132000" y="0"/>
            <a:ext cx="583272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BE11-AAFB-4BB0-B24E-AC7B4DE6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5832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484280"/>
            <a:ext cx="4167720" cy="21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484280"/>
            <a:ext cx="41677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3794760"/>
            <a:ext cx="4167720" cy="21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1C0B-049A-41A2-BF58-9E4D68CA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5832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484280"/>
            <a:ext cx="41677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484280"/>
            <a:ext cx="4167720" cy="21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794760"/>
            <a:ext cx="4167720" cy="21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074D-A45F-40E0-94E1-9D175A1C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5832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484280"/>
            <a:ext cx="4167720" cy="21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484280"/>
            <a:ext cx="4167720" cy="21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794760"/>
            <a:ext cx="8540640" cy="21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4B91-5D84-43CD-9865-A255D49F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5832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1680" y="1484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1FDA-5C91-4F39-B29F-10FC208053BB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43280" y="4221000"/>
            <a:ext cx="2305080" cy="1838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948360" y="4221000"/>
            <a:ext cx="2195640" cy="1846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rcRect l="0" t="8935" r="0" b="0"/>
          <a:stretch/>
        </p:blipFill>
        <p:spPr>
          <a:xfrm>
            <a:off x="2050920" y="4221000"/>
            <a:ext cx="2667240" cy="1832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0" y="4221000"/>
            <a:ext cx="2268360" cy="1816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852640"/>
            <a:ext cx="9145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 2 - 4, 2009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nta, Georgia, U.S.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ed by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yon Carlson, Edmonton ACC North High Superviso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monton Area Control Cent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24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outes &amp; Reduced Restri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77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 to th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 POLAR WORKING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5832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S-B Enhance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484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ecent enhancements made to ATC MANOPS to enable priority for ADS-B equipped flights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MANOPS 132.1E.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4d4d4d"/>
                </a:solidFill>
                <a:latin typeface="Arial"/>
              </a:rPr>
              <a:t>Except in the interest of flight safety or high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Arial"/>
              </a:rPr>
              <a:t>priority flights, give priority to ADS-B eligib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Arial"/>
              </a:rPr>
              <a:t>aircraft operating in ADS-B airspac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Arial"/>
              </a:rPr>
              <a:t>* </a:t>
            </a: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132.1 E. Note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Arial"/>
              </a:rPr>
              <a:t>Priority may be given by assignment of fligh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Arial"/>
              </a:rPr>
              <a:t>planned route, altitude or speed or by approvin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d4d4d"/>
                </a:solidFill>
                <a:latin typeface="Arial"/>
              </a:rPr>
              <a:t>requests for en route dynamic rerouting</a:t>
            </a:r>
            <a:r>
              <a:rPr b="0" i="1" lang="en-US" sz="32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5832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484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5832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484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73454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rcRect l="20101" t="24387" r="16963" b="0"/>
          <a:stretch/>
        </p:blipFill>
        <p:spPr>
          <a:xfrm>
            <a:off x="1619280" y="1341360"/>
            <a:ext cx="5761080" cy="48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5832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Routes &amp; Reduced Restri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484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llow up from CPWG/7 in Paris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wo initiatives were introduced at CPWG/7: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- Relaxation of restricted times for flights      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 to file NCA routes in the Yukon airspace;        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 and,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- Introduction of additional transition   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 routes between NCA tracks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2565000"/>
            <a:ext cx="64008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>
            <a:lum bright="-52000"/>
          </a:blip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33336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G ACC actions in May, 200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1413000"/>
            <a:ext cx="74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41300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  <a:ea typeface="宋体"/>
              </a:rPr>
              <a:t>We implemented a 2 hour reduction to the start time of the mandatory track requirements (2000 to 0200 UTC daily [DST 1900 to 0100 UTC]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  <a:ea typeface="宋体"/>
              </a:rPr>
              <a:t>The following new transitions were NOTAMed availabl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  <a:ea typeface="宋体"/>
              </a:rPr>
              <a:t>ILATU/OTN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  <a:ea typeface="宋体"/>
              </a:rPr>
              <a:t>YWY/DUP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  <a:ea typeface="宋体"/>
              </a:rPr>
              <a:t>DUPEV/FI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  <a:ea typeface="宋体"/>
              </a:rPr>
              <a:t>DUPEV/FA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  <a:ea typeface="宋体"/>
              </a:rPr>
              <a:t>YVQ/BI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  <a:ea typeface="宋体"/>
              </a:rPr>
              <a:t>YVQ/CHA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  <a:ea typeface="宋体"/>
              </a:rPr>
              <a:t>BITRO/POT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  <a:ea typeface="宋体"/>
              </a:rPr>
              <a:t>EPLED/6855N125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  <a:ea typeface="宋体"/>
              </a:rPr>
              <a:t>6855N125W/VOLO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Verdana"/>
                <a:ea typeface="宋体"/>
              </a:rPr>
              <a:t>DASPO/ADR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00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5832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484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Request feedback on the effectiveness of these routes and of the changes to the mandatory track hours.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Has there been a measurable gain in efficiency?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Have all airlines incorporated these changes into their flight planning databases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Do all of these routes meet “restricted critical terrain” requirements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71600" y="2565000"/>
            <a:ext cx="64008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>
            <a:lum bright="-52000"/>
          </a:blip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42920" y="981000"/>
            <a:ext cx="7201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A review of the mandatory track requirements will occur in the Spring of 2010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This decision will be made </a:t>
            </a:r>
            <a:r>
              <a:rPr b="0" i="1" lang="en-CA" sz="2400" spc="-1" strike="noStrike">
                <a:solidFill>
                  <a:srgbClr val="ffffff"/>
                </a:solidFill>
                <a:latin typeface="Arial"/>
              </a:rPr>
              <a:t>after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CAATS implemen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5832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ing forward……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484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It is hoped that the recent revisions have satisfied </a:t>
            </a:r>
            <a:r>
              <a:rPr b="0" lang="en-US" sz="3200" spc="-1" strike="noStrike" u="sng">
                <a:solidFill>
                  <a:srgbClr val="4d4d4d"/>
                </a:solidFill>
                <a:uFillTx/>
                <a:latin typeface="Arial"/>
              </a:rPr>
              <a:t>most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 flight planning requirements.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uture additions of ADS-B sites and changes to procedures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actors such as unusual weather situations, and down-line airspace restrictions, can result in “less than optimal” routes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5832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oing forward………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484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No reductions in restricted times and routes expected in the </a:t>
            </a:r>
            <a:r>
              <a:rPr b="0" i="1" lang="en-US" sz="3200" spc="-1" strike="noStrike">
                <a:solidFill>
                  <a:srgbClr val="4d4d4d"/>
                </a:solidFill>
                <a:latin typeface="Arial"/>
              </a:rPr>
              <a:t>immediate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 future.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In lieu, we would like to propose a trial for airlines to call Edmonton ACC when needed to discuss unusual route requirements that don’t meet the track/time restriction requirements.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5832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dures to be Determin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484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What would be a good time to call? 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Beginning 1300Z(summer)/1400Z(winter)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When is a final decision needed by on a daily basis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32000" y="0"/>
            <a:ext cx="58327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ectations &amp; Proced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484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d4d4d"/>
                </a:solidFill>
                <a:latin typeface="Arial"/>
              </a:rPr>
              <a:t>The Edmonton Supervisor will analyze the requested route, and will respond by an agreed tim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d4d4d"/>
                </a:solidFill>
                <a:latin typeface="Arial"/>
              </a:rPr>
              <a:t>Airlines will attempt to use NCA’s and transitions whenever practical, and will </a:t>
            </a:r>
            <a:r>
              <a:rPr b="0" lang="en-CA" sz="2400" spc="-1" strike="noStrike" u="sng">
                <a:solidFill>
                  <a:srgbClr val="4d4d4d"/>
                </a:solidFill>
                <a:uFillTx/>
                <a:latin typeface="Arial"/>
              </a:rPr>
              <a:t>only</a:t>
            </a:r>
            <a:r>
              <a:rPr b="0" lang="en-CA" sz="2400" spc="-1" strike="noStrike">
                <a:solidFill>
                  <a:srgbClr val="4d4d4d"/>
                </a:solidFill>
                <a:latin typeface="Arial"/>
              </a:rPr>
              <a:t> use this procedure </a:t>
            </a:r>
            <a:r>
              <a:rPr b="0" lang="en-CA" sz="2400" spc="-1" strike="noStrike" u="sng">
                <a:solidFill>
                  <a:srgbClr val="4d4d4d"/>
                </a:solidFill>
                <a:uFillTx/>
                <a:latin typeface="Arial"/>
              </a:rPr>
              <a:t>when needed to meet an unusual operational requirement</a:t>
            </a:r>
            <a:r>
              <a:rPr b="0" lang="en-CA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d4d4d"/>
                </a:solidFill>
                <a:latin typeface="Arial"/>
              </a:rPr>
              <a:t>If an airline operates one or more flights that have optimal routes in the </a:t>
            </a:r>
            <a:r>
              <a:rPr b="0" lang="en-CA" sz="2400" spc="-1" strike="noStrike" u="sng">
                <a:solidFill>
                  <a:srgbClr val="4d4d4d"/>
                </a:solidFill>
                <a:uFillTx/>
                <a:latin typeface="Arial"/>
              </a:rPr>
              <a:t>same general geographical location</a:t>
            </a:r>
            <a:r>
              <a:rPr b="0" lang="en-CA" sz="2400" spc="-1" strike="noStrike">
                <a:solidFill>
                  <a:srgbClr val="4d4d4d"/>
                </a:solidFill>
                <a:latin typeface="Arial"/>
              </a:rPr>
              <a:t>, it is expected the airline will route all of those flights onto the </a:t>
            </a:r>
            <a:r>
              <a:rPr b="0" lang="en-CA" sz="2400" spc="-1" strike="noStrike" u="sng">
                <a:solidFill>
                  <a:srgbClr val="4d4d4d"/>
                </a:solidFill>
                <a:uFillTx/>
                <a:latin typeface="Arial"/>
              </a:rPr>
              <a:t>same agreed route</a:t>
            </a:r>
            <a:r>
              <a:rPr b="0" lang="en-CA" sz="24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d4d4d"/>
                </a:solidFill>
                <a:latin typeface="Arial"/>
              </a:rPr>
              <a:t>Feedback requested immediately &amp; in the following week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d4d4d"/>
                </a:solidFill>
                <a:latin typeface="Arial"/>
              </a:rPr>
              <a:t>Follow up at CPWG/9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00:23:21Z</dcterms:created>
  <dc:creator>Bryon Carlson</dc:creator>
  <dc:description/>
  <dc:language>en-US</dc:language>
  <cp:lastModifiedBy>Air Traffic Organization</cp:lastModifiedBy>
  <dcterms:modified xsi:type="dcterms:W3CDTF">2009-11-18T14:37:14Z</dcterms:modified>
  <cp:revision>19</cp:revision>
  <dc:subject/>
  <dc:title>Edmonton Area Control Centre presentation to the CROSS POLAR WORKING GROUP  Atlanta, Georgia, U.S.A  Dec 1-4, 2009   </dc:title>
</cp:coreProperties>
</file>