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F4DF-C2F0-47F1-8D71-F530CB3B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16A6-E6F7-4E20-8045-F20B6550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06EA-6C7E-4D0E-93D2-412B6EC6B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4DFC-7687-49FB-8E0F-FB19E15F1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6159-50BC-489D-ACE7-D325D311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D9D5-C374-4277-826C-126C8EA5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3056-7430-4FAB-AD2E-64E44242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F048-B05D-4254-AC91-F69654F5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FF6F-0E1B-40F1-A7E0-BFE8ACD0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BAC3-2948-49F0-A459-CCCEB285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83EB-E4A4-4F14-898C-5FFCB977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BEEE-30C2-4FED-91C3-AF102347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5E18-5F4A-4E62-8F23-54F4EF7119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0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1.wmf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image" Target="../media/image12.png"/><Relationship Id="rId29" Type="http://schemas.openxmlformats.org/officeDocument/2006/relationships/image" Target="../media/image12.png"/><Relationship Id="rId30" Type="http://schemas.openxmlformats.org/officeDocument/2006/relationships/image" Target="../media/image12.png"/><Relationship Id="rId3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Untitled-2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Object 3"/>
          <p:cNvGraphicFramePr/>
          <p:nvPr/>
        </p:nvGraphicFramePr>
        <p:xfrm>
          <a:off x="0" y="82440"/>
          <a:ext cx="8543880" cy="669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2440"/>
                    <a:ext cx="8543880" cy="66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169"/>
          <p:cNvGraphicFramePr/>
          <p:nvPr/>
        </p:nvGraphicFramePr>
        <p:xfrm>
          <a:off x="357120" y="428760"/>
          <a:ext cx="7572600" cy="6143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" name="Object 16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7120" y="428760"/>
                    <a:ext cx="7572600" cy="61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170"/>
          <p:cNvGraphicFramePr/>
          <p:nvPr/>
        </p:nvGraphicFramePr>
        <p:xfrm>
          <a:off x="785880" y="676440"/>
          <a:ext cx="6824520" cy="5616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" name="Object 17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85880" y="676440"/>
                    <a:ext cx="682452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171"/>
          <p:cNvGraphicFramePr/>
          <p:nvPr/>
        </p:nvGraphicFramePr>
        <p:xfrm>
          <a:off x="5643720" y="1000080"/>
          <a:ext cx="1679400" cy="1704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9" name="Object 17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643720" y="1000080"/>
                    <a:ext cx="167940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172"/>
          <p:cNvGraphicFramePr/>
          <p:nvPr/>
        </p:nvGraphicFramePr>
        <p:xfrm>
          <a:off x="3732120" y="1089000"/>
          <a:ext cx="1819440" cy="1986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1" name="Object 17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732120" y="1089000"/>
                    <a:ext cx="1819440" cy="19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73"/>
          <p:cNvGraphicFramePr/>
          <p:nvPr/>
        </p:nvGraphicFramePr>
        <p:xfrm>
          <a:off x="4429080" y="3000240"/>
          <a:ext cx="2521080" cy="1463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3" name="Object 17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429080" y="3000240"/>
                    <a:ext cx="252108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174"/>
          <p:cNvGraphicFramePr/>
          <p:nvPr/>
        </p:nvGraphicFramePr>
        <p:xfrm>
          <a:off x="2813040" y="3016080"/>
          <a:ext cx="1425600" cy="11512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5" name="Object 174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813040" y="3016080"/>
                    <a:ext cx="1425600" cy="11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Object 175"/>
          <p:cNvGraphicFramePr/>
          <p:nvPr/>
        </p:nvGraphicFramePr>
        <p:xfrm>
          <a:off x="2479680" y="4167360"/>
          <a:ext cx="1590840" cy="13716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7" name="Object 175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479680" y="4167360"/>
                    <a:ext cx="159084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176"/>
          <p:cNvGraphicFramePr/>
          <p:nvPr/>
        </p:nvGraphicFramePr>
        <p:xfrm>
          <a:off x="1344600" y="3543480"/>
          <a:ext cx="1503360" cy="14763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9" name="Object 176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344600" y="3543480"/>
                    <a:ext cx="150336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177"/>
          <p:cNvGraphicFramePr/>
          <p:nvPr/>
        </p:nvGraphicFramePr>
        <p:xfrm>
          <a:off x="932040" y="4703760"/>
          <a:ext cx="1282680" cy="13543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61" name="Object 177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932040" y="4703760"/>
                    <a:ext cx="1282680" cy="13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32"/>
          <p:cNvSpPr/>
          <p:nvPr/>
        </p:nvSpPr>
        <p:spPr>
          <a:xfrm>
            <a:off x="1577880" y="5932440"/>
            <a:ext cx="665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400" spc="-1" strike="noStrike">
                <a:solidFill>
                  <a:srgbClr val="000022"/>
                </a:solidFill>
                <a:latin typeface="Times New Roman"/>
                <a:ea typeface="Times New Roman"/>
              </a:rPr>
              <a:t>ЦУ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6"/>
          <p:cNvSpPr/>
          <p:nvPr/>
        </p:nvSpPr>
        <p:spPr>
          <a:xfrm>
            <a:off x="4284720" y="2708280"/>
            <a:ext cx="10699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400" spc="-1" strike="noStrike">
                <a:solidFill>
                  <a:srgbClr val="000022"/>
                </a:solidFill>
                <a:latin typeface="Times New Roman"/>
                <a:ea typeface="Times New Roman"/>
              </a:rPr>
              <a:t>Кеперве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9"/>
          <p:cNvSpPr/>
          <p:nvPr/>
        </p:nvSpPr>
        <p:spPr>
          <a:xfrm>
            <a:off x="7129440" y="3157560"/>
            <a:ext cx="12542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400" spc="-1" strike="noStrike">
                <a:solidFill>
                  <a:srgbClr val="000022"/>
                </a:solidFill>
                <a:latin typeface="Times New Roman"/>
                <a:ea typeface="Times New Roman"/>
              </a:rPr>
              <a:t>Прови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5"/>
          <p:cNvSpPr/>
          <p:nvPr/>
        </p:nvSpPr>
        <p:spPr>
          <a:xfrm>
            <a:off x="1741320" y="5715000"/>
            <a:ext cx="133560" cy="144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7"/>
          <p:cNvSpPr/>
          <p:nvPr/>
        </p:nvSpPr>
        <p:spPr>
          <a:xfrm>
            <a:off x="3564000" y="4724280"/>
            <a:ext cx="133200" cy="144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6"/>
          <p:cNvSpPr/>
          <p:nvPr/>
        </p:nvSpPr>
        <p:spPr>
          <a:xfrm>
            <a:off x="2316240" y="4184640"/>
            <a:ext cx="133200" cy="144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5932440" y="2994120"/>
            <a:ext cx="920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400" spc="-1" strike="noStrike">
                <a:solidFill>
                  <a:srgbClr val="000022"/>
                </a:solidFill>
                <a:latin typeface="Times New Roman"/>
                <a:ea typeface="Times New Roman"/>
              </a:rPr>
              <a:t>Анадыр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8"/>
          <p:cNvSpPr/>
          <p:nvPr/>
        </p:nvSpPr>
        <p:spPr>
          <a:xfrm>
            <a:off x="3708360" y="3429000"/>
            <a:ext cx="131760" cy="144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1"/>
          <p:cNvSpPr/>
          <p:nvPr/>
        </p:nvSpPr>
        <p:spPr>
          <a:xfrm>
            <a:off x="6205680" y="3211560"/>
            <a:ext cx="136440" cy="144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47"/>
          <p:cNvSpPr/>
          <p:nvPr/>
        </p:nvSpPr>
        <p:spPr>
          <a:xfrm>
            <a:off x="7674120" y="3048120"/>
            <a:ext cx="134640" cy="144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0"/>
          <p:cNvSpPr/>
          <p:nvPr/>
        </p:nvSpPr>
        <p:spPr>
          <a:xfrm>
            <a:off x="6659640" y="1773360"/>
            <a:ext cx="131760" cy="144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9"/>
          <p:cNvSpPr/>
          <p:nvPr/>
        </p:nvSpPr>
        <p:spPr>
          <a:xfrm>
            <a:off x="5003640" y="1628640"/>
            <a:ext cx="133560" cy="1461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3"/>
          <p:cNvSpPr/>
          <p:nvPr/>
        </p:nvSpPr>
        <p:spPr>
          <a:xfrm>
            <a:off x="4427640" y="2565360"/>
            <a:ext cx="133200" cy="142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4"/>
          <p:cNvSpPr/>
          <p:nvPr/>
        </p:nvSpPr>
        <p:spPr>
          <a:xfrm>
            <a:off x="3375000" y="5116680"/>
            <a:ext cx="91764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400" spc="-1" strike="noStrike">
                <a:solidFill>
                  <a:srgbClr val="000022"/>
                </a:solidFill>
                <a:latin typeface="Times New Roman"/>
                <a:ea typeface="Times New Roman"/>
              </a:rPr>
              <a:t>Чайбух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3"/>
          <p:cNvSpPr/>
          <p:nvPr/>
        </p:nvSpPr>
        <p:spPr>
          <a:xfrm>
            <a:off x="2395440" y="4184640"/>
            <a:ext cx="9478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400" spc="-1" strike="noStrike">
                <a:solidFill>
                  <a:srgbClr val="000022"/>
                </a:solidFill>
                <a:latin typeface="Times New Roman"/>
                <a:ea typeface="Times New Roman"/>
              </a:rPr>
              <a:t>Сеймч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7"/>
          <p:cNvSpPr/>
          <p:nvPr/>
        </p:nvSpPr>
        <p:spPr>
          <a:xfrm>
            <a:off x="4716360" y="1916280"/>
            <a:ext cx="72864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400" spc="-1" strike="noStrike">
                <a:solidFill>
                  <a:srgbClr val="000022"/>
                </a:solidFill>
                <a:latin typeface="Times New Roman"/>
                <a:ea typeface="Times New Roman"/>
              </a:rPr>
              <a:t>Пев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8"/>
          <p:cNvSpPr/>
          <p:nvPr/>
        </p:nvSpPr>
        <p:spPr>
          <a:xfrm>
            <a:off x="6278400" y="1916280"/>
            <a:ext cx="11019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400" spc="-1" strike="noStrike">
                <a:solidFill>
                  <a:srgbClr val="000022"/>
                </a:solidFill>
                <a:latin typeface="Times New Roman"/>
                <a:ea typeface="Times New Roman"/>
              </a:rPr>
              <a:t>м.Шмид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2"/>
          <p:cNvSpPr/>
          <p:nvPr/>
        </p:nvSpPr>
        <p:spPr>
          <a:xfrm>
            <a:off x="1692360" y="5373720"/>
            <a:ext cx="10033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400" spc="-1" strike="noStrike">
                <a:solidFill>
                  <a:srgbClr val="000022"/>
                </a:solidFill>
                <a:latin typeface="Times New Roman"/>
                <a:ea typeface="Times New Roman"/>
              </a:rPr>
              <a:t>Соко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0"/>
          <p:cNvSpPr/>
          <p:nvPr/>
        </p:nvSpPr>
        <p:spPr>
          <a:xfrm>
            <a:off x="4741920" y="3639960"/>
            <a:ext cx="91908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400" spc="-1" strike="noStrike">
                <a:solidFill>
                  <a:srgbClr val="000022"/>
                </a:solidFill>
                <a:latin typeface="Times New Roman"/>
                <a:ea typeface="Times New Roman"/>
              </a:rPr>
              <a:t>Марко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41"/>
          <p:cNvSpPr/>
          <p:nvPr/>
        </p:nvSpPr>
        <p:spPr>
          <a:xfrm>
            <a:off x="1692360" y="5300640"/>
            <a:ext cx="129960" cy="1461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2"/>
          <p:cNvSpPr/>
          <p:nvPr/>
        </p:nvSpPr>
        <p:spPr>
          <a:xfrm>
            <a:off x="5122800" y="3476520"/>
            <a:ext cx="133560" cy="144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32760" bIns="32760" anchor="ctr">
            <a:noAutofit/>
          </a:bodyPr>
          <a:p>
            <a:pPr>
              <a:tabLst>
                <a:tab algn="l" pos="0"/>
                <a:tab algn="l" pos="650880"/>
                <a:tab algn="l" pos="1301760"/>
                <a:tab algn="l" pos="1952640"/>
                <a:tab algn="l" pos="2603520"/>
                <a:tab algn="l" pos="3254400"/>
                <a:tab algn="l" pos="3905280"/>
                <a:tab algn="l" pos="4556160"/>
                <a:tab algn="l" pos="5207040"/>
                <a:tab algn="l" pos="5857920"/>
                <a:tab algn="l" pos="6508800"/>
                <a:tab algn="l" pos="7159680"/>
                <a:tab algn="l" pos="7810560"/>
                <a:tab algn="l" pos="8461440"/>
                <a:tab algn="l" pos="9112320"/>
                <a:tab algn="l" pos="9763200"/>
                <a:tab algn="l" pos="1041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4"/>
          <p:cNvSpPr/>
          <p:nvPr/>
        </p:nvSpPr>
        <p:spPr>
          <a:xfrm>
            <a:off x="490680" y="434880"/>
            <a:ext cx="3714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2100" spc="-1" strike="noStrike">
                <a:solidFill>
                  <a:srgbClr val="000022"/>
                </a:solidFill>
                <a:latin typeface="Times New Roman"/>
                <a:ea typeface="Times New Roman"/>
              </a:rPr>
              <a:t>Радиолокационные пол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0"/>
          <p:cNvSpPr/>
          <p:nvPr/>
        </p:nvSpPr>
        <p:spPr>
          <a:xfrm>
            <a:off x="3483000" y="3530520"/>
            <a:ext cx="9190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400" spc="-1" strike="noStrike">
                <a:solidFill>
                  <a:srgbClr val="000022"/>
                </a:solidFill>
                <a:latin typeface="Times New Roman"/>
                <a:ea typeface="Times New Roman"/>
              </a:rPr>
              <a:t>Омол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44" descr="лира"/>
          <p:cNvPicPr/>
          <p:nvPr/>
        </p:nvPicPr>
        <p:blipFill>
          <a:blip r:embed="rId22"/>
          <a:stretch/>
        </p:blipFill>
        <p:spPr>
          <a:xfrm>
            <a:off x="1905120" y="3919680"/>
            <a:ext cx="507960" cy="3808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4"/>
          <p:cNvSpPr/>
          <p:nvPr/>
        </p:nvSpPr>
        <p:spPr>
          <a:xfrm>
            <a:off x="6786720" y="6000840"/>
            <a:ext cx="1914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1200" spc="-1" strike="noStrike">
                <a:solidFill>
                  <a:srgbClr val="000022"/>
                </a:solidFill>
                <a:latin typeface="Times New Roman"/>
                <a:ea typeface="Times New Roman"/>
              </a:rPr>
              <a:t>Высота 6 тыс.мет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6786720" y="6215040"/>
            <a:ext cx="1914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ru-RU" sz="1200" spc="-1" strike="noStrike">
                <a:solidFill>
                  <a:srgbClr val="000022"/>
                </a:solidFill>
                <a:latin typeface="Times New Roman"/>
                <a:ea typeface="Times New Roman"/>
              </a:rPr>
              <a:t>Высота 10</a:t>
            </a:r>
            <a:r>
              <a:rPr b="1" lang="en-US" sz="1200" spc="-1" strike="noStrike">
                <a:solidFill>
                  <a:srgbClr val="000022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22"/>
                </a:solidFill>
                <a:latin typeface="Times New Roman"/>
                <a:ea typeface="Times New Roman"/>
              </a:rPr>
              <a:t>тыс.мет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6786720" y="5786280"/>
            <a:ext cx="1914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ru-RU" sz="1200" spc="-1" strike="noStrike">
                <a:solidFill>
                  <a:srgbClr val="000022"/>
                </a:solidFill>
                <a:latin typeface="Times New Roman"/>
                <a:ea typeface="Times New Roman"/>
              </a:rPr>
              <a:t>Высота </a:t>
            </a:r>
            <a:r>
              <a:rPr b="1" lang="en-US" sz="1200" spc="-1" strike="noStrike">
                <a:solidFill>
                  <a:srgbClr val="000022"/>
                </a:solidFill>
                <a:latin typeface="Times New Roman"/>
                <a:ea typeface="Times New Roman"/>
              </a:rPr>
              <a:t>3 </a:t>
            </a:r>
            <a:r>
              <a:rPr b="1" lang="ru-RU" sz="1200" spc="-1" strike="noStrike">
                <a:solidFill>
                  <a:srgbClr val="000022"/>
                </a:solidFill>
                <a:latin typeface="Times New Roman"/>
                <a:ea typeface="Times New Roman"/>
              </a:rPr>
              <a:t>тыс.мет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62"/>
          <p:cNvSpPr/>
          <p:nvPr/>
        </p:nvSpPr>
        <p:spPr>
          <a:xfrm>
            <a:off x="6423120" y="5824440"/>
            <a:ext cx="271440" cy="108000"/>
          </a:xfrm>
          <a:prstGeom prst="rect">
            <a:avLst/>
          </a:prstGeom>
          <a:solidFill>
            <a:srgbClr val="ff00ff">
              <a:alpha val="50000"/>
            </a:srgbClr>
          </a:solidFill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63"/>
          <p:cNvSpPr/>
          <p:nvPr/>
        </p:nvSpPr>
        <p:spPr>
          <a:xfrm>
            <a:off x="6423120" y="6041880"/>
            <a:ext cx="271440" cy="108000"/>
          </a:xfrm>
          <a:prstGeom prst="rect">
            <a:avLst/>
          </a:prstGeom>
          <a:solidFill>
            <a:srgbClr val="ffff00">
              <a:alpha val="50000"/>
            </a:srgbClr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64"/>
          <p:cNvSpPr/>
          <p:nvPr/>
        </p:nvSpPr>
        <p:spPr>
          <a:xfrm>
            <a:off x="6423120" y="6259680"/>
            <a:ext cx="271440" cy="107640"/>
          </a:xfrm>
          <a:prstGeom prst="rect">
            <a:avLst/>
          </a:prstGeom>
          <a:solidFill>
            <a:srgbClr val="bbe0e3">
              <a:alpha val="50000"/>
            </a:srgbClr>
          </a:solidFill>
          <a:ln w="255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44" descr="лира"/>
          <p:cNvPicPr/>
          <p:nvPr/>
        </p:nvPicPr>
        <p:blipFill>
          <a:blip r:embed="rId23"/>
          <a:stretch/>
        </p:blipFill>
        <p:spPr>
          <a:xfrm>
            <a:off x="1252440" y="5062680"/>
            <a:ext cx="507960" cy="380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4" descr="лира"/>
          <p:cNvPicPr/>
          <p:nvPr/>
        </p:nvPicPr>
        <p:blipFill>
          <a:blip r:embed="rId24"/>
          <a:stretch/>
        </p:blipFill>
        <p:spPr>
          <a:xfrm>
            <a:off x="3157560" y="3265560"/>
            <a:ext cx="507960" cy="380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4" descr="лира"/>
          <p:cNvPicPr/>
          <p:nvPr/>
        </p:nvPicPr>
        <p:blipFill>
          <a:blip r:embed="rId25"/>
          <a:stretch/>
        </p:blipFill>
        <p:spPr>
          <a:xfrm>
            <a:off x="3973680" y="2395440"/>
            <a:ext cx="507960" cy="381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4" descr="лира"/>
          <p:cNvPicPr/>
          <p:nvPr/>
        </p:nvPicPr>
        <p:blipFill>
          <a:blip r:embed="rId26"/>
          <a:stretch/>
        </p:blipFill>
        <p:spPr>
          <a:xfrm>
            <a:off x="4518000" y="1523880"/>
            <a:ext cx="507960" cy="381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4" descr="лира"/>
          <p:cNvPicPr/>
          <p:nvPr/>
        </p:nvPicPr>
        <p:blipFill>
          <a:blip r:embed="rId27"/>
          <a:stretch/>
        </p:blipFill>
        <p:spPr>
          <a:xfrm>
            <a:off x="6259680" y="1523880"/>
            <a:ext cx="507960" cy="381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4" descr="лира"/>
          <p:cNvPicPr/>
          <p:nvPr/>
        </p:nvPicPr>
        <p:blipFill>
          <a:blip r:embed="rId28"/>
          <a:stretch/>
        </p:blipFill>
        <p:spPr>
          <a:xfrm>
            <a:off x="5986440" y="3375000"/>
            <a:ext cx="507960" cy="380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4" descr="лира"/>
          <p:cNvPicPr/>
          <p:nvPr/>
        </p:nvPicPr>
        <p:blipFill>
          <a:blip r:embed="rId29"/>
          <a:stretch/>
        </p:blipFill>
        <p:spPr>
          <a:xfrm>
            <a:off x="4626000" y="3319560"/>
            <a:ext cx="507960" cy="380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4" descr="лира"/>
          <p:cNvPicPr/>
          <p:nvPr/>
        </p:nvPicPr>
        <p:blipFill>
          <a:blip r:embed="rId30"/>
          <a:stretch/>
        </p:blipFill>
        <p:spPr>
          <a:xfrm>
            <a:off x="3157560" y="4462560"/>
            <a:ext cx="50796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000"/>
                            </p:stCondLst>
                            <p:childTnLst>
                              <p:par>
                                <p:cTn id="71" nodeType="after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белый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Object 3"/>
          <p:cNvGraphicFramePr/>
          <p:nvPr/>
        </p:nvGraphicFramePr>
        <p:xfrm>
          <a:off x="676440" y="1577880"/>
          <a:ext cx="7791120" cy="501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6440" y="1577880"/>
                    <a:ext cx="7791120" cy="50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Rectangle 4"/>
          <p:cNvSpPr/>
          <p:nvPr/>
        </p:nvSpPr>
        <p:spPr>
          <a:xfrm>
            <a:off x="109440" y="227160"/>
            <a:ext cx="91440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ct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Радиолокационное поле ТРЛК в районе северо-восточного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участка Государственной границы РФ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271440" y="97956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05863"/>
          <p:cNvSpPr/>
          <p:nvPr/>
        </p:nvSpPr>
        <p:spPr>
          <a:xfrm>
            <a:off x="1033560" y="815040"/>
            <a:ext cx="3701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граница зоны ответственности РЦ Магада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05863"/>
          <p:cNvSpPr/>
          <p:nvPr/>
        </p:nvSpPr>
        <p:spPr>
          <a:xfrm>
            <a:off x="490680" y="1214640"/>
            <a:ext cx="1304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С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РЦ Магад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05863"/>
          <p:cNvSpPr/>
          <p:nvPr/>
        </p:nvSpPr>
        <p:spPr>
          <a:xfrm>
            <a:off x="7400880" y="1198800"/>
            <a:ext cx="15238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Ш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РДЦ Анкоридж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7"/>
          <p:cNvSpPr/>
          <p:nvPr/>
        </p:nvSpPr>
        <p:spPr>
          <a:xfrm>
            <a:off x="8602560" y="6423120"/>
            <a:ext cx="4320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ctr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700" spc="-1" strike="noStrike">
                <a:solidFill>
                  <a:srgbClr val="000022"/>
                </a:solidFill>
                <a:latin typeface="Arial"/>
                <a:ea typeface="Times New Roman"/>
              </a:rPr>
              <a:t>1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белый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Object 3"/>
          <p:cNvGraphicFramePr/>
          <p:nvPr/>
        </p:nvGraphicFramePr>
        <p:xfrm>
          <a:off x="676440" y="1577880"/>
          <a:ext cx="7791120" cy="501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6440" y="1577880"/>
                    <a:ext cx="7791120" cy="50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Object 4"/>
          <p:cNvGraphicFramePr/>
          <p:nvPr/>
        </p:nvGraphicFramePr>
        <p:xfrm>
          <a:off x="2124000" y="2492280"/>
          <a:ext cx="4054680" cy="3890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24000" y="2492280"/>
                    <a:ext cx="4054680" cy="38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Rectangle 37"/>
          <p:cNvSpPr/>
          <p:nvPr/>
        </p:nvSpPr>
        <p:spPr>
          <a:xfrm>
            <a:off x="8602560" y="6423120"/>
            <a:ext cx="4320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ctr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700" spc="-1" strike="noStrike">
                <a:solidFill>
                  <a:srgbClr val="000022"/>
                </a:solidFill>
                <a:latin typeface="Arial"/>
                <a:ea typeface="Times New Roman"/>
              </a:rPr>
              <a:t>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09440" y="227160"/>
            <a:ext cx="91440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ct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Радиолокационное поле ТРЛК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планируемого к установке в п. бухта Провидени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271440" y="97956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05863"/>
          <p:cNvSpPr/>
          <p:nvPr/>
        </p:nvSpPr>
        <p:spPr>
          <a:xfrm>
            <a:off x="1089000" y="811800"/>
            <a:ext cx="3917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граница зоны ответственности РЦ Магада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05863"/>
          <p:cNvSpPr/>
          <p:nvPr/>
        </p:nvSpPr>
        <p:spPr>
          <a:xfrm>
            <a:off x="490680" y="1214640"/>
            <a:ext cx="1304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С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РЦ Магад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05863"/>
          <p:cNvSpPr/>
          <p:nvPr/>
        </p:nvSpPr>
        <p:spPr>
          <a:xfrm>
            <a:off x="7400880" y="1198800"/>
            <a:ext cx="15238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Ш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РДЦ Анкоридж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00:07:50Z</dcterms:created>
  <dc:creator>Ермолаев С.Н.</dc:creator>
  <dc:description/>
  <dc:language>en-US</dc:language>
  <cp:lastModifiedBy>Ермолаев С.Н.</cp:lastModifiedBy>
  <dcterms:modified xsi:type="dcterms:W3CDTF">2009-11-25T00:08:22Z</dcterms:modified>
  <cp:revision>1</cp:revision>
  <dc:subject/>
  <dc:title>Слайд 1</dc:title>
</cp:coreProperties>
</file>