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AA1-454E-4867-B7F5-35D79555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D91-6DE6-4831-BB0E-CC71367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16A-F6C0-46C0-905D-16EF59E1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ED4-766C-4CB0-B31A-B81D0912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517-04CA-4563-9A4C-131A526D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DF6-3D4F-4C00-9532-3E150B6E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52F-41A1-49A3-A66D-FD36DCCA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BE7-C58C-470F-8019-5BD93E35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56F-78B6-4239-84A8-DB562C17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F7A-B099-46BB-83F6-6CB9585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CC5-5544-4CB6-BB27-0470EE0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9DE-350A-4EF0-8FED-FA91E33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6DC-70C1-4CD4-8D81-3F77592CF5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Pictur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002400" y="1584360"/>
            <a:ext cx="33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PWG 28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– 30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960" y="6093000"/>
            <a:ext cx="33278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Bob Ever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V.P. Flight Operations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396800" y="1000080"/>
            <a:ext cx="60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CRUISE CLIMB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8320" y="1484280"/>
            <a:ext cx="8794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basis for the request for Cruise Climb Procedure tr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posed cruise climb technique provides an optimum fixed rat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b and a certain number of intermediate altitude steps (from ini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final block altitude),  which leads the vertical flight profile to re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close as possible around the optimum flight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uel economy for a given block altitude assigned is therefore ob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ous studies conducted for B773ER cruise altitude climbs co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the maximum fuel burn savings are obtained through 400 ft inter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s, using a 100 fpm rate of climb between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is case, fuel savings from 70 kg to 110 kg are expected, de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eight, ISA deviation, winds and al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250920" y="1981080"/>
            <a:ext cx="8458200" cy="447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9200" y="1190520"/>
            <a:ext cx="57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w Brief for the procedures for Edomonton F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593640" y="177336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5720" y="1047600"/>
            <a:ext cx="73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irates Fuel Monitoring System – Operational Saving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2120" y="6165720"/>
            <a:ext cx="77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tal of flights, events and rate, average fuel savings over a mon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7283520" cy="3989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3343320" cy="2190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5160" y="1263600"/>
            <a:ext cx="38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timum cruise climb techniq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236600" y="1981080"/>
            <a:ext cx="66690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5080" y="1047600"/>
            <a:ext cx="74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uise climb technique which does not provide optimum sav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irates are reviewing their SOP for crew refer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349360"/>
            <a:ext cx="165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236600" y="1981080"/>
            <a:ext cx="66690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35440" y="1047600"/>
            <a:ext cx="70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uise climb technique which does provide optimum sav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irates are reviewing their SOP for crew refer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RUISE CLIMB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16680" y="1190520"/>
            <a:ext cx="66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posed Crew Brief for the procedures for Reykjavik F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agreed with IST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3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ank you for your atten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11280" y="4797360"/>
            <a:ext cx="31669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Everest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irat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 Operations Suppor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bai/U.A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284720" y="51624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hone:  +971 4 7084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-Mail:  bob.everest@emirat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9:12:23Z</dcterms:created>
  <dc:creator>s100531</dc:creator>
  <dc:description/>
  <dc:language>en-US</dc:language>
  <cp:lastModifiedBy>s068364</cp:lastModifiedBy>
  <dcterms:modified xsi:type="dcterms:W3CDTF">2010-04-26T03:44:38Z</dcterms:modified>
  <cp:revision>521</cp:revision>
  <dc:subject/>
  <dc:title>No Slide Title</dc:title>
</cp:coreProperties>
</file>