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0.png" ContentType="image/pn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9.wmf" ContentType="image/x-wmf"/>
  <Override PartName="/ppt/media/image1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9283700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9284400" cy="69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024440" cy="30960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1"/>
          </p:nvPr>
        </p:nvSpPr>
        <p:spPr>
          <a:xfrm>
            <a:off x="5258880" y="0"/>
            <a:ext cx="4024440" cy="30960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2"/>
          </p:nvPr>
        </p:nvSpPr>
        <p:spPr>
          <a:xfrm>
            <a:off x="-360" y="6597720"/>
            <a:ext cx="4024440" cy="38736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3"/>
          </p:nvPr>
        </p:nvSpPr>
        <p:spPr>
          <a:xfrm>
            <a:off x="5258880" y="6597720"/>
            <a:ext cx="4024440" cy="38736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3AE1A4C-8891-4E72-924F-44DDFBD6F47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body"/>
          </p:nvPr>
        </p:nvSpPr>
        <p:spPr>
          <a:xfrm>
            <a:off x="1238400" y="3317760"/>
            <a:ext cx="6806880" cy="3143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 type="sldImg"/>
          </p:nvPr>
        </p:nvSpPr>
        <p:spPr>
          <a:xfrm>
            <a:off x="2895480" y="495360"/>
            <a:ext cx="3492720" cy="261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5"/>
          <p:cNvSpPr/>
          <p:nvPr/>
        </p:nvSpPr>
        <p:spPr>
          <a:xfrm>
            <a:off x="5259240" y="6597720"/>
            <a:ext cx="40244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DBC95C1-AFE4-4B0A-BA01-612B6E2D683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2895480" y="49536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1238400" y="3317760"/>
            <a:ext cx="68068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"/>
          <p:cNvSpPr/>
          <p:nvPr/>
        </p:nvSpPr>
        <p:spPr>
          <a:xfrm>
            <a:off x="0" y="0"/>
            <a:ext cx="40244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eronautical Information in the 21st Century, CHAIN Awareness Workshop Mal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0" y="6597720"/>
            <a:ext cx="40244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resented by Werner Kurz, Jeppes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7"/>
          <p:cNvSpPr/>
          <p:nvPr/>
        </p:nvSpPr>
        <p:spPr>
          <a:xfrm>
            <a:off x="5259240" y="6597720"/>
            <a:ext cx="40244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063DD3A-6054-4803-8F96-7A73A6AC459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36600" y="3319200"/>
            <a:ext cx="6810480" cy="31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0" y="0"/>
            <a:ext cx="40244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eronautical Information in the 21st Century, CHAIN Awareness Workshop Mal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0" y="6597720"/>
            <a:ext cx="40244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resented by Werner Kurz, Jeppes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7"/>
          <p:cNvSpPr/>
          <p:nvPr/>
        </p:nvSpPr>
        <p:spPr>
          <a:xfrm>
            <a:off x="5259240" y="6597720"/>
            <a:ext cx="40244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A73CEC5-FCA0-4CF6-87E1-384C98B548C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236600" y="3319200"/>
            <a:ext cx="6810480" cy="31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40244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eronautical Information in the 21st Century, CHAIN Awareness Workshop Mal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6"/>
          <p:cNvSpPr/>
          <p:nvPr/>
        </p:nvSpPr>
        <p:spPr>
          <a:xfrm>
            <a:off x="0" y="6597720"/>
            <a:ext cx="40244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resented by Werner Kurz, Jeppes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7"/>
          <p:cNvSpPr/>
          <p:nvPr/>
        </p:nvSpPr>
        <p:spPr>
          <a:xfrm>
            <a:off x="5259240" y="6597720"/>
            <a:ext cx="40244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AEFA107-0146-4660-87F7-F0070062955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1236600" y="3319200"/>
            <a:ext cx="6810480" cy="31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5"/>
          <p:cNvSpPr/>
          <p:nvPr/>
        </p:nvSpPr>
        <p:spPr>
          <a:xfrm>
            <a:off x="5259240" y="6597720"/>
            <a:ext cx="40244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4394A12-C3C4-4F3A-81A0-C8A49E2BA1B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2895480" y="49536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1238400" y="3317760"/>
            <a:ext cx="68068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5259240" y="6597720"/>
            <a:ext cx="40244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CA64E4B-5FFD-4904-B7E6-86D069519C46}" type="slidenum">
              <a:rPr b="0" i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490920" cy="26175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1238400" y="3315960"/>
            <a:ext cx="6806880" cy="31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0" y="0"/>
            <a:ext cx="40244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eronautical Information in the 21st Century, CHAIN Awareness Workshop Mal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0" y="6597720"/>
            <a:ext cx="40244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resented by Werner Kurz, Jeppes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5259240" y="6597720"/>
            <a:ext cx="40244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E40BC1C-D2B3-47A0-9C83-6049869C4B4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1236600" y="3319200"/>
            <a:ext cx="6810480" cy="31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2"/>
          <p:cNvSpPr/>
          <p:nvPr/>
        </p:nvSpPr>
        <p:spPr>
          <a:xfrm>
            <a:off x="0" y="0"/>
            <a:ext cx="40244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eronautical Information in the 21st Century, CHAIN Awareness Workshop Mal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0" y="6597720"/>
            <a:ext cx="40244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resented by Werner Kurz, Jeppes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5259240" y="6597720"/>
            <a:ext cx="40244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01E797F-9908-4E41-9996-0B602A7C48A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1236600" y="3319200"/>
            <a:ext cx="6810480" cy="31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2"/>
          <p:cNvSpPr/>
          <p:nvPr/>
        </p:nvSpPr>
        <p:spPr>
          <a:xfrm>
            <a:off x="0" y="0"/>
            <a:ext cx="40244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eronautical Information in the 21st Century, CHAIN Awareness Workshop Mal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6"/>
          <p:cNvSpPr/>
          <p:nvPr/>
        </p:nvSpPr>
        <p:spPr>
          <a:xfrm>
            <a:off x="0" y="6597720"/>
            <a:ext cx="40244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resented by Werner Kurz, Jeppes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5259240" y="6597720"/>
            <a:ext cx="40244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BE69CFA-9102-458B-9EE0-912338A0753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1236600" y="3319200"/>
            <a:ext cx="6810480" cy="31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CBB24-6647-4007-A55B-D15D4C4B55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47480" y="1692000"/>
            <a:ext cx="834516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7480" y="3136680"/>
            <a:ext cx="834516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965B7-9B3A-48F9-99E6-70CFD6BC67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7480" y="169200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3920" y="169200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47480" y="313668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3920" y="313668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92882-B069-464F-97D1-225235357C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47480" y="1692000"/>
            <a:ext cx="26870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9160" y="1692000"/>
            <a:ext cx="26870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1200" y="1692000"/>
            <a:ext cx="26870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7480" y="3136680"/>
            <a:ext cx="26870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9160" y="3136680"/>
            <a:ext cx="26870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1200" y="3136680"/>
            <a:ext cx="26870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C3831-3AA8-491B-854C-D02A065329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67F84-E653-4329-AC5D-73166A46C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47480" y="1692000"/>
            <a:ext cx="8345160" cy="27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600D0-391D-4CB5-8868-78BB2831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7480" y="1692000"/>
            <a:ext cx="8345160" cy="27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73A52-3238-44AB-84A4-9D1B218D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47480" y="1692000"/>
            <a:ext cx="4072320" cy="27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3920" y="1692000"/>
            <a:ext cx="4072320" cy="27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3CC7E-DF45-436C-A60D-A0D31FFD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B232A-FD8D-42B0-A906-EADC1CF4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47480" y="288000"/>
            <a:ext cx="834516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796B9-DA9F-41DD-8BE0-2DA97F29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7480" y="169200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3920" y="1692000"/>
            <a:ext cx="4072320" cy="27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7480" y="313668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C3FB9-B103-4CBD-AD4E-A9ADF0C9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47480" y="1692000"/>
            <a:ext cx="8345160" cy="27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99920-E372-40B8-B1D1-18C70F0AB6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7480" y="1692000"/>
            <a:ext cx="4072320" cy="27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3920" y="169200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3920" y="313668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63CCD-73C6-4D9A-9242-3D107BC4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7480" y="169200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3920" y="169200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47480" y="3136680"/>
            <a:ext cx="834516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33CA9-6334-4052-B80F-18C7ACBF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47480" y="1692000"/>
            <a:ext cx="834516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7480" y="3136680"/>
            <a:ext cx="834516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1191A-28A1-4BCB-9FF3-091C57A1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7480" y="169200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3920" y="169200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47480" y="313668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3920" y="313668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AF1B6-4EA5-46BC-8243-4E879110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47480" y="1692000"/>
            <a:ext cx="26870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9160" y="1692000"/>
            <a:ext cx="26870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1200" y="1692000"/>
            <a:ext cx="26870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7480" y="3136680"/>
            <a:ext cx="26870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9160" y="3136680"/>
            <a:ext cx="26870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91200" y="3136680"/>
            <a:ext cx="26870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73EE2-E4C0-41D5-BBE1-F8B963D31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47480" y="1692000"/>
            <a:ext cx="8345160" cy="27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7480" y="1692000"/>
            <a:ext cx="8345160" cy="27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7480" y="1692000"/>
            <a:ext cx="4072320" cy="27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23920" y="1692000"/>
            <a:ext cx="4072320" cy="27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47480" y="1692000"/>
            <a:ext cx="8345160" cy="27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50813-AB27-40E3-9AF5-D5751DE692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47480" y="288000"/>
            <a:ext cx="834516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47480" y="169200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23920" y="1692000"/>
            <a:ext cx="4072320" cy="27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47480" y="313668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7480" y="1692000"/>
            <a:ext cx="4072320" cy="27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23920" y="169200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23920" y="313668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7480" y="169200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23920" y="169200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47480" y="3136680"/>
            <a:ext cx="834516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7480" y="1692000"/>
            <a:ext cx="834516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7480" y="3136680"/>
            <a:ext cx="834516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7480" y="169200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3920" y="169200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47480" y="313668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23920" y="313668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47480" y="1692000"/>
            <a:ext cx="26870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69160" y="1692000"/>
            <a:ext cx="26870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1200" y="1692000"/>
            <a:ext cx="26870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47480" y="3136680"/>
            <a:ext cx="26870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69160" y="3136680"/>
            <a:ext cx="26870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91200" y="3136680"/>
            <a:ext cx="26870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ECDD62-DF25-49D9-9066-44EEBECC53C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47480" y="1692000"/>
            <a:ext cx="8345160" cy="27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7B42A4-9079-42CE-8724-D983D109782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7480" y="1692000"/>
            <a:ext cx="8345160" cy="27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786304-4C74-4A2B-8B99-CA3FCD1FA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7480" y="1692000"/>
            <a:ext cx="4072320" cy="27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3920" y="1692000"/>
            <a:ext cx="4072320" cy="27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4EEF4-0403-4635-B909-B7DCBE1C7F9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47480" y="1692000"/>
            <a:ext cx="4072320" cy="27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23920" y="1692000"/>
            <a:ext cx="4072320" cy="27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C94F38-5A32-45D0-AE1C-5964A629FCC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70C208-1A5F-45F8-B767-DA6E4C4F5BF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47480" y="288000"/>
            <a:ext cx="834516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59E998-D0D5-4DD7-8F26-488C6E66BEA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47480" y="169200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23920" y="1692000"/>
            <a:ext cx="4072320" cy="27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47480" y="313668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5C5C42-45EA-4628-A86E-078E2CE7D4A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7480" y="1692000"/>
            <a:ext cx="4072320" cy="27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23920" y="169200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23920" y="313668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84A955-C147-4E60-A9D4-B6091D7A95A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7480" y="169200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23920" y="169200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47480" y="3136680"/>
            <a:ext cx="834516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C51F7E-6DF4-43AD-884A-345EF38BECE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7480" y="1692000"/>
            <a:ext cx="834516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47480" y="3136680"/>
            <a:ext cx="834516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4E47D8-7B3D-46A0-B4B8-1B3027A4991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47480" y="169200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23920" y="169200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47480" y="313668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23920" y="313668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B8C0A1-50D6-4813-AD97-243251DFB11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47480" y="1692000"/>
            <a:ext cx="26870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69160" y="1692000"/>
            <a:ext cx="26870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91200" y="1692000"/>
            <a:ext cx="26870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47480" y="3136680"/>
            <a:ext cx="26870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69160" y="3136680"/>
            <a:ext cx="26870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91200" y="3136680"/>
            <a:ext cx="26870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303868-805B-4131-BA8C-5233E2484B6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49E51-44AE-476F-8113-0B54ABA030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D8FA0-963C-4103-9D50-75710259C91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47480" y="1692000"/>
            <a:ext cx="8345160" cy="27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EAB0A-76C5-4871-99B0-EDDC0D77C8D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47480" y="1692000"/>
            <a:ext cx="8345160" cy="27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5F3B8-BE54-43B3-B301-75C3C7EFF84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47480" y="1692000"/>
            <a:ext cx="4072320" cy="27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23920" y="1692000"/>
            <a:ext cx="4072320" cy="27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A9EC7-9C18-46AD-A280-04B63B0C9F7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EA112-4851-49CE-B3B8-CBE04EA7EE1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47480" y="288000"/>
            <a:ext cx="834516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D4CFC-BC44-4E44-9D17-EE6D94061D4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47480" y="169200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23920" y="1692000"/>
            <a:ext cx="4072320" cy="27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7480" y="313668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B3FAE-D408-4095-BA83-E4DD1C5C3F7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7480" y="1692000"/>
            <a:ext cx="4072320" cy="27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23920" y="169200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723920" y="313668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E0238-E914-4083-A6F1-0EBC0196EAD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47480" y="169200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23920" y="169200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47480" y="3136680"/>
            <a:ext cx="834516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3BD41-84B0-45C4-A17D-0647DF32454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47480" y="1692000"/>
            <a:ext cx="834516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47480" y="3136680"/>
            <a:ext cx="834516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C078D-2D2E-4F5B-8921-608870BED25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47480" y="169200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23920" y="169200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47480" y="313668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723920" y="313668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A0C8F-9798-4586-80A6-3E1F4EDBB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47480" y="288000"/>
            <a:ext cx="834516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7D791-B1ED-4289-8FCF-AD1A8E28FD1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7480" y="1692000"/>
            <a:ext cx="26870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69160" y="1692000"/>
            <a:ext cx="26870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1200" y="1692000"/>
            <a:ext cx="26870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47480" y="3136680"/>
            <a:ext cx="26870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69160" y="3136680"/>
            <a:ext cx="26870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91200" y="3136680"/>
            <a:ext cx="26870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05928-1410-434F-9733-C5B748463B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7480" y="169200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3920" y="1692000"/>
            <a:ext cx="4072320" cy="27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7480" y="313668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57F46-8428-43BD-920C-5DBEF156B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7480" y="1692000"/>
            <a:ext cx="4072320" cy="27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3920" y="169200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3920" y="313668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D655C-92E2-4D41-B220-DF7C32F102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7480" y="169200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3920" y="1692000"/>
            <a:ext cx="407232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7480" y="3136680"/>
            <a:ext cx="834516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8798C-868D-4787-AB3D-1EF347285A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-19080"/>
            <a:ext cx="9144000" cy="1562040"/>
          </a:xfrm>
          <a:prstGeom prst="rect">
            <a:avLst/>
          </a:prstGeom>
          <a:gradFill rotWithShape="0">
            <a:gsLst>
              <a:gs pos="0">
                <a:srgbClr val="005daa"/>
              </a:gs>
              <a:gs pos="100000">
                <a:srgbClr val="3a75c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2" descr="bar"/>
          <p:cNvPicPr/>
          <p:nvPr/>
        </p:nvPicPr>
        <p:blipFill>
          <a:blip r:embed="rId2"/>
          <a:stretch/>
        </p:blipFill>
        <p:spPr>
          <a:xfrm>
            <a:off x="0" y="1130400"/>
            <a:ext cx="6840360" cy="382320"/>
          </a:xfrm>
          <a:prstGeom prst="rect">
            <a:avLst/>
          </a:prstGeom>
          <a:ln w="0">
            <a:noFill/>
          </a:ln>
        </p:spPr>
      </p:pic>
      <p:sp>
        <p:nvSpPr>
          <p:cNvPr id="2" name="Freeform 23"/>
          <p:cNvSpPr/>
          <p:nvPr/>
        </p:nvSpPr>
        <p:spPr>
          <a:xfrm>
            <a:off x="6418440" y="1095480"/>
            <a:ext cx="2725560" cy="431640"/>
          </a:xfrm>
          <a:custGeom>
            <a:avLst/>
            <a:gdLst>
              <a:gd name="textAreaLeft" fmla="*/ 0 w 2725560"/>
              <a:gd name="textAreaRight" fmla="*/ 2725920 w 27255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717" h="272">
                <a:moveTo>
                  <a:pt x="1717" y="0"/>
                </a:moveTo>
                <a:lnTo>
                  <a:pt x="282" y="0"/>
                </a:lnTo>
                <a:lnTo>
                  <a:pt x="0" y="272"/>
                </a:lnTo>
                <a:lnTo>
                  <a:pt x="1714" y="272"/>
                </a:lnTo>
                <a:lnTo>
                  <a:pt x="1717" y="0"/>
                </a:lnTo>
                <a:close/>
              </a:path>
            </a:pathLst>
          </a:custGeom>
          <a:solidFill>
            <a:srgbClr val="3873c2"/>
          </a:solidFill>
          <a:ln w="12600">
            <a:solidFill>
              <a:srgbClr val="3571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15"/>
          <p:cNvSpPr/>
          <p:nvPr/>
        </p:nvSpPr>
        <p:spPr>
          <a:xfrm>
            <a:off x="6427800" y="1130400"/>
            <a:ext cx="2725560" cy="431640"/>
          </a:xfrm>
          <a:custGeom>
            <a:avLst/>
            <a:gdLst>
              <a:gd name="textAreaLeft" fmla="*/ 0 w 2725560"/>
              <a:gd name="textAreaRight" fmla="*/ 2725920 w 27255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717" h="272">
                <a:moveTo>
                  <a:pt x="1717" y="0"/>
                </a:moveTo>
                <a:lnTo>
                  <a:pt x="282" y="0"/>
                </a:lnTo>
                <a:lnTo>
                  <a:pt x="0" y="272"/>
                </a:lnTo>
                <a:lnTo>
                  <a:pt x="1714" y="272"/>
                </a:lnTo>
                <a:lnTo>
                  <a:pt x="171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14" descr="Jep_Boeing_Horiz_2color"/>
          <p:cNvPicPr/>
          <p:nvPr/>
        </p:nvPicPr>
        <p:blipFill>
          <a:blip r:embed="rId3"/>
          <a:stretch/>
        </p:blipFill>
        <p:spPr>
          <a:xfrm>
            <a:off x="6878520" y="1271520"/>
            <a:ext cx="2124360" cy="2444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47480" y="1692000"/>
            <a:ext cx="8345160" cy="27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9920" indent="-169920">
              <a:spcBef>
                <a:spcPts val="550"/>
              </a:spcBef>
              <a:buClr>
                <a:srgbClr val="005daa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6200" indent="-204840">
              <a:spcBef>
                <a:spcPts val="550"/>
              </a:spcBef>
              <a:buClr>
                <a:srgbClr val="005daa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85760">
              <a:spcBef>
                <a:spcPts val="550"/>
              </a:spcBef>
              <a:buClr>
                <a:srgbClr val="005daa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792000" indent="-163440">
              <a:spcBef>
                <a:spcPts val="550"/>
              </a:spcBef>
              <a:buClr>
                <a:srgbClr val="005daa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69920" indent="-163440">
              <a:spcBef>
                <a:spcPts val="550"/>
              </a:spcBef>
              <a:buClr>
                <a:srgbClr val="005daa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69920" indent="-163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69920" indent="-163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904080" y="6532560"/>
            <a:ext cx="1782720" cy="246240"/>
          </a:xfrm>
          <a:prstGeom prst="rect">
            <a:avLst/>
          </a:prstGeom>
          <a:noFill/>
          <a:ln w="0">
            <a:noFill/>
          </a:ln>
        </p:spPr>
        <p:txBody>
          <a:bodyPr lIns="9000" rIns="9000" tIns="9000" bIns="90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239EE44-893F-42E0-8EB7-7E67B56E71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971800" y="6539040"/>
            <a:ext cx="32004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JEPPESEN PROPRIETA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3CA0-D672-43B2-A082-639D252743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daa"/>
            </a:gs>
            <a:gs pos="100000">
              <a:srgbClr val="3a75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1" descr="PPT header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498680"/>
          </a:xfrm>
          <a:prstGeom prst="rect">
            <a:avLst/>
          </a:prstGeom>
          <a:ln w="0">
            <a:noFill/>
          </a:ln>
        </p:spPr>
      </p:pic>
      <p:sp>
        <p:nvSpPr>
          <p:cNvPr id="87" name="Freeform 23"/>
          <p:cNvSpPr/>
          <p:nvPr/>
        </p:nvSpPr>
        <p:spPr>
          <a:xfrm>
            <a:off x="6435720" y="1090440"/>
            <a:ext cx="2725920" cy="432000"/>
          </a:xfrm>
          <a:custGeom>
            <a:avLst/>
            <a:gdLst>
              <a:gd name="textAreaLeft" fmla="*/ 0 w 2725920"/>
              <a:gd name="textAreaRight" fmla="*/ 2726280 w 272592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1717" h="272">
                <a:moveTo>
                  <a:pt x="1717" y="0"/>
                </a:moveTo>
                <a:lnTo>
                  <a:pt x="282" y="0"/>
                </a:lnTo>
                <a:lnTo>
                  <a:pt x="0" y="272"/>
                </a:lnTo>
                <a:lnTo>
                  <a:pt x="1714" y="272"/>
                </a:lnTo>
                <a:lnTo>
                  <a:pt x="1717" y="0"/>
                </a:lnTo>
                <a:close/>
              </a:path>
            </a:pathLst>
          </a:custGeom>
          <a:solidFill>
            <a:srgbClr val="1460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2" descr="Jep_Boeing_Horiz_Rev_Blu"/>
          <p:cNvPicPr/>
          <p:nvPr/>
        </p:nvPicPr>
        <p:blipFill>
          <a:blip r:embed="rId3"/>
          <a:stretch/>
        </p:blipFill>
        <p:spPr>
          <a:xfrm>
            <a:off x="5943600" y="6178680"/>
            <a:ext cx="2806560" cy="320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47480" y="1692000"/>
            <a:ext cx="8345160" cy="27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9920" indent="-169920">
              <a:spcBef>
                <a:spcPts val="550"/>
              </a:spcBef>
              <a:buClr>
                <a:srgbClr val="005daa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6200" indent="-204840">
              <a:spcBef>
                <a:spcPts val="550"/>
              </a:spcBef>
              <a:buClr>
                <a:srgbClr val="005daa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85760">
              <a:spcBef>
                <a:spcPts val="550"/>
              </a:spcBef>
              <a:buClr>
                <a:srgbClr val="005daa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792000" indent="-163440">
              <a:spcBef>
                <a:spcPts val="550"/>
              </a:spcBef>
              <a:buClr>
                <a:srgbClr val="005daa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69920" indent="-163440">
              <a:spcBef>
                <a:spcPts val="550"/>
              </a:spcBef>
              <a:buClr>
                <a:srgbClr val="005daa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69920" indent="-163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69920" indent="-163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6"/>
          </p:nvPr>
        </p:nvSpPr>
        <p:spPr>
          <a:xfrm>
            <a:off x="2971800" y="6539040"/>
            <a:ext cx="32004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JEPPESEN PROPRIETA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-19080"/>
            <a:ext cx="9144000" cy="1562040"/>
          </a:xfrm>
          <a:prstGeom prst="rect">
            <a:avLst/>
          </a:prstGeom>
          <a:gradFill rotWithShape="0">
            <a:gsLst>
              <a:gs pos="0">
                <a:srgbClr val="005daa"/>
              </a:gs>
              <a:gs pos="100000">
                <a:srgbClr val="3a75c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2" descr="bar"/>
          <p:cNvPicPr/>
          <p:nvPr/>
        </p:nvPicPr>
        <p:blipFill>
          <a:blip r:embed="rId2"/>
          <a:stretch/>
        </p:blipFill>
        <p:spPr>
          <a:xfrm>
            <a:off x="0" y="1130400"/>
            <a:ext cx="6840360" cy="382320"/>
          </a:xfrm>
          <a:prstGeom prst="rect">
            <a:avLst/>
          </a:prstGeom>
          <a:ln w="0">
            <a:noFill/>
          </a:ln>
        </p:spPr>
      </p:pic>
      <p:sp>
        <p:nvSpPr>
          <p:cNvPr id="130" name="Freeform 23"/>
          <p:cNvSpPr/>
          <p:nvPr/>
        </p:nvSpPr>
        <p:spPr>
          <a:xfrm>
            <a:off x="6418440" y="1095480"/>
            <a:ext cx="2725560" cy="431640"/>
          </a:xfrm>
          <a:custGeom>
            <a:avLst/>
            <a:gdLst>
              <a:gd name="textAreaLeft" fmla="*/ 0 w 2725560"/>
              <a:gd name="textAreaRight" fmla="*/ 2725920 w 27255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717" h="272">
                <a:moveTo>
                  <a:pt x="1717" y="0"/>
                </a:moveTo>
                <a:lnTo>
                  <a:pt x="282" y="0"/>
                </a:lnTo>
                <a:lnTo>
                  <a:pt x="0" y="272"/>
                </a:lnTo>
                <a:lnTo>
                  <a:pt x="1714" y="272"/>
                </a:lnTo>
                <a:lnTo>
                  <a:pt x="1717" y="0"/>
                </a:lnTo>
                <a:close/>
              </a:path>
            </a:pathLst>
          </a:custGeom>
          <a:solidFill>
            <a:srgbClr val="3873c2"/>
          </a:solidFill>
          <a:ln w="12600">
            <a:solidFill>
              <a:srgbClr val="3571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15"/>
          <p:cNvSpPr/>
          <p:nvPr/>
        </p:nvSpPr>
        <p:spPr>
          <a:xfrm>
            <a:off x="6427800" y="1130400"/>
            <a:ext cx="2725560" cy="431640"/>
          </a:xfrm>
          <a:custGeom>
            <a:avLst/>
            <a:gdLst>
              <a:gd name="textAreaLeft" fmla="*/ 0 w 2725560"/>
              <a:gd name="textAreaRight" fmla="*/ 2725920 w 27255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717" h="272">
                <a:moveTo>
                  <a:pt x="1717" y="0"/>
                </a:moveTo>
                <a:lnTo>
                  <a:pt x="282" y="0"/>
                </a:lnTo>
                <a:lnTo>
                  <a:pt x="0" y="272"/>
                </a:lnTo>
                <a:lnTo>
                  <a:pt x="1714" y="272"/>
                </a:lnTo>
                <a:lnTo>
                  <a:pt x="171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4" descr="Jep_Boeing_Horiz_2color"/>
          <p:cNvPicPr/>
          <p:nvPr/>
        </p:nvPicPr>
        <p:blipFill>
          <a:blip r:embed="rId3"/>
          <a:stretch/>
        </p:blipFill>
        <p:spPr>
          <a:xfrm>
            <a:off x="6878520" y="1271520"/>
            <a:ext cx="2124360" cy="2444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47480" y="1692000"/>
            <a:ext cx="8345160" cy="27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9920" indent="-169920">
              <a:spcBef>
                <a:spcPts val="550"/>
              </a:spcBef>
              <a:buClr>
                <a:srgbClr val="005daa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6200" indent="-204840">
              <a:spcBef>
                <a:spcPts val="550"/>
              </a:spcBef>
              <a:buClr>
                <a:srgbClr val="005daa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85760">
              <a:spcBef>
                <a:spcPts val="550"/>
              </a:spcBef>
              <a:buClr>
                <a:srgbClr val="005daa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792000" indent="-163440">
              <a:spcBef>
                <a:spcPts val="550"/>
              </a:spcBef>
              <a:buClr>
                <a:srgbClr val="005daa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69920" indent="-163440">
              <a:spcBef>
                <a:spcPts val="550"/>
              </a:spcBef>
              <a:buClr>
                <a:srgbClr val="005daa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69920" indent="-163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69920" indent="-163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7"/>
          </p:nvPr>
        </p:nvSpPr>
        <p:spPr>
          <a:xfrm>
            <a:off x="6904080" y="6532560"/>
            <a:ext cx="1782720" cy="246240"/>
          </a:xfrm>
          <a:prstGeom prst="rect">
            <a:avLst/>
          </a:prstGeom>
          <a:noFill/>
          <a:ln w="0">
            <a:noFill/>
          </a:ln>
        </p:spPr>
        <p:txBody>
          <a:bodyPr lIns="9000" rIns="9000" tIns="9000" bIns="90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1E6C1CE0-0D96-4F2C-9367-28B592732B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2971800" y="6539040"/>
            <a:ext cx="32004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JEPPESEN PROPRIET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0" y="-19080"/>
            <a:ext cx="9144000" cy="1562040"/>
          </a:xfrm>
          <a:prstGeom prst="rect">
            <a:avLst/>
          </a:prstGeom>
          <a:gradFill rotWithShape="0">
            <a:gsLst>
              <a:gs pos="0">
                <a:srgbClr val="005daa"/>
              </a:gs>
              <a:gs pos="100000">
                <a:srgbClr val="3a75c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2" descr="bar"/>
          <p:cNvPicPr/>
          <p:nvPr/>
        </p:nvPicPr>
        <p:blipFill>
          <a:blip r:embed="rId2"/>
          <a:stretch/>
        </p:blipFill>
        <p:spPr>
          <a:xfrm>
            <a:off x="0" y="1130400"/>
            <a:ext cx="6840360" cy="382320"/>
          </a:xfrm>
          <a:prstGeom prst="rect">
            <a:avLst/>
          </a:prstGeom>
          <a:ln w="0">
            <a:noFill/>
          </a:ln>
        </p:spPr>
      </p:pic>
      <p:sp>
        <p:nvSpPr>
          <p:cNvPr id="175" name="Freeform 23"/>
          <p:cNvSpPr/>
          <p:nvPr/>
        </p:nvSpPr>
        <p:spPr>
          <a:xfrm>
            <a:off x="6418440" y="1095480"/>
            <a:ext cx="2725560" cy="431640"/>
          </a:xfrm>
          <a:custGeom>
            <a:avLst/>
            <a:gdLst>
              <a:gd name="textAreaLeft" fmla="*/ 0 w 2725560"/>
              <a:gd name="textAreaRight" fmla="*/ 2725920 w 27255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717" h="272">
                <a:moveTo>
                  <a:pt x="1717" y="0"/>
                </a:moveTo>
                <a:lnTo>
                  <a:pt x="282" y="0"/>
                </a:lnTo>
                <a:lnTo>
                  <a:pt x="0" y="272"/>
                </a:lnTo>
                <a:lnTo>
                  <a:pt x="1714" y="272"/>
                </a:lnTo>
                <a:lnTo>
                  <a:pt x="1717" y="0"/>
                </a:lnTo>
                <a:close/>
              </a:path>
            </a:pathLst>
          </a:custGeom>
          <a:solidFill>
            <a:srgbClr val="3873c2"/>
          </a:solidFill>
          <a:ln w="12600">
            <a:solidFill>
              <a:srgbClr val="3571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5"/>
          <p:cNvSpPr/>
          <p:nvPr/>
        </p:nvSpPr>
        <p:spPr>
          <a:xfrm>
            <a:off x="6427800" y="1130400"/>
            <a:ext cx="2725560" cy="431640"/>
          </a:xfrm>
          <a:custGeom>
            <a:avLst/>
            <a:gdLst>
              <a:gd name="textAreaLeft" fmla="*/ 0 w 2725560"/>
              <a:gd name="textAreaRight" fmla="*/ 2725920 w 27255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717" h="272">
                <a:moveTo>
                  <a:pt x="1717" y="0"/>
                </a:moveTo>
                <a:lnTo>
                  <a:pt x="282" y="0"/>
                </a:lnTo>
                <a:lnTo>
                  <a:pt x="0" y="272"/>
                </a:lnTo>
                <a:lnTo>
                  <a:pt x="1714" y="272"/>
                </a:lnTo>
                <a:lnTo>
                  <a:pt x="171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4" descr="Jep_Boeing_Horiz_2color"/>
          <p:cNvPicPr/>
          <p:nvPr/>
        </p:nvPicPr>
        <p:blipFill>
          <a:blip r:embed="rId3"/>
          <a:stretch/>
        </p:blipFill>
        <p:spPr>
          <a:xfrm>
            <a:off x="6878520" y="1271520"/>
            <a:ext cx="2124360" cy="2444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7480" y="288000"/>
            <a:ext cx="834516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47480" y="1692000"/>
            <a:ext cx="8345160" cy="27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9920" indent="-169920">
              <a:spcBef>
                <a:spcPts val="550"/>
              </a:spcBef>
              <a:buClr>
                <a:srgbClr val="005daa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6200" indent="-204840">
              <a:spcBef>
                <a:spcPts val="550"/>
              </a:spcBef>
              <a:buClr>
                <a:srgbClr val="005daa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85760">
              <a:spcBef>
                <a:spcPts val="550"/>
              </a:spcBef>
              <a:buClr>
                <a:srgbClr val="005daa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792000" indent="-163440">
              <a:spcBef>
                <a:spcPts val="550"/>
              </a:spcBef>
              <a:buClr>
                <a:srgbClr val="005daa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69920" indent="-163440">
              <a:spcBef>
                <a:spcPts val="550"/>
              </a:spcBef>
              <a:buClr>
                <a:srgbClr val="005daa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69920" indent="-163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69920" indent="-163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9"/>
          </p:nvPr>
        </p:nvSpPr>
        <p:spPr>
          <a:xfrm>
            <a:off x="6904080" y="6532560"/>
            <a:ext cx="1782720" cy="246240"/>
          </a:xfrm>
          <a:prstGeom prst="rect">
            <a:avLst/>
          </a:prstGeom>
          <a:noFill/>
          <a:ln w="0">
            <a:noFill/>
          </a:ln>
        </p:spPr>
        <p:txBody>
          <a:bodyPr lIns="9000" rIns="9000" tIns="9000" bIns="90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44C89F6C-08DF-41E6-80F9-5714A654C3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0"/>
          </p:nvPr>
        </p:nvSpPr>
        <p:spPr>
          <a:xfrm>
            <a:off x="2971800" y="6539040"/>
            <a:ext cx="32004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JEPPESEN PROPRIETA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9"/>
          <p:cNvSpPr/>
          <p:nvPr/>
        </p:nvSpPr>
        <p:spPr>
          <a:xfrm>
            <a:off x="2971800" y="6539040"/>
            <a:ext cx="32004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JEPPESEN PROPRIE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58720" y="1757160"/>
            <a:ext cx="8010720" cy="22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ross-Polar and Trans-East Airways in Database and Chart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593640" y="4189320"/>
            <a:ext cx="834552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olker Meye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Manager International Relation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PWG/9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Montreal, 28 - 30 April, 2010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Box 30"/>
          <p:cNvSpPr/>
          <p:nvPr/>
        </p:nvSpPr>
        <p:spPr>
          <a:xfrm>
            <a:off x="1268280" y="1530360"/>
            <a:ext cx="654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istory of New ATS Routes from LISKI and PILUN (G912, B969), eff. 30 JUL 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10" descr=""/>
          <p:cNvPicPr/>
          <p:nvPr/>
        </p:nvPicPr>
        <p:blipFill>
          <a:blip r:embed="rId1"/>
          <a:stretch/>
        </p:blipFill>
        <p:spPr>
          <a:xfrm>
            <a:off x="1455840" y="2286000"/>
            <a:ext cx="6472080" cy="450864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21"/>
          <p:cNvSpPr/>
          <p:nvPr/>
        </p:nvSpPr>
        <p:spPr>
          <a:xfrm>
            <a:off x="111240" y="136440"/>
            <a:ext cx="8869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ppesen Chart-Produc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4"/>
          <p:cNvSpPr/>
          <p:nvPr/>
        </p:nvSpPr>
        <p:spPr>
          <a:xfrm>
            <a:off x="2921400" y="418788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 J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"/>
          <p:cNvSpPr/>
          <p:nvPr/>
        </p:nvSpPr>
        <p:spPr>
          <a:xfrm>
            <a:off x="457200" y="4862520"/>
            <a:ext cx="813744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3"/>
          <p:cNvSpPr/>
          <p:nvPr/>
        </p:nvSpPr>
        <p:spPr>
          <a:xfrm>
            <a:off x="4464000" y="4187880"/>
            <a:ext cx="9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30 J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1818360" y="418788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2 J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5"/>
          <p:cNvSpPr/>
          <p:nvPr/>
        </p:nvSpPr>
        <p:spPr>
          <a:xfrm>
            <a:off x="2174760" y="4516560"/>
            <a:ext cx="0" cy="98892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6"/>
          <p:cNvSpPr/>
          <p:nvPr/>
        </p:nvSpPr>
        <p:spPr>
          <a:xfrm>
            <a:off x="4956120" y="4513320"/>
            <a:ext cx="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8"/>
          <p:cNvSpPr/>
          <p:nvPr/>
        </p:nvSpPr>
        <p:spPr>
          <a:xfrm>
            <a:off x="674640" y="4516560"/>
            <a:ext cx="0" cy="9889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9"/>
          <p:cNvSpPr/>
          <p:nvPr/>
        </p:nvSpPr>
        <p:spPr>
          <a:xfrm>
            <a:off x="-131760" y="5724360"/>
            <a:ext cx="159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ub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1"/>
          <p:cNvSpPr/>
          <p:nvPr/>
        </p:nvSpPr>
        <p:spPr>
          <a:xfrm>
            <a:off x="2200320" y="5218200"/>
            <a:ext cx="2743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4"/>
          <p:cNvSpPr/>
          <p:nvPr/>
        </p:nvSpPr>
        <p:spPr>
          <a:xfrm>
            <a:off x="853560" y="4923000"/>
            <a:ext cx="104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14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Shi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5"/>
          <p:cNvSpPr/>
          <p:nvPr/>
        </p:nvSpPr>
        <p:spPr>
          <a:xfrm>
            <a:off x="20520" y="548640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42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8"/>
          <p:cNvSpPr/>
          <p:nvPr/>
        </p:nvSpPr>
        <p:spPr>
          <a:xfrm>
            <a:off x="1671480" y="548640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-28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9"/>
          <p:cNvSpPr/>
          <p:nvPr/>
        </p:nvSpPr>
        <p:spPr>
          <a:xfrm>
            <a:off x="692280" y="5218200"/>
            <a:ext cx="1463400" cy="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0"/>
          <p:cNvSpPr/>
          <p:nvPr/>
        </p:nvSpPr>
        <p:spPr>
          <a:xfrm>
            <a:off x="1185840" y="5722920"/>
            <a:ext cx="198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Data D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to Recipient</a:t>
            </a: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23"/>
          <p:cNvSpPr/>
          <p:nvPr/>
        </p:nvSpPr>
        <p:spPr>
          <a:xfrm rot="16200000">
            <a:off x="3377520" y="5041080"/>
            <a:ext cx="380880" cy="2757600"/>
          </a:xfrm>
          <a:custGeom>
            <a:avLst/>
            <a:gdLst>
              <a:gd name="textAreaLeft" fmla="*/ 243360 w 380880"/>
              <a:gd name="textAreaRight" fmla="*/ 381240 w 380880"/>
              <a:gd name="textAreaTop" fmla="*/ 65520 h 2757600"/>
              <a:gd name="textAreaBottom" fmla="*/ 2692080 h 27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1"/>
                  <a:pt x="10800" y="1641"/>
                </a:cubicBezTo>
                <a:lnTo>
                  <a:pt x="10800" y="9159"/>
                </a:lnTo>
                <a:cubicBezTo>
                  <a:pt x="10800" y="9980"/>
                  <a:pt x="5400" y="10800"/>
                  <a:pt x="0" y="10800"/>
                </a:cubicBezTo>
                <a:cubicBezTo>
                  <a:pt x="5400" y="10800"/>
                  <a:pt x="10800" y="11621"/>
                  <a:pt x="10800" y="12441"/>
                </a:cubicBezTo>
                <a:lnTo>
                  <a:pt x="10800" y="19959"/>
                </a:lnTo>
                <a:cubicBezTo>
                  <a:pt x="10800" y="2078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4"/>
          <p:cNvSpPr/>
          <p:nvPr/>
        </p:nvSpPr>
        <p:spPr>
          <a:xfrm>
            <a:off x="3045600" y="65674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8-Day AIRAC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5"/>
          <p:cNvSpPr/>
          <p:nvPr/>
        </p:nvSpPr>
        <p:spPr>
          <a:xfrm>
            <a:off x="4154400" y="5486400"/>
            <a:ext cx="16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0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ffective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245520" y="418788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18 J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"/>
          <p:cNvSpPr/>
          <p:nvPr/>
        </p:nvSpPr>
        <p:spPr>
          <a:xfrm>
            <a:off x="3325680" y="4516560"/>
            <a:ext cx="0" cy="988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5"/>
          <p:cNvSpPr/>
          <p:nvPr/>
        </p:nvSpPr>
        <p:spPr>
          <a:xfrm>
            <a:off x="2529000" y="5486400"/>
            <a:ext cx="161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20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b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ut-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33"/>
          <p:cNvSpPr/>
          <p:nvPr/>
        </p:nvSpPr>
        <p:spPr>
          <a:xfrm>
            <a:off x="46080" y="2779560"/>
            <a:ext cx="1901880" cy="7333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15 J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IRAC Amendment received at Jeppe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7" name="Straight Arrow Connector 35"/>
          <p:cNvCxnSpPr>
            <a:stCxn id="436" idx="2"/>
          </p:cNvCxnSpPr>
          <p:nvPr/>
        </p:nvCxnSpPr>
        <p:spPr>
          <a:xfrm flipH="1">
            <a:off x="493200" y="3517920"/>
            <a:ext cx="504000" cy="707040"/>
          </a:xfrm>
          <a:prstGeom prst="straightConnector1">
            <a:avLst/>
          </a:prstGeom>
          <a:ln w="1260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438" name="TextBox 36"/>
          <p:cNvSpPr/>
          <p:nvPr/>
        </p:nvSpPr>
        <p:spPr>
          <a:xfrm>
            <a:off x="3740040" y="2779560"/>
            <a:ext cx="155592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30 J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atabase in F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9" name="Straight Arrow Connector 37"/>
          <p:cNvCxnSpPr>
            <a:stCxn id="438" idx="2"/>
            <a:endCxn id="418" idx="0"/>
          </p:cNvCxnSpPr>
          <p:nvPr/>
        </p:nvCxnSpPr>
        <p:spPr>
          <a:xfrm>
            <a:off x="4516920" y="3303720"/>
            <a:ext cx="437400" cy="8848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0" name="TextBox 38"/>
          <p:cNvSpPr/>
          <p:nvPr/>
        </p:nvSpPr>
        <p:spPr>
          <a:xfrm>
            <a:off x="7129440" y="2779560"/>
            <a:ext cx="1712880" cy="73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4 AU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ts printed and distrib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1" name="Straight Arrow Connector 39"/>
          <p:cNvCxnSpPr>
            <a:endCxn id="442" idx="0"/>
          </p:cNvCxnSpPr>
          <p:nvPr/>
        </p:nvCxnSpPr>
        <p:spPr>
          <a:xfrm>
            <a:off x="7950600" y="3524400"/>
            <a:ext cx="281880" cy="66744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43" name="TextBox 44"/>
          <p:cNvSpPr/>
          <p:nvPr/>
        </p:nvSpPr>
        <p:spPr>
          <a:xfrm>
            <a:off x="5407200" y="2779560"/>
            <a:ext cx="1550880" cy="5202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5 AU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Charts to prin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6069960" y="41846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5 A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7777440" y="4191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4 A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25"/>
          <p:cNvSpPr/>
          <p:nvPr/>
        </p:nvSpPr>
        <p:spPr>
          <a:xfrm>
            <a:off x="5589720" y="5486400"/>
            <a:ext cx="176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000">
                <a:solidFill>
                  <a:srgbClr val="ff6600"/>
                </a:solidFill>
                <a:latin typeface="Arial"/>
              </a:rPr>
              <a:t>+6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000">
                <a:solidFill>
                  <a:srgbClr val="ff6600"/>
                </a:solidFill>
                <a:latin typeface="Arial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000">
                <a:solidFill>
                  <a:srgbClr val="ff6600"/>
                </a:solidFill>
                <a:latin typeface="Arial"/>
              </a:rPr>
              <a:t>Cut-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25"/>
          <p:cNvSpPr/>
          <p:nvPr/>
        </p:nvSpPr>
        <p:spPr>
          <a:xfrm>
            <a:off x="7426440" y="5486400"/>
            <a:ext cx="161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+15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ublication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6"/>
          <p:cNvSpPr/>
          <p:nvPr/>
        </p:nvSpPr>
        <p:spPr>
          <a:xfrm>
            <a:off x="6461280" y="4516560"/>
            <a:ext cx="0" cy="9903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6"/>
          <p:cNvSpPr/>
          <p:nvPr/>
        </p:nvSpPr>
        <p:spPr>
          <a:xfrm>
            <a:off x="8226360" y="4516560"/>
            <a:ext cx="0" cy="99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Straight Arrow Connector 37"/>
          <p:cNvCxnSpPr>
            <a:endCxn id="444" idx="0"/>
          </p:cNvCxnSpPr>
          <p:nvPr/>
        </p:nvCxnSpPr>
        <p:spPr>
          <a:xfrm>
            <a:off x="6148800" y="3316320"/>
            <a:ext cx="320040" cy="869040"/>
          </a:xfrm>
          <a:prstGeom prst="straightConnector1">
            <a:avLst/>
          </a:prstGeom>
          <a:ln w="12600">
            <a:solidFill>
              <a:srgbClr val="ff6600"/>
            </a:solidFill>
            <a:miter/>
            <a:tailEnd len="med" type="arrow" w="med"/>
          </a:ln>
        </p:spPr>
      </p:cxnSp>
      <p:sp>
        <p:nvSpPr>
          <p:cNvPr id="450" name="Text Box 21"/>
          <p:cNvSpPr/>
          <p:nvPr/>
        </p:nvSpPr>
        <p:spPr>
          <a:xfrm>
            <a:off x="111240" y="136440"/>
            <a:ext cx="8869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ppesen Chart-Produc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9"/>
          <p:cNvSpPr/>
          <p:nvPr/>
        </p:nvSpPr>
        <p:spPr>
          <a:xfrm>
            <a:off x="4419720" y="6539040"/>
            <a:ext cx="32004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EPPESEN PROPRIE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40"/>
          <p:cNvSpPr/>
          <p:nvPr/>
        </p:nvSpPr>
        <p:spPr>
          <a:xfrm>
            <a:off x="1268280" y="1530360"/>
            <a:ext cx="654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istory of New ATS Routes from LISKI and PILUN (G912, B969), eff. 30 JUL 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39"/>
          <p:cNvSpPr/>
          <p:nvPr/>
        </p:nvSpPr>
        <p:spPr>
          <a:xfrm>
            <a:off x="2035080" y="2776680"/>
            <a:ext cx="1555920" cy="7333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33"/>
                </a:solidFill>
                <a:latin typeface="Arial"/>
              </a:rPr>
              <a:t>24 J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33"/>
                </a:solidFill>
                <a:latin typeface="Arial"/>
              </a:rPr>
              <a:t>Chart Change Not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4" name="Straight Arrow Connector 37"/>
          <p:cNvCxnSpPr/>
          <p:nvPr/>
        </p:nvCxnSpPr>
        <p:spPr>
          <a:xfrm>
            <a:off x="3501720" y="3520800"/>
            <a:ext cx="695520" cy="649800"/>
          </a:xfrm>
          <a:prstGeom prst="straightConnector1">
            <a:avLst/>
          </a:prstGeom>
          <a:ln w="12600">
            <a:solidFill>
              <a:srgbClr val="66ff33"/>
            </a:solidFill>
            <a:miter/>
            <a:tailEnd len="med" type="arrow" w="med"/>
          </a:ln>
        </p:spPr>
      </p:cxnSp>
      <p:sp>
        <p:nvSpPr>
          <p:cNvPr id="455" name="Text Box 4"/>
          <p:cNvSpPr/>
          <p:nvPr/>
        </p:nvSpPr>
        <p:spPr>
          <a:xfrm>
            <a:off x="3733920" y="418788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24 J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Box 31"/>
          <p:cNvSpPr/>
          <p:nvPr/>
        </p:nvSpPr>
        <p:spPr>
          <a:xfrm>
            <a:off x="719280" y="1947960"/>
            <a:ext cx="79898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nges from States – each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ppesen  navigation database – each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ppesen charts updated – not every cyc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 (H/L) 11/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 JAN 08, 25 APR 08, 22 AUG 08, 7 NOV 08, 5 DEC 08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 MAY 09, 14 AUG 09, 6 NOV 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. 23 APR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 (HI) 1 / NP (HI)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 JAN 08, 7 MAR 08, 25 JUL 08, 3 OCT 08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 MAR 09, 7 MAY 09, 4 SEP 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 JAN 10, 19 FEB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nges included in database and covered by Chart Change Notices each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ition to electronic charts (data driv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active coordination between airlines and Jeppe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5"/>
          <p:cNvSpPr/>
          <p:nvPr/>
        </p:nvSpPr>
        <p:spPr>
          <a:xfrm>
            <a:off x="2259000" y="1544760"/>
            <a:ext cx="441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Jeppesen Enroute Ch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1"/>
          <p:cNvSpPr/>
          <p:nvPr/>
        </p:nvSpPr>
        <p:spPr>
          <a:xfrm>
            <a:off x="111240" y="136440"/>
            <a:ext cx="8869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ppesen Chart-Produc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9"/>
          <p:cNvSpPr/>
          <p:nvPr/>
        </p:nvSpPr>
        <p:spPr>
          <a:xfrm>
            <a:off x="2971800" y="6539040"/>
            <a:ext cx="32004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EPPESEN PROPRIE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9"/>
          <p:cNvSpPr/>
          <p:nvPr/>
        </p:nvSpPr>
        <p:spPr>
          <a:xfrm>
            <a:off x="2971800" y="6539040"/>
            <a:ext cx="32004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JEPPESEN PROPRIE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58720" y="1757160"/>
            <a:ext cx="801072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39720" y="3144600"/>
            <a:ext cx="83455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olker Mey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nager International Relation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vernment &amp; Industry Affair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______________________________________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eppese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Boeing Compan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ne: +49 6102 50 7240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ax: +49 6102 50 7239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lker.meyer@jeppesen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jeppesen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760" y="1909800"/>
            <a:ext cx="77724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1370160" y="2914560"/>
            <a:ext cx="44910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OP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01    Jeppesen in the Data Supply 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02    Timelines for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03    Timelines for Cha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04    Jeppesen Chart-Production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30" descr="Dreamliner"/>
          <p:cNvPicPr/>
          <p:nvPr/>
        </p:nvPicPr>
        <p:blipFill>
          <a:blip r:embed="rId1"/>
          <a:stretch/>
        </p:blipFill>
        <p:spPr>
          <a:xfrm>
            <a:off x="6067440" y="0"/>
            <a:ext cx="307332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9"/>
          <p:cNvSpPr/>
          <p:nvPr/>
        </p:nvSpPr>
        <p:spPr>
          <a:xfrm>
            <a:off x="2971800" y="6539040"/>
            <a:ext cx="32004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EPPESEN PROPRIE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36440"/>
            <a:ext cx="834552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ercial Data Providers in the Data Supply Cha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2541600" y="1808280"/>
            <a:ext cx="396864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otes from ICAO Annex 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"/>
          <p:cNvPicPr/>
          <p:nvPr/>
        </p:nvPicPr>
        <p:blipFill>
          <a:blip r:embed="rId1"/>
          <a:stretch/>
        </p:blipFill>
        <p:spPr>
          <a:xfrm>
            <a:off x="4708440" y="4378320"/>
            <a:ext cx="3657600" cy="1254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0" descr=""/>
          <p:cNvPicPr/>
          <p:nvPr/>
        </p:nvPicPr>
        <p:blipFill>
          <a:blip r:embed="rId2"/>
          <a:stretch/>
        </p:blipFill>
        <p:spPr>
          <a:xfrm>
            <a:off x="365040" y="3017880"/>
            <a:ext cx="3657600" cy="14778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1" descr=""/>
          <p:cNvPicPr/>
          <p:nvPr/>
        </p:nvPicPr>
        <p:blipFill>
          <a:blip r:embed="rId3"/>
          <a:stretch/>
        </p:blipFill>
        <p:spPr>
          <a:xfrm>
            <a:off x="4705200" y="3017880"/>
            <a:ext cx="3657600" cy="8874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9"/>
          <p:cNvSpPr/>
          <p:nvPr/>
        </p:nvSpPr>
        <p:spPr>
          <a:xfrm>
            <a:off x="2971800" y="6539040"/>
            <a:ext cx="32004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EPPESEN PROPRIE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7"/>
          <p:cNvSpPr/>
          <p:nvPr/>
        </p:nvSpPr>
        <p:spPr>
          <a:xfrm>
            <a:off x="4767120" y="3352680"/>
            <a:ext cx="3517920" cy="324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14"/>
          <p:cNvSpPr/>
          <p:nvPr/>
        </p:nvSpPr>
        <p:spPr>
          <a:xfrm>
            <a:off x="4773600" y="3514680"/>
            <a:ext cx="731880" cy="324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traight Connector 15"/>
          <p:cNvSpPr/>
          <p:nvPr/>
        </p:nvSpPr>
        <p:spPr>
          <a:xfrm>
            <a:off x="7269120" y="4910040"/>
            <a:ext cx="920880" cy="648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17"/>
          <p:cNvSpPr/>
          <p:nvPr/>
        </p:nvSpPr>
        <p:spPr>
          <a:xfrm>
            <a:off x="5668920" y="5084640"/>
            <a:ext cx="210348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20"/>
          <p:cNvSpPr/>
          <p:nvPr/>
        </p:nvSpPr>
        <p:spPr>
          <a:xfrm flipV="1">
            <a:off x="5084640" y="5412960"/>
            <a:ext cx="2203560" cy="324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traight Connector 22"/>
          <p:cNvSpPr/>
          <p:nvPr/>
        </p:nvSpPr>
        <p:spPr>
          <a:xfrm flipV="1">
            <a:off x="714240" y="3382560"/>
            <a:ext cx="1068480" cy="324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25"/>
          <p:cNvSpPr/>
          <p:nvPr/>
        </p:nvSpPr>
        <p:spPr>
          <a:xfrm flipV="1">
            <a:off x="777960" y="3876840"/>
            <a:ext cx="3163680" cy="288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27"/>
          <p:cNvSpPr/>
          <p:nvPr/>
        </p:nvSpPr>
        <p:spPr>
          <a:xfrm flipV="1">
            <a:off x="768240" y="4051440"/>
            <a:ext cx="384120" cy="144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36440"/>
            <a:ext cx="834552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Primary AIM Stakehold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0" y="1604880"/>
            <a:ext cx="5481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There are generally four tiers of AIM stakeholders, each with different roles, responsibilities, obligations and nee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0" descr="MCj02330860000[1]"/>
          <p:cNvPicPr/>
          <p:nvPr/>
        </p:nvPicPr>
        <p:blipFill>
          <a:blip r:embed="rId1"/>
          <a:stretch/>
        </p:blipFill>
        <p:spPr>
          <a:xfrm>
            <a:off x="520560" y="2803680"/>
            <a:ext cx="4289400" cy="1407960"/>
          </a:xfrm>
          <a:prstGeom prst="rect">
            <a:avLst/>
          </a:prstGeom>
          <a:ln w="0">
            <a:noFill/>
          </a:ln>
        </p:spPr>
      </p:pic>
      <p:grpSp>
        <p:nvGrpSpPr>
          <p:cNvPr id="249" name="Group 46"/>
          <p:cNvGrpSpPr/>
          <p:nvPr/>
        </p:nvGrpSpPr>
        <p:grpSpPr>
          <a:xfrm>
            <a:off x="285480" y="3501720"/>
            <a:ext cx="8674200" cy="2860200"/>
            <a:chOff x="285480" y="3501720"/>
            <a:chExt cx="8674200" cy="2860200"/>
          </a:xfrm>
        </p:grpSpPr>
        <p:cxnSp>
          <p:nvCxnSpPr>
            <p:cNvPr id="250" name="AutoShape 38"/>
            <p:cNvCxnSpPr/>
            <p:nvPr/>
          </p:nvCxnSpPr>
          <p:spPr>
            <a:xfrm flipV="1">
              <a:off x="285480" y="5645520"/>
              <a:ext cx="1080" cy="716760"/>
            </a:xfrm>
            <a:prstGeom prst="straightConnector1">
              <a:avLst/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251" name="AutoShape 39"/>
            <p:cNvCxnSpPr/>
            <p:nvPr/>
          </p:nvCxnSpPr>
          <p:spPr>
            <a:xfrm>
              <a:off x="285840" y="5653440"/>
              <a:ext cx="2167200" cy="1080"/>
            </a:xfrm>
            <a:prstGeom prst="straightConnector1">
              <a:avLst/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252" name="AutoShape 40"/>
            <p:cNvCxnSpPr/>
            <p:nvPr/>
          </p:nvCxnSpPr>
          <p:spPr>
            <a:xfrm flipV="1">
              <a:off x="6792480" y="3501720"/>
              <a:ext cx="1080" cy="717120"/>
            </a:xfrm>
            <a:prstGeom prst="straightConnector1">
              <a:avLst/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253" name="AutoShape 41"/>
            <p:cNvCxnSpPr/>
            <p:nvPr/>
          </p:nvCxnSpPr>
          <p:spPr>
            <a:xfrm>
              <a:off x="6792840" y="3509280"/>
              <a:ext cx="2167200" cy="1080"/>
            </a:xfrm>
            <a:prstGeom prst="straightConnector1">
              <a:avLst/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254" name="AutoShape 42"/>
            <p:cNvCxnSpPr/>
            <p:nvPr/>
          </p:nvCxnSpPr>
          <p:spPr>
            <a:xfrm flipV="1">
              <a:off x="4633200" y="4215600"/>
              <a:ext cx="1080" cy="717120"/>
            </a:xfrm>
            <a:prstGeom prst="straightConnector1">
              <a:avLst/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255" name="AutoShape 43"/>
            <p:cNvCxnSpPr/>
            <p:nvPr/>
          </p:nvCxnSpPr>
          <p:spPr>
            <a:xfrm>
              <a:off x="4633560" y="4223160"/>
              <a:ext cx="2167200" cy="1080"/>
            </a:xfrm>
            <a:prstGeom prst="straightConnector1">
              <a:avLst/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256" name="AutoShape 44"/>
            <p:cNvCxnSpPr/>
            <p:nvPr/>
          </p:nvCxnSpPr>
          <p:spPr>
            <a:xfrm flipV="1">
              <a:off x="2462760" y="4929480"/>
              <a:ext cx="1080" cy="717120"/>
            </a:xfrm>
            <a:prstGeom prst="straightConnector1">
              <a:avLst/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257" name="AutoShape 45"/>
            <p:cNvCxnSpPr/>
            <p:nvPr/>
          </p:nvCxnSpPr>
          <p:spPr>
            <a:xfrm>
              <a:off x="2463120" y="4937040"/>
              <a:ext cx="2167200" cy="1080"/>
            </a:xfrm>
            <a:prstGeom prst="straightConnector1">
              <a:avLst/>
            </a:prstGeom>
            <a:ln w="28440">
              <a:solidFill>
                <a:srgbClr val="969696"/>
              </a:solidFill>
              <a:miter/>
            </a:ln>
          </p:spPr>
        </p:cxnSp>
      </p:grpSp>
      <p:sp>
        <p:nvSpPr>
          <p:cNvPr id="258" name="Text Box 47"/>
          <p:cNvSpPr/>
          <p:nvPr/>
        </p:nvSpPr>
        <p:spPr>
          <a:xfrm>
            <a:off x="514440" y="5210280"/>
            <a:ext cx="161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State Civil Aviation Auth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8"/>
          <p:cNvSpPr/>
          <p:nvPr/>
        </p:nvSpPr>
        <p:spPr>
          <a:xfrm>
            <a:off x="7283520" y="323532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</a:rPr>
              <a:t>End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9"/>
          <p:cNvSpPr/>
          <p:nvPr/>
        </p:nvSpPr>
        <p:spPr>
          <a:xfrm>
            <a:off x="4994280" y="3755880"/>
            <a:ext cx="151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Commercial Service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0"/>
          <p:cNvSpPr/>
          <p:nvPr/>
        </p:nvSpPr>
        <p:spPr>
          <a:xfrm>
            <a:off x="2771640" y="4486320"/>
            <a:ext cx="14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6ff33"/>
                </a:solidFill>
                <a:latin typeface="Arial"/>
              </a:rPr>
              <a:t>State Designated Service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2"/>
          <p:cNvSpPr/>
          <p:nvPr/>
        </p:nvSpPr>
        <p:spPr>
          <a:xfrm>
            <a:off x="266760" y="5699160"/>
            <a:ext cx="23144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0000"/>
                </a:solidFill>
                <a:latin typeface="Arial"/>
              </a:rPr>
              <a:t>State government organization responsible for the safety, regularity and efficiency of aviation within its borders, per the Chicago Conven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3"/>
          <p:cNvSpPr/>
          <p:nvPr/>
        </p:nvSpPr>
        <p:spPr>
          <a:xfrm>
            <a:off x="2530440" y="5010120"/>
            <a:ext cx="2104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66ff33"/>
                </a:solidFill>
                <a:latin typeface="Arial"/>
              </a:rPr>
              <a:t>An organization, often referred to as an ANSP, designated by a State to fulfill some of the State obligations for AIS/AIM provision. ANSPs are often „corporatized“ organizations.</a:t>
            </a:r>
            <a:r>
              <a:rPr b="1" lang="de-DE" sz="1000" spc="-1" strike="noStrike">
                <a:solidFill>
                  <a:srgbClr val="006600"/>
                </a:solidFill>
                <a:latin typeface="Arial"/>
              </a:rPr>
              <a:t>.</a:t>
            </a:r>
            <a:r>
              <a:rPr b="0" lang="de-DE" sz="1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4"/>
          <p:cNvSpPr/>
          <p:nvPr/>
        </p:nvSpPr>
        <p:spPr>
          <a:xfrm>
            <a:off x="4708440" y="4302000"/>
            <a:ext cx="2105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An organization that creates value-added services from the  „official“ facts, data and aeronautical information of the State and delivers these services to end us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5"/>
          <p:cNvSpPr/>
          <p:nvPr/>
        </p:nvSpPr>
        <p:spPr>
          <a:xfrm>
            <a:off x="6838920" y="3565440"/>
            <a:ext cx="21049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00"/>
                </a:solidFill>
                <a:latin typeface="Arial"/>
              </a:rPr>
              <a:t>Pilots, aircraft operators, ATM organizations, flight support organizations and other entities that use aeronautical information and the resulting value-added services to support safe, efficient and orderly flight opera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2971800" y="6539040"/>
            <a:ext cx="32004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EPPESEN PROPRIE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AutoShape 2"/>
          <p:cNvSpPr/>
          <p:nvPr/>
        </p:nvSpPr>
        <p:spPr>
          <a:xfrm flipV="1" rot="16029600">
            <a:off x="7885800" y="5752800"/>
            <a:ext cx="306360" cy="533520"/>
          </a:xfrm>
          <a:custGeom>
            <a:avLst/>
            <a:gdLst>
              <a:gd name="textAreaLeft" fmla="*/ 176400 w 306360"/>
              <a:gd name="textAreaRight" fmla="*/ 258480 w 306360"/>
              <a:gd name="textAreaTop" fmla="*/ 72000 h 533520"/>
              <a:gd name="textAreaBottom" fmla="*/ 2286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d5d7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3"/>
          <p:cNvSpPr/>
          <p:nvPr/>
        </p:nvSpPr>
        <p:spPr>
          <a:xfrm flipV="1">
            <a:off x="762120" y="1751760"/>
            <a:ext cx="807840" cy="228600"/>
          </a:xfrm>
          <a:custGeom>
            <a:avLst/>
            <a:gdLst>
              <a:gd name="textAreaLeft" fmla="*/ 464760 w 807840"/>
              <a:gd name="textAreaRight" fmla="*/ 681840 w 807840"/>
              <a:gd name="textAreaTop" fmla="*/ 30600 h 228600"/>
              <a:gd name="textAreaBottom" fmla="*/ 9792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d5d7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4"/>
          <p:cNvSpPr/>
          <p:nvPr/>
        </p:nvSpPr>
        <p:spPr>
          <a:xfrm>
            <a:off x="152280" y="685800"/>
            <a:ext cx="1371600" cy="1219320"/>
          </a:xfrm>
          <a:prstGeom prst="flowChartMultidocumen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5"/>
          <p:cNvSpPr/>
          <p:nvPr/>
        </p:nvSpPr>
        <p:spPr>
          <a:xfrm flipV="1" rot="16116000">
            <a:off x="1230120" y="4787280"/>
            <a:ext cx="458640" cy="480960"/>
          </a:xfrm>
          <a:custGeom>
            <a:avLst/>
            <a:gdLst>
              <a:gd name="textAreaLeft" fmla="*/ 263880 w 458640"/>
              <a:gd name="textAreaRight" fmla="*/ 387000 w 458640"/>
              <a:gd name="textAreaTop" fmla="*/ 64800 h 480960"/>
              <a:gd name="textAreaBottom" fmla="*/ 205920 h 4809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d5d7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3941640" y="4800600"/>
            <a:ext cx="1697040" cy="152280"/>
          </a:xfrm>
          <a:prstGeom prst="rightArrow">
            <a:avLst>
              <a:gd name="adj1" fmla="val 50000"/>
              <a:gd name="adj2" fmla="val 278605"/>
            </a:avLst>
          </a:prstGeom>
          <a:solidFill>
            <a:srgbClr val="d5d7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320" y="106200"/>
            <a:ext cx="8991360" cy="7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The Aeronautical Data Supply Chain</a:t>
            </a:r>
            <a:br>
              <a:rPr sz="20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… Downstream Data Operation during each AIRAC Cycl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8"/>
          <p:cNvSpPr/>
          <p:nvPr/>
        </p:nvSpPr>
        <p:spPr>
          <a:xfrm flipV="1" rot="10611000">
            <a:off x="4674600" y="2208960"/>
            <a:ext cx="812520" cy="327240"/>
          </a:xfrm>
          <a:custGeom>
            <a:avLst/>
            <a:gdLst>
              <a:gd name="textAreaLeft" fmla="*/ 467640 w 812520"/>
              <a:gd name="textAreaRight" fmla="*/ 685800 w 812520"/>
              <a:gd name="textAreaTop" fmla="*/ 43920 h 327240"/>
              <a:gd name="textAreaBottom" fmla="*/ 140040 h 3272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d5d7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9"/>
          <p:cNvSpPr/>
          <p:nvPr/>
        </p:nvSpPr>
        <p:spPr>
          <a:xfrm flipV="1">
            <a:off x="5973840" y="6171480"/>
            <a:ext cx="807840" cy="228600"/>
          </a:xfrm>
          <a:custGeom>
            <a:avLst/>
            <a:gdLst>
              <a:gd name="textAreaLeft" fmla="*/ 464760 w 807840"/>
              <a:gd name="textAreaRight" fmla="*/ 681840 w 807840"/>
              <a:gd name="textAreaTop" fmla="*/ 30600 h 228600"/>
              <a:gd name="textAreaBottom" fmla="*/ 9792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d5d7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0"/>
          <p:cNvSpPr/>
          <p:nvPr/>
        </p:nvSpPr>
        <p:spPr>
          <a:xfrm flipV="1">
            <a:off x="4648320" y="5562000"/>
            <a:ext cx="807840" cy="228600"/>
          </a:xfrm>
          <a:custGeom>
            <a:avLst/>
            <a:gdLst>
              <a:gd name="textAreaLeft" fmla="*/ 464760 w 807840"/>
              <a:gd name="textAreaRight" fmla="*/ 681840 w 807840"/>
              <a:gd name="textAreaTop" fmla="*/ 30600 h 228600"/>
              <a:gd name="textAreaBottom" fmla="*/ 9792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d5d7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1"/>
          <p:cNvSpPr/>
          <p:nvPr/>
        </p:nvSpPr>
        <p:spPr>
          <a:xfrm flipH="1" flipV="1">
            <a:off x="7814520" y="3961800"/>
            <a:ext cx="646200" cy="228600"/>
          </a:xfrm>
          <a:custGeom>
            <a:avLst/>
            <a:gdLst>
              <a:gd name="textAreaLeft" fmla="*/ 371520 w 646200"/>
              <a:gd name="textAreaRight" fmla="*/ 545040 w 646200"/>
              <a:gd name="textAreaTop" fmla="*/ 30600 h 228600"/>
              <a:gd name="textAreaBottom" fmla="*/ 9792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d5d7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2"/>
          <p:cNvSpPr/>
          <p:nvPr/>
        </p:nvSpPr>
        <p:spPr>
          <a:xfrm flipV="1">
            <a:off x="5029200" y="2971080"/>
            <a:ext cx="888840" cy="228600"/>
          </a:xfrm>
          <a:custGeom>
            <a:avLst/>
            <a:gdLst>
              <a:gd name="textAreaLeft" fmla="*/ 511560 w 888840"/>
              <a:gd name="textAreaRight" fmla="*/ 750240 w 888840"/>
              <a:gd name="textAreaTop" fmla="*/ 30600 h 228600"/>
              <a:gd name="textAreaBottom" fmla="*/ 9792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d5d7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3"/>
          <p:cNvSpPr/>
          <p:nvPr/>
        </p:nvSpPr>
        <p:spPr>
          <a:xfrm flipV="1">
            <a:off x="2057400" y="2056680"/>
            <a:ext cx="1293840" cy="228600"/>
          </a:xfrm>
          <a:custGeom>
            <a:avLst/>
            <a:gdLst>
              <a:gd name="textAreaLeft" fmla="*/ 744480 w 1293840"/>
              <a:gd name="textAreaRight" fmla="*/ 1091880 w 1293840"/>
              <a:gd name="textAreaTop" fmla="*/ 30600 h 228600"/>
              <a:gd name="textAreaBottom" fmla="*/ 9792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d5d7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4"/>
          <p:cNvSpPr/>
          <p:nvPr/>
        </p:nvSpPr>
        <p:spPr>
          <a:xfrm flipH="1" flipV="1" rot="5400000">
            <a:off x="6165000" y="3779280"/>
            <a:ext cx="533520" cy="242640"/>
          </a:xfrm>
          <a:custGeom>
            <a:avLst/>
            <a:gdLst>
              <a:gd name="textAreaLeft" fmla="*/ 307080 w 533520"/>
              <a:gd name="textAreaRight" fmla="*/ 450360 w 533520"/>
              <a:gd name="textAreaTop" fmla="*/ 33120 h 242640"/>
              <a:gd name="textAreaBottom" fmla="*/ 104040 h 2426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d5d7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5"/>
          <p:cNvSpPr/>
          <p:nvPr/>
        </p:nvSpPr>
        <p:spPr>
          <a:xfrm>
            <a:off x="5486400" y="5486400"/>
            <a:ext cx="1295280" cy="685800"/>
          </a:xfrm>
          <a:prstGeom prst="flowChartMagneticDisk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6"/>
          <p:cNvSpPr/>
          <p:nvPr/>
        </p:nvSpPr>
        <p:spPr>
          <a:xfrm>
            <a:off x="4718160" y="2490840"/>
            <a:ext cx="1253880" cy="48096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7"/>
          <p:cNvSpPr/>
          <p:nvPr/>
        </p:nvSpPr>
        <p:spPr>
          <a:xfrm>
            <a:off x="1265400" y="2666880"/>
            <a:ext cx="1858680" cy="609840"/>
          </a:xfrm>
          <a:prstGeom prst="flowChartDocumen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8"/>
          <p:cNvSpPr/>
          <p:nvPr/>
        </p:nvSpPr>
        <p:spPr>
          <a:xfrm flipV="1" rot="5438400">
            <a:off x="2624400" y="1869840"/>
            <a:ext cx="231480" cy="1212840"/>
          </a:xfrm>
          <a:custGeom>
            <a:avLst/>
            <a:gdLst>
              <a:gd name="textAreaLeft" fmla="*/ 133200 w 231480"/>
              <a:gd name="textAreaRight" fmla="*/ 195480 w 231480"/>
              <a:gd name="textAreaTop" fmla="*/ 163080 h 1212840"/>
              <a:gd name="textAreaBottom" fmla="*/ 518760 h 12128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d5d7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9"/>
          <p:cNvSpPr/>
          <p:nvPr/>
        </p:nvSpPr>
        <p:spPr>
          <a:xfrm flipV="1" rot="16029600">
            <a:off x="3237480" y="2400120"/>
            <a:ext cx="306360" cy="533520"/>
          </a:xfrm>
          <a:custGeom>
            <a:avLst/>
            <a:gdLst>
              <a:gd name="textAreaLeft" fmla="*/ 176400 w 306360"/>
              <a:gd name="textAreaRight" fmla="*/ 258480 w 306360"/>
              <a:gd name="textAreaTop" fmla="*/ 72000 h 533520"/>
              <a:gd name="textAreaBottom" fmla="*/ 2286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d5d7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0"/>
          <p:cNvSpPr/>
          <p:nvPr/>
        </p:nvSpPr>
        <p:spPr>
          <a:xfrm>
            <a:off x="74520" y="1173240"/>
            <a:ext cx="13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10000"/>
                </a:solidFill>
                <a:latin typeface="Arial"/>
              </a:rPr>
              <a:t>AIP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1"/>
          <p:cNvSpPr/>
          <p:nvPr/>
        </p:nvSpPr>
        <p:spPr>
          <a:xfrm>
            <a:off x="3344760" y="2144880"/>
            <a:ext cx="1293840" cy="276480"/>
          </a:xfrm>
          <a:prstGeom prst="rect">
            <a:avLst/>
          </a:prstGeom>
          <a:solidFill>
            <a:srgbClr val="8fcd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Co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2"/>
          <p:cNvSpPr/>
          <p:nvPr/>
        </p:nvSpPr>
        <p:spPr>
          <a:xfrm>
            <a:off x="4716360" y="2579760"/>
            <a:ext cx="12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3"/>
          <p:cNvSpPr/>
          <p:nvPr/>
        </p:nvSpPr>
        <p:spPr>
          <a:xfrm>
            <a:off x="1143000" y="2743200"/>
            <a:ext cx="21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its (on-line, Graphic, human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4"/>
          <p:cNvSpPr/>
          <p:nvPr/>
        </p:nvSpPr>
        <p:spPr>
          <a:xfrm>
            <a:off x="7783560" y="3492360"/>
            <a:ext cx="1131840" cy="459000"/>
          </a:xfrm>
          <a:prstGeom prst="rect">
            <a:avLst/>
          </a:prstGeom>
          <a:solidFill>
            <a:srgbClr val="8fcd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INC 424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25"/>
          <p:cNvSpPr/>
          <p:nvPr/>
        </p:nvSpPr>
        <p:spPr>
          <a:xfrm>
            <a:off x="2505240" y="4624560"/>
            <a:ext cx="1457280" cy="609480"/>
          </a:xfrm>
          <a:prstGeom prst="flowChart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6"/>
          <p:cNvSpPr/>
          <p:nvPr/>
        </p:nvSpPr>
        <p:spPr>
          <a:xfrm>
            <a:off x="4040280" y="5157720"/>
            <a:ext cx="1293840" cy="405000"/>
          </a:xfrm>
          <a:prstGeom prst="flowChart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27"/>
          <p:cNvSpPr/>
          <p:nvPr/>
        </p:nvSpPr>
        <p:spPr>
          <a:xfrm>
            <a:off x="6858000" y="6072120"/>
            <a:ext cx="969840" cy="55728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8"/>
          <p:cNvSpPr/>
          <p:nvPr/>
        </p:nvSpPr>
        <p:spPr>
          <a:xfrm flipV="1" rot="5438400">
            <a:off x="541800" y="4485960"/>
            <a:ext cx="608040" cy="320760"/>
          </a:xfrm>
          <a:custGeom>
            <a:avLst/>
            <a:gdLst>
              <a:gd name="textAreaLeft" fmla="*/ 349920 w 608040"/>
              <a:gd name="textAreaRight" fmla="*/ 513360 w 608040"/>
              <a:gd name="textAreaTop" fmla="*/ 43200 h 320760"/>
              <a:gd name="textAreaBottom" fmla="*/ 137160 h 3207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d5d7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9"/>
          <p:cNvSpPr/>
          <p:nvPr/>
        </p:nvSpPr>
        <p:spPr>
          <a:xfrm>
            <a:off x="2508120" y="4724280"/>
            <a:ext cx="145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MS Data 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0"/>
          <p:cNvSpPr/>
          <p:nvPr/>
        </p:nvSpPr>
        <p:spPr>
          <a:xfrm>
            <a:off x="4040280" y="5186520"/>
            <a:ext cx="129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MS Data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1"/>
          <p:cNvSpPr/>
          <p:nvPr/>
        </p:nvSpPr>
        <p:spPr>
          <a:xfrm>
            <a:off x="6827760" y="6095880"/>
            <a:ext cx="103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Ver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2"/>
          <p:cNvSpPr/>
          <p:nvPr/>
        </p:nvSpPr>
        <p:spPr>
          <a:xfrm>
            <a:off x="5410080" y="57150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MS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33"/>
          <p:cNvSpPr/>
          <p:nvPr/>
        </p:nvSpPr>
        <p:spPr>
          <a:xfrm flipV="1">
            <a:off x="3200400" y="5233320"/>
            <a:ext cx="808200" cy="304920"/>
          </a:xfrm>
          <a:custGeom>
            <a:avLst/>
            <a:gdLst>
              <a:gd name="textAreaLeft" fmla="*/ 465120 w 808200"/>
              <a:gd name="textAreaRight" fmla="*/ 682200 w 808200"/>
              <a:gd name="textAreaTop" fmla="*/ 40680 h 304920"/>
              <a:gd name="textAreaBottom" fmla="*/ 12996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d5d7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34"/>
          <p:cNvSpPr/>
          <p:nvPr/>
        </p:nvSpPr>
        <p:spPr>
          <a:xfrm flipV="1">
            <a:off x="1752480" y="4723560"/>
            <a:ext cx="727200" cy="228600"/>
          </a:xfrm>
          <a:custGeom>
            <a:avLst/>
            <a:gdLst>
              <a:gd name="textAreaLeft" fmla="*/ 418320 w 727200"/>
              <a:gd name="textAreaRight" fmla="*/ 613800 w 727200"/>
              <a:gd name="textAreaTop" fmla="*/ 30600 h 228600"/>
              <a:gd name="textAreaBottom" fmla="*/ 9792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d5d7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35"/>
          <p:cNvSpPr/>
          <p:nvPr/>
        </p:nvSpPr>
        <p:spPr>
          <a:xfrm>
            <a:off x="5715000" y="4648320"/>
            <a:ext cx="1131840" cy="609480"/>
          </a:xfrm>
          <a:prstGeom prst="flowChartDocumen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6"/>
          <p:cNvSpPr/>
          <p:nvPr/>
        </p:nvSpPr>
        <p:spPr>
          <a:xfrm>
            <a:off x="5638680" y="4648320"/>
            <a:ext cx="1217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MS Data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37"/>
          <p:cNvSpPr/>
          <p:nvPr/>
        </p:nvSpPr>
        <p:spPr>
          <a:xfrm rot="10800000">
            <a:off x="2172960" y="4319280"/>
            <a:ext cx="4444920" cy="152280"/>
          </a:xfrm>
          <a:prstGeom prst="rightArrow">
            <a:avLst>
              <a:gd name="adj1" fmla="val 50000"/>
              <a:gd name="adj2" fmla="val 729728"/>
            </a:avLst>
          </a:prstGeom>
          <a:solidFill>
            <a:srgbClr val="d5d7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38"/>
          <p:cNvSpPr/>
          <p:nvPr/>
        </p:nvSpPr>
        <p:spPr>
          <a:xfrm>
            <a:off x="7620120" y="5181480"/>
            <a:ext cx="1127160" cy="636840"/>
          </a:xfrm>
          <a:prstGeom prst="flowChartProcess">
            <a:avLst/>
          </a:prstGeom>
          <a:solidFill>
            <a:srgbClr val="ff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9"/>
          <p:cNvSpPr/>
          <p:nvPr/>
        </p:nvSpPr>
        <p:spPr>
          <a:xfrm>
            <a:off x="7620120" y="5334120"/>
            <a:ext cx="113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ircraft 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40"/>
          <p:cNvSpPr/>
          <p:nvPr/>
        </p:nvSpPr>
        <p:spPr>
          <a:xfrm flipV="1">
            <a:off x="3809880" y="2437560"/>
            <a:ext cx="889200" cy="228600"/>
          </a:xfrm>
          <a:custGeom>
            <a:avLst/>
            <a:gdLst>
              <a:gd name="textAreaLeft" fmla="*/ 511560 w 889200"/>
              <a:gd name="textAreaRight" fmla="*/ 750600 w 889200"/>
              <a:gd name="textAreaTop" fmla="*/ 30600 h 228600"/>
              <a:gd name="textAreaBottom" fmla="*/ 9792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d5d7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1"/>
          <p:cNvSpPr/>
          <p:nvPr/>
        </p:nvSpPr>
        <p:spPr>
          <a:xfrm>
            <a:off x="5715000" y="1660680"/>
            <a:ext cx="2971800" cy="473040"/>
          </a:xfrm>
          <a:prstGeom prst="rect">
            <a:avLst/>
          </a:prstGeom>
          <a:solidFill>
            <a:srgbClr val="ffc7a1"/>
          </a:solidFill>
          <a:ln w="0">
            <a:noFill/>
          </a:ln>
          <a:effectLst>
            <a:outerShdw dist="153753" dir="27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3cc"/>
                </a:solidFill>
                <a:latin typeface="Arial"/>
              </a:rPr>
              <a:t>Commercial Data 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2"/>
          <p:cNvSpPr/>
          <p:nvPr/>
        </p:nvSpPr>
        <p:spPr>
          <a:xfrm>
            <a:off x="685800" y="5913360"/>
            <a:ext cx="1981080" cy="716040"/>
          </a:xfrm>
          <a:prstGeom prst="rect">
            <a:avLst/>
          </a:prstGeom>
          <a:solidFill>
            <a:srgbClr val="ffc7a1"/>
          </a:solidFill>
          <a:ln w="12600">
            <a:solidFill>
              <a:srgbClr val="ffc7a1"/>
            </a:solidFill>
            <a:miter/>
          </a:ln>
          <a:effectLst>
            <a:outerShdw dist="153753" dir="27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3cc"/>
                </a:solidFill>
                <a:latin typeface="Arial"/>
              </a:rPr>
              <a:t>FMS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3cc"/>
                </a:solidFill>
                <a:latin typeface="Arial"/>
              </a:rPr>
              <a:t>Process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43"/>
          <p:cNvGrpSpPr/>
          <p:nvPr/>
        </p:nvGrpSpPr>
        <p:grpSpPr>
          <a:xfrm>
            <a:off x="6726240" y="3505320"/>
            <a:ext cx="969480" cy="304200"/>
            <a:chOff x="6726240" y="3505320"/>
            <a:chExt cx="969480" cy="304200"/>
          </a:xfrm>
        </p:grpSpPr>
        <p:sp>
          <p:nvSpPr>
            <p:cNvPr id="309" name="AutoShape 44"/>
            <p:cNvSpPr/>
            <p:nvPr/>
          </p:nvSpPr>
          <p:spPr>
            <a:xfrm flipV="1">
              <a:off x="6726240" y="3671280"/>
              <a:ext cx="969480" cy="138240"/>
            </a:xfrm>
            <a:custGeom>
              <a:avLst/>
              <a:gdLst>
                <a:gd name="textAreaLeft" fmla="*/ 558360 w 969480"/>
                <a:gd name="textAreaRight" fmla="*/ 819000 w 969480"/>
                <a:gd name="textAreaTop" fmla="*/ 18360 h 138240"/>
                <a:gd name="textAreaBottom" fmla="*/ 58680 h 1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d5d7c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45"/>
            <p:cNvSpPr/>
            <p:nvPr/>
          </p:nvSpPr>
          <p:spPr>
            <a:xfrm flipV="1">
              <a:off x="6726240" y="3505320"/>
              <a:ext cx="969480" cy="138240"/>
            </a:xfrm>
            <a:custGeom>
              <a:avLst/>
              <a:gdLst>
                <a:gd name="textAreaLeft" fmla="*/ 558360 w 969480"/>
                <a:gd name="textAreaRight" fmla="*/ 819000 w 969480"/>
                <a:gd name="textAreaTop" fmla="*/ 18360 h 138240"/>
                <a:gd name="textAreaBottom" fmla="*/ 58680 h 1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d5d7c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46"/>
            <p:cNvSpPr/>
            <p:nvPr/>
          </p:nvSpPr>
          <p:spPr>
            <a:xfrm flipV="1">
              <a:off x="6726240" y="3559680"/>
              <a:ext cx="969480" cy="138600"/>
            </a:xfrm>
            <a:custGeom>
              <a:avLst/>
              <a:gdLst>
                <a:gd name="textAreaLeft" fmla="*/ 558360 w 969480"/>
                <a:gd name="textAreaRight" fmla="*/ 819000 w 969480"/>
                <a:gd name="textAreaTop" fmla="*/ 18360 h 138600"/>
                <a:gd name="textAreaBottom" fmla="*/ 59040 h 13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d5d7c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47"/>
            <p:cNvSpPr/>
            <p:nvPr/>
          </p:nvSpPr>
          <p:spPr>
            <a:xfrm flipV="1">
              <a:off x="6726240" y="3615840"/>
              <a:ext cx="969480" cy="138240"/>
            </a:xfrm>
            <a:custGeom>
              <a:avLst/>
              <a:gdLst>
                <a:gd name="textAreaLeft" fmla="*/ 558360 w 969480"/>
                <a:gd name="textAreaRight" fmla="*/ 819000 w 969480"/>
                <a:gd name="textAreaTop" fmla="*/ 18360 h 138240"/>
                <a:gd name="textAreaBottom" fmla="*/ 58680 h 1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d5d7c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Text Box 48"/>
          <p:cNvSpPr/>
          <p:nvPr/>
        </p:nvSpPr>
        <p:spPr>
          <a:xfrm>
            <a:off x="6019920" y="3038400"/>
            <a:ext cx="1600200" cy="459000"/>
          </a:xfrm>
          <a:prstGeom prst="rect">
            <a:avLst/>
          </a:prstGeom>
          <a:solidFill>
            <a:srgbClr val="8fcd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INC 424 Data 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49"/>
          <p:cNvSpPr/>
          <p:nvPr/>
        </p:nvSpPr>
        <p:spPr>
          <a:xfrm>
            <a:off x="5843520" y="3581280"/>
            <a:ext cx="405000" cy="228600"/>
          </a:xfrm>
          <a:custGeom>
            <a:avLst/>
            <a:gdLst>
              <a:gd name="textAreaLeft" fmla="*/ 0 w 405000"/>
              <a:gd name="textAreaRight" fmla="*/ 347400 w 405000"/>
              <a:gd name="textAreaTop" fmla="*/ 15264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ffc7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0"/>
          <p:cNvSpPr/>
          <p:nvPr/>
        </p:nvSpPr>
        <p:spPr>
          <a:xfrm>
            <a:off x="3200400" y="3476520"/>
            <a:ext cx="2666880" cy="550800"/>
          </a:xfrm>
          <a:prstGeom prst="rect">
            <a:avLst/>
          </a:prstGeom>
          <a:solidFill>
            <a:srgbClr val="ffc7a1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202ee2"/>
                </a:solidFill>
                <a:latin typeface="Arial"/>
              </a:rPr>
              <a:t>Numerous database extracts are needed to support all legacy FMS systems and to meet airline and operator nee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51"/>
          <p:cNvSpPr/>
          <p:nvPr/>
        </p:nvSpPr>
        <p:spPr>
          <a:xfrm>
            <a:off x="6548400" y="3938760"/>
            <a:ext cx="1212840" cy="53316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2"/>
          <p:cNvSpPr/>
          <p:nvPr/>
        </p:nvSpPr>
        <p:spPr>
          <a:xfrm>
            <a:off x="6553080" y="396252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INC 424 Data Q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53"/>
          <p:cNvSpPr/>
          <p:nvPr/>
        </p:nvSpPr>
        <p:spPr>
          <a:xfrm>
            <a:off x="990720" y="4191120"/>
            <a:ext cx="1295280" cy="533160"/>
          </a:xfrm>
          <a:prstGeom prst="flowChart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4"/>
          <p:cNvSpPr/>
          <p:nvPr/>
        </p:nvSpPr>
        <p:spPr>
          <a:xfrm>
            <a:off x="990720" y="4267080"/>
            <a:ext cx="129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ionics Ed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55"/>
          <p:cNvGrpSpPr/>
          <p:nvPr/>
        </p:nvGrpSpPr>
        <p:grpSpPr>
          <a:xfrm>
            <a:off x="2971800" y="5257800"/>
            <a:ext cx="3809880" cy="1295280"/>
            <a:chOff x="2971800" y="5257800"/>
            <a:chExt cx="3809880" cy="1295280"/>
          </a:xfrm>
        </p:grpSpPr>
        <p:sp>
          <p:nvSpPr>
            <p:cNvPr id="321" name="Rectangle 56"/>
            <p:cNvSpPr/>
            <p:nvPr/>
          </p:nvSpPr>
          <p:spPr>
            <a:xfrm flipV="1">
              <a:off x="3047760" y="6476040"/>
              <a:ext cx="3733920" cy="75960"/>
            </a:xfrm>
            <a:prstGeom prst="rect">
              <a:avLst/>
            </a:prstGeom>
            <a:solidFill>
              <a:srgbClr val="d5d7c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57"/>
            <p:cNvSpPr/>
            <p:nvPr/>
          </p:nvSpPr>
          <p:spPr>
            <a:xfrm rot="16200000">
              <a:off x="2400120" y="5829120"/>
              <a:ext cx="1295280" cy="152280"/>
            </a:xfrm>
            <a:prstGeom prst="rightArrow">
              <a:avLst>
                <a:gd name="adj1" fmla="val 50000"/>
                <a:gd name="adj2" fmla="val 212648"/>
              </a:avLst>
            </a:prstGeom>
            <a:solidFill>
              <a:srgbClr val="d5d7c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Text Box 58"/>
          <p:cNvSpPr/>
          <p:nvPr/>
        </p:nvSpPr>
        <p:spPr>
          <a:xfrm>
            <a:off x="1600200" y="1587600"/>
            <a:ext cx="1447920" cy="459000"/>
          </a:xfrm>
          <a:prstGeom prst="rect">
            <a:avLst/>
          </a:prstGeom>
          <a:solidFill>
            <a:srgbClr val="8fcd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our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59"/>
          <p:cNvSpPr/>
          <p:nvPr/>
        </p:nvSpPr>
        <p:spPr>
          <a:xfrm>
            <a:off x="304920" y="5105520"/>
            <a:ext cx="914400" cy="60948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60"/>
          <p:cNvSpPr/>
          <p:nvPr/>
        </p:nvSpPr>
        <p:spPr>
          <a:xfrm>
            <a:off x="304920" y="51814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it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36440"/>
            <a:ext cx="834552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est data in respect to accuracy, resolution and integrity does not help if it comes too lat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593640" y="4846680"/>
            <a:ext cx="3657600" cy="14209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"/>
          <p:cNvPicPr/>
          <p:nvPr/>
        </p:nvPicPr>
        <p:blipFill>
          <a:blip r:embed="rId2"/>
          <a:stretch/>
        </p:blipFill>
        <p:spPr>
          <a:xfrm>
            <a:off x="593640" y="2560680"/>
            <a:ext cx="3657600" cy="17002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"/>
          <p:cNvPicPr/>
          <p:nvPr/>
        </p:nvPicPr>
        <p:blipFill>
          <a:blip r:embed="rId3"/>
          <a:stretch/>
        </p:blipFill>
        <p:spPr>
          <a:xfrm>
            <a:off x="4937040" y="2560680"/>
            <a:ext cx="3657600" cy="1876320"/>
          </a:xfrm>
          <a:prstGeom prst="rect">
            <a:avLst/>
          </a:prstGeom>
          <a:ln w="0">
            <a:noFill/>
          </a:ln>
        </p:spPr>
      </p:pic>
      <p:sp>
        <p:nvSpPr>
          <p:cNvPr id="330" name="Straight Connector 8"/>
          <p:cNvSpPr/>
          <p:nvPr/>
        </p:nvSpPr>
        <p:spPr>
          <a:xfrm>
            <a:off x="2900520" y="2919240"/>
            <a:ext cx="104292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1"/>
          <p:cNvSpPr/>
          <p:nvPr/>
        </p:nvSpPr>
        <p:spPr>
          <a:xfrm>
            <a:off x="3090960" y="3081240"/>
            <a:ext cx="109512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4"/>
          <p:cNvSpPr/>
          <p:nvPr/>
        </p:nvSpPr>
        <p:spPr>
          <a:xfrm>
            <a:off x="1109520" y="3405240"/>
            <a:ext cx="1100160" cy="468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15"/>
          <p:cNvSpPr/>
          <p:nvPr/>
        </p:nvSpPr>
        <p:spPr>
          <a:xfrm>
            <a:off x="7453440" y="3695760"/>
            <a:ext cx="84276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17"/>
          <p:cNvSpPr/>
          <p:nvPr/>
        </p:nvSpPr>
        <p:spPr>
          <a:xfrm>
            <a:off x="2257560" y="4019400"/>
            <a:ext cx="110484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21"/>
          <p:cNvSpPr/>
          <p:nvPr/>
        </p:nvSpPr>
        <p:spPr>
          <a:xfrm>
            <a:off x="3086280" y="3705120"/>
            <a:ext cx="85716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27"/>
          <p:cNvSpPr/>
          <p:nvPr/>
        </p:nvSpPr>
        <p:spPr>
          <a:xfrm>
            <a:off x="7039080" y="4181400"/>
            <a:ext cx="110484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28"/>
          <p:cNvSpPr/>
          <p:nvPr/>
        </p:nvSpPr>
        <p:spPr>
          <a:xfrm>
            <a:off x="6039000" y="3233880"/>
            <a:ext cx="110484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traight Connector 29"/>
          <p:cNvSpPr/>
          <p:nvPr/>
        </p:nvSpPr>
        <p:spPr>
          <a:xfrm>
            <a:off x="6991200" y="2752560"/>
            <a:ext cx="852480" cy="180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traight Connector 36"/>
          <p:cNvSpPr/>
          <p:nvPr/>
        </p:nvSpPr>
        <p:spPr>
          <a:xfrm>
            <a:off x="1128600" y="5700600"/>
            <a:ext cx="238608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traight Connector 38"/>
          <p:cNvSpPr/>
          <p:nvPr/>
        </p:nvSpPr>
        <p:spPr>
          <a:xfrm>
            <a:off x="2471760" y="5853240"/>
            <a:ext cx="98568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40"/>
          <p:cNvSpPr/>
          <p:nvPr/>
        </p:nvSpPr>
        <p:spPr>
          <a:xfrm>
            <a:off x="1652760" y="6019920"/>
            <a:ext cx="232380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9"/>
          <p:cNvSpPr/>
          <p:nvPr/>
        </p:nvSpPr>
        <p:spPr>
          <a:xfrm>
            <a:off x="2971800" y="6539040"/>
            <a:ext cx="32004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EPPESEN PROPRIE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2541600" y="1808280"/>
            <a:ext cx="396864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otes from ICAO Annex 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Line 2"/>
          <p:cNvSpPr/>
          <p:nvPr/>
        </p:nvSpPr>
        <p:spPr>
          <a:xfrm>
            <a:off x="457200" y="4862520"/>
            <a:ext cx="813744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7773840" y="4187880"/>
            <a:ext cx="9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6 M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3394800" y="41878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8 AP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5"/>
          <p:cNvSpPr/>
          <p:nvPr/>
        </p:nvSpPr>
        <p:spPr>
          <a:xfrm>
            <a:off x="3838680" y="4516560"/>
            <a:ext cx="0" cy="98892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6"/>
          <p:cNvSpPr/>
          <p:nvPr/>
        </p:nvSpPr>
        <p:spPr>
          <a:xfrm>
            <a:off x="8256600" y="4513320"/>
            <a:ext cx="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2311560" y="4516560"/>
            <a:ext cx="0" cy="9889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1514520" y="5724360"/>
            <a:ext cx="159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ub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0"/>
          <p:cNvSpPr/>
          <p:nvPr/>
        </p:nvSpPr>
        <p:spPr>
          <a:xfrm>
            <a:off x="803160" y="4516560"/>
            <a:ext cx="0" cy="990360"/>
          </a:xfrm>
          <a:prstGeom prst="line">
            <a:avLst/>
          </a:prstGeom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1"/>
          <p:cNvSpPr/>
          <p:nvPr/>
        </p:nvSpPr>
        <p:spPr>
          <a:xfrm>
            <a:off x="3846600" y="5218200"/>
            <a:ext cx="438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344880" y="418608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11 M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2536560" y="4923000"/>
            <a:ext cx="104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14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Shi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1657440" y="548640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42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7"/>
          <p:cNvSpPr/>
          <p:nvPr/>
        </p:nvSpPr>
        <p:spPr>
          <a:xfrm>
            <a:off x="830160" y="4729320"/>
            <a:ext cx="1444680" cy="0"/>
          </a:xfrm>
          <a:prstGeom prst="line">
            <a:avLst/>
          </a:prstGeom>
          <a:ln w="936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8"/>
          <p:cNvSpPr/>
          <p:nvPr/>
        </p:nvSpPr>
        <p:spPr>
          <a:xfrm>
            <a:off x="3363840" y="548640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-28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9"/>
          <p:cNvSpPr/>
          <p:nvPr/>
        </p:nvSpPr>
        <p:spPr>
          <a:xfrm>
            <a:off x="2338560" y="5218200"/>
            <a:ext cx="1463400" cy="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2849400" y="5722920"/>
            <a:ext cx="198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Data D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to Recipient</a:t>
            </a: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23"/>
          <p:cNvSpPr/>
          <p:nvPr/>
        </p:nvSpPr>
        <p:spPr>
          <a:xfrm rot="16200000">
            <a:off x="5865840" y="4208400"/>
            <a:ext cx="380880" cy="4422960"/>
          </a:xfrm>
          <a:custGeom>
            <a:avLst/>
            <a:gdLst>
              <a:gd name="textAreaLeft" fmla="*/ 243360 w 380880"/>
              <a:gd name="textAreaRight" fmla="*/ 381240 w 380880"/>
              <a:gd name="textAreaTop" fmla="*/ 65520 h 4422960"/>
              <a:gd name="textAreaBottom" fmla="*/ 4357440 h 442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12"/>
                  <a:pt x="10800" y="1023"/>
                </a:cubicBezTo>
                <a:lnTo>
                  <a:pt x="10800" y="9777"/>
                </a:lnTo>
                <a:cubicBezTo>
                  <a:pt x="10800" y="10289"/>
                  <a:pt x="5400" y="10800"/>
                  <a:pt x="0" y="10800"/>
                </a:cubicBezTo>
                <a:cubicBezTo>
                  <a:pt x="5400" y="10800"/>
                  <a:pt x="10800" y="11312"/>
                  <a:pt x="10800" y="11823"/>
                </a:cubicBezTo>
                <a:lnTo>
                  <a:pt x="10800" y="20577"/>
                </a:lnTo>
                <a:cubicBezTo>
                  <a:pt x="10800" y="2108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4"/>
          <p:cNvSpPr/>
          <p:nvPr/>
        </p:nvSpPr>
        <p:spPr>
          <a:xfrm>
            <a:off x="5066640" y="65674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8-Day AIRAC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5"/>
          <p:cNvSpPr/>
          <p:nvPr/>
        </p:nvSpPr>
        <p:spPr>
          <a:xfrm>
            <a:off x="7454880" y="5486400"/>
            <a:ext cx="16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0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ffective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8"/>
          <p:cNvSpPr/>
          <p:nvPr/>
        </p:nvSpPr>
        <p:spPr>
          <a:xfrm>
            <a:off x="179280" y="5486400"/>
            <a:ext cx="1238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-56 Day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for Major 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1928520" y="418788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25 M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5"/>
          <p:cNvSpPr/>
          <p:nvPr/>
        </p:nvSpPr>
        <p:spPr>
          <a:xfrm>
            <a:off x="5502240" y="4516560"/>
            <a:ext cx="0" cy="988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5011560" y="418788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6 AP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5"/>
          <p:cNvSpPr/>
          <p:nvPr/>
        </p:nvSpPr>
        <p:spPr>
          <a:xfrm>
            <a:off x="4714920" y="5486400"/>
            <a:ext cx="16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20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b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ut-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30"/>
          <p:cNvSpPr/>
          <p:nvPr/>
        </p:nvSpPr>
        <p:spPr>
          <a:xfrm>
            <a:off x="2149560" y="154152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Jeppesen Navigation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31"/>
          <p:cNvSpPr/>
          <p:nvPr/>
        </p:nvSpPr>
        <p:spPr>
          <a:xfrm>
            <a:off x="700200" y="1940040"/>
            <a:ext cx="75009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pdated every 28 days (AIRAC syst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updates outside AIRAC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 airway will not be in the database at the effective date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ffective date is outside the AIRAC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 was received 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NSP is not responding to clar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ncellation of changes has to follow the AIRAC system as w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herence to the AIRAC system will ensure that the airway is in the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 received on paper or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2"/>
          <p:cNvSpPr/>
          <p:nvPr/>
        </p:nvSpPr>
        <p:spPr>
          <a:xfrm>
            <a:off x="5513400" y="4516560"/>
            <a:ext cx="2752560" cy="9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2166840" y="6539040"/>
            <a:ext cx="32004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EPPESEN PROPRIE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1"/>
          <p:cNvSpPr/>
          <p:nvPr/>
        </p:nvSpPr>
        <p:spPr>
          <a:xfrm>
            <a:off x="1198440" y="136440"/>
            <a:ext cx="6848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ppesen Production Process in sync with ICAO Publication Dates according to Annex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Line 2"/>
          <p:cNvSpPr/>
          <p:nvPr/>
        </p:nvSpPr>
        <p:spPr>
          <a:xfrm>
            <a:off x="228600" y="4862520"/>
            <a:ext cx="877896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7983360" y="4187880"/>
            <a:ext cx="9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6 M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2351880" y="41878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8 AP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5"/>
          <p:cNvSpPr/>
          <p:nvPr/>
        </p:nvSpPr>
        <p:spPr>
          <a:xfrm>
            <a:off x="2795760" y="4516560"/>
            <a:ext cx="0" cy="98892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6"/>
          <p:cNvSpPr/>
          <p:nvPr/>
        </p:nvSpPr>
        <p:spPr>
          <a:xfrm>
            <a:off x="8477280" y="4513320"/>
            <a:ext cx="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8"/>
          <p:cNvSpPr/>
          <p:nvPr/>
        </p:nvSpPr>
        <p:spPr>
          <a:xfrm>
            <a:off x="1569960" y="4508640"/>
            <a:ext cx="0" cy="987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9"/>
          <p:cNvSpPr/>
          <p:nvPr/>
        </p:nvSpPr>
        <p:spPr>
          <a:xfrm>
            <a:off x="765000" y="5724360"/>
            <a:ext cx="159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ub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0"/>
          <p:cNvSpPr/>
          <p:nvPr/>
        </p:nvSpPr>
        <p:spPr>
          <a:xfrm>
            <a:off x="465120" y="4516560"/>
            <a:ext cx="0" cy="990360"/>
          </a:xfrm>
          <a:prstGeom prst="line">
            <a:avLst/>
          </a:prstGeom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1"/>
          <p:cNvSpPr/>
          <p:nvPr/>
        </p:nvSpPr>
        <p:spPr>
          <a:xfrm>
            <a:off x="2822400" y="5218200"/>
            <a:ext cx="5624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2"/>
          <p:cNvSpPr/>
          <p:nvPr/>
        </p:nvSpPr>
        <p:spPr>
          <a:xfrm>
            <a:off x="6840" y="418608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11 M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4"/>
          <p:cNvSpPr/>
          <p:nvPr/>
        </p:nvSpPr>
        <p:spPr>
          <a:xfrm>
            <a:off x="1612440" y="4923000"/>
            <a:ext cx="104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14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Shi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5"/>
          <p:cNvSpPr/>
          <p:nvPr/>
        </p:nvSpPr>
        <p:spPr>
          <a:xfrm>
            <a:off x="917640" y="5486400"/>
            <a:ext cx="131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42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7"/>
          <p:cNvSpPr/>
          <p:nvPr/>
        </p:nvSpPr>
        <p:spPr>
          <a:xfrm>
            <a:off x="501480" y="4729320"/>
            <a:ext cx="1024200" cy="0"/>
          </a:xfrm>
          <a:prstGeom prst="line">
            <a:avLst/>
          </a:prstGeom>
          <a:ln w="936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8"/>
          <p:cNvSpPr/>
          <p:nvPr/>
        </p:nvSpPr>
        <p:spPr>
          <a:xfrm>
            <a:off x="2293920" y="548640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-28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9"/>
          <p:cNvSpPr/>
          <p:nvPr/>
        </p:nvSpPr>
        <p:spPr>
          <a:xfrm>
            <a:off x="1598760" y="5218200"/>
            <a:ext cx="1160280" cy="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0"/>
          <p:cNvSpPr/>
          <p:nvPr/>
        </p:nvSpPr>
        <p:spPr>
          <a:xfrm>
            <a:off x="1806480" y="5722920"/>
            <a:ext cx="198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Data D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to Recipient</a:t>
            </a: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23"/>
          <p:cNvSpPr/>
          <p:nvPr/>
        </p:nvSpPr>
        <p:spPr>
          <a:xfrm rot="16200000">
            <a:off x="5429160" y="3570120"/>
            <a:ext cx="380880" cy="5699160"/>
          </a:xfrm>
          <a:custGeom>
            <a:avLst/>
            <a:gdLst>
              <a:gd name="textAreaLeft" fmla="*/ 243360 w 380880"/>
              <a:gd name="textAreaRight" fmla="*/ 381240 w 380880"/>
              <a:gd name="textAreaTop" fmla="*/ 65520 h 5699160"/>
              <a:gd name="textAreaBottom" fmla="*/ 5633640 h 569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97"/>
                  <a:pt x="10800" y="794"/>
                </a:cubicBezTo>
                <a:lnTo>
                  <a:pt x="10800" y="10006"/>
                </a:lnTo>
                <a:cubicBezTo>
                  <a:pt x="10800" y="10403"/>
                  <a:pt x="5400" y="10800"/>
                  <a:pt x="0" y="10800"/>
                </a:cubicBezTo>
                <a:cubicBezTo>
                  <a:pt x="5400" y="10800"/>
                  <a:pt x="10800" y="11197"/>
                  <a:pt x="10800" y="11594"/>
                </a:cubicBezTo>
                <a:lnTo>
                  <a:pt x="10800" y="20806"/>
                </a:lnTo>
                <a:cubicBezTo>
                  <a:pt x="10800" y="21203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4"/>
          <p:cNvSpPr/>
          <p:nvPr/>
        </p:nvSpPr>
        <p:spPr>
          <a:xfrm>
            <a:off x="4572720" y="65674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8-Day AIRAC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7666200" y="5486400"/>
            <a:ext cx="161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0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ffective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8"/>
          <p:cNvSpPr/>
          <p:nvPr/>
        </p:nvSpPr>
        <p:spPr>
          <a:xfrm>
            <a:off x="-149400" y="5486400"/>
            <a:ext cx="1238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-56 Day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for Major 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1187280" y="418788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25 M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5415120" y="4516560"/>
            <a:ext cx="0" cy="988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5036760" y="418788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3 AP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5"/>
          <p:cNvSpPr/>
          <p:nvPr/>
        </p:nvSpPr>
        <p:spPr>
          <a:xfrm>
            <a:off x="4610160" y="5486400"/>
            <a:ext cx="16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13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Publication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30"/>
          <p:cNvSpPr/>
          <p:nvPr/>
        </p:nvSpPr>
        <p:spPr>
          <a:xfrm>
            <a:off x="2259000" y="1544760"/>
            <a:ext cx="441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Jeppesen Enroute Ch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31"/>
          <p:cNvSpPr/>
          <p:nvPr/>
        </p:nvSpPr>
        <p:spPr>
          <a:xfrm>
            <a:off x="704880" y="1938240"/>
            <a:ext cx="64371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pdated every 28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pdated in accordance with Jeppesen chart process cri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y be updated outside AIRAC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nges covered by Chart Change Notices each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 airway will not be on the chart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 was received 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NSP is not responding to clar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 received on paper or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6532200" y="418788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 AP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5"/>
          <p:cNvSpPr/>
          <p:nvPr/>
        </p:nvSpPr>
        <p:spPr>
          <a:xfrm>
            <a:off x="6172200" y="5486400"/>
            <a:ext cx="16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6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Publication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5"/>
          <p:cNvSpPr/>
          <p:nvPr/>
        </p:nvSpPr>
        <p:spPr>
          <a:xfrm>
            <a:off x="6977160" y="4516560"/>
            <a:ext cx="0" cy="988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5"/>
          <p:cNvSpPr/>
          <p:nvPr/>
        </p:nvSpPr>
        <p:spPr>
          <a:xfrm>
            <a:off x="4014720" y="4516560"/>
            <a:ext cx="0" cy="9889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3560400" y="418788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14 AP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5"/>
          <p:cNvSpPr/>
          <p:nvPr/>
        </p:nvSpPr>
        <p:spPr>
          <a:xfrm>
            <a:off x="3130560" y="5486400"/>
            <a:ext cx="176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000">
                <a:solidFill>
                  <a:srgbClr val="ff6600"/>
                </a:solidFill>
                <a:latin typeface="Arial"/>
              </a:rPr>
              <a:t>-22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000">
                <a:solidFill>
                  <a:srgbClr val="ff6600"/>
                </a:solidFill>
                <a:latin typeface="Arial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000">
                <a:solidFill>
                  <a:srgbClr val="ff6600"/>
                </a:solidFill>
                <a:latin typeface="Arial"/>
              </a:rPr>
              <a:t>Cut-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8"/>
          <p:cNvSpPr/>
          <p:nvPr/>
        </p:nvSpPr>
        <p:spPr>
          <a:xfrm>
            <a:off x="4022640" y="4516560"/>
            <a:ext cx="4478400" cy="9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1969920" y="6539040"/>
            <a:ext cx="32004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EPPESEN PROPRIE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1198440" y="136440"/>
            <a:ext cx="6848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ppesen Production Process in sync with ICAO Publication Dates according to Annex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1"/>
          <p:cNvSpPr/>
          <p:nvPr/>
        </p:nvSpPr>
        <p:spPr>
          <a:xfrm>
            <a:off x="111240" y="136440"/>
            <a:ext cx="8869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ppesen Chart-Produc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31"/>
          <p:cNvSpPr/>
          <p:nvPr/>
        </p:nvSpPr>
        <p:spPr>
          <a:xfrm>
            <a:off x="700200" y="1984320"/>
            <a:ext cx="79898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 for Jeppesen is the Aeronautical Information Package / Contact is the ANS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 from US, Canada, Japan processed in Den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 from Russia, Iceland, Norway, China, Mongolia processed in Frankfu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E charts and AP (HI) 1 / NP (HI) 2 made in Den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 charts and AT charts made in Frankfu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verlap area requires additional coord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 (HI) 1 – “aeronautical information is complete for the polar routes”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ar Orientation Chart – “for the plotting of position and course information”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ll charts printed in HQ for hemisphere where customer is 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route data in data-driven charts (JeppView, eLink for Windows, FliteSta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tPlanner) comes out of a database, which is updated every 28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914400" y="4789440"/>
            <a:ext cx="3117960" cy="2050920"/>
          </a:xfrm>
          <a:prstGeom prst="rect">
            <a:avLst/>
          </a:prstGeom>
          <a:ln w="0">
            <a:noFill/>
          </a:ln>
        </p:spPr>
      </p:pic>
      <p:sp>
        <p:nvSpPr>
          <p:cNvPr id="411" name="TextBox 39"/>
          <p:cNvSpPr/>
          <p:nvPr/>
        </p:nvSpPr>
        <p:spPr>
          <a:xfrm>
            <a:off x="2259000" y="1544760"/>
            <a:ext cx="441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Jeppesen Navigation Ch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7" descr=""/>
          <p:cNvPicPr/>
          <p:nvPr/>
        </p:nvPicPr>
        <p:blipFill>
          <a:blip r:embed="rId2"/>
          <a:stretch/>
        </p:blipFill>
        <p:spPr>
          <a:xfrm>
            <a:off x="4572000" y="4791240"/>
            <a:ext cx="2941560" cy="2047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8:10:14Z</dcterms:created>
  <dc:creator>Corporate Communications</dc:creator>
  <dc:description/>
  <cp:keywords/>
  <dc:language>en-US</dc:language>
  <cp:lastModifiedBy>volker.meyer</cp:lastModifiedBy>
  <cp:lastPrinted>2009-02-20T22:03:42Z</cp:lastPrinted>
  <dcterms:modified xsi:type="dcterms:W3CDTF">2010-03-03T10:09:02Z</dcterms:modified>
  <cp:revision>253</cp:revision>
  <dc:subject/>
  <dc:title>Jeppesen Charts &amp; Database</dc:title>
</cp:coreProperties>
</file>