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DA5F-F00B-4472-9B53-0273AF9D038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e Ross, Manager NOC, Ott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y Ness, Air Traffic Controller, Edmonton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 Risks Analysi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needs analysis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ation submitted to Transport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to support developed in CA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 B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e Dwy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summer/early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war Lak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summer/early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 Risks Analysi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ation submitted to Transport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to support developed in CA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C28-5492-4147-9E63-DB608621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747-AB1A-429F-88BE-1C3EE8A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223-1FC4-4862-BD15-BD100F0E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BD2-687E-42D8-900B-DAB89433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C232-A40A-4106-B894-36205E4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DE73-4ED1-4D05-A14F-DE108C36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19CB-D2D8-4E08-A497-4FCAFAF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2D4-25E7-4AB5-8A04-7C4AEF2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32A7-76F7-4F95-8C14-FD8AA657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DFE-CE80-443B-A5B2-AFAB0F6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E9A-984D-402F-A1E9-F75F4FC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113-788E-49CF-BE16-BFEA49E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3F13-8AE2-4E10-9FF6-FB51101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135-5FEC-4D95-9C30-6421D6A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136-52BB-4199-9321-081A427F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0587-8D5C-4E2C-8743-194A2397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969-CE78-4E7A-A972-646D9925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228-1AA8-4C52-BF7F-7ED8534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7E7-39FF-4F3C-A8EE-34FFE685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593-D05A-4BD7-BE7B-4C1E433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3D1-6571-44BA-8CF6-47E4F471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552-AA12-45A6-9169-8C624FD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153-875E-4CFA-867D-7F90B7A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8DC-0B74-41B6-BCFA-36C7ED6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C25-FE35-476D-894F-6359E44A8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F0BD-3247-4206-B565-962B8C514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0360" y="2060640"/>
            <a:ext cx="65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real, Quebec, Canad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ril 28-30, 201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raf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DS-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nadian Automated Air Traffic Control System(CAA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333360"/>
          <a:ext cx="8964720" cy="626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3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766800" y="-343080"/>
            <a:ext cx="1067760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anadian Automated Control System(CAAT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ed in southern airspace –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ing northern airspace November 20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 Interface Control Document imbedded within CA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S Interface Data Communication – spring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NP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Jeppesen Way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1832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3:43:37Z</dcterms:created>
  <dc:creator>carlsob</dc:creator>
  <dc:description/>
  <dc:language>en-US</dc:language>
  <cp:lastModifiedBy>marchb</cp:lastModifiedBy>
  <dcterms:modified xsi:type="dcterms:W3CDTF">2010-04-21T19:05:39Z</dcterms:modified>
  <cp:revision>44</cp:revision>
  <dc:subject/>
  <dc:title>RAMEL360presentationCPWG9</dc:title>
</cp:coreProperties>
</file>