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752A-7943-4E09-BF7B-D5AA8045D582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Svalbard utsatt mar 2010. Grå farge ca 30000 f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CBE-44C8-4A68-9C8F-5E267E87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D36-B217-4319-9B0A-959FA03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BBA-0185-41DC-8EA2-199BDC19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DF2-1BDF-4F99-A899-861E3200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191-6C20-418F-89FA-0924F682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533-CA2D-44EE-A463-D137414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8F5-EC19-4A93-A8E2-6BC8E497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D43-AF07-442F-A6AD-B8B6656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92B-481F-436F-AB74-9503FD3F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20A-DCEE-43A0-8810-B01E92E9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373-35E1-4792-82EA-CF15A50C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2BD-DEE8-467B-B535-7377810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DFEA-8A81-4422-92D8-2285218B1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3:02:44Z</dcterms:created>
  <dc:creator>Morten Tjønndal</dc:creator>
  <dc:description/>
  <dc:language>en-US</dc:language>
  <cp:lastModifiedBy>Morten Tjønndal</cp:lastModifiedBy>
  <dcterms:modified xsi:type="dcterms:W3CDTF">2010-04-29T13:03:04Z</dcterms:modified>
  <cp:revision>1</cp:revision>
  <dc:subject/>
  <dc:title>Lysbilde 1</dc:title>
</cp:coreProperties>
</file>