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B9C5-C6ED-4C66-AD61-EF8849EB2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AEBF-3A00-41C9-889E-9B259C421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6B0C-F9C9-4D4F-9041-ED78C3938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B27D-6B38-4A26-AC3D-829126A47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6A90-E516-46F6-A997-55CBA9D26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79BE-8225-41EB-A937-59625146D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A93B-0120-4599-B867-F94B2AB95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6C3A-52E9-42B0-8BEA-2A493E3EE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9C11-525E-4900-82B7-F6BF288AA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45FC-BEA3-4B6A-9536-0AFA7E92B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CEA3-A20D-421C-8C68-181475616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5E87-B089-4FB1-AB4D-A0AFCA8DB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8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675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14334" t="3733" r="14975" b="4562"/>
          <a:stretch/>
        </p:blipFill>
        <p:spPr>
          <a:xfrm>
            <a:off x="5689440" y="6276960"/>
            <a:ext cx="489240" cy="4906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386760" y="630396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46240" y="6308640"/>
            <a:ext cx="17668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WG/9 Mont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8-30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ACDF-F97D-4F9A-BDB1-4AE77986FA54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2292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6960" y="4497480"/>
            <a:ext cx="482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6054840" y="5630760"/>
            <a:ext cx="2894040" cy="911160"/>
            <a:chOff x="6054840" y="5630760"/>
            <a:chExt cx="2894040" cy="911160"/>
          </a:xfrm>
        </p:grpSpPr>
        <p:pic>
          <p:nvPicPr>
            <p:cNvPr id="48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6054840" y="563076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989760" y="581796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00" y="5513400"/>
            <a:ext cx="3849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PWG/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nt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ril 28-30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472428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PDLC Process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With PAZ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P06-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PDLC processing with PAZA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PDLC processing begins with an ATS Facilities Notification (AFN) log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IATA address for PAZA is ANCXFX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ZA will accept any logon. No flight plan or tail number on file i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ce an AFN logon has been established, the CPDLC connection is automatically reques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6DB6-D8AF-467D-AF22-B442607709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PDLC processing with PAZA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PDLC messages are sent directly to the responsible controll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are displayed on a 20” monitor at the controller work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1CB0-7FC2-4850-9F4C-D6001F419A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PDLC processing with PAZA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C clearances automatically update the flight prof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ition reports automatically update  flight ti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lers do not know by what means (SATCOM, HF or VHF) that a CPDLC message is being transmit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108E-FBC3-453B-BA85-9598F8F277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PDLC processing with PAZA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ZA does address forwarding of the AFN logon. This is a VSP that is adaptable per adjacent F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ext Data Authority (NDA) uplink is generally sent 30 minutes prior to exiting the F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nd Of Service (EOS) uplink is generally sent 10 minutes before exiting the F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13C9-C175-40FC-BF85-83CE9F91A8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776160" y="4794120"/>
            <a:ext cx="527544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Questions ?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5B91-8385-4293-835F-CDC001D681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Dennis Addison</dc:creator>
  <dc:description/>
  <dc:language>en-US</dc:language>
  <cp:lastModifiedBy>ATOA-IT</cp:lastModifiedBy>
  <dcterms:modified xsi:type="dcterms:W3CDTF">2010-04-02T17:38:04Z</dcterms:modified>
  <cp:revision>345</cp:revision>
  <dc:subject/>
  <dc:title>Oakland ARTCC</dc:title>
</cp:coreProperties>
</file>