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449280" y="6205680"/>
            <a:ext cx="4784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CPWG/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April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00DC-DC91-46ED-AA7F-C261622FC2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6" name="Picture 8" descr="NEW FAA LOGO"/>
            <p:cNvPicPr/>
            <p:nvPr/>
          </p:nvPicPr>
          <p:blipFill>
            <a:blip r:embed="rId2"/>
            <a:srcRect l="14357" t="3733" r="14973" b="4579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Text Box 9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_imagery_nologo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6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46" name="Picture 7" descr="NEW FAA LOGO"/>
            <p:cNvPicPr/>
            <p:nvPr/>
          </p:nvPicPr>
          <p:blipFill>
            <a:blip r:embed="rId3"/>
            <a:srcRect l="14334" t="3733" r="14976" b="4567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8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Global ATFM Manual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grpSp>
        <p:nvGrpSpPr>
          <p:cNvPr id="87" name="Group 13"/>
          <p:cNvGrpSpPr/>
          <p:nvPr/>
        </p:nvGrpSpPr>
        <p:grpSpPr>
          <a:xfrm>
            <a:off x="2324160" y="1171440"/>
            <a:ext cx="4495320" cy="4514760"/>
            <a:chOff x="2324160" y="1171440"/>
            <a:chExt cx="4495320" cy="4514760"/>
          </a:xfrm>
        </p:grpSpPr>
        <p:sp>
          <p:nvSpPr>
            <p:cNvPr id="88" name="Puzzle3"/>
            <p:cNvSpPr/>
            <p:nvPr/>
          </p:nvSpPr>
          <p:spPr>
            <a:xfrm>
              <a:off x="4513320" y="1171440"/>
              <a:ext cx="1766880" cy="239940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400"/>
                <a:gd name="textAreaBottom" fmla="*/ 2247480 h 239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Puzzle2"/>
            <p:cNvSpPr/>
            <p:nvPr/>
          </p:nvSpPr>
          <p:spPr>
            <a:xfrm>
              <a:off x="3999240" y="2919240"/>
              <a:ext cx="2820240" cy="218520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5200"/>
                <a:gd name="textAreaBottom" fmla="*/ 2068200 h 218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Puzzle4"/>
            <p:cNvSpPr/>
            <p:nvPr/>
          </p:nvSpPr>
          <p:spPr>
            <a:xfrm>
              <a:off x="2907720" y="2892240"/>
              <a:ext cx="1700280" cy="279396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960"/>
                <a:gd name="textAreaBottom" fmla="*/ 2066760 h 27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Puzzle1"/>
            <p:cNvSpPr/>
            <p:nvPr/>
          </p:nvSpPr>
          <p:spPr>
            <a:xfrm>
              <a:off x="2324160" y="1897200"/>
              <a:ext cx="2855520" cy="166536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360"/>
                <a:gd name="textAreaBottom" fmla="*/ 1506960 h 16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18"/>
          <p:cNvSpPr/>
          <p:nvPr/>
        </p:nvSpPr>
        <p:spPr>
          <a:xfrm>
            <a:off x="6705720" y="16765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FM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6858000" y="3809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838080" y="16002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FM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304920" y="3733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FM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6"/>
          <p:cNvSpPr/>
          <p:nvPr/>
        </p:nvSpPr>
        <p:spPr>
          <a:xfrm>
            <a:off x="4038480" y="51055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FM Terminol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228600" y="1039320"/>
            <a:ext cx="51814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9.  Common ATFM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1 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2  ATFM Messag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3 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4  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5 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lobal ATFM Manual</a:t>
            </a:r>
            <a:br>
              <a:rPr sz="3600"/>
            </a:b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rcRect l="0" t="0" r="0" b="8920"/>
          <a:stretch/>
        </p:blipFill>
        <p:spPr>
          <a:xfrm>
            <a:off x="5181480" y="1219320"/>
            <a:ext cx="3219480" cy="4389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" descr=""/>
          <p:cNvPicPr/>
          <p:nvPr/>
        </p:nvPicPr>
        <p:blipFill>
          <a:blip r:embed="rId1">
            <a:lum bright="-26000"/>
          </a:blip>
          <a:stretch/>
        </p:blipFill>
        <p:spPr>
          <a:xfrm>
            <a:off x="762120" y="914400"/>
            <a:ext cx="7696080" cy="480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8" name="Rectangle 8"/>
          <p:cNvSpPr/>
          <p:nvPr/>
        </p:nvSpPr>
        <p:spPr>
          <a:xfrm>
            <a:off x="609480" y="1350360"/>
            <a:ext cx="76201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1.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1  Definition of Air Traffic Flow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2  Philosophy of Air Traffic Flow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3  Benefits of Air Traffic Flow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4  Purpose of this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lobal ATFM Manual</a:t>
            </a:r>
            <a:br>
              <a:rPr sz="3600"/>
            </a:b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aircraft night taxi"/>
          <p:cNvPicPr/>
          <p:nvPr/>
        </p:nvPicPr>
        <p:blipFill>
          <a:blip r:embed="rId1">
            <a:lum bright="-8000"/>
          </a:blip>
          <a:stretch/>
        </p:blipFill>
        <p:spPr>
          <a:xfrm>
            <a:off x="609480" y="806400"/>
            <a:ext cx="7848720" cy="4756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1" name="Rectangle 3"/>
          <p:cNvSpPr/>
          <p:nvPr/>
        </p:nvSpPr>
        <p:spPr>
          <a:xfrm>
            <a:off x="609480" y="1112040"/>
            <a:ext cx="80409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2.  Foundational Principles of AT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1  Objectives of Air Traffic Flow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2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inciples of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ir Traffic Flow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3  Collaborative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3.1 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3.2 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3.3  CDM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lobal ATFM Manual</a:t>
            </a:r>
            <a:br>
              <a:rPr sz="3600"/>
            </a:b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>
            <a:lum bright="-24000"/>
          </a:blip>
          <a:srcRect l="0" t="11712" r="1704" b="0"/>
          <a:stretch/>
        </p:blipFill>
        <p:spPr>
          <a:xfrm>
            <a:off x="838080" y="606600"/>
            <a:ext cx="7464600" cy="4981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4" name="Rectangle 2"/>
          <p:cNvSpPr/>
          <p:nvPr/>
        </p:nvSpPr>
        <p:spPr>
          <a:xfrm>
            <a:off x="533520" y="11527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2.  Foundational Principles of AT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3  Collaborative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3.4  Requirements and Benefits of C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3.5  Civil-Military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3.6  CDM Organization and a Sampl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3.7 Global CDM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bal ATFM Manual</a:t>
            </a:r>
            <a:br>
              <a:rPr sz="3600"/>
            </a:b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457200" y="762120"/>
            <a:ext cx="8153280" cy="480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7" name="Rectangle 3"/>
          <p:cNvSpPr/>
          <p:nvPr/>
        </p:nvSpPr>
        <p:spPr>
          <a:xfrm>
            <a:off x="380880" y="1272960"/>
            <a:ext cx="8534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pter 3.  ATFM Development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  Application of Air Traffic Flow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FM Development Strategy:  Initial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3  ATFM Development Strategy:  Intermediat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4  ATFM Development Strategy:  Advanced Step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lobal ATFM Manual</a:t>
            </a:r>
            <a:br>
              <a:rPr sz="3600"/>
            </a:b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152280" y="1116360"/>
            <a:ext cx="49532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4. Data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1  Information Ex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2  Fligh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3  Meteorological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4  Tool Ex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lobal ATFM Manual</a:t>
            </a:r>
            <a:br>
              <a:rPr sz="3600"/>
            </a:b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105520" y="762120"/>
            <a:ext cx="3581280" cy="4981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228600" y="969840"/>
            <a:ext cx="441972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pter 5. 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1 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2  Stakeholder ATFM      Communication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3  The International Language of AT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4  Coordination of ATFM Information and Traffic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itiat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5  Exchanging ATFM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6  Operations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lobal ATFM Manual</a:t>
            </a:r>
            <a:br>
              <a:rPr sz="3600"/>
            </a:b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4419720" y="1508040"/>
            <a:ext cx="4647960" cy="372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228600" y="1031400"/>
            <a:ext cx="86868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6. Demand and Capacity Bal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7.  Establishing the Aerodrome Acceptanc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1 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2  Determining the Aerodrome Acceptance Rat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3  Aerodrome Departur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4  Total Aerodrome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lobal ATFM Manual</a:t>
            </a:r>
            <a:br>
              <a:rPr sz="3600"/>
            </a:b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762120" y="200880"/>
            <a:ext cx="7924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8.  Establishing the Sector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1 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2  Determining the Sector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lobal ATFM Manual</a:t>
            </a:r>
            <a:br>
              <a:rPr sz="3600"/>
            </a:b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477120" cy="2914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16:52:39Z</dcterms:created>
  <dc:creator>Leslie</dc:creator>
  <dc:description/>
  <dc:language>en-US</dc:language>
  <cp:lastModifiedBy>LMcCormick</cp:lastModifiedBy>
  <dcterms:modified xsi:type="dcterms:W3CDTF">2010-04-14T21:07:24Z</dcterms:modified>
  <cp:revision>300</cp:revision>
  <dc:subject/>
  <dc:title>Introduction to Traffic Situation Display (TSD) 8.2</dc:title>
</cp:coreProperties>
</file>