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3421-70C7-4991-9A18-BC34FF62CE6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ve Rose, Manager NOC, Ott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ey Ness, Air Traffic Controller, Edmonton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one to mitigate such scenar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awareness on the part of pilots, dispatchers, and ATC that FL381/11600m is expected after RA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Edmonton opposed to the idea of combining FL340 &amp; FL360 at RAMEL instead of the current arran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t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ppor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inclusion of NIKIN in the FL360 trial, but opposes combining FL340/Fl360 at either RAMEL or NI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48/10600m is popular, and would become more crow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FL300/FL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Edmonton opposed to the idea of combining FL340 &amp; FL360 at RAMEL instead of the current arran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48/10600m is popular, and would become more crow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s that could usually transition to FL381/11600m would be forced to FL348/10600m, only to climb to FL381/11600m shortly thereafter (especially in the case of B772/B77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increased use of FL300/FL320 as a result of flights descending from FL360 to FL3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monton supports “status quo” in regards to combining FL360 with FL380, but supports the inclusion of NIKIN in the FL360 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eater awareness on the part of pilots, dispatchers, and ATC that FL381/11600m is expected after RAMEL is better than treating FL340 &amp; FL360 as one alt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use FL360 at RAMEL has bee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sitively accepted in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ton plans westbound traffic flow at R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ntrollers more options for planning 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bing to FL380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MEL, instead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MEL, has been the difference between reaching, and not reaching, FL380 for some f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60 &amp; FL380 transition to the same altitude – FL381/1160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00 &amp; FL320 transition to the same altitude – FL315/960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40 transitions exclusively to FL348/1060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hallenge has been noticed with the use of FL36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is the altitude expectation after passing RAMEL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360 transitions to FL381/11600m. It is not evident that all Controllers and Pilots understand this. This is not normally a problem when dispatch files FL360 over RAMEL, but has been a problem when flights previously planned at FL340 have been tactically moved to FL3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atch plans FL381/11600m……..most of the time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s have been noted of FL360 filed in GRL with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L348/10600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lanned after R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work very well with another flight at FL340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s planned at FL340 have been tactically climbed to FL360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are sometimes unable to climb higher after R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flights would then transition to FL348/1060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work very well eithe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s appropriate fo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, planned, &amp; produ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igh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able to use FL364/11100m “wrong way”/inappropriate for direction of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presence of eastbound 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altitude, but based on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ing in altitude penalties after RAMEL for both aircraft as one would transition to FL348/10600m &amp; the other to FL315/960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and counterprodu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32C-A4B8-4DA2-8C7E-C5EE903D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218-AB3D-44B7-A02C-A56C7EB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568-B9F7-4147-ABF3-CD5A484D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6B3-B1C6-4183-9728-42517D63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9585-BCCD-47F0-A4DF-A66FEA4F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6731-4EF1-44D3-8E0F-8ECE93A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4ED9-977B-4CA2-A10E-044621E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C81-038A-4698-BFA4-C5CA3FB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8BFA-AD52-4714-B41D-8279F979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D345-7DC4-4CCA-8056-DE08F61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583-B549-4647-A519-BA4E82C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510-B81D-41C1-978D-626FB57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15CA-49A2-41E1-8749-6A22E37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A8C-D5DE-4667-A4AD-EED4FE1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315-F0D9-4E54-8274-0ADE0A2D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C3F-3C52-49A5-80AD-4706C2A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99E4-1A83-4D07-B955-1FEF4686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7D2-4E4D-42E1-9EAB-5ACA321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4C0-024E-42F6-9E62-63C92FD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11A-8EC3-45E3-9CA7-AC0D5ECF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719-448D-4689-862B-1E7E99FB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393-2C44-44FC-8AB2-83268BF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8D4-F1AC-4930-943C-C0E3735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6FF-69E6-4718-B828-39F8DFA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877E-8DBB-4FBD-A9DD-8A7D93C7A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65E-07FE-4CF5-B322-164F6E1C5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4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4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0360" y="2060640"/>
            <a:ext cx="65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FL360 at RAMEL – an Edmonton Perspective”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real, Quebec, Canad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pril 28-30, 20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yon Carlson, Edmonton ACC North High Supervisor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be done to mitigate such scena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eater awareness on the part of pilots, dispatchers, and ATC that FL381/11600m is expected after RAM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orward…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Edmonton opposed to combining FL340 &amp; FL360 at RAMEL/NIKIN instead of the current arrangement of FL360 &amp; FL38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348/10600m is popular, and would become more crow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craft pushed to FL300/FL320 when FL340/360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orward…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1484280"/>
            <a:ext cx="5905440" cy="358920"/>
          </a:xfrm>
          <a:prstGeom prst="leftArrow">
            <a:avLst>
              <a:gd name="adj1" fmla="val 50000"/>
              <a:gd name="adj2" fmla="val 4113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2205000"/>
            <a:ext cx="5905440" cy="358920"/>
          </a:xfrm>
          <a:prstGeom prst="leftArrow">
            <a:avLst>
              <a:gd name="adj1" fmla="val 50000"/>
              <a:gd name="adj2" fmla="val 4113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1052640"/>
            <a:ext cx="0" cy="50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602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/NI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97000"/>
            <a:ext cx="2484360" cy="360360"/>
          </a:xfrm>
          <a:prstGeom prst="leftArrow">
            <a:avLst>
              <a:gd name="adj1" fmla="val 50000"/>
              <a:gd name="adj2" fmla="val 17235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1/11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4" idx="0"/>
            <a:endCxn id="194" idx="1"/>
          </p:cNvCxnSpPr>
          <p:nvPr/>
        </p:nvCxnSpPr>
        <p:spPr>
          <a:xfrm>
            <a:off x="3058920" y="60940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8" name=""/>
          <p:cNvCxnSpPr>
            <a:stCxn id="193" idx="0"/>
            <a:endCxn id="199" idx="0"/>
          </p:cNvCxnSpPr>
          <p:nvPr/>
        </p:nvCxnSpPr>
        <p:spPr>
          <a:xfrm flipH="1">
            <a:off x="2555640" y="2383920"/>
            <a:ext cx="504000" cy="939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0" name=""/>
          <p:cNvCxnSpPr>
            <a:stCxn id="192" idx="0"/>
            <a:endCxn id="196" idx="0"/>
          </p:cNvCxnSpPr>
          <p:nvPr/>
        </p:nvCxnSpPr>
        <p:spPr>
          <a:xfrm flipH="1" flipV="1">
            <a:off x="2483640" y="1377360"/>
            <a:ext cx="57564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3059280" y="3573360"/>
            <a:ext cx="5905440" cy="358920"/>
          </a:xfrm>
          <a:prstGeom prst="leftArrow">
            <a:avLst>
              <a:gd name="adj1" fmla="val 50000"/>
              <a:gd name="adj2" fmla="val 41133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141720"/>
            <a:ext cx="2556000" cy="360360"/>
          </a:xfrm>
          <a:prstGeom prst="leftArrow">
            <a:avLst>
              <a:gd name="adj1" fmla="val 50000"/>
              <a:gd name="adj2" fmla="val 1773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9" idx="1"/>
            <a:endCxn id="201" idx="0"/>
          </p:cNvCxnSpPr>
          <p:nvPr/>
        </p:nvCxnSpPr>
        <p:spPr>
          <a:xfrm>
            <a:off x="2556000" y="3322440"/>
            <a:ext cx="50400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059280" y="4797360"/>
            <a:ext cx="5905440" cy="358920"/>
          </a:xfrm>
          <a:prstGeom prst="leftArrow">
            <a:avLst>
              <a:gd name="adj1" fmla="val 50000"/>
              <a:gd name="adj2" fmla="val 411334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5373720"/>
            <a:ext cx="5905440" cy="433440"/>
          </a:xfrm>
          <a:prstGeom prst="leftArrow">
            <a:avLst>
              <a:gd name="adj1" fmla="val 50000"/>
              <a:gd name="adj2" fmla="val 340615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941720"/>
            <a:ext cx="2484360" cy="432000"/>
          </a:xfrm>
          <a:prstGeom prst="leftArrow">
            <a:avLst>
              <a:gd name="adj1" fmla="val 50000"/>
              <a:gd name="adj2" fmla="val 143771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15/9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3" idx="0"/>
            <a:endCxn id="205" idx="0"/>
          </p:cNvCxnSpPr>
          <p:nvPr/>
        </p:nvCxnSpPr>
        <p:spPr>
          <a:xfrm flipH="1">
            <a:off x="2483640" y="4976280"/>
            <a:ext cx="575640" cy="181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7" name=""/>
          <p:cNvCxnSpPr>
            <a:stCxn id="204" idx="0"/>
            <a:endCxn id="205" idx="1"/>
          </p:cNvCxnSpPr>
          <p:nvPr/>
        </p:nvCxnSpPr>
        <p:spPr>
          <a:xfrm flipH="1" flipV="1">
            <a:off x="2483640" y="5157360"/>
            <a:ext cx="575640" cy="434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00720" y="249228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780000" y="3860640"/>
            <a:ext cx="733320" cy="503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7020000" y="3860640"/>
            <a:ext cx="733320" cy="50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956720" y="3860640"/>
            <a:ext cx="73332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6012000" y="5013360"/>
            <a:ext cx="7333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185 C -0.07847 0.00093 -0.14045 -0.00185 -0.14045 -0.00185 L -0.17587 -0.08651 L -0.46649 -0.08651 E">
                                      <p:cBhvr>
                                        <p:cTn id="17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4635 0.00162 C -0.05816 0.00162 -0.06979 0.00162 -0.08159 0.00162 L -0.26284 0.00324 L -0.29809 -0.0798 L -0.58281 -0.07194 E">
                                      <p:cBhvr>
                                        <p:cTn id="17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 -0.00277 C -0.09132 -0.0037 -0.12448 -0.00694 -0.16198 -0.01064 C -0.20191 -0.01966 -0.25052 -0.01272 -0.28663 -0.01226 C -0.31354 -0.01295 -0.33142 -0.01041 -0.35503 -0.0185 C -0.36319 -0.01804 -0.39149 -0.03169 -0.39948 -0.02937 C -0.40903 -0.01272 -0.40989 0.05876 -0.41371 0.08189 C -0.41597 0.09346 -0.41406 0.10294 -0.42205 0.11011 C -0.43628 0.1189 -0.46406 0.11358 -0.48906 0.11335 C -0.51371 0.11312 -0.55382 0.12006 -0.57135 0.10849 C -0.58889 0.09693 -0.58733 0.08929 -0.59479 0.04419 C -0.60955 -0.00231 -0.63472 -0.13046 -0.66042 -0.17048 C -0.71285 -0.1721 -0.73524 -0.17765 -0.74861 -0.19546 E">
                                      <p:cBhvr>
                                        <p:cTn id="180" dur="10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5228 C -0.09271 -0.05205 -0.27309 -0.05112 -0.32691 -0.05043 C -0.3401 -0.04997 -0.35469 -0.04765 -0.3684 -0.04765 L -0.38351 -0.04441 L -0.42118 -0.02868 L -0.71163 -0.02244 E">
                                      <p:cBhvr>
                                        <p:cTn id="182" dur="10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orward…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monton supports “status quo” FL360/3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monton supports the inclusion of NIKIN in the FL360 t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 input is crucial to the way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awareness on the part of pilots, dispatchers, and ATC that FL381/11600m is expected after RAMEL is better than treating FL340 &amp; FL360 as one alt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1832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ts from Russia &amp;/or FA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to use FL360 at RAMEL has be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itively accepted in Edmo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monton plans westbound traffic flow at RAM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Controllers more options for planning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bing to FL380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MEL, instead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MEL, has been the difference between reaching, and not reaching, FL380 for some fligh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itud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052640"/>
            <a:ext cx="0" cy="50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360" y="6021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700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1/11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0" idx="1"/>
          </p:cNvCxnSpPr>
          <p:nvPr/>
        </p:nvCxnSpPr>
        <p:spPr>
          <a:xfrm>
            <a:off x="4642920" y="60940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4" name=""/>
          <p:cNvCxnSpPr>
            <a:stCxn id="99" idx="0"/>
            <a:endCxn id="102" idx="0"/>
          </p:cNvCxnSpPr>
          <p:nvPr/>
        </p:nvCxnSpPr>
        <p:spPr>
          <a:xfrm flipH="1" flipV="1">
            <a:off x="4426920" y="1377360"/>
            <a:ext cx="216360" cy="1006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5" name=""/>
          <p:cNvCxnSpPr>
            <a:stCxn id="98" idx="0"/>
            <a:endCxn id="102" idx="1"/>
          </p:cNvCxnSpPr>
          <p:nvPr/>
        </p:nvCxnSpPr>
        <p:spPr>
          <a:xfrm flipH="1" flipV="1">
            <a:off x="4426920" y="1377360"/>
            <a:ext cx="21636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0"/>
            <a:endCxn id="106" idx="0"/>
          </p:cNvCxnSpPr>
          <p:nvPr/>
        </p:nvCxnSpPr>
        <p:spPr>
          <a:xfrm>
            <a:off x="4427280" y="3322440"/>
            <a:ext cx="21636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643280" y="4797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5373720"/>
            <a:ext cx="4321440" cy="433440"/>
          </a:xfrm>
          <a:prstGeom prst="leftArrow">
            <a:avLst>
              <a:gd name="adj1" fmla="val 50000"/>
              <a:gd name="adj2" fmla="val 249252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41720"/>
            <a:ext cx="4427640" cy="432000"/>
          </a:xfrm>
          <a:prstGeom prst="leftArrow">
            <a:avLst>
              <a:gd name="adj1" fmla="val 50000"/>
              <a:gd name="adj2" fmla="val 256229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15/9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0"/>
            <a:endCxn id="111" idx="0"/>
          </p:cNvCxnSpPr>
          <p:nvPr/>
        </p:nvCxnSpPr>
        <p:spPr>
          <a:xfrm flipH="1">
            <a:off x="4426920" y="4976280"/>
            <a:ext cx="216360" cy="181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3" name=""/>
          <p:cNvCxnSpPr>
            <a:stCxn id="110" idx="0"/>
            <a:endCxn id="111" idx="1"/>
          </p:cNvCxnSpPr>
          <p:nvPr/>
        </p:nvCxnSpPr>
        <p:spPr>
          <a:xfrm flipH="1" flipV="1">
            <a:off x="4426920" y="5157360"/>
            <a:ext cx="216360" cy="434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93080" y="249228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893080" y="3860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769240" y="580536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964720" y="1052640"/>
            <a:ext cx="73332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8964720" y="4076640"/>
            <a:ext cx="733320" cy="5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9144000" y="4508640"/>
            <a:ext cx="7333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0.00047 L -0.0941 -3.35647E-006 L -0.22604 0.0044 C -0.29254 0.00879 -0.25712 0.00717 -0.38542 0.0044 C -0.43507 0.00185 -0.49844 0.00347 -0.52309 -0.00254 C -0.52465 -0.00647 -0.53143 -0.02729 -0.53299 -0.03146 C -0.53507 -0.03678 -0.53768 -0.05968 -0.53768 -0.05945 C -0.53941 -0.07494 -0.54011 -0.10779 -0.54375 -0.12375 C -0.54879 -0.14018 -0.55122 -0.14203 -0.56007 -0.15521 C -0.59184 -0.15938 -0.67014 -0.15059 -0.7342 -0.14897 L -0.94462 -0.14573 C -0.95816 -0.14619 -0.98524 -0.14735 -0.98524 -0.14712 L -1.03125 -0.14665 E">
                                      <p:cBhvr>
                                        <p:cTn id="32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416 C 0.02673 -0.00648 -0.02361 -0.00833 -0.07379 -0.01203 C -0.13108 -0.01295 -0.22084 -0.01388 -0.26667 -0.01041 C -0.31736 -0.01041 -0.49462 -0.01665 -0.51493 -0.02035 C -0.52118 -0.02706 -0.51389 -0.0303 -0.52066 -0.04071 C -0.53108 -0.05066 -0.52222 -0.07495 -0.53455 -0.07842 C -0.5467 -0.08536 -0.9349 -0.0798 -1.0158 -0.08142 C -1.0967 -0.08304 -1.01979 -0.08674 -1.02049 -0.08767 E">
                                      <p:cBhvr>
                                        <p:cTn id="34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0416 C 0.03437 -0.00648 -0.0191 -0.00555 -0.06927 -0.00925 C -0.16684 -0.01157 -0.4283 -0.01272 -0.50105 -0.01827 C -0.50816 -0.02498 -0.49914 -0.03146 -0.50573 -0.04187 C -0.51598 -0.05182 -0.50625 -0.0761 -0.51858 -0.07957 C -0.55625 -0.08698 -0.63351 -0.07888 -0.68473 -0.07981 C -0.72518 -0.08119 -0.75955 -0.07819 -0.78802 -0.07819 C -0.81077 -0.07865 -0.98976 -0.08397 -1.00105 -0.0842 E">
                                      <p:cBhvr>
                                        <p:cTn id="36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77 -0.00347 C 0.01562 -0.0067 -0.02223 -0.0111 -0.05955 -0.01272 L -0.22657 -0.00347 L -0.51372 -0.00647 L -0.54914 -0.03007 L -0.60296 -0.03007 C -0.66528 -0.02937 -0.84983 -0.0259 -0.92188 -0.02521 C -0.93559 -0.0229 -1.02153 -0.02521 -1.03577 -0.02521 E">
                                      <p:cBhvr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58 0.00069 C 0.0276 -0.00254 0.046 -0.0495 -0.04827 -0.04996 L -0.52726 -0.05783 L -0.55573 -0.1189 L -1.02049 -0.11959 E">
                                      <p:cBhvr>
                                        <p:cTn id="41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0069 C 0.01129 -0.00254 -0.02656 -0.00694 -0.06388 -0.00856 L -0.2309 0.00069 L -0.546 -0.0037 L -0.56718 0.01827 L -1.03888 0.01504 E">
                                      <p:cBhvr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hallenge has been noticed with the use of FL36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altitude expectation after passing RAMEL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360 transitions to FL381/11600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6021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229360"/>
            <a:ext cx="4321080" cy="358560"/>
          </a:xfrm>
          <a:prstGeom prst="leftArrow">
            <a:avLst>
              <a:gd name="adj1" fmla="val 50000"/>
              <a:gd name="adj2" fmla="val 30128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9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1/11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3" idx="0"/>
          </p:cNvCxnSpPr>
          <p:nvPr/>
        </p:nvCxnSpPr>
        <p:spPr>
          <a:xfrm flipH="1" flipV="1">
            <a:off x="4427280" y="5157000"/>
            <a:ext cx="14472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6" name=""/>
          <p:cNvCxnSpPr>
            <a:stCxn id="122" idx="0"/>
          </p:cNvCxnSpPr>
          <p:nvPr/>
        </p:nvCxnSpPr>
        <p:spPr>
          <a:xfrm flipH="1" flipV="1">
            <a:off x="4426920" y="5157000"/>
            <a:ext cx="216360" cy="1043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43664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plans FL381/11600m……..most of the time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have been noted of FL360 filed in GRL wi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L348/10600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lanned after RA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n’t work very well with another flight at FL340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>
            <a:off x="4427280" y="3322440"/>
            <a:ext cx="21636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>
            <a:stCxn id="129" idx="0"/>
            <a:endCxn id="130" idx="0"/>
          </p:cNvCxnSpPr>
          <p:nvPr/>
        </p:nvCxnSpPr>
        <p:spPr>
          <a:xfrm flipH="1">
            <a:off x="4426920" y="2383920"/>
            <a:ext cx="216360" cy="939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685440" y="3860640"/>
            <a:ext cx="792000" cy="4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9756720" y="1844640"/>
            <a:ext cx="747720" cy="43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4427640" y="141300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652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43 -0.00648 C 0.02708 -0.00879 -0.02326 -0.01064 -0.07344 -0.01434 C -0.13073 -0.01527 -0.22066 -0.01619 -0.26632 -0.01272 C -0.31701 -0.01272 -0.56701 -0.01943 -0.58715 -0.02313 C -0.5934 -0.02984 -0.59809 -0.04094 -0.60486 -0.05135 C -0.6151 -0.0613 -0.61615 -0.164 -0.62847 -0.16747 C -0.71163 -0.17534 -1.0217 -0.17673 -1.10243 -0.17835 E">
                                      <p:cBhvr>
                                        <p:cTn id="93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66412E-006 C -0.05 -0.00232 -0.05156 -0.0007 -0.10156 -0.0044 L -0.56944 -0.01088 C -0.66111 0.01226 -0.57586 0.11034 -0.65069 0.13486 L -1.12829 0.12861 E">
                                      <p:cBhvr>
                                        <p:cTn id="9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ctical use of FL360 at RAM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8200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ghts planned at FL340 have been tactically climbed to FL360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t are sometimes unable to climb higher after RAM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lights would then transition to FL348/1060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n’t work very well either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4427280" y="3322440"/>
            <a:ext cx="21636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4" name=""/>
          <p:cNvCxnSpPr>
            <a:stCxn id="140" idx="0"/>
            <a:endCxn id="141" idx="0"/>
          </p:cNvCxnSpPr>
          <p:nvPr/>
        </p:nvCxnSpPr>
        <p:spPr>
          <a:xfrm flipH="1">
            <a:off x="4426920" y="2383920"/>
            <a:ext cx="216360" cy="939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93080" y="3860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769240" y="1844640"/>
            <a:ext cx="747720" cy="43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4643280" y="1700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380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62 -0.00046 C 0.09028 -0.00277 0.03993 -0.00462 -0.01024 -0.00833 C -0.06754 -0.00925 -0.15747 -0.01018 -0.20313 -0.00671 C -0.25382 -0.00671 -0.50382 -0.01341 -0.52396 -0.01712 C -0.53021 -0.02382 -0.5349 -0.03493 -0.54167 -0.04534 C -0.55191 -0.05528 -0.55295 -0.15799 -0.56528 -0.16146 C -0.64844 -0.16932 -0.95851 -0.17071 -1.03924 -0.17233 E">
                                      <p:cBhvr>
                                        <p:cTn id="11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0555 C 0.05139 -0.00786 0.04982 -0.00624 -0.00018 -0.00994 L -0.49167 -0.01966 C -0.57848 -0.00277 -0.52865 0.05367 -0.53872 0.07912 C -0.55591 0.10456 -0.51372 0.12492 -0.59514 0.13232 L -1.02691 0.12307 E">
                                      <p:cBhvr>
                                        <p:cTn id="113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hould happen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5406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itudes appropriate for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t, planned, &amp; produ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769240" y="1844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893080" y="3860640"/>
            <a:ext cx="747720" cy="43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365720"/>
            <a:ext cx="4427640" cy="431640"/>
          </a:xfrm>
          <a:prstGeom prst="leftArrow">
            <a:avLst>
              <a:gd name="adj1" fmla="val 50000"/>
              <a:gd name="adj2" fmla="val 256443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15/9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252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643280" y="1844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9700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1/11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9" idx="0"/>
            <a:endCxn id="152" idx="0"/>
          </p:cNvCxnSpPr>
          <p:nvPr/>
        </p:nvCxnSpPr>
        <p:spPr>
          <a:xfrm>
            <a:off x="4427280" y="1377720"/>
            <a:ext cx="216360" cy="1006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1" name=""/>
          <p:cNvCxnSpPr>
            <a:stCxn id="151" idx="0"/>
            <a:endCxn id="153" idx="0"/>
          </p:cNvCxnSpPr>
          <p:nvPr/>
        </p:nvCxnSpPr>
        <p:spPr>
          <a:xfrm>
            <a:off x="4427280" y="3322440"/>
            <a:ext cx="21636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7205 -0.00555 C 0.02205 -0.00786 0.02048 -0.00624 -0.02952 -0.00994 L -0.47743 -0.01642 C -0.5691 0.00671 -0.47917 -0.06315 -0.57396 -0.07448 L -1.06684 -0.08397 E">
                                      <p:cBhvr>
                                        <p:cTn id="119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4 -1.92228E-006 L -0.49931 -0.00301 C -0.61024 -0.01758 -0.49514 -0.07217 -0.5934 -0.08767 L -1.08872 -0.09553 E">
                                      <p:cBhvr>
                                        <p:cTn id="121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ight happen…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5406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ligh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m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able to use FL364/11100m “wrong way” if unable FL381/1160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presence of eastbound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 altitude, but based on luc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69240" y="1844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893080" y="3860640"/>
            <a:ext cx="747720" cy="43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252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43280" y="1844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1628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4/111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1" idx="0"/>
            <a:endCxn id="165" idx="0"/>
          </p:cNvCxnSpPr>
          <p:nvPr/>
        </p:nvCxnSpPr>
        <p:spPr>
          <a:xfrm>
            <a:off x="4427280" y="2097000"/>
            <a:ext cx="21636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73" name=""/>
          <p:cNvCxnSpPr>
            <a:stCxn id="164" idx="0"/>
            <a:endCxn id="166" idx="0"/>
          </p:cNvCxnSpPr>
          <p:nvPr/>
        </p:nvCxnSpPr>
        <p:spPr>
          <a:xfrm>
            <a:off x="4427280" y="3322440"/>
            <a:ext cx="216360" cy="430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7205 -0.00555 C 0.02205 -0.00786 0.02048 -0.00624 -0.02952 -0.00994 L -0.47743 -0.01642 C -0.5691 0.00671 -0.4592 -0.02567 -0.55747 -0.03701 L -1.06216 -0.04001 E">
                                      <p:cBhvr>
                                        <p:cTn id="127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4 -1.92228E-006 L -0.49931 -0.00301 C -0.61024 -0.01758 -0.49514 -0.07217 -0.5934 -0.08767 L -1.08872 -0.09553 E">
                                      <p:cBhvr>
                                        <p:cTn id="129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ight happen…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5013360"/>
            <a:ext cx="89647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itude penalties for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fficient, not planned, and counterprodu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4172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8/10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220500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3573360"/>
            <a:ext cx="4321440" cy="358920"/>
          </a:xfrm>
          <a:prstGeom prst="leftArrow">
            <a:avLst>
              <a:gd name="adj1" fmla="val 50000"/>
              <a:gd name="adj2" fmla="val 3010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/>
          <p:nvPr/>
        </p:nvCxnSpPr>
        <p:spPr>
          <a:xfrm flipH="1">
            <a:off x="4426920" y="2383920"/>
            <a:ext cx="216360" cy="939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9240" y="1844640"/>
            <a:ext cx="747720" cy="4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893080" y="3860640"/>
            <a:ext cx="747720" cy="43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4365720"/>
            <a:ext cx="4427640" cy="431640"/>
          </a:xfrm>
          <a:prstGeom prst="leftArrow">
            <a:avLst>
              <a:gd name="adj1" fmla="val 50000"/>
              <a:gd name="adj2" fmla="val 256443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15/9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8" idx="0"/>
            <a:endCxn id="182" idx="0"/>
          </p:cNvCxnSpPr>
          <p:nvPr/>
        </p:nvCxnSpPr>
        <p:spPr>
          <a:xfrm flipH="1">
            <a:off x="4426920" y="3752640"/>
            <a:ext cx="216360" cy="829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4142520" y="148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3280" y="1844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197000"/>
            <a:ext cx="4427640" cy="360360"/>
          </a:xfrm>
          <a:prstGeom prst="leftArrow">
            <a:avLst>
              <a:gd name="adj1" fmla="val 50000"/>
              <a:gd name="adj2" fmla="val 30716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381/116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0555 C 0.05139 -0.00786 0.04982 -0.00624 -0.00018 -0.00994 L -0.46806 -0.01642 C -0.55973 0.00671 -0.47448 0.10479 -0.54931 0.12931 L -1.02691 0.12307 E">
                                      <p:cBhvr>
                                        <p:cTn id="135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77 -0.00301 L -0.44636 -0.00139 C -0.55156 0.00625 -0.44827 0.03539 -0.54983 0.04233 L -1.05573 0.04071 E">
                                      <p:cBhvr>
                                        <p:cTn id="137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3:43:37Z</dcterms:created>
  <dc:creator>carlsob</dc:creator>
  <dc:description/>
  <dc:language>en-US</dc:language>
  <cp:lastModifiedBy>Air Traffic Organization</cp:lastModifiedBy>
  <dcterms:modified xsi:type="dcterms:W3CDTF">2010-04-13T12:11:48Z</dcterms:modified>
  <cp:revision>38</cp:revision>
  <dc:subject/>
  <dc:title>RAMEL360presentationCPWG9</dc:title>
</cp:coreProperties>
</file>