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B0A-919E-4BB8-BB7B-A817D3B9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7A7-4C0A-4A11-939B-9379DD66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0B3-AA31-4BFF-9434-4A15E116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5B5-397F-4CE7-B583-3A0F7B4B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B7F-E193-4E53-9057-901ABC3E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D3A-32C2-41AB-8369-979AE9DA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326-0602-42F7-A823-78EBFB7E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EA9-88D1-41EE-A813-5AA1BD64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1E0-29C9-4A3D-BF7B-A91A908E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54E-83C8-419B-8386-022B6AD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FE1-9552-4BD2-81AE-5667F13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AA5-596C-4DC2-BBEA-056D9935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C27D-7D65-45AF-A423-578F3C9F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28256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mmercial aircraft using trans-polar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vCanada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840" y="95400"/>
            <a:ext cx="8572320" cy="6667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Monitoring Radio Absorption for Trans-Polar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49971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 of transmitters and receivers for monitoring radi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.  Paths for which the direction of arrival (DO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measured are shown as solid lines, and paths for which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DOA information will not be available are shown as dashed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6:42:43Z</dcterms:created>
  <dc:creator>sso-da-rroy</dc:creator>
  <dc:description/>
  <dc:language>en-US</dc:language>
  <cp:lastModifiedBy>sso-da-rroy</cp:lastModifiedBy>
  <dcterms:modified xsi:type="dcterms:W3CDTF">2010-04-29T16:05:41Z</dcterms:modified>
  <cp:revision>2</cp:revision>
  <dc:subject/>
  <dc:title>Slide 1</dc:title>
</cp:coreProperties>
</file>