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3B80E-E1DC-47F1-8684-E758F459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0E371-C872-4FCF-86AD-015C010E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F8C36-2F27-430B-860D-1FDEF261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DADCB-657C-46BB-88B4-FDD00992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887CF-8587-4C01-A0DE-2F5100C2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D1293-A43F-4639-9720-9419F44E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5395E-2165-4297-A5A4-0F719384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C7861-0404-41A1-A256-16FEE634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85CAB-73AA-49E3-9CC3-A87E5ED4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53597-146A-4128-8074-ADF698F8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70714-62E5-426B-87F1-8C2A5CEF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57E5E-3123-454F-8B08-B23E32EF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3F893-D113-4FAD-B27B-EC8E3F88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C5878-6AC1-4C38-8C68-CBD1877A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C7A29-EB08-403E-9FE2-1F25F623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59BCB-4485-4E11-A30D-D1BD2534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7BCFA-4FC0-4340-B517-296C0BD8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03F0C-0583-4CA0-95A9-70A3CBE8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0DF8E-FACE-4887-87A8-C180D53D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1E0C9-4197-4D02-B7CC-FCD68F55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6270B-7C88-406B-9A5E-33886006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C7EC9-3FBA-4E7E-853C-72EDAD5D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7B68E-AC54-4A60-997F-984DA2F0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35E55-62D8-49B2-A5AB-564F29B7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1BD5C-8162-474E-A194-C00CC7FA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3A0A1-7E40-45A0-8959-54A11DB6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4F0CF-F590-4EDE-9D26-A1120ACE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C5792-F23F-4174-B882-68C76FF7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C5625-4AF7-4AE1-918D-5D481527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133B2-6AA7-47BC-9BC9-8B7CA4D8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E39-CBB0-4CC7-B67C-6400B1A0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CF531-BD17-423D-8C72-1B349360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33215-4B0A-4E8C-BD12-B2581A49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61281-D880-44AA-B87D-6253E022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919EB-8530-431E-92B8-08DD338C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AC867-0EA7-4C5C-A061-3841EBBE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167BE-3FE5-46F4-9042-C7F2CB02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B4327-4CE2-450C-BB47-B94B945E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E5457-151B-44ED-ADBD-9FF1FF6C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768B5-F9AE-482F-ADDB-9FF2E602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1F3A0-CDEE-4EE8-9963-4AFFAF68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FB1-3245-463D-8CF1-E6510455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04FD6-4B53-495D-81D7-443EBF9E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63E10-829F-4FF1-A352-A72CC31B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B4BCA-45E2-4725-A902-E2C94D9B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F73F9-6DD8-45ED-BA88-EBDE41FE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67C37-2D6A-4AC0-8F86-207110F1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A3D93-293A-47A3-B1EE-35E3D682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B9F2B-35FE-4F37-8A00-382B9149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82FB5-E5F0-40C6-A7E9-ACA9360F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0CEEB-B6E1-4251-8388-0A7E669D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FB2A5-65CD-433D-8F05-60883073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ABF-DFE9-448F-9DCC-671B68F5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E7CB7-927F-4C46-917D-66AEF9E8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F83B8-6273-4B9A-B146-D450E8BB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B79CD-7321-4FC0-B8EF-7CDE1D10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7A9A4-D116-48F3-9A05-9F0E9F8D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78003-3A28-4260-BF76-E3E37DC1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280F1-2CDC-4942-9403-DCAB2D9E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E95BA-C0BE-4ED2-9DF4-DDEECCC4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377-EDC6-4392-A1E7-949A1E38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379-13E9-45F0-BF5B-04E3B36E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A49-3848-44F0-9D3C-B6042CB6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28B-F5A3-4554-8880-28274E59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7D1-1502-493D-98AF-2DA7F08E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B0B-A1A4-4FEB-A914-40E224DC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0CB-AFE9-4AEE-811C-A6C6468F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BB5-E0AC-48A3-BF88-1F3B365A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34F-D8F6-4B33-A1E7-68190FFB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00D4-E52E-4CDD-803E-6D911999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BC67-6F52-41B0-B1EF-E6E17F54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F026-D354-434E-A47A-2BED3CEB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656A-9F89-4F94-A153-2DC802E3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8AB3-AD8A-495F-BC1B-7B1DB348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0325-EF85-4286-A719-E2ACFB90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4B88-FCEC-4AD6-9C18-167EFA5B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7599-4908-4B54-BBB3-43165241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9C8E-D4A5-404E-88AE-9248195F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857D-FCB2-4F4B-89D8-06223218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2670-20DE-4F16-BF19-A7CDE85D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4B39-9E91-4AC3-AA14-9873DD0D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15D71-854A-4D15-BE42-BA0610FC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B8737-8B81-42AC-B196-82B6D52E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92F50-655F-4994-9738-86132594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8AC1A-97D7-4E6D-A090-2443CBE3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497C-B88F-4B39-BF13-B363DAF7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242A3-BE22-43AF-97CC-602F96F5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C00E-73C5-4A16-8FC0-5FD3250C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326B-8EB1-40CF-B4C4-47FE7FD3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2AB1-6E27-4041-8F38-C7E1D70B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9C122-C3B2-41DA-8C83-3C004BAF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6D82-FE61-4459-BF45-B8CBD500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24D8-5A7E-47CA-B70F-31C912EE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0FC2-C148-4C8C-A496-96947430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54A38-6DF6-4695-8AFA-4D07F1FF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69B3-4A10-4FE3-81EF-FED4D160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D16B8-C627-4D18-B197-468EAA3F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D2A58-B11C-4EC9-9398-CDEE24B3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F3D09-01FE-432F-B0DE-81A1ACF8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F3F8-C964-4D91-AE3E-E0044588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C4952-EB80-46E5-B4DD-C58437AC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8924C-2E83-401C-AB32-B0058A68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D2FB8-4C89-4A7D-91E1-A394AAC3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C3FB4-160D-4FCD-B4A4-49EDA5DA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C05AE-3746-494A-88B7-83F088DD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49C6B-D891-44E7-9CE0-B15256B5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0044C-74B7-4C10-940D-CD162A37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E162A-9BB6-4392-8136-AFAD0083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42A28-3F05-4E58-945F-4290E6EA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CE6AE-5B23-4775-930A-D0B7351E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4843F-B326-48EA-A7E0-E6001869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9243A-990D-4A77-80DA-052349CA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E0350-E6F9-483A-9C69-512884E4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C8E37-14F7-4721-A14D-29209F72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BC38E-9B6C-4DDD-893C-888533F7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AA46E-30CF-403A-9F50-0AA60F8A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C1D03-4A6D-46E1-A3A1-06124A84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95553-6949-45D2-8EFC-32341C77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41BED-0387-49B3-A80D-A102097C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66F7D-C9E7-42C2-BDD4-0E1C3866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60BF1-68BC-4226-922F-08EF0556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16809-859F-4C3A-B57C-88A3939F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4C1DF-30AC-4F2F-81D3-D0B7B081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C96EF-8B49-4595-A0BB-A7B948F8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82434-F3E1-4B82-8C83-6D44D8E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ED599-3861-4E99-97B7-C0A291C1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14C25-16B3-42D7-BBFB-405D867A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004D0-3811-4029-82EF-0EBCB2B7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21006-3BAD-43B3-A8FA-3C8F3203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561A0-E5C5-4B30-8234-5702B74D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9A1BA-B448-4DA8-BF14-C8F94408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384DF-68FE-4E4E-9AF1-D014E632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6A017-AD45-4B34-A1F6-C32770B9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14AA1-57FE-4879-BD0C-01792FAC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5A519-37B8-444C-9B6D-994B9665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DAC50-E48B-4170-80EA-27911CDF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E8C37-BAB0-428A-BC76-35307245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B9B50-4E2E-400C-AAB2-FEFA125F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D2441-B5B4-40EE-80E9-1915D108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AB88D-80CA-4CB2-97FD-9F69F5BC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9A5FE-F29E-4DC7-B4A5-9B4F2DE6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9740A-E9E3-435E-9C36-FD64EF64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8664C-E943-4C8B-9DE3-B5079893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DA569-58F6-41B7-919E-37FFCF38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12680" y="112680"/>
            <a:ext cx="8901000" cy="6305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-1440" y="645012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WG/9 Meeting: Montreal, April 28-30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29"/>
          <p:cNvSpPr/>
          <p:nvPr/>
        </p:nvSpPr>
        <p:spPr>
          <a:xfrm flipV="1">
            <a:off x="181080" y="818640"/>
            <a:ext cx="8756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7"/>
          <p:cNvSpPr/>
          <p:nvPr/>
        </p:nvSpPr>
        <p:spPr>
          <a:xfrm>
            <a:off x="112680" y="112680"/>
            <a:ext cx="8901000" cy="6305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-1440" y="645012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WG/9 Meeting: Montreal, April 28-30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29"/>
          <p:cNvSpPr/>
          <p:nvPr/>
        </p:nvSpPr>
        <p:spPr>
          <a:xfrm flipV="1">
            <a:off x="181080" y="818640"/>
            <a:ext cx="8756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4389-DAB2-4AD5-86FA-B949C9C2C2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7"/>
          <p:cNvSpPr/>
          <p:nvPr/>
        </p:nvSpPr>
        <p:spPr>
          <a:xfrm>
            <a:off x="112680" y="112680"/>
            <a:ext cx="8901000" cy="6305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-1440" y="645012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WG/9 Meeting: Montreal, April 28-30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29"/>
          <p:cNvSpPr/>
          <p:nvPr/>
        </p:nvSpPr>
        <p:spPr>
          <a:xfrm flipV="1">
            <a:off x="181080" y="818640"/>
            <a:ext cx="8756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B906-5BEB-427E-8F7F-7B8CF19D48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7"/>
          <p:cNvSpPr/>
          <p:nvPr/>
        </p:nvSpPr>
        <p:spPr>
          <a:xfrm>
            <a:off x="112680" y="112680"/>
            <a:ext cx="8901000" cy="6305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-1440" y="645012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WG/9 Meeting: Montreal, April 28-30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29"/>
          <p:cNvSpPr/>
          <p:nvPr/>
        </p:nvSpPr>
        <p:spPr>
          <a:xfrm flipV="1">
            <a:off x="181080" y="818640"/>
            <a:ext cx="8756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642C-8A76-4EA8-88E2-C0DB049C61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7"/>
          <p:cNvSpPr/>
          <p:nvPr/>
        </p:nvSpPr>
        <p:spPr>
          <a:xfrm>
            <a:off x="112680" y="112680"/>
            <a:ext cx="8901000" cy="6305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-1440" y="645012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WG/9 Meeting: Montreal, April 28-30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29"/>
          <p:cNvSpPr/>
          <p:nvPr/>
        </p:nvSpPr>
        <p:spPr>
          <a:xfrm flipV="1">
            <a:off x="181080" y="818640"/>
            <a:ext cx="8756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1FED-35F5-4676-A524-776BC88E9B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7"/>
          <p:cNvSpPr/>
          <p:nvPr/>
        </p:nvSpPr>
        <p:spPr>
          <a:xfrm>
            <a:off x="112680" y="112680"/>
            <a:ext cx="8901000" cy="6305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8"/>
          <p:cNvSpPr/>
          <p:nvPr/>
        </p:nvSpPr>
        <p:spPr>
          <a:xfrm>
            <a:off x="-1440" y="645012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WG/9 Meeting: Montreal, April 28-30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traight Connector 29"/>
          <p:cNvSpPr/>
          <p:nvPr/>
        </p:nvSpPr>
        <p:spPr>
          <a:xfrm flipV="1">
            <a:off x="181080" y="818640"/>
            <a:ext cx="8756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8728-3DD6-45D4-B7C4-4A51B764FE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7"/>
          <p:cNvSpPr/>
          <p:nvPr/>
        </p:nvSpPr>
        <p:spPr>
          <a:xfrm>
            <a:off x="112680" y="112680"/>
            <a:ext cx="8901000" cy="6305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-1440" y="645012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WG/9 Meeting: Montreal, April 28-30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29"/>
          <p:cNvSpPr/>
          <p:nvPr/>
        </p:nvSpPr>
        <p:spPr>
          <a:xfrm flipV="1">
            <a:off x="181080" y="818640"/>
            <a:ext cx="8756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215E-39BF-4877-9F22-12B4D0AB6A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7"/>
          <p:cNvSpPr/>
          <p:nvPr/>
        </p:nvSpPr>
        <p:spPr>
          <a:xfrm>
            <a:off x="112680" y="112680"/>
            <a:ext cx="8901000" cy="6305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-1440" y="645012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WG/9 Meeting: Montreal, April 28-30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29"/>
          <p:cNvSpPr/>
          <p:nvPr/>
        </p:nvSpPr>
        <p:spPr>
          <a:xfrm flipV="1">
            <a:off x="181080" y="818640"/>
            <a:ext cx="8756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E5DE-FB9E-4D9F-BA55-2BDF14DB23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112680" y="112680"/>
            <a:ext cx="8901000" cy="6305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-1440" y="645012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WG/9 Meeting: Montreal, April 28-30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9"/>
          <p:cNvSpPr/>
          <p:nvPr/>
        </p:nvSpPr>
        <p:spPr>
          <a:xfrm flipV="1">
            <a:off x="181080" y="818640"/>
            <a:ext cx="8756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F083-47B2-405A-868E-C43678F543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7"/>
          <p:cNvSpPr/>
          <p:nvPr/>
        </p:nvSpPr>
        <p:spPr>
          <a:xfrm>
            <a:off x="112680" y="112680"/>
            <a:ext cx="8901000" cy="6305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-1440" y="645012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WG/9 Meeting: Montreal, April 28-30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29"/>
          <p:cNvSpPr/>
          <p:nvPr/>
        </p:nvSpPr>
        <p:spPr>
          <a:xfrm flipV="1">
            <a:off x="181080" y="818640"/>
            <a:ext cx="8756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3FA1-E820-4EC9-BA89-D78A5E7E14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7"/>
          <p:cNvSpPr/>
          <p:nvPr/>
        </p:nvSpPr>
        <p:spPr>
          <a:xfrm>
            <a:off x="112680" y="112680"/>
            <a:ext cx="8901000" cy="6305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-1440" y="645012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WG/9 Meeting: Montreal, April 28-30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9"/>
          <p:cNvSpPr/>
          <p:nvPr/>
        </p:nvSpPr>
        <p:spPr>
          <a:xfrm flipV="1">
            <a:off x="181080" y="818640"/>
            <a:ext cx="8756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73D5-027C-4BAF-84B2-0F2EB1B49A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7"/>
          <p:cNvSpPr/>
          <p:nvPr/>
        </p:nvSpPr>
        <p:spPr>
          <a:xfrm>
            <a:off x="112680" y="112680"/>
            <a:ext cx="8901000" cy="6305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-1440" y="645012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WG/9 Meeting: Montreal, April 28-30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29"/>
          <p:cNvSpPr/>
          <p:nvPr/>
        </p:nvSpPr>
        <p:spPr>
          <a:xfrm flipV="1">
            <a:off x="181080" y="818640"/>
            <a:ext cx="8756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8697-E77C-41D7-831B-0805498F7E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7"/>
          <p:cNvSpPr/>
          <p:nvPr/>
        </p:nvSpPr>
        <p:spPr>
          <a:xfrm>
            <a:off x="112680" y="112680"/>
            <a:ext cx="8901000" cy="6305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-1440" y="645012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WG/9 Meeting: Montreal, April 28-30,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9"/>
          <p:cNvSpPr/>
          <p:nvPr/>
        </p:nvSpPr>
        <p:spPr>
          <a:xfrm flipV="1">
            <a:off x="181080" y="818640"/>
            <a:ext cx="875664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6069-F8D7-4C06-92EC-059E15A95C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4"/>
          <p:cNvSpPr/>
          <p:nvPr/>
        </p:nvSpPr>
        <p:spPr>
          <a:xfrm>
            <a:off x="3935520" y="3249720"/>
            <a:ext cx="507996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PWG Space Weather sub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St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Air 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oseph Ku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AA SW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yn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arMetrics Limited, 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6"/>
          <p:cNvSpPr/>
          <p:nvPr/>
        </p:nvSpPr>
        <p:spPr>
          <a:xfrm>
            <a:off x="114480" y="0"/>
            <a:ext cx="8901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grating Space Weather Observations &amp; Forecasts into Aviation Oper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30"/>
          <p:cNvGrpSpPr/>
          <p:nvPr/>
        </p:nvGrpSpPr>
        <p:grpSpPr>
          <a:xfrm>
            <a:off x="190440" y="996840"/>
            <a:ext cx="3752640" cy="4957560"/>
            <a:chOff x="190440" y="996840"/>
            <a:chExt cx="3752640" cy="4957560"/>
          </a:xfrm>
        </p:grpSpPr>
        <p:pic>
          <p:nvPicPr>
            <p:cNvPr id="548" name="Picture 25" descr="SpaceWxAviation"/>
            <p:cNvPicPr/>
            <p:nvPr/>
          </p:nvPicPr>
          <p:blipFill>
            <a:blip r:embed="rId1"/>
            <a:stretch/>
          </p:blipFill>
          <p:spPr>
            <a:xfrm>
              <a:off x="190440" y="996840"/>
              <a:ext cx="3746880" cy="419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49" name="Rectangle 26"/>
            <p:cNvSpPr/>
            <p:nvPr/>
          </p:nvSpPr>
          <p:spPr>
            <a:xfrm>
              <a:off x="199800" y="5187960"/>
              <a:ext cx="3743280" cy="76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321840" y="2504160"/>
              <a:ext cx="3576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tegrating Space Wea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Observations &amp; Forecasts in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viation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viation Space Weather User Requirements”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29"/>
            <p:cNvSpPr/>
            <p:nvPr/>
          </p:nvSpPr>
          <p:spPr>
            <a:xfrm>
              <a:off x="340920" y="5205600"/>
              <a:ext cx="32421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pace Weather Sub-Gro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f the Cross Polar Working Gro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pril 2009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Rectangle 16"/>
          <p:cNvSpPr/>
          <p:nvPr/>
        </p:nvSpPr>
        <p:spPr>
          <a:xfrm>
            <a:off x="3841920" y="1538280"/>
            <a:ext cx="5302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ation Space Weather User Service Nee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Draft version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11240" y="888840"/>
            <a:ext cx="88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uperimposed Terrestrial weather haz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PGNE15_CL"/>
          <p:cNvPicPr/>
          <p:nvPr/>
        </p:nvPicPr>
        <p:blipFill>
          <a:blip r:embed="rId1"/>
          <a:stretch/>
        </p:blipFill>
        <p:spPr>
          <a:xfrm>
            <a:off x="1432080" y="1576440"/>
            <a:ext cx="6257880" cy="451656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16"/>
          <p:cNvSpPr/>
          <p:nvPr/>
        </p:nvSpPr>
        <p:spPr>
          <a:xfrm>
            <a:off x="114480" y="0"/>
            <a:ext cx="8872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3"/>
          <p:cNvSpPr/>
          <p:nvPr/>
        </p:nvSpPr>
        <p:spPr>
          <a:xfrm>
            <a:off x="111240" y="906480"/>
            <a:ext cx="890424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mmunica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shed – Warnings, Al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lled –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phic &amp;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meter Alerts/Drop-offs – Integrated with Ops/Disp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6"/>
          <p:cNvSpPr/>
          <p:nvPr/>
        </p:nvSpPr>
        <p:spPr>
          <a:xfrm>
            <a:off x="114480" y="0"/>
            <a:ext cx="8872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3"/>
          <p:cNvSpPr/>
          <p:nvPr/>
        </p:nvSpPr>
        <p:spPr>
          <a:xfrm>
            <a:off x="114480" y="4572000"/>
            <a:ext cx="88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tegrated &amp; Standardised with Aviation Terrestrial Weath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11240" y="896760"/>
            <a:ext cx="8894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uture Air Transportation: NextGen, S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D Wx Data Cube” Web-based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JPDO_image310W"/>
          <p:cNvPicPr/>
          <p:nvPr/>
        </p:nvPicPr>
        <p:blipFill>
          <a:blip r:embed="rId1"/>
          <a:stretch/>
        </p:blipFill>
        <p:spPr>
          <a:xfrm>
            <a:off x="1965240" y="2111400"/>
            <a:ext cx="5199120" cy="390852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6"/>
          <p:cNvSpPr/>
          <p:nvPr/>
        </p:nvSpPr>
        <p:spPr>
          <a:xfrm>
            <a:off x="123840" y="0"/>
            <a:ext cx="88628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9"/>
          <p:cNvSpPr/>
          <p:nvPr/>
        </p:nvSpPr>
        <p:spPr>
          <a:xfrm>
            <a:off x="3933720" y="895320"/>
            <a:ext cx="5062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PWG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PWG/9 meeting WP:  28-30 Ap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d: CPWG/10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d: Dec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AA – ICAO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W paper at ICAO meeting: Ma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ICAO meeting: Sep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y as ICAO Amendment: Ma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d by ICAO: 2013/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ficially implemented into ICAO: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30"/>
          <p:cNvGrpSpPr/>
          <p:nvPr/>
        </p:nvGrpSpPr>
        <p:grpSpPr>
          <a:xfrm>
            <a:off x="190440" y="996840"/>
            <a:ext cx="3752640" cy="4957560"/>
            <a:chOff x="190440" y="996840"/>
            <a:chExt cx="3752640" cy="4957560"/>
          </a:xfrm>
        </p:grpSpPr>
        <p:pic>
          <p:nvPicPr>
            <p:cNvPr id="611" name="Picture 25" descr="SpaceWxAviation"/>
            <p:cNvPicPr/>
            <p:nvPr/>
          </p:nvPicPr>
          <p:blipFill>
            <a:blip r:embed="rId1"/>
            <a:stretch/>
          </p:blipFill>
          <p:spPr>
            <a:xfrm>
              <a:off x="190440" y="996840"/>
              <a:ext cx="3746880" cy="419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12" name="Rectangle 26"/>
            <p:cNvSpPr/>
            <p:nvPr/>
          </p:nvSpPr>
          <p:spPr>
            <a:xfrm>
              <a:off x="199800" y="5187960"/>
              <a:ext cx="3743280" cy="76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27"/>
            <p:cNvSpPr/>
            <p:nvPr/>
          </p:nvSpPr>
          <p:spPr>
            <a:xfrm>
              <a:off x="321840" y="2504160"/>
              <a:ext cx="3576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tegrating Space Wea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Observations &amp; Forecasts in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viation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viation Space Weather User Service Needs”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29"/>
            <p:cNvSpPr/>
            <p:nvPr/>
          </p:nvSpPr>
          <p:spPr>
            <a:xfrm>
              <a:off x="340920" y="5205600"/>
              <a:ext cx="32421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pace Weather Sub-Gro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f the Cross Polar Working Gro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pril 2010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16"/>
          <p:cNvSpPr/>
          <p:nvPr/>
        </p:nvSpPr>
        <p:spPr>
          <a:xfrm>
            <a:off x="114480" y="0"/>
            <a:ext cx="8872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9"/>
          <p:cNvSpPr/>
          <p:nvPr/>
        </p:nvSpPr>
        <p:spPr>
          <a:xfrm>
            <a:off x="3962520" y="3200400"/>
            <a:ext cx="503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Mike.Stills@unite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Joseph.Kunches@noaa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ryn.Jones@solarmetric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0"/>
          <p:cNvGrpSpPr/>
          <p:nvPr/>
        </p:nvGrpSpPr>
        <p:grpSpPr>
          <a:xfrm>
            <a:off x="190440" y="996840"/>
            <a:ext cx="3752640" cy="4957560"/>
            <a:chOff x="190440" y="996840"/>
            <a:chExt cx="3752640" cy="4957560"/>
          </a:xfrm>
        </p:grpSpPr>
        <p:pic>
          <p:nvPicPr>
            <p:cNvPr id="618" name="Picture 25" descr="SpaceWxAviation"/>
            <p:cNvPicPr/>
            <p:nvPr/>
          </p:nvPicPr>
          <p:blipFill>
            <a:blip r:embed="rId1"/>
            <a:stretch/>
          </p:blipFill>
          <p:spPr>
            <a:xfrm>
              <a:off x="190440" y="996840"/>
              <a:ext cx="3746880" cy="419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19" name="Rectangle 26"/>
            <p:cNvSpPr/>
            <p:nvPr/>
          </p:nvSpPr>
          <p:spPr>
            <a:xfrm>
              <a:off x="199800" y="5187960"/>
              <a:ext cx="3743280" cy="76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321840" y="2504160"/>
              <a:ext cx="3576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tegrating Space Wea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Observations &amp; Forecasts in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viation 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viation Space Weather User Service Needs”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29"/>
            <p:cNvSpPr/>
            <p:nvPr/>
          </p:nvSpPr>
          <p:spPr>
            <a:xfrm>
              <a:off x="340920" y="5205600"/>
              <a:ext cx="32421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pace Weather Sub-Gro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f the Cross Polar Working Gro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pril 2010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Rectangle 16"/>
          <p:cNvSpPr/>
          <p:nvPr/>
        </p:nvSpPr>
        <p:spPr>
          <a:xfrm>
            <a:off x="114480" y="0"/>
            <a:ext cx="8872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6"/>
          <p:cNvSpPr/>
          <p:nvPr/>
        </p:nvSpPr>
        <p:spPr>
          <a:xfrm>
            <a:off x="114480" y="0"/>
            <a:ext cx="8872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7" descr="ual851sunst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38084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"/>
          <p:cNvSpPr/>
          <p:nvPr/>
        </p:nvSpPr>
        <p:spPr>
          <a:xfrm>
            <a:off x="111240" y="1201680"/>
            <a:ext cx="88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6"/>
          <p:cNvSpPr/>
          <p:nvPr/>
        </p:nvSpPr>
        <p:spPr>
          <a:xfrm>
            <a:off x="114480" y="0"/>
            <a:ext cx="8872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"/>
          <p:cNvSpPr/>
          <p:nvPr/>
        </p:nvSpPr>
        <p:spPr>
          <a:xfrm>
            <a:off x="111240" y="895320"/>
            <a:ext cx="8904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to User Service Needs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Servic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P:\Data\Personal\Graphics\Photos\Aircraft\2004-02-13 Landing at LHRb.JPG"/>
          <p:cNvPicPr/>
          <p:nvPr/>
        </p:nvPicPr>
        <p:blipFill>
          <a:blip r:embed="rId1"/>
          <a:srcRect l="0" t="0" r="0" b="31669"/>
          <a:stretch/>
        </p:blipFill>
        <p:spPr>
          <a:xfrm>
            <a:off x="2790720" y="3111480"/>
            <a:ext cx="59151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11240" y="895320"/>
            <a:ext cx="890424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ace Weather Sub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 David Bot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ior Research 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Can, Ottawa,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ain Bryn J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(pilot) &amp; 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Metrics, Guildford,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eph Ku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Scientist, Research &amp; Customer Requirement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 SWPC, Boulder, Colorado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 Murta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Scientist, Program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 SWPC, Boulder, Colorado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 St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(dispatch) United Airlines, International Dispatch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AL World Headquarters, Chicago, Illinois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5505480" y="1295280"/>
            <a:ext cx="325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ditional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ne Fisher (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e Rome* (NAV CAN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e Rose (NAV CAN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etired in Dec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6"/>
          <p:cNvSpPr/>
          <p:nvPr/>
        </p:nvSpPr>
        <p:spPr>
          <a:xfrm>
            <a:off x="114480" y="0"/>
            <a:ext cx="8872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7"/>
          <p:cNvGrpSpPr/>
          <p:nvPr/>
        </p:nvGrpSpPr>
        <p:grpSpPr>
          <a:xfrm>
            <a:off x="539640" y="804960"/>
            <a:ext cx="7653600" cy="5610240"/>
            <a:chOff x="539640" y="804960"/>
            <a:chExt cx="7653600" cy="5610240"/>
          </a:xfrm>
        </p:grpSpPr>
        <p:pic>
          <p:nvPicPr>
            <p:cNvPr id="560" name="Picture 5" descr="FAA_Logo_Color"/>
            <p:cNvPicPr/>
            <p:nvPr/>
          </p:nvPicPr>
          <p:blipFill>
            <a:blip r:embed="rId1"/>
            <a:stretch/>
          </p:blipFill>
          <p:spPr>
            <a:xfrm>
              <a:off x="4092480" y="3535560"/>
              <a:ext cx="9475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Rectangle 11"/>
            <p:cNvSpPr/>
            <p:nvPr/>
          </p:nvSpPr>
          <p:spPr>
            <a:xfrm>
              <a:off x="3973680" y="1832040"/>
              <a:ext cx="1187280" cy="48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PW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 flipH="1">
              <a:off x="1630080" y="2989440"/>
              <a:ext cx="5205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4"/>
            <p:cNvSpPr/>
            <p:nvPr/>
          </p:nvSpPr>
          <p:spPr>
            <a:xfrm>
              <a:off x="4572000" y="2390760"/>
              <a:ext cx="1440" cy="107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5"/>
            <p:cNvSpPr/>
            <p:nvPr/>
          </p:nvSpPr>
          <p:spPr>
            <a:xfrm>
              <a:off x="5232600" y="2104920"/>
              <a:ext cx="167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6"/>
            <p:cNvSpPr/>
            <p:nvPr/>
          </p:nvSpPr>
          <p:spPr>
            <a:xfrm>
              <a:off x="1047600" y="3494160"/>
              <a:ext cx="598320" cy="1968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8"/>
            <p:cNvSpPr/>
            <p:nvPr/>
          </p:nvSpPr>
          <p:spPr>
            <a:xfrm>
              <a:off x="4573800" y="4594320"/>
              <a:ext cx="0" cy="95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9"/>
            <p:cNvSpPr/>
            <p:nvPr/>
          </p:nvSpPr>
          <p:spPr>
            <a:xfrm>
              <a:off x="2286000" y="6044040"/>
              <a:ext cx="171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0"/>
            <p:cNvSpPr/>
            <p:nvPr/>
          </p:nvSpPr>
          <p:spPr>
            <a:xfrm>
              <a:off x="2950920" y="804960"/>
              <a:ext cx="3225960" cy="48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PWG SW Sub-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1"/>
            <p:cNvSpPr/>
            <p:nvPr/>
          </p:nvSpPr>
          <p:spPr>
            <a:xfrm>
              <a:off x="4572000" y="1382760"/>
              <a:ext cx="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 flipH="1">
              <a:off x="1076040" y="1326960"/>
              <a:ext cx="1828800" cy="12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1" name="Picture 24" descr="noaaleft"/>
            <p:cNvPicPr/>
            <p:nvPr/>
          </p:nvPicPr>
          <p:blipFill>
            <a:blip r:embed="rId2"/>
            <a:stretch/>
          </p:blipFill>
          <p:spPr>
            <a:xfrm>
              <a:off x="2185920" y="2639880"/>
              <a:ext cx="888840" cy="8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Line 25"/>
            <p:cNvSpPr/>
            <p:nvPr/>
          </p:nvSpPr>
          <p:spPr>
            <a:xfrm flipH="1">
              <a:off x="2590560" y="1324080"/>
              <a:ext cx="1030320" cy="127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6"/>
            <p:cNvSpPr/>
            <p:nvPr/>
          </p:nvSpPr>
          <p:spPr>
            <a:xfrm flipH="1">
              <a:off x="1947600" y="3525840"/>
              <a:ext cx="598320" cy="19508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9"/>
            <p:cNvSpPr/>
            <p:nvPr/>
          </p:nvSpPr>
          <p:spPr>
            <a:xfrm>
              <a:off x="5170680" y="6036120"/>
              <a:ext cx="24354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30"/>
            <p:cNvSpPr/>
            <p:nvPr/>
          </p:nvSpPr>
          <p:spPr>
            <a:xfrm flipV="1">
              <a:off x="7617240" y="2465280"/>
              <a:ext cx="0" cy="35704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1"/>
            <p:cNvSpPr/>
            <p:nvPr/>
          </p:nvSpPr>
          <p:spPr>
            <a:xfrm>
              <a:off x="3130560" y="3046320"/>
              <a:ext cx="1036440" cy="579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33" descr="ises_logo"/>
            <p:cNvPicPr/>
            <p:nvPr/>
          </p:nvPicPr>
          <p:blipFill>
            <a:blip r:embed="rId3"/>
            <a:stretch/>
          </p:blipFill>
          <p:spPr>
            <a:xfrm>
              <a:off x="539640" y="2577960"/>
              <a:ext cx="102240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34" descr="13-icao"/>
            <p:cNvPicPr/>
            <p:nvPr/>
          </p:nvPicPr>
          <p:blipFill>
            <a:blip r:embed="rId4"/>
            <a:stretch/>
          </p:blipFill>
          <p:spPr>
            <a:xfrm>
              <a:off x="4100400" y="5602680"/>
              <a:ext cx="95076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35" descr="iata"/>
            <p:cNvPicPr/>
            <p:nvPr/>
          </p:nvPicPr>
          <p:blipFill>
            <a:blip r:embed="rId5"/>
            <a:stretch/>
          </p:blipFill>
          <p:spPr>
            <a:xfrm>
              <a:off x="7044120" y="1666800"/>
              <a:ext cx="114912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36" descr="logowmo"/>
            <p:cNvPicPr/>
            <p:nvPr/>
          </p:nvPicPr>
          <p:blipFill>
            <a:blip r:embed="rId6"/>
            <a:stretch/>
          </p:blipFill>
          <p:spPr>
            <a:xfrm>
              <a:off x="1434960" y="5535720"/>
              <a:ext cx="731880" cy="84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1" name="Group 40"/>
            <p:cNvGrpSpPr/>
            <p:nvPr/>
          </p:nvGrpSpPr>
          <p:grpSpPr>
            <a:xfrm>
              <a:off x="4572000" y="2541600"/>
              <a:ext cx="2338560" cy="824040"/>
              <a:chOff x="4572000" y="2541600"/>
              <a:chExt cx="2338560" cy="824040"/>
            </a:xfrm>
          </p:grpSpPr>
          <p:sp>
            <p:nvSpPr>
              <p:cNvPr id="582" name="Line 37"/>
              <p:cNvSpPr/>
              <p:nvPr/>
            </p:nvSpPr>
            <p:spPr>
              <a:xfrm>
                <a:off x="4572000" y="2949480"/>
                <a:ext cx="78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 Box 38"/>
              <p:cNvSpPr/>
              <p:nvPr/>
            </p:nvSpPr>
            <p:spPr>
              <a:xfrm>
                <a:off x="5398920" y="2541600"/>
                <a:ext cx="1511640" cy="82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Published to Industry &amp; SW Communiti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4" name="Rectangle 16"/>
          <p:cNvSpPr/>
          <p:nvPr/>
        </p:nvSpPr>
        <p:spPr>
          <a:xfrm>
            <a:off x="114480" y="0"/>
            <a:ext cx="8872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"/>
          <p:cNvSpPr/>
          <p:nvPr/>
        </p:nvSpPr>
        <p:spPr>
          <a:xfrm>
            <a:off x="120600" y="912960"/>
            <a:ext cx="88851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azard v Space Weather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-The-Pole rout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ional hazards – user viewpoint, not SW activity 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F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diation (Avionics, Hu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 Navigation (GN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xtGen, S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Follow-on Action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AirlinersNetPhotoID133531"/>
          <p:cNvPicPr/>
          <p:nvPr/>
        </p:nvPicPr>
        <p:blipFill>
          <a:blip r:embed="rId1"/>
          <a:stretch/>
        </p:blipFill>
        <p:spPr>
          <a:xfrm>
            <a:off x="5656320" y="3828960"/>
            <a:ext cx="3004920" cy="216072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16"/>
          <p:cNvSpPr/>
          <p:nvPr/>
        </p:nvSpPr>
        <p:spPr>
          <a:xfrm>
            <a:off x="114480" y="0"/>
            <a:ext cx="8872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3"/>
          <p:cNvSpPr/>
          <p:nvPr/>
        </p:nvSpPr>
        <p:spPr>
          <a:xfrm>
            <a:off x="111240" y="888840"/>
            <a:ext cx="88945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.g., Signal strength/loss, Clarity, Best useable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.g., Rate of change of dose rates (up &amp; down), Peak dos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.g., Onset, max horizontal &amp; vertical inaccuracies across GNSS, Airfield approach category confidenc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6"/>
          <p:cNvSpPr/>
          <p:nvPr/>
        </p:nvSpPr>
        <p:spPr>
          <a:xfrm>
            <a:off x="114480" y="0"/>
            <a:ext cx="8872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11240" y="888840"/>
            <a:ext cx="8894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ali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uration or vali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going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" descr="B777_1"/>
          <p:cNvPicPr/>
          <p:nvPr/>
        </p:nvPicPr>
        <p:blipFill>
          <a:blip r:embed="rId1"/>
          <a:stretch/>
        </p:blipFill>
        <p:spPr>
          <a:xfrm>
            <a:off x="3713040" y="2752560"/>
            <a:ext cx="4854600" cy="3154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16"/>
          <p:cNvSpPr/>
          <p:nvPr/>
        </p:nvSpPr>
        <p:spPr>
          <a:xfrm>
            <a:off x="114480" y="0"/>
            <a:ext cx="8872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614520" y="920880"/>
          <a:ext cx="7921440" cy="3954240"/>
        </p:xfrm>
        <a:graphic>
          <a:graphicData uri="http://schemas.openxmlformats.org/drawingml/2006/table">
            <a:tbl>
              <a:tblPr/>
              <a:tblGrid>
                <a:gridCol w="1093680"/>
                <a:gridCol w="866880"/>
                <a:gridCol w="877680"/>
                <a:gridCol w="827280"/>
                <a:gridCol w="888840"/>
                <a:gridCol w="911160"/>
                <a:gridCol w="1109880"/>
                <a:gridCol w="1346040"/>
              </a:tblGrid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Disp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Event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4" name="Text Box 98"/>
          <p:cNvSpPr/>
          <p:nvPr/>
        </p:nvSpPr>
        <p:spPr>
          <a:xfrm>
            <a:off x="111240" y="5540400"/>
            <a:ext cx="8894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ly re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Condition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6"/>
          <p:cNvSpPr/>
          <p:nvPr/>
        </p:nvSpPr>
        <p:spPr>
          <a:xfrm>
            <a:off x="114480" y="0"/>
            <a:ext cx="8872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609480" y="4876920"/>
            <a:ext cx="793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re X specifies a need and may specify a reliability or % confidence level, that could vary depending on the particular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120600" y="870120"/>
            <a:ext cx="889488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on /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t / Long (Geographic &lt;-&gt; Geomagne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irspace regions – Air Traffic Management (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oute traffic flow rate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erimposed Terrestrial weather haz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CAO Flight Information Regions (FI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olcanic Ash Advisory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ES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ltitudes / Flight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airspace"/>
          <p:cNvPicPr/>
          <p:nvPr/>
        </p:nvPicPr>
        <p:blipFill>
          <a:blip r:embed="rId1"/>
          <a:stretch/>
        </p:blipFill>
        <p:spPr>
          <a:xfrm>
            <a:off x="5246640" y="4068720"/>
            <a:ext cx="3670200" cy="225756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16"/>
          <p:cNvSpPr/>
          <p:nvPr/>
        </p:nvSpPr>
        <p:spPr>
          <a:xfrm>
            <a:off x="114480" y="0"/>
            <a:ext cx="88722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iation Space Weather User Servic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2:27:09Z</dcterms:created>
  <dc:creator>RHI</dc:creator>
  <dc:description/>
  <dc:language>en-US</dc:language>
  <cp:lastModifiedBy>Bryn Jones</cp:lastModifiedBy>
  <dcterms:modified xsi:type="dcterms:W3CDTF">2010-04-29T16:02:32Z</dcterms:modified>
  <cp:revision>181</cp:revision>
  <dc:subject/>
  <dc:title>Slide 1</dc:title>
</cp:coreProperties>
</file>