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64C-2721-46C3-988D-FDC4FB65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64D-C69F-4EB5-9E40-15A495DA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513-F026-4B0B-A80A-A4430B56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C71-574D-4670-A1AA-E09EEA8E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783-9D5B-4C57-96BE-A272F68D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C2E-D280-4525-9ED7-8A1D751F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54C-8A7D-420C-8D01-FE7031D1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EA8-FDB5-49BD-8442-381E9B68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DC5-CFAA-45A1-942F-DDE6C4D7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D27-0A76-4F2C-A0EE-4DF341AA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EF2-B5BE-467A-8CAE-0E707134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574-8FBC-46A3-8656-31F9DA43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250" t="14584" r="4688" b="9376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FAA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entral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eporting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Chart </a:t>
            </a:r>
            <a:fld id="{7C2DE198-3474-4A98-B4AD-D1C917C1FE0B}" type="slidenum"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FAA CRA Problem Report Activity Since IPACG-21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PACG-22/FIT-9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dondo beach, C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4/25 January, 2005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ordon Sandel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EB9-4C3E-4C64-AEF3-497D058F02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KAKES Black Hole Problem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ffects Aero-H+ and Aero-I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t  the edge of a spot beam, when it transitions to the next spot beam footprint, the SDU does a "relog on"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s process should only affect the voice channel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 some cases this "relog on" also affects Data-2, even though it uses the global beam.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oftware change applied at Perth GES (Nov 04), but problem still persist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TA can provide more detail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E19-588F-4585-94CC-0F49B5083C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777 Block Point 05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o be certified 4Q05 (AIMS-2), 1Q06 (AIMS-1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T PRs to be fixed: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87 difficulties establishing CPDLC connection with B777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P ’03 fix resulted in null characters in [icaoidentification] variabl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P ’05 fix correctly encodes active center I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331 777 Sends Position Report With Not Enough Bi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P ’03 fix corrected Position Report downlink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P ’05 fix corrects position encoding in all other applicable downlink elemen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48  777 -Unable to Load Uplinked Route Clearance after WILCO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49  777 -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light Number Synchronization Problem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930-C7B7-42F8-A4EC-F9B11FF290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RA Activity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AA CRA Activit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w Problem Reports Summar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w Reports Discuss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ecific Problem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pcoming software releas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B92-E1F7-4B9A-95A9-77462A6CDF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FAA CRA Activity (1)</a:t>
            </a: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 reports from operato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forwarded to CRASA-J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was old problem (PR377, fixed in BP03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was SATCOM outag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7 reports referred by ATCA-J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18 ACARS MU problem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29 FMC reset causing odd ADS repor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39 ACARS MU retransmitting same repor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42 ACARS MU problem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46 FMC encoding 60 seconds for longitud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48 Space in downlin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55 FMC stuck sending waypoint change repor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032-C924-4A9D-88EF-B11852AC2D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FAA CRA Activity (2)</a:t>
            </a: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ther reports awaiting analysi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58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60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68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69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78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82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299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10313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6F1-CFA9-45A6-B7BA-1536E3C41E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reports added to database since last meet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454 most rec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ntractual issues (just resolved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ral problems under investig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777 stops sending downlink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777 stops sending ADS repor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mpty Messag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ropped Messages on SATCOM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solution for KAKES black hole problem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845-CAE2-4918-ADCA-63EEFC1FB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777 Stops Sending Downlink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rplane doesn’t send downlinks via SATCOM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 duplicated in Boeing Lab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 occurs when downlink attempt coincides with CAT B to CAT A transi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 reported with retrofit (AIMS-1) only, but has been duplicated with AIMS-2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 can be prevented by tuning VHF-C to voice frequency prior to leaving VHF coverag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x under investig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x will be targeted to BP05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BEA-8E77-4328-ACAC-17CA396E24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777 Stops Sending ADS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rplane ceases sending reports on one or more connect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y keep sending on other contracts for a whil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rplane can respond with NACK (“due to congestion”) for contract reques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ems to be media-independ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 reported with AIMS-1 and AIMS-2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nder investig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ossibly another version of the previous problem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x will be targeted to BP05 when foun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52B-CFCB-42EA-A20A-946B7A4BBD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Empty Message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C-135 can send CPDLC messages containing no data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C follows the registr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 under investigation by operator and equipment supplie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T PR to be writte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3FC-D8E4-43EA-9FF1-24E2AAEEF1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Dropped Messages on SATCOM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340 experienced problems with similar symptoms to 777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 under investigation by SITA and airplane manufacture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T PR to be writte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C8E-EAD8-4F29-ABE7-4D74DEFAF6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9:55:42Z</dcterms:created>
  <dc:creator>Suzie ness</dc:creator>
  <dc:description/>
  <dc:language>en-US</dc:language>
  <cp:lastModifiedBy>fischerw</cp:lastModifiedBy>
  <dcterms:modified xsi:type="dcterms:W3CDTF">2005-01-24T13:03:49Z</dcterms:modified>
  <cp:revision>102</cp:revision>
  <dc:subject/>
  <dc:title>CRA PR report</dc:title>
</cp:coreProperties>
</file>