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FB2DC2-6765-4C0D-B7F7-F71133597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9C53EE-EEEB-4A2B-A103-7CEB12E5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188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5676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952-86F5-4A32-96C8-38FAA13E6D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nchorage Alaska, May14-1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41920" y="0"/>
            <a:ext cx="3502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8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SPACG 21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Auckland, New Zealand, March 6-8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B8F-E65A-4AAA-9E7F-B41A0A6D06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xckfBpG6r8ADBWJzbkF;_ylu=X3oDMTBjdmNoOTVjBHBvcwMyBHNlYwNzcg--/SIG=1jef4h1hr/EXP=1176227236/**http%3A//images.search.yahoo.com/search/images/view%3Fback=http%253A%252F%252Fimages.search.yahoo.com%252Fsearch%252Fimages%253Fp%253Dsatellite%252Bantenna%2526sp%253D1%2526fr2%253Dsp-top%2526ei%253DUTF-8%2526fr%253Dsfp%2526ei%253DUTF-8%2526SpellState%253Dn-4226767073_q-RBnMh6.LxC23TCNixeDjMgAAAA%2540%2540%26w=170%26h=180%26imgurl=www.seitti.com%252Fnewspics%252FSatellite_antenna_SES_AStra.jpg%26rurl=http%253A%252F%252Fwww.seitti.com%252Fnewspics%253FD%253DD%26size=29.7kB%26name=Satellite_antenna_SES_AStra.jpg%26p=satellite%2Bantenna%26type=jpeg%26no=2%26tt=33,468%26oid=e3b3a53b99c65cb0%26ei=UTF-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akland Air Route Traffic Control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ACG 26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Use of 30 NM Lateral  30 NM Longitudinal Se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040" y="5062680"/>
            <a:ext cx="450216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Oceanic and Offshore Operatio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y 14-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838600" y="458640"/>
            <a:ext cx="34668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38512" t="41607" r="23052" b="35865"/>
          <a:stretch/>
        </p:blipFill>
        <p:spPr>
          <a:xfrm>
            <a:off x="635040" y="0"/>
            <a:ext cx="8010360" cy="6021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1160" y="525600"/>
            <a:ext cx="790092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akland 30/30 Trial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11349" r="0" b="5019"/>
          <a:stretch/>
        </p:blipFill>
        <p:spPr>
          <a:xfrm>
            <a:off x="0" y="-126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04920" y="905040"/>
            <a:ext cx="6543720" cy="4781520"/>
          </a:xfrm>
          <a:custGeom>
            <a:avLst/>
            <a:gdLst/>
            <a:ahLst/>
            <a:rect l="l" t="t" r="r" b="b"/>
            <a:pathLst>
              <a:path w="4122" h="3012">
                <a:moveTo>
                  <a:pt x="1776" y="1227"/>
                </a:moveTo>
                <a:lnTo>
                  <a:pt x="3144" y="69"/>
                </a:lnTo>
                <a:lnTo>
                  <a:pt x="3213" y="108"/>
                </a:lnTo>
                <a:lnTo>
                  <a:pt x="3297" y="0"/>
                </a:lnTo>
                <a:lnTo>
                  <a:pt x="3369" y="36"/>
                </a:lnTo>
                <a:lnTo>
                  <a:pt x="3597" y="516"/>
                </a:lnTo>
                <a:lnTo>
                  <a:pt x="3717" y="780"/>
                </a:lnTo>
                <a:lnTo>
                  <a:pt x="3807" y="990"/>
                </a:lnTo>
                <a:lnTo>
                  <a:pt x="3897" y="1224"/>
                </a:lnTo>
                <a:lnTo>
                  <a:pt x="3963" y="1404"/>
                </a:lnTo>
                <a:lnTo>
                  <a:pt x="4053" y="1674"/>
                </a:lnTo>
                <a:lnTo>
                  <a:pt x="4095" y="1812"/>
                </a:lnTo>
                <a:lnTo>
                  <a:pt x="4122" y="1917"/>
                </a:lnTo>
                <a:lnTo>
                  <a:pt x="3855" y="1998"/>
                </a:lnTo>
                <a:lnTo>
                  <a:pt x="3561" y="2070"/>
                </a:lnTo>
                <a:lnTo>
                  <a:pt x="3243" y="2136"/>
                </a:lnTo>
                <a:lnTo>
                  <a:pt x="2874" y="2208"/>
                </a:lnTo>
                <a:lnTo>
                  <a:pt x="2586" y="2262"/>
                </a:lnTo>
                <a:lnTo>
                  <a:pt x="2295" y="2310"/>
                </a:lnTo>
                <a:lnTo>
                  <a:pt x="1971" y="2670"/>
                </a:lnTo>
                <a:lnTo>
                  <a:pt x="1695" y="2958"/>
                </a:lnTo>
                <a:lnTo>
                  <a:pt x="1458" y="2976"/>
                </a:lnTo>
                <a:lnTo>
                  <a:pt x="1173" y="2994"/>
                </a:lnTo>
                <a:lnTo>
                  <a:pt x="615" y="3006"/>
                </a:lnTo>
                <a:lnTo>
                  <a:pt x="243" y="3012"/>
                </a:lnTo>
                <a:lnTo>
                  <a:pt x="0" y="3009"/>
                </a:lnTo>
                <a:lnTo>
                  <a:pt x="3" y="2748"/>
                </a:lnTo>
                <a:lnTo>
                  <a:pt x="3" y="2451"/>
                </a:lnTo>
                <a:lnTo>
                  <a:pt x="1056" y="1431"/>
                </a:lnTo>
                <a:lnTo>
                  <a:pt x="1239" y="1548"/>
                </a:lnTo>
                <a:lnTo>
                  <a:pt x="1485" y="1524"/>
                </a:lnTo>
                <a:lnTo>
                  <a:pt x="1587" y="1368"/>
                </a:lnTo>
                <a:lnTo>
                  <a:pt x="1683" y="1380"/>
                </a:lnTo>
                <a:lnTo>
                  <a:pt x="1812" y="1263"/>
                </a:lnTo>
                <a:lnTo>
                  <a:pt x="1776" y="1227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17160"/>
            <a:ext cx="90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C3 Initial Imple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537400">
            <a:off x="2136960" y="3654000"/>
            <a:ext cx="64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0/30 SINCE DECEMBER OF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Go to fullsize image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-1666800"/>
            <a:ext cx="9144000" cy="7688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2080" y="20520"/>
            <a:ext cx="79880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link Network Iss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1120" y="841320"/>
            <a:ext cx="35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th GES had not demonstrated the necessary reliability for continued longitudinal traffic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78000" y="1481040"/>
            <a:ext cx="5557680" cy="3714840"/>
          </a:xfrm>
          <a:custGeom>
            <a:avLst/>
            <a:gdLst/>
            <a:ahLst/>
            <a:rect l="l" t="t" r="r" b="b"/>
            <a:pathLst>
              <a:path w="3501" h="2340">
                <a:moveTo>
                  <a:pt x="0" y="182"/>
                </a:moveTo>
                <a:lnTo>
                  <a:pt x="301" y="0"/>
                </a:lnTo>
                <a:lnTo>
                  <a:pt x="256" y="210"/>
                </a:lnTo>
                <a:lnTo>
                  <a:pt x="539" y="9"/>
                </a:lnTo>
                <a:lnTo>
                  <a:pt x="475" y="246"/>
                </a:lnTo>
                <a:lnTo>
                  <a:pt x="749" y="109"/>
                </a:lnTo>
                <a:lnTo>
                  <a:pt x="749" y="438"/>
                </a:lnTo>
                <a:lnTo>
                  <a:pt x="1024" y="310"/>
                </a:lnTo>
                <a:lnTo>
                  <a:pt x="987" y="667"/>
                </a:lnTo>
                <a:lnTo>
                  <a:pt x="1389" y="512"/>
                </a:lnTo>
                <a:lnTo>
                  <a:pt x="996" y="1024"/>
                </a:lnTo>
                <a:lnTo>
                  <a:pt x="1581" y="758"/>
                </a:lnTo>
                <a:lnTo>
                  <a:pt x="1398" y="1179"/>
                </a:lnTo>
                <a:lnTo>
                  <a:pt x="1810" y="832"/>
                </a:lnTo>
                <a:lnTo>
                  <a:pt x="1545" y="1572"/>
                </a:lnTo>
                <a:lnTo>
                  <a:pt x="2002" y="1170"/>
                </a:lnTo>
                <a:lnTo>
                  <a:pt x="1819" y="1645"/>
                </a:lnTo>
                <a:lnTo>
                  <a:pt x="2212" y="1435"/>
                </a:lnTo>
                <a:lnTo>
                  <a:pt x="2093" y="1874"/>
                </a:lnTo>
                <a:lnTo>
                  <a:pt x="2605" y="1636"/>
                </a:lnTo>
                <a:lnTo>
                  <a:pt x="2486" y="2075"/>
                </a:lnTo>
                <a:lnTo>
                  <a:pt x="2989" y="1901"/>
                </a:lnTo>
                <a:lnTo>
                  <a:pt x="2989" y="2340"/>
                </a:lnTo>
                <a:lnTo>
                  <a:pt x="3501" y="2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0" t="0" r="0" b="30317"/>
          <a:stretch/>
        </p:blipFill>
        <p:spPr>
          <a:xfrm>
            <a:off x="0" y="479520"/>
            <a:ext cx="9144000" cy="5546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ansion of 30/30 T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4880" y="5421240"/>
            <a:ext cx="66960" cy="627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600080" y="5602320"/>
            <a:ext cx="88920" cy="41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03400" y="4867200"/>
            <a:ext cx="81000" cy="11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6320" y="513072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65560" y="2165400"/>
            <a:ext cx="3854520" cy="3435480"/>
          </a:xfrm>
          <a:custGeom>
            <a:avLst/>
            <a:gdLst/>
            <a:ahLst/>
            <a:rect l="l" t="t" r="r" b="b"/>
            <a:pathLst>
              <a:path w="2428" h="2164">
                <a:moveTo>
                  <a:pt x="1876" y="0"/>
                </a:moveTo>
                <a:lnTo>
                  <a:pt x="1724" y="84"/>
                </a:lnTo>
                <a:lnTo>
                  <a:pt x="1600" y="156"/>
                </a:lnTo>
                <a:lnTo>
                  <a:pt x="1172" y="424"/>
                </a:lnTo>
                <a:lnTo>
                  <a:pt x="1252" y="456"/>
                </a:lnTo>
                <a:lnTo>
                  <a:pt x="1360" y="604"/>
                </a:lnTo>
                <a:lnTo>
                  <a:pt x="1248" y="684"/>
                </a:lnTo>
                <a:lnTo>
                  <a:pt x="1172" y="660"/>
                </a:lnTo>
                <a:lnTo>
                  <a:pt x="1092" y="784"/>
                </a:lnTo>
                <a:lnTo>
                  <a:pt x="860" y="800"/>
                </a:lnTo>
                <a:lnTo>
                  <a:pt x="836" y="784"/>
                </a:lnTo>
                <a:lnTo>
                  <a:pt x="0" y="2164"/>
                </a:lnTo>
                <a:lnTo>
                  <a:pt x="348" y="2152"/>
                </a:lnTo>
                <a:lnTo>
                  <a:pt x="660" y="2128"/>
                </a:lnTo>
                <a:lnTo>
                  <a:pt x="940" y="2096"/>
                </a:lnTo>
                <a:lnTo>
                  <a:pt x="1240" y="2056"/>
                </a:lnTo>
                <a:lnTo>
                  <a:pt x="1456" y="1816"/>
                </a:lnTo>
                <a:lnTo>
                  <a:pt x="1712" y="1504"/>
                </a:lnTo>
                <a:lnTo>
                  <a:pt x="2092" y="1432"/>
                </a:lnTo>
                <a:lnTo>
                  <a:pt x="2428" y="1348"/>
                </a:lnTo>
                <a:lnTo>
                  <a:pt x="2388" y="1052"/>
                </a:lnTo>
                <a:lnTo>
                  <a:pt x="2344" y="840"/>
                </a:lnTo>
                <a:lnTo>
                  <a:pt x="2276" y="640"/>
                </a:lnTo>
                <a:lnTo>
                  <a:pt x="2188" y="424"/>
                </a:lnTo>
                <a:lnTo>
                  <a:pt x="2092" y="244"/>
                </a:lnTo>
                <a:lnTo>
                  <a:pt x="2036" y="148"/>
                </a:lnTo>
                <a:lnTo>
                  <a:pt x="1996" y="152"/>
                </a:lnTo>
                <a:lnTo>
                  <a:pt x="1876" y="0"/>
                </a:lnTo>
                <a:close/>
              </a:path>
            </a:pathLst>
          </a:cu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09800" y="1038240"/>
            <a:ext cx="6143400" cy="4576680"/>
          </a:xfrm>
          <a:custGeom>
            <a:avLst/>
            <a:gdLst/>
            <a:ahLst/>
            <a:rect l="l" t="t" r="r" b="b"/>
            <a:pathLst>
              <a:path w="3870" h="2883">
                <a:moveTo>
                  <a:pt x="2640" y="0"/>
                </a:moveTo>
                <a:lnTo>
                  <a:pt x="2838" y="30"/>
                </a:lnTo>
                <a:lnTo>
                  <a:pt x="3018" y="78"/>
                </a:lnTo>
                <a:lnTo>
                  <a:pt x="3132" y="132"/>
                </a:lnTo>
                <a:lnTo>
                  <a:pt x="3216" y="168"/>
                </a:lnTo>
                <a:lnTo>
                  <a:pt x="3342" y="252"/>
                </a:lnTo>
                <a:lnTo>
                  <a:pt x="3390" y="240"/>
                </a:lnTo>
                <a:lnTo>
                  <a:pt x="3498" y="330"/>
                </a:lnTo>
                <a:lnTo>
                  <a:pt x="3552" y="372"/>
                </a:lnTo>
                <a:lnTo>
                  <a:pt x="3645" y="486"/>
                </a:lnTo>
                <a:lnTo>
                  <a:pt x="3738" y="594"/>
                </a:lnTo>
                <a:lnTo>
                  <a:pt x="3804" y="636"/>
                </a:lnTo>
                <a:lnTo>
                  <a:pt x="3870" y="678"/>
                </a:lnTo>
                <a:lnTo>
                  <a:pt x="3858" y="720"/>
                </a:lnTo>
                <a:lnTo>
                  <a:pt x="3618" y="846"/>
                </a:lnTo>
                <a:lnTo>
                  <a:pt x="3468" y="939"/>
                </a:lnTo>
                <a:lnTo>
                  <a:pt x="3180" y="1128"/>
                </a:lnTo>
                <a:lnTo>
                  <a:pt x="3060" y="1038"/>
                </a:lnTo>
                <a:lnTo>
                  <a:pt x="2988" y="990"/>
                </a:lnTo>
                <a:lnTo>
                  <a:pt x="2709" y="993"/>
                </a:lnTo>
                <a:lnTo>
                  <a:pt x="2580" y="1113"/>
                </a:lnTo>
                <a:lnTo>
                  <a:pt x="2583" y="1218"/>
                </a:lnTo>
                <a:lnTo>
                  <a:pt x="2598" y="1344"/>
                </a:lnTo>
                <a:lnTo>
                  <a:pt x="2706" y="1407"/>
                </a:lnTo>
                <a:lnTo>
                  <a:pt x="2823" y="1494"/>
                </a:lnTo>
                <a:lnTo>
                  <a:pt x="1992" y="2868"/>
                </a:lnTo>
                <a:lnTo>
                  <a:pt x="1764" y="2883"/>
                </a:lnTo>
                <a:lnTo>
                  <a:pt x="1737" y="2373"/>
                </a:lnTo>
                <a:lnTo>
                  <a:pt x="1113" y="2382"/>
                </a:lnTo>
                <a:lnTo>
                  <a:pt x="684" y="2376"/>
                </a:lnTo>
                <a:lnTo>
                  <a:pt x="699" y="2571"/>
                </a:lnTo>
                <a:lnTo>
                  <a:pt x="354" y="2538"/>
                </a:lnTo>
                <a:lnTo>
                  <a:pt x="147" y="2505"/>
                </a:lnTo>
                <a:lnTo>
                  <a:pt x="138" y="2322"/>
                </a:lnTo>
                <a:lnTo>
                  <a:pt x="30" y="2298"/>
                </a:lnTo>
                <a:lnTo>
                  <a:pt x="0" y="2136"/>
                </a:lnTo>
                <a:lnTo>
                  <a:pt x="30" y="1818"/>
                </a:lnTo>
                <a:lnTo>
                  <a:pt x="90" y="1494"/>
                </a:lnTo>
                <a:lnTo>
                  <a:pt x="228" y="1458"/>
                </a:lnTo>
                <a:lnTo>
                  <a:pt x="453" y="1452"/>
                </a:lnTo>
                <a:lnTo>
                  <a:pt x="753" y="1191"/>
                </a:lnTo>
                <a:lnTo>
                  <a:pt x="1059" y="984"/>
                </a:lnTo>
                <a:lnTo>
                  <a:pt x="1170" y="624"/>
                </a:lnTo>
                <a:lnTo>
                  <a:pt x="1272" y="408"/>
                </a:lnTo>
                <a:lnTo>
                  <a:pt x="1260" y="330"/>
                </a:lnTo>
                <a:lnTo>
                  <a:pt x="1470" y="270"/>
                </a:lnTo>
                <a:lnTo>
                  <a:pt x="1770" y="168"/>
                </a:lnTo>
                <a:lnTo>
                  <a:pt x="2046" y="126"/>
                </a:lnTo>
                <a:lnTo>
                  <a:pt x="2292" y="84"/>
                </a:lnTo>
                <a:lnTo>
                  <a:pt x="2514" y="36"/>
                </a:lnTo>
                <a:lnTo>
                  <a:pt x="2640" y="0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53560" y="3471840"/>
            <a:ext cx="2901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 22,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3400" y="165564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13,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9880" y="3357720"/>
            <a:ext cx="389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talink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42000"/>
          </a:blip>
          <a:srcRect l="0" t="0" r="0" b="30339"/>
          <a:stretch/>
        </p:blipFill>
        <p:spPr>
          <a:xfrm>
            <a:off x="0" y="4795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ansion of 30/30 T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753000"/>
            <a:ext cx="933480" cy="247680"/>
          </a:xfrm>
          <a:custGeom>
            <a:avLst/>
            <a:gdLst/>
            <a:ahLst/>
            <a:rect l="l" t="t" r="r" b="b"/>
            <a:pathLst>
              <a:path w="588" h="156">
                <a:moveTo>
                  <a:pt x="39" y="144"/>
                </a:moveTo>
                <a:lnTo>
                  <a:pt x="0" y="26"/>
                </a:lnTo>
                <a:lnTo>
                  <a:pt x="60" y="20"/>
                </a:lnTo>
                <a:lnTo>
                  <a:pt x="108" y="80"/>
                </a:lnTo>
                <a:lnTo>
                  <a:pt x="296" y="60"/>
                </a:lnTo>
                <a:lnTo>
                  <a:pt x="381" y="17"/>
                </a:lnTo>
                <a:lnTo>
                  <a:pt x="494" y="0"/>
                </a:lnTo>
                <a:lnTo>
                  <a:pt x="527" y="17"/>
                </a:lnTo>
                <a:lnTo>
                  <a:pt x="579" y="34"/>
                </a:lnTo>
                <a:lnTo>
                  <a:pt x="588" y="53"/>
                </a:lnTo>
                <a:lnTo>
                  <a:pt x="581" y="70"/>
                </a:lnTo>
                <a:lnTo>
                  <a:pt x="571" y="89"/>
                </a:lnTo>
                <a:lnTo>
                  <a:pt x="547" y="106"/>
                </a:lnTo>
                <a:lnTo>
                  <a:pt x="483" y="118"/>
                </a:lnTo>
                <a:lnTo>
                  <a:pt x="418" y="127"/>
                </a:lnTo>
                <a:lnTo>
                  <a:pt x="375" y="154"/>
                </a:lnTo>
                <a:lnTo>
                  <a:pt x="296" y="156"/>
                </a:lnTo>
                <a:lnTo>
                  <a:pt x="316" y="132"/>
                </a:lnTo>
                <a:lnTo>
                  <a:pt x="163" y="139"/>
                </a:lnTo>
                <a:lnTo>
                  <a:pt x="39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0920" y="2711520"/>
            <a:ext cx="933480" cy="247680"/>
          </a:xfrm>
          <a:custGeom>
            <a:avLst/>
            <a:gdLst/>
            <a:ahLst/>
            <a:rect l="l" t="t" r="r" b="b"/>
            <a:pathLst>
              <a:path w="588" h="156">
                <a:moveTo>
                  <a:pt x="39" y="144"/>
                </a:moveTo>
                <a:lnTo>
                  <a:pt x="0" y="26"/>
                </a:lnTo>
                <a:lnTo>
                  <a:pt x="64" y="25"/>
                </a:lnTo>
                <a:lnTo>
                  <a:pt x="119" y="80"/>
                </a:lnTo>
                <a:lnTo>
                  <a:pt x="296" y="60"/>
                </a:lnTo>
                <a:lnTo>
                  <a:pt x="381" y="17"/>
                </a:lnTo>
                <a:lnTo>
                  <a:pt x="494" y="0"/>
                </a:lnTo>
                <a:lnTo>
                  <a:pt x="527" y="17"/>
                </a:lnTo>
                <a:lnTo>
                  <a:pt x="579" y="34"/>
                </a:lnTo>
                <a:lnTo>
                  <a:pt x="588" y="53"/>
                </a:lnTo>
                <a:lnTo>
                  <a:pt x="581" y="70"/>
                </a:lnTo>
                <a:lnTo>
                  <a:pt x="571" y="89"/>
                </a:lnTo>
                <a:lnTo>
                  <a:pt x="547" y="106"/>
                </a:lnTo>
                <a:lnTo>
                  <a:pt x="483" y="118"/>
                </a:lnTo>
                <a:lnTo>
                  <a:pt x="418" y="127"/>
                </a:lnTo>
                <a:lnTo>
                  <a:pt x="375" y="154"/>
                </a:lnTo>
                <a:lnTo>
                  <a:pt x="296" y="156"/>
                </a:lnTo>
                <a:lnTo>
                  <a:pt x="316" y="132"/>
                </a:lnTo>
                <a:lnTo>
                  <a:pt x="163" y="139"/>
                </a:lnTo>
                <a:lnTo>
                  <a:pt x="39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15200" y="4021200"/>
            <a:ext cx="87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7120" y="3056040"/>
            <a:ext cx="87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5120" y="2914560"/>
            <a:ext cx="487656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98440" y="35514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9400" y="1093680"/>
            <a:ext cx="87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37520" y="174132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ansion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02292 -0.23889 L 0.03751 1.11111E-006 L 0.05834 -0.23056 L 0.07709 1.11111E-006 L 0.08959 -0.22778 L 0.10417 0.00277 E">
                                      <p:cBhvr>
                                        <p:cTn id="39" dur="5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>
            <a:lum bright="42000"/>
          </a:blip>
          <a:srcRect l="0" t="0" r="0" b="30339"/>
          <a:stretch/>
        </p:blipFill>
        <p:spPr>
          <a:xfrm>
            <a:off x="0" y="4795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ansion of 30/30 T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9800" y="3867120"/>
            <a:ext cx="914400" cy="22860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538" y="133"/>
                </a:moveTo>
                <a:lnTo>
                  <a:pt x="576" y="24"/>
                </a:lnTo>
                <a:lnTo>
                  <a:pt x="512" y="24"/>
                </a:lnTo>
                <a:lnTo>
                  <a:pt x="465" y="71"/>
                </a:lnTo>
                <a:lnTo>
                  <a:pt x="286" y="55"/>
                </a:lnTo>
                <a:lnTo>
                  <a:pt x="203" y="16"/>
                </a:lnTo>
                <a:lnTo>
                  <a:pt x="92" y="0"/>
                </a:lnTo>
                <a:lnTo>
                  <a:pt x="60" y="16"/>
                </a:lnTo>
                <a:lnTo>
                  <a:pt x="9" y="31"/>
                </a:lnTo>
                <a:lnTo>
                  <a:pt x="0" y="49"/>
                </a:lnTo>
                <a:lnTo>
                  <a:pt x="6" y="64"/>
                </a:lnTo>
                <a:lnTo>
                  <a:pt x="17" y="82"/>
                </a:lnTo>
                <a:lnTo>
                  <a:pt x="41" y="97"/>
                </a:lnTo>
                <a:lnTo>
                  <a:pt x="102" y="109"/>
                </a:lnTo>
                <a:lnTo>
                  <a:pt x="166" y="117"/>
                </a:lnTo>
                <a:lnTo>
                  <a:pt x="209" y="142"/>
                </a:lnTo>
                <a:lnTo>
                  <a:pt x="286" y="144"/>
                </a:lnTo>
                <a:lnTo>
                  <a:pt x="267" y="122"/>
                </a:lnTo>
                <a:lnTo>
                  <a:pt x="416" y="128"/>
                </a:lnTo>
                <a:lnTo>
                  <a:pt x="538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30920" y="2711520"/>
            <a:ext cx="933480" cy="247680"/>
          </a:xfrm>
          <a:custGeom>
            <a:avLst/>
            <a:gdLst/>
            <a:ahLst/>
            <a:rect l="l" t="t" r="r" b="b"/>
            <a:pathLst>
              <a:path w="588" h="156">
                <a:moveTo>
                  <a:pt x="39" y="144"/>
                </a:moveTo>
                <a:lnTo>
                  <a:pt x="0" y="26"/>
                </a:lnTo>
                <a:lnTo>
                  <a:pt x="68" y="25"/>
                </a:lnTo>
                <a:lnTo>
                  <a:pt x="113" y="80"/>
                </a:lnTo>
                <a:lnTo>
                  <a:pt x="296" y="60"/>
                </a:lnTo>
                <a:lnTo>
                  <a:pt x="381" y="17"/>
                </a:lnTo>
                <a:lnTo>
                  <a:pt x="494" y="0"/>
                </a:lnTo>
                <a:lnTo>
                  <a:pt x="527" y="17"/>
                </a:lnTo>
                <a:lnTo>
                  <a:pt x="579" y="34"/>
                </a:lnTo>
                <a:lnTo>
                  <a:pt x="588" y="53"/>
                </a:lnTo>
                <a:lnTo>
                  <a:pt x="581" y="70"/>
                </a:lnTo>
                <a:lnTo>
                  <a:pt x="571" y="89"/>
                </a:lnTo>
                <a:lnTo>
                  <a:pt x="547" y="106"/>
                </a:lnTo>
                <a:lnTo>
                  <a:pt x="483" y="118"/>
                </a:lnTo>
                <a:lnTo>
                  <a:pt x="418" y="127"/>
                </a:lnTo>
                <a:lnTo>
                  <a:pt x="375" y="154"/>
                </a:lnTo>
                <a:lnTo>
                  <a:pt x="296" y="156"/>
                </a:lnTo>
                <a:lnTo>
                  <a:pt x="316" y="132"/>
                </a:lnTo>
                <a:lnTo>
                  <a:pt x="163" y="139"/>
                </a:lnTo>
                <a:lnTo>
                  <a:pt x="39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15200" y="4021200"/>
            <a:ext cx="87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7120" y="3056040"/>
            <a:ext cx="87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05120" y="2914560"/>
            <a:ext cx="487656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98440" y="35514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41120" y="4008600"/>
            <a:ext cx="195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30 C F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37520" y="174132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ansion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6667 -0.11112 E">
                                      <p:cBhvr>
                                        <p:cTn id="5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Go to fullsize image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1666800"/>
            <a:ext cx="9144000" cy="7688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080" y="20520"/>
            <a:ext cx="798804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link Network Iss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1120" y="955800"/>
            <a:ext cx="352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April 18, 2007 a software fix was installed on the Perth GES that corrected the last known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1481040"/>
            <a:ext cx="5557680" cy="3714840"/>
          </a:xfrm>
          <a:custGeom>
            <a:avLst/>
            <a:gdLst/>
            <a:ahLst/>
            <a:rect l="l" t="t" r="r" b="b"/>
            <a:pathLst>
              <a:path w="3501" h="2340">
                <a:moveTo>
                  <a:pt x="0" y="182"/>
                </a:moveTo>
                <a:lnTo>
                  <a:pt x="301" y="0"/>
                </a:lnTo>
                <a:lnTo>
                  <a:pt x="256" y="210"/>
                </a:lnTo>
                <a:lnTo>
                  <a:pt x="539" y="9"/>
                </a:lnTo>
                <a:lnTo>
                  <a:pt x="475" y="246"/>
                </a:lnTo>
                <a:lnTo>
                  <a:pt x="749" y="109"/>
                </a:lnTo>
                <a:lnTo>
                  <a:pt x="749" y="438"/>
                </a:lnTo>
                <a:lnTo>
                  <a:pt x="1024" y="310"/>
                </a:lnTo>
                <a:lnTo>
                  <a:pt x="987" y="667"/>
                </a:lnTo>
                <a:lnTo>
                  <a:pt x="1389" y="512"/>
                </a:lnTo>
                <a:lnTo>
                  <a:pt x="996" y="1024"/>
                </a:lnTo>
                <a:lnTo>
                  <a:pt x="1581" y="758"/>
                </a:lnTo>
                <a:lnTo>
                  <a:pt x="1398" y="1179"/>
                </a:lnTo>
                <a:lnTo>
                  <a:pt x="1810" y="832"/>
                </a:lnTo>
                <a:lnTo>
                  <a:pt x="1545" y="1572"/>
                </a:lnTo>
                <a:lnTo>
                  <a:pt x="2002" y="1170"/>
                </a:lnTo>
                <a:lnTo>
                  <a:pt x="1819" y="1645"/>
                </a:lnTo>
                <a:lnTo>
                  <a:pt x="2212" y="1435"/>
                </a:lnTo>
                <a:lnTo>
                  <a:pt x="2093" y="1874"/>
                </a:lnTo>
                <a:lnTo>
                  <a:pt x="2605" y="1636"/>
                </a:lnTo>
                <a:lnTo>
                  <a:pt x="2486" y="2075"/>
                </a:lnTo>
                <a:lnTo>
                  <a:pt x="2989" y="1901"/>
                </a:lnTo>
                <a:lnTo>
                  <a:pt x="2989" y="2340"/>
                </a:lnTo>
                <a:lnTo>
                  <a:pt x="3501" y="2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84440" y="2308320"/>
            <a:ext cx="2046240" cy="1639800"/>
          </a:xfrm>
          <a:custGeom>
            <a:avLst/>
            <a:gdLst/>
            <a:ahLst/>
            <a:rect l="l" t="t" r="r" b="b"/>
            <a:pathLst>
              <a:path w="1289" h="1033">
                <a:moveTo>
                  <a:pt x="448" y="0"/>
                </a:moveTo>
                <a:lnTo>
                  <a:pt x="1289" y="521"/>
                </a:lnTo>
                <a:lnTo>
                  <a:pt x="978" y="1033"/>
                </a:lnTo>
                <a:lnTo>
                  <a:pt x="0" y="457"/>
                </a:lnTo>
                <a:lnTo>
                  <a:pt x="448" y="0"/>
                </a:lnTo>
                <a:close/>
              </a:path>
            </a:pathLst>
          </a:custGeom>
          <a:solidFill>
            <a:srgbClr val="d7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9000" y="1320840"/>
            <a:ext cx="5181480" cy="3614760"/>
          </a:xfrm>
          <a:custGeom>
            <a:avLst/>
            <a:gdLst/>
            <a:ahLst/>
            <a:rect l="l" t="t" r="r" b="b"/>
            <a:pathLst>
              <a:path w="3264" h="2277">
                <a:moveTo>
                  <a:pt x="0" y="512"/>
                </a:moveTo>
                <a:lnTo>
                  <a:pt x="64" y="338"/>
                </a:lnTo>
                <a:lnTo>
                  <a:pt x="128" y="183"/>
                </a:lnTo>
                <a:lnTo>
                  <a:pt x="292" y="64"/>
                </a:lnTo>
                <a:lnTo>
                  <a:pt x="429" y="0"/>
                </a:lnTo>
                <a:lnTo>
                  <a:pt x="3264" y="1792"/>
                </a:lnTo>
                <a:lnTo>
                  <a:pt x="3264" y="1911"/>
                </a:lnTo>
                <a:lnTo>
                  <a:pt x="3200" y="2066"/>
                </a:lnTo>
                <a:lnTo>
                  <a:pt x="3117" y="2194"/>
                </a:lnTo>
                <a:lnTo>
                  <a:pt x="2980" y="2277"/>
                </a:lnTo>
                <a:lnTo>
                  <a:pt x="1828" y="1591"/>
                </a:lnTo>
                <a:lnTo>
                  <a:pt x="2167" y="1097"/>
                </a:lnTo>
                <a:lnTo>
                  <a:pt x="1508" y="677"/>
                </a:lnTo>
                <a:lnTo>
                  <a:pt x="1133" y="1179"/>
                </a:lnTo>
                <a:lnTo>
                  <a:pt x="1828" y="1600"/>
                </a:lnTo>
                <a:lnTo>
                  <a:pt x="0" y="512"/>
                </a:lnTo>
                <a:close/>
              </a:path>
            </a:pathLst>
          </a:custGeom>
          <a:solidFill>
            <a:srgbClr val="d7d97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7400" y="271476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13040" y="2857680"/>
            <a:ext cx="88920" cy="8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57480" y="300348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73480" y="313380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49800" y="2944800"/>
            <a:ext cx="8856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7240" y="308772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25720" y="324648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3280" y="334656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18040" y="3117960"/>
            <a:ext cx="8856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33680" y="326088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6920" y="340344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08520" y="354816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34000"/>
          </a:blip>
          <a:srcRect l="0" t="0" r="0" b="9091"/>
          <a:stretch/>
        </p:blipFill>
        <p:spPr>
          <a:xfrm>
            <a:off x="0" y="-203040"/>
            <a:ext cx="9144000" cy="6221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27120" y="1298520"/>
            <a:ext cx="807876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A Scrutiny Group met May 1-3, 2007 and recomme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AA resume using ADS distance based separation for continued In-Trail Traffic Situ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akland Center will be given authorization in the near future to resume full 30/30 Operations in the near futu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kland is expected to resume ADS distance based separation for continued In-Trail traffic around the end of M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7800" y="192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A Scrutiny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 </cp:lastModifiedBy>
  <dcterms:modified xsi:type="dcterms:W3CDTF">2007-05-11T00:25:41Z</dcterms:modified>
  <cp:revision>376</cp:revision>
  <dc:subject/>
  <dc:title>PowerPoint Presentation</dc:title>
</cp:coreProperties>
</file>