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wmf" ContentType="image/x-wmf"/>
  <Override PartName="/ppt/media/image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2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3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FD7D39-1DE8-4D01-A364-B709ADF49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BE4704-89E5-4C0D-AAA9-7E2B25C75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71880" y="883440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883440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akland Center controls 18.7 Million square miles of airspa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Oceanic area has 8 oceanic sector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tors 1,2,4,7 control the northern portion of our airspace, and sectors 3,5,6,9 control to the sout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oking at the map and starting with ZOA ***Click Mouse**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king clockwise you can see the adjacent facili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**Click Mouse as you say each facility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s Angeles, Mexico, Tahiti, Auckland, Nadi, Nauru FL 245 and below, Honiara, Port Moresby, Ujung Pandang, Manila, Naha, Tokyo, Anchorage, Vancouver, and Seattle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15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386760" y="6265800"/>
            <a:ext cx="13694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deral Av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E288-2BDF-42E8-854A-D738463077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372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14334" t="3733" r="14975" b="4562"/>
          <a:stretch/>
        </p:blipFill>
        <p:spPr>
          <a:xfrm>
            <a:off x="5708520" y="6124680"/>
            <a:ext cx="660600" cy="6620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IPACG 26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Anchorage, Alaska, May 14-18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sp>
          <p:nvSpPr>
            <p:cNvPr id="48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91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ISPACG 21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Auckland, New Zealand, March 6-8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5015-1345-4E7B-9FEF-A174BFEBF8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135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8200" y="5999040"/>
            <a:ext cx="41990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2040" y="5062680"/>
            <a:ext cx="450216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ented By: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A, Oakland ARTCC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irspace and Procedure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e: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y 14-1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7680" y="555480"/>
            <a:ext cx="512280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akland Air Route Traffic Control Ce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ACG 26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TS Route Alig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rcRect l="28360" t="22105" r="0" b="11516"/>
          <a:stretch/>
        </p:blipFill>
        <p:spPr>
          <a:xfrm>
            <a:off x="477720" y="666720"/>
            <a:ext cx="7940880" cy="53690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20200" y="84240"/>
            <a:ext cx="8153640" cy="62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ed ATS Route R585 Realig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98480" y="3719520"/>
            <a:ext cx="97632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u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09920" y="4344840"/>
            <a:ext cx="117612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Pro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110000">
            <a:off x="4602240" y="3220560"/>
            <a:ext cx="3514680" cy="3194280"/>
          </a:xfrm>
          <a:prstGeom prst="irregularSeal2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40320" y="4037040"/>
            <a:ext cx="212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way realigned to match new Way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10000" y="1380960"/>
            <a:ext cx="3524040" cy="2800440"/>
          </a:xfrm>
          <a:custGeom>
            <a:avLst/>
            <a:gdLst/>
            <a:ahLst/>
            <a:rect l="l" t="t" r="r" b="b"/>
            <a:pathLst>
              <a:path w="2220" h="1764">
                <a:moveTo>
                  <a:pt x="0" y="1764"/>
                </a:moveTo>
                <a:lnTo>
                  <a:pt x="1152" y="876"/>
                </a:lnTo>
                <a:lnTo>
                  <a:pt x="1704" y="432"/>
                </a:lnTo>
                <a:lnTo>
                  <a:pt x="2220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52600" y="1380960"/>
            <a:ext cx="3781440" cy="3048120"/>
          </a:xfrm>
          <a:custGeom>
            <a:avLst/>
            <a:gdLst/>
            <a:ahLst/>
            <a:rect l="l" t="t" r="r" b="b"/>
            <a:pathLst>
              <a:path w="2382" h="1920">
                <a:moveTo>
                  <a:pt x="0" y="1920"/>
                </a:moveTo>
                <a:lnTo>
                  <a:pt x="678" y="1368"/>
                </a:lnTo>
                <a:lnTo>
                  <a:pt x="1332" y="864"/>
                </a:lnTo>
                <a:lnTo>
                  <a:pt x="1890" y="408"/>
                </a:lnTo>
                <a:lnTo>
                  <a:pt x="2382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46480" y="597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110000">
            <a:off x="4552560" y="3206880"/>
            <a:ext cx="3576600" cy="324144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78600" y="4219560"/>
            <a:ext cx="2235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ving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843 N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rcRect l="36924" t="16204" r="23071" b="43427"/>
          <a:stretch/>
        </p:blipFill>
        <p:spPr>
          <a:xfrm>
            <a:off x="1374840" y="790560"/>
            <a:ext cx="6600600" cy="5189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20200" y="84240"/>
            <a:ext cx="8153640" cy="62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osed ATS Route B474 Realig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05080" y="3801960"/>
            <a:ext cx="11145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u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05280" y="5337000"/>
            <a:ext cx="140328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Pro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595200">
            <a:off x="1549440" y="1062000"/>
            <a:ext cx="3657600" cy="2117880"/>
          </a:xfrm>
          <a:prstGeom prst="irregularSeal2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74920" y="1735200"/>
            <a:ext cx="21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ings of 20 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909960" y="1693800"/>
            <a:ext cx="2695680" cy="30463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11760" y="1587600"/>
            <a:ext cx="2577960" cy="3111480"/>
          </a:xfrm>
          <a:custGeom>
            <a:avLst/>
            <a:gdLst/>
            <a:ahLst/>
            <a:rect l="l" t="t" r="r" b="b"/>
            <a:pathLst>
              <a:path w="1624" h="1960">
                <a:moveTo>
                  <a:pt x="1624" y="0"/>
                </a:moveTo>
                <a:lnTo>
                  <a:pt x="1248" y="392"/>
                </a:lnTo>
                <a:lnTo>
                  <a:pt x="0" y="196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3101000">
            <a:off x="4454280" y="-536040"/>
            <a:ext cx="318960" cy="25524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2744600">
            <a:off x="5327640" y="-647640"/>
            <a:ext cx="318960" cy="25560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2083 0.32615 L -0.16389 0.77152 E">
                                      <p:cBhvr>
                                        <p:cTn id="310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0591 0.29259 L 0.18386 0.31921 L 0.11077 0.44282 L 0.03993 0.55046 L -0.04826 0.70255 E">
                                      <p:cBhvr>
                                        <p:cTn id="312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rcRect l="36924" t="16204" r="23071" b="43427"/>
          <a:stretch/>
        </p:blipFill>
        <p:spPr>
          <a:xfrm>
            <a:off x="1374840" y="790560"/>
            <a:ext cx="6600600" cy="5189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20200" y="84240"/>
            <a:ext cx="8153640" cy="62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osed ATS Route B580 Realig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05080" y="3801960"/>
            <a:ext cx="11145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u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05280" y="5337000"/>
            <a:ext cx="140328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Pro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595200">
            <a:off x="1549440" y="1062000"/>
            <a:ext cx="3657600" cy="2117880"/>
          </a:xfrm>
          <a:prstGeom prst="irregularSeal2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74920" y="1735200"/>
            <a:ext cx="21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ings of 28 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919320" y="1741320"/>
            <a:ext cx="2724120" cy="36277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95560" y="1562040"/>
            <a:ext cx="2638440" cy="3772080"/>
          </a:xfrm>
          <a:custGeom>
            <a:avLst/>
            <a:gdLst/>
            <a:ahLst/>
            <a:rect l="l" t="t" r="r" b="b"/>
            <a:pathLst>
              <a:path w="1662" h="2376">
                <a:moveTo>
                  <a:pt x="1662" y="0"/>
                </a:moveTo>
                <a:lnTo>
                  <a:pt x="1392" y="480"/>
                </a:lnTo>
                <a:lnTo>
                  <a:pt x="0" y="23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3101000">
            <a:off x="4454280" y="-536040"/>
            <a:ext cx="318960" cy="25524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2744600">
            <a:off x="5327640" y="-647640"/>
            <a:ext cx="318960" cy="25560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595200">
            <a:off x="297000" y="4056120"/>
            <a:ext cx="3263760" cy="185580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39960" y="4567320"/>
            <a:ext cx="212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nm extra savings south of BO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2448 0.33379 L -0.17378 0.85555 E">
                                      <p:cBhvr>
                                        <p:cTn id="333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0799 0.28981 L 0.18507 0.32199 L 0.11042 0.47338 L 0.03785 0.60509 L -0.05243 0.7912 E">
                                      <p:cBhvr>
                                        <p:cTn id="335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rcRect l="36924" t="16204" r="23071" b="43427"/>
          <a:stretch/>
        </p:blipFill>
        <p:spPr>
          <a:xfrm>
            <a:off x="1374840" y="790560"/>
            <a:ext cx="6600600" cy="5189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20200" y="84240"/>
            <a:ext cx="8153640" cy="62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osed ATS Route G347 Realig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602240" y="4424400"/>
            <a:ext cx="100008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u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46680" y="4994280"/>
            <a:ext cx="118764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Pro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595200">
            <a:off x="1549440" y="1062000"/>
            <a:ext cx="3657600" cy="2117880"/>
          </a:xfrm>
          <a:prstGeom prst="irregularSeal2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74920" y="1735200"/>
            <a:ext cx="21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ings of 27 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1765440"/>
            <a:ext cx="1409760" cy="3555720"/>
          </a:xfrm>
          <a:custGeom>
            <a:avLst/>
            <a:gdLst/>
            <a:ahLst/>
            <a:rect l="l" t="t" r="r" b="b"/>
            <a:pathLst>
              <a:path w="888" h="2240">
                <a:moveTo>
                  <a:pt x="888" y="0"/>
                </a:moveTo>
                <a:lnTo>
                  <a:pt x="472" y="896"/>
                </a:lnTo>
                <a:lnTo>
                  <a:pt x="0" y="22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5595840" y="1728720"/>
            <a:ext cx="1263600" cy="358956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13101000">
            <a:off x="4454280" y="-536040"/>
            <a:ext cx="318960" cy="25524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2744600">
            <a:off x="5327640" y="-647640"/>
            <a:ext cx="318960" cy="25560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4809 0.33194 L 0.00955 0.85185 E">
                                      <p:cBhvr>
                                        <p:cTn id="366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5938 0.31574 L 0.24653 0.3456 L 0.20521 0.48773 L 0.16528 0.61088 L 0.11563 0.78565 E">
                                      <p:cBhvr>
                                        <p:cTn id="368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500"/>
                            </p:stCondLst>
                            <p:childTnLst>
                              <p:par>
                                <p:cTn id="3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rcRect l="36924" t="16204" r="23071" b="43427"/>
          <a:stretch/>
        </p:blipFill>
        <p:spPr>
          <a:xfrm>
            <a:off x="1374840" y="790560"/>
            <a:ext cx="6600600" cy="5189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20200" y="84240"/>
            <a:ext cx="8153640" cy="62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osed ATS Route G457 Realig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278400" y="4703760"/>
            <a:ext cx="100044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u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89560" y="4879800"/>
            <a:ext cx="118728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Pro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595200">
            <a:off x="1549440" y="1062000"/>
            <a:ext cx="3657600" cy="2117880"/>
          </a:xfrm>
          <a:prstGeom prst="irregularSeal2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74920" y="1735200"/>
            <a:ext cx="21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ings of 17 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824080" y="1728720"/>
            <a:ext cx="1035000" cy="361476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13101000">
            <a:off x="4454280" y="-536040"/>
            <a:ext cx="318960" cy="25524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2744600">
            <a:off x="5327640" y="-647640"/>
            <a:ext cx="318960" cy="25560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54680" y="1765440"/>
            <a:ext cx="1104840" cy="3568680"/>
          </a:xfrm>
          <a:custGeom>
            <a:avLst/>
            <a:gdLst/>
            <a:ahLst/>
            <a:rect l="l" t="t" r="r" b="b"/>
            <a:pathLst>
              <a:path w="696" h="2248">
                <a:moveTo>
                  <a:pt x="696" y="0"/>
                </a:moveTo>
                <a:lnTo>
                  <a:pt x="464" y="928"/>
                </a:lnTo>
                <a:lnTo>
                  <a:pt x="0" y="22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4948 0.33194 L 0.03316 0.86111 E">
                                      <p:cBhvr>
                                        <p:cTn id="389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566 0.3213 L 0.24671 0.35116 L 0.21511 0.49352 L 0.1849 0.61736 L 0.14757 0.79305 E">
                                      <p:cBhvr>
                                        <p:cTn id="391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rcRect l="36924" t="16204" r="23071" b="43427"/>
          <a:stretch/>
        </p:blipFill>
        <p:spPr>
          <a:xfrm>
            <a:off x="1374840" y="790560"/>
            <a:ext cx="6600600" cy="5189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20200" y="84240"/>
            <a:ext cx="8153640" cy="62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osed ATS Route B596 Realig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122960" y="4782960"/>
            <a:ext cx="100044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u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61080" y="4280040"/>
            <a:ext cx="118728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Pro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595200">
            <a:off x="1549440" y="1062000"/>
            <a:ext cx="3657600" cy="2117880"/>
          </a:xfrm>
          <a:prstGeom prst="irregularSeal2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74920" y="1735200"/>
            <a:ext cx="196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ings of 3 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07320" y="1731960"/>
            <a:ext cx="149040" cy="35352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85080" y="1739880"/>
            <a:ext cx="101520" cy="3530520"/>
          </a:xfrm>
          <a:custGeom>
            <a:avLst/>
            <a:gdLst/>
            <a:ahLst/>
            <a:rect l="l" t="t" r="r" b="b"/>
            <a:pathLst>
              <a:path w="64" h="2224">
                <a:moveTo>
                  <a:pt x="0" y="0"/>
                </a:moveTo>
                <a:lnTo>
                  <a:pt x="40" y="960"/>
                </a:lnTo>
                <a:lnTo>
                  <a:pt x="56" y="1608"/>
                </a:lnTo>
                <a:lnTo>
                  <a:pt x="64" y="22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0800000">
            <a:off x="4454640" y="-536040"/>
            <a:ext cx="318960" cy="25524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0800000">
            <a:off x="5327640" y="-647640"/>
            <a:ext cx="318960" cy="25560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4948 0.3324 L 0.16927 0.84444 E">
                                      <p:cBhvr>
                                        <p:cTn id="412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6007 0.31204 L 0.26077 0.34329 L 0.26355 0.49329 L 0.26615 0.62384 L 0.26945 0.80926 E">
                                      <p:cBhvr>
                                        <p:cTn id="414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500"/>
                            </p:stCondLst>
                            <p:childTnLst>
                              <p:par>
                                <p:cTn id="4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rcRect l="36924" t="16204" r="17275" b="43427"/>
          <a:stretch/>
        </p:blipFill>
        <p:spPr>
          <a:xfrm>
            <a:off x="760320" y="790560"/>
            <a:ext cx="7558200" cy="5189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20200" y="84240"/>
            <a:ext cx="8153640" cy="62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osed ATS Route B595 Realig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227720" y="3173400"/>
            <a:ext cx="100044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u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66000" y="4132440"/>
            <a:ext cx="118728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Pro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595200">
            <a:off x="1549440" y="1062000"/>
            <a:ext cx="3657600" cy="2117880"/>
          </a:xfrm>
          <a:prstGeom prst="irregularSeal2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74920" y="1735200"/>
            <a:ext cx="196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ings of 27 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81880" y="1609560"/>
            <a:ext cx="947520" cy="3143520"/>
          </a:xfrm>
          <a:custGeom>
            <a:avLst/>
            <a:gdLst/>
            <a:ahLst/>
            <a:rect l="l" t="t" r="r" b="b"/>
            <a:pathLst>
              <a:path w="516" h="1698">
                <a:moveTo>
                  <a:pt x="0" y="0"/>
                </a:moveTo>
                <a:lnTo>
                  <a:pt x="273" y="855"/>
                </a:lnTo>
                <a:lnTo>
                  <a:pt x="438" y="1410"/>
                </a:lnTo>
                <a:lnTo>
                  <a:pt x="516" y="16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450120" y="1736640"/>
            <a:ext cx="1077840" cy="304956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9513000">
            <a:off x="4454640" y="-536040"/>
            <a:ext cx="318960" cy="25524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9705000">
            <a:off x="5327640" y="-647640"/>
            <a:ext cx="318960" cy="25560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0573 0.3287 L 0.2224 0.77453 E">
                                      <p:cBhvr>
                                        <p:cTn id="435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158 0.29514 L 0.2224 0.32014 L 0.24983 0.4419 L 0.27518 0.54792 L 0.30799 0.69838 E">
                                      <p:cBhvr>
                                        <p:cTn id="437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500"/>
                            </p:stCondLst>
                            <p:childTnLst>
                              <p:par>
                                <p:cTn id="4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960480" y="743040"/>
            <a:ext cx="7165800" cy="52290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20200" y="84240"/>
            <a:ext cx="8153640" cy="62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ed ATS Route A332 Realig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035600" y="3986280"/>
            <a:ext cx="9759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u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37000" y="3544920"/>
            <a:ext cx="117612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Pro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110000">
            <a:off x="5359320" y="2090880"/>
            <a:ext cx="3514680" cy="2490480"/>
          </a:xfrm>
          <a:prstGeom prst="irregularSeal2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2868480"/>
            <a:ext cx="212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ings of 7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95640" y="1314360"/>
            <a:ext cx="2523960" cy="3733920"/>
          </a:xfrm>
          <a:custGeom>
            <a:avLst/>
            <a:gdLst/>
            <a:ahLst/>
            <a:rect l="l" t="t" r="r" b="b"/>
            <a:pathLst>
              <a:path w="1590" h="2352">
                <a:moveTo>
                  <a:pt x="0" y="2352"/>
                </a:moveTo>
                <a:lnTo>
                  <a:pt x="384" y="1974"/>
                </a:lnTo>
                <a:lnTo>
                  <a:pt x="912" y="1134"/>
                </a:lnTo>
                <a:lnTo>
                  <a:pt x="1272" y="546"/>
                </a:lnTo>
                <a:lnTo>
                  <a:pt x="1512" y="132"/>
                </a:lnTo>
                <a:lnTo>
                  <a:pt x="159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3263760" y="1305000"/>
            <a:ext cx="2346480" cy="355608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2022000">
            <a:off x="2901600" y="-428400"/>
            <a:ext cx="318960" cy="25560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2050200">
            <a:off x="2454120" y="-425160"/>
            <a:ext cx="319320" cy="25560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209 0.78058 L 0.07188 0.68879 L 0.20938 0.39445 L 0.27084 0.25688 E">
                                      <p:cBhvr>
                                        <p:cTn id="456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3 0.76601 L 0.33021 0.23122 E">
                                      <p:cBhvr>
                                        <p:cTn id="458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3500"/>
                            </p:stCondLst>
                            <p:childTnLst>
                              <p:par>
                                <p:cTn id="46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rcRect l="0" t="0" r="0" b="12440"/>
          <a:stretch/>
        </p:blipFill>
        <p:spPr>
          <a:xfrm>
            <a:off x="0" y="-95724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37200"/>
          </a:xfrm>
          <a:prstGeom prst="rect">
            <a:avLst/>
          </a:prstGeom>
          <a:solidFill>
            <a:srgbClr val="000000">
              <a:alpha val="66000"/>
            </a:srgbClr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changes to the ATS Routes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ound Hawaii is projected to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ve 110,000 flying miles a year,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equivalent of 5 time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ound the Earth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5400000">
            <a:off x="-286920" y="3004560"/>
            <a:ext cx="319320" cy="25560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13 0.01527 L 0.29323 0.0259 L 0.37743 0.03006 L 0.50434 0.03006 L 0.60122 0.0259 L 0.69167 0.01527 L 0.77257 -0.00161 L 0.80278 -0.01225 E">
                                      <p:cBhvr>
                                        <p:cTn id="473" dur="3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000"/>
                            </p:stCondLst>
                            <p:childTnLst>
                              <p:par>
                                <p:cTn id="4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083 0.0007 L 0.21806 0.01366 L 0.23889 0.01736 L 0.3125 0.02848 L 0.39722 0.03033 L 0.52083 0.02848 L 0.61111 0.02477 L 0.7125 0.01181 L 0.78611 -0.00301 L 0.81806 -0.01412 L 0.81806 -0.02523 L 0.80278 -0.03264 E">
                                      <p:cBhvr>
                                        <p:cTn id="479" dur="3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6000"/>
                            </p:stCondLst>
                            <p:childTnLst>
                              <p:par>
                                <p:cTn id="486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25 -0.00115 L 0.2125 0.00996 L 0.2375 0.01736 L 0.31528 0.02662 L 0.43889 0.03218 L 0.53889 0.03033 L 0.65417 0.01922 L 0.76806 0.0044 L 0.82361 -0.01597 L 0.80556 -0.03078 E">
                                      <p:cBhvr>
                                        <p:cTn id="487" dur="3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4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2222 -0.00486 L 0.2125 0.00625 L 0.27639 0.02662 L 0.35417 0.02848 L 0.43611 0.03033 L 0.55972 0.02848 L 0.6875 0.01736 L 0.80278 -0.00856 L 0.81667 -0.02152 L 0.80695 -0.03078 E">
                                      <p:cBhvr>
                                        <p:cTn id="495" dur="3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2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2222 -0.00486 L 0.20972 0.0081 L 0.29167 0.02662 L 0.38889 0.02848 L 0.57222 0.02662 L 0.72222 0.01181 L 0.80972 -0.01041 L 0.80278 -0.02523 E">
                                      <p:cBhvr>
                                        <p:cTn id="503" dur="3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8215200" cy="75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Hawaii ATS Route Realignmen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14240" y="1336680"/>
            <a:ext cx="771048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akland Center is working with HCF on an implementation pla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orking to ensure no adverse effects are caused by the ATS Route chang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ordinate proposed changes with ICA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 flipH="1" flipV="1">
            <a:off x="5552640" y="4338360"/>
            <a:ext cx="66600" cy="4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240" y="344160"/>
            <a:ext cx="870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AO STRATEGIC OBJECTIV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>
            <a:lum bright="-60000"/>
          </a:blip>
          <a:stretch/>
        </p:blipFill>
        <p:spPr>
          <a:xfrm>
            <a:off x="1424160" y="914400"/>
            <a:ext cx="6300720" cy="5153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20720" y="14446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4040" y="1484280"/>
            <a:ext cx="8493120" cy="38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Support of ICAO’S Strategic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ize the adverse effect of Global Civil Aviation on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hance the efficiency of aviation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akland has conducted a review of the ATS Routes within the Oakland F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20200" y="84240"/>
            <a:ext cx="8153640" cy="62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ed Guam ATS Rou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rcRect l="1811" t="5892" r="14169" b="25690"/>
          <a:stretch/>
        </p:blipFill>
        <p:spPr>
          <a:xfrm>
            <a:off x="189000" y="752400"/>
            <a:ext cx="8770680" cy="52308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 flipH="1">
            <a:off x="5133600" y="2190600"/>
            <a:ext cx="104760" cy="16290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72160" y="2033640"/>
            <a:ext cx="361800" cy="17859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38640" y="1847880"/>
            <a:ext cx="880920" cy="1990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81360" y="1628640"/>
            <a:ext cx="1428840" cy="2214720"/>
          </a:xfrm>
          <a:custGeom>
            <a:avLst/>
            <a:gdLst/>
            <a:ahLst/>
            <a:rect l="l" t="t" r="r" b="b"/>
            <a:pathLst>
              <a:path w="900" h="1395">
                <a:moveTo>
                  <a:pt x="0" y="0"/>
                </a:moveTo>
                <a:lnTo>
                  <a:pt x="567" y="957"/>
                </a:lnTo>
                <a:lnTo>
                  <a:pt x="900" y="1395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33680" y="1609560"/>
            <a:ext cx="2562120" cy="2224080"/>
          </a:xfrm>
          <a:custGeom>
            <a:avLst/>
            <a:gdLst/>
            <a:ahLst/>
            <a:rect l="l" t="t" r="r" b="b"/>
            <a:pathLst>
              <a:path w="1614" h="1401">
                <a:moveTo>
                  <a:pt x="0" y="0"/>
                </a:moveTo>
                <a:lnTo>
                  <a:pt x="1203" y="1062"/>
                </a:lnTo>
                <a:lnTo>
                  <a:pt x="1614" y="1401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38520" y="2033640"/>
            <a:ext cx="338400" cy="2490840"/>
          </a:xfrm>
          <a:custGeom>
            <a:avLst/>
            <a:gdLst/>
            <a:ahLst/>
            <a:rect l="l" t="t" r="r" b="b"/>
            <a:pathLst>
              <a:path w="213" h="1569">
                <a:moveTo>
                  <a:pt x="147" y="0"/>
                </a:moveTo>
                <a:lnTo>
                  <a:pt x="213" y="787"/>
                </a:lnTo>
                <a:lnTo>
                  <a:pt x="0" y="1569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rcRect l="11469" t="9176" r="34636" b="49929"/>
          <a:stretch/>
        </p:blipFill>
        <p:spPr>
          <a:xfrm>
            <a:off x="0" y="969840"/>
            <a:ext cx="9144000" cy="50817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9600" y="31572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ed ATS Route R596 Real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147760" y="1940040"/>
            <a:ext cx="2637000" cy="3033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780080" y="4984920"/>
            <a:ext cx="1582560" cy="572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160720" y="1909800"/>
            <a:ext cx="3646440" cy="32274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5808240" y="5137200"/>
            <a:ext cx="576360" cy="4032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97240" y="3344760"/>
            <a:ext cx="976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u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57520" y="2759040"/>
            <a:ext cx="1176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Pro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7437000">
            <a:off x="3197160" y="-255240"/>
            <a:ext cx="318960" cy="25560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7160400">
            <a:off x="3808440" y="-375840"/>
            <a:ext cx="318960" cy="25560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4308480"/>
            <a:ext cx="3301920" cy="1522440"/>
          </a:xfrm>
          <a:prstGeom prst="irregularSeal2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92200" y="49323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ings of 20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20086 0.31029 L 0.23368 0.82127 E">
                                      <p:cBhvr>
                                        <p:cTn id="527" dur="3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038 0.30151 L 0.14427 0.73665 L 0.26702 0.80208 E">
                                      <p:cBhvr>
                                        <p:cTn id="529" dur="3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500"/>
                            </p:stCondLst>
                            <p:childTnLst>
                              <p:par>
                                <p:cTn id="5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0"/>
                            </p:stCondLst>
                            <p:childTnLst>
                              <p:par>
                                <p:cTn id="5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rcRect l="11469" t="9176" r="34636" b="49929"/>
          <a:stretch/>
        </p:blipFill>
        <p:spPr>
          <a:xfrm>
            <a:off x="0" y="912960"/>
            <a:ext cx="9381960" cy="51163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99600" y="18720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ed ATS Route R584/R595 Realig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172040" y="1987560"/>
            <a:ext cx="558720" cy="1482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02320" y="3419640"/>
            <a:ext cx="1287360" cy="1711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56200" y="1938240"/>
            <a:ext cx="1711080" cy="237816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5851440" y="4287600"/>
            <a:ext cx="750960" cy="126684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16200" y="3125880"/>
            <a:ext cx="976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u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35680" y="2751120"/>
            <a:ext cx="1176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Pro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8704800">
            <a:off x="4145760" y="-379440"/>
            <a:ext cx="319320" cy="25560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8550000">
            <a:off x="4815000" y="-423360"/>
            <a:ext cx="318960" cy="25560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6520" y="4383000"/>
            <a:ext cx="3301920" cy="1392480"/>
          </a:xfrm>
          <a:prstGeom prst="irregularSeal2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43120" y="494820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ings of 11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43600" y="5141880"/>
            <a:ext cx="603360" cy="414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9132 0.32093 L 0.09514 0.66867 L 0.17379 0.85203 E">
                                      <p:cBhvr>
                                        <p:cTn id="554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84 0.33318 L 0.04914 0.54659 L 0.18438 0.78566 L 0.22414 0.82705 E">
                                      <p:cBhvr>
                                        <p:cTn id="556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rcRect l="11469" t="9176" r="34636" b="49929"/>
          <a:stretch/>
        </p:blipFill>
        <p:spPr>
          <a:xfrm>
            <a:off x="-174600" y="806400"/>
            <a:ext cx="9556560" cy="522288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9600" y="15840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ed ATS Route G339 Real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979880" y="2178000"/>
            <a:ext cx="922320" cy="2938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027760" y="2227320"/>
            <a:ext cx="765000" cy="200196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5780160" y="4184640"/>
            <a:ext cx="704880" cy="133992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52760" y="3409920"/>
            <a:ext cx="976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u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57760" y="3476520"/>
            <a:ext cx="1176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Pro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9788400">
            <a:off x="4857840" y="-417600"/>
            <a:ext cx="318960" cy="25560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9706200">
            <a:off x="5468400" y="-403920"/>
            <a:ext cx="319320" cy="25524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0880" y="4164120"/>
            <a:ext cx="3302280" cy="1434960"/>
          </a:xfrm>
          <a:prstGeom prst="irregularSeal2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27000" y="471636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ings of 19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913360" y="5097600"/>
            <a:ext cx="517680" cy="3855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6354 0.36254 L 0.01406 0.65665 L 0.0941 0.84832 E">
                                      <p:cBhvr>
                                        <p:cTn id="581" dur="2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 0.37433 L 0.09688 0.78474 L 0.13455 0.82035 E">
                                      <p:cBhvr>
                                        <p:cTn id="583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350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4000"/>
                            </p:stCondLst>
                            <p:childTnLst>
                              <p:par>
                                <p:cTn id="5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9600" y="15840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ed ATS Route B586 Real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35920" y="2825640"/>
            <a:ext cx="83880" cy="1098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6883200" y="2865600"/>
            <a:ext cx="220680" cy="235872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875640" y="3936960"/>
            <a:ext cx="342720" cy="1320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rcRect l="27073" t="19133" r="34636" b="49929"/>
          <a:stretch/>
        </p:blipFill>
        <p:spPr>
          <a:xfrm>
            <a:off x="0" y="912960"/>
            <a:ext cx="9144000" cy="50893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62080" y="3495600"/>
            <a:ext cx="3301920" cy="1406520"/>
          </a:xfrm>
          <a:prstGeom prst="irregularSeal2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24040" y="404640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ings of 9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64240" y="2260440"/>
            <a:ext cx="976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u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254560" y="1828800"/>
            <a:ext cx="463680" cy="3614760"/>
          </a:xfrm>
          <a:custGeom>
            <a:avLst/>
            <a:gdLst/>
            <a:ahLst/>
            <a:rect l="l" t="t" r="r" b="b"/>
            <a:pathLst>
              <a:path w="292" h="2277">
                <a:moveTo>
                  <a:pt x="173" y="0"/>
                </a:moveTo>
                <a:lnTo>
                  <a:pt x="292" y="1051"/>
                </a:lnTo>
                <a:lnTo>
                  <a:pt x="0" y="2277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254200" y="1843200"/>
            <a:ext cx="260280" cy="35845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165560" y="2982960"/>
            <a:ext cx="1176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Pro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10800000">
            <a:off x="5477040" y="-379440"/>
            <a:ext cx="318960" cy="25560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11106600">
            <a:off x="6097680" y="-385920"/>
            <a:ext cx="318960" cy="25560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158 0.30613 L -0.04132 0.81988 E">
                                      <p:cBhvr>
                                        <p:cTn id="602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57 0.30867 L -0.05937 0.55769 L -0.09965 0.77989 E">
                                      <p:cBhvr>
                                        <p:cTn id="604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500"/>
                            </p:stCondLst>
                            <p:childTnLst>
                              <p:par>
                                <p:cTn id="6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000"/>
                            </p:stCondLst>
                            <p:childTnLst>
                              <p:par>
                                <p:cTn id="6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5160" y="115920"/>
            <a:ext cx="88599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roposed ATS Route A216 Realign./Exten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030200" y="1328760"/>
            <a:ext cx="513000" cy="379404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060800" y="2743200"/>
            <a:ext cx="736560" cy="2336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81360" y="1314360"/>
            <a:ext cx="200160" cy="144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rcRect l="11469" t="18030" r="34636" b="42219"/>
          <a:stretch/>
        </p:blipFill>
        <p:spPr>
          <a:xfrm>
            <a:off x="0" y="1055520"/>
            <a:ext cx="9144000" cy="49453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679320" y="3613320"/>
            <a:ext cx="3302280" cy="1565280"/>
          </a:xfrm>
          <a:prstGeom prst="irregularSeal2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270080" y="423720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ings of 16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13320" y="1668600"/>
            <a:ext cx="696960" cy="3962160"/>
          </a:xfrm>
          <a:custGeom>
            <a:avLst/>
            <a:gdLst/>
            <a:ahLst/>
            <a:rect l="l" t="t" r="r" b="b"/>
            <a:pathLst>
              <a:path w="439" h="2496">
                <a:moveTo>
                  <a:pt x="256" y="0"/>
                </a:moveTo>
                <a:lnTo>
                  <a:pt x="439" y="933"/>
                </a:lnTo>
                <a:lnTo>
                  <a:pt x="0" y="249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329000" y="3389400"/>
            <a:ext cx="1176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Pro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27840" y="2224080"/>
            <a:ext cx="976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u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10080" y="1638360"/>
            <a:ext cx="470160" cy="3975120"/>
          </a:xfrm>
          <a:custGeom>
            <a:avLst/>
            <a:gdLst/>
            <a:ahLst/>
            <a:rect l="l" t="t" r="r" b="b"/>
            <a:pathLst>
              <a:path w="296" h="2504">
                <a:moveTo>
                  <a:pt x="248" y="0"/>
                </a:moveTo>
                <a:lnTo>
                  <a:pt x="296" y="1440"/>
                </a:lnTo>
                <a:lnTo>
                  <a:pt x="0" y="2504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0800000">
            <a:off x="4464000" y="-404280"/>
            <a:ext cx="318960" cy="25524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rot="11367000">
            <a:off x="4014360" y="-445680"/>
            <a:ext cx="319320" cy="25560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7796 0.28218 L 0.18629 0.62477 L 0.1349 0.86551 E">
                                      <p:cBhvr>
                                        <p:cTn id="622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4409 0.28694 L 0.16527 0.49457 L 0.10069 0.79607 E">
                                      <p:cBhvr>
                                        <p:cTn id="624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000"/>
                            </p:stCondLst>
                            <p:childTnLst>
                              <p:par>
                                <p:cTn id="6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500"/>
                            </p:stCondLst>
                            <p:childTnLst>
                              <p:par>
                                <p:cTn id="6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solidFill>
            <a:srgbClr val="000000">
              <a:alpha val="66000"/>
            </a:srgbClr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changes to the ATS Routes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ound Hawaii is projected to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ve 110,000 flying miles a year,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equivalent of 5 time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ound the Earth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rcRect l="138" t="15494" r="24614" b="26723"/>
          <a:stretch/>
        </p:blipFill>
        <p:spPr>
          <a:xfrm>
            <a:off x="0" y="0"/>
            <a:ext cx="9144000" cy="59929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 rot="19654200">
            <a:off x="8072280" y="2685600"/>
            <a:ext cx="319320" cy="25560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7585200">
            <a:off x="-549000" y="801360"/>
            <a:ext cx="318960" cy="25560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624"/>
                </a:moveTo>
                <a:lnTo>
                  <a:pt x="480" y="336"/>
                </a:lnTo>
                <a:lnTo>
                  <a:pt x="480" y="96"/>
                </a:lnTo>
                <a:lnTo>
                  <a:pt x="576" y="0"/>
                </a:lnTo>
                <a:lnTo>
                  <a:pt x="672" y="96"/>
                </a:lnTo>
                <a:lnTo>
                  <a:pt x="672" y="336"/>
                </a:lnTo>
                <a:lnTo>
                  <a:pt x="1152" y="624"/>
                </a:lnTo>
                <a:lnTo>
                  <a:pt x="1152" y="768"/>
                </a:lnTo>
                <a:lnTo>
                  <a:pt x="672" y="576"/>
                </a:lnTo>
                <a:lnTo>
                  <a:pt x="672" y="912"/>
                </a:lnTo>
                <a:lnTo>
                  <a:pt x="816" y="960"/>
                </a:lnTo>
                <a:lnTo>
                  <a:pt x="816" y="1056"/>
                </a:lnTo>
                <a:lnTo>
                  <a:pt x="720" y="1056"/>
                </a:lnTo>
                <a:lnTo>
                  <a:pt x="672" y="1008"/>
                </a:lnTo>
                <a:lnTo>
                  <a:pt x="480" y="1008"/>
                </a:lnTo>
                <a:lnTo>
                  <a:pt x="432" y="1056"/>
                </a:lnTo>
                <a:lnTo>
                  <a:pt x="336" y="1056"/>
                </a:lnTo>
                <a:lnTo>
                  <a:pt x="336" y="960"/>
                </a:lnTo>
                <a:lnTo>
                  <a:pt x="480" y="912"/>
                </a:lnTo>
                <a:lnTo>
                  <a:pt x="480" y="576"/>
                </a:lnTo>
                <a:lnTo>
                  <a:pt x="0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rcRect l="51448" t="1928" r="2891" b="1281"/>
          <a:stretch/>
        </p:blipFill>
        <p:spPr>
          <a:xfrm>
            <a:off x="287280" y="320760"/>
            <a:ext cx="1187640" cy="12571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6835680" y="3178080"/>
            <a:ext cx="378000" cy="247680"/>
          </a:xfrm>
          <a:prstGeom prst="cloudCallout">
            <a:avLst>
              <a:gd name="adj1" fmla="val -1680"/>
              <a:gd name="adj2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17440" y="2467080"/>
            <a:ext cx="412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changes to the ATS Routes around Guam is projected to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ve 220,000 flying miles a year,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ich is over the distance to the m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302 0.06042 L -0.14948 0.03958 L -0.1651 0.05069 L -0.15781 0.03125 L -0.17135 0.04514 L -0.17135 0.02986 L -0.20364 -0.01042 L -0.29323 -0.11736 L -0.3776 -0.19514 L -0.51198 -0.28125 L -0.60781 -0.31736 L -0.7151 -0.32292 L -0.77343 -0.32014 E">
                                      <p:cBhvr>
                                        <p:cTn id="637" dur="5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0"/>
                            </p:stCondLst>
                            <p:childTnLst>
                              <p:par>
                                <p:cTn id="6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63 0.04439 L 0.10763 0.08462 L 0.125 0.11422 L 0.1552 0.13526 L 0.17899 0.1459 E">
                                      <p:cBhvr>
                                        <p:cTn id="646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7000"/>
                            </p:stCondLst>
                            <p:childTnLst>
                              <p:par>
                                <p:cTn id="6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03200" y="-360"/>
            <a:ext cx="8215200" cy="75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Guam ATS Route Realignmen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41520" y="1001880"/>
            <a:ext cx="7710480" cy="51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akland Center is working with adjacent ANSPs on the implementation pla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ordinate proposed changes with ICA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ork to ensure no adverse effects cause by the ATS Route chang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arget date for implementation is August 30, 2007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on By The Me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meeting is requested to endorse the proposal provided in this paper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2838600" y="458640"/>
            <a:ext cx="34668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8215200" cy="75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ATS Route Realignment Proposal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4240" y="1336680"/>
            <a:ext cx="771048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urrent ATS Route Structures were designed based upon 100nm lateral Separation Standard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s to ATC Operating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NP-10 operations (50nm Lateral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Ocean21 ATC Automation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ome ATS Routes may be improv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0" t="10246" r="0" b="6145"/>
          <a:stretch/>
        </p:blipFill>
        <p:spPr>
          <a:xfrm>
            <a:off x="0" y="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9600" y="38376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ATS Route Realignment Proposal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68480" y="1054080"/>
            <a:ext cx="2057400" cy="1612800"/>
          </a:xfrm>
          <a:prstGeom prst="wedgeRectCallout">
            <a:avLst>
              <a:gd name="adj1" fmla="val -85958"/>
              <a:gd name="adj2" fmla="val 52856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ATS Routes Northwest of Gu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15880" y="4019400"/>
            <a:ext cx="2057400" cy="1613160"/>
          </a:xfrm>
          <a:prstGeom prst="wedgeRectCallout">
            <a:avLst>
              <a:gd name="adj1" fmla="val 104013"/>
              <a:gd name="adj2" fmla="val 1671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ATS Routes around Hawa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832360" y="885960"/>
            <a:ext cx="1244880" cy="1952640"/>
          </a:xfrm>
          <a:prstGeom prst="line">
            <a:avLst/>
          </a:prstGeom>
          <a:ln w="3816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6840" y="2433600"/>
            <a:ext cx="1341360" cy="897120"/>
          </a:xfrm>
          <a:custGeom>
            <a:avLst/>
            <a:gdLst/>
            <a:ahLst/>
            <a:rect l="l" t="t" r="r" b="b"/>
            <a:pathLst>
              <a:path w="845" h="565">
                <a:moveTo>
                  <a:pt x="845" y="271"/>
                </a:moveTo>
                <a:lnTo>
                  <a:pt x="804" y="450"/>
                </a:lnTo>
                <a:lnTo>
                  <a:pt x="775" y="435"/>
                </a:lnTo>
                <a:lnTo>
                  <a:pt x="735" y="426"/>
                </a:lnTo>
                <a:lnTo>
                  <a:pt x="702" y="423"/>
                </a:lnTo>
                <a:lnTo>
                  <a:pt x="648" y="426"/>
                </a:lnTo>
                <a:lnTo>
                  <a:pt x="612" y="438"/>
                </a:lnTo>
                <a:lnTo>
                  <a:pt x="567" y="465"/>
                </a:lnTo>
                <a:lnTo>
                  <a:pt x="535" y="497"/>
                </a:lnTo>
                <a:lnTo>
                  <a:pt x="507" y="537"/>
                </a:lnTo>
                <a:lnTo>
                  <a:pt x="493" y="565"/>
                </a:lnTo>
                <a:lnTo>
                  <a:pt x="0" y="246"/>
                </a:lnTo>
                <a:lnTo>
                  <a:pt x="99" y="0"/>
                </a:lnTo>
                <a:lnTo>
                  <a:pt x="209" y="45"/>
                </a:lnTo>
                <a:lnTo>
                  <a:pt x="303" y="84"/>
                </a:lnTo>
                <a:lnTo>
                  <a:pt x="471" y="150"/>
                </a:lnTo>
                <a:lnTo>
                  <a:pt x="641" y="211"/>
                </a:lnTo>
                <a:lnTo>
                  <a:pt x="756" y="246"/>
                </a:lnTo>
                <a:lnTo>
                  <a:pt x="845" y="271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71960" y="3390840"/>
            <a:ext cx="2000160" cy="1857600"/>
          </a:xfrm>
          <a:custGeom>
            <a:avLst/>
            <a:gdLst/>
            <a:ahLst/>
            <a:rect l="l" t="t" r="r" b="b"/>
            <a:pathLst>
              <a:path w="1260" h="1170">
                <a:moveTo>
                  <a:pt x="1260" y="1134"/>
                </a:moveTo>
                <a:lnTo>
                  <a:pt x="1122" y="1146"/>
                </a:lnTo>
                <a:lnTo>
                  <a:pt x="972" y="1155"/>
                </a:lnTo>
                <a:lnTo>
                  <a:pt x="834" y="1161"/>
                </a:lnTo>
                <a:lnTo>
                  <a:pt x="681" y="1164"/>
                </a:lnTo>
                <a:lnTo>
                  <a:pt x="564" y="1170"/>
                </a:lnTo>
                <a:lnTo>
                  <a:pt x="444" y="1170"/>
                </a:lnTo>
                <a:lnTo>
                  <a:pt x="282" y="1170"/>
                </a:lnTo>
                <a:lnTo>
                  <a:pt x="147" y="1170"/>
                </a:lnTo>
                <a:lnTo>
                  <a:pt x="0" y="1167"/>
                </a:lnTo>
                <a:lnTo>
                  <a:pt x="3" y="975"/>
                </a:lnTo>
                <a:lnTo>
                  <a:pt x="6" y="810"/>
                </a:lnTo>
                <a:lnTo>
                  <a:pt x="6" y="750"/>
                </a:lnTo>
                <a:lnTo>
                  <a:pt x="807" y="0"/>
                </a:lnTo>
                <a:lnTo>
                  <a:pt x="927" y="81"/>
                </a:lnTo>
                <a:lnTo>
                  <a:pt x="1020" y="69"/>
                </a:lnTo>
                <a:lnTo>
                  <a:pt x="1110" y="66"/>
                </a:lnTo>
                <a:lnTo>
                  <a:pt x="1260" y="1134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82760" y="2695680"/>
            <a:ext cx="670860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valuation indicated two areas that could be potentially impro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rcRect l="32821" t="14244" r="15712" b="40628"/>
          <a:stretch/>
        </p:blipFill>
        <p:spPr>
          <a:xfrm>
            <a:off x="277920" y="23760"/>
            <a:ext cx="8672400" cy="59230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122400"/>
            <a:ext cx="4711680" cy="132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posed PHNL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TS Rout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555720" y="1203480"/>
            <a:ext cx="2739960" cy="3736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245200" y="1260360"/>
            <a:ext cx="1325520" cy="3641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562360" y="1266840"/>
            <a:ext cx="1019160" cy="3622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11840" y="1276200"/>
            <a:ext cx="69840" cy="3587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26320" y="1263600"/>
            <a:ext cx="1047600" cy="3067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555720" y="1198440"/>
            <a:ext cx="2738520" cy="3068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905520" y="0"/>
            <a:ext cx="228600" cy="333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2080" y="-17640"/>
            <a:ext cx="798804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nolulu Control Facility Bound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98680" y="852480"/>
            <a:ext cx="6386400" cy="5160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873080" y="1415880"/>
            <a:ext cx="5353200" cy="3803760"/>
          </a:xfrm>
          <a:custGeom>
            <a:avLst/>
            <a:gdLst/>
            <a:ahLst/>
            <a:rect l="l" t="t" r="r" b="b"/>
            <a:pathLst>
              <a:path w="3372" h="2396">
                <a:moveTo>
                  <a:pt x="524" y="152"/>
                </a:moveTo>
                <a:lnTo>
                  <a:pt x="668" y="268"/>
                </a:lnTo>
                <a:lnTo>
                  <a:pt x="856" y="200"/>
                </a:lnTo>
                <a:lnTo>
                  <a:pt x="1536" y="116"/>
                </a:lnTo>
                <a:lnTo>
                  <a:pt x="2192" y="392"/>
                </a:lnTo>
                <a:lnTo>
                  <a:pt x="2376" y="512"/>
                </a:lnTo>
                <a:lnTo>
                  <a:pt x="2592" y="652"/>
                </a:lnTo>
                <a:lnTo>
                  <a:pt x="2792" y="780"/>
                </a:lnTo>
                <a:lnTo>
                  <a:pt x="2948" y="928"/>
                </a:lnTo>
                <a:lnTo>
                  <a:pt x="3080" y="1124"/>
                </a:lnTo>
                <a:lnTo>
                  <a:pt x="2984" y="1516"/>
                </a:lnTo>
                <a:lnTo>
                  <a:pt x="2380" y="1632"/>
                </a:lnTo>
                <a:lnTo>
                  <a:pt x="2280" y="1828"/>
                </a:lnTo>
                <a:lnTo>
                  <a:pt x="2092" y="2040"/>
                </a:lnTo>
                <a:lnTo>
                  <a:pt x="1896" y="2192"/>
                </a:lnTo>
                <a:lnTo>
                  <a:pt x="1600" y="2248"/>
                </a:lnTo>
                <a:lnTo>
                  <a:pt x="1388" y="2284"/>
                </a:lnTo>
                <a:lnTo>
                  <a:pt x="1228" y="2236"/>
                </a:lnTo>
                <a:lnTo>
                  <a:pt x="1052" y="2168"/>
                </a:lnTo>
                <a:lnTo>
                  <a:pt x="884" y="2084"/>
                </a:lnTo>
                <a:lnTo>
                  <a:pt x="676" y="1952"/>
                </a:lnTo>
                <a:lnTo>
                  <a:pt x="356" y="1676"/>
                </a:lnTo>
                <a:lnTo>
                  <a:pt x="276" y="1456"/>
                </a:lnTo>
                <a:lnTo>
                  <a:pt x="224" y="1232"/>
                </a:lnTo>
                <a:lnTo>
                  <a:pt x="220" y="1012"/>
                </a:lnTo>
                <a:lnTo>
                  <a:pt x="256" y="788"/>
                </a:lnTo>
                <a:lnTo>
                  <a:pt x="344" y="584"/>
                </a:lnTo>
                <a:lnTo>
                  <a:pt x="480" y="400"/>
                </a:lnTo>
                <a:lnTo>
                  <a:pt x="672" y="268"/>
                </a:lnTo>
                <a:lnTo>
                  <a:pt x="524" y="152"/>
                </a:lnTo>
                <a:lnTo>
                  <a:pt x="0" y="780"/>
                </a:lnTo>
                <a:lnTo>
                  <a:pt x="92" y="1760"/>
                </a:lnTo>
                <a:lnTo>
                  <a:pt x="1176" y="2396"/>
                </a:lnTo>
                <a:lnTo>
                  <a:pt x="2112" y="2260"/>
                </a:lnTo>
                <a:lnTo>
                  <a:pt x="2540" y="1612"/>
                </a:lnTo>
                <a:lnTo>
                  <a:pt x="2892" y="1648"/>
                </a:lnTo>
                <a:lnTo>
                  <a:pt x="3372" y="1224"/>
                </a:lnTo>
                <a:lnTo>
                  <a:pt x="2904" y="692"/>
                </a:lnTo>
                <a:lnTo>
                  <a:pt x="1832" y="0"/>
                </a:lnTo>
                <a:lnTo>
                  <a:pt x="524" y="152"/>
                </a:lnTo>
                <a:close/>
              </a:path>
            </a:pathLst>
          </a:custGeom>
          <a:solidFill>
            <a:srgbClr val="ffcc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79560" y="1409760"/>
            <a:ext cx="5353200" cy="3809880"/>
          </a:xfrm>
          <a:custGeom>
            <a:avLst/>
            <a:gdLst/>
            <a:ahLst/>
            <a:rect l="l" t="t" r="r" b="b"/>
            <a:pathLst>
              <a:path w="3372" h="2400">
                <a:moveTo>
                  <a:pt x="0" y="780"/>
                </a:moveTo>
                <a:lnTo>
                  <a:pt x="528" y="156"/>
                </a:lnTo>
                <a:lnTo>
                  <a:pt x="1816" y="0"/>
                </a:lnTo>
                <a:lnTo>
                  <a:pt x="2912" y="708"/>
                </a:lnTo>
                <a:lnTo>
                  <a:pt x="3372" y="1228"/>
                </a:lnTo>
                <a:lnTo>
                  <a:pt x="2892" y="1656"/>
                </a:lnTo>
                <a:lnTo>
                  <a:pt x="2540" y="1612"/>
                </a:lnTo>
                <a:lnTo>
                  <a:pt x="2120" y="2264"/>
                </a:lnTo>
                <a:lnTo>
                  <a:pt x="1184" y="2400"/>
                </a:lnTo>
                <a:lnTo>
                  <a:pt x="92" y="1760"/>
                </a:lnTo>
                <a:lnTo>
                  <a:pt x="0" y="780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34600" y="4370400"/>
            <a:ext cx="1600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22640" y="1600200"/>
            <a:ext cx="4533840" cy="3441600"/>
          </a:xfrm>
          <a:custGeom>
            <a:avLst/>
            <a:gdLst/>
            <a:ahLst/>
            <a:rect l="l" t="t" r="r" b="b"/>
            <a:pathLst>
              <a:path w="2856" h="2168">
                <a:moveTo>
                  <a:pt x="640" y="84"/>
                </a:moveTo>
                <a:lnTo>
                  <a:pt x="1320" y="0"/>
                </a:lnTo>
                <a:lnTo>
                  <a:pt x="1964" y="276"/>
                </a:lnTo>
                <a:lnTo>
                  <a:pt x="2564" y="664"/>
                </a:lnTo>
                <a:lnTo>
                  <a:pt x="2724" y="812"/>
                </a:lnTo>
                <a:lnTo>
                  <a:pt x="2856" y="1016"/>
                </a:lnTo>
                <a:lnTo>
                  <a:pt x="2760" y="1388"/>
                </a:lnTo>
                <a:lnTo>
                  <a:pt x="2156" y="1520"/>
                </a:lnTo>
                <a:lnTo>
                  <a:pt x="2064" y="1712"/>
                </a:lnTo>
                <a:lnTo>
                  <a:pt x="1872" y="1924"/>
                </a:lnTo>
                <a:lnTo>
                  <a:pt x="1680" y="2072"/>
                </a:lnTo>
                <a:lnTo>
                  <a:pt x="1204" y="2168"/>
                </a:lnTo>
                <a:lnTo>
                  <a:pt x="1032" y="2128"/>
                </a:lnTo>
                <a:lnTo>
                  <a:pt x="828" y="2044"/>
                </a:lnTo>
                <a:lnTo>
                  <a:pt x="668" y="1972"/>
                </a:lnTo>
                <a:lnTo>
                  <a:pt x="456" y="1844"/>
                </a:lnTo>
                <a:lnTo>
                  <a:pt x="136" y="1556"/>
                </a:lnTo>
                <a:lnTo>
                  <a:pt x="52" y="1340"/>
                </a:lnTo>
                <a:lnTo>
                  <a:pt x="0" y="1128"/>
                </a:lnTo>
                <a:lnTo>
                  <a:pt x="0" y="896"/>
                </a:lnTo>
                <a:lnTo>
                  <a:pt x="32" y="672"/>
                </a:lnTo>
                <a:lnTo>
                  <a:pt x="132" y="468"/>
                </a:lnTo>
                <a:lnTo>
                  <a:pt x="264" y="284"/>
                </a:lnTo>
                <a:lnTo>
                  <a:pt x="444" y="152"/>
                </a:lnTo>
                <a:lnTo>
                  <a:pt x="640" y="84"/>
                </a:lnTo>
                <a:close/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74480" y="4192560"/>
            <a:ext cx="1669680" cy="459720"/>
          </a:xfrm>
          <a:prstGeom prst="rect">
            <a:avLst/>
          </a:prstGeom>
          <a:solidFill>
            <a:srgbClr val="ffcc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n-Ra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080" y="-17640"/>
            <a:ext cx="798804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COTS Track Generation NW Hawa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854360" y="852480"/>
            <a:ext cx="6386400" cy="5160960"/>
            <a:chOff x="1854360" y="852480"/>
            <a:chExt cx="6386400" cy="5160960"/>
          </a:xfrm>
        </p:grpSpPr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1854360" y="852480"/>
              <a:ext cx="6386400" cy="51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2197080" y="1403280"/>
              <a:ext cx="5391360" cy="3835440"/>
            </a:xfrm>
            <a:custGeom>
              <a:avLst/>
              <a:gdLst/>
              <a:ahLst/>
              <a:rect l="l" t="t" r="r" b="b"/>
              <a:pathLst>
                <a:path w="3396" h="2416">
                  <a:moveTo>
                    <a:pt x="0" y="768"/>
                  </a:moveTo>
                  <a:lnTo>
                    <a:pt x="512" y="160"/>
                  </a:lnTo>
                  <a:lnTo>
                    <a:pt x="1840" y="0"/>
                  </a:lnTo>
                  <a:lnTo>
                    <a:pt x="2936" y="712"/>
                  </a:lnTo>
                  <a:lnTo>
                    <a:pt x="3396" y="1232"/>
                  </a:lnTo>
                  <a:lnTo>
                    <a:pt x="2912" y="1652"/>
                  </a:lnTo>
                  <a:lnTo>
                    <a:pt x="2576" y="1624"/>
                  </a:lnTo>
                  <a:lnTo>
                    <a:pt x="2156" y="2268"/>
                  </a:lnTo>
                  <a:lnTo>
                    <a:pt x="1180" y="2416"/>
                  </a:lnTo>
                  <a:lnTo>
                    <a:pt x="112" y="1776"/>
                  </a:lnTo>
                  <a:lnTo>
                    <a:pt x="0" y="768"/>
                  </a:ln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78320" y="1600200"/>
              <a:ext cx="4533840" cy="3441600"/>
            </a:xfrm>
            <a:custGeom>
              <a:avLst/>
              <a:gdLst/>
              <a:ahLst/>
              <a:rect l="l" t="t" r="r" b="b"/>
              <a:pathLst>
                <a:path w="2856" h="2168">
                  <a:moveTo>
                    <a:pt x="640" y="84"/>
                  </a:moveTo>
                  <a:lnTo>
                    <a:pt x="1320" y="0"/>
                  </a:lnTo>
                  <a:lnTo>
                    <a:pt x="1964" y="276"/>
                  </a:lnTo>
                  <a:lnTo>
                    <a:pt x="2564" y="664"/>
                  </a:lnTo>
                  <a:lnTo>
                    <a:pt x="2724" y="812"/>
                  </a:lnTo>
                  <a:lnTo>
                    <a:pt x="2856" y="1016"/>
                  </a:lnTo>
                  <a:lnTo>
                    <a:pt x="2760" y="1388"/>
                  </a:lnTo>
                  <a:lnTo>
                    <a:pt x="2156" y="1520"/>
                  </a:lnTo>
                  <a:lnTo>
                    <a:pt x="2064" y="1712"/>
                  </a:lnTo>
                  <a:lnTo>
                    <a:pt x="1872" y="1924"/>
                  </a:lnTo>
                  <a:lnTo>
                    <a:pt x="1680" y="2072"/>
                  </a:lnTo>
                  <a:lnTo>
                    <a:pt x="1204" y="2168"/>
                  </a:lnTo>
                  <a:lnTo>
                    <a:pt x="1032" y="2128"/>
                  </a:lnTo>
                  <a:lnTo>
                    <a:pt x="828" y="2044"/>
                  </a:lnTo>
                  <a:lnTo>
                    <a:pt x="668" y="1972"/>
                  </a:lnTo>
                  <a:lnTo>
                    <a:pt x="456" y="1844"/>
                  </a:lnTo>
                  <a:lnTo>
                    <a:pt x="136" y="1556"/>
                  </a:lnTo>
                  <a:lnTo>
                    <a:pt x="52" y="1340"/>
                  </a:lnTo>
                  <a:lnTo>
                    <a:pt x="0" y="1128"/>
                  </a:lnTo>
                  <a:lnTo>
                    <a:pt x="0" y="896"/>
                  </a:lnTo>
                  <a:lnTo>
                    <a:pt x="32" y="672"/>
                  </a:lnTo>
                  <a:lnTo>
                    <a:pt x="132" y="468"/>
                  </a:lnTo>
                  <a:lnTo>
                    <a:pt x="264" y="284"/>
                  </a:lnTo>
                  <a:lnTo>
                    <a:pt x="444" y="152"/>
                  </a:lnTo>
                  <a:lnTo>
                    <a:pt x="640" y="84"/>
                  </a:lnTo>
                  <a:close/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6278040" y="4332240"/>
            <a:ext cx="1600920" cy="15721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H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Pro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851040"/>
            <a:ext cx="2209680" cy="515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39880" y="4343400"/>
            <a:ext cx="1282680" cy="102888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488" y="0"/>
                </a:moveTo>
                <a:lnTo>
                  <a:pt x="808" y="176"/>
                </a:lnTo>
                <a:lnTo>
                  <a:pt x="280" y="648"/>
                </a:lnTo>
                <a:lnTo>
                  <a:pt x="0" y="184"/>
                </a:lnTo>
                <a:lnTo>
                  <a:pt x="48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30120" y="3720960"/>
            <a:ext cx="2286000" cy="2034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851040"/>
            <a:ext cx="419400" cy="516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5240" y="914400"/>
            <a:ext cx="469800" cy="5067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1866960"/>
            <a:ext cx="2577960" cy="1523880"/>
          </a:xfrm>
          <a:custGeom>
            <a:avLst/>
            <a:gdLst/>
            <a:ahLst/>
            <a:rect l="l" t="t" r="r" b="b"/>
            <a:pathLst>
              <a:path w="1624" h="960">
                <a:moveTo>
                  <a:pt x="80" y="776"/>
                </a:moveTo>
                <a:lnTo>
                  <a:pt x="1624" y="96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2440" y="3975120"/>
            <a:ext cx="1574640" cy="482760"/>
          </a:xfrm>
          <a:prstGeom prst="wedgeRectCallout">
            <a:avLst>
              <a:gd name="adj1" fmla="val -66328"/>
              <a:gd name="adj2" fmla="val -23355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4N170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7320" y="1003320"/>
            <a:ext cx="1575000" cy="482760"/>
          </a:xfrm>
          <a:prstGeom prst="wedgeRectCallout">
            <a:avLst>
              <a:gd name="adj1" fmla="val -80847"/>
              <a:gd name="adj2" fmla="val 12434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7N170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1200" y="1879560"/>
            <a:ext cx="11448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560" y="24782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0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2040" y="4573440"/>
            <a:ext cx="2129760" cy="1015920"/>
          </a:xfrm>
          <a:prstGeom prst="rect">
            <a:avLst/>
          </a:prstGeom>
          <a:solidFill>
            <a:srgbClr val="dddddd">
              <a:alpha val="45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Current Tra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3080" y="2692440"/>
            <a:ext cx="2844720" cy="711000"/>
          </a:xfrm>
          <a:custGeom>
            <a:avLst/>
            <a:gdLst/>
            <a:ahLst/>
            <a:rect l="l" t="t" r="r" b="b"/>
            <a:pathLst>
              <a:path w="1792" h="448">
                <a:moveTo>
                  <a:pt x="0" y="248"/>
                </a:moveTo>
                <a:lnTo>
                  <a:pt x="1424" y="448"/>
                </a:lnTo>
                <a:lnTo>
                  <a:pt x="1792" y="416"/>
                </a:lnTo>
                <a:lnTo>
                  <a:pt x="1392" y="20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56080" y="168264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4680" y="1784520"/>
            <a:ext cx="88920" cy="88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59200" y="199404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227952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97040" y="259704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33680" y="295920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33680" y="333360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56040" y="2128680"/>
            <a:ext cx="3076200" cy="1015920"/>
          </a:xfrm>
          <a:prstGeom prst="rect">
            <a:avLst/>
          </a:prstGeom>
          <a:solidFill>
            <a:srgbClr val="dddddd">
              <a:alpha val="45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Proposed Waypo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&amp; Track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2600" y="-49320"/>
            <a:ext cx="9144000" cy="60627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0840" y="185760"/>
            <a:ext cx="3264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EP Curren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aypoi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rcRect l="0" t="4725" r="0" b="15847"/>
          <a:stretch/>
        </p:blipFill>
        <p:spPr>
          <a:xfrm>
            <a:off x="863640" y="0"/>
            <a:ext cx="7427880" cy="60008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27000" y="0"/>
            <a:ext cx="34797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EP Proposed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aypoi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38360" y="487692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38160" y="496872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28960" y="507672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38480" y="521640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06600" y="533412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65360" y="547380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38600" y="369252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87720" y="257796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68880" y="146052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88200" y="35568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06720" y="384480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74840" y="396864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57440" y="420372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25920" y="434016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7000" y="4495680"/>
            <a:ext cx="8856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56200" y="273672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30800" y="287964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16480" y="2962440"/>
            <a:ext cx="88920" cy="88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89360" y="319716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54600" y="334656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45040" y="350820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0880" y="164160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508720" y="178740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37320" y="200340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50080" y="219060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14960" y="234000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08640" y="253368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86480" y="606600"/>
            <a:ext cx="88920" cy="88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96000" y="71748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80120" y="103824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26280" y="119052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75680" y="134604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75480" y="1558800"/>
            <a:ext cx="88920" cy="8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MTONEY</dc:creator>
  <dc:description/>
  <dc:language>en-US</dc:language>
  <cp:lastModifiedBy> </cp:lastModifiedBy>
  <dcterms:modified xsi:type="dcterms:W3CDTF">2007-05-11T01:04:40Z</dcterms:modified>
  <cp:revision>337</cp:revision>
  <dc:subject/>
  <dc:title>PowerPoint Presentation</dc:title>
</cp:coreProperties>
</file>