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EA642-9C5D-4FE0-9827-DF22A3FEE5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30480" y="150480"/>
            <a:ext cx="700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7720" y="1461600"/>
            <a:ext cx="8253360" cy="232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7720" y="4013280"/>
            <a:ext cx="8253360" cy="232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8E368-82AF-4B9F-A379-0B9E632843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30480" y="150480"/>
            <a:ext cx="700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77720" y="1461600"/>
            <a:ext cx="4027320" cy="232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6640" y="1461600"/>
            <a:ext cx="4027320" cy="232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77720" y="4013280"/>
            <a:ext cx="4027320" cy="232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6640" y="4013280"/>
            <a:ext cx="4027320" cy="232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09666-BD92-45DC-9D3B-84024EFF26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30480" y="150480"/>
            <a:ext cx="700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77720" y="1461600"/>
            <a:ext cx="2657160" cy="232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68080" y="1461600"/>
            <a:ext cx="2657160" cy="232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58440" y="1461600"/>
            <a:ext cx="2657160" cy="232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7720" y="4013280"/>
            <a:ext cx="2657160" cy="232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68080" y="4013280"/>
            <a:ext cx="2657160" cy="232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58440" y="4013280"/>
            <a:ext cx="2657160" cy="232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A1158-70C5-4D19-8FA7-CBA4650FCC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10A25-F014-4622-82D4-2E7B3C8FC4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30480" y="150480"/>
            <a:ext cx="700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77720" y="1461600"/>
            <a:ext cx="825336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F3DB6-75A8-409F-B8D1-298BDCE5E8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30480" y="150480"/>
            <a:ext cx="700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77720" y="1461600"/>
            <a:ext cx="825336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5E592-5398-4F90-B9BE-D5291511BF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30480" y="150480"/>
            <a:ext cx="700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7720" y="1461600"/>
            <a:ext cx="402732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6640" y="1461600"/>
            <a:ext cx="402732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D2472-091A-4D77-AB64-9951767AB1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30480" y="150480"/>
            <a:ext cx="700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B44DC-EB65-4A1A-9ADB-F1A3A88242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30480" y="150480"/>
            <a:ext cx="700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6B33C-47A7-43D9-89C3-2B5D1582B9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30480" y="150480"/>
            <a:ext cx="700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77720" y="1461600"/>
            <a:ext cx="4027320" cy="232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6640" y="1461600"/>
            <a:ext cx="402732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7720" y="4013280"/>
            <a:ext cx="4027320" cy="232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A99D1-310F-4C58-B5D4-7B389BA4BD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30480" y="150480"/>
            <a:ext cx="700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77720" y="1461600"/>
            <a:ext cx="825336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F488C-AC80-41F9-A47B-2152338504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30480" y="150480"/>
            <a:ext cx="700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77720" y="1461600"/>
            <a:ext cx="402732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6640" y="1461600"/>
            <a:ext cx="4027320" cy="232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06640" y="4013280"/>
            <a:ext cx="4027320" cy="232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715C2-4D79-4A9D-B812-8EEA0A0170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30480" y="150480"/>
            <a:ext cx="700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77720" y="1461600"/>
            <a:ext cx="4027320" cy="232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6640" y="1461600"/>
            <a:ext cx="4027320" cy="232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7720" y="4013280"/>
            <a:ext cx="8253360" cy="232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5B2F1-C740-4E34-BCE8-450E94C42F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30480" y="150480"/>
            <a:ext cx="700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77720" y="1461600"/>
            <a:ext cx="8253360" cy="232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7720" y="4013280"/>
            <a:ext cx="8253360" cy="232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0364F-E85D-4780-9BBF-3767E7A66B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30480" y="150480"/>
            <a:ext cx="700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77720" y="1461600"/>
            <a:ext cx="4027320" cy="232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06640" y="1461600"/>
            <a:ext cx="4027320" cy="232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7720" y="4013280"/>
            <a:ext cx="4027320" cy="232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06640" y="4013280"/>
            <a:ext cx="4027320" cy="232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2DB76-8822-443A-9CAE-D0767CB592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30480" y="150480"/>
            <a:ext cx="700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77720" y="1461600"/>
            <a:ext cx="2657160" cy="232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68080" y="1461600"/>
            <a:ext cx="2657160" cy="232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8440" y="1461600"/>
            <a:ext cx="2657160" cy="232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7720" y="4013280"/>
            <a:ext cx="2657160" cy="232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68080" y="4013280"/>
            <a:ext cx="2657160" cy="232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58440" y="4013280"/>
            <a:ext cx="2657160" cy="232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49592-F7A1-4089-A8C8-02E46847E7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30480" y="150480"/>
            <a:ext cx="700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77720" y="1461600"/>
            <a:ext cx="825336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5747C-4A93-42E1-900C-50454DA607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30480" y="150480"/>
            <a:ext cx="700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77720" y="1461600"/>
            <a:ext cx="402732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6640" y="1461600"/>
            <a:ext cx="402732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D8740-E2CE-4EE5-9DEB-F69686AA94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30480" y="150480"/>
            <a:ext cx="700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32846-4294-493B-BD28-8A98837C24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30480" y="150480"/>
            <a:ext cx="700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117ED-7AC3-4607-A36E-2900490334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30480" y="150480"/>
            <a:ext cx="700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7720" y="1461600"/>
            <a:ext cx="4027320" cy="232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6640" y="1461600"/>
            <a:ext cx="402732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7720" y="4013280"/>
            <a:ext cx="4027320" cy="232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81F8C-DFD7-44D3-B05D-AA795642A1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30480" y="150480"/>
            <a:ext cx="700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7720" y="1461600"/>
            <a:ext cx="402732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6640" y="1461600"/>
            <a:ext cx="4027320" cy="232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6640" y="4013280"/>
            <a:ext cx="4027320" cy="232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9ABB0-CC5E-4D43-8289-EFAD422806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30480" y="150480"/>
            <a:ext cx="700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7720" y="1461600"/>
            <a:ext cx="4027320" cy="232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6640" y="1461600"/>
            <a:ext cx="4027320" cy="232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7720" y="4013280"/>
            <a:ext cx="8253360" cy="232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70AE7-3A17-421F-B92B-22E753DA39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638440" cy="2127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30480" y="150480"/>
            <a:ext cx="700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7720" y="1461600"/>
            <a:ext cx="825336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905600" y="6670800"/>
            <a:ext cx="1011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cument Number He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988320" y="6566040"/>
            <a:ext cx="1941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6 The MITRE Corporation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55720" y="1338120"/>
            <a:ext cx="7692840" cy="0"/>
          </a:xfrm>
          <a:prstGeom prst="line">
            <a:avLst/>
          </a:prstGeom>
          <a:ln w="12600">
            <a:solidFill>
              <a:srgbClr val="fda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215200" y="6413400"/>
            <a:ext cx="630360" cy="2016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7120" y="6610320"/>
            <a:ext cx="493560" cy="1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C8B2-979C-47D9-BCE1-CB0D34A61480}" type="slidenum">
              <a:rPr b="0" lang="en-US" sz="9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209080" y="6364440"/>
            <a:ext cx="630000" cy="201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487840" cy="48657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8920" y="2206800"/>
            <a:ext cx="6402240" cy="15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258840" y="6354720"/>
            <a:ext cx="1077840" cy="219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sldNum" idx="2"/>
          </p:nvPr>
        </p:nvSpPr>
        <p:spPr>
          <a:xfrm>
            <a:off x="74520" y="6610320"/>
            <a:ext cx="493920" cy="1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EBAB-B334-4218-B952-40FA5AD134A6}" type="slidenum">
              <a:rPr b="0" lang="en-US" sz="9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924680" y="6670800"/>
            <a:ext cx="1011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cument Number He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07400" y="6567480"/>
            <a:ext cx="1941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6 The MITRE Corporation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6120" y="6575400"/>
            <a:ext cx="8562960" cy="0"/>
          </a:xfrm>
          <a:prstGeom prst="line">
            <a:avLst/>
          </a:prstGeom>
          <a:ln w="12600">
            <a:solidFill>
              <a:srgbClr val="fda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4296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5429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5429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7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8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9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0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6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6.wmf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8920" y="2206800"/>
            <a:ext cx="6402240" cy="15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FY07 ADS-C In-Trail Procedure Business Case Statu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76200" y="3833280"/>
            <a:ext cx="5119560" cy="22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May, 2007</a:t>
            </a:r>
            <a:endParaRPr b="0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30480" y="150480"/>
            <a:ext cx="700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ADS-C In-Trail Procedure (ITP) Business Case Component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 estim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 developed for high-level estim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pt 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ew candidate steps that may be needed without ATOP automation chan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y issu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efit Estimate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roach develop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ol validation ongo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Y07 Go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business case for Oakland (ZOA) June 200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te business case September 200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30480" y="150480"/>
            <a:ext cx="700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ADS-C ITP Cost Estimate Proces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5336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gh Order of Magnitude (ROM) cost estimat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 estimate categor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 cas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fety case per Safety Management System (ICAO, FAA approva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on changes (minimal to full capabilities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dure development (and documentat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ice Provider (controller) trai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 (airline) trai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/benefit studies from comparable FAA prog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gineering judgment for ADS-C ITP resources (staff level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30480" y="150480"/>
            <a:ext cx="700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Benefits Estimation Proces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77720" y="1461600"/>
            <a:ext cx="825336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nefit metr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ate number of ADS-C ITP opportun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ate direct savings, (e.g., pounds of fuel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litative benefi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ler conflict resolution to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itude change opportunities for other aircraf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S-C ITP Desc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ysis based on recorded 2006 ATOP flight data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30480" y="150480"/>
            <a:ext cx="700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Benefit Metrics Categories 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77720" y="1461600"/>
            <a:ext cx="825336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graphic dom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S-C ITP event within ZOA FI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ZOA FIR boundary to 200 nm from arrival air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centage of aircraft equipped with FANS1/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6 FANS 1/A aircraft (approx. 30 to 35 percen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 100 percent FANS 1/A aircraf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d standard separation distances (for FANS1/A aircraf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 nm longitudinal RNP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 nm longitudinal RNP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standard separation is conflict-free, ADS-C ITP does not appl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30480" y="150480"/>
            <a:ext cx="700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Benefit Metric Categories (concluded) 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461960"/>
            <a:ext cx="83502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P climb categor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e altitude request at or above 2000 foot climb (REQ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imated maximum altitude from flight plan altitude changes (FP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imated maximum aircraft altitude based on weight (ACPerf)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80880" y="3352680"/>
          <a:ext cx="4095720" cy="236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352680"/>
                    <a:ext cx="4095720" cy="23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876920" y="3352680"/>
          <a:ext cx="3671640" cy="2367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3352680"/>
                    <a:ext cx="3671640" cy="23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57200" y="3733920"/>
          <a:ext cx="4095720" cy="23670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3733920"/>
                    <a:ext cx="4095720" cy="23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09480" y="4114800"/>
          <a:ext cx="4114800" cy="19432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480" y="4114800"/>
                    <a:ext cx="4114800" cy="19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762120" y="4495680"/>
          <a:ext cx="4114800" cy="194328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120" y="4495680"/>
                    <a:ext cx="4114800" cy="19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952880" y="3809880"/>
          <a:ext cx="3672000" cy="19814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52880" y="3809880"/>
                    <a:ext cx="367200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5029200" y="4114800"/>
          <a:ext cx="3672000" cy="19810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29200" y="4114800"/>
                    <a:ext cx="36720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5105520" y="4491000"/>
          <a:ext cx="3657600" cy="168120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05520" y="4491000"/>
                    <a:ext cx="3657600" cy="16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304920" y="3048120"/>
            <a:ext cx="40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imate Fuel Savings Bene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952880" y="3048120"/>
            <a:ext cx="40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imate Number of ADS-C ITP Ev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30480" y="150480"/>
            <a:ext cx="700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Next Step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77720" y="1461600"/>
            <a:ext cx="825336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te ZOA benefits analysi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te ZOA find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te ZNY benefi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est feedback from other service providers whether they would consider this procedure if it were ICAO approv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ggest name chang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ADS-C In-Trail Procedur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10 nm ADS-C Procedur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14:05:39Z</dcterms:created>
  <dc:creator>MITRE Employee</dc:creator>
  <dc:description/>
  <dc:language>en-US</dc:language>
  <cp:lastModifiedBy>AUA</cp:lastModifiedBy>
  <dcterms:modified xsi:type="dcterms:W3CDTF">2007-05-15T01:04:59Z</dcterms:modified>
  <cp:revision>20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61174621</vt:r8>
  </property>
  <property fmtid="{D5CDD505-2E9C-101B-9397-08002B2CF9AE}" pid="3" name="_AuthorEmail">
    <vt:lpwstr>warthur@mitre.org</vt:lpwstr>
  </property>
  <property fmtid="{D5CDD505-2E9C-101B-9397-08002B2CF9AE}" pid="4" name="_AuthorEmailDisplayName">
    <vt:lpwstr>Arthur, Bill</vt:lpwstr>
  </property>
  <property fmtid="{D5CDD505-2E9C-101B-9397-08002B2CF9AE}" pid="5" name="_EmailSubject">
    <vt:lpwstr>final draft ads-c itp status briefing for Kevin Chamness</vt:lpwstr>
  </property>
  <property fmtid="{D5CDD505-2E9C-101B-9397-08002B2CF9AE}" pid="6" name="_NewReviewCycle">
    <vt:lpwstr/>
  </property>
  <property fmtid="{D5CDD505-2E9C-101B-9397-08002B2CF9AE}" pid="7" name="_PreviousAdHocReviewCycleID">
    <vt:r8>-281441569</vt:r8>
  </property>
  <property fmtid="{D5CDD505-2E9C-101B-9397-08002B2CF9AE}" pid="8" name="_ReviewingToolsShownOnce">
    <vt:lpwstr/>
  </property>
</Properties>
</file>