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0D1-95BF-44A9-A527-72F1A898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A2B-9323-4F27-96FB-E78C644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E79-43B2-4BCA-9130-06B2C931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E75-B681-46E1-BDAB-2B87477E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BF5-EE01-455F-9AE9-5CD662B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405-7B8A-4D09-9138-87B04AB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3DA-6772-4D95-85F1-D8F847C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EEE-DF6C-41D3-9BE5-FCCF1FF8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41A-DB71-41E6-A52F-F330ADD2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1BC-A508-4A86-95CD-65AFA92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087-42D4-48CD-957A-D708EC3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90E-1726-4C68-9896-E5A0AD9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C792-D584-42A6-996D-4DF1D1207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672-BC9E-4FC4-B037-E4AC4BAB9D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4-18 Ma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/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Assessment Process and Data Requirements to Support Operational-Trial Use of ADS-based Separation Standards In the Anchorage Flight Informatio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5062680"/>
            <a:ext cx="45021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y 14-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67040" y="430200"/>
            <a:ext cx="34671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080" y="1537920"/>
            <a:ext cx="80499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per provi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description of the safety assessment process and data requirements for ADS-based separation standards in the Anchorage F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provides a preliminary summary of ADS operations observed to date in Anchorage oceanic ai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Data Sources &amp; Safety Assessment Methodolog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4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cean21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A safet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A Enhanced Traffic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Assessment Method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the requirements and guidance of ICAO Doc 4444, Doc 9689, and Annex 11  the safety assessment consists of estimating the risk of collision which will pertain when the 50-nm longitudinal separation standard and the 30-nm lateral and longitudinal separation standards are applied in Anchorage oceanic airspace and comparing this risk to the specified Target Level of Safety (TLS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the TLS which applies to both the lateral and longitudinal dimensions is 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tal accidents per fligh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on of collision risk is carried out using the general collision risk model, which has different forms for the lateral and longitudinal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DS Operations Observed in Anchorage Oceanic Airspace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838080"/>
            <a:ext cx="834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DS flights per day from 1 March through 23 April =  98 flights per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DS Operations by RNP-Type in Anchorage Oceanic Airspace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2f68"/>
                </a:solidFill>
                <a:latin typeface="Arial"/>
              </a:rPr>
              <a:t>ADS Operations by RNP-Type in Anchorage Oceanic Airspace</a:t>
            </a:r>
            <a:endParaRPr b="1" lang="en-US" sz="20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1600200"/>
          <a:ext cx="6705360" cy="2133720"/>
        </p:xfrm>
        <a:graphic>
          <a:graphicData uri="http://schemas.openxmlformats.org/drawingml/2006/table">
            <a:tbl>
              <a:tblPr/>
              <a:tblGrid>
                <a:gridCol w="2001600"/>
                <a:gridCol w="47037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P-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Observed Operations 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P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P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ADS WPC Reports – March 2007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8040"/>
            <a:ext cx="39481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ADS BAS Reports – March 2007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ADS LDC Reports – March 2007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9:49:23Z</dcterms:created>
  <dc:creator>martinl</dc:creator>
  <dc:description/>
  <dc:language>en-US</dc:language>
  <cp:lastModifiedBy> </cp:lastModifiedBy>
  <dcterms:modified xsi:type="dcterms:W3CDTF">2007-05-11T02:32:55Z</dcterms:modified>
  <cp:revision>196</cp:revision>
  <dc:subject/>
  <dc:title>Daily Operations in OC3 and ZOA</dc:title>
</cp:coreProperties>
</file>