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46638-0D23-4052-BEAB-E3DA696E1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5360" y="380196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0AF9D-12F4-4FD1-ACC7-59142098F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9536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2060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8417C-C098-471A-9DB1-149BD0DCC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17320" y="150804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39280" y="150804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95360" y="380196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17320" y="380196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39280" y="380196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46D2A-EADE-4D41-B19C-AEA24D459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d2f6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28760" y="344160"/>
            <a:ext cx="847224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536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C27D6-5ED2-47EA-87BC-AFA4E99D2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2060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95360" y="380196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5360" y="380196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9536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2060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17320" y="150804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39280" y="150804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95360" y="380196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17320" y="380196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39280" y="380196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897BE-8654-4136-94E5-9CFF2C2EE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710FF-0BDA-4042-ABA9-459F22D87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82F0F-9C77-4B29-8106-147A73065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28760" y="344160"/>
            <a:ext cx="847224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56EE6-312E-437C-9CBE-D1A92A699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9536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ACDF2-C252-447A-A6A7-6CC36AD3A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2060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47BEF-C1B8-4D39-B0B3-04B37F729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360" y="380196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2FFAF-3B04-488A-8ACA-366D5B5A2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2f68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0BF87-31B1-4EF1-8CF8-D1FBF16F4B1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6035760"/>
            <a:ext cx="9144000" cy="815760"/>
          </a:xfrm>
          <a:prstGeom prst="rect">
            <a:avLst/>
          </a:prstGeom>
          <a:solidFill>
            <a:srgbClr val="1d2f68"/>
          </a:solidFill>
          <a:ln w="9360">
            <a:solidFill>
              <a:srgbClr val="1d2f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940440" y="63054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5A31B-791F-4670-8AFE-A21BEE8216A7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5708520" y="6124680"/>
            <a:ext cx="2047680" cy="662040"/>
            <a:chOff x="5708520" y="6124680"/>
            <a:chExt cx="2047680" cy="662040"/>
          </a:xfrm>
        </p:grpSpPr>
        <p:pic>
          <p:nvPicPr>
            <p:cNvPr id="8" name="" descr=""/>
            <p:cNvPicPr/>
            <p:nvPr/>
          </p:nvPicPr>
          <p:blipFill>
            <a:blip r:embed="rId2"/>
            <a:srcRect l="14334" t="3733" r="14975" b="4562"/>
            <a:stretch/>
          </p:blipFill>
          <p:spPr>
            <a:xfrm>
              <a:off x="5708520" y="6124680"/>
              <a:ext cx="660600" cy="66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6386760" y="6265800"/>
              <a:ext cx="1369440" cy="40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Federal Avi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dministr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" name=""/>
          <p:cNvSpPr/>
          <p:nvPr/>
        </p:nvSpPr>
        <p:spPr>
          <a:xfrm>
            <a:off x="449280" y="6205680"/>
            <a:ext cx="4784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0c0c0"/>
                </a:solidFill>
                <a:latin typeface="Arial"/>
              </a:rPr>
              <a:t>IPACG/2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441360" y="6384960"/>
            <a:ext cx="374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14-18 May 20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d2f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591160" y="0"/>
            <a:ext cx="355284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46040" y="312840"/>
            <a:ext cx="498312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5873760" y="270000"/>
            <a:ext cx="2894040" cy="911160"/>
            <a:chOff x="5873760" y="270000"/>
            <a:chExt cx="2894040" cy="911160"/>
          </a:xfrm>
        </p:grpSpPr>
        <p:pic>
          <p:nvPicPr>
            <p:cNvPr id="51" name="" descr=""/>
            <p:cNvPicPr/>
            <p:nvPr/>
          </p:nvPicPr>
          <p:blipFill>
            <a:blip r:embed="rId3"/>
            <a:srcRect l="14334" t="3733" r="14975" b="4562"/>
            <a:stretch/>
          </p:blipFill>
          <p:spPr>
            <a:xfrm>
              <a:off x="5873760" y="270000"/>
              <a:ext cx="909720" cy="9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6808680" y="457200"/>
              <a:ext cx="1959120" cy="55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Federal Avi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Administr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d2f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538200" y="5999040"/>
            <a:ext cx="419904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298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298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47680" y="555480"/>
            <a:ext cx="5122800" cy="398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P/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atus of the Operational Trials and Demonstrations for 10 Minute Longitudinal Separation Without Mandatory Mach Number Technique (MNT) in the Anchorage Flight Information Region (FI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92040" y="5062680"/>
            <a:ext cx="4502160" cy="52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90760" indent="-149076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1490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resented By: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AA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490760" indent="-149076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1490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ate: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May 14-18, 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2f68"/>
                </a:solidFill>
                <a:latin typeface="Arial"/>
              </a:rPr>
              <a:t>Overview</a:t>
            </a:r>
            <a:endParaRPr b="1" lang="en-US" sz="24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22080" y="1537920"/>
            <a:ext cx="804996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paper provide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brief description of the safety assessment process and data requirements for 10-minute longitudinal separation without MNT in the Anchorage FIR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also provides a preliminary analysis on observed longitudinally proximate pairs of aircra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2f68"/>
                </a:solidFill>
                <a:latin typeface="Arial"/>
              </a:rPr>
              <a:t>Data Sources &amp; Safety Assessment Methodology</a:t>
            </a:r>
            <a:endParaRPr b="1" lang="en-US" sz="24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3440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ata sour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from Ocean21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A safety datab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A Enhanced Traffic Management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afety Assessment Methodolog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enters on the examination of the proximate longitudinal aircraft pairs and the resulting longitudinal gain/loss probability distribu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proximate longitudinal aircraft pair is determined when 2 aircraf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ed at the same flight level &amp; track through at least 2 consecutive waypoi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 common fixes on the track within a predetermined time – such as 15 minu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turbojet aircraft operating above FL290 are consid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2f68"/>
                </a:solidFill>
                <a:latin typeface="Arial"/>
              </a:rPr>
              <a:t>Data Sources &amp; Safety Assessment Methodology</a:t>
            </a:r>
            <a:endParaRPr b="1" lang="en-US" sz="24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ographical area investigat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ludes Anchorage oceanic airspace between the Fukuoka/Anchorage boundary and 170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stbound aircraft within this geographical area are considered due to the possible application of the 10 minute longitudinal without MNT separation 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2f68"/>
                </a:solidFill>
                <a:latin typeface="Arial"/>
              </a:rPr>
              <a:t>Preliminary Data Analysis</a:t>
            </a:r>
            <a:endParaRPr b="1" lang="en-US" sz="24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039160" cy="14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ngitudinally proximate aircraft pairs were identified between 16 April and 1 May 2007 (within the geographical area investigated in this analysis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mount of data required to complete safety assessment depends on the number of proximate aircraft pairs observ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1447920" y="2514600"/>
          <a:ext cx="5867280" cy="3170160"/>
        </p:xfrm>
        <a:graphic>
          <a:graphicData uri="http://schemas.openxmlformats.org/drawingml/2006/table">
            <a:tbl>
              <a:tblPr/>
              <a:tblGrid>
                <a:gridCol w="1838160"/>
                <a:gridCol w="2102040"/>
                <a:gridCol w="192708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ngitudinal “Window”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ber of Westbound AC Pai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ber of Eastbound AC Pai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 m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 m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 m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 m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867040" y="430200"/>
            <a:ext cx="3467160" cy="51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2T19:49:23Z</dcterms:created>
  <dc:creator>martinl</dc:creator>
  <dc:description/>
  <dc:language>en-US</dc:language>
  <cp:lastModifiedBy> </cp:lastModifiedBy>
  <dcterms:modified xsi:type="dcterms:W3CDTF">2007-05-11T02:44:24Z</dcterms:modified>
  <cp:revision>201</cp:revision>
  <dc:subject/>
  <dc:title>Daily Operations in OC3 and ZOA</dc:title>
</cp:coreProperties>
</file>