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3E34-BF78-4531-AB7D-728C74D4B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0973-F1AC-4527-9F98-F22402BBB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D18D-3105-4580-905A-127672F28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5866-8671-47B5-87DA-9D4E5AA66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962A-9304-4E7E-8D7E-6B9BE7DFEA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C9F9-0BDB-4578-ABD9-8046C7752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E923-3949-4D54-99AE-3FDC85406A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0EDF-840C-4510-BC52-83AB308E9C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3C6D-DABD-44CD-932B-A2655C0FB5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CBB5-DDB1-4123-B4FF-E6DCFBA27B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3CF3-53BF-4B1D-BDA1-D94D31CEE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76F9-2C59-4259-9D2F-93C7ED92F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DD03-023D-4B69-BF87-682A69CC2C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545B-FA9A-4DF4-8F6D-851617AB3C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D176-4463-4352-AE3B-CF7DEC584E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DAAD-584B-47CC-A095-649EDE4439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096D-4769-4F1A-A483-B27F2A842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721B-A683-4E32-91E2-B3F91281D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C2C7-ECF2-45B9-A59A-3520D6388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5052-11B5-49C3-BD63-C864E827C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96AF-BC69-4BCA-A9C5-1DCB0C634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B01B-540E-4806-99DB-5FCCCB1AC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C59D-64DE-4536-93A3-B175E4AC8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9DC5-51B1-4095-B0A1-1ED2C4239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8D9-5026-4FB4-A2C8-BC0E4A93268A}" type="slidenum">
              <a:rPr b="0" lang="ja-JP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6086520"/>
            <a:ext cx="863640" cy="7714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900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Verdana"/>
              </a:rPr>
              <a:t>IPACG</a:t>
            </a:r>
            <a:r>
              <a:rPr b="0" lang="ja-JP" sz="10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0" lang="ja-JP" sz="1000" spc="-1" strike="noStrike">
                <a:solidFill>
                  <a:srgbClr val="ffffff"/>
                </a:solidFill>
                <a:latin typeface="Verdana"/>
              </a:rPr>
              <a:t>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Verdana"/>
              </a:rPr>
              <a:t>Tokyo, Japan, 05-09 </a:t>
            </a: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Novenber, 2007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D45E-4218-4B45-968D-BA5E16099AF1}" type="slidenum">
              <a:rPr b="0" lang="ja-JP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6086520"/>
            <a:ext cx="863640" cy="771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y on a flexible route system between Australia and Jap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PACG/2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ja-JP" sz="2000" spc="-1" strike="noStrike">
                <a:solidFill>
                  <a:srgbClr val="ffffff"/>
                </a:solidFill>
                <a:latin typeface="Verdana"/>
              </a:rPr>
              <a:t>Tokyo, Japan, 05-09 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ovenber, 2007 </a:t>
            </a:r>
            <a:r>
              <a:rPr b="0" lang="ja-JP" sz="20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Presented 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The Civil Aviation Bureau, Jap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6128280" y="477720"/>
            <a:ext cx="24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ACG/2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CC6C-383D-4DDE-A27C-69E6F8914A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ght Rou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83688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1484280"/>
            <a:ext cx="4176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S ro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586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Guam/Saip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337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New Zealand/Fij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55640" y="3141720"/>
            <a:ext cx="3745080" cy="2639880"/>
            <a:chOff x="755640" y="3141720"/>
            <a:chExt cx="3745080" cy="263988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55640" y="3141720"/>
              <a:ext cx="374508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242000" y="5229360"/>
              <a:ext cx="663840" cy="265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b76"/>
                  </a:solidFill>
                  <a:latin typeface="Verdana"/>
                </a:rPr>
                <a:t>B58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0720" y="5229360"/>
              <a:ext cx="663840" cy="265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b76"/>
                  </a:solidFill>
                  <a:latin typeface="Verdana"/>
                </a:rPr>
                <a:t>B58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0920" y="5229360"/>
              <a:ext cx="668520" cy="265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b76"/>
                  </a:solidFill>
                  <a:latin typeface="Verdana"/>
                </a:rPr>
                <a:t>A33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88200" y="5229360"/>
              <a:ext cx="668520" cy="265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b76"/>
                  </a:solidFill>
                  <a:latin typeface="Verdana"/>
                </a:rPr>
                <a:t>A33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634920" y="3644640"/>
            <a:ext cx="909360" cy="1152360"/>
            <a:chOff x="3634920" y="3644640"/>
            <a:chExt cx="909360" cy="1152360"/>
          </a:xfrm>
        </p:grpSpPr>
        <p:sp>
          <p:nvSpPr>
            <p:cNvPr id="168" name=""/>
            <p:cNvSpPr/>
            <p:nvPr/>
          </p:nvSpPr>
          <p:spPr>
            <a:xfrm flipH="1" flipV="1">
              <a:off x="3634920" y="3644640"/>
              <a:ext cx="576360" cy="115236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36160" y="38606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X4~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919B-5FA2-4644-8B26-AC1D41F2FF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ynamic Aircraft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route Program (DARP)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65440" cy="4570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600720" cy="50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E1E6-7825-4F98-B5C2-59D897E4FB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exible Route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Narita-Sydney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66920" y="1341360"/>
            <a:ext cx="392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thbou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st from B58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all sea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thbou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st from B58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almost sea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st from B58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times in </a:t>
            </a:r>
            <a:r>
              <a:rPr b="0" lang="en-US" sz="2400" spc="-1" strike="noStrike">
                <a:solidFill>
                  <a:srgbClr val="ff3399"/>
                </a:solidFill>
                <a:latin typeface="Verdana"/>
              </a:rPr>
              <a:t>summ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392360" cy="5065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60760" y="2421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Verdana"/>
              </a:rPr>
              <a:t>Aug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280" y="25653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Verdana"/>
              </a:rPr>
              <a:t>Au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76120" y="213372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J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15400" y="170028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J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2080" y="1700280"/>
            <a:ext cx="6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erdana"/>
              </a:rPr>
              <a:t>N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7360" y="2276640"/>
            <a:ext cx="6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erdana"/>
              </a:rPr>
              <a:t>N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00" y="47260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Northb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44800" y="47260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Southb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7709-D66E-4AB5-BC0E-350284F21C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l Benef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50920" y="1197000"/>
            <a:ext cx="6408720" cy="3526920"/>
            <a:chOff x="250920" y="1197000"/>
            <a:chExt cx="6408720" cy="3526920"/>
          </a:xfrm>
        </p:grpSpPr>
        <p:sp>
          <p:nvSpPr>
            <p:cNvPr id="186" name=""/>
            <p:cNvSpPr/>
            <p:nvPr/>
          </p:nvSpPr>
          <p:spPr>
            <a:xfrm>
              <a:off x="982800" y="4237920"/>
              <a:ext cx="5260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ＭＳ 明朝"/>
                </a:rPr>
                <a:t>Fig 9 Fuel Consump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250920" y="1197000"/>
              <a:ext cx="6408720" cy="332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4508280"/>
            <a:ext cx="7056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rita→Syd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,500lbs (0.8%) ↓4.7 min. (0.9%) 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dney to Nari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,700lbs (0.8%) ↓5.5 min. (1.0%) 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6407280" y="2708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Verdana"/>
              </a:rPr>
              <a:t>1.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Verdana"/>
              </a:rPr>
              <a:t>per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AB78-80BD-444A-9CAF-32948318C5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C Imp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679640" cy="362916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5364000" y="1268280"/>
            <a:ext cx="3403800" cy="5589720"/>
            <a:chOff x="5364000" y="1268280"/>
            <a:chExt cx="3403800" cy="558972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5364000" y="1268280"/>
              <a:ext cx="3403800" cy="55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422320" y="126828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b76"/>
                  </a:solidFill>
                  <a:latin typeface="Verdana"/>
                </a:rPr>
                <a:t>B58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21600" y="400536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b76"/>
                  </a:solidFill>
                  <a:latin typeface="Verdana"/>
                </a:rPr>
                <a:t>A33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300720" y="5084640"/>
            <a:ext cx="503280" cy="505080"/>
          </a:xfrm>
          <a:prstGeom prst="ellipse">
            <a:avLst/>
          </a:prstGeom>
          <a:noFill/>
          <a:ln cap="sq"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516720" y="2852640"/>
            <a:ext cx="0" cy="2232000"/>
          </a:xfrm>
          <a:prstGeom prst="line">
            <a:avLst/>
          </a:prstGeom>
          <a:ln cap="sq"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93080" y="2637000"/>
            <a:ext cx="649080" cy="647640"/>
          </a:xfrm>
          <a:prstGeom prst="ellipse">
            <a:avLst/>
          </a:prstGeom>
          <a:noFill/>
          <a:ln cap="sq"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80360" y="3284640"/>
            <a:ext cx="0" cy="2448000"/>
          </a:xfrm>
          <a:prstGeom prst="line">
            <a:avLst/>
          </a:prstGeom>
          <a:ln cap="sq"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486900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Verdana"/>
              </a:rPr>
              <a:t>In summer</a:t>
            </a:r>
            <a:r>
              <a:rPr b="0" lang="en-US" sz="2400" spc="-1" strike="noStrike">
                <a:solidFill>
                  <a:srgbClr val="ccecff"/>
                </a:solidFill>
                <a:latin typeface="Verdana"/>
              </a:rPr>
              <a:t>, sometimes changing altitude may be increa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5013360"/>
            <a:ext cx="4537080" cy="94716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nging Altitude may be re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9734-477F-4DD2-80FE-065FFB292A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nefit esti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rounds between Narita and East coast in Austral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the average va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nefit in a y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5329440" y="3573360"/>
            <a:ext cx="27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$2,000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duced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3789360"/>
            <a:ext cx="2664000" cy="2448000"/>
          </a:xfrm>
          <a:prstGeom prst="sun">
            <a:avLst>
              <a:gd name="adj" fmla="val 25000"/>
            </a:avLst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Esti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43760" y="5157720"/>
            <a:ext cx="26740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8,000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duced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3E06-14B2-4231-A176-43680498B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2:08:22Z</dcterms:created>
  <dc:creator>福島幸子</dc:creator>
  <dc:description/>
  <dc:language>en-US</dc:language>
  <cp:lastModifiedBy>Braks Etta</cp:lastModifiedBy>
  <dcterms:modified xsi:type="dcterms:W3CDTF">2007-10-31T15:12:40Z</dcterms:modified>
  <cp:revision>12</cp:revision>
  <dc:subject/>
  <dc:title>スライド 1</dc:title>
</cp:coreProperties>
</file>