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208160" y="674640"/>
            <a:ext cx="444168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gure 5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2328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97640" y="24490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9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12328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97640" y="33649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6040" y="312480"/>
            <a:ext cx="4983120" cy="77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6560" y="33649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6560" y="24490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9280" y="33649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NAT SPG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AA2-F065-4639-B400-B51B29F275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5-9 November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hyperlink" Target="mailto:Paul.Radford@airways.co.nz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NAT SPG Activitie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6006960"/>
            <a:ext cx="40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-9 November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2800" y="4267080"/>
            <a:ext cx="50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ACG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800" y="487692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le Living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49280" y="1447920"/>
            <a:ext cx="511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Review of Performance-Based Communications Approach and Required Communication Performance (RCP)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d2f68"/>
                </a:solidFill>
                <a:uFillTx/>
                <a:latin typeface="Arial"/>
              </a:rPr>
              <a:t>&gt;</a:t>
            </a: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 50 lateral and time-based longitudinal Surveillance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Paragraph 5.2.4.2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2209320"/>
            <a:ext cx="804708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 service shall deliver position reports within 400 seconds at the continuity requirement and within 300 seconds at 95% probability at waypoint crossings from the actual time the aircraft crosses the wayp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d2f68"/>
                </a:solidFill>
                <a:uFillTx/>
                <a:latin typeface="Arial"/>
              </a:rPr>
              <a:t>&gt;</a:t>
            </a: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 50 lateral and time-based longitudinal, Surveillance allocations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Table 5-8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2060640"/>
          <a:ext cx="596880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60640"/>
                    <a:ext cx="59688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324480" y="1447920"/>
            <a:ext cx="228600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 is at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requi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Continuity, Integrity, and Availability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Table 5-9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87400" y="1407960"/>
          <a:ext cx="573588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1407960"/>
                    <a:ext cx="573588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Applicability of RCP types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Table 5-10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122640" y="1371600"/>
          <a:ext cx="5183280" cy="50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2640" y="1371600"/>
                    <a:ext cx="51832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7200" y="4449600"/>
            <a:ext cx="19922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F Voice grandfather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ATCOM voice, HFDL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800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Additional requirem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service avai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9999 for operational efficienc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.999 for safety, per 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6/ED-1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per Oceanic ATC Centre (OAC)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than 4 outages greater than 10 minutes for any 12 month peri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causing outages for multiple OACs are not counted more tha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than 50 minutes of total downtime for any 12 month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Appendix A and Appendix C of IPACG WP/n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Additional requirem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 and alerting requi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n outage begins, the communications service shall provide ATC automation with a positive indication that there is an outage within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ssu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safety assessment,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6/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2 specifies continuity requirement for intervention and surveillance of 0.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quirement is considered too severe for technical practi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Operational considerations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Paragraph 5.2.5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e 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:  The values for availability and continuity provide a basis for further operational safety assessment taking into account other factors and operational judgment.  These values may be adjusted on the basis of a regional air navigation agreement considering the potential conditions of the airspace when the loss of data link capability occurs, including, but not limited t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 traffic dens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portion of aircraft using the data link serv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paration minima being appli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mber of aircraft holding a weather deviation clearance in a localized are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pability and performance of detecting and indicating the loss of the data link servi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pability and performance of route conformance monitoring, e.g., the amount of time after the loss in which the airspace can be considered to be conflict-free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pability and performance of the alternative means of communication, including associated procedures for applying an alternative form of sepa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ssue resolu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operational considerations, it is suggested that the continuity requirement for intervention and surveillance be adjusted to 0.99 and applied to the time requirements provided in 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6/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ty adjustment is consistent with current FOM target for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DO-306/ED-122, the technical time requirement (RCTP) associated with intervention is 150 sec at the continuit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the FOM, the target is 360 sec (round trip) at 99%, which is consistent with twice the surveillance latency requirement (one way) provided in DO-306/ED-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Recommend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 to participate in and support implementation of a performance-based approach for communication and surveillan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 position statement regarding the material provided in Appendices B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.S., on behalf of the IPACG, will present the position statement at the Special NAT SPG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NAT SPG/43, Paris, 12 to 15 June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of Goonhilly Ground Earth Station (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vene a Special NAT SPG Meeting, Paris, 15-16 Nov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ep NAT SPG Meeting held, Paris, 1-3 Oct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gree to performance-based approach and RC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stitutional issues not addressed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d global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osition statemen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DO-306/ED-122 as a basis for establishing performance criteria for communications and surveillance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ed with 0.9999 availability requirement for operational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ed with 0.99 continuity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inutes for communication service to indicate to OAC that a service outage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Recommend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 points of contact for initial discussions on how to proceed with implementation of a performance-based approach and RCP within the Asia-Pac Region, in coordination with the NAT Region eff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– Tom Kraft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ACG data link group – Paul Radford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ul.Radford@airways.co.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omment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371600"/>
            <a:ext cx="80470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M criteria needs to be reinvestig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of ICAO standards, recommended practices, guidance material (includes RTCA/EUROCA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ndment 40 to Annex 11, November 200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AO Doc 9869, September 200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on R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ndments to Annexes 6 and 11, November 200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ons for R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CA DO-306/EUROCAE ED-122, October 200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ic SPR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ndment to Doc 4444, in work (nearly comple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Plan Provisions for performance-based and R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CAO Doc 9869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on RCP, September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RCP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ribe RCP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ce initi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ircraft type design, Operator, AN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performance monitoring and aler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or and/or AN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RTCA DO-306/EUROCAE ED-122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eanic SPR Standard, October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ink services used in lieu of HF voice, includes 50 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ink services required for 30 nm lateral/30 nm longitudinal and 50 nm longitudinal separatio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s route conformance monitoring, reroutes, and weather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RCP Manual and ICAO separation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50 longitudinal and 30/30 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Intervention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Table 5-6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08040" y="2144880"/>
          <a:ext cx="5959440" cy="42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2144880"/>
                    <a:ext cx="595944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641760" y="1905120"/>
            <a:ext cx="15127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05400" y="1905120"/>
            <a:ext cx="1893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11960" y="1025640"/>
            <a:ext cx="219852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 is at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requi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62120" y="1285200"/>
            <a:ext cx="7772040" cy="4685760"/>
            <a:chOff x="762120" y="1285200"/>
            <a:chExt cx="7772040" cy="4685760"/>
          </a:xfrm>
        </p:grpSpPr>
        <p:sp>
          <p:nvSpPr>
            <p:cNvPr id="110" name=""/>
            <p:cNvSpPr/>
            <p:nvPr/>
          </p:nvSpPr>
          <p:spPr>
            <a:xfrm>
              <a:off x="1689120" y="1285200"/>
              <a:ext cx="1069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ircr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1285200"/>
              <a:ext cx="999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light crew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M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1183680" y="1315440"/>
              <a:ext cx="225360" cy="9270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24120 h 927000"/>
                <a:gd name="textAreaBottom" fmla="*/ 902880 h 9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0280" y="1285200"/>
              <a:ext cx="1048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m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71200" y="1285200"/>
              <a:ext cx="1068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oller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M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44560" y="1285200"/>
              <a:ext cx="10677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39680" y="1674360"/>
              <a:ext cx="1425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earance used for interven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39680" y="4777920"/>
              <a:ext cx="13546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knowledgement of clear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39680" y="5663880"/>
              <a:ext cx="1354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ormation Re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833400" y="1948320"/>
              <a:ext cx="4634640" cy="4006440"/>
              <a:chOff x="833400" y="1948320"/>
              <a:chExt cx="4634640" cy="400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1760400" y="1948320"/>
                <a:ext cx="0" cy="400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87040" y="1964520"/>
                <a:ext cx="0" cy="398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68040" y="1964520"/>
                <a:ext cx="0" cy="398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541040" y="1948320"/>
                <a:ext cx="8640" cy="400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33400" y="1964520"/>
                <a:ext cx="0" cy="398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14040" y="1964520"/>
                <a:ext cx="0" cy="398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541400" y="2116440"/>
              <a:ext cx="92664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1826640"/>
              <a:ext cx="21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5652000"/>
              <a:ext cx="21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4680" y="3745080"/>
              <a:ext cx="21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760400" y="3019680"/>
              <a:ext cx="4420800" cy="959400"/>
              <a:chOff x="1760400" y="3019680"/>
              <a:chExt cx="4420800" cy="959400"/>
            </a:xfrm>
          </p:grpSpPr>
          <p:sp>
            <p:nvSpPr>
              <p:cNvPr id="131" name=""/>
              <p:cNvSpPr/>
              <p:nvPr/>
            </p:nvSpPr>
            <p:spPr>
              <a:xfrm>
                <a:off x="1760400" y="3019680"/>
                <a:ext cx="442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60400" y="3979080"/>
                <a:ext cx="442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541400" y="2342520"/>
              <a:ext cx="2423880" cy="2314080"/>
              <a:chOff x="4541400" y="2342520"/>
              <a:chExt cx="2423880" cy="2314080"/>
            </a:xfrm>
          </p:grpSpPr>
          <p:sp>
            <p:nvSpPr>
              <p:cNvPr id="134" name=""/>
              <p:cNvSpPr/>
              <p:nvPr/>
            </p:nvSpPr>
            <p:spPr>
              <a:xfrm>
                <a:off x="4541400" y="4656600"/>
                <a:ext cx="235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41400" y="2342520"/>
                <a:ext cx="24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468040" y="2116440"/>
              <a:ext cx="3065760" cy="2765880"/>
              <a:chOff x="5468040" y="2116440"/>
              <a:chExt cx="3065760" cy="2765880"/>
            </a:xfrm>
          </p:grpSpPr>
          <p:sp>
            <p:nvSpPr>
              <p:cNvPr id="137" name=""/>
              <p:cNvSpPr/>
              <p:nvPr/>
            </p:nvSpPr>
            <p:spPr>
              <a:xfrm>
                <a:off x="5468040" y="2116440"/>
                <a:ext cx="306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68040" y="4882320"/>
                <a:ext cx="306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750080" y="2117880"/>
              <a:ext cx="0" cy="27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720" y="2342520"/>
              <a:ext cx="0" cy="23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38640" y="3019680"/>
              <a:ext cx="0" cy="9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720" y="2116440"/>
              <a:ext cx="0" cy="2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720" y="4656600"/>
              <a:ext cx="0" cy="2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8640" y="2342520"/>
              <a:ext cx="0" cy="67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38640" y="3979080"/>
              <a:ext cx="0" cy="67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2400" y="2229480"/>
              <a:ext cx="0" cy="25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66680" y="2669400"/>
              <a:ext cx="0" cy="16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39680" y="3455640"/>
              <a:ext cx="854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po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6480" y="3003120"/>
              <a:ext cx="568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52840" y="3172320"/>
              <a:ext cx="427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80520" y="3568680"/>
              <a:ext cx="354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1880" y="3407400"/>
              <a:ext cx="3564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marL="4680" indent="-4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P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38640" y="2669400"/>
              <a:ext cx="42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038640" y="4305960"/>
              <a:ext cx="42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894360" y="4769640"/>
              <a:ext cx="42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94360" y="2229480"/>
              <a:ext cx="42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2110680" y="1314360"/>
              <a:ext cx="225720" cy="926640"/>
            </a:xfrm>
            <a:custGeom>
              <a:avLst/>
              <a:gdLst>
                <a:gd name="textAreaLeft" fmla="*/ 144360 w 225720"/>
                <a:gd name="textAreaRight" fmla="*/ 226080 w 225720"/>
                <a:gd name="textAreaTop" fmla="*/ 24120 h 926640"/>
                <a:gd name="textAreaBottom" fmla="*/ 902520 h 92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037320" y="1315440"/>
              <a:ext cx="225360" cy="9270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24120 h 927000"/>
                <a:gd name="textAreaBottom" fmla="*/ 902880 h 9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3964680" y="1314360"/>
              <a:ext cx="225720" cy="927000"/>
            </a:xfrm>
            <a:custGeom>
              <a:avLst/>
              <a:gdLst>
                <a:gd name="textAreaLeft" fmla="*/ 144360 w 225720"/>
                <a:gd name="textAreaRight" fmla="*/ 226080 w 225720"/>
                <a:gd name="textAreaTop" fmla="*/ 24120 h 927000"/>
                <a:gd name="textAreaBottom" fmla="*/ 902880 h 9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4891680" y="1314360"/>
              <a:ext cx="225720" cy="926640"/>
            </a:xfrm>
            <a:custGeom>
              <a:avLst/>
              <a:gdLst>
                <a:gd name="textAreaLeft" fmla="*/ 144360 w 225720"/>
                <a:gd name="textAreaRight" fmla="*/ 226080 w 225720"/>
                <a:gd name="textAreaTop" fmla="*/ 24120 h 926640"/>
                <a:gd name="textAreaBottom" fmla="*/ 902520 h 92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614040" y="2342520"/>
              <a:ext cx="92700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686680" y="2568240"/>
              <a:ext cx="92700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760400" y="2793960"/>
              <a:ext cx="92664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3040" y="3019680"/>
              <a:ext cx="92700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3400" y="3753720"/>
              <a:ext cx="92700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60400" y="3979080"/>
              <a:ext cx="92664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87040" y="4205160"/>
              <a:ext cx="92700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4400" y="4430880"/>
              <a:ext cx="92700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1400" y="4656600"/>
              <a:ext cx="92664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3400" y="4600440"/>
              <a:ext cx="92700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60400" y="4825800"/>
              <a:ext cx="92664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87040" y="5051880"/>
              <a:ext cx="92700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4400" y="5277600"/>
              <a:ext cx="92700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1400" y="5503320"/>
              <a:ext cx="926640" cy="22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63920" y="2104920"/>
              <a:ext cx="570240" cy="2765880"/>
            </a:xfrm>
            <a:prstGeom prst="upDownArrow">
              <a:avLst>
                <a:gd name="adj1" fmla="val 50000"/>
                <a:gd name="adj2" fmla="val 457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onal communication trans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6560" y="5267880"/>
              <a:ext cx="1066320" cy="703080"/>
            </a:xfrm>
            <a:prstGeom prst="borderCallout1">
              <a:avLst>
                <a:gd name="adj1" fmla="val 18750"/>
                <a:gd name="adj2" fmla="val -8333"/>
                <a:gd name="adj3" fmla="val -39865"/>
                <a:gd name="adj4" fmla="val -6999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uman confident that transaction is comple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RCP Allocations for Intervention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Figure 5-3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50 longitudinal and 30/30, Surveillance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Paragraph 5.2.3.4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047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surveillance – The PR service shall deliver a position report within 180 seconds at the continuity requirement and within 90 seconds at 95% probability f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report, from the start of the periodic interval. The start of the periodic interval occurs when the periodic report is sent by the aircraft (see Figure 5‑2)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ypoint change event report, from the actual time the aircraft crosses the waypo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surveillance – The IER service shall deliver the lateral deviation event report within 180 seconds at the continuity requirement and within 90 seconds at 95% probability from the time the aircraft system detects that the event has occurr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normal surveillance – The IER service delivers a position report within 240 seconds at the continuity requirement and within 180 seconds at 95% probability for ADS‑C demand report or CPDLC position report, from the time the ADS‑C demand contract or CPDLC request was initiated by the ATSU/controll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23920"/>
            <a:ext cx="80470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50 longitudinal and 30/30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Surveillance allocations</a:t>
            </a:r>
            <a:br>
              <a:rPr sz="32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(DO-306/ED-122, Table 5-7)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2055960"/>
          <a:ext cx="5932440" cy="45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5960"/>
                    <a:ext cx="593244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324480" y="1219320"/>
            <a:ext cx="228600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 is at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requi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/Arnold Oldach</dc:creator>
  <dc:description/>
  <cp:keywords/>
  <dc:language>en-US</dc:language>
  <cp:lastModifiedBy>Braks Etta</cp:lastModifiedBy>
  <cp:lastPrinted>1999-05-01T20:41:40Z</cp:lastPrinted>
  <dcterms:modified xsi:type="dcterms:W3CDTF">2007-10-29T13:22:07Z</dcterms:modified>
  <cp:revision>696</cp:revision>
  <dc:subject/>
  <dc:title>PARC CWG Update</dc:title>
</cp:coreProperties>
</file>