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E6B619-2B3A-4CDD-86BB-246643A2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8DC49-6A5C-4978-BFF4-F890CA62C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360C-7FAF-489E-B011-AA384922E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A16E-F335-4721-B7E7-759F4BD85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A7B8-99D5-4489-90B2-AC8969718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916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0112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916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0112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A82B-47C4-488D-A5EE-8B9585862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6DCF-A501-407A-8D51-CA13D7570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7916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0112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7916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0112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D6A96-5795-40C3-8823-1DB79DC2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54632-022F-492C-BBE3-A29FB454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5ADA-E522-4FAF-86FF-BF475BF4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CED47-5745-4F11-A413-903137A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5BE2A-CF5E-42D2-A3FE-641B3A7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C474-39E2-4D89-936B-84FC0EC8EB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8F75D-8B06-4312-921D-0E8419C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C44B2-2E21-49B9-8C85-B5BB97C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E251-1B14-4B51-83F9-8EF551B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DDA35-625F-4290-B221-C8F8588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02D76-1A92-48B4-A9DC-74AAB7B4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22AF8-563C-4531-BBDF-3F2D6EBA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7916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0112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7916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0112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CCA4C-D51E-458E-90B4-3A69C79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7A41-3EA5-4516-9A6D-2E8BEDCAA4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7916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0112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7916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0112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3CE8-0CFF-4956-A0DF-51AB2D9875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EA8C-3F42-4D15-B8D0-3BF2817333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7916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0112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7916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0112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5FBC-A5BF-4135-8DF7-CF0B346B32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7916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01120" y="12952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7916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01120" y="35892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2440" y="35892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869E-B9EA-4DB8-BEBC-0FEB9C5C7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2440" y="12952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920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C7A8-23D5-4E3E-929D-4E6A6484F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3D2-E57C-463A-A568-FF61A821E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4D7-1F43-4956-A722-370A0FDAF3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7" name="Picture 9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482760" y="6194520"/>
            <a:ext cx="478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IPACG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482760" y="64245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Tokyo, Japan, 05-09 Nov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143000"/>
            <a:ext cx="805032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1" name="Picture 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Oceanic &amp;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gus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3462-6AC9-41DA-882F-E118EDD17F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CF5-6BAD-4EF3-999C-D8797032A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96E-2221-45D7-A00B-2303F26B30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00" name="Picture 10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1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Oceanic &amp;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gus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43" name="Picture 7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8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5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85" name="Picture 6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7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95360" y="1143000"/>
            <a:ext cx="805032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228" name="Picture 7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8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tsplus.cssiinc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080" y="1182600"/>
            <a:ext cx="5162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TS Plus Online System Overview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828800" y="4876920"/>
            <a:ext cx="6243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6251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28600" y="5143680"/>
            <a:ext cx="48006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deral Aviation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ceanic &amp; Offshore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5 – 09 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urrent Project Statu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ed in Java (Java Server Pages and applets), Javascript, and Asynchronous Javascript with XML (AJA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11,444 lines of c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velopment is approximately 85% comple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deployment expected as scheduled,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tr FY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esting and Training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“Testing and Training” server is on the Internet at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tsplus.cssiinc.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ctual DOTS+ machines are currently connected – a “DOTS Simulator” is performing very limited DOTS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interested, accounts can be set up to use the Testing and Training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j0311778"/>
          <p:cNvPicPr/>
          <p:nvPr/>
        </p:nvPicPr>
        <p:blipFill>
          <a:blip r:embed="rId1"/>
          <a:stretch/>
        </p:blipFill>
        <p:spPr>
          <a:xfrm>
            <a:off x="2556000" y="376200"/>
            <a:ext cx="34668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Using DOTS+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with DOTS+ is currently done with plain ASCII mess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is through specific terminals via X.25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entry can be tedious and error-p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otification of changes – updates must be explicitly requested each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e old way.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182600"/>
            <a:ext cx="8050320" cy="439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KF.AAL934.1010.KIAD.ZSPD.300.ORVIT.2020.1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250"/>
                            </p:stCondLst>
                            <p:childTnLst>
                              <p:par>
                                <p:cTn id="11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e new way.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1230480" y="2046240"/>
            <a:ext cx="6438600" cy="186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1692360" y="2335320"/>
            <a:ext cx="5572080" cy="1199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3362400" y="4178160"/>
            <a:ext cx="2371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5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286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TS+ Online will provide a robust, user-friendly interfac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allow users to do everything with DOTS+ that they do n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is through any common web browser via the Internet (will support Internet Explorer 6.0 and Firefox 2.0 at minimum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validation of data avoids erroneous submiss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d data is pushed to users automatically in real-time and near real-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tly submitted data can be stored in template-like lists that can be submitted en ma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able appearance and settings for each u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Using DOTS+ Onlin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ystem Status Monitoring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ystem status is monitored and displayed (indicates connectivity with DOTS+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update time for the GRL is display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rrent DOTS+ phase (e.g., “PLANNING”) is display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remaining in the current phase is display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2670120" y="4351320"/>
            <a:ext cx="3581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ored Reservation Reques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ly used requests can be stored for regular submi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d requests can be modified as needed before being submit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692360" y="3486240"/>
            <a:ext cx="5819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Dynamic GRL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eway Reservation List has two vie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ble 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ws all data in a sortable spreadsheet-style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containing updated data are highligh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826920" y="3255840"/>
            <a:ext cx="7248600" cy="7905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2556000" y="475452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510920" y="527220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row indicator (click to clear highli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 flipV="1">
            <a:off x="4226040" y="3889440"/>
            <a:ext cx="325440" cy="874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1000080" y="3947760"/>
            <a:ext cx="920880" cy="1382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Dynamic GRL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phical 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ws gateway reservations by altitude over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s can be dragged to new times and/or altitudes, automatically generating a request to DOTS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230480" y="3255840"/>
            <a:ext cx="63054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7:10:56Z</dcterms:created>
  <dc:creator> </dc:creator>
  <dc:description/>
  <dc:language>en-US</dc:language>
  <cp:lastModifiedBy>Braks Etta</cp:lastModifiedBy>
  <dcterms:modified xsi:type="dcterms:W3CDTF">2007-10-30T19:39:23Z</dcterms:modified>
  <cp:revision>397</cp:revision>
  <dc:subject/>
  <dc:title>Oceanic &amp; Offshore Services Program Review</dc:title>
</cp:coreProperties>
</file>