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1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2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3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4F16115-072C-42E6-B4FA-F075AD7D6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8EB440-ABCB-46A4-A83D-F85DF5668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971880" y="883440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883440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akland Center controls 18.7 Million square miles of airspa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Oceanic area has 8 oceanic sector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tors 1,2,4,7 control the northern portion of our airspace, and sectors 3,5,6,9 control to the sout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oking at the map and starting with ZOA ***Click Mouse**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rking clockwise you can see the adjacent facilit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**Click Mouse as you say each facility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s Angeles, Mexico, Tahiti, Auckland, Nadi, Nauru FL 245 and below, Honiara, Port Moresby, Ujung Pandang, Manila, Naha, Tokyo, Anchorage, Vancouver, and Seattle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152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386760" y="6265800"/>
            <a:ext cx="13694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ederal Av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1022-7085-4E76-A44E-EDB5F2525A8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0372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14334" t="3733" r="14975" b="4562"/>
          <a:stretch/>
        </p:blipFill>
        <p:spPr>
          <a:xfrm>
            <a:off x="5708520" y="6124680"/>
            <a:ext cx="660600" cy="6620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IPACG 27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Tokyo, Japan,  November 5-9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sp>
          <p:nvSpPr>
            <p:cNvPr id="48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91" name="" descr=""/>
            <p:cNvPicPr/>
            <p:nvPr/>
          </p:nvPicPr>
          <p:blipFill>
            <a:blip r:embed="rId2"/>
            <a:srcRect l="14334" t="3733" r="14975" b="456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ISPACG 21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Auckland, New Zealand, March 6-8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29D4-8F30-4A21-8EB2-B276FC23E69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135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8200" y="5999040"/>
            <a:ext cx="41990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2040" y="5062680"/>
            <a:ext cx="450216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ented By: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A, Oakland ARTCC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irspace and Procedure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e: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vember 5-9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7680" y="555480"/>
            <a:ext cx="5122800" cy="39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akland Air Route Traffic Control Cen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ACG 27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TS Route Alig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2600" y="-49320"/>
            <a:ext cx="9144000" cy="60627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0840" y="185760"/>
            <a:ext cx="32641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EP Current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aypoi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rcRect l="0" t="4725" r="0" b="15847"/>
          <a:stretch/>
        </p:blipFill>
        <p:spPr>
          <a:xfrm>
            <a:off x="863640" y="0"/>
            <a:ext cx="7427880" cy="60008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27000" y="0"/>
            <a:ext cx="34797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EP Proposed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aypoi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38360" y="487692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8160" y="496872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28960" y="507672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38480" y="521640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406600" y="533412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65360" y="547380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38600" y="369252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87720" y="257796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68880" y="146052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88200" y="35568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06720" y="384480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74840" y="396864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57440" y="420372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25920" y="434016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7000" y="4495680"/>
            <a:ext cx="8856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56200" y="273672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30800" y="287964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16480" y="2962440"/>
            <a:ext cx="88920" cy="88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89360" y="319716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54600" y="334656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45040" y="350820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0880" y="164160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08720" y="178740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37320" y="200340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50080" y="219060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114960" y="234000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08640" y="253368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86480" y="606600"/>
            <a:ext cx="88920" cy="88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696000" y="71748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80120" y="103824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226280" y="119052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375680" y="134604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575480" y="155880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rcRect l="0" t="0" r="0" b="12440"/>
          <a:stretch/>
        </p:blipFill>
        <p:spPr>
          <a:xfrm>
            <a:off x="0" y="-957240"/>
            <a:ext cx="9144000" cy="69706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3720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 change to the ATS Route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round Hawaii is projected t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ave 110,000 flying miles a year,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 equivalent of 5 times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round the Earth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-286920" y="3004560"/>
            <a:ext cx="319320" cy="25560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624"/>
                </a:moveTo>
                <a:lnTo>
                  <a:pt x="480" y="336"/>
                </a:lnTo>
                <a:lnTo>
                  <a:pt x="480" y="96"/>
                </a:lnTo>
                <a:lnTo>
                  <a:pt x="576" y="0"/>
                </a:lnTo>
                <a:lnTo>
                  <a:pt x="672" y="96"/>
                </a:lnTo>
                <a:lnTo>
                  <a:pt x="672" y="336"/>
                </a:lnTo>
                <a:lnTo>
                  <a:pt x="1152" y="624"/>
                </a:lnTo>
                <a:lnTo>
                  <a:pt x="1152" y="768"/>
                </a:lnTo>
                <a:lnTo>
                  <a:pt x="672" y="576"/>
                </a:lnTo>
                <a:lnTo>
                  <a:pt x="672" y="912"/>
                </a:lnTo>
                <a:lnTo>
                  <a:pt x="816" y="960"/>
                </a:lnTo>
                <a:lnTo>
                  <a:pt x="816" y="1056"/>
                </a:lnTo>
                <a:lnTo>
                  <a:pt x="720" y="1056"/>
                </a:lnTo>
                <a:lnTo>
                  <a:pt x="672" y="1008"/>
                </a:lnTo>
                <a:lnTo>
                  <a:pt x="480" y="1008"/>
                </a:lnTo>
                <a:lnTo>
                  <a:pt x="432" y="1056"/>
                </a:lnTo>
                <a:lnTo>
                  <a:pt x="336" y="1056"/>
                </a:lnTo>
                <a:lnTo>
                  <a:pt x="336" y="960"/>
                </a:lnTo>
                <a:lnTo>
                  <a:pt x="480" y="912"/>
                </a:lnTo>
                <a:lnTo>
                  <a:pt x="480" y="576"/>
                </a:lnTo>
                <a:lnTo>
                  <a:pt x="0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19240" y="4425840"/>
            <a:ext cx="5438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vings of  1,210,000kg of Fu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r 3,823,600kg of CO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13 0.01527 L 0.29323 0.0259 L 0.37743 0.03006 L 0.50434 0.03006 L 0.60122 0.0259 L 0.69167 0.01527 L 0.77257 -0.00161 L 0.80278 -0.01225 E">
                                      <p:cBhvr>
                                        <p:cTn id="288" dur="3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083 0.0007 L 0.21806 0.01366 L 0.23889 0.01736 L 0.3125 0.02848 L 0.39722 0.03033 L 0.52083 0.02848 L 0.61111 0.02477 L 0.7125 0.01181 L 0.78611 -0.00301 L 0.81806 -0.01412 L 0.81806 -0.02523 L 0.80278 -0.03264 E">
                                      <p:cBhvr>
                                        <p:cTn id="294" dur="3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225 -0.00115 L 0.2125 0.00996 L 0.2375 0.01736 L 0.31528 0.02662 L 0.43889 0.03218 L 0.53889 0.03033 L 0.65417 0.01922 L 0.76806 0.0044 L 0.82361 -0.01597 L 0.80556 -0.03078 E">
                                      <p:cBhvr>
                                        <p:cTn id="302" dur="3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9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22222 -0.00486 L 0.2125 0.00625 L 0.27639 0.02662 L 0.35417 0.02848 L 0.43611 0.03033 L 0.55972 0.02848 L 0.6875 0.01736 L 0.80278 -0.00856 L 0.81667 -0.02152 L 0.80695 -0.03078 E">
                                      <p:cBhvr>
                                        <p:cTn id="310" dur="3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7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22222 -0.00486 L 0.20972 0.0081 L 0.29167 0.02662 L 0.38889 0.02848 L 0.57222 0.02662 L 0.72222 0.01181 L 0.80972 -0.01041 L 0.80278 -0.02523 E">
                                      <p:cBhvr>
                                        <p:cTn id="318" dur="3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8215200" cy="75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Hawaii ATS Route Realignmen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14240" y="1336680"/>
            <a:ext cx="771048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ere are many changes to be made in HCF airspac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Oakland Center is ready to submit the changes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Oakland Center is working with HCF on an implementation dat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2838600" y="458640"/>
            <a:ext cx="346680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 flipH="1" flipV="1">
            <a:off x="5552640" y="4338360"/>
            <a:ext cx="66600" cy="4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240" y="344160"/>
            <a:ext cx="870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AO STRATEGIC OBJECTIV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>
            <a:lum bright="-60000"/>
          </a:blip>
          <a:stretch/>
        </p:blipFill>
        <p:spPr>
          <a:xfrm>
            <a:off x="1424160" y="914400"/>
            <a:ext cx="6300720" cy="5153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20720" y="144468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4040" y="1484280"/>
            <a:ext cx="8493120" cy="38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Support of ICAO’S Strategic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mize the adverse effect of Global Civil Aviation on th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hance the efficiency of aviation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akland has conducted a review of the ATS Routes within the Oakland F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8215200" cy="75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ATS Route Realignment Proposal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4240" y="1336680"/>
            <a:ext cx="771048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urrent ATS Route Structures were designed based upon 100nm lateral Separation Standard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s to ATC Operating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NP-10 operations (50nm Lateral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Ocean21 ATC Automation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ome ATS Routes may be improv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rcRect l="0" t="10246" r="0" b="6145"/>
          <a:stretch/>
        </p:blipFill>
        <p:spPr>
          <a:xfrm>
            <a:off x="0" y="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9600" y="383760"/>
            <a:ext cx="8472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ATS Route Realignment Proposal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68480" y="1054080"/>
            <a:ext cx="2057400" cy="1612800"/>
          </a:xfrm>
          <a:prstGeom prst="wedgeRectCallout">
            <a:avLst>
              <a:gd name="adj1" fmla="val -85958"/>
              <a:gd name="adj2" fmla="val 52856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ATS Routes Northwest of Gu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15880" y="4019400"/>
            <a:ext cx="2057400" cy="1613160"/>
          </a:xfrm>
          <a:prstGeom prst="wedgeRectCallout">
            <a:avLst>
              <a:gd name="adj1" fmla="val 104013"/>
              <a:gd name="adj2" fmla="val 1671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ATS Routes around Hawa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832360" y="885960"/>
            <a:ext cx="1244880" cy="1952640"/>
          </a:xfrm>
          <a:prstGeom prst="line">
            <a:avLst/>
          </a:prstGeom>
          <a:ln w="3816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6840" y="2433600"/>
            <a:ext cx="1341360" cy="897120"/>
          </a:xfrm>
          <a:custGeom>
            <a:avLst/>
            <a:gdLst/>
            <a:ahLst/>
            <a:rect l="l" t="t" r="r" b="b"/>
            <a:pathLst>
              <a:path w="845" h="565">
                <a:moveTo>
                  <a:pt x="845" y="271"/>
                </a:moveTo>
                <a:lnTo>
                  <a:pt x="804" y="450"/>
                </a:lnTo>
                <a:lnTo>
                  <a:pt x="775" y="435"/>
                </a:lnTo>
                <a:lnTo>
                  <a:pt x="735" y="426"/>
                </a:lnTo>
                <a:lnTo>
                  <a:pt x="702" y="423"/>
                </a:lnTo>
                <a:lnTo>
                  <a:pt x="648" y="426"/>
                </a:lnTo>
                <a:lnTo>
                  <a:pt x="612" y="438"/>
                </a:lnTo>
                <a:lnTo>
                  <a:pt x="567" y="465"/>
                </a:lnTo>
                <a:lnTo>
                  <a:pt x="535" y="497"/>
                </a:lnTo>
                <a:lnTo>
                  <a:pt x="507" y="537"/>
                </a:lnTo>
                <a:lnTo>
                  <a:pt x="493" y="565"/>
                </a:lnTo>
                <a:lnTo>
                  <a:pt x="0" y="246"/>
                </a:lnTo>
                <a:lnTo>
                  <a:pt x="99" y="0"/>
                </a:lnTo>
                <a:lnTo>
                  <a:pt x="209" y="45"/>
                </a:lnTo>
                <a:lnTo>
                  <a:pt x="303" y="84"/>
                </a:lnTo>
                <a:lnTo>
                  <a:pt x="471" y="150"/>
                </a:lnTo>
                <a:lnTo>
                  <a:pt x="641" y="211"/>
                </a:lnTo>
                <a:lnTo>
                  <a:pt x="756" y="246"/>
                </a:lnTo>
                <a:lnTo>
                  <a:pt x="845" y="271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71960" y="3390840"/>
            <a:ext cx="2000160" cy="1857600"/>
          </a:xfrm>
          <a:custGeom>
            <a:avLst/>
            <a:gdLst/>
            <a:ahLst/>
            <a:rect l="l" t="t" r="r" b="b"/>
            <a:pathLst>
              <a:path w="1260" h="1170">
                <a:moveTo>
                  <a:pt x="1260" y="1134"/>
                </a:moveTo>
                <a:lnTo>
                  <a:pt x="1122" y="1146"/>
                </a:lnTo>
                <a:lnTo>
                  <a:pt x="972" y="1155"/>
                </a:lnTo>
                <a:lnTo>
                  <a:pt x="834" y="1161"/>
                </a:lnTo>
                <a:lnTo>
                  <a:pt x="681" y="1164"/>
                </a:lnTo>
                <a:lnTo>
                  <a:pt x="564" y="1170"/>
                </a:lnTo>
                <a:lnTo>
                  <a:pt x="444" y="1170"/>
                </a:lnTo>
                <a:lnTo>
                  <a:pt x="282" y="1170"/>
                </a:lnTo>
                <a:lnTo>
                  <a:pt x="147" y="1170"/>
                </a:lnTo>
                <a:lnTo>
                  <a:pt x="0" y="1167"/>
                </a:lnTo>
                <a:lnTo>
                  <a:pt x="3" y="975"/>
                </a:lnTo>
                <a:lnTo>
                  <a:pt x="6" y="810"/>
                </a:lnTo>
                <a:lnTo>
                  <a:pt x="6" y="750"/>
                </a:lnTo>
                <a:lnTo>
                  <a:pt x="807" y="0"/>
                </a:lnTo>
                <a:lnTo>
                  <a:pt x="927" y="81"/>
                </a:lnTo>
                <a:lnTo>
                  <a:pt x="1020" y="69"/>
                </a:lnTo>
                <a:lnTo>
                  <a:pt x="1110" y="66"/>
                </a:lnTo>
                <a:lnTo>
                  <a:pt x="1260" y="1134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82760" y="2695680"/>
            <a:ext cx="670860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valuation indicated two areas that could be potentially impro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0200" y="84240"/>
            <a:ext cx="8153640" cy="62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am ATS Routes Changes effect. 8/3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1811" t="5892" r="14169" b="25690"/>
          <a:stretch/>
        </p:blipFill>
        <p:spPr>
          <a:xfrm>
            <a:off x="189000" y="752400"/>
            <a:ext cx="8770680" cy="5230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 flipH="1">
            <a:off x="5133600" y="2190600"/>
            <a:ext cx="104760" cy="16290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72160" y="2033640"/>
            <a:ext cx="361800" cy="17859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38640" y="1847880"/>
            <a:ext cx="880920" cy="1990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81360" y="1628640"/>
            <a:ext cx="1428840" cy="2214720"/>
          </a:xfrm>
          <a:custGeom>
            <a:avLst/>
            <a:gdLst/>
            <a:ahLst/>
            <a:rect l="l" t="t" r="r" b="b"/>
            <a:pathLst>
              <a:path w="900" h="1395">
                <a:moveTo>
                  <a:pt x="0" y="0"/>
                </a:moveTo>
                <a:lnTo>
                  <a:pt x="567" y="957"/>
                </a:lnTo>
                <a:lnTo>
                  <a:pt x="900" y="1395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33680" y="1609560"/>
            <a:ext cx="2562120" cy="2224080"/>
          </a:xfrm>
          <a:custGeom>
            <a:avLst/>
            <a:gdLst/>
            <a:ahLst/>
            <a:rect l="l" t="t" r="r" b="b"/>
            <a:pathLst>
              <a:path w="1614" h="1401">
                <a:moveTo>
                  <a:pt x="0" y="0"/>
                </a:moveTo>
                <a:lnTo>
                  <a:pt x="1203" y="1062"/>
                </a:lnTo>
                <a:lnTo>
                  <a:pt x="1614" y="1401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38520" y="2033640"/>
            <a:ext cx="338400" cy="2490840"/>
          </a:xfrm>
          <a:custGeom>
            <a:avLst/>
            <a:gdLst/>
            <a:ahLst/>
            <a:rect l="l" t="t" r="r" b="b"/>
            <a:pathLst>
              <a:path w="213" h="1569">
                <a:moveTo>
                  <a:pt x="147" y="0"/>
                </a:moveTo>
                <a:lnTo>
                  <a:pt x="213" y="787"/>
                </a:lnTo>
                <a:lnTo>
                  <a:pt x="0" y="1569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solidFill>
            <a:srgbClr val="000000">
              <a:alpha val="66000"/>
            </a:srgbClr>
          </a:solidFill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changes to the ATS Routes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ound Hawaii is projected to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ave 110,000 flying miles a year,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equivalent of 5 time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ound the Earth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138" t="15494" r="24614" b="26723"/>
          <a:stretch/>
        </p:blipFill>
        <p:spPr>
          <a:xfrm>
            <a:off x="0" y="0"/>
            <a:ext cx="9144000" cy="59929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19654200">
            <a:off x="8072280" y="2685600"/>
            <a:ext cx="319320" cy="25560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624"/>
                </a:moveTo>
                <a:lnTo>
                  <a:pt x="480" y="336"/>
                </a:lnTo>
                <a:lnTo>
                  <a:pt x="480" y="96"/>
                </a:lnTo>
                <a:lnTo>
                  <a:pt x="576" y="0"/>
                </a:lnTo>
                <a:lnTo>
                  <a:pt x="672" y="96"/>
                </a:lnTo>
                <a:lnTo>
                  <a:pt x="672" y="336"/>
                </a:lnTo>
                <a:lnTo>
                  <a:pt x="1152" y="624"/>
                </a:lnTo>
                <a:lnTo>
                  <a:pt x="1152" y="768"/>
                </a:lnTo>
                <a:lnTo>
                  <a:pt x="672" y="576"/>
                </a:lnTo>
                <a:lnTo>
                  <a:pt x="672" y="912"/>
                </a:lnTo>
                <a:lnTo>
                  <a:pt x="816" y="960"/>
                </a:lnTo>
                <a:lnTo>
                  <a:pt x="816" y="1056"/>
                </a:lnTo>
                <a:lnTo>
                  <a:pt x="720" y="1056"/>
                </a:lnTo>
                <a:lnTo>
                  <a:pt x="672" y="1008"/>
                </a:lnTo>
                <a:lnTo>
                  <a:pt x="480" y="1008"/>
                </a:lnTo>
                <a:lnTo>
                  <a:pt x="432" y="1056"/>
                </a:lnTo>
                <a:lnTo>
                  <a:pt x="336" y="1056"/>
                </a:lnTo>
                <a:lnTo>
                  <a:pt x="336" y="960"/>
                </a:lnTo>
                <a:lnTo>
                  <a:pt x="480" y="912"/>
                </a:lnTo>
                <a:lnTo>
                  <a:pt x="480" y="576"/>
                </a:lnTo>
                <a:lnTo>
                  <a:pt x="0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7585200">
            <a:off x="-549000" y="801360"/>
            <a:ext cx="318960" cy="25560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624"/>
                </a:moveTo>
                <a:lnTo>
                  <a:pt x="480" y="336"/>
                </a:lnTo>
                <a:lnTo>
                  <a:pt x="480" y="96"/>
                </a:lnTo>
                <a:lnTo>
                  <a:pt x="576" y="0"/>
                </a:lnTo>
                <a:lnTo>
                  <a:pt x="672" y="96"/>
                </a:lnTo>
                <a:lnTo>
                  <a:pt x="672" y="336"/>
                </a:lnTo>
                <a:lnTo>
                  <a:pt x="1152" y="624"/>
                </a:lnTo>
                <a:lnTo>
                  <a:pt x="1152" y="768"/>
                </a:lnTo>
                <a:lnTo>
                  <a:pt x="672" y="576"/>
                </a:lnTo>
                <a:lnTo>
                  <a:pt x="672" y="912"/>
                </a:lnTo>
                <a:lnTo>
                  <a:pt x="816" y="960"/>
                </a:lnTo>
                <a:lnTo>
                  <a:pt x="816" y="1056"/>
                </a:lnTo>
                <a:lnTo>
                  <a:pt x="720" y="1056"/>
                </a:lnTo>
                <a:lnTo>
                  <a:pt x="672" y="1008"/>
                </a:lnTo>
                <a:lnTo>
                  <a:pt x="480" y="1008"/>
                </a:lnTo>
                <a:lnTo>
                  <a:pt x="432" y="1056"/>
                </a:lnTo>
                <a:lnTo>
                  <a:pt x="336" y="1056"/>
                </a:lnTo>
                <a:lnTo>
                  <a:pt x="336" y="960"/>
                </a:lnTo>
                <a:lnTo>
                  <a:pt x="480" y="912"/>
                </a:lnTo>
                <a:lnTo>
                  <a:pt x="480" y="576"/>
                </a:lnTo>
                <a:lnTo>
                  <a:pt x="0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rcRect l="51448" t="1928" r="2891" b="1281"/>
          <a:stretch/>
        </p:blipFill>
        <p:spPr>
          <a:xfrm>
            <a:off x="287280" y="320760"/>
            <a:ext cx="1187640" cy="12571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35680" y="3178080"/>
            <a:ext cx="378000" cy="247680"/>
          </a:xfrm>
          <a:prstGeom prst="cloudCallout">
            <a:avLst>
              <a:gd name="adj1" fmla="val -1680"/>
              <a:gd name="adj2" fmla="val 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7440" y="1909800"/>
            <a:ext cx="412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changes to the ATS Routes around Guam is projected to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ve 220,000 flying miles a year,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ich is over the distance to the m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16560" y="276120"/>
            <a:ext cx="5339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vings of 2,420,000kg of Fu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r  7,647,200kg of CO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302 0.06042 L -0.14948 0.03958 L -0.1651 0.05069 L -0.15781 0.03125 L -0.17135 0.04514 L -0.17135 0.02986 L -0.20364 -0.01042 L -0.29323 -0.11736 L -0.3776 -0.19514 L -0.51198 -0.28125 L -0.60781 -0.31736 L -0.7151 -0.32292 L -0.77343 -0.32014 E">
                                      <p:cBhvr>
                                        <p:cTn id="47" dur="5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763 0.04439 L 0.10763 0.08462 L 0.125 0.11422 L 0.1552 0.13526 L 0.17899 0.1459 E">
                                      <p:cBhvr>
                                        <p:cTn id="56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rcRect l="32821" t="14244" r="15712" b="40628"/>
          <a:stretch/>
        </p:blipFill>
        <p:spPr>
          <a:xfrm>
            <a:off x="277920" y="23760"/>
            <a:ext cx="8672400" cy="59230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122400"/>
            <a:ext cx="4711680" cy="132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NL ATS Routes Revis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555720" y="1203480"/>
            <a:ext cx="2739960" cy="3736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245200" y="1260360"/>
            <a:ext cx="1325520" cy="36417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562360" y="1266840"/>
            <a:ext cx="1019160" cy="3622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11840" y="1276200"/>
            <a:ext cx="69840" cy="35877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26320" y="1263600"/>
            <a:ext cx="1047600" cy="3067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555720" y="1198440"/>
            <a:ext cx="2738520" cy="3068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905520" y="0"/>
            <a:ext cx="228600" cy="333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2080" y="-17640"/>
            <a:ext cx="798804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nolulu Control Facility Bound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498680" y="852480"/>
            <a:ext cx="6386400" cy="51609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873080" y="1415880"/>
            <a:ext cx="5353200" cy="3803760"/>
          </a:xfrm>
          <a:custGeom>
            <a:avLst/>
            <a:gdLst/>
            <a:ahLst/>
            <a:rect l="l" t="t" r="r" b="b"/>
            <a:pathLst>
              <a:path w="3372" h="2396">
                <a:moveTo>
                  <a:pt x="524" y="152"/>
                </a:moveTo>
                <a:lnTo>
                  <a:pt x="628" y="144"/>
                </a:lnTo>
                <a:lnTo>
                  <a:pt x="700" y="140"/>
                </a:lnTo>
                <a:lnTo>
                  <a:pt x="1116" y="84"/>
                </a:lnTo>
                <a:lnTo>
                  <a:pt x="1956" y="308"/>
                </a:lnTo>
                <a:lnTo>
                  <a:pt x="2404" y="492"/>
                </a:lnTo>
                <a:lnTo>
                  <a:pt x="2592" y="652"/>
                </a:lnTo>
                <a:lnTo>
                  <a:pt x="2792" y="780"/>
                </a:lnTo>
                <a:lnTo>
                  <a:pt x="2948" y="928"/>
                </a:lnTo>
                <a:lnTo>
                  <a:pt x="3212" y="1352"/>
                </a:lnTo>
                <a:lnTo>
                  <a:pt x="2988" y="1500"/>
                </a:lnTo>
                <a:lnTo>
                  <a:pt x="2380" y="1632"/>
                </a:lnTo>
                <a:lnTo>
                  <a:pt x="2260" y="1812"/>
                </a:lnTo>
                <a:lnTo>
                  <a:pt x="2100" y="2044"/>
                </a:lnTo>
                <a:lnTo>
                  <a:pt x="1970" y="2228"/>
                </a:lnTo>
                <a:lnTo>
                  <a:pt x="1716" y="2288"/>
                </a:lnTo>
                <a:lnTo>
                  <a:pt x="1388" y="2284"/>
                </a:lnTo>
                <a:lnTo>
                  <a:pt x="1228" y="2236"/>
                </a:lnTo>
                <a:lnTo>
                  <a:pt x="1052" y="2168"/>
                </a:lnTo>
                <a:lnTo>
                  <a:pt x="884" y="2084"/>
                </a:lnTo>
                <a:lnTo>
                  <a:pt x="664" y="1964"/>
                </a:lnTo>
                <a:lnTo>
                  <a:pt x="244" y="1736"/>
                </a:lnTo>
                <a:lnTo>
                  <a:pt x="92" y="1468"/>
                </a:lnTo>
                <a:lnTo>
                  <a:pt x="68" y="1216"/>
                </a:lnTo>
                <a:lnTo>
                  <a:pt x="64" y="940"/>
                </a:lnTo>
                <a:lnTo>
                  <a:pt x="132" y="784"/>
                </a:lnTo>
                <a:lnTo>
                  <a:pt x="208" y="600"/>
                </a:lnTo>
                <a:lnTo>
                  <a:pt x="252" y="484"/>
                </a:lnTo>
                <a:lnTo>
                  <a:pt x="704" y="140"/>
                </a:lnTo>
                <a:lnTo>
                  <a:pt x="524" y="152"/>
                </a:lnTo>
                <a:lnTo>
                  <a:pt x="0" y="780"/>
                </a:lnTo>
                <a:lnTo>
                  <a:pt x="92" y="1760"/>
                </a:lnTo>
                <a:lnTo>
                  <a:pt x="1176" y="2396"/>
                </a:lnTo>
                <a:lnTo>
                  <a:pt x="2112" y="2260"/>
                </a:lnTo>
                <a:lnTo>
                  <a:pt x="2540" y="1612"/>
                </a:lnTo>
                <a:lnTo>
                  <a:pt x="2892" y="1648"/>
                </a:lnTo>
                <a:lnTo>
                  <a:pt x="3372" y="1224"/>
                </a:lnTo>
                <a:lnTo>
                  <a:pt x="2904" y="692"/>
                </a:lnTo>
                <a:lnTo>
                  <a:pt x="1832" y="0"/>
                </a:lnTo>
                <a:lnTo>
                  <a:pt x="524" y="152"/>
                </a:lnTo>
                <a:close/>
              </a:path>
            </a:pathLst>
          </a:custGeom>
          <a:solidFill>
            <a:srgbClr val="ffcc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79560" y="1409760"/>
            <a:ext cx="5353200" cy="3809880"/>
          </a:xfrm>
          <a:custGeom>
            <a:avLst/>
            <a:gdLst/>
            <a:ahLst/>
            <a:rect l="l" t="t" r="r" b="b"/>
            <a:pathLst>
              <a:path w="3372" h="2400">
                <a:moveTo>
                  <a:pt x="0" y="780"/>
                </a:moveTo>
                <a:lnTo>
                  <a:pt x="528" y="156"/>
                </a:lnTo>
                <a:lnTo>
                  <a:pt x="1816" y="0"/>
                </a:lnTo>
                <a:lnTo>
                  <a:pt x="2912" y="708"/>
                </a:lnTo>
                <a:lnTo>
                  <a:pt x="3372" y="1228"/>
                </a:lnTo>
                <a:lnTo>
                  <a:pt x="2892" y="1656"/>
                </a:lnTo>
                <a:lnTo>
                  <a:pt x="2540" y="1612"/>
                </a:lnTo>
                <a:lnTo>
                  <a:pt x="2120" y="2264"/>
                </a:lnTo>
                <a:lnTo>
                  <a:pt x="1184" y="2400"/>
                </a:lnTo>
                <a:lnTo>
                  <a:pt x="92" y="1760"/>
                </a:lnTo>
                <a:lnTo>
                  <a:pt x="0" y="780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34600" y="4370400"/>
            <a:ext cx="1600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ou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74960" y="1555920"/>
            <a:ext cx="5010120" cy="3492360"/>
          </a:xfrm>
          <a:custGeom>
            <a:avLst/>
            <a:gdLst/>
            <a:ahLst/>
            <a:rect l="l" t="t" r="r" b="b"/>
            <a:pathLst>
              <a:path w="3156" h="2200">
                <a:moveTo>
                  <a:pt x="1048" y="0"/>
                </a:moveTo>
                <a:lnTo>
                  <a:pt x="1892" y="220"/>
                </a:lnTo>
                <a:lnTo>
                  <a:pt x="2324" y="400"/>
                </a:lnTo>
                <a:lnTo>
                  <a:pt x="2736" y="676"/>
                </a:lnTo>
                <a:lnTo>
                  <a:pt x="2880" y="840"/>
                </a:lnTo>
                <a:lnTo>
                  <a:pt x="3156" y="1264"/>
                </a:lnTo>
                <a:lnTo>
                  <a:pt x="2916" y="1416"/>
                </a:lnTo>
                <a:lnTo>
                  <a:pt x="2312" y="1548"/>
                </a:lnTo>
                <a:lnTo>
                  <a:pt x="1894" y="2146"/>
                </a:lnTo>
                <a:lnTo>
                  <a:pt x="1588" y="2194"/>
                </a:lnTo>
                <a:lnTo>
                  <a:pt x="1596" y="2200"/>
                </a:lnTo>
                <a:lnTo>
                  <a:pt x="1360" y="2196"/>
                </a:lnTo>
                <a:lnTo>
                  <a:pt x="1188" y="2156"/>
                </a:lnTo>
                <a:lnTo>
                  <a:pt x="984" y="2072"/>
                </a:lnTo>
                <a:lnTo>
                  <a:pt x="832" y="2012"/>
                </a:lnTo>
                <a:lnTo>
                  <a:pt x="812" y="2000"/>
                </a:lnTo>
                <a:lnTo>
                  <a:pt x="348" y="1736"/>
                </a:lnTo>
                <a:lnTo>
                  <a:pt x="180" y="1648"/>
                </a:lnTo>
                <a:lnTo>
                  <a:pt x="184" y="1652"/>
                </a:lnTo>
                <a:lnTo>
                  <a:pt x="28" y="1384"/>
                </a:lnTo>
                <a:lnTo>
                  <a:pt x="8" y="1148"/>
                </a:lnTo>
                <a:lnTo>
                  <a:pt x="0" y="860"/>
                </a:lnTo>
                <a:lnTo>
                  <a:pt x="192" y="396"/>
                </a:lnTo>
                <a:lnTo>
                  <a:pt x="648" y="56"/>
                </a:lnTo>
                <a:lnTo>
                  <a:pt x="1048" y="0"/>
                </a:lnTo>
                <a:close/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79240" y="4516560"/>
            <a:ext cx="1669680" cy="459720"/>
          </a:xfrm>
          <a:prstGeom prst="rect">
            <a:avLst/>
          </a:prstGeom>
          <a:solidFill>
            <a:srgbClr val="ffcc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n-Ra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49680" y="1670040"/>
            <a:ext cx="952200" cy="291960"/>
          </a:xfrm>
          <a:custGeom>
            <a:avLst/>
            <a:gdLst/>
            <a:ahLst/>
            <a:rect l="l" t="t" r="r" b="b"/>
            <a:pathLst>
              <a:path w="600" h="184">
                <a:moveTo>
                  <a:pt x="600" y="0"/>
                </a:moveTo>
                <a:lnTo>
                  <a:pt x="328" y="36"/>
                </a:lnTo>
                <a:lnTo>
                  <a:pt x="296" y="44"/>
                </a:lnTo>
                <a:lnTo>
                  <a:pt x="96" y="108"/>
                </a:lnTo>
                <a:lnTo>
                  <a:pt x="0" y="184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22640" y="1994040"/>
            <a:ext cx="488880" cy="1726920"/>
          </a:xfrm>
          <a:custGeom>
            <a:avLst/>
            <a:gdLst/>
            <a:ahLst/>
            <a:rect l="l" t="t" r="r" b="b"/>
            <a:pathLst>
              <a:path w="308" h="1088">
                <a:moveTo>
                  <a:pt x="308" y="0"/>
                </a:moveTo>
                <a:lnTo>
                  <a:pt x="264" y="48"/>
                </a:lnTo>
                <a:lnTo>
                  <a:pt x="132" y="216"/>
                </a:lnTo>
                <a:lnTo>
                  <a:pt x="40" y="424"/>
                </a:lnTo>
                <a:lnTo>
                  <a:pt x="4" y="648"/>
                </a:lnTo>
                <a:lnTo>
                  <a:pt x="0" y="884"/>
                </a:lnTo>
                <a:lnTo>
                  <a:pt x="52" y="1088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11560" y="3727440"/>
            <a:ext cx="876240" cy="882720"/>
          </a:xfrm>
          <a:custGeom>
            <a:avLst/>
            <a:gdLst/>
            <a:ahLst/>
            <a:rect l="l" t="t" r="r" b="b"/>
            <a:pathLst>
              <a:path w="552" h="556">
                <a:moveTo>
                  <a:pt x="552" y="556"/>
                </a:moveTo>
                <a:lnTo>
                  <a:pt x="424" y="492"/>
                </a:lnTo>
                <a:lnTo>
                  <a:pt x="276" y="368"/>
                </a:lnTo>
                <a:lnTo>
                  <a:pt x="248" y="384"/>
                </a:lnTo>
                <a:lnTo>
                  <a:pt x="208" y="300"/>
                </a:lnTo>
                <a:lnTo>
                  <a:pt x="184" y="332"/>
                </a:lnTo>
                <a:lnTo>
                  <a:pt x="88" y="200"/>
                </a:lnTo>
                <a:lnTo>
                  <a:pt x="64" y="22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3504200">
            <a:off x="6170400" y="2047320"/>
            <a:ext cx="319320" cy="25560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624"/>
                </a:moveTo>
                <a:lnTo>
                  <a:pt x="480" y="336"/>
                </a:lnTo>
                <a:lnTo>
                  <a:pt x="480" y="96"/>
                </a:lnTo>
                <a:lnTo>
                  <a:pt x="576" y="0"/>
                </a:lnTo>
                <a:lnTo>
                  <a:pt x="672" y="96"/>
                </a:lnTo>
                <a:lnTo>
                  <a:pt x="672" y="336"/>
                </a:lnTo>
                <a:lnTo>
                  <a:pt x="1152" y="624"/>
                </a:lnTo>
                <a:lnTo>
                  <a:pt x="1152" y="768"/>
                </a:lnTo>
                <a:lnTo>
                  <a:pt x="672" y="576"/>
                </a:lnTo>
                <a:lnTo>
                  <a:pt x="672" y="912"/>
                </a:lnTo>
                <a:lnTo>
                  <a:pt x="816" y="960"/>
                </a:lnTo>
                <a:lnTo>
                  <a:pt x="816" y="1056"/>
                </a:lnTo>
                <a:lnTo>
                  <a:pt x="720" y="1056"/>
                </a:lnTo>
                <a:lnTo>
                  <a:pt x="672" y="1008"/>
                </a:lnTo>
                <a:lnTo>
                  <a:pt x="480" y="1008"/>
                </a:lnTo>
                <a:lnTo>
                  <a:pt x="432" y="1056"/>
                </a:lnTo>
                <a:lnTo>
                  <a:pt x="336" y="1056"/>
                </a:lnTo>
                <a:lnTo>
                  <a:pt x="336" y="960"/>
                </a:lnTo>
                <a:lnTo>
                  <a:pt x="480" y="912"/>
                </a:lnTo>
                <a:lnTo>
                  <a:pt x="480" y="576"/>
                </a:lnTo>
                <a:lnTo>
                  <a:pt x="0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3715400">
            <a:off x="6878160" y="1450440"/>
            <a:ext cx="319320" cy="25524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624"/>
                </a:moveTo>
                <a:lnTo>
                  <a:pt x="480" y="336"/>
                </a:lnTo>
                <a:lnTo>
                  <a:pt x="480" y="96"/>
                </a:lnTo>
                <a:lnTo>
                  <a:pt x="576" y="0"/>
                </a:lnTo>
                <a:lnTo>
                  <a:pt x="672" y="96"/>
                </a:lnTo>
                <a:lnTo>
                  <a:pt x="672" y="336"/>
                </a:lnTo>
                <a:lnTo>
                  <a:pt x="1152" y="624"/>
                </a:lnTo>
                <a:lnTo>
                  <a:pt x="1152" y="768"/>
                </a:lnTo>
                <a:lnTo>
                  <a:pt x="672" y="576"/>
                </a:lnTo>
                <a:lnTo>
                  <a:pt x="672" y="912"/>
                </a:lnTo>
                <a:lnTo>
                  <a:pt x="816" y="960"/>
                </a:lnTo>
                <a:lnTo>
                  <a:pt x="816" y="1056"/>
                </a:lnTo>
                <a:lnTo>
                  <a:pt x="720" y="1056"/>
                </a:lnTo>
                <a:lnTo>
                  <a:pt x="672" y="1008"/>
                </a:lnTo>
                <a:lnTo>
                  <a:pt x="480" y="1008"/>
                </a:lnTo>
                <a:lnTo>
                  <a:pt x="432" y="1056"/>
                </a:lnTo>
                <a:lnTo>
                  <a:pt x="336" y="1056"/>
                </a:lnTo>
                <a:lnTo>
                  <a:pt x="336" y="960"/>
                </a:lnTo>
                <a:lnTo>
                  <a:pt x="480" y="912"/>
                </a:lnTo>
                <a:lnTo>
                  <a:pt x="480" y="576"/>
                </a:lnTo>
                <a:lnTo>
                  <a:pt x="0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81840" y="2178000"/>
            <a:ext cx="1467000" cy="971640"/>
          </a:xfrm>
          <a:prstGeom prst="wedgeRectCallout">
            <a:avLst>
              <a:gd name="adj1" fmla="val -90259"/>
              <a:gd name="adj2" fmla="val -50981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N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NP4-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39080" y="1654200"/>
            <a:ext cx="318960" cy="566640"/>
          </a:xfrm>
          <a:custGeom>
            <a:avLst/>
            <a:gdLst/>
            <a:ahLst/>
            <a:rect l="l" t="t" r="r" b="b"/>
            <a:pathLst>
              <a:path w="201" h="357">
                <a:moveTo>
                  <a:pt x="101" y="357"/>
                </a:moveTo>
                <a:lnTo>
                  <a:pt x="0" y="0"/>
                </a:lnTo>
                <a:lnTo>
                  <a:pt x="201" y="348"/>
                </a:lnTo>
                <a:lnTo>
                  <a:pt x="101" y="357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46240" y="16621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3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76280" y="102060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3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20920" y="102060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3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48120" y="4829040"/>
            <a:ext cx="95400" cy="95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71840" y="4943520"/>
            <a:ext cx="88920" cy="88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61440" y="-17640"/>
            <a:ext cx="840924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COTS Track Generation NW Hawai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854360" y="852480"/>
            <a:ext cx="6386400" cy="51609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197080" y="1403280"/>
            <a:ext cx="5391000" cy="3835440"/>
          </a:xfrm>
          <a:custGeom>
            <a:avLst/>
            <a:gdLst/>
            <a:ahLst/>
            <a:rect l="l" t="t" r="r" b="b"/>
            <a:pathLst>
              <a:path w="3396" h="2416">
                <a:moveTo>
                  <a:pt x="0" y="768"/>
                </a:moveTo>
                <a:lnTo>
                  <a:pt x="512" y="160"/>
                </a:lnTo>
                <a:lnTo>
                  <a:pt x="1840" y="0"/>
                </a:lnTo>
                <a:lnTo>
                  <a:pt x="2936" y="712"/>
                </a:lnTo>
                <a:lnTo>
                  <a:pt x="3396" y="1232"/>
                </a:lnTo>
                <a:lnTo>
                  <a:pt x="2912" y="1652"/>
                </a:lnTo>
                <a:lnTo>
                  <a:pt x="2576" y="1624"/>
                </a:lnTo>
                <a:lnTo>
                  <a:pt x="2156" y="2268"/>
                </a:lnTo>
                <a:lnTo>
                  <a:pt x="1180" y="2416"/>
                </a:lnTo>
                <a:lnTo>
                  <a:pt x="112" y="1776"/>
                </a:lnTo>
                <a:lnTo>
                  <a:pt x="0" y="768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33520" y="1576440"/>
            <a:ext cx="4778640" cy="3465360"/>
          </a:xfrm>
          <a:custGeom>
            <a:avLst/>
            <a:gdLst/>
            <a:ahLst/>
            <a:rect l="l" t="t" r="r" b="b"/>
            <a:pathLst>
              <a:path w="3010" h="2183">
                <a:moveTo>
                  <a:pt x="597" y="60"/>
                </a:moveTo>
                <a:lnTo>
                  <a:pt x="1080" y="0"/>
                </a:lnTo>
                <a:lnTo>
                  <a:pt x="2118" y="291"/>
                </a:lnTo>
                <a:lnTo>
                  <a:pt x="2718" y="679"/>
                </a:lnTo>
                <a:lnTo>
                  <a:pt x="2878" y="827"/>
                </a:lnTo>
                <a:lnTo>
                  <a:pt x="3010" y="1031"/>
                </a:lnTo>
                <a:lnTo>
                  <a:pt x="2914" y="1403"/>
                </a:lnTo>
                <a:lnTo>
                  <a:pt x="2310" y="1535"/>
                </a:lnTo>
                <a:lnTo>
                  <a:pt x="2218" y="1727"/>
                </a:lnTo>
                <a:lnTo>
                  <a:pt x="2026" y="1939"/>
                </a:lnTo>
                <a:lnTo>
                  <a:pt x="1834" y="2087"/>
                </a:lnTo>
                <a:lnTo>
                  <a:pt x="1358" y="2183"/>
                </a:lnTo>
                <a:lnTo>
                  <a:pt x="1186" y="2143"/>
                </a:lnTo>
                <a:lnTo>
                  <a:pt x="982" y="2059"/>
                </a:lnTo>
                <a:lnTo>
                  <a:pt x="822" y="1987"/>
                </a:lnTo>
                <a:lnTo>
                  <a:pt x="610" y="1859"/>
                </a:lnTo>
                <a:lnTo>
                  <a:pt x="423" y="1692"/>
                </a:lnTo>
                <a:lnTo>
                  <a:pt x="282" y="1569"/>
                </a:lnTo>
                <a:lnTo>
                  <a:pt x="138" y="1449"/>
                </a:lnTo>
                <a:lnTo>
                  <a:pt x="54" y="1365"/>
                </a:lnTo>
                <a:lnTo>
                  <a:pt x="0" y="903"/>
                </a:lnTo>
                <a:lnTo>
                  <a:pt x="84" y="651"/>
                </a:lnTo>
                <a:lnTo>
                  <a:pt x="165" y="426"/>
                </a:lnTo>
                <a:lnTo>
                  <a:pt x="273" y="318"/>
                </a:lnTo>
                <a:lnTo>
                  <a:pt x="432" y="180"/>
                </a:lnTo>
                <a:lnTo>
                  <a:pt x="597" y="60"/>
                </a:lnTo>
                <a:close/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78040" y="4332240"/>
            <a:ext cx="1600920" cy="15721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H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Pro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Bou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851040"/>
            <a:ext cx="2209680" cy="515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39880" y="4343400"/>
            <a:ext cx="1282680" cy="102888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488" y="0"/>
                </a:moveTo>
                <a:lnTo>
                  <a:pt x="808" y="176"/>
                </a:lnTo>
                <a:lnTo>
                  <a:pt x="280" y="648"/>
                </a:lnTo>
                <a:lnTo>
                  <a:pt x="0" y="184"/>
                </a:lnTo>
                <a:lnTo>
                  <a:pt x="48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30120" y="3720960"/>
            <a:ext cx="2286000" cy="2034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851040"/>
            <a:ext cx="419400" cy="516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5240" y="914400"/>
            <a:ext cx="469800" cy="5067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2440" y="3975120"/>
            <a:ext cx="1574640" cy="482760"/>
          </a:xfrm>
          <a:prstGeom prst="wedgeRectCallout">
            <a:avLst>
              <a:gd name="adj1" fmla="val -66328"/>
              <a:gd name="adj2" fmla="val -23355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4N170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87320" y="1003320"/>
            <a:ext cx="1575000" cy="482760"/>
          </a:xfrm>
          <a:prstGeom prst="wedgeRectCallout">
            <a:avLst>
              <a:gd name="adj1" fmla="val -80847"/>
              <a:gd name="adj2" fmla="val 12434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7N170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1200" y="1879560"/>
            <a:ext cx="114480" cy="1193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560" y="24782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0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2040" y="4573440"/>
            <a:ext cx="2129760" cy="1015920"/>
          </a:xfrm>
          <a:prstGeom prst="rect">
            <a:avLst/>
          </a:prstGeom>
          <a:solidFill>
            <a:srgbClr val="dddddd">
              <a:alpha val="45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Current Tra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84520" y="157320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16240" y="162252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59120" y="190332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38360" y="1719360"/>
            <a:ext cx="1081080" cy="2214360"/>
          </a:xfrm>
          <a:custGeom>
            <a:avLst/>
            <a:gdLst/>
            <a:ahLst/>
            <a:rect l="l" t="t" r="r" b="b"/>
            <a:pathLst>
              <a:path w="681" h="1395">
                <a:moveTo>
                  <a:pt x="681" y="27"/>
                </a:moveTo>
                <a:lnTo>
                  <a:pt x="651" y="0"/>
                </a:lnTo>
                <a:lnTo>
                  <a:pt x="480" y="78"/>
                </a:lnTo>
                <a:lnTo>
                  <a:pt x="456" y="66"/>
                </a:lnTo>
                <a:lnTo>
                  <a:pt x="318" y="216"/>
                </a:lnTo>
                <a:lnTo>
                  <a:pt x="276" y="198"/>
                </a:lnTo>
                <a:lnTo>
                  <a:pt x="177" y="387"/>
                </a:lnTo>
                <a:lnTo>
                  <a:pt x="126" y="378"/>
                </a:lnTo>
                <a:lnTo>
                  <a:pt x="90" y="588"/>
                </a:lnTo>
                <a:lnTo>
                  <a:pt x="36" y="582"/>
                </a:lnTo>
                <a:lnTo>
                  <a:pt x="39" y="816"/>
                </a:lnTo>
                <a:lnTo>
                  <a:pt x="9" y="816"/>
                </a:lnTo>
                <a:lnTo>
                  <a:pt x="45" y="1056"/>
                </a:lnTo>
                <a:lnTo>
                  <a:pt x="0" y="1056"/>
                </a:lnTo>
                <a:lnTo>
                  <a:pt x="99" y="1260"/>
                </a:lnTo>
                <a:lnTo>
                  <a:pt x="63" y="1272"/>
                </a:lnTo>
                <a:lnTo>
                  <a:pt x="135" y="1395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38360" y="220824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25680" y="256860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0" y="293544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43240" y="330516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56040" y="2128680"/>
            <a:ext cx="3076200" cy="1015920"/>
          </a:xfrm>
          <a:prstGeom prst="rect">
            <a:avLst/>
          </a:prstGeom>
          <a:solidFill>
            <a:srgbClr val="dddddd">
              <a:alpha val="45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Proposed Waypoi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&amp; Track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3080" y="2692440"/>
            <a:ext cx="2844720" cy="665280"/>
          </a:xfrm>
          <a:custGeom>
            <a:avLst/>
            <a:gdLst/>
            <a:ahLst/>
            <a:rect l="l" t="t" r="r" b="b"/>
            <a:pathLst>
              <a:path w="1792" h="419">
                <a:moveTo>
                  <a:pt x="0" y="248"/>
                </a:moveTo>
                <a:lnTo>
                  <a:pt x="1287" y="419"/>
                </a:lnTo>
                <a:lnTo>
                  <a:pt x="1792" y="416"/>
                </a:lnTo>
                <a:lnTo>
                  <a:pt x="1248" y="185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1866960"/>
            <a:ext cx="2577960" cy="1523880"/>
          </a:xfrm>
          <a:custGeom>
            <a:avLst/>
            <a:gdLst/>
            <a:ahLst/>
            <a:rect l="l" t="t" r="r" b="b"/>
            <a:pathLst>
              <a:path w="1624" h="960">
                <a:moveTo>
                  <a:pt x="80" y="776"/>
                </a:moveTo>
                <a:lnTo>
                  <a:pt x="1624" y="96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20:32:53Z</dcterms:created>
  <dc:creator>MTONEY</dc:creator>
  <dc:description/>
  <dc:language>en-US</dc:language>
  <cp:lastModifiedBy>Braks Etta</cp:lastModifiedBy>
  <dcterms:modified xsi:type="dcterms:W3CDTF">2007-10-29T13:09:45Z</dcterms:modified>
  <cp:revision>340</cp:revision>
  <dc:subject/>
  <dc:title>PowerPoint Presentation</dc:title>
</cp:coreProperties>
</file>