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00516B9-8DE0-47AE-9D52-F13F4F98E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4FBF6C4-FB54-4343-B35F-D529626BA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86900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6900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3920" bIns="4392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akland Center controls 18.7 Million square miles of airspa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Oceanic area has 8 oceanic sector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tors 1,2,4,7 control the northern portion of our airspace, and sectors 3,5,6,9 control to the sout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oking at the map and starting with ZOA ***Click Mouse**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king clockwise you can see the adjacent facili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**Click Mouse as you say each facility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s Angeles, Mexico, Tahiti, Auckland, Nadi, Nauru FL 245 and below, Honiara, Port Moresby, Ujung Pandang, Manila, Naha, Tokyo, Anchorage, Vancouver, and Seattl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63C9F3C-C926-4800-996D-DAF81F25B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596C-9DF3-4B8C-BDC7-BC656DAE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F209-1CB1-450C-872C-6F2B491F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50E-C87F-4AAF-A519-E453C8C6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EA2-ED08-4DBE-BB5A-0EC994BA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B94-612E-44F4-8B50-AAE8B559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7AC-2053-46E5-B000-DF5E1AA0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EFD-4BBC-4BEF-AACC-FD8A2E4C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B5A1-E6C8-495A-A506-CC133298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5569-E7FE-46C8-A021-869E6793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B61-4388-4612-8EF9-6B325C93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F12-44DD-4335-B6DB-C52D448C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672-CA4A-4082-A6BE-7F15E70C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3847-F546-411A-895A-06B7423944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56CE-AF1D-431B-8542-607D95696E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441360" y="649908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November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82760" y="6134040"/>
            <a:ext cx="49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INFORMAL PACIFIC ATC CO-ORDINATING GROUP (IPACG/2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ksn.faa.gov/km/atop/ato-td/picture/Library%201/va%20logo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bbt.be/images/interview/052004/SAS_Logo2.jpg&amp;imgrefurl=http://www.bbt.be/Library/interviews/interview052004.cfm&amp;h=150&amp;w=150&amp;sz=5&amp;hl=en&amp;start=0&amp;sig2=KLko1d1XU-RtBVqJQ0G8OA&amp;tbnid=TBFZ97UoDRCu3M:&amp;tbnh=96&amp;tbnw=96&amp;ei=qkqvRonZC5Gu0QTovaXECA&amp;prev=/images%3Fq%3DSAS%2Blogo%26gbv%3D2%26svnum%3D10%26hl%3De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s://ksn.faa.gov/km/atop/ato-td/picture/Library%201/lfvtransp.gif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s://ksn.faa.gov/km/atop/ato-td/picture/Library%201/UPS%20logo.jpg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s://ksn.faa.gov/km/atop/ato-td/picture/Library%201/airbus.jpg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s://ksn.faa.gov/km/atop/ato-td/picture/Library%201/fedex%20logo.jpg" TargetMode="External"/><Relationship Id="rId12" Type="http://schemas.openxmlformats.org/officeDocument/2006/relationships/image" Target="../media/image15.jpeg"/><Relationship Id="rId13" Type="http://schemas.openxmlformats.org/officeDocument/2006/relationships/hyperlink" Target="https://ksn.faa.gov/km/atop/ato-td/picture/Library%201/Boeing%20Logo1.jpg" TargetMode="External"/><Relationship Id="rId14" Type="http://schemas.openxmlformats.org/officeDocument/2006/relationships/image" Target="../media/image16.jpeg"/><Relationship Id="rId15" Type="http://schemas.openxmlformats.org/officeDocument/2006/relationships/hyperlink" Target="https://ksn.faa.gov/km/atop/ato-td/picture/Library%201/airfrance%20logo.jpg" TargetMode="External"/><Relationship Id="rId16" Type="http://schemas.openxmlformats.org/officeDocument/2006/relationships/image" Target="../media/image17.jpeg"/><Relationship Id="rId17" Type="http://schemas.openxmlformats.org/officeDocument/2006/relationships/hyperlink" Target="https://ksn.faa.gov/km/atop/ato-td/picture/Library%201/delta%20logo.jpg" TargetMode="External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5280" y="4726080"/>
            <a:ext cx="53262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ed by The United Stat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vember, 2007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artnerships for Increasing Efficiency and Reducing Greenhouse Gas Emissions in Aviation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 flipH="1" flipV="1">
            <a:off x="1980360" y="2310840"/>
            <a:ext cx="2630520" cy="685800"/>
          </a:xfrm>
          <a:prstGeom prst="rtTriangle">
            <a:avLst/>
          </a:prstGeom>
          <a:solidFill>
            <a:srgbClr val="97f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401328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eanic Trajectory Management 4D– In-Flight Evalu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-1259280" y="3467160"/>
            <a:ext cx="32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laborative ATM/Trajectory Based Ope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0440" y="878040"/>
            <a:ext cx="0" cy="4011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241520" y="879480"/>
            <a:ext cx="11160" cy="40100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878040"/>
            <a:ext cx="12600" cy="407340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93760" y="3838680"/>
            <a:ext cx="7950240" cy="13968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00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03320" y="3784680"/>
            <a:ext cx="317520" cy="28260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04920" y="878040"/>
            <a:ext cx="8839080" cy="319680"/>
            <a:chOff x="304920" y="878040"/>
            <a:chExt cx="8839080" cy="319680"/>
          </a:xfrm>
        </p:grpSpPr>
        <p:sp>
          <p:nvSpPr>
            <p:cNvPr id="169" name=""/>
            <p:cNvSpPr/>
            <p:nvPr/>
          </p:nvSpPr>
          <p:spPr>
            <a:xfrm>
              <a:off x="304920" y="89064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11560" y="8888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20960" y="88740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4120" y="8906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66040" y="8780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48720" y="8780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143000" y="2921040"/>
            <a:ext cx="8001000" cy="16524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00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857680"/>
            <a:ext cx="317520" cy="2822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2857680"/>
            <a:ext cx="216000" cy="2952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3146400"/>
            <a:ext cx="303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 Dept OTM4-D Global Harmon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2374920"/>
            <a:ext cx="160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TS+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19200" y="2344680"/>
            <a:ext cx="243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b Enabled Collaborative Trajectory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2174760"/>
            <a:ext cx="3441600" cy="13968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00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2095560"/>
            <a:ext cx="317520" cy="28260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095560"/>
            <a:ext cx="216000" cy="2952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2095560"/>
            <a:ext cx="216000" cy="2952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70800" y="3784680"/>
            <a:ext cx="216000" cy="2952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29280" y="4813200"/>
            <a:ext cx="289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eanic Trajectory Managed Airspace and Oceanic Autonomous Airs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61040" y="4651200"/>
            <a:ext cx="4782960" cy="16524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00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16320" y="4584600"/>
            <a:ext cx="317520" cy="28260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70800" y="4584600"/>
            <a:ext cx="216000" cy="2952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24680" y="4889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-Ops Deliv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7480" y="76320"/>
            <a:ext cx="89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AIRE Oceanic and NextGen Oceanic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1400" y="1587600"/>
            <a:ext cx="17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S In-Trail Proced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7720" y="1536840"/>
            <a:ext cx="135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S-B ITP Ops Tri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92240" y="1397160"/>
            <a:ext cx="8051760" cy="13968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00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77760" y="1320840"/>
            <a:ext cx="317520" cy="28260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81360" y="1308240"/>
            <a:ext cx="216000" cy="2952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36760" y="1536840"/>
            <a:ext cx="1117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S-C ITP Ops Tri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08760" y="1308240"/>
            <a:ext cx="216000" cy="2952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27800" y="1536840"/>
            <a:ext cx="17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S-B Pair-Wise Maneu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89120" y="2327400"/>
            <a:ext cx="82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tion with OTM4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03720" y="315288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cific Ops Tri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53560" y="4068720"/>
            <a:ext cx="105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gin Ops Tri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30400" y="2997360"/>
            <a:ext cx="1841400" cy="16891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38360" y="3524400"/>
            <a:ext cx="82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RE Proof of Concep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2440" y="3098880"/>
            <a:ext cx="3035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aborative Pre-Departure Oceanic Trajectory Management-4D (Pre-Dept OTM4-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4960" y="853920"/>
            <a:ext cx="83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0120" y="860400"/>
            <a:ext cx="12600" cy="407340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49880" y="853920"/>
            <a:ext cx="12600" cy="36356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858-9AF9-49AE-815A-56BAAF9346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61440" y="16164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AIRE Oceanic Summary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16000" y="1231560"/>
            <a:ext cx="829944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IRE – Oceanic demo i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of of concep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ion within the overall Oceanic Trajectory Based Operations development program of Oceanic Trajectory Management 4D (OTM-4D): In-Flig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IRE demonstration is intended to exercise oceanic OTM-4D concepts in a limited operational trial, to evaluate fuel savings and emissions reduction potential on participating trans-Atlantic f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optimization processes and coordination sequences from the OTM-4D: In-Flight concept will be conducted manually during the AIRE Oceanic Demonst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A0E-7DDE-43DD-BFC3-C4BF179652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667560" y="0"/>
            <a:ext cx="247644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914400"/>
            <a:ext cx="655344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77145" t="31104" r="0" b="32613"/>
          <a:stretch/>
        </p:blipFill>
        <p:spPr>
          <a:xfrm>
            <a:off x="2438280" y="914400"/>
            <a:ext cx="4572000" cy="4648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rcRect l="0" t="35540" r="87698" b="28119"/>
          <a:stretch/>
        </p:blipFill>
        <p:spPr>
          <a:xfrm>
            <a:off x="6534000" y="914400"/>
            <a:ext cx="2457720" cy="464832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85680" y="162000"/>
            <a:ext cx="2143080" cy="685800"/>
            <a:chOff x="85680" y="162000"/>
            <a:chExt cx="2143080" cy="685800"/>
          </a:xfrm>
        </p:grpSpPr>
        <p:sp>
          <p:nvSpPr>
            <p:cNvPr id="216" name=""/>
            <p:cNvSpPr/>
            <p:nvPr/>
          </p:nvSpPr>
          <p:spPr>
            <a:xfrm>
              <a:off x="476280" y="1620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ircraft on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-Optim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ight pro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5680" y="304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5680" y="971640"/>
            <a:ext cx="2143080" cy="685800"/>
            <a:chOff x="85680" y="971640"/>
            <a:chExt cx="2143080" cy="685800"/>
          </a:xfrm>
        </p:grpSpPr>
        <p:sp>
          <p:nvSpPr>
            <p:cNvPr id="219" name=""/>
            <p:cNvSpPr/>
            <p:nvPr/>
          </p:nvSpPr>
          <p:spPr>
            <a:xfrm>
              <a:off x="476280" y="97164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timization Too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alculates profil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n updated condi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5680" y="11145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85680" y="1771560"/>
            <a:ext cx="2143080" cy="685800"/>
            <a:chOff x="85680" y="1771560"/>
            <a:chExt cx="2143080" cy="685800"/>
          </a:xfrm>
        </p:grpSpPr>
        <p:sp>
          <p:nvSpPr>
            <p:cNvPr id="222" name=""/>
            <p:cNvSpPr/>
            <p:nvPr/>
          </p:nvSpPr>
          <p:spPr>
            <a:xfrm>
              <a:off x="476280" y="177156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ceanic Coordin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il prob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proved traject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5680" y="1928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9080" y="2571840"/>
            <a:ext cx="2209680" cy="761760"/>
            <a:chOff x="19080" y="2571840"/>
            <a:chExt cx="2209680" cy="761760"/>
          </a:xfrm>
        </p:grpSpPr>
        <p:sp>
          <p:nvSpPr>
            <p:cNvPr id="225" name=""/>
            <p:cNvSpPr/>
            <p:nvPr/>
          </p:nvSpPr>
          <p:spPr>
            <a:xfrm>
              <a:off x="476280" y="2571840"/>
              <a:ext cx="1752480" cy="761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ofile Available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ordinator se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w profile t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roller for clear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80" y="27478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0" y="3448080"/>
            <a:ext cx="2238480" cy="762120"/>
            <a:chOff x="0" y="3448080"/>
            <a:chExt cx="2238480" cy="762120"/>
          </a:xfrm>
        </p:grpSpPr>
        <p:sp>
          <p:nvSpPr>
            <p:cNvPr id="228" name=""/>
            <p:cNvSpPr/>
            <p:nvPr/>
          </p:nvSpPr>
          <p:spPr>
            <a:xfrm>
              <a:off x="485640" y="3448080"/>
              <a:ext cx="175284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ofile Not Available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ordinator tri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bes alternativ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peed, Altitude, Rout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0" y="36529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6320" y="4314960"/>
            <a:ext cx="2152440" cy="761760"/>
            <a:chOff x="76320" y="4314960"/>
            <a:chExt cx="2152440" cy="761760"/>
          </a:xfrm>
        </p:grpSpPr>
        <p:sp>
          <p:nvSpPr>
            <p:cNvPr id="231" name=""/>
            <p:cNvSpPr/>
            <p:nvPr/>
          </p:nvSpPr>
          <p:spPr>
            <a:xfrm>
              <a:off x="476280" y="4314960"/>
              <a:ext cx="1752480" cy="761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ternative profile sen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Flight Oper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 assess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320" y="45194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6600" y="5181480"/>
            <a:ext cx="2162160" cy="762120"/>
            <a:chOff x="66600" y="5181480"/>
            <a:chExt cx="2162160" cy="762120"/>
          </a:xfrm>
        </p:grpSpPr>
        <p:sp>
          <p:nvSpPr>
            <p:cNvPr id="234" name=""/>
            <p:cNvSpPr/>
            <p:nvPr/>
          </p:nvSpPr>
          <p:spPr>
            <a:xfrm>
              <a:off x="476280" y="5181480"/>
              <a:ext cx="175248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f alternative profile 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ceptable it is s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ATC for clear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600" y="5357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162240" y="5626080"/>
            <a:ext cx="57657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2f68"/>
                </a:solidFill>
                <a:latin typeface="Arial"/>
              </a:rPr>
              <a:t>Sequences repeat at frequent interval (e.g. every 30 minu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386160" y="3257640"/>
            <a:ext cx="3090960" cy="1635120"/>
            <a:chOff x="3386160" y="3257640"/>
            <a:chExt cx="3090960" cy="1635120"/>
          </a:xfrm>
        </p:grpSpPr>
        <p:sp>
          <p:nvSpPr>
            <p:cNvPr id="238" name=""/>
            <p:cNvSpPr/>
            <p:nvPr/>
          </p:nvSpPr>
          <p:spPr>
            <a:xfrm>
              <a:off x="5217840" y="3257640"/>
              <a:ext cx="1259280" cy="1635120"/>
            </a:xfrm>
            <a:custGeom>
              <a:avLst/>
              <a:gdLst/>
              <a:ahLst/>
              <a:rect l="l" t="t" r="r" b="b"/>
              <a:pathLst>
                <a:path w="1584" h="2112">
                  <a:moveTo>
                    <a:pt x="0" y="0"/>
                  </a:moveTo>
                  <a:lnTo>
                    <a:pt x="48" y="1728"/>
                  </a:lnTo>
                  <a:lnTo>
                    <a:pt x="144" y="2112"/>
                  </a:lnTo>
                  <a:lnTo>
                    <a:pt x="1056" y="1488"/>
                  </a:lnTo>
                  <a:lnTo>
                    <a:pt x="1056" y="864"/>
                  </a:lnTo>
                  <a:lnTo>
                    <a:pt x="1296" y="864"/>
                  </a:lnTo>
                  <a:lnTo>
                    <a:pt x="1392" y="720"/>
                  </a:lnTo>
                  <a:lnTo>
                    <a:pt x="1392" y="528"/>
                  </a:lnTo>
                  <a:lnTo>
                    <a:pt x="1488" y="480"/>
                  </a:lnTo>
                  <a:lnTo>
                    <a:pt x="1488" y="240"/>
                  </a:lnTo>
                  <a:lnTo>
                    <a:pt x="1536" y="192"/>
                  </a:lnTo>
                  <a:lnTo>
                    <a:pt x="15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86160" y="3257640"/>
              <a:ext cx="1869840" cy="1523520"/>
            </a:xfrm>
            <a:custGeom>
              <a:avLst/>
              <a:gdLst/>
              <a:ahLst/>
              <a:rect l="l" t="t" r="r" b="b"/>
              <a:pathLst>
                <a:path w="2352" h="1968">
                  <a:moveTo>
                    <a:pt x="2352" y="1728"/>
                  </a:moveTo>
                  <a:lnTo>
                    <a:pt x="1920" y="1968"/>
                  </a:lnTo>
                  <a:lnTo>
                    <a:pt x="1104" y="1968"/>
                  </a:lnTo>
                  <a:lnTo>
                    <a:pt x="768" y="1872"/>
                  </a:lnTo>
                  <a:lnTo>
                    <a:pt x="528" y="1872"/>
                  </a:lnTo>
                  <a:lnTo>
                    <a:pt x="48" y="1680"/>
                  </a:lnTo>
                  <a:lnTo>
                    <a:pt x="0" y="1200"/>
                  </a:lnTo>
                  <a:lnTo>
                    <a:pt x="384" y="960"/>
                  </a:lnTo>
                  <a:lnTo>
                    <a:pt x="384" y="768"/>
                  </a:lnTo>
                  <a:lnTo>
                    <a:pt x="720" y="528"/>
                  </a:lnTo>
                  <a:lnTo>
                    <a:pt x="720" y="336"/>
                  </a:lnTo>
                  <a:lnTo>
                    <a:pt x="864" y="240"/>
                  </a:lnTo>
                  <a:lnTo>
                    <a:pt x="912" y="336"/>
                  </a:lnTo>
                  <a:lnTo>
                    <a:pt x="1440" y="240"/>
                  </a:lnTo>
                  <a:lnTo>
                    <a:pt x="1872" y="0"/>
                  </a:lnTo>
                  <a:lnTo>
                    <a:pt x="2304" y="0"/>
                  </a:lnTo>
                  <a:lnTo>
                    <a:pt x="2352" y="172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362400" y="4324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84720" y="3211560"/>
            <a:ext cx="4055760" cy="1144440"/>
          </a:xfrm>
          <a:custGeom>
            <a:avLst/>
            <a:gdLst/>
            <a:ahLst/>
            <a:rect l="l" t="t" r="r" b="b"/>
            <a:pathLst>
              <a:path w="1776" h="528">
                <a:moveTo>
                  <a:pt x="1776" y="0"/>
                </a:moveTo>
                <a:cubicBezTo>
                  <a:pt x="1300" y="100"/>
                  <a:pt x="824" y="200"/>
                  <a:pt x="528" y="288"/>
                </a:cubicBezTo>
                <a:cubicBezTo>
                  <a:pt x="232" y="376"/>
                  <a:pt x="116" y="452"/>
                  <a:pt x="0" y="52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14880" y="3505320"/>
            <a:ext cx="2895480" cy="1066680"/>
          </a:xfrm>
          <a:custGeom>
            <a:avLst/>
            <a:gdLst/>
            <a:ahLst/>
            <a:rect l="l" t="t" r="r" b="b"/>
            <a:pathLst>
              <a:path w="1152" h="448">
                <a:moveTo>
                  <a:pt x="1152" y="0"/>
                </a:moveTo>
                <a:cubicBezTo>
                  <a:pt x="792" y="160"/>
                  <a:pt x="432" y="320"/>
                  <a:pt x="240" y="384"/>
                </a:cubicBezTo>
                <a:cubicBezTo>
                  <a:pt x="48" y="448"/>
                  <a:pt x="24" y="416"/>
                  <a:pt x="0" y="384"/>
                </a:cubicBezTo>
              </a:path>
            </a:pathLst>
          </a:custGeom>
          <a:noFill/>
          <a:ln w="28440">
            <a:solidFill>
              <a:srgbClr val="66ff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314520" y="3495600"/>
            <a:ext cx="2819160" cy="924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408800" y="3157560"/>
            <a:ext cx="136440" cy="136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97720" y="30765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48000" y="923760"/>
            <a:ext cx="6553080" cy="4648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734080" y="2124000"/>
            <a:ext cx="876240" cy="1218960"/>
            <a:chOff x="5734080" y="2124000"/>
            <a:chExt cx="876240" cy="1218960"/>
          </a:xfrm>
        </p:grpSpPr>
        <p:sp>
          <p:nvSpPr>
            <p:cNvPr id="248" name=""/>
            <p:cNvSpPr/>
            <p:nvPr/>
          </p:nvSpPr>
          <p:spPr>
            <a:xfrm>
              <a:off x="5734080" y="2124000"/>
              <a:ext cx="876240" cy="72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ircraft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 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ch 0.8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07120" y="2847600"/>
              <a:ext cx="25092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78240" y="101520"/>
            <a:ext cx="5384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AIRE – Oceanic Demonstration Concept 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314880" y="3505320"/>
            <a:ext cx="2895480" cy="1066680"/>
          </a:xfrm>
          <a:custGeom>
            <a:avLst/>
            <a:gdLst/>
            <a:ahLst/>
            <a:rect l="l" t="t" r="r" b="b"/>
            <a:pathLst>
              <a:path w="1152" h="448">
                <a:moveTo>
                  <a:pt x="1152" y="0"/>
                </a:moveTo>
                <a:cubicBezTo>
                  <a:pt x="792" y="160"/>
                  <a:pt x="432" y="320"/>
                  <a:pt x="240" y="384"/>
                </a:cubicBezTo>
                <a:cubicBezTo>
                  <a:pt x="48" y="448"/>
                  <a:pt x="24" y="416"/>
                  <a:pt x="0" y="384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14880" y="3505320"/>
            <a:ext cx="2895480" cy="1066680"/>
          </a:xfrm>
          <a:custGeom>
            <a:avLst/>
            <a:gdLst/>
            <a:ahLst/>
            <a:rect l="l" t="t" r="r" b="b"/>
            <a:pathLst>
              <a:path w="1152" h="448">
                <a:moveTo>
                  <a:pt x="1152" y="0"/>
                </a:moveTo>
                <a:cubicBezTo>
                  <a:pt x="792" y="160"/>
                  <a:pt x="432" y="320"/>
                  <a:pt x="240" y="384"/>
                </a:cubicBezTo>
                <a:cubicBezTo>
                  <a:pt x="48" y="448"/>
                  <a:pt x="24" y="416"/>
                  <a:pt x="0" y="38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314520" y="3495600"/>
            <a:ext cx="2819160" cy="924120"/>
          </a:xfrm>
          <a:prstGeom prst="line">
            <a:avLst/>
          </a:prstGeom>
          <a:ln w="2844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44680" y="4354560"/>
            <a:ext cx="136800" cy="136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 rot="20842200">
            <a:off x="7162920" y="2980800"/>
            <a:ext cx="888840" cy="432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 flipH="1">
            <a:off x="2298600" y="2692440"/>
            <a:ext cx="812880" cy="3238560"/>
          </a:xfrm>
          <a:custGeom>
            <a:avLst/>
            <a:gdLst>
              <a:gd name="textAreaLeft" fmla="*/ 360 w 812880"/>
              <a:gd name="textAreaRight" fmla="*/ 813600 w 812880"/>
              <a:gd name="textAreaTop" fmla="*/ 0 h 3238560"/>
              <a:gd name="textAreaBottom" fmla="*/ 3238920 h 323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1d2f68"/>
            </a:solidFill>
            <a:miter/>
          </a:ln>
          <a:effectLst>
            <a:outerShdw dist="107932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1571400" y="3998880"/>
            <a:ext cx="232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2f68"/>
                </a:solidFill>
                <a:latin typeface="Arial"/>
              </a:rPr>
              <a:t>Coordination and Clearance 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286000" y="165240"/>
            <a:ext cx="812880" cy="2361960"/>
          </a:xfrm>
          <a:custGeom>
            <a:avLst/>
            <a:gdLst>
              <a:gd name="textAreaLeft" fmla="*/ 360 w 812880"/>
              <a:gd name="textAreaRight" fmla="*/ 813600 w 812880"/>
              <a:gd name="textAreaTop" fmla="*/ 0 h 2361960"/>
              <a:gd name="textAreaBottom" fmla="*/ 236232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1d2f68"/>
            </a:solidFill>
            <a:miter/>
          </a:ln>
          <a:effectLst>
            <a:outerShdw dist="107932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1584000" y="1114560"/>
            <a:ext cx="232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2f68"/>
                </a:solidFill>
                <a:latin typeface="Arial"/>
              </a:rPr>
              <a:t>Optimization 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FEC-D9C7-48EE-944B-D3DFB8574B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75804E-007 L -0.12361 0.03377 E">
                                      <p:cBhvr>
                                        <p:cTn id="26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228600"/>
            <a:ext cx="847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AIRE Partners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09480" y="961920"/>
            <a:ext cx="8305920" cy="3610080"/>
            <a:chOff x="609480" y="961920"/>
            <a:chExt cx="8305920" cy="3610080"/>
          </a:xfrm>
        </p:grpSpPr>
        <p:pic>
          <p:nvPicPr>
            <p:cNvPr id="262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019920" y="961920"/>
              <a:ext cx="289548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09480" y="350532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4" name=""/>
          <p:cNvGrpSpPr/>
          <p:nvPr/>
        </p:nvGrpSpPr>
        <p:grpSpPr>
          <a:xfrm>
            <a:off x="762120" y="1380960"/>
            <a:ext cx="7772400" cy="2428920"/>
            <a:chOff x="762120" y="1380960"/>
            <a:chExt cx="7772400" cy="2428920"/>
          </a:xfrm>
        </p:grpSpPr>
        <p:pic>
          <p:nvPicPr>
            <p:cNvPr id="265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762120" y="2057400"/>
              <a:ext cx="2286000" cy="1022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6" name=""/>
            <p:cNvGrpSpPr/>
            <p:nvPr/>
          </p:nvGrpSpPr>
          <p:grpSpPr>
            <a:xfrm>
              <a:off x="3638520" y="1380960"/>
              <a:ext cx="4896000" cy="2428920"/>
              <a:chOff x="3638520" y="1380960"/>
              <a:chExt cx="4896000" cy="2428920"/>
            </a:xfrm>
          </p:grpSpPr>
          <p:pic>
            <p:nvPicPr>
              <p:cNvPr id="267" name="" descr="">
                <a:hlinkClick r:id="rId7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3638520" y="1380960"/>
                <a:ext cx="857160" cy="98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" descr="">
                <a:hlinkClick r:id="rId9"/>
              </p:cNvPr>
              <p:cNvPicPr/>
              <p:nvPr/>
            </p:nvPicPr>
            <p:blipFill>
              <a:blip r:embed="rId10"/>
              <a:stretch/>
            </p:blipFill>
            <p:spPr>
              <a:xfrm>
                <a:off x="5715000" y="3228840"/>
                <a:ext cx="2819520" cy="581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9" name=""/>
          <p:cNvGrpSpPr/>
          <p:nvPr/>
        </p:nvGrpSpPr>
        <p:grpSpPr>
          <a:xfrm>
            <a:off x="2286000" y="1754280"/>
            <a:ext cx="5410080" cy="2665440"/>
            <a:chOff x="2286000" y="1754280"/>
            <a:chExt cx="5410080" cy="2665440"/>
          </a:xfrm>
        </p:grpSpPr>
        <p:pic>
          <p:nvPicPr>
            <p:cNvPr id="270" name="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2286000" y="3776760"/>
              <a:ext cx="220968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4876920" y="1754280"/>
              <a:ext cx="2819160" cy="60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"/>
          <p:cNvGrpSpPr/>
          <p:nvPr/>
        </p:nvGrpSpPr>
        <p:grpSpPr>
          <a:xfrm>
            <a:off x="2971800" y="2378160"/>
            <a:ext cx="6019920" cy="3489120"/>
            <a:chOff x="2971800" y="2378160"/>
            <a:chExt cx="6019920" cy="3489120"/>
          </a:xfrm>
        </p:grpSpPr>
        <p:pic>
          <p:nvPicPr>
            <p:cNvPr id="273" name="" descr="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5715000" y="3916440"/>
              <a:ext cx="327672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5486400" y="2378160"/>
              <a:ext cx="266688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9"/>
            <a:stretch/>
          </p:blipFill>
          <p:spPr>
            <a:xfrm>
              <a:off x="2971800" y="4800600"/>
              <a:ext cx="106668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6" name=""/>
          <p:cNvGrpSpPr/>
          <p:nvPr/>
        </p:nvGrpSpPr>
        <p:grpSpPr>
          <a:xfrm>
            <a:off x="380880" y="2514600"/>
            <a:ext cx="8610840" cy="3249720"/>
            <a:chOff x="380880" y="2514600"/>
            <a:chExt cx="8610840" cy="3249720"/>
          </a:xfrm>
        </p:grpSpPr>
        <p:pic>
          <p:nvPicPr>
            <p:cNvPr id="277" name="" descr=""/>
            <p:cNvPicPr/>
            <p:nvPr/>
          </p:nvPicPr>
          <p:blipFill>
            <a:blip r:embed="rId20"/>
            <a:stretch/>
          </p:blipFill>
          <p:spPr>
            <a:xfrm>
              <a:off x="3048120" y="2514600"/>
              <a:ext cx="213336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1"/>
            <a:stretch/>
          </p:blipFill>
          <p:spPr>
            <a:xfrm>
              <a:off x="380880" y="4800600"/>
              <a:ext cx="2210040" cy="9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22"/>
            <a:stretch/>
          </p:blipFill>
          <p:spPr>
            <a:xfrm>
              <a:off x="6181560" y="4876920"/>
              <a:ext cx="281016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"/>
          <p:cNvGrpSpPr/>
          <p:nvPr/>
        </p:nvGrpSpPr>
        <p:grpSpPr>
          <a:xfrm>
            <a:off x="380880" y="1219320"/>
            <a:ext cx="5639040" cy="4724280"/>
            <a:chOff x="380880" y="1219320"/>
            <a:chExt cx="5639040" cy="4724280"/>
          </a:xfrm>
        </p:grpSpPr>
        <p:pic>
          <p:nvPicPr>
            <p:cNvPr id="281" name="" descr=""/>
            <p:cNvPicPr/>
            <p:nvPr/>
          </p:nvPicPr>
          <p:blipFill>
            <a:blip r:embed="rId23"/>
            <a:stretch/>
          </p:blipFill>
          <p:spPr>
            <a:xfrm>
              <a:off x="4343400" y="4435560"/>
              <a:ext cx="1676520" cy="15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24"/>
            <a:stretch/>
          </p:blipFill>
          <p:spPr>
            <a:xfrm>
              <a:off x="380880" y="1219320"/>
              <a:ext cx="2819520" cy="94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ABAC-A06D-4F94-B773-3B666A79BBC2}" type="slidenum">
              <a:t>13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1066680"/>
            <a:ext cx="9144000" cy="4191120"/>
          </a:xfrm>
          <a:prstGeom prst="rightArrow">
            <a:avLst>
              <a:gd name="adj1" fmla="val 81593"/>
              <a:gd name="adj2" fmla="val 71523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240" y="2133360"/>
            <a:ext cx="8472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cific Partnership Opportunitie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962520"/>
            <a:ext cx="81057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67480" y="3200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8F90-DFCD-4C04-9CA0-CE2CFD4092C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Environmental partnership in the Pacific</a:t>
            </a: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5360" y="1263600"/>
            <a:ext cx="80503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FAA is actively pursuing Trans-Pacific partnerships for   emissions reduct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 Pacific emissions program would offer the opportunity to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1d2f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monstrate end-to-end emissions improvement on some of the longest commercial flights in the worl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1d2f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ke advantage of the numerous progressive technology advancements made in the reg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1d2f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verage existing regional partnerships and fuel burn initiatives already under develop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1d2f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alize full benefits of the sophisticated avionics and datalink capabilities of the Trans-Pacific commercial fle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8A8-B7AE-4477-89B8-A1F6B7839A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Pacific initiatives under developmen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5360" y="1263600"/>
            <a:ext cx="80503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AA, with Pacific ANSP and industry partners, is currently pursuing a number of initiatives with significant potential to reduce carbon emiss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Separation using ADS (30/30, 50/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ific ATS Route Realignment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Preferred Route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Airborne Reroute Programs (DAR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Trans-East flex track t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S-C In-Trail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ic Tailored Arri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ic Trajectory Management 4-D (OTM-4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FB8-DA32-4EE9-9416-88F80EE04E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2640" y="290520"/>
            <a:ext cx="883908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on by the Meeting</a:t>
            </a: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1447920"/>
            <a:ext cx="861048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The meeting is asked to note the progress of regional partnerships on the environment such as AIRE, and developing activities in the South Pacific, a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The meeting is also asked to consider action items to support reduction of greenhouse gas emissions to add to the IPACG work progra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24B-13B3-4441-AE80-E06BC56B3DF9}" type="slidenum">
              <a:t>17</a:t>
            </a:fld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472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lobal Aviation and the Environmen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351080"/>
            <a:ext cx="83199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nited Nations Intergovernmental Panel on Climate Change (IPCC) attributes from 2-3% of global carbon emissions to avi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activity is expected to increase robustly over the next several decad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year 2.2 billion people flew on the world’s airlines, more passengers than ever before, with predictions of nine billion passengers by 202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global aviation continues to grow and become a vital part of the worldwide economy, pressure to address environmental impacts will incre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8B3-8E11-4F58-A434-07E930F196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flipH="1" flipV="1">
            <a:off x="5552640" y="4338360"/>
            <a:ext cx="66600" cy="4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70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ICAO Strategic Objectives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>
            <a:grayscl/>
            <a:lum contrast="24000"/>
          </a:blip>
          <a:stretch/>
        </p:blipFill>
        <p:spPr>
          <a:xfrm>
            <a:off x="1471680" y="1066680"/>
            <a:ext cx="5919840" cy="4842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84040" y="2057400"/>
            <a:ext cx="8493120" cy="25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47760">
              <a:lnSpc>
                <a:spcPct val="100000"/>
              </a:lnSpc>
              <a:spcBef>
                <a:spcPts val="2001"/>
              </a:spcBef>
              <a:buClr>
                <a:srgbClr val="213575"/>
              </a:buClr>
              <a:buFont typeface="Wingdings" charset="2"/>
              <a:buChar char="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Support of ICAO’S Strategic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452520">
              <a:lnSpc>
                <a:spcPct val="100000"/>
              </a:lnSpc>
              <a:spcBef>
                <a:spcPts val="1500"/>
              </a:spcBef>
              <a:buClr>
                <a:srgbClr val="213575"/>
              </a:buClr>
              <a:buFont typeface="Wingdings" charset="2"/>
              <a:buChar char="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ize the adverse effect of Global Civil Avi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452520">
              <a:lnSpc>
                <a:spcPct val="100000"/>
              </a:lnSpc>
              <a:spcBef>
                <a:spcPts val="1500"/>
              </a:spcBef>
              <a:buClr>
                <a:srgbClr val="213575"/>
              </a:buClr>
              <a:buFont typeface="Wingdings" charset="2"/>
              <a:buChar char="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e the efficiency of aviation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A46-C575-440C-A61E-26EAE9841D6F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87D-E3FF-4A0E-A715-1ABB05CD28D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440" y="17604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3575"/>
                </a:solidFill>
                <a:latin typeface="Arial"/>
              </a:rPr>
              <a:t>Introduction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6680" y="811080"/>
            <a:ext cx="443880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E cooperative agreement signed at Paris Air Show in June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Union (E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Commission (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ten development of environmental improvements for all phases of flig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idate improvements with flight trials and demonst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20760" y="5419800"/>
            <a:ext cx="6364440" cy="5731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7080" y="5518080"/>
            <a:ext cx="6170400" cy="398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irline Industry Under Pressure to “Go Gree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3440" y="1262160"/>
            <a:ext cx="4367160" cy="2786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12760" y="4051440"/>
            <a:ext cx="209556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ion C. Blake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A Administ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89160" y="4049640"/>
            <a:ext cx="239868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cques Barro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 Vice President &amp;               EC Transport Commmissio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1120" y="4911840"/>
            <a:ext cx="1452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2B4-586B-40DD-A652-C0500471849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0440" y="936720"/>
            <a:ext cx="363528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spcBef>
                <a:spcPts val="1250"/>
              </a:spcBef>
              <a:buClr>
                <a:srgbClr val="21357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E is part of the NextGen 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1250"/>
              </a:spcBef>
              <a:buClr>
                <a:srgbClr val="21357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al constraints to aviation growth are real and loo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1250"/>
              </a:spcBef>
              <a:buClr>
                <a:srgbClr val="21357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E allows FAA to address near term issues in stepping stone approach and lay the foundation for the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1250"/>
              </a:spcBef>
              <a:buClr>
                <a:srgbClr val="21357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 goal is innovative solutions that offer environmental protection and system effici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400" y="135000"/>
            <a:ext cx="42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3575"/>
                </a:solidFill>
                <a:latin typeface="Arial"/>
                <a:ea typeface="ＭＳ Ｐゴシック"/>
              </a:rPr>
              <a:t>NextGen and 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87720" y="992160"/>
            <a:ext cx="5018040" cy="489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1FCF-1D9B-43A8-A81E-CA2FB12C0C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9840" y="0"/>
            <a:ext cx="8472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AIRE Objective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41960" y="142920"/>
            <a:ext cx="365904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ten development of operational procedures to reduce aviation’s environmental foot print on a “gate-to-gate” ba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fy environmental benefits to aid in formulation of potential business c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lerate incorporation and worldwide interoperability of procedures/stand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ize on existing technology on either side of Atlan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implementation issues, obstacles, choke points, metrics and solutions, working with our European partn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760" y="5526000"/>
            <a:ext cx="8353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owcase FAA “International Leadership” in Environmental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17920" y="828720"/>
            <a:ext cx="176364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04720" y="1560600"/>
            <a:ext cx="4675320" cy="3720960"/>
            <a:chOff x="504720" y="1560600"/>
            <a:chExt cx="4675320" cy="3720960"/>
          </a:xfrm>
        </p:grpSpPr>
        <p:sp>
          <p:nvSpPr>
            <p:cNvPr id="122" name=""/>
            <p:cNvSpPr/>
            <p:nvPr/>
          </p:nvSpPr>
          <p:spPr>
            <a:xfrm>
              <a:off x="504720" y="1560600"/>
              <a:ext cx="4667400" cy="37130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"/>
            <a:srcRect l="77145" t="31104" r="0" b="32613"/>
            <a:stretch/>
          </p:blipFill>
          <p:spPr>
            <a:xfrm>
              <a:off x="504720" y="1560600"/>
              <a:ext cx="3256200" cy="371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rcRect l="0" t="35540" r="87698" b="28119"/>
            <a:stretch/>
          </p:blipFill>
          <p:spPr>
            <a:xfrm>
              <a:off x="3421080" y="1560600"/>
              <a:ext cx="1751040" cy="37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149480" y="417204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55600" y="3386160"/>
              <a:ext cx="2889360" cy="914400"/>
            </a:xfrm>
            <a:custGeom>
              <a:avLst/>
              <a:gdLst/>
              <a:ahLst/>
              <a:rect l="l" t="t" r="r" b="b"/>
              <a:pathLst>
                <a:path w="1776" h="528">
                  <a:moveTo>
                    <a:pt x="1776" y="0"/>
                  </a:moveTo>
                  <a:cubicBezTo>
                    <a:pt x="1300" y="100"/>
                    <a:pt x="824" y="200"/>
                    <a:pt x="528" y="288"/>
                  </a:cubicBezTo>
                  <a:cubicBezTo>
                    <a:pt x="232" y="376"/>
                    <a:pt x="116" y="452"/>
                    <a:pt x="0" y="52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44960" y="3352680"/>
              <a:ext cx="98280" cy="109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1200" y="1566720"/>
              <a:ext cx="4668840" cy="37148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79640" y="4308480"/>
              <a:ext cx="96840" cy="109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 rot="20842200">
              <a:off x="2405160" y="3325680"/>
              <a:ext cx="63324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182960" y="31305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F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482480" y="3386160"/>
              <a:ext cx="1062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33480" y="3772080"/>
              <a:ext cx="96840" cy="10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66920" y="3448080"/>
              <a:ext cx="96840" cy="109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7960" y="3483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5DC1-FFBA-4E20-B560-1D7341DC81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322200" y="1703520"/>
            <a:ext cx="8402400" cy="3928320"/>
            <a:chOff x="322200" y="1703520"/>
            <a:chExt cx="8402400" cy="39283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392040" y="1703520"/>
              <a:ext cx="8332560" cy="33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22200" y="2818080"/>
              <a:ext cx="179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u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51600" y="258300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u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87440" y="2082960"/>
              <a:ext cx="102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EnRo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9600" y="2081520"/>
              <a:ext cx="102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Ocea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73560" y="2090880"/>
              <a:ext cx="102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EnRo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80040" y="2570400"/>
              <a:ext cx="102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Arri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35160" y="2560680"/>
              <a:ext cx="102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epar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143080" y="2541600"/>
              <a:ext cx="7920" cy="20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112920" y="1936800"/>
              <a:ext cx="31680" cy="21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967360" y="1887840"/>
              <a:ext cx="7920" cy="20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7000560" y="2490840"/>
              <a:ext cx="7920" cy="20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98600" y="1900440"/>
              <a:ext cx="5040" cy="19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48000" y="1928880"/>
              <a:ext cx="5040" cy="20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017360" y="4217760"/>
              <a:ext cx="9720" cy="90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389640" y="4151160"/>
              <a:ext cx="0" cy="9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4570200" y="3838320"/>
              <a:ext cx="9720" cy="12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7831080" y="4120920"/>
              <a:ext cx="0" cy="98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1011240" y="5107320"/>
              <a:ext cx="6819840" cy="1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33680" y="5226120"/>
              <a:ext cx="79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03200" y="39960"/>
            <a:ext cx="87408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3600" spc="-1" strike="noStrike">
                <a:solidFill>
                  <a:srgbClr val="213575"/>
                </a:solidFill>
                <a:latin typeface="Arial"/>
              </a:rPr>
              <a:t>AIRE Dom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9945-7081-40F5-80D7-32F1F4CAB38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1120" y="155160"/>
            <a:ext cx="8345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Environmental Approach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85360" y="1231560"/>
            <a:ext cx="792972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IRE domain demonstration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M system enhancements that have shown to offer major environmental benefits as well as improved operational efficienc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AIRE domain technology/technique, statistically significant levels of fuel savings and emission and noise reductions will be quantified for the participating trans-Atlantic fligh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umulative measures will identify the overall potential “gate-to-gate” environmental mitigation possible for trans-Atlantic flight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D6F-60E0-4506-8157-5E1094DF30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MTONEY</dc:creator>
  <dc:description/>
  <dc:language>en-US</dc:language>
  <cp:lastModifiedBy>Braks Etta</cp:lastModifiedBy>
  <dcterms:modified xsi:type="dcterms:W3CDTF">2007-10-30T19:45:56Z</dcterms:modified>
  <cp:revision>274</cp:revision>
  <dc:subject/>
  <dc:title>PowerPoint Presentation</dc:title>
</cp:coreProperties>
</file>