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123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79764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9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123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79764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6040" y="312480"/>
            <a:ext cx="4983120" cy="77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123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79764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9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123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379764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46040" y="312480"/>
            <a:ext cx="4983120" cy="77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49280" y="615960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FIT/16 IP/2, Ops Auth and Aircraft Cert G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AE65-4F66-452D-9295-25E13E1176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5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28 October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48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om.kraft@faa.gov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oin.abulhosn@faa.gov" TargetMode="External"/><Relationship Id="rId2" Type="http://schemas.openxmlformats.org/officeDocument/2006/relationships/hyperlink" Target="mailto:robert.m.tegeder@faa.gov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5680" y="312480"/>
            <a:ext cx="504036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Aircraft certification of data link systems and operational authorization</a:t>
            </a:r>
            <a:br>
              <a:rPr sz="3200"/>
            </a:b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(FIT/16 IP/2)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6040" y="6006960"/>
            <a:ext cx="404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 October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7840" y="3352680"/>
            <a:ext cx="503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4360" indent="-1314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t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l Pacific ATC Co-Ordinating Group (IPACG/29) FANS 1/A Interoperability Team (FIT/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2800" y="4476600"/>
            <a:ext cx="527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m Kraft, Chief Scientific and Technical Advisor for Aeronautical Communications, Aviation Safety, Federal Aviation Administr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: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om.kraft@faa.gov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obile:  +1-202-369-21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49280" y="2438280"/>
            <a:ext cx="5113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Guidance material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FIT/16 conclus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 the information in this pap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this information in the development of the global operational data link document (GOL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standardization of designators for data link equipment and capability for use in flight manuals, OpSpecs, flight plan message, and aeronautical information publications (or equivalen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ct Moin Abulhosn (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oin.abulhosn@faa.g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for more information on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draf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AA AC 20‑140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ct Bob Tegeder (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obert.m.tegeder@faa.g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for more information on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draf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AA N 8000.A056 and the AC 120‑70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Remark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raf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dvisory Circular (AC) 20-140A, Guidelines for Design Approval of Aircraft Data Link Communication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raf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 120-70B, Operational Authorization Process for use of Data Link Communication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T/16 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447920"/>
            <a:ext cx="80470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en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aircraft equi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flight crew training and 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operator maintenance and “user configura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existing regional guidance mater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S 1/A Operations Manual (FOM), para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ance Material for ATS Data Link Servi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North Atlantic Airspace, para 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A guidance material may be useful in developing globally applicable mater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Design approval of aircraft data link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raf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visory Circular (AC) 20-140A consi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ed SPR and INTEROP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ded function and 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s to standards are discouraged, but are not regulated; relies on airspace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A will assess any request for changes prior to granting an approval for the change to determine any significant operational imp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pprove change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limitation/restriction in flight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tandards for data link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13342" r="0" b="8005"/>
          <a:stretch/>
        </p:blipFill>
        <p:spPr>
          <a:xfrm>
            <a:off x="380880" y="1073160"/>
            <a:ext cx="8382240" cy="495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riteria for FANS 1/A+ or FANS 1/A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7080" y="1706400"/>
          <a:ext cx="8915400" cy="46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706400"/>
                    <a:ext cx="8915400" cy="46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512000" y="1082520"/>
            <a:ext cx="603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xample row from FAA guidance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Criteria for different data link systems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a global perspective, data link has different capabilities and 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ental (domestic) - ATN B1, FANS 1/A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eanic FANS 1/A+, FANS 1/A, FANS 1/A ADS-C, FMS W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ll are interoperable, may imp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ght plan messag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J is data link, but which 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ed-capable flee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NS 1/A or FANS 1/A ADS-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1d2f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See Appendix A of IP for different data link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1d2f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See Appendix B of IP for current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raft</a:t>
            </a: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 AC 20-140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Operational authoriza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raf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 120-70B consid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pproval of aircraft equipage per 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craft flight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A Notice N 8000.A056, operations specification (OpSpec)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 procedures, training and maintenance programs, flight crew qua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Operational authoriza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specification (OpSpec) A056 templates applicable to part 121, part 125, and part 135 oper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 specification (MSpec) MA056 template applicable to part 91 subpart 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ter of authorization (LOA) A056 templates applicable to part 91 and pa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5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1d2f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See Appendix C of IP for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raft</a:t>
            </a: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 example templ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4:07:04Z</dcterms:created>
  <dc:creator>Tom Kraft</dc:creator>
  <dc:description/>
  <cp:keywords/>
  <dc:language>en-US</dc:language>
  <cp:lastModifiedBy>Kraft, Thomas</cp:lastModifiedBy>
  <cp:lastPrinted>1999-05-01T20:41:40Z</cp:lastPrinted>
  <dcterms:modified xsi:type="dcterms:W3CDTF">2008-10-27T00:27:00Z</dcterms:modified>
  <cp:revision>885</cp:revision>
  <dc:subject>Mobility and integration</dc:subject>
  <dc:title>Aeronautical communications</dc:title>
</cp:coreProperties>
</file>