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123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79764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9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123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379764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46040" y="312480"/>
            <a:ext cx="4983120" cy="77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123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79764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49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123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379764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46040" y="312480"/>
            <a:ext cx="4983120" cy="77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49280" y="617220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FIT/16 WP/5, Ocean 21 SPR Comp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3414-B2AE-4FCC-B125-5D244147590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5" name="" descr=""/>
            <p:cNvPicPr/>
            <p:nvPr/>
          </p:nvPicPr>
          <p:blipFill>
            <a:blip r:embed="rId2"/>
            <a:srcRect l="14334" t="3733" r="14975" b="456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28 October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48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om.kraft@faa.gov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5680" y="312480"/>
            <a:ext cx="504036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Ocean 21 SPR Compliance</a:t>
            </a:r>
            <a:br>
              <a:rPr sz="3200"/>
            </a:b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(FIT/16 WP/5)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6040" y="6006960"/>
            <a:ext cx="404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8 October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7840" y="3352680"/>
            <a:ext cx="5038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4360" indent="-1314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ed to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l Pacific ATC Co-Ordinating Group (IPACG/29) FANS 1/A Interoperability Team (FIT/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2800" y="4476600"/>
            <a:ext cx="5272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m Kraft, Chief Scientific and Technical Advisor for Aeronautical Communications, Aviation Safety, Federal Aviation Administr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: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om.kraft@faa.gov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obile:  +1-202-369-21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49280" y="2133720"/>
            <a:ext cx="5113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DO-306/ED-122 safety requirements for ground systems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essment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T/16 a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-306/ED-122, Oceanic SPR Standar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 seven (27) safety requirements for the application of data link services in oceanic air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 four (24) are applicable to ATSP ground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ppendix A of W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A has completed its assessment to determine the level of compliance with these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assessment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t compliant with 2 requirements, partially compliant with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Assessment result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stamp in every uplink CPDLC message (SR-9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compliance date – February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cation to controller upon receipt of message that exceeds the ETTRN (SR-1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questions on implementation strategy related to mixed performance capability, e.g., HF aircraft versus satellite &amp; use of message header timest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should clarify safety bene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Assessment result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cation to controller when operational response is not received by E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TR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SR-1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ly compliance, value set to 300 seconds, but 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210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term solu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fferentiate between RCP 240 and RCP 400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compliance date – to be determ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FIT/16 actio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e safety requirements allocated to the ATSP ground system by the Oceanic SPR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e ongoing work by the FAA to comply with these requirements in the Ocean 21 ATSP ground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est participating States to report to the FIT the compliance of their ATSP ground system(s) with the allocated safety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k the status of any non-compliant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Remark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0T14:07:04Z</dcterms:created>
  <dc:creator>Tom Kraft</dc:creator>
  <dc:description/>
  <cp:keywords/>
  <dc:language>en-US</dc:language>
  <cp:lastModifiedBy>Kraft, Thomas</cp:lastModifiedBy>
  <cp:lastPrinted>1999-05-01T20:41:40Z</cp:lastPrinted>
  <dcterms:modified xsi:type="dcterms:W3CDTF">2008-10-27T00:32:22Z</dcterms:modified>
  <cp:revision>876</cp:revision>
  <dc:subject>Mobility and integration</dc:subject>
  <dc:title>Aeronautical communications</dc:title>
</cp:coreProperties>
</file>