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891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14400" y="4235400"/>
            <a:ext cx="5029200" cy="401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208160" y="674640"/>
            <a:ext cx="4441680" cy="333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235400"/>
            <a:ext cx="5486400" cy="401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gure 5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235400"/>
            <a:ext cx="5486400" cy="401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gure AP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123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79764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9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123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79764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46040" y="312480"/>
            <a:ext cx="4983120" cy="77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123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79764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49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123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379764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46040" y="312480"/>
            <a:ext cx="4983120" cy="77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49280" y="617220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FIT/16 WP/4, Performance 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87DB-9C62-4764-81BE-4F1625AD1C6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5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28 October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48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om.kraft@faa.gov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5680" y="531360"/>
            <a:ext cx="504036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Performance monitoring (FIT/16 WP/4)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6040" y="6006960"/>
            <a:ext cx="404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 October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7840" y="3352680"/>
            <a:ext cx="5038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4360" indent="-1314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ed to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l Pacific ATC Co-Ordinating Group (IPACG/29) FANS 1/A Interoperability Team (FIT/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2800" y="4476600"/>
            <a:ext cx="527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m Kraft, Chief Scientific and Technical Advisor for Aeronautical Communications, Aviation Safety, Federal Aviation Administr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: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om.kraft@faa.gov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obile:  +1-202-369-21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49280" y="2133720"/>
            <a:ext cx="4951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ontinued operational safety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Observations and result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DLC flight deck response ti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ware of time requirements per separ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 crew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s that indicate urgency to respond to CPDLC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BY does not end the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S-C position report delivery times - possibly due to sequential transmission of reports from aircraf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complianc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tinuity (E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@ 99.9%), avail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PDLC – ACP </a:t>
            </a:r>
            <a:r>
              <a:rPr b="1" lang="en-US" sz="3600" spc="-1" strike="noStrike">
                <a:solidFill>
                  <a:srgbClr val="1d2f68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 TR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4708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PDLC – ACTP </a:t>
            </a:r>
            <a:r>
              <a:rPr b="1" lang="en-US" sz="3600" spc="-1" strike="noStrike">
                <a:solidFill>
                  <a:srgbClr val="1d2f68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 RCTP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87440" y="838080"/>
            <a:ext cx="804708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PDLC – PORT </a:t>
            </a:r>
            <a:r>
              <a:rPr b="1" lang="en-US" sz="3600" spc="-1" strike="noStrike">
                <a:solidFill>
                  <a:srgbClr val="1d2f68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 Responder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87440" y="838080"/>
            <a:ext cx="8047080" cy="5383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ADS-C – Position report delivery times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4708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Other results – Appendix B of WP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92040" y="1828800"/>
          <a:ext cx="8523360" cy="189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828800"/>
                    <a:ext cx="85233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2663640" y="1371600"/>
            <a:ext cx="346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York – May to July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Automation support for data collection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akland, Anchorage, and New York cen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is collected for each aircraft registration number all uplink and downlink AFN, CPDLC, and ADS-C messages </a:t>
            </a: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(See Appendix C of W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priate data is then extracted to determine CPDLC transaction delays </a:t>
            </a: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(See Appendix D of W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al data base limits the amount of data collected for each aircraft registration nu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Other consideration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single record for data collection of all types, e.g., AFN, COM, and ADS for one way, and TRN for transa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k ADS report type, e.g., periodic, waypoint change ev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FIR ID, e.g, KZWY, for global exchange of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 record to be extensible for State/region-specific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 data for unplanned outages/degraded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global/regional relational data b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FIT/16 ac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e performance metrics for data link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 to collaborate with other regions via the GOLD Ad Hoc Working Group to develop a standardized reporting format for pertinent data points for each data link transaction, based on DO‑306/ED‑12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1d2f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onsider implementation plan for data collection mechanisms at centers (Not in pap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Remark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performance – CPDL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eillance performance – ADS-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izing the data and filt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s an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on support for data col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consid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T/16 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ex 11 – post-implementation monitoring to ensure continued operational safe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iteria for monito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CA DO-306/EUROCAE ED-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CP 240 for controller interv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veillance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AO Doc 4444, separation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-to-end monito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craft data link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 crew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800600"/>
            <a:ext cx="33530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Most airline/airframe pairs are not meeting the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PDLC – transactions considered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80470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DLC message e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/U response 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ve of intervention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actions on using satellite media to avoid issues with satellite/VHF trans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ing to remove route clearance message elements </a:t>
            </a: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(Not in pap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1d2f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See Appendix A of W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71600" y="993600"/>
            <a:ext cx="1143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ircraf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993600"/>
            <a:ext cx="10670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light crew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M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829440" y="1005480"/>
            <a:ext cx="245880" cy="990720"/>
          </a:xfrm>
          <a:custGeom>
            <a:avLst/>
            <a:gdLst>
              <a:gd name="textAreaLeft" fmla="*/ 157320 w 245880"/>
              <a:gd name="textAreaRight" fmla="*/ 246240 w 2458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52760" y="993600"/>
            <a:ext cx="762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SP Syst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993600"/>
            <a:ext cx="1143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ler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M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992160"/>
            <a:ext cx="1143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S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1423800"/>
            <a:ext cx="15238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earance used for interven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4875120"/>
            <a:ext cx="14479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knowledgement of clea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5760720"/>
            <a:ext cx="1447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ation Re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57200" y="1685880"/>
            <a:ext cx="4952880" cy="4370400"/>
            <a:chOff x="457200" y="1685880"/>
            <a:chExt cx="4952880" cy="4370400"/>
          </a:xfrm>
        </p:grpSpPr>
        <p:sp>
          <p:nvSpPr>
            <p:cNvPr id="112" name=""/>
            <p:cNvSpPr/>
            <p:nvPr/>
          </p:nvSpPr>
          <p:spPr>
            <a:xfrm>
              <a:off x="1447920" y="1685880"/>
              <a:ext cx="0" cy="437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38280" y="1703520"/>
              <a:ext cx="0" cy="435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10080" y="1703520"/>
              <a:ext cx="0" cy="435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419720" y="1685880"/>
              <a:ext cx="9360" cy="437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" y="1703520"/>
              <a:ext cx="0" cy="435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29000" y="1703520"/>
              <a:ext cx="0" cy="435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 flipH="1">
            <a:off x="4419360" y="1870200"/>
            <a:ext cx="990360" cy="245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1576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marL="4680" indent="-46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5748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marL="4680" indent="-46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36702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447920" y="2854440"/>
            <a:ext cx="4724280" cy="1046160"/>
            <a:chOff x="1447920" y="2854440"/>
            <a:chExt cx="4724280" cy="1046160"/>
          </a:xfrm>
        </p:grpSpPr>
        <p:sp>
          <p:nvSpPr>
            <p:cNvPr id="123" name=""/>
            <p:cNvSpPr/>
            <p:nvPr/>
          </p:nvSpPr>
          <p:spPr>
            <a:xfrm>
              <a:off x="1447920" y="2854440"/>
              <a:ext cx="472428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7920" y="3900600"/>
              <a:ext cx="472428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419720" y="2116080"/>
            <a:ext cx="2590560" cy="2524320"/>
            <a:chOff x="4419720" y="2116080"/>
            <a:chExt cx="2590560" cy="2524320"/>
          </a:xfrm>
        </p:grpSpPr>
        <p:sp>
          <p:nvSpPr>
            <p:cNvPr id="126" name=""/>
            <p:cNvSpPr/>
            <p:nvPr/>
          </p:nvSpPr>
          <p:spPr>
            <a:xfrm>
              <a:off x="4419720" y="4640400"/>
              <a:ext cx="25182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19720" y="2116080"/>
              <a:ext cx="25905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410080" y="1870200"/>
            <a:ext cx="3276360" cy="3016080"/>
            <a:chOff x="5410080" y="1870200"/>
            <a:chExt cx="3276360" cy="3016080"/>
          </a:xfrm>
        </p:grpSpPr>
        <p:sp>
          <p:nvSpPr>
            <p:cNvPr id="129" name=""/>
            <p:cNvSpPr/>
            <p:nvPr/>
          </p:nvSpPr>
          <p:spPr>
            <a:xfrm>
              <a:off x="5410080" y="1870200"/>
              <a:ext cx="32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10080" y="4886280"/>
              <a:ext cx="32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7848720" y="1870200"/>
            <a:ext cx="0" cy="301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96160" y="2116080"/>
            <a:ext cx="0" cy="252432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2854440"/>
            <a:ext cx="0" cy="10461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96160" y="1870200"/>
            <a:ext cx="0" cy="245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6160" y="4640400"/>
            <a:ext cx="0" cy="245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116080"/>
            <a:ext cx="0" cy="7383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3900600"/>
            <a:ext cx="0" cy="7398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1992240"/>
            <a:ext cx="0" cy="27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2471760"/>
            <a:ext cx="0" cy="17859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3354120"/>
            <a:ext cx="91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marL="468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Respo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74000" y="2862000"/>
            <a:ext cx="609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marL="468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304452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marL="468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RC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3477960"/>
            <a:ext cx="380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marL="468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T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58280" y="3319200"/>
            <a:ext cx="3808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marL="468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CP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019920" y="2471760"/>
            <a:ext cx="45720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019920" y="4257720"/>
            <a:ext cx="45720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934320" y="4762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934320" y="1992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1819440" y="1004040"/>
            <a:ext cx="246240" cy="990360"/>
          </a:xfrm>
          <a:custGeom>
            <a:avLst/>
            <a:gdLst>
              <a:gd name="textAreaLeft" fmla="*/ 157320 w 246240"/>
              <a:gd name="textAreaRight" fmla="*/ 246600 w 2462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2810520" y="1005480"/>
            <a:ext cx="245880" cy="990720"/>
          </a:xfrm>
          <a:custGeom>
            <a:avLst/>
            <a:gdLst>
              <a:gd name="textAreaLeft" fmla="*/ 157320 w 245880"/>
              <a:gd name="textAreaRight" fmla="*/ 246240 w 2458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3801240" y="1004040"/>
            <a:ext cx="246240" cy="990720"/>
          </a:xfrm>
          <a:custGeom>
            <a:avLst/>
            <a:gdLst>
              <a:gd name="textAreaLeft" fmla="*/ 157320 w 246240"/>
              <a:gd name="textAreaRight" fmla="*/ 246600 w 2462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4791240" y="1004040"/>
            <a:ext cx="246240" cy="990360"/>
          </a:xfrm>
          <a:custGeom>
            <a:avLst/>
            <a:gdLst>
              <a:gd name="textAreaLeft" fmla="*/ 157320 w 246240"/>
              <a:gd name="textAreaRight" fmla="*/ 246600 w 2462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429000" y="2116080"/>
            <a:ext cx="990720" cy="246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438280" y="2362320"/>
            <a:ext cx="990720" cy="245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447560" y="2608200"/>
            <a:ext cx="990360" cy="246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57200" y="2854440"/>
            <a:ext cx="990720" cy="245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654360"/>
            <a:ext cx="990720" cy="246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3900600"/>
            <a:ext cx="990360" cy="247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4148280"/>
            <a:ext cx="990720" cy="245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4394160"/>
            <a:ext cx="990720" cy="246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4640400"/>
            <a:ext cx="990360" cy="245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4578480"/>
            <a:ext cx="990720" cy="245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4824360"/>
            <a:ext cx="990360" cy="246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5070600"/>
            <a:ext cx="990720" cy="247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5318280"/>
            <a:ext cx="990720" cy="245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5564160"/>
            <a:ext cx="990360" cy="246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77320" y="1855800"/>
            <a:ext cx="609480" cy="3017880"/>
          </a:xfrm>
          <a:prstGeom prst="upDownArrow">
            <a:avLst>
              <a:gd name="adj1" fmla="val 50000"/>
              <a:gd name="adj2" fmla="val 4674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ional communication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67480" y="5181480"/>
            <a:ext cx="1143000" cy="703080"/>
          </a:xfrm>
          <a:prstGeom prst="borderCallout1">
            <a:avLst>
              <a:gd name="adj1" fmla="val 18750"/>
              <a:gd name="adj2" fmla="val -8333"/>
              <a:gd name="adj3" fmla="val -7828"/>
              <a:gd name="adj4" fmla="val -631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man is confident that transaction is comple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PDLC – RCP allocation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457200" y="1066680"/>
            <a:ext cx="8077320" cy="1600200"/>
            <a:chOff x="457200" y="1066680"/>
            <a:chExt cx="8077320" cy="1600200"/>
          </a:xfrm>
        </p:grpSpPr>
        <p:sp>
          <p:nvSpPr>
            <p:cNvPr id="171" name=""/>
            <p:cNvSpPr/>
            <p:nvPr/>
          </p:nvSpPr>
          <p:spPr>
            <a:xfrm>
              <a:off x="457200" y="2059920"/>
              <a:ext cx="80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1066680"/>
              <a:ext cx="0" cy="121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534520" y="1066680"/>
              <a:ext cx="0" cy="121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280600"/>
              <a:ext cx="28332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0520" y="2501280"/>
              <a:ext cx="2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8038800" y="2280600"/>
              <a:ext cx="495720" cy="220320"/>
              <a:chOff x="8038800" y="2280600"/>
              <a:chExt cx="495720" cy="220320"/>
            </a:xfrm>
          </p:grpSpPr>
          <p:sp>
            <p:nvSpPr>
              <p:cNvPr id="177" name=""/>
              <p:cNvSpPr/>
              <p:nvPr/>
            </p:nvSpPr>
            <p:spPr>
              <a:xfrm flipH="1">
                <a:off x="8251200" y="2280600"/>
                <a:ext cx="28332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8038800" y="2500920"/>
                <a:ext cx="21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953280" y="2391120"/>
              <a:ext cx="353880" cy="275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84200" y="2391120"/>
              <a:ext cx="353880" cy="275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49280" y="2280600"/>
              <a:ext cx="28332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32960" y="2501280"/>
              <a:ext cx="2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149280" y="1562760"/>
              <a:ext cx="0" cy="71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5629320" y="2280600"/>
              <a:ext cx="28296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416920" y="2501280"/>
              <a:ext cx="2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912640" y="1562760"/>
              <a:ext cx="0" cy="71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45360" y="2391120"/>
              <a:ext cx="353880" cy="275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62320" y="2391120"/>
              <a:ext cx="354240" cy="275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7200" y="1231920"/>
              <a:ext cx="80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200" y="1728720"/>
              <a:ext cx="269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12640" y="1728720"/>
              <a:ext cx="262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13440" y="1103400"/>
              <a:ext cx="546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24240" y="1598760"/>
              <a:ext cx="623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p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68360" y="1598760"/>
              <a:ext cx="851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wn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057320" y="4648320"/>
                <a:ext cx="525312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WILCO_UNABLE_Received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plink_Sen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057320" y="4933800"/>
                <a:ext cx="29052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TP</m:t>
                    </m:r>
                    <m:r>
                      <m:t xml:space="preserve">≃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Up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ownΔ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057320" y="5607000"/>
                <a:ext cx="21985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RT</m:t>
                    </m:r>
                    <m:r>
                      <m:t xml:space="preserve">≃</m:t>
                    </m:r>
                    <m:r>
                      <m:rPr>
                        <m:lit/>
                        <m:nor/>
                      </m:rPr>
                      <m:t xml:space="preserve">ACP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CT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228600" y="2743200"/>
            <a:ext cx="868680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37"/>
              </a:spcBef>
              <a:spcAft>
                <a:spcPts val="437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Uplink S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This is the date/time that the CPDLC clearance was sent to the aircraf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37"/>
              </a:spcBef>
              <a:spcAft>
                <a:spcPts val="437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S Receiv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This is the date/time that the MAS for the CPDLC clearance was recei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37"/>
              </a:spcBef>
              <a:spcAft>
                <a:spcPts val="437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ILCO/UNABLE S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This is the date/time that the WILCO or UNABLE reply is transmit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37"/>
              </a:spcBef>
              <a:spcAft>
                <a:spcPts val="437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ILCO/UNABLE Receiv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This is the date/time that the WILCO or UNABLE reply for the CPDLC clearance was recei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easurements (in seconds) are calculated as follow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CPDLC – transaction time calculations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09520" y="4653000"/>
            <a:ext cx="67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T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41160" y="5165640"/>
            <a:ext cx="81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C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5622840"/>
            <a:ext cx="131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spo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600200" y="2287440"/>
            <a:ext cx="5715000" cy="2513160"/>
            <a:chOff x="1600200" y="2287440"/>
            <a:chExt cx="5715000" cy="2513160"/>
          </a:xfrm>
        </p:grpSpPr>
        <p:sp>
          <p:nvSpPr>
            <p:cNvPr id="207" name=""/>
            <p:cNvSpPr/>
            <p:nvPr/>
          </p:nvSpPr>
          <p:spPr>
            <a:xfrm>
              <a:off x="2743200" y="2287440"/>
              <a:ext cx="0" cy="251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86200" y="2297520"/>
              <a:ext cx="0" cy="250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15200" y="2297520"/>
              <a:ext cx="0" cy="250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6172200" y="2287440"/>
              <a:ext cx="9360" cy="251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00200" y="2297520"/>
              <a:ext cx="0" cy="250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29200" y="2297520"/>
              <a:ext cx="0" cy="250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743200" y="1676880"/>
            <a:ext cx="11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ircraft Syst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1676880"/>
            <a:ext cx="106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light crew/HM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2018880" y="148752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03840" y="1676880"/>
            <a:ext cx="1125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m.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1676880"/>
            <a:ext cx="11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ler/HM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1676880"/>
            <a:ext cx="11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ound Syst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3161880" y="148752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4304880" y="148752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5447880" y="148752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6590880" y="148752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3198600"/>
            <a:ext cx="13716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marL="55440" indent="-19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w operational res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19960" y="2344680"/>
            <a:ext cx="15238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  Clearance used for sepa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19960" y="4554360"/>
            <a:ext cx="14479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.  MAS receipt by AT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3505320"/>
            <a:ext cx="1143000" cy="7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3581280"/>
            <a:ext cx="11430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3657600"/>
            <a:ext cx="11430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3733920"/>
            <a:ext cx="1143000" cy="7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171840" y="2530440"/>
            <a:ext cx="11430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028840" y="2606760"/>
            <a:ext cx="1143000" cy="7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885840" y="2682720"/>
            <a:ext cx="11430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742840" y="2759040"/>
            <a:ext cx="11430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43200" y="4267080"/>
            <a:ext cx="1143000" cy="763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4343400"/>
            <a:ext cx="11430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4419720"/>
            <a:ext cx="1143000" cy="7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599840" y="2832120"/>
            <a:ext cx="11430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00200" y="3425760"/>
            <a:ext cx="11430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3124080"/>
            <a:ext cx="619200" cy="414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742840" y="3886200"/>
            <a:ext cx="11430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19960" y="2801880"/>
            <a:ext cx="15238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  Network ACK not seen by 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19960" y="3564000"/>
            <a:ext cx="15238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  Operational response recei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19960" y="4173480"/>
            <a:ext cx="15238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  CSP resends up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PDLC –uplink time estimate issue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50040" y="5305320"/>
            <a:ext cx="736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sults in pilot response times very small or negative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360" y="223560"/>
            <a:ext cx="826776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ADS-C – report delivery time calculations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ce betwe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e/time derived from the Basic ADS Group timesta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 the message is received at the ATSP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ategorizing the data and filtering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opera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airframe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filtering of transactions other th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F/satellite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DLC message elements with W/U response 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suggest other filtering, e.g., during known outages and duplicate ADS repo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0T14:07:04Z</dcterms:created>
  <dc:creator>Tom Kraft</dc:creator>
  <dc:description/>
  <cp:keywords/>
  <dc:language>en-US</dc:language>
  <cp:lastModifiedBy>Kraft, Thomas</cp:lastModifiedBy>
  <cp:lastPrinted>1999-05-01T20:41:40Z</cp:lastPrinted>
  <dcterms:modified xsi:type="dcterms:W3CDTF">2008-10-27T00:31:07Z</dcterms:modified>
  <cp:revision>877</cp:revision>
  <dc:subject>Mobility and integration</dc:subject>
  <dc:title>Aeronautical communications</dc:title>
</cp:coreProperties>
</file>