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IT/16 WP/3, Performance Specification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BCF-2F57-4767-A78F-D1D95FF868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5680" y="312480"/>
            <a:ext cx="50403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Performance specification template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FIT/16 WP/3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Octo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52680"/>
            <a:ext cx="503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Pacific ATC Co-Ordinating Group (IPACG/29) FANS 1/A Interoperability Team (FIT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800" y="447660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2057400"/>
            <a:ext cx="495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mmunication (RCP) and surveill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ramework for com perf spec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s and acrony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P 2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, e.g., CPLDC over Satellite or V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P 4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, e.g., CPDLC over HF data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, e.g.,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P [future], e.g., RCP 120, RCP 60, or RCP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, e.g., CPDLC over VHF (continental (domestic) air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, e.g., CPDLC for new oceanic and remote strategic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, e.g., new technology voice for (continental (domestic) air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ramework for surv perf spec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s and acrony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d surveillance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 /180, e.g., FMS WPR or ADS‑C over Satellite or V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d surveillance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 /400, e.g., FMS WPR or ADS-C over HF dat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ype /400, e.g., 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RCP 240 specific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space specific consid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CP parameter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CP monitoring and alerting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CP 240/D al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S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815000"/>
            <a:ext cx="8077320" cy="0"/>
          </a:xfrm>
          <a:prstGeom prst="line">
            <a:avLst/>
          </a:prstGeom>
          <a:ln w="57240">
            <a:solidFill>
              <a:srgbClr val="5f5f5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7160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7180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334120"/>
            <a:ext cx="1371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outag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nd dete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25680" y="2347920"/>
            <a:ext cx="1095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fication of restore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1399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06760" y="5334120"/>
            <a:ext cx="109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age duration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874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744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7440" y="4433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86000" y="4314600"/>
            <a:ext cx="1584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3719520"/>
            <a:ext cx="1171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fication of unplanned outage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7440" y="32306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68320" y="2895480"/>
            <a:ext cx="83844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outage 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0552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43800" y="28191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055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433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19920" y="426708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3214800"/>
            <a:ext cx="2438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5334120"/>
            <a:ext cx="1371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outag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nd dete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81840" y="2347920"/>
            <a:ext cx="1095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fication of restore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96040" y="5334120"/>
            <a:ext cx="10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age duration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81640" y="3719520"/>
            <a:ext cx="1171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fication of unplanned outage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895480"/>
            <a:ext cx="83844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outage 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1003320"/>
            <a:ext cx="4800600" cy="88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imum accumulated unplanned outage time (min/yr)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 of unplanned outage duration over a period of time (year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unplanned outage duratio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utage duration limi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057360" y="861840"/>
            <a:ext cx="457200" cy="2514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332000"/>
            <a:ext cx="1447560" cy="54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operational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1942560" y="1319040"/>
            <a:ext cx="457200" cy="1600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vailability terms and measurement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2733840"/>
            <a:ext cx="560520" cy="542880"/>
          </a:xfrm>
          <a:custGeom>
            <a:avLst/>
            <a:gdLst/>
            <a:ahLst/>
            <a:rect l="l" t="t" r="r" b="b"/>
            <a:pathLst>
              <a:path w="353" h="342">
                <a:moveTo>
                  <a:pt x="315" y="267"/>
                </a:moveTo>
                <a:cubicBezTo>
                  <a:pt x="308" y="271"/>
                  <a:pt x="271" y="278"/>
                  <a:pt x="267" y="291"/>
                </a:cubicBezTo>
                <a:cubicBezTo>
                  <a:pt x="263" y="304"/>
                  <a:pt x="280" y="342"/>
                  <a:pt x="291" y="342"/>
                </a:cubicBezTo>
                <a:cubicBezTo>
                  <a:pt x="302" y="342"/>
                  <a:pt x="353" y="339"/>
                  <a:pt x="333" y="294"/>
                </a:cubicBezTo>
                <a:cubicBezTo>
                  <a:pt x="313" y="249"/>
                  <a:pt x="223" y="121"/>
                  <a:pt x="168" y="72"/>
                </a:cubicBezTo>
                <a:cubicBezTo>
                  <a:pt x="113" y="23"/>
                  <a:pt x="35" y="15"/>
                  <a:pt x="0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2514600"/>
            <a:ext cx="1069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ffects 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9920" y="2733840"/>
            <a:ext cx="560160" cy="542880"/>
          </a:xfrm>
          <a:custGeom>
            <a:avLst/>
            <a:gdLst/>
            <a:ahLst/>
            <a:rect l="l" t="t" r="r" b="b"/>
            <a:pathLst>
              <a:path w="353" h="342">
                <a:moveTo>
                  <a:pt x="315" y="267"/>
                </a:moveTo>
                <a:cubicBezTo>
                  <a:pt x="308" y="271"/>
                  <a:pt x="271" y="278"/>
                  <a:pt x="267" y="291"/>
                </a:cubicBezTo>
                <a:cubicBezTo>
                  <a:pt x="263" y="304"/>
                  <a:pt x="280" y="342"/>
                  <a:pt x="291" y="342"/>
                </a:cubicBezTo>
                <a:cubicBezTo>
                  <a:pt x="302" y="342"/>
                  <a:pt x="353" y="339"/>
                  <a:pt x="333" y="294"/>
                </a:cubicBezTo>
                <a:cubicBezTo>
                  <a:pt x="313" y="249"/>
                  <a:pt x="223" y="121"/>
                  <a:pt x="168" y="72"/>
                </a:cubicBezTo>
                <a:cubicBezTo>
                  <a:pt x="113" y="23"/>
                  <a:pt x="35" y="15"/>
                  <a:pt x="0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482920"/>
            <a:ext cx="1143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ffects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FIT/16 a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e information in the pa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 to the concept of global performance-based specifications for communication and surveil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is paper as a starting point for the GOLD Ad Hoc Working Group to develop and coordinate performance specifications for communications and surveil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371240"/>
            <a:ext cx="8047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the performance-based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ded uses of performance spec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tions for performance spec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/16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371240"/>
            <a:ext cx="8047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umber of performance specifications are under develop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CP 240 when applied to data link systems (/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CP 400 when applied to data link systems (/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CP 400 when applied to “non-traditional,” (e.g., satellite) voice communication systems (/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RCP types, such as to support implementation of data link systems in continental (domestic) airspace, e.g., RCP 60/D or RCP 120/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eria for surveillance, e.g., position reporting criteria for different separation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nt is to provide a globally consistent way to convey performance-based criter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ach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a common framewor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 for the framework and template can be found at Appendix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tions could become part of ICAO Doc 9869, Manual on Required Communication Performance (RCP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urrent activities (1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Atlantic (NAT), Asia-Pacific (ASIA-PAC)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ICAO Doc 9869, Manual on R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A DO‑306/EUROCAE ED‑122, Oceanic SPR Standard, Oc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(Draft) RCP 240/D and RCP 400/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Appendix A and B of WP, specs are diffe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C CWG (See FIT/16 IP on PARC CWG, FOI and Sat Vo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 1/A over Iridium (FOI) - using (Draft) RCP 240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voice – (Under development) RCP 400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urrent activities (2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CA SC-214/EUROCAE WG-78, Data Link Standards Grou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‑264/ED‑78A, Dec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A DO‑290/EUROCAE ED‑122, Continental SPR Standard, Apr 2004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‑290/EUROCAE ED‑122 leaves RCP type specification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AO Doc 9869, Manual on RC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available since Sep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Edition, 2008, takes experience gained from practic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343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erformance-based approach (1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formance-based approach characterizes function and performance based on intended operations in any given airspace, not based on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seamless operations for communication and surveillance; complements performance-based navigation spec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may be relevant to specify additional operational criteria to include functional capability or other performance characteristics, not specified by an RCP type (per ICAO Doc 986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4200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erformance-based approach (2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formance specifications are used when we implement a change and the change is predicated on communication and/or surveillance capability and performan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ew operational capabilities, such as reducing separation minimum or increasing airspac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 new systems, including those provided by commercial services, using different technologies, such as satellite voice or data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the implementation of the change, such as when the performance and capabilities for communication and/or surveillance are mixed among the population of aircraft in the same air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Intended uses of performance spec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viability of a particular technology (voice/dat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oversight of service provisions and operations</a:t>
            </a: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-capability fleet operations, e.g., RCP 240, RCP 400, No R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cation and acceptance systems and services, e.g., CSP &amp; ANSP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eements/contractual arrangements with CS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uthorizations, flight crew training/qualification</a:t>
            </a: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pproval of aircraft data link systems</a:t>
            </a: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1d2f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5638680"/>
            <a:ext cx="3581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**(See related FIT/16 WP/IP)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onsiderations for perf spec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 RCP types and levels of surveillanc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performance specifications to the ATS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e voice and data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guish communication from surveil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and units of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 according to institutional bound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Reed B Sladen</cp:lastModifiedBy>
  <cp:lastPrinted>1999-05-01T20:41:40Z</cp:lastPrinted>
  <dcterms:modified xsi:type="dcterms:W3CDTF">2008-10-28T04:26:27Z</dcterms:modified>
  <cp:revision>869</cp:revision>
  <dc:subject>Mobility and integration</dc:subject>
  <dc:title>Aeronautical communications</dc:title>
</cp:coreProperties>
</file>