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IT/16 WP/6,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3A40-8697-482A-864C-18E9C16870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Global Operational Data Link Document (GOLD)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FIT/16 WP/6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Octo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52680"/>
            <a:ext cx="503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Pacific ATC Co-Ordinating Group (IPACG/29) FANS 1/A Interoperability Team (FIT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800" y="447660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2057400"/>
            <a:ext cx="495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Globally harmonize data link operation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assessm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IPACG/29 FIT/16 WP, Performance Specification Temp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IPACG/29 FIT/16 WP, Monitoring FANS-1/A Performance Against Oceanic SPR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CPDLC application (Appendix C of FIT/16 W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DLC message element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free text] messag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messag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upported messag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of the table of contents of the NAT GM, the FOM, DO‑306/ED‑122, and ICAO Doc 4444 (PANS/ATM) (In 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a way forward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assessments of existing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nd agree on an annotated outline for the G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aterial from the NAT GM, FOM and other relevant material to populate the annotated 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material that is being used from each of the regional docum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initial draft of the GOLD, annotate with editor’s notes issues that require further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guidance material on performance-based criteria, data collection, monitoring, analysis and results can mature in separate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intended user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ily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space plan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s and dispat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organizations for pilots and controll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monitoring and reporting agenc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on specialists at ce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annotated outlin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ory and/or administrative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and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hanges to the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yst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es for data link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 operating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normal operating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rastructure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annotated outlin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ex A – performance spec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ex B – data collection, monitoring, analysis, and results;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ex C – regional or State-specific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See Appendix B of FIT/16 working paper for complete annotated outlin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schedul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-18 November 2008 – GOLD Ad Hoc WG #1 meeting (London) </a:t>
            </a: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Not in pap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4 December 2008 – GOLD Ad Hoc WG #2 meeting (Bangkok) </a:t>
            </a: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Not in pap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nuary 2009 – initial draft of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2009 – Coordination draft of GOLD for broad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IT/16 a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e information in the pa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the IPACG to endorse the work program of the GOLD Ad Hoc Working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 to the annotated outline for the GOLD (provided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endix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to establish the basis for the scope and content and to guide i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ing the GOLD Ad Hoc Working Group (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s of reference and work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of the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/16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ly harmonize data link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Qua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v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onal information and differen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Establishing the GOLD Ad Hoc WG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rsement for the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 SPG/44 and subordin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NPIRG/17 (Not in paper), and subordin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S. (Tom Kraft) is GOLD coordin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GOLD Ad Hoc WG – points of contact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787400"/>
          <a:ext cx="8229600" cy="39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8740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erms of reference / work program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account of ICAO prov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work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CA DO-306/EUROCAE ED-122, Oceanic SPR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Operation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Material for ATS Data Link Services in North Atlantic Ai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monize flight crew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1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erms of reference / work program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performance specifications and guidance material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– RCP type(s) for CP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 – ADS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guidelines and requirement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ication/eligibility of aircraft data link equipage, aircraft operator, procedures and air traffic service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2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erms of reference / work program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regional differences only as absolutely necess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planning and implementation regional groups to globally adopt the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3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Working practice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80470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contact (PO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within their respective region and/o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y the group of any change activity on regio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 developing the GO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coordin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GOLD draft versions (multiple, as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o POCs the results of comparativ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changes to regio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improvements to DO‑306/ED‑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ocuments, on an as needed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8-10-27T23:31:45Z</dcterms:modified>
  <cp:revision>860</cp:revision>
  <dc:subject>Mobility and integration</dc:subject>
  <dc:title>Aeronautical communications</dc:title>
</cp:coreProperties>
</file>