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gif" ContentType="image/gi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531C57-8DD5-4D14-832C-4E3F5BF9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305E9B-3C49-44DB-BC5F-7E09E705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F18DB8-9D29-4FD2-99EE-2685174E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664A1-8A0E-4262-8FEF-51BE22B7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D4A9E9-1A81-4F61-970C-345CDFC0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146785-1152-4B2E-B5F0-707AE741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E29-E76A-4962-AC9F-F37E685C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233-5131-481F-8E48-EC1388B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715-13A3-4B50-AA49-FF1012A3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3AC-9048-4C73-A6BA-93B4D38C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044-CE2C-418F-AEE2-783AB55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C37-3BD3-4A2C-9C44-77FE9CED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38F-1948-4030-ACF5-5773FDE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BCB-A8C2-48A2-A861-DAF252A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8F4-DEF0-40F5-B671-C24A94F4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E83-27EC-41F0-A8FA-741E0FF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20A-BD82-454D-949F-E977B0F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95B-2080-4739-B607-3EDE094A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2954-9406-4141-B9FD-6F6292FD1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D67-47FE-449D-91CA-F4C077081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FIT/16 Fukuoka, 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28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ulation Model f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ific Oceanic Reg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Lin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ed To: FIT/16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ed By: FAA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e: 28 October 2008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essage Routing: Satellite Data Channels 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DSP is assigned 1 independent set of satellite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nnel set contains 3 types: P, R,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speed: 600, 1200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peed: 10500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effective bi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speed: 234, 500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peed: 4500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ime = Message size / Effective bit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ach routing time is broken down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 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essage Routing: Satellite Data Channels (Continued)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CARS uplinks travel directly via P-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ink Messages &lt; 33 bytes (AFN and ACK messag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directly through R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ink Messages &gt; 33 bytes (most FANS and AOC messag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R-channel to get assigned access to T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sent from GES via P-channel (3-4 second delay) with access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d via T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 factor added to mimic observed delays experienced during high traffic on T channel (see next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essage Routing: T-Channel Congestion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vs. T-channel 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6108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essage Routing: Failure Mode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bl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hannels in one GES f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 logg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on for re-logon through R-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 must wait for successful re-logon to re-send messages through new GES channe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re-logon attempts for small amount of time to simulate aircraft system reaction and warming up of standby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channel operates at lower performanc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isibl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C computer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 unaware of this fail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s stop processing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ssages are counted and dispo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s retry transmission regul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176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s change color during course of flight according to most recent message type “s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590920" y="1676520"/>
            <a:ext cx="4876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 (Bas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C (Way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C (Lateral dev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C (Airline op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(Acknowledg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n and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52480" y="1905120"/>
            <a:ext cx="639720" cy="3884040"/>
            <a:chOff x="1752480" y="1905120"/>
            <a:chExt cx="639720" cy="3884040"/>
          </a:xfrm>
        </p:grpSpPr>
        <p:pic>
          <p:nvPicPr>
            <p:cNvPr id="158" name="Picture 6" descr=""/>
            <p:cNvPicPr/>
            <p:nvPr/>
          </p:nvPicPr>
          <p:blipFill>
            <a:blip r:embed="rId1"/>
            <a:srcRect l="27661" t="25845" r="68537" b="48373"/>
            <a:stretch/>
          </p:blipFill>
          <p:spPr>
            <a:xfrm>
              <a:off x="1752480" y="1905120"/>
              <a:ext cx="63972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7" descr=""/>
            <p:cNvPicPr/>
            <p:nvPr/>
          </p:nvPicPr>
          <p:blipFill>
            <a:blip r:embed="rId2"/>
            <a:srcRect l="28125" t="22500" r="68158" b="72751"/>
            <a:stretch/>
          </p:blipFill>
          <p:spPr>
            <a:xfrm>
              <a:off x="1752480" y="5175720"/>
              <a:ext cx="63684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Animation: Aircraft Message Statu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4669" t="19512" r="4669" b="13008"/>
          <a:stretch/>
        </p:blipFill>
        <p:spPr>
          <a:xfrm>
            <a:off x="228600" y="1066680"/>
            <a:ext cx="8666280" cy="46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Animation: Screen Shot of Running Model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utput: Performance Measure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ime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frequenc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, mean,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meeting pre-specifi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Percent of downlink message routing times less than 6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tion of satellite, 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 of GES Fail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unable to log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requiring controller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ircraft attempting re-logon at on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recovery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model could be a valuable tool for forecasting future system performance and decision making in POR and other reg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fic input from DSPs, users and others, model could be fine-tuned to more closely resemble realistic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of existing mode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formation about non-FANS message traffic (AOC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formation about 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ssociated with each segment, i.e. satellite, 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-networking between D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specific to 2 POR GES (Santa Paula and Pe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satellit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reate a model of the existing Data Link communication system in the Pacific Oceanic Region (P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possible to test system quickly at low cost with no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exploration of as many variables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s in prediction of system performance under propos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modified as system e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sensitivity analysis of 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model built with ARENA software by graduate students at Rutgers University, inclu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generation, routing and handling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es message traffic between aircraft and ART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 aircraf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PAC and CENPAC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model current operations with capability to predict future performance due to changes such 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/decrease in traffic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R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to satellite or 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and outages of any syste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/changes in any syste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odel Overview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ghts randomly generated with exponentially distributed inter-arrival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o random assignment of attributes based on distributions calculated from analysis of historical Ocean21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 (East or 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time, function of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link Service Provider (DSP), function of op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report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, 9 representative tracks cho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PAC (G344, R2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OTS (1, 2, 3, A, B, E, 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ghts log on to GES via AFN downlink mes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Track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914400"/>
            <a:ext cx="7761240" cy="4992840"/>
            <a:chOff x="609480" y="914400"/>
            <a:chExt cx="7761240" cy="4992840"/>
          </a:xfrm>
        </p:grpSpPr>
        <p:graphicFrame>
          <p:nvGraphicFramePr>
            <p:cNvPr id="110" name=""/>
            <p:cNvGraphicFramePr/>
            <p:nvPr/>
          </p:nvGraphicFramePr>
          <p:xfrm>
            <a:off x="609480" y="914400"/>
            <a:ext cx="7761240" cy="499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914400"/>
                      <a:ext cx="7761240" cy="499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6413400" y="4317840"/>
              <a:ext cx="10670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odel Overview (Continued)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s generate six types of downlink messages during their time in th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DS-C) BAS, according to periodic contract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DS-C) WPC, function of flight progress on assign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DS-C) LDC, aperiodic contingent on lateral 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DS-C) ACK, acknowledgement of up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PDLC) Request for clearance (i.e. flight level ch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C, communication with airline, varies by fl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link message size is assigned according to message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historic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determine routing path and time through GES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link messages are generat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stablish new contracts for flights enter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response to downlinks requiring ATC response (i.e. Request for clea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demand” position information as result of missing BAS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collected as flights exit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371600" y="990720"/>
            <a:ext cx="6410160" cy="4652640"/>
            <a:chOff x="1371600" y="990720"/>
            <a:chExt cx="6410160" cy="4652640"/>
          </a:xfrm>
        </p:grpSpPr>
        <p:pic>
          <p:nvPicPr>
            <p:cNvPr id="116" name="Picture 3" descr="j0239675"/>
            <p:cNvPicPr/>
            <p:nvPr/>
          </p:nvPicPr>
          <p:blipFill>
            <a:blip r:embed="rId1"/>
            <a:stretch/>
          </p:blipFill>
          <p:spPr>
            <a:xfrm>
              <a:off x="4114800" y="1754280"/>
              <a:ext cx="841320" cy="5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j0239673"/>
            <p:cNvPicPr/>
            <p:nvPr/>
          </p:nvPicPr>
          <p:blipFill>
            <a:blip r:embed="rId2"/>
            <a:stretch/>
          </p:blipFill>
          <p:spPr>
            <a:xfrm>
              <a:off x="3032280" y="3004560"/>
              <a:ext cx="950760" cy="67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5" descr="j0336486"/>
            <p:cNvPicPr/>
            <p:nvPr/>
          </p:nvPicPr>
          <p:blipFill>
            <a:blip r:embed="rId3"/>
            <a:stretch/>
          </p:blipFill>
          <p:spPr>
            <a:xfrm>
              <a:off x="1371600" y="1059840"/>
              <a:ext cx="693720" cy="3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j0336486"/>
            <p:cNvPicPr/>
            <p:nvPr/>
          </p:nvPicPr>
          <p:blipFill>
            <a:blip r:embed="rId4"/>
            <a:stretch/>
          </p:blipFill>
          <p:spPr>
            <a:xfrm>
              <a:off x="7086600" y="990720"/>
              <a:ext cx="695160" cy="3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j0336486"/>
            <p:cNvPicPr/>
            <p:nvPr/>
          </p:nvPicPr>
          <p:blipFill>
            <a:blip r:embed="rId5"/>
            <a:stretch/>
          </p:blipFill>
          <p:spPr>
            <a:xfrm>
              <a:off x="4191120" y="1059840"/>
              <a:ext cx="693720" cy="3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8"/>
            <p:cNvGrpSpPr/>
            <p:nvPr/>
          </p:nvGrpSpPr>
          <p:grpSpPr>
            <a:xfrm>
              <a:off x="3568680" y="4266000"/>
              <a:ext cx="1959120" cy="1377360"/>
              <a:chOff x="3568680" y="4266000"/>
              <a:chExt cx="1959120" cy="1377360"/>
            </a:xfrm>
          </p:grpSpPr>
          <p:pic>
            <p:nvPicPr>
              <p:cNvPr id="122" name="Picture 9" descr="MCj02401590000[1]"/>
              <p:cNvPicPr/>
              <p:nvPr/>
            </p:nvPicPr>
            <p:blipFill>
              <a:blip r:embed="rId6"/>
              <a:stretch/>
            </p:blipFill>
            <p:spPr>
              <a:xfrm>
                <a:off x="3848400" y="4266000"/>
                <a:ext cx="1310760" cy="11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10"/>
              <p:cNvSpPr/>
              <p:nvPr/>
            </p:nvSpPr>
            <p:spPr>
              <a:xfrm>
                <a:off x="3568680" y="5337360"/>
                <a:ext cx="1959120" cy="30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730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akland ARTC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AutoShape 11"/>
            <p:cNvSpPr/>
            <p:nvPr/>
          </p:nvSpPr>
          <p:spPr>
            <a:xfrm>
              <a:off x="2209680" y="4046400"/>
              <a:ext cx="1268640" cy="39492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730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I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2"/>
            <p:cNvSpPr/>
            <p:nvPr/>
          </p:nvSpPr>
          <p:spPr>
            <a:xfrm>
              <a:off x="5649840" y="4046400"/>
              <a:ext cx="1284480" cy="39492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730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13" descr="j0239673"/>
            <p:cNvPicPr/>
            <p:nvPr/>
          </p:nvPicPr>
          <p:blipFill>
            <a:blip r:embed="rId7"/>
            <a:stretch/>
          </p:blipFill>
          <p:spPr>
            <a:xfrm flipH="1">
              <a:off x="4991040" y="3004560"/>
              <a:ext cx="952560" cy="674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7" name="AutoShape 14"/>
            <p:cNvCxnSpPr>
              <a:stCxn id="124" idx="3"/>
              <a:endCxn id="125" idx="1"/>
            </p:cNvCxnSpPr>
            <p:nvPr/>
          </p:nvCxnSpPr>
          <p:spPr>
            <a:xfrm>
              <a:off x="3478320" y="4244040"/>
              <a:ext cx="21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15"/>
            <p:cNvCxnSpPr>
              <a:stCxn id="125" idx="1"/>
              <a:endCxn id="124" idx="3"/>
            </p:cNvCxnSpPr>
            <p:nvPr/>
          </p:nvCxnSpPr>
          <p:spPr>
            <a:xfrm flipH="1">
              <a:off x="3478320" y="4244040"/>
              <a:ext cx="21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16"/>
            <p:cNvCxnSpPr/>
            <p:nvPr/>
          </p:nvCxnSpPr>
          <p:spPr>
            <a:xfrm>
              <a:off x="2064960" y="1233720"/>
              <a:ext cx="2050200" cy="81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AutoShape 17"/>
            <p:cNvCxnSpPr/>
            <p:nvPr/>
          </p:nvCxnSpPr>
          <p:spPr>
            <a:xfrm flipH="1">
              <a:off x="4535280" y="1407240"/>
              <a:ext cx="360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" name="AutoShape 18"/>
            <p:cNvCxnSpPr/>
            <p:nvPr/>
          </p:nvCxnSpPr>
          <p:spPr>
            <a:xfrm flipH="1">
              <a:off x="3507840" y="2344680"/>
              <a:ext cx="1028160" cy="66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2" name="AutoShape 19"/>
            <p:cNvCxnSpPr/>
            <p:nvPr/>
          </p:nvCxnSpPr>
          <p:spPr>
            <a:xfrm>
              <a:off x="4535640" y="2344680"/>
              <a:ext cx="932400" cy="66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3" name="Text Box 20"/>
            <p:cNvSpPr/>
            <p:nvPr/>
          </p:nvSpPr>
          <p:spPr>
            <a:xfrm>
              <a:off x="3906720" y="2935080"/>
              <a:ext cx="1143000" cy="76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nd Earth 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 rot="1471800">
              <a:off x="1906200" y="1643040"/>
              <a:ext cx="183348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 rot="19987800">
              <a:off x="5319720" y="1635120"/>
              <a:ext cx="183348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AutoShape 23"/>
            <p:cNvCxnSpPr/>
            <p:nvPr/>
          </p:nvCxnSpPr>
          <p:spPr>
            <a:xfrm flipV="1">
              <a:off x="4956120" y="1163520"/>
              <a:ext cx="2131200" cy="88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AutoShape 24"/>
            <p:cNvCxnSpPr>
              <a:stCxn id="123" idx="3"/>
              <a:endCxn id="125" idx="2"/>
            </p:cNvCxnSpPr>
            <p:nvPr/>
          </p:nvCxnSpPr>
          <p:spPr>
            <a:xfrm flipV="1">
              <a:off x="5527440" y="4440600"/>
              <a:ext cx="765720" cy="104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8" name="Text Box 25"/>
            <p:cNvSpPr/>
            <p:nvPr/>
          </p:nvSpPr>
          <p:spPr>
            <a:xfrm>
              <a:off x="5562720" y="4949280"/>
              <a:ext cx="1600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AutoShape 26"/>
            <p:cNvCxnSpPr>
              <a:stCxn id="124" idx="0"/>
            </p:cNvCxnSpPr>
            <p:nvPr/>
          </p:nvCxnSpPr>
          <p:spPr>
            <a:xfrm flipV="1">
              <a:off x="2844360" y="3678840"/>
              <a:ext cx="66420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0" name="AutoShape 27"/>
            <p:cNvCxnSpPr>
              <a:stCxn id="125" idx="0"/>
            </p:cNvCxnSpPr>
            <p:nvPr/>
          </p:nvCxnSpPr>
          <p:spPr>
            <a:xfrm flipH="1" flipV="1">
              <a:off x="5466600" y="3678840"/>
              <a:ext cx="82620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Flowchart of Message Routing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Message Routing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948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wnlink message path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 (ARINC or 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NC messages forwarded to S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CC (except A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3949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plink message path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 (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martinl</dc:creator>
  <dc:description/>
  <dc:language>en-US</dc:language>
  <cp:lastModifiedBy>Air Traffic Organization</cp:lastModifiedBy>
  <dcterms:modified xsi:type="dcterms:W3CDTF">2008-10-21T15:36:38Z</dcterms:modified>
  <cp:revision>187</cp:revision>
  <dc:subject/>
  <dc:title>Daily Operations in OC3 and ZOA</dc:title>
</cp:coreProperties>
</file>