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IP/1 - PARC CWG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369-247D-4BE2-ACFE-AC51FFB37E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oldach@rockwellcollins.com" TargetMode="External"/><Relationship Id="rId2" Type="http://schemas.openxmlformats.org/officeDocument/2006/relationships/hyperlink" Target="mailto:tom.kraft@faa.go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5680" y="312480"/>
            <a:ext cx="5040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ARC CWG Update</a:t>
            </a:r>
            <a:br>
              <a:rPr sz="3600"/>
            </a:b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(FIT/16 IP/1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1828800"/>
            <a:ext cx="511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FANS 1/A over Iridium and Satellite Voice Project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NS 1/A over Iridium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voic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/16 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371240"/>
            <a:ext cx="8047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-Based Operations Aviation Rulemaking Committee Communications Working Group (PARC CW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charter is to develop recommendations to FAA on matters of policy, rules, guidance material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oversight of service 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harmonization is essent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on PARC CWG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ANS 1/A over Iridium (FOI) projec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I Project evaluation criteria – RCP 240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idium network availability – further improvement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ication of unplanned outage and restoration – further improvements needed, consider standardized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latency – fine tuning of ring alert may improve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ANS 1/A over Iridium (FOI) projec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measurement method and common format for presenting data – consistent with global eff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trial readines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seems consistent with operati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issues will not hold up trial start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ental Micronesia (CMI) readiness – nine 737­800 aircraft planned for 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golux (CLX) – four 747-400 aircraft planned for January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atellite voice project (1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804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 voice objective - to provide substantiating data for recommendation to FAA to permanently replace one HF radio with a satellite ra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planning to particip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Parc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ental Microne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go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NC and SITA are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atellite voice project (2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80470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projects suggests “operational tri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Atlantic completed satellite voice trials in August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for operational implementation of satellite voice for routine ATC 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procedures and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 Regional SUPPS (ICAO Doc 70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C CWG project will review and augment, as necessary, the procedures and requirements from above sources and elsewhere to obtain MEL rel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conclus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e information in the pa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meeting - PARC CWG/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rmore, California (Hosted by ARIN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3-4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are welcome on CWG project 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I project (Appendix A of 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voice project (Appendix B of 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ei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Oldach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oldach@rockwellcollin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Kraft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m.kraft@faa.g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8-10-27T00:25:29Z</dcterms:modified>
  <cp:revision>878</cp:revision>
  <dc:subject>Mobility and integration</dc:subject>
  <dc:title>Aeronautical communications</dc:title>
</cp:coreProperties>
</file>