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997700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B8E2E-01A4-432F-BBEF-4A7762881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4751B-A296-4AF6-BB0F-249C4E703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3FCC2-CA02-47D4-AE87-D99CBE6EB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251DD-727F-4E4E-B5A1-CE6F51D82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74055-88C6-469F-B9B1-F303A280C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CF992-18DE-4886-AD22-6B68A1421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E86B5-31F2-4A73-9EA9-312AE57F7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450D0-5F3B-4BB5-8516-FFC09827E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1DF0A-502C-4EA1-BAE2-FD7EA53F1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4A3CF-227B-4333-984A-3D066DF49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B4769-3FE1-4A6A-B46B-3CF48921D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7D85C-76F9-49BE-B7B1-ADDE1576A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6250" t="14584" r="4688" b="9376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3333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c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666880" y="6248160"/>
            <a:ext cx="4114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400" spc="-1" strike="noStrike">
                <a:solidFill>
                  <a:srgbClr val="3333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333cc"/>
                </a:solidFill>
                <a:latin typeface="Arial"/>
              </a:rPr>
              <a:t>&lt;footer&gt;</a:t>
            </a:r>
            <a:r>
              <a:rPr b="1" i="1" lang="en-US" sz="1600" spc="-1" strike="noStrike">
                <a:solidFill>
                  <a:srgbClr val="3333cc"/>
                </a:solidFill>
                <a:latin typeface="Arial"/>
              </a:rPr>
              <a:t>FAA Central Reporting Agency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3333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3333cc"/>
                </a:solidFill>
                <a:latin typeface="Times New Roman"/>
              </a:rPr>
              <a:t>Chart </a:t>
            </a:r>
            <a:fld id="{CD15A0DF-F4C0-4E1A-897C-ACD3471833ED}" type="slidenum">
              <a:rPr b="0" i="1" lang="en-US" sz="1400" spc="-1" strike="noStrike">
                <a:solidFill>
                  <a:srgbClr val="3333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viewer0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Linked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cc"/>
                </a:solidFill>
                <a:latin typeface="Arial"/>
              </a:rPr>
              <a:t>Problem Reports</a:t>
            </a:r>
            <a:endParaRPr b="1" i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2971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IPACG-29/FIT-16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Fukuoka, Japan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October 28, 2008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Gordon Sandell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E71FA-DA71-47E2-B859-0ECBCD9DA4D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Arial"/>
              </a:rPr>
              <a:t>PR-631 - A345 Sending Multiple ADS Reports</a:t>
            </a:r>
            <a:endParaRPr b="1" i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A345 started sending multiple ADS reports ~20 seconds apart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Seen on same airplane the following day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Under investigation by manufacturer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EC64D-2869-459B-B263-27AB1C6E9CD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Arial"/>
              </a:rPr>
              <a:t>Existing PR Updates</a:t>
            </a:r>
            <a:endParaRPr b="1" i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AIMS BP v14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Pr 564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PR 619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B7928-816D-4DD1-B189-773268BB4D2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Arial"/>
              </a:rPr>
              <a:t>AIMS BPv14 on Boeing 777</a:t>
            </a:r>
            <a:endParaRPr b="1" i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AIMS BP v14 fixed one open FIT PR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PR 564 Unable to Send Assigned Block Altitude Report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Response to CONFIRM ASSIGNED ALTITUDE (um135) was limited to dm38 (ASSIGNED ALTITUDE)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Now added the option to send dm77 (ASSIGNED BLOCK)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AIMS BPv14 to be available for retrofit 1Q2009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BC9ED-03D9-4C00-B24F-F8748513E50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Arial"/>
              </a:rPr>
              <a:t>PR 619 - </a:t>
            </a:r>
            <a:r>
              <a:rPr b="1" i="1" lang="en-US" sz="2800" spc="-1" strike="noStrike">
                <a:solidFill>
                  <a:srgbClr val="3333cc"/>
                </a:solidFill>
                <a:latin typeface="Arial"/>
                <a:ea typeface="Arial"/>
              </a:rPr>
              <a:t>Baffling performance differences amongst operators</a:t>
            </a:r>
            <a:endParaRPr b="1" i="1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PR identified differences in ADS downlink delays between operators and between airplane types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B777 shown as having longer delays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Additional analysis by Airways (and others) has shown the B777 issue was a problem with VHF-to-SATCOM transitions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That problem was with VHF router retaining Cat B connections too long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AIMS BP v14 software has replaced the router with a different version not susceptible to this problem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Many thanks to all who participated in the investigation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6BBFC-CAF6-4699-BA40-AA7711E7F92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cc"/>
                </a:solidFill>
                <a:latin typeface="Arial"/>
              </a:rPr>
              <a:t>Questions?</a:t>
            </a:r>
            <a:endParaRPr b="1" i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87470-F621-4178-8FBA-3EAD8037542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cc"/>
                </a:solidFill>
                <a:latin typeface="Arial"/>
              </a:rPr>
              <a:t>Problem Reports</a:t>
            </a:r>
            <a:endParaRPr b="1" i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43000" y="18284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New Problem Report Summary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New Problem Reports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Arial"/>
              </a:rPr>
              <a:t>Problems Reported Since FIT-15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Specific Reports for Discussion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Existing PR Updates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AIMS Blockpoint v14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1676520"/>
            <a:ext cx="822960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5D86B-C43C-46EF-A6DE-0F0A4C4C46C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cc"/>
                </a:solidFill>
                <a:latin typeface="Arial"/>
              </a:rPr>
              <a:t>New Problem Report Summary</a:t>
            </a:r>
            <a:endParaRPr b="1" i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Limited number of reports received since IPACG-28/FIT-15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Some reports documenting multiple events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Some reports duplicates of documented PRs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5 New Problem Reports generated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1600200"/>
            <a:ext cx="822960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C3496-2AAA-4AF5-83DB-FE078504653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cc"/>
                </a:solidFill>
                <a:latin typeface="Arial"/>
              </a:rPr>
              <a:t>New Problem Reports</a:t>
            </a:r>
            <a:endParaRPr b="1" i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685800" y="1828800"/>
          <a:ext cx="8153280" cy="4389480"/>
        </p:xfrm>
        <a:graphic>
          <a:graphicData uri="http://schemas.openxmlformats.org/drawingml/2006/table">
            <a:tbl>
              <a:tblPr/>
              <a:tblGrid>
                <a:gridCol w="685800"/>
                <a:gridCol w="3220920"/>
                <a:gridCol w="966960"/>
                <a:gridCol w="965160"/>
                <a:gridCol w="1324080"/>
                <a:gridCol w="990360"/>
              </a:tblGrid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PR#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Tit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Air/ ground/ lin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Re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Statu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Discuss at FIT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6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Multiple ADS Reports From B77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Ai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SOPA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In wor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6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Missing Time Stamp in WILCO From B77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Ai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NOPA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In wor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6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Missing Performance Data in ADS Waypoint Change Event Report From B74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Ai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SOPA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In wor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838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6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Um83 Caused FMS Reset on B74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Ai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Multip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Ready for Review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59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63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A345 Sending Multiple ADS Repor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Ai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SOPA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In wor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5FE12-28F6-4829-A697-11D9EC2C7EA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808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cc"/>
                </a:solidFill>
                <a:latin typeface="Arial"/>
              </a:rPr>
              <a:t>Specific Reports for Discussion</a:t>
            </a:r>
            <a:endParaRPr b="1" i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3023D-576F-43F7-A17C-EC35FFA13AA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Arial"/>
              </a:rPr>
              <a:t>PR-627 - Multiple ADS Reports From B772</a:t>
            </a:r>
            <a:endParaRPr b="1" i="1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9600" indent="-579600"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ADS waypoint change event reports contained duplicated basic and predicted route groups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579600" indent="-579600"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Periodic reports also included additional reports at a similar rate  to those from a previous FIR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579600" indent="-579600"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Multiple events, multiple airplanes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579600" indent="-579600"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Under investigation by manufacturer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1676520"/>
            <a:ext cx="822960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C23F5-6D95-4E1D-B8A1-1026BF63F8B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Arial"/>
              </a:rPr>
              <a:t>PR-628 - Missing Time Stamp in WILCO From B772</a:t>
            </a:r>
            <a:endParaRPr b="1" i="1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9600" indent="-579600"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WILCO responses from B772 omitted the timestamp 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1436760" indent="-285840"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Multiple events from the same airplanes over several days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1436760" indent="-285840"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A couple of airplanes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579600" indent="-579600"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ADS messages included timestamp, as did other CPDLC messages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579600" indent="-579600"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Still under investigation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1436760" indent="-285840"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ANSPs encouraged to report similar events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579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1676520"/>
            <a:ext cx="822960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36D12-6DF6-4467-9CE0-9E36AE121C9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Arial"/>
              </a:rPr>
              <a:t>PR-629 - Missing Performance Data in ADS Waypoint Change Event Report From B744</a:t>
            </a:r>
            <a:endParaRPr b="1" i="1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9600" indent="-579600"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ADS waypoint change event reports containing default data (indicating no valid performance predictions)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1436760" indent="-285840"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Airplanes that have just executed an offset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1436760" indent="-285840"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Airplanes that have just deleted an offset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1436760" indent="-285840"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Also periodic reports just prior to T/C or T/D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marL="579600" indent="-579600"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ADS function should wait for performance predictions to complete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marL="579600" indent="-579600"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Demand contract can be sent to obtain the missing data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1676520"/>
            <a:ext cx="822960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13CC7-9978-4804-9F7A-99DA8F3F9E7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Arial"/>
              </a:rPr>
              <a:t>PR-630 - Um83 Caused FMS Reset on B744</a:t>
            </a:r>
            <a:endParaRPr b="1" i="1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9600" indent="-579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Tailored arrival uplink caused FMS reset when flight crew selected LOAD FMC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143676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Uplink contained the uplinked “position” parameter as the first element of the route clearance parameter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1436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AT xxxxx CLEARED ROUTE CLEARANCE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1436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VIA                TO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1436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DIRECT         xxxxx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1436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DIRECT         yyyyy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marL="579600" indent="-579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This should be legal but doesn’t make sense and could be confusing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143676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Implied “direct to” downpath fix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marL="579600" indent="-579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Recommendation is to avoid this construct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1676520"/>
            <a:ext cx="822960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5BDF1-FD55-4F91-BA3A-99176AB5745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16T19:55:42Z</dcterms:created>
  <dc:creator>Suzie ness</dc:creator>
  <dc:description/>
  <dc:language>en-US</dc:language>
  <cp:lastModifiedBy>Gordon Sandell</cp:lastModifiedBy>
  <dcterms:modified xsi:type="dcterms:W3CDTF">2008-10-09T19:53:02Z</dcterms:modified>
  <cp:revision>169</cp:revision>
  <dc:subject/>
  <dc:title>CRA PR report</dc:title>
</cp:coreProperties>
</file>