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280" y="61340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30 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1360" y="654048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May 20-22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7840" y="63356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Seattle,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3484440" y="6207120"/>
            <a:ext cx="63972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2292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0" y="5513400"/>
            <a:ext cx="38494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ACG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attle,  Washing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y 20-22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5760" y="295200"/>
            <a:ext cx="57024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eder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viation Administ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DS-C IT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/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756" r="0" b="0"/>
          <a:stretch/>
        </p:blipFill>
        <p:spPr>
          <a:xfrm>
            <a:off x="0" y="3240"/>
            <a:ext cx="9144000" cy="6119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31572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ADS-C ITP</a:t>
            </a:r>
            <a:endParaRPr b="1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3720" y="3944520"/>
            <a:ext cx="817272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dure is based on in-trail Distance Measuring Equipment (DME) rules in ICAO Doc 4444, paragraph 5.4.2.3.2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-10000"/>
          </a:blip>
          <a:srcRect l="0" t="0" r="0" b="23135"/>
          <a:stretch/>
        </p:blipFill>
        <p:spPr>
          <a:xfrm>
            <a:off x="0" y="0"/>
            <a:ext cx="9144000" cy="6148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31572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2fc8e"/>
                </a:solidFill>
                <a:latin typeface="Arial"/>
              </a:rPr>
              <a:t>ADS-C ITP</a:t>
            </a:r>
            <a:endParaRPr b="1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8080" y="1463400"/>
            <a:ext cx="817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A is continuing work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ted A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ision Risk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zard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ur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-38000"/>
          </a:blip>
          <a:stretch/>
        </p:blipFill>
        <p:spPr>
          <a:xfrm>
            <a:off x="1297080" y="587520"/>
            <a:ext cx="6354720" cy="5197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38700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2fc8e"/>
                </a:solidFill>
                <a:latin typeface="Arial"/>
              </a:rPr>
              <a:t>ADS-C ITP</a:t>
            </a:r>
            <a:endParaRPr b="1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2400" y="1377720"/>
            <a:ext cx="83041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93840" indent="-393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09 Go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57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nalize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57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tion of Safety Case Doc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57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A Approv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57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tain ICAO endors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3840" indent="-393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duct Pacific Operational Tr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32000"/>
          </a:blip>
          <a:srcRect l="21253" t="0" r="0" b="20726"/>
          <a:stretch/>
        </p:blipFill>
        <p:spPr>
          <a:xfrm>
            <a:off x="0" y="-396720"/>
            <a:ext cx="9144000" cy="65512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333399"/>
            </a:outerShdw>
          </a:effectLst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5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2fc8e"/>
                </a:solidFill>
                <a:latin typeface="Arial"/>
              </a:rPr>
              <a:t>ADS-C ITP</a:t>
            </a:r>
            <a:endParaRPr b="1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13160" y="739440"/>
            <a:ext cx="3065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ually utilize Ocean21 current function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software chang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392040"/>
            <a:ext cx="729792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2fc8e"/>
                </a:solidFill>
                <a:latin typeface="Arial"/>
              </a:rPr>
              <a:t>ADS-C ITP</a:t>
            </a:r>
            <a:br>
              <a:rPr sz="6600"/>
            </a:br>
            <a:r>
              <a:rPr b="1" lang="en-US" sz="6600" spc="-1" strike="noStrike">
                <a:solidFill>
                  <a:srgbClr val="f2fc8e"/>
                </a:solidFill>
                <a:latin typeface="Arial"/>
              </a:rPr>
              <a:t>Trial Execution</a:t>
            </a:r>
            <a:endParaRPr b="1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3760" y="2625480"/>
            <a:ext cx="7767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fety Management System Monitor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llect Benefit Metric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392040"/>
            <a:ext cx="6875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2fc8e"/>
                </a:solidFill>
                <a:latin typeface="Arial"/>
              </a:rPr>
              <a:t>ADS-C ITP</a:t>
            </a:r>
            <a:endParaRPr b="1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3760" y="1753920"/>
            <a:ext cx="7767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1 and OC2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-1705" t="27209" r="12258" b="10759"/>
          <a:stretch/>
        </p:blipFill>
        <p:spPr>
          <a:xfrm>
            <a:off x="60480" y="0"/>
            <a:ext cx="891216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9600" y="334440"/>
            <a:ext cx="186840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c8e"/>
                </a:solidFill>
                <a:latin typeface="Arial"/>
              </a:rPr>
              <a:t>ADS-C ITP</a:t>
            </a:r>
            <a:br>
              <a:rPr sz="3200"/>
            </a:br>
            <a:r>
              <a:rPr b="1" lang="en-US" sz="3200" spc="-1" strike="noStrike">
                <a:solidFill>
                  <a:srgbClr val="f2fc8e"/>
                </a:solidFill>
                <a:latin typeface="Arial"/>
              </a:rPr>
              <a:t>Check-</a:t>
            </a:r>
            <a:br>
              <a:rPr sz="3200"/>
            </a:br>
            <a:r>
              <a:rPr b="1" lang="en-US" sz="3200" spc="-1" strike="noStrike">
                <a:solidFill>
                  <a:srgbClr val="f2fc8e"/>
                </a:solidFill>
                <a:latin typeface="Arial"/>
              </a:rPr>
              <a:t>lis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6317" t="11386" r="23814" b="12180"/>
          <a:stretch/>
        </p:blipFill>
        <p:spPr>
          <a:xfrm>
            <a:off x="1646280" y="0"/>
            <a:ext cx="72658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38600" y="458640"/>
            <a:ext cx="34668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Braks Etta</cp:lastModifiedBy>
  <dcterms:modified xsi:type="dcterms:W3CDTF">2009-08-06T15:53:40Z</dcterms:modified>
  <cp:revision>328</cp:revision>
  <dc:subject/>
  <dc:title>Oakland ARTCC</dc:title>
</cp:coreProperties>
</file>