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280" y="617220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7BD5-C2A1-43CC-BB91-8D0929FFC4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8-22 May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.kraft@faa.gov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6040" y="4568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Global Operational Data Link Document (GOLD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6006960"/>
            <a:ext cx="40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-22 May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840" y="3397320"/>
            <a:ext cx="503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ACG/30 FIT/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114800"/>
            <a:ext cx="510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Kraft, Chief Scientific and Technical Advisor for Aeronautical Communications, Aviation Safety, Federal Aviation Administ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m.kraft@faa.gov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obile:  +1-202-369-2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9280" y="1752480"/>
            <a:ext cx="4951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tatus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schedul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066680"/>
            <a:ext cx="804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7-18 Nov 08 – GOLD Ad Hoc WG #1 (London) –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6-Feb-09 – distribute initial draft of GOLD – V0.4 –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2-6 Mar 09 – NAT FIG Update (Savannah, GA) –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23-27 Mar 09 – ISPACG Update (Santiago, Chile) –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7-May-09 – distribute GOLD – v0.4.1 –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c07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7200"/>
                </a:solidFill>
                <a:latin typeface="Arial"/>
              </a:rPr>
              <a:t>18-22 May 09 – IPACG Update (Seattle, WA) – 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2-5 Jun 2009 – GOLD/2 (Los Angeles) – Plan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Jul 09 – distribute GOLD for broad review – Plan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p 09 – complete GOLD after broad review – Plan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p 09 – APANPIRG conclusion to endorse – Plan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Jun 10 – NAT SPG conclusion to endorse – Plan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6920" y="762120"/>
            <a:ext cx="604800" cy="5105160"/>
          </a:xfrm>
          <a:prstGeom prst="downArrow">
            <a:avLst>
              <a:gd name="adj1" fmla="val 41731"/>
              <a:gd name="adj2" fmla="val 64637"/>
            </a:avLst>
          </a:prstGeom>
          <a:solidFill>
            <a:srgbClr val="b47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29680" y="1219320"/>
            <a:ext cx="662040" cy="88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72400" y="1752480"/>
            <a:ext cx="4572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098880"/>
            <a:ext cx="18288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4495680"/>
            <a:ext cx="7617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4940280"/>
            <a:ext cx="57168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81880" y="4267080"/>
            <a:ext cx="662040" cy="88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PACG/30 FIT/17 A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is invited t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 Note the information in this paper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 Support the GOLD POCs in compiling comments on the GOLD, v0.4.1, to support the GOLD/2 meeting, 2-5 June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mark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of the G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s for IPACG/30 FIT/1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NPIRG/19 (Sep 08) and NAT SPG/44 (Jun 08) conclusions recognize need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harmonize data link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greatest extent possible, resolve regional and/or State differences impacting seamless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IPACG/29 FIT/16, ICAO Bangkok and FAA presented GOLD Ad Hoc Working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ACG formally endorsed the GOLD and any future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Feb-09 – distributed initial GOLD, v0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through 1-May-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-May-09 – distributed GOLD. V0.4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d updates to GOLD v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 for GOLD/2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version of GOLD inclu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ly all of FOM and NAT GM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terial for performance specifications, post-implementation monitoring and correctiv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table of conten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W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of data link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ve provisions for data li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1 of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table of conten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42004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DLC &amp; ADS-C conn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D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S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C W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ency and non-routine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phraseology related to data link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crew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2 of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table of conten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2677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DLC message elements &amp; standardized fre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P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 performance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implementation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or State-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/aircraft-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8880" y="914400"/>
            <a:ext cx="116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(3 of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tus of GOLD – doc managemen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ve approximately 100 ope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significant issues and propose resolu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complete coverage of source doc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organize the document, simplify text, ensure consistency in style, and streamline the 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email, net meetings, teleconference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LD Ad Hoc Working Group has scheduled a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ce-to-face meeting, 2-5 June 2009, in the Los Angeles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4200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OLD – 2</a:t>
            </a:r>
            <a:r>
              <a:rPr b="1" lang="en-US" sz="3600" spc="-1" strike="noStrike" baseline="30000">
                <a:solidFill>
                  <a:srgbClr val="1d2f68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 meeting registra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1143000"/>
          <a:ext cx="883764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83764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4:07:04Z</dcterms:created>
  <dc:creator>Tom Kraft</dc:creator>
  <dc:description/>
  <cp:keywords/>
  <dc:language>en-US</dc:language>
  <cp:lastModifiedBy>Kraft, Thomas</cp:lastModifiedBy>
  <cp:lastPrinted>1999-05-01T20:41:40Z</cp:lastPrinted>
  <dcterms:modified xsi:type="dcterms:W3CDTF">2009-05-17T14:02:07Z</dcterms:modified>
  <cp:revision>891</cp:revision>
  <dc:subject>Mobility and integration</dc:subject>
  <dc:title>Aeronautical communications</dc:title>
</cp:coreProperties>
</file>