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885-9C2D-4E7E-9FDF-6A9E9B53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EE4-0FBD-4CD9-8A0D-096D9CDC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427-97A7-40AA-A36A-78DAB1BE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5DB-2DE3-4454-BDB0-61DE550D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30F-0764-4D24-94A6-7D9E65A5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1A0-7203-4459-8CBB-8428CAC5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73B-0653-464A-A6C5-56F6DF7D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6D0-4ED6-4899-BCDA-20E2C935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3DE-8958-42C5-95EB-80B02BD3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F4A-8A12-43BB-A9B0-E0955651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16D-BDC8-41B1-89D6-6E8586D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59B-A927-4C62-B611-1825DD0D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250" t="14584" r="4688" b="9376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1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FAA Central Reporting Agency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Chart </a:t>
            </a:r>
            <a:fld id="{2BDFB5DF-D565-496A-A627-51CBC8C41768}" type="slidenum"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340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PACG-30/FIT-17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attle, W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y 19, 2009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rdon Sandel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370-4AA2-466E-8BC4-3E82734DD46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3311280"/>
        </p:xfrm>
        <a:graphic>
          <a:graphicData uri="http://schemas.openxmlformats.org/drawingml/2006/table">
            <a:tbl>
              <a:tblPr/>
              <a:tblGrid>
                <a:gridCol w="533520"/>
                <a:gridCol w="2112480"/>
                <a:gridCol w="736200"/>
                <a:gridCol w="628200"/>
                <a:gridCol w="739080"/>
                <a:gridCol w="791640"/>
                <a:gridCol w="2231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rroneous Flight Number Entry</a:t>
                      </a: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esson Lear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uelling ATC Centers</a:t>
                      </a: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7 - </a:t>
                      </a: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ew Message Shown as ACCEP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767 - ATC Messages Not Delivered</a:t>
                      </a: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E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7F0-F086-4C2A-A850-7C297BF5EE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Specific Reports for Discussion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ronic ADS-C Issu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380 P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ther Noteworthy P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CB1-D53D-4823-982B-9FBDACF46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2720" y="682560"/>
            <a:ext cx="7340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hronic ADS-C Issue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Intent Data included in Repor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43 - B744s not Supplying Intent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orted numerous times from Tailored Arrivals tri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ill under investig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B13-1F71-4550-8B44-AE7324D882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hronic ADS-C Issue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orts with Incorrect ETA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36 - Frequent Occurrence of ADS-C Periodic Reports with Erroneous Next Waypoint Estimat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bserved with multiple airplane models and manufacture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uplicate ADS Repor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80 - Large Number of Duplicate ADS Reports from Multiple Airplane Mode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72/3’s are prime offende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so received from A330, A340, and B744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DB3-8E01-44AB-9A02-D83240E2A8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A380 PR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52 - A380 - Rejects Multi-Element Uplink Containing [routeclearance] Eleme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irbus will certify a new A380 ATC software (CLA3.x) that will correct this issue, allowing freetext message combination to route clearanc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60 - A380 - Rejects Multi-Element Uplink Containing Position Report Reques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tion Report request must be uplinked as single element mess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403-AF66-404F-9CA2-EB6A6DA90D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A380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77 - A380 - No CPDLC Following Second CR1 from ND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omaly occurred when two CR1 messages were received from ND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PDLC is not able to answer to CPDLC messag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recover CPDLC by resetting ATC system on airplan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81 - A380 - Intermittent CR1 Rejec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PDLC connections occasionally denied with an ACARS label HX (SMI REJ) rather than with normal DR1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recover CPDLC by resetting ATC system on airplan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rbus will certify a new A380 ATC software  (CLA3.x) that will correct this issu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F34-8A5D-4DA2-9127-35601363F6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53 - B744 - Amended Route Clearance Loads Differently to Route 1 and Route 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SU reported that uplinked element 83 resulted in complete route replacement, not modific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iscovered via testing at Boeing that element loads differently to active RTE 1 (loads correctly) and identical active RTE 2 (loads incorrectl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 known issue with active RTE 1 vs active RTE 2 in nearly 20 years of operation…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607-C114-4E98-AE0A-5E1277E352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54 - ATSU Incorrectly Paring NDA and EOS in Same Mess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ailed transfers to new ATSU attributed to illegal paring of Next Data Authority and End Service message elem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 requirements, such a paring results in disconnect of active and inactive connection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62 - A320 - Rejects 'Due To Airspace Restriction' When sent in Single Element Uplin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verse of soon-to-be corrected PR 65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338-8746-4346-BA07-DB286ACEE1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85 - Data Missing from Media Advisor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blem with a particular CMU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nufacturer intends to correct problem in software being developed for 747-8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lan for other airplane models TBD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91 - B772 - Incorrect Ref Lat/Lon for PB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tional lat/lon appeared to correlate to PBD rather than position of parent waypoi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f interest because the problem shows as corrected in AIMS Block Point 98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7D1-1262-449D-8CC2-4A247D9C08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93 - A380 - Disproportionate Number of Uplinks Routed Via HF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havior was result of DSP's routing configuration in their ATC Gateway that handles ATS internetworking 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figuration change recently made to correct this problem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d configuration change correct the problem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96 - Erroneous Flight Number Entr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light crew entered flight number for logon with leading zero (XXX0nn instead of XXXnn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son learned/reminder to use the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file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flight identifier for the log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E65-FD72-421C-BC74-6EE206AA50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Problem Report Summar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Problem Repor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Problems Reported Since FIT-16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ific Reports for Discuss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11A-1A12-420F-B2F6-4BC9CF3551D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697 - Duelling ATC Cent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rplane scheduled to transfer from one ATC center to another and bac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nsfer began normally, and established inactive (NEXT CENTER) connec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center (although not yet the active center) initiated a transfer back to the original cent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rst center then reestablished CPDLC and reinitiated a transfer back to the second cent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s happened 8 times in a period of 37 minutes until the transfer occurr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center sent a free text request indicating CPDLC wasn’t working well and asking the crew to log off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rplane then logged back on to the first center 12 minutes after the transfer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F29-DF46-4D34-BDAA-57B2923A5C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98 - B777 - New Message Shown as ACCEPT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fter the transfers in PR697, airplane received an uplink shown as ACCEPT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rew couldn’t cancel the uplin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ACCEPT (WILCO) response actually se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blem is a display anoma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der investig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2DC-34BC-4A0B-85FD-4723DE965D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ther Noteworthy PR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 699 - B767 – ATC Messages Not Delive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rmal logon in VHF cover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eated logon (incomplete) at edge of VHF cover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other CPDLC, AFN, ADS downlin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ther SATCOM messages O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ceived UNABLE TO SEND scratchpad messag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eat of problem seen with several CMU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9B4-1008-4D51-8FB8-E12EC6030D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2720" y="682560"/>
            <a:ext cx="7340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7AD-9916-4E3B-9C74-99DB59119782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1800" y="67320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 Summary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7 North/South Pacific Problem Reports generat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itional 24 categorized as duplicates or non-proble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7CE-6A4C-4C68-9A60-72537E0402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676520"/>
          <a:ext cx="8458200" cy="4417920"/>
        </p:xfrm>
        <a:graphic>
          <a:graphicData uri="http://schemas.openxmlformats.org/drawingml/2006/table">
            <a:tbl>
              <a:tblPr/>
              <a:tblGrid>
                <a:gridCol w="581040"/>
                <a:gridCol w="2298600"/>
                <a:gridCol w="723960"/>
                <a:gridCol w="625680"/>
                <a:gridCol w="830160"/>
                <a:gridCol w="711000"/>
                <a:gridCol w="26877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fficulty Establishing CPDLC connection with A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45 - Incorrect Estimate Following Weather Deviation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ssue expected for correction with Honeywell FMS release 1A to be certified by 1Q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45 - Unable to establish ADS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FANS A+ corrects this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Frequent Occurrence of ADS-C Periodic Reports with Erroneous Next Waypoint Estim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64 - Bad Perfor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aiting for 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C35 - Bad Perfor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32/333 Bad Perfor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SPs Asked to Reconsider Logic for Transition from VHF to Satcom to Satisfy DO306 Requireme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TSU Considered Duplicate DR1 Downlink as Va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616-F4C1-43A8-A687-8ECA636D0D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76520"/>
          <a:ext cx="8229600" cy="4562280"/>
        </p:xfrm>
        <a:graphic>
          <a:graphicData uri="http://schemas.openxmlformats.org/drawingml/2006/table">
            <a:tbl>
              <a:tblPr/>
              <a:tblGrid>
                <a:gridCol w="565200"/>
                <a:gridCol w="2236680"/>
                <a:gridCol w="703440"/>
                <a:gridCol w="685800"/>
                <a:gridCol w="761760"/>
                <a:gridCol w="762120"/>
                <a:gridCol w="25146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s not Supplying Intent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Unable to Communicate with Airplane after Transition to Sat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plane apparently was not sending Satcom Established Media Advisory when SATCOM is establis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First 2 ADS-C Intermediate Intent Points are Ident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7 - Erroneous ETA for First Intermediate Intent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Erroneous ETA for First Intermediate Intent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Numerous FN_CON Messages Received During 1 Hour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Unable to Establish CPDLC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ossible FMC rese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"Lost" CPDLC Uplink During GES Tran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Rejects Multi-Element Uplink Containing [routeclearance] E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bus will certify a new A380 ATC software (CLA3.x) that will correct this issue, allowing freetext message combination to route clearan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E5E-C3CB-4308-90E4-D1BC33AB00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6520"/>
          <a:ext cx="8229600" cy="4601880"/>
        </p:xfrm>
        <a:graphic>
          <a:graphicData uri="http://schemas.openxmlformats.org/drawingml/2006/table">
            <a:tbl>
              <a:tblPr/>
              <a:tblGrid>
                <a:gridCol w="565200"/>
                <a:gridCol w="2236680"/>
                <a:gridCol w="703440"/>
                <a:gridCol w="741240"/>
                <a:gridCol w="782640"/>
                <a:gridCol w="685800"/>
                <a:gridCol w="25146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Amended Route Clearance Loads Differently to Route 1 and Rout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aiting for 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TSU Incorrectly Paring NDA and EOS in Same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7 - Poor Performance at VHF to Satcom Tran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No LOAD FMC Prompt for Uplinked Route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Rejects Multi-Element Uplink Containing Position Report Requ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ogon Rejected by ATSU due to ACARS vs FMC Registration Number Mis-m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rew procedure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20 - Rejects 'Due To Airspace Restriction' When sent in Single Element Up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Unable to Connect to Aircraft due to DSP not Forwarding Media Advis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aiting for 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dd Intercept and MAS-F Received for one MD-11 Operat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aiting for 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967-CA93-4229-9EEF-38306E5D48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752480"/>
          <a:ext cx="8229600" cy="4410360"/>
        </p:xfrm>
        <a:graphic>
          <a:graphicData uri="http://schemas.openxmlformats.org/drawingml/2006/table">
            <a:tbl>
              <a:tblPr/>
              <a:tblGrid>
                <a:gridCol w="565200"/>
                <a:gridCol w="2236680"/>
                <a:gridCol w="703440"/>
                <a:gridCol w="741240"/>
                <a:gridCol w="782640"/>
                <a:gridCol w="533520"/>
                <a:gridCol w="26668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Uplinked Climb Instruction no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atalink Lost with A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Unexpected ADS-C Lateral Deviation Event Report 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ew ATSU - GS Sometimes Ignores Connect Confirm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gro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38 - Incorrect IPI Bearing and Dista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38 - Incorrect Intent Data at Change of UTC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No CPDLC Following Second CR1 from 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32 - Position Report Received which Appeared to be from Previous Route 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arge Number of Duplicate ADS Reports from Multiple Airplane Mod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A90-4472-44F6-83A8-39F2598EC2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62400"/>
        </p:xfrm>
        <a:graphic>
          <a:graphicData uri="http://schemas.openxmlformats.org/drawingml/2006/table">
            <a:tbl>
              <a:tblPr/>
              <a:tblGrid>
                <a:gridCol w="565200"/>
                <a:gridCol w="2236680"/>
                <a:gridCol w="779400"/>
                <a:gridCol w="665280"/>
                <a:gridCol w="706320"/>
                <a:gridCol w="1295640"/>
                <a:gridCol w="1981080"/>
              </a:tblGrid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Intermittent CR1 Re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bus will certify a new A380 ATC software  (CLA3.x) that will correct this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 Incorrect ADS Estimate in Both WPR and On-Demand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Bad Perfor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ata Missing from Media Advis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No CPDLC or ADS-C - Suspected Issue with MU Media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Loss of CPDLC and ADS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44 - CPDLC and ADS-C Lost When Airplane Left VHF Co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481-33FA-4664-863F-8F092CAA41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 (cont’d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81080"/>
          <a:ext cx="7772400" cy="3384360"/>
        </p:xfrm>
        <a:graphic>
          <a:graphicData uri="http://schemas.openxmlformats.org/drawingml/2006/table">
            <a:tbl>
              <a:tblPr/>
              <a:tblGrid>
                <a:gridCol w="533520"/>
                <a:gridCol w="2112480"/>
                <a:gridCol w="736200"/>
                <a:gridCol w="628200"/>
                <a:gridCol w="739080"/>
                <a:gridCol w="791640"/>
                <a:gridCol w="223128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 ground/ 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scuss at FI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32 - Unexpected CPDLC Error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772 - Incorrect Ref Lat/Lon for P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oblem with same description closed in Block Point 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Disproportionate Number of Uplinks Routed Via H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ehavior was result of DSP's routing configuration in their ATC Gateway that handles ATS internetworking.   Configuration change made to correct this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380 - Pilot Defined Waypoints Limited to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o P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723-5227-4344-AC5B-75C8F5AAB3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9:55:42Z</dcterms:created>
  <dc:creator>Suzie ness</dc:creator>
  <dc:description/>
  <dc:language>en-US</dc:language>
  <cp:lastModifiedBy>Gordon Sandell</cp:lastModifiedBy>
  <dcterms:modified xsi:type="dcterms:W3CDTF">2009-05-13T12:11:14Z</dcterms:modified>
  <cp:revision>170</cp:revision>
  <dc:subject/>
  <dc:title>CRA PR report</dc:title>
</cp:coreProperties>
</file>