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F6F-EA82-4D6B-81A1-5AB4EA7B30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8-22 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4568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Global Operational Data Link Document (GOLD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22 May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97320"/>
            <a:ext cx="50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CG/30 FIT/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14800"/>
            <a:ext cx="510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1752480"/>
            <a:ext cx="4951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atu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schedul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066680"/>
            <a:ext cx="804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7-18 Nov 08 – GOLD Ad Hoc WG #1 (London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6-Feb-09 – distribute initial draft of GOLD – V0.4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-6 Mar 09 – NAT FIG Update (Savannah, GA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3-27 Mar 09 – ISPACG Update (Santiago, Chile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7-May-09 – distribute GOLD – v0.4.1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c07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7200"/>
                </a:solidFill>
                <a:latin typeface="Arial"/>
              </a:rPr>
              <a:t>18-22 May 09 – IPACG Update (Seattle, WA) –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2-5 Jun 2009 – GOLD/2 (Los Angeles)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Jul 09 – distribute GOLD for broad review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p 09 – complete GOLD after broad review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p 09 – APANPIRG conclusion to endorse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Jun 10 – NAT SPG conclusion to endorse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6920" y="762120"/>
            <a:ext cx="604800" cy="5105160"/>
          </a:xfrm>
          <a:prstGeom prst="downArrow">
            <a:avLst>
              <a:gd name="adj1" fmla="val 41731"/>
              <a:gd name="adj2" fmla="val 64637"/>
            </a:avLst>
          </a:prstGeom>
          <a:solidFill>
            <a:srgbClr val="b4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29680" y="1219320"/>
            <a:ext cx="662040" cy="88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1752480"/>
            <a:ext cx="4572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098880"/>
            <a:ext cx="18288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4495680"/>
            <a:ext cx="7617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940280"/>
            <a:ext cx="57168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1880" y="4267080"/>
            <a:ext cx="662040" cy="88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PACG/30 FIT/17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is invited t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 Note the information in this paper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Support the GOLD POCs in compiling comments on the GOLD, v0.4.1, to support the GOLD/2 meeting, 2-5 Jun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of the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 for IPACG/30 FIT/1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NPIRG/19 (Sep 08) and NAT SPG/44 (Jun 08) conclusions recognize need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 data link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greatest extent possible, resolve regional and/or State differences impacting seamless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IPACG/29 FIT/16, ICAO Bangkok and FAA presented GOLD Ad Hoc Working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formally endorsed the GOLD and any future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eb-09 – distributed initial GOLD, v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through 1-May-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-May-09 – distributed GOLD. V0.4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updates to GOLD v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or GOLD/2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of GOLD incl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all of FOM and NAT GM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terial for performance specifications, post-implementation monitoring and correctiv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data link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provisions for data 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1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42004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DLC &amp; ADS-C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D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C W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cy and non-routin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phraseology related to data link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rew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2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2677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DLC message elements &amp; standardized fre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P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 performanc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or State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/aircraft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3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doc managemen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 approximately 100 ope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significant issues and propose resolu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complete coverage of source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organize the document, simplify text, ensure consistency in style, and streamline 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email, net meetings, teleconferenc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D Ad Hoc Working Group has scheduled a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ce-to-face meeting, 2-5 June 2009, in the Los Angeles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4200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– 2</a:t>
            </a:r>
            <a:r>
              <a:rPr b="1" lang="en-US" sz="3600" spc="-1" strike="noStrike" baseline="30000">
                <a:solidFill>
                  <a:srgbClr val="1d2f68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meeting registr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143000"/>
          <a:ext cx="883764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83764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9-05-17T14:02:07Z</dcterms:modified>
  <cp:revision>891</cp:revision>
  <dc:subject>Mobility and integration</dc:subject>
  <dc:title>Aeronautical communications</dc:title>
</cp:coreProperties>
</file>