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4996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3817800"/>
            <a:ext cx="804996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8178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8400" y="38178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5120" y="15238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38178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5120" y="38178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8178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4996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499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38178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4996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8400" y="38178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3817800"/>
            <a:ext cx="804996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4996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3817800"/>
            <a:ext cx="804996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38178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8400" y="38178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5120" y="15238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52388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38178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5120" y="38178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81780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499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38178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8400" y="381780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8400" y="152388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3817800"/>
            <a:ext cx="804996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499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49280" y="6205680"/>
            <a:ext cx="4784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MAY 10-13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7859-3884-4A61-8657-7F423BB8EC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6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324160" y="1171440"/>
            <a:ext cx="4495320" cy="4514760"/>
            <a:chOff x="2324160" y="1171440"/>
            <a:chExt cx="4495320" cy="4514760"/>
          </a:xfrm>
        </p:grpSpPr>
        <p:sp>
          <p:nvSpPr>
            <p:cNvPr id="87" name="Puzzle3"/>
            <p:cNvSpPr/>
            <p:nvPr/>
          </p:nvSpPr>
          <p:spPr>
            <a:xfrm>
              <a:off x="4513320" y="1171440"/>
              <a:ext cx="1766880" cy="239940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uzzle2"/>
            <p:cNvSpPr/>
            <p:nvPr/>
          </p:nvSpPr>
          <p:spPr>
            <a:xfrm>
              <a:off x="3999240" y="2919240"/>
              <a:ext cx="2820240" cy="21852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uzzle4"/>
            <p:cNvSpPr/>
            <p:nvPr/>
          </p:nvSpPr>
          <p:spPr>
            <a:xfrm>
              <a:off x="2907720" y="289224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uzzle1"/>
            <p:cNvSpPr/>
            <p:nvPr/>
          </p:nvSpPr>
          <p:spPr>
            <a:xfrm>
              <a:off x="2324160" y="189720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705720" y="1676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FM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809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600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FM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733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FM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5105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FM Terminol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1039320"/>
            <a:ext cx="5181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9.  Common ATFM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 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2  ATFM Messag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3 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4  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5 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8920"/>
          <a:stretch/>
        </p:blipFill>
        <p:spPr>
          <a:xfrm>
            <a:off x="5181480" y="1219320"/>
            <a:ext cx="3219480" cy="438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-26000"/>
          </a:blip>
          <a:stretch/>
        </p:blipFill>
        <p:spPr>
          <a:xfrm>
            <a:off x="762120" y="914400"/>
            <a:ext cx="7696080" cy="480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609480" y="1350360"/>
            <a:ext cx="7620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1.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1  Definition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  Philosophy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3  Benefits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 Purpose of this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-8000"/>
          </a:blip>
          <a:stretch/>
        </p:blipFill>
        <p:spPr>
          <a:xfrm>
            <a:off x="609480" y="806400"/>
            <a:ext cx="7848720" cy="475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09480" y="1112040"/>
            <a:ext cx="80409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2.  Foundational Principles of AT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1  Objectives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nciples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  Collaborative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1 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2 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3  CDM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-24000"/>
          </a:blip>
          <a:srcRect l="0" t="11712" r="1704" b="0"/>
          <a:stretch/>
        </p:blipFill>
        <p:spPr>
          <a:xfrm>
            <a:off x="838080" y="606600"/>
            <a:ext cx="7464600" cy="4981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33520" y="11527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 2.  Foundational Principles of ATF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  Collaborative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4  Requirements and Benefits of C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5  Civil-Military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6  CDM Organization and a Sampl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3.7 Global CDM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457200" y="762120"/>
            <a:ext cx="8153280" cy="480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80880" y="127296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pter 3.  ATFM Develop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  Application of Air Traffic Flow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FM Development Strategy:  Initial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3  ATFM Development Strategy:  Intermediat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4  ATFM Development Strategy:  Advanced Step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1116360"/>
            <a:ext cx="4953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4.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1  Information 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  Fligh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3  Meteorological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4  Tool 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05520" y="762120"/>
            <a:ext cx="3581280" cy="498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969840"/>
            <a:ext cx="44197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5. 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1 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2  Stakeholder ATFM      Communicati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3  The International Language of AT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4  Coordination of ATFM Information and Traffic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Initi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5  Exchanging ATFM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6  Operation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1508040"/>
            <a:ext cx="4647960" cy="372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031400"/>
            <a:ext cx="8686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6. Demand and Capacity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7.  Establishing the Aerodrome Acceptanc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1 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2  Determining the Aerodrome Acceptance Ra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3  Aerodrome Departur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4  Total Aerodrom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20088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8.  Establishing the Secto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1 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1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  Determining the Sector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ATFM Manual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477120" cy="291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16:52:39Z</dcterms:created>
  <dc:creator> </dc:creator>
  <dc:description/>
  <dc:language>en-US</dc:language>
  <cp:lastModifiedBy>Timothy</cp:lastModifiedBy>
  <dcterms:modified xsi:type="dcterms:W3CDTF">2010-05-11T19:32:13Z</dcterms:modified>
  <cp:revision>301</cp:revision>
  <dc:subject/>
  <dc:title>Introduction to Traffic Situation Display (TSD) 8.2 </dc:title>
</cp:coreProperties>
</file>