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123-BAD4-4F8C-9279-891DF4B7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012-4451-4BEF-B4AF-927453B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FF3-69F8-4139-9A95-2E930EFF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4A1-7EBB-4B62-B776-53C2F8E9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0DEC-8B86-4373-968F-A5BE7DDA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6FD7-9BED-452C-B0D8-38BC85FF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B78-DD0B-4354-878F-B424FCFB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6AC8-29FB-42CA-929C-3719F2A5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8644-182B-4FDF-9332-CA1607EA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D582-B3A0-4109-AE21-11B413D0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8582-AA22-449F-9A7A-54BDE060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161-F634-496E-945F-DE957A54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10C4-69C2-48A5-BC39-820ABA00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CD4E-0C0B-4B92-A9E3-ED888C8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2636-76ED-4231-A21C-9FED7F52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FDE1-1B28-4EA3-A04A-6DEDCA1E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6086-3ECA-45BC-BABD-C9BF4E55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5D172-FA28-4F8E-94AF-8A6F70A1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936D-5BBC-4D15-94B6-C4FE975E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15C8-0B91-4027-BE8E-E313009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425A-7C5B-4690-965E-4DA1BC7D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DFDF-EB00-45EC-86CF-02094291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BAF-322A-4561-8A97-325CF3F4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C615-51FF-44F7-900E-56233D7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E4A2-1548-4BF5-9569-BAEEE72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68EA-E041-4DA6-AC66-E89F3FBC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448B-5C64-41AD-8ABE-56EDD758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A3B9-35BD-4BCE-93F8-D43554C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AEFC-9E0A-4CC1-B0DA-81A1FD54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B6CCF-5E76-40CB-933F-38F4DA3E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45535-F944-4B1E-8BAA-BC1AA148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CDF9-E6AA-447C-9DA3-806502B5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E397A-C5E0-4CE0-AE0D-8898E9A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927-048D-40F0-AACE-9467B9A0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261E-5947-4B4E-8F9C-A54CD30F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FB7A6-CD92-41F3-AE5A-E99EEFFD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0AD50-7539-4034-94EA-E04ADE28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3320-EECF-46BD-982B-B6CB71B5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ACDD-22B5-4F9C-B594-AD82A6C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408F-E9E3-4D95-8C2E-9CF8317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074E-B88D-4857-BA59-AB500F44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C8CC0-CF91-45EB-BB19-050195AC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5172-BAE7-4284-AF18-DD71C48E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4A1A8-2281-4C12-862E-ACE237FD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6C1-D85A-44B9-8388-DE3B5659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92E16-40D2-4478-9B07-3865AD0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E47C1-8BA3-4336-8BDC-3F928FCC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DA47-DBF7-47BF-B53A-4FD68B27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6A1F7-CA41-4FDE-B86D-D073DA7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2644-7995-419F-AFBC-B0F90AD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0047-EFF6-41F2-97C2-75A5D91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9D515-7903-4DC1-8413-2FF82EF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8DB76-D68B-4E3E-89DF-B1CAC673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68673-C1E0-498A-9FF4-7A10495F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E31D-264B-4665-A320-82296B49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230-3B7B-4A06-ADA5-8ED0D07E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5B3A-0CF8-48BF-8FD4-C30FB4E3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1B8-50FF-431C-B5C8-FEC8AE9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6C4C-5459-44EC-B2DA-32AEBECE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623-B936-4018-AF88-8289E2C4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6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4549-5D68-4516-889C-8F0832A2E2B0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0F7D-F5BE-487E-9412-17FE84D32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914400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0" y="4800600"/>
              <a:ext cx="9144000" cy="2057400"/>
              <a:chOff x="0" y="4800600"/>
              <a:chExt cx="9144000" cy="205740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0" y="48006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"/>
              <p:cNvSpPr/>
              <p:nvPr/>
            </p:nvSpPr>
            <p:spPr>
              <a:xfrm>
                <a:off x="0" y="5334120"/>
                <a:ext cx="9144000" cy="152388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4648320" y="5105520"/>
                <a:ext cx="4494960" cy="1752120"/>
                <a:chOff x="4648320" y="5105520"/>
                <a:chExt cx="4494960" cy="1752120"/>
              </a:xfrm>
            </p:grpSpPr>
            <p:sp>
              <p:nvSpPr>
                <p:cNvPr id="98" name="Freeform 8"/>
                <p:cNvSpPr/>
                <p:nvPr/>
              </p:nvSpPr>
              <p:spPr>
                <a:xfrm>
                  <a:off x="4685040" y="5105520"/>
                  <a:ext cx="4458240" cy="1752120"/>
                </a:xfrm>
                <a:custGeom>
                  <a:avLst/>
                  <a:gdLst>
                    <a:gd name="textAreaLeft" fmla="*/ 0 w 4458240"/>
                    <a:gd name="textAreaRight" fmla="*/ 4458600 w 4458240"/>
                    <a:gd name="textAreaTop" fmla="*/ 0 h 1752120"/>
                    <a:gd name="textAreaBottom" fmla="*/ 1752480 h 175212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" name="Group 9"/>
                <p:cNvGrpSpPr/>
                <p:nvPr/>
              </p:nvGrpSpPr>
              <p:grpSpPr>
                <a:xfrm>
                  <a:off x="4648320" y="5158440"/>
                  <a:ext cx="4494600" cy="1562760"/>
                  <a:chOff x="4648320" y="5158440"/>
                  <a:chExt cx="4494600" cy="1562760"/>
                </a:xfrm>
              </p:grpSpPr>
              <p:sp>
                <p:nvSpPr>
                  <p:cNvPr id="100" name="Freeform 10"/>
                  <p:cNvSpPr/>
                  <p:nvPr/>
                </p:nvSpPr>
                <p:spPr>
                  <a:xfrm>
                    <a:off x="7478640" y="5158440"/>
                    <a:ext cx="1664280" cy="1532880"/>
                  </a:xfrm>
                  <a:custGeom>
                    <a:avLst/>
                    <a:gdLst>
                      <a:gd name="textAreaLeft" fmla="*/ 0 w 1664280"/>
                      <a:gd name="textAreaRight" fmla="*/ 1664640 w 1664280"/>
                      <a:gd name="textAreaTop" fmla="*/ 0 h 1532880"/>
                      <a:gd name="textAreaBottom" fmla="*/ 1533240 h 153288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1"/>
                  <p:cNvSpPr/>
                  <p:nvPr/>
                </p:nvSpPr>
                <p:spPr>
                  <a:xfrm>
                    <a:off x="4648320" y="5238360"/>
                    <a:ext cx="2453040" cy="1482840"/>
                  </a:xfrm>
                  <a:custGeom>
                    <a:avLst/>
                    <a:gdLst>
                      <a:gd name="textAreaLeft" fmla="*/ 0 w 2453040"/>
                      <a:gd name="textAreaRight" fmla="*/ 2453400 w 2453040"/>
                      <a:gd name="textAreaTop" fmla="*/ 0 h 1482840"/>
                      <a:gd name="textAreaBottom" fmla="*/ 1483200 h 148284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FB1-6800-4EB6-9C4E-65E2FBBA5882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146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149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151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421E-0061-4AC4-96EF-4B4C07123C0D}" type="datetime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2FF1-E896-4E6B-ADF1-5941CEB0F5F5}" type="slidenum">
              <a:rPr b="0" lang="ja-JP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2A76-609C-4864-9A42-30EA07DBC9F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37FF-90F8-45DD-933F-247BA697B3E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8c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TMC presentation IPACG/3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0-1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raffic Managemen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lexible use of Oceanic Sectors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(IP/19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242856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efficiency of AT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sector operate depends on the PACOTS’s traffic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C will review PACOTS and UPR connection to NOPAC and effective gateway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Flexible (East) Sector (A03</a:t>
            </a:r>
            <a:r>
              <a:rPr b="0" lang="ja-JP" sz="4000" spc="-1" strike="noStrike">
                <a:solidFill>
                  <a:srgbClr val="000000"/>
                </a:solidFill>
                <a:latin typeface="ＭＳ Ｐゴシック"/>
              </a:rPr>
              <a:t>）  </a:t>
            </a:r>
            <a:r>
              <a:rPr b="0" lang="en-US" sz="4000" spc="-1" strike="noStrike">
                <a:solidFill>
                  <a:srgbClr val="000000"/>
                </a:solidFill>
                <a:latin typeface="ＭＳ Ｐゴシック"/>
              </a:rPr>
              <a:t>IP/1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785880" y="107172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41" name="テキスト ボックス 15"/>
          <p:cNvSpPr/>
          <p:nvPr/>
        </p:nvSpPr>
        <p:spPr>
          <a:xfrm>
            <a:off x="4500720" y="3214800"/>
            <a:ext cx="22860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lexible (East)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16"/>
          <p:cNvSpPr/>
          <p:nvPr/>
        </p:nvSpPr>
        <p:spPr>
          <a:xfrm>
            <a:off x="2714760" y="4929120"/>
            <a:ext cx="1571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613N14723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テキスト ボックス 18"/>
          <p:cNvSpPr/>
          <p:nvPr/>
        </p:nvSpPr>
        <p:spPr>
          <a:xfrm>
            <a:off x="4786200" y="4714920"/>
            <a:ext cx="2286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East 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テキスト ボックス 19" descr=""/>
          <p:cNvPicPr/>
          <p:nvPr/>
        </p:nvPicPr>
        <p:blipFill>
          <a:blip r:embed="rId2"/>
          <a:stretch/>
        </p:blipFill>
        <p:spPr>
          <a:xfrm>
            <a:off x="5065560" y="2517840"/>
            <a:ext cx="2298960" cy="706320"/>
          </a:xfrm>
          <a:prstGeom prst="rect">
            <a:avLst/>
          </a:prstGeom>
          <a:ln w="0">
            <a:noFill/>
          </a:ln>
        </p:spPr>
      </p:pic>
      <p:sp>
        <p:nvSpPr>
          <p:cNvPr id="245" name="直線コネクタ 14"/>
          <p:cNvSpPr/>
          <p:nvPr/>
        </p:nvSpPr>
        <p:spPr>
          <a:xfrm flipV="1">
            <a:off x="3071880" y="3985920"/>
            <a:ext cx="4467240" cy="94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線コネクタ 16"/>
          <p:cNvSpPr/>
          <p:nvPr/>
        </p:nvSpPr>
        <p:spPr>
          <a:xfrm flipV="1">
            <a:off x="3071160" y="1213920"/>
            <a:ext cx="3071880" cy="3714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線コネクタ 18"/>
          <p:cNvSpPr/>
          <p:nvPr/>
        </p:nvSpPr>
        <p:spPr>
          <a:xfrm>
            <a:off x="6134040" y="1204920"/>
            <a:ext cx="766800" cy="714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線コネクタ 20"/>
          <p:cNvSpPr/>
          <p:nvPr/>
        </p:nvSpPr>
        <p:spPr>
          <a:xfrm>
            <a:off x="6896160" y="1924200"/>
            <a:ext cx="604800" cy="2076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線コネクタ 30"/>
          <p:cNvSpPr/>
          <p:nvPr/>
        </p:nvSpPr>
        <p:spPr>
          <a:xfrm>
            <a:off x="7543800" y="4057560"/>
            <a:ext cx="628560" cy="24098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線コネクタ 32"/>
          <p:cNvSpPr/>
          <p:nvPr/>
        </p:nvSpPr>
        <p:spPr>
          <a:xfrm flipH="1">
            <a:off x="7915320" y="6466680"/>
            <a:ext cx="257040" cy="2286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線コネクタ 34"/>
          <p:cNvSpPr/>
          <p:nvPr/>
        </p:nvSpPr>
        <p:spPr>
          <a:xfrm flipH="1" flipV="1">
            <a:off x="3467160" y="6705720"/>
            <a:ext cx="4462560" cy="93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線コネクタ 36"/>
          <p:cNvSpPr/>
          <p:nvPr/>
        </p:nvSpPr>
        <p:spPr>
          <a:xfrm flipH="1" flipV="1">
            <a:off x="2999880" y="6105240"/>
            <a:ext cx="500040" cy="60948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線コネクタ 38"/>
          <p:cNvSpPr/>
          <p:nvPr/>
        </p:nvSpPr>
        <p:spPr>
          <a:xfrm flipH="1">
            <a:off x="2809800" y="6081120"/>
            <a:ext cx="185760" cy="428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線コネクタ 40"/>
          <p:cNvSpPr/>
          <p:nvPr/>
        </p:nvSpPr>
        <p:spPr>
          <a:xfrm flipH="1" flipV="1">
            <a:off x="2242800" y="5909760"/>
            <a:ext cx="576360" cy="2048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線コネクタ 43"/>
          <p:cNvSpPr/>
          <p:nvPr/>
        </p:nvSpPr>
        <p:spPr>
          <a:xfrm flipV="1">
            <a:off x="2214720" y="5086080"/>
            <a:ext cx="357120" cy="8427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線コネクタ 45"/>
          <p:cNvSpPr/>
          <p:nvPr/>
        </p:nvSpPr>
        <p:spPr>
          <a:xfrm flipV="1">
            <a:off x="2567160" y="4952520"/>
            <a:ext cx="504720" cy="1191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線コネクタ 47"/>
          <p:cNvSpPr/>
          <p:nvPr/>
        </p:nvSpPr>
        <p:spPr>
          <a:xfrm flipV="1">
            <a:off x="3076560" y="4038120"/>
            <a:ext cx="4467240" cy="93348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テキスト ボックス 17"/>
          <p:cNvSpPr/>
          <p:nvPr/>
        </p:nvSpPr>
        <p:spPr>
          <a:xfrm>
            <a:off x="7000920" y="4071960"/>
            <a:ext cx="1395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630N165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線コネクタ 23"/>
          <p:cNvSpPr/>
          <p:nvPr/>
        </p:nvSpPr>
        <p:spPr>
          <a:xfrm flipH="1">
            <a:off x="2533320" y="1071720"/>
            <a:ext cx="2685960" cy="33242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コネクタ 25"/>
          <p:cNvSpPr/>
          <p:nvPr/>
        </p:nvSpPr>
        <p:spPr>
          <a:xfrm>
            <a:off x="2523960" y="4390920"/>
            <a:ext cx="38160" cy="6382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線コネクタ 27"/>
          <p:cNvSpPr/>
          <p:nvPr/>
        </p:nvSpPr>
        <p:spPr>
          <a:xfrm flipV="1">
            <a:off x="2571840" y="4895640"/>
            <a:ext cx="485640" cy="114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線コネクタ 29"/>
          <p:cNvSpPr/>
          <p:nvPr/>
        </p:nvSpPr>
        <p:spPr>
          <a:xfrm flipV="1">
            <a:off x="3033720" y="1171080"/>
            <a:ext cx="3090960" cy="37148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線コネクタ 31"/>
          <p:cNvSpPr/>
          <p:nvPr/>
        </p:nvSpPr>
        <p:spPr>
          <a:xfrm flipH="1" flipV="1">
            <a:off x="6000840" y="1061640"/>
            <a:ext cx="109440" cy="1191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線コネクタ 33"/>
          <p:cNvSpPr/>
          <p:nvPr/>
        </p:nvSpPr>
        <p:spPr>
          <a:xfrm flipH="1">
            <a:off x="5210280" y="1071000"/>
            <a:ext cx="790560" cy="140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テキスト ボックス 18"/>
          <p:cNvSpPr/>
          <p:nvPr/>
        </p:nvSpPr>
        <p:spPr>
          <a:xfrm>
            <a:off x="2143080" y="2786040"/>
            <a:ext cx="2143080" cy="714240"/>
          </a:xfrm>
          <a:prstGeom prst="rect">
            <a:avLst/>
          </a:prstGeom>
          <a:solidFill>
            <a:srgbClr val="c6d9f1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North 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071720" y="735120"/>
            <a:ext cx="7429320" cy="605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7" name="正方形/長方形 5"/>
          <p:cNvSpPr/>
          <p:nvPr/>
        </p:nvSpPr>
        <p:spPr>
          <a:xfrm rot="18480000">
            <a:off x="2097720" y="3381840"/>
            <a:ext cx="5562360" cy="338040"/>
          </a:xfrm>
          <a:prstGeom prst="rect">
            <a:avLst/>
          </a:prstGeom>
          <a:solidFill>
            <a:srgbClr val="ff0000">
              <a:alpha val="63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Flexible (North)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線コネクタ 6"/>
          <p:cNvSpPr/>
          <p:nvPr/>
        </p:nvSpPr>
        <p:spPr>
          <a:xfrm flipH="1">
            <a:off x="3252600" y="1467000"/>
            <a:ext cx="3509640" cy="44575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線コネクタ 7"/>
          <p:cNvSpPr/>
          <p:nvPr/>
        </p:nvSpPr>
        <p:spPr>
          <a:xfrm>
            <a:off x="3237840" y="5891040"/>
            <a:ext cx="19080" cy="7668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線コネクタ 8"/>
          <p:cNvSpPr/>
          <p:nvPr/>
        </p:nvSpPr>
        <p:spPr>
          <a:xfrm flipV="1">
            <a:off x="3243240" y="6515280"/>
            <a:ext cx="538200" cy="1569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線コネクタ 9"/>
          <p:cNvSpPr/>
          <p:nvPr/>
        </p:nvSpPr>
        <p:spPr>
          <a:xfrm flipV="1">
            <a:off x="3781440" y="2133720"/>
            <a:ext cx="3657600" cy="439560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線コネクタ 11"/>
          <p:cNvSpPr/>
          <p:nvPr/>
        </p:nvSpPr>
        <p:spPr>
          <a:xfrm flipH="1" flipV="1">
            <a:off x="6729480" y="1461600"/>
            <a:ext cx="690480" cy="6620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テキスト ボックス 18"/>
          <p:cNvSpPr/>
          <p:nvPr/>
        </p:nvSpPr>
        <p:spPr>
          <a:xfrm>
            <a:off x="5448240" y="3271680"/>
            <a:ext cx="2673360" cy="1265400"/>
          </a:xfrm>
          <a:prstGeom prst="rect">
            <a:avLst/>
          </a:prstGeom>
          <a:solidFill>
            <a:srgbClr val="9ab5e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A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North 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線コネクタ 28"/>
          <p:cNvSpPr/>
          <p:nvPr/>
        </p:nvSpPr>
        <p:spPr>
          <a:xfrm>
            <a:off x="6062760" y="843120"/>
            <a:ext cx="371520" cy="3333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線コネクタ 32"/>
          <p:cNvSpPr/>
          <p:nvPr/>
        </p:nvSpPr>
        <p:spPr>
          <a:xfrm flipH="1">
            <a:off x="3467160" y="838080"/>
            <a:ext cx="2581200" cy="31147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線コネクタ 36"/>
          <p:cNvSpPr/>
          <p:nvPr/>
        </p:nvSpPr>
        <p:spPr>
          <a:xfrm flipH="1">
            <a:off x="3300480" y="3957480"/>
            <a:ext cx="20952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線コネクタ 38"/>
          <p:cNvSpPr/>
          <p:nvPr/>
        </p:nvSpPr>
        <p:spPr>
          <a:xfrm flipH="1">
            <a:off x="2638440" y="3943440"/>
            <a:ext cx="666720" cy="87624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線コネクタ 40"/>
          <p:cNvSpPr/>
          <p:nvPr/>
        </p:nvSpPr>
        <p:spPr>
          <a:xfrm flipV="1">
            <a:off x="2671920" y="4838760"/>
            <a:ext cx="25200" cy="237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線コネクタ 42"/>
          <p:cNvSpPr/>
          <p:nvPr/>
        </p:nvSpPr>
        <p:spPr>
          <a:xfrm flipH="1">
            <a:off x="2476080" y="4829040"/>
            <a:ext cx="181080" cy="6001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線コネクタ 44"/>
          <p:cNvSpPr/>
          <p:nvPr/>
        </p:nvSpPr>
        <p:spPr>
          <a:xfrm>
            <a:off x="2443320" y="5433840"/>
            <a:ext cx="556920" cy="2145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線コネクタ 46"/>
          <p:cNvSpPr/>
          <p:nvPr/>
        </p:nvSpPr>
        <p:spPr>
          <a:xfrm flipV="1">
            <a:off x="2952720" y="1181160"/>
            <a:ext cx="3495600" cy="44481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18"/>
          <p:cNvSpPr/>
          <p:nvPr/>
        </p:nvSpPr>
        <p:spPr>
          <a:xfrm>
            <a:off x="1982880" y="2124000"/>
            <a:ext cx="2617560" cy="1343160"/>
          </a:xfrm>
          <a:prstGeom prst="rect">
            <a:avLst/>
          </a:prstGeom>
          <a:solidFill>
            <a:srgbClr val="9ab5e4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A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North 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Flexi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ble </a:t>
            </a: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(North) 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ector  </a:t>
            </a:r>
            <a:r>
              <a:rPr b="0" lang="en-US" sz="4400" spc="-1" strike="noStrike">
                <a:solidFill>
                  <a:srgbClr val="000000"/>
                </a:solidFill>
                <a:latin typeface="ＭＳ Ｐゴシック"/>
              </a:rPr>
              <a:t>IP/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9:24:24Z</dcterms:created>
  <dc:creator>航空交通流管理センター</dc:creator>
  <dc:description/>
  <dc:language>en-US</dc:language>
  <cp:lastModifiedBy>imuta-t07j7</cp:lastModifiedBy>
  <dcterms:modified xsi:type="dcterms:W3CDTF">2010-05-07T03:56:31Z</dcterms:modified>
  <cp:revision>67</cp:revision>
  <dc:subject/>
  <dc:title>スライド 1</dc:title>
</cp:coreProperties>
</file>