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90B-FFD8-4DE8-9721-B0A3D479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D6A-E48B-4E0F-BAE7-6DA3970D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1D3-8099-4F10-8E6E-9D267656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0CA-EB89-4BB0-9A5D-9AB9AA65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FCC7-9A9E-4EC4-A887-60BB4647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8EEB-50B6-46F4-AA99-DA60846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FB9-56F6-42FC-BB9B-7B0009D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B550-9572-4FDA-9332-B6B20C1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135-4B8E-4FFA-AFC8-3192630D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671-0AA0-4D50-A5C0-EEB7BB2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6133-2347-409E-9D9E-C7357561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F23-61F4-4253-98FF-414E1099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617F-C15C-4745-A2E4-F300682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53E9-3E77-4C5A-A346-DBD14CB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3D33-F5B6-4188-B38E-67DB8C7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2E04-45F5-42E6-8912-ED2FCBE0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CBF3-C746-4B62-A3CB-75C6791B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7C9D-F3A4-4578-BF5D-57B5F64E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81DC-6E8A-4819-ACDB-F2C8040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C5B7-05FC-422B-BBD3-11845112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DF41-23A3-4760-AFF2-808B4DA2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8E00-AEA7-4D88-A696-B80788EE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1FB-ECB4-4F3A-83F3-DF76F1E8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1DBE8-F442-460E-AC31-EB0E925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2A05-6097-4030-95BC-30FEE357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784E-D3EA-41DA-B959-65BFFB3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961B-0B04-4F59-8063-D2D5EDDA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A53B-DF4D-4853-88BF-FF90692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F013-25AA-432E-879B-EEDB720D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FFDD-879F-47DE-A772-A85C7069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F206-08A6-437E-BEE5-0508D9E9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D6C4-785F-4752-B265-229829B1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0D6B-9C46-4045-BB67-798C9EB6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851-A050-47EA-B11D-EC8AEA1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484F-0815-4E96-B2C1-7180FFC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E908-6B10-46EA-BAC4-0035246D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6EEE-09D6-4A25-A416-884A5D4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D9BC6-6118-4AEC-9900-260B1CA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CBCDA-8E57-4113-BF41-854899E1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6B928-2A2D-4837-9ED0-6B81777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49735-B360-40FE-8534-9677E6F9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6067-D385-4C9A-AE8E-04FCB5EC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65A3-DB16-40E3-A1DD-3D66AC8C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77A-E3CA-4397-BB2A-14A4C128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B6E-FF33-4686-9408-A5DD741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36C-EBF7-4C5A-AED2-BD7A493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61F-E3FB-4138-833D-4C264BD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117-884F-41D3-99AB-C4C700E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A5F-0E5E-4BB7-8232-8855DD0B662A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80A5-44EB-4064-9FA9-7FABE28D2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98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100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542-02C2-40B2-8271-23D51C9AB4B5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49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51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76A8-F810-45B1-B0C8-C33A450B76F5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975-2A91-4E45-9A1B-14142E7AA50B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0 min separation without MNT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(IP/16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Fukuoka F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CP (Flight Plan Conflict Probe) improve in July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40 min or every 5 degrees position report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ADS aircraft tak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mless operation apply west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4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6"/>
          <p:cNvGrpSpPr/>
          <p:nvPr/>
        </p:nvGrpSpPr>
        <p:grpSpPr>
          <a:xfrm>
            <a:off x="1309320" y="1797480"/>
            <a:ext cx="999000" cy="270000"/>
            <a:chOff x="1309320" y="1797480"/>
            <a:chExt cx="999000" cy="270000"/>
          </a:xfrm>
        </p:grpSpPr>
        <p:sp>
          <p:nvSpPr>
            <p:cNvPr id="199" name="Freeform 17"/>
            <p:cNvSpPr/>
            <p:nvPr/>
          </p:nvSpPr>
          <p:spPr>
            <a:xfrm rot="21343200">
              <a:off x="1315080" y="1832760"/>
              <a:ext cx="960120" cy="19908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530" h="282">
                  <a:moveTo>
                    <a:pt x="354" y="96"/>
                  </a:moveTo>
                  <a:lnTo>
                    <a:pt x="1248" y="156"/>
                  </a:lnTo>
                  <a:lnTo>
                    <a:pt x="1416" y="0"/>
                  </a:lnTo>
                  <a:lnTo>
                    <a:pt x="1482" y="6"/>
                  </a:lnTo>
                  <a:lnTo>
                    <a:pt x="1410" y="180"/>
                  </a:lnTo>
                  <a:lnTo>
                    <a:pt x="1530" y="186"/>
                  </a:lnTo>
                  <a:lnTo>
                    <a:pt x="1524" y="222"/>
                  </a:lnTo>
                  <a:lnTo>
                    <a:pt x="1320" y="264"/>
                  </a:lnTo>
                  <a:lnTo>
                    <a:pt x="1128" y="276"/>
                  </a:lnTo>
                  <a:lnTo>
                    <a:pt x="1074" y="282"/>
                  </a:lnTo>
                  <a:lnTo>
                    <a:pt x="204" y="228"/>
                  </a:lnTo>
                  <a:lnTo>
                    <a:pt x="90" y="210"/>
                  </a:lnTo>
                  <a:lnTo>
                    <a:pt x="6" y="162"/>
                  </a:lnTo>
                  <a:lnTo>
                    <a:pt x="0" y="126"/>
                  </a:lnTo>
                  <a:lnTo>
                    <a:pt x="42" y="108"/>
                  </a:lnTo>
                  <a:lnTo>
                    <a:pt x="84" y="90"/>
                  </a:lnTo>
                  <a:lnTo>
                    <a:pt x="234" y="84"/>
                  </a:lnTo>
                  <a:lnTo>
                    <a:pt x="354" y="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 rot="21343200">
              <a:off x="1755000" y="200412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" h="54">
                  <a:moveTo>
                    <a:pt x="6" y="0"/>
                  </a:moveTo>
                  <a:lnTo>
                    <a:pt x="66" y="42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9"/>
            <p:cNvSpPr/>
            <p:nvPr/>
          </p:nvSpPr>
          <p:spPr>
            <a:xfrm rot="50400">
              <a:off x="1660680" y="1991880"/>
              <a:ext cx="93960" cy="6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 rot="21343200">
              <a:off x="1702440" y="1942200"/>
              <a:ext cx="320040" cy="507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0" h="72">
                  <a:moveTo>
                    <a:pt x="0" y="48"/>
                  </a:moveTo>
                  <a:lnTo>
                    <a:pt x="438" y="0"/>
                  </a:lnTo>
                  <a:lnTo>
                    <a:pt x="510" y="12"/>
                  </a:lnTo>
                  <a:lnTo>
                    <a:pt x="354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1344960" y="1942920"/>
              <a:ext cx="27000" cy="1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1444680" y="1960920"/>
              <a:ext cx="128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 flipV="1">
              <a:off x="1644840" y="1961280"/>
              <a:ext cx="1321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4"/>
            <p:cNvSpPr/>
            <p:nvPr/>
          </p:nvSpPr>
          <p:spPr>
            <a:xfrm flipV="1">
              <a:off x="1981440" y="1967040"/>
              <a:ext cx="120600" cy="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5"/>
            <p:cNvSpPr/>
            <p:nvPr/>
          </p:nvSpPr>
          <p:spPr>
            <a:xfrm rot="21343200">
              <a:off x="2172600" y="1943640"/>
              <a:ext cx="135360" cy="82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16" h="12">
                  <a:moveTo>
                    <a:pt x="0" y="0"/>
                  </a:moveTo>
                  <a:lnTo>
                    <a:pt x="216" y="0"/>
                  </a:lnTo>
                  <a:lnTo>
                    <a:pt x="132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6"/>
            <p:cNvSpPr/>
            <p:nvPr/>
          </p:nvSpPr>
          <p:spPr>
            <a:xfrm rot="21343200">
              <a:off x="1882440" y="1902600"/>
              <a:ext cx="56160" cy="169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0" h="24">
                  <a:moveTo>
                    <a:pt x="0" y="18"/>
                  </a:moveTo>
                  <a:lnTo>
                    <a:pt x="42" y="0"/>
                  </a:lnTo>
                  <a:lnTo>
                    <a:pt x="90" y="6"/>
                  </a:lnTo>
                  <a:lnTo>
                    <a:pt x="72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27"/>
          <p:cNvSpPr/>
          <p:nvPr/>
        </p:nvSpPr>
        <p:spPr>
          <a:xfrm>
            <a:off x="1676520" y="23367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8"/>
          <p:cNvSpPr/>
          <p:nvPr/>
        </p:nvSpPr>
        <p:spPr>
          <a:xfrm>
            <a:off x="3981600" y="2336760"/>
            <a:ext cx="33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9"/>
          <p:cNvGrpSpPr/>
          <p:nvPr/>
        </p:nvGrpSpPr>
        <p:grpSpPr>
          <a:xfrm>
            <a:off x="6925680" y="1797840"/>
            <a:ext cx="999360" cy="270000"/>
            <a:chOff x="6925680" y="1797840"/>
            <a:chExt cx="999360" cy="270000"/>
          </a:xfrm>
        </p:grpSpPr>
        <p:sp>
          <p:nvSpPr>
            <p:cNvPr id="212" name="Freeform 30"/>
            <p:cNvSpPr/>
            <p:nvPr/>
          </p:nvSpPr>
          <p:spPr>
            <a:xfrm rot="21343200">
              <a:off x="6931440" y="1833120"/>
              <a:ext cx="960480" cy="1990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530" h="282">
                  <a:moveTo>
                    <a:pt x="354" y="96"/>
                  </a:moveTo>
                  <a:lnTo>
                    <a:pt x="1248" y="156"/>
                  </a:lnTo>
                  <a:lnTo>
                    <a:pt x="1416" y="0"/>
                  </a:lnTo>
                  <a:lnTo>
                    <a:pt x="1482" y="6"/>
                  </a:lnTo>
                  <a:lnTo>
                    <a:pt x="1410" y="180"/>
                  </a:lnTo>
                  <a:lnTo>
                    <a:pt x="1530" y="186"/>
                  </a:lnTo>
                  <a:lnTo>
                    <a:pt x="1524" y="222"/>
                  </a:lnTo>
                  <a:lnTo>
                    <a:pt x="1320" y="264"/>
                  </a:lnTo>
                  <a:lnTo>
                    <a:pt x="1128" y="276"/>
                  </a:lnTo>
                  <a:lnTo>
                    <a:pt x="1074" y="282"/>
                  </a:lnTo>
                  <a:lnTo>
                    <a:pt x="204" y="228"/>
                  </a:lnTo>
                  <a:lnTo>
                    <a:pt x="90" y="210"/>
                  </a:lnTo>
                  <a:lnTo>
                    <a:pt x="6" y="162"/>
                  </a:lnTo>
                  <a:lnTo>
                    <a:pt x="0" y="126"/>
                  </a:lnTo>
                  <a:lnTo>
                    <a:pt x="42" y="108"/>
                  </a:lnTo>
                  <a:lnTo>
                    <a:pt x="84" y="90"/>
                  </a:lnTo>
                  <a:lnTo>
                    <a:pt x="234" y="84"/>
                  </a:lnTo>
                  <a:lnTo>
                    <a:pt x="354" y="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1"/>
            <p:cNvSpPr/>
            <p:nvPr/>
          </p:nvSpPr>
          <p:spPr>
            <a:xfrm rot="21343200">
              <a:off x="7371360" y="200412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" h="54">
                  <a:moveTo>
                    <a:pt x="6" y="0"/>
                  </a:moveTo>
                  <a:lnTo>
                    <a:pt x="66" y="42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2"/>
            <p:cNvSpPr/>
            <p:nvPr/>
          </p:nvSpPr>
          <p:spPr>
            <a:xfrm rot="50400">
              <a:off x="7277040" y="1992240"/>
              <a:ext cx="93960" cy="6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3"/>
            <p:cNvSpPr/>
            <p:nvPr/>
          </p:nvSpPr>
          <p:spPr>
            <a:xfrm rot="21343200">
              <a:off x="7318800" y="1942200"/>
              <a:ext cx="320040" cy="507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0" h="72">
                  <a:moveTo>
                    <a:pt x="0" y="48"/>
                  </a:moveTo>
                  <a:lnTo>
                    <a:pt x="438" y="0"/>
                  </a:lnTo>
                  <a:lnTo>
                    <a:pt x="510" y="12"/>
                  </a:lnTo>
                  <a:lnTo>
                    <a:pt x="354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4"/>
            <p:cNvSpPr/>
            <p:nvPr/>
          </p:nvSpPr>
          <p:spPr>
            <a:xfrm>
              <a:off x="6961320" y="1942920"/>
              <a:ext cx="27000" cy="1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5"/>
            <p:cNvSpPr/>
            <p:nvPr/>
          </p:nvSpPr>
          <p:spPr>
            <a:xfrm>
              <a:off x="7061040" y="1960920"/>
              <a:ext cx="128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6"/>
            <p:cNvSpPr/>
            <p:nvPr/>
          </p:nvSpPr>
          <p:spPr>
            <a:xfrm flipV="1">
              <a:off x="7261200" y="1961280"/>
              <a:ext cx="1321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 flipV="1">
              <a:off x="7598160" y="1967040"/>
              <a:ext cx="120600" cy="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8"/>
            <p:cNvSpPr/>
            <p:nvPr/>
          </p:nvSpPr>
          <p:spPr>
            <a:xfrm rot="21343200">
              <a:off x="7789320" y="1943640"/>
              <a:ext cx="135360" cy="82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16" h="12">
                  <a:moveTo>
                    <a:pt x="0" y="0"/>
                  </a:moveTo>
                  <a:lnTo>
                    <a:pt x="216" y="0"/>
                  </a:lnTo>
                  <a:lnTo>
                    <a:pt x="132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rot="21343200">
              <a:off x="7499160" y="190260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0" h="24">
                  <a:moveTo>
                    <a:pt x="0" y="18"/>
                  </a:moveTo>
                  <a:lnTo>
                    <a:pt x="42" y="0"/>
                  </a:lnTo>
                  <a:lnTo>
                    <a:pt x="90" y="6"/>
                  </a:lnTo>
                  <a:lnTo>
                    <a:pt x="72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3254040" y="1797480"/>
            <a:ext cx="999000" cy="270000"/>
            <a:chOff x="3254040" y="1797480"/>
            <a:chExt cx="999000" cy="270000"/>
          </a:xfrm>
        </p:grpSpPr>
        <p:sp>
          <p:nvSpPr>
            <p:cNvPr id="223" name="Freeform 41"/>
            <p:cNvSpPr/>
            <p:nvPr/>
          </p:nvSpPr>
          <p:spPr>
            <a:xfrm rot="21343200">
              <a:off x="3259800" y="1832760"/>
              <a:ext cx="960120" cy="19908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530" h="282">
                  <a:moveTo>
                    <a:pt x="354" y="96"/>
                  </a:moveTo>
                  <a:lnTo>
                    <a:pt x="1248" y="156"/>
                  </a:lnTo>
                  <a:lnTo>
                    <a:pt x="1416" y="0"/>
                  </a:lnTo>
                  <a:lnTo>
                    <a:pt x="1482" y="6"/>
                  </a:lnTo>
                  <a:lnTo>
                    <a:pt x="1410" y="180"/>
                  </a:lnTo>
                  <a:lnTo>
                    <a:pt x="1530" y="186"/>
                  </a:lnTo>
                  <a:lnTo>
                    <a:pt x="1524" y="222"/>
                  </a:lnTo>
                  <a:lnTo>
                    <a:pt x="1320" y="264"/>
                  </a:lnTo>
                  <a:lnTo>
                    <a:pt x="1128" y="276"/>
                  </a:lnTo>
                  <a:lnTo>
                    <a:pt x="1074" y="282"/>
                  </a:lnTo>
                  <a:lnTo>
                    <a:pt x="204" y="228"/>
                  </a:lnTo>
                  <a:lnTo>
                    <a:pt x="90" y="210"/>
                  </a:lnTo>
                  <a:lnTo>
                    <a:pt x="6" y="162"/>
                  </a:lnTo>
                  <a:lnTo>
                    <a:pt x="0" y="126"/>
                  </a:lnTo>
                  <a:lnTo>
                    <a:pt x="42" y="108"/>
                  </a:lnTo>
                  <a:lnTo>
                    <a:pt x="84" y="90"/>
                  </a:lnTo>
                  <a:lnTo>
                    <a:pt x="234" y="84"/>
                  </a:lnTo>
                  <a:lnTo>
                    <a:pt x="354" y="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2"/>
            <p:cNvSpPr/>
            <p:nvPr/>
          </p:nvSpPr>
          <p:spPr>
            <a:xfrm rot="21343200">
              <a:off x="3699720" y="200412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" h="54">
                  <a:moveTo>
                    <a:pt x="6" y="0"/>
                  </a:moveTo>
                  <a:lnTo>
                    <a:pt x="66" y="42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3"/>
            <p:cNvSpPr/>
            <p:nvPr/>
          </p:nvSpPr>
          <p:spPr>
            <a:xfrm rot="50400">
              <a:off x="3605400" y="1991880"/>
              <a:ext cx="93960" cy="6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4"/>
            <p:cNvSpPr/>
            <p:nvPr/>
          </p:nvSpPr>
          <p:spPr>
            <a:xfrm rot="21343200">
              <a:off x="3647160" y="1942200"/>
              <a:ext cx="320040" cy="507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0" h="72">
                  <a:moveTo>
                    <a:pt x="0" y="48"/>
                  </a:moveTo>
                  <a:lnTo>
                    <a:pt x="438" y="0"/>
                  </a:lnTo>
                  <a:lnTo>
                    <a:pt x="510" y="12"/>
                  </a:lnTo>
                  <a:lnTo>
                    <a:pt x="354" y="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3289680" y="1942920"/>
              <a:ext cx="27000" cy="1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46"/>
            <p:cNvSpPr/>
            <p:nvPr/>
          </p:nvSpPr>
          <p:spPr>
            <a:xfrm>
              <a:off x="3389400" y="1960920"/>
              <a:ext cx="128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47"/>
            <p:cNvSpPr/>
            <p:nvPr/>
          </p:nvSpPr>
          <p:spPr>
            <a:xfrm flipV="1">
              <a:off x="3589560" y="1961280"/>
              <a:ext cx="132120" cy="1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8"/>
            <p:cNvSpPr/>
            <p:nvPr/>
          </p:nvSpPr>
          <p:spPr>
            <a:xfrm flipV="1">
              <a:off x="3926160" y="1967040"/>
              <a:ext cx="120600" cy="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9"/>
            <p:cNvSpPr/>
            <p:nvPr/>
          </p:nvSpPr>
          <p:spPr>
            <a:xfrm rot="21343200">
              <a:off x="4117320" y="1943640"/>
              <a:ext cx="135360" cy="82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16" h="12">
                  <a:moveTo>
                    <a:pt x="0" y="0"/>
                  </a:moveTo>
                  <a:lnTo>
                    <a:pt x="216" y="0"/>
                  </a:lnTo>
                  <a:lnTo>
                    <a:pt x="132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0"/>
            <p:cNvSpPr/>
            <p:nvPr/>
          </p:nvSpPr>
          <p:spPr>
            <a:xfrm rot="21343200">
              <a:off x="3827160" y="1902600"/>
              <a:ext cx="56160" cy="169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0" h="24">
                  <a:moveTo>
                    <a:pt x="0" y="18"/>
                  </a:moveTo>
                  <a:lnTo>
                    <a:pt x="42" y="0"/>
                  </a:lnTo>
                  <a:lnTo>
                    <a:pt x="90" y="6"/>
                  </a:lnTo>
                  <a:lnTo>
                    <a:pt x="72" y="2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37"/>
          <p:cNvSpPr/>
          <p:nvPr/>
        </p:nvSpPr>
        <p:spPr>
          <a:xfrm>
            <a:off x="2214720" y="2428920"/>
            <a:ext cx="13683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HGPｺﾞｼｯｸE"/>
                <a:ea typeface="HGPｺﾞｼｯｸE"/>
              </a:rPr>
              <a:t>ADS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4989600" y="2408400"/>
            <a:ext cx="17110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HGPｺﾞｼｯｸE"/>
                <a:ea typeface="HGPｺﾞｼｯｸE"/>
              </a:rPr>
              <a:t>10 min sep without M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0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7020000" cy="33512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76"/>
          <p:cNvGrpSpPr/>
          <p:nvPr/>
        </p:nvGrpSpPr>
        <p:grpSpPr>
          <a:xfrm>
            <a:off x="5072400" y="4263840"/>
            <a:ext cx="991440" cy="254880"/>
            <a:chOff x="5072400" y="4263840"/>
            <a:chExt cx="991440" cy="254880"/>
          </a:xfrm>
        </p:grpSpPr>
        <p:sp>
          <p:nvSpPr>
            <p:cNvPr id="237" name="Freeform 77"/>
            <p:cNvSpPr/>
            <p:nvPr/>
          </p:nvSpPr>
          <p:spPr>
            <a:xfrm rot="201000">
              <a:off x="5077080" y="4291560"/>
              <a:ext cx="960480" cy="199080"/>
            </a:xfrm>
            <a:custGeom>
              <a:avLst/>
              <a:gdLst>
                <a:gd name="textAreaLeft" fmla="*/ 0 w 960480"/>
                <a:gd name="textAreaRight" fmla="*/ 960840 w 9604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530" h="282">
                  <a:moveTo>
                    <a:pt x="354" y="96"/>
                  </a:moveTo>
                  <a:lnTo>
                    <a:pt x="1248" y="156"/>
                  </a:lnTo>
                  <a:lnTo>
                    <a:pt x="1416" y="0"/>
                  </a:lnTo>
                  <a:lnTo>
                    <a:pt x="1482" y="6"/>
                  </a:lnTo>
                  <a:lnTo>
                    <a:pt x="1410" y="180"/>
                  </a:lnTo>
                  <a:lnTo>
                    <a:pt x="1530" y="186"/>
                  </a:lnTo>
                  <a:lnTo>
                    <a:pt x="1524" y="222"/>
                  </a:lnTo>
                  <a:lnTo>
                    <a:pt x="1320" y="264"/>
                  </a:lnTo>
                  <a:lnTo>
                    <a:pt x="1128" y="276"/>
                  </a:lnTo>
                  <a:lnTo>
                    <a:pt x="1074" y="282"/>
                  </a:lnTo>
                  <a:lnTo>
                    <a:pt x="204" y="228"/>
                  </a:lnTo>
                  <a:lnTo>
                    <a:pt x="90" y="210"/>
                  </a:lnTo>
                  <a:lnTo>
                    <a:pt x="6" y="162"/>
                  </a:lnTo>
                  <a:lnTo>
                    <a:pt x="0" y="126"/>
                  </a:lnTo>
                  <a:lnTo>
                    <a:pt x="42" y="108"/>
                  </a:lnTo>
                  <a:lnTo>
                    <a:pt x="84" y="90"/>
                  </a:lnTo>
                  <a:lnTo>
                    <a:pt x="234" y="84"/>
                  </a:lnTo>
                  <a:lnTo>
                    <a:pt x="354" y="9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78"/>
            <p:cNvSpPr/>
            <p:nvPr/>
          </p:nvSpPr>
          <p:spPr>
            <a:xfrm rot="201000">
              <a:off x="5504760" y="4459680"/>
              <a:ext cx="41400" cy="378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6" h="54">
                  <a:moveTo>
                    <a:pt x="6" y="0"/>
                  </a:moveTo>
                  <a:lnTo>
                    <a:pt x="66" y="42"/>
                  </a:lnTo>
                  <a:lnTo>
                    <a:pt x="0" y="5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79"/>
            <p:cNvSpPr/>
            <p:nvPr/>
          </p:nvSpPr>
          <p:spPr>
            <a:xfrm rot="507600">
              <a:off x="5410800" y="4438440"/>
              <a:ext cx="93960" cy="63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0"/>
            <p:cNvSpPr/>
            <p:nvPr/>
          </p:nvSpPr>
          <p:spPr>
            <a:xfrm rot="201000">
              <a:off x="5459040" y="4409280"/>
              <a:ext cx="320040" cy="5076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0" h="72">
                  <a:moveTo>
                    <a:pt x="0" y="48"/>
                  </a:moveTo>
                  <a:lnTo>
                    <a:pt x="438" y="0"/>
                  </a:lnTo>
                  <a:lnTo>
                    <a:pt x="510" y="12"/>
                  </a:lnTo>
                  <a:lnTo>
                    <a:pt x="354" y="72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1"/>
            <p:cNvSpPr/>
            <p:nvPr/>
          </p:nvSpPr>
          <p:spPr>
            <a:xfrm>
              <a:off x="5109120" y="4341600"/>
              <a:ext cx="2556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2"/>
            <p:cNvSpPr/>
            <p:nvPr/>
          </p:nvSpPr>
          <p:spPr>
            <a:xfrm>
              <a:off x="5205600" y="4372560"/>
              <a:ext cx="126720" cy="201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3"/>
            <p:cNvSpPr/>
            <p:nvPr/>
          </p:nvSpPr>
          <p:spPr>
            <a:xfrm>
              <a:off x="5403960" y="4401360"/>
              <a:ext cx="131040" cy="158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4"/>
            <p:cNvSpPr/>
            <p:nvPr/>
          </p:nvSpPr>
          <p:spPr>
            <a:xfrm>
              <a:off x="5737320" y="4450680"/>
              <a:ext cx="119520" cy="15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201000">
              <a:off x="5928480" y="4461120"/>
              <a:ext cx="135360" cy="82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16" h="12">
                  <a:moveTo>
                    <a:pt x="0" y="0"/>
                  </a:moveTo>
                  <a:lnTo>
                    <a:pt x="216" y="0"/>
                  </a:lnTo>
                  <a:lnTo>
                    <a:pt x="132" y="12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201000">
              <a:off x="5646600" y="4376520"/>
              <a:ext cx="56520" cy="16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0" h="24">
                  <a:moveTo>
                    <a:pt x="0" y="18"/>
                  </a:moveTo>
                  <a:lnTo>
                    <a:pt x="42" y="0"/>
                  </a:lnTo>
                  <a:lnTo>
                    <a:pt x="90" y="6"/>
                  </a:lnTo>
                  <a:lnTo>
                    <a:pt x="72" y="24"/>
                  </a:lnTo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91"/>
          <p:cNvSpPr/>
          <p:nvPr/>
        </p:nvSpPr>
        <p:spPr>
          <a:xfrm rot="11055600">
            <a:off x="4500360" y="4653000"/>
            <a:ext cx="2038320" cy="12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1320 h 125280"/>
              <a:gd name="textAreaBottom" fmla="*/ 93960 h 12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2"/>
          <p:cNvSpPr/>
          <p:nvPr/>
        </p:nvSpPr>
        <p:spPr>
          <a:xfrm>
            <a:off x="4786200" y="5157720"/>
            <a:ext cx="278604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Position report required with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40 min or every 5 deg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3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min separation without M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IP/1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587520" y="12600"/>
            <a:ext cx="8028000" cy="687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Line 20"/>
          <p:cNvSpPr/>
          <p:nvPr/>
        </p:nvSpPr>
        <p:spPr>
          <a:xfrm flipH="1">
            <a:off x="4332240" y="6461280"/>
            <a:ext cx="3260880" cy="18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5786280" y="2357280"/>
            <a:ext cx="1785960" cy="407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541920" y="1976400"/>
            <a:ext cx="905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HGPｺﾞｼｯｸE"/>
                <a:ea typeface="HGPｺﾞｼｯｸE"/>
              </a:rPr>
              <a:t>3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4714920" y="4786200"/>
            <a:ext cx="1857240" cy="8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Seamless op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would a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west of B4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 flipH="1">
            <a:off x="609480" y="6653160"/>
            <a:ext cx="3743280" cy="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上下矢印 21"/>
          <p:cNvSpPr/>
          <p:nvPr/>
        </p:nvSpPr>
        <p:spPr>
          <a:xfrm>
            <a:off x="3571920" y="5500800"/>
            <a:ext cx="571320" cy="928440"/>
          </a:xfrm>
          <a:prstGeom prst="upDownArrow">
            <a:avLst>
              <a:gd name="adj1" fmla="val 50000"/>
              <a:gd name="adj2" fmla="val 50001"/>
            </a:avLst>
          </a:prstGeom>
          <a:solidFill>
            <a:srgbClr val="99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 min separation without M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IP/16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3:58:23Z</dcterms:modified>
  <cp:revision>67</cp:revision>
  <dc:subject/>
  <dc:title>スライド 1</dc:title>
</cp:coreProperties>
</file>