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A0009-478E-4D44-81E8-25501C19B3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9280" y="26701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1C1C9-120B-4BAF-B1BA-CA39C4A152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49280" y="26701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986560" y="26701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48B98-DB34-4EDA-9656-482E1EF146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123280" y="17542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797640" y="17542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49280" y="26701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123280" y="26701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3797640" y="26701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3E37D-2B3B-443B-BB95-E0BEA96AB2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49280" y="1754280"/>
            <a:ext cx="495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4951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46040" y="312840"/>
            <a:ext cx="4983120" cy="64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9280" y="26701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49280" y="1754280"/>
            <a:ext cx="495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BD2EC-600E-4578-8ABA-BBDC541562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986560" y="26701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49280" y="26701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9280" y="26701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9280" y="26701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986560" y="26701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123280" y="17542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797640" y="17542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49280" y="26701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2123280" y="26701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3797640" y="26701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49280" y="1754280"/>
            <a:ext cx="495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4951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4951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BC2E9-3FCB-40D2-B712-8F198C41CB8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46040" y="312840"/>
            <a:ext cx="4983120" cy="64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49280" y="26701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986560" y="26701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49280" y="26701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9280" y="26701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49280" y="26701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2986560" y="26701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123280" y="17542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797640" y="17542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49280" y="26701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123280" y="26701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3797640" y="26701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49280" y="1754280"/>
            <a:ext cx="495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4951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544C0-DBF4-4FBF-943C-32A926F18A4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46040" y="312840"/>
            <a:ext cx="4983120" cy="64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9280" y="26701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986560" y="26701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49280" y="26701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49280" y="26701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49280" y="26701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2986560" y="26701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2123280" y="17542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797640" y="17542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49280" y="26701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2123280" y="26701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3797640" y="26701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366EA-8D40-49F3-BDAC-2884F05A8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CC365-4309-4DC8-B827-259225DC01D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49280" y="1754280"/>
            <a:ext cx="495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40753-7868-45FD-ADF8-174A88A1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4951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BDA34-1F4C-482C-AB6B-28FAC9F4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4FE28-9034-47A8-9D8F-106BA3D7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8B9C6-01B5-4336-B31B-86AB81C7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46040" y="312840"/>
            <a:ext cx="4983120" cy="64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D4A2A-FE56-4261-B72F-F3C1C787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49280" y="26701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0B243-93D9-46C5-8DBA-4759AE85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2986560" y="26701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9F3E9-D3B4-46D1-82ED-31F8685F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49280" y="26701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D04EF-9083-4355-96CE-CADEE179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49280" y="26701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BE9EA-BAC4-4E52-88B2-DBD96E87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49280" y="26701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2986560" y="26701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B51DF-0706-4D9F-89BD-53BA64391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46040" y="312840"/>
            <a:ext cx="4983120" cy="64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0F009-1A8D-4005-ADB4-EED5C84940B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123280" y="17542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797640" y="17542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49280" y="26701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2123280" y="26701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3797640" y="26701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5CAED-41A1-41FF-8F79-D7F0D5F5D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49280" y="1754280"/>
            <a:ext cx="495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4951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46040" y="312840"/>
            <a:ext cx="4983120" cy="64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49280" y="26701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2986560" y="26701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49280" y="26701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9280" y="26701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14D06-4995-4420-844E-6439B70ECDC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49280" y="26701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49280" y="26701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2986560" y="26701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123280" y="17542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797640" y="17542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49280" y="26701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123280" y="26701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3797640" y="26701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986560" y="26701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188DC-6379-49CD-B3B7-C5A46C6FF5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9280" y="26701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EF0E2-B0D2-415F-981B-B88295804D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D8F3-4A0E-49FA-BC48-44435DCB89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74C1-F45F-4667-9FBF-2D49E629580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7" name="" descr=""/>
            <p:cNvPicPr/>
            <p:nvPr/>
          </p:nvPicPr>
          <p:blipFill>
            <a:blip r:embed="rId2"/>
            <a:srcRect l="14334" t="3733" r="14975" b="456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Flight Pla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IPACG/32 10-14 May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3"/>
          <a:stretch/>
        </p:blipFill>
        <p:spPr>
          <a:xfrm>
            <a:off x="3189240" y="6137280"/>
            <a:ext cx="63972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591160" y="0"/>
            <a:ext cx="35528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6960" y="4497480"/>
            <a:ext cx="4822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52" name="" descr=""/>
            <p:cNvPicPr/>
            <p:nvPr/>
          </p:nvPicPr>
          <p:blipFill>
            <a:blip r:embed="rId3"/>
            <a:srcRect l="14334" t="3733" r="14975" b="4562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95360" y="1143000"/>
            <a:ext cx="805032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95" name="" descr=""/>
            <p:cNvPicPr/>
            <p:nvPr/>
          </p:nvPicPr>
          <p:blipFill>
            <a:blip r:embed="rId2"/>
            <a:srcRect l="14334" t="3733" r="14975" b="456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Oceanic &amp; Offs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August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BA80-9F23-480B-AA93-678C3D25C71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591160" y="0"/>
            <a:ext cx="355284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139" name="" descr=""/>
            <p:cNvPicPr/>
            <p:nvPr/>
          </p:nvPicPr>
          <p:blipFill>
            <a:blip r:embed="rId3"/>
            <a:srcRect l="14334" t="3733" r="14975" b="4562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33F8-2D95-4FD5-9BD6-286EA83FF4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4882-B232-4FB0-B9BF-4ED54B94637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185" name="" descr=""/>
            <p:cNvPicPr/>
            <p:nvPr/>
          </p:nvPicPr>
          <p:blipFill>
            <a:blip r:embed="rId2"/>
            <a:srcRect l="14334" t="3733" r="14975" b="456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Oceanic &amp; Offs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August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591160" y="0"/>
            <a:ext cx="355284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26960" y="4497480"/>
            <a:ext cx="4822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229" name="" descr=""/>
            <p:cNvPicPr/>
            <p:nvPr/>
          </p:nvPicPr>
          <p:blipFill>
            <a:blip r:embed="rId3"/>
            <a:srcRect l="14334" t="3733" r="14975" b="4562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aa.gov/ato?k=fpl" TargetMode="External"/><Relationship Id="rId2" Type="http://schemas.openxmlformats.org/officeDocument/2006/relationships/hyperlink" Target="http://www.faa.gov/ato?k=fpl" TargetMode="External"/><Relationship Id="rId3" Type="http://schemas.openxmlformats.org/officeDocument/2006/relationships/hyperlink" Target="http://www.faa.gov/ato?k=fpl" TargetMode="External"/><Relationship Id="rId4" Type="http://schemas.openxmlformats.org/officeDocument/2006/relationships/hyperlink" Target="mailto:diane.bodenhamer@faa.gov" TargetMode="Externa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karen.l.chiodini@faa.gov" TargetMode="External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920" y="606600"/>
            <a:ext cx="53006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ities of Regional Task Forces to Plan for Implementation of Amendment 1 t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NS-ATM, DOC 4444, 15th Edition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(FP 2012)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P/20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36440" y="4754520"/>
            <a:ext cx="48960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d to:  IPACG/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e:  10-14 May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d2f68"/>
                </a:solidFill>
                <a:latin typeface="Arial"/>
              </a:rPr>
              <a:t>Regional FPL 2012 Task Force </a:t>
            </a:r>
            <a:r>
              <a:rPr b="1" lang="en-GB" sz="2800" spc="-1" strike="noStrike">
                <a:solidFill>
                  <a:srgbClr val="1d2f68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2008, ICAO issued Amendment 1 to DOC 4444 to be implemented by 15 November 2012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s affect ICAO FPL, related ATS messages and procedur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ccordance with guidance issued by ICAO in 2009, a number of ICAO regions have established task forces to develop transition plan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 Force plans and initiatives should be coordinated widely among states and ANSPs so dates and procedures will be harmoniz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d2f68"/>
                </a:solidFill>
                <a:latin typeface="Arial"/>
              </a:rPr>
              <a:t>Regional FPL 2012 Task Force </a:t>
            </a:r>
            <a:r>
              <a:rPr b="1" lang="en-GB" sz="2800" spc="-1" strike="noStrike">
                <a:solidFill>
                  <a:srgbClr val="1d2f68"/>
                </a:solidFill>
                <a:latin typeface="Arial"/>
              </a:rPr>
              <a:t>Transition Strategy</a:t>
            </a:r>
            <a:endParaRPr b="1" lang="en-US" sz="28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AC ICAO FPL and ATS Messages Implementation Task Forc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d transition strateg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opted for early transition of regional ANSPs, followed by a period for airspace users and third party providers to test and implement changes to flight planning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1 (1 January to 31 March 2012) - ANSPs software delivery and internal tes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2 (1 April to 30 June 2012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Ps external testing and imple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3 (1 July to 15 November 2012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rspace users testing and imple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d2f68"/>
                </a:solidFill>
                <a:latin typeface="Arial"/>
              </a:rPr>
              <a:t>Regional FPL 2012 Task Force </a:t>
            </a:r>
            <a:r>
              <a:rPr b="1" lang="en-GB" sz="2800" spc="-1" strike="noStrike">
                <a:solidFill>
                  <a:srgbClr val="1d2f68"/>
                </a:solidFill>
                <a:latin typeface="Arial"/>
              </a:rPr>
              <a:t>Transition Strategy</a:t>
            </a:r>
            <a:endParaRPr b="1" lang="en-US" sz="28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CONTROL 2012 FPL Task For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 to be ready by the Applicability Date; however, some do not plan changes for Amendment 1 as they plan to update flight data processing systems in the 2013/2014 timefra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2 FPL TF implementation plan will allow users to file NEW in spring 201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CONTOL will translate NEW to PRESENT, and only send PRESENT to member States and ANSPs until 12 November 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d2f68"/>
                </a:solidFill>
                <a:latin typeface="Arial"/>
              </a:rPr>
              <a:t>Regional FPL 2012 Task Force </a:t>
            </a:r>
            <a:r>
              <a:rPr b="1" lang="en-GB" sz="2800" spc="-1" strike="noStrike">
                <a:solidFill>
                  <a:srgbClr val="1d2f68"/>
                </a:solidFill>
                <a:latin typeface="Arial"/>
              </a:rPr>
              <a:t>Transition Strategy</a:t>
            </a:r>
            <a:endParaRPr b="1" lang="en-US" sz="28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/SAM GREPECAS CNS/ATM/SG Project C3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y harmonizes with dates and phases adopted by other ICAO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/SAM States and ANSPs will develop actions plans and provide implementation information to the CAR/SAM Regional Offices by November 201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d2f68"/>
                </a:solidFill>
                <a:latin typeface="Arial"/>
              </a:rPr>
              <a:t>Regional FPL 2012 Task Force </a:t>
            </a:r>
            <a:r>
              <a:rPr b="1" lang="en-GB" sz="2800" spc="-1" strike="noStrike">
                <a:solidFill>
                  <a:srgbClr val="1d2f68"/>
                </a:solidFill>
                <a:latin typeface="Arial"/>
              </a:rPr>
              <a:t>Transition Strategy</a:t>
            </a:r>
            <a:endParaRPr b="1" lang="en-US" sz="28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ddle East ICAO New Flight Plan Format Study Gro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opted a transition approach similar to those adopted in other reg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d2f68"/>
                </a:solidFill>
                <a:latin typeface="Arial"/>
              </a:rPr>
              <a:t>Regional FPL 2012 Task Force Activities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A Activiti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guidance to filers online at the following URL: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aa.gov/ato?k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=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fp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and 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hly telcons which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discuss flight plan filing issues with user commun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ed briefing materials that provide overview of ICAO guidance and changes introduced by Amendment 1.  These materials are available upon request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ane Bodenha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ager, FAA Technical Performanc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diane.bodenhamer@faa.g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9600" y="31752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49280" y="1754280"/>
            <a:ext cx="495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Comments?</a:t>
            </a: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6840" y="3659040"/>
            <a:ext cx="4800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aren Chiodini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ecialist, Oceanic &amp; Offshore Operations</a:t>
            </a:r>
            <a:br>
              <a:rPr sz="2400"/>
            </a:b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aren.l.chiodini@faa.gov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202) 385-89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7:10:56Z</dcterms:created>
  <dc:creator> </dc:creator>
  <dc:description/>
  <dc:language>en-US</dc:language>
  <cp:lastModifiedBy>Air Traffic Organization</cp:lastModifiedBy>
  <dcterms:modified xsi:type="dcterms:W3CDTF">2010-05-12T08:28:34Z</dcterms:modified>
  <cp:revision>466</cp:revision>
  <dc:subject/>
  <dc:title>Oceanic &amp; Offshore Services Program Review</dc:title>
</cp:coreProperties>
</file>