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image8.wmf" ContentType="image/x-wmf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5360" y="380196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9536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2060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17320" y="150804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39280" y="150804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95360" y="380196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17320" y="380196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39280" y="380196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399600" y="372960"/>
            <a:ext cx="847260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9536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2060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95360" y="380196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5360" y="380196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9536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2060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17320" y="150804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39280" y="150804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95360" y="380196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17320" y="380196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39280" y="380196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99600" y="372960"/>
            <a:ext cx="847260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536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2060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5360" y="380196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d2f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1520"/>
          </a:xfrm>
          <a:prstGeom prst="rect">
            <a:avLst/>
          </a:prstGeom>
          <a:solidFill>
            <a:srgbClr val="1d2f68"/>
          </a:solidFill>
          <a:ln w="9360">
            <a:solidFill>
              <a:srgbClr val="1d2f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99600" y="372960"/>
            <a:ext cx="8472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6167520"/>
            <a:ext cx="91440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rcRect l="14334" t="3733" r="14975" b="4562"/>
          <a:stretch/>
        </p:blipFill>
        <p:spPr>
          <a:xfrm>
            <a:off x="5689440" y="6276960"/>
            <a:ext cx="489240" cy="49068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6386760" y="6303960"/>
            <a:ext cx="1369440" cy="4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ederal Av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9280" y="6134040"/>
            <a:ext cx="17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0c0c0"/>
                </a:solidFill>
                <a:latin typeface="Arial"/>
              </a:rPr>
              <a:t>IPACG 32 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41360" y="6540480"/>
            <a:ext cx="1562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0c0c0"/>
                </a:solidFill>
                <a:latin typeface="Arial"/>
              </a:rPr>
              <a:t>May 10-14, 20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447840" y="6335640"/>
            <a:ext cx="17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0c0c0"/>
                </a:solidFill>
                <a:latin typeface="Arial"/>
              </a:rPr>
              <a:t>Honolulu Hawa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" name="" descr=""/>
          <p:cNvPicPr/>
          <p:nvPr/>
        </p:nvPicPr>
        <p:blipFill>
          <a:blip r:embed="rId3"/>
          <a:stretch/>
        </p:blipFill>
        <p:spPr>
          <a:xfrm>
            <a:off x="3484440" y="6207120"/>
            <a:ext cx="639720" cy="62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d2f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46040" y="312840"/>
            <a:ext cx="422928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26960" y="4497480"/>
            <a:ext cx="48229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854600" y="0"/>
            <a:ext cx="42894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6054840" y="5630760"/>
            <a:ext cx="2894040" cy="911160"/>
            <a:chOff x="6054840" y="5630760"/>
            <a:chExt cx="2894040" cy="911160"/>
          </a:xfrm>
        </p:grpSpPr>
        <p:pic>
          <p:nvPicPr>
            <p:cNvPr id="50" name="" descr=""/>
            <p:cNvPicPr/>
            <p:nvPr/>
          </p:nvPicPr>
          <p:blipFill>
            <a:blip r:embed="rId3"/>
            <a:srcRect l="14334" t="3733" r="14975" b="4562"/>
            <a:stretch/>
          </p:blipFill>
          <p:spPr>
            <a:xfrm>
              <a:off x="6054840" y="5630760"/>
              <a:ext cx="909720" cy="9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6989760" y="5817960"/>
              <a:ext cx="1959120" cy="55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Federal Avi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Administr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d2f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285480" y="1955880"/>
            <a:ext cx="52909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ecff"/>
                </a:solidFill>
                <a:latin typeface="Arial"/>
              </a:rPr>
              <a:t>Southern </a:t>
            </a:r>
            <a:endParaRPr b="1" lang="en-US" sz="4800" spc="-1" strike="noStrike">
              <a:solidFill>
                <a:srgbClr val="ccec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ecff"/>
                </a:solidFill>
                <a:latin typeface="Arial"/>
              </a:rPr>
              <a:t>  </a:t>
            </a:r>
            <a:r>
              <a:rPr b="1" lang="en-US" sz="4800" spc="-1" strike="noStrike">
                <a:solidFill>
                  <a:srgbClr val="ccecff"/>
                </a:solidFill>
                <a:latin typeface="Arial"/>
              </a:rPr>
              <a:t>California</a:t>
            </a:r>
            <a:endParaRPr b="1" lang="en-US" sz="4800" spc="-1" strike="noStrike">
              <a:solidFill>
                <a:srgbClr val="ccec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ecff"/>
                </a:solidFill>
                <a:latin typeface="Arial"/>
              </a:rPr>
              <a:t>    </a:t>
            </a:r>
            <a:r>
              <a:rPr b="1" lang="en-US" sz="4800" spc="-1" strike="noStrike">
                <a:solidFill>
                  <a:srgbClr val="ccecff"/>
                </a:solidFill>
                <a:latin typeface="Arial"/>
              </a:rPr>
              <a:t>Warning</a:t>
            </a:r>
            <a:endParaRPr b="1" lang="en-US" sz="4800" spc="-1" strike="noStrike">
              <a:solidFill>
                <a:srgbClr val="ccec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ecff"/>
                </a:solidFill>
                <a:latin typeface="Arial"/>
              </a:rPr>
              <a:t>      </a:t>
            </a:r>
            <a:r>
              <a:rPr b="1" lang="en-US" sz="4800" spc="-1" strike="noStrike">
                <a:solidFill>
                  <a:srgbClr val="ccecff"/>
                </a:solidFill>
                <a:latin typeface="Arial"/>
              </a:rPr>
              <a:t>Areas</a:t>
            </a:r>
            <a:endParaRPr b="1" lang="en-US" sz="4800" spc="-1" strike="noStrike">
              <a:solidFill>
                <a:srgbClr val="ccec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d2f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4" descr="Man sitting on a giant question mark"/>
          <p:cNvPicPr/>
          <p:nvPr/>
        </p:nvPicPr>
        <p:blipFill>
          <a:blip r:embed="rId1"/>
          <a:stretch/>
        </p:blipFill>
        <p:spPr>
          <a:xfrm>
            <a:off x="0" y="0"/>
            <a:ext cx="9144000" cy="610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d2f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rcRect l="3541" t="0" r="36640" b="57392"/>
          <a:stretch/>
        </p:blipFill>
        <p:spPr>
          <a:xfrm>
            <a:off x="4390920" y="685800"/>
            <a:ext cx="4753080" cy="471312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90160" y="228240"/>
            <a:ext cx="3357720" cy="183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Arial"/>
              </a:rPr>
              <a:t>SOCAL</a:t>
            </a:r>
            <a:br>
              <a:rPr sz="4000"/>
            </a:br>
            <a:r>
              <a:rPr b="1" lang="en-US" sz="4000" spc="-1" strike="noStrike">
                <a:solidFill>
                  <a:srgbClr val="ffff66"/>
                </a:solidFill>
                <a:latin typeface="Arial"/>
              </a:rPr>
              <a:t>  Warning </a:t>
            </a:r>
            <a:br>
              <a:rPr sz="4000"/>
            </a:br>
            <a:r>
              <a:rPr b="1" lang="en-US" sz="4000" spc="-1" strike="noStrike">
                <a:solidFill>
                  <a:srgbClr val="ffff66"/>
                </a:solidFill>
                <a:latin typeface="Arial"/>
              </a:rPr>
              <a:t>    Areas</a:t>
            </a: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60360" y="2332080"/>
            <a:ext cx="394812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ight Contiguous Warning Are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rol Extensions contained within the Warning Are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eption C1177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d2f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rcRect l="3541" t="0" r="36640" b="57392"/>
          <a:stretch/>
        </p:blipFill>
        <p:spPr>
          <a:xfrm>
            <a:off x="2975040" y="15840"/>
            <a:ext cx="6168960" cy="611676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90160" y="228240"/>
            <a:ext cx="3357720" cy="183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Arial"/>
              </a:rPr>
              <a:t>SOCAL</a:t>
            </a:r>
            <a:br>
              <a:rPr sz="4000"/>
            </a:br>
            <a:r>
              <a:rPr b="1" lang="en-US" sz="4000" spc="-1" strike="noStrike">
                <a:solidFill>
                  <a:srgbClr val="ffff66"/>
                </a:solidFill>
                <a:latin typeface="Arial"/>
              </a:rPr>
              <a:t>  Warning </a:t>
            </a:r>
            <a:br>
              <a:rPr sz="4000"/>
            </a:br>
            <a:r>
              <a:rPr b="1" lang="en-US" sz="4000" spc="-1" strike="noStrike">
                <a:solidFill>
                  <a:srgbClr val="ffff66"/>
                </a:solidFill>
                <a:latin typeface="Arial"/>
              </a:rPr>
              <a:t>    Areas</a:t>
            </a: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22400" y="2151000"/>
            <a:ext cx="282384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ilitary is to leave at least 1 Control  Ext open north C1177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4 hours advance notice, may limit ops to 1 Control Ex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571920" y="399960"/>
            <a:ext cx="1609560" cy="1228680"/>
          </a:xfrm>
          <a:custGeom>
            <a:avLst/>
            <a:gdLst/>
            <a:ahLst/>
            <a:rect l="l" t="t" r="r" b="b"/>
            <a:pathLst>
              <a:path w="1014" h="774">
                <a:moveTo>
                  <a:pt x="0" y="774"/>
                </a:moveTo>
                <a:lnTo>
                  <a:pt x="276" y="408"/>
                </a:lnTo>
                <a:lnTo>
                  <a:pt x="540" y="618"/>
                </a:lnTo>
                <a:lnTo>
                  <a:pt x="1014" y="0"/>
                </a:lnTo>
              </a:path>
            </a:pathLst>
          </a:cu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858000" y="1486080"/>
            <a:ext cx="1943280" cy="2724120"/>
          </a:xfrm>
          <a:custGeom>
            <a:avLst/>
            <a:gdLst/>
            <a:ahLst/>
            <a:rect l="l" t="t" r="r" b="b"/>
            <a:pathLst>
              <a:path w="1224" h="1716">
                <a:moveTo>
                  <a:pt x="1224" y="0"/>
                </a:moveTo>
                <a:lnTo>
                  <a:pt x="966" y="594"/>
                </a:lnTo>
                <a:lnTo>
                  <a:pt x="612" y="1248"/>
                </a:lnTo>
                <a:lnTo>
                  <a:pt x="0" y="1716"/>
                </a:lnTo>
              </a:path>
            </a:pathLst>
          </a:cu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581280" y="1619280"/>
            <a:ext cx="3295800" cy="26193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d2f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90160" y="228240"/>
            <a:ext cx="3357720" cy="183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Arial"/>
              </a:rPr>
              <a:t>SOCAL</a:t>
            </a:r>
            <a:br>
              <a:rPr sz="4000"/>
            </a:br>
            <a:r>
              <a:rPr b="1" lang="en-US" sz="4000" spc="-1" strike="noStrike">
                <a:solidFill>
                  <a:srgbClr val="ffff66"/>
                </a:solidFill>
                <a:latin typeface="Arial"/>
              </a:rPr>
              <a:t>  Warning </a:t>
            </a:r>
            <a:br>
              <a:rPr sz="4000"/>
            </a:br>
            <a:r>
              <a:rPr b="1" lang="en-US" sz="4000" spc="-1" strike="noStrike">
                <a:solidFill>
                  <a:srgbClr val="ffff66"/>
                </a:solidFill>
                <a:latin typeface="Arial"/>
              </a:rPr>
              <a:t>    Areas</a:t>
            </a: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22400" y="2151000"/>
            <a:ext cx="282384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arning Area Activity is Active Intermittently by NOT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42373" b="18718"/>
          <a:stretch/>
        </p:blipFill>
        <p:spPr>
          <a:xfrm>
            <a:off x="3597120" y="0"/>
            <a:ext cx="5546880" cy="608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d2f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>
            <a:lum bright="20000"/>
          </a:blip>
          <a:srcRect l="324" t="0" r="10988" b="57404"/>
          <a:stretch/>
        </p:blipFill>
        <p:spPr>
          <a:xfrm>
            <a:off x="1440" y="0"/>
            <a:ext cx="9145800" cy="611496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90160" y="228240"/>
            <a:ext cx="7900920" cy="793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SOCAL Warning Areas</a:t>
            </a: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08000" y="1446120"/>
            <a:ext cx="731052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Special Use Airspace Management System (SAM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utomated NOTAM Publ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Generic NOTAMs do not cover partial airspace activa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Sub dividing Warning Are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W53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W29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d2f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>
            <a:lum bright="20000"/>
          </a:blip>
          <a:srcRect l="324" t="0" r="10988" b="57404"/>
          <a:stretch/>
        </p:blipFill>
        <p:spPr>
          <a:xfrm>
            <a:off x="1440" y="0"/>
            <a:ext cx="9145800" cy="611496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0160" y="228240"/>
            <a:ext cx="7900920" cy="793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SOCAL Warning Areas</a:t>
            </a: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08040" y="2671920"/>
            <a:ext cx="731052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Using Manual Issued NOTAMS when a generic SAMS NOTAM does not properly identify the active airspa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rcRect l="0" t="65245" r="56359" b="26100"/>
          <a:stretch/>
        </p:blipFill>
        <p:spPr>
          <a:xfrm>
            <a:off x="284040" y="1143000"/>
            <a:ext cx="8491680" cy="130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d2f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619200" y="-95400"/>
            <a:ext cx="7267680" cy="56502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950760" y="1284120"/>
            <a:ext cx="4967280" cy="3443400"/>
          </a:xfrm>
          <a:prstGeom prst="rect">
            <a:avLst/>
          </a:prstGeom>
          <a:solidFill>
            <a:srgbClr val="ffffff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FAA SUA Webs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Military Airspace activity can be accesse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ctivity is not complete at this ti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823680" y="5592600"/>
            <a:ext cx="455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ttp://sua.faa.gov/sua/special.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d2f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rcRect l="3541" t="0" r="-41" b="3624"/>
          <a:stretch/>
        </p:blipFill>
        <p:spPr>
          <a:xfrm>
            <a:off x="4834080" y="120600"/>
            <a:ext cx="4309920" cy="599292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90160" y="228240"/>
            <a:ext cx="3357720" cy="755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Arial"/>
              </a:rPr>
              <a:t>W-291</a:t>
            </a: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17440" y="1084320"/>
            <a:ext cx="44434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We are working with the Military to reach an agreement to sub-divide W-291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he subdivisions will provide an easy means to make the airspace available for commercial us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Advance NOTAM notification requirement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967440" y="725400"/>
            <a:ext cx="2016360" cy="1974960"/>
          </a:xfrm>
          <a:custGeom>
            <a:avLst/>
            <a:gdLst/>
            <a:ahLst/>
            <a:rect l="l" t="t" r="r" b="b"/>
            <a:pathLst>
              <a:path w="1270" h="1244">
                <a:moveTo>
                  <a:pt x="82" y="1244"/>
                </a:moveTo>
                <a:lnTo>
                  <a:pt x="320" y="1134"/>
                </a:lnTo>
                <a:lnTo>
                  <a:pt x="658" y="997"/>
                </a:lnTo>
                <a:lnTo>
                  <a:pt x="1270" y="713"/>
                </a:lnTo>
                <a:lnTo>
                  <a:pt x="694" y="192"/>
                </a:lnTo>
                <a:lnTo>
                  <a:pt x="621" y="247"/>
                </a:lnTo>
                <a:lnTo>
                  <a:pt x="603" y="165"/>
                </a:lnTo>
                <a:lnTo>
                  <a:pt x="393" y="0"/>
                </a:lnTo>
                <a:lnTo>
                  <a:pt x="283" y="55"/>
                </a:lnTo>
                <a:lnTo>
                  <a:pt x="182" y="274"/>
                </a:lnTo>
                <a:lnTo>
                  <a:pt x="118" y="476"/>
                </a:lnTo>
                <a:lnTo>
                  <a:pt x="164" y="567"/>
                </a:lnTo>
                <a:lnTo>
                  <a:pt x="45" y="1024"/>
                </a:lnTo>
                <a:lnTo>
                  <a:pt x="0" y="1070"/>
                </a:lnTo>
                <a:lnTo>
                  <a:pt x="82" y="1244"/>
                </a:lnTo>
                <a:close/>
              </a:path>
            </a:pathLst>
          </a:custGeom>
          <a:solidFill>
            <a:srgbClr val="f7031a">
              <a:alpha val="51000"/>
            </a:srgbClr>
          </a:solidFill>
          <a:ln w="9360">
            <a:solidFill>
              <a:srgbClr val="f7031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d2f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944640"/>
            <a:ext cx="9144000" cy="59133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0" y="838080"/>
            <a:ext cx="82296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-291 Potential Fuel Saving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757 saves 4 minutes, 1001lbs of fuel and $4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767 saves 5 minutes, 1145lbs of fuel and $44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744 saves 5 minutes, 2108lbs of fuel and $79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206520" y="254160"/>
            <a:ext cx="261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Tahoma"/>
              </a:rPr>
              <a:t>Delta Air L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8T20:32:53Z</dcterms:created>
  <dc:creator>Dennis Addison</dc:creator>
  <dc:description/>
  <dc:language>en-US</dc:language>
  <cp:lastModifiedBy>Dennis Addison</cp:lastModifiedBy>
  <dcterms:modified xsi:type="dcterms:W3CDTF">2010-05-11T20:33:49Z</dcterms:modified>
  <cp:revision>332</cp:revision>
  <dc:subject/>
  <dc:title>Oakland ARTCC</dc:title>
</cp:coreProperties>
</file>