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54A-3AB1-4DBA-952A-75D40502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878-915F-4465-8C44-E7EB41D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C0A-29B4-422C-8912-EFF9B1E6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4E7-CB87-454A-9784-9DE72F56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B2C-7C73-4C54-9900-7B5BECB5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7C6-CBCB-416F-85F7-56241D0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9B3-BFE1-4429-A024-A14637F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50D-95C6-40D9-B018-8DFAEF1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4B8-E308-4F6E-A28E-D9AFB8BB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240-FE8A-4DEA-A777-97F84D1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E42-91B6-4133-956F-09AA4DB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0A8-9C41-4F4A-8E8A-14133A60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342CA918-00C2-4592-BE3A-06A474CED30C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340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PACG-32/FIT-19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nolulu, Hawai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y 11, 2010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B9C-284F-416A-B274-07703B2FAB7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01 No Response to Logons to Oakland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made eight attempts to logon to Oaklan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response from Oakland to the first seve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last one was successfu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time/date corresponds to a TELCO line outage at Oaklan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nclusion is that this was a result of the line issue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se as problem fixed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32C-6249-48BA-9A5D-05C42176E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02 Failed Transfer from Oakland to Fukuoka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didn’t transfer from Oakland to Fukuoka at the FIR boundary (KEITH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sent position repor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nsfer eventually occurred 23 minutes after passing KEITH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arently  there was a pending uplink that prevented the automation from work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only uplink pending a few minutes before passing KEITH would be the CONTACT uplink (response was within one minute of the uplin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D25-36ED-4752-BB8A-701616378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03 Multiple Flight Plans for One Fligh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from China to Oceani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led flight plan as XXXn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d to logon to Fukuoka, Oakland as XXX0nn (leading zer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d to logon to Brisbane as XXXnn (no leading zer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ppens regularl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arently China forwards FPL after inserting leading zero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line has issued second FPL on some occasions to allow depar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SUs need to be aware of this…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073-DFB8-47D7-A468-02E56EC130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04 Downlinks Stopped Being Sen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ter establishing CPDLC and ADS connections, B764 airplane stopped sending CPDLC/ADS downlink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en in SATCOM-only are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milar behaviour seen in FIT PRs 706, 699,…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vionics/airframe manufacturers unable to reproduce in lab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236-B1B0-489B-81E4-6CE2DA467D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 805 ADS Reporting Interval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view of airplane message log revealed 11 ADS uplinks and 28 ADS downlinks in a 2-hour segment in Fukuoka airspa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DP uses 10-minute rate (9 min 36 sec) normally, but 5 min 20 sec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300 ft  from planned altitude (e.g. not yet reached planned alt),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r if 5NM between planned route and current route (inc WXR deviations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lso use demand repor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action required. Information only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AE4-E4CB-4527-9A61-0FAC697B2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FANS-Over-Iridium Reports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737s with FANS-1 and Iridium SATCOM operating in Fukuoka/Oakland airspa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5 PRs investigated since 1 Ja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% airplane equipment faul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1% ATS ground system issue (not Iridium-related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8% flight plan filing/processing issu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1% Iridium drop-ou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% short Iridium connection los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1% known existing FMC issue (not Iridium-related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% still under investig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4C4-620D-4E18-9D1C-538BE67792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ISPACG Problem Reports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ported on 72 PRs (in addition to those reported here and in NAT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PRs 695, 697-700 and 711-777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Key Subject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Use of HFDL (uplink and downlink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777 performance issues (fixed in BP v14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etwork outage notification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PDLC and ADS connections on A33x airplane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oute clearance loading on A3xx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DS delays in NZZ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ailed transfers from WAAF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hort sector transit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omm issues with new operators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767 sending dm64 with blank CDA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m63 without MRN (per Boeing design)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o altitude range change report from B777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nappropriate DESCENDING TO appended to POS REPORT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B744 spurious uplink printing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065-93A4-4F4B-9371-FBF8778C6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NAT Problem Reports</a:t>
            </a:r>
            <a:endParaRPr b="1" i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5 North Atlantic Problem Reports generated between Sept 2009 and March 2010 (PRs 778 – 792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 related to ADS waypoint change event reports (B777 sending duplicates in one downlink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 involving ground termination immediately after connection establishment (ground system issue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7 flight plan filing/processing issu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 route uplink issu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 airborne SATCOM system issu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 duplicate message delivery issue (ARINC 623 messages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18A-174C-49CA-9C4B-125113542A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4CB-C590-4C75-9545-C7B6AA503991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IPACG Problem Repor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s Reported/Processed Since FIT-18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ANS-Over-Iridiu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PACG Proble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AT Problem Repor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A9B-F8BF-4E9C-903F-810C08C8C9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7320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New IPACG Problem Report Summar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 Problem Reports generated for issues in NOPAC/CEPAC/CENPAC region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4AA-3066-4581-838A-360E038A82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IPACG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981080"/>
          <a:ext cx="7191360" cy="4041720"/>
        </p:xfrm>
        <a:graphic>
          <a:graphicData uri="http://schemas.openxmlformats.org/drawingml/2006/table">
            <a:tbl>
              <a:tblPr/>
              <a:tblGrid>
                <a:gridCol w="539640"/>
                <a:gridCol w="2132280"/>
                <a:gridCol w="985680"/>
                <a:gridCol w="914400"/>
                <a:gridCol w="762120"/>
                <a:gridCol w="18572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Gnd/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oute Clearance Going Backw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jected Log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light Number Didn't Propagate to LOGON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ogons to Fukuoka Rej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 Response to Logons to Oak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iled Transfer from Oakland to Fukuo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A631-B7EE-40B9-BEDA-866EFF46F3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New IPACG Problem Reports (Cont.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981080"/>
          <a:ext cx="7772400" cy="4322880"/>
        </p:xfrm>
        <a:graphic>
          <a:graphicData uri="http://schemas.openxmlformats.org/drawingml/2006/table">
            <a:tbl>
              <a:tblPr/>
              <a:tblGrid>
                <a:gridCol w="582480"/>
                <a:gridCol w="2305080"/>
                <a:gridCol w="1065240"/>
                <a:gridCol w="988920"/>
                <a:gridCol w="925560"/>
                <a:gridCol w="1905120"/>
              </a:tblGrid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Gnd/Li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ultiple Flight Plans for One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ownlinks Stopped Being S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 Prog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imilar to PRs 706, 699,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DS Reporting Interv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F43-4D1D-4E4E-8094-8DE400EBBA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797 Route Clearance Going Backward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received unsolicited route clearance (um80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LEARED ROUTE CLEARANCE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ARRIVAL: GOLDN5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VIA         T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IRECT  N4716.0W13151.0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IRECT  FULMR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IRECT  HEMLO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DIRECT  ENI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ter passing FULMR, airplane started sharp turn back towards HEMLO (now behind the airplane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cussed informally at IPACG-31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d as controller erro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2BF-9ACB-483F-A11E-8495AA32E0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 798 Rejected Logon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tempts to logon to Fukuoka and Anchorage were reject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ason code 4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uld not match ID/position to flight plan”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mplies flight plan filing/processing issu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57E-9DC8-4892-81E9-7204C71523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799 Flight Number Didn't Propagate to LOGON Page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 B777, airline sent route uplink to FMS with flight numb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number displayed on RTE page, but did not propagate to LOGON/STATUS pag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is a known problem with B777 that it does not propagate if there was no previous entr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 is resolved in Blockpoint v14 softwa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vailable on AIMS-2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waiting certification on AIMS-1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se as airplane problem now fix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C86-5E39-4A53-85DE-3649E08A1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00 Logons to Fukuoka Rejected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nsfer from Anchorage to Fukuoka fail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ubsequent logon attempts rejected by Fukuok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ason code 4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ame flight plan filing/processing issue as PR 798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8FD-5365-4E70-B695-5ED8C65CEB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10-05-03T16:54:47Z</dcterms:modified>
  <cp:revision>190</cp:revision>
  <dc:subject/>
  <dc:title>CRA PR report</dc:title>
</cp:coreProperties>
</file>