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4B3-262E-4AC8-B85B-8CDBF972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725-1EB7-45F9-843F-07A65C21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6BCD-56B8-43E4-996C-0DFE9CFB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DA0-53AE-4DF6-AEE4-D9935BB6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7932-D61F-49A9-B8A8-9223B9E4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2F3C-48EA-4873-91AB-115BD8E1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29AE-7C49-4C14-944A-2FBE5EC3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D2E0-0C0B-4918-AC13-2736DB3B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2918-7593-43F4-9CF6-51A4BC03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2D3F-D94D-4E12-A78B-E90EE4BC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6300-2749-4322-823E-C9961662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8893-4A3F-445C-A7E9-CAC482BE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6C22-0FBA-4D64-A06D-99933635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E1FA-5530-4461-86F2-E28AC44D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52DC-D4B5-4287-BC78-379E889B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58E7-6268-4122-9434-4ADF234B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373B-AC17-4BCE-91AF-8160E78F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D33F5-B2BF-442C-93D5-4BFA18FE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4C566-8055-434A-AE1B-773A28BC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037A6-28B4-414D-934D-E2FF5A74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694BE-56DA-49A9-B588-5B1E14FE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CC71D-9454-4AC1-8C5E-D5410D1D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494A-4187-47C6-9748-2A836C54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AE453-DB1A-4A78-B74E-77A76418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6216B-B4B5-4A10-9CE9-DCEDDA8D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26E34-EC1C-434F-BA11-28FC72DD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B176A-B4BA-43FA-9B58-EDD56C34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33C64-97AC-446F-9177-3D939860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028CC-4E37-4995-8DCB-CCB715C9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A11F1-A9F8-44E6-8AFF-3ACBAF7D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E38ED-039B-4D41-9C4D-D86D83E2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2B491-FC4E-42A1-A8F2-095F3D99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C8A0E-44E5-45D0-9895-BE49A5A9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473-372D-45CC-8392-C020C9A1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7CD82-BDB4-47CD-A250-63275495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45410-4DE3-41D5-A8E5-9DBB3F44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640E7-E6C8-4861-AF45-75FA4DA7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7E0CD-3DD9-4C18-95D9-AF5626B1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581EE-F3D6-4AD2-AE94-8EFA71BA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AEA6E-1382-4856-95E5-E90ED994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FBE4E-9CFA-49F0-8BEF-3142269C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1F9C0-DEE6-42EB-9F34-1BABA997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A4097-3954-4A58-876C-438AA69A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2B2-E17D-4525-A656-DD4AD9CF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5098-83AD-4203-BEA7-87F33E29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786F-26F4-4D7B-A243-29852F43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6A72-8A11-438A-A125-D9811075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E84-92E7-488D-979A-7AF7DEE5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44000" cy="556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5562720"/>
              <a:ext cx="9144000" cy="1295280"/>
              <a:chOff x="0" y="5562720"/>
              <a:chExt cx="9144000" cy="12952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0" y="5562720"/>
                <a:ext cx="9144000" cy="533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2b5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6095880"/>
                <a:ext cx="9144000" cy="762120"/>
              </a:xfrm>
              <a:prstGeom prst="rect">
                <a:avLst/>
              </a:prstGeom>
              <a:gradFill rotWithShape="0">
                <a:gsLst>
                  <a:gs pos="0">
                    <a:srgbClr val="82b5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" name="Group 7"/>
              <p:cNvGrpSpPr/>
              <p:nvPr/>
            </p:nvGrpSpPr>
            <p:grpSpPr>
              <a:xfrm>
                <a:off x="6477120" y="5749920"/>
                <a:ext cx="2666880" cy="1108080"/>
                <a:chOff x="6477120" y="5749920"/>
                <a:chExt cx="2666880" cy="1108080"/>
              </a:xfrm>
            </p:grpSpPr>
            <p:sp>
              <p:nvSpPr>
                <p:cNvPr id="6" name="Freeform 8"/>
                <p:cNvSpPr/>
                <p:nvPr/>
              </p:nvSpPr>
              <p:spPr>
                <a:xfrm>
                  <a:off x="6499080" y="5749920"/>
                  <a:ext cx="2644920" cy="1108080"/>
                </a:xfrm>
                <a:custGeom>
                  <a:avLst/>
                  <a:gdLst>
                    <a:gd name="textAreaLeft" fmla="*/ 0 w 2644920"/>
                    <a:gd name="textAreaRight" fmla="*/ 2645280 w 2644920"/>
                    <a:gd name="textAreaTop" fmla="*/ 0 h 1108080"/>
                    <a:gd name="textAreaBottom" fmla="*/ 1108440 h 1108080"/>
                  </a:gdLst>
                  <a:ahLst/>
                  <a:rect l="textAreaLeft" t="textAreaTop" r="textAreaRight" b="textAreaBottom"/>
                  <a:pathLst>
                    <a:path w="1666" h="698">
                      <a:moveTo>
                        <a:pt x="0" y="698"/>
                      </a:moveTo>
                      <a:lnTo>
                        <a:pt x="458" y="436"/>
                      </a:lnTo>
                      <a:lnTo>
                        <a:pt x="744" y="214"/>
                      </a:lnTo>
                      <a:lnTo>
                        <a:pt x="910" y="46"/>
                      </a:lnTo>
                      <a:lnTo>
                        <a:pt x="944" y="10"/>
                      </a:lnTo>
                      <a:lnTo>
                        <a:pt x="974" y="0"/>
                      </a:lnTo>
                      <a:lnTo>
                        <a:pt x="1008" y="2"/>
                      </a:lnTo>
                      <a:lnTo>
                        <a:pt x="1038" y="15"/>
                      </a:lnTo>
                      <a:lnTo>
                        <a:pt x="1110" y="164"/>
                      </a:lnTo>
                      <a:lnTo>
                        <a:pt x="1214" y="292"/>
                      </a:lnTo>
                      <a:lnTo>
                        <a:pt x="1480" y="482"/>
                      </a:lnTo>
                      <a:lnTo>
                        <a:pt x="1666" y="600"/>
                      </a:lnTo>
                      <a:lnTo>
                        <a:pt x="1666" y="698"/>
                      </a:lnTo>
                      <a:lnTo>
                        <a:pt x="0" y="6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bca39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" name="Group 9"/>
                <p:cNvGrpSpPr/>
                <p:nvPr/>
              </p:nvGrpSpPr>
              <p:grpSpPr>
                <a:xfrm>
                  <a:off x="6477120" y="5783400"/>
                  <a:ext cx="2666880" cy="988920"/>
                  <a:chOff x="6477120" y="5783400"/>
                  <a:chExt cx="2666880" cy="98892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8156520" y="5783400"/>
                    <a:ext cx="987480" cy="969840"/>
                  </a:xfrm>
                  <a:custGeom>
                    <a:avLst/>
                    <a:gdLst>
                      <a:gd name="textAreaLeft" fmla="*/ 0 w 987480"/>
                      <a:gd name="textAreaRight" fmla="*/ 987840 w 987480"/>
                      <a:gd name="textAreaTop" fmla="*/ 0 h 969840"/>
                      <a:gd name="textAreaBottom" fmla="*/ 970200 h 969840"/>
                    </a:gdLst>
                    <a:ahLst/>
                    <a:rect l="textAreaLeft" t="textAreaTop" r="textAreaRight" b="textAreaBottom"/>
                    <a:pathLst>
                      <a:path w="622" h="611">
                        <a:moveTo>
                          <a:pt x="134" y="255"/>
                        </a:moveTo>
                        <a:lnTo>
                          <a:pt x="224" y="341"/>
                        </a:lnTo>
                        <a:lnTo>
                          <a:pt x="322" y="418"/>
                        </a:lnTo>
                        <a:lnTo>
                          <a:pt x="328" y="425"/>
                        </a:lnTo>
                        <a:lnTo>
                          <a:pt x="335" y="431"/>
                        </a:lnTo>
                        <a:lnTo>
                          <a:pt x="349" y="443"/>
                        </a:lnTo>
                        <a:lnTo>
                          <a:pt x="399" y="478"/>
                        </a:lnTo>
                        <a:lnTo>
                          <a:pt x="562" y="577"/>
                        </a:lnTo>
                        <a:lnTo>
                          <a:pt x="598" y="595"/>
                        </a:lnTo>
                        <a:lnTo>
                          <a:pt x="622" y="611"/>
                        </a:lnTo>
                        <a:lnTo>
                          <a:pt x="622" y="547"/>
                        </a:lnTo>
                        <a:lnTo>
                          <a:pt x="590" y="531"/>
                        </a:lnTo>
                        <a:lnTo>
                          <a:pt x="501" y="467"/>
                        </a:lnTo>
                        <a:lnTo>
                          <a:pt x="477" y="452"/>
                        </a:lnTo>
                        <a:lnTo>
                          <a:pt x="464" y="445"/>
                        </a:lnTo>
                        <a:lnTo>
                          <a:pt x="458" y="443"/>
                        </a:lnTo>
                        <a:lnTo>
                          <a:pt x="452" y="441"/>
                        </a:lnTo>
                        <a:lnTo>
                          <a:pt x="214" y="276"/>
                        </a:lnTo>
                        <a:lnTo>
                          <a:pt x="115" y="181"/>
                        </a:lnTo>
                        <a:lnTo>
                          <a:pt x="69" y="125"/>
                        </a:lnTo>
                        <a:lnTo>
                          <a:pt x="30" y="64"/>
                        </a:lnTo>
                        <a:lnTo>
                          <a:pt x="9" y="21"/>
                        </a:lnTo>
                        <a:lnTo>
                          <a:pt x="3" y="7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5" y="15"/>
                        </a:lnTo>
                        <a:lnTo>
                          <a:pt x="23" y="65"/>
                        </a:lnTo>
                        <a:lnTo>
                          <a:pt x="52" y="129"/>
                        </a:lnTo>
                        <a:lnTo>
                          <a:pt x="87" y="190"/>
                        </a:lnTo>
                        <a:lnTo>
                          <a:pt x="109" y="224"/>
                        </a:lnTo>
                        <a:lnTo>
                          <a:pt x="134" y="25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5653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6477120" y="5834160"/>
                    <a:ext cx="1455480" cy="938160"/>
                  </a:xfrm>
                  <a:custGeom>
                    <a:avLst/>
                    <a:gdLst>
                      <a:gd name="textAreaLeft" fmla="*/ 0 w 1455480"/>
                      <a:gd name="textAreaRight" fmla="*/ 1455840 w 1455480"/>
                      <a:gd name="textAreaTop" fmla="*/ 0 h 938160"/>
                      <a:gd name="textAreaBottom" fmla="*/ 938520 h 938160"/>
                    </a:gdLst>
                    <a:ahLst/>
                    <a:rect l="textAreaLeft" t="textAreaTop" r="textAreaRight" b="textAreaBottom"/>
                    <a:pathLst>
                      <a:path w="3410" h="2056">
                        <a:moveTo>
                          <a:pt x="2643" y="605"/>
                        </a:moveTo>
                        <a:lnTo>
                          <a:pt x="1932" y="1087"/>
                        </a:lnTo>
                        <a:lnTo>
                          <a:pt x="1896" y="1099"/>
                        </a:lnTo>
                        <a:lnTo>
                          <a:pt x="1860" y="1115"/>
                        </a:lnTo>
                        <a:lnTo>
                          <a:pt x="1793" y="1151"/>
                        </a:lnTo>
                        <a:lnTo>
                          <a:pt x="1572" y="1272"/>
                        </a:lnTo>
                        <a:lnTo>
                          <a:pt x="912" y="1615"/>
                        </a:lnTo>
                        <a:lnTo>
                          <a:pt x="572" y="1700"/>
                        </a:lnTo>
                        <a:lnTo>
                          <a:pt x="240" y="1814"/>
                        </a:lnTo>
                        <a:lnTo>
                          <a:pt x="152" y="1853"/>
                        </a:lnTo>
                        <a:lnTo>
                          <a:pt x="113" y="1868"/>
                        </a:lnTo>
                        <a:lnTo>
                          <a:pt x="75" y="1884"/>
                        </a:lnTo>
                        <a:lnTo>
                          <a:pt x="58" y="1895"/>
                        </a:lnTo>
                        <a:lnTo>
                          <a:pt x="43" y="1907"/>
                        </a:lnTo>
                        <a:lnTo>
                          <a:pt x="36" y="1914"/>
                        </a:lnTo>
                        <a:lnTo>
                          <a:pt x="29" y="1922"/>
                        </a:lnTo>
                        <a:lnTo>
                          <a:pt x="23" y="1931"/>
                        </a:lnTo>
                        <a:lnTo>
                          <a:pt x="17" y="1942"/>
                        </a:lnTo>
                        <a:lnTo>
                          <a:pt x="8" y="1964"/>
                        </a:lnTo>
                        <a:lnTo>
                          <a:pt x="0" y="1988"/>
                        </a:lnTo>
                        <a:lnTo>
                          <a:pt x="18" y="2003"/>
                        </a:lnTo>
                        <a:lnTo>
                          <a:pt x="38" y="2016"/>
                        </a:lnTo>
                        <a:lnTo>
                          <a:pt x="59" y="2026"/>
                        </a:lnTo>
                        <a:lnTo>
                          <a:pt x="80" y="2034"/>
                        </a:lnTo>
                        <a:lnTo>
                          <a:pt x="125" y="2046"/>
                        </a:lnTo>
                        <a:lnTo>
                          <a:pt x="171" y="2051"/>
                        </a:lnTo>
                        <a:lnTo>
                          <a:pt x="213" y="2051"/>
                        </a:lnTo>
                        <a:lnTo>
                          <a:pt x="234" y="2053"/>
                        </a:lnTo>
                        <a:lnTo>
                          <a:pt x="255" y="2056"/>
                        </a:lnTo>
                        <a:lnTo>
                          <a:pt x="462" y="2031"/>
                        </a:lnTo>
                        <a:lnTo>
                          <a:pt x="665" y="1983"/>
                        </a:lnTo>
                        <a:lnTo>
                          <a:pt x="894" y="1901"/>
                        </a:lnTo>
                        <a:lnTo>
                          <a:pt x="1289" y="1725"/>
                        </a:lnTo>
                        <a:lnTo>
                          <a:pt x="1544" y="1584"/>
                        </a:lnTo>
                        <a:lnTo>
                          <a:pt x="1607" y="1545"/>
                        </a:lnTo>
                        <a:lnTo>
                          <a:pt x="1636" y="1522"/>
                        </a:lnTo>
                        <a:lnTo>
                          <a:pt x="1650" y="1509"/>
                        </a:lnTo>
                        <a:lnTo>
                          <a:pt x="1663" y="1497"/>
                        </a:lnTo>
                        <a:lnTo>
                          <a:pt x="2545" y="866"/>
                        </a:lnTo>
                        <a:lnTo>
                          <a:pt x="3052" y="423"/>
                        </a:lnTo>
                        <a:lnTo>
                          <a:pt x="3339" y="108"/>
                        </a:lnTo>
                        <a:lnTo>
                          <a:pt x="3398" y="27"/>
                        </a:lnTo>
                        <a:lnTo>
                          <a:pt x="3406" y="14"/>
                        </a:lnTo>
                        <a:lnTo>
                          <a:pt x="3408" y="9"/>
                        </a:lnTo>
                        <a:lnTo>
                          <a:pt x="3410" y="6"/>
                        </a:lnTo>
                        <a:lnTo>
                          <a:pt x="3410" y="5"/>
                        </a:lnTo>
                        <a:lnTo>
                          <a:pt x="3410" y="3"/>
                        </a:lnTo>
                        <a:lnTo>
                          <a:pt x="3410" y="2"/>
                        </a:lnTo>
                        <a:lnTo>
                          <a:pt x="3410" y="2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8" y="0"/>
                        </a:lnTo>
                        <a:lnTo>
                          <a:pt x="3408" y="0"/>
                        </a:lnTo>
                        <a:lnTo>
                          <a:pt x="3407" y="0"/>
                        </a:lnTo>
                        <a:lnTo>
                          <a:pt x="3406" y="1"/>
                        </a:lnTo>
                        <a:lnTo>
                          <a:pt x="3404" y="1"/>
                        </a:lnTo>
                        <a:lnTo>
                          <a:pt x="3401" y="3"/>
                        </a:lnTo>
                        <a:lnTo>
                          <a:pt x="3394" y="10"/>
                        </a:lnTo>
                        <a:lnTo>
                          <a:pt x="3349" y="48"/>
                        </a:lnTo>
                        <a:lnTo>
                          <a:pt x="3154" y="217"/>
                        </a:lnTo>
                        <a:lnTo>
                          <a:pt x="2643" y="60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5653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365D-BD92-453C-84AC-DF4183908298}" type="slidenum">
              <a:rPr b="0" lang="en-US" sz="1400" spc="-1" strike="noStrike">
                <a:solidFill>
                  <a:srgbClr val="6b5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FF8F-C5A1-4F6F-85C0-4AD8F0725E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9144000" cy="480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4"/>
            <p:cNvGrpSpPr/>
            <p:nvPr/>
          </p:nvGrpSpPr>
          <p:grpSpPr>
            <a:xfrm>
              <a:off x="0" y="4800600"/>
              <a:ext cx="9144000" cy="2057400"/>
              <a:chOff x="0" y="4800600"/>
              <a:chExt cx="9144000" cy="205740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0" y="4800600"/>
                <a:ext cx="9144000" cy="533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2b5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6"/>
              <p:cNvSpPr/>
              <p:nvPr/>
            </p:nvSpPr>
            <p:spPr>
              <a:xfrm>
                <a:off x="0" y="5334120"/>
                <a:ext cx="9144000" cy="1523880"/>
              </a:xfrm>
              <a:prstGeom prst="rect">
                <a:avLst/>
              </a:prstGeom>
              <a:gradFill rotWithShape="0">
                <a:gsLst>
                  <a:gs pos="0">
                    <a:srgbClr val="82b5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7"/>
              <p:cNvGrpSpPr/>
              <p:nvPr/>
            </p:nvGrpSpPr>
            <p:grpSpPr>
              <a:xfrm>
                <a:off x="4648320" y="5105520"/>
                <a:ext cx="4494960" cy="1752120"/>
                <a:chOff x="4648320" y="5105520"/>
                <a:chExt cx="4494960" cy="1752120"/>
              </a:xfrm>
            </p:grpSpPr>
            <p:sp>
              <p:nvSpPr>
                <p:cNvPr id="98" name="Freeform 8"/>
                <p:cNvSpPr/>
                <p:nvPr/>
              </p:nvSpPr>
              <p:spPr>
                <a:xfrm>
                  <a:off x="4685040" y="5105520"/>
                  <a:ext cx="4458240" cy="1752120"/>
                </a:xfrm>
                <a:custGeom>
                  <a:avLst/>
                  <a:gdLst>
                    <a:gd name="textAreaLeft" fmla="*/ 0 w 4458240"/>
                    <a:gd name="textAreaRight" fmla="*/ 4458600 w 4458240"/>
                    <a:gd name="textAreaTop" fmla="*/ 0 h 1752120"/>
                    <a:gd name="textAreaBottom" fmla="*/ 1752480 h 1752120"/>
                  </a:gdLst>
                  <a:ahLst/>
                  <a:rect l="textAreaLeft" t="textAreaTop" r="textAreaRight" b="textAreaBottom"/>
                  <a:pathLst>
                    <a:path w="1666" h="698">
                      <a:moveTo>
                        <a:pt x="0" y="698"/>
                      </a:moveTo>
                      <a:lnTo>
                        <a:pt x="458" y="436"/>
                      </a:lnTo>
                      <a:lnTo>
                        <a:pt x="744" y="214"/>
                      </a:lnTo>
                      <a:lnTo>
                        <a:pt x="910" y="46"/>
                      </a:lnTo>
                      <a:lnTo>
                        <a:pt x="944" y="10"/>
                      </a:lnTo>
                      <a:lnTo>
                        <a:pt x="974" y="0"/>
                      </a:lnTo>
                      <a:lnTo>
                        <a:pt x="1008" y="2"/>
                      </a:lnTo>
                      <a:lnTo>
                        <a:pt x="1038" y="15"/>
                      </a:lnTo>
                      <a:lnTo>
                        <a:pt x="1110" y="164"/>
                      </a:lnTo>
                      <a:lnTo>
                        <a:pt x="1214" y="292"/>
                      </a:lnTo>
                      <a:lnTo>
                        <a:pt x="1480" y="482"/>
                      </a:lnTo>
                      <a:lnTo>
                        <a:pt x="1666" y="600"/>
                      </a:lnTo>
                      <a:lnTo>
                        <a:pt x="1666" y="698"/>
                      </a:lnTo>
                      <a:lnTo>
                        <a:pt x="0" y="6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bca39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" name="Group 9"/>
                <p:cNvGrpSpPr/>
                <p:nvPr/>
              </p:nvGrpSpPr>
              <p:grpSpPr>
                <a:xfrm>
                  <a:off x="4648320" y="5158440"/>
                  <a:ext cx="4494600" cy="1562760"/>
                  <a:chOff x="4648320" y="5158440"/>
                  <a:chExt cx="4494600" cy="1562760"/>
                </a:xfrm>
              </p:grpSpPr>
              <p:sp>
                <p:nvSpPr>
                  <p:cNvPr id="100" name="Freeform 10"/>
                  <p:cNvSpPr/>
                  <p:nvPr/>
                </p:nvSpPr>
                <p:spPr>
                  <a:xfrm>
                    <a:off x="7478640" y="5158440"/>
                    <a:ext cx="1664280" cy="1532880"/>
                  </a:xfrm>
                  <a:custGeom>
                    <a:avLst/>
                    <a:gdLst>
                      <a:gd name="textAreaLeft" fmla="*/ 0 w 1664280"/>
                      <a:gd name="textAreaRight" fmla="*/ 1664640 w 1664280"/>
                      <a:gd name="textAreaTop" fmla="*/ 0 h 1532880"/>
                      <a:gd name="textAreaBottom" fmla="*/ 1533240 h 1532880"/>
                    </a:gdLst>
                    <a:ahLst/>
                    <a:rect l="textAreaLeft" t="textAreaTop" r="textAreaRight" b="textAreaBottom"/>
                    <a:pathLst>
                      <a:path w="622" h="611">
                        <a:moveTo>
                          <a:pt x="134" y="255"/>
                        </a:moveTo>
                        <a:lnTo>
                          <a:pt x="224" y="341"/>
                        </a:lnTo>
                        <a:lnTo>
                          <a:pt x="322" y="418"/>
                        </a:lnTo>
                        <a:lnTo>
                          <a:pt x="328" y="425"/>
                        </a:lnTo>
                        <a:lnTo>
                          <a:pt x="335" y="431"/>
                        </a:lnTo>
                        <a:lnTo>
                          <a:pt x="349" y="443"/>
                        </a:lnTo>
                        <a:lnTo>
                          <a:pt x="399" y="478"/>
                        </a:lnTo>
                        <a:lnTo>
                          <a:pt x="562" y="577"/>
                        </a:lnTo>
                        <a:lnTo>
                          <a:pt x="598" y="595"/>
                        </a:lnTo>
                        <a:lnTo>
                          <a:pt x="622" y="611"/>
                        </a:lnTo>
                        <a:lnTo>
                          <a:pt x="622" y="547"/>
                        </a:lnTo>
                        <a:lnTo>
                          <a:pt x="590" y="531"/>
                        </a:lnTo>
                        <a:lnTo>
                          <a:pt x="501" y="467"/>
                        </a:lnTo>
                        <a:lnTo>
                          <a:pt x="477" y="452"/>
                        </a:lnTo>
                        <a:lnTo>
                          <a:pt x="464" y="445"/>
                        </a:lnTo>
                        <a:lnTo>
                          <a:pt x="458" y="443"/>
                        </a:lnTo>
                        <a:lnTo>
                          <a:pt x="452" y="441"/>
                        </a:lnTo>
                        <a:lnTo>
                          <a:pt x="214" y="276"/>
                        </a:lnTo>
                        <a:lnTo>
                          <a:pt x="115" y="181"/>
                        </a:lnTo>
                        <a:lnTo>
                          <a:pt x="69" y="125"/>
                        </a:lnTo>
                        <a:lnTo>
                          <a:pt x="30" y="64"/>
                        </a:lnTo>
                        <a:lnTo>
                          <a:pt x="9" y="21"/>
                        </a:lnTo>
                        <a:lnTo>
                          <a:pt x="3" y="7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5" y="15"/>
                        </a:lnTo>
                        <a:lnTo>
                          <a:pt x="23" y="65"/>
                        </a:lnTo>
                        <a:lnTo>
                          <a:pt x="52" y="129"/>
                        </a:lnTo>
                        <a:lnTo>
                          <a:pt x="87" y="190"/>
                        </a:lnTo>
                        <a:lnTo>
                          <a:pt x="109" y="224"/>
                        </a:lnTo>
                        <a:lnTo>
                          <a:pt x="134" y="25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5653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11"/>
                  <p:cNvSpPr/>
                  <p:nvPr/>
                </p:nvSpPr>
                <p:spPr>
                  <a:xfrm>
                    <a:off x="4648320" y="5238360"/>
                    <a:ext cx="2453040" cy="1482840"/>
                  </a:xfrm>
                  <a:custGeom>
                    <a:avLst/>
                    <a:gdLst>
                      <a:gd name="textAreaLeft" fmla="*/ 0 w 2453040"/>
                      <a:gd name="textAreaRight" fmla="*/ 2453400 w 2453040"/>
                      <a:gd name="textAreaTop" fmla="*/ 0 h 1482840"/>
                      <a:gd name="textAreaBottom" fmla="*/ 1483200 h 1482840"/>
                    </a:gdLst>
                    <a:ahLst/>
                    <a:rect l="textAreaLeft" t="textAreaTop" r="textAreaRight" b="textAreaBottom"/>
                    <a:pathLst>
                      <a:path w="3410" h="2056">
                        <a:moveTo>
                          <a:pt x="2643" y="605"/>
                        </a:moveTo>
                        <a:lnTo>
                          <a:pt x="1932" y="1087"/>
                        </a:lnTo>
                        <a:lnTo>
                          <a:pt x="1896" y="1099"/>
                        </a:lnTo>
                        <a:lnTo>
                          <a:pt x="1860" y="1115"/>
                        </a:lnTo>
                        <a:lnTo>
                          <a:pt x="1793" y="1151"/>
                        </a:lnTo>
                        <a:lnTo>
                          <a:pt x="1572" y="1272"/>
                        </a:lnTo>
                        <a:lnTo>
                          <a:pt x="912" y="1615"/>
                        </a:lnTo>
                        <a:lnTo>
                          <a:pt x="572" y="1700"/>
                        </a:lnTo>
                        <a:lnTo>
                          <a:pt x="240" y="1814"/>
                        </a:lnTo>
                        <a:lnTo>
                          <a:pt x="152" y="1853"/>
                        </a:lnTo>
                        <a:lnTo>
                          <a:pt x="113" y="1868"/>
                        </a:lnTo>
                        <a:lnTo>
                          <a:pt x="75" y="1884"/>
                        </a:lnTo>
                        <a:lnTo>
                          <a:pt x="58" y="1895"/>
                        </a:lnTo>
                        <a:lnTo>
                          <a:pt x="43" y="1907"/>
                        </a:lnTo>
                        <a:lnTo>
                          <a:pt x="36" y="1914"/>
                        </a:lnTo>
                        <a:lnTo>
                          <a:pt x="29" y="1922"/>
                        </a:lnTo>
                        <a:lnTo>
                          <a:pt x="23" y="1931"/>
                        </a:lnTo>
                        <a:lnTo>
                          <a:pt x="17" y="1942"/>
                        </a:lnTo>
                        <a:lnTo>
                          <a:pt x="8" y="1964"/>
                        </a:lnTo>
                        <a:lnTo>
                          <a:pt x="0" y="1988"/>
                        </a:lnTo>
                        <a:lnTo>
                          <a:pt x="18" y="2003"/>
                        </a:lnTo>
                        <a:lnTo>
                          <a:pt x="38" y="2016"/>
                        </a:lnTo>
                        <a:lnTo>
                          <a:pt x="59" y="2026"/>
                        </a:lnTo>
                        <a:lnTo>
                          <a:pt x="80" y="2034"/>
                        </a:lnTo>
                        <a:lnTo>
                          <a:pt x="125" y="2046"/>
                        </a:lnTo>
                        <a:lnTo>
                          <a:pt x="171" y="2051"/>
                        </a:lnTo>
                        <a:lnTo>
                          <a:pt x="213" y="2051"/>
                        </a:lnTo>
                        <a:lnTo>
                          <a:pt x="234" y="2053"/>
                        </a:lnTo>
                        <a:lnTo>
                          <a:pt x="255" y="2056"/>
                        </a:lnTo>
                        <a:lnTo>
                          <a:pt x="462" y="2031"/>
                        </a:lnTo>
                        <a:lnTo>
                          <a:pt x="665" y="1983"/>
                        </a:lnTo>
                        <a:lnTo>
                          <a:pt x="894" y="1901"/>
                        </a:lnTo>
                        <a:lnTo>
                          <a:pt x="1289" y="1725"/>
                        </a:lnTo>
                        <a:lnTo>
                          <a:pt x="1544" y="1584"/>
                        </a:lnTo>
                        <a:lnTo>
                          <a:pt x="1607" y="1545"/>
                        </a:lnTo>
                        <a:lnTo>
                          <a:pt x="1636" y="1522"/>
                        </a:lnTo>
                        <a:lnTo>
                          <a:pt x="1650" y="1509"/>
                        </a:lnTo>
                        <a:lnTo>
                          <a:pt x="1663" y="1497"/>
                        </a:lnTo>
                        <a:lnTo>
                          <a:pt x="2545" y="866"/>
                        </a:lnTo>
                        <a:lnTo>
                          <a:pt x="3052" y="423"/>
                        </a:lnTo>
                        <a:lnTo>
                          <a:pt x="3339" y="108"/>
                        </a:lnTo>
                        <a:lnTo>
                          <a:pt x="3398" y="27"/>
                        </a:lnTo>
                        <a:lnTo>
                          <a:pt x="3406" y="14"/>
                        </a:lnTo>
                        <a:lnTo>
                          <a:pt x="3408" y="9"/>
                        </a:lnTo>
                        <a:lnTo>
                          <a:pt x="3410" y="6"/>
                        </a:lnTo>
                        <a:lnTo>
                          <a:pt x="3410" y="5"/>
                        </a:lnTo>
                        <a:lnTo>
                          <a:pt x="3410" y="3"/>
                        </a:lnTo>
                        <a:lnTo>
                          <a:pt x="3410" y="2"/>
                        </a:lnTo>
                        <a:lnTo>
                          <a:pt x="3410" y="2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8" y="0"/>
                        </a:lnTo>
                        <a:lnTo>
                          <a:pt x="3408" y="0"/>
                        </a:lnTo>
                        <a:lnTo>
                          <a:pt x="3407" y="0"/>
                        </a:lnTo>
                        <a:lnTo>
                          <a:pt x="3406" y="1"/>
                        </a:lnTo>
                        <a:lnTo>
                          <a:pt x="3404" y="1"/>
                        </a:lnTo>
                        <a:lnTo>
                          <a:pt x="3401" y="3"/>
                        </a:lnTo>
                        <a:lnTo>
                          <a:pt x="3394" y="10"/>
                        </a:lnTo>
                        <a:lnTo>
                          <a:pt x="3349" y="48"/>
                        </a:lnTo>
                        <a:lnTo>
                          <a:pt x="3154" y="217"/>
                        </a:lnTo>
                        <a:lnTo>
                          <a:pt x="2643" y="60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5653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4DB6-0875-4FC2-9901-49D0B5510E22}" type="slidenum">
              <a:rPr b="0" lang="en-US" sz="1400" spc="-1" strike="noStrike">
                <a:solidFill>
                  <a:srgbClr val="6b5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4" name="Rectangle 3"/>
            <p:cNvSpPr/>
            <p:nvPr/>
          </p:nvSpPr>
          <p:spPr>
            <a:xfrm>
              <a:off x="0" y="0"/>
              <a:ext cx="9144000" cy="556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4"/>
            <p:cNvGrpSpPr/>
            <p:nvPr/>
          </p:nvGrpSpPr>
          <p:grpSpPr>
            <a:xfrm>
              <a:off x="0" y="5562720"/>
              <a:ext cx="9144000" cy="1295280"/>
              <a:chOff x="0" y="5562720"/>
              <a:chExt cx="9144000" cy="1295280"/>
            </a:xfrm>
          </p:grpSpPr>
          <p:sp>
            <p:nvSpPr>
              <p:cNvPr id="146" name="Rectangle 5"/>
              <p:cNvSpPr/>
              <p:nvPr/>
            </p:nvSpPr>
            <p:spPr>
              <a:xfrm>
                <a:off x="0" y="5562720"/>
                <a:ext cx="9144000" cy="533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2b5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6"/>
              <p:cNvSpPr/>
              <p:nvPr/>
            </p:nvSpPr>
            <p:spPr>
              <a:xfrm>
                <a:off x="0" y="6095880"/>
                <a:ext cx="9144000" cy="762120"/>
              </a:xfrm>
              <a:prstGeom prst="rect">
                <a:avLst/>
              </a:prstGeom>
              <a:gradFill rotWithShape="0">
                <a:gsLst>
                  <a:gs pos="0">
                    <a:srgbClr val="82b5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Group 7"/>
              <p:cNvGrpSpPr/>
              <p:nvPr/>
            </p:nvGrpSpPr>
            <p:grpSpPr>
              <a:xfrm>
                <a:off x="6477120" y="5749920"/>
                <a:ext cx="2666880" cy="1108080"/>
                <a:chOff x="6477120" y="5749920"/>
                <a:chExt cx="2666880" cy="1108080"/>
              </a:xfrm>
            </p:grpSpPr>
            <p:sp>
              <p:nvSpPr>
                <p:cNvPr id="149" name="Freeform 8"/>
                <p:cNvSpPr/>
                <p:nvPr/>
              </p:nvSpPr>
              <p:spPr>
                <a:xfrm>
                  <a:off x="6499080" y="5749920"/>
                  <a:ext cx="2644920" cy="1108080"/>
                </a:xfrm>
                <a:custGeom>
                  <a:avLst/>
                  <a:gdLst>
                    <a:gd name="textAreaLeft" fmla="*/ 0 w 2644920"/>
                    <a:gd name="textAreaRight" fmla="*/ 2645280 w 2644920"/>
                    <a:gd name="textAreaTop" fmla="*/ 0 h 1108080"/>
                    <a:gd name="textAreaBottom" fmla="*/ 1108440 h 1108080"/>
                  </a:gdLst>
                  <a:ahLst/>
                  <a:rect l="textAreaLeft" t="textAreaTop" r="textAreaRight" b="textAreaBottom"/>
                  <a:pathLst>
                    <a:path w="1666" h="698">
                      <a:moveTo>
                        <a:pt x="0" y="698"/>
                      </a:moveTo>
                      <a:lnTo>
                        <a:pt x="458" y="436"/>
                      </a:lnTo>
                      <a:lnTo>
                        <a:pt x="744" y="214"/>
                      </a:lnTo>
                      <a:lnTo>
                        <a:pt x="910" y="46"/>
                      </a:lnTo>
                      <a:lnTo>
                        <a:pt x="944" y="10"/>
                      </a:lnTo>
                      <a:lnTo>
                        <a:pt x="974" y="0"/>
                      </a:lnTo>
                      <a:lnTo>
                        <a:pt x="1008" y="2"/>
                      </a:lnTo>
                      <a:lnTo>
                        <a:pt x="1038" y="15"/>
                      </a:lnTo>
                      <a:lnTo>
                        <a:pt x="1110" y="164"/>
                      </a:lnTo>
                      <a:lnTo>
                        <a:pt x="1214" y="292"/>
                      </a:lnTo>
                      <a:lnTo>
                        <a:pt x="1480" y="482"/>
                      </a:lnTo>
                      <a:lnTo>
                        <a:pt x="1666" y="600"/>
                      </a:lnTo>
                      <a:lnTo>
                        <a:pt x="1666" y="698"/>
                      </a:lnTo>
                      <a:lnTo>
                        <a:pt x="0" y="6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bca39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" name="Group 9"/>
                <p:cNvGrpSpPr/>
                <p:nvPr/>
              </p:nvGrpSpPr>
              <p:grpSpPr>
                <a:xfrm>
                  <a:off x="6477120" y="5783400"/>
                  <a:ext cx="2666880" cy="988920"/>
                  <a:chOff x="6477120" y="5783400"/>
                  <a:chExt cx="2666880" cy="988920"/>
                </a:xfrm>
              </p:grpSpPr>
              <p:sp>
                <p:nvSpPr>
                  <p:cNvPr id="151" name="Freeform 10"/>
                  <p:cNvSpPr/>
                  <p:nvPr/>
                </p:nvSpPr>
                <p:spPr>
                  <a:xfrm>
                    <a:off x="8156520" y="5783400"/>
                    <a:ext cx="987480" cy="969840"/>
                  </a:xfrm>
                  <a:custGeom>
                    <a:avLst/>
                    <a:gdLst>
                      <a:gd name="textAreaLeft" fmla="*/ 0 w 987480"/>
                      <a:gd name="textAreaRight" fmla="*/ 987840 w 987480"/>
                      <a:gd name="textAreaTop" fmla="*/ 0 h 969840"/>
                      <a:gd name="textAreaBottom" fmla="*/ 970200 h 969840"/>
                    </a:gdLst>
                    <a:ahLst/>
                    <a:rect l="textAreaLeft" t="textAreaTop" r="textAreaRight" b="textAreaBottom"/>
                    <a:pathLst>
                      <a:path w="622" h="611">
                        <a:moveTo>
                          <a:pt x="134" y="255"/>
                        </a:moveTo>
                        <a:lnTo>
                          <a:pt x="224" y="341"/>
                        </a:lnTo>
                        <a:lnTo>
                          <a:pt x="322" y="418"/>
                        </a:lnTo>
                        <a:lnTo>
                          <a:pt x="328" y="425"/>
                        </a:lnTo>
                        <a:lnTo>
                          <a:pt x="335" y="431"/>
                        </a:lnTo>
                        <a:lnTo>
                          <a:pt x="349" y="443"/>
                        </a:lnTo>
                        <a:lnTo>
                          <a:pt x="399" y="478"/>
                        </a:lnTo>
                        <a:lnTo>
                          <a:pt x="562" y="577"/>
                        </a:lnTo>
                        <a:lnTo>
                          <a:pt x="598" y="595"/>
                        </a:lnTo>
                        <a:lnTo>
                          <a:pt x="622" y="611"/>
                        </a:lnTo>
                        <a:lnTo>
                          <a:pt x="622" y="547"/>
                        </a:lnTo>
                        <a:lnTo>
                          <a:pt x="590" y="531"/>
                        </a:lnTo>
                        <a:lnTo>
                          <a:pt x="501" y="467"/>
                        </a:lnTo>
                        <a:lnTo>
                          <a:pt x="477" y="452"/>
                        </a:lnTo>
                        <a:lnTo>
                          <a:pt x="464" y="445"/>
                        </a:lnTo>
                        <a:lnTo>
                          <a:pt x="458" y="443"/>
                        </a:lnTo>
                        <a:lnTo>
                          <a:pt x="452" y="441"/>
                        </a:lnTo>
                        <a:lnTo>
                          <a:pt x="214" y="276"/>
                        </a:lnTo>
                        <a:lnTo>
                          <a:pt x="115" y="181"/>
                        </a:lnTo>
                        <a:lnTo>
                          <a:pt x="69" y="125"/>
                        </a:lnTo>
                        <a:lnTo>
                          <a:pt x="30" y="64"/>
                        </a:lnTo>
                        <a:lnTo>
                          <a:pt x="9" y="21"/>
                        </a:lnTo>
                        <a:lnTo>
                          <a:pt x="3" y="7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5" y="15"/>
                        </a:lnTo>
                        <a:lnTo>
                          <a:pt x="23" y="65"/>
                        </a:lnTo>
                        <a:lnTo>
                          <a:pt x="52" y="129"/>
                        </a:lnTo>
                        <a:lnTo>
                          <a:pt x="87" y="190"/>
                        </a:lnTo>
                        <a:lnTo>
                          <a:pt x="109" y="224"/>
                        </a:lnTo>
                        <a:lnTo>
                          <a:pt x="134" y="25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5653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1"/>
                  <p:cNvSpPr/>
                  <p:nvPr/>
                </p:nvSpPr>
                <p:spPr>
                  <a:xfrm>
                    <a:off x="6477120" y="5834160"/>
                    <a:ext cx="1455480" cy="938160"/>
                  </a:xfrm>
                  <a:custGeom>
                    <a:avLst/>
                    <a:gdLst>
                      <a:gd name="textAreaLeft" fmla="*/ 0 w 1455480"/>
                      <a:gd name="textAreaRight" fmla="*/ 1455840 w 1455480"/>
                      <a:gd name="textAreaTop" fmla="*/ 0 h 938160"/>
                      <a:gd name="textAreaBottom" fmla="*/ 938520 h 938160"/>
                    </a:gdLst>
                    <a:ahLst/>
                    <a:rect l="textAreaLeft" t="textAreaTop" r="textAreaRight" b="textAreaBottom"/>
                    <a:pathLst>
                      <a:path w="3410" h="2056">
                        <a:moveTo>
                          <a:pt x="2643" y="605"/>
                        </a:moveTo>
                        <a:lnTo>
                          <a:pt x="1932" y="1087"/>
                        </a:lnTo>
                        <a:lnTo>
                          <a:pt x="1896" y="1099"/>
                        </a:lnTo>
                        <a:lnTo>
                          <a:pt x="1860" y="1115"/>
                        </a:lnTo>
                        <a:lnTo>
                          <a:pt x="1793" y="1151"/>
                        </a:lnTo>
                        <a:lnTo>
                          <a:pt x="1572" y="1272"/>
                        </a:lnTo>
                        <a:lnTo>
                          <a:pt x="912" y="1615"/>
                        </a:lnTo>
                        <a:lnTo>
                          <a:pt x="572" y="1700"/>
                        </a:lnTo>
                        <a:lnTo>
                          <a:pt x="240" y="1814"/>
                        </a:lnTo>
                        <a:lnTo>
                          <a:pt x="152" y="1853"/>
                        </a:lnTo>
                        <a:lnTo>
                          <a:pt x="113" y="1868"/>
                        </a:lnTo>
                        <a:lnTo>
                          <a:pt x="75" y="1884"/>
                        </a:lnTo>
                        <a:lnTo>
                          <a:pt x="58" y="1895"/>
                        </a:lnTo>
                        <a:lnTo>
                          <a:pt x="43" y="1907"/>
                        </a:lnTo>
                        <a:lnTo>
                          <a:pt x="36" y="1914"/>
                        </a:lnTo>
                        <a:lnTo>
                          <a:pt x="29" y="1922"/>
                        </a:lnTo>
                        <a:lnTo>
                          <a:pt x="23" y="1931"/>
                        </a:lnTo>
                        <a:lnTo>
                          <a:pt x="17" y="1942"/>
                        </a:lnTo>
                        <a:lnTo>
                          <a:pt x="8" y="1964"/>
                        </a:lnTo>
                        <a:lnTo>
                          <a:pt x="0" y="1988"/>
                        </a:lnTo>
                        <a:lnTo>
                          <a:pt x="18" y="2003"/>
                        </a:lnTo>
                        <a:lnTo>
                          <a:pt x="38" y="2016"/>
                        </a:lnTo>
                        <a:lnTo>
                          <a:pt x="59" y="2026"/>
                        </a:lnTo>
                        <a:lnTo>
                          <a:pt x="80" y="2034"/>
                        </a:lnTo>
                        <a:lnTo>
                          <a:pt x="125" y="2046"/>
                        </a:lnTo>
                        <a:lnTo>
                          <a:pt x="171" y="2051"/>
                        </a:lnTo>
                        <a:lnTo>
                          <a:pt x="213" y="2051"/>
                        </a:lnTo>
                        <a:lnTo>
                          <a:pt x="234" y="2053"/>
                        </a:lnTo>
                        <a:lnTo>
                          <a:pt x="255" y="2056"/>
                        </a:lnTo>
                        <a:lnTo>
                          <a:pt x="462" y="2031"/>
                        </a:lnTo>
                        <a:lnTo>
                          <a:pt x="665" y="1983"/>
                        </a:lnTo>
                        <a:lnTo>
                          <a:pt x="894" y="1901"/>
                        </a:lnTo>
                        <a:lnTo>
                          <a:pt x="1289" y="1725"/>
                        </a:lnTo>
                        <a:lnTo>
                          <a:pt x="1544" y="1584"/>
                        </a:lnTo>
                        <a:lnTo>
                          <a:pt x="1607" y="1545"/>
                        </a:lnTo>
                        <a:lnTo>
                          <a:pt x="1636" y="1522"/>
                        </a:lnTo>
                        <a:lnTo>
                          <a:pt x="1650" y="1509"/>
                        </a:lnTo>
                        <a:lnTo>
                          <a:pt x="1663" y="1497"/>
                        </a:lnTo>
                        <a:lnTo>
                          <a:pt x="2545" y="866"/>
                        </a:lnTo>
                        <a:lnTo>
                          <a:pt x="3052" y="423"/>
                        </a:lnTo>
                        <a:lnTo>
                          <a:pt x="3339" y="108"/>
                        </a:lnTo>
                        <a:lnTo>
                          <a:pt x="3398" y="27"/>
                        </a:lnTo>
                        <a:lnTo>
                          <a:pt x="3406" y="14"/>
                        </a:lnTo>
                        <a:lnTo>
                          <a:pt x="3408" y="9"/>
                        </a:lnTo>
                        <a:lnTo>
                          <a:pt x="3410" y="6"/>
                        </a:lnTo>
                        <a:lnTo>
                          <a:pt x="3410" y="5"/>
                        </a:lnTo>
                        <a:lnTo>
                          <a:pt x="3410" y="3"/>
                        </a:lnTo>
                        <a:lnTo>
                          <a:pt x="3410" y="2"/>
                        </a:lnTo>
                        <a:lnTo>
                          <a:pt x="3410" y="2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8" y="0"/>
                        </a:lnTo>
                        <a:lnTo>
                          <a:pt x="3408" y="0"/>
                        </a:lnTo>
                        <a:lnTo>
                          <a:pt x="3407" y="0"/>
                        </a:lnTo>
                        <a:lnTo>
                          <a:pt x="3406" y="1"/>
                        </a:lnTo>
                        <a:lnTo>
                          <a:pt x="3404" y="1"/>
                        </a:lnTo>
                        <a:lnTo>
                          <a:pt x="3401" y="3"/>
                        </a:lnTo>
                        <a:lnTo>
                          <a:pt x="3394" y="10"/>
                        </a:lnTo>
                        <a:lnTo>
                          <a:pt x="3349" y="48"/>
                        </a:lnTo>
                        <a:lnTo>
                          <a:pt x="3154" y="217"/>
                        </a:lnTo>
                        <a:lnTo>
                          <a:pt x="2643" y="60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5653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E5A8-33CD-4FD1-80EE-83C5AC24CB81}" type="datetime">
              <a:rPr b="0" lang="en-US" sz="1400" spc="-1" strike="noStrike">
                <a:solidFill>
                  <a:srgbClr val="6b5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7D83-6C9B-405E-ACAD-EAB132A7BC3E}" type="slidenum">
              <a:rPr b="0" lang="ja-JP" sz="1400" spc="-1" strike="noStrike">
                <a:solidFill>
                  <a:srgbClr val="6b5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b8c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TMC presentation IPACG/32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0-14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Traffic Management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bulence report by CPDL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IP/17)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ing from Feb. 10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ing information appropr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CAB AIC002/10, turbulence report should downlink in free text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777 DMSG048 contains turbulence report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CAB considering to amend this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0" y="1928880"/>
          <a:ext cx="9136080" cy="4317840"/>
        </p:xfrm>
        <a:graphic>
          <a:graphicData uri="http://schemas.openxmlformats.org/drawingml/2006/table">
            <a:tbl>
              <a:tblPr/>
              <a:tblGrid>
                <a:gridCol w="1419120"/>
                <a:gridCol w="1643040"/>
                <a:gridCol w="6073920"/>
              </a:tblGrid>
              <a:tr h="812880">
                <a:tc>
                  <a:txBody>
                    <a:bodyPr lIns="114120" rIns="11412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4120" rIns="11412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ss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14120" rIns="11412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wnlink mess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52480">
                <a:tc>
                  <a:txBody>
                    <a:bodyPr lIns="114120" rIns="11412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ple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14120" rIns="11412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SG04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14120" rIns="11412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22POSITION REPORT 3829.1N14542.0E 1241 FL310 SABES 1246 POXED 2310 -46 C 321 / 076 TURBULENCE</a:t>
                      </a:r>
                      <a:r>
                        <a:rPr b="0" lang="en-US" sz="2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=MODERATE M.83 PUTER 1239 FL3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52480">
                <a:tc>
                  <a:txBody>
                    <a:bodyPr lIns="114120" rIns="11412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ple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14120" rIns="11412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SG04806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14120" rIns="11412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38POSITION REPORT 3949.6N15051.0E 1956 FL330 44N160E 2046 46N170E 0349 -51 C 251 ? 094 TURBULENCE</a:t>
                      </a:r>
                      <a:r>
                        <a:rPr b="0" lang="en-US" sz="2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=MODERATE M.83 CALMA 1953 FL330</a:t>
                      </a: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;PABBA-CAL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120" marR="11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rbulence report by CPDLC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IP/17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9:24:24Z</dcterms:created>
  <dc:creator>航空交通流管理センター</dc:creator>
  <dc:description/>
  <dc:language>en-US</dc:language>
  <cp:lastModifiedBy>imuta-t07j7</cp:lastModifiedBy>
  <dcterms:modified xsi:type="dcterms:W3CDTF">2010-05-07T03:58:43Z</dcterms:modified>
  <cp:revision>67</cp:revision>
  <dc:subject/>
  <dc:title>スライド 1</dc:title>
</cp:coreProperties>
</file>