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5EF-F7C4-45E0-AD87-C3D4EA94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296-7E09-42DE-BA0C-4A1F0B4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4E7-3FFC-4A18-BD05-1DD12CF8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0A7C-1E0E-4E6B-BD09-2A175AED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6BA7-C4D8-49FC-9162-4516A73A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CD55-43A8-452C-8FB9-EDE9A25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CFC-10A3-4F83-AF9C-6126E6C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97E5-43B9-4F25-B649-18606E73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8022-E90B-4FA6-9830-FAF944D6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E6FE-2A7B-49A8-B5F1-DC957C8B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E62F-14C1-40C4-9F04-7FCBA15D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C0E-940A-438E-A42F-09127EAA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C31-CB08-4A2B-8EDE-C6AB8ADD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EFFF-F540-4E13-BCBC-52FA59A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411-0543-48C4-BC6D-E4749789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F4C3-60F0-4CC6-B8A9-A9DC6113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24DC-DFB8-4466-90C8-8B7C0698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2111-F3A8-4EC9-BADB-C01D7085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0A2C-FC07-47D7-97A7-3F5088AE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68BDC-A0CD-4A06-BEC8-E298401C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B366-1CF8-474F-8299-1E40AFA3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EE15-C1C3-45DB-AB3F-190A82A3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0D9-A63A-4C49-B352-BE68C4F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450E-3F71-4C9E-AA65-346D7E81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7A23-E5D6-402A-B9A2-34A7F825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A0FB-94A3-4A07-AA13-A4984C32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CBDD-34A5-437B-A583-086570B1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583C-59A6-4CC5-A314-D27A5F7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A642F-33C9-44BA-BDB7-E14D2A8A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005CB-4E7B-43B6-9631-F618A975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4DAF-6FD4-48B0-9AC5-EB7D55D6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E50E-480C-4BFE-BAFD-7DD1E26F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E5E8-A13E-4CFD-8629-0F6D467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AB7-1429-46E2-91BB-10E621F6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D9EBC-536F-4E2B-BBD6-BF5DAE55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CEB5-90BE-4107-8E1A-8AA3ADCE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616F-30D3-415E-87EA-7E8B102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B52D-5F32-44BF-8F12-A3F0DEC1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A272-C8A4-4AC2-A2AB-71C5ECC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06B1-F7E3-43B8-8398-ACCBC14C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BB32-7300-4AD4-8B86-32B83544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E8422-201A-4B6D-ABEF-258FAA9E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E57A3-78B4-45BB-9AFB-876EEF88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C9E-D828-449D-A480-BD035BB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0DC-A760-49E3-92C3-DBE602E3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77D-8478-4181-91CD-530316E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949-A0C3-4F2F-ABD0-C6455705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AF8-80E8-4C39-BE8D-EF86C72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8058-8CDF-48A2-963F-76F6B7E415BA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9540-5798-4559-8F0D-AD4D2C4F06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914400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0" y="4800600"/>
              <a:ext cx="9144000" cy="2057400"/>
              <a:chOff x="0" y="4800600"/>
              <a:chExt cx="9144000" cy="205740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0" y="48006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"/>
              <p:cNvSpPr/>
              <p:nvPr/>
            </p:nvSpPr>
            <p:spPr>
              <a:xfrm>
                <a:off x="0" y="5334120"/>
                <a:ext cx="9144000" cy="152388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4648320" y="5105520"/>
                <a:ext cx="4494960" cy="1752120"/>
                <a:chOff x="4648320" y="5105520"/>
                <a:chExt cx="4494960" cy="1752120"/>
              </a:xfrm>
            </p:grpSpPr>
            <p:sp>
              <p:nvSpPr>
                <p:cNvPr id="98" name="Freeform 8"/>
                <p:cNvSpPr/>
                <p:nvPr/>
              </p:nvSpPr>
              <p:spPr>
                <a:xfrm>
                  <a:off x="4685040" y="5105520"/>
                  <a:ext cx="4458240" cy="1752120"/>
                </a:xfrm>
                <a:custGeom>
                  <a:avLst/>
                  <a:gdLst>
                    <a:gd name="textAreaLeft" fmla="*/ 0 w 4458240"/>
                    <a:gd name="textAreaRight" fmla="*/ 4458600 w 4458240"/>
                    <a:gd name="textAreaTop" fmla="*/ 0 h 1752120"/>
                    <a:gd name="textAreaBottom" fmla="*/ 1752480 h 175212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" name="Group 9"/>
                <p:cNvGrpSpPr/>
                <p:nvPr/>
              </p:nvGrpSpPr>
              <p:grpSpPr>
                <a:xfrm>
                  <a:off x="4648320" y="5158440"/>
                  <a:ext cx="4494600" cy="1562760"/>
                  <a:chOff x="4648320" y="5158440"/>
                  <a:chExt cx="4494600" cy="1562760"/>
                </a:xfrm>
              </p:grpSpPr>
              <p:sp>
                <p:nvSpPr>
                  <p:cNvPr id="100" name="Freeform 10"/>
                  <p:cNvSpPr/>
                  <p:nvPr/>
                </p:nvSpPr>
                <p:spPr>
                  <a:xfrm>
                    <a:off x="7478640" y="5158440"/>
                    <a:ext cx="1664280" cy="1532880"/>
                  </a:xfrm>
                  <a:custGeom>
                    <a:avLst/>
                    <a:gdLst>
                      <a:gd name="textAreaLeft" fmla="*/ 0 w 1664280"/>
                      <a:gd name="textAreaRight" fmla="*/ 1664640 w 1664280"/>
                      <a:gd name="textAreaTop" fmla="*/ 0 h 1532880"/>
                      <a:gd name="textAreaBottom" fmla="*/ 1533240 h 153288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Freeform 11"/>
                  <p:cNvSpPr/>
                  <p:nvPr/>
                </p:nvSpPr>
                <p:spPr>
                  <a:xfrm>
                    <a:off x="4648320" y="5238360"/>
                    <a:ext cx="2453040" cy="1482840"/>
                  </a:xfrm>
                  <a:custGeom>
                    <a:avLst/>
                    <a:gdLst>
                      <a:gd name="textAreaLeft" fmla="*/ 0 w 2453040"/>
                      <a:gd name="textAreaRight" fmla="*/ 2453400 w 2453040"/>
                      <a:gd name="textAreaTop" fmla="*/ 0 h 1482840"/>
                      <a:gd name="textAreaBottom" fmla="*/ 1483200 h 148284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FE53-04BF-4381-8801-1F9BC659BDD4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149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151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5EA3-AEB6-4068-BA4E-C7483C882AD4}" type="datetime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5005-818D-448D-88B4-86A0AEB1383D}" type="slidenum">
              <a:rPr b="0" lang="ja-JP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8c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MC presentation IPACG/3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0-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raffic Managemen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UPR, Japan-Australia-New Zealand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(IP/12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. ’07: Japan-New Zealand U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. ’08: Japan-Australia Paper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’09: Japan-Australia UPR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. ’10: Japan-Oceania UPR exp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the area to 50NM east side of A597 (exclu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587520" y="12600"/>
            <a:ext cx="8028000" cy="687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Line 12"/>
          <p:cNvSpPr/>
          <p:nvPr/>
        </p:nvSpPr>
        <p:spPr>
          <a:xfrm>
            <a:off x="3379680" y="2455920"/>
            <a:ext cx="986040" cy="42210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 flipV="1">
            <a:off x="3376440" y="2428920"/>
            <a:ext cx="630360" cy="39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4006800" y="2356920"/>
            <a:ext cx="1511280" cy="7164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5513400" y="2312640"/>
            <a:ext cx="647640" cy="442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6"/>
          <p:cNvSpPr/>
          <p:nvPr/>
        </p:nvSpPr>
        <p:spPr>
          <a:xfrm flipV="1">
            <a:off x="6146640" y="2284560"/>
            <a:ext cx="250920" cy="2376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7"/>
          <p:cNvSpPr/>
          <p:nvPr/>
        </p:nvSpPr>
        <p:spPr>
          <a:xfrm>
            <a:off x="6383160" y="2284560"/>
            <a:ext cx="2233800" cy="2811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8"/>
          <p:cNvSpPr/>
          <p:nvPr/>
        </p:nvSpPr>
        <p:spPr>
          <a:xfrm>
            <a:off x="8615520" y="5092560"/>
            <a:ext cx="0" cy="5050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9"/>
          <p:cNvSpPr/>
          <p:nvPr/>
        </p:nvSpPr>
        <p:spPr>
          <a:xfrm flipH="1">
            <a:off x="7606800" y="5597640"/>
            <a:ext cx="1008360" cy="8636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H="1">
            <a:off x="4332240" y="6461280"/>
            <a:ext cx="3260880" cy="1872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6541920" y="1976400"/>
            <a:ext cx="905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HGPｺﾞｼｯｸE"/>
                <a:ea typeface="HGPｺﾞｼｯｸE"/>
              </a:rPr>
              <a:t>3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 flipV="1">
            <a:off x="2398680" y="4924440"/>
            <a:ext cx="336600" cy="1159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1332000" y="5229360"/>
            <a:ext cx="1379520" cy="63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50NM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f A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4357800" y="5072040"/>
            <a:ext cx="14284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Many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on B5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グループ化 20"/>
          <p:cNvGrpSpPr/>
          <p:nvPr/>
        </p:nvGrpSpPr>
        <p:grpSpPr>
          <a:xfrm>
            <a:off x="1908000" y="2448000"/>
            <a:ext cx="2426040" cy="4228920"/>
            <a:chOff x="1908000" y="2448000"/>
            <a:chExt cx="2426040" cy="4228920"/>
          </a:xfrm>
        </p:grpSpPr>
        <p:sp>
          <p:nvSpPr>
            <p:cNvPr id="213" name="Line 31"/>
            <p:cNvSpPr/>
            <p:nvPr/>
          </p:nvSpPr>
          <p:spPr>
            <a:xfrm flipV="1">
              <a:off x="2581200" y="2460600"/>
              <a:ext cx="773280" cy="2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1912680" y="2466720"/>
              <a:ext cx="1459080" cy="4202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 flipV="1">
              <a:off x="3363840" y="6657840"/>
              <a:ext cx="9702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4"/>
            <p:cNvSpPr/>
            <p:nvPr/>
          </p:nvSpPr>
          <p:spPr>
            <a:xfrm>
              <a:off x="3327480" y="2448000"/>
              <a:ext cx="981000" cy="4228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1"/>
            <p:cNvSpPr/>
            <p:nvPr/>
          </p:nvSpPr>
          <p:spPr>
            <a:xfrm flipV="1">
              <a:off x="1908000" y="2484360"/>
              <a:ext cx="6793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UPR, Japan-Australia-New Zealand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(IP/12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24:24Z</dcterms:created>
  <dc:creator>航空交通流管理センター</dc:creator>
  <dc:description/>
  <dc:language>en-US</dc:language>
  <cp:lastModifiedBy>imuta-t07j7</cp:lastModifiedBy>
  <dcterms:modified xsi:type="dcterms:W3CDTF">2010-05-07T03:58:00Z</dcterms:modified>
  <cp:revision>67</cp:revision>
  <dc:subject/>
  <dc:title>スライド 1</dc:title>
</cp:coreProperties>
</file>