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152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16752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14334" t="3733" r="14975" b="4562"/>
          <a:stretch/>
        </p:blipFill>
        <p:spPr>
          <a:xfrm>
            <a:off x="5689440" y="6276960"/>
            <a:ext cx="489240" cy="4906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386760" y="6303960"/>
            <a:ext cx="13694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ederal Av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9280" y="6134040"/>
            <a:ext cx="17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IPACG 32 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1360" y="6540480"/>
            <a:ext cx="15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May 10-14,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47840" y="6335640"/>
            <a:ext cx="17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Honolulu,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3484440" y="6207120"/>
            <a:ext cx="63972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22928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6960" y="4497480"/>
            <a:ext cx="4822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54600" y="0"/>
            <a:ext cx="4289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6054840" y="5630760"/>
            <a:ext cx="2894040" cy="911160"/>
            <a:chOff x="6054840" y="5630760"/>
            <a:chExt cx="2894040" cy="911160"/>
          </a:xfrm>
        </p:grpSpPr>
        <p:pic>
          <p:nvPicPr>
            <p:cNvPr id="50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6054840" y="563076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989760" y="581796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3600" y="5513400"/>
            <a:ext cx="3849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PACG 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nolulu, Hawa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e:  May 10-14,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120" y="687240"/>
            <a:ext cx="3655800" cy="43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erg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ACO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rack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 and 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391680" cy="81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Merging Track C/D PACOTS Paper Trial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14447" r="15108" b="29881"/>
          <a:stretch/>
        </p:blipFill>
        <p:spPr>
          <a:xfrm>
            <a:off x="0" y="793800"/>
            <a:ext cx="9144000" cy="52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8120" y="885960"/>
            <a:ext cx="1295640" cy="495000"/>
          </a:xfrm>
          <a:prstGeom prst="wedgeRectCallout">
            <a:avLst>
              <a:gd name="adj1" fmla="val 121935"/>
              <a:gd name="adj2" fmla="val 18942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08640" y="866880"/>
            <a:ext cx="1295280" cy="495360"/>
          </a:xfrm>
          <a:prstGeom prst="wedgeRectCallout">
            <a:avLst>
              <a:gd name="adj1" fmla="val -84314"/>
              <a:gd name="adj2" fmla="val 23173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36880" y="1474920"/>
            <a:ext cx="1295280" cy="495000"/>
          </a:xfrm>
          <a:prstGeom prst="wedgeRectCallout">
            <a:avLst>
              <a:gd name="adj1" fmla="val 180884"/>
              <a:gd name="adj2" fmla="val 15641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13360" y="1447920"/>
            <a:ext cx="1295640" cy="495360"/>
          </a:xfrm>
          <a:prstGeom prst="wedgeRectCallout">
            <a:avLst>
              <a:gd name="adj1" fmla="val -100736"/>
              <a:gd name="adj2" fmla="val 20416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65840" y="2805120"/>
            <a:ext cx="1295640" cy="495360"/>
          </a:xfrm>
          <a:prstGeom prst="wedgeRectCallout">
            <a:avLst>
              <a:gd name="adj1" fmla="val -105268"/>
              <a:gd name="adj2" fmla="val 4294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02520" y="2143080"/>
            <a:ext cx="1295280" cy="495360"/>
          </a:xfrm>
          <a:prstGeom prst="wedgeRectCallout">
            <a:avLst>
              <a:gd name="adj1" fmla="val -119731"/>
              <a:gd name="adj2" fmla="val 11025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42840" y="2481120"/>
            <a:ext cx="5253120" cy="436680"/>
          </a:xfrm>
          <a:custGeom>
            <a:avLst/>
            <a:gdLst/>
            <a:ahLst/>
            <a:rect l="l" t="t" r="r" b="b"/>
            <a:pathLst>
              <a:path w="3309" h="275">
                <a:moveTo>
                  <a:pt x="3309" y="165"/>
                </a:moveTo>
                <a:lnTo>
                  <a:pt x="2313" y="147"/>
                </a:lnTo>
                <a:lnTo>
                  <a:pt x="1462" y="275"/>
                </a:lnTo>
                <a:lnTo>
                  <a:pt x="722" y="247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78080" y="2903400"/>
            <a:ext cx="3803760" cy="376200"/>
          </a:xfrm>
          <a:custGeom>
            <a:avLst/>
            <a:gdLst/>
            <a:ahLst/>
            <a:rect l="l" t="t" r="r" b="b"/>
            <a:pathLst>
              <a:path w="2396" h="237">
                <a:moveTo>
                  <a:pt x="2396" y="237"/>
                </a:moveTo>
                <a:lnTo>
                  <a:pt x="1573" y="228"/>
                </a:lnTo>
                <a:lnTo>
                  <a:pt x="842" y="16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3976560" y="2612880"/>
            <a:ext cx="595440" cy="144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3976560" y="3279600"/>
            <a:ext cx="595440" cy="5904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3520" y="3481560"/>
            <a:ext cx="8601120" cy="520560"/>
          </a:xfrm>
          <a:prstGeom prst="rect">
            <a:avLst/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tion Date has moved to May 17, 20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391680" cy="81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Merging Track C/D PACOTS Paper Trial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14447" r="15108" b="29881"/>
          <a:stretch/>
        </p:blipFill>
        <p:spPr>
          <a:xfrm>
            <a:off x="0" y="793800"/>
            <a:ext cx="9144000" cy="5221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08120" y="885960"/>
            <a:ext cx="1295640" cy="495000"/>
          </a:xfrm>
          <a:prstGeom prst="wedgeRectCallout">
            <a:avLst>
              <a:gd name="adj1" fmla="val 121935"/>
              <a:gd name="adj2" fmla="val 18942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36840" y="1552680"/>
            <a:ext cx="1295280" cy="495360"/>
          </a:xfrm>
          <a:prstGeom prst="wedgeRectCallout">
            <a:avLst>
              <a:gd name="adj1" fmla="val 145097"/>
              <a:gd name="adj2" fmla="val 9326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79560" y="2131920"/>
            <a:ext cx="1295640" cy="495360"/>
          </a:xfrm>
          <a:prstGeom prst="wedgeRectCallout">
            <a:avLst>
              <a:gd name="adj1" fmla="val 123527"/>
              <a:gd name="adj2" fmla="val 2371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2640" y="2714760"/>
            <a:ext cx="1295280" cy="495000"/>
          </a:xfrm>
          <a:prstGeom prst="wedgeRectCallout">
            <a:avLst>
              <a:gd name="adj1" fmla="val 114703"/>
              <a:gd name="adj2" fmla="val -5160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65840" y="2805120"/>
            <a:ext cx="1295640" cy="495360"/>
          </a:xfrm>
          <a:prstGeom prst="wedgeRectCallout">
            <a:avLst>
              <a:gd name="adj1" fmla="val -105268"/>
              <a:gd name="adj2" fmla="val 4294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25720" y="3324240"/>
            <a:ext cx="1295640" cy="495360"/>
          </a:xfrm>
          <a:prstGeom prst="wedgeRectCallout">
            <a:avLst>
              <a:gd name="adj1" fmla="val 71444"/>
              <a:gd name="adj2" fmla="val -12820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62240" y="762120"/>
            <a:ext cx="3238560" cy="1819080"/>
          </a:xfrm>
          <a:custGeom>
            <a:avLst/>
            <a:gdLst/>
            <a:ahLst/>
            <a:rect l="l" t="t" r="r" b="b"/>
            <a:pathLst>
              <a:path w="2040" h="1146">
                <a:moveTo>
                  <a:pt x="2040" y="1146"/>
                </a:moveTo>
                <a:lnTo>
                  <a:pt x="1008" y="516"/>
                </a:lnTo>
                <a:lnTo>
                  <a:pt x="372" y="180"/>
                </a:lnTo>
                <a:lnTo>
                  <a:pt x="72" y="3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53080" y="1600200"/>
            <a:ext cx="1981080" cy="1666800"/>
          </a:xfrm>
          <a:custGeom>
            <a:avLst/>
            <a:gdLst/>
            <a:ahLst/>
            <a:rect l="l" t="t" r="r" b="b"/>
            <a:pathLst>
              <a:path w="1248" h="1050">
                <a:moveTo>
                  <a:pt x="1248" y="1050"/>
                </a:moveTo>
                <a:lnTo>
                  <a:pt x="1068" y="720"/>
                </a:lnTo>
                <a:lnTo>
                  <a:pt x="594" y="40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3520" y="3805200"/>
            <a:ext cx="8601120" cy="2113200"/>
          </a:xfrm>
          <a:prstGeom prst="rect">
            <a:avLst/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the winter when the PACOTS Tracks proceed north over YVR no operational advantage is envis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e Spring/Summer months approach and the PACOTS Tracks drop further south and proceed more westerly an operational advantage is anticip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391680" cy="81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Merging Track C/D PACOTS Paper Trial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14447" r="15108" b="29881"/>
          <a:stretch/>
        </p:blipFill>
        <p:spPr>
          <a:xfrm>
            <a:off x="0" y="793800"/>
            <a:ext cx="9144000" cy="5221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8120" y="885960"/>
            <a:ext cx="1295640" cy="495000"/>
          </a:xfrm>
          <a:prstGeom prst="wedgeRectCallout">
            <a:avLst>
              <a:gd name="adj1" fmla="val 121935"/>
              <a:gd name="adj2" fmla="val 18942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08640" y="866880"/>
            <a:ext cx="1295280" cy="495360"/>
          </a:xfrm>
          <a:prstGeom prst="wedgeRectCallout">
            <a:avLst>
              <a:gd name="adj1" fmla="val -84314"/>
              <a:gd name="adj2" fmla="val 23173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36880" y="1474920"/>
            <a:ext cx="1295280" cy="495000"/>
          </a:xfrm>
          <a:prstGeom prst="wedgeRectCallout">
            <a:avLst>
              <a:gd name="adj1" fmla="val 180884"/>
              <a:gd name="adj2" fmla="val 15641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13360" y="1447920"/>
            <a:ext cx="1295640" cy="495360"/>
          </a:xfrm>
          <a:prstGeom prst="wedgeRectCallout">
            <a:avLst>
              <a:gd name="adj1" fmla="val -100736"/>
              <a:gd name="adj2" fmla="val 20416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65840" y="2805120"/>
            <a:ext cx="1295640" cy="495360"/>
          </a:xfrm>
          <a:prstGeom prst="wedgeRectCallout">
            <a:avLst>
              <a:gd name="adj1" fmla="val -105268"/>
              <a:gd name="adj2" fmla="val 4294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02520" y="2143080"/>
            <a:ext cx="1295280" cy="495360"/>
          </a:xfrm>
          <a:prstGeom prst="wedgeRectCallout">
            <a:avLst>
              <a:gd name="adj1" fmla="val -119731"/>
              <a:gd name="adj2" fmla="val 11025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-42840" y="2481120"/>
            <a:ext cx="5253120" cy="436680"/>
          </a:xfrm>
          <a:custGeom>
            <a:avLst/>
            <a:gdLst/>
            <a:ahLst/>
            <a:rect l="l" t="t" r="r" b="b"/>
            <a:pathLst>
              <a:path w="3309" h="275">
                <a:moveTo>
                  <a:pt x="3309" y="165"/>
                </a:moveTo>
                <a:lnTo>
                  <a:pt x="2313" y="147"/>
                </a:lnTo>
                <a:lnTo>
                  <a:pt x="1462" y="275"/>
                </a:lnTo>
                <a:lnTo>
                  <a:pt x="722" y="247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78080" y="2903400"/>
            <a:ext cx="3803760" cy="376200"/>
          </a:xfrm>
          <a:custGeom>
            <a:avLst/>
            <a:gdLst/>
            <a:ahLst/>
            <a:rect l="l" t="t" r="r" b="b"/>
            <a:pathLst>
              <a:path w="2396" h="237">
                <a:moveTo>
                  <a:pt x="2396" y="237"/>
                </a:moveTo>
                <a:lnTo>
                  <a:pt x="1573" y="228"/>
                </a:lnTo>
                <a:lnTo>
                  <a:pt x="842" y="16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976560" y="2612880"/>
            <a:ext cx="595440" cy="144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3976560" y="3279600"/>
            <a:ext cx="595440" cy="5904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3520" y="3481560"/>
            <a:ext cx="8601120" cy="2399760"/>
          </a:xfrm>
          <a:prstGeom prst="rect">
            <a:avLst/>
          </a:prstGeom>
          <a:solidFill>
            <a:srgbClr val="0000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17, 2010 will begin an operational demonstration with PACOTS Track C/D aircraft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ks be generated which will allow flights to merge within the Oakland Oceanic FIR when it provides an operational advantag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k Advisory will be used for the oceanic gateway for each Tr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two tracks will be considered separately for Track Advis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Man sitting on a giant question mark"/>
          <p:cNvPicPr/>
          <p:nvPr/>
        </p:nvPicPr>
        <p:blipFill>
          <a:blip r:embed="rId1"/>
          <a:stretch/>
        </p:blipFill>
        <p:spPr>
          <a:xfrm>
            <a:off x="0" y="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20:32:53Z</dcterms:created>
  <dc:creator>Dennis Addison</dc:creator>
  <dc:description/>
  <dc:language>en-US</dc:language>
  <cp:lastModifiedBy>Dennis Addison</cp:lastModifiedBy>
  <dcterms:modified xsi:type="dcterms:W3CDTF">2010-05-07T21:33:40Z</dcterms:modified>
  <cp:revision>331</cp:revision>
  <dc:subject/>
  <dc:title>Oakland ARTCC</dc:title>
</cp:coreProperties>
</file>