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62B9-F697-4F92-BEB3-DF6E59D80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CD3B-589D-4A17-98DF-DCFEC5DB0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3A76-582D-430A-B6A5-26A405A93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F3A9-5D13-4192-A199-6108289D1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A265-7CD2-40C7-9443-E55BAF5A8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115A-E468-4018-8D95-DE406CD7E3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DA4E-86DE-468C-AF43-03121E2B88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19D61-648A-49BD-9811-8A0343E5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5604-1A57-4AD6-8359-5B98BB0867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A9A0D-F3B3-4768-9294-9E6772F9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3EC3A-3335-4333-93DC-85A8A103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B3C5-F069-41EB-A96F-E6415CA7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BEF39-140D-459D-AE1A-C336E42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C142A-BE08-4D65-A210-E481010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6D4E7-ADBA-434B-923B-E95BEC0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3F6FF-F3F2-4EAB-9561-1C7EBBF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07580-91D3-478D-A152-87A1588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06995-1239-40C5-8F57-2E3655B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06EB3-A705-4AFF-925A-F6B8E08D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2471-96CB-462A-95BA-F0ABF7409FD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C003-0B22-480E-922F-A8E8D5F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46040" y="312840"/>
            <a:ext cx="498312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462C-BC27-4AFE-82A3-A48BF83E192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12328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797640" y="175428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49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12328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3797640" y="2670120"/>
            <a:ext cx="1594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86560" y="267012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C346-861E-4394-9AD4-C439F1EBD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86560" y="1754280"/>
            <a:ext cx="2415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2670120"/>
            <a:ext cx="4951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5157-B035-4617-A020-9367E679B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0C93-4382-4B7E-B2B3-EDAB88187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42B7-2B21-42D4-A4EE-54379A8AA4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7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30/30 &amp; 50 Long </a:t>
            </a: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Status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IPACG/32 10-14 Ma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3189240" y="6137280"/>
            <a:ext cx="63972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360" y="1143000"/>
            <a:ext cx="80503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9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8726-BDBB-4B1D-9823-98D6DF945A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EBD7-906F-4A5C-AD70-459ED30D2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1461-2791-448C-8996-C97638BB6A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Oceanic &amp; Offs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ugus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229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karen.l.chiodini@faa.gov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606240"/>
            <a:ext cx="530064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0 NM Lateral /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0 NM Longitudinal (30/30) and 50 NM Longitudinal (D50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Operational Tri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50920" y="3428640"/>
            <a:ext cx="495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Status Update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P/01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36440" y="4754520"/>
            <a:ext cx="489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  IPACG/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  10-14 May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30/30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&amp; D50 Operational Trial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ne 2007, unrestricted operational trials in Oakland Oceanic CTA implemen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0/30 and D50 separation is applied to “targets of opportunity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blished ATS routes and other tracks (e.g. PACOTS) continue to be laterally separated by a minimum of 50 N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8 October 2008, the trial wit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CAB to use D50 was extended to the entire Oakland/Fukuoka bound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8, Anchorage ARTCC began operational trials of D50 applied to “targets of opportunit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chorage  participation permits uniformity across all of the U.S. controlled Pacific FIR bound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d2f68"/>
                </a:solidFill>
                <a:latin typeface="Arial"/>
              </a:rPr>
              <a:t>30/30</a:t>
            </a: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 Operational Trial</a:t>
            </a:r>
            <a:br>
              <a:rPr sz="3600"/>
            </a:b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Operational Evaluation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A Oceanic Separation Reduction Work Group (OSRWG) evaluates operational and technical issues related to 30/30 operations including satellite data link system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RWG concludes current data link performance does not justify near-term planning for expanded application of 30/30 within Oakland Oceanic C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cludes operation of 30nm rout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RWG recommends operational trial and current application should continue to provide further data for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A is currently conducting airspace and benefits analysis in support of expanding 30/30 operational trials to the Anchorage C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9600" y="31752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mments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840" y="3659040"/>
            <a:ext cx="4800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ren Chiodin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ist, Oceanic &amp; Offshore Operations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ren.l.chiodini@faa.gov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202) 385-89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7:10:56Z</dcterms:created>
  <dc:creator> </dc:creator>
  <dc:description/>
  <dc:language>en-US</dc:language>
  <cp:lastModifiedBy>Air Traffic Organization</cp:lastModifiedBy>
  <dcterms:modified xsi:type="dcterms:W3CDTF">2010-05-12T08:14:49Z</dcterms:modified>
  <cp:revision>459</cp:revision>
  <dc:subject/>
  <dc:title>Oceanic &amp; Offshore Services Program Review</dc:title>
</cp:coreProperties>
</file>