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B56D-5A19-41F1-87C1-255D437DF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8DF3-15CD-41BE-9986-A0FF57151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86900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6900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kland Center controls 18.7 Million square miles of airsp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ceanic area has 8 oceanic sector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tors 1,2,4,7 control the northern portion of our airspace, and sectors 3,5,6,9 control to the sou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ing at the map and starting with ZOA ***Click Mouse**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ing clockwise you can see the adjacent facil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*Click Mouse as you say each facilit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s Angeles, Mexico, Tahiti, Auckland, Nadi, Nauru FL 245 and below, Honiara, Port Moresby, Ujung Pandang, Manila, Naha, Tokyo, Anchorage, Vancouver, and Seatt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C1EB-EF88-41F7-ADC7-A5ACB1012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86900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3920" bIns="4392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6900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280" y="61340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32 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360" y="654048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May 10-14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7840" y="63356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Honolulu,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414680" y="6205680"/>
            <a:ext cx="64008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2292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05280" y="604800"/>
            <a:ext cx="4048200" cy="3948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36840" y="4924440"/>
            <a:ext cx="60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CAB and FAA Joint 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8200" y="5999040"/>
            <a:ext cx="4199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7680" y="555480"/>
            <a:ext cx="51228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Use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eferr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ou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aper trial on TRK1 as UPR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(IP/18)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7800" y="1277640"/>
            <a:ext cx="83901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me restrictions are requi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 NOPAC until POWEL, ASPIN, CUTE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R is to remain 50NM north of TRK2, or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y diverge from TRK2 in the CENPAC, then UPR at least 50NM north TRK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NM south of Anchorage FIR BD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6618240"/>
          </a:xfrm>
          <a:prstGeom prst="rect">
            <a:avLst/>
          </a:prstGeom>
          <a:ln w="0">
            <a:noFill/>
          </a:ln>
        </p:spPr>
      </p:pic>
      <p:sp>
        <p:nvSpPr>
          <p:cNvPr id="202" name="Line 10"/>
          <p:cNvSpPr/>
          <p:nvPr/>
        </p:nvSpPr>
        <p:spPr>
          <a:xfrm flipV="1">
            <a:off x="1574640" y="4430880"/>
            <a:ext cx="2786400" cy="33098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 flipV="1">
            <a:off x="1042920" y="3852360"/>
            <a:ext cx="2711520" cy="34275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V="1">
            <a:off x="755640" y="3516120"/>
            <a:ext cx="2606760" cy="333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 flipV="1">
            <a:off x="4356000" y="1708200"/>
            <a:ext cx="2784600" cy="2719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4"/>
          <p:cNvSpPr/>
          <p:nvPr/>
        </p:nvSpPr>
        <p:spPr>
          <a:xfrm flipV="1">
            <a:off x="3751200" y="1652400"/>
            <a:ext cx="2319480" cy="22158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5"/>
          <p:cNvSpPr/>
          <p:nvPr/>
        </p:nvSpPr>
        <p:spPr>
          <a:xfrm flipV="1">
            <a:off x="3348000" y="1609200"/>
            <a:ext cx="1909800" cy="19256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 flipV="1">
            <a:off x="3743280" y="2950920"/>
            <a:ext cx="3494160" cy="32288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7"/>
          <p:cNvSpPr/>
          <p:nvPr/>
        </p:nvSpPr>
        <p:spPr>
          <a:xfrm flipH="1">
            <a:off x="1941120" y="6173640"/>
            <a:ext cx="1816200" cy="2224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4429080" y="557208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HGPｺﾞｼｯｸE"/>
                <a:ea typeface="HGPｺﾞｼｯｸE"/>
              </a:rPr>
              <a:t>TR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021360" y="2805120"/>
            <a:ext cx="627120" cy="68724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6627960" y="3529080"/>
            <a:ext cx="9046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HGPｺﾞｼｯｸE"/>
                <a:ea typeface="HGPｺﾞｼｯｸE"/>
              </a:rPr>
              <a:t>50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5857920" y="4500720"/>
            <a:ext cx="279720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･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RK 1, 50NM north of TR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･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RK 1 remain 25NM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Anchorage FIR BD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1928880" y="39290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HGPｺﾞｼｯｸE"/>
                <a:ea typeface="HGPｺﾞｼｯｸE"/>
              </a:rPr>
              <a:t>TR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18960" y="431640"/>
            <a:ext cx="85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a59"/>
                </a:solidFill>
                <a:latin typeface="Arial"/>
                <a:ea typeface="ＭＳ Ｐゴシック"/>
              </a:rPr>
              <a:t>Paper trial on TRK1 as UPR</a:t>
            </a:r>
            <a:r>
              <a:rPr b="0" lang="en-US" sz="4000" spc="-1" strike="noStrike">
                <a:solidFill>
                  <a:srgbClr val="fdda59"/>
                </a:solidFill>
                <a:latin typeface="Arial"/>
                <a:ea typeface="ＭＳ Ｐゴシック"/>
              </a:rPr>
              <a:t>	</a:t>
            </a:r>
            <a:r>
              <a:rPr b="0" lang="en-US" sz="4000" spc="-1" strike="noStrike">
                <a:solidFill>
                  <a:srgbClr val="fdda59"/>
                </a:solidFill>
                <a:latin typeface="Arial"/>
                <a:ea typeface="ＭＳ Ｐゴシック"/>
              </a:rPr>
              <a:t>(IP/1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9144000" cy="6211800"/>
            <a:chOff x="0" y="0"/>
            <a:chExt cx="9144000" cy="621180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rcRect l="0" t="0" r="0" b="23140"/>
            <a:stretch/>
          </p:blipFill>
          <p:spPr>
            <a:xfrm>
              <a:off x="0" y="0"/>
              <a:ext cx="9144000" cy="61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951520" y="4964040"/>
              <a:ext cx="130320" cy="1160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092120" y="5106960"/>
              <a:ext cx="228600" cy="98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09880" y="4335480"/>
              <a:ext cx="81000" cy="117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33720" y="4533840"/>
              <a:ext cx="38160" cy="405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04200" y="447372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Tahi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06400" y="540072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uckl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85200" y="52484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ad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589000">
              <a:off x="1976760" y="4613040"/>
              <a:ext cx="110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Brisban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14280" y="4397400"/>
              <a:ext cx="12960" cy="287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355200">
              <a:off x="1212840" y="457956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Mores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801720" y="4070520"/>
              <a:ext cx="200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9840" y="417348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j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" y="2682720"/>
              <a:ext cx="2556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ani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9311000">
              <a:off x="1502640" y="173952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Fukuo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20852400">
              <a:off x="3288240" y="466200"/>
              <a:ext cx="12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nch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21172800">
              <a:off x="5788080" y="215640"/>
              <a:ext cx="109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Vancou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731800">
              <a:off x="6374880" y="525240"/>
              <a:ext cx="84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eat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20509200">
              <a:off x="6801120" y="80604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Oakl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20509200">
              <a:off x="7252920" y="1125000"/>
              <a:ext cx="99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os Ange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487000">
              <a:off x="7744320" y="2049120"/>
              <a:ext cx="30636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Mex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68600" y="3770280"/>
              <a:ext cx="74520" cy="74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60640" y="1481040"/>
              <a:ext cx="5037120" cy="4673520"/>
            </a:xfrm>
            <a:custGeom>
              <a:avLst/>
              <a:gdLst/>
              <a:ahLst/>
              <a:rect l="l" t="t" r="r" b="b"/>
              <a:pathLst>
                <a:path w="3173" h="2944">
                  <a:moveTo>
                    <a:pt x="631" y="2185"/>
                  </a:moveTo>
                  <a:lnTo>
                    <a:pt x="1609" y="932"/>
                  </a:lnTo>
                  <a:lnTo>
                    <a:pt x="1893" y="512"/>
                  </a:lnTo>
                  <a:lnTo>
                    <a:pt x="2524" y="0"/>
                  </a:lnTo>
                  <a:lnTo>
                    <a:pt x="2734" y="265"/>
                  </a:lnTo>
                  <a:lnTo>
                    <a:pt x="2798" y="265"/>
                  </a:lnTo>
                  <a:lnTo>
                    <a:pt x="2944" y="557"/>
                  </a:lnTo>
                  <a:lnTo>
                    <a:pt x="3072" y="905"/>
                  </a:lnTo>
                  <a:lnTo>
                    <a:pt x="3136" y="1206"/>
                  </a:lnTo>
                  <a:lnTo>
                    <a:pt x="3173" y="1481"/>
                  </a:lnTo>
                  <a:lnTo>
                    <a:pt x="2798" y="2276"/>
                  </a:lnTo>
                  <a:lnTo>
                    <a:pt x="2432" y="2925"/>
                  </a:lnTo>
                  <a:lnTo>
                    <a:pt x="1957" y="2925"/>
                  </a:lnTo>
                  <a:lnTo>
                    <a:pt x="1490" y="2934"/>
                  </a:lnTo>
                  <a:lnTo>
                    <a:pt x="677" y="2944"/>
                  </a:lnTo>
                  <a:lnTo>
                    <a:pt x="0" y="2944"/>
                  </a:lnTo>
                  <a:lnTo>
                    <a:pt x="631" y="2185"/>
                  </a:ln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35240" y="2771640"/>
              <a:ext cx="3294000" cy="3440160"/>
            </a:xfrm>
            <a:custGeom>
              <a:avLst/>
              <a:gdLst/>
              <a:ahLst/>
              <a:rect l="l" t="t" r="r" b="b"/>
              <a:pathLst>
                <a:path w="2075" h="2167">
                  <a:moveTo>
                    <a:pt x="0" y="2131"/>
                  </a:moveTo>
                  <a:lnTo>
                    <a:pt x="1883" y="0"/>
                  </a:lnTo>
                  <a:lnTo>
                    <a:pt x="2075" y="101"/>
                  </a:lnTo>
                  <a:lnTo>
                    <a:pt x="1061" y="2167"/>
                  </a:lnTo>
                  <a:lnTo>
                    <a:pt x="485" y="2131"/>
                  </a:lnTo>
                  <a:lnTo>
                    <a:pt x="0" y="2131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48480" y="1278000"/>
              <a:ext cx="1117440" cy="914400"/>
            </a:xfrm>
            <a:custGeom>
              <a:avLst/>
              <a:gdLst/>
              <a:ahLst/>
              <a:rect l="l" t="t" r="r" b="b"/>
              <a:pathLst>
                <a:path w="704" h="576">
                  <a:moveTo>
                    <a:pt x="73" y="576"/>
                  </a:moveTo>
                  <a:lnTo>
                    <a:pt x="704" y="82"/>
                  </a:lnTo>
                  <a:lnTo>
                    <a:pt x="640" y="0"/>
                  </a:lnTo>
                  <a:lnTo>
                    <a:pt x="393" y="109"/>
                  </a:lnTo>
                  <a:lnTo>
                    <a:pt x="182" y="274"/>
                  </a:lnTo>
                  <a:lnTo>
                    <a:pt x="0" y="557"/>
                  </a:lnTo>
                  <a:lnTo>
                    <a:pt x="73" y="576"/>
                  </a:ln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73520" y="406440"/>
              <a:ext cx="3135240" cy="942840"/>
            </a:xfrm>
            <a:custGeom>
              <a:avLst/>
              <a:gdLst/>
              <a:ahLst/>
              <a:rect l="l" t="t" r="r" b="b"/>
              <a:pathLst>
                <a:path w="1975" h="594">
                  <a:moveTo>
                    <a:pt x="1938" y="494"/>
                  </a:moveTo>
                  <a:lnTo>
                    <a:pt x="1710" y="320"/>
                  </a:lnTo>
                  <a:lnTo>
                    <a:pt x="1500" y="229"/>
                  </a:lnTo>
                  <a:lnTo>
                    <a:pt x="1152" y="101"/>
                  </a:lnTo>
                  <a:lnTo>
                    <a:pt x="832" y="18"/>
                  </a:lnTo>
                  <a:lnTo>
                    <a:pt x="412" y="0"/>
                  </a:lnTo>
                  <a:lnTo>
                    <a:pt x="247" y="0"/>
                  </a:lnTo>
                  <a:lnTo>
                    <a:pt x="0" y="110"/>
                  </a:lnTo>
                  <a:lnTo>
                    <a:pt x="274" y="238"/>
                  </a:lnTo>
                  <a:lnTo>
                    <a:pt x="796" y="475"/>
                  </a:lnTo>
                  <a:lnTo>
                    <a:pt x="1737" y="594"/>
                  </a:lnTo>
                  <a:lnTo>
                    <a:pt x="1975" y="558"/>
                  </a:lnTo>
                  <a:lnTo>
                    <a:pt x="1938" y="494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040" y="1117440"/>
              <a:ext cx="5978520" cy="2961000"/>
            </a:xfrm>
            <a:custGeom>
              <a:avLst/>
              <a:gdLst/>
              <a:ahLst/>
              <a:rect l="l" t="t" r="r" b="b"/>
              <a:pathLst>
                <a:path w="3766" h="1865">
                  <a:moveTo>
                    <a:pt x="3684" y="0"/>
                  </a:moveTo>
                  <a:lnTo>
                    <a:pt x="3766" y="101"/>
                  </a:lnTo>
                  <a:lnTo>
                    <a:pt x="2852" y="649"/>
                  </a:lnTo>
                  <a:lnTo>
                    <a:pt x="2688" y="786"/>
                  </a:lnTo>
                  <a:lnTo>
                    <a:pt x="0" y="1865"/>
                  </a:lnTo>
                  <a:lnTo>
                    <a:pt x="45" y="1509"/>
                  </a:lnTo>
                  <a:lnTo>
                    <a:pt x="91" y="1344"/>
                  </a:lnTo>
                  <a:lnTo>
                    <a:pt x="109" y="1189"/>
                  </a:lnTo>
                  <a:lnTo>
                    <a:pt x="283" y="1106"/>
                  </a:lnTo>
                  <a:lnTo>
                    <a:pt x="594" y="1106"/>
                  </a:lnTo>
                  <a:lnTo>
                    <a:pt x="850" y="887"/>
                  </a:lnTo>
                  <a:lnTo>
                    <a:pt x="1206" y="640"/>
                  </a:lnTo>
                  <a:lnTo>
                    <a:pt x="3693" y="0"/>
                  </a:lnTo>
                </a:path>
              </a:pathLst>
            </a:custGeom>
            <a:solidFill>
              <a:srgbClr val="ff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04920" y="2090880"/>
              <a:ext cx="1363680" cy="2554200"/>
            </a:xfrm>
            <a:custGeom>
              <a:avLst/>
              <a:gdLst/>
              <a:ahLst/>
              <a:rect l="l" t="t" r="r" b="b"/>
              <a:pathLst>
                <a:path w="859" h="1609">
                  <a:moveTo>
                    <a:pt x="859" y="1426"/>
                  </a:moveTo>
                  <a:lnTo>
                    <a:pt x="622" y="0"/>
                  </a:lnTo>
                  <a:lnTo>
                    <a:pt x="320" y="27"/>
                  </a:lnTo>
                  <a:lnTo>
                    <a:pt x="283" y="493"/>
                  </a:lnTo>
                  <a:lnTo>
                    <a:pt x="164" y="484"/>
                  </a:lnTo>
                  <a:lnTo>
                    <a:pt x="46" y="521"/>
                  </a:lnTo>
                  <a:lnTo>
                    <a:pt x="0" y="868"/>
                  </a:lnTo>
                  <a:lnTo>
                    <a:pt x="46" y="1088"/>
                  </a:lnTo>
                  <a:lnTo>
                    <a:pt x="393" y="1609"/>
                  </a:lnTo>
                  <a:lnTo>
                    <a:pt x="567" y="1600"/>
                  </a:lnTo>
                  <a:lnTo>
                    <a:pt x="576" y="1408"/>
                  </a:lnTo>
                  <a:lnTo>
                    <a:pt x="686" y="1408"/>
                  </a:lnTo>
                  <a:lnTo>
                    <a:pt x="859" y="1426"/>
                  </a:lnTo>
                  <a:close/>
                </a:path>
              </a:pathLst>
            </a:custGeom>
            <a:solidFill>
              <a:srgbClr val="51c9c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98480" y="1450800"/>
              <a:ext cx="3584880" cy="1117800"/>
            </a:xfrm>
            <a:custGeom>
              <a:avLst/>
              <a:gdLst/>
              <a:ahLst/>
              <a:rect l="l" t="t" r="r" b="b"/>
              <a:pathLst>
                <a:path w="2258" h="704">
                  <a:moveTo>
                    <a:pt x="2148" y="677"/>
                  </a:moveTo>
                  <a:lnTo>
                    <a:pt x="1719" y="704"/>
                  </a:lnTo>
                  <a:lnTo>
                    <a:pt x="685" y="686"/>
                  </a:lnTo>
                  <a:lnTo>
                    <a:pt x="311" y="631"/>
                  </a:lnTo>
                  <a:lnTo>
                    <a:pt x="0" y="521"/>
                  </a:lnTo>
                  <a:lnTo>
                    <a:pt x="45" y="339"/>
                  </a:lnTo>
                  <a:lnTo>
                    <a:pt x="164" y="165"/>
                  </a:lnTo>
                  <a:lnTo>
                    <a:pt x="749" y="28"/>
                  </a:lnTo>
                  <a:lnTo>
                    <a:pt x="1261" y="0"/>
                  </a:lnTo>
                  <a:lnTo>
                    <a:pt x="1929" y="201"/>
                  </a:lnTo>
                  <a:lnTo>
                    <a:pt x="2258" y="430"/>
                  </a:lnTo>
                  <a:lnTo>
                    <a:pt x="2139" y="549"/>
                  </a:lnTo>
                  <a:lnTo>
                    <a:pt x="2148" y="677"/>
                  </a:ln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33360" y="2162160"/>
              <a:ext cx="914400" cy="3614760"/>
            </a:xfrm>
            <a:custGeom>
              <a:avLst/>
              <a:gdLst/>
              <a:ahLst/>
              <a:rect l="l" t="t" r="r" b="b"/>
              <a:pathLst>
                <a:path w="576" h="2277">
                  <a:moveTo>
                    <a:pt x="210" y="9"/>
                  </a:moveTo>
                  <a:lnTo>
                    <a:pt x="412" y="0"/>
                  </a:lnTo>
                  <a:lnTo>
                    <a:pt x="466" y="302"/>
                  </a:lnTo>
                  <a:lnTo>
                    <a:pt x="558" y="1381"/>
                  </a:lnTo>
                  <a:lnTo>
                    <a:pt x="576" y="1875"/>
                  </a:lnTo>
                  <a:lnTo>
                    <a:pt x="338" y="2277"/>
                  </a:lnTo>
                  <a:lnTo>
                    <a:pt x="0" y="1509"/>
                  </a:lnTo>
                  <a:lnTo>
                    <a:pt x="9" y="1317"/>
                  </a:lnTo>
                  <a:lnTo>
                    <a:pt x="0" y="905"/>
                  </a:lnTo>
                  <a:lnTo>
                    <a:pt x="18" y="439"/>
                  </a:lnTo>
                  <a:lnTo>
                    <a:pt x="174" y="430"/>
                  </a:lnTo>
                </a:path>
              </a:pathLst>
            </a:custGeom>
            <a:solidFill>
              <a:srgbClr val="2206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36760" y="2424240"/>
              <a:ext cx="3716280" cy="1015920"/>
            </a:xfrm>
            <a:custGeom>
              <a:avLst/>
              <a:gdLst/>
              <a:ahLst/>
              <a:rect l="l" t="t" r="r" b="b"/>
              <a:pathLst>
                <a:path w="2341" h="640">
                  <a:moveTo>
                    <a:pt x="2313" y="0"/>
                  </a:moveTo>
                  <a:lnTo>
                    <a:pt x="1582" y="0"/>
                  </a:lnTo>
                  <a:lnTo>
                    <a:pt x="805" y="100"/>
                  </a:lnTo>
                  <a:lnTo>
                    <a:pt x="183" y="238"/>
                  </a:lnTo>
                  <a:lnTo>
                    <a:pt x="0" y="439"/>
                  </a:lnTo>
                  <a:lnTo>
                    <a:pt x="73" y="530"/>
                  </a:lnTo>
                  <a:lnTo>
                    <a:pt x="73" y="640"/>
                  </a:lnTo>
                  <a:lnTo>
                    <a:pt x="677" y="640"/>
                  </a:lnTo>
                  <a:lnTo>
                    <a:pt x="1445" y="548"/>
                  </a:lnTo>
                  <a:lnTo>
                    <a:pt x="2341" y="164"/>
                  </a:lnTo>
                  <a:lnTo>
                    <a:pt x="2313" y="0"/>
                  </a:lnTo>
                  <a:close/>
                </a:path>
              </a:pathLst>
            </a:custGeom>
            <a:solidFill>
              <a:srgbClr val="f7031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35240" y="885960"/>
              <a:ext cx="4992480" cy="942840"/>
            </a:xfrm>
            <a:custGeom>
              <a:avLst/>
              <a:gdLst/>
              <a:ahLst/>
              <a:rect l="l" t="t" r="r" b="b"/>
              <a:pathLst>
                <a:path w="3145" h="594">
                  <a:moveTo>
                    <a:pt x="155" y="247"/>
                  </a:moveTo>
                  <a:lnTo>
                    <a:pt x="1106" y="100"/>
                  </a:lnTo>
                  <a:lnTo>
                    <a:pt x="1691" y="0"/>
                  </a:lnTo>
                  <a:lnTo>
                    <a:pt x="2304" y="9"/>
                  </a:lnTo>
                  <a:lnTo>
                    <a:pt x="2725" y="73"/>
                  </a:lnTo>
                  <a:lnTo>
                    <a:pt x="2944" y="228"/>
                  </a:lnTo>
                  <a:lnTo>
                    <a:pt x="3145" y="439"/>
                  </a:lnTo>
                  <a:lnTo>
                    <a:pt x="2880" y="457"/>
                  </a:lnTo>
                  <a:lnTo>
                    <a:pt x="2194" y="594"/>
                  </a:lnTo>
                  <a:lnTo>
                    <a:pt x="1125" y="548"/>
                  </a:lnTo>
                  <a:lnTo>
                    <a:pt x="0" y="457"/>
                  </a:lnTo>
                  <a:lnTo>
                    <a:pt x="155" y="247"/>
                  </a:lnTo>
                  <a:close/>
                </a:path>
              </a:pathLst>
            </a:custGeom>
            <a:solidFill>
              <a:srgbClr val="fccd2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54920" y="4397400"/>
              <a:ext cx="1828800" cy="727200"/>
            </a:xfrm>
            <a:prstGeom prst="wedgeRoundRectCallout">
              <a:avLst>
                <a:gd name="adj1" fmla="val -63023"/>
                <a:gd name="adj2" fmla="val -168777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ifornia –South Pacif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78440" y="5235480"/>
              <a:ext cx="1828800" cy="668520"/>
            </a:xfrm>
            <a:prstGeom prst="wedgeRoundRectCallout">
              <a:avLst>
                <a:gd name="adj1" fmla="val -106685"/>
                <a:gd name="adj2" fmla="val -131472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waii –South Pacif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75120" y="5249880"/>
              <a:ext cx="1450800" cy="922320"/>
            </a:xfrm>
            <a:prstGeom prst="wedgeRoundRectCallout">
              <a:avLst>
                <a:gd name="adj1" fmla="val -104268"/>
                <a:gd name="adj2" fmla="val -195268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ia–New Zealand/ Caledo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35040" y="5189400"/>
              <a:ext cx="1451160" cy="922320"/>
            </a:xfrm>
            <a:prstGeom prst="wedgeRoundRectCallout">
              <a:avLst>
                <a:gd name="adj1" fmla="val -54374"/>
                <a:gd name="adj2" fmla="val -163768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JAA–Austral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4392720"/>
              <a:ext cx="1450800" cy="804600"/>
            </a:xfrm>
            <a:prstGeom prst="wedgeRoundRectCallout">
              <a:avLst>
                <a:gd name="adj1" fmla="val 26476"/>
                <a:gd name="adj2" fmla="val -151773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ifornia Singap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9000" y="2025720"/>
              <a:ext cx="1261800" cy="674640"/>
            </a:xfrm>
            <a:prstGeom prst="wedgeRoundRectCallout">
              <a:avLst>
                <a:gd name="adj1" fmla="val 139055"/>
                <a:gd name="adj2" fmla="val 102000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waii –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GUM/RP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600" y="1039680"/>
              <a:ext cx="1450800" cy="704880"/>
            </a:xfrm>
            <a:prstGeom prst="wedgeRoundRectCallout">
              <a:avLst>
                <a:gd name="adj1" fmla="val 152736"/>
                <a:gd name="adj2" fmla="val 76800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ia - Hawai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4600" y="195120"/>
              <a:ext cx="1450800" cy="704880"/>
            </a:xfrm>
            <a:prstGeom prst="wedgeRoundRectCallout">
              <a:avLst>
                <a:gd name="adj1" fmla="val 168819"/>
                <a:gd name="adj2" fmla="val 101578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r East - Californ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75360" y="195120"/>
              <a:ext cx="1451160" cy="908280"/>
            </a:xfrm>
            <a:prstGeom prst="wedgeRoundRectCallout">
              <a:avLst>
                <a:gd name="adj1" fmla="val -165319"/>
                <a:gd name="adj2" fmla="val 16606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ifornia – RTE Entry P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35720" y="2052720"/>
              <a:ext cx="1633680" cy="1184040"/>
            </a:xfrm>
            <a:prstGeom prst="wedgeRoundRectCallout">
              <a:avLst>
                <a:gd name="adj1" fmla="val -127453"/>
                <a:gd name="adj2" fmla="val -66486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ifornia – Hawaii (North of CE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502320" y="-563040"/>
            <a:ext cx="2549520" cy="2418120"/>
            <a:chOff x="6502320" y="-563040"/>
            <a:chExt cx="2549520" cy="2418120"/>
          </a:xfrm>
        </p:grpSpPr>
        <p:sp>
          <p:nvSpPr>
            <p:cNvPr id="260" name=""/>
            <p:cNvSpPr/>
            <p:nvPr/>
          </p:nvSpPr>
          <p:spPr>
            <a:xfrm rot="1479000">
              <a:off x="6773760" y="-22356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47080" y="19188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09M. Kg 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865920" y="1496160"/>
            <a:ext cx="2549520" cy="2418120"/>
            <a:chOff x="6865920" y="1496160"/>
            <a:chExt cx="2549520" cy="2418120"/>
          </a:xfrm>
        </p:grpSpPr>
        <p:sp>
          <p:nvSpPr>
            <p:cNvPr id="263" name=""/>
            <p:cNvSpPr/>
            <p:nvPr/>
          </p:nvSpPr>
          <p:spPr>
            <a:xfrm rot="1479000">
              <a:off x="7137360" y="183528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10680" y="225108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17Kg Fl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656400" y="3556440"/>
            <a:ext cx="2549520" cy="2418480"/>
            <a:chOff x="6656400" y="3556440"/>
            <a:chExt cx="2549520" cy="2418480"/>
          </a:xfrm>
        </p:grpSpPr>
        <p:sp>
          <p:nvSpPr>
            <p:cNvPr id="266" name=""/>
            <p:cNvSpPr/>
            <p:nvPr/>
          </p:nvSpPr>
          <p:spPr>
            <a:xfrm rot="1479000">
              <a:off x="6927480" y="3895560"/>
              <a:ext cx="2006640" cy="174024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01160" y="43113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.61Kg Fl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672080" y="4326480"/>
            <a:ext cx="2549520" cy="2418120"/>
            <a:chOff x="4672080" y="4326480"/>
            <a:chExt cx="2549520" cy="2418120"/>
          </a:xfrm>
        </p:grpSpPr>
        <p:sp>
          <p:nvSpPr>
            <p:cNvPr id="269" name=""/>
            <p:cNvSpPr/>
            <p:nvPr/>
          </p:nvSpPr>
          <p:spPr>
            <a:xfrm rot="1479000">
              <a:off x="4943520" y="466560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6840" y="508140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? Kg 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611440" y="4470840"/>
            <a:ext cx="2549520" cy="2418480"/>
            <a:chOff x="2611440" y="4470840"/>
            <a:chExt cx="2549520" cy="2418480"/>
          </a:xfrm>
        </p:grpSpPr>
        <p:sp>
          <p:nvSpPr>
            <p:cNvPr id="272" name=""/>
            <p:cNvSpPr/>
            <p:nvPr/>
          </p:nvSpPr>
          <p:spPr>
            <a:xfrm rot="1479000">
              <a:off x="2882520" y="4809960"/>
              <a:ext cx="2006640" cy="174024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56200" y="52257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09M. Kg 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998640" y="4485240"/>
            <a:ext cx="2549520" cy="2418120"/>
            <a:chOff x="998640" y="4485240"/>
            <a:chExt cx="2549520" cy="2418120"/>
          </a:xfrm>
        </p:grpSpPr>
        <p:sp>
          <p:nvSpPr>
            <p:cNvPr id="275" name=""/>
            <p:cNvSpPr/>
            <p:nvPr/>
          </p:nvSpPr>
          <p:spPr>
            <a:xfrm rot="1479000">
              <a:off x="1270080" y="482436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43400" y="524016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89M. Kg 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-523800" y="3542400"/>
            <a:ext cx="2549520" cy="2418120"/>
            <a:chOff x="-523800" y="3542400"/>
            <a:chExt cx="2549520" cy="2418120"/>
          </a:xfrm>
        </p:grpSpPr>
        <p:sp>
          <p:nvSpPr>
            <p:cNvPr id="278" name=""/>
            <p:cNvSpPr/>
            <p:nvPr/>
          </p:nvSpPr>
          <p:spPr>
            <a:xfrm rot="1479000">
              <a:off x="-252000" y="388152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0960" y="429732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266M. Kg 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-392040" y="1222920"/>
            <a:ext cx="2549520" cy="2418120"/>
            <a:chOff x="-392040" y="1222920"/>
            <a:chExt cx="2549520" cy="2418120"/>
          </a:xfrm>
        </p:grpSpPr>
        <p:sp>
          <p:nvSpPr>
            <p:cNvPr id="281" name=""/>
            <p:cNvSpPr/>
            <p:nvPr/>
          </p:nvSpPr>
          <p:spPr>
            <a:xfrm rot="1479000">
              <a:off x="-120240" y="156204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2720" y="197784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09 Kg 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44520" y="-754920"/>
            <a:ext cx="2549520" cy="2418120"/>
            <a:chOff x="344520" y="-754920"/>
            <a:chExt cx="2549520" cy="2418120"/>
          </a:xfrm>
        </p:grpSpPr>
        <p:sp>
          <p:nvSpPr>
            <p:cNvPr id="284" name=""/>
            <p:cNvSpPr/>
            <p:nvPr/>
          </p:nvSpPr>
          <p:spPr>
            <a:xfrm rot="1479000">
              <a:off x="615960" y="-41544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9280" y="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?? Kg 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-271440" y="160920"/>
            <a:ext cx="2549520" cy="2418120"/>
            <a:chOff x="-271440" y="160920"/>
            <a:chExt cx="2549520" cy="2418120"/>
          </a:xfrm>
        </p:grpSpPr>
        <p:sp>
          <p:nvSpPr>
            <p:cNvPr id="287" name=""/>
            <p:cNvSpPr/>
            <p:nvPr/>
          </p:nvSpPr>
          <p:spPr>
            <a:xfrm rot="1479000">
              <a:off x="0" y="500040"/>
              <a:ext cx="2006640" cy="173988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3320" y="915840"/>
              <a:ext cx="12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88M. Kg 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621800" y="-35280"/>
            <a:ext cx="6006240" cy="5869080"/>
            <a:chOff x="1621800" y="-35280"/>
            <a:chExt cx="6006240" cy="5869080"/>
          </a:xfrm>
        </p:grpSpPr>
        <p:sp>
          <p:nvSpPr>
            <p:cNvPr id="290" name=""/>
            <p:cNvSpPr/>
            <p:nvPr/>
          </p:nvSpPr>
          <p:spPr>
            <a:xfrm rot="1479000">
              <a:off x="2315880" y="729720"/>
              <a:ext cx="4617720" cy="433836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75920" y="1766520"/>
              <a:ext cx="29426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ver 1.1 Bil Kg Fuel Savings since Imp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292560" y="1746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UP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46821E-006 L 0.18576 -0.14798 L 0.30799 -0.18174 L 0.42865 -0.16486 L 0.51267 -0.08879 L 0.74028 0.15907 E">
                                      <p:cBhvr>
                                        <p:cTn id="92" dur="1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829800" y="5810400"/>
            <a:ext cx="2781360" cy="3314520"/>
          </a:xfrm>
          <a:prstGeom prst="cloudCallout">
            <a:avLst>
              <a:gd name="adj1" fmla="val -2624"/>
              <a:gd name="adj2" fmla="val -28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3.47 Billion kg reduction 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997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UPR Environmental Savings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655" t="3212" r="31404" b="21116"/>
          <a:stretch/>
        </p:blipFill>
        <p:spPr>
          <a:xfrm>
            <a:off x="2946240" y="1390680"/>
            <a:ext cx="5072400" cy="4519440"/>
          </a:xfrm>
          <a:prstGeom prst="rect">
            <a:avLst/>
          </a:prstGeom>
          <a:ln w="0">
            <a:noFill/>
          </a:ln>
        </p:spPr>
      </p:pic>
      <p:grpSp>
        <p:nvGrpSpPr>
          <p:cNvPr id="296" name=""/>
          <p:cNvGrpSpPr/>
          <p:nvPr/>
        </p:nvGrpSpPr>
        <p:grpSpPr>
          <a:xfrm>
            <a:off x="9198720" y="458640"/>
            <a:ext cx="6006240" cy="5869080"/>
            <a:chOff x="9198720" y="458640"/>
            <a:chExt cx="6006240" cy="5869080"/>
          </a:xfrm>
        </p:grpSpPr>
        <p:sp>
          <p:nvSpPr>
            <p:cNvPr id="297" name=""/>
            <p:cNvSpPr/>
            <p:nvPr/>
          </p:nvSpPr>
          <p:spPr>
            <a:xfrm rot="1479000">
              <a:off x="9892800" y="1223640"/>
              <a:ext cx="4617720" cy="433836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752840" y="2260440"/>
              <a:ext cx="2942640" cy="21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ver 1.1 Bil Kg Fuel Saving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-0.50625 0.11666 L -0.53855 0.09143 L -0.57084 0.04444 L -0.56459 -0.05 L -0.525 -0.08056 L -0.48959 -0.03056 L -0.49167 0.05 L -0.54375 0.125 L -0.6125 0.13333 L -0.65417 0.06666 L -0.66042 -0.01945 L -0.63646 -0.06968 L -0.58021 -0.06135 L -0.55834 0.01666 L -0.58334 0.09444 L -0.63125 0.13333 L -0.67396 0.09976 L -0.70105 -0.00579 E">
                                      <p:cBhvr>
                                        <p:cTn id="98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416 -0.50278 L -1.06875 -0.58889 E">
                                      <p:cBhvr>
                                        <p:cTn id="109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Man sitting on a giant question mark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0" r="0" b="23140"/>
          <a:stretch/>
        </p:blipFill>
        <p:spPr>
          <a:xfrm>
            <a:off x="0" y="0"/>
            <a:ext cx="9144000" cy="611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951520" y="4964040"/>
            <a:ext cx="130320" cy="1160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092120" y="5106960"/>
            <a:ext cx="228600" cy="986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09880" y="4335480"/>
            <a:ext cx="81000" cy="117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533840"/>
            <a:ext cx="38160" cy="40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4200" y="447372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ah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6400" y="54007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uckl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5200" y="52484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2589000">
            <a:off x="1976760" y="461304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risba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4280" y="4397400"/>
            <a:ext cx="1296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355200">
            <a:off x="1212840" y="457956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ores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01720" y="4070520"/>
            <a:ext cx="2001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840" y="41734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j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2682720"/>
            <a:ext cx="25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ani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311000">
            <a:off x="1502640" y="173952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ukuo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852400">
            <a:off x="3288240" y="46620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ch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72800">
            <a:off x="5788080" y="21564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ncou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731800">
            <a:off x="6374880" y="52524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a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509200">
            <a:off x="6801120" y="8060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ak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509200">
            <a:off x="7252920" y="1125000"/>
            <a:ext cx="99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os Ange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487000">
            <a:off x="7744320" y="2049120"/>
            <a:ext cx="30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68600" y="3770280"/>
            <a:ext cx="74520" cy="74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60640" y="1481040"/>
            <a:ext cx="5037120" cy="4673520"/>
          </a:xfrm>
          <a:custGeom>
            <a:avLst/>
            <a:gdLst/>
            <a:ahLst/>
            <a:rect l="l" t="t" r="r" b="b"/>
            <a:pathLst>
              <a:path w="3173" h="2944">
                <a:moveTo>
                  <a:pt x="631" y="2185"/>
                </a:moveTo>
                <a:lnTo>
                  <a:pt x="1609" y="932"/>
                </a:lnTo>
                <a:lnTo>
                  <a:pt x="1893" y="512"/>
                </a:lnTo>
                <a:lnTo>
                  <a:pt x="2524" y="0"/>
                </a:lnTo>
                <a:lnTo>
                  <a:pt x="2734" y="265"/>
                </a:lnTo>
                <a:lnTo>
                  <a:pt x="2798" y="265"/>
                </a:lnTo>
                <a:lnTo>
                  <a:pt x="2944" y="557"/>
                </a:lnTo>
                <a:lnTo>
                  <a:pt x="3072" y="905"/>
                </a:lnTo>
                <a:lnTo>
                  <a:pt x="3136" y="1206"/>
                </a:lnTo>
                <a:lnTo>
                  <a:pt x="3173" y="1481"/>
                </a:lnTo>
                <a:lnTo>
                  <a:pt x="2798" y="2276"/>
                </a:lnTo>
                <a:lnTo>
                  <a:pt x="2432" y="2925"/>
                </a:lnTo>
                <a:lnTo>
                  <a:pt x="1957" y="2925"/>
                </a:lnTo>
                <a:lnTo>
                  <a:pt x="1490" y="2934"/>
                </a:lnTo>
                <a:lnTo>
                  <a:pt x="677" y="2944"/>
                </a:lnTo>
                <a:lnTo>
                  <a:pt x="0" y="2944"/>
                </a:lnTo>
                <a:lnTo>
                  <a:pt x="631" y="218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5240" y="2771640"/>
            <a:ext cx="3294000" cy="3440160"/>
          </a:xfrm>
          <a:custGeom>
            <a:avLst/>
            <a:gdLst/>
            <a:ahLst/>
            <a:rect l="l" t="t" r="r" b="b"/>
            <a:pathLst>
              <a:path w="2075" h="2167">
                <a:moveTo>
                  <a:pt x="0" y="2131"/>
                </a:moveTo>
                <a:lnTo>
                  <a:pt x="1883" y="0"/>
                </a:lnTo>
                <a:lnTo>
                  <a:pt x="2075" y="101"/>
                </a:lnTo>
                <a:lnTo>
                  <a:pt x="1061" y="2167"/>
                </a:lnTo>
                <a:lnTo>
                  <a:pt x="485" y="2131"/>
                </a:lnTo>
                <a:lnTo>
                  <a:pt x="0" y="2131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8480" y="1278000"/>
            <a:ext cx="1117440" cy="914400"/>
          </a:xfrm>
          <a:custGeom>
            <a:avLst/>
            <a:gdLst/>
            <a:ahLst/>
            <a:rect l="l" t="t" r="r" b="b"/>
            <a:pathLst>
              <a:path w="704" h="576">
                <a:moveTo>
                  <a:pt x="73" y="576"/>
                </a:moveTo>
                <a:lnTo>
                  <a:pt x="704" y="82"/>
                </a:lnTo>
                <a:lnTo>
                  <a:pt x="640" y="0"/>
                </a:lnTo>
                <a:lnTo>
                  <a:pt x="393" y="109"/>
                </a:lnTo>
                <a:lnTo>
                  <a:pt x="182" y="274"/>
                </a:lnTo>
                <a:lnTo>
                  <a:pt x="0" y="557"/>
                </a:lnTo>
                <a:lnTo>
                  <a:pt x="73" y="576"/>
                </a:lnTo>
                <a:close/>
              </a:path>
            </a:pathLst>
          </a:cu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73520" y="406440"/>
            <a:ext cx="3135240" cy="942840"/>
          </a:xfrm>
          <a:custGeom>
            <a:avLst/>
            <a:gdLst/>
            <a:ahLst/>
            <a:rect l="l" t="t" r="r" b="b"/>
            <a:pathLst>
              <a:path w="1975" h="594">
                <a:moveTo>
                  <a:pt x="1938" y="494"/>
                </a:moveTo>
                <a:lnTo>
                  <a:pt x="1710" y="320"/>
                </a:lnTo>
                <a:lnTo>
                  <a:pt x="1500" y="229"/>
                </a:lnTo>
                <a:lnTo>
                  <a:pt x="1152" y="101"/>
                </a:lnTo>
                <a:lnTo>
                  <a:pt x="832" y="18"/>
                </a:lnTo>
                <a:lnTo>
                  <a:pt x="412" y="0"/>
                </a:lnTo>
                <a:lnTo>
                  <a:pt x="247" y="0"/>
                </a:lnTo>
                <a:lnTo>
                  <a:pt x="0" y="110"/>
                </a:lnTo>
                <a:lnTo>
                  <a:pt x="274" y="238"/>
                </a:lnTo>
                <a:lnTo>
                  <a:pt x="796" y="475"/>
                </a:lnTo>
                <a:lnTo>
                  <a:pt x="1737" y="594"/>
                </a:lnTo>
                <a:lnTo>
                  <a:pt x="1975" y="558"/>
                </a:lnTo>
                <a:lnTo>
                  <a:pt x="1938" y="49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0040" y="1117440"/>
            <a:ext cx="5978520" cy="2961000"/>
          </a:xfrm>
          <a:custGeom>
            <a:avLst/>
            <a:gdLst/>
            <a:ahLst/>
            <a:rect l="l" t="t" r="r" b="b"/>
            <a:pathLst>
              <a:path w="3766" h="1865">
                <a:moveTo>
                  <a:pt x="3684" y="0"/>
                </a:moveTo>
                <a:lnTo>
                  <a:pt x="3766" y="101"/>
                </a:lnTo>
                <a:lnTo>
                  <a:pt x="2852" y="649"/>
                </a:lnTo>
                <a:lnTo>
                  <a:pt x="2688" y="786"/>
                </a:lnTo>
                <a:lnTo>
                  <a:pt x="0" y="1865"/>
                </a:lnTo>
                <a:lnTo>
                  <a:pt x="45" y="1509"/>
                </a:lnTo>
                <a:lnTo>
                  <a:pt x="91" y="1344"/>
                </a:lnTo>
                <a:lnTo>
                  <a:pt x="109" y="1189"/>
                </a:lnTo>
                <a:lnTo>
                  <a:pt x="283" y="1106"/>
                </a:lnTo>
                <a:lnTo>
                  <a:pt x="594" y="1106"/>
                </a:lnTo>
                <a:lnTo>
                  <a:pt x="850" y="887"/>
                </a:lnTo>
                <a:lnTo>
                  <a:pt x="1206" y="640"/>
                </a:lnTo>
                <a:lnTo>
                  <a:pt x="3693" y="0"/>
                </a:lnTo>
              </a:path>
            </a:pathLst>
          </a:custGeom>
          <a:solidFill>
            <a:srgbClr val="ff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04920" y="2090880"/>
            <a:ext cx="1363680" cy="2554200"/>
          </a:xfrm>
          <a:custGeom>
            <a:avLst/>
            <a:gdLst/>
            <a:ahLst/>
            <a:rect l="l" t="t" r="r" b="b"/>
            <a:pathLst>
              <a:path w="859" h="1609">
                <a:moveTo>
                  <a:pt x="859" y="1426"/>
                </a:moveTo>
                <a:lnTo>
                  <a:pt x="622" y="0"/>
                </a:lnTo>
                <a:lnTo>
                  <a:pt x="320" y="27"/>
                </a:lnTo>
                <a:lnTo>
                  <a:pt x="283" y="493"/>
                </a:lnTo>
                <a:lnTo>
                  <a:pt x="164" y="484"/>
                </a:lnTo>
                <a:lnTo>
                  <a:pt x="46" y="521"/>
                </a:lnTo>
                <a:lnTo>
                  <a:pt x="0" y="868"/>
                </a:lnTo>
                <a:lnTo>
                  <a:pt x="46" y="1088"/>
                </a:lnTo>
                <a:lnTo>
                  <a:pt x="393" y="1609"/>
                </a:lnTo>
                <a:lnTo>
                  <a:pt x="567" y="1600"/>
                </a:lnTo>
                <a:lnTo>
                  <a:pt x="576" y="1408"/>
                </a:lnTo>
                <a:lnTo>
                  <a:pt x="686" y="1408"/>
                </a:lnTo>
                <a:lnTo>
                  <a:pt x="859" y="1426"/>
                </a:lnTo>
                <a:close/>
              </a:path>
            </a:pathLst>
          </a:custGeom>
          <a:solidFill>
            <a:srgbClr val="51c9c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8480" y="1450800"/>
            <a:ext cx="3584880" cy="1117800"/>
          </a:xfrm>
          <a:custGeom>
            <a:avLst/>
            <a:gdLst/>
            <a:ahLst/>
            <a:rect l="l" t="t" r="r" b="b"/>
            <a:pathLst>
              <a:path w="2258" h="704">
                <a:moveTo>
                  <a:pt x="2148" y="677"/>
                </a:moveTo>
                <a:lnTo>
                  <a:pt x="1719" y="704"/>
                </a:lnTo>
                <a:lnTo>
                  <a:pt x="685" y="686"/>
                </a:lnTo>
                <a:lnTo>
                  <a:pt x="311" y="631"/>
                </a:lnTo>
                <a:lnTo>
                  <a:pt x="0" y="521"/>
                </a:lnTo>
                <a:lnTo>
                  <a:pt x="45" y="339"/>
                </a:lnTo>
                <a:lnTo>
                  <a:pt x="164" y="165"/>
                </a:lnTo>
                <a:lnTo>
                  <a:pt x="749" y="28"/>
                </a:lnTo>
                <a:lnTo>
                  <a:pt x="1261" y="0"/>
                </a:lnTo>
                <a:lnTo>
                  <a:pt x="1929" y="201"/>
                </a:lnTo>
                <a:lnTo>
                  <a:pt x="2258" y="430"/>
                </a:lnTo>
                <a:lnTo>
                  <a:pt x="2139" y="549"/>
                </a:lnTo>
                <a:lnTo>
                  <a:pt x="2148" y="677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3360" y="2162160"/>
            <a:ext cx="914400" cy="3614760"/>
          </a:xfrm>
          <a:custGeom>
            <a:avLst/>
            <a:gdLst/>
            <a:ahLst/>
            <a:rect l="l" t="t" r="r" b="b"/>
            <a:pathLst>
              <a:path w="576" h="2277">
                <a:moveTo>
                  <a:pt x="210" y="9"/>
                </a:moveTo>
                <a:lnTo>
                  <a:pt x="412" y="0"/>
                </a:lnTo>
                <a:lnTo>
                  <a:pt x="466" y="302"/>
                </a:lnTo>
                <a:lnTo>
                  <a:pt x="558" y="1381"/>
                </a:lnTo>
                <a:lnTo>
                  <a:pt x="576" y="1875"/>
                </a:lnTo>
                <a:lnTo>
                  <a:pt x="338" y="2277"/>
                </a:lnTo>
                <a:lnTo>
                  <a:pt x="0" y="1509"/>
                </a:lnTo>
                <a:lnTo>
                  <a:pt x="9" y="1317"/>
                </a:lnTo>
                <a:lnTo>
                  <a:pt x="0" y="905"/>
                </a:lnTo>
                <a:lnTo>
                  <a:pt x="18" y="439"/>
                </a:lnTo>
                <a:lnTo>
                  <a:pt x="174" y="430"/>
                </a:lnTo>
              </a:path>
            </a:pathLst>
          </a:custGeom>
          <a:solidFill>
            <a:srgbClr val="2206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36760" y="2424240"/>
            <a:ext cx="3716280" cy="1015920"/>
          </a:xfrm>
          <a:custGeom>
            <a:avLst/>
            <a:gdLst/>
            <a:ahLst/>
            <a:rect l="l" t="t" r="r" b="b"/>
            <a:pathLst>
              <a:path w="2341" h="640">
                <a:moveTo>
                  <a:pt x="2313" y="0"/>
                </a:moveTo>
                <a:lnTo>
                  <a:pt x="1582" y="0"/>
                </a:lnTo>
                <a:lnTo>
                  <a:pt x="805" y="100"/>
                </a:lnTo>
                <a:lnTo>
                  <a:pt x="183" y="238"/>
                </a:lnTo>
                <a:lnTo>
                  <a:pt x="0" y="439"/>
                </a:lnTo>
                <a:lnTo>
                  <a:pt x="73" y="530"/>
                </a:lnTo>
                <a:lnTo>
                  <a:pt x="73" y="640"/>
                </a:lnTo>
                <a:lnTo>
                  <a:pt x="677" y="640"/>
                </a:lnTo>
                <a:lnTo>
                  <a:pt x="1445" y="548"/>
                </a:lnTo>
                <a:lnTo>
                  <a:pt x="2341" y="164"/>
                </a:lnTo>
                <a:lnTo>
                  <a:pt x="2313" y="0"/>
                </a:lnTo>
                <a:close/>
              </a:path>
            </a:pathLst>
          </a:custGeom>
          <a:solidFill>
            <a:srgbClr val="f7031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35240" y="885960"/>
            <a:ext cx="4992480" cy="942840"/>
          </a:xfrm>
          <a:custGeom>
            <a:avLst/>
            <a:gdLst/>
            <a:ahLst/>
            <a:rect l="l" t="t" r="r" b="b"/>
            <a:pathLst>
              <a:path w="3145" h="594">
                <a:moveTo>
                  <a:pt x="155" y="247"/>
                </a:moveTo>
                <a:lnTo>
                  <a:pt x="1106" y="100"/>
                </a:lnTo>
                <a:lnTo>
                  <a:pt x="1691" y="0"/>
                </a:lnTo>
                <a:lnTo>
                  <a:pt x="2304" y="9"/>
                </a:lnTo>
                <a:lnTo>
                  <a:pt x="2725" y="73"/>
                </a:lnTo>
                <a:lnTo>
                  <a:pt x="2944" y="228"/>
                </a:lnTo>
                <a:lnTo>
                  <a:pt x="3145" y="439"/>
                </a:lnTo>
                <a:lnTo>
                  <a:pt x="2880" y="457"/>
                </a:lnTo>
                <a:lnTo>
                  <a:pt x="2194" y="594"/>
                </a:lnTo>
                <a:lnTo>
                  <a:pt x="1125" y="548"/>
                </a:lnTo>
                <a:lnTo>
                  <a:pt x="0" y="457"/>
                </a:lnTo>
                <a:lnTo>
                  <a:pt x="155" y="247"/>
                </a:lnTo>
                <a:close/>
              </a:path>
            </a:pathLst>
          </a:custGeom>
          <a:solidFill>
            <a:srgbClr val="fccd2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54920" y="4397400"/>
            <a:ext cx="1828800" cy="727200"/>
          </a:xfrm>
          <a:prstGeom prst="wedgeRoundRectCallout">
            <a:avLst>
              <a:gd name="adj1" fmla="val -63023"/>
              <a:gd name="adj2" fmla="val -168777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–South Pa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78440" y="5235480"/>
            <a:ext cx="1828800" cy="668520"/>
          </a:xfrm>
          <a:prstGeom prst="wedgeRoundRectCallout">
            <a:avLst>
              <a:gd name="adj1" fmla="val -106685"/>
              <a:gd name="adj2" fmla="val -131472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waii –South Paci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75120" y="5249880"/>
            <a:ext cx="1450800" cy="922320"/>
          </a:xfrm>
          <a:prstGeom prst="wedgeRoundRectCallout">
            <a:avLst>
              <a:gd name="adj1" fmla="val -104268"/>
              <a:gd name="adj2" fmla="val -19526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ia–New Zealand/ Caled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5040" y="5189400"/>
            <a:ext cx="1451160" cy="922320"/>
          </a:xfrm>
          <a:prstGeom prst="wedgeRoundRectCallout">
            <a:avLst>
              <a:gd name="adj1" fmla="val -54374"/>
              <a:gd name="adj2" fmla="val -16376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JAA–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392720"/>
            <a:ext cx="1450800" cy="804600"/>
          </a:xfrm>
          <a:prstGeom prst="wedgeRoundRectCallout">
            <a:avLst>
              <a:gd name="adj1" fmla="val 26476"/>
              <a:gd name="adj2" fmla="val -151773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Singap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9000" y="2025720"/>
            <a:ext cx="1261800" cy="674640"/>
          </a:xfrm>
          <a:prstGeom prst="wedgeRoundRectCallout">
            <a:avLst>
              <a:gd name="adj1" fmla="val 139055"/>
              <a:gd name="adj2" fmla="val 10200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waii - Gu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039680"/>
            <a:ext cx="1450800" cy="704880"/>
          </a:xfrm>
          <a:prstGeom prst="wedgeRoundRectCallout">
            <a:avLst>
              <a:gd name="adj1" fmla="val 152736"/>
              <a:gd name="adj2" fmla="val 7680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ia - Hawa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4600" y="195120"/>
            <a:ext cx="1450800" cy="704880"/>
          </a:xfrm>
          <a:prstGeom prst="wedgeRoundRectCallout">
            <a:avLst>
              <a:gd name="adj1" fmla="val 168819"/>
              <a:gd name="adj2" fmla="val 101578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East -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75360" y="195120"/>
            <a:ext cx="1451160" cy="908280"/>
          </a:xfrm>
          <a:prstGeom prst="wedgeRoundRectCallout">
            <a:avLst>
              <a:gd name="adj1" fmla="val -165319"/>
              <a:gd name="adj2" fmla="val 1660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– RTE Entry P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35720" y="2052720"/>
            <a:ext cx="1633680" cy="1184040"/>
          </a:xfrm>
          <a:prstGeom prst="wedgeRoundRectCallout">
            <a:avLst>
              <a:gd name="adj1" fmla="val -127453"/>
              <a:gd name="adj2" fmla="val -66486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ifornia – Hawaii (North of CE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76440" y="1719360"/>
            <a:ext cx="3962520" cy="2775240"/>
          </a:xfrm>
          <a:prstGeom prst="rect">
            <a:avLst/>
          </a:prstGeom>
          <a:solidFill>
            <a:srgbClr val="00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use of UPRs is expanding rapid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11349" r="0" b="5019"/>
          <a:stretch/>
        </p:blipFill>
        <p:spPr>
          <a:xfrm>
            <a:off x="0" y="-126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04920" y="905040"/>
            <a:ext cx="6543720" cy="4781520"/>
          </a:xfrm>
          <a:custGeom>
            <a:avLst/>
            <a:gdLst/>
            <a:ahLst/>
            <a:rect l="l" t="t" r="r" b="b"/>
            <a:pathLst>
              <a:path w="4122" h="3012">
                <a:moveTo>
                  <a:pt x="1776" y="1227"/>
                </a:moveTo>
                <a:lnTo>
                  <a:pt x="3144" y="69"/>
                </a:lnTo>
                <a:lnTo>
                  <a:pt x="3213" y="108"/>
                </a:lnTo>
                <a:lnTo>
                  <a:pt x="3297" y="0"/>
                </a:lnTo>
                <a:lnTo>
                  <a:pt x="3369" y="36"/>
                </a:lnTo>
                <a:lnTo>
                  <a:pt x="3597" y="516"/>
                </a:lnTo>
                <a:lnTo>
                  <a:pt x="3717" y="780"/>
                </a:lnTo>
                <a:lnTo>
                  <a:pt x="3807" y="990"/>
                </a:lnTo>
                <a:lnTo>
                  <a:pt x="3897" y="1224"/>
                </a:lnTo>
                <a:lnTo>
                  <a:pt x="3963" y="1404"/>
                </a:lnTo>
                <a:lnTo>
                  <a:pt x="4053" y="1674"/>
                </a:lnTo>
                <a:lnTo>
                  <a:pt x="4095" y="1812"/>
                </a:lnTo>
                <a:lnTo>
                  <a:pt x="4122" y="1917"/>
                </a:lnTo>
                <a:lnTo>
                  <a:pt x="3855" y="1998"/>
                </a:lnTo>
                <a:lnTo>
                  <a:pt x="3561" y="2070"/>
                </a:lnTo>
                <a:lnTo>
                  <a:pt x="3243" y="2136"/>
                </a:lnTo>
                <a:lnTo>
                  <a:pt x="2874" y="2208"/>
                </a:lnTo>
                <a:lnTo>
                  <a:pt x="2586" y="2262"/>
                </a:lnTo>
                <a:lnTo>
                  <a:pt x="2295" y="2310"/>
                </a:lnTo>
                <a:lnTo>
                  <a:pt x="1971" y="2670"/>
                </a:lnTo>
                <a:lnTo>
                  <a:pt x="1695" y="2958"/>
                </a:lnTo>
                <a:lnTo>
                  <a:pt x="1458" y="2976"/>
                </a:lnTo>
                <a:lnTo>
                  <a:pt x="1173" y="2994"/>
                </a:lnTo>
                <a:lnTo>
                  <a:pt x="615" y="3006"/>
                </a:lnTo>
                <a:lnTo>
                  <a:pt x="243" y="3012"/>
                </a:lnTo>
                <a:lnTo>
                  <a:pt x="0" y="3009"/>
                </a:lnTo>
                <a:lnTo>
                  <a:pt x="3" y="2748"/>
                </a:lnTo>
                <a:lnTo>
                  <a:pt x="3" y="2451"/>
                </a:lnTo>
                <a:lnTo>
                  <a:pt x="1056" y="1431"/>
                </a:lnTo>
                <a:lnTo>
                  <a:pt x="1239" y="1548"/>
                </a:lnTo>
                <a:lnTo>
                  <a:pt x="1485" y="1524"/>
                </a:lnTo>
                <a:lnTo>
                  <a:pt x="1587" y="1368"/>
                </a:lnTo>
                <a:lnTo>
                  <a:pt x="1683" y="1380"/>
                </a:lnTo>
                <a:lnTo>
                  <a:pt x="1812" y="1263"/>
                </a:lnTo>
                <a:lnTo>
                  <a:pt x="1776" y="1227"/>
                </a:lnTo>
                <a:close/>
              </a:path>
            </a:pathLst>
          </a:custGeom>
          <a:solidFill>
            <a:srgbClr val="ffcc00">
              <a:alpha val="35000"/>
            </a:srgbClr>
          </a:solidFill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552640" y="4338360"/>
            <a:ext cx="6660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7280" y="274320"/>
            <a:ext cx="8460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orth America – South Pacific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537400">
            <a:off x="1194120" y="3654000"/>
            <a:ext cx="64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UPR ROUTES SINCE DECEMBER OF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-385920" y="-153720"/>
            <a:ext cx="5956920" cy="5693760"/>
            <a:chOff x="-385920" y="-153720"/>
            <a:chExt cx="5956920" cy="5693760"/>
          </a:xfrm>
        </p:grpSpPr>
        <p:sp>
          <p:nvSpPr>
            <p:cNvPr id="145" name=""/>
            <p:cNvSpPr/>
            <p:nvPr/>
          </p:nvSpPr>
          <p:spPr>
            <a:xfrm rot="1479000">
              <a:off x="262080" y="630000"/>
              <a:ext cx="4660920" cy="412596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7840" y="1791000"/>
              <a:ext cx="26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vings estimated to be 9.61 Mil kg Fuel  &amp; 30 Mil kg CO2 Em. Annu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950360" y="4879800"/>
            <a:ext cx="40467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o changes plan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239840" y="0"/>
            <a:ext cx="6729120" cy="6027120"/>
            <a:chOff x="1239840" y="0"/>
            <a:chExt cx="6729120" cy="6027120"/>
          </a:xfrm>
        </p:grpSpPr>
        <p:grpSp>
          <p:nvGrpSpPr>
            <p:cNvPr id="149" name=""/>
            <p:cNvGrpSpPr/>
            <p:nvPr/>
          </p:nvGrpSpPr>
          <p:grpSpPr>
            <a:xfrm>
              <a:off x="1239840" y="0"/>
              <a:ext cx="6729120" cy="6027120"/>
              <a:chOff x="1239840" y="0"/>
              <a:chExt cx="6729120" cy="6027120"/>
            </a:xfrm>
          </p:grpSpPr>
          <p:pic>
            <p:nvPicPr>
              <p:cNvPr id="150" name="" descr=""/>
              <p:cNvPicPr/>
              <p:nvPr/>
            </p:nvPicPr>
            <p:blipFill>
              <a:blip r:embed="rId1"/>
              <a:srcRect l="0" t="0" r="0" b="9860"/>
              <a:stretch/>
            </p:blipFill>
            <p:spPr>
              <a:xfrm>
                <a:off x="1239840" y="0"/>
                <a:ext cx="6729120" cy="60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3136320" y="2327400"/>
                <a:ext cx="1841400" cy="2063520"/>
              </a:xfrm>
              <a:custGeom>
                <a:avLst/>
                <a:gdLst/>
                <a:ahLst/>
                <a:rect l="l" t="t" r="r" b="b"/>
                <a:pathLst>
                  <a:path w="1314" h="1290">
                    <a:moveTo>
                      <a:pt x="1143" y="0"/>
                    </a:moveTo>
                    <a:lnTo>
                      <a:pt x="1314" y="291"/>
                    </a:lnTo>
                    <a:lnTo>
                      <a:pt x="1251" y="324"/>
                    </a:lnTo>
                    <a:lnTo>
                      <a:pt x="1086" y="621"/>
                    </a:lnTo>
                    <a:lnTo>
                      <a:pt x="1275" y="927"/>
                    </a:lnTo>
                    <a:lnTo>
                      <a:pt x="609" y="1290"/>
                    </a:lnTo>
                    <a:lnTo>
                      <a:pt x="549" y="1236"/>
                    </a:lnTo>
                    <a:lnTo>
                      <a:pt x="516" y="1149"/>
                    </a:lnTo>
                    <a:lnTo>
                      <a:pt x="456" y="1131"/>
                    </a:lnTo>
                    <a:lnTo>
                      <a:pt x="435" y="1173"/>
                    </a:lnTo>
                    <a:lnTo>
                      <a:pt x="402" y="1194"/>
                    </a:lnTo>
                    <a:lnTo>
                      <a:pt x="375" y="1191"/>
                    </a:lnTo>
                    <a:lnTo>
                      <a:pt x="318" y="1227"/>
                    </a:lnTo>
                    <a:lnTo>
                      <a:pt x="237" y="1086"/>
                    </a:lnTo>
                    <a:lnTo>
                      <a:pt x="219" y="1089"/>
                    </a:lnTo>
                    <a:lnTo>
                      <a:pt x="216" y="1062"/>
                    </a:lnTo>
                    <a:lnTo>
                      <a:pt x="0" y="66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23360" y="1554480"/>
                <a:ext cx="1033920" cy="2399400"/>
              </a:xfrm>
              <a:custGeom>
                <a:avLst/>
                <a:gdLst/>
                <a:ahLst/>
                <a:rect l="l" t="t" r="r" b="b"/>
                <a:pathLst>
                  <a:path w="738" h="1500">
                    <a:moveTo>
                      <a:pt x="0" y="1407"/>
                    </a:moveTo>
                    <a:lnTo>
                      <a:pt x="57" y="1500"/>
                    </a:lnTo>
                    <a:lnTo>
                      <a:pt x="486" y="1254"/>
                    </a:lnTo>
                    <a:lnTo>
                      <a:pt x="738" y="747"/>
                    </a:lnTo>
                    <a:lnTo>
                      <a:pt x="294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969440" y="2792880"/>
                <a:ext cx="840600" cy="282600"/>
              </a:xfrm>
              <a:custGeom>
                <a:avLst/>
                <a:gdLst/>
                <a:ahLst/>
                <a:rect l="l" t="t" r="r" b="b"/>
                <a:pathLst>
                  <a:path w="600" h="177">
                    <a:moveTo>
                      <a:pt x="600" y="177"/>
                    </a:moveTo>
                    <a:lnTo>
                      <a:pt x="552" y="9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343600" y="762480"/>
              <a:ext cx="4642920" cy="4354200"/>
            </a:xfrm>
            <a:custGeom>
              <a:avLst/>
              <a:gdLst/>
              <a:ahLst/>
              <a:rect l="l" t="t" r="r" b="b"/>
              <a:pathLst>
                <a:path w="1716" h="1564">
                  <a:moveTo>
                    <a:pt x="1716" y="1564"/>
                  </a:moveTo>
                  <a:lnTo>
                    <a:pt x="1408" y="1224"/>
                  </a:lnTo>
                  <a:lnTo>
                    <a:pt x="1176" y="860"/>
                  </a:lnTo>
                  <a:lnTo>
                    <a:pt x="1060" y="676"/>
                  </a:lnTo>
                  <a:lnTo>
                    <a:pt x="884" y="400"/>
                  </a:lnTo>
                  <a:lnTo>
                    <a:pt x="552" y="120"/>
                  </a:lnTo>
                  <a:lnTo>
                    <a:pt x="196" y="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64880" y="1275120"/>
              <a:ext cx="5010480" cy="3841560"/>
            </a:xfrm>
            <a:custGeom>
              <a:avLst/>
              <a:gdLst/>
              <a:ahLst/>
              <a:rect l="l" t="t" r="r" b="b"/>
              <a:pathLst>
                <a:path w="1852" h="1380">
                  <a:moveTo>
                    <a:pt x="1852" y="1380"/>
                  </a:moveTo>
                  <a:lnTo>
                    <a:pt x="1504" y="1080"/>
                  </a:lnTo>
                  <a:lnTo>
                    <a:pt x="1140" y="552"/>
                  </a:lnTo>
                  <a:lnTo>
                    <a:pt x="920" y="408"/>
                  </a:lnTo>
                  <a:lnTo>
                    <a:pt x="472" y="256"/>
                  </a:lnTo>
                  <a:lnTo>
                    <a:pt x="288" y="132"/>
                  </a:lnTo>
                  <a:lnTo>
                    <a:pt x="200" y="9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32480" y="1275120"/>
              <a:ext cx="5042880" cy="3830760"/>
            </a:xfrm>
            <a:custGeom>
              <a:avLst/>
              <a:gdLst/>
              <a:ahLst/>
              <a:rect l="l" t="t" r="r" b="b"/>
              <a:pathLst>
                <a:path w="1864" h="1376">
                  <a:moveTo>
                    <a:pt x="1864" y="1376"/>
                  </a:moveTo>
                  <a:lnTo>
                    <a:pt x="1460" y="1136"/>
                  </a:lnTo>
                  <a:lnTo>
                    <a:pt x="1028" y="676"/>
                  </a:lnTo>
                  <a:lnTo>
                    <a:pt x="844" y="496"/>
                  </a:lnTo>
                  <a:lnTo>
                    <a:pt x="448" y="312"/>
                  </a:lnTo>
                  <a:lnTo>
                    <a:pt x="268" y="1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43600" y="762480"/>
              <a:ext cx="1872360" cy="1881720"/>
            </a:xfrm>
            <a:custGeom>
              <a:avLst/>
              <a:gdLst/>
              <a:ahLst/>
              <a:rect l="l" t="t" r="r" b="b"/>
              <a:pathLst>
                <a:path w="692" h="676">
                  <a:moveTo>
                    <a:pt x="692" y="676"/>
                  </a:moveTo>
                  <a:lnTo>
                    <a:pt x="324" y="440"/>
                  </a:lnTo>
                  <a:lnTo>
                    <a:pt x="208" y="28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4840" y="751680"/>
              <a:ext cx="4556160" cy="4766040"/>
            </a:xfrm>
            <a:custGeom>
              <a:avLst/>
              <a:gdLst/>
              <a:ahLst/>
              <a:rect l="l" t="t" r="r" b="b"/>
              <a:pathLst>
                <a:path w="1684" h="1712">
                  <a:moveTo>
                    <a:pt x="1684" y="1712"/>
                  </a:moveTo>
                  <a:lnTo>
                    <a:pt x="1352" y="1272"/>
                  </a:lnTo>
                  <a:lnTo>
                    <a:pt x="1124" y="1048"/>
                  </a:lnTo>
                  <a:lnTo>
                    <a:pt x="904" y="800"/>
                  </a:lnTo>
                  <a:lnTo>
                    <a:pt x="684" y="680"/>
                  </a:lnTo>
                  <a:lnTo>
                    <a:pt x="332" y="332"/>
                  </a:lnTo>
                  <a:lnTo>
                    <a:pt x="196" y="168"/>
                  </a:lnTo>
                  <a:lnTo>
                    <a:pt x="0" y="0"/>
                  </a:lnTo>
                  <a:lnTo>
                    <a:pt x="288" y="120"/>
                  </a:lnTo>
                  <a:lnTo>
                    <a:pt x="476" y="180"/>
                  </a:lnTo>
                  <a:lnTo>
                    <a:pt x="836" y="588"/>
                  </a:lnTo>
                  <a:lnTo>
                    <a:pt x="1352" y="1272"/>
                  </a:lnTo>
                  <a:lnTo>
                    <a:pt x="1684" y="1712"/>
                  </a:lnTo>
                  <a:close/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53720" y="1275120"/>
              <a:ext cx="4967280" cy="4253760"/>
            </a:xfrm>
            <a:custGeom>
              <a:avLst/>
              <a:gdLst/>
              <a:ahLst/>
              <a:rect l="l" t="t" r="r" b="b"/>
              <a:pathLst>
                <a:path w="1836" h="1528">
                  <a:moveTo>
                    <a:pt x="1836" y="1528"/>
                  </a:moveTo>
                  <a:lnTo>
                    <a:pt x="1432" y="1184"/>
                  </a:lnTo>
                  <a:lnTo>
                    <a:pt x="1156" y="936"/>
                  </a:lnTo>
                  <a:lnTo>
                    <a:pt x="996" y="716"/>
                  </a:lnTo>
                  <a:lnTo>
                    <a:pt x="456" y="316"/>
                  </a:lnTo>
                  <a:lnTo>
                    <a:pt x="260" y="16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1360" y="169560"/>
            <a:ext cx="852480" cy="57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U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3800" y="1805040"/>
            <a:ext cx="5956920" cy="5693760"/>
            <a:chOff x="253800" y="1805040"/>
            <a:chExt cx="5956920" cy="5693760"/>
          </a:xfrm>
        </p:grpSpPr>
        <p:sp>
          <p:nvSpPr>
            <p:cNvPr id="162" name=""/>
            <p:cNvSpPr/>
            <p:nvPr/>
          </p:nvSpPr>
          <p:spPr>
            <a:xfrm rot="1479000">
              <a:off x="901800" y="2588760"/>
              <a:ext cx="4660920" cy="4125960"/>
            </a:xfrm>
            <a:prstGeom prst="irregularSeal2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17560" y="3749760"/>
              <a:ext cx="26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vings projected to be:            2.09M kg Fuel  6.6M kg CO2 Em. Annual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963840" y="4781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Z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8720" y="534528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Z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9040" y="2937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J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98080" y="91764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J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547600">
            <a:off x="1520640" y="1925280"/>
            <a:ext cx="84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New Zealand to A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547600">
            <a:off x="1358640" y="1150560"/>
            <a:ext cx="84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New Caledo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84960" y="0"/>
            <a:ext cx="2759040" cy="2043720"/>
          </a:xfrm>
          <a:prstGeom prst="rect">
            <a:avLst/>
          </a:prstGeom>
          <a:solidFill>
            <a:srgbClr val="011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uidelines will be expanding west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9766" t="16016" r="3516" b="26203"/>
          <a:stretch/>
        </p:blipFill>
        <p:spPr>
          <a:xfrm>
            <a:off x="0" y="0"/>
            <a:ext cx="9169560" cy="6110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880" y="330120"/>
            <a:ext cx="821520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sia-Hawaii PACOTS Track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63560" y="1879560"/>
            <a:ext cx="470160" cy="16524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2095560"/>
            <a:ext cx="3632400" cy="2247840"/>
          </a:xfrm>
          <a:custGeom>
            <a:avLst/>
            <a:gdLst/>
            <a:ahLst/>
            <a:rect l="l" t="t" r="r" b="b"/>
            <a:pathLst>
              <a:path w="2288" h="1416">
                <a:moveTo>
                  <a:pt x="0" y="0"/>
                </a:moveTo>
                <a:lnTo>
                  <a:pt x="1000" y="624"/>
                </a:lnTo>
                <a:lnTo>
                  <a:pt x="1832" y="1152"/>
                </a:lnTo>
                <a:lnTo>
                  <a:pt x="2200" y="1384"/>
                </a:lnTo>
                <a:lnTo>
                  <a:pt x="2288" y="1416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65080" y="1631880"/>
            <a:ext cx="7693200" cy="4522680"/>
          </a:xfrm>
          <a:prstGeom prst="rect">
            <a:avLst/>
          </a:prstGeom>
          <a:solidFill>
            <a:srgbClr val="000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dda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a59"/>
                </a:solidFill>
                <a:latin typeface="Arial"/>
              </a:rPr>
              <a:t>Implemented Augus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dda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a59"/>
                </a:solidFill>
                <a:latin typeface="Arial"/>
              </a:rPr>
              <a:t>Savings are projected to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dda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a59"/>
                </a:solidFill>
                <a:latin typeface="Arial"/>
              </a:rPr>
              <a:t>2.88 million kg of fuel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dda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a59"/>
                </a:solidFill>
                <a:latin typeface="Arial"/>
              </a:rPr>
              <a:t>9.1 million kg of reduced CO2 e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dda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da59"/>
                </a:solidFill>
                <a:latin typeface="Arial"/>
              </a:rPr>
              <a:t>Continuing to generate at least 1 PACOTS track in each di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600120" y="0"/>
            <a:ext cx="7926480" cy="614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 flipH="1" flipV="1">
            <a:off x="5552640" y="4338360"/>
            <a:ext cx="6660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600" y="-19080"/>
            <a:ext cx="8013600" cy="13129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87"/>
                </a:solidFill>
                <a:latin typeface="Arial"/>
              </a:rPr>
              <a:t>RJAA to YSSY/YBBN/YBCG/YBCS UP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1720" y="1284120"/>
            <a:ext cx="8043840" cy="48740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2d2d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d8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d2d87"/>
                </a:solidFill>
                <a:latin typeface="Arial"/>
              </a:rPr>
              <a:t>Paper Trial projected annual saving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2d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2d2d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7"/>
                </a:solidFill>
                <a:latin typeface="Arial"/>
              </a:rPr>
              <a:t>1.89 million kg of fuel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2d2d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7"/>
                </a:solidFill>
                <a:latin typeface="Arial"/>
              </a:rPr>
              <a:t>5.97 million kg of CO2 </a:t>
            </a:r>
            <a:r>
              <a:rPr b="0" lang="en-US" sz="2400" spc="-1" strike="noStrike">
                <a:solidFill>
                  <a:srgbClr val="2d2d87"/>
                </a:solidFill>
                <a:latin typeface="Arial"/>
              </a:rPr>
              <a:t>emi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2d2d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2d2d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87"/>
                </a:solidFill>
                <a:latin typeface="Arial"/>
              </a:rPr>
              <a:t>Guidelines will be expanding to the w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2d2d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rcRect l="0" t="28642" r="14766" b="22688"/>
          <a:stretch/>
        </p:blipFill>
        <p:spPr>
          <a:xfrm>
            <a:off x="-19080" y="-9360"/>
            <a:ext cx="10779120" cy="6154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3760" y="155160"/>
            <a:ext cx="848844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ACOTS Track 14/15  UPR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3360" y="968040"/>
            <a:ext cx="83631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lemented September 24 2009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PR Guidelines publish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ZAK NOTAM A0236/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CAB A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savings metr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360" y="3927600"/>
            <a:ext cx="8050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12986" t="14092" r="15441" b="31070"/>
          <a:stretch/>
        </p:blipFill>
        <p:spPr>
          <a:xfrm>
            <a:off x="-14400" y="0"/>
            <a:ext cx="9205920" cy="61405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7920" y="5127480"/>
            <a:ext cx="8488440" cy="1014480"/>
          </a:xfrm>
          <a:prstGeom prst="rect">
            <a:avLst/>
          </a:prstGeom>
          <a:solidFill>
            <a:srgbClr val="000000">
              <a:alpha val="7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ACOTS H/I UPR Operational Trial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3927600"/>
            <a:ext cx="805032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65360" y="787320"/>
            <a:ext cx="4864320" cy="2019240"/>
          </a:xfrm>
          <a:custGeom>
            <a:avLst/>
            <a:gdLst/>
            <a:ahLst/>
            <a:rect l="l" t="t" r="r" b="b"/>
            <a:pathLst>
              <a:path w="3064" h="1272">
                <a:moveTo>
                  <a:pt x="3064" y="720"/>
                </a:moveTo>
                <a:lnTo>
                  <a:pt x="2960" y="592"/>
                </a:lnTo>
                <a:lnTo>
                  <a:pt x="2840" y="432"/>
                </a:lnTo>
                <a:lnTo>
                  <a:pt x="2736" y="328"/>
                </a:lnTo>
                <a:lnTo>
                  <a:pt x="2640" y="248"/>
                </a:lnTo>
                <a:lnTo>
                  <a:pt x="2592" y="248"/>
                </a:lnTo>
                <a:lnTo>
                  <a:pt x="2512" y="192"/>
                </a:lnTo>
                <a:lnTo>
                  <a:pt x="2432" y="144"/>
                </a:lnTo>
                <a:lnTo>
                  <a:pt x="2312" y="96"/>
                </a:lnTo>
                <a:lnTo>
                  <a:pt x="2104" y="16"/>
                </a:lnTo>
                <a:lnTo>
                  <a:pt x="1984" y="0"/>
                </a:lnTo>
                <a:lnTo>
                  <a:pt x="1712" y="80"/>
                </a:lnTo>
                <a:lnTo>
                  <a:pt x="1440" y="120"/>
                </a:lnTo>
                <a:lnTo>
                  <a:pt x="1120" y="160"/>
                </a:lnTo>
                <a:lnTo>
                  <a:pt x="832" y="240"/>
                </a:lnTo>
                <a:lnTo>
                  <a:pt x="736" y="264"/>
                </a:lnTo>
                <a:lnTo>
                  <a:pt x="768" y="336"/>
                </a:lnTo>
                <a:lnTo>
                  <a:pt x="720" y="504"/>
                </a:lnTo>
                <a:lnTo>
                  <a:pt x="680" y="688"/>
                </a:lnTo>
                <a:lnTo>
                  <a:pt x="640" y="880"/>
                </a:lnTo>
                <a:lnTo>
                  <a:pt x="312" y="1072"/>
                </a:lnTo>
                <a:lnTo>
                  <a:pt x="0" y="1272"/>
                </a:lnTo>
                <a:lnTo>
                  <a:pt x="760" y="1256"/>
                </a:lnTo>
                <a:lnTo>
                  <a:pt x="1496" y="1224"/>
                </a:lnTo>
                <a:lnTo>
                  <a:pt x="2128" y="952"/>
                </a:lnTo>
                <a:lnTo>
                  <a:pt x="2392" y="952"/>
                </a:lnTo>
                <a:lnTo>
                  <a:pt x="3064" y="720"/>
                </a:lnTo>
                <a:close/>
              </a:path>
            </a:pathLst>
          </a:custGeom>
          <a:solidFill>
            <a:srgbClr val="00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14680" y="1193760"/>
            <a:ext cx="2006280" cy="1587600"/>
          </a:xfrm>
          <a:custGeom>
            <a:avLst/>
            <a:gdLst/>
            <a:ahLst/>
            <a:rect l="l" t="t" r="r" b="b"/>
            <a:pathLst>
              <a:path w="1264" h="1000">
                <a:moveTo>
                  <a:pt x="1240" y="0"/>
                </a:moveTo>
                <a:lnTo>
                  <a:pt x="800" y="96"/>
                </a:lnTo>
                <a:lnTo>
                  <a:pt x="656" y="216"/>
                </a:lnTo>
                <a:lnTo>
                  <a:pt x="512" y="392"/>
                </a:lnTo>
                <a:lnTo>
                  <a:pt x="400" y="520"/>
                </a:lnTo>
                <a:lnTo>
                  <a:pt x="216" y="600"/>
                </a:lnTo>
                <a:lnTo>
                  <a:pt x="0" y="1000"/>
                </a:lnTo>
                <a:lnTo>
                  <a:pt x="344" y="1000"/>
                </a:lnTo>
                <a:lnTo>
                  <a:pt x="504" y="1000"/>
                </a:lnTo>
                <a:lnTo>
                  <a:pt x="816" y="792"/>
                </a:lnTo>
                <a:lnTo>
                  <a:pt x="1136" y="616"/>
                </a:lnTo>
                <a:lnTo>
                  <a:pt x="1224" y="232"/>
                </a:lnTo>
                <a:lnTo>
                  <a:pt x="1264" y="88"/>
                </a:lnTo>
                <a:lnTo>
                  <a:pt x="1240" y="0"/>
                </a:lnTo>
                <a:close/>
              </a:path>
            </a:pathLst>
          </a:custGeom>
          <a:solidFill>
            <a:srgbClr val="00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32040" y="546120"/>
            <a:ext cx="2082960" cy="622440"/>
          </a:xfrm>
          <a:custGeom>
            <a:avLst/>
            <a:gdLst/>
            <a:ahLst/>
            <a:rect l="l" t="t" r="r" b="b"/>
            <a:pathLst>
              <a:path w="1312" h="392">
                <a:moveTo>
                  <a:pt x="32" y="392"/>
                </a:moveTo>
                <a:lnTo>
                  <a:pt x="0" y="304"/>
                </a:lnTo>
                <a:lnTo>
                  <a:pt x="312" y="160"/>
                </a:lnTo>
                <a:lnTo>
                  <a:pt x="616" y="32"/>
                </a:lnTo>
                <a:lnTo>
                  <a:pt x="896" y="0"/>
                </a:lnTo>
                <a:lnTo>
                  <a:pt x="1232" y="16"/>
                </a:lnTo>
                <a:lnTo>
                  <a:pt x="1312" y="104"/>
                </a:lnTo>
                <a:lnTo>
                  <a:pt x="1136" y="168"/>
                </a:lnTo>
                <a:lnTo>
                  <a:pt x="968" y="208"/>
                </a:lnTo>
                <a:lnTo>
                  <a:pt x="736" y="240"/>
                </a:lnTo>
                <a:lnTo>
                  <a:pt x="528" y="264"/>
                </a:lnTo>
                <a:lnTo>
                  <a:pt x="424" y="280"/>
                </a:lnTo>
                <a:lnTo>
                  <a:pt x="144" y="368"/>
                </a:lnTo>
                <a:lnTo>
                  <a:pt x="32" y="392"/>
                </a:lnTo>
                <a:close/>
              </a:path>
            </a:pathLst>
          </a:custGeom>
          <a:solidFill>
            <a:srgbClr val="00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31960" y="3030480"/>
            <a:ext cx="4253040" cy="2113200"/>
          </a:xfrm>
          <a:prstGeom prst="rect">
            <a:avLst/>
          </a:prstGeom>
          <a:solidFill>
            <a:srgbClr val="00000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I Operational UPR Trial began April 8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I UPR Procedures are detailed in KZAK NOTAM A1385/10 and JCAB A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-1705" t="34575" r="23146" b="10759"/>
          <a:stretch/>
        </p:blipFill>
        <p:spPr>
          <a:xfrm>
            <a:off x="-203040" y="-523800"/>
            <a:ext cx="9347040" cy="65037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8920" y="1727280"/>
            <a:ext cx="9067680" cy="723960"/>
          </a:xfrm>
          <a:custGeom>
            <a:avLst/>
            <a:gdLst/>
            <a:ahLst/>
            <a:rect l="l" t="t" r="r" b="b"/>
            <a:pathLst>
              <a:path w="5712" h="456">
                <a:moveTo>
                  <a:pt x="0" y="0"/>
                </a:moveTo>
                <a:lnTo>
                  <a:pt x="288" y="80"/>
                </a:lnTo>
                <a:lnTo>
                  <a:pt x="1152" y="360"/>
                </a:lnTo>
                <a:lnTo>
                  <a:pt x="2152" y="456"/>
                </a:lnTo>
                <a:lnTo>
                  <a:pt x="3128" y="456"/>
                </a:lnTo>
                <a:lnTo>
                  <a:pt x="4144" y="344"/>
                </a:lnTo>
                <a:lnTo>
                  <a:pt x="5152" y="392"/>
                </a:lnTo>
                <a:lnTo>
                  <a:pt x="5712" y="440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1169200">
            <a:off x="5144760" y="2319480"/>
            <a:ext cx="702000" cy="368280"/>
          </a:xfrm>
          <a:prstGeom prst="rect">
            <a:avLst/>
          </a:prstGeom>
          <a:solidFill>
            <a:srgbClr val="011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Trk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10644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1f7d"/>
                </a:solidFill>
                <a:latin typeface="Arial"/>
              </a:rPr>
              <a:t>PACOTS Track 1</a:t>
            </a:r>
            <a:br>
              <a:rPr sz="3600"/>
            </a:br>
            <a:r>
              <a:rPr b="1" lang="en-US" sz="3600" spc="-1" strike="noStrike">
                <a:solidFill>
                  <a:srgbClr val="011f7d"/>
                </a:solidFill>
                <a:latin typeface="Arial"/>
              </a:rPr>
              <a:t>UPR Paper Trial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-520560"/>
            <a:ext cx="9131400" cy="2743200"/>
          </a:xfrm>
          <a:custGeom>
            <a:avLst/>
            <a:gdLst/>
            <a:ahLst/>
            <a:rect l="l" t="t" r="r" b="b"/>
            <a:pathLst>
              <a:path w="5752" h="1728">
                <a:moveTo>
                  <a:pt x="8" y="1240"/>
                </a:moveTo>
                <a:lnTo>
                  <a:pt x="1240" y="1632"/>
                </a:lnTo>
                <a:lnTo>
                  <a:pt x="2248" y="1728"/>
                </a:lnTo>
                <a:lnTo>
                  <a:pt x="3176" y="1704"/>
                </a:lnTo>
                <a:lnTo>
                  <a:pt x="4200" y="1600"/>
                </a:lnTo>
                <a:lnTo>
                  <a:pt x="5256" y="1664"/>
                </a:lnTo>
                <a:lnTo>
                  <a:pt x="5752" y="1704"/>
                </a:lnTo>
                <a:lnTo>
                  <a:pt x="5752" y="392"/>
                </a:lnTo>
                <a:lnTo>
                  <a:pt x="4904" y="0"/>
                </a:lnTo>
                <a:lnTo>
                  <a:pt x="0" y="8"/>
                </a:lnTo>
                <a:lnTo>
                  <a:pt x="8" y="1240"/>
                </a:lnTo>
                <a:close/>
              </a:path>
            </a:pathLst>
          </a:custGeom>
          <a:solidFill>
            <a:srgbClr val="00ff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1120" y="2200320"/>
            <a:ext cx="4960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50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360000">
            <a:off x="2811240" y="2403360"/>
            <a:ext cx="4960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50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13840" y="4530600"/>
            <a:ext cx="4764960" cy="116928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ial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ne 7 and November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Dennis Addison</cp:lastModifiedBy>
  <dcterms:modified xsi:type="dcterms:W3CDTF">2010-05-11T19:46:45Z</dcterms:modified>
  <cp:revision>351</cp:revision>
  <dc:subject/>
  <dc:title>Oakland ARTCC</dc:title>
</cp:coreProperties>
</file>