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5CA-F741-4CCB-AF3A-505D5CA0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689-6D49-42C7-B800-57453FE1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37E-E035-46D1-B158-A43D6BCA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C69-9EB2-448F-8996-EAB9B367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8598-10C6-4FED-A387-1035D886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08FF-97AD-423D-AD39-9787DADD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440F-45A0-4D2E-B6BD-2454F037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4D32-2D7E-41C0-B45B-8C2CBC6B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ABBE-DC4F-4292-9E36-1584407E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A428-ECE5-4195-AF25-774ED05C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ED32-F581-425D-A3FC-E8AB2A4D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5D8-3D91-4E3F-A514-C3170AEB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BDA8-4216-4D5C-BAA0-87A78BD4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57B9-A4B8-4A24-A227-526F6A5C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9B3A-B247-4CE1-83D1-95BAB5D3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AB16-DCA8-4AEB-8069-F296BDD2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09B0-8FDE-4515-87FC-6F1F5167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94B78-413C-4D88-8A13-2F6A843E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48384-15CE-4847-94BA-181C1FE7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F2135-554D-41CA-941C-6EDB1607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CC54C-3E3C-4BA2-ABB5-940B1B08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C520C-C0D8-4502-800C-91D0915F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BC1-AB1E-4D0F-BB4E-FDA600DA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31E1F-8001-4066-9FCF-19F84030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2CAFB-B4EF-453E-8D0D-3A410D00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364E-EB39-413A-A245-766AC629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B6C6-0E25-4E78-9DD1-9070A5D1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89066-3431-4809-8562-0657F596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8710-11F9-4D84-98E1-A2B5C4A4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0104-C343-4B8E-B7B7-CE73D8DB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6CF-4995-41F6-87A2-23A245FD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CC4-23C4-4558-BA66-90E18D7A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684-AFE6-4F4D-9985-A0782042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78A-5B94-4675-A52C-8EBE7EF6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778-AA55-416D-ABED-4F80DDD1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063-0260-4ECC-BFA2-C1792325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556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5562720"/>
              <a:ext cx="9144000" cy="1295280"/>
              <a:chOff x="0" y="5562720"/>
              <a:chExt cx="9144000" cy="12952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0" y="5562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6095880"/>
                <a:ext cx="9144000" cy="76212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" name="Group 7"/>
              <p:cNvGrpSpPr/>
              <p:nvPr/>
            </p:nvGrpSpPr>
            <p:grpSpPr>
              <a:xfrm>
                <a:off x="6477120" y="5749920"/>
                <a:ext cx="2666880" cy="1108080"/>
                <a:chOff x="6477120" y="5749920"/>
                <a:chExt cx="2666880" cy="1108080"/>
              </a:xfrm>
            </p:grpSpPr>
            <p:sp>
              <p:nvSpPr>
                <p:cNvPr id="6" name="Freeform 8"/>
                <p:cNvSpPr/>
                <p:nvPr/>
              </p:nvSpPr>
              <p:spPr>
                <a:xfrm>
                  <a:off x="6499080" y="5749920"/>
                  <a:ext cx="2644920" cy="1108080"/>
                </a:xfrm>
                <a:custGeom>
                  <a:avLst/>
                  <a:gdLst>
                    <a:gd name="textAreaLeft" fmla="*/ 0 w 2644920"/>
                    <a:gd name="textAreaRight" fmla="*/ 2645280 w 2644920"/>
                    <a:gd name="textAreaTop" fmla="*/ 0 h 1108080"/>
                    <a:gd name="textAreaBottom" fmla="*/ 1108440 h 110808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" name="Group 9"/>
                <p:cNvGrpSpPr/>
                <p:nvPr/>
              </p:nvGrpSpPr>
              <p:grpSpPr>
                <a:xfrm>
                  <a:off x="6477120" y="5783400"/>
                  <a:ext cx="2666880" cy="988920"/>
                  <a:chOff x="6477120" y="5783400"/>
                  <a:chExt cx="2666880" cy="98892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8156520" y="5783400"/>
                    <a:ext cx="987480" cy="969840"/>
                  </a:xfrm>
                  <a:custGeom>
                    <a:avLst/>
                    <a:gdLst>
                      <a:gd name="textAreaLeft" fmla="*/ 0 w 987480"/>
                      <a:gd name="textAreaRight" fmla="*/ 987840 w 987480"/>
                      <a:gd name="textAreaTop" fmla="*/ 0 h 969840"/>
                      <a:gd name="textAreaBottom" fmla="*/ 970200 h 96984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6477120" y="5834160"/>
                    <a:ext cx="1455480" cy="938160"/>
                  </a:xfrm>
                  <a:custGeom>
                    <a:avLst/>
                    <a:gdLst>
                      <a:gd name="textAreaLeft" fmla="*/ 0 w 1455480"/>
                      <a:gd name="textAreaRight" fmla="*/ 1455840 w 1455480"/>
                      <a:gd name="textAreaTop" fmla="*/ 0 h 938160"/>
                      <a:gd name="textAreaBottom" fmla="*/ 938520 h 93816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F127-729D-445B-A576-40DA3BCFBDF0}" type="slidenum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9144000" cy="480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4"/>
            <p:cNvGrpSpPr/>
            <p:nvPr/>
          </p:nvGrpSpPr>
          <p:grpSpPr>
            <a:xfrm>
              <a:off x="0" y="4800600"/>
              <a:ext cx="9144000" cy="2057400"/>
              <a:chOff x="0" y="4800600"/>
              <a:chExt cx="9144000" cy="2057400"/>
            </a:xfrm>
          </p:grpSpPr>
          <p:sp>
            <p:nvSpPr>
              <p:cNvPr id="54" name="Rectangle 5"/>
              <p:cNvSpPr/>
              <p:nvPr/>
            </p:nvSpPr>
            <p:spPr>
              <a:xfrm>
                <a:off x="0" y="480060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6"/>
              <p:cNvSpPr/>
              <p:nvPr/>
            </p:nvSpPr>
            <p:spPr>
              <a:xfrm>
                <a:off x="0" y="5334120"/>
                <a:ext cx="9144000" cy="152388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7"/>
              <p:cNvGrpSpPr/>
              <p:nvPr/>
            </p:nvGrpSpPr>
            <p:grpSpPr>
              <a:xfrm>
                <a:off x="4648320" y="5105520"/>
                <a:ext cx="4494960" cy="1752120"/>
                <a:chOff x="4648320" y="5105520"/>
                <a:chExt cx="4494960" cy="1752120"/>
              </a:xfrm>
            </p:grpSpPr>
            <p:sp>
              <p:nvSpPr>
                <p:cNvPr id="57" name="Freeform 8"/>
                <p:cNvSpPr/>
                <p:nvPr/>
              </p:nvSpPr>
              <p:spPr>
                <a:xfrm>
                  <a:off x="4685040" y="5105520"/>
                  <a:ext cx="4458240" cy="1752120"/>
                </a:xfrm>
                <a:custGeom>
                  <a:avLst/>
                  <a:gdLst>
                    <a:gd name="textAreaLeft" fmla="*/ 0 w 4458240"/>
                    <a:gd name="textAreaRight" fmla="*/ 4458600 w 4458240"/>
                    <a:gd name="textAreaTop" fmla="*/ 0 h 1752120"/>
                    <a:gd name="textAreaBottom" fmla="*/ 1752480 h 175212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" name="Group 9"/>
                <p:cNvGrpSpPr/>
                <p:nvPr/>
              </p:nvGrpSpPr>
              <p:grpSpPr>
                <a:xfrm>
                  <a:off x="4648320" y="5158440"/>
                  <a:ext cx="4494600" cy="1562760"/>
                  <a:chOff x="4648320" y="5158440"/>
                  <a:chExt cx="4494600" cy="1562760"/>
                </a:xfrm>
              </p:grpSpPr>
              <p:sp>
                <p:nvSpPr>
                  <p:cNvPr id="59" name="Freeform 10"/>
                  <p:cNvSpPr/>
                  <p:nvPr/>
                </p:nvSpPr>
                <p:spPr>
                  <a:xfrm>
                    <a:off x="7478640" y="5158440"/>
                    <a:ext cx="1664280" cy="1532880"/>
                  </a:xfrm>
                  <a:custGeom>
                    <a:avLst/>
                    <a:gdLst>
                      <a:gd name="textAreaLeft" fmla="*/ 0 w 1664280"/>
                      <a:gd name="textAreaRight" fmla="*/ 1664640 w 1664280"/>
                      <a:gd name="textAreaTop" fmla="*/ 0 h 1532880"/>
                      <a:gd name="textAreaBottom" fmla="*/ 1533240 h 153288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11"/>
                  <p:cNvSpPr/>
                  <p:nvPr/>
                </p:nvSpPr>
                <p:spPr>
                  <a:xfrm>
                    <a:off x="4648320" y="5238360"/>
                    <a:ext cx="2453040" cy="1482840"/>
                  </a:xfrm>
                  <a:custGeom>
                    <a:avLst/>
                    <a:gdLst>
                      <a:gd name="textAreaLeft" fmla="*/ 0 w 2453040"/>
                      <a:gd name="textAreaRight" fmla="*/ 2453400 w 2453040"/>
                      <a:gd name="textAreaTop" fmla="*/ 0 h 1482840"/>
                      <a:gd name="textAreaBottom" fmla="*/ 1483200 h 148284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4558-B781-4199-B40F-22B8384D9BD3}" type="slidenum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9144000" cy="556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4"/>
            <p:cNvGrpSpPr/>
            <p:nvPr/>
          </p:nvGrpSpPr>
          <p:grpSpPr>
            <a:xfrm>
              <a:off x="0" y="5562720"/>
              <a:ext cx="9144000" cy="1295280"/>
              <a:chOff x="0" y="5562720"/>
              <a:chExt cx="9144000" cy="1295280"/>
            </a:xfrm>
          </p:grpSpPr>
          <p:sp>
            <p:nvSpPr>
              <p:cNvPr id="105" name="Rectangle 5"/>
              <p:cNvSpPr/>
              <p:nvPr/>
            </p:nvSpPr>
            <p:spPr>
              <a:xfrm>
                <a:off x="0" y="5562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6"/>
              <p:cNvSpPr/>
              <p:nvPr/>
            </p:nvSpPr>
            <p:spPr>
              <a:xfrm>
                <a:off x="0" y="6095880"/>
                <a:ext cx="9144000" cy="76212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7"/>
              <p:cNvGrpSpPr/>
              <p:nvPr/>
            </p:nvGrpSpPr>
            <p:grpSpPr>
              <a:xfrm>
                <a:off x="6477120" y="5749920"/>
                <a:ext cx="2666880" cy="1108080"/>
                <a:chOff x="6477120" y="5749920"/>
                <a:chExt cx="2666880" cy="1108080"/>
              </a:xfrm>
            </p:grpSpPr>
            <p:sp>
              <p:nvSpPr>
                <p:cNvPr id="108" name="Freeform 8"/>
                <p:cNvSpPr/>
                <p:nvPr/>
              </p:nvSpPr>
              <p:spPr>
                <a:xfrm>
                  <a:off x="6499080" y="5749920"/>
                  <a:ext cx="2644920" cy="1108080"/>
                </a:xfrm>
                <a:custGeom>
                  <a:avLst/>
                  <a:gdLst>
                    <a:gd name="textAreaLeft" fmla="*/ 0 w 2644920"/>
                    <a:gd name="textAreaRight" fmla="*/ 2645280 w 2644920"/>
                    <a:gd name="textAreaTop" fmla="*/ 0 h 1108080"/>
                    <a:gd name="textAreaBottom" fmla="*/ 1108440 h 110808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9"/>
                <p:cNvGrpSpPr/>
                <p:nvPr/>
              </p:nvGrpSpPr>
              <p:grpSpPr>
                <a:xfrm>
                  <a:off x="6477120" y="5783400"/>
                  <a:ext cx="2666880" cy="988920"/>
                  <a:chOff x="6477120" y="5783400"/>
                  <a:chExt cx="2666880" cy="988920"/>
                </a:xfrm>
              </p:grpSpPr>
              <p:sp>
                <p:nvSpPr>
                  <p:cNvPr id="110" name="Freeform 10"/>
                  <p:cNvSpPr/>
                  <p:nvPr/>
                </p:nvSpPr>
                <p:spPr>
                  <a:xfrm>
                    <a:off x="8156520" y="5783400"/>
                    <a:ext cx="987480" cy="969840"/>
                  </a:xfrm>
                  <a:custGeom>
                    <a:avLst/>
                    <a:gdLst>
                      <a:gd name="textAreaLeft" fmla="*/ 0 w 987480"/>
                      <a:gd name="textAreaRight" fmla="*/ 987840 w 987480"/>
                      <a:gd name="textAreaTop" fmla="*/ 0 h 969840"/>
                      <a:gd name="textAreaBottom" fmla="*/ 970200 h 96984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1"/>
                  <p:cNvSpPr/>
                  <p:nvPr/>
                </p:nvSpPr>
                <p:spPr>
                  <a:xfrm>
                    <a:off x="6477120" y="5834160"/>
                    <a:ext cx="1455480" cy="938160"/>
                  </a:xfrm>
                  <a:custGeom>
                    <a:avLst/>
                    <a:gdLst>
                      <a:gd name="textAreaLeft" fmla="*/ 0 w 1455480"/>
                      <a:gd name="textAreaRight" fmla="*/ 1455840 w 1455480"/>
                      <a:gd name="textAreaTop" fmla="*/ 0 h 938160"/>
                      <a:gd name="textAreaBottom" fmla="*/ 938520 h 93816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745E-D181-439B-A12C-4AA8A6ECD095}" type="datetime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DCB3-2245-4897-BFB6-B6F98AD6B237}" type="slidenum">
              <a:rPr b="0" lang="ja-JP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b8c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TMC presentation IPACG/32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0-14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Traffic Management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Paper trial on TRK1 as UPR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(IP/18)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striction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a NOPAC until PASRO, AKISU, CU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NM north of TRK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verge from TRK2 in the CENPAC, TRK1 follow 50NM north of cou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NM south of Anchorage FIR B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9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6618240"/>
          </a:xfrm>
          <a:prstGeom prst="rect">
            <a:avLst/>
          </a:prstGeom>
          <a:ln w="0">
            <a:noFill/>
          </a:ln>
        </p:spPr>
      </p:pic>
      <p:sp>
        <p:nvSpPr>
          <p:cNvPr id="158" name="Line 10"/>
          <p:cNvSpPr/>
          <p:nvPr/>
        </p:nvSpPr>
        <p:spPr>
          <a:xfrm flipV="1">
            <a:off x="1574640" y="4430880"/>
            <a:ext cx="2786400" cy="33098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 flipV="1">
            <a:off x="1042920" y="3852360"/>
            <a:ext cx="2711520" cy="34275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 flipV="1">
            <a:off x="755640" y="3516120"/>
            <a:ext cx="2606760" cy="3330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3"/>
          <p:cNvSpPr/>
          <p:nvPr/>
        </p:nvSpPr>
        <p:spPr>
          <a:xfrm flipV="1">
            <a:off x="4356000" y="1708200"/>
            <a:ext cx="2784600" cy="27194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4"/>
          <p:cNvSpPr/>
          <p:nvPr/>
        </p:nvSpPr>
        <p:spPr>
          <a:xfrm flipV="1">
            <a:off x="3751200" y="1652400"/>
            <a:ext cx="2319480" cy="22158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 flipV="1">
            <a:off x="3348000" y="1609200"/>
            <a:ext cx="1909800" cy="1925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 flipV="1">
            <a:off x="3743280" y="2950920"/>
            <a:ext cx="3494160" cy="32288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 flipH="1">
            <a:off x="1941120" y="6173640"/>
            <a:ext cx="1816200" cy="2224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4429080" y="557208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TRK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5"/>
          <p:cNvSpPr/>
          <p:nvPr/>
        </p:nvSpPr>
        <p:spPr>
          <a:xfrm>
            <a:off x="6021360" y="2805120"/>
            <a:ext cx="627120" cy="68724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6627960" y="3529080"/>
            <a:ext cx="904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GPｺﾞｼｯｸE"/>
                <a:ea typeface="HGPｺﾞｼｯｸE"/>
              </a:rPr>
              <a:t>50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5857920" y="4500720"/>
            <a:ext cx="2797200" cy="9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･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RK 1, 50NM north of TRK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･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RK 1 remain 25NM fr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Anchorage FIR BD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1928880" y="39290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HGPｺﾞｼｯｸE"/>
                <a:ea typeface="HGPｺﾞｼｯｸE"/>
              </a:rPr>
              <a:t>TRK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609480" y="43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Paper trial on TRK1 as UPR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(IP/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9:24:24Z</dcterms:created>
  <dc:creator>航空交通流管理センター</dc:creator>
  <dc:description/>
  <dc:language>en-US</dc:language>
  <cp:lastModifiedBy>imuta-t07j7</cp:lastModifiedBy>
  <dcterms:modified xsi:type="dcterms:W3CDTF">2010-05-07T03:58:58Z</dcterms:modified>
  <cp:revision>67</cp:revision>
  <dc:subject/>
  <dc:title>スライド 1</dc:title>
</cp:coreProperties>
</file>