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75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689440" y="6276960"/>
            <a:ext cx="489240" cy="490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386760" y="630396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1340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PACG 32 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540480"/>
            <a:ext cx="15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May 10-14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7840" y="6335640"/>
            <a:ext cx="17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Honolulu,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3484440" y="620712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2292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054840" y="5630760"/>
            <a:ext cx="2894040" cy="911160"/>
            <a:chOff x="6054840" y="5630760"/>
            <a:chExt cx="2894040" cy="91116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6054840" y="563076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989760" y="581796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8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5760" y="295200"/>
            <a:ext cx="57024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ZOA vs KZ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GME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13842" r="0" b="9430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174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KZAK vs KZOA FIR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20520" y="2827080"/>
            <a:ext cx="26240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KZA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5960" y="3111480"/>
            <a:ext cx="1600200" cy="1282680"/>
          </a:xfrm>
          <a:custGeom>
            <a:avLst/>
            <a:gdLst/>
            <a:ahLst/>
            <a:rect l="l" t="t" r="r" b="b"/>
            <a:pathLst>
              <a:path w="1008" h="808">
                <a:moveTo>
                  <a:pt x="0" y="48"/>
                </a:moveTo>
                <a:lnTo>
                  <a:pt x="136" y="168"/>
                </a:lnTo>
                <a:lnTo>
                  <a:pt x="320" y="160"/>
                </a:lnTo>
                <a:lnTo>
                  <a:pt x="304" y="16"/>
                </a:lnTo>
                <a:lnTo>
                  <a:pt x="480" y="0"/>
                </a:lnTo>
                <a:lnTo>
                  <a:pt x="592" y="48"/>
                </a:lnTo>
                <a:lnTo>
                  <a:pt x="712" y="32"/>
                </a:lnTo>
                <a:lnTo>
                  <a:pt x="928" y="80"/>
                </a:lnTo>
                <a:lnTo>
                  <a:pt x="968" y="320"/>
                </a:lnTo>
                <a:lnTo>
                  <a:pt x="1008" y="408"/>
                </a:lnTo>
                <a:lnTo>
                  <a:pt x="968" y="464"/>
                </a:lnTo>
                <a:lnTo>
                  <a:pt x="824" y="496"/>
                </a:lnTo>
                <a:lnTo>
                  <a:pt x="872" y="648"/>
                </a:lnTo>
                <a:lnTo>
                  <a:pt x="776" y="688"/>
                </a:lnTo>
                <a:lnTo>
                  <a:pt x="752" y="760"/>
                </a:lnTo>
                <a:lnTo>
                  <a:pt x="632" y="736"/>
                </a:lnTo>
                <a:lnTo>
                  <a:pt x="360" y="80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76880" y="3322800"/>
            <a:ext cx="19890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ZO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15720"/>
            <a:ext cx="8472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KZAK NOTAM/SIGMET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0720" y="1163160"/>
            <a:ext cx="8390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ning 1/1/10 Oakland Oceanic FIR NOTAMs are only available under the KZAK Identifi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akland Oceanic SIGMETS are still being published under the KZOA identifi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ing to change the SIGMET Identifier to KZA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date will be NOTAM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an sitting on a giant question mark"/>
          <p:cNvPicPr/>
          <p:nvPr/>
        </p:nvPicPr>
        <p:blipFill>
          <a:blip r:embed="rId1"/>
          <a:stretch/>
        </p:blipFill>
        <p:spPr>
          <a:xfrm>
            <a:off x="0" y="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Dennis Addison</dc:creator>
  <dc:description/>
  <dc:language>en-US</dc:language>
  <cp:lastModifiedBy>Dennis Addison</cp:lastModifiedBy>
  <dcterms:modified xsi:type="dcterms:W3CDTF">2010-05-07T21:07:00Z</dcterms:modified>
  <cp:revision>331</cp:revision>
  <dc:subject/>
  <dc:title>Oakland ARTCC</dc:title>
</cp:coreProperties>
</file>