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A612-8D1B-4666-BE41-F967413F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C4D-D3C2-42BF-BE80-3B9F0350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049-9288-4BC7-A06E-CD2157FB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79D-BF0C-4CC1-A26B-7A2C0EE6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4F9-FEC8-4E99-80EB-25D7AD34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FEC-B46E-421E-8764-D65A11B2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937-D192-4BE3-B3D7-F6FC4E03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15A-BA89-4C0B-BDC7-EE214F3E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6D2-412D-4173-ABC1-9AB2496E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801-EDF5-48E3-8C2C-1E3690A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8A5-9F8F-43CC-8C02-012239A2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713-C771-47EA-80F6-A439700B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250" t="14584" r="4688" b="9376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1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FAA Central Reporting Agency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Chart </a:t>
            </a:r>
            <a:fld id="{E583EECF-0303-41A8-BE8C-DDD27949AC4E}" type="slidenum"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ked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340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PACG-34/FIT-21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onolulu, Hawai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y 24, 2010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rdon Sandel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B4E-13A8-4FC1-BA8F-C6B5D6D68C7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932, 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Unable to Logon to Oakland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ew reported unable to logon to Oaklan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akland responded to AFN logons with reason code 4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ight plan mismatch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nfortunately too late to ask Oakland why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uld be flight plan filing issue or coordination issu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sked airline if they still have flight pla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76E-AD57-4435-A858-D2A6DEA500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933, No CPDLC or ADS Downlink Messages Sent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ight crew logged on and it appeared that CPDLC and ADS were establish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 messages sent to ATC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uld have been CPDLC connect confirm, CPDLC downlinks, ADS acks and repor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fter an hour and a half, disconnected and logged on agai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sconnect sent, plus one ADS report 67 minutes old, and a downlink containing ADS reports 23, 27 and 37 minutes ol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ems to have begun as soon as ADS and CPDLC uplinks were ack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xt downlink was 7 minutes later (Q0 to different VDL2 site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ew saw UNABLE TO SEND MSG, which indicates FMC/CMU protocol problem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pears to be an issue when CMU goes into VDL2 search phas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uld be related to previous problems of “unable to send FMC messages on SATCOM”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A18-2DB0-4326-A5D0-0E346ED1B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Reports From Other Regions</a:t>
            </a: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 883, 907, ADS-C processing with GLF5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777 Messages Discarded (multiple PR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2FF-3270-4FE8-91EC-F872167489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883, 907, ADS-C processing with GLF5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nd direction reported erroneously in MET group of ADS repor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error by 180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irplane also responded improperly to standard contract reques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nder investigation by Gulfstream/Honeywel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n the list to fix in an upcoming certific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ill in the planning stage so cannot provide a timelin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5DC-39B1-4250-8CAE-DF111001F35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B777 Messages Discarded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2880" y="1359000"/>
            <a:ext cx="809964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veral recent FIT PRs in which a B777 has behaved as though uplinks have had a CRC failur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gnored AFN ack, so CPDLC connect request receives a disconnect respon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PDLC operational messages ignore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DS-C contract requests result in no response to ATC, but an AOC uplink reject to the airlin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 all cases, there’s a network ack (so you’ll get message assurance success (MAS-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ll BPv14 software (or later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s 877, 886, 888, 901, 904, 908, 923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vestigated by airframe manufacturer and avionics supplier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x for this problem planned in BPv15A software relea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A28-8C9E-4111-8913-DD5D78F0DB7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2720" y="682560"/>
            <a:ext cx="7340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7EFC-3633-4360-B4C7-A025FB352A2D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w IPACG Problem Repor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oblems Reported/Processed Since FIT-20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ports From Other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C89-E34B-49BC-BBF9-1E29349569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1800" y="673200"/>
            <a:ext cx="7340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New IPACG Problem Report Summary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 Problem Reports generated for issues in NOPAC/CEPAC/CENPAC region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going discussions with CRASA-J to assist in PR resolu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620-436C-4C5B-AE35-77585D6391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New IPACG Problem Reports</a:t>
            </a: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676520"/>
          <a:ext cx="7619760" cy="4505040"/>
        </p:xfrm>
        <a:graphic>
          <a:graphicData uri="http://schemas.openxmlformats.org/drawingml/2006/table">
            <a:tbl>
              <a:tblPr/>
              <a:tblGrid>
                <a:gridCol w="571320"/>
                <a:gridCol w="2254320"/>
                <a:gridCol w="1373040"/>
                <a:gridCol w="887400"/>
                <a:gridCol w="808200"/>
                <a:gridCol w="1725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PR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ir/Gnd/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ARTIAL CLEARANCE LOADED for Route Up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/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nable to Logon to PAZ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ack of flight plan che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nable to Communicate with Magad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/ R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nable to Logon to Edmonton (CZE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/ North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termittent display of "link lost"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/ R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Unable to Logon to Oak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 CPDLC or ADS Downlink Messages S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EP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MU iss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5D0-26D5-46C9-AC09-447DF969D3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900,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ARTIAL CLEARANCE LOADED for Route Uplink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ew report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e loaded 45N140W and FATMO into RTE 2 in the FMC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lected RTE 2 on the ROUTE Request page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Uplink read “CLEARED ROUTE CLEARANCE”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en we used "LOAD“, we got "PARTIAL CLEARANCE LOADED“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ew used the inactive route that had a different origi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JCC (CTS), but flight was from RJAA (NRT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akland sent clearance uplink by repeating downlink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nnot change origin (history) in FMC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ence partial loa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13D-4B4B-474C-8817-FD6C72ABAE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912,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Unable to Logon to PAZN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ew report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e are logged onto PAZA but ATC cannot get it to transfer to PAZ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AZN operation was correc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AZA shouldn’t have allowed the log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light plan was filed as XXXn, but airplane was logging on as XXX0n (extra leading zero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AZA is not performing the check against the filed flight pla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is is a basic assumption of the FANS safety analysi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gadan also doesn’t make the check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hat do regulators think?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8CF-1C68-4CD0-B73C-2D8BD74806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R 913,</a:t>
            </a: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Unable to Communicate with Magadan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ew report: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annot communicate CPDLC or ADS in Magadan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e receive messages from Magadan, but they don’t receive us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n a little later: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PDLC working again. Logged off and relogged on. Messages going both ways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first connection was conducted over HFDL with airplane at ~85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cond connection largely on SATCOM (some HFDL uplinks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FDL connection seemed to be very poo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1F8-6A71-4531-AD4C-432F42D78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R926,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 Unable to Logon to Edmonton (CZEG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AZA instructed that CZEG was the next cent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crew was unable to logon to CFE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CDU showed "ATC CENTER - NOTIFIED FAILED“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ogons to Edmonton (CZEG) were ignor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ddress forwarding, as well as crew-initiat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monton is ADS-only (no CPDLC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plane responded per desig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imed out, hence the indic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TC asked for explanation of why logons were ignored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232-16FF-4693-9C85-AD74E80179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R927, 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Intermittent Display of “Link Lost".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Intermittently displayed “link Lost”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宋体"/>
              </a:rPr>
              <a:t>Appears to be result of address forwarding from Anchorage to Magada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chorage forwarded to GDXGWX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gadan responded from GDXE1XA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irbus airplanes will reject (ignore) such respons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agadan established CPDLC connection OK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oesn’t require AFN for a transf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o CPDLC was continuous, although crew would have seen “NOTIFICATION FAILED”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eed better coordination between Anchorage and Magadan on address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erhaps additional crew training on system behaviou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A83-15AF-461D-BBD9-0EDA85838F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9:55:42Z</dcterms:created>
  <dc:creator>Suzie ness</dc:creator>
  <dc:description/>
  <dc:language>en-US</dc:language>
  <cp:lastModifiedBy>Gordon Sandell</cp:lastModifiedBy>
  <dcterms:modified xsi:type="dcterms:W3CDTF">2011-05-05T20:12:12Z</dcterms:modified>
  <cp:revision>215</cp:revision>
  <dc:subject/>
  <dc:title>CRA PR report</dc:title>
</cp:coreProperties>
</file>