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EEF8-BDC5-40F9-A08A-39D025DF9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8A82-968B-4024-9971-6DDFF9BDC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9B38-9E6F-412E-B30C-78B495E3F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328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972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5684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328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972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15D8-1E05-450C-9DA0-2E0F23ED7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089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60160" y="584280"/>
            <a:ext cx="72406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089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9ADC-4E5E-46F1-B6B3-5223A3961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328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972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5684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328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972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4E86-B884-4BFC-919B-8D6FCC8A1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A4B5-0D58-465B-8B33-BA53686B8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F055-A58F-4695-BBD0-A9A0BF789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60160" y="584280"/>
            <a:ext cx="72406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D7E9-1E4A-4610-BB49-924453A1B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FAC7E-3225-4FF8-8F26-802954BB9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2D7D5-A5F6-4603-9584-81310E96F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8173-8114-4347-A72E-BBC62C84A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04920" y="1087560"/>
            <a:ext cx="7640640" cy="0"/>
          </a:xfrm>
          <a:prstGeom prst="line">
            <a:avLst/>
          </a:prstGeom>
          <a:ln w="28440">
            <a:solidFill>
              <a:srgbClr val="c1db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-21096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46000" indent="-21096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»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148520" y="6642000"/>
            <a:ext cx="190512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3C3A-DEA6-4AB2-91D6-E1993FA41978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97720"/>
            <a:ext cx="185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Boeing 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4920" y="1087560"/>
            <a:ext cx="7640640" cy="0"/>
          </a:xfrm>
          <a:prstGeom prst="line">
            <a:avLst/>
          </a:prstGeom>
          <a:ln w="28440">
            <a:solidFill>
              <a:srgbClr val="c1db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1720" y="3631680"/>
            <a:ext cx="6975360" cy="119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181080" indent="0" algn="ctr">
              <a:lnSpc>
                <a:spcPct val="95000"/>
              </a:lnSpc>
              <a:spcAft>
                <a:spcPts val="825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09680" algn="ctr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63504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spacg-cra.com/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6800" y="3370320"/>
            <a:ext cx="82296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Problem Reports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92280" y="4341960"/>
            <a:ext cx="6121440" cy="192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PACG-25/FIT-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olulu, 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22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zie Ness, Gordon San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73, Delayed message sequence A34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22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ADS-C reports time stamped by FMS between 0151-0153 not received by NTTT until 023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was not availab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d empty audit re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D914-FABD-40E3-BEBC-DFCC7787CA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60160" y="222120"/>
            <a:ext cx="7342200" cy="8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 874, Temporary Loss of ADS-C for QFA14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574280"/>
            <a:ext cx="7959960" cy="42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164880" indent="-1648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craft was in transition from VHF to S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S contract uplink via VHF was received but the aircraft’s ACK was not seen on the 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round re-transmitted the ADS contract 8 times in VHF at 10 sec apart before switched to SAT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ground received Media Advisory from aircraft to inform of “loss of VHF” after the 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-trans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craft NAK’ed duplicate ADS con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8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3 NAKs, ADS connection was termin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2 ADS contract uplinks each with 8 re-transmissions in VHF, the ground switched to SATCOM and the system was back to 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4A3D-DFB2-4DBC-BEBE-FC1CD7AE256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6834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75, DAL16 - Difficulty in establishing a CPDLC conne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later chart on “777 Messages Discarded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n failed, with AFN ack from the ground being ign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EF04-FFA5-4D30-B59D-8A1FA68B028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76, ASY364 - Multiple Address Forwarding fail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271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sbane reported multiple attempts to address forward to Nadi f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s show airplane sent AFN contact to Nadi, but each time Nadi responded with a re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ason code 4 (flight plan mismatch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di flight plan issue or coordination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8C20-A385-451C-9E52-332958972A0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77, SIA217 - Uplinks not deliver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94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later chart on “777 Messages Discarded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DLC uplinks not displayed and ADS messages rej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4040-DAB3-49C1-8506-3DBDEF6687C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78, A388 operating with no SATCOM, HFDL and VHF onl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38160" y="1536840"/>
            <a:ext cx="7515360" cy="44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operated without SATCOM for most/all of the f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led as RNP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50% of ADS reports meeting Type/18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 was that ATC needs to know when not to apply reduced se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line amending procedures to require ATC notification of in-flight SATCOM fail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GOLD need updating to reflect this, and will ATC interpret it correctl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9102-D81A-44D2-B7DE-6E6A1AA4E9C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81, No operational response received on clearance uplin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01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later chart on “777 Messages Discarded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DLC uplinks not displa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75EE-D0DC-4264-A929-425935F414E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83, ADS-C processing with GLF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22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 direction reported erroneously in MET group of ADS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responded improperly to standard contract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investigation by Gulfstream/Honey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ADBE-A19D-4F0A-BDBE-18681E9D7BF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84, (MAS131 - Loss of data link (CPDLC and ADS-C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ircraft flew out of VHF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COM was not available, system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craft lost datalink for more than 1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D66B-34E0-4912-B5C8-DC5001DBA21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83840" y="323640"/>
            <a:ext cx="7759800" cy="7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 885, Crew receive uplink climb clearance + indication of invalid ATC up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09200" y="1409400"/>
            <a:ext cx="7908840" cy="451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7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w requested climb to FL3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ZZO responded CLIMB TO AND MAINTAIN FL380/REPORT LEVEL FL3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w report “saw clearance but it was accompanied with warning INVALID ATC UPLINK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B744 for invalid upl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see cl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’t respond to cl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ink error message (dm62) is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’t square this with what was re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7C31-DE90-47AE-830D-A792E6C9EBD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Re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293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roblem Report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roblem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roblems Reported Since ISPACG-2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of PR from N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6EEC-FC42-47A9-B585-0A2B0167AF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86, Unable to establish CPDLC Connection with DAL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94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later chart on “777 Messages Discarded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n failed, with AFN ack from the ground being ign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C92D-FA54-4299-94DB-B83ED5A8D5F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87, Unable to establish ADS-C with JST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4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investigation by Air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02DF-585B-451C-8032-15607B91889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88, Unable to establish CPDLC Connection with DAL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94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later chart on “777 Messages Discarded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n failed, with AFN ack from the ground being ign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0CA5-BB05-425E-A5AD-BCA6F10414F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60160" y="323640"/>
            <a:ext cx="7240680" cy="7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 890, Poor latency performance observed for ADS-C downlink mess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39400" y="1409760"/>
            <a:ext cx="6600600" cy="15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s to use of Atlantic satellites in Pac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ed to ARINC and S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`ARINC indicated EIK performance 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5250" t="10169" r="5250" b="10169"/>
          <a:stretch/>
        </p:blipFill>
        <p:spPr>
          <a:xfrm>
            <a:off x="3787920" y="2882880"/>
            <a:ext cx="5203800" cy="3416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2360" y="2936880"/>
            <a:ext cx="3603600" cy="22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of AOR-W and AOR-E satellites in the Pacific is at the edge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ss of signal, reestablishment of li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C27B-847C-4EE4-9988-05062BBF980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01, No Response to 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later chart on “777 Messages Discarded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DLC clearance not displa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C429-E5E7-4F9D-9314-A5EBEE2F74D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04, Loss of A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94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later chart on “777 Messages Discarded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DS response, as uplink rejected (CRC failure sent to compan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ED2A-1FE3-4EF4-8F95-3BF6F983C75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05, Unable to load TA route uplin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217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 uplink displayed, but no LOAD FMC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ed FMC master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ved to be another variant of PR8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1E4D-1328-4AE6-A351-1D8A3AF2654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07, ADS Issues with Gulfstream 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94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 direction in ADS-C Met group 18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o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jected ADS-C contract request containing two event requ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signed to Gulfstream/Honey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5F15-5E61-4498-9C80-44DEFEE464E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08, Unable to Logon to Melbour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94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later chart on “777 Messages Discarded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n failed, with AFN ack from the ground being ign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15BA-A701-453F-9595-D946C61394A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20, N401HB - max value of distanceoffset = 30N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178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stream only allows offset request up to 30 m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as allowed for offset entry in FM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ed to Gulfstream/Honey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DF34-D11A-43BD-9428-15E63E2655C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61760" y="531720"/>
            <a:ext cx="68374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 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45840" y="2009520"/>
            <a:ext cx="6413400" cy="179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South Pacific Problem Reports gene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ing to using ISPACG website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spacg-cra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A7E4-6027-4FCE-8173-D249C8182F5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60160" y="222120"/>
            <a:ext cx="7240680" cy="8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 921, REU772 - Multiple CPDLC connections + disconnections...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82480" y="1447560"/>
            <a:ext cx="8112240" cy="528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ged onto Brisbane and established CPD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logged onto Nad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di requested CPDLC, but got DR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di forwarded to Brisbane before attempting CPD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disconnected from Brisb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s like crew turned it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ged onto Nadi a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sbane attempted (and established) CPDLC before getting address for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disconnected ag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s as if crew logged onto Brisbane and changed their mi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helped by Nadi address forwarding before establishing CPD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21040" y="6426360"/>
            <a:ext cx="34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F19F-2575-4E8A-990D-0A254AEA6FC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22, QFA141 - Temporary loss of ADS-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96600" y="1409760"/>
            <a:ext cx="7908840" cy="475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of ADS-C contract requests “delayed or not delivere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ontract requests actually delivered on V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network ack, but ADS-C ACK sent (on SATCOM) before uplink attempted on SAT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received NAK (contract # in use) when they were delivered on SAT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the flight crew terminated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nd may need to tolerate NAK-after-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84B0-7365-47B8-85CA-FB8BF000F19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23, ANZ90 - Several undelivered CPDLC uplin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later chart on “777 Messages Discarded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DLC uplinks not displa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B04B-2632-49B6-AB75-A7AF54E58A1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25, Unable to establish CPDLC &amp; ADS-C with LAN801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456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n received, but unable to establish CPDL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A had not received media advisory for establishment of SAT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uldn’t contact on SAT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 advisory received by ARINC, but not forwar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rator had not requested 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rator contac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one airplane lik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able ORT issue, with GES sel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46240" y="65833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C64E-2B7B-4CDB-A13E-1876701F7BD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777 Messages Discard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32880" y="1359000"/>
            <a:ext cx="8099640" cy="442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recent FIT PRs in which a B777 has behaved as though uplinks have had a CRC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gnored AFN ack, so CPDLC connect request receives a disconnect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PDLC operational messages igno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S-C contract requests result in no response to ATC, but an AOC uplink reject to the air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ll cases, there’s a network ack (so you’ll get message assurance success (MAS-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BPv14 software (or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s 877, 886, 888, 901, 904, 908, 9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 investigation by airframe manufacturer and avionics supp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D9C8-EFA4-4110-872B-C336FC7C34F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60160" y="323640"/>
            <a:ext cx="7240680" cy="7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 930, Conditional Clearance Executed After New Clearance Recei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3560" y="1383840"/>
            <a:ext cx="8366400" cy="532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8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 related to N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8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1627z, ATC sent this clearance (which crew WILCO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TAIN FL3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1836z DESCEND TO AND MAINTAIN FL2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END TO REACH FL280 BY 1845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ORT LEVEL FL2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8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at 1708z, ATC sent a new clearance (also WILCO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EARED ROUTE CLEA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UTE HAS BEEN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TAIN FL3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8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crew 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85000"/>
              </a:lnSpc>
              <a:spcAft>
                <a:spcPts val="675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RM WE DO NOT DES AT 1836z TO FL28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8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C respon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DESC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8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TAIN FL3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8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1845z ATC received the report for LEVEL FL2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46240" y="65833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9B7D-184B-43EA-96A5-C2A8A163A20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30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87040" y="1498680"/>
            <a:ext cx="7604280" cy="517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received a reminder from the airplane system to execute the conditional cl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 cancelled by superseding clear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manual cancellation pos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ain determined that airplane must follow the old clearance despite First Officer misgivings and the earlier exchange indicating the new clearance superseded th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ight deck procedur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s the conditional clearance for 2 hours away accept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LD guidance requi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46240" y="65833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9D94-A845-4079-90B8-C7CAEE36A14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osed Enhanc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95080" y="1422000"/>
            <a:ext cx="8073720" cy="422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ng errors in logons will result in the airplane waiting 10 minutes to time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indication of the err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P has to perform 4-character ICAO I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7-character address tran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imilar to D-A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SPs provide “NO PARTICIPATING AIRPORT” message for D-A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ld DSPs provide something similar for erroneous ATC log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6483-624A-43A1-A9A7-14AFA180CBA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28360" y="533520"/>
            <a:ext cx="683892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CE82-D625-425D-96A7-DF605D94FF8A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61840" y="1955880"/>
          <a:ext cx="7553520" cy="3363840"/>
        </p:xfrm>
        <a:graphic>
          <a:graphicData uri="http://schemas.openxmlformats.org/drawingml/2006/table">
            <a:tbl>
              <a:tblPr/>
              <a:tblGrid>
                <a:gridCol w="486000"/>
                <a:gridCol w="3797280"/>
                <a:gridCol w="1108080"/>
                <a:gridCol w="2162160"/>
              </a:tblGrid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orrect Route Uplink Loa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7 Rte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layed message sequence A343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mporary Loss of ADS-C for QFA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L16 - Difficulty in establishing a CPDLC conn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7 CRC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Y364 - Multiple Address Forwarding failures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A217 - Uplinks not delivered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7 CRC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E674-87E1-44C1-A21B-48485BEF25F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61840" y="1955880"/>
          <a:ext cx="7642440" cy="3821040"/>
        </p:xfrm>
        <a:graphic>
          <a:graphicData uri="http://schemas.openxmlformats.org/drawingml/2006/table">
            <a:tbl>
              <a:tblPr/>
              <a:tblGrid>
                <a:gridCol w="490680"/>
                <a:gridCol w="3843360"/>
                <a:gridCol w="1120680"/>
                <a:gridCol w="218772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, Gnd,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388 operating with no SATCOM, HFDL and VHF only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operational response received on clearance up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7 CRC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S-C processing with GLF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ed to Gulfstream/Honeyw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MAS131 - Loss of data link (CPDLC and ADS-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rew receive uplink climb clearance + indication of invalid ATC up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able to establish CPDLC Connection with DAL16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7 CRC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9E0C-912A-4680-A684-E72368989E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73280" y="1955880"/>
          <a:ext cx="7718400" cy="3736800"/>
        </p:xfrm>
        <a:graphic>
          <a:graphicData uri="http://schemas.openxmlformats.org/drawingml/2006/table">
            <a:tbl>
              <a:tblPr/>
              <a:tblGrid>
                <a:gridCol w="496800"/>
                <a:gridCol w="3879720"/>
                <a:gridCol w="1131840"/>
                <a:gridCol w="2210040"/>
              </a:tblGrid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, Gnd,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able to establish ADS-C with JST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ed to Air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able to establish CPDLC Connection with DAL16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7 CRC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 latency performance observed for ADS-C downlink mess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signed to ARINC/SI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Response to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7 CRC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ss of A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7 CRC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able to load TA route up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7 Rte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S Issues with Gulfstream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ed to Gulfstream/Honeyw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332E-5CA8-4B62-B1DA-C8E0C91212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cl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74800" y="1955880"/>
          <a:ext cx="7578720" cy="3468600"/>
        </p:xfrm>
        <a:graphic>
          <a:graphicData uri="http://schemas.openxmlformats.org/drawingml/2006/table">
            <a:tbl>
              <a:tblPr/>
              <a:tblGrid>
                <a:gridCol w="487440"/>
                <a:gridCol w="3809880"/>
                <a:gridCol w="1111320"/>
                <a:gridCol w="217008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, Gnd,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able to Logon to Melbour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7 CRC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401HB - max value of distanceoffset = 30NM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ed to Gulfstream/Honeyw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U772 - Multiple CPDLC connections + disconnections..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FA141 - Temporary loss of ADS-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Z90 - Several undelivered CPDLC uplinks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7 CRC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able to establish CPDLC &amp; ADS-C with LAN801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0F1E-F0BD-4C7F-BDF9-976A720A865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ividual Re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6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3B2D-C2E2-4D2B-9229-6AC7ECD6D3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62, Incorrect Route Uplink Load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3480" y="1485720"/>
            <a:ext cx="6791400" cy="480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Pacific One TA into San Francisco, TA clearance displayed but different route loaded on B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oute was an uplink received on a previous fligh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MC master switch after first route uplink and again before second (same FMC now mas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replicated in Honeywell 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planned for FMC in next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 905 believed to be a manifestation of same basic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ccurred after FMC master swit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2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9151-9146-4B96-92A3-016A2C642C6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0:18:49Z</dcterms:created>
  <dc:creator>Dung Nguyen</dc:creator>
  <dc:description/>
  <dc:language>en-US</dc:language>
  <cp:lastModifiedBy>Reed B Sladen</cp:lastModifiedBy>
  <dcterms:modified xsi:type="dcterms:W3CDTF">2011-05-09T22:58:51Z</dcterms:modified>
  <cp:revision>5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