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37A6-A888-44F6-BFEE-757D29D52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777E-BB5B-4058-BB13-CD30D813D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F5FC-44C7-4DAE-80A9-FC62338AC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328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972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5684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328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972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8192-28E9-4483-8556-D82F34540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089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60160" y="584280"/>
            <a:ext cx="72406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1089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1693-3D65-4300-A2F2-1E9CC85E2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328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9720" y="195588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5684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328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9720" y="3992760"/>
            <a:ext cx="218664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9539-BA0B-471E-8591-100FBDA02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0AED-F8A6-4A4B-B5FA-2DC43F539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38B9-B47A-4F58-A273-2ED60D576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60160" y="584280"/>
            <a:ext cx="72406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89F1-AE09-4ABA-964B-C44E976E8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F807-D277-4B26-8492-16D61C965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389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99276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580F-E227-44A3-9C6E-4C2A7C4AB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955880"/>
            <a:ext cx="331416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56840" y="3992760"/>
            <a:ext cx="6791400" cy="185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9D5C-AD92-41D4-B13E-0F78C7437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04920" y="1087560"/>
            <a:ext cx="7640640" cy="0"/>
          </a:xfrm>
          <a:prstGeom prst="line">
            <a:avLst/>
          </a:prstGeom>
          <a:ln w="28440">
            <a:solidFill>
              <a:srgbClr val="c1d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56840" y="1955880"/>
            <a:ext cx="6791400" cy="389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-21096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46000" indent="-21096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»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148520" y="6642000"/>
            <a:ext cx="190512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0190-8E4C-4B08-B2EC-3B6425761CCF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97720"/>
            <a:ext cx="185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Boeing Comp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4920" y="1087560"/>
            <a:ext cx="7640640" cy="0"/>
          </a:xfrm>
          <a:prstGeom prst="line">
            <a:avLst/>
          </a:prstGeom>
          <a:ln w="28440">
            <a:solidFill>
              <a:srgbClr val="c1db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1720" y="3631680"/>
            <a:ext cx="6975360" cy="119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181080" indent="0" algn="ctr">
              <a:lnSpc>
                <a:spcPct val="95000"/>
              </a:lnSpc>
              <a:spcAft>
                <a:spcPts val="825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409680" algn="ctr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63504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spacg-cra.com/" TargetMode="Externa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6800" y="3370320"/>
            <a:ext cx="8229600" cy="59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Problem Reports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92280" y="4341960"/>
            <a:ext cx="6121440" cy="192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 CNSG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7-11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don San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Aft>
                <a:spcPts val="1089"/>
              </a:spcAft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1" i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79, Thales FMC includes latitude and longitude in DM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2920" y="1574280"/>
            <a:ext cx="7895880" cy="41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bus aircraft equipped with a GE/Thales FM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0">
              <a:lnSpc>
                <a:spcPct val="95000"/>
              </a:lnSpc>
              <a:spcAft>
                <a:spcPts val="825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a) put the optional lat/long for every waypoint in a ro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0">
              <a:lnSpc>
                <a:spcPct val="95000"/>
              </a:lnSpc>
              <a:spcAft>
                <a:spcPts val="825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b) use the single character identifier for the approach type (e.g. I25L instead of ILS25L), 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0">
              <a:lnSpc>
                <a:spcPct val="95000"/>
              </a:lnSpc>
              <a:spcAft>
                <a:spcPts val="825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c) don't put the intersection waypoints between airways in the ro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 is part of the DO-219/DO-258 message set and should be allowed (ground system deficien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bus has indicated that (b) and (c) will be fixed in an upcoming softwar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3980-8497-4AC3-AE86-B6F7FC2B168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80, UM80's which contain an International STAR are reject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2600" y="1701360"/>
            <a:ext cx="7451640" cy="372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was that airplanes were rejecting uplinks with STARs of more than 5 charac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reality, the STAR was encoded as an airway in the route portion, so was nonsense, and was properly rej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ways are limited to 5 characters, so encoding one with a length of 7 also violated the ASN.1 rules for th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 names are limited to 6 characters (plus five for a transition, if inclu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C1D5-5378-4809-AE96-CC2BA007CE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82, Using a NAT track as an airway in CPDL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3280" y="1650600"/>
            <a:ext cx="7705440" cy="411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 uplink from KZW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a) tried to use one of the NAT tracks as an airway (that would never be in the nav database in an FMC), 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b) tried to use a lat/long as an airway entry point (which would only work on 787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then loaded without noticing PARTIAL CLEARANCE LOADED or the resulting DISCONTINU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for NAT/CNSG is how to avoid this happening ag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FDDC-3CBB-45BE-842A-2D72753528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89, Performance degradation EIK 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4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investigation by ARI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C3F9-F8F6-46DB-8AF8-D1CAA745641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92, Missing ADS Reports (Default Data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955520"/>
            <a:ext cx="7718400" cy="436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DLC message sent from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0">
              <a:lnSpc>
                <a:spcPct val="95000"/>
              </a:lnSpc>
              <a:spcAft>
                <a:spcPts val="825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QUEST POSITION RE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0">
              <a:lnSpc>
                <a:spcPct val="95000"/>
              </a:lnSpc>
              <a:spcAft>
                <a:spcPts val="825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50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der contacted on HF and advised they were not receiving the position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S report for 50W included default predicted a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dicates data not avail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at why it was “missing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 on PR893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FDFA-39CC-4FD1-AC7C-C5524F09544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93, Position Report Exchange Issu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1040" y="1955880"/>
            <a:ext cx="7921800" cy="37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ing from PR8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responded by sending CPDLC position report and got MESSAGE NOT SUPPORTED BY THIS FAC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send REQUEST POSITION REPORT if you can’t accept the respon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plans to support position report downlink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0CFC-1E41-4B16-BA74-220A69506D7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95, Route Clearance Responded to but Ignor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2440" y="1510920"/>
            <a:ext cx="8239320" cy="459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C uplinked a clearance to the airp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sends WIL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S reports show the airplane not following the new tr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says they didn’t see the up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s show the uplink was received and WILCO’ed while the crew was sending a long free text downlink (one of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too absorbed in typing and didn’t realize that one of the pages they viewed was a route clear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haps a lesson learned about over-use of free tex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F61C-05E8-4742-8C71-BE428C38631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96, Delayed Weather deviation Cleara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0960" y="1269720"/>
            <a:ext cx="8391600" cy="485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rding to flight crew rep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ldn’t send “offset at” request so just requested L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sent cruise climb requ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t “MESSAGE NOT SUPPORTED” for offset reque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ce exchanges to get clear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got climb clearance with REPORT LEVEL FL3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esponse to level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issues. First is crew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“offset at” was because they were requesting a weather dev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ise climbs aren’t supported by Gander (the message not supported was for that, not the cruise cli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67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 response to a level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ther issue is why Gander took over10 minutes to respond to the weather deviation requ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52D4-FF70-42C5-B889-D85F0E16222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97, Multi-Element Clearance Concer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6960" y="1345680"/>
            <a:ext cx="8035920" cy="451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ZWY sent this message (arrived at 1522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B TO REACH FL370 BY 1537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RT LEVEL FL3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CAN YOU ACCEPT FL3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CAN YOU ACCEPT FL3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 w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AN ACCEPT FL380 AT 1522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0">
              <a:lnSpc>
                <a:spcPct val="95000"/>
              </a:lnSpc>
              <a:spcAft>
                <a:spcPts val="7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AN ACCEPT FL390 AT 1522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entirely clear how the crew did that (free text entr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case, this kind of combination is discouraged by G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8F44-04ED-4F8A-991C-64761F60762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98, Logon Fail Due to Messages Not Delivered by DS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2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crew sent logon to CZQX, but no CPDLC connection resul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 is a SITA customer, and the logons were delivered to (and discarded by) ARI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very similar to PR842, reported at NAT/CNS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NC has an action item arising from PR84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B9A4-7AE1-49F9-8EB0-BB452441C3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60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roblem Report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roblem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roblems Reported Since NAT CNSG/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Re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777 Messages Discar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Enh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A6DE-7E75-48AD-95FF-49FB6E544AB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899, Logon Fail Due to Erroneous  Center Identifi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7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airline as PR8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ed to logon to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d CYQX instead of CZQ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ffect as PR898 (no conn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e was pilot entry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t I note that oceanic clearance requests for Gander are sent to CYQ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s this well covered on chart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FEA4-C98D-4A56-94AE-C75609FEF9D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02, Missing Position Reports for Gan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2800" y="1523520"/>
            <a:ext cx="8112240" cy="43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error between NY and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st position report at 40W via H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S report for 30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N address forwarding went OK, but Gander didn’t initiate ADS or CPDLC till after the airplane passed 40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ander to addr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no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time stamps in CPDLC messages from Ga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ime stamp in AFN messages up to 70 seconds AHEAD of delivery ti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DF14-7EDB-4186-8389-9CFC716A478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06, Delayed AFN Log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1800" y="1955880"/>
            <a:ext cx="7820280" cy="28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sent several logons to BIRD via STG (Stavang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 hours later, sent another via TEB (Teterboro) time-stamped one second after the la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umably stuck in VHF transmit queu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stream/Honeywell to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7E9E-A992-4D17-8222-5F3B376CA6B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60160" y="323640"/>
            <a:ext cx="7240680" cy="7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 909, CPDLC FAULT ATC CLEARANCE – UPLINK DELAY EXCEE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0960" y="1485720"/>
            <a:ext cx="8150400" cy="421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crew rejected climb clearance with free text saying it couldn’t climb 1000ft for &gt;4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rejected two descent clear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e from 350 to 2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pted MAINTAIN 350, but rejected two weather deviation clear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report said some had “UPLINK DELAY EXCEEDED” which would be very o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6AA8-A461-4F0A-AEE6-8A964E551D5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10, Missing FMC WP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line reported Santa Maria indicated not receiving FMC waypoint reports from some fl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warded to Santa Maria, but may be too old to allow invest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FE35-E71C-4AC8-A1D2-E3516D6D2B5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11, More DOWNLINK ERROR Messa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55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crew received DOWNLINK ERROR indication on connection to Shanw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nwick sent a second CPDLC connect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es this when response delay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plane responded to bo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ound didn’t like getting both respon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consideration for a fix in a futur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0A883-799F-440F-B35E-62DB7B9BD36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14, Unable to Logon to Gand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11080" y="1955520"/>
            <a:ext cx="7693200" cy="386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 sent two logon requests to CYQ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response (incorrect identifi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sent oceanic clearance request to CYQ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clearance received by datali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3 logons to CZQ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4, 17 and 11 minutes before entering oceanic air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FN acks, but no CPDLC reque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 awaiting Nav Canada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8A7E-2C4B-46CD-BF7B-1081FCEED68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16, Logged on to Shanwick without proper indi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7680" y="1625760"/>
            <a:ext cx="8163000" cy="461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plane logged on to Shanwi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S-C contract initiated, but no CPDL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eanic clearance request rej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a confusing crew report that “Shanwick says we’re logged on, but we don’t have a message that we are logged 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arently SAATS “thought” the CPDLC connect request had been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S has a bu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 NATS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es Nav Canada have a similar issu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6680" indent="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CA79-7BA7-4EA7-AF2D-0A39DE8E333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17, Unable to Logon to Gander or Reykjavi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268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on to G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epted (AFN ack) but no CPDLC connect requ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ain, no sign of an oceanic clearance (but via airline host, not A6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investigation by Nav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3AE1-EFA6-4B45-AB37-0AE3301C428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18, Disconnect Due to Imagined Conges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290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772 responded to an ADS contract request from Reykjavik with a disconnect and a reason code of “conges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ly legitimate cause is if already 5 conne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e weren’t (only 2 including this on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investigation by airframe manufacturer and avionics suppl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56E6-2B85-4A14-82B2-2DAA5C5AC4A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61760" y="531720"/>
            <a:ext cx="68374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 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5840" y="2009520"/>
            <a:ext cx="6413400" cy="21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 North Atlantic Problem Reports gen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ioning to using ISPACG website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spacg-cra.com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18B9-F8FF-4882-B97A-E5D17D89D5A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60160" y="117000"/>
            <a:ext cx="7240680" cy="93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19, Additional Disconnect Due to Imagined Conges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186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as PR9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fferent airli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re ADS contracts, but still not 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investigation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DCB3-6D27-472D-BB79-5E645E14041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60160" y="222120"/>
            <a:ext cx="724068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 924, Message Assurance Failure When Message Was Delive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6840" y="1955520"/>
            <a:ext cx="6791400" cy="337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ykjavik has received Message Assurance Fail (MAS-F) indications for messages attempted via HF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bsequently received application responses for those messa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 is with releasing airspace for another flight if there is “no response” from an airpl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 CNSG discuss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CADE-6D79-44F1-9318-1C5AF085A4E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60160" y="323640"/>
            <a:ext cx="7240680" cy="7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 930, Conditional Clearance Executed After New Clearance Receiv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3560" y="1384200"/>
            <a:ext cx="8366400" cy="516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1627z, ZNY sent this clearance (which crew WILCO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TAIN FL3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1836z DESCEND TO AND MAINTAIN FL2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END TO REACH FL280 BY 1845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ORT LEVEL FL28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at 1708z, ZNY sent a new clearance (also WILCO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EARED ROUTE CLEA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UTE HAS BEEN CHAN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TAIN FL3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 crew 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675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RM WE DO NOT DES AT 1836z TO FL28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Y respon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DESC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20640" indent="0">
              <a:lnSpc>
                <a:spcPct val="95000"/>
              </a:lnSpc>
              <a:spcAft>
                <a:spcPts val="451"/>
              </a:spcAft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INTAIN FL3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1845z ZNY received the report for LEVEL FL2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46240" y="65833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D906-8A2A-44AC-BC1B-0AA2498A352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 930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7040" y="1498680"/>
            <a:ext cx="7604280" cy="517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w received a reminder from the airplane system to execute the conditional clea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 cancelled by superseding cl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manual cancellation pos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ain determines that airplane must follow the old clearance despite First Officer misgivings and the earlier exchange indicating the new clearance superseded th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light deck procedur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is the conditional clearance for 2 hours away accept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LD guidance requi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59200" y="6583320"/>
            <a:ext cx="34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22BC-44F4-4579-9B75-DD12F73543A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777 Messages Discard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32880" y="1359000"/>
            <a:ext cx="8099640" cy="442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recent FIT PRs in which a B777 has behaved as though uplinks have had a CRC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gnored AFN ack, so CPDLC connect request receives a disconnect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PDLC operational messages igno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S-C contract requests result in no response to ATC, but an AOC uplink reject to the air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ll cases, there’s a network ack (so you’ll get message assurance success (MAS-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94200" indent="-214920">
              <a:lnSpc>
                <a:spcPct val="95000"/>
              </a:lnSpc>
              <a:spcAft>
                <a:spcPts val="751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BPv14 software (or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s 877, 886, 888, 901, 904, 908, 9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4880" indent="-164880">
              <a:lnSpc>
                <a:spcPct val="95000"/>
              </a:lnSpc>
              <a:spcBef>
                <a:spcPts val="751"/>
              </a:spcBef>
              <a:spcAft>
                <a:spcPts val="75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 investigation by airframe manufacturer and avionics supp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DC22-9447-4BFA-9F69-7A24B368BC0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osed Enhanc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5080" y="1422000"/>
            <a:ext cx="8073720" cy="42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ng errors in logons will result in the airplane waiting 10 minutes to time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indication of the err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P has to perform 4-character ICAO I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7-character address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imilar to D-A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SPs provide “NO PARTICIPATING AIRPORT” message for D-A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uld DSPs provide something similar for erroneous ATC log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5170-6F20-479B-8A47-3D0E96EA747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28360" y="533520"/>
            <a:ext cx="683892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3A78-F1F1-4FFA-88E8-7592E769D790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357200" y="1955880"/>
          <a:ext cx="6791400" cy="4037040"/>
        </p:xfrm>
        <a:graphic>
          <a:graphicData uri="http://schemas.openxmlformats.org/drawingml/2006/table">
            <a:tbl>
              <a:tblPr/>
              <a:tblGrid>
                <a:gridCol w="596880"/>
                <a:gridCol w="2818080"/>
                <a:gridCol w="1030320"/>
                <a:gridCol w="23461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PA831 failure to establish active CPDLC connection with BIRD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 un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ales FMC includes latitude and longitude in DM24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signed to Air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M80's which contain an International STAR are rejected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signed to Air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ing a NAT track as an airway in CPDLC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formance degradation EIK GES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signed to ARIN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ssing ADS Reports (Default 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/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66680" indent="-166680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for Nav 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0914-166F-480C-9EF9-B2B35DCA414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74800" y="1650960"/>
          <a:ext cx="7451640" cy="4368960"/>
        </p:xfrm>
        <a:graphic>
          <a:graphicData uri="http://schemas.openxmlformats.org/drawingml/2006/table">
            <a:tbl>
              <a:tblPr/>
              <a:tblGrid>
                <a:gridCol w="655560"/>
                <a:gridCol w="3184560"/>
                <a:gridCol w="873000"/>
                <a:gridCol w="27385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sition Report Exchange Iss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for Nav 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ute Clearance Responded to but Igno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ew iss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layed Weather deviation Clea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/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for Nav 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lti-Element Clearance Conce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gon Fail Due to Messages Not Delivered by D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ARINC action 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gon Fail Due to Erroneous  Center Identif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ry err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8F11-2856-468D-AE7E-39CD6C350E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25560" y="1600200"/>
          <a:ext cx="7489800" cy="4235400"/>
        </p:xfrm>
        <a:graphic>
          <a:graphicData uri="http://schemas.openxmlformats.org/drawingml/2006/table">
            <a:tbl>
              <a:tblPr/>
              <a:tblGrid>
                <a:gridCol w="658800"/>
                <a:gridCol w="3201840"/>
                <a:gridCol w="876240"/>
                <a:gridCol w="2752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ssing Position Reports for Ga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 for Nav 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layed AFN Log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 to Honeywell and Gulfstr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PDLC FAULT ATC CLEARANCE – UPLINK DELAY EXCEE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an iss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ssing FMC WP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 to Santa M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re DOWNLINK ERROR Mess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Logon to Ga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aiting Nav Canada 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18E5-F03E-47ED-87C6-2EA210EBF4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roblem Reports (Cont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63720" y="1727280"/>
          <a:ext cx="7413480" cy="4275000"/>
        </p:xfrm>
        <a:graphic>
          <a:graphicData uri="http://schemas.openxmlformats.org/drawingml/2006/table">
            <a:tbl>
              <a:tblPr/>
              <a:tblGrid>
                <a:gridCol w="650880"/>
                <a:gridCol w="3170160"/>
                <a:gridCol w="868320"/>
                <a:gridCol w="27241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r, Gnd, or 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gged on to Shanwick without proper ind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 ident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able to Logon to Gander or Reykjav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waiting Nav Canada 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connect Due to Imagined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ditional Disconnect Due to Imagined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e as 9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ssage Assurance Failure When Message Was Delivered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ussion 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tional Clearance Executed After New Clearance Recei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r/G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spcAft>
                          <a:spcPts val="524"/>
                        </a:spcAft>
                        <a:tabLst>
                          <a:tab algn="l" pos="0"/>
                          <a:tab algn="l" pos="1309680"/>
                          <a:tab algn="l" pos="2619360"/>
                          <a:tab algn="l" pos="3929040"/>
                          <a:tab algn="l" pos="5238720"/>
                          <a:tab algn="l" pos="6548400"/>
                          <a:tab algn="l" pos="7858080"/>
                          <a:tab algn="l" pos="916776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 discu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EF80C-FD4D-4CF3-8EB1-3DA51934663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60160" y="584280"/>
            <a:ext cx="724068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ividual Re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2BCE-292F-436D-8725-6DF82B0006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3080" y="222120"/>
            <a:ext cx="7620120" cy="82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 863, CPA831 failure to establish active CPDLC connection with BI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56840" y="1955880"/>
            <a:ext cx="6791400" cy="380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logons sent in a period of ~1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nections set up 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98520" indent="-217440">
              <a:lnSpc>
                <a:spcPct val="95000"/>
              </a:lnSpc>
              <a:spcAft>
                <a:spcPts val="825"/>
              </a:spcAft>
              <a:buClr>
                <a:srgbClr val="c1dbe9"/>
              </a:buClr>
              <a:buFont typeface="Arial"/>
              <a:buChar char="–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rational uplinks rejected “not current data authority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t with not getting an end-service from previous center and crew logging on without turning ATC COMM off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lnSpc>
                <a:spcPct val="95000"/>
              </a:lnSpc>
              <a:spcBef>
                <a:spcPts val="901"/>
              </a:spcBef>
              <a:spcAft>
                <a:spcPts val="901"/>
              </a:spcAft>
              <a:buClr>
                <a:srgbClr val="c1dbe9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MA didn’t request data in time, so can’t confi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46240" y="6273720"/>
            <a:ext cx="34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 IPACG-34 FIT-21 IP-01 Attachment 1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9698-19D4-493A-AFA5-65BE71F46AB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0:18:49Z</dcterms:created>
  <dc:creator>Dung Nguyen</dc:creator>
  <dc:description/>
  <dc:language>en-US</dc:language>
  <cp:lastModifiedBy>Reed B Sladen</cp:lastModifiedBy>
  <dcterms:modified xsi:type="dcterms:W3CDTF">2011-05-09T23:01:11Z</dcterms:modified>
  <cp:revision>3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