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592-65F7-4F88-B075-2E86CE7F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0C9-2A28-450E-9385-192D3194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CA3-1FD3-4239-A500-4CA238F8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AA1-EB8A-40DF-BAEE-72ADF359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CDB-DF6F-49A7-BBB8-37943926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C20-0F97-4FD5-B158-79117F03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26C-38A6-4943-A1A2-0203FF34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C4F-A884-43B6-AAEA-824E1C92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D45-F803-4D4D-989D-54152B7B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71C-2620-43E8-9B6F-9C549CA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9C2-91FF-4D74-A821-77D882F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FF5-232C-4B69-9104-441EF40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CF14-CABE-4B6B-8E81-13AD7BE9E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E80F-300F-41EE-9BE0-C2DA688EFC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9280" y="6205680"/>
            <a:ext cx="478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IPACG-35 FIT-22 IP/4 Attachment A</a:t>
            </a:r>
            <a:br>
              <a:rPr sz="1200"/>
            </a:b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8 November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Data Link Performance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S 1/A over I4 Classic Aer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OIC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4951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PACG-35 FIT-22 IP/4 Attachment A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8 November 2011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I4 - ADS-C Performance Trends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May to July vs. July to September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K – APK1: Performance slightly decl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N – APK1: Performance significantly impr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K – AME1: Performance impr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Y – AME1: Maintaine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Y – XXH: Performance improved sligh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K – XXH: Performance significantly impr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6102" r="0" b="6102"/>
          <a:stretch/>
        </p:blipFill>
        <p:spPr>
          <a:xfrm>
            <a:off x="228600" y="152280"/>
            <a:ext cx="8915400" cy="577368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5486400" y="3962520"/>
            <a:ext cx="837720" cy="992520"/>
            <a:chOff x="5486400" y="3962520"/>
            <a:chExt cx="837720" cy="992520"/>
          </a:xfrm>
        </p:grpSpPr>
        <p:grpSp>
          <p:nvGrpSpPr>
            <p:cNvPr id="123" name=""/>
            <p:cNvGrpSpPr/>
            <p:nvPr/>
          </p:nvGrpSpPr>
          <p:grpSpPr>
            <a:xfrm>
              <a:off x="5486400" y="3962520"/>
              <a:ext cx="837720" cy="307080"/>
              <a:chOff x="5486400" y="3962520"/>
              <a:chExt cx="837720" cy="307080"/>
            </a:xfrm>
          </p:grpSpPr>
          <p:sp>
            <p:nvSpPr>
              <p:cNvPr id="124" name=""/>
              <p:cNvSpPr/>
              <p:nvPr/>
            </p:nvSpPr>
            <p:spPr>
              <a:xfrm>
                <a:off x="5486400" y="396252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ME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71840" y="4038480"/>
                <a:ext cx="152280" cy="1519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486400" y="4190760"/>
              <a:ext cx="837720" cy="307080"/>
              <a:chOff x="5486400" y="4190760"/>
              <a:chExt cx="837720" cy="30708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419076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K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71840" y="4266720"/>
                <a:ext cx="152280" cy="1519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486400" y="4419360"/>
              <a:ext cx="837720" cy="307080"/>
              <a:chOff x="5486400" y="4419360"/>
              <a:chExt cx="837720" cy="307080"/>
            </a:xfrm>
          </p:grpSpPr>
          <p:sp>
            <p:nvSpPr>
              <p:cNvPr id="130" name=""/>
              <p:cNvSpPr/>
              <p:nvPr/>
            </p:nvSpPr>
            <p:spPr>
              <a:xfrm>
                <a:off x="5486400" y="441936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X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71840" y="4495320"/>
                <a:ext cx="152280" cy="1519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486400" y="4647960"/>
              <a:ext cx="837720" cy="307080"/>
              <a:chOff x="5486400" y="4647960"/>
              <a:chExt cx="837720" cy="307080"/>
            </a:xfrm>
          </p:grpSpPr>
          <p:sp>
            <p:nvSpPr>
              <p:cNvPr id="133" name=""/>
              <p:cNvSpPr/>
              <p:nvPr/>
            </p:nvSpPr>
            <p:spPr>
              <a:xfrm>
                <a:off x="5486400" y="464796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X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1840" y="472392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5410080" y="4952880"/>
            <a:ext cx="1001880" cy="307080"/>
            <a:chOff x="5410080" y="4952880"/>
            <a:chExt cx="1001880" cy="307080"/>
          </a:xfrm>
        </p:grpSpPr>
        <p:sp>
          <p:nvSpPr>
            <p:cNvPr id="136" name=""/>
            <p:cNvSpPr/>
            <p:nvPr/>
          </p:nvSpPr>
          <p:spPr>
            <a:xfrm>
              <a:off x="5410080" y="49528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 90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59680" y="5018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313240" y="52578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8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6760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Use of I4 By FIR and Aircraft Type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ADS-C Message Traffic on I4 GES by Aircraft Type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143000"/>
          <a:ext cx="7848360" cy="4800600"/>
        </p:xfrm>
        <a:graphic>
          <a:graphicData uri="http://schemas.openxmlformats.org/drawingml/2006/table">
            <a:tbl>
              <a:tblPr/>
              <a:tblGrid>
                <a:gridCol w="1569960"/>
                <a:gridCol w="1568520"/>
                <a:gridCol w="1571400"/>
                <a:gridCol w="1568520"/>
                <a:gridCol w="156996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Y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k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7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F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F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624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Use of I4 By FIR and Operator/Aircraft Type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May to July 2011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use and ADS-C performance by FIR and GES desig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February to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May to Jul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July to Sept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use and ADS-C performance by FIR and aircraft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use and ADS-C performance by FIR and operator/aircraft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use and ADS-C performance by air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observe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PDLC charts due to low sample size of CPDLC message cou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24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Use of I4 By Airframe – FDX B77L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akland and Anchorage FIRs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 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Use of I4 By Airframe – SIA A345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akland and Anchorage FIRs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Use of I4 By FIR and GES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February to April 2011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May to July 2011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Use of I4 By Airframe – QFA A388 – Oakland FIR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February to April 2011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Use of I4 By Airframe – VIR A333 – New York FIR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February to April 2011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Summary of Observed I4 Performance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unique airframes observed using I4 between July to September 2011 with 11 different aircraft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 airframes observed using I4 between July to September 2011 with 8 different aircraft types 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akland F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 airframes observed using I4 between July to September 2011 with 4 different aircraft types 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horage F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 airframes observed using I4 between July to September 2011 with 8 different aircraft types 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York F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all I4 ADS-C message traffic observed through Inmarsat GES in Paumalu, H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8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all I4 ADS-C message traffic observed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K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all I4 ADS-C message traffic observed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of all I4 ADS-C message traffic is observed in Pacific Ocean Region (Oakland and Anchorag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all I4 ADS-C message traffic observed using SITA as data-link provi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all I4 ADS-C message traffic observed is FDX B77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ble difference in performance between Anchorage and Oakland by same airframes in aggregate July to September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f QFA A388 in Oakland dropped since Feb-Apr 2011 s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17520" y="76320"/>
          <a:ext cx="8394840" cy="59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76320"/>
                    <a:ext cx="83948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Inmarsat I4 GES Locations and Designator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499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cino, Ita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A: EUA1 (EM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NC: XXF (EM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malu, HI, 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A: APK1 (APAC), AME1 (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NC: XXH (APAC and 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Observed ADS-C Message Traffic on I4 GES by FIR</a:t>
            </a:r>
            <a:br>
              <a:rPr sz="2400"/>
            </a:b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July to September 2011</a:t>
            </a: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447920"/>
          <a:ext cx="8534160" cy="4114800"/>
        </p:xfrm>
        <a:graphic>
          <a:graphicData uri="http://schemas.openxmlformats.org/drawingml/2006/table">
            <a:tbl>
              <a:tblPr/>
              <a:tblGrid>
                <a:gridCol w="1288800"/>
                <a:gridCol w="1206720"/>
                <a:gridCol w="1208160"/>
                <a:gridCol w="1207800"/>
                <a:gridCol w="1208160"/>
                <a:gridCol w="1206720"/>
                <a:gridCol w="12078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cho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Y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k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>
                        <a:alpha val="50000"/>
                      </a:srgbClr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6102" r="0" b="6102"/>
          <a:stretch/>
        </p:blipFill>
        <p:spPr>
          <a:xfrm>
            <a:off x="152280" y="152280"/>
            <a:ext cx="8839440" cy="57247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5486400" y="4343400"/>
            <a:ext cx="837720" cy="992880"/>
            <a:chOff x="5486400" y="4343400"/>
            <a:chExt cx="837720" cy="992880"/>
          </a:xfrm>
        </p:grpSpPr>
        <p:grpSp>
          <p:nvGrpSpPr>
            <p:cNvPr id="102" name=""/>
            <p:cNvGrpSpPr/>
            <p:nvPr/>
          </p:nvGrpSpPr>
          <p:grpSpPr>
            <a:xfrm>
              <a:off x="5486400" y="4343400"/>
              <a:ext cx="837720" cy="307080"/>
              <a:chOff x="5486400" y="4343400"/>
              <a:chExt cx="837720" cy="307080"/>
            </a:xfrm>
          </p:grpSpPr>
          <p:sp>
            <p:nvSpPr>
              <p:cNvPr id="103" name=""/>
              <p:cNvSpPr/>
              <p:nvPr/>
            </p:nvSpPr>
            <p:spPr>
              <a:xfrm>
                <a:off x="5486400" y="434340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ME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71840" y="4419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486400" y="4572000"/>
              <a:ext cx="837720" cy="307080"/>
              <a:chOff x="5486400" y="4572000"/>
              <a:chExt cx="837720" cy="307080"/>
            </a:xfrm>
          </p:grpSpPr>
          <p:sp>
            <p:nvSpPr>
              <p:cNvPr id="106" name=""/>
              <p:cNvSpPr/>
              <p:nvPr/>
            </p:nvSpPr>
            <p:spPr>
              <a:xfrm>
                <a:off x="5486400" y="457200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K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71840" y="4648320"/>
                <a:ext cx="152280" cy="152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486400" y="4800600"/>
              <a:ext cx="837720" cy="307080"/>
              <a:chOff x="5486400" y="4800600"/>
              <a:chExt cx="837720" cy="307080"/>
            </a:xfrm>
          </p:grpSpPr>
          <p:sp>
            <p:nvSpPr>
              <p:cNvPr id="109" name=""/>
              <p:cNvSpPr/>
              <p:nvPr/>
            </p:nvSpPr>
            <p:spPr>
              <a:xfrm>
                <a:off x="5486400" y="480060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X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171840" y="4876920"/>
                <a:ext cx="152280" cy="15228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486400" y="5029200"/>
              <a:ext cx="837720" cy="307080"/>
              <a:chOff x="5486400" y="5029200"/>
              <a:chExt cx="837720" cy="307080"/>
            </a:xfrm>
          </p:grpSpPr>
          <p:sp>
            <p:nvSpPr>
              <p:cNvPr id="112" name=""/>
              <p:cNvSpPr/>
              <p:nvPr/>
            </p:nvSpPr>
            <p:spPr>
              <a:xfrm>
                <a:off x="5486400" y="502920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X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71840" y="51055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9:49:23Z</dcterms:created>
  <dc:creator>Theresa Brewer-Dougherty</dc:creator>
  <dc:description/>
  <dc:language>en-US</dc:language>
  <cp:lastModifiedBy>Air Traffic Organization</cp:lastModifiedBy>
  <dcterms:modified xsi:type="dcterms:W3CDTF">2011-10-25T18:10:25Z</dcterms:modified>
  <cp:revision>380</cp:revision>
  <dc:subject/>
  <dc:title>U.S. FOICA Performance</dc:title>
</cp:coreProperties>
</file>