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F90-D3E8-4C46-BE14-9F1EC0AC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B786-7034-434A-991D-31F6A3FF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C71-E707-43EB-8712-562B884D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D33-4FD3-4FB7-B240-786046E4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6F7-BA0F-420F-B487-EF7120D6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D719-D733-470F-9885-6C66C52D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190A-8BE2-4A2E-9405-685B3ECA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F7DB-5438-430F-AA61-830F9F57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1D47-6576-4747-B7E9-362281D2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DFC-4C6E-4451-A2F8-5BF55FD4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12A-BB5C-4A9D-84F0-647480BF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21A-DD94-4AC2-A135-0452C980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6250" t="14584" r="4688" b="9376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2481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FAA Central Reporting Agency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Chart </a:t>
            </a:r>
            <a:fld id="{02A0CC35-AF6A-4740-9E00-D0440F4C3B7B}" type="slidenum"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ked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340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CRA Report on Problem Report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PACG-35/FIT-2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pporo, Japa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vember 7-11, 2011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rdon Sandel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83B4-4114-4586-B74C-1E8B97D2B9C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R 1021, UNABLE TO SEND MSG Displayed to the Crew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767 crew reported UNABLE TO SEND MSG displayed, and no downlinks sen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view of message log shows this occurred just as VHF link los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ppears to be a repeat of FMC/CMU problem that has been reported at several FIT meeting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MC/CMU manufacturers aware of the issue, but unable to replicate it in lab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C5F4-ECE2-4BB1-B962-C6BD26E5A7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R 1028, CPDLC Downlink Message Not Received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777 airplane requested climb from Anchorag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TC reported clearance issued, and saw (via ADS) airplane climb to FL340, but never received WILCO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ogs show climb issued twice (7 minutes apart, different MIN), but only the second was responded to (and delivered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nclusion: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ome confusion due to duplicate uplink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rst uplink probably lost due to BPv14/v15 issue (same as PR 1029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DA4-5D2A-4CC6-B4EF-B9FD9F6660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R 1029, CPDLC Uplink Message Not Received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nchorage sent uplink to B777 that received MAS, but flight crew indicated it was not receive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ogs show a free text CONTACT message that received no response at the time in ques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ems to be one of the BPv14/v15 issues that caused uplinks to fail the CRC check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xed in BPv15A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7ED-866E-44A5-BBD6-CEEA2720CA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Reports From Other Regions (1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1030, No optional latitude longitude and airway to airway join in route reques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ssue with B777 airplan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oute downlinks should add a lat/long to any fix that has duplicates in the database (avoids ambiguity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oute downlinks should identify the fix at which route transitions from one airway to anothe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777 doesn’t do eithe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ndidate for future fix, but at present this is for info only, so that ATC is aware of these limita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D26-AD9F-4494-9C5F-5A5EE99DA7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Reports From Other Regions (2)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AT CNSG/5 (Sept 2011 in Bod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ø, Norway) occurred since IPACG/34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DLMA (Data Link Monitoring Agency) report provided for info only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Not presented!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4FF-950B-46A2-9C16-A9922BD50E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2720" y="682560"/>
            <a:ext cx="7340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Questions?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D74-F089-47E7-8389-3FA299AB38E5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Problem Report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w IPACG Problem Repor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oblems Reported/Processed Since FIT-21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ports From Other Region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CF8-2789-4D87-8AD6-8378353111E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1800" y="67320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New IPACG Problem Report Summary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34076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7 Problem Reports generated for issues in NOPAC/CEPAC/CENPAC region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going discussions with CRASA-J to assist in PR resolu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0B7-A00F-4F22-ADFD-10F7D1F35BE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New IPACG Problem Report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1676520"/>
          <a:ext cx="7619760" cy="4395600"/>
        </p:xfrm>
        <a:graphic>
          <a:graphicData uri="http://schemas.openxmlformats.org/drawingml/2006/table">
            <a:tbl>
              <a:tblPr/>
              <a:tblGrid>
                <a:gridCol w="685800"/>
                <a:gridCol w="2514600"/>
                <a:gridCol w="998280"/>
                <a:gridCol w="887400"/>
                <a:gridCol w="933480"/>
                <a:gridCol w="16002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, Gnd or 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PDLC and ADS-C reports not received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 SEND prompt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llegal Airway Name in DARP Trial Uplink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atalink outage with One Fl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irline would not release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UNABLE TO SEND MSG Displayed to the Cr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PDLC Downlink Message Not Recei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PDLC Uplink Message Not Recei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C87-AC53-4FFE-A78F-0F995293BD7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R 954, CPDLC and ADS-C reports not received 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777 airplane successfully logged on, but position report stayed in SENDING stat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og shows 6 ADS contract request uplinks and two CPDLC position report uplink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AS received (network ack) but no application respons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rew reported performing master rese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cond successful logon about 25 minutes later, and normal opera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ppears to be a result of the router lock-up issue in software releases BPv14 and BPv15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xed in BPv15A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51E2-5040-4999-B139-C55996D2A8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3333cc"/>
                </a:solidFill>
                <a:latin typeface="Arial"/>
              </a:rPr>
              <a:t>PR 955, No SEND prompt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767 crew reported not getting SEND prompt on ATC page(s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og shows MSNs resetting to zero just before the crew report, followed by media advisories for establishment of SATCOM and HFD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ppears that CMU went through a rese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 link, so no SEND promp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DS/CPDLC connections unaffected by thi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CFD-AF82-4CAE-B387-74876B6A51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R 964, Illegal Airway Name in DARP Trial Uplink (1)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irline performing “DARP Trial”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rew sent ATC route request to Oakland using free tex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ceived INVALID ATC UPLINK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224160" cy="3076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05520" y="2992320"/>
            <a:ext cx="3124080" cy="3035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48320" y="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ceived INVALID ATC UP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8DF-C398-4870-B41A-97E8BE16E1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R 964, Illegal Airway Name in DARP Trial Uplink (2)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oute uplink contained airways with illegal characters where “DCT” appeared in downlink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akland looking into the uplink encoding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ain issue is DARP procedur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 company uplink (maybe just for trial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Use of free text for reques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OLD procedure for DARP is for airline to send route, and flight crew to use ROUTE REQUEST pag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1523880"/>
            <a:ext cx="4114800" cy="465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C DL Uplink Message AT1 - OAKODYA - .JA701J - CRC is va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9,,06:34: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0(83) : At [pos] Cleared [routecl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pos(l/l): N25 0.0 W170 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dest airport(): RJ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route info():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l/l): N25 0.0 W170 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l/l): N28 0.0 W180 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l/l): N30 0.0 E170 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l/l): N32 0.0 E160 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l/l): N33 0.0 E150 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pub): MO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airway): OTR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pub): SM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airway): OTR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pub): SUN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airway)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[4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pub): SH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airway): G2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pub): CHE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airway): Y8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pub): ADD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airway)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[4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pub): H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73AA-8CD3-47E4-A706-0C2B246701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R 996, Datalink outage with One Flight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nchorage reported loss of CPDLC and ADS contact with a flight for 30+ minut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irline refused permission for CRA access to the log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ED4-88FA-440E-B274-B8355B1D48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19:55:42Z</dcterms:created>
  <dc:creator>Suzie ness</dc:creator>
  <dc:description/>
  <dc:language>en-US</dc:language>
  <cp:lastModifiedBy>Gordon Sandell</cp:lastModifiedBy>
  <dcterms:modified xsi:type="dcterms:W3CDTF">2011-10-07T14:07:23Z</dcterms:modified>
  <cp:revision>231</cp:revision>
  <dc:subject/>
  <dc:title>CRA PR report</dc:title>
</cp:coreProperties>
</file>