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2F9BB-1102-4AA0-B859-12EB623E2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8A6AA-17DC-4733-864E-84DFCF0CA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04D52-DE13-47B9-903F-7882EEF68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4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6BF93-172D-46BD-BEFA-989532CEE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6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6B509-2605-4F5B-BA5D-B6BCBC7DE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6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8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83D09-10C4-494C-BB20-DBF1C4F32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1999B-9CAE-4690-8565-54F46218F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AF971-920A-4CB6-9BB6-0755D4144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CAC6D-6725-4280-8D9C-3C3A62D78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FFAF-4802-4627-8FCE-86FBCEF2D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086E-7431-4928-9232-0ACC79EFC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969E-0E36-4F6E-906D-441C62810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Click to edit the title text format</a:t>
            </a:r>
            <a:endParaRPr b="1" lang="en-US" sz="24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031C-F3B2-4CB8-85F3-BE10CABB8D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AB2E-A2CB-4660-AA78-126DD42FF8CF}"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5708520" y="6124680"/>
            <a:ext cx="2047680" cy="662040"/>
            <a:chOff x="5708520" y="6124680"/>
            <a:chExt cx="2047680" cy="662040"/>
          </a:xfrm>
        </p:grpSpPr>
        <p:pic>
          <p:nvPicPr>
            <p:cNvPr id="8" name="" descr=""/>
            <p:cNvPicPr/>
            <p:nvPr/>
          </p:nvPicPr>
          <p:blipFill>
            <a:blip r:embed="rId2"/>
            <a:srcRect l="14334" t="3733" r="14975" b="4562"/>
            <a:stretch/>
          </p:blipFill>
          <p:spPr>
            <a:xfrm>
              <a:off x="5708520" y="6124680"/>
              <a:ext cx="660600" cy="662040"/>
            </a:xfrm>
            <a:prstGeom prst="rect">
              <a:avLst/>
            </a:prstGeom>
            <a:ln w="0">
              <a:noFill/>
            </a:ln>
          </p:spPr>
        </p:pic>
        <p:sp>
          <p:nvSpPr>
            <p:cNvPr id="9"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10" name=""/>
          <p:cNvSpPr/>
          <p:nvPr/>
        </p:nvSpPr>
        <p:spPr>
          <a:xfrm>
            <a:off x="449280" y="6205680"/>
            <a:ext cx="4784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IPACG-35 FIT-22 IP/2 Attachment A</a:t>
            </a:r>
            <a:br>
              <a:rPr sz="1200"/>
            </a:br>
            <a:r>
              <a:rPr b="0" lang="en-US" sz="1200" spc="-1" strike="noStrike">
                <a:solidFill>
                  <a:srgbClr val="c0c0c0"/>
                </a:solidFill>
                <a:latin typeface="Arial"/>
              </a:rPr>
              <a:t>8 Nov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5591160" y="0"/>
            <a:ext cx="3552840" cy="6858000"/>
          </a:xfrm>
          <a:prstGeom prst="rect">
            <a:avLst/>
          </a:prstGeom>
          <a:ln w="0">
            <a:noFill/>
          </a:ln>
        </p:spPr>
      </p:pic>
      <p:sp>
        <p:nvSpPr>
          <p:cNvPr id="4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grpSp>
        <p:nvGrpSpPr>
          <p:cNvPr id="49" name=""/>
          <p:cNvGrpSpPr/>
          <p:nvPr/>
        </p:nvGrpSpPr>
        <p:grpSpPr>
          <a:xfrm>
            <a:off x="5873760" y="270000"/>
            <a:ext cx="2894040" cy="911160"/>
            <a:chOff x="5873760" y="270000"/>
            <a:chExt cx="2894040" cy="911160"/>
          </a:xfrm>
        </p:grpSpPr>
        <p:pic>
          <p:nvPicPr>
            <p:cNvPr id="50" name="" descr=""/>
            <p:cNvPicPr/>
            <p:nvPr/>
          </p:nvPicPr>
          <p:blipFill>
            <a:blip r:embed="rId3"/>
            <a:srcRect l="14334" t="3733" r="14975" b="4562"/>
            <a:stretch/>
          </p:blipFill>
          <p:spPr>
            <a:xfrm>
              <a:off x="5873760" y="270000"/>
              <a:ext cx="909720" cy="911160"/>
            </a:xfrm>
            <a:prstGeom prst="rect">
              <a:avLst/>
            </a:prstGeom>
            <a:ln w="0">
              <a:noFill/>
            </a:ln>
          </p:spPr>
        </p:pic>
        <p:sp>
          <p:nvSpPr>
            <p:cNvPr id="51"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lick to edit the outline text format</a:t>
            </a:r>
            <a:endParaRPr b="1" lang="en-US" sz="2400" spc="-1" strike="noStrike">
              <a:solidFill>
                <a:srgbClr val="80808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160"/>
            <a:ext cx="449568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PDLC and ADS-C</a:t>
            </a:r>
            <a:br>
              <a:rPr sz="2400"/>
            </a:br>
            <a:r>
              <a:rPr b="1" lang="en-AU" sz="2400" spc="-1" strike="noStrike">
                <a:solidFill>
                  <a:srgbClr val="ffffff"/>
                </a:solidFill>
                <a:latin typeface="Arial"/>
              </a:rPr>
              <a:t>Performance Monitoring For FANS 1/A Over Iridium (FOI)</a:t>
            </a:r>
            <a:r>
              <a:rPr b="1" lang="en-AU" sz="1800" spc="-1" strike="noStrike">
                <a:solidFill>
                  <a:srgbClr val="ffffff"/>
                </a:solidFill>
                <a:latin typeface="Arial"/>
              </a:rPr>
              <a:t> </a:t>
            </a:r>
            <a:endParaRPr b="1" lang="en-US" sz="1800" spc="-1" strike="noStrike">
              <a:solidFill>
                <a:srgbClr val="ffffff"/>
              </a:solidFill>
              <a:latin typeface="Arial"/>
            </a:endParaRPr>
          </a:p>
        </p:txBody>
      </p:sp>
      <p:sp>
        <p:nvSpPr>
          <p:cNvPr id="90" name="PlaceHolder 2"/>
          <p:cNvSpPr>
            <a:spLocks noGrp="1"/>
          </p:cNvSpPr>
          <p:nvPr>
            <p:ph type="subTitle"/>
          </p:nvPr>
        </p:nvSpPr>
        <p:spPr>
          <a:xfrm>
            <a:off x="380880" y="5105520"/>
            <a:ext cx="5181840" cy="12189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PACG-35 FIT-22 IP/2</a:t>
            </a:r>
            <a:br>
              <a:rPr sz="2400"/>
            </a:br>
            <a:r>
              <a:rPr b="1" lang="en-US" sz="2400" spc="-1" strike="noStrike">
                <a:solidFill>
                  <a:srgbClr val="808080"/>
                </a:solidFill>
                <a:latin typeface="Arial"/>
              </a:rPr>
              <a:t>Attachment A</a:t>
            </a:r>
            <a:endParaRPr b="1" lang="en-US" sz="2400" spc="-1" strike="noStrike">
              <a:solidFill>
                <a:srgbClr val="80808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8 November 2011</a:t>
            </a:r>
            <a:endParaRPr b="1"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Iridium in Oakland FIR – IGW1 vs. IG1</a:t>
            </a:r>
            <a:endParaRPr b="1" lang="en-US" sz="2400" spc="-1" strike="noStrike">
              <a:solidFill>
                <a:srgbClr val="1d2f68"/>
              </a:solidFill>
              <a:latin typeface="Arial"/>
            </a:endParaRPr>
          </a:p>
        </p:txBody>
      </p:sp>
      <p:sp>
        <p:nvSpPr>
          <p:cNvPr id="10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dium datalink service – provider GES designator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W1: Si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1: ARIN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bserved usage of IG1 in July 2011</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E - B73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 ADS-C messages observed over 4 days in July 2011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2 ADS-C messages observed in August 2011</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L observed switching from Sita to ARINC in September shifting majority of Oakland Iridium message traffic to IG1</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ontents</a:t>
            </a:r>
            <a:endParaRPr b="1" lang="en-US" sz="3200" spc="-1" strike="noStrike">
              <a:solidFill>
                <a:srgbClr val="1d2f68"/>
              </a:solidFill>
              <a:latin typeface="Arial"/>
            </a:endParaRPr>
          </a:p>
        </p:txBody>
      </p:sp>
      <p:sp>
        <p:nvSpPr>
          <p:cNvPr id="92" name="PlaceHolder 2"/>
          <p:cNvSpPr>
            <a:spLocks noGrp="1"/>
          </p:cNvSpPr>
          <p:nvPr>
            <p:ph/>
          </p:nvPr>
        </p:nvSpPr>
        <p:spPr>
          <a:xfrm>
            <a:off x="380880" y="609120"/>
            <a:ext cx="8560080" cy="5410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Reported Iridium Service Outages/Degradations – 2011</a:t>
            </a: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d Performance for Fans Over Iridium (FOI)</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P240 Performance Specifications for CPDL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P180 Performance Specifications for ADS-C</a:t>
            </a: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C Latency Analysis by Month – April to September 2011</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kland, Anchorage and New York FIR</a:t>
            </a: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IGW1 (FOI via Sita) and IG1 (FOI via ARINC)</a:t>
            </a: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Iridium by FIR – Aggregate July to September 2011</a:t>
            </a: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DS-C Latency Analysis by Operator and FIR – Aggregate July to September 2011</a:t>
            </a: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C Chart By Airframe – November to April 2011</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N CLX B744</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Y CLX B744</a:t>
            </a: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Observed Performa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Summary of Observed FOI Performance</a:t>
            </a:r>
            <a:endParaRPr b="1" lang="en-US" sz="2400" spc="-1" strike="noStrike">
              <a:solidFill>
                <a:srgbClr val="1d2f68"/>
              </a:solidFill>
              <a:latin typeface="Arial"/>
            </a:endParaRPr>
          </a:p>
        </p:txBody>
      </p:sp>
      <p:sp>
        <p:nvSpPr>
          <p:cNvPr id="119" name="PlaceHolder 2"/>
          <p:cNvSpPr>
            <a:spLocks noGrp="1"/>
          </p:cNvSpPr>
          <p:nvPr>
            <p:ph/>
          </p:nvPr>
        </p:nvSpPr>
        <p:spPr>
          <a:xfrm>
            <a:off x="228600" y="990720"/>
            <a:ext cx="86868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criteria for RSP180 ADS-C was met in all of the past 6 months in Oakland FIR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criteria for RSP180 ADS-C was met in 2 of the past 6 months in Anchorage FIR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criteria for RSP180 ADS-C has been met in New York FIR in one of the past 6 months – May 2011</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L B763 in ZAK meets 95% criteria for RCP240 ACP and ACTP and RSP180 ADS-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ut of 7 FIR/Oper/ACT combinations using FOI meet 95% criteria for RSP180 ADS-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X B744 fleets show variability in ADS-C performance between Anchorage and New York FIR for same airframes</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ote</a:t>
            </a:r>
            <a:r>
              <a:rPr b="0" lang="en-US" sz="1600" spc="-1" strike="noStrike">
                <a:solidFill>
                  <a:srgbClr val="000000"/>
                </a:solidFill>
                <a:latin typeface="Arial"/>
              </a:rPr>
              <a:t>: small message counts increase variability</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1 first observed in July 2011 – shift in ADS-C latency distribution to the right of that of IGW1 in July 2011 but not in September 2011</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L switched to ARINC for FOI (IG1) in September 2011 with noticeable impact on ZAK IGW1 performance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5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Summary of Reported Iridium Service Outages/Degradations - 2011</a:t>
            </a:r>
            <a:endParaRPr b="1" lang="en-US" sz="2000" spc="-1" strike="noStrike">
              <a:solidFill>
                <a:srgbClr val="1d2f68"/>
              </a:solidFill>
              <a:latin typeface="Arial"/>
            </a:endParaRPr>
          </a:p>
        </p:txBody>
      </p:sp>
      <p:graphicFrame>
        <p:nvGraphicFramePr>
          <p:cNvPr id="94" name=""/>
          <p:cNvGraphicFramePr/>
          <p:nvPr/>
        </p:nvGraphicFramePr>
        <p:xfrm>
          <a:off x="533520" y="1371600"/>
          <a:ext cx="8127720" cy="3556080"/>
        </p:xfrm>
        <a:graphic>
          <a:graphicData uri="http://schemas.openxmlformats.org/drawingml/2006/table">
            <a:tbl>
              <a:tblPr/>
              <a:tblGrid>
                <a:gridCol w="1066680"/>
                <a:gridCol w="1066680"/>
                <a:gridCol w="1067040"/>
                <a:gridCol w="4927320"/>
              </a:tblGrid>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ime (U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tion (hh:mm:s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Feb-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8: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dium's SBD service was unavailabl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Mar-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 Burst Data Systems experienced an unexpected anomaly, SBD messaging may have been delayed and users may have received duplicate messages during this 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ay-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9: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ustomers utilizing SBD Direct IP for Mobile Terminated messages may have seen messages queued due difficulties connecting with the Iridium server. No messages were lost or service outage experienced; only the possibility of Direct IP Mobile Terminated messages being queued and some difficulty connecting to the Iridium SBD DIP MT serv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Jul-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severe thunderstorms which occurred in the vicinity of the Tempe Gateway, customers may have experienced dropped calls and the inability to place or receive calls. Telephony, Paging, SMS messaging, and all Data services may have been affected until the weather anomaly passed. Iridium OpenPort service not affect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5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Summary of Reported Iridium Service Outages/Degradations - 2011</a:t>
            </a:r>
            <a:endParaRPr b="1" lang="en-US" sz="2000" spc="-1" strike="noStrike">
              <a:solidFill>
                <a:srgbClr val="1d2f68"/>
              </a:solidFill>
              <a:latin typeface="Arial"/>
            </a:endParaRPr>
          </a:p>
        </p:txBody>
      </p:sp>
      <p:graphicFrame>
        <p:nvGraphicFramePr>
          <p:cNvPr id="96" name=""/>
          <p:cNvGraphicFramePr/>
          <p:nvPr/>
        </p:nvGraphicFramePr>
        <p:xfrm>
          <a:off x="685800" y="1371600"/>
          <a:ext cx="7924680" cy="4103640"/>
        </p:xfrm>
        <a:graphic>
          <a:graphicData uri="http://schemas.openxmlformats.org/drawingml/2006/table">
            <a:tbl>
              <a:tblPr/>
              <a:tblGrid>
                <a:gridCol w="1066680"/>
                <a:gridCol w="982800"/>
                <a:gridCol w="1147680"/>
                <a:gridCol w="4727520"/>
              </a:tblGrid>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ime (U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tion (hh:mm:s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824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ug-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7: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3: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understorms in the vicinity of Tempe Gateway, customers may experience dropped calls and the inability to place or receive calls.Telephony and data serviced may be affected until weather anomaly has pass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Sep-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D Email MT users may have seen intermittent communications issue with Iridium email servers during this timeframe. All messages that were queued were s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Sep-2011</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1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dium Datalink ACARS service is now back to normal.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cause for the anomaly is still under investig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Sep-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me frame some customers may have experienced service degradation. All services at this time are back to normal op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Sep-20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5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severe thunderstorms in the vicinity of the Tempe Gateway, customers may experience dropped calls and the inability to place or receive calls. Telephony, Paging, SMS messaging, and all Data services may be affected until the weather anomaly has passed.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dium OpenPort service is not affect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28760" y="344520"/>
            <a:ext cx="8472240" cy="555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9:49:23Z</dcterms:created>
  <dc:creator>martinl</dc:creator>
  <dc:description/>
  <dc:language>en-US</dc:language>
  <cp:lastModifiedBy>Air Traffic Organization</cp:lastModifiedBy>
  <dcterms:modified xsi:type="dcterms:W3CDTF">2011-10-26T22:07:35Z</dcterms:modified>
  <cp:revision>400</cp:revision>
  <dc:subject/>
  <dc:title>Daily Operations in OC3 and ZOA</dc:title>
</cp:coreProperties>
</file>