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948488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469F1-F1F9-4E05-B3E4-F3C21849E0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60160" y="584280"/>
            <a:ext cx="724068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6840" y="1955880"/>
            <a:ext cx="679140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56840" y="3992760"/>
            <a:ext cx="679140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FAD67-157E-49FA-9AF4-AD3A2D4FFF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60160" y="584280"/>
            <a:ext cx="724068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56840" y="1955880"/>
            <a:ext cx="331416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955880"/>
            <a:ext cx="331416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56840" y="3992760"/>
            <a:ext cx="331416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992760"/>
            <a:ext cx="331416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C203C-45C7-487D-B327-826E0A13FA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60160" y="584280"/>
            <a:ext cx="724068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56840" y="1955880"/>
            <a:ext cx="218664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53280" y="1955880"/>
            <a:ext cx="218664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9720" y="1955880"/>
            <a:ext cx="218664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56840" y="3992760"/>
            <a:ext cx="218664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53280" y="3992760"/>
            <a:ext cx="218664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9720" y="3992760"/>
            <a:ext cx="218664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07846-0A64-4056-B3AC-F6E9941AAB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60160" y="584280"/>
            <a:ext cx="724068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56840" y="1955880"/>
            <a:ext cx="6791400" cy="389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Aft>
                <a:spcPts val="1089"/>
              </a:spcAft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1" i="1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60160" y="584280"/>
            <a:ext cx="724068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6840" y="1955880"/>
            <a:ext cx="6791400" cy="389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60160" y="584280"/>
            <a:ext cx="724068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56840" y="1955880"/>
            <a:ext cx="3314160" cy="389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6960" y="1955880"/>
            <a:ext cx="3314160" cy="389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60160" y="584280"/>
            <a:ext cx="724068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460160" y="584280"/>
            <a:ext cx="72406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Aft>
                <a:spcPts val="1089"/>
              </a:spcAft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1" i="1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60160" y="584280"/>
            <a:ext cx="724068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56840" y="1955880"/>
            <a:ext cx="331416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6960" y="1955880"/>
            <a:ext cx="3314160" cy="389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356840" y="3992760"/>
            <a:ext cx="331416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60160" y="584280"/>
            <a:ext cx="724068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56840" y="1955880"/>
            <a:ext cx="6791400" cy="389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Aft>
                <a:spcPts val="1089"/>
              </a:spcAft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1" i="1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E4CCB-3F6E-4349-90EF-87B9A5BBDD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60160" y="584280"/>
            <a:ext cx="724068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56840" y="1955880"/>
            <a:ext cx="3314160" cy="389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6960" y="1955880"/>
            <a:ext cx="331416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6960" y="3992760"/>
            <a:ext cx="331416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60160" y="584280"/>
            <a:ext cx="724068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56840" y="1955880"/>
            <a:ext cx="331416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6960" y="1955880"/>
            <a:ext cx="331416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56840" y="3992760"/>
            <a:ext cx="679140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60160" y="584280"/>
            <a:ext cx="724068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56840" y="1955880"/>
            <a:ext cx="679140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356840" y="3992760"/>
            <a:ext cx="679140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60160" y="584280"/>
            <a:ext cx="724068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56840" y="1955880"/>
            <a:ext cx="331416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6960" y="1955880"/>
            <a:ext cx="331416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56840" y="3992760"/>
            <a:ext cx="331416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6960" y="3992760"/>
            <a:ext cx="331416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60160" y="584280"/>
            <a:ext cx="724068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56840" y="1955880"/>
            <a:ext cx="218664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53280" y="1955880"/>
            <a:ext cx="218664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9720" y="1955880"/>
            <a:ext cx="218664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356840" y="3992760"/>
            <a:ext cx="218664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53280" y="3992760"/>
            <a:ext cx="218664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9720" y="3992760"/>
            <a:ext cx="218664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60160" y="584280"/>
            <a:ext cx="724068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56840" y="1955880"/>
            <a:ext cx="6791400" cy="389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553EC-E672-413D-BF1C-9475BC0A7D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60160" y="584280"/>
            <a:ext cx="724068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56840" y="1955880"/>
            <a:ext cx="3314160" cy="389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955880"/>
            <a:ext cx="3314160" cy="389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8C6EB-C6CB-4BA0-9BC9-7136C269F2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60160" y="584280"/>
            <a:ext cx="724068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002AE-6AAA-48D1-8054-68FCE08C87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60160" y="584280"/>
            <a:ext cx="72406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Aft>
                <a:spcPts val="1089"/>
              </a:spcAft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1" i="1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7AAE8-F42D-4796-AFCA-3A485D86C5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60160" y="584280"/>
            <a:ext cx="724068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56840" y="1955880"/>
            <a:ext cx="331416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955880"/>
            <a:ext cx="3314160" cy="389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56840" y="3992760"/>
            <a:ext cx="331416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24B1E-8834-46FA-875E-481D214748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60160" y="584280"/>
            <a:ext cx="724068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56840" y="1955880"/>
            <a:ext cx="3314160" cy="389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955880"/>
            <a:ext cx="331416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992760"/>
            <a:ext cx="331416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E1925-0973-4969-92C5-F390610D55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60160" y="584280"/>
            <a:ext cx="724068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56840" y="1955880"/>
            <a:ext cx="331416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955880"/>
            <a:ext cx="331416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56840" y="3992760"/>
            <a:ext cx="679140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2B788-A0E7-4C7C-86C6-3B2636368E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204920" y="1087560"/>
            <a:ext cx="7640640" cy="0"/>
          </a:xfrm>
          <a:prstGeom prst="line">
            <a:avLst/>
          </a:prstGeom>
          <a:ln w="28440">
            <a:solidFill>
              <a:srgbClr val="c1db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60160" y="584280"/>
            <a:ext cx="7240680" cy="46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56840" y="1955880"/>
            <a:ext cx="6791400" cy="3899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98520" indent="-21744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20640" indent="-21096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846000" indent="-21096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»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»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»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148520" y="6642000"/>
            <a:ext cx="190512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9610C-885F-4970-AFAF-C21681FBD3DE}" type="slidenum"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97720"/>
            <a:ext cx="185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he Boeing Compan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204920" y="1087560"/>
            <a:ext cx="7640640" cy="0"/>
          </a:xfrm>
          <a:prstGeom prst="line">
            <a:avLst/>
          </a:prstGeom>
          <a:ln w="28440">
            <a:solidFill>
              <a:srgbClr val="c1db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71720" y="3631680"/>
            <a:ext cx="6975360" cy="119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Aft>
                <a:spcPts val="1089"/>
              </a:spcAft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1" i="1" lang="en-US" sz="29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i="1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181080" indent="0" algn="ctr">
              <a:lnSpc>
                <a:spcPct val="95000"/>
              </a:lnSpc>
              <a:spcAft>
                <a:spcPts val="825"/>
              </a:spcAft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409680" algn="ctr">
              <a:lnSpc>
                <a:spcPct val="95000"/>
              </a:lnSpc>
              <a:spcAft>
                <a:spcPts val="675"/>
              </a:spcAft>
              <a:buClr>
                <a:srgbClr val="c1dbe9"/>
              </a:buClr>
              <a:buFont typeface="Arial"/>
              <a:buChar char="–"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635040" algn="ctr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spacg-cra.com/" TargetMode="External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6800" y="3370320"/>
            <a:ext cx="8229600" cy="59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Arial"/>
              </a:rPr>
              <a:t>Problem Reports</a:t>
            </a:r>
            <a:endParaRPr b="1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92280" y="4341960"/>
            <a:ext cx="6121440" cy="192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 CNSG/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tember 26-30,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rdon Sand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Aft>
                <a:spcPts val="1089"/>
              </a:spcAft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1" i="1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Aft>
                <a:spcPts val="1089"/>
              </a:spcAft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1" i="1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Aft>
                <a:spcPts val="1089"/>
              </a:spcAft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1" i="1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60160" y="584280"/>
            <a:ext cx="7240680" cy="46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ew Problem Reports (Cont.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963720" y="1727280"/>
          <a:ext cx="7413480" cy="4305240"/>
        </p:xfrm>
        <a:graphic>
          <a:graphicData uri="http://schemas.openxmlformats.org/drawingml/2006/table">
            <a:tbl>
              <a:tblPr/>
              <a:tblGrid>
                <a:gridCol w="650880"/>
                <a:gridCol w="3170160"/>
                <a:gridCol w="868320"/>
                <a:gridCol w="272412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 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ir, Gnd, or Li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m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rroneous CLIMB clearanc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ND/ A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on: Airb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388 D-AIMF not able to log on to Gander Oceanic CZQX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on: Airb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CDA message to aircraft E/Bound at 30W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n-iss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pos reports via datalink while aircraft showed logged on normall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CL message lacking ACARS "envelope" formatting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ceanic Clearance and ATC Logon Problems with Gande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B9C1C-F1CE-40CD-87F3-EEB7EBC8238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60160" y="584280"/>
            <a:ext cx="7240680" cy="46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ew Problem Reports (Cont.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963720" y="1727280"/>
          <a:ext cx="7413480" cy="4275000"/>
        </p:xfrm>
        <a:graphic>
          <a:graphicData uri="http://schemas.openxmlformats.org/drawingml/2006/table">
            <a:tbl>
              <a:tblPr/>
              <a:tblGrid>
                <a:gridCol w="650880"/>
                <a:gridCol w="3170160"/>
                <a:gridCol w="868320"/>
                <a:gridCol w="272412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 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ir, Gnd, or Li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m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iled Logon Due to SATCOM Uplink Non-Deliver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able to Logon to EGGX (SATCOM IN PROG Displaye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IR/ LI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A0FD3-E22E-4BCE-A9F5-6116A13EEC3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60160" y="584280"/>
            <a:ext cx="7240680" cy="46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dividual Repor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6840" y="1955880"/>
            <a:ext cx="6791400" cy="16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D5D8D-08AB-4DE2-BD65-891810F455E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60160" y="584280"/>
            <a:ext cx="7240680" cy="46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931, Missed uplink messag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56840" y="1955520"/>
            <a:ext cx="6791400" cy="4136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w did not receive CONTACT message from Shanwick to contact Scottish Center at 0516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nect request (CR1) received at 0514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 service not received from Reykjavik until 0519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irplane sent "NOT CURRENT DATA AUTHORITY" to Shanwi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lusion: Shanwick was not the active center when it sent the upli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2C8CE-0291-4A06-BB60-769425DCE54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60160" y="117000"/>
            <a:ext cx="7240680" cy="93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938, Routine use of H.F. in CPDLC airspac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6840" y="1955880"/>
            <a:ext cx="6791400" cy="203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nwick repeatedly using HF for routine exchanges with CPDLC-equipped airpla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quent occur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n to Shanwick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0582C-B07E-4233-B48B-0A6F0B937DB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60160" y="584280"/>
            <a:ext cx="7240680" cy="46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939, ADS disconnec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56840" y="1955520"/>
            <a:ext cx="6791400" cy="171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ever New York sent ADS-C contract request, received “ADS disconnect – no reason specified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ently assigned to Airb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4DBF5-5E57-4A9C-B49D-E3A228FD87D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60160" y="117000"/>
            <a:ext cx="7240680" cy="93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940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ported ADS-C times grossly inaccurat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56840" y="1955520"/>
            <a:ext cx="6791400" cy="37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York received ADS-C reports indicating next waypoint would be passed at current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98520" indent="-217440">
              <a:lnSpc>
                <a:spcPct val="95000"/>
              </a:lnSpc>
              <a:spcAft>
                <a:spcPts val="825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vent, demand and periodic repor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98520" indent="-217440">
              <a:lnSpc>
                <a:spcPct val="95000"/>
              </a:lnSpc>
              <a:spcAft>
                <a:spcPts val="825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PDLC query got the correct answ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ently assigned to Airb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941 and PR942 are duplicate entries (website/database issu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7F0A3-AE7D-41A4-B48B-3EE82B94C291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60160" y="323640"/>
            <a:ext cx="7240680" cy="72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945, Uplink Clearance Msg received with no option Stdby or rejec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56840" y="1955520"/>
            <a:ext cx="6791400" cy="228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lot reported OCL message did not have STANDBY or REJECT op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not available options for an ARINC 623 OC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lot training iss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1E2CE-32AB-4207-BFD1-8054C9FC6F08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60160" y="584280"/>
            <a:ext cx="7240680" cy="46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947, Logon delay CZQX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6840" y="1955520"/>
            <a:ext cx="6791400" cy="78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log obtained, but appears to be the same as PR9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0F7B1-5401-4769-BC96-E8C843921F88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60160" y="117000"/>
            <a:ext cx="7240680" cy="93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948, Problems logging on to CZQX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56840" y="1955880"/>
            <a:ext cx="6791400" cy="194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irplane unable to logon to Gan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nder investigated and found issues with use of multiple addresses for OCL and F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ware fix installed to resolve these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C7986-709E-49B0-BC1A-66C6DD06B24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blem Repor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237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66680" indent="-166680">
              <a:lnSpc>
                <a:spcPct val="95000"/>
              </a:lnSpc>
              <a:spcBef>
                <a:spcPts val="1049"/>
              </a:spcBef>
              <a:spcAft>
                <a:spcPts val="1049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Problem Report Summ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1049"/>
              </a:spcBef>
              <a:spcAft>
                <a:spcPts val="1049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Problem Rep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98520" indent="-217440">
              <a:lnSpc>
                <a:spcPct val="95000"/>
              </a:lnSpc>
              <a:spcAft>
                <a:spcPts val="825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Problems Reported Since NAT CNSG/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1049"/>
              </a:spcBef>
              <a:spcAft>
                <a:spcPts val="1049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vidual Rep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FE7A1-2381-43DA-9EE6-BF1186A77E50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60160" y="117000"/>
            <a:ext cx="7240680" cy="93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950, No CPDLC connection with Gand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56840" y="1955520"/>
            <a:ext cx="6791400" cy="390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ights crossed into Gander airspace over PEPK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irplane attempted ATC logon before entry but no CPDLC conn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sue was with Gander adaptation that didn't detect conditions to initiate CPDLC conn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nder has now adjusted airspace boundaries in the system, so it will properly trigger CPDLC conn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DD68C-6F9F-4C6E-B7C4-2998F3A73BA4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60160" y="117000"/>
            <a:ext cx="7240680" cy="93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951, FMC WPR/ATS Crew Report of Missing ET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56840" y="1955520"/>
            <a:ext cx="6791400" cy="393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irplane (757) was using FMC WP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C reported that position report didn't include E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gs show position report omitted E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5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N51003W050001,N51000W050000,025845,370,N55000W040000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,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57000W030000,M48,31039,458,791/TS025845,010411D7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MC will do this if no computed ETA is available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27FD1-0B29-44C3-A442-A815B46EEF9E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60160" y="584280"/>
            <a:ext cx="7240680" cy="46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952, Unable to log 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56840" y="1955880"/>
            <a:ext cx="6791400" cy="286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irplane could not logon to Gan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son code 4 ("Could not match ID/position to flight plan"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ight plan filing process or ATC ground system iss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v Canada investiga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F76DA-89DA-4723-8B1C-27D5236677EB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60160" y="117000"/>
            <a:ext cx="7240680" cy="93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959, ADS-C reports contain INVALID dat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56840" y="1955520"/>
            <a:ext cx="6791400" cy="228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S-C reports received containing invalid default?) data for NEXT and NEXT+1 waypo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ort indicated most/all were Airbus airpla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ently assigned to Airb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1B7C5-2059-44A0-B999-54B9F2595E8C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60160" y="117000"/>
            <a:ext cx="7240680" cy="93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965, Unable to Logon to Shanwick - No Flight Pla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56840" y="1955880"/>
            <a:ext cx="6791400" cy="378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irplane could not logon to Shanwi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son code 4 ("Could not match ID/position to flight plan"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nwick did not receive flight plan (ACT from Santa Mari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FMU did not send FPL to Shanwick as Tel Aviv AIS did not address it to th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ight plans filed locally for security reas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755EB-0D9A-47E3-9DB5-A5593067A734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60160" y="117000"/>
            <a:ext cx="7240680" cy="93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966, DOWNLINK ERROR Due To Multiple CR1 Deliver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71040" y="1549440"/>
            <a:ext cx="8137800" cy="399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164880" indent="-16488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ew received DOWNLINK ERROR ind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4880" indent="-16488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irplane received connect request (CR1) uplink tw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94200" indent="-214920">
              <a:lnSpc>
                <a:spcPct val="85000"/>
              </a:lnSpc>
              <a:spcAft>
                <a:spcPts val="751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ce on VH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94200" indent="-214920">
              <a:lnSpc>
                <a:spcPct val="85000"/>
              </a:lnSpc>
              <a:spcAft>
                <a:spcPts val="751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ce on SATCOM (retr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4880" indent="-16488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irplane then sent two CC1 downlinks referencing the same uplink M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4880" indent="-16488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ander sent an ERROR response for the second, as the MIN was closed by the time that happen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4880" indent="-16488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nown issue that happens occasional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94200" indent="-214920">
              <a:lnSpc>
                <a:spcPct val="85000"/>
              </a:lnSpc>
              <a:spcAft>
                <a:spcPts val="751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have a means to avoid this for operational uplinks, but it would potentially preclude legitimate reconnects if applied to CR1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252E8-BFB9-44AD-BFB8-46A61AB18E3A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60160" y="117000"/>
            <a:ext cx="7240680" cy="93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967, FMC Messages Not Sent via SATCO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56840" y="1955880"/>
            <a:ext cx="6791400" cy="401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irplane was unable to transmit ATC (or FMC) messages over SAT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BLE TO SEND MSG display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ACARS messages 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a known FMC/CMU iss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eing and FMC/CMU manufacturers unable to replicate in l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ains an open iss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51CB6-BCB7-49A5-B8D5-B0412A9CAE4F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60160" y="584280"/>
            <a:ext cx="7240680" cy="46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968, Unable to Logon to Bod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56840" y="1955880"/>
            <a:ext cx="6791400" cy="159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irplane unable to logon to Bo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surprising, as Bodo doesn't have CPDL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w training iss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DD078-88A6-48EA-94CD-42FE9D1D8CAC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60160" y="35280"/>
            <a:ext cx="7240680" cy="101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969, Inoperative ADS Function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56840" y="1955880"/>
            <a:ext cx="6791400" cy="348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330 airplanes logon to B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98520" indent="-217440">
              <a:lnSpc>
                <a:spcPct val="95000"/>
              </a:lnSpc>
              <a:spcAft>
                <a:spcPts val="825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ceive CPDLC request and ADS-C contract request (including intent group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irplane disconnects CPDLC and ADS-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subsequent ADS-C requests are igno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so reported in PR85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irbus investiga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6B933-70F6-4F93-92AD-332B1DF6026A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60160" y="117000"/>
            <a:ext cx="7240680" cy="93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970, Wrong Format Oceanic Clearance From Gand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35120" y="1523880"/>
            <a:ext cx="7959600" cy="506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w complained that oceanic clearance had no ACCEPT but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irplane sent oceanic clearance request (ARINC 623 forma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nder sent oceanic clearance in ARINC 620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CRC, treated by airplane as airline free text uplink (hence no ACCEP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nder reported this was an issue with airplanes sending RCL before they received the flight estimate (CP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 has been correc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42CD4-C9A5-4FFB-8E8B-829ED468B503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61760" y="531720"/>
            <a:ext cx="6837480" cy="46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ew Problem Report Summar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45840" y="2009520"/>
            <a:ext cx="6413400" cy="2568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rth Atlantic Problem Reports gener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98520" indent="-217440">
              <a:lnSpc>
                <a:spcPct val="95000"/>
              </a:lnSpc>
              <a:spcAft>
                <a:spcPts val="825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cluding some duplicat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couraging use of ISPACG website and database for all problem repor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98520" indent="-217440">
              <a:lnSpc>
                <a:spcPct val="95000"/>
              </a:lnSpc>
              <a:spcAft>
                <a:spcPts val="825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ispacg-cra.com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C2828-0B6E-4F5A-B2F3-B6B927530D84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60160" y="117000"/>
            <a:ext cx="7240680" cy="93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971, Gander Failed to send Oceanic clearanc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56840" y="1955520"/>
            <a:ext cx="6791400" cy="263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w received "RCL RECEIVED GANDER CLEARANCE NOT ACKNOWLEDGED. SEND DATA LINK ACCEPTANCE NOW" but no OC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nder reported this was an issue because the flight plan went through 0 deg longitu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ware fix has been implemen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6F4D4-AD63-4D52-9603-C43279FC87E8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60160" y="117000"/>
            <a:ext cx="7240680" cy="93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972, Oceanic Clearance Not Displayed to Crew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56840" y="1955880"/>
            <a:ext cx="6791400" cy="194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w did not receive oceanic clea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ceanic clearance sent to and acked by airpl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irline working with CMU suppli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D45A4-679B-40BE-B1E9-ACC6C750E74F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60160" y="323640"/>
            <a:ext cx="7240680" cy="72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973, Unable to Establish CPDLC with Santa Maria Due to Misformatted Uplin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56840" y="1955520"/>
            <a:ext cx="6791400" cy="356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irplane unable to establish CPDLC with Santa Maria (LPP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DLC fine with Gander (CZQX) and Shanwick (EGGX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nta Maria sent connect request with the correct SMI (FMD), but without the IMI and supplementary address (/AA SMACAYA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nta Maria investiga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948FC-CBE6-42B4-B043-00CAA01EA9C0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60160" y="117000"/>
            <a:ext cx="7240680" cy="93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974, Oceanic Clearance Issues with Gand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56840" y="1955520"/>
            <a:ext cx="6791400" cy="4136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irplane requested OCL and got rej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n got clea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epted, then got "CLRNCE NOT ACKNOWLEDGED - SEND DATALINK ACCEPTANCE NOW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nder indicated a gateway failure at this time, which caused loss of some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ware fix implemented to resolve cause of gateway fail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092DA-4715-4747-B334-98C333F75BBB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60160" y="222120"/>
            <a:ext cx="7240680" cy="82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975, Unable to Logon to Santa Maria - Erroneous Message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56840" y="1955520"/>
            <a:ext cx="6791400" cy="321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irplane was unable to logon to Santa Maria (LPP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use similar to PR97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N ACK sent with correct SMI, but missing IMI and supplementary address (/A0 SMACAYA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nta Maria investiga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FD5F8-6897-48A8-80B9-63BED43A6685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60160" y="117000"/>
            <a:ext cx="7240680" cy="93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976, Missing ADS Waypoint Repor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56840" y="1955520"/>
            <a:ext cx="6791400" cy="228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ssing ADS-C position (waypoint change event) re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777 sent downlink containing 2 copies of the re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e as PR97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37C35-6C91-4414-9FEF-FC4F7BBDA186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60160" y="222120"/>
            <a:ext cx="7240680" cy="82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978, 777 Sent Duplicate Waypoint Change Event Reports in Downlin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47360" y="1587600"/>
            <a:ext cx="7769160" cy="436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nder reported missing ADS reports at 30W and 40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irplane actually sent waypoint change event reports at 30W and 40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orts to Gander contained two identical copies of the re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irplane was a B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orts to Shanwick for the same waypoints were 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nder discards reports with multiple  reports in th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041B5-565A-4438-9E01-FE754AE9DA53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60160" y="117000"/>
            <a:ext cx="7240680" cy="93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979, ATC Logon Ignored Then Rejecte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56840" y="1955880"/>
            <a:ext cx="6791400" cy="194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irplane tried to log on to Gander but was rejected (flight plan mismatc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er investigation by Gan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e event as PR9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E1157-7B7B-49A5-A045-85EA1AB0C33C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60160" y="117000"/>
            <a:ext cx="7240680" cy="93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980, No ACCEPT For Oceanic Clearanc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56840" y="1955520"/>
            <a:ext cx="679140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irplane received oceanic clearance without ACCEPT but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eat of PR98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E9075-1B19-4D8D-9B0B-516ECD56DD00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60160" y="117000"/>
            <a:ext cx="7240680" cy="93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981, Oceanic Clearance in Wrong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56840" y="1955880"/>
            <a:ext cx="6791400" cy="378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eived OCL without ACCEPT but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nder offers ARINC 620 and ARINC 623 OCL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irline has to define default, which is used when OCL sent before RCL is recei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particular issue solved by having airline defined as ARINC 62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ves an issue for airlines with mixed fle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C837F-B7BE-4303-A780-6F82218CF0F3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60160" y="584280"/>
            <a:ext cx="7240680" cy="46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ew Problem Repor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357200" y="1955880"/>
          <a:ext cx="6791400" cy="3186000"/>
        </p:xfrm>
        <a:graphic>
          <a:graphicData uri="http://schemas.openxmlformats.org/drawingml/2006/table">
            <a:tbl>
              <a:tblPr/>
              <a:tblGrid>
                <a:gridCol w="596880"/>
                <a:gridCol w="2818080"/>
                <a:gridCol w="1030320"/>
                <a:gridCol w="234612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66680" indent="-166680" algn="ctr">
                        <a:lnSpc>
                          <a:spcPct val="100000"/>
                        </a:lnSpc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 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66680" indent="-166680" algn="ctr">
                        <a:lnSpc>
                          <a:spcPct val="100000"/>
                        </a:lnSpc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66680" indent="-166680" algn="ctr">
                        <a:lnSpc>
                          <a:spcPct val="100000"/>
                        </a:lnSpc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ir, Gnd, or Li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66680" indent="-166680" algn="ctr">
                        <a:lnSpc>
                          <a:spcPct val="100000"/>
                        </a:lnSpc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m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66680" indent="-166680" algn="ctr">
                        <a:lnSpc>
                          <a:spcPct val="100000"/>
                        </a:lnSpc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ssed uplink message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66680" indent="-166680" algn="ctr">
                        <a:lnSpc>
                          <a:spcPct val="100000"/>
                        </a:lnSpc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66680" indent="-166680" algn="ctr">
                        <a:lnSpc>
                          <a:spcPct val="100000"/>
                        </a:lnSpc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utine use of H.F. in CPDLC airspace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66680" indent="-166680" algn="ctr">
                        <a:lnSpc>
                          <a:spcPct val="100000"/>
                        </a:lnSpc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or discu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on: Shanwi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66680" indent="-166680" algn="ctr">
                        <a:lnSpc>
                          <a:spcPct val="100000"/>
                        </a:lnSpc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DS disconnec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66680" indent="-166680" algn="ctr">
                        <a:lnSpc>
                          <a:spcPct val="100000"/>
                        </a:lnSpc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on: Airb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66680" indent="-166680" algn="ctr">
                        <a:lnSpc>
                          <a:spcPct val="100000"/>
                        </a:lnSpc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ported ADS-C times grossly inaccurat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66680" indent="-166680" algn="ctr">
                        <a:lnSpc>
                          <a:spcPct val="100000"/>
                        </a:lnSpc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on: Airb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66680" indent="-166680" algn="ctr">
                        <a:lnSpc>
                          <a:spcPct val="100000"/>
                        </a:lnSpc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ported ADS-C times grossly inaccurat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66680" indent="-166680" algn="ctr">
                        <a:lnSpc>
                          <a:spcPct val="100000"/>
                        </a:lnSpc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uplicate of PR9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66680" indent="-166680" algn="ctr">
                        <a:lnSpc>
                          <a:spcPct val="100000"/>
                        </a:lnSpc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ported ADS-C times grossly inaccurat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66680" indent="-166680" algn="ctr"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66680" indent="-166680"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plicate of PR9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00082-A05A-4220-8177-A874274F99DF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60160" y="117000"/>
            <a:ext cx="7240680" cy="93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982, Santa Maria Not Receiving FMC WP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56840" y="1955520"/>
            <a:ext cx="6791400" cy="228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nta Maria reported not receiving FMC waypoint reports (WP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g shows reports sent at W050, W040, W030 and W020 and forwarded to Santa M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nta Maria investiga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594A4-DB8C-4616-A030-098318CD1023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60160" y="222120"/>
            <a:ext cx="7240680" cy="82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983, 777 Sent ADS Report With 2 Waypoint Change Event Repor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56840" y="1955880"/>
            <a:ext cx="6791400" cy="2517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nder reported not receiving 30W ADS re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S report sent containing the same waypoint change event report tw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irplane was a B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e as PR 97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BC164-E915-47F8-A1AA-A1EEF100D015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60160" y="117000"/>
            <a:ext cx="7240680" cy="93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984, Unable to Logon to Gand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56840" y="1955880"/>
            <a:ext cx="6791400" cy="367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irplane reported unable to logon to Gan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nder established CPDLC as NEXT Cen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nwick sent end-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1 sent to Shanwick and Gander (crew turned ATC off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w logon to Gander, but no respon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nder investiga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F4CE7-357F-4FCC-980C-32257446DC4B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60160" y="117000"/>
            <a:ext cx="7240680" cy="93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985, 757 Sent Climb Request with Invalid Free Text Appende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56840" y="1955520"/>
            <a:ext cx="6791400" cy="321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57 Airplane sent altitude change requ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n had DOWNLINK ERROR displayed (Gander had responded with error uplin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was a repeat of an old problem (believed fixed), where the airplane appended a free text element with non-displayable charac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er investigation by Boeing and Honeyw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2591A-C0EB-4A83-8BA8-D14CF60911C9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60160" y="117000"/>
            <a:ext cx="7240680" cy="93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986, No Transfer to Santa Mari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56840" y="1955520"/>
            <a:ext cx="6791400" cy="228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transfer from New York to Santa M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other case of Santa Maria sending the uplinks in an improper format (correct SMI, but missing IMI and supplementary addres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sue for Santa M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240C6-B3DD-4A8E-884C-1E3A33D9628B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60160" y="222120"/>
            <a:ext cx="7240680" cy="82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987, Unable to Logon to EGGX (SATCOM IN PROG Displayed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45840" y="1689120"/>
            <a:ext cx="7985160" cy="432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w reported that after disconnect from Santa Maria, they could not  send logon to Gan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98520" indent="-217440">
              <a:lnSpc>
                <a:spcPct val="95000"/>
              </a:lnSpc>
              <a:spcAft>
                <a:spcPts val="825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ATCOM IN PROG displayed on the ACARS pag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ridium airplane (757) was sending ADS reports (event and periodic to 2 cente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98520" indent="-217440">
              <a:lnSpc>
                <a:spcPct val="95000"/>
              </a:lnSpc>
              <a:spcAft>
                <a:spcPts val="825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nd ADS report (first try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98520" indent="-217440">
              <a:lnSpc>
                <a:spcPct val="95000"/>
              </a:lnSpc>
              <a:spcAft>
                <a:spcPts val="825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3-minute wait and retry same ADS repor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98520" indent="-217440">
              <a:lnSpc>
                <a:spcPct val="95000"/>
              </a:lnSpc>
              <a:spcAft>
                <a:spcPts val="825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nd next ADS report and repeat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ms to be an issue with Iridium transceiver not seeing network ac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BFD80-49E4-43A3-8CCB-86E83FD98752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47920" y="344160"/>
            <a:ext cx="7240320" cy="41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988, Unable to Logon to Gand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09200" y="1498320"/>
            <a:ext cx="7845480" cy="368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irplane reported unable to logon to Gan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 AFN logons with a flight identifier having a zero in one of the first 3 characters (airline identifi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98520" indent="-217440">
              <a:lnSpc>
                <a:spcPct val="95000"/>
              </a:lnSpc>
              <a:spcAft>
                <a:spcPts val="825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ach received AFN ACK with reason code 4 (flight plan mismatch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FN logon had a letter “O” instead of the ze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98520" indent="-217440">
              <a:lnSpc>
                <a:spcPct val="95000"/>
              </a:lnSpc>
              <a:spcAft>
                <a:spcPts val="825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ucc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t this down to pilot finger trou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E5C3B-0965-4E57-B753-96B7B53BF1F2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60160" y="117000"/>
            <a:ext cx="7240680" cy="93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989, No Position Report at 20W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56840" y="1955880"/>
            <a:ext cx="6791400" cy="194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ircrew reported no position report sent at 20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ssage log shows ADS-C waypoint change event report sent and delivered to Shanwi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igned to Shanwick for investig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69DD7-011A-443B-BD36-FC7D41F45FA5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60160" y="117000"/>
            <a:ext cx="7240680" cy="93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990, Erroneous CLIMB clearanc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76040" y="1510920"/>
            <a:ext cx="8785440" cy="489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66680" indent="-166680">
              <a:lnSpc>
                <a:spcPct val="95000"/>
              </a:lnSpc>
              <a:spcBef>
                <a:spcPts val="751"/>
              </a:spcBef>
              <a:spcAft>
                <a:spcPts val="75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ew reported requesting climb, receiving STANDBY, then a non-standard uplink, then the climb clearance, then CANCEL CLIM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751"/>
              </a:spcBef>
              <a:spcAft>
                <a:spcPts val="75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C actually sen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98520" indent="-217440">
              <a:lnSpc>
                <a:spcPct val="95000"/>
              </a:lnSpc>
              <a:spcAft>
                <a:spcPts val="825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TANDB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98520" indent="-217440">
              <a:lnSpc>
                <a:spcPct val="95000"/>
              </a:lnSpc>
              <a:spcAft>
                <a:spcPts val="825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NABLE + free text “REQUESTED FLIGHT LEVEL STAND BY”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98520" indent="-217440">
              <a:lnSpc>
                <a:spcPct val="95000"/>
              </a:lnSpc>
              <a:spcAft>
                <a:spcPts val="825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ree text "MESSAGE SENT IN ERROR STAND BY FOR CLIMB CLEARANCE“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98520" indent="-217440">
              <a:lnSpc>
                <a:spcPct val="95000"/>
              </a:lnSpc>
              <a:spcAft>
                <a:spcPts val="825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mb clearan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751"/>
              </a:spcBef>
              <a:spcAft>
                <a:spcPts val="75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ew responded to climb clearance, but not free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751"/>
              </a:spcBef>
              <a:spcAft>
                <a:spcPts val="75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pears as if crew saw the climb clearance first (arrived 3 seconds after free tex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751"/>
              </a:spcBef>
              <a:spcAft>
                <a:spcPts val="75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irbus looking into th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8579C-8C77-45BF-9D67-20DC0C7EE84C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60160" y="117000"/>
            <a:ext cx="7240680" cy="93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998, A388 D-AIMF not able to log on to Gander Oceanic CZQX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56840" y="1955520"/>
            <a:ext cx="679140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irplane unable to logon to Gander, but logged on to Reykjavik and Shanwick fi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ently assigned to Airb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7DE37-50C0-4D1C-925A-DB3A30689B63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60160" y="584280"/>
            <a:ext cx="7240680" cy="46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ew Problem Reports (Cont.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874800" y="1650960"/>
          <a:ext cx="7451640" cy="4302000"/>
        </p:xfrm>
        <a:graphic>
          <a:graphicData uri="http://schemas.openxmlformats.org/drawingml/2006/table">
            <a:tbl>
              <a:tblPr/>
              <a:tblGrid>
                <a:gridCol w="655560"/>
                <a:gridCol w="3184560"/>
                <a:gridCol w="873000"/>
                <a:gridCol w="273852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 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ir, Gnd, or Li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m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plink Clearance Msg received with no option Stdby or rejec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ogon delay CZQX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lo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blems logging on to CZQX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o CPDLC connection with Gande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MC WPR/ATS Crew Report of Missing 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nable to log 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on: Gan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3607B-E5FF-44B9-BFCD-CC134A16B843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60160" y="117000"/>
            <a:ext cx="7240680" cy="93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1002, No CDA message to aircraft E/Bound at 30W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56840" y="1955880"/>
            <a:ext cx="6791400" cy="333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ort was that the airplane didn’t receive the CDA message on entering Shanwick, so logged off and logged back on ag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w actually responded ROGER to the welcome message, and there was no ATC comm termination or re-log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to presume the report was for the wrong flight/da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D3588-A1AD-4DF6-900F-20EC9E7BBFE3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60160" y="323640"/>
            <a:ext cx="7240680" cy="72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1003, No pos reports via datalink while aircraft showed logged on normall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56840" y="1955520"/>
            <a:ext cx="6791400" cy="377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nder reported not receiving ADS reports at W030 and W040 on westbound fl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98520" indent="-217440">
              <a:lnSpc>
                <a:spcPct val="95000"/>
              </a:lnSpc>
              <a:spcAft>
                <a:spcPts val="825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light crew logged off and on again between those tw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 was repeat of PR976, 978 and 98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98520" indent="-217440">
              <a:lnSpc>
                <a:spcPct val="95000"/>
              </a:lnSpc>
              <a:spcAft>
                <a:spcPts val="825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irplane sent one downlink containing two copies of the same waypoint change event repor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 under investigation by Boeing and Honeyw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71C93-FC04-4437-806C-C0208CEA9D2E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60160" y="117000"/>
            <a:ext cx="7240680" cy="93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1005, RCL message lacking ACARS "envelope" formatt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20280" y="1587600"/>
            <a:ext cx="7883640" cy="448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ykjavik received oceanic clearance request in near-ARINC 623 format from a B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98520" indent="-217440">
              <a:lnSpc>
                <a:spcPct val="95000"/>
              </a:lnSpc>
              <a:spcAft>
                <a:spcPts val="825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o CRC at the e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98520" indent="-217440">
              <a:lnSpc>
                <a:spcPct val="95000"/>
              </a:lnSpc>
              <a:spcAft>
                <a:spcPts val="825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o IMI at the start (OC1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t operator doesn’t have the ARINC 623 o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98520" indent="-217440">
              <a:lnSpc>
                <a:spcPct val="95000"/>
              </a:lnSpc>
              <a:spcAft>
                <a:spcPts val="825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quest sent was from a company applic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ld become an issue with mixed fleet 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ting conundrum for operators with mixed fleet keeping track of how to get OCLs in different FIRs with different equipage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E1554-C3F1-4BBA-81FD-4719187ED8AD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60160" y="222120"/>
            <a:ext cx="7240680" cy="82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1006, Oceanic Clearance and ATC Logon Problems with Gand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21800" y="1561680"/>
            <a:ext cx="7921800" cy="380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irplane unable to receive OCL from Gander, or to logon to Gan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98520" indent="-217440">
              <a:lnSpc>
                <a:spcPct val="95000"/>
              </a:lnSpc>
              <a:spcAft>
                <a:spcPts val="825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LIGHT PLAN NOT HELD response to OCL requ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98520" indent="-217440">
              <a:lnSpc>
                <a:spcPct val="95000"/>
              </a:lnSpc>
              <a:spcAft>
                <a:spcPts val="825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TC logon rejected with reason code 4 (flight plan mismatch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nder actually received the flight plan, but was unable to process it because of format error (additional data after closing bracke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irline working with service provider to avoid th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EF92C-6110-403B-B41F-484F37CE2A3B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60160" y="117000"/>
            <a:ext cx="7240680" cy="93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1007, Failed Logon Due to SATCOM Uplink Non-Deliver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56840" y="1955520"/>
            <a:ext cx="6791400" cy="4136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irplane unable to logon to Shanwi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 was with (non-)delivery of messages over SAT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irline has different providers for Inmarsat and Iridium-equipped airpla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TA used single default SATCOM provider for both fleets, so uplinks to Iridium airplanes were forwarded to ARINC and then rejec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 implemented to resolve this iss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8C88D-355F-4AE8-B645-09C504305277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28360" y="533520"/>
            <a:ext cx="6838920" cy="46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B6D53-4939-4DB9-9EDC-15F118204A09}" type="slidenum">
              <a:t>5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60160" y="584280"/>
            <a:ext cx="7240680" cy="46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ew Problem Reports (Cont.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925560" y="1600200"/>
          <a:ext cx="7489800" cy="4394160"/>
        </p:xfrm>
        <a:graphic>
          <a:graphicData uri="http://schemas.openxmlformats.org/drawingml/2006/table">
            <a:tbl>
              <a:tblPr/>
              <a:tblGrid>
                <a:gridCol w="658800"/>
                <a:gridCol w="3201840"/>
                <a:gridCol w="876240"/>
                <a:gridCol w="275292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 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ir, Gnd, or Li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m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DS-C reports contain INVALID dat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on: Airb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nable to Logon to Shanwick - No Flight Pla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OWNLINK ERROR Due To Multiple CR1 Delive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IR/ LI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MC Messages Not Sent via SATCO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nable to Logon to Bod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operative ADS Func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on: Airb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052E3-972F-4C94-BD67-8DC83570D37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60160" y="584280"/>
            <a:ext cx="7240680" cy="46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ew Problem Reports (Cont.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963720" y="1727280"/>
          <a:ext cx="7413480" cy="4441680"/>
        </p:xfrm>
        <a:graphic>
          <a:graphicData uri="http://schemas.openxmlformats.org/drawingml/2006/table">
            <a:tbl>
              <a:tblPr/>
              <a:tblGrid>
                <a:gridCol w="650880"/>
                <a:gridCol w="3170160"/>
                <a:gridCol w="868320"/>
                <a:gridCol w="272412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 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ir, Gnd, or Li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m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ong Format Oceanic Clearance From Gander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nder Failed to send Oceanic clearance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ceanic Clearance Not Displayed to Crew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able to Establish CPDLC with Santa Maria Due to Misformatted Uplink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on: Santa Ma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ceanic Clearance Issues with Gander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able to Logon to Santa Maria - Erroneous Message Format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on: Santa Ma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F60A4-7AD7-486D-9588-6F2ECEF55F5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60160" y="584280"/>
            <a:ext cx="7240680" cy="46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ew Problem Reports (Cont.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963720" y="1727280"/>
          <a:ext cx="7413480" cy="4275000"/>
        </p:xfrm>
        <a:graphic>
          <a:graphicData uri="http://schemas.openxmlformats.org/drawingml/2006/table">
            <a:tbl>
              <a:tblPr/>
              <a:tblGrid>
                <a:gridCol w="650880"/>
                <a:gridCol w="3170160"/>
                <a:gridCol w="868320"/>
                <a:gridCol w="272412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 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ir, Gnd, or Li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m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ssing ADS Waypoint Re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77 Sent Duplicate Waypoint Change Event Reports in Downlink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C Logon Ignored Then Rejecte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on: Gan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ACCEPT For Oceanic Clearanc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ceanic Clearance in Wrong Forma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nta Maria Not Receiving FMC WP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on: Santa Ma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2378E-D3F2-4D11-8D0C-4234A1C19E9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60160" y="584280"/>
            <a:ext cx="7240680" cy="46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ew Problem Reports (Cont.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963720" y="1727280"/>
          <a:ext cx="7413480" cy="4275000"/>
        </p:xfrm>
        <a:graphic>
          <a:graphicData uri="http://schemas.openxmlformats.org/drawingml/2006/table">
            <a:tbl>
              <a:tblPr/>
              <a:tblGrid>
                <a:gridCol w="650880"/>
                <a:gridCol w="3170160"/>
                <a:gridCol w="868320"/>
                <a:gridCol w="272412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 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ir, Gnd, or Li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m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77 Sent ADS Report With 2 Waypoint Change Event Repor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able to Logon to Gande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on: Gan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57 Sent Climb Request with Invalid Free Text Appende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Transfer to Santa Mari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on: Santa Ma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able to Logon to Gan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Position Report at 20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on: Shanwi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40979-8639-4927-B3F0-9634D52B98D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2T00:18:49Z</dcterms:created>
  <dc:creator>Dung Nguyen</dc:creator>
  <dc:description/>
  <dc:language>en-US</dc:language>
  <cp:lastModifiedBy>Gordon Sandell</cp:lastModifiedBy>
  <dcterms:modified xsi:type="dcterms:W3CDTF">2011-09-09T19:02:12Z</dcterms:modified>
  <cp:revision>6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