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wmf" ContentType="image/x-wmf"/>
  <Override PartName="/ppt/media/image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556CC3-CF63-4A5E-8870-8CA974B88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A is developing and deploying decision support tools to aid the air traffic controller.  DSTs have many functions such as probing for aircraft-aircraft and/or aircraft-airspace conflicts, safely and efficiently metering aircraft into airports, and providing advisors to air traffic management specialists that specific regions of airspace will reach capacity leve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 to all these DSTS is the trajectory modeler function which generates aircraft trajectory predictions.  An aircraft trajectory is the actual or prediction of the four-dimensional path of the aircraft.  Each DST has required levels of accuracy for its trajectory predictions based on its unique functions and cap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5398-EDD1-4649-A6E6-13F13E8E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855E-E345-4539-BC75-6F476A25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5AD-829F-42C4-83D9-0810EA6C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FDF-BBBD-4A8C-A4BE-112DFEF5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61F-A579-4AF9-BC56-A6AAD96C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781-BACC-40E7-A1FC-5310140B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AE8-06D9-4D63-BFBD-4C805B94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B73-1FA5-47B5-93B6-235D8C59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47E-DEC9-446B-B13D-781ED9ED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773-F69E-4C37-A6CE-536C66AF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69B-9709-4B4E-BDD2-47BF2827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B61-AD47-4989-80A0-4B1AFA23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006C-1BA4-4657-BF85-37F82E23F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5233-1313-47CC-A063-E743E524A0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449280" y="6205680"/>
            <a:ext cx="343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IPACG-35 FIT-22 IP/1 Attachment A</a:t>
            </a:r>
            <a:br>
              <a:rPr sz="1200"/>
            </a:b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8 November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0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4495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PDLC and ADS-C</a:t>
            </a:r>
            <a:br>
              <a:rPr sz="2800"/>
            </a:b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ata Link</a:t>
            </a:r>
            <a:br>
              <a:rPr sz="2800"/>
            </a:b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Performance Monitoring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0880" y="51055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IPACG-35 FIT-22 IP/1</a:t>
            </a:r>
            <a:br>
              <a:rPr sz="2400"/>
            </a:b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Attachment A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8 November 2011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GOLD Performance Criteria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295280"/>
          <a:ext cx="8202600" cy="4391280"/>
        </p:xfrm>
        <a:graphic>
          <a:graphicData uri="http://schemas.openxmlformats.org/drawingml/2006/table">
            <a:tbl>
              <a:tblPr/>
              <a:tblGrid>
                <a:gridCol w="1590840"/>
                <a:gridCol w="1458720"/>
                <a:gridCol w="1501920"/>
                <a:gridCol w="1501560"/>
                <a:gridCol w="1074960"/>
                <a:gridCol w="1074600"/>
              </a:tblGrid>
              <a:tr h="14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Mea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cent of Messages Required to Meet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SP180 Criteria (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SP400 Criteria (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CP240 Criteria (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CP400 Criteria (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417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S-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akland Monthly Performance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 April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of Inmarsat Reported Service Outages/Degrad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LD Analysis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DLC and ADS-C Monthly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kland, Anchorage, 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P240 and RSP180 for SAT, VH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P400 and RSP400 for H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f SAT Performance by F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by GES Design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kland, Anchorage, 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performance for Eik (XX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by Operat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, Oakland, Anch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/Aircraft Type Performance Comparison for Operat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Summary of Performance in ZAK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 and VHF meet 95% criteria for RCP240 ACP, ACTP and RSP180 ADS-C for the last 6 mon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F meets 95% criteria for RCP400 for ACTP in 3 of the last 6 mon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F meets 95% criteria for RCP400 for ACP in 2 of the last 6 mon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F does not meet 95% criteria for RSP400 for ADS-C in any of the last 6 mon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Anchorage Monthly Performance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April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Summary of Inmarsat Reported Service Outages/Degradations 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2010 to Present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41200" y="1015920"/>
          <a:ext cx="8686800" cy="4968720"/>
        </p:xfrm>
        <a:graphic>
          <a:graphicData uri="http://schemas.openxmlformats.org/drawingml/2006/table">
            <a:tbl>
              <a:tblPr/>
              <a:tblGrid>
                <a:gridCol w="1066680"/>
                <a:gridCol w="762120"/>
                <a:gridCol w="1066680"/>
                <a:gridCol w="1066680"/>
                <a:gridCol w="914400"/>
                <a:gridCol w="3810240"/>
              </a:tblGrid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Aff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Time (UT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-Feb-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W/A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00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 of an X25 to IP gateway cluster in Montreal which impacted all connections to the AIRCOM VHF stations, satellite GES and X25 hosts Customer Hos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-Feb-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W/A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:10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-Mar-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N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22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RINC GLOBALINK GES XXC located in Santa Paula, CA was impaired due to problems with AERO Voice calls supporting the Pacific Ocean Region (POR).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Mar-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N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01: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RINC AGN AT&amp;T MPLS core node in Livermore, California was out of service due to a major network failure in the AT&amp;T Sonet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-Mar-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08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 Voice,  Fax and PC Data and Data Services were not avaliable over IOR2 region due to an equipment failure.  POR2 was not affected by the interruptio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-Oct-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21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ulty part caused equipment failure at G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-Mar-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:08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failu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-Apr-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W/AO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41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utage at Aussaguel G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-Jul-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35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na fault at Perth GE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Summary of Performance in ZAN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 and VHF meet 95% criteria for RCP240 ACP, ACTP and RSP180 ADS-C for the last 6 mon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F met 95% criteria for RSP400 for ADS-C in July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enough data for RCP400 ACP, AC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New York Monthly Performance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April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Summary of Performance in ZNY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 and VHF meet 95% criteria for RCP240 ACP, ACTP and RSP180 ADS-C for the last 6 mon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F meets 95% criteria for RSP400 for ADS-C in two of the past 6 months (May and September 201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enough data for monthly RCP400 ACP, AC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GOLD Analysis Overview: CPDLC Message Se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the guidance in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Operational Data Link Docu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OLD) only a specific message set in conside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uplink communications transfer messages and typical intervention messages such as climb clearances with an observed CPDLC “WILCO” and/or “Unable” response attribute are ass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messages are considered to be intervention messages critical to the communications used when applying reduced separation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228564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Comparison of SAT Performance by FIR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Aggregate July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Summary of Comparison of SAT Performance by FIR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3 FIR meet 95% criteria for RCP240 ACP, ACTP and RSP180 ADS-C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3 FIR are close to meeting 99.9% criteria for RCP240 AC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akland and Anchorage are close to meeting the 99.9% criteria for RSP180 ADS-C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chorage and Oakland meet 95% within 60 sec for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 is close to meeting 95% for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1981080"/>
            <a:ext cx="847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ADS-C Performance by GES Designator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 Aggregate July to September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GES Locations and Designator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360" y="1066680"/>
            <a:ext cx="805032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ssaguel, Franc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OW2, AO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k, Norway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OW3, AOE3, IOR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h, Australia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1, IO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ta Paula, CA, U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R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N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ta Paula, CA, U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k, Norway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marsat -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cino, It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A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NC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X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umalu, HI,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A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K1, AM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NC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X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id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enix, AZ,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A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GW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NC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GOLD Analysis Overview: CPDLC Performance Measures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5080" y="1219320"/>
            <a:ext cx="8648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Communication Performance (AC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time required by the communication 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s when the CPDLC uplink message is sent to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s when the WILCO is 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Communication Technical Performance (ACT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required for the message delivery part of the communication transaction, inclu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DLC clearance uplink transit ti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CO downlink transit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ot Operational Response Time (POR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required for crew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d by ACP - AC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Summary of Observed ADS-C Performance by GE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0499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GES meet RSP180 95% criteria in Oakl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cep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XX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GES meet RSP180 95% criteria in Anchorag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cep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IGW1, XXE and AME1 (XXE and AME1 have very small message counts in Anchorage FI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GES meet RSP180 95% criteria in New York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cep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AOW3 and IGW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E is still well below the other main Atlantic GES, AOE and A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for the two main Pacific GES, XXC and POR1, is noticeably better in Oakland than in Ancho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213336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bserved GES Performance - XXE 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April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INC email notifications indicated significant maintenance activity on XXE in January and February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ignificant, sustained improv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GOLD Analysis Overview: CPDLC Performance Measures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10673" r="0" b="10673"/>
          <a:stretch/>
        </p:blipFill>
        <p:spPr>
          <a:xfrm>
            <a:off x="639720" y="1001880"/>
            <a:ext cx="809964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Performance By Operator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Performance By Operator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050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 separate by FIR: Oakland, Anchorage and New Y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 period: aggregate July to September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 operat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P180 and RCP240 performance crite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s contributing top 90% of SAT ADS-C downlink mess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s ordered in summary tables by descending count of ADS-C downlink mess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s not meeting 95% criteria highlighted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s meeting 99.9% criteria highlighted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charts by aircraft type and by airframe for operators not meeting 95% crite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bserved SAT Performance by Operator 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akland FIR – July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320" y="1295280"/>
          <a:ext cx="8991360" cy="4376880"/>
        </p:xfrm>
        <a:graphic>
          <a:graphicData uri="http://schemas.openxmlformats.org/drawingml/2006/table">
            <a:tbl>
              <a:tblPr/>
              <a:tblGrid>
                <a:gridCol w="59688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838440"/>
                <a:gridCol w="761760"/>
                <a:gridCol w="762120"/>
                <a:gridCol w="69840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 of SAT ADS-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Total SAT ADS-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S-C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S-C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 of SAT CPDL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Total SAT CPDL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P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P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P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P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5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7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8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8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9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6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5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3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7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bserved SAT Performance by Operator 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akland FIR – July to September 2011 (Continued)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320" y="1295280"/>
          <a:ext cx="8991360" cy="4419720"/>
        </p:xfrm>
        <a:graphic>
          <a:graphicData uri="http://schemas.openxmlformats.org/drawingml/2006/table">
            <a:tbl>
              <a:tblPr/>
              <a:tblGrid>
                <a:gridCol w="59688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838440"/>
                <a:gridCol w="761760"/>
                <a:gridCol w="762120"/>
                <a:gridCol w="69840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 of SAT ADS-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Total SAT ADS-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S-C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S-C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 of SAT CPDL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Total SAT CPDL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P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P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P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P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9d5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9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5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7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9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3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5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9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7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9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7.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2.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Summary of Observed SAT Performance By Operator 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akland FIR – July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22 commercial operators contributing to the top 90% of ADS-C downlink mess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22 operators meet the 95% criteria for RSP180 ADS-C and RCP240 ACTP and A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of the 22 operators meet the 95% criteria for PORT within 60 seco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of the operators meet the 99.9% criteria for RSP180 ADS-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of the operators meet the 99.9% criteria for RCP240 AC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of the operators meets the 99.9% criteria for RCP240 A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bserved SAT Performance by Operator 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Anchorage FIR – July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8920" y="1447920"/>
          <a:ext cx="8991720" cy="3473280"/>
        </p:xfrm>
        <a:graphic>
          <a:graphicData uri="http://schemas.openxmlformats.org/drawingml/2006/table">
            <a:tbl>
              <a:tblPr/>
              <a:tblGrid>
                <a:gridCol w="59688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838080"/>
                <a:gridCol w="762120"/>
                <a:gridCol w="761760"/>
                <a:gridCol w="6987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 of SAT ADS-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Total SAT ADS-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S-C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S-C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 of SAT CPDL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Total SAT CPDL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P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P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P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P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8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9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3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2.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5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9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bserved SAT Performance by Operator 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Anchorage FIR – July to September 2011 (Continued)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8920" y="1447920"/>
          <a:ext cx="8991720" cy="3157560"/>
        </p:xfrm>
        <a:graphic>
          <a:graphicData uri="http://schemas.openxmlformats.org/drawingml/2006/table">
            <a:tbl>
              <a:tblPr/>
              <a:tblGrid>
                <a:gridCol w="673200"/>
                <a:gridCol w="685800"/>
                <a:gridCol w="761760"/>
                <a:gridCol w="762120"/>
                <a:gridCol w="762120"/>
                <a:gridCol w="761760"/>
                <a:gridCol w="762120"/>
                <a:gridCol w="762120"/>
                <a:gridCol w="838080"/>
                <a:gridCol w="762120"/>
                <a:gridCol w="761760"/>
                <a:gridCol w="6987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 of SAT ADS-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Total SAT ADS-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S-C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S-C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 of SAT CPDL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Total SAT CPDL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P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P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P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P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9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0.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7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Q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3.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Summary of Observed SAT Performance By Operator 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Anchorage FIR – July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15 commercial operators contributing to the top 90% of ADS-C downlink mess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of the 15 operators meet the 95% criteria for RSP180 ADS-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15 operators meet the 95% criteria for RCP240 ACTP and A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 of the 15 operators meet the 95% criteria for PORT within 60 seco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of the operators meet the 99.9% criteria for RSP180 ADS-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of the operators meet the 99.9% criteria for RCP240 AC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of the operators meets the 99.9% criteria for RCP240 A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bserved SAT Performance by Operator 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New York FIR – July to September 2011 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6320" y="1219320"/>
          <a:ext cx="8991360" cy="4103640"/>
        </p:xfrm>
        <a:graphic>
          <a:graphicData uri="http://schemas.openxmlformats.org/drawingml/2006/table">
            <a:tbl>
              <a:tblPr/>
              <a:tblGrid>
                <a:gridCol w="59688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838440"/>
                <a:gridCol w="761760"/>
                <a:gridCol w="762120"/>
                <a:gridCol w="69840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 of SAT ADS-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Total SAT ADS-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S-C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S-C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 of SAT CPDL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Total SAT CPDL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P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P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P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P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7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7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7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5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2.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5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1.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2.8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J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3.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3.9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7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bserved SAT Performance by Operator 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New York FIR – July to September 2011 (Continued)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8920" y="1219320"/>
          <a:ext cx="8991720" cy="4103640"/>
        </p:xfrm>
        <a:graphic>
          <a:graphicData uri="http://schemas.openxmlformats.org/drawingml/2006/table">
            <a:tbl>
              <a:tblPr/>
              <a:tblGrid>
                <a:gridCol w="673200"/>
                <a:gridCol w="685800"/>
                <a:gridCol w="761760"/>
                <a:gridCol w="762120"/>
                <a:gridCol w="762120"/>
                <a:gridCol w="761760"/>
                <a:gridCol w="762120"/>
                <a:gridCol w="762120"/>
                <a:gridCol w="838080"/>
                <a:gridCol w="762120"/>
                <a:gridCol w="761760"/>
                <a:gridCol w="6987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 of SAT ADS-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Total SAT ADS-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S-C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S-C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 of SAT CPDL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Total SAT CPDL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P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P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P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P 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0.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1.5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0.8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9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.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7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2.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KK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5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2.5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4.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2640" y="301320"/>
            <a:ext cx="89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GOLD Analysis Overview: </a:t>
            </a:r>
            <a:r>
              <a:rPr b="1" lang="en-US" sz="1800" spc="-1" strike="noStrike">
                <a:solidFill>
                  <a:srgbClr val="1d2f68"/>
                </a:solidFill>
                <a:latin typeface="Arial"/>
              </a:rPr>
              <a:t>ADS-C Messages and Performance Measure</a:t>
            </a:r>
            <a:endParaRPr b="1" lang="en-US" sz="1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veillance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downlink ADS-C messages ar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s transit time for downlink message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time estimated by timestamp of aircraft when 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ime estimated by timestamp of ATC recei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Summary of Observed SAT Performance By Operator 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New York FIR – July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20 commercial operators contributing to the top 90% of ADS-C downlink mess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of the 20 operators do not meet the 95% criteria for RSP180 ADS-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or M: operates fleet of 4 aircraft types in New York F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772 fleet meets 95% criteria for RSP180 ADS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762 fleet does not meet 95% criteria for RSP180 ADS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764 fleet does not meet 95% criteria for RSP180 ADS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752 fleet does not meet 95% criteria for RSP180 ADS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or A: operates B772 fleet only in New York F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20 operators meet the 95% criteria for RCP240 ACTP and AC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of the 20 operators meet the 95% criteria for PORT within 60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of the 20 operators meet the 99.9% criteria for RSP180 ADS-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of the 22 operators meet the 99.9% criteria for RCP240 ACT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of the 22 operators meet the 99.9% criteria for RCP240 AC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GOLD Analysis Overview: Interpreting GOLD Charts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5372280"/>
            <a:ext cx="712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 In this example the observed performance meets the 95% criteria but does not meet the 99.9%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20880" y="844560"/>
            <a:ext cx="7904160" cy="4573440"/>
            <a:chOff x="920880" y="844560"/>
            <a:chExt cx="7904160" cy="457344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920880" y="844560"/>
              <a:ext cx="7230960" cy="457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"/>
            <p:cNvGrpSpPr/>
            <p:nvPr/>
          </p:nvGrpSpPr>
          <p:grpSpPr>
            <a:xfrm>
              <a:off x="3823920" y="2075040"/>
              <a:ext cx="2198880" cy="858240"/>
              <a:chOff x="3823920" y="2075040"/>
              <a:chExt cx="2198880" cy="858240"/>
            </a:xfrm>
          </p:grpSpPr>
          <p:sp>
            <p:nvSpPr>
              <p:cNvPr id="115" name=""/>
              <p:cNvSpPr/>
              <p:nvPr/>
            </p:nvSpPr>
            <p:spPr>
              <a:xfrm flipH="1" flipV="1">
                <a:off x="5005440" y="2265120"/>
                <a:ext cx="1017360" cy="66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823920" y="2075040"/>
                <a:ext cx="2026440" cy="30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bserved Performa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362640" y="2577960"/>
              <a:ext cx="2419560" cy="887400"/>
              <a:chOff x="6362640" y="2577960"/>
              <a:chExt cx="2419560" cy="887400"/>
            </a:xfrm>
          </p:grpSpPr>
          <p:sp>
            <p:nvSpPr>
              <p:cNvPr id="118" name=""/>
              <p:cNvSpPr/>
              <p:nvPr/>
            </p:nvSpPr>
            <p:spPr>
              <a:xfrm flipV="1">
                <a:off x="6362640" y="2868480"/>
                <a:ext cx="1176480" cy="59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537320" y="2577960"/>
                <a:ext cx="124488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95% Criteria (180 sec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592280" y="3182760"/>
              <a:ext cx="3978360" cy="1538280"/>
              <a:chOff x="1592280" y="3182760"/>
              <a:chExt cx="3978360" cy="15382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1592280" y="3209400"/>
                <a:ext cx="3975120" cy="28440"/>
              </a:xfrm>
              <a:prstGeom prst="line">
                <a:avLst/>
              </a:prstGeom>
              <a:ln w="5724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70640" y="3182760"/>
                <a:ext cx="0" cy="1538280"/>
              </a:xfrm>
              <a:prstGeom prst="line">
                <a:avLst/>
              </a:prstGeom>
              <a:ln w="5724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2529000" y="2712960"/>
              <a:ext cx="3044880" cy="479520"/>
              <a:chOff x="2529000" y="2712960"/>
              <a:chExt cx="3044880" cy="479520"/>
            </a:xfrm>
          </p:grpSpPr>
          <p:sp>
            <p:nvSpPr>
              <p:cNvPr id="124" name=""/>
              <p:cNvSpPr/>
              <p:nvPr/>
            </p:nvSpPr>
            <p:spPr>
              <a:xfrm>
                <a:off x="2529000" y="2712960"/>
                <a:ext cx="1552320" cy="30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tual 95 % lev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078440" y="2859120"/>
                <a:ext cx="149544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7184880" y="898560"/>
              <a:ext cx="1640160" cy="1192320"/>
              <a:chOff x="7184880" y="898560"/>
              <a:chExt cx="1640160" cy="1192320"/>
            </a:xfrm>
          </p:grpSpPr>
          <p:sp>
            <p:nvSpPr>
              <p:cNvPr id="127" name=""/>
              <p:cNvSpPr/>
              <p:nvPr/>
            </p:nvSpPr>
            <p:spPr>
              <a:xfrm>
                <a:off x="7800840" y="898560"/>
                <a:ext cx="1024200" cy="73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99.9% Criteria (210 sec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7184880" y="1247760"/>
                <a:ext cx="609840" cy="84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perator A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Comparison of Performance Between Aircraft Type and FIR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Aggregate July to September 2011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28760" y="344520"/>
            <a:ext cx="8472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Summary of Comparison of Performance By FIR For</a:t>
            </a:r>
            <a:br>
              <a:rPr sz="2000"/>
            </a:b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Operator A 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RCP240 ACT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IR/Aircraft Type combinations meet 95% criteria in the July to September 2011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N/B744 also meets 99.9%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RCP240 AC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IR/Aircraft Type combinations meet 95% criteria in July to September 2011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/B772, ZAN/B772, and ZANB744 meet 99.9% criteria in July to September 2011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RSP180 ADS-C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IR/Aircraft Type combinations except ZNY/B772 meet 95% criteria in July to September 2011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Note: Y-axis Scale on Performance Chart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914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ase note the y-axis scale in various performance cha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harts show the 90 to 100% portion of the cumulative distribution of the respective performance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some cases where performance is below that shown on the 90 to 100% portion, the y-axis will be shifted down below 9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ase note that some charts are presented twice on two different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howing the full 0 to 100% of the cumulative distribution of the respective performance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howing the 90 to 100% portion of the cumulative distribution of the respective performance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ase note the difference in the y-axis scale for charts showing the relative distribution vs. the cumulative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9:49:23Z</dcterms:created>
  <dc:creator>martinl</dc:creator>
  <dc:description/>
  <dc:language>en-US</dc:language>
  <cp:lastModifiedBy>Air Traffic Organization</cp:lastModifiedBy>
  <dcterms:modified xsi:type="dcterms:W3CDTF">2011-10-28T02:25:10Z</dcterms:modified>
  <cp:revision>459</cp:revision>
  <dc:subject/>
  <dc:title>Daily Operations in OC3 and ZOA</dc:title>
</cp:coreProperties>
</file>