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7CD7-B546-4470-B261-4E7B3BA86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1DCB-F338-4D2C-B5B4-53A816AD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14E9-1E07-4103-B647-27BF70B3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CC6F-D1CC-480F-BD01-DC139DCCB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6345-FB8A-40D5-8AB0-9D46A946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63A9-1A73-41D3-A5BE-991A1D9C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813E-D1F4-4EDA-9BDD-4CF70190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88F7-DB0E-4521-9313-AA8F3469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C2ED-9C40-4659-967A-C364BD48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6865-6642-4382-8F96-D4E0FCB4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2A81-A28D-46D7-96B0-E1E422C7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EC0F-DE37-47E8-9BC0-55771A23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7B5E-8BE5-4CFD-9CB7-58B91E9527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09A4-A386-4582-ADD9-48D307EB5A2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8" name="" descr=""/>
            <p:cNvPicPr/>
            <p:nvPr/>
          </p:nvPicPr>
          <p:blipFill>
            <a:blip r:embed="rId2"/>
            <a:srcRect l="14334" t="3733" r="14975" b="456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449280" y="6205680"/>
            <a:ext cx="478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IPACG-35 FIT-22 IP/3 Attachment A</a:t>
            </a:r>
            <a:br>
              <a:rPr sz="1200"/>
            </a:b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8 November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591160" y="0"/>
            <a:ext cx="35528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50" name="" descr=""/>
            <p:cNvPicPr/>
            <p:nvPr/>
          </p:nvPicPr>
          <p:blipFill>
            <a:blip r:embed="rId3"/>
            <a:srcRect l="14334" t="3733" r="14975" b="4562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44956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CPDLC and ADS-C</a:t>
            </a:r>
            <a:br>
              <a:rPr sz="2400"/>
            </a:b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Data Link</a:t>
            </a:r>
            <a:br>
              <a:rPr sz="2400"/>
            </a:b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Performance Monitoring for Fans Over HFDL (FO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0880" y="5105520"/>
            <a:ext cx="5181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IPACG-35 FIT-22 IP/3 </a:t>
            </a:r>
            <a:br>
              <a:rPr sz="2400"/>
            </a:b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Attachment A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8 November 2011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2f68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mary of Observed Performance for Fans Over HFDL (FOH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waiian Airlines (HAL) - B7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kland F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P400 Performance Specifications for CPD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400 Performance Specifications for ADS-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sis by Month – April to September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S-C Analysis by Airframe – Aggregate July to September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CPDLC charts due to low sample size of CPDLC message 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ot of HAL HFDL ADS-C Position Repor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mary of Observed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rcRect l="10500" t="10169" r="11250" b="10169"/>
          <a:stretch/>
        </p:blipFill>
        <p:spPr>
          <a:xfrm>
            <a:off x="990720" y="609480"/>
            <a:ext cx="7162560" cy="537840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5562720" y="4343400"/>
            <a:ext cx="1934640" cy="1145160"/>
            <a:chOff x="5562720" y="4343400"/>
            <a:chExt cx="1934640" cy="1145160"/>
          </a:xfrm>
        </p:grpSpPr>
        <p:sp>
          <p:nvSpPr>
            <p:cNvPr id="100" name=""/>
            <p:cNvSpPr/>
            <p:nvPr/>
          </p:nvSpPr>
          <p:spPr>
            <a:xfrm>
              <a:off x="5562720" y="4343400"/>
              <a:ext cx="17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AL HFDL ADS-C Position Repor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62720" y="487692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tency &gt; 300 se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62720" y="518148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tency &gt; 400 se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353360" y="4457880"/>
              <a:ext cx="91440" cy="918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40400" y="4952880"/>
              <a:ext cx="136080" cy="136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7315200" y="5257800"/>
              <a:ext cx="182160" cy="182520"/>
              <a:chOff x="7315200" y="5257800"/>
              <a:chExt cx="182160" cy="182520"/>
            </a:xfrm>
          </p:grpSpPr>
          <p:sp>
            <p:nvSpPr>
              <p:cNvPr id="106" name=""/>
              <p:cNvSpPr/>
              <p:nvPr/>
            </p:nvSpPr>
            <p:spPr>
              <a:xfrm>
                <a:off x="7315200" y="5257800"/>
                <a:ext cx="182160" cy="182520"/>
              </a:xfrm>
              <a:prstGeom prst="ellipse">
                <a:avLst/>
              </a:prstGeom>
              <a:noFill/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345440" y="5288040"/>
                <a:ext cx="121320" cy="1213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" name=""/>
          <p:cNvSpPr/>
          <p:nvPr/>
        </p:nvSpPr>
        <p:spPr>
          <a:xfrm>
            <a:off x="380880" y="50760"/>
            <a:ext cx="847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HAL HFDL ADS-C Downlink Latency Plot - February to April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Summary of Observed HFDL Performance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2026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95% criteria for RCP400 ACTP criteria was met in 4 of the past 6 months including August and September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95% criteria for RCP400 ACP was met in 2 of the past 6 mont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met in August and September but these months show improvement over Ju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95% criteria for RSP400 ADS-C was met in 1 of the past 6 months – April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the aggregate time period from July to September 2011, 7 of the 17 HAL B763 airframes meet the 95% criteria for RSP400 ADS-C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9:49:23Z</dcterms:created>
  <dc:creator>Theresa Brewer-Dougherty</dc:creator>
  <dc:description/>
  <dc:language>en-US</dc:language>
  <cp:lastModifiedBy>Air Traffic Organization</cp:lastModifiedBy>
  <dcterms:modified xsi:type="dcterms:W3CDTF">2011-10-23T21:34:45Z</dcterms:modified>
  <cp:revision>372</cp:revision>
  <dc:subject/>
  <dc:title>U.S. FOH Performance</dc:title>
</cp:coreProperties>
</file>