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B7FEE63-5273-476C-AFB8-01F8A07B32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9956C0F-BE86-4516-9635-6B8536A57C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B212F4A-A39E-4634-93EE-7EE12ED87F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6A83AF-AAE2-47EB-BF6A-4AEED94028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910581A-9D2C-4F74-9ECE-338C414776F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B93B881-C4DA-421C-BE35-3A5FE9B2D3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6119317-4493-4736-A157-79FEE1C73B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121E6D6-9B34-4200-8721-36D94EE91F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ECF73A9-9E9F-4C06-9756-29AFD971AA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8DDF66-865E-4455-BC8D-B1F65E0996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A3D-A7B4-4315-B026-F4DDED31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767-D2EF-4BF9-86B3-52EF69C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292-B31C-40BE-9FD2-986A59AF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2D6-61EA-49FF-B8F8-B3C9500F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E83-A3CF-4241-B35C-6EEA53F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781-07E9-4021-98B1-77FA6CD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A26-932B-4CAE-9730-6040502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DE7-713D-4661-8827-2797B4F0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D78-2BD3-497F-8CF9-8D83058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7A8-C167-4074-85B6-9CC89D8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B36-9833-4ABD-B29B-9709F48D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7E6-2EA5-4F8C-B35D-D7DAC4D6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680-4752-49D1-9D80-5F2C02FE9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277920" y="6094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Feed Back on the advantages of DARP Operation ANA</a:t>
            </a: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//</a:t>
            </a:r>
            <a:r>
              <a:rPr b="1" i="1" lang="en-US" sz="5000" spc="-1" strike="noStrike">
                <a:solidFill>
                  <a:srgbClr val="66ffff"/>
                </a:solidFill>
                <a:latin typeface="Times New Roman"/>
              </a:rPr>
              <a:t>/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878480" y="4465800"/>
            <a:ext cx="553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ACG/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untain View, California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ril 24-25, 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 flipV="1" rot="10800000">
            <a:off x="2997360" y="3785040"/>
            <a:ext cx="3047760" cy="74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82960" y="2895480"/>
            <a:ext cx="3112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291960"/>
            <a:ext cx="782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Overview of DARP ope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90720" y="1484280"/>
            <a:ext cx="54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onolulu - Tokyo (Daily ba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324000" y="1500120"/>
          <a:ext cx="583920" cy="4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00120"/>
                    <a:ext cx="583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971280" y="2076480"/>
            <a:ext cx="713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From DEC 2011 (B767 &amp; B7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arge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light Crew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light Dis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65160" y="3270240"/>
            <a:ext cx="759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kyo – Los Angeles (Whenever pos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kyo – San Francisco (Whenever pos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309600" y="328608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600" y="328608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"/>
          <p:cNvSpPr/>
          <p:nvPr/>
        </p:nvSpPr>
        <p:spPr>
          <a:xfrm>
            <a:off x="956880" y="4361040"/>
            <a:ext cx="780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From FEB 2013 (B7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arge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light Crew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mit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light Dis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ote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DARP i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mi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 Oakland Oceanic F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4" descr=""/>
          <p:cNvPicPr/>
          <p:nvPr/>
        </p:nvPicPr>
        <p:blipFill>
          <a:blip r:embed="rId1"/>
          <a:stretch/>
        </p:blipFill>
        <p:spPr>
          <a:xfrm>
            <a:off x="480960" y="1803240"/>
            <a:ext cx="8204400" cy="443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637560" y="260280"/>
            <a:ext cx="741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ctual Result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1403280" y="2854440"/>
            <a:ext cx="2700360" cy="1511280"/>
          </a:xfrm>
          <a:prstGeom prst="cloudCallout">
            <a:avLst>
              <a:gd name="adj1" fmla="val -50824"/>
              <a:gd name="adj2" fmla="val -71115"/>
            </a:avLst>
          </a:prstGeom>
          <a:solidFill>
            <a:srgbClr val="ff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666440" y="3070080"/>
            <a:ext cx="24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Major rea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- Increase Fligh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Less 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981000" y="246384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6702480" y="4259160"/>
            <a:ext cx="191124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"/>
          <p:cNvPicPr/>
          <p:nvPr/>
        </p:nvPicPr>
        <p:blipFill>
          <a:blip r:embed="rId1"/>
          <a:stretch/>
        </p:blipFill>
        <p:spPr>
          <a:xfrm>
            <a:off x="539640" y="1546200"/>
            <a:ext cx="8064720" cy="4710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17040" y="260280"/>
            <a:ext cx="77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Potential Result (HNL - TY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785480" y="50054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113lbs</a:t>
            </a:r>
            <a:r>
              <a:rPr b="1" lang="ja-JP" sz="1800" spc="-1" strike="noStrike">
                <a:solidFill>
                  <a:srgbClr val="0066ff"/>
                </a:solidFill>
                <a:latin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934320" y="5011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0:01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932520" y="58374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:27</a:t>
            </a:r>
            <a:r>
              <a:rPr b="1" lang="ja-JP" sz="1800" spc="-1" strike="noStrike">
                <a:solidFill>
                  <a:srgbClr val="0033cc"/>
                </a:solidFill>
                <a:latin typeface="Times New Roman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054320" y="2349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15%</a:t>
            </a:r>
            <a:r>
              <a:rPr b="1" lang="ja-JP" sz="1800" spc="-1" strike="noStrike">
                <a:solidFill>
                  <a:srgbClr val="0033cc"/>
                </a:solidFill>
                <a:latin typeface="Times New Roman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73120" y="1866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4%</a:t>
            </a:r>
            <a:r>
              <a:rPr b="1" lang="ja-JP" sz="1800" spc="-1" strike="noStrike">
                <a:solidFill>
                  <a:srgbClr val="ff3300"/>
                </a:solidFill>
                <a:latin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986080" y="1719360"/>
            <a:ext cx="255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f the DARP has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xecuted with all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erit routes,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would b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2"/>
          <a:stretch/>
        </p:blipFill>
        <p:spPr>
          <a:xfrm>
            <a:off x="3348000" y="5899320"/>
            <a:ext cx="1511280" cy="266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4439880" y="58467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66ff"/>
                </a:solidFill>
                <a:latin typeface="Times New Roman"/>
              </a:rPr>
              <a:t>52900lbs</a:t>
            </a:r>
            <a:r>
              <a:rPr b="1" lang="ja-JP" sz="1800" spc="-1" strike="noStrike">
                <a:solidFill>
                  <a:srgbClr val="0066ff"/>
                </a:solidFill>
                <a:latin typeface="Times New Roman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0"/>
          <p:cNvSpPr/>
          <p:nvPr/>
        </p:nvSpPr>
        <p:spPr>
          <a:xfrm>
            <a:off x="3851280" y="2276640"/>
            <a:ext cx="108108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22"/>
          <p:cNvSpPr/>
          <p:nvPr/>
        </p:nvSpPr>
        <p:spPr>
          <a:xfrm>
            <a:off x="343080" y="1811160"/>
            <a:ext cx="1081080" cy="505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4716360" y="4940280"/>
            <a:ext cx="108108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6732720" y="4941720"/>
            <a:ext cx="1081080" cy="505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7"/>
          <p:cNvSpPr/>
          <p:nvPr/>
        </p:nvSpPr>
        <p:spPr>
          <a:xfrm>
            <a:off x="6730920" y="5753160"/>
            <a:ext cx="108108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8"/>
          <p:cNvSpPr/>
          <p:nvPr/>
        </p:nvSpPr>
        <p:spPr>
          <a:xfrm>
            <a:off x="4398840" y="5784840"/>
            <a:ext cx="125280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2"/>
          <p:cNvSpPr/>
          <p:nvPr/>
        </p:nvSpPr>
        <p:spPr>
          <a:xfrm flipV="1">
            <a:off x="1467000" y="2136240"/>
            <a:ext cx="637920" cy="9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3"/>
          <p:cNvSpPr/>
          <p:nvPr/>
        </p:nvSpPr>
        <p:spPr>
          <a:xfrm>
            <a:off x="6629400" y="4299120"/>
            <a:ext cx="1911240" cy="1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611280" y="1268280"/>
            <a:ext cx="784836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35040" y="442800"/>
            <a:ext cx="7761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Monthly Potential Result (HNL - TYO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8"/>
          <p:cNvGraphicFramePr/>
          <p:nvPr/>
        </p:nvGraphicFramePr>
        <p:xfrm>
          <a:off x="841320" y="1628640"/>
          <a:ext cx="7264440" cy="436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628640"/>
                    <a:ext cx="7264440" cy="43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1"/>
          <p:cNvSpPr/>
          <p:nvPr/>
        </p:nvSpPr>
        <p:spPr>
          <a:xfrm>
            <a:off x="7134120" y="5589720"/>
            <a:ext cx="714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826920" y="5877000"/>
            <a:ext cx="7417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973320" y="5827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296120" y="5827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755640" y="1700280"/>
            <a:ext cx="2160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8028000" y="1700280"/>
            <a:ext cx="2160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1547640" y="2127240"/>
            <a:ext cx="289080" cy="339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8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826920" y="1557360"/>
            <a:ext cx="7417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20520" y="1555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 lb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030320" y="1450800"/>
            <a:ext cx="741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tal Fuel 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( If the DARP has been executed with all the merit route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2008080" y="3112920"/>
            <a:ext cx="289080" cy="2414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3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2941560" y="2617920"/>
            <a:ext cx="289080" cy="2911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5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400560" y="3770280"/>
            <a:ext cx="288720" cy="1758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9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3870360" y="4483080"/>
            <a:ext cx="288720" cy="1046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57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4336920" y="4083120"/>
            <a:ext cx="289080" cy="1444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7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4800600" y="4189320"/>
            <a:ext cx="289080" cy="1338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7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5272200" y="4299120"/>
            <a:ext cx="288720" cy="1228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6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2470320" y="4373640"/>
            <a:ext cx="288720" cy="1155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6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5724360" y="3825720"/>
            <a:ext cx="289080" cy="170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9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6194520" y="3908520"/>
            <a:ext cx="288720" cy="16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8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6659640" y="4221000"/>
            <a:ext cx="288720" cy="1308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7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7124760" y="2905200"/>
            <a:ext cx="288720" cy="2622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4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7589880" y="4384800"/>
            <a:ext cx="2887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6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7275600" y="1932120"/>
            <a:ext cx="64764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OP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0"/>
          <p:cNvSpPr/>
          <p:nvPr/>
        </p:nvSpPr>
        <p:spPr>
          <a:xfrm>
            <a:off x="7273800" y="2187720"/>
            <a:ext cx="64944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LOWEST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41160" y="290520"/>
            <a:ext cx="687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Conclusion (HNL - TYO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59320" y="2017800"/>
            <a:ext cx="832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ignificant seasonal variation cannot be confirme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ut to mention one, fuel savings of January is l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nd the fuel savings of summer seasons are relative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ma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87400" y="4216320"/>
            <a:ext cx="766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14 months potential effect of fuel efficiency w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142,100lbs. And as for a year, it was 116,300lb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263520" y="4140360"/>
          <a:ext cx="58752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4140360"/>
                    <a:ext cx="5875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28600" y="196056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6056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60960" y="482760"/>
            <a:ext cx="7753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Actual &amp; Potential Result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TYO – LAX / S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7" descr=""/>
          <p:cNvPicPr/>
          <p:nvPr/>
        </p:nvPicPr>
        <p:blipFill>
          <a:blip r:embed="rId1"/>
          <a:stretch/>
        </p:blipFill>
        <p:spPr>
          <a:xfrm>
            <a:off x="706320" y="1219320"/>
            <a:ext cx="7581960" cy="5262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609840" y="368280"/>
            <a:ext cx="775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Times New Roman"/>
              </a:rPr>
              <a:t>Conclusion (TYO – LAX / SFO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01800" y="1935000"/>
            <a:ext cx="7979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Times New Roman"/>
              </a:rPr>
              <a:t>Effect of DARP from Fukuoka FIR is larg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Times New Roman"/>
              </a:rPr>
              <a:t>than the effect of DARP restricted withi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Times New Roman"/>
              </a:rPr>
              <a:t>Oakland Oceanic FI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9"/>
          <p:cNvGraphicFramePr/>
          <p:nvPr/>
        </p:nvGraphicFramePr>
        <p:xfrm>
          <a:off x="228600" y="1916280"/>
          <a:ext cx="5842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1628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61680" y="291960"/>
            <a:ext cx="226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68760" y="4138560"/>
            <a:ext cx="800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xpansion of DARP applicable city pa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(Ex. TYO to HNL, TYO to/from LAX, SFO Flights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051920" y="1960560"/>
            <a:ext cx="766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cceleration of DARP capability implem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nto FUKUOKA FI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7"/>
          <p:cNvGraphicFramePr/>
          <p:nvPr/>
        </p:nvGraphicFramePr>
        <p:xfrm>
          <a:off x="263520" y="4140360"/>
          <a:ext cx="58752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4140360"/>
                    <a:ext cx="5875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8"/>
          <p:cNvSpPr/>
          <p:nvPr/>
        </p:nvSpPr>
        <p:spPr>
          <a:xfrm rot="10800000">
            <a:off x="659880" y="1117080"/>
            <a:ext cx="7696440" cy="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ec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9"/>
          <p:cNvGraphicFramePr/>
          <p:nvPr/>
        </p:nvGraphicFramePr>
        <p:xfrm>
          <a:off x="228600" y="1960560"/>
          <a:ext cx="5842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60560"/>
                    <a:ext cx="5842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405880" y="65214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 IPACG/38 Mountain View, California, USA April 24-25, 201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9:01Z</dcterms:created>
  <dc:creator>T.M</dc:creator>
  <dc:description/>
  <dc:language>en-US</dc:language>
  <cp:lastModifiedBy>Braks Etta</cp:lastModifiedBy>
  <dcterms:modified xsi:type="dcterms:W3CDTF">2013-04-10T14:41:34Z</dcterms:modified>
  <cp:revision>157</cp:revision>
  <dc:subject/>
  <dc:title>ｽﾗｲﾄﾞ ﾀｲﾄﾙなし</dc:title>
</cp:coreProperties>
</file>