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6CCA-6921-4B96-833D-633E126B5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24CE-354D-490D-8F63-C0929E19F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36AC-3173-4F8A-9E1C-598E90105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183B-C3D3-4A3A-BAF7-088A4E334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2F43-2AC6-4EC0-8C35-13D51EA23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C056-B73B-4CB1-9B1C-7F5C28FB5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A1F9-F543-4DA9-B526-0BC36D7E6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FB68-187E-4253-9C6A-E8FD88408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13DB-EED2-48DC-BB36-F2C7E95B1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19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35"/>
          <p:cNvSpPr/>
          <p:nvPr/>
        </p:nvSpPr>
        <p:spPr>
          <a:xfrm>
            <a:off x="449280" y="620712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 38  Mee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36"/>
          <p:cNvSpPr/>
          <p:nvPr/>
        </p:nvSpPr>
        <p:spPr>
          <a:xfrm>
            <a:off x="426960" y="6453360"/>
            <a:ext cx="33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February 5-6, 20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4" descr="IPACG logo 11-26 version"/>
          <p:cNvPicPr/>
          <p:nvPr/>
        </p:nvPicPr>
        <p:blipFill>
          <a:blip r:embed="rId2">
            <a:lum bright="34000"/>
          </a:blip>
          <a:stretch/>
        </p:blipFill>
        <p:spPr>
          <a:xfrm>
            <a:off x="1001880" y="0"/>
            <a:ext cx="6734160" cy="6567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6"/>
          <p:cNvSpPr/>
          <p:nvPr/>
        </p:nvSpPr>
        <p:spPr>
          <a:xfrm>
            <a:off x="555840" y="1843200"/>
            <a:ext cx="799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CAB and FAA Joint Pap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6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87" name="Picture 7" descr="NEW FAA LOGO"/>
            <p:cNvPicPr/>
            <p:nvPr/>
          </p:nvPicPr>
          <p:blipFill>
            <a:blip r:embed="rId3"/>
            <a:srcRect l="14350" t="3733" r="14966" b="4567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8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92240" y="311040"/>
            <a:ext cx="52243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P/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035000" y="5962680"/>
            <a:ext cx="73598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R and PACOTS Up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rack Advisor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ors flight planning a merged Track C/E from the starting point would request a Gateway reservation (TKF) prior to 1650 U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B0AE-7D5D-4DE9-ADD2-82B4A3FDD1CE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09680" y="76320"/>
            <a:ext cx="84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Merged Track C and E Operational T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2FA3-FB73-4451-B6B2-07A2146F7877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861840" y="952560"/>
            <a:ext cx="75661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THE FIRST 38 DAYS OF THE OPERATIONAL TRIA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KS C &amp; E MERGED 14 DAY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ERAGE FUEL SAVINGS PER FLIGHT WAS 1120 LBS (10 DAY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erging Tracks C &amp; E Difficulti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l 22-25, 2013 Oakland encountered difficulties with merging  traffic on PACOTS Tracks C and E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were numerous traffic conflictions that required Oakland to negotiate with Japan and Anchorage for the use of Non-standard altitud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raffic did not permit the use on Non-standard altitudes in Anchorage or Fukuoka FIRs, altitude assignments would have been significantly affec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3B8F-322C-4C9B-95E9-D266F3199593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erging Tracks C &amp; E Difficulti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April 26, 2013, Oakland suspended the Operational Trial to merge PACOTS Tracks C and 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akland discovered several irregularities with the Track Advisory requested reservat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6F0E-BE2E-46B6-84A8-DC137F3DCBF4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hart 6" descr=""/>
          <p:cNvPicPr/>
          <p:nvPr/>
        </p:nvPicPr>
        <p:blipFill>
          <a:blip r:embed="rId1"/>
          <a:stretch/>
        </p:blipFill>
        <p:spPr>
          <a:xfrm>
            <a:off x="1625760" y="604800"/>
            <a:ext cx="5892480" cy="5921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5920" y="9648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4/22-25 Track Advisory Issu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CE04-3AB2-43ED-826D-4FE1AB4F2CB7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oving Forward C/E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9700-FE27-47DA-9F19-17C4B6F5777E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47640" y="1241280"/>
            <a:ext cx="805032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ors must be better at meeting their Gateway Fix reservation tim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ging C/E requires the use of Non-Standard Altitud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an issue for NOP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x of Aircraft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 time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oving Forward C/E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8B76-AA21-4BA3-ABBE-AEE2E6DC13D5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647640" y="1241280"/>
            <a:ext cx="805032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he PACOTS Tracks C and E would merge, Oakland will coordinate with the next facility for the use of Non-Standard Altitudes for the next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approval for the use of the necessary Non-Standard altitudes can be obtained, the tracks will be published with a mer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approval for the use of the necessary Non-Standard altitudes cannot be obtained, the tracks will be published without a merge in the Oakland FI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0600" y="23940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nchorage ADS-C Distance Based Separ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5FCA-38EC-411C-B749-952E822E7B50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401040" cy="431964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6"/>
          <p:cNvSpPr/>
          <p:nvPr/>
        </p:nvSpPr>
        <p:spPr>
          <a:xfrm>
            <a:off x="266760" y="933480"/>
            <a:ext cx="4943520" cy="3543120"/>
          </a:xfrm>
          <a:custGeom>
            <a:avLst/>
            <a:gdLst/>
            <a:ahLst/>
            <a:rect l="l" t="t" r="r" b="b"/>
            <a:pathLst>
              <a:path w="4943475" h="3543300">
                <a:moveTo>
                  <a:pt x="0" y="2571750"/>
                </a:moveTo>
                <a:lnTo>
                  <a:pt x="1390650" y="1895475"/>
                </a:lnTo>
                <a:lnTo>
                  <a:pt x="2828925" y="533400"/>
                </a:lnTo>
                <a:lnTo>
                  <a:pt x="3324225" y="0"/>
                </a:lnTo>
                <a:lnTo>
                  <a:pt x="3943350" y="9525"/>
                </a:lnTo>
                <a:lnTo>
                  <a:pt x="4200525" y="390525"/>
                </a:lnTo>
                <a:lnTo>
                  <a:pt x="4305300" y="828675"/>
                </a:lnTo>
                <a:lnTo>
                  <a:pt x="4676775" y="1200150"/>
                </a:lnTo>
                <a:lnTo>
                  <a:pt x="4400550" y="1819275"/>
                </a:lnTo>
                <a:lnTo>
                  <a:pt x="4410075" y="2019300"/>
                </a:lnTo>
                <a:lnTo>
                  <a:pt x="4943475" y="2152650"/>
                </a:lnTo>
                <a:lnTo>
                  <a:pt x="4448175" y="2457450"/>
                </a:lnTo>
                <a:lnTo>
                  <a:pt x="400050" y="3543300"/>
                </a:lnTo>
                <a:lnTo>
                  <a:pt x="0" y="2571750"/>
                </a:lnTo>
                <a:close/>
              </a:path>
            </a:pathLst>
          </a:custGeom>
          <a:solidFill>
            <a:srgbClr val="0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4667400" y="1314360"/>
            <a:ext cx="2038320" cy="1752840"/>
          </a:xfrm>
          <a:custGeom>
            <a:avLst/>
            <a:gdLst/>
            <a:ahLst/>
            <a:rect l="l" t="t" r="r" b="b"/>
            <a:pathLst>
              <a:path w="2038350" h="1752600">
                <a:moveTo>
                  <a:pt x="285750" y="819150"/>
                </a:moveTo>
                <a:lnTo>
                  <a:pt x="0" y="1447800"/>
                </a:lnTo>
                <a:lnTo>
                  <a:pt x="19050" y="1628775"/>
                </a:lnTo>
                <a:lnTo>
                  <a:pt x="533400" y="1752600"/>
                </a:lnTo>
                <a:lnTo>
                  <a:pt x="1028700" y="1504950"/>
                </a:lnTo>
                <a:lnTo>
                  <a:pt x="1809750" y="809625"/>
                </a:lnTo>
                <a:lnTo>
                  <a:pt x="1924050" y="609600"/>
                </a:lnTo>
                <a:lnTo>
                  <a:pt x="2038350" y="438150"/>
                </a:lnTo>
                <a:lnTo>
                  <a:pt x="2000250" y="9525"/>
                </a:lnTo>
                <a:lnTo>
                  <a:pt x="1724025" y="76200"/>
                </a:lnTo>
                <a:lnTo>
                  <a:pt x="1390650" y="76200"/>
                </a:lnTo>
                <a:lnTo>
                  <a:pt x="1219200" y="0"/>
                </a:lnTo>
                <a:lnTo>
                  <a:pt x="857250" y="257175"/>
                </a:lnTo>
                <a:lnTo>
                  <a:pt x="600075" y="781050"/>
                </a:lnTo>
                <a:lnTo>
                  <a:pt x="285750" y="819150"/>
                </a:lnTo>
                <a:close/>
              </a:path>
            </a:pathLst>
          </a:custGeom>
          <a:solidFill>
            <a:srgbClr val="ff66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8"/>
          <p:cNvSpPr/>
          <p:nvPr/>
        </p:nvSpPr>
        <p:spPr>
          <a:xfrm>
            <a:off x="6620040" y="1057320"/>
            <a:ext cx="2447640" cy="1123920"/>
          </a:xfrm>
          <a:custGeom>
            <a:avLst/>
            <a:gdLst/>
            <a:ahLst/>
            <a:rect l="l" t="t" r="r" b="b"/>
            <a:pathLst>
              <a:path w="2447925" h="1123950">
                <a:moveTo>
                  <a:pt x="1981200" y="1123950"/>
                </a:moveTo>
                <a:lnTo>
                  <a:pt x="0" y="857250"/>
                </a:lnTo>
                <a:lnTo>
                  <a:pt x="95250" y="676275"/>
                </a:lnTo>
                <a:lnTo>
                  <a:pt x="76200" y="285750"/>
                </a:lnTo>
                <a:lnTo>
                  <a:pt x="552450" y="228600"/>
                </a:lnTo>
                <a:lnTo>
                  <a:pt x="981075" y="0"/>
                </a:lnTo>
                <a:lnTo>
                  <a:pt x="1238250" y="47625"/>
                </a:lnTo>
                <a:lnTo>
                  <a:pt x="1657350" y="209550"/>
                </a:lnTo>
                <a:lnTo>
                  <a:pt x="1924050" y="295275"/>
                </a:lnTo>
                <a:lnTo>
                  <a:pt x="2447925" y="695325"/>
                </a:lnTo>
                <a:lnTo>
                  <a:pt x="2305050" y="857250"/>
                </a:lnTo>
                <a:lnTo>
                  <a:pt x="2095500" y="895350"/>
                </a:lnTo>
                <a:lnTo>
                  <a:pt x="1981200" y="1123950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1863360" y="2457360"/>
            <a:ext cx="263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S-C D50 30/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2"/>
          <p:cNvSpPr/>
          <p:nvPr/>
        </p:nvSpPr>
        <p:spPr>
          <a:xfrm rot="18951000">
            <a:off x="4830840" y="222696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DP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 rot="391800">
            <a:off x="5861520" y="1495080"/>
            <a:ext cx="31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ADS-C D50 30/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3029760" y="444960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urrent Stat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6028920" y="2714760"/>
            <a:ext cx="263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S-C D50 30/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0600" y="23940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nchorage ADS-C Distance Based Separ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1EA3-9E0E-4EFC-A3C5-9AAAEDA56E5B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401040" cy="4319640"/>
          </a:xfrm>
          <a:prstGeom prst="rect">
            <a:avLst/>
          </a:prstGeom>
          <a:ln w="0">
            <a:noFill/>
          </a:ln>
        </p:spPr>
      </p:pic>
      <p:sp>
        <p:nvSpPr>
          <p:cNvPr id="197" name="Freeform 6"/>
          <p:cNvSpPr/>
          <p:nvPr/>
        </p:nvSpPr>
        <p:spPr>
          <a:xfrm>
            <a:off x="266760" y="933480"/>
            <a:ext cx="4943520" cy="3543120"/>
          </a:xfrm>
          <a:custGeom>
            <a:avLst/>
            <a:gdLst/>
            <a:ahLst/>
            <a:rect l="l" t="t" r="r" b="b"/>
            <a:pathLst>
              <a:path w="4943475" h="3543300">
                <a:moveTo>
                  <a:pt x="0" y="2571750"/>
                </a:moveTo>
                <a:lnTo>
                  <a:pt x="1390650" y="1895475"/>
                </a:lnTo>
                <a:lnTo>
                  <a:pt x="2828925" y="533400"/>
                </a:lnTo>
                <a:lnTo>
                  <a:pt x="3324225" y="0"/>
                </a:lnTo>
                <a:lnTo>
                  <a:pt x="3943350" y="9525"/>
                </a:lnTo>
                <a:lnTo>
                  <a:pt x="4200525" y="390525"/>
                </a:lnTo>
                <a:lnTo>
                  <a:pt x="4305300" y="828675"/>
                </a:lnTo>
                <a:lnTo>
                  <a:pt x="4676775" y="1200150"/>
                </a:lnTo>
                <a:lnTo>
                  <a:pt x="4400550" y="1819275"/>
                </a:lnTo>
                <a:lnTo>
                  <a:pt x="4410075" y="2019300"/>
                </a:lnTo>
                <a:lnTo>
                  <a:pt x="4943475" y="2152650"/>
                </a:lnTo>
                <a:lnTo>
                  <a:pt x="4448175" y="2457450"/>
                </a:lnTo>
                <a:lnTo>
                  <a:pt x="400050" y="3543300"/>
                </a:lnTo>
                <a:lnTo>
                  <a:pt x="0" y="2571750"/>
                </a:lnTo>
                <a:close/>
              </a:path>
            </a:pathLst>
          </a:custGeom>
          <a:solidFill>
            <a:srgbClr val="0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4667400" y="1314360"/>
            <a:ext cx="2038320" cy="1752840"/>
          </a:xfrm>
          <a:custGeom>
            <a:avLst/>
            <a:gdLst/>
            <a:ahLst/>
            <a:rect l="l" t="t" r="r" b="b"/>
            <a:pathLst>
              <a:path w="2038350" h="1752600">
                <a:moveTo>
                  <a:pt x="285750" y="819150"/>
                </a:moveTo>
                <a:lnTo>
                  <a:pt x="0" y="1447800"/>
                </a:lnTo>
                <a:lnTo>
                  <a:pt x="19050" y="1628775"/>
                </a:lnTo>
                <a:lnTo>
                  <a:pt x="533400" y="1752600"/>
                </a:lnTo>
                <a:lnTo>
                  <a:pt x="1028700" y="1504950"/>
                </a:lnTo>
                <a:lnTo>
                  <a:pt x="1809750" y="809625"/>
                </a:lnTo>
                <a:lnTo>
                  <a:pt x="1924050" y="609600"/>
                </a:lnTo>
                <a:lnTo>
                  <a:pt x="2038350" y="438150"/>
                </a:lnTo>
                <a:lnTo>
                  <a:pt x="2000250" y="9525"/>
                </a:lnTo>
                <a:lnTo>
                  <a:pt x="1724025" y="76200"/>
                </a:lnTo>
                <a:lnTo>
                  <a:pt x="1390650" y="76200"/>
                </a:lnTo>
                <a:lnTo>
                  <a:pt x="1219200" y="0"/>
                </a:lnTo>
                <a:lnTo>
                  <a:pt x="857250" y="257175"/>
                </a:lnTo>
                <a:lnTo>
                  <a:pt x="600075" y="781050"/>
                </a:lnTo>
                <a:lnTo>
                  <a:pt x="285750" y="819150"/>
                </a:lnTo>
                <a:close/>
              </a:path>
            </a:pathLst>
          </a:custGeom>
          <a:solidFill>
            <a:srgbClr val="ff66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"/>
          <p:cNvSpPr/>
          <p:nvPr/>
        </p:nvSpPr>
        <p:spPr>
          <a:xfrm>
            <a:off x="6620040" y="1057320"/>
            <a:ext cx="2447640" cy="1123920"/>
          </a:xfrm>
          <a:custGeom>
            <a:avLst/>
            <a:gdLst/>
            <a:ahLst/>
            <a:rect l="l" t="t" r="r" b="b"/>
            <a:pathLst>
              <a:path w="2447925" h="1123950">
                <a:moveTo>
                  <a:pt x="1981200" y="1123950"/>
                </a:moveTo>
                <a:lnTo>
                  <a:pt x="0" y="857250"/>
                </a:lnTo>
                <a:lnTo>
                  <a:pt x="95250" y="676275"/>
                </a:lnTo>
                <a:lnTo>
                  <a:pt x="76200" y="285750"/>
                </a:lnTo>
                <a:lnTo>
                  <a:pt x="552450" y="228600"/>
                </a:lnTo>
                <a:lnTo>
                  <a:pt x="981075" y="0"/>
                </a:lnTo>
                <a:lnTo>
                  <a:pt x="1238250" y="47625"/>
                </a:lnTo>
                <a:lnTo>
                  <a:pt x="1657350" y="209550"/>
                </a:lnTo>
                <a:lnTo>
                  <a:pt x="1924050" y="295275"/>
                </a:lnTo>
                <a:lnTo>
                  <a:pt x="2447925" y="695325"/>
                </a:lnTo>
                <a:lnTo>
                  <a:pt x="2305050" y="857250"/>
                </a:lnTo>
                <a:lnTo>
                  <a:pt x="2095500" y="895350"/>
                </a:lnTo>
                <a:lnTo>
                  <a:pt x="1981200" y="1123950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1625040" y="2457360"/>
            <a:ext cx="263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S-C D50 30/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Arrow 1"/>
          <p:cNvSpPr/>
          <p:nvPr/>
        </p:nvSpPr>
        <p:spPr>
          <a:xfrm rot="11281800">
            <a:off x="4080960" y="3186000"/>
            <a:ext cx="1401840" cy="6796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 rot="600600">
            <a:off x="4278240" y="33555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Tf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ight Arrow 14"/>
          <p:cNvSpPr/>
          <p:nvPr/>
        </p:nvSpPr>
        <p:spPr>
          <a:xfrm rot="11281800">
            <a:off x="5525640" y="2190600"/>
            <a:ext cx="1401840" cy="6796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5"/>
          <p:cNvSpPr/>
          <p:nvPr/>
        </p:nvSpPr>
        <p:spPr>
          <a:xfrm rot="600600">
            <a:off x="5722560" y="23619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Tf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ight Arrow 16"/>
          <p:cNvSpPr/>
          <p:nvPr/>
        </p:nvSpPr>
        <p:spPr>
          <a:xfrm rot="13945200">
            <a:off x="7457040" y="1988280"/>
            <a:ext cx="1401840" cy="6793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 rot="3052200">
            <a:off x="7681680" y="2187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Tf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0600" y="23940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nchorage ADS-C Distance Based Separ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7838-A035-423E-BDB0-D3B6FB06A461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401040" cy="4319640"/>
          </a:xfrm>
          <a:prstGeom prst="rect">
            <a:avLst/>
          </a:prstGeom>
          <a:ln w="0">
            <a:noFill/>
          </a:ln>
        </p:spPr>
      </p:pic>
      <p:sp>
        <p:nvSpPr>
          <p:cNvPr id="210" name="Freeform 6"/>
          <p:cNvSpPr/>
          <p:nvPr/>
        </p:nvSpPr>
        <p:spPr>
          <a:xfrm>
            <a:off x="266760" y="933480"/>
            <a:ext cx="4943520" cy="3543120"/>
          </a:xfrm>
          <a:custGeom>
            <a:avLst/>
            <a:gdLst/>
            <a:ahLst/>
            <a:rect l="l" t="t" r="r" b="b"/>
            <a:pathLst>
              <a:path w="4943475" h="3543300">
                <a:moveTo>
                  <a:pt x="0" y="2571750"/>
                </a:moveTo>
                <a:lnTo>
                  <a:pt x="1390650" y="1895475"/>
                </a:lnTo>
                <a:lnTo>
                  <a:pt x="2828925" y="533400"/>
                </a:lnTo>
                <a:lnTo>
                  <a:pt x="3324225" y="0"/>
                </a:lnTo>
                <a:lnTo>
                  <a:pt x="3943350" y="9525"/>
                </a:lnTo>
                <a:lnTo>
                  <a:pt x="4200525" y="390525"/>
                </a:lnTo>
                <a:lnTo>
                  <a:pt x="4305300" y="828675"/>
                </a:lnTo>
                <a:lnTo>
                  <a:pt x="4676775" y="1200150"/>
                </a:lnTo>
                <a:lnTo>
                  <a:pt x="4400550" y="1819275"/>
                </a:lnTo>
                <a:lnTo>
                  <a:pt x="4410075" y="2019300"/>
                </a:lnTo>
                <a:lnTo>
                  <a:pt x="4943475" y="2152650"/>
                </a:lnTo>
                <a:lnTo>
                  <a:pt x="4448175" y="2457450"/>
                </a:lnTo>
                <a:lnTo>
                  <a:pt x="400050" y="3543300"/>
                </a:lnTo>
                <a:lnTo>
                  <a:pt x="0" y="2571750"/>
                </a:lnTo>
                <a:close/>
              </a:path>
            </a:pathLst>
          </a:custGeom>
          <a:solidFill>
            <a:srgbClr val="0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4667400" y="1314360"/>
            <a:ext cx="2038320" cy="1752840"/>
          </a:xfrm>
          <a:custGeom>
            <a:avLst/>
            <a:gdLst/>
            <a:ahLst/>
            <a:rect l="l" t="t" r="r" b="b"/>
            <a:pathLst>
              <a:path w="2038350" h="1752600">
                <a:moveTo>
                  <a:pt x="285750" y="819150"/>
                </a:moveTo>
                <a:lnTo>
                  <a:pt x="0" y="1447800"/>
                </a:lnTo>
                <a:lnTo>
                  <a:pt x="19050" y="1628775"/>
                </a:lnTo>
                <a:lnTo>
                  <a:pt x="533400" y="1752600"/>
                </a:lnTo>
                <a:lnTo>
                  <a:pt x="1028700" y="1504950"/>
                </a:lnTo>
                <a:lnTo>
                  <a:pt x="1809750" y="809625"/>
                </a:lnTo>
                <a:lnTo>
                  <a:pt x="1924050" y="609600"/>
                </a:lnTo>
                <a:lnTo>
                  <a:pt x="2038350" y="438150"/>
                </a:lnTo>
                <a:lnTo>
                  <a:pt x="2000250" y="9525"/>
                </a:lnTo>
                <a:lnTo>
                  <a:pt x="1724025" y="76200"/>
                </a:lnTo>
                <a:lnTo>
                  <a:pt x="1390650" y="76200"/>
                </a:lnTo>
                <a:lnTo>
                  <a:pt x="1219200" y="0"/>
                </a:lnTo>
                <a:lnTo>
                  <a:pt x="857250" y="257175"/>
                </a:lnTo>
                <a:lnTo>
                  <a:pt x="600075" y="781050"/>
                </a:lnTo>
                <a:lnTo>
                  <a:pt x="285750" y="819150"/>
                </a:lnTo>
                <a:close/>
              </a:path>
            </a:pathLst>
          </a:custGeom>
          <a:solidFill>
            <a:srgbClr val="ff66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"/>
          <p:cNvSpPr/>
          <p:nvPr/>
        </p:nvSpPr>
        <p:spPr>
          <a:xfrm>
            <a:off x="6620040" y="1057320"/>
            <a:ext cx="2447640" cy="1123920"/>
          </a:xfrm>
          <a:custGeom>
            <a:avLst/>
            <a:gdLst/>
            <a:ahLst/>
            <a:rect l="l" t="t" r="r" b="b"/>
            <a:pathLst>
              <a:path w="2447925" h="1123950">
                <a:moveTo>
                  <a:pt x="1981200" y="1123950"/>
                </a:moveTo>
                <a:lnTo>
                  <a:pt x="0" y="857250"/>
                </a:lnTo>
                <a:lnTo>
                  <a:pt x="95250" y="676275"/>
                </a:lnTo>
                <a:lnTo>
                  <a:pt x="76200" y="285750"/>
                </a:lnTo>
                <a:lnTo>
                  <a:pt x="552450" y="228600"/>
                </a:lnTo>
                <a:lnTo>
                  <a:pt x="981075" y="0"/>
                </a:lnTo>
                <a:lnTo>
                  <a:pt x="1238250" y="47625"/>
                </a:lnTo>
                <a:lnTo>
                  <a:pt x="1657350" y="209550"/>
                </a:lnTo>
                <a:lnTo>
                  <a:pt x="1924050" y="295275"/>
                </a:lnTo>
                <a:lnTo>
                  <a:pt x="2447925" y="695325"/>
                </a:lnTo>
                <a:lnTo>
                  <a:pt x="2305050" y="857250"/>
                </a:lnTo>
                <a:lnTo>
                  <a:pt x="2095500" y="895350"/>
                </a:lnTo>
                <a:lnTo>
                  <a:pt x="1981200" y="1123950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ight Arrow 1"/>
          <p:cNvSpPr/>
          <p:nvPr/>
        </p:nvSpPr>
        <p:spPr>
          <a:xfrm rot="19891200">
            <a:off x="3476520" y="2723760"/>
            <a:ext cx="1893960" cy="677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"/>
          <p:cNvSpPr/>
          <p:nvPr/>
        </p:nvSpPr>
        <p:spPr>
          <a:xfrm rot="19672200">
            <a:off x="3429000" y="295632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land/Asia Tf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ight Arrow 14"/>
          <p:cNvSpPr/>
          <p:nvPr/>
        </p:nvSpPr>
        <p:spPr>
          <a:xfrm rot="11281800">
            <a:off x="5525640" y="2190600"/>
            <a:ext cx="1401840" cy="6796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 rot="600600">
            <a:off x="5716800" y="23619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ight Arrow 16"/>
          <p:cNvSpPr/>
          <p:nvPr/>
        </p:nvSpPr>
        <p:spPr>
          <a:xfrm rot="13945200">
            <a:off x="7457040" y="1988280"/>
            <a:ext cx="1401840" cy="6793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7"/>
          <p:cNvSpPr/>
          <p:nvPr/>
        </p:nvSpPr>
        <p:spPr>
          <a:xfrm rot="3052200">
            <a:off x="7681680" y="2187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Tf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PACOTS Track F UPR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onal Trial began July 25, 2013, to allow Track F UPRs at least 50nm south of PACOTS Tracks C &amp; 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ain 50nm South of Track E and Normal UPR Guidelin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published in KZAK NOTAM A3212/13 and Oakland Websit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F6BC-3DFF-4D9D-8463-2E976B3BDC5A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0600" y="23940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nchorage ADS-C Distance Based Separ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97BE-417E-46BC-993A-3289B87B61F2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401040" cy="431964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6"/>
          <p:cNvSpPr/>
          <p:nvPr/>
        </p:nvSpPr>
        <p:spPr>
          <a:xfrm>
            <a:off x="266760" y="933480"/>
            <a:ext cx="4943520" cy="3543120"/>
          </a:xfrm>
          <a:custGeom>
            <a:avLst/>
            <a:gdLst/>
            <a:ahLst/>
            <a:rect l="l" t="t" r="r" b="b"/>
            <a:pathLst>
              <a:path w="4943475" h="3543300">
                <a:moveTo>
                  <a:pt x="0" y="2571750"/>
                </a:moveTo>
                <a:lnTo>
                  <a:pt x="1390650" y="1895475"/>
                </a:lnTo>
                <a:lnTo>
                  <a:pt x="2828925" y="533400"/>
                </a:lnTo>
                <a:lnTo>
                  <a:pt x="3324225" y="0"/>
                </a:lnTo>
                <a:lnTo>
                  <a:pt x="3943350" y="9525"/>
                </a:lnTo>
                <a:lnTo>
                  <a:pt x="4200525" y="390525"/>
                </a:lnTo>
                <a:lnTo>
                  <a:pt x="4305300" y="828675"/>
                </a:lnTo>
                <a:lnTo>
                  <a:pt x="4676775" y="1200150"/>
                </a:lnTo>
                <a:lnTo>
                  <a:pt x="4400550" y="1819275"/>
                </a:lnTo>
                <a:lnTo>
                  <a:pt x="4410075" y="2019300"/>
                </a:lnTo>
                <a:lnTo>
                  <a:pt x="4943475" y="2152650"/>
                </a:lnTo>
                <a:lnTo>
                  <a:pt x="4448175" y="2457450"/>
                </a:lnTo>
                <a:lnTo>
                  <a:pt x="400050" y="3543300"/>
                </a:lnTo>
                <a:lnTo>
                  <a:pt x="0" y="2571750"/>
                </a:lnTo>
                <a:close/>
              </a:path>
            </a:pathLst>
          </a:custGeom>
          <a:solidFill>
            <a:srgbClr val="0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4667400" y="1314360"/>
            <a:ext cx="2038320" cy="1752840"/>
          </a:xfrm>
          <a:custGeom>
            <a:avLst/>
            <a:gdLst/>
            <a:ahLst/>
            <a:rect l="l" t="t" r="r" b="b"/>
            <a:pathLst>
              <a:path w="2038350" h="1752600">
                <a:moveTo>
                  <a:pt x="285750" y="819150"/>
                </a:moveTo>
                <a:lnTo>
                  <a:pt x="0" y="1447800"/>
                </a:lnTo>
                <a:lnTo>
                  <a:pt x="19050" y="1628775"/>
                </a:lnTo>
                <a:lnTo>
                  <a:pt x="533400" y="1752600"/>
                </a:lnTo>
                <a:lnTo>
                  <a:pt x="1028700" y="1504950"/>
                </a:lnTo>
                <a:lnTo>
                  <a:pt x="1809750" y="809625"/>
                </a:lnTo>
                <a:lnTo>
                  <a:pt x="1924050" y="609600"/>
                </a:lnTo>
                <a:lnTo>
                  <a:pt x="2038350" y="438150"/>
                </a:lnTo>
                <a:lnTo>
                  <a:pt x="2000250" y="9525"/>
                </a:lnTo>
                <a:lnTo>
                  <a:pt x="1724025" y="76200"/>
                </a:lnTo>
                <a:lnTo>
                  <a:pt x="1390650" y="76200"/>
                </a:lnTo>
                <a:lnTo>
                  <a:pt x="1219200" y="0"/>
                </a:lnTo>
                <a:lnTo>
                  <a:pt x="857250" y="257175"/>
                </a:lnTo>
                <a:lnTo>
                  <a:pt x="600075" y="781050"/>
                </a:lnTo>
                <a:lnTo>
                  <a:pt x="285750" y="819150"/>
                </a:lnTo>
                <a:close/>
              </a:path>
            </a:pathLst>
          </a:custGeom>
          <a:solidFill>
            <a:srgbClr val="00ff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6620040" y="1057320"/>
            <a:ext cx="2447640" cy="1123920"/>
          </a:xfrm>
          <a:custGeom>
            <a:avLst/>
            <a:gdLst/>
            <a:ahLst/>
            <a:rect l="l" t="t" r="r" b="b"/>
            <a:pathLst>
              <a:path w="2447925" h="1123950">
                <a:moveTo>
                  <a:pt x="1981200" y="1123950"/>
                </a:moveTo>
                <a:lnTo>
                  <a:pt x="0" y="857250"/>
                </a:lnTo>
                <a:lnTo>
                  <a:pt x="95250" y="676275"/>
                </a:lnTo>
                <a:lnTo>
                  <a:pt x="76200" y="285750"/>
                </a:lnTo>
                <a:lnTo>
                  <a:pt x="552450" y="228600"/>
                </a:lnTo>
                <a:lnTo>
                  <a:pt x="981075" y="0"/>
                </a:lnTo>
                <a:lnTo>
                  <a:pt x="1238250" y="47625"/>
                </a:lnTo>
                <a:lnTo>
                  <a:pt x="1657350" y="209550"/>
                </a:lnTo>
                <a:lnTo>
                  <a:pt x="1924050" y="295275"/>
                </a:lnTo>
                <a:lnTo>
                  <a:pt x="2447925" y="695325"/>
                </a:lnTo>
                <a:lnTo>
                  <a:pt x="2305050" y="857250"/>
                </a:lnTo>
                <a:lnTo>
                  <a:pt x="2095500" y="895350"/>
                </a:lnTo>
                <a:lnTo>
                  <a:pt x="1981200" y="1123950"/>
                </a:lnTo>
                <a:close/>
              </a:path>
            </a:pathLst>
          </a:custGeom>
          <a:solidFill>
            <a:srgbClr val="80c53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1863360" y="2457360"/>
            <a:ext cx="263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S-C D50 30/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0"/>
          <p:cNvSpPr/>
          <p:nvPr/>
        </p:nvSpPr>
        <p:spPr>
          <a:xfrm rot="19193400">
            <a:off x="4602600" y="19605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50 &amp; 30/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"/>
          <p:cNvSpPr/>
          <p:nvPr/>
        </p:nvSpPr>
        <p:spPr>
          <a:xfrm rot="434400">
            <a:off x="6615720" y="1596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50 &amp; 30/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3926160" y="4065480"/>
            <a:ext cx="235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lanne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oving Forward C/E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5E83-FB31-47C3-9957-D9CABCBEFC6B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647640" y="1241280"/>
            <a:ext cx="805032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tative Resume Date 02/19/201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DE49-2C47-4BC7-9B08-861F1CF4C1EF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509760" y="0"/>
            <a:ext cx="8111880" cy="6095880"/>
          </a:xfrm>
          <a:prstGeom prst="rect">
            <a:avLst/>
          </a:prstGeom>
          <a:ln w="0">
            <a:noFill/>
          </a:ln>
        </p:spPr>
      </p:pic>
      <p:sp>
        <p:nvSpPr>
          <p:cNvPr id="235" name="Freeform 3"/>
          <p:cNvSpPr/>
          <p:nvPr/>
        </p:nvSpPr>
        <p:spPr>
          <a:xfrm>
            <a:off x="1509840" y="465120"/>
            <a:ext cx="2946240" cy="3641760"/>
          </a:xfrm>
          <a:custGeom>
            <a:avLst/>
            <a:gdLst/>
            <a:ahLst/>
            <a:rect l="l" t="t" r="r" b="b"/>
            <a:pathLst>
              <a:path w="2946400" h="3643086">
                <a:moveTo>
                  <a:pt x="1146628" y="0"/>
                </a:moveTo>
                <a:lnTo>
                  <a:pt x="2119085" y="420914"/>
                </a:lnTo>
                <a:lnTo>
                  <a:pt x="2844800" y="696686"/>
                </a:lnTo>
                <a:lnTo>
                  <a:pt x="2946400" y="1698172"/>
                </a:lnTo>
                <a:lnTo>
                  <a:pt x="2656114" y="1872343"/>
                </a:lnTo>
                <a:lnTo>
                  <a:pt x="2554514" y="2032000"/>
                </a:lnTo>
                <a:lnTo>
                  <a:pt x="2496457" y="2452914"/>
                </a:lnTo>
                <a:lnTo>
                  <a:pt x="2612571" y="2786743"/>
                </a:lnTo>
                <a:lnTo>
                  <a:pt x="362857" y="3643086"/>
                </a:lnTo>
                <a:lnTo>
                  <a:pt x="0" y="2714172"/>
                </a:lnTo>
                <a:lnTo>
                  <a:pt x="493485" y="1378857"/>
                </a:lnTo>
                <a:lnTo>
                  <a:pt x="1146628" y="0"/>
                </a:lnTo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4"/>
          <p:cNvSpPr/>
          <p:nvPr/>
        </p:nvSpPr>
        <p:spPr>
          <a:xfrm>
            <a:off x="3352680" y="1176480"/>
            <a:ext cx="2467080" cy="4541760"/>
          </a:xfrm>
          <a:custGeom>
            <a:avLst/>
            <a:gdLst/>
            <a:ahLst/>
            <a:rect l="l" t="t" r="r" b="b"/>
            <a:pathLst>
              <a:path w="2467429" h="4542972">
                <a:moveTo>
                  <a:pt x="1030514" y="0"/>
                </a:moveTo>
                <a:lnTo>
                  <a:pt x="2467429" y="522514"/>
                </a:lnTo>
                <a:lnTo>
                  <a:pt x="2409371" y="4542972"/>
                </a:lnTo>
                <a:lnTo>
                  <a:pt x="0" y="4078514"/>
                </a:lnTo>
                <a:lnTo>
                  <a:pt x="174171" y="3352800"/>
                </a:lnTo>
                <a:lnTo>
                  <a:pt x="653143" y="1828800"/>
                </a:lnTo>
                <a:lnTo>
                  <a:pt x="667657" y="1451429"/>
                </a:lnTo>
                <a:lnTo>
                  <a:pt x="827314" y="1132114"/>
                </a:lnTo>
                <a:lnTo>
                  <a:pt x="1074057" y="986972"/>
                </a:lnTo>
                <a:lnTo>
                  <a:pt x="1103086" y="972457"/>
                </a:lnTo>
                <a:lnTo>
                  <a:pt x="1030514" y="0"/>
                </a:lnTo>
                <a:close/>
              </a:path>
            </a:pathLst>
          </a:custGeom>
          <a:solidFill>
            <a:srgbClr val="2206f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5762520" y="928800"/>
            <a:ext cx="2597400" cy="5006880"/>
          </a:xfrm>
          <a:custGeom>
            <a:avLst/>
            <a:gdLst/>
            <a:ahLst/>
            <a:rect l="l" t="t" r="r" b="b"/>
            <a:pathLst>
              <a:path w="2598058" h="5007429">
                <a:moveTo>
                  <a:pt x="43543" y="740229"/>
                </a:moveTo>
                <a:lnTo>
                  <a:pt x="1204686" y="1074057"/>
                </a:lnTo>
                <a:lnTo>
                  <a:pt x="1480458" y="0"/>
                </a:lnTo>
                <a:lnTo>
                  <a:pt x="2598058" y="4513943"/>
                </a:lnTo>
                <a:lnTo>
                  <a:pt x="1407886" y="4325257"/>
                </a:lnTo>
                <a:lnTo>
                  <a:pt x="1364343" y="5007429"/>
                </a:lnTo>
                <a:lnTo>
                  <a:pt x="0" y="4760686"/>
                </a:lnTo>
                <a:lnTo>
                  <a:pt x="43543" y="740229"/>
                </a:lnTo>
                <a:close/>
              </a:path>
            </a:pathLst>
          </a:custGeom>
          <a:solidFill>
            <a:srgbClr val="c22c8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235240" y="1504800"/>
            <a:ext cx="12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A PTRO UP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8"/>
          <p:cNvSpPr/>
          <p:nvPr/>
        </p:nvSpPr>
        <p:spPr>
          <a:xfrm>
            <a:off x="4143240" y="2938320"/>
            <a:ext cx="16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 Australia UP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9"/>
          <p:cNvSpPr/>
          <p:nvPr/>
        </p:nvSpPr>
        <p:spPr>
          <a:xfrm>
            <a:off x="6118200" y="2832120"/>
            <a:ext cx="12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A NZ/NC UP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ARP"/>
          <p:cNvPicPr/>
          <p:nvPr/>
        </p:nvPicPr>
        <p:blipFill>
          <a:blip r:embed="rId1"/>
          <a:srcRect l="0" t="0" r="0" b="26811"/>
          <a:stretch/>
        </p:blipFill>
        <p:spPr>
          <a:xfrm>
            <a:off x="0" y="357120"/>
            <a:ext cx="9144000" cy="582624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0B8B-8437-409C-B2F5-83204989E355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0" y="-115920"/>
            <a:ext cx="9318600" cy="52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7"/>
          <p:cNvSpPr/>
          <p:nvPr/>
        </p:nvSpPr>
        <p:spPr>
          <a:xfrm>
            <a:off x="1160640" y="0"/>
            <a:ext cx="69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stbound PACO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1836720" y="2748600"/>
            <a:ext cx="3613320" cy="567720"/>
            <a:chOff x="1836720" y="2748600"/>
            <a:chExt cx="3613320" cy="567720"/>
          </a:xfrm>
        </p:grpSpPr>
        <p:sp>
          <p:nvSpPr>
            <p:cNvPr id="246" name="Freeform 13"/>
            <p:cNvSpPr/>
            <p:nvPr/>
          </p:nvSpPr>
          <p:spPr>
            <a:xfrm>
              <a:off x="1836720" y="2866320"/>
              <a:ext cx="3613320" cy="450000"/>
            </a:xfrm>
            <a:custGeom>
              <a:avLst/>
              <a:gdLst/>
              <a:ahLst/>
              <a:rect l="l" t="t" r="r" b="b"/>
              <a:pathLst>
                <a:path w="3614057" h="449943">
                  <a:moveTo>
                    <a:pt x="3614057" y="0"/>
                  </a:moveTo>
                  <a:lnTo>
                    <a:pt x="2249714" y="72572"/>
                  </a:lnTo>
                  <a:lnTo>
                    <a:pt x="0" y="449943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4"/>
            <p:cNvSpPr/>
            <p:nvPr/>
          </p:nvSpPr>
          <p:spPr>
            <a:xfrm rot="21352800">
              <a:off x="4160880" y="2774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15"/>
            <p:cNvSpPr/>
            <p:nvPr/>
          </p:nvSpPr>
          <p:spPr>
            <a:xfrm rot="21055200">
              <a:off x="2667240" y="29797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2"/>
          <p:cNvGrpSpPr/>
          <p:nvPr/>
        </p:nvGrpSpPr>
        <p:grpSpPr>
          <a:xfrm>
            <a:off x="1684440" y="2583720"/>
            <a:ext cx="3612960" cy="580320"/>
            <a:chOff x="1684440" y="2583720"/>
            <a:chExt cx="3612960" cy="580320"/>
          </a:xfrm>
        </p:grpSpPr>
        <p:sp>
          <p:nvSpPr>
            <p:cNvPr id="250" name="Freeform 3"/>
            <p:cNvSpPr/>
            <p:nvPr/>
          </p:nvSpPr>
          <p:spPr>
            <a:xfrm>
              <a:off x="1684440" y="2713680"/>
              <a:ext cx="3612960" cy="450360"/>
            </a:xfrm>
            <a:custGeom>
              <a:avLst/>
              <a:gdLst/>
              <a:ahLst/>
              <a:rect l="l" t="t" r="r" b="b"/>
              <a:pathLst>
                <a:path w="3614057" h="449943">
                  <a:moveTo>
                    <a:pt x="3614057" y="0"/>
                  </a:moveTo>
                  <a:lnTo>
                    <a:pt x="2249714" y="72572"/>
                  </a:lnTo>
                  <a:lnTo>
                    <a:pt x="0" y="449943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16"/>
            <p:cNvSpPr/>
            <p:nvPr/>
          </p:nvSpPr>
          <p:spPr>
            <a:xfrm rot="21352800">
              <a:off x="4236840" y="261000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7"/>
            <p:cNvSpPr/>
            <p:nvPr/>
          </p:nvSpPr>
          <p:spPr>
            <a:xfrm rot="21077400">
              <a:off x="2637360" y="28051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4"/>
          <p:cNvGrpSpPr/>
          <p:nvPr/>
        </p:nvGrpSpPr>
        <p:grpSpPr>
          <a:xfrm>
            <a:off x="1306440" y="2141640"/>
            <a:ext cx="6023160" cy="906480"/>
            <a:chOff x="1306440" y="2141640"/>
            <a:chExt cx="6023160" cy="906480"/>
          </a:xfrm>
        </p:grpSpPr>
        <p:sp>
          <p:nvSpPr>
            <p:cNvPr id="254" name="Freeform 2"/>
            <p:cNvSpPr/>
            <p:nvPr/>
          </p:nvSpPr>
          <p:spPr>
            <a:xfrm>
              <a:off x="1306440" y="2264760"/>
              <a:ext cx="6023160" cy="783360"/>
            </a:xfrm>
            <a:custGeom>
              <a:avLst/>
              <a:gdLst/>
              <a:ahLst/>
              <a:rect l="l" t="t" r="r" b="b"/>
              <a:pathLst>
                <a:path w="6023429" h="783771">
                  <a:moveTo>
                    <a:pt x="6023429" y="0"/>
                  </a:moveTo>
                  <a:lnTo>
                    <a:pt x="4397829" y="29028"/>
                  </a:lnTo>
                  <a:lnTo>
                    <a:pt x="2670629" y="261257"/>
                  </a:lnTo>
                  <a:lnTo>
                    <a:pt x="0" y="783771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8"/>
            <p:cNvSpPr/>
            <p:nvPr/>
          </p:nvSpPr>
          <p:spPr>
            <a:xfrm>
              <a:off x="5894640" y="21416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K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9"/>
            <p:cNvSpPr/>
            <p:nvPr/>
          </p:nvSpPr>
          <p:spPr>
            <a:xfrm rot="21240000">
              <a:off x="3880440" y="23479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K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5151"/>
          <p:cNvGrpSpPr/>
          <p:nvPr/>
        </p:nvGrpSpPr>
        <p:grpSpPr>
          <a:xfrm>
            <a:off x="1393920" y="1944720"/>
            <a:ext cx="5776920" cy="849240"/>
            <a:chOff x="1393920" y="1944720"/>
            <a:chExt cx="5776920" cy="849240"/>
          </a:xfrm>
        </p:grpSpPr>
        <p:sp>
          <p:nvSpPr>
            <p:cNvPr id="258" name="Freeform 6"/>
            <p:cNvSpPr/>
            <p:nvPr/>
          </p:nvSpPr>
          <p:spPr>
            <a:xfrm>
              <a:off x="1393920" y="2082240"/>
              <a:ext cx="5776920" cy="711720"/>
            </a:xfrm>
            <a:custGeom>
              <a:avLst/>
              <a:gdLst/>
              <a:ahLst/>
              <a:rect l="l" t="t" r="r" b="b"/>
              <a:pathLst>
                <a:path w="5776684" h="711200">
                  <a:moveTo>
                    <a:pt x="5776684" y="0"/>
                  </a:moveTo>
                  <a:lnTo>
                    <a:pt x="4310741" y="0"/>
                  </a:lnTo>
                  <a:lnTo>
                    <a:pt x="2583541" y="232229"/>
                  </a:lnTo>
                  <a:lnTo>
                    <a:pt x="0" y="711200"/>
                  </a:lnTo>
                </a:path>
              </a:pathLst>
            </a:custGeom>
            <a:noFill/>
            <a:ln w="127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20"/>
            <p:cNvSpPr/>
            <p:nvPr/>
          </p:nvSpPr>
          <p:spPr>
            <a:xfrm rot="21178200">
              <a:off x="3920400" y="213228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J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21"/>
            <p:cNvSpPr/>
            <p:nvPr/>
          </p:nvSpPr>
          <p:spPr>
            <a:xfrm>
              <a:off x="5907600" y="194472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J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5152"/>
          <p:cNvGrpSpPr/>
          <p:nvPr/>
        </p:nvGrpSpPr>
        <p:grpSpPr>
          <a:xfrm>
            <a:off x="1643040" y="1731960"/>
            <a:ext cx="5356080" cy="822240"/>
            <a:chOff x="1643040" y="1731960"/>
            <a:chExt cx="5356080" cy="822240"/>
          </a:xfrm>
        </p:grpSpPr>
        <p:sp>
          <p:nvSpPr>
            <p:cNvPr id="262" name="Freeform 7"/>
            <p:cNvSpPr/>
            <p:nvPr/>
          </p:nvSpPr>
          <p:spPr>
            <a:xfrm>
              <a:off x="1643040" y="1871640"/>
              <a:ext cx="5356080" cy="682560"/>
            </a:xfrm>
            <a:custGeom>
              <a:avLst/>
              <a:gdLst/>
              <a:ahLst/>
              <a:rect l="l" t="t" r="r" b="b"/>
              <a:pathLst>
                <a:path w="5355772" h="682171">
                  <a:moveTo>
                    <a:pt x="5355772" y="0"/>
                  </a:moveTo>
                  <a:lnTo>
                    <a:pt x="4005943" y="0"/>
                  </a:lnTo>
                  <a:lnTo>
                    <a:pt x="2278743" y="232229"/>
                  </a:lnTo>
                  <a:lnTo>
                    <a:pt x="0" y="682171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22"/>
            <p:cNvSpPr/>
            <p:nvPr/>
          </p:nvSpPr>
          <p:spPr>
            <a:xfrm rot="21111000">
              <a:off x="3883320" y="191988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</a:t>
              </a: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23"/>
            <p:cNvSpPr/>
            <p:nvPr/>
          </p:nvSpPr>
          <p:spPr>
            <a:xfrm>
              <a:off x="5872680" y="173196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</a:t>
              </a: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5153"/>
          <p:cNvGrpSpPr/>
          <p:nvPr/>
        </p:nvGrpSpPr>
        <p:grpSpPr>
          <a:xfrm>
            <a:off x="1809720" y="1509840"/>
            <a:ext cx="4935600" cy="761760"/>
            <a:chOff x="1809720" y="1509840"/>
            <a:chExt cx="4935600" cy="761760"/>
          </a:xfrm>
        </p:grpSpPr>
        <p:sp>
          <p:nvSpPr>
            <p:cNvPr id="266" name="Freeform 8"/>
            <p:cNvSpPr/>
            <p:nvPr/>
          </p:nvSpPr>
          <p:spPr>
            <a:xfrm>
              <a:off x="1809720" y="1632600"/>
              <a:ext cx="4935600" cy="639000"/>
            </a:xfrm>
            <a:custGeom>
              <a:avLst/>
              <a:gdLst/>
              <a:ahLst/>
              <a:rect l="l" t="t" r="r" b="b"/>
              <a:pathLst>
                <a:path w="4934858" h="638628">
                  <a:moveTo>
                    <a:pt x="4934858" y="29029"/>
                  </a:moveTo>
                  <a:lnTo>
                    <a:pt x="3904343" y="0"/>
                  </a:lnTo>
                  <a:lnTo>
                    <a:pt x="2264229" y="188686"/>
                  </a:lnTo>
                  <a:lnTo>
                    <a:pt x="0" y="638628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25"/>
            <p:cNvSpPr/>
            <p:nvPr/>
          </p:nvSpPr>
          <p:spPr>
            <a:xfrm rot="21176400">
              <a:off x="3996000" y="1649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26"/>
            <p:cNvSpPr/>
            <p:nvPr/>
          </p:nvSpPr>
          <p:spPr>
            <a:xfrm>
              <a:off x="5894640" y="15098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5154"/>
          <p:cNvGrpSpPr/>
          <p:nvPr/>
        </p:nvGrpSpPr>
        <p:grpSpPr>
          <a:xfrm>
            <a:off x="1947960" y="1276200"/>
            <a:ext cx="4630680" cy="770040"/>
            <a:chOff x="1947960" y="1276200"/>
            <a:chExt cx="4630680" cy="770040"/>
          </a:xfrm>
        </p:grpSpPr>
        <p:sp>
          <p:nvSpPr>
            <p:cNvPr id="270" name="Freeform 9"/>
            <p:cNvSpPr/>
            <p:nvPr/>
          </p:nvSpPr>
          <p:spPr>
            <a:xfrm>
              <a:off x="1947960" y="1402560"/>
              <a:ext cx="4630680" cy="643680"/>
            </a:xfrm>
            <a:custGeom>
              <a:avLst/>
              <a:gdLst/>
              <a:ahLst/>
              <a:rect l="l" t="t" r="r" b="b"/>
              <a:pathLst>
                <a:path w="4630057" h="643845">
                  <a:moveTo>
                    <a:pt x="4630057" y="34246"/>
                  </a:moveTo>
                  <a:lnTo>
                    <a:pt x="3833130" y="0"/>
                  </a:lnTo>
                  <a:lnTo>
                    <a:pt x="2278742" y="164874"/>
                  </a:lnTo>
                  <a:lnTo>
                    <a:pt x="0" y="643845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24"/>
            <p:cNvSpPr/>
            <p:nvPr/>
          </p:nvSpPr>
          <p:spPr>
            <a:xfrm>
              <a:off x="5697360" y="127620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F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27"/>
            <p:cNvSpPr/>
            <p:nvPr/>
          </p:nvSpPr>
          <p:spPr>
            <a:xfrm rot="20846400">
              <a:off x="3483000" y="15177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F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5155"/>
          <p:cNvGrpSpPr/>
          <p:nvPr/>
        </p:nvGrpSpPr>
        <p:grpSpPr>
          <a:xfrm>
            <a:off x="2201760" y="1032480"/>
            <a:ext cx="4224600" cy="745560"/>
            <a:chOff x="2201760" y="1032480"/>
            <a:chExt cx="4224600" cy="745560"/>
          </a:xfrm>
        </p:grpSpPr>
        <p:sp>
          <p:nvSpPr>
            <p:cNvPr id="274" name="Freeform 10"/>
            <p:cNvSpPr/>
            <p:nvPr/>
          </p:nvSpPr>
          <p:spPr>
            <a:xfrm>
              <a:off x="2201760" y="1168560"/>
              <a:ext cx="4224600" cy="609480"/>
            </a:xfrm>
            <a:custGeom>
              <a:avLst/>
              <a:gdLst/>
              <a:ahLst/>
              <a:rect l="l" t="t" r="r" b="b"/>
              <a:pathLst>
                <a:path w="4223658" h="609601">
                  <a:moveTo>
                    <a:pt x="4223658" y="72573"/>
                  </a:moveTo>
                  <a:lnTo>
                    <a:pt x="3425371" y="0"/>
                  </a:lnTo>
                  <a:lnTo>
                    <a:pt x="2177143" y="116115"/>
                  </a:lnTo>
                  <a:lnTo>
                    <a:pt x="0" y="609601"/>
                  </a:lnTo>
                </a:path>
              </a:pathLst>
            </a:custGeom>
            <a:noFill/>
            <a:ln w="127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8"/>
            <p:cNvSpPr/>
            <p:nvPr/>
          </p:nvSpPr>
          <p:spPr>
            <a:xfrm rot="252000">
              <a:off x="5621760" y="105876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29"/>
            <p:cNvSpPr/>
            <p:nvPr/>
          </p:nvSpPr>
          <p:spPr>
            <a:xfrm rot="20824200">
              <a:off x="3461040" y="127116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5156"/>
          <p:cNvGrpSpPr/>
          <p:nvPr/>
        </p:nvGrpSpPr>
        <p:grpSpPr>
          <a:xfrm>
            <a:off x="2427120" y="858960"/>
            <a:ext cx="3367080" cy="693720"/>
            <a:chOff x="2427120" y="858960"/>
            <a:chExt cx="3367080" cy="693720"/>
          </a:xfrm>
        </p:grpSpPr>
        <p:sp>
          <p:nvSpPr>
            <p:cNvPr id="278" name="Freeform 11"/>
            <p:cNvSpPr/>
            <p:nvPr/>
          </p:nvSpPr>
          <p:spPr>
            <a:xfrm>
              <a:off x="2427120" y="987120"/>
              <a:ext cx="3367080" cy="565560"/>
            </a:xfrm>
            <a:custGeom>
              <a:avLst/>
              <a:gdLst/>
              <a:ahLst/>
              <a:rect l="l" t="t" r="r" b="b"/>
              <a:pathLst>
                <a:path w="3367316" h="566058">
                  <a:moveTo>
                    <a:pt x="3367316" y="14516"/>
                  </a:moveTo>
                  <a:lnTo>
                    <a:pt x="2772228" y="0"/>
                  </a:lnTo>
                  <a:lnTo>
                    <a:pt x="2104572" y="58058"/>
                  </a:lnTo>
                  <a:lnTo>
                    <a:pt x="0" y="566058"/>
                  </a:lnTo>
                </a:path>
              </a:pathLst>
            </a:custGeom>
            <a:noFill/>
            <a:ln w="127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30"/>
            <p:cNvSpPr/>
            <p:nvPr/>
          </p:nvSpPr>
          <p:spPr>
            <a:xfrm rot="20824200">
              <a:off x="3444480" y="108360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31"/>
            <p:cNvSpPr/>
            <p:nvPr/>
          </p:nvSpPr>
          <p:spPr>
            <a:xfrm>
              <a:off x="4852800" y="858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ounded Rectangular Callout 5157"/>
          <p:cNvSpPr/>
          <p:nvPr/>
        </p:nvSpPr>
        <p:spPr>
          <a:xfrm>
            <a:off x="4676760" y="3313080"/>
            <a:ext cx="1697040" cy="2076120"/>
          </a:xfrm>
          <a:prstGeom prst="wedgeRoundRectCallout">
            <a:avLst>
              <a:gd name="adj1" fmla="val -117930"/>
              <a:gd name="adj2" fmla="val -72347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ACG HAWAII JAPAN PACOTS UP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xplosion 1 5159"/>
          <p:cNvSpPr/>
          <p:nvPr/>
        </p:nvSpPr>
        <p:spPr>
          <a:xfrm>
            <a:off x="2552760" y="2655720"/>
            <a:ext cx="2301840" cy="660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ular Callout 44"/>
          <p:cNvSpPr/>
          <p:nvPr/>
        </p:nvSpPr>
        <p:spPr>
          <a:xfrm>
            <a:off x="6745320" y="2749680"/>
            <a:ext cx="1697040" cy="1286280"/>
          </a:xfrm>
          <a:prstGeom prst="wedgeRoundRectCallout">
            <a:avLst>
              <a:gd name="adj1" fmla="val -118481"/>
              <a:gd name="adj2" fmla="val -86203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ACG TRACK K UP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xplosion 1 45"/>
          <p:cNvSpPr/>
          <p:nvPr/>
        </p:nvSpPr>
        <p:spPr>
          <a:xfrm>
            <a:off x="3643200" y="2124000"/>
            <a:ext cx="2301840" cy="660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ular Callout 48"/>
          <p:cNvSpPr/>
          <p:nvPr/>
        </p:nvSpPr>
        <p:spPr>
          <a:xfrm>
            <a:off x="7170840" y="625320"/>
            <a:ext cx="1834920" cy="1286280"/>
          </a:xfrm>
          <a:prstGeom prst="wedgeRoundRectCallout">
            <a:avLst>
              <a:gd name="adj1" fmla="val -88662"/>
              <a:gd name="adj2" fmla="val 40680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ACG TRACK H/I UP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xplosion 1 49"/>
          <p:cNvSpPr/>
          <p:nvPr/>
        </p:nvSpPr>
        <p:spPr>
          <a:xfrm>
            <a:off x="3895560" y="1463760"/>
            <a:ext cx="2300400" cy="6602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ular Callout 50"/>
          <p:cNvSpPr/>
          <p:nvPr/>
        </p:nvSpPr>
        <p:spPr>
          <a:xfrm>
            <a:off x="366840" y="341280"/>
            <a:ext cx="1834920" cy="1286280"/>
          </a:xfrm>
          <a:prstGeom prst="wedgeRoundRectCallout">
            <a:avLst>
              <a:gd name="adj1" fmla="val 94800"/>
              <a:gd name="adj2" fmla="val 65500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ACG TRACK F UP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xplosion 1 51"/>
          <p:cNvSpPr/>
          <p:nvPr/>
        </p:nvSpPr>
        <p:spPr>
          <a:xfrm>
            <a:off x="3703680" y="1165320"/>
            <a:ext cx="2301840" cy="6602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"/>
                            </p:stCondLst>
                            <p:childTnLst>
                              <p:par>
                                <p:cTn id="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5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25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5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"/>
                            </p:stCondLst>
                            <p:childTnLst>
                              <p:par>
                                <p:cTn id="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5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25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5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"/>
                            </p:stCondLst>
                            <p:childTnLst>
                              <p:par>
                                <p:cTn id="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5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2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5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DARP"/>
          <p:cNvPicPr/>
          <p:nvPr/>
        </p:nvPicPr>
        <p:blipFill>
          <a:blip r:embed="rId1"/>
          <a:srcRect l="0" t="0" r="0" b="26811"/>
          <a:stretch/>
        </p:blipFill>
        <p:spPr>
          <a:xfrm>
            <a:off x="0" y="357120"/>
            <a:ext cx="9144000" cy="58262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7A9D-6411-46A4-95A7-392AD0D08F89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0" y="-115920"/>
            <a:ext cx="9318600" cy="52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7"/>
          <p:cNvSpPr/>
          <p:nvPr/>
        </p:nvSpPr>
        <p:spPr>
          <a:xfrm>
            <a:off x="868320" y="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COTS TRACK C/E MER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0"/>
          <p:cNvSpPr/>
          <p:nvPr/>
        </p:nvSpPr>
        <p:spPr>
          <a:xfrm>
            <a:off x="3479760" y="1312920"/>
            <a:ext cx="3192480" cy="160200"/>
          </a:xfrm>
          <a:custGeom>
            <a:avLst/>
            <a:gdLst/>
            <a:ahLst/>
            <a:rect l="l" t="t" r="r" b="b"/>
            <a:pathLst>
              <a:path w="3193143" h="159657">
                <a:moveTo>
                  <a:pt x="3193143" y="159657"/>
                </a:moveTo>
                <a:lnTo>
                  <a:pt x="2452914" y="145142"/>
                </a:lnTo>
                <a:lnTo>
                  <a:pt x="1262743" y="145143"/>
                </a:lnTo>
                <a:lnTo>
                  <a:pt x="0" y="0"/>
                </a:lnTo>
              </a:path>
            </a:pathLst>
          </a:custGeom>
          <a:noFill/>
          <a:ln w="127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8"/>
          <p:cNvSpPr/>
          <p:nvPr/>
        </p:nvSpPr>
        <p:spPr>
          <a:xfrm>
            <a:off x="5805720" y="135396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k 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9"/>
          <p:cNvSpPr/>
          <p:nvPr/>
        </p:nvSpPr>
        <p:spPr>
          <a:xfrm rot="319200">
            <a:off x="3912840" y="128376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k 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156"/>
          <p:cNvGrpSpPr/>
          <p:nvPr/>
        </p:nvGrpSpPr>
        <p:grpSpPr>
          <a:xfrm>
            <a:off x="2427120" y="858960"/>
            <a:ext cx="3367080" cy="693720"/>
            <a:chOff x="2427120" y="858960"/>
            <a:chExt cx="3367080" cy="693720"/>
          </a:xfrm>
        </p:grpSpPr>
        <p:sp>
          <p:nvSpPr>
            <p:cNvPr id="297" name="Freeform 11"/>
            <p:cNvSpPr/>
            <p:nvPr/>
          </p:nvSpPr>
          <p:spPr>
            <a:xfrm>
              <a:off x="2427120" y="987120"/>
              <a:ext cx="3367080" cy="565560"/>
            </a:xfrm>
            <a:custGeom>
              <a:avLst/>
              <a:gdLst/>
              <a:ahLst/>
              <a:rect l="l" t="t" r="r" b="b"/>
              <a:pathLst>
                <a:path w="3367316" h="566058">
                  <a:moveTo>
                    <a:pt x="3367316" y="14516"/>
                  </a:moveTo>
                  <a:lnTo>
                    <a:pt x="2772228" y="0"/>
                  </a:lnTo>
                  <a:lnTo>
                    <a:pt x="2104572" y="58058"/>
                  </a:lnTo>
                  <a:lnTo>
                    <a:pt x="0" y="566058"/>
                  </a:lnTo>
                </a:path>
              </a:pathLst>
            </a:custGeom>
            <a:noFill/>
            <a:ln w="127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30"/>
            <p:cNvSpPr/>
            <p:nvPr/>
          </p:nvSpPr>
          <p:spPr>
            <a:xfrm rot="20824200">
              <a:off x="3444480" y="108360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31"/>
            <p:cNvSpPr/>
            <p:nvPr/>
          </p:nvSpPr>
          <p:spPr>
            <a:xfrm>
              <a:off x="4852800" y="858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0" y="0"/>
            <a:ext cx="9361440" cy="5810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DARP"/>
          <p:cNvPicPr/>
          <p:nvPr/>
        </p:nvPicPr>
        <p:blipFill>
          <a:blip r:embed="rId1"/>
          <a:srcRect l="0" t="0" r="0" b="23140"/>
          <a:stretch/>
        </p:blipFill>
        <p:spPr>
          <a:xfrm>
            <a:off x="-20520" y="531720"/>
            <a:ext cx="9144000" cy="61182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1CBC-FBB0-4E03-82CC-14961835097E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8"/>
          <p:cNvGrpSpPr/>
          <p:nvPr/>
        </p:nvGrpSpPr>
        <p:grpSpPr>
          <a:xfrm>
            <a:off x="1523880" y="1665360"/>
            <a:ext cx="5776920" cy="847800"/>
            <a:chOff x="1523880" y="1665360"/>
            <a:chExt cx="5776920" cy="847800"/>
          </a:xfrm>
        </p:grpSpPr>
        <p:sp>
          <p:nvSpPr>
            <p:cNvPr id="304" name="Freeform 4"/>
            <p:cNvSpPr/>
            <p:nvPr/>
          </p:nvSpPr>
          <p:spPr>
            <a:xfrm>
              <a:off x="1523880" y="1802880"/>
              <a:ext cx="5776920" cy="710280"/>
            </a:xfrm>
            <a:custGeom>
              <a:avLst/>
              <a:gdLst/>
              <a:ahLst/>
              <a:rect l="l" t="t" r="r" b="b"/>
              <a:pathLst>
                <a:path w="5776684" h="711200">
                  <a:moveTo>
                    <a:pt x="5776684" y="0"/>
                  </a:moveTo>
                  <a:lnTo>
                    <a:pt x="4310741" y="0"/>
                  </a:lnTo>
                  <a:lnTo>
                    <a:pt x="2583541" y="232229"/>
                  </a:lnTo>
                  <a:lnTo>
                    <a:pt x="0" y="711200"/>
                  </a:lnTo>
                </a:path>
              </a:pathLst>
            </a:custGeom>
            <a:noFill/>
            <a:ln w="127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5"/>
            <p:cNvSpPr/>
            <p:nvPr/>
          </p:nvSpPr>
          <p:spPr>
            <a:xfrm rot="21178200">
              <a:off x="4050360" y="185256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J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6"/>
            <p:cNvSpPr/>
            <p:nvPr/>
          </p:nvSpPr>
          <p:spPr>
            <a:xfrm>
              <a:off x="6037560" y="166536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k J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77"/>
          <p:cNvSpPr/>
          <p:nvPr/>
        </p:nvSpPr>
        <p:spPr>
          <a:xfrm>
            <a:off x="1165320" y="0"/>
            <a:ext cx="67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astbound PACO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9"/>
          <p:cNvGrpSpPr/>
          <p:nvPr/>
        </p:nvGrpSpPr>
        <p:grpSpPr>
          <a:xfrm>
            <a:off x="2249640" y="903240"/>
            <a:ext cx="3193920" cy="925560"/>
            <a:chOff x="2249640" y="903240"/>
            <a:chExt cx="3193920" cy="925560"/>
          </a:xfrm>
        </p:grpSpPr>
        <p:sp>
          <p:nvSpPr>
            <p:cNvPr id="309" name="Freeform 2"/>
            <p:cNvSpPr/>
            <p:nvPr/>
          </p:nvSpPr>
          <p:spPr>
            <a:xfrm>
              <a:off x="2249640" y="1044720"/>
              <a:ext cx="3193920" cy="784080"/>
            </a:xfrm>
            <a:custGeom>
              <a:avLst/>
              <a:gdLst/>
              <a:ahLst/>
              <a:rect l="l" t="t" r="r" b="b"/>
              <a:pathLst>
                <a:path w="3193143" h="783771">
                  <a:moveTo>
                    <a:pt x="0" y="783771"/>
                  </a:moveTo>
                  <a:lnTo>
                    <a:pt x="1016000" y="319314"/>
                  </a:lnTo>
                  <a:lnTo>
                    <a:pt x="2249715" y="0"/>
                  </a:lnTo>
                  <a:lnTo>
                    <a:pt x="3193143" y="0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0"/>
            <p:cNvSpPr/>
            <p:nvPr/>
          </p:nvSpPr>
          <p:spPr>
            <a:xfrm rot="20130600">
              <a:off x="2678400" y="133056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11"/>
            <p:cNvSpPr/>
            <p:nvPr/>
          </p:nvSpPr>
          <p:spPr>
            <a:xfrm>
              <a:off x="4437000" y="90324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151"/>
          <p:cNvGrpSpPr/>
          <p:nvPr/>
        </p:nvGrpSpPr>
        <p:grpSpPr>
          <a:xfrm>
            <a:off x="2162160" y="1080720"/>
            <a:ext cx="3843360" cy="967320"/>
            <a:chOff x="2162160" y="1080720"/>
            <a:chExt cx="3843360" cy="967320"/>
          </a:xfrm>
        </p:grpSpPr>
        <p:sp>
          <p:nvSpPr>
            <p:cNvPr id="313" name="Freeform 12"/>
            <p:cNvSpPr/>
            <p:nvPr/>
          </p:nvSpPr>
          <p:spPr>
            <a:xfrm>
              <a:off x="2162160" y="1197720"/>
              <a:ext cx="3843360" cy="850320"/>
            </a:xfrm>
            <a:custGeom>
              <a:avLst/>
              <a:gdLst/>
              <a:ahLst/>
              <a:rect l="l" t="t" r="r" b="b"/>
              <a:pathLst>
                <a:path w="3594035" h="758292">
                  <a:moveTo>
                    <a:pt x="0" y="758292"/>
                  </a:moveTo>
                  <a:lnTo>
                    <a:pt x="1033817" y="319314"/>
                  </a:lnTo>
                  <a:lnTo>
                    <a:pt x="2267532" y="0"/>
                  </a:lnTo>
                  <a:lnTo>
                    <a:pt x="3594035" y="84929"/>
                  </a:lnTo>
                </a:path>
              </a:pathLst>
            </a:custGeom>
            <a:noFill/>
            <a:ln w="127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13"/>
            <p:cNvSpPr/>
            <p:nvPr/>
          </p:nvSpPr>
          <p:spPr>
            <a:xfrm rot="20130600">
              <a:off x="2764440" y="148284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d0d0d"/>
                  </a:solidFill>
                  <a:latin typeface="Arial"/>
                </a:rPr>
                <a:t>Track 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4"/>
            <p:cNvSpPr/>
            <p:nvPr/>
          </p:nvSpPr>
          <p:spPr>
            <a:xfrm rot="164400">
              <a:off x="4819320" y="109872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d0d0d"/>
                  </a:solidFill>
                  <a:latin typeface="Arial"/>
                </a:rPr>
                <a:t>Track 2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5152"/>
          <p:cNvGrpSpPr/>
          <p:nvPr/>
        </p:nvGrpSpPr>
        <p:grpSpPr>
          <a:xfrm>
            <a:off x="2201760" y="1236240"/>
            <a:ext cx="4032360" cy="964080"/>
            <a:chOff x="2201760" y="1236240"/>
            <a:chExt cx="4032360" cy="964080"/>
          </a:xfrm>
        </p:grpSpPr>
        <p:sp>
          <p:nvSpPr>
            <p:cNvPr id="317" name="Freeform 15"/>
            <p:cNvSpPr/>
            <p:nvPr/>
          </p:nvSpPr>
          <p:spPr>
            <a:xfrm>
              <a:off x="2201760" y="1368360"/>
              <a:ext cx="4032360" cy="831960"/>
            </a:xfrm>
            <a:custGeom>
              <a:avLst/>
              <a:gdLst/>
              <a:ahLst/>
              <a:rect l="l" t="t" r="r" b="b"/>
              <a:pathLst>
                <a:path w="4031343" h="831396">
                  <a:moveTo>
                    <a:pt x="0" y="831396"/>
                  </a:moveTo>
                  <a:lnTo>
                    <a:pt x="1082675" y="357414"/>
                  </a:lnTo>
                  <a:lnTo>
                    <a:pt x="2402115" y="0"/>
                  </a:lnTo>
                  <a:lnTo>
                    <a:pt x="4031343" y="76200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16"/>
            <p:cNvSpPr/>
            <p:nvPr/>
          </p:nvSpPr>
          <p:spPr>
            <a:xfrm rot="20130600">
              <a:off x="2535120" y="173700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17"/>
            <p:cNvSpPr/>
            <p:nvPr/>
          </p:nvSpPr>
          <p:spPr>
            <a:xfrm rot="174600">
              <a:off x="4796640" y="125424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5153"/>
          <p:cNvGrpSpPr/>
          <p:nvPr/>
        </p:nvGrpSpPr>
        <p:grpSpPr>
          <a:xfrm>
            <a:off x="1685880" y="1404720"/>
            <a:ext cx="4795920" cy="1233720"/>
            <a:chOff x="1685880" y="1404720"/>
            <a:chExt cx="4795920" cy="1233720"/>
          </a:xfrm>
        </p:grpSpPr>
        <p:sp>
          <p:nvSpPr>
            <p:cNvPr id="321" name="Freeform 18"/>
            <p:cNvSpPr/>
            <p:nvPr/>
          </p:nvSpPr>
          <p:spPr>
            <a:xfrm>
              <a:off x="1685880" y="1531080"/>
              <a:ext cx="4795920" cy="1107360"/>
            </a:xfrm>
            <a:custGeom>
              <a:avLst/>
              <a:gdLst/>
              <a:ahLst/>
              <a:rect l="l" t="t" r="r" b="b"/>
              <a:pathLst>
                <a:path w="4113043" h="824306">
                  <a:moveTo>
                    <a:pt x="0" y="824306"/>
                  </a:moveTo>
                  <a:lnTo>
                    <a:pt x="1393136" y="272340"/>
                  </a:lnTo>
                  <a:lnTo>
                    <a:pt x="2516495" y="0"/>
                  </a:lnTo>
                  <a:lnTo>
                    <a:pt x="4113043" y="69110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19"/>
            <p:cNvSpPr/>
            <p:nvPr/>
          </p:nvSpPr>
          <p:spPr>
            <a:xfrm rot="20130600">
              <a:off x="2598120" y="188964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20"/>
            <p:cNvSpPr/>
            <p:nvPr/>
          </p:nvSpPr>
          <p:spPr>
            <a:xfrm rot="238200">
              <a:off x="4932000" y="143208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5154"/>
          <p:cNvGrpSpPr/>
          <p:nvPr/>
        </p:nvGrpSpPr>
        <p:grpSpPr>
          <a:xfrm>
            <a:off x="1762200" y="1566360"/>
            <a:ext cx="4900680" cy="1234080"/>
            <a:chOff x="1762200" y="1566360"/>
            <a:chExt cx="4900680" cy="1234080"/>
          </a:xfrm>
        </p:grpSpPr>
        <p:sp>
          <p:nvSpPr>
            <p:cNvPr id="325" name="Freeform 21"/>
            <p:cNvSpPr/>
            <p:nvPr/>
          </p:nvSpPr>
          <p:spPr>
            <a:xfrm>
              <a:off x="1762200" y="1702080"/>
              <a:ext cx="4900680" cy="1098360"/>
            </a:xfrm>
            <a:custGeom>
              <a:avLst/>
              <a:gdLst/>
              <a:ahLst/>
              <a:rect l="l" t="t" r="r" b="b"/>
              <a:pathLst>
                <a:path w="4202913" h="817217">
                  <a:moveTo>
                    <a:pt x="0" y="817217"/>
                  </a:moveTo>
                  <a:lnTo>
                    <a:pt x="1344115" y="272340"/>
                  </a:lnTo>
                  <a:lnTo>
                    <a:pt x="2500155" y="0"/>
                  </a:lnTo>
                  <a:lnTo>
                    <a:pt x="4202913" y="69110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22"/>
            <p:cNvSpPr/>
            <p:nvPr/>
          </p:nvSpPr>
          <p:spPr>
            <a:xfrm rot="20130600">
              <a:off x="2636280" y="206100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23"/>
            <p:cNvSpPr/>
            <p:nvPr/>
          </p:nvSpPr>
          <p:spPr>
            <a:xfrm rot="238200">
              <a:off x="5084640" y="159372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5155"/>
          <p:cNvGrpSpPr/>
          <p:nvPr/>
        </p:nvGrpSpPr>
        <p:grpSpPr>
          <a:xfrm>
            <a:off x="2338560" y="2440440"/>
            <a:ext cx="3049560" cy="532800"/>
            <a:chOff x="2338560" y="2440440"/>
            <a:chExt cx="3049560" cy="532800"/>
          </a:xfrm>
        </p:grpSpPr>
        <p:sp>
          <p:nvSpPr>
            <p:cNvPr id="329" name="Freeform 24"/>
            <p:cNvSpPr/>
            <p:nvPr/>
          </p:nvSpPr>
          <p:spPr>
            <a:xfrm>
              <a:off x="2338560" y="2575080"/>
              <a:ext cx="3049560" cy="319320"/>
            </a:xfrm>
            <a:custGeom>
              <a:avLst/>
              <a:gdLst/>
              <a:ahLst/>
              <a:rect l="l" t="t" r="r" b="b"/>
              <a:pathLst>
                <a:path w="3050268" h="318861">
                  <a:moveTo>
                    <a:pt x="0" y="112032"/>
                  </a:moveTo>
                  <a:lnTo>
                    <a:pt x="911225" y="0"/>
                  </a:lnTo>
                  <a:lnTo>
                    <a:pt x="2116365" y="147411"/>
                  </a:lnTo>
                  <a:lnTo>
                    <a:pt x="3050268" y="318861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25"/>
            <p:cNvSpPr/>
            <p:nvPr/>
          </p:nvSpPr>
          <p:spPr>
            <a:xfrm rot="21227400">
              <a:off x="2447280" y="248292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26"/>
            <p:cNvSpPr/>
            <p:nvPr/>
          </p:nvSpPr>
          <p:spPr>
            <a:xfrm rot="481800">
              <a:off x="4413240" y="264168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5156"/>
          <p:cNvGrpSpPr/>
          <p:nvPr/>
        </p:nvGrpSpPr>
        <p:grpSpPr>
          <a:xfrm>
            <a:off x="1957320" y="2602080"/>
            <a:ext cx="3525840" cy="580680"/>
            <a:chOff x="1957320" y="2602080"/>
            <a:chExt cx="3525840" cy="580680"/>
          </a:xfrm>
        </p:grpSpPr>
        <p:sp>
          <p:nvSpPr>
            <p:cNvPr id="333" name="Freeform 27"/>
            <p:cNvSpPr/>
            <p:nvPr/>
          </p:nvSpPr>
          <p:spPr>
            <a:xfrm>
              <a:off x="1957320" y="2765520"/>
              <a:ext cx="3525840" cy="319680"/>
            </a:xfrm>
            <a:custGeom>
              <a:avLst/>
              <a:gdLst/>
              <a:ahLst/>
              <a:rect l="l" t="t" r="r" b="b"/>
              <a:pathLst>
                <a:path w="3526518" h="318861">
                  <a:moveTo>
                    <a:pt x="0" y="178707"/>
                  </a:moveTo>
                  <a:lnTo>
                    <a:pt x="1292225" y="0"/>
                  </a:lnTo>
                  <a:lnTo>
                    <a:pt x="2583090" y="175986"/>
                  </a:lnTo>
                  <a:lnTo>
                    <a:pt x="3526518" y="318861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28"/>
            <p:cNvSpPr/>
            <p:nvPr/>
          </p:nvSpPr>
          <p:spPr>
            <a:xfrm rot="20967600">
              <a:off x="2467440" y="267300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29"/>
            <p:cNvSpPr/>
            <p:nvPr/>
          </p:nvSpPr>
          <p:spPr>
            <a:xfrm rot="481800">
              <a:off x="4565520" y="285120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Track 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ounded Rectangular Callout 30"/>
          <p:cNvSpPr/>
          <p:nvPr/>
        </p:nvSpPr>
        <p:spPr>
          <a:xfrm>
            <a:off x="4676760" y="3313080"/>
            <a:ext cx="1697040" cy="2076120"/>
          </a:xfrm>
          <a:prstGeom prst="wedgeRoundRectCallout">
            <a:avLst>
              <a:gd name="adj1" fmla="val -107263"/>
              <a:gd name="adj2" fmla="val -79680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ACG JAPAN HAWAII PACOTS UP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xplosion 1 40"/>
          <p:cNvSpPr/>
          <p:nvPr/>
        </p:nvSpPr>
        <p:spPr>
          <a:xfrm>
            <a:off x="2552760" y="2379600"/>
            <a:ext cx="2301840" cy="660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ular Callout 41"/>
          <p:cNvSpPr/>
          <p:nvPr/>
        </p:nvSpPr>
        <p:spPr>
          <a:xfrm>
            <a:off x="6407280" y="1976400"/>
            <a:ext cx="1697040" cy="2076120"/>
          </a:xfrm>
          <a:prstGeom prst="wedgeRoundRectCallout">
            <a:avLst>
              <a:gd name="adj1" fmla="val -85925"/>
              <a:gd name="adj2" fmla="val -65009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ACG PACOT TRACK 14/15 UP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xplosion 1 42"/>
          <p:cNvSpPr/>
          <p:nvPr/>
        </p:nvSpPr>
        <p:spPr>
          <a:xfrm>
            <a:off x="3257640" y="1386000"/>
            <a:ext cx="2301840" cy="6602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ular Callout 43"/>
          <p:cNvSpPr/>
          <p:nvPr/>
        </p:nvSpPr>
        <p:spPr>
          <a:xfrm>
            <a:off x="6973920" y="620640"/>
            <a:ext cx="1697040" cy="1681560"/>
          </a:xfrm>
          <a:prstGeom prst="wedgeRoundRectCallout">
            <a:avLst>
              <a:gd name="adj1" fmla="val -112310"/>
              <a:gd name="adj2" fmla="val -282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ACG PACOT TRACK 3 UP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Explosion 1 44"/>
          <p:cNvSpPr/>
          <p:nvPr/>
        </p:nvSpPr>
        <p:spPr>
          <a:xfrm>
            <a:off x="3591000" y="1123920"/>
            <a:ext cx="2301840" cy="6606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ular Callout 45"/>
          <p:cNvSpPr/>
          <p:nvPr/>
        </p:nvSpPr>
        <p:spPr>
          <a:xfrm>
            <a:off x="260280" y="709560"/>
            <a:ext cx="1697040" cy="1681560"/>
          </a:xfrm>
          <a:prstGeom prst="wedgeRoundRectCallout">
            <a:avLst>
              <a:gd name="adj1" fmla="val 86921"/>
              <a:gd name="adj2" fmla="val 6481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ACG PACOT TRACK 1 UP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xplosion 1 46"/>
          <p:cNvSpPr/>
          <p:nvPr/>
        </p:nvSpPr>
        <p:spPr>
          <a:xfrm>
            <a:off x="2922480" y="858960"/>
            <a:ext cx="2301840" cy="6602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7"/>
          <p:cNvGrpSpPr/>
          <p:nvPr/>
        </p:nvGrpSpPr>
        <p:grpSpPr>
          <a:xfrm>
            <a:off x="2162160" y="1080720"/>
            <a:ext cx="3843360" cy="967320"/>
            <a:chOff x="2162160" y="1080720"/>
            <a:chExt cx="3843360" cy="967320"/>
          </a:xfrm>
        </p:grpSpPr>
        <p:sp>
          <p:nvSpPr>
            <p:cNvPr id="345" name="Freeform 48"/>
            <p:cNvSpPr/>
            <p:nvPr/>
          </p:nvSpPr>
          <p:spPr>
            <a:xfrm>
              <a:off x="2162160" y="1197720"/>
              <a:ext cx="3843360" cy="850320"/>
            </a:xfrm>
            <a:custGeom>
              <a:avLst/>
              <a:gdLst/>
              <a:ahLst/>
              <a:rect l="l" t="t" r="r" b="b"/>
              <a:pathLst>
                <a:path w="3594035" h="758292">
                  <a:moveTo>
                    <a:pt x="0" y="758292"/>
                  </a:moveTo>
                  <a:lnTo>
                    <a:pt x="1033817" y="319314"/>
                  </a:lnTo>
                  <a:lnTo>
                    <a:pt x="2267532" y="0"/>
                  </a:lnTo>
                  <a:lnTo>
                    <a:pt x="3594035" y="84929"/>
                  </a:lnTo>
                </a:path>
              </a:pathLst>
            </a:custGeom>
            <a:noFill/>
            <a:ln w="127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49"/>
            <p:cNvSpPr/>
            <p:nvPr/>
          </p:nvSpPr>
          <p:spPr>
            <a:xfrm rot="20130600">
              <a:off x="2764440" y="1482840"/>
              <a:ext cx="717120" cy="2764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d0d0d"/>
                  </a:solidFill>
                  <a:latin typeface="Arial"/>
                </a:rPr>
                <a:t>Track 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50"/>
            <p:cNvSpPr/>
            <p:nvPr/>
          </p:nvSpPr>
          <p:spPr>
            <a:xfrm rot="164400">
              <a:off x="4819320" y="1098720"/>
              <a:ext cx="759960" cy="2764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d0d0d"/>
                  </a:solidFill>
                  <a:latin typeface="Arial"/>
                </a:rPr>
                <a:t>Track 2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25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5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"/>
                            </p:stCondLst>
                            <p:childTnLst>
                              <p:par>
                                <p:cTn id="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5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5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25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5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"/>
                            </p:stCondLst>
                            <p:childTnLst>
                              <p:par>
                                <p:cTn id="1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5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25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5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"/>
                            </p:stCondLst>
                            <p:childTnLst>
                              <p:par>
                                <p:cTn id="2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5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250"/>
                            </p:stCondLst>
                            <p:childTnLst>
                              <p:par>
                                <p:cTn id="2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25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5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"/>
                            </p:stCondLst>
                            <p:childTnLst>
                              <p:par>
                                <p:cTn id="2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250"/>
                            </p:stCondLst>
                            <p:childTnLst>
                              <p:par>
                                <p:cTn id="2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75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oving Forward C/E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8EF9-FAE3-4323-A134-25221118BD4D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F:\520 Old\PICTURES\OC2 Traffic\cap1300.gif"/>
          <p:cNvPicPr/>
          <p:nvPr/>
        </p:nvPicPr>
        <p:blipFill>
          <a:blip r:embed="rId1"/>
          <a:srcRect l="0" t="5160" r="0" b="29323"/>
          <a:stretch/>
        </p:blipFill>
        <p:spPr>
          <a:xfrm>
            <a:off x="44280" y="203040"/>
            <a:ext cx="9104400" cy="5965920"/>
          </a:xfrm>
          <a:prstGeom prst="rect">
            <a:avLst/>
          </a:prstGeom>
          <a:ln w="0">
            <a:noFill/>
          </a:ln>
        </p:spPr>
      </p:pic>
      <p:sp>
        <p:nvSpPr>
          <p:cNvPr id="352" name="Oval 1"/>
          <p:cNvSpPr/>
          <p:nvPr/>
        </p:nvSpPr>
        <p:spPr>
          <a:xfrm>
            <a:off x="2685960" y="3586320"/>
            <a:ext cx="1800360" cy="12668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5568840" y="3157560"/>
            <a:ext cx="1508400" cy="12668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ject 8" descr=""/>
          <p:cNvPicPr/>
          <p:nvPr/>
        </p:nvPicPr>
        <p:blipFill>
          <a:blip r:embed="rId2"/>
          <a:srcRect l="0" t="9720" r="0" b="53099"/>
          <a:stretch/>
        </p:blipFill>
        <p:spPr>
          <a:xfrm>
            <a:off x="638280" y="14400"/>
            <a:ext cx="7969320" cy="22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DARP"/>
          <p:cNvPicPr/>
          <p:nvPr/>
        </p:nvPicPr>
        <p:blipFill>
          <a:blip r:embed="rId1"/>
          <a:srcRect l="0" t="0" r="0" b="23140"/>
          <a:stretch/>
        </p:blipFill>
        <p:spPr>
          <a:xfrm>
            <a:off x="0" y="0"/>
            <a:ext cx="9144000" cy="6118200"/>
          </a:xfrm>
          <a:prstGeom prst="rect">
            <a:avLst/>
          </a:prstGeom>
          <a:ln w="0">
            <a:noFill/>
          </a:ln>
        </p:spPr>
      </p:pic>
      <p:sp>
        <p:nvSpPr>
          <p:cNvPr id="356" name="Line 3"/>
          <p:cNvSpPr/>
          <p:nvPr/>
        </p:nvSpPr>
        <p:spPr>
          <a:xfrm>
            <a:off x="5951520" y="4964040"/>
            <a:ext cx="130320" cy="1160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"/>
          <p:cNvSpPr/>
          <p:nvPr/>
        </p:nvSpPr>
        <p:spPr>
          <a:xfrm flipH="1">
            <a:off x="4092120" y="5106960"/>
            <a:ext cx="228600" cy="986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2909880" y="4335480"/>
            <a:ext cx="81000" cy="117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2133720" y="4533840"/>
            <a:ext cx="38160" cy="40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6604200" y="447372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ahi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4406400" y="54007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ucklan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3085200" y="52484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 rot="2589000">
            <a:off x="1976760" y="46130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risban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1214280" y="4397400"/>
            <a:ext cx="1296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 rot="355200">
            <a:off x="1185480" y="45795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oresb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3"/>
          <p:cNvSpPr/>
          <p:nvPr/>
        </p:nvSpPr>
        <p:spPr>
          <a:xfrm flipH="1">
            <a:off x="801720" y="4070520"/>
            <a:ext cx="200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519840" y="41734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j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755640" y="2682720"/>
            <a:ext cx="25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ni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 rot="19311000">
            <a:off x="1502640" y="17395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ukuok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 rot="20852400">
            <a:off x="3288240" y="46620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ch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 rot="21172800">
            <a:off x="5788080" y="21564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ncou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"/>
          <p:cNvSpPr/>
          <p:nvPr/>
        </p:nvSpPr>
        <p:spPr>
          <a:xfrm rot="20731800">
            <a:off x="6374880" y="52524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att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 rot="20509200">
            <a:off x="6801120" y="80604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ak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 rot="20509200">
            <a:off x="7252920" y="1125000"/>
            <a:ext cx="99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s Ange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 rot="20487000">
            <a:off x="7744320" y="2049120"/>
            <a:ext cx="30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3"/>
          <p:cNvSpPr/>
          <p:nvPr/>
        </p:nvSpPr>
        <p:spPr>
          <a:xfrm>
            <a:off x="2568600" y="3770280"/>
            <a:ext cx="74520" cy="74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4"/>
          <p:cNvSpPr/>
          <p:nvPr/>
        </p:nvSpPr>
        <p:spPr>
          <a:xfrm>
            <a:off x="2960640" y="1481040"/>
            <a:ext cx="5037120" cy="4673520"/>
          </a:xfrm>
          <a:custGeom>
            <a:avLst/>
            <a:gdLst/>
            <a:ahLst/>
            <a:rect l="l" t="t" r="r" b="b"/>
            <a:pathLst>
              <a:path w="3173" h="2944">
                <a:moveTo>
                  <a:pt x="631" y="2185"/>
                </a:moveTo>
                <a:lnTo>
                  <a:pt x="1609" y="932"/>
                </a:lnTo>
                <a:lnTo>
                  <a:pt x="1893" y="512"/>
                </a:lnTo>
                <a:lnTo>
                  <a:pt x="2524" y="0"/>
                </a:lnTo>
                <a:lnTo>
                  <a:pt x="2734" y="265"/>
                </a:lnTo>
                <a:lnTo>
                  <a:pt x="2798" y="265"/>
                </a:lnTo>
                <a:lnTo>
                  <a:pt x="2944" y="557"/>
                </a:lnTo>
                <a:lnTo>
                  <a:pt x="3072" y="905"/>
                </a:lnTo>
                <a:lnTo>
                  <a:pt x="3136" y="1206"/>
                </a:lnTo>
                <a:lnTo>
                  <a:pt x="3173" y="1481"/>
                </a:lnTo>
                <a:lnTo>
                  <a:pt x="2798" y="2276"/>
                </a:lnTo>
                <a:lnTo>
                  <a:pt x="2432" y="2925"/>
                </a:lnTo>
                <a:lnTo>
                  <a:pt x="1957" y="2925"/>
                </a:lnTo>
                <a:lnTo>
                  <a:pt x="1490" y="2934"/>
                </a:lnTo>
                <a:lnTo>
                  <a:pt x="677" y="2944"/>
                </a:lnTo>
                <a:lnTo>
                  <a:pt x="0" y="2944"/>
                </a:lnTo>
                <a:lnTo>
                  <a:pt x="631" y="2185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"/>
          <p:cNvSpPr/>
          <p:nvPr/>
        </p:nvSpPr>
        <p:spPr>
          <a:xfrm>
            <a:off x="2235240" y="2771640"/>
            <a:ext cx="3294000" cy="3440160"/>
          </a:xfrm>
          <a:custGeom>
            <a:avLst/>
            <a:gdLst/>
            <a:ahLst/>
            <a:rect l="l" t="t" r="r" b="b"/>
            <a:pathLst>
              <a:path w="2075" h="2167">
                <a:moveTo>
                  <a:pt x="0" y="2131"/>
                </a:moveTo>
                <a:lnTo>
                  <a:pt x="1883" y="0"/>
                </a:lnTo>
                <a:lnTo>
                  <a:pt x="2075" y="101"/>
                </a:lnTo>
                <a:lnTo>
                  <a:pt x="1061" y="2167"/>
                </a:lnTo>
                <a:lnTo>
                  <a:pt x="485" y="2131"/>
                </a:lnTo>
                <a:lnTo>
                  <a:pt x="0" y="2131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6"/>
          <p:cNvSpPr/>
          <p:nvPr/>
        </p:nvSpPr>
        <p:spPr>
          <a:xfrm>
            <a:off x="5748480" y="1278000"/>
            <a:ext cx="1117440" cy="914400"/>
          </a:xfrm>
          <a:custGeom>
            <a:avLst/>
            <a:gdLst/>
            <a:ahLst/>
            <a:rect l="l" t="t" r="r" b="b"/>
            <a:pathLst>
              <a:path w="704" h="576">
                <a:moveTo>
                  <a:pt x="73" y="576"/>
                </a:moveTo>
                <a:lnTo>
                  <a:pt x="704" y="82"/>
                </a:lnTo>
                <a:lnTo>
                  <a:pt x="640" y="0"/>
                </a:lnTo>
                <a:lnTo>
                  <a:pt x="393" y="109"/>
                </a:lnTo>
                <a:lnTo>
                  <a:pt x="182" y="274"/>
                </a:lnTo>
                <a:lnTo>
                  <a:pt x="0" y="557"/>
                </a:lnTo>
                <a:lnTo>
                  <a:pt x="73" y="57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7"/>
          <p:cNvSpPr/>
          <p:nvPr/>
        </p:nvSpPr>
        <p:spPr>
          <a:xfrm>
            <a:off x="3773520" y="406440"/>
            <a:ext cx="3135240" cy="942840"/>
          </a:xfrm>
          <a:custGeom>
            <a:avLst/>
            <a:gdLst/>
            <a:ahLst/>
            <a:rect l="l" t="t" r="r" b="b"/>
            <a:pathLst>
              <a:path w="1975" h="594">
                <a:moveTo>
                  <a:pt x="1938" y="494"/>
                </a:moveTo>
                <a:lnTo>
                  <a:pt x="1710" y="320"/>
                </a:lnTo>
                <a:lnTo>
                  <a:pt x="1500" y="229"/>
                </a:lnTo>
                <a:lnTo>
                  <a:pt x="1152" y="101"/>
                </a:lnTo>
                <a:lnTo>
                  <a:pt x="832" y="18"/>
                </a:lnTo>
                <a:lnTo>
                  <a:pt x="412" y="0"/>
                </a:lnTo>
                <a:lnTo>
                  <a:pt x="247" y="0"/>
                </a:lnTo>
                <a:lnTo>
                  <a:pt x="0" y="110"/>
                </a:lnTo>
                <a:lnTo>
                  <a:pt x="274" y="238"/>
                </a:lnTo>
                <a:lnTo>
                  <a:pt x="796" y="475"/>
                </a:lnTo>
                <a:lnTo>
                  <a:pt x="1737" y="594"/>
                </a:lnTo>
                <a:lnTo>
                  <a:pt x="1975" y="558"/>
                </a:lnTo>
                <a:lnTo>
                  <a:pt x="1938" y="49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8"/>
          <p:cNvSpPr/>
          <p:nvPr/>
        </p:nvSpPr>
        <p:spPr>
          <a:xfrm>
            <a:off x="770040" y="1117440"/>
            <a:ext cx="5978520" cy="2961000"/>
          </a:xfrm>
          <a:custGeom>
            <a:avLst/>
            <a:gdLst/>
            <a:ahLst/>
            <a:rect l="l" t="t" r="r" b="b"/>
            <a:pathLst>
              <a:path w="3766" h="1865">
                <a:moveTo>
                  <a:pt x="3684" y="0"/>
                </a:moveTo>
                <a:lnTo>
                  <a:pt x="3766" y="101"/>
                </a:lnTo>
                <a:lnTo>
                  <a:pt x="2852" y="649"/>
                </a:lnTo>
                <a:lnTo>
                  <a:pt x="2688" y="786"/>
                </a:lnTo>
                <a:lnTo>
                  <a:pt x="0" y="1865"/>
                </a:lnTo>
                <a:lnTo>
                  <a:pt x="45" y="1509"/>
                </a:lnTo>
                <a:lnTo>
                  <a:pt x="91" y="1344"/>
                </a:lnTo>
                <a:lnTo>
                  <a:pt x="109" y="1189"/>
                </a:lnTo>
                <a:lnTo>
                  <a:pt x="283" y="1106"/>
                </a:lnTo>
                <a:lnTo>
                  <a:pt x="594" y="1106"/>
                </a:lnTo>
                <a:lnTo>
                  <a:pt x="850" y="887"/>
                </a:lnTo>
                <a:lnTo>
                  <a:pt x="1206" y="640"/>
                </a:lnTo>
                <a:lnTo>
                  <a:pt x="3693" y="0"/>
                </a:lnTo>
              </a:path>
            </a:pathLst>
          </a:cu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9"/>
          <p:cNvSpPr/>
          <p:nvPr/>
        </p:nvSpPr>
        <p:spPr>
          <a:xfrm>
            <a:off x="1204920" y="2090880"/>
            <a:ext cx="1363680" cy="2554200"/>
          </a:xfrm>
          <a:custGeom>
            <a:avLst/>
            <a:gdLst/>
            <a:ahLst/>
            <a:rect l="l" t="t" r="r" b="b"/>
            <a:pathLst>
              <a:path w="859" h="1609">
                <a:moveTo>
                  <a:pt x="859" y="1426"/>
                </a:moveTo>
                <a:lnTo>
                  <a:pt x="622" y="0"/>
                </a:lnTo>
                <a:lnTo>
                  <a:pt x="320" y="27"/>
                </a:lnTo>
                <a:lnTo>
                  <a:pt x="283" y="493"/>
                </a:lnTo>
                <a:lnTo>
                  <a:pt x="164" y="484"/>
                </a:lnTo>
                <a:lnTo>
                  <a:pt x="46" y="521"/>
                </a:lnTo>
                <a:lnTo>
                  <a:pt x="0" y="868"/>
                </a:lnTo>
                <a:lnTo>
                  <a:pt x="46" y="1088"/>
                </a:lnTo>
                <a:lnTo>
                  <a:pt x="393" y="1609"/>
                </a:lnTo>
                <a:lnTo>
                  <a:pt x="567" y="1600"/>
                </a:lnTo>
                <a:lnTo>
                  <a:pt x="576" y="1408"/>
                </a:lnTo>
                <a:lnTo>
                  <a:pt x="686" y="1408"/>
                </a:lnTo>
                <a:lnTo>
                  <a:pt x="859" y="1426"/>
                </a:lnTo>
                <a:close/>
              </a:path>
            </a:pathLst>
          </a:custGeom>
          <a:solidFill>
            <a:srgbClr val="51c9c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0"/>
          <p:cNvSpPr/>
          <p:nvPr/>
        </p:nvSpPr>
        <p:spPr>
          <a:xfrm>
            <a:off x="1698480" y="1450800"/>
            <a:ext cx="3584880" cy="1117800"/>
          </a:xfrm>
          <a:custGeom>
            <a:avLst/>
            <a:gdLst/>
            <a:ahLst/>
            <a:rect l="l" t="t" r="r" b="b"/>
            <a:pathLst>
              <a:path w="2258" h="704">
                <a:moveTo>
                  <a:pt x="2148" y="677"/>
                </a:moveTo>
                <a:lnTo>
                  <a:pt x="1719" y="704"/>
                </a:lnTo>
                <a:lnTo>
                  <a:pt x="685" y="686"/>
                </a:lnTo>
                <a:lnTo>
                  <a:pt x="311" y="631"/>
                </a:lnTo>
                <a:lnTo>
                  <a:pt x="0" y="521"/>
                </a:lnTo>
                <a:lnTo>
                  <a:pt x="45" y="339"/>
                </a:lnTo>
                <a:lnTo>
                  <a:pt x="164" y="165"/>
                </a:lnTo>
                <a:lnTo>
                  <a:pt x="749" y="28"/>
                </a:lnTo>
                <a:lnTo>
                  <a:pt x="1261" y="0"/>
                </a:lnTo>
                <a:lnTo>
                  <a:pt x="1929" y="201"/>
                </a:lnTo>
                <a:lnTo>
                  <a:pt x="2258" y="430"/>
                </a:lnTo>
                <a:lnTo>
                  <a:pt x="2139" y="549"/>
                </a:lnTo>
                <a:lnTo>
                  <a:pt x="2148" y="677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1"/>
          <p:cNvSpPr/>
          <p:nvPr/>
        </p:nvSpPr>
        <p:spPr>
          <a:xfrm>
            <a:off x="1233360" y="2162160"/>
            <a:ext cx="914400" cy="3614760"/>
          </a:xfrm>
          <a:custGeom>
            <a:avLst/>
            <a:gdLst/>
            <a:ahLst/>
            <a:rect l="l" t="t" r="r" b="b"/>
            <a:pathLst>
              <a:path w="576" h="2277">
                <a:moveTo>
                  <a:pt x="210" y="9"/>
                </a:moveTo>
                <a:lnTo>
                  <a:pt x="412" y="0"/>
                </a:lnTo>
                <a:lnTo>
                  <a:pt x="466" y="302"/>
                </a:lnTo>
                <a:lnTo>
                  <a:pt x="558" y="1381"/>
                </a:lnTo>
                <a:lnTo>
                  <a:pt x="576" y="1875"/>
                </a:lnTo>
                <a:lnTo>
                  <a:pt x="338" y="2277"/>
                </a:lnTo>
                <a:lnTo>
                  <a:pt x="0" y="1509"/>
                </a:lnTo>
                <a:lnTo>
                  <a:pt x="9" y="1317"/>
                </a:lnTo>
                <a:lnTo>
                  <a:pt x="0" y="905"/>
                </a:lnTo>
                <a:lnTo>
                  <a:pt x="18" y="439"/>
                </a:lnTo>
                <a:lnTo>
                  <a:pt x="174" y="430"/>
                </a:lnTo>
              </a:path>
            </a:pathLst>
          </a:custGeom>
          <a:solidFill>
            <a:srgbClr val="2206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2"/>
          <p:cNvSpPr/>
          <p:nvPr/>
        </p:nvSpPr>
        <p:spPr>
          <a:xfrm>
            <a:off x="1436760" y="2424240"/>
            <a:ext cx="3716280" cy="1015920"/>
          </a:xfrm>
          <a:custGeom>
            <a:avLst/>
            <a:gdLst/>
            <a:ahLst/>
            <a:rect l="l" t="t" r="r" b="b"/>
            <a:pathLst>
              <a:path w="2341" h="640">
                <a:moveTo>
                  <a:pt x="2313" y="0"/>
                </a:moveTo>
                <a:lnTo>
                  <a:pt x="1582" y="0"/>
                </a:lnTo>
                <a:lnTo>
                  <a:pt x="805" y="100"/>
                </a:lnTo>
                <a:lnTo>
                  <a:pt x="183" y="238"/>
                </a:lnTo>
                <a:lnTo>
                  <a:pt x="0" y="439"/>
                </a:lnTo>
                <a:lnTo>
                  <a:pt x="73" y="530"/>
                </a:lnTo>
                <a:lnTo>
                  <a:pt x="73" y="640"/>
                </a:lnTo>
                <a:lnTo>
                  <a:pt x="677" y="640"/>
                </a:lnTo>
                <a:lnTo>
                  <a:pt x="1445" y="548"/>
                </a:lnTo>
                <a:lnTo>
                  <a:pt x="2341" y="164"/>
                </a:lnTo>
                <a:lnTo>
                  <a:pt x="2313" y="0"/>
                </a:lnTo>
                <a:close/>
              </a:path>
            </a:pathLst>
          </a:custGeom>
          <a:solidFill>
            <a:srgbClr val="f7031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3"/>
          <p:cNvSpPr/>
          <p:nvPr/>
        </p:nvSpPr>
        <p:spPr>
          <a:xfrm>
            <a:off x="2235240" y="885960"/>
            <a:ext cx="4992480" cy="942840"/>
          </a:xfrm>
          <a:custGeom>
            <a:avLst/>
            <a:gdLst/>
            <a:ahLst/>
            <a:rect l="l" t="t" r="r" b="b"/>
            <a:pathLst>
              <a:path w="3145" h="594">
                <a:moveTo>
                  <a:pt x="155" y="247"/>
                </a:moveTo>
                <a:lnTo>
                  <a:pt x="1106" y="100"/>
                </a:lnTo>
                <a:lnTo>
                  <a:pt x="1691" y="0"/>
                </a:lnTo>
                <a:lnTo>
                  <a:pt x="2304" y="9"/>
                </a:lnTo>
                <a:lnTo>
                  <a:pt x="2725" y="73"/>
                </a:lnTo>
                <a:lnTo>
                  <a:pt x="2944" y="228"/>
                </a:lnTo>
                <a:lnTo>
                  <a:pt x="3145" y="439"/>
                </a:lnTo>
                <a:lnTo>
                  <a:pt x="2880" y="457"/>
                </a:lnTo>
                <a:lnTo>
                  <a:pt x="2194" y="594"/>
                </a:lnTo>
                <a:lnTo>
                  <a:pt x="1125" y="548"/>
                </a:lnTo>
                <a:lnTo>
                  <a:pt x="0" y="457"/>
                </a:lnTo>
                <a:lnTo>
                  <a:pt x="155" y="247"/>
                </a:lnTo>
                <a:close/>
              </a:path>
            </a:pathLst>
          </a:custGeom>
          <a:solidFill>
            <a:srgbClr val="fccd2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4"/>
          <p:cNvSpPr/>
          <p:nvPr/>
        </p:nvSpPr>
        <p:spPr>
          <a:xfrm>
            <a:off x="7054920" y="4397400"/>
            <a:ext cx="1828800" cy="727200"/>
          </a:xfrm>
          <a:prstGeom prst="wedgeRoundRectCallout">
            <a:avLst>
              <a:gd name="adj1" fmla="val -63023"/>
              <a:gd name="adj2" fmla="val -16877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–South Paci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5"/>
          <p:cNvSpPr/>
          <p:nvPr/>
        </p:nvSpPr>
        <p:spPr>
          <a:xfrm>
            <a:off x="4978440" y="5235480"/>
            <a:ext cx="1828800" cy="668520"/>
          </a:xfrm>
          <a:prstGeom prst="wedgeRoundRectCallout">
            <a:avLst>
              <a:gd name="adj1" fmla="val -106685"/>
              <a:gd name="adj2" fmla="val -131472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waii –South Paci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6"/>
          <p:cNvSpPr/>
          <p:nvPr/>
        </p:nvSpPr>
        <p:spPr>
          <a:xfrm>
            <a:off x="3075120" y="5249880"/>
            <a:ext cx="1450800" cy="922320"/>
          </a:xfrm>
          <a:prstGeom prst="wedgeRoundRectCallout">
            <a:avLst>
              <a:gd name="adj1" fmla="val -104268"/>
              <a:gd name="adj2" fmla="val -19526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ia–New Zealand/ Caledon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7"/>
          <p:cNvSpPr/>
          <p:nvPr/>
        </p:nvSpPr>
        <p:spPr>
          <a:xfrm>
            <a:off x="1535040" y="5189400"/>
            <a:ext cx="1451160" cy="922320"/>
          </a:xfrm>
          <a:prstGeom prst="wedgeRoundRectCallout">
            <a:avLst>
              <a:gd name="adj1" fmla="val -54374"/>
              <a:gd name="adj2" fmla="val -16376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JAA–Austra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8"/>
          <p:cNvSpPr/>
          <p:nvPr/>
        </p:nvSpPr>
        <p:spPr>
          <a:xfrm>
            <a:off x="0" y="4392720"/>
            <a:ext cx="1450800" cy="804600"/>
          </a:xfrm>
          <a:prstGeom prst="wedgeRoundRectCallout">
            <a:avLst>
              <a:gd name="adj1" fmla="val 26476"/>
              <a:gd name="adj2" fmla="val -151773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Singap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9"/>
          <p:cNvSpPr/>
          <p:nvPr/>
        </p:nvSpPr>
        <p:spPr>
          <a:xfrm>
            <a:off x="189000" y="2025720"/>
            <a:ext cx="1261800" cy="674640"/>
          </a:xfrm>
          <a:prstGeom prst="wedgeRoundRectCallout">
            <a:avLst>
              <a:gd name="adj1" fmla="val 139055"/>
              <a:gd name="adj2" fmla="val 10200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waii –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GUM/RPL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40"/>
          <p:cNvSpPr/>
          <p:nvPr/>
        </p:nvSpPr>
        <p:spPr>
          <a:xfrm>
            <a:off x="228600" y="1039680"/>
            <a:ext cx="1450800" cy="704880"/>
          </a:xfrm>
          <a:prstGeom prst="wedgeRoundRectCallout">
            <a:avLst>
              <a:gd name="adj1" fmla="val 152736"/>
              <a:gd name="adj2" fmla="val 7680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ia - Hawa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41"/>
          <p:cNvSpPr/>
          <p:nvPr/>
        </p:nvSpPr>
        <p:spPr>
          <a:xfrm>
            <a:off x="444600" y="195120"/>
            <a:ext cx="1450800" cy="704880"/>
          </a:xfrm>
          <a:prstGeom prst="wedgeRoundRectCallout">
            <a:avLst>
              <a:gd name="adj1" fmla="val 168819"/>
              <a:gd name="adj2" fmla="val 10157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 East - Californ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2"/>
          <p:cNvSpPr/>
          <p:nvPr/>
        </p:nvSpPr>
        <p:spPr>
          <a:xfrm>
            <a:off x="6975360" y="195120"/>
            <a:ext cx="1451160" cy="908280"/>
          </a:xfrm>
          <a:prstGeom prst="wedgeRoundRectCallout">
            <a:avLst>
              <a:gd name="adj1" fmla="val -165319"/>
              <a:gd name="adj2" fmla="val 1660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– RTE Entry P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3"/>
          <p:cNvSpPr/>
          <p:nvPr/>
        </p:nvSpPr>
        <p:spPr>
          <a:xfrm>
            <a:off x="7335720" y="2052720"/>
            <a:ext cx="1633680" cy="1184040"/>
          </a:xfrm>
          <a:prstGeom prst="wedgeRoundRectCallout">
            <a:avLst>
              <a:gd name="adj1" fmla="val -127453"/>
              <a:gd name="adj2" fmla="val -6648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– Hawaii (North of CE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44"/>
          <p:cNvGrpSpPr/>
          <p:nvPr/>
        </p:nvGrpSpPr>
        <p:grpSpPr>
          <a:xfrm>
            <a:off x="6535800" y="-644040"/>
            <a:ext cx="2549520" cy="2418120"/>
            <a:chOff x="6535800" y="-644040"/>
            <a:chExt cx="2549520" cy="2418120"/>
          </a:xfrm>
        </p:grpSpPr>
        <p:sp>
          <p:nvSpPr>
            <p:cNvPr id="398" name="AutoShape 45"/>
            <p:cNvSpPr/>
            <p:nvPr/>
          </p:nvSpPr>
          <p:spPr>
            <a:xfrm rot="1479000">
              <a:off x="6807240" y="-30456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6"/>
            <p:cNvSpPr/>
            <p:nvPr/>
          </p:nvSpPr>
          <p:spPr>
            <a:xfrm>
              <a:off x="7180560" y="11088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09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47"/>
          <p:cNvGrpSpPr/>
          <p:nvPr/>
        </p:nvGrpSpPr>
        <p:grpSpPr>
          <a:xfrm>
            <a:off x="6865920" y="1496160"/>
            <a:ext cx="2549520" cy="2418120"/>
            <a:chOff x="6865920" y="1496160"/>
            <a:chExt cx="2549520" cy="2418120"/>
          </a:xfrm>
        </p:grpSpPr>
        <p:sp>
          <p:nvSpPr>
            <p:cNvPr id="401" name="AutoShape 48"/>
            <p:cNvSpPr/>
            <p:nvPr/>
          </p:nvSpPr>
          <p:spPr>
            <a:xfrm rot="1479000">
              <a:off x="7137360" y="183528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9"/>
            <p:cNvSpPr/>
            <p:nvPr/>
          </p:nvSpPr>
          <p:spPr>
            <a:xfrm>
              <a:off x="7510680" y="225108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17Kg Fligh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50"/>
          <p:cNvGrpSpPr/>
          <p:nvPr/>
        </p:nvGrpSpPr>
        <p:grpSpPr>
          <a:xfrm>
            <a:off x="6656400" y="3556440"/>
            <a:ext cx="2549520" cy="2418480"/>
            <a:chOff x="6656400" y="3556440"/>
            <a:chExt cx="2549520" cy="2418480"/>
          </a:xfrm>
        </p:grpSpPr>
        <p:sp>
          <p:nvSpPr>
            <p:cNvPr id="404" name="AutoShape 51"/>
            <p:cNvSpPr/>
            <p:nvPr/>
          </p:nvSpPr>
          <p:spPr>
            <a:xfrm rot="1479000">
              <a:off x="6927480" y="3895560"/>
              <a:ext cx="2006640" cy="174024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52"/>
            <p:cNvSpPr/>
            <p:nvPr/>
          </p:nvSpPr>
          <p:spPr>
            <a:xfrm>
              <a:off x="7301160" y="431136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.61M Kg A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53"/>
          <p:cNvGrpSpPr/>
          <p:nvPr/>
        </p:nvGrpSpPr>
        <p:grpSpPr>
          <a:xfrm>
            <a:off x="4672080" y="4326480"/>
            <a:ext cx="2549520" cy="2418120"/>
            <a:chOff x="4672080" y="4326480"/>
            <a:chExt cx="2549520" cy="2418120"/>
          </a:xfrm>
        </p:grpSpPr>
        <p:sp>
          <p:nvSpPr>
            <p:cNvPr id="407" name="AutoShape 54"/>
            <p:cNvSpPr/>
            <p:nvPr/>
          </p:nvSpPr>
          <p:spPr>
            <a:xfrm rot="1479000">
              <a:off x="4943520" y="466560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55"/>
            <p:cNvSpPr/>
            <p:nvPr/>
          </p:nvSpPr>
          <p:spPr>
            <a:xfrm>
              <a:off x="5316840" y="508140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???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56"/>
          <p:cNvGrpSpPr/>
          <p:nvPr/>
        </p:nvGrpSpPr>
        <p:grpSpPr>
          <a:xfrm>
            <a:off x="2611440" y="4470840"/>
            <a:ext cx="2549520" cy="2418480"/>
            <a:chOff x="2611440" y="4470840"/>
            <a:chExt cx="2549520" cy="2418480"/>
          </a:xfrm>
        </p:grpSpPr>
        <p:sp>
          <p:nvSpPr>
            <p:cNvPr id="410" name="AutoShape 57"/>
            <p:cNvSpPr/>
            <p:nvPr/>
          </p:nvSpPr>
          <p:spPr>
            <a:xfrm rot="1479000">
              <a:off x="2882520" y="4809960"/>
              <a:ext cx="2006640" cy="174024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8"/>
            <p:cNvSpPr/>
            <p:nvPr/>
          </p:nvSpPr>
          <p:spPr>
            <a:xfrm>
              <a:off x="3256200" y="522576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09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9"/>
          <p:cNvGrpSpPr/>
          <p:nvPr/>
        </p:nvGrpSpPr>
        <p:grpSpPr>
          <a:xfrm>
            <a:off x="998640" y="4485240"/>
            <a:ext cx="2549520" cy="2418120"/>
            <a:chOff x="998640" y="4485240"/>
            <a:chExt cx="2549520" cy="2418120"/>
          </a:xfrm>
        </p:grpSpPr>
        <p:sp>
          <p:nvSpPr>
            <p:cNvPr id="413" name="AutoShape 60"/>
            <p:cNvSpPr/>
            <p:nvPr/>
          </p:nvSpPr>
          <p:spPr>
            <a:xfrm rot="1479000">
              <a:off x="1270080" y="482436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61"/>
            <p:cNvSpPr/>
            <p:nvPr/>
          </p:nvSpPr>
          <p:spPr>
            <a:xfrm>
              <a:off x="1643400" y="524016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88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2"/>
          <p:cNvGrpSpPr/>
          <p:nvPr/>
        </p:nvGrpSpPr>
        <p:grpSpPr>
          <a:xfrm>
            <a:off x="-523800" y="3542400"/>
            <a:ext cx="2549520" cy="2418120"/>
            <a:chOff x="-523800" y="3542400"/>
            <a:chExt cx="2549520" cy="2418120"/>
          </a:xfrm>
        </p:grpSpPr>
        <p:sp>
          <p:nvSpPr>
            <p:cNvPr id="416" name="AutoShape 63"/>
            <p:cNvSpPr/>
            <p:nvPr/>
          </p:nvSpPr>
          <p:spPr>
            <a:xfrm rot="1479000">
              <a:off x="-252000" y="388152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64"/>
            <p:cNvSpPr/>
            <p:nvPr/>
          </p:nvSpPr>
          <p:spPr>
            <a:xfrm>
              <a:off x="120960" y="429732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266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65"/>
          <p:cNvGrpSpPr/>
          <p:nvPr/>
        </p:nvGrpSpPr>
        <p:grpSpPr>
          <a:xfrm>
            <a:off x="-392040" y="1222920"/>
            <a:ext cx="2549520" cy="2418120"/>
            <a:chOff x="-392040" y="1222920"/>
            <a:chExt cx="2549520" cy="2418120"/>
          </a:xfrm>
        </p:grpSpPr>
        <p:sp>
          <p:nvSpPr>
            <p:cNvPr id="419" name="AutoShape 66"/>
            <p:cNvSpPr/>
            <p:nvPr/>
          </p:nvSpPr>
          <p:spPr>
            <a:xfrm rot="1479000">
              <a:off x="-120240" y="156204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67"/>
            <p:cNvSpPr/>
            <p:nvPr/>
          </p:nvSpPr>
          <p:spPr>
            <a:xfrm>
              <a:off x="252720" y="197784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09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68"/>
          <p:cNvGrpSpPr/>
          <p:nvPr/>
        </p:nvGrpSpPr>
        <p:grpSpPr>
          <a:xfrm>
            <a:off x="344520" y="-754920"/>
            <a:ext cx="2549520" cy="2418120"/>
            <a:chOff x="344520" y="-754920"/>
            <a:chExt cx="2549520" cy="2418120"/>
          </a:xfrm>
        </p:grpSpPr>
        <p:sp>
          <p:nvSpPr>
            <p:cNvPr id="422" name="AutoShape 69"/>
            <p:cNvSpPr/>
            <p:nvPr/>
          </p:nvSpPr>
          <p:spPr>
            <a:xfrm rot="1479000">
              <a:off x="615960" y="-41544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70"/>
            <p:cNvSpPr/>
            <p:nvPr/>
          </p:nvSpPr>
          <p:spPr>
            <a:xfrm>
              <a:off x="989280" y="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???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71"/>
          <p:cNvGrpSpPr/>
          <p:nvPr/>
        </p:nvGrpSpPr>
        <p:grpSpPr>
          <a:xfrm>
            <a:off x="-271440" y="160920"/>
            <a:ext cx="2549520" cy="2418120"/>
            <a:chOff x="-271440" y="160920"/>
            <a:chExt cx="2549520" cy="2418120"/>
          </a:xfrm>
        </p:grpSpPr>
        <p:sp>
          <p:nvSpPr>
            <p:cNvPr id="425" name="AutoShape 72"/>
            <p:cNvSpPr/>
            <p:nvPr/>
          </p:nvSpPr>
          <p:spPr>
            <a:xfrm rot="1479000">
              <a:off x="0" y="50004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3"/>
            <p:cNvSpPr/>
            <p:nvPr/>
          </p:nvSpPr>
          <p:spPr>
            <a:xfrm>
              <a:off x="373320" y="91584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88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74"/>
          <p:cNvGrpSpPr/>
          <p:nvPr/>
        </p:nvGrpSpPr>
        <p:grpSpPr>
          <a:xfrm>
            <a:off x="1609200" y="-35280"/>
            <a:ext cx="6005880" cy="5868720"/>
            <a:chOff x="1609200" y="-35280"/>
            <a:chExt cx="6005880" cy="5868720"/>
          </a:xfrm>
        </p:grpSpPr>
        <p:sp>
          <p:nvSpPr>
            <p:cNvPr id="428" name="AutoShape 75"/>
            <p:cNvSpPr/>
            <p:nvPr/>
          </p:nvSpPr>
          <p:spPr>
            <a:xfrm rot="1479000">
              <a:off x="2303280" y="729720"/>
              <a:ext cx="4617360" cy="433836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76"/>
            <p:cNvSpPr/>
            <p:nvPr/>
          </p:nvSpPr>
          <p:spPr>
            <a:xfrm>
              <a:off x="3162960" y="1766520"/>
              <a:ext cx="2942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ver 32.8 Mil Kg Fuel Savings Annually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77"/>
          <p:cNvSpPr/>
          <p:nvPr/>
        </p:nvSpPr>
        <p:spPr>
          <a:xfrm>
            <a:off x="3292560" y="1746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UPR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78"/>
          <p:cNvSpPr/>
          <p:nvPr/>
        </p:nvSpPr>
        <p:spPr>
          <a:xfrm>
            <a:off x="7369200" y="1198440"/>
            <a:ext cx="1450800" cy="704880"/>
          </a:xfrm>
          <a:prstGeom prst="wedgeRoundRectCallout">
            <a:avLst>
              <a:gd name="adj1" fmla="val -226587"/>
              <a:gd name="adj2" fmla="val -8130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 1 UP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79"/>
          <p:cNvGrpSpPr/>
          <p:nvPr/>
        </p:nvGrpSpPr>
        <p:grpSpPr>
          <a:xfrm>
            <a:off x="6865920" y="410040"/>
            <a:ext cx="2549520" cy="2418120"/>
            <a:chOff x="6865920" y="410040"/>
            <a:chExt cx="2549520" cy="2418120"/>
          </a:xfrm>
        </p:grpSpPr>
        <p:sp>
          <p:nvSpPr>
            <p:cNvPr id="433" name="AutoShape 80"/>
            <p:cNvSpPr/>
            <p:nvPr/>
          </p:nvSpPr>
          <p:spPr>
            <a:xfrm rot="1479000">
              <a:off x="7137360" y="74916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81"/>
            <p:cNvSpPr/>
            <p:nvPr/>
          </p:nvSpPr>
          <p:spPr>
            <a:xfrm>
              <a:off x="7510680" y="116496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M. Kg A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3B51-E830-4064-9A60-01BE3B1F2809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Cloud 5"/>
          <p:cNvSpPr/>
          <p:nvPr/>
        </p:nvSpPr>
        <p:spPr>
          <a:xfrm>
            <a:off x="2886120" y="84600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Cloud 10"/>
          <p:cNvSpPr/>
          <p:nvPr/>
        </p:nvSpPr>
        <p:spPr>
          <a:xfrm>
            <a:off x="3676680" y="257040"/>
            <a:ext cx="3618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Cloud 11"/>
          <p:cNvSpPr/>
          <p:nvPr/>
        </p:nvSpPr>
        <p:spPr>
          <a:xfrm>
            <a:off x="3219480" y="453960"/>
            <a:ext cx="3618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loud 12"/>
          <p:cNvSpPr/>
          <p:nvPr/>
        </p:nvSpPr>
        <p:spPr>
          <a:xfrm>
            <a:off x="4164120" y="243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Cloud 13"/>
          <p:cNvSpPr/>
          <p:nvPr/>
        </p:nvSpPr>
        <p:spPr>
          <a:xfrm>
            <a:off x="4648320" y="3524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loud 14"/>
          <p:cNvSpPr/>
          <p:nvPr/>
        </p:nvSpPr>
        <p:spPr>
          <a:xfrm>
            <a:off x="5011560" y="547560"/>
            <a:ext cx="36216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Cloud 15"/>
          <p:cNvSpPr/>
          <p:nvPr/>
        </p:nvSpPr>
        <p:spPr>
          <a:xfrm>
            <a:off x="5373720" y="93996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Cloud 16"/>
          <p:cNvSpPr/>
          <p:nvPr/>
        </p:nvSpPr>
        <p:spPr>
          <a:xfrm>
            <a:off x="5373720" y="152100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Cloud 17"/>
          <p:cNvSpPr/>
          <p:nvPr/>
        </p:nvSpPr>
        <p:spPr>
          <a:xfrm>
            <a:off x="5153040" y="194148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loud 18"/>
          <p:cNvSpPr/>
          <p:nvPr/>
        </p:nvSpPr>
        <p:spPr>
          <a:xfrm>
            <a:off x="4654440" y="2303640"/>
            <a:ext cx="36216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Cloud 19"/>
          <p:cNvSpPr/>
          <p:nvPr/>
        </p:nvSpPr>
        <p:spPr>
          <a:xfrm>
            <a:off x="4164120" y="289872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Cloud 20"/>
          <p:cNvSpPr/>
          <p:nvPr/>
        </p:nvSpPr>
        <p:spPr>
          <a:xfrm>
            <a:off x="4164120" y="2500200"/>
            <a:ext cx="363600" cy="392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Cloud 21"/>
          <p:cNvSpPr/>
          <p:nvPr/>
        </p:nvSpPr>
        <p:spPr>
          <a:xfrm>
            <a:off x="4191120" y="3363840"/>
            <a:ext cx="36324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loud 22"/>
          <p:cNvSpPr/>
          <p:nvPr/>
        </p:nvSpPr>
        <p:spPr>
          <a:xfrm>
            <a:off x="4208400" y="3821040"/>
            <a:ext cx="363600" cy="392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Cloud 23"/>
          <p:cNvSpPr/>
          <p:nvPr/>
        </p:nvSpPr>
        <p:spPr>
          <a:xfrm>
            <a:off x="4224240" y="4656240"/>
            <a:ext cx="363600" cy="390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C:\Users\dennis Addison\AppData\Local\Microsoft\Windows\Temporary Internet Files\Content.IE5\2FDQZKUM\MC900320932[1].wmf"/>
          <p:cNvPicPr/>
          <p:nvPr/>
        </p:nvPicPr>
        <p:blipFill>
          <a:blip r:embed="rId1"/>
          <a:stretch/>
        </p:blipFill>
        <p:spPr>
          <a:xfrm flipH="1">
            <a:off x="-2514960" y="495360"/>
            <a:ext cx="1484280" cy="546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Users\dennis Addison\AppData\Local\Microsoft\Windows\Temporary Internet Files\Content.IE5\2FDQZKUM\MC900320932[1].wmf"/>
          <p:cNvPicPr/>
          <p:nvPr/>
        </p:nvPicPr>
        <p:blipFill>
          <a:blip r:embed="rId2"/>
          <a:stretch/>
        </p:blipFill>
        <p:spPr>
          <a:xfrm flipH="1" rot="4621800">
            <a:off x="2325960" y="-2853360"/>
            <a:ext cx="1484640" cy="545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C:\Users\dennis Addison\AppData\Local\Microsoft\Windows\Temporary Internet Files\Content.IE5\2FDQZKUM\MC900320932[1].wmf"/>
          <p:cNvPicPr/>
          <p:nvPr/>
        </p:nvPicPr>
        <p:blipFill>
          <a:blip r:embed="rId3"/>
          <a:stretch/>
        </p:blipFill>
        <p:spPr>
          <a:xfrm rot="18010200">
            <a:off x="7679160" y="-2562480"/>
            <a:ext cx="1325520" cy="5461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C:\Users\dennis Addison\AppData\Local\Microsoft\Windows\Temporary Internet Files\Content.IE5\2FDQZKUM\MC900320932[1].wmf"/>
          <p:cNvPicPr/>
          <p:nvPr/>
        </p:nvPicPr>
        <p:blipFill>
          <a:blip r:embed="rId4"/>
          <a:stretch/>
        </p:blipFill>
        <p:spPr>
          <a:xfrm flipH="1">
            <a:off x="-5889960" y="5046840"/>
            <a:ext cx="42735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278 L 0.52708 0.04301 L 0.5684 -0.01618 L 0.61597 -0.04786 L 0.67309 -0.05017 L 0.72708 -0.0289 L 0.76042 -0.00139 L 0.80486 0.05989 L 1.32552 0.38335 E">
                                      <p:cBhvr>
                                        <p:cTn id="310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 repeatCount="1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0.09295 L -0.30573 0.58752 L -0.32968 0.6511 L -0.38698 0.70382 L -0.44409 0.73341 L -1.09462 0.93018 E">
                                      <p:cBhvr>
                                        <p:cTn id="327" dur="5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6 0.11191 L 0.1408 0.7674 L 0.14236 0.82867 L 0.14392 0.8985 L 0.14705 0.96393 L 0.14705 1.08648 L 0.14705 1.48809 E">
                                      <p:cBhvr>
                                        <p:cTn id="338" dur="5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5 0.25232 L 0.71667 -0.01435 E">
                                      <p:cBhvr>
                                        <p:cTn id="349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22928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Merging PACOTS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Tracks C and 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perational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088640"/>
            <a:ext cx="8050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ch 13, 2013 began a 1 year operational trial of Merging Tracks C and E when it provided an advanta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32E8-0E24-413C-AC5B-EF561106D355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Procedural Propos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145880"/>
            <a:ext cx="8050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operational trial was a hybrid of different Pacific Oceanic Procedur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 the merging of PACOTS Tracks C and E in the Oakland or Anchorage FIRs when it provides a savings advantag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ACG:  Only merge PACOTS when there is at least a 200 lbs fuel sav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734D-0FCB-46ED-94E6-A1F74CDE8BB2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rack Advisor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145880"/>
            <a:ext cx="8050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PACOTS Tracks C and E are merge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ck Advisory is used to manage the merging traffic at the point where the routes converg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ttp://www.faa.gov/about/office_org/headquarters_offices/ato/service_units/enroute/oceanic/pacific_track_advis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7CA3-DF8B-4F68-9A5C-ED323624483E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rack Advisor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360" y="1145880"/>
            <a:ext cx="8050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PACOTS Tracks C and E are not merg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ic Gateway Fix is the Start of the PACOTS Track as is currently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PACOTS Tracks C and E are merg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ic Gateway Fix is the Merge point of Tracks C and 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merge point is a Waypoint, that will be the Gateway Fi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merge point is a Lat/Long, the Gateway Fix for Track Advisory will be co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1W40 = 41N/140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atitude is always North and the leading 1 is dropped from the Longitu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1271-0327-497D-B895-E67C9717C93E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09680" y="76320"/>
            <a:ext cx="84722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mplementing Merged Track C and E Tr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46200" y="1373040"/>
            <a:ext cx="774540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Track C and E are merged, the TDM will have “RMK/MERGE USE (point) FOR TRK ADVISORY GRL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0284/13 - (TDM TRK E 130122190001 1301221900 1301230800 BOXER FULMR FASEL 52N140W 55N150W 56N160W 56N170W ALDOZ ONEIL OPAKE OLCOT OPHET OGDEN OMOTO RTS/KSFO MOLEN BOXER KLAX RZS LIBBO BRINY BOARS BOXER OMOTO R580 OATIS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MK/MERGE U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EIL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FOR TRK ADVISORY GRL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A69D-AAA1-40CA-AECD-78AC48302144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09680" y="76320"/>
            <a:ext cx="84722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mplementing Merged Track C and E Tr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46200" y="1373040"/>
            <a:ext cx="774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0284/13 - (TDM TRK E 130122190001 1301221900 1301230800 BOXER FULMR FASEL 52N140W 55N150W 56N160W 56N170W ALDOZ ONEIL OPAKE OLCOT OPHET OGDEN OMOTO RTS/KSFO MOLEN BOXER KLAX RZS LIBBO BRINY BOARS BOXER OMOTO R580 OATIS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MK/MERGE U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2W40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FOR TRK ADVISORY GRL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8359920" y="6297480"/>
            <a:ext cx="62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A32A-53CB-497B-9E46-D461F5B2145A}" type="slidenum">
              <a:rPr b="1" lang="en-US" sz="16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Addison, Dennis (FAA)</cp:lastModifiedBy>
  <dcterms:modified xsi:type="dcterms:W3CDTF">2014-02-04T12:18:35Z</dcterms:modified>
  <cp:revision>397</cp:revision>
  <dc:subject/>
  <dc:title>Oakland ARTCC</dc:title>
</cp:coreProperties>
</file>