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CC02-EF92-4519-A031-53E859FF4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A237-69C1-4208-86AB-96F93F8A8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CE50-263B-4492-BD6A-418CAF1D8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ED9E8F7-FD67-46BD-8D76-646D43E8C8E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90C7-0E89-4323-B768-512E5FB85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19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3" descr="NEW FAA LOGO"/>
          <p:cNvPicPr/>
          <p:nvPr/>
        </p:nvPicPr>
        <p:blipFill>
          <a:blip r:embed="rId2"/>
          <a:srcRect l="14345" t="3761" r="14971" b="4567"/>
          <a:stretch/>
        </p:blipFill>
        <p:spPr>
          <a:xfrm>
            <a:off x="5689440" y="6276960"/>
            <a:ext cx="489240" cy="490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34"/>
          <p:cNvSpPr/>
          <p:nvPr/>
        </p:nvSpPr>
        <p:spPr>
          <a:xfrm>
            <a:off x="6386760" y="630396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35"/>
          <p:cNvSpPr/>
          <p:nvPr/>
        </p:nvSpPr>
        <p:spPr>
          <a:xfrm>
            <a:off x="463680" y="6191280"/>
            <a:ext cx="2700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PACG/3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nnis Addison, FA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e:  February 5-6, 20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0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1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46" name="Picture 52" descr="NEW FAA LOGO"/>
            <p:cNvPicPr/>
            <p:nvPr/>
          </p:nvPicPr>
          <p:blipFill>
            <a:blip r:embed="rId3"/>
            <a:srcRect l="14350" t="3733" r="14966" b="4567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53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63600" y="5513400"/>
            <a:ext cx="3849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To: IPACG/3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By: Dennis Addison, FA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 February 5-6, 20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95360" y="1754280"/>
            <a:ext cx="4257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P06: ADS-B In-trail-Procedure (ITP) Flight Trial Project 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0.gstatic.com/images?q=tbn:ANd9GcTiZiHfWij30-p1odDCXBhbbi9G3G-6FHdtAYora1uWVUIFCcWm"/>
          <p:cNvPicPr/>
          <p:nvPr/>
        </p:nvPicPr>
        <p:blipFill>
          <a:blip r:embed="rId1">
            <a:lum bright="22000"/>
          </a:blip>
          <a:srcRect l="0" t="4729" r="20946" b="15221"/>
          <a:stretch/>
        </p:blipFill>
        <p:spPr>
          <a:xfrm>
            <a:off x="0" y="4680"/>
            <a:ext cx="9134640" cy="6156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412920" y="630360"/>
            <a:ext cx="81342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5360" indent="-22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312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A and United Airlines agreement signed in April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312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312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6600" y="79200"/>
            <a:ext cx="90298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Operational Evaluation Partnership Agre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27040" y="4443480"/>
            <a:ext cx="8147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5360" indent="-22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rofit 12 UAL 747-400 aircraft with certified ITP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ther data on use of systems in SOPAC for a year starting in 201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low start due to low number of Trained aircre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312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E954-D866-499C-8D43-21BC8CA264E3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ARP"/>
          <p:cNvPicPr/>
          <p:nvPr/>
        </p:nvPicPr>
        <p:blipFill>
          <a:blip r:embed="rId1"/>
          <a:srcRect l="0" t="0" r="0" b="23140"/>
          <a:stretch/>
        </p:blipFill>
        <p:spPr>
          <a:xfrm>
            <a:off x="0" y="-130320"/>
            <a:ext cx="9144000" cy="6118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8080" y="-3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DS-B ITP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5951520" y="4862520"/>
            <a:ext cx="130320" cy="1160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 flipH="1">
            <a:off x="4142880" y="5005440"/>
            <a:ext cx="228600" cy="9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2852640" y="4219560"/>
            <a:ext cx="81000" cy="117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2133720" y="4533840"/>
            <a:ext cx="38160" cy="40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3"/>
          <p:cNvSpPr/>
          <p:nvPr/>
        </p:nvSpPr>
        <p:spPr>
          <a:xfrm>
            <a:off x="3784680" y="1270080"/>
            <a:ext cx="4241880" cy="3746520"/>
          </a:xfrm>
          <a:custGeom>
            <a:avLst/>
            <a:gdLst/>
            <a:ahLst/>
            <a:rect l="l" t="t" r="r" b="b"/>
            <a:pathLst>
              <a:path w="2672" h="2360">
                <a:moveTo>
                  <a:pt x="1920" y="0"/>
                </a:moveTo>
                <a:lnTo>
                  <a:pt x="1232" y="472"/>
                </a:lnTo>
                <a:lnTo>
                  <a:pt x="8" y="2240"/>
                </a:lnTo>
                <a:lnTo>
                  <a:pt x="0" y="2360"/>
                </a:lnTo>
                <a:lnTo>
                  <a:pt x="600" y="2336"/>
                </a:lnTo>
                <a:lnTo>
                  <a:pt x="1120" y="2288"/>
                </a:lnTo>
                <a:lnTo>
                  <a:pt x="1496" y="2240"/>
                </a:lnTo>
                <a:lnTo>
                  <a:pt x="1968" y="1696"/>
                </a:lnTo>
                <a:lnTo>
                  <a:pt x="2376" y="1616"/>
                </a:lnTo>
                <a:lnTo>
                  <a:pt x="2656" y="1544"/>
                </a:lnTo>
                <a:lnTo>
                  <a:pt x="2672" y="1528"/>
                </a:lnTo>
                <a:lnTo>
                  <a:pt x="2640" y="1280"/>
                </a:lnTo>
                <a:lnTo>
                  <a:pt x="2568" y="984"/>
                </a:lnTo>
                <a:lnTo>
                  <a:pt x="2464" y="680"/>
                </a:lnTo>
                <a:lnTo>
                  <a:pt x="2360" y="472"/>
                </a:lnTo>
                <a:lnTo>
                  <a:pt x="2256" y="328"/>
                </a:lnTo>
                <a:lnTo>
                  <a:pt x="2064" y="136"/>
                </a:lnTo>
                <a:lnTo>
                  <a:pt x="1920" y="0"/>
                </a:lnTo>
                <a:close/>
              </a:path>
            </a:pathLst>
          </a:custGeom>
          <a:solidFill>
            <a:srgbClr val="66ff33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153040" y="3043080"/>
            <a:ext cx="287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uth Pacific August 15,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4"/>
          <p:cNvSpPr/>
          <p:nvPr/>
        </p:nvSpPr>
        <p:spPr>
          <a:xfrm>
            <a:off x="1009800" y="428760"/>
            <a:ext cx="5819760" cy="4390920"/>
          </a:xfrm>
          <a:custGeom>
            <a:avLst/>
            <a:gdLst/>
            <a:ahLst/>
            <a:rect l="l" t="t" r="r" b="b"/>
            <a:pathLst>
              <a:path w="3666" h="2766">
                <a:moveTo>
                  <a:pt x="3666" y="528"/>
                </a:moveTo>
                <a:lnTo>
                  <a:pt x="2994" y="990"/>
                </a:lnTo>
                <a:lnTo>
                  <a:pt x="2982" y="996"/>
                </a:lnTo>
                <a:lnTo>
                  <a:pt x="1758" y="2766"/>
                </a:lnTo>
                <a:lnTo>
                  <a:pt x="1728" y="2376"/>
                </a:lnTo>
                <a:lnTo>
                  <a:pt x="1254" y="2388"/>
                </a:lnTo>
                <a:lnTo>
                  <a:pt x="840" y="2382"/>
                </a:lnTo>
                <a:lnTo>
                  <a:pt x="678" y="2376"/>
                </a:lnTo>
                <a:lnTo>
                  <a:pt x="690" y="2580"/>
                </a:lnTo>
                <a:lnTo>
                  <a:pt x="276" y="2532"/>
                </a:lnTo>
                <a:lnTo>
                  <a:pt x="144" y="2508"/>
                </a:lnTo>
                <a:lnTo>
                  <a:pt x="138" y="2334"/>
                </a:lnTo>
                <a:lnTo>
                  <a:pt x="24" y="2292"/>
                </a:lnTo>
                <a:lnTo>
                  <a:pt x="0" y="2136"/>
                </a:lnTo>
                <a:lnTo>
                  <a:pt x="18" y="1914"/>
                </a:lnTo>
                <a:lnTo>
                  <a:pt x="54" y="1626"/>
                </a:lnTo>
                <a:lnTo>
                  <a:pt x="90" y="1482"/>
                </a:lnTo>
                <a:lnTo>
                  <a:pt x="288" y="1464"/>
                </a:lnTo>
                <a:lnTo>
                  <a:pt x="456" y="1446"/>
                </a:lnTo>
                <a:lnTo>
                  <a:pt x="606" y="1302"/>
                </a:lnTo>
                <a:lnTo>
                  <a:pt x="888" y="1098"/>
                </a:lnTo>
                <a:lnTo>
                  <a:pt x="1044" y="1002"/>
                </a:lnTo>
                <a:lnTo>
                  <a:pt x="1164" y="624"/>
                </a:lnTo>
                <a:lnTo>
                  <a:pt x="1260" y="414"/>
                </a:lnTo>
                <a:lnTo>
                  <a:pt x="1254" y="348"/>
                </a:lnTo>
                <a:lnTo>
                  <a:pt x="1494" y="252"/>
                </a:lnTo>
                <a:lnTo>
                  <a:pt x="1806" y="168"/>
                </a:lnTo>
                <a:lnTo>
                  <a:pt x="2112" y="108"/>
                </a:lnTo>
                <a:lnTo>
                  <a:pt x="2550" y="24"/>
                </a:lnTo>
                <a:lnTo>
                  <a:pt x="2652" y="0"/>
                </a:lnTo>
                <a:lnTo>
                  <a:pt x="2964" y="60"/>
                </a:lnTo>
                <a:lnTo>
                  <a:pt x="3024" y="78"/>
                </a:lnTo>
                <a:lnTo>
                  <a:pt x="3126" y="120"/>
                </a:lnTo>
                <a:lnTo>
                  <a:pt x="3324" y="228"/>
                </a:lnTo>
                <a:lnTo>
                  <a:pt x="3402" y="240"/>
                </a:lnTo>
                <a:lnTo>
                  <a:pt x="3582" y="402"/>
                </a:lnTo>
                <a:lnTo>
                  <a:pt x="3660" y="486"/>
                </a:lnTo>
                <a:lnTo>
                  <a:pt x="3666" y="528"/>
                </a:lnTo>
                <a:close/>
              </a:path>
            </a:pathLst>
          </a:custGeom>
          <a:solidFill>
            <a:srgbClr val="66ff33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025800" y="11253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re Oakland FIR December 9,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0" y="4819680"/>
            <a:ext cx="9144000" cy="1323000"/>
          </a:xfrm>
          <a:prstGeom prst="rect">
            <a:avLst/>
          </a:prstGeom>
          <a:solidFill>
            <a:srgbClr val="6b6bc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TP Operations Resum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ovember 20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2"/>
          <p:cNvSpPr/>
          <p:nvPr/>
        </p:nvSpPr>
        <p:spPr>
          <a:xfrm>
            <a:off x="8359920" y="6310440"/>
            <a:ext cx="622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DBFC-345A-4161-9620-3B16765B7A4F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-1440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le 1"/>
          <p:cNvSpPr/>
          <p:nvPr/>
        </p:nvSpPr>
        <p:spPr>
          <a:xfrm>
            <a:off x="2279520" y="130320"/>
            <a:ext cx="45849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  <a:ea typeface="ＭＳ Ｐゴシック"/>
              </a:rPr>
              <a:t>ITP Requ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Chart 6" descr=""/>
          <p:cNvPicPr/>
          <p:nvPr/>
        </p:nvPicPr>
        <p:blipFill>
          <a:blip r:embed="rId1"/>
          <a:stretch/>
        </p:blipFill>
        <p:spPr>
          <a:xfrm>
            <a:off x="560520" y="822240"/>
            <a:ext cx="8162640" cy="5133960"/>
          </a:xfrm>
          <a:prstGeom prst="rect">
            <a:avLst/>
          </a:prstGeom>
          <a:ln w="0">
            <a:noFill/>
          </a:ln>
        </p:spPr>
      </p:pic>
      <p:sp>
        <p:nvSpPr>
          <p:cNvPr id="117" name="Straight Connector 3"/>
          <p:cNvSpPr/>
          <p:nvPr/>
        </p:nvSpPr>
        <p:spPr>
          <a:xfrm flipV="1">
            <a:off x="4694400" y="1619280"/>
            <a:ext cx="0" cy="328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6662880" y="395280"/>
            <a:ext cx="204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ril 18, 2013 = 100 percent Pilots Tra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-1440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tle 1"/>
          <p:cNvSpPr/>
          <p:nvPr/>
        </p:nvSpPr>
        <p:spPr>
          <a:xfrm>
            <a:off x="2279520" y="130320"/>
            <a:ext cx="45849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  <a:ea typeface="ＭＳ Ｐゴシック"/>
              </a:rPr>
              <a:t>ITP Maneu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Chart 4" descr=""/>
          <p:cNvPicPr/>
          <p:nvPr/>
        </p:nvPicPr>
        <p:blipFill>
          <a:blip r:embed="rId1"/>
          <a:stretch/>
        </p:blipFill>
        <p:spPr>
          <a:xfrm>
            <a:off x="281160" y="658800"/>
            <a:ext cx="85708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17080"/>
            <a:ext cx="278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DS-B ITP Checklis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1F1D-419E-47DF-9F17-FF660B0E3860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231840" y="1809720"/>
            <a:ext cx="30924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al Checklist is being automated in Ocean21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omation is planned to be delivered 20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6903" t="15176" r="8333" b="10029"/>
          <a:stretch/>
        </p:blipFill>
        <p:spPr>
          <a:xfrm>
            <a:off x="2949480" y="230040"/>
            <a:ext cx="60325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0" y="-1440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0"/>
            <a:ext cx="4586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  <a:ea typeface="ＭＳ Ｐゴシック"/>
              </a:rPr>
              <a:t>Activity Sta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47760" y="914400"/>
            <a:ext cx="538488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P Expan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arted  Operational ITP Trial on January 6, 201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al ends in February, making a request to ext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FAA ITP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kmjones4\Desktop\FIR Boundaries - Pacfic Region.JPG"/>
          <p:cNvPicPr/>
          <p:nvPr/>
        </p:nvPicPr>
        <p:blipFill>
          <a:blip r:embed="rId1"/>
          <a:srcRect l="35155" t="8425" r="11716" b="0"/>
          <a:stretch/>
        </p:blipFill>
        <p:spPr>
          <a:xfrm>
            <a:off x="5948280" y="82440"/>
            <a:ext cx="306072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loud 5"/>
          <p:cNvSpPr/>
          <p:nvPr/>
        </p:nvSpPr>
        <p:spPr>
          <a:xfrm>
            <a:off x="2886120" y="84600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 10"/>
          <p:cNvSpPr/>
          <p:nvPr/>
        </p:nvSpPr>
        <p:spPr>
          <a:xfrm>
            <a:off x="3676680" y="257040"/>
            <a:ext cx="3618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loud 11"/>
          <p:cNvSpPr/>
          <p:nvPr/>
        </p:nvSpPr>
        <p:spPr>
          <a:xfrm>
            <a:off x="3219480" y="453960"/>
            <a:ext cx="3618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loud 12"/>
          <p:cNvSpPr/>
          <p:nvPr/>
        </p:nvSpPr>
        <p:spPr>
          <a:xfrm>
            <a:off x="4164120" y="243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loud 13"/>
          <p:cNvSpPr/>
          <p:nvPr/>
        </p:nvSpPr>
        <p:spPr>
          <a:xfrm>
            <a:off x="4648320" y="3524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loud 14"/>
          <p:cNvSpPr/>
          <p:nvPr/>
        </p:nvSpPr>
        <p:spPr>
          <a:xfrm>
            <a:off x="5011560" y="547560"/>
            <a:ext cx="36216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loud 15"/>
          <p:cNvSpPr/>
          <p:nvPr/>
        </p:nvSpPr>
        <p:spPr>
          <a:xfrm>
            <a:off x="5373720" y="93996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 16"/>
          <p:cNvSpPr/>
          <p:nvPr/>
        </p:nvSpPr>
        <p:spPr>
          <a:xfrm>
            <a:off x="5373720" y="1521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loud 17"/>
          <p:cNvSpPr/>
          <p:nvPr/>
        </p:nvSpPr>
        <p:spPr>
          <a:xfrm>
            <a:off x="5153040" y="194148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loud 18"/>
          <p:cNvSpPr/>
          <p:nvPr/>
        </p:nvSpPr>
        <p:spPr>
          <a:xfrm>
            <a:off x="4654440" y="2303640"/>
            <a:ext cx="36216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loud 19"/>
          <p:cNvSpPr/>
          <p:nvPr/>
        </p:nvSpPr>
        <p:spPr>
          <a:xfrm>
            <a:off x="4164120" y="289872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loud 20"/>
          <p:cNvSpPr/>
          <p:nvPr/>
        </p:nvSpPr>
        <p:spPr>
          <a:xfrm>
            <a:off x="4164120" y="2500200"/>
            <a:ext cx="3636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loud 21"/>
          <p:cNvSpPr/>
          <p:nvPr/>
        </p:nvSpPr>
        <p:spPr>
          <a:xfrm>
            <a:off x="4191120" y="33638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loud 22"/>
          <p:cNvSpPr/>
          <p:nvPr/>
        </p:nvSpPr>
        <p:spPr>
          <a:xfrm>
            <a:off x="4208400" y="382104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loud 23"/>
          <p:cNvSpPr/>
          <p:nvPr/>
        </p:nvSpPr>
        <p:spPr>
          <a:xfrm>
            <a:off x="4224240" y="465624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dennis Addison\AppData\Local\Microsoft\Windows\Temporary Internet Files\Content.IE5\2FDQZKUM\MC900320932[1].wmf"/>
          <p:cNvPicPr/>
          <p:nvPr/>
        </p:nvPicPr>
        <p:blipFill>
          <a:blip r:embed="rId1"/>
          <a:stretch/>
        </p:blipFill>
        <p:spPr>
          <a:xfrm flipH="1">
            <a:off x="-2514960" y="495360"/>
            <a:ext cx="1484280" cy="546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dennis Addison\AppData\Local\Microsoft\Windows\Temporary Internet Files\Content.IE5\2FDQZKUM\MC900320932[1].wmf"/>
          <p:cNvPicPr/>
          <p:nvPr/>
        </p:nvPicPr>
        <p:blipFill>
          <a:blip r:embed="rId2"/>
          <a:stretch/>
        </p:blipFill>
        <p:spPr>
          <a:xfrm flipH="1" rot="4621800">
            <a:off x="2325960" y="-2853360"/>
            <a:ext cx="1484640" cy="545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dennis Addison\AppData\Local\Microsoft\Windows\Temporary Internet Files\Content.IE5\2FDQZKUM\MC900320932[1].wmf"/>
          <p:cNvPicPr/>
          <p:nvPr/>
        </p:nvPicPr>
        <p:blipFill>
          <a:blip r:embed="rId3"/>
          <a:stretch/>
        </p:blipFill>
        <p:spPr>
          <a:xfrm rot="18010200">
            <a:off x="7679160" y="-2562480"/>
            <a:ext cx="1325520" cy="546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dennis Addison\AppData\Local\Microsoft\Windows\Temporary Internet Files\Content.IE5\2FDQZKUM\MC900320932[1].wmf"/>
          <p:cNvPicPr/>
          <p:nvPr/>
        </p:nvPicPr>
        <p:blipFill>
          <a:blip r:embed="rId4"/>
          <a:stretch/>
        </p:blipFill>
        <p:spPr>
          <a:xfrm flipH="1">
            <a:off x="-5889960" y="5046840"/>
            <a:ext cx="42735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278 L 0.52708 0.04301 L 0.5684 -0.01618 L 0.61597 -0.04786 L 0.67309 -0.05017 L 0.72708 -0.0289 L 0.76042 -0.00139 L 0.80486 0.05989 L 1.32552 0.38335 E">
                                      <p:cBhvr>
                                        <p:cTn id="6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0.09295 L -0.30573 0.58752 L -0.32968 0.6511 L -0.38698 0.70382 L -0.44409 0.73341 L -1.09462 0.93018 E">
                                      <p:cBhvr>
                                        <p:cTn id="2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6 0.11191 L 0.1408 0.7674 L 0.14236 0.82867 L 0.14392 0.8985 L 0.14705 0.96393 L 0.14705 1.08648 L 0.14705 1.48809 E">
                                      <p:cBhvr>
                                        <p:cTn id="34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5 0.25232 L 0.71667 -0.01435 E">
                                      <p:cBhvr>
                                        <p:cTn id="45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Addison, Dennis (FAA)</cp:lastModifiedBy>
  <dcterms:modified xsi:type="dcterms:W3CDTF">2014-01-30T20:53:28Z</dcterms:modified>
  <cp:revision>378</cp:revision>
  <dc:subject/>
  <dc:title>Oakland ARTCC</dc:title>
</cp:coreProperties>
</file>