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2409907-CFC7-4A67-A83A-10C128A179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FC48D62-193B-4BD5-B853-415FE9F46E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A0250C9-16F2-4CBE-8453-818FAE8453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B367785-1ADF-4D29-A932-7BA37BAD60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30BB502-DB24-4273-9336-C9355CC317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38EE41F-6465-4969-9EF0-8A931D85BC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1ABF292-53C5-4E60-A566-30AE8951EC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B4B7DC2-44AE-493A-A7CB-715635F9BE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0F4451D-9867-4B44-9F78-A0FA52EDBA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0766E70-4B54-47B4-A724-756719AD03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5BAE97D-C42A-4360-95E1-18B93F00D4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8C698AC-A32D-4952-AAA1-7E16DE3DD35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3B1-E319-48BC-995B-3F00267D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E30-37E5-40DF-A7BC-2849F3E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074-B140-42E3-96D6-BAE08C0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C98-7713-491C-897A-98A5ACEC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79C-1458-4905-B15C-9B86398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C71-B842-4FD3-88EB-964192D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CDE-B2B2-4BD9-9069-816034D1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22A-153E-465F-9A0B-0D5AFF3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F6E-00D3-420F-A6B4-B4412FC2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94A-3D78-4F67-A13C-9EE75F6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E57-F77A-4E41-B62A-42F11800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DCB-23B9-4781-87BF-73DB3EB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F2D6-B5FA-4E53-B7B7-9DD6D7949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277920" y="6094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Feed Back on the advantages of DARP Operation ANA</a:t>
            </a: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//</a:t>
            </a:r>
            <a:r>
              <a:rPr b="1" i="1" lang="en-US" sz="5000" spc="-1" strike="noStrike">
                <a:solidFill>
                  <a:srgbClr val="66ffff"/>
                </a:solidFill>
                <a:latin typeface="Times New Roman"/>
              </a:rPr>
              <a:t>/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949840" y="4465800"/>
            <a:ext cx="338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ACG/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kuoka,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bruary 5-6, 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" y="291960"/>
            <a:ext cx="516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Workload)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8280" y="1700280"/>
            <a:ext cx="8106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light Crew DARP Procedure 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20-25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(includes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5-10min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 waiting ATC Clearanc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0720" y="3273480"/>
            <a:ext cx="8145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light Dispatcher DARP Procedure 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10-15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(time for preparing DARP rout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te : After 2 years of DARP implementation, DARP preparing time has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educed from “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-25min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3520" y="3260880"/>
          <a:ext cx="58752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3260880"/>
                    <a:ext cx="5875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9dc4fe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72080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2080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11280" y="368280"/>
            <a:ext cx="2882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906840" y="1403280"/>
            <a:ext cx="805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ffect of DARP from Fukuoka FIR is larger tha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ffect of DARP restricted within Oakland Oceanic F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228600" y="1384200"/>
          <a:ext cx="584280" cy="4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84200"/>
                    <a:ext cx="5842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911520" y="4794120"/>
            <a:ext cx="7959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ansion of DARP applicable city pai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cted. (e.g. TYO to/from LAX, SFO Flights)</a:t>
            </a:r>
            <a:r>
              <a:rPr b="0" i="1" lang="en-US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249120" y="476568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120" y="476568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3"/>
          <p:cNvSpPr/>
          <p:nvPr/>
        </p:nvSpPr>
        <p:spPr>
          <a:xfrm>
            <a:off x="921240" y="2627280"/>
            <a:ext cx="77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light Dispatcher’s DARP familiarization has 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rward after 2 years of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250920" y="2598840"/>
          <a:ext cx="58428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59884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rot="5400000">
            <a:off x="4211640" y="3789360"/>
            <a:ext cx="792000" cy="792000"/>
          </a:xfrm>
          <a:custGeom>
            <a:avLst/>
            <a:gdLst>
              <a:gd name="textAreaLeft" fmla="*/ 123480 w 792000"/>
              <a:gd name="textAreaRight" fmla="*/ 630720 w 792000"/>
              <a:gd name="textAreaTop" fmla="*/ 208080 h 792000"/>
              <a:gd name="textAreaBottom" fmla="*/ 58392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675"/>
                </a:moveTo>
                <a:lnTo>
                  <a:pt x="12326" y="5675"/>
                </a:lnTo>
                <a:lnTo>
                  <a:pt x="12326" y="0"/>
                </a:lnTo>
                <a:lnTo>
                  <a:pt x="21600" y="10800"/>
                </a:lnTo>
                <a:lnTo>
                  <a:pt x="12326" y="21600"/>
                </a:lnTo>
                <a:lnTo>
                  <a:pt x="12326" y="15925"/>
                </a:lnTo>
                <a:lnTo>
                  <a:pt x="3375" y="15925"/>
                </a:lnTo>
                <a:close/>
              </a:path>
              <a:path w="21600" h="21600">
                <a:moveTo>
                  <a:pt x="0" y="5675"/>
                </a:moveTo>
                <a:lnTo>
                  <a:pt x="675" y="5675"/>
                </a:lnTo>
                <a:lnTo>
                  <a:pt x="675" y="15925"/>
                </a:lnTo>
                <a:lnTo>
                  <a:pt x="0" y="15925"/>
                </a:lnTo>
                <a:close/>
              </a:path>
              <a:path w="21600" h="21600">
                <a:moveTo>
                  <a:pt x="1350" y="5675"/>
                </a:moveTo>
                <a:lnTo>
                  <a:pt x="2700" y="5675"/>
                </a:lnTo>
                <a:lnTo>
                  <a:pt x="2700" y="15925"/>
                </a:lnTo>
                <a:lnTo>
                  <a:pt x="1350" y="15925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76078"/>
                </a:srgbClr>
              </a:gs>
              <a:gs pos="100000">
                <a:srgbClr val="000042">
                  <a:alpha val="8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 flipV="1" rot="10800000">
            <a:off x="2997360" y="3785040"/>
            <a:ext cx="3047760" cy="74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982960" y="2895480"/>
            <a:ext cx="311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90480" y="285840"/>
            <a:ext cx="496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Summary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0360"/>
            <a:ext cx="7428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89400" y="285840"/>
            <a:ext cx="552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284120"/>
            <a:ext cx="74170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8680" y="285840"/>
            <a:ext cx="72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etail Result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9400" y="285840"/>
            <a:ext cx="552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TYO - HNL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6120" y="1268280"/>
            <a:ext cx="74278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88680" y="285840"/>
            <a:ext cx="72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etail Result (TYO - HNL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8600" y="1413000"/>
            <a:ext cx="81770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9400" y="285840"/>
            <a:ext cx="542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(SFO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106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88680" y="285840"/>
            <a:ext cx="731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1 (TYO - LAX/SF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28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8680" y="285840"/>
            <a:ext cx="731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sult 2 (TYO - LAX/SF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689560" y="6521400"/>
            <a:ext cx="317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9 Fukuoka, Japan February 5-6, 20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28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9:01Z</dcterms:created>
  <dc:creator>T.M</dc:creator>
  <dc:description/>
  <dc:language>en-US</dc:language>
  <cp:lastModifiedBy>全日本空輸株式会社</cp:lastModifiedBy>
  <dcterms:modified xsi:type="dcterms:W3CDTF">2014-01-21T11:26:50Z</dcterms:modified>
  <cp:revision>171</cp:revision>
  <dc:subject/>
  <dc:title>ｽﾗｲﾄﾞ ﾀｲﾄﾙなし</dc:title>
</cp:coreProperties>
</file>