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0BB8-3D0A-44DA-97FD-4B66976B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FC8C-08B1-45EE-978B-60285379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EBC-7D77-4B3B-A5C9-DF838F4A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2CAC-7BAD-4FE5-83AA-957D2040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550-6205-472E-A966-52296294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9E67-489C-41E5-BC2D-DE31E461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D663-DD11-4B2C-AD41-73497BAE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41B1-51AB-4C1E-9A75-5A9F7279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9E07-EF2B-4A5A-A9BE-A8782E19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B56A-256E-4C2B-BB4B-CA738188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369-3679-4980-AC5F-8FAE47C1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512-6877-4326-B476-825D5092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36E1-72DE-4A80-925B-7DA6E147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28BC-5A00-4E99-B65D-6B90DBF4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0391-F82D-4D99-A300-6E91388F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B92D-19BB-45EA-A1D7-CA504385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167E-1E74-4987-929E-78425623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5688-849D-464B-95D2-3677EDBB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58D9-10BA-45C5-8CFE-E0FCCE96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E59D-7500-40CF-B1E5-0B5D20BD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EBF0-D520-4546-8C9F-DAE1900D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8132-9D35-4436-AA4A-F8660C82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27C2-8AA2-4577-A3C0-BE2A75B7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75CD-0863-4801-A10F-61D646F9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UI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"/>
          <p:cNvSpPr/>
          <p:nvPr/>
        </p:nvSpPr>
        <p:spPr>
          <a:xfrm>
            <a:off x="222120" y="923760"/>
            <a:ext cx="789156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00"/>
              </a:solidFill>
              <a:latin typeface="Arial"/>
            </a:endParaRPr>
          </a:p>
        </p:txBody>
      </p:sp>
      <p:pic>
        <p:nvPicPr>
          <p:cNvPr id="1" name="Picture 18" descr=""/>
          <p:cNvPicPr/>
          <p:nvPr/>
        </p:nvPicPr>
        <p:blipFill>
          <a:blip r:embed="rId2"/>
          <a:stretch/>
        </p:blipFill>
        <p:spPr>
          <a:xfrm>
            <a:off x="8101080" y="71280"/>
            <a:ext cx="920520" cy="98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6BA8-D8B3-4F74-AFDC-408FA2EF0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8" descr=""/>
          <p:cNvPicPr/>
          <p:nvPr/>
        </p:nvPicPr>
        <p:blipFill>
          <a:blip r:embed="rId2"/>
          <a:stretch/>
        </p:blipFill>
        <p:spPr>
          <a:xfrm>
            <a:off x="0" y="0"/>
            <a:ext cx="1460520" cy="1557360"/>
          </a:xfrm>
          <a:prstGeom prst="rect">
            <a:avLst/>
          </a:prstGeom>
          <a:ln w="0">
            <a:noFill/>
          </a:ln>
        </p:spPr>
      </p:pic>
      <p:sp>
        <p:nvSpPr>
          <p:cNvPr id="78" name="Line 9"/>
          <p:cNvSpPr/>
          <p:nvPr/>
        </p:nvSpPr>
        <p:spPr>
          <a:xfrm>
            <a:off x="990720" y="3586320"/>
            <a:ext cx="7619760" cy="0"/>
          </a:xfrm>
          <a:prstGeom prst="line">
            <a:avLst/>
          </a:prstGeom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00"/>
              </a:solidFill>
              <a:latin typeface="Arial"/>
            </a:endParaRPr>
          </a:p>
        </p:txBody>
      </p:sp>
      <p:pic>
        <p:nvPicPr>
          <p:cNvPr id="79" name="Picture 10" descr="飛行機左向き"/>
          <p:cNvPicPr/>
          <p:nvPr/>
        </p:nvPicPr>
        <p:blipFill>
          <a:blip r:embed="rId3"/>
          <a:stretch/>
        </p:blipFill>
        <p:spPr>
          <a:xfrm>
            <a:off x="457200" y="3357720"/>
            <a:ext cx="446040" cy="446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54CA-70FC-457F-A109-4E62FE10D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3"/>
          <p:cNvSpPr/>
          <p:nvPr/>
        </p:nvSpPr>
        <p:spPr>
          <a:xfrm>
            <a:off x="990720" y="3586320"/>
            <a:ext cx="7619760" cy="0"/>
          </a:xfrm>
          <a:prstGeom prst="line">
            <a:avLst/>
          </a:prstGeom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00"/>
              </a:solidFill>
              <a:latin typeface="Arial"/>
            </a:endParaRPr>
          </a:p>
        </p:txBody>
      </p:sp>
      <p:pic>
        <p:nvPicPr>
          <p:cNvPr id="120" name="Picture 4" descr="飛行機左向き"/>
          <p:cNvPicPr/>
          <p:nvPr/>
        </p:nvPicPr>
        <p:blipFill>
          <a:blip r:embed="rId1"/>
          <a:stretch/>
        </p:blipFill>
        <p:spPr>
          <a:xfrm>
            <a:off x="457200" y="3357720"/>
            <a:ext cx="446040" cy="4460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611280" y="1892160"/>
            <a:ext cx="81360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 Rounded MT Bold"/>
              </a:rPr>
              <a:t>Benefit of </a:t>
            </a:r>
            <a:endParaRPr b="0" lang="en-US" sz="4400" spc="-1" strike="noStrike">
              <a:solidFill>
                <a:srgbClr val="01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 Rounded MT Bold"/>
              </a:rPr>
              <a:t>JAPAN-KOROR</a:t>
            </a:r>
            <a:r>
              <a:rPr b="0" lang="ja-JP" sz="4400" spc="-1" strike="noStrike">
                <a:solidFill>
                  <a:srgbClr val="00b050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00b050"/>
                </a:solidFill>
                <a:latin typeface="Arial Rounded MT Bold"/>
              </a:rPr>
              <a:t>UPR</a:t>
            </a:r>
            <a:endParaRPr b="0" lang="en-US" sz="4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5753160" y="4578480"/>
            <a:ext cx="20890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Teppei Kitamura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pan Airlin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S UI Gothic"/>
                <a:ea typeface="MS UI Gothic"/>
              </a:rPr>
              <a:t>IPACG/39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S UI Gothic"/>
                <a:ea typeface="MS UI Gothic"/>
              </a:rPr>
              <a:t>February, 2014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1362240" y="3952800"/>
            <a:ext cx="3200400" cy="2408400"/>
          </a:xfrm>
          <a:prstGeom prst="rect">
            <a:avLst/>
          </a:prstGeom>
          <a:ln w="0">
            <a:noFill/>
          </a:ln>
        </p:spPr>
      </p:pic>
      <p:sp>
        <p:nvSpPr>
          <p:cNvPr id="124" name="テキスト ボックス 6"/>
          <p:cNvSpPr/>
          <p:nvPr/>
        </p:nvSpPr>
        <p:spPr>
          <a:xfrm>
            <a:off x="8153280" y="142920"/>
            <a:ext cx="7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Arial"/>
              </a:rPr>
              <a:t>IP/17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01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 Rounded MT Bold"/>
              </a:rPr>
              <a:t>Benefit of JAPAN-KOROR</a:t>
            </a:r>
            <a:r>
              <a:rPr b="0" lang="ja-JP" sz="2800" spc="-1" strike="noStrike">
                <a:solidFill>
                  <a:srgbClr val="00b05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Arial Rounded MT Bold"/>
              </a:rPr>
              <a:t>UPR</a:t>
            </a:r>
            <a:endParaRPr b="0" lang="en-US" sz="2800" spc="-1" strike="noStrike">
              <a:solidFill>
                <a:srgbClr val="000000"/>
              </a:solidFill>
              <a:latin typeface="MS UI Gothic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93840" y="10922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 Rounded MT Bold"/>
                <a:ea typeface="MS UI Gothic"/>
              </a:rPr>
              <a:t>Flights of JAPAN</a:t>
            </a:r>
            <a:r>
              <a:rPr b="0" lang="ja-JP" sz="2800" spc="-1" strike="noStrike" u="sng">
                <a:solidFill>
                  <a:srgbClr val="3333ff"/>
                </a:solidFill>
                <a:uFillTx/>
                <a:latin typeface="Arial Rounded MT Bold"/>
                <a:ea typeface="MS UI Gothic"/>
              </a:rPr>
              <a:t>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 Rounded MT Bold"/>
                <a:ea typeface="MS UI Gothic"/>
              </a:rPr>
              <a:t>= KOROR (JUL</a:t>
            </a:r>
            <a:r>
              <a:rPr b="0" lang="ja-JP" sz="2800" spc="-1" strike="noStrike" u="sng">
                <a:solidFill>
                  <a:srgbClr val="3333ff"/>
                </a:solidFill>
                <a:uFillTx/>
                <a:latin typeface="Arial Rounded MT Bold"/>
                <a:ea typeface="MS UI Gothic"/>
              </a:rPr>
              <a:t>～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 Rounded MT Bold"/>
                <a:ea typeface="MS UI Gothic"/>
              </a:rPr>
              <a:t>SEP2013)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Tw Cen MT Condensed Extra Bold"/>
                <a:ea typeface="MS UI Gothic"/>
              </a:rPr>
              <a:t> </a:t>
            </a:r>
            <a:r>
              <a:rPr b="0" lang="ja-JP" sz="2800" spc="-1" strike="noStrike">
                <a:solidFill>
                  <a:srgbClr val="3333ff"/>
                </a:solidFill>
                <a:latin typeface="Times New Roman"/>
                <a:ea typeface="ＭＳ Ｐゴシック"/>
              </a:rPr>
              <a:t>　　　　　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325520" y="1814400"/>
          <a:ext cx="6291360" cy="4502160"/>
        </p:xfrm>
        <a:graphic>
          <a:graphicData uri="http://schemas.openxmlformats.org/drawingml/2006/table">
            <a:tbl>
              <a:tblPr/>
              <a:tblGrid>
                <a:gridCol w="2103480"/>
                <a:gridCol w="1427040"/>
                <a:gridCol w="1170000"/>
                <a:gridCol w="159084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S UI Gothic"/>
                          <a:ea typeface="MS UI Gothic"/>
                        </a:rPr>
                        <a:t>Portion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S UI Gothic"/>
                          <a:ea typeface="MS UI Gothic"/>
                        </a:rPr>
                        <a:t>Flights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S UI Gothic"/>
                          <a:ea typeface="MS UI Gothic"/>
                        </a:rPr>
                        <a:t>UPR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UI Gothic"/>
                          <a:ea typeface="MS UI Gothic"/>
                        </a:rPr>
                        <a:t>Percentage</a:t>
                      </a:r>
                      <a:endParaRPr b="0" lang="en-US" sz="20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MS UI Gothic"/>
                          <a:ea typeface="MS UI Gothic"/>
                        </a:rPr>
                        <a:t>NRT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→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ROR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13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10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76.9%</a:t>
                      </a:r>
                      <a:endParaRPr b="0" lang="en-US" sz="24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28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MS UI Gothic"/>
                          <a:ea typeface="MS UI Gothic"/>
                        </a:rPr>
                        <a:t>NGO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→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ROR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2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2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050"/>
                          </a:solidFill>
                          <a:latin typeface="MS UI Gothic"/>
                          <a:ea typeface="MS UI Gothic"/>
                        </a:rPr>
                        <a:t>KIX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→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ROR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0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0%</a:t>
                      </a:r>
                      <a:endParaRPr b="0" lang="en-US" sz="24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2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ROR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→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MS UI Gothic"/>
                          <a:ea typeface="MS UI Gothic"/>
                        </a:rPr>
                        <a:t>NRT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12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10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83.3%</a:t>
                      </a:r>
                      <a:endParaRPr b="0" lang="en-US" sz="24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8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ROR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→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MS UI Gothic"/>
                          <a:ea typeface="MS UI Gothic"/>
                        </a:rPr>
                        <a:t>NGO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2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0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0%</a:t>
                      </a:r>
                      <a:endParaRPr b="0" lang="en-US" sz="24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ROR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→</a:t>
                      </a:r>
                      <a:r>
                        <a:rPr b="1" lang="en-US" sz="2800" spc="-1" strike="noStrike">
                          <a:solidFill>
                            <a:srgbClr val="00b050"/>
                          </a:solidFill>
                          <a:latin typeface="MS UI Gothic"/>
                          <a:ea typeface="MS UI Gothic"/>
                        </a:rPr>
                        <a:t>KIX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3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3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33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25</a:t>
                      </a:r>
                      <a:endParaRPr b="0" lang="en-US" sz="28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75.8%</a:t>
                      </a:r>
                      <a:endParaRPr b="0" lang="en-US" sz="24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Text Box 3"/>
          <p:cNvGrpSpPr/>
          <p:nvPr/>
        </p:nvGrpSpPr>
        <p:grpSpPr>
          <a:xfrm>
            <a:off x="255600" y="1103400"/>
            <a:ext cx="2652840" cy="963000"/>
            <a:chOff x="255600" y="1103400"/>
            <a:chExt cx="2652840" cy="963000"/>
          </a:xfrm>
        </p:grpSpPr>
        <p:pic>
          <p:nvPicPr>
            <p:cNvPr id="129" name="Text Box 3" descr=""/>
            <p:cNvPicPr/>
            <p:nvPr/>
          </p:nvPicPr>
          <p:blipFill>
            <a:blip r:embed="rId1"/>
            <a:stretch/>
          </p:blipFill>
          <p:spPr>
            <a:xfrm>
              <a:off x="255600" y="1103400"/>
              <a:ext cx="26528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71440" y="1119240"/>
              <a:ext cx="2624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Rounded MT Bold"/>
                  <a:ea typeface="ＭＳ Ｐゴシック"/>
                </a:rPr>
                <a:t>【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Rounded MT Bold"/>
                  <a:ea typeface="ＭＳ Ｐゴシック"/>
                </a:rPr>
                <a:t>NRT </a:t>
              </a:r>
              <a:r>
                <a:rPr b="0" lang="ja-JP" sz="2800" spc="-1" strike="noStrike">
                  <a:solidFill>
                    <a:srgbClr val="000000"/>
                  </a:solidFill>
                  <a:latin typeface="Arial Rounded MT Bold"/>
                  <a:ea typeface="ＭＳ Ｐゴシック"/>
                </a:rPr>
                <a:t>→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Rounded MT Bold"/>
                  <a:ea typeface="ＭＳ Ｐゴシック"/>
                </a:rPr>
                <a:t>ROR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Rounded MT Bold"/>
                  <a:ea typeface="ＭＳ Ｐゴシック"/>
                </a:rPr>
                <a:t>】</a:t>
              </a:r>
              <a:endParaRPr b="0" lang="en-US" sz="2800" spc="-1" strike="noStrike">
                <a:solidFill>
                  <a:srgbClr val="01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 Rounded MT Bold"/>
              </a:rPr>
              <a:t>Benefit of JAPAN-KOROR</a:t>
            </a:r>
            <a:r>
              <a:rPr b="0" lang="ja-JP" sz="2800" spc="-1" strike="noStrike">
                <a:solidFill>
                  <a:srgbClr val="00b05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Arial Rounded MT Bold"/>
              </a:rPr>
              <a:t>UPR</a:t>
            </a:r>
            <a:endParaRPr b="0" lang="en-US" sz="2800" spc="-1" strike="noStrike">
              <a:solidFill>
                <a:srgbClr val="000000"/>
              </a:solidFill>
              <a:latin typeface="MS UI Gothic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81160" y="3468600"/>
          <a:ext cx="4752720" cy="1770120"/>
        </p:xfrm>
        <a:graphic>
          <a:graphicData uri="http://schemas.openxmlformats.org/drawingml/2006/table">
            <a:tbl>
              <a:tblPr/>
              <a:tblGrid>
                <a:gridCol w="833400"/>
                <a:gridCol w="723600"/>
                <a:gridCol w="1324080"/>
                <a:gridCol w="1871640"/>
              </a:tblGrid>
              <a:tr h="670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MS UI Gothic"/>
                          <a:ea typeface="MS UI Gothic"/>
                        </a:rPr>
                        <a:t>FLTs</a:t>
                      </a:r>
                      <a:endParaRPr b="0" lang="en-US" sz="19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MS UI Gothic"/>
                          <a:ea typeface="MS UI Gothic"/>
                        </a:rPr>
                        <a:t>EFT</a:t>
                      </a:r>
                      <a:endParaRPr b="0" lang="en-US" sz="19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MS UI Gothic"/>
                          <a:ea typeface="MS UI Gothic"/>
                        </a:rPr>
                        <a:t>B/O FUEL(LBS)</a:t>
                      </a:r>
                      <a:endParaRPr b="0" lang="en-US" sz="19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UPR1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6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4H 8.2M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44,250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UPR2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4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4H 7.0M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44,550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Total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10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4H 7.6M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44,400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81160" y="2216160"/>
          <a:ext cx="4752720" cy="824040"/>
        </p:xfrm>
        <a:graphic>
          <a:graphicData uri="http://schemas.openxmlformats.org/drawingml/2006/table">
            <a:tbl>
              <a:tblPr/>
              <a:tblGrid>
                <a:gridCol w="779400"/>
                <a:gridCol w="777600"/>
                <a:gridCol w="1314720"/>
                <a:gridCol w="1881000"/>
              </a:tblGrid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MS UI Gothic"/>
                          <a:ea typeface="MS UI Gothic"/>
                        </a:rPr>
                        <a:t>FLTs</a:t>
                      </a:r>
                      <a:endParaRPr b="0" lang="en-US" sz="19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MS UI Gothic"/>
                          <a:ea typeface="MS UI Gothic"/>
                        </a:rPr>
                        <a:t>EFT</a:t>
                      </a:r>
                      <a:endParaRPr b="0" lang="en-US" sz="19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MS UI Gothic"/>
                          <a:ea typeface="MS UI Gothic"/>
                        </a:rPr>
                        <a:t>B/O FUEL(LBS)</a:t>
                      </a:r>
                      <a:endParaRPr b="0" lang="en-US" sz="19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AWY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10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4H 10.8M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44,960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34" name="Text Box 3"/>
          <p:cNvSpPr/>
          <p:nvPr/>
        </p:nvSpPr>
        <p:spPr>
          <a:xfrm>
            <a:off x="428760" y="5492880"/>
            <a:ext cx="4333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(4H 10.8M)-(4H 7.6M) =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MS UI Gothic"/>
                <a:ea typeface="MS UI Gothic"/>
              </a:rPr>
              <a:t>3.2 M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44,960-44,400 =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MS UI Gothic"/>
                <a:ea typeface="MS UI Gothic"/>
              </a:rPr>
              <a:t>560 LB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pic>
        <p:nvPicPr>
          <p:cNvPr id="135" name="Picture 47" descr=""/>
          <p:cNvPicPr/>
          <p:nvPr/>
        </p:nvPicPr>
        <p:blipFill>
          <a:blip r:embed="rId2"/>
          <a:srcRect l="33598" t="11057" r="35436" b="13274"/>
          <a:stretch/>
        </p:blipFill>
        <p:spPr>
          <a:xfrm>
            <a:off x="5181480" y="1119240"/>
            <a:ext cx="3610080" cy="5513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271440" y="164628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ＭＳ Ｐゴシック"/>
              </a:rPr>
              <a:t>Average EFT, B/O FU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cxnSp>
        <p:nvCxnSpPr>
          <p:cNvPr id="137" name="直線矢印コネクタ 4"/>
          <p:cNvCxnSpPr/>
          <p:nvPr/>
        </p:nvCxnSpPr>
        <p:spPr>
          <a:xfrm flipH="1">
            <a:off x="6928920" y="3266640"/>
            <a:ext cx="843840" cy="134280"/>
          </a:xfrm>
          <a:prstGeom prst="straightConnector1">
            <a:avLst/>
          </a:prstGeom>
          <a:ln w="15840">
            <a:solidFill>
              <a:srgbClr val="ff0000"/>
            </a:solidFill>
            <a:prstDash val="sysDot"/>
            <a:miter/>
            <a:tailEnd len="med" type="arrow" w="med"/>
          </a:ln>
        </p:spPr>
      </p:cxnSp>
      <p:sp>
        <p:nvSpPr>
          <p:cNvPr id="138" name="テキスト ボックス 5"/>
          <p:cNvSpPr/>
          <p:nvPr/>
        </p:nvSpPr>
        <p:spPr>
          <a:xfrm>
            <a:off x="7724880" y="312912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00"/>
                </a:solidFill>
                <a:latin typeface="Arial"/>
              </a:rPr>
              <a:t>UPR1</a:t>
            </a:r>
            <a:endParaRPr b="0" lang="en-US" sz="1200" spc="-1" strike="noStrike">
              <a:solidFill>
                <a:srgbClr val="010000"/>
              </a:solidFill>
              <a:latin typeface="Arial"/>
            </a:endParaRPr>
          </a:p>
        </p:txBody>
      </p:sp>
      <p:cxnSp>
        <p:nvCxnSpPr>
          <p:cNvPr id="139" name="直線矢印コネクタ 11"/>
          <p:cNvCxnSpPr/>
          <p:nvPr/>
        </p:nvCxnSpPr>
        <p:spPr>
          <a:xfrm flipH="1">
            <a:off x="6986160" y="4457880"/>
            <a:ext cx="843840" cy="133560"/>
          </a:xfrm>
          <a:prstGeom prst="straightConnector1">
            <a:avLst/>
          </a:prstGeom>
          <a:ln w="15840">
            <a:solidFill>
              <a:srgbClr val="ff0000"/>
            </a:solidFill>
            <a:prstDash val="sysDot"/>
            <a:miter/>
            <a:tailEnd len="med" type="arrow" w="med"/>
          </a:ln>
        </p:spPr>
      </p:cxnSp>
      <p:sp>
        <p:nvSpPr>
          <p:cNvPr id="140" name="テキスト ボックス 12"/>
          <p:cNvSpPr/>
          <p:nvPr/>
        </p:nvSpPr>
        <p:spPr>
          <a:xfrm>
            <a:off x="7753320" y="4319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00"/>
                </a:solidFill>
                <a:latin typeface="Arial"/>
              </a:rPr>
              <a:t>UPR2</a:t>
            </a:r>
            <a:endParaRPr b="0" lang="en-US" sz="1200" spc="-1" strike="noStrike">
              <a:solidFill>
                <a:srgbClr val="010000"/>
              </a:solidFill>
              <a:latin typeface="Arial"/>
            </a:endParaRPr>
          </a:p>
        </p:txBody>
      </p:sp>
      <p:cxnSp>
        <p:nvCxnSpPr>
          <p:cNvPr id="141" name="直線矢印コネクタ 13"/>
          <p:cNvCxnSpPr>
            <a:stCxn id="142" idx="2"/>
          </p:cNvCxnSpPr>
          <p:nvPr/>
        </p:nvCxnSpPr>
        <p:spPr>
          <a:xfrm>
            <a:off x="5819400" y="3543120"/>
            <a:ext cx="840600" cy="332280"/>
          </a:xfrm>
          <a:prstGeom prst="straightConnector1">
            <a:avLst/>
          </a:prstGeom>
          <a:ln w="15840">
            <a:solidFill>
              <a:srgbClr val="ff0000"/>
            </a:solidFill>
            <a:prstDash val="sysDot"/>
            <a:miter/>
            <a:tailEnd len="med" type="arrow" w="med"/>
          </a:ln>
        </p:spPr>
      </p:cxnSp>
      <p:sp>
        <p:nvSpPr>
          <p:cNvPr id="142" name="テキスト ボックス 15"/>
          <p:cNvSpPr/>
          <p:nvPr/>
        </p:nvSpPr>
        <p:spPr>
          <a:xfrm>
            <a:off x="5286240" y="3267000"/>
            <a:ext cx="1068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00"/>
                </a:solidFill>
                <a:latin typeface="Arial"/>
              </a:rPr>
              <a:t>FIXED AWY</a:t>
            </a:r>
            <a:endParaRPr b="0" lang="en-US" sz="1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Text Box 3"/>
          <p:cNvGrpSpPr/>
          <p:nvPr/>
        </p:nvGrpSpPr>
        <p:grpSpPr>
          <a:xfrm>
            <a:off x="244440" y="1116000"/>
            <a:ext cx="2651040" cy="964800"/>
            <a:chOff x="244440" y="1116000"/>
            <a:chExt cx="2651040" cy="964800"/>
          </a:xfrm>
        </p:grpSpPr>
        <p:pic>
          <p:nvPicPr>
            <p:cNvPr id="144" name="Text Box 3" descr=""/>
            <p:cNvPicPr/>
            <p:nvPr/>
          </p:nvPicPr>
          <p:blipFill>
            <a:blip r:embed="rId1"/>
            <a:stretch/>
          </p:blipFill>
          <p:spPr>
            <a:xfrm>
              <a:off x="244440" y="1116000"/>
              <a:ext cx="26510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60280" y="1133640"/>
              <a:ext cx="2625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Rounded MT Bold"/>
                  <a:ea typeface="ＭＳ Ｐゴシック"/>
                </a:rPr>
                <a:t>【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Rounded MT Bold"/>
                  <a:ea typeface="ＭＳ Ｐゴシック"/>
                </a:rPr>
                <a:t>ROR </a:t>
              </a:r>
              <a:r>
                <a:rPr b="0" lang="ja-JP" sz="2800" spc="-1" strike="noStrike">
                  <a:solidFill>
                    <a:srgbClr val="000000"/>
                  </a:solidFill>
                  <a:latin typeface="Arial Rounded MT Bold"/>
                  <a:ea typeface="ＭＳ Ｐゴシック"/>
                </a:rPr>
                <a:t>→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Rounded MT Bold"/>
                  <a:ea typeface="ＭＳ Ｐゴシック"/>
                </a:rPr>
                <a:t>NR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Rounded MT Bold"/>
                  <a:ea typeface="ＭＳ Ｐゴシック"/>
                </a:rPr>
                <a:t>】</a:t>
              </a:r>
              <a:endParaRPr b="0" lang="en-US" sz="2800" spc="-1" strike="noStrike">
                <a:solidFill>
                  <a:srgbClr val="01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 Rounded MT Bold"/>
              </a:rPr>
              <a:t>Benefit of JAPAN-KOROR</a:t>
            </a:r>
            <a:r>
              <a:rPr b="0" lang="ja-JP" sz="2800" spc="-1" strike="noStrike">
                <a:solidFill>
                  <a:srgbClr val="00b05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Arial Rounded MT Bold"/>
              </a:rPr>
              <a:t>UPR</a:t>
            </a:r>
            <a:endParaRPr b="0" lang="en-US" sz="2800" spc="-1" strike="noStrike">
              <a:solidFill>
                <a:srgbClr val="000000"/>
              </a:solidFill>
              <a:latin typeface="MS UI Gothic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87280" y="3497400"/>
          <a:ext cx="4543560" cy="893520"/>
        </p:xfrm>
        <a:graphic>
          <a:graphicData uri="http://schemas.openxmlformats.org/drawingml/2006/table">
            <a:tbl>
              <a:tblPr/>
              <a:tblGrid>
                <a:gridCol w="798480"/>
                <a:gridCol w="743040"/>
                <a:gridCol w="1133640"/>
                <a:gridCol w="1868400"/>
              </a:tblGrid>
              <a:tr h="67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MS UI Gothic"/>
                          <a:ea typeface="MS UI Gothic"/>
                        </a:rPr>
                        <a:t>FLTs</a:t>
                      </a:r>
                      <a:endParaRPr b="0" lang="en-US" sz="19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MS UI Gothic"/>
                          <a:ea typeface="MS UI Gothic"/>
                        </a:rPr>
                        <a:t>EFT</a:t>
                      </a:r>
                      <a:endParaRPr b="0" lang="en-US" sz="19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MS UI Gothic"/>
                          <a:ea typeface="MS UI Gothic"/>
                        </a:rPr>
                        <a:t>B/O FUEL(LBS)</a:t>
                      </a:r>
                      <a:endParaRPr b="0" lang="en-US" sz="19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UPR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10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4H 3.2M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40,700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91960" y="2263680"/>
          <a:ext cx="4534200" cy="824040"/>
        </p:xfrm>
        <a:graphic>
          <a:graphicData uri="http://schemas.openxmlformats.org/drawingml/2006/table">
            <a:tbl>
              <a:tblPr/>
              <a:tblGrid>
                <a:gridCol w="763560"/>
                <a:gridCol w="763920"/>
                <a:gridCol w="1133280"/>
                <a:gridCol w="1873440"/>
              </a:tblGrid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MS UI Gothic"/>
                          <a:ea typeface="MS UI Gothic"/>
                        </a:rPr>
                        <a:t>FLTs</a:t>
                      </a:r>
                      <a:endParaRPr b="0" lang="en-US" sz="19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MS UI Gothic"/>
                          <a:ea typeface="MS UI Gothic"/>
                        </a:rPr>
                        <a:t>EFT</a:t>
                      </a:r>
                      <a:endParaRPr b="0" lang="en-US" sz="19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MS UI Gothic"/>
                          <a:ea typeface="MS UI Gothic"/>
                        </a:rPr>
                        <a:t>B/O FUEL(LBS)</a:t>
                      </a:r>
                      <a:endParaRPr b="0" lang="en-US" sz="19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AWY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10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4H 5.5M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MS UI Gothic"/>
                          <a:ea typeface="MS UI Gothic"/>
                        </a:rPr>
                        <a:t>41,100</a:t>
                      </a:r>
                      <a:endParaRPr b="0" lang="en-US" sz="2100" spc="-1" strike="noStrike">
                        <a:solidFill>
                          <a:srgbClr val="01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49" name="Text Box 3"/>
          <p:cNvSpPr/>
          <p:nvPr/>
        </p:nvSpPr>
        <p:spPr>
          <a:xfrm>
            <a:off x="419040" y="4778280"/>
            <a:ext cx="4191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(4H 5.5M)-(4H 3.2M) =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MS UI Gothic"/>
                <a:ea typeface="MS UI Gothic"/>
              </a:rPr>
              <a:t>2.3 M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41,100-40,700 =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MS UI Gothic"/>
                <a:ea typeface="MS UI Gothic"/>
              </a:rPr>
              <a:t>400 LB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pic>
        <p:nvPicPr>
          <p:cNvPr id="150" name="Picture 37" descr=""/>
          <p:cNvPicPr/>
          <p:nvPr/>
        </p:nvPicPr>
        <p:blipFill>
          <a:blip r:embed="rId2"/>
          <a:srcRect l="33184" t="11091" r="36276" b="15697"/>
          <a:stretch/>
        </p:blipFill>
        <p:spPr>
          <a:xfrm>
            <a:off x="5095800" y="1133640"/>
            <a:ext cx="3645000" cy="5459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260280" y="165744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ＭＳ Ｐゴシック"/>
              </a:rPr>
              <a:t>Average EFT, B/O FU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52" name="テキスト ボックス 8"/>
          <p:cNvSpPr/>
          <p:nvPr/>
        </p:nvSpPr>
        <p:spPr>
          <a:xfrm>
            <a:off x="5286240" y="3581280"/>
            <a:ext cx="1068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00"/>
                </a:solidFill>
                <a:latin typeface="Arial"/>
              </a:rPr>
              <a:t>FIXED AWY</a:t>
            </a:r>
            <a:endParaRPr b="0" lang="en-US" sz="1200" spc="-1" strike="noStrike">
              <a:solidFill>
                <a:srgbClr val="010000"/>
              </a:solidFill>
              <a:latin typeface="Arial"/>
            </a:endParaRPr>
          </a:p>
        </p:txBody>
      </p:sp>
      <p:cxnSp>
        <p:nvCxnSpPr>
          <p:cNvPr id="153" name="直線矢印コネクタ 9"/>
          <p:cNvCxnSpPr/>
          <p:nvPr/>
        </p:nvCxnSpPr>
        <p:spPr>
          <a:xfrm>
            <a:off x="5819400" y="3862440"/>
            <a:ext cx="840600" cy="334080"/>
          </a:xfrm>
          <a:prstGeom prst="straightConnector1">
            <a:avLst/>
          </a:prstGeom>
          <a:ln w="15840">
            <a:solidFill>
              <a:srgbClr val="ff0000"/>
            </a:solidFill>
            <a:prstDash val="sysDot"/>
            <a:miter/>
            <a:tailEnd len="med" type="arrow" w="med"/>
          </a:ln>
        </p:spPr>
      </p:cxnSp>
      <p:sp>
        <p:nvSpPr>
          <p:cNvPr id="154" name="テキスト ボックス 11"/>
          <p:cNvSpPr/>
          <p:nvPr/>
        </p:nvSpPr>
        <p:spPr>
          <a:xfrm>
            <a:off x="7473960" y="285120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00"/>
                </a:solidFill>
                <a:latin typeface="Arial"/>
              </a:rPr>
              <a:t>UPR1</a:t>
            </a:r>
            <a:endParaRPr b="0" lang="en-US" sz="1200" spc="-1" strike="noStrike">
              <a:solidFill>
                <a:srgbClr val="010000"/>
              </a:solidFill>
              <a:latin typeface="Arial"/>
            </a:endParaRPr>
          </a:p>
        </p:txBody>
      </p:sp>
      <p:cxnSp>
        <p:nvCxnSpPr>
          <p:cNvPr id="155" name="直線矢印コネクタ 12"/>
          <p:cNvCxnSpPr/>
          <p:nvPr/>
        </p:nvCxnSpPr>
        <p:spPr>
          <a:xfrm flipH="1">
            <a:off x="6954480" y="3129120"/>
            <a:ext cx="843840" cy="659520"/>
          </a:xfrm>
          <a:prstGeom prst="straightConnector1">
            <a:avLst/>
          </a:prstGeom>
          <a:ln w="15840">
            <a:solidFill>
              <a:srgbClr val="ff0000"/>
            </a:solidFill>
            <a:prstDash val="sysDot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404640" y="1068480"/>
            <a:ext cx="84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 Rounded MT Bold"/>
                <a:ea typeface="ＭＳ Ｐゴシック"/>
              </a:rPr>
              <a:t>Conclu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37960" y="1760400"/>
            <a:ext cx="8820360" cy="38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 Rounded MT Bold"/>
                <a:ea typeface="ＭＳ Ｐゴシック"/>
              </a:rPr>
              <a:t>◆ </a:t>
            </a:r>
            <a:r>
              <a:rPr b="1" lang="en-US" sz="2600" spc="-1" strike="noStrike">
                <a:solidFill>
                  <a:srgbClr val="000000"/>
                </a:solidFill>
                <a:latin typeface="Arial Rounded MT Bold"/>
                <a:ea typeface="ＭＳ Ｐゴシック"/>
              </a:rPr>
              <a:t>25 flights had benefit </a:t>
            </a:r>
            <a:r>
              <a:rPr b="1" lang="en-US" sz="2600" spc="-1" strike="noStrike" u="sng">
                <a:solidFill>
                  <a:srgbClr val="3333ff"/>
                </a:solidFill>
                <a:uFillTx/>
                <a:latin typeface="Arial Rounded MT Bold"/>
                <a:ea typeface="ＭＳ Ｐゴシック"/>
              </a:rPr>
              <a:t>(75.8%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600" spc="-1" strike="noStrike">
                <a:solidFill>
                  <a:srgbClr val="000000"/>
                </a:solidFill>
                <a:latin typeface="Arial Rounded MT Bold"/>
                <a:ea typeface="ＭＳ Ｐゴシック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Arial Rounded MT Bold"/>
                <a:ea typeface="ＭＳ Ｐゴシック"/>
              </a:rPr>
              <a:t>Fuel saving: </a:t>
            </a:r>
            <a:r>
              <a:rPr b="1" lang="en-US" sz="2600" spc="-1" strike="noStrike" u="sng">
                <a:solidFill>
                  <a:srgbClr val="3333ff"/>
                </a:solidFill>
                <a:uFillTx/>
                <a:latin typeface="Arial Rounded MT Bold"/>
                <a:ea typeface="ＭＳ Ｐゴシック"/>
              </a:rPr>
              <a:t>12,200 lbs (5,534 kg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Arial Rounded MT Bold"/>
                <a:ea typeface="ＭＳ Ｐゴシック"/>
              </a:rPr>
              <a:t>     </a:t>
            </a:r>
            <a:r>
              <a:rPr b="1" lang="ja-JP" sz="2600" spc="-1" strike="noStrike">
                <a:solidFill>
                  <a:srgbClr val="3333ff"/>
                </a:solidFill>
                <a:latin typeface="Arial Rounded MT Bold"/>
                <a:ea typeface="ＭＳ Ｐゴシック"/>
              </a:rPr>
              <a:t>→ </a:t>
            </a:r>
            <a:r>
              <a:rPr b="1" lang="en-US" sz="2600" spc="-1" strike="noStrike" u="sng">
                <a:solidFill>
                  <a:srgbClr val="3333ff"/>
                </a:solidFill>
                <a:uFillTx/>
                <a:latin typeface="Arial Rounded MT Bold"/>
                <a:ea typeface="ＭＳ Ｐゴシック"/>
              </a:rPr>
              <a:t>488 lbs (221 kg) per flight</a:t>
            </a:r>
            <a:r>
              <a:rPr b="1" lang="en-US" sz="2600" spc="-1" strike="noStrike">
                <a:solidFill>
                  <a:srgbClr val="3333ff"/>
                </a:solidFill>
                <a:latin typeface="Arial Rounded MT Bold"/>
                <a:ea typeface="ＭＳ Ｐゴシック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 Rounded MT Bold"/>
                <a:ea typeface="ＭＳ Ｐゴシック"/>
              </a:rPr>
              <a:t>◆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ＭＳ Ｐゴシック"/>
              </a:rPr>
              <a:t>Extrapolated over 1 year time period (80 charter flights),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 Bold"/>
                <a:ea typeface="ＭＳ Ｐゴシック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Arial Rounded MT Bold"/>
                <a:ea typeface="ＭＳ Ｐゴシック"/>
              </a:rPr>
              <a:t>Fuel saving: </a:t>
            </a:r>
            <a:r>
              <a:rPr b="1" lang="en-US" sz="2600" spc="-1" strike="noStrike" u="sng">
                <a:solidFill>
                  <a:srgbClr val="3333ff"/>
                </a:solidFill>
                <a:uFillTx/>
                <a:latin typeface="Arial Rounded MT Bold"/>
                <a:ea typeface="ＭＳ Ｐゴシック"/>
              </a:rPr>
              <a:t>29,576 lbs (13,416 k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600" spc="-1" strike="noStrike">
                <a:solidFill>
                  <a:srgbClr val="000000"/>
                </a:solidFill>
                <a:latin typeface="Arial Rounded MT Bold"/>
                <a:ea typeface="ＭＳ Ｐゴシック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Arial Rounded MT Bold"/>
                <a:ea typeface="ＭＳ Ｐゴシック"/>
              </a:rPr>
              <a:t>Reduction of CO2 emissions: </a:t>
            </a:r>
            <a:r>
              <a:rPr b="1" lang="en-US" sz="2600" spc="-1" strike="noStrike" u="sng">
                <a:solidFill>
                  <a:srgbClr val="3333ff"/>
                </a:solidFill>
                <a:uFillTx/>
                <a:latin typeface="Arial Rounded MT Bold"/>
                <a:ea typeface="ＭＳ Ｐゴシック"/>
              </a:rPr>
              <a:t>42,294 kg</a:t>
            </a:r>
            <a:r>
              <a:rPr b="1" lang="en-US" sz="2600" spc="-1" strike="noStrike">
                <a:solidFill>
                  <a:srgbClr val="000000"/>
                </a:solidFill>
                <a:latin typeface="Arial Rounded MT Bold"/>
                <a:ea typeface="ＭＳ Ｐゴシック"/>
              </a:rPr>
              <a:t>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57200" y="274680"/>
            <a:ext cx="73818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 Rounded MT Bold"/>
                <a:ea typeface="MS UI Gothic"/>
              </a:rPr>
              <a:t>Benefit of JAPAN-KOROR</a:t>
            </a:r>
            <a:r>
              <a:rPr b="0" lang="ja-JP" sz="2800" spc="-1" strike="noStrike">
                <a:solidFill>
                  <a:srgbClr val="00b050"/>
                </a:solidFill>
                <a:latin typeface="Arial Rounded MT Bold"/>
                <a:ea typeface="MS UI Gothic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Arial Rounded MT Bold"/>
                <a:ea typeface="MS UI Gothic"/>
              </a:rPr>
              <a:t>UP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6550200" y="5511960"/>
            <a:ext cx="1203120" cy="838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4148280" y="5349960"/>
            <a:ext cx="1226880" cy="1100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d:\Users\00045512\Desktop\pic_detail01_001.jpg"/>
          <p:cNvPicPr/>
          <p:nvPr/>
        </p:nvPicPr>
        <p:blipFill>
          <a:blip r:embed="rId3"/>
          <a:stretch/>
        </p:blipFill>
        <p:spPr>
          <a:xfrm>
            <a:off x="6134040" y="1411200"/>
            <a:ext cx="2571840" cy="1843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4"/>
          <a:stretch/>
        </p:blipFill>
        <p:spPr>
          <a:xfrm>
            <a:off x="939960" y="5356080"/>
            <a:ext cx="2334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02:11:39Z</dcterms:created>
  <dc:creator>JIT/JTP  2008/11/07版</dc:creator>
  <dc:description/>
  <dc:language>en-US</dc:language>
  <cp:lastModifiedBy>行政情報化推進課</cp:lastModifiedBy>
  <cp:lastPrinted>2011-12-14T13:38:44Z</cp:lastPrinted>
  <dcterms:modified xsi:type="dcterms:W3CDTF">2014-01-19T11:51:46Z</dcterms:modified>
  <cp:revision>851</cp:revision>
  <dc:subject/>
  <dc:title>JTVプロジェクト計画書テンプレート(分散基盤用）</dc:title>
</cp:coreProperties>
</file>