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524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7D99-FA4B-4C01-9F6C-A9D09D796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DBDE-A009-4A45-A60F-D6D07F8BA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2C5D-661E-4B45-B197-888A51398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6856B72-7905-4D8E-BBB0-1160EF991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FCAF213-5BFE-4222-A74F-167E751AF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19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3" descr="NEW FAA LOGO"/>
          <p:cNvPicPr/>
          <p:nvPr/>
        </p:nvPicPr>
        <p:blipFill>
          <a:blip r:embed="rId2"/>
          <a:srcRect l="14345" t="3761" r="14971" b="4567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34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5"/>
          <p:cNvSpPr/>
          <p:nvPr/>
        </p:nvSpPr>
        <p:spPr>
          <a:xfrm>
            <a:off x="463680" y="6176880"/>
            <a:ext cx="2700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ACG/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e:  September 8-12, 20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0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1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46" name="Picture 52" descr="NEW FAA LOGO"/>
            <p:cNvPicPr/>
            <p:nvPr/>
          </p:nvPicPr>
          <p:blipFill>
            <a:blip r:embed="rId3"/>
            <a:srcRect l="14350" t="3733" r="14966" b="4567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53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63600" y="5513400"/>
            <a:ext cx="38494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To: IPACG/40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 September 8-12, 20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95360" y="1754280"/>
            <a:ext cx="4257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16: Merging PACOTS Tracks C and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loud 5"/>
          <p:cNvSpPr/>
          <p:nvPr/>
        </p:nvSpPr>
        <p:spPr>
          <a:xfrm>
            <a:off x="2886120" y="84600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loud 10"/>
          <p:cNvSpPr/>
          <p:nvPr/>
        </p:nvSpPr>
        <p:spPr>
          <a:xfrm>
            <a:off x="3676680" y="257040"/>
            <a:ext cx="3618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loud 11"/>
          <p:cNvSpPr/>
          <p:nvPr/>
        </p:nvSpPr>
        <p:spPr>
          <a:xfrm>
            <a:off x="3219480" y="453960"/>
            <a:ext cx="3618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loud 12"/>
          <p:cNvSpPr/>
          <p:nvPr/>
        </p:nvSpPr>
        <p:spPr>
          <a:xfrm>
            <a:off x="4164120" y="243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loud 13"/>
          <p:cNvSpPr/>
          <p:nvPr/>
        </p:nvSpPr>
        <p:spPr>
          <a:xfrm>
            <a:off x="4648320" y="3524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loud 14"/>
          <p:cNvSpPr/>
          <p:nvPr/>
        </p:nvSpPr>
        <p:spPr>
          <a:xfrm>
            <a:off x="5011560" y="547560"/>
            <a:ext cx="36216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loud 15"/>
          <p:cNvSpPr/>
          <p:nvPr/>
        </p:nvSpPr>
        <p:spPr>
          <a:xfrm>
            <a:off x="5373720" y="93996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loud 16"/>
          <p:cNvSpPr/>
          <p:nvPr/>
        </p:nvSpPr>
        <p:spPr>
          <a:xfrm>
            <a:off x="5373720" y="1521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loud 17"/>
          <p:cNvSpPr/>
          <p:nvPr/>
        </p:nvSpPr>
        <p:spPr>
          <a:xfrm>
            <a:off x="5153040" y="194148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loud 18"/>
          <p:cNvSpPr/>
          <p:nvPr/>
        </p:nvSpPr>
        <p:spPr>
          <a:xfrm>
            <a:off x="4654440" y="2303640"/>
            <a:ext cx="36216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loud 19"/>
          <p:cNvSpPr/>
          <p:nvPr/>
        </p:nvSpPr>
        <p:spPr>
          <a:xfrm>
            <a:off x="4164120" y="289872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loud 20"/>
          <p:cNvSpPr/>
          <p:nvPr/>
        </p:nvSpPr>
        <p:spPr>
          <a:xfrm>
            <a:off x="4164120" y="2500200"/>
            <a:ext cx="3636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loud 21"/>
          <p:cNvSpPr/>
          <p:nvPr/>
        </p:nvSpPr>
        <p:spPr>
          <a:xfrm>
            <a:off x="4191120" y="33638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loud 22"/>
          <p:cNvSpPr/>
          <p:nvPr/>
        </p:nvSpPr>
        <p:spPr>
          <a:xfrm>
            <a:off x="4208400" y="382104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loud 23"/>
          <p:cNvSpPr/>
          <p:nvPr/>
        </p:nvSpPr>
        <p:spPr>
          <a:xfrm>
            <a:off x="4224240" y="465624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dennis Addison\AppData\Local\Microsoft\Windows\Temporary Internet Files\Content.IE5\2FDQZKUM\MC900320932[1].wmf"/>
          <p:cNvPicPr/>
          <p:nvPr/>
        </p:nvPicPr>
        <p:blipFill>
          <a:blip r:embed="rId1"/>
          <a:stretch/>
        </p:blipFill>
        <p:spPr>
          <a:xfrm flipH="1">
            <a:off x="-2514960" y="495360"/>
            <a:ext cx="1484280" cy="546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dennis Addison\AppData\Local\Microsoft\Windows\Temporary Internet Files\Content.IE5\2FDQZKUM\MC900320932[1].wmf"/>
          <p:cNvPicPr/>
          <p:nvPr/>
        </p:nvPicPr>
        <p:blipFill>
          <a:blip r:embed="rId2"/>
          <a:stretch/>
        </p:blipFill>
        <p:spPr>
          <a:xfrm flipH="1" rot="4621800">
            <a:off x="2325960" y="-2853360"/>
            <a:ext cx="1484640" cy="54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dennis Addison\AppData\Local\Microsoft\Windows\Temporary Internet Files\Content.IE5\2FDQZKUM\MC900320932[1].wmf"/>
          <p:cNvPicPr/>
          <p:nvPr/>
        </p:nvPicPr>
        <p:blipFill>
          <a:blip r:embed="rId3"/>
          <a:stretch/>
        </p:blipFill>
        <p:spPr>
          <a:xfrm rot="18010200">
            <a:off x="7679160" y="-2562480"/>
            <a:ext cx="1325520" cy="546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dennis Addison\AppData\Local\Microsoft\Windows\Temporary Internet Files\Content.IE5\2FDQZKUM\MC900320932[1].wmf"/>
          <p:cNvPicPr/>
          <p:nvPr/>
        </p:nvPicPr>
        <p:blipFill>
          <a:blip r:embed="rId4"/>
          <a:stretch/>
        </p:blipFill>
        <p:spPr>
          <a:xfrm flipH="1">
            <a:off x="-5889960" y="5046840"/>
            <a:ext cx="42735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278 L 0.52708 0.04301 L 0.5684 -0.01618 L 0.61597 -0.04786 L 0.67309 -0.05017 L 0.72708 -0.0289 L 0.76042 -0.00139 L 0.80486 0.05989 L 1.32552 0.38335 E">
                                      <p:cBhvr>
                                        <p:cTn id="6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0.09295 L -0.30573 0.58752 L -0.32968 0.6511 L -0.38698 0.70382 L -0.44409 0.73341 L -1.09462 0.93018 E">
                                      <p:cBhvr>
                                        <p:cTn id="23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0.11191 L 0.1408 0.7674 L 0.14236 0.82867 L 0.14392 0.8985 L 0.14705 0.96393 L 0.14705 1.08648 L 0.14705 1.48809 E">
                                      <p:cBhvr>
                                        <p:cTn id="34" dur="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5 0.25232 L 0.71667 -0.01435 E">
                                      <p:cBhvr>
                                        <p:cTn id="4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perational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ch 13, 2013 began a 1 year operational trial of Merging Tracks C and E when it provided an advant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D15E-E672-4448-AC73-D6B292C9EB61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09680" y="76320"/>
            <a:ext cx="84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rged Track C and E Operational T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05BD-C525-4084-B1EF-91E483D765EC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861840" y="952560"/>
            <a:ext cx="75661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THE FIRST 38 DAYS OF THE OPERATIONAL TRIA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KS C &amp; E MERGED 14 D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FUEL SAVINGS PER FLIGHT WAS 1120 LBS (10 DAY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hart 6" descr=""/>
          <p:cNvPicPr/>
          <p:nvPr/>
        </p:nvPicPr>
        <p:blipFill>
          <a:blip r:embed="rId1"/>
          <a:stretch/>
        </p:blipFill>
        <p:spPr>
          <a:xfrm>
            <a:off x="1625760" y="604800"/>
            <a:ext cx="5892480" cy="5921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5920" y="9648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4/22-25 Track Advisory Issu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5633-D5CC-4B62-BDB5-8DD6F3B19B37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0600" y="23940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nchorage ADS-C Distance Based Separ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2166-95C1-4FE3-BC7C-EA36CDD607A3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401040" cy="431964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6"/>
          <p:cNvSpPr/>
          <p:nvPr/>
        </p:nvSpPr>
        <p:spPr>
          <a:xfrm>
            <a:off x="266760" y="933480"/>
            <a:ext cx="4943520" cy="3543120"/>
          </a:xfrm>
          <a:custGeom>
            <a:avLst/>
            <a:gdLst/>
            <a:ahLst/>
            <a:rect l="l" t="t" r="r" b="b"/>
            <a:pathLst>
              <a:path w="4943475" h="3543300">
                <a:moveTo>
                  <a:pt x="0" y="2571750"/>
                </a:moveTo>
                <a:lnTo>
                  <a:pt x="1390650" y="1895475"/>
                </a:lnTo>
                <a:lnTo>
                  <a:pt x="2828925" y="533400"/>
                </a:lnTo>
                <a:lnTo>
                  <a:pt x="3324225" y="0"/>
                </a:lnTo>
                <a:lnTo>
                  <a:pt x="3943350" y="9525"/>
                </a:lnTo>
                <a:lnTo>
                  <a:pt x="4200525" y="390525"/>
                </a:lnTo>
                <a:lnTo>
                  <a:pt x="4305300" y="828675"/>
                </a:lnTo>
                <a:lnTo>
                  <a:pt x="4676775" y="1200150"/>
                </a:lnTo>
                <a:lnTo>
                  <a:pt x="4400550" y="1819275"/>
                </a:lnTo>
                <a:lnTo>
                  <a:pt x="4410075" y="2019300"/>
                </a:lnTo>
                <a:lnTo>
                  <a:pt x="4943475" y="2152650"/>
                </a:lnTo>
                <a:lnTo>
                  <a:pt x="4448175" y="2457450"/>
                </a:lnTo>
                <a:lnTo>
                  <a:pt x="400050" y="3543300"/>
                </a:lnTo>
                <a:lnTo>
                  <a:pt x="0" y="2571750"/>
                </a:lnTo>
                <a:close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"/>
          <p:cNvSpPr/>
          <p:nvPr/>
        </p:nvSpPr>
        <p:spPr>
          <a:xfrm>
            <a:off x="4667400" y="1314360"/>
            <a:ext cx="2038320" cy="1752840"/>
          </a:xfrm>
          <a:custGeom>
            <a:avLst/>
            <a:gdLst/>
            <a:ahLst/>
            <a:rect l="l" t="t" r="r" b="b"/>
            <a:pathLst>
              <a:path w="2038350" h="1752600">
                <a:moveTo>
                  <a:pt x="285750" y="819150"/>
                </a:moveTo>
                <a:lnTo>
                  <a:pt x="0" y="1447800"/>
                </a:lnTo>
                <a:lnTo>
                  <a:pt x="19050" y="1628775"/>
                </a:lnTo>
                <a:lnTo>
                  <a:pt x="533400" y="1752600"/>
                </a:lnTo>
                <a:lnTo>
                  <a:pt x="1028700" y="1504950"/>
                </a:lnTo>
                <a:lnTo>
                  <a:pt x="1809750" y="809625"/>
                </a:lnTo>
                <a:lnTo>
                  <a:pt x="1924050" y="609600"/>
                </a:lnTo>
                <a:lnTo>
                  <a:pt x="2038350" y="438150"/>
                </a:lnTo>
                <a:lnTo>
                  <a:pt x="2000250" y="9525"/>
                </a:lnTo>
                <a:lnTo>
                  <a:pt x="1724025" y="76200"/>
                </a:lnTo>
                <a:lnTo>
                  <a:pt x="1390650" y="76200"/>
                </a:lnTo>
                <a:lnTo>
                  <a:pt x="1219200" y="0"/>
                </a:lnTo>
                <a:lnTo>
                  <a:pt x="857250" y="257175"/>
                </a:lnTo>
                <a:lnTo>
                  <a:pt x="600075" y="781050"/>
                </a:lnTo>
                <a:lnTo>
                  <a:pt x="285750" y="819150"/>
                </a:lnTo>
                <a:close/>
              </a:path>
            </a:pathLst>
          </a:custGeom>
          <a:solidFill>
            <a:srgbClr val="ff66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"/>
          <p:cNvSpPr/>
          <p:nvPr/>
        </p:nvSpPr>
        <p:spPr>
          <a:xfrm>
            <a:off x="6620040" y="1057320"/>
            <a:ext cx="2447640" cy="1123920"/>
          </a:xfrm>
          <a:custGeom>
            <a:avLst/>
            <a:gdLst/>
            <a:ahLst/>
            <a:rect l="l" t="t" r="r" b="b"/>
            <a:pathLst>
              <a:path w="2447925" h="1123950">
                <a:moveTo>
                  <a:pt x="1981200" y="1123950"/>
                </a:moveTo>
                <a:lnTo>
                  <a:pt x="0" y="857250"/>
                </a:lnTo>
                <a:lnTo>
                  <a:pt x="95250" y="676275"/>
                </a:lnTo>
                <a:lnTo>
                  <a:pt x="76200" y="285750"/>
                </a:lnTo>
                <a:lnTo>
                  <a:pt x="552450" y="228600"/>
                </a:lnTo>
                <a:lnTo>
                  <a:pt x="981075" y="0"/>
                </a:lnTo>
                <a:lnTo>
                  <a:pt x="1238250" y="47625"/>
                </a:lnTo>
                <a:lnTo>
                  <a:pt x="1657350" y="209550"/>
                </a:lnTo>
                <a:lnTo>
                  <a:pt x="1924050" y="295275"/>
                </a:lnTo>
                <a:lnTo>
                  <a:pt x="2447925" y="695325"/>
                </a:lnTo>
                <a:lnTo>
                  <a:pt x="2305050" y="857250"/>
                </a:lnTo>
                <a:lnTo>
                  <a:pt x="2095500" y="895350"/>
                </a:lnTo>
                <a:lnTo>
                  <a:pt x="1981200" y="1123950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1"/>
          <p:cNvSpPr/>
          <p:nvPr/>
        </p:nvSpPr>
        <p:spPr>
          <a:xfrm rot="19891200">
            <a:off x="3476520" y="2723760"/>
            <a:ext cx="1893960" cy="677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 rot="19672200">
            <a:off x="3429000" y="295632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land/Asia Tf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ight Arrow 14"/>
          <p:cNvSpPr/>
          <p:nvPr/>
        </p:nvSpPr>
        <p:spPr>
          <a:xfrm rot="11281800">
            <a:off x="5525640" y="2190600"/>
            <a:ext cx="1401840" cy="6796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 rot="600600">
            <a:off x="5716800" y="23619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ight Arrow 16"/>
          <p:cNvSpPr/>
          <p:nvPr/>
        </p:nvSpPr>
        <p:spPr>
          <a:xfrm rot="13945200">
            <a:off x="7457040" y="1988280"/>
            <a:ext cx="1401840" cy="6793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 rot="3052200">
            <a:off x="7681680" y="2187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Tf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0600" y="23940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nchorage ADS-C Distance Based Separ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2366-2D71-485F-BB98-537AE7EB5E1B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40104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Freeform 6"/>
          <p:cNvSpPr/>
          <p:nvPr/>
        </p:nvSpPr>
        <p:spPr>
          <a:xfrm>
            <a:off x="266760" y="933480"/>
            <a:ext cx="4943520" cy="3543120"/>
          </a:xfrm>
          <a:custGeom>
            <a:avLst/>
            <a:gdLst/>
            <a:ahLst/>
            <a:rect l="l" t="t" r="r" b="b"/>
            <a:pathLst>
              <a:path w="4943475" h="3543300">
                <a:moveTo>
                  <a:pt x="0" y="2571750"/>
                </a:moveTo>
                <a:lnTo>
                  <a:pt x="1390650" y="1895475"/>
                </a:lnTo>
                <a:lnTo>
                  <a:pt x="2828925" y="533400"/>
                </a:lnTo>
                <a:lnTo>
                  <a:pt x="3324225" y="0"/>
                </a:lnTo>
                <a:lnTo>
                  <a:pt x="3943350" y="9525"/>
                </a:lnTo>
                <a:lnTo>
                  <a:pt x="4200525" y="390525"/>
                </a:lnTo>
                <a:lnTo>
                  <a:pt x="4305300" y="828675"/>
                </a:lnTo>
                <a:lnTo>
                  <a:pt x="4676775" y="1200150"/>
                </a:lnTo>
                <a:lnTo>
                  <a:pt x="4400550" y="1819275"/>
                </a:lnTo>
                <a:lnTo>
                  <a:pt x="4410075" y="2019300"/>
                </a:lnTo>
                <a:lnTo>
                  <a:pt x="4943475" y="2152650"/>
                </a:lnTo>
                <a:lnTo>
                  <a:pt x="4448175" y="2457450"/>
                </a:lnTo>
                <a:lnTo>
                  <a:pt x="400050" y="3543300"/>
                </a:lnTo>
                <a:lnTo>
                  <a:pt x="0" y="2571750"/>
                </a:lnTo>
                <a:close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4667400" y="1314360"/>
            <a:ext cx="2038320" cy="1752840"/>
          </a:xfrm>
          <a:custGeom>
            <a:avLst/>
            <a:gdLst/>
            <a:ahLst/>
            <a:rect l="l" t="t" r="r" b="b"/>
            <a:pathLst>
              <a:path w="2038350" h="1752600">
                <a:moveTo>
                  <a:pt x="285750" y="819150"/>
                </a:moveTo>
                <a:lnTo>
                  <a:pt x="0" y="1447800"/>
                </a:lnTo>
                <a:lnTo>
                  <a:pt x="19050" y="1628775"/>
                </a:lnTo>
                <a:lnTo>
                  <a:pt x="533400" y="1752600"/>
                </a:lnTo>
                <a:lnTo>
                  <a:pt x="1028700" y="1504950"/>
                </a:lnTo>
                <a:lnTo>
                  <a:pt x="1809750" y="809625"/>
                </a:lnTo>
                <a:lnTo>
                  <a:pt x="1924050" y="609600"/>
                </a:lnTo>
                <a:lnTo>
                  <a:pt x="2038350" y="438150"/>
                </a:lnTo>
                <a:lnTo>
                  <a:pt x="2000250" y="9525"/>
                </a:lnTo>
                <a:lnTo>
                  <a:pt x="1724025" y="76200"/>
                </a:lnTo>
                <a:lnTo>
                  <a:pt x="1390650" y="76200"/>
                </a:lnTo>
                <a:lnTo>
                  <a:pt x="1219200" y="0"/>
                </a:lnTo>
                <a:lnTo>
                  <a:pt x="857250" y="257175"/>
                </a:lnTo>
                <a:lnTo>
                  <a:pt x="600075" y="781050"/>
                </a:lnTo>
                <a:lnTo>
                  <a:pt x="285750" y="819150"/>
                </a:lnTo>
                <a:close/>
              </a:path>
            </a:pathLst>
          </a:custGeom>
          <a:solidFill>
            <a:srgbClr val="00ff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6620040" y="1057320"/>
            <a:ext cx="2447640" cy="1123920"/>
          </a:xfrm>
          <a:custGeom>
            <a:avLst/>
            <a:gdLst/>
            <a:ahLst/>
            <a:rect l="l" t="t" r="r" b="b"/>
            <a:pathLst>
              <a:path w="2447925" h="1123950">
                <a:moveTo>
                  <a:pt x="1981200" y="1123950"/>
                </a:moveTo>
                <a:lnTo>
                  <a:pt x="0" y="857250"/>
                </a:lnTo>
                <a:lnTo>
                  <a:pt x="95250" y="676275"/>
                </a:lnTo>
                <a:lnTo>
                  <a:pt x="76200" y="285750"/>
                </a:lnTo>
                <a:lnTo>
                  <a:pt x="552450" y="228600"/>
                </a:lnTo>
                <a:lnTo>
                  <a:pt x="981075" y="0"/>
                </a:lnTo>
                <a:lnTo>
                  <a:pt x="1238250" y="47625"/>
                </a:lnTo>
                <a:lnTo>
                  <a:pt x="1657350" y="209550"/>
                </a:lnTo>
                <a:lnTo>
                  <a:pt x="1924050" y="295275"/>
                </a:lnTo>
                <a:lnTo>
                  <a:pt x="2447925" y="695325"/>
                </a:lnTo>
                <a:lnTo>
                  <a:pt x="2305050" y="857250"/>
                </a:lnTo>
                <a:lnTo>
                  <a:pt x="2095500" y="895350"/>
                </a:lnTo>
                <a:lnTo>
                  <a:pt x="1981200" y="1123950"/>
                </a:lnTo>
                <a:close/>
              </a:path>
            </a:pathLst>
          </a:custGeom>
          <a:solidFill>
            <a:srgbClr val="80c53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863360" y="2457360"/>
            <a:ext cx="263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S-C D50 30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 rot="19193400">
            <a:off x="4704480" y="19602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50 &amp; D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 rot="434400">
            <a:off x="6717960" y="159696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50 &amp; D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702080" y="5278320"/>
            <a:ext cx="490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ebruary 19, 20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ving Forward C/E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A076-9AA6-4CCE-8596-D0EBD4122F2A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47640" y="1241280"/>
            <a:ext cx="805032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ors must be better at meeting their Gateway Fix reservation tim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ging C/E requires the use of Non-Standard Altitud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n issue for NOP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x of Aircraft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 time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ving Forward C/E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71C0-52A2-4E28-943B-B71EE9313B02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47640" y="1241280"/>
            <a:ext cx="805032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e PACOTS Tracks C and E would merge, Oakland will coordinate with the next facility for the use of Non-Standard Altitudes for the next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pproval for the use of the necessary Non-Standard altitudes can be obtained, the tracks will be published with a mer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pproval for the use of the necessary Non-Standard altitudes cannot be obtained, the tracks will be published without a merge in the Oakland FI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ving Forward C/E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F3BF-C60F-4E40-BE84-ACA934636046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47640" y="1241280"/>
            <a:ext cx="805032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tative Resume Date November 201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Addison, Dennis (FAA)</cp:lastModifiedBy>
  <cp:lastPrinted>2014-09-03T23:43:35Z</cp:lastPrinted>
  <dcterms:modified xsi:type="dcterms:W3CDTF">2014-09-05T22:34:58Z</dcterms:modified>
  <cp:revision>397</cp:revision>
  <dc:subject/>
  <dc:title>Oakland ARTCC</dc:title>
</cp:coreProperties>
</file>