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C93D-6B3F-483F-BCBF-B9C4174A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54A4-5747-4444-A944-9537737D9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DB59AD74-3617-47C1-96F4-57FA5B2AF916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7DB-624F-42AE-AE39-3E1BA079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-3636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0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51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42" name="Picture 52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53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08120" y="687240"/>
            <a:ext cx="375768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ARP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79240" y="307800"/>
            <a:ext cx="7917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tual &amp; Potential Result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TYO – LAX / SF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7" descr=""/>
          <p:cNvPicPr/>
          <p:nvPr/>
        </p:nvPicPr>
        <p:blipFill>
          <a:blip r:embed="rId1"/>
          <a:stretch/>
        </p:blipFill>
        <p:spPr>
          <a:xfrm>
            <a:off x="706320" y="900000"/>
            <a:ext cx="758196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Man sitting on a giant question 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ynamic Airborne Rerout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5160" y="1742760"/>
            <a:ext cx="80503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Airborne Rerouting of Aircraft When Winds Indicate a More Fuel Efficient Route is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e Operating Costs by Taking Advantage of Updated Wi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NS and Air Traffic Services Inter-facility Data Communications (AIDC) Requi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going Trials in the South Pacif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oog03UPR"/>
          <p:cNvPicPr/>
          <p:nvPr/>
        </p:nvPicPr>
        <p:blipFill>
          <a:blip r:embed="rId1"/>
          <a:srcRect l="0" t="0" r="0" b="12237"/>
          <a:stretch/>
        </p:blipFill>
        <p:spPr>
          <a:xfrm>
            <a:off x="676440" y="7920"/>
            <a:ext cx="7941960" cy="6095880"/>
          </a:xfrm>
          <a:prstGeom prst="rect">
            <a:avLst/>
          </a:prstGeom>
          <a:ln w="0">
            <a:noFill/>
          </a:ln>
        </p:spPr>
      </p:pic>
      <p:sp>
        <p:nvSpPr>
          <p:cNvPr id="94" name="Freeform 3"/>
          <p:cNvSpPr/>
          <p:nvPr/>
        </p:nvSpPr>
        <p:spPr>
          <a:xfrm>
            <a:off x="1405080" y="2108160"/>
            <a:ext cx="6367320" cy="2730600"/>
          </a:xfrm>
          <a:custGeom>
            <a:avLst/>
            <a:gdLst/>
            <a:ahLst/>
            <a:rect l="l" t="t" r="r" b="b"/>
            <a:pathLst>
              <a:path w="4011" h="1720">
                <a:moveTo>
                  <a:pt x="4011" y="0"/>
                </a:moveTo>
                <a:lnTo>
                  <a:pt x="3451" y="232"/>
                </a:lnTo>
                <a:lnTo>
                  <a:pt x="2871" y="622"/>
                </a:lnTo>
                <a:lnTo>
                  <a:pt x="2119" y="972"/>
                </a:lnTo>
                <a:lnTo>
                  <a:pt x="1398" y="1177"/>
                </a:lnTo>
                <a:lnTo>
                  <a:pt x="763" y="1564"/>
                </a:lnTo>
                <a:lnTo>
                  <a:pt x="307" y="1710"/>
                </a:lnTo>
                <a:lnTo>
                  <a:pt x="0" y="172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0095800">
            <a:off x="4252680" y="3413880"/>
            <a:ext cx="21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User Preferred Rou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1378080" y="3108240"/>
            <a:ext cx="4532040" cy="1720800"/>
          </a:xfrm>
          <a:custGeom>
            <a:avLst/>
            <a:gdLst/>
            <a:ahLst/>
            <a:rect l="l" t="t" r="r" b="b"/>
            <a:pathLst>
              <a:path w="2855" h="1084">
                <a:moveTo>
                  <a:pt x="2855" y="0"/>
                </a:moveTo>
                <a:lnTo>
                  <a:pt x="2014" y="115"/>
                </a:lnTo>
                <a:lnTo>
                  <a:pt x="1256" y="328"/>
                </a:lnTo>
                <a:lnTo>
                  <a:pt x="456" y="718"/>
                </a:lnTo>
                <a:lnTo>
                  <a:pt x="0" y="108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 rot="19987800">
            <a:off x="1866960" y="356868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Dynamic Rerou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93320"/>
            <a:ext cx="4103640" cy="19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ynamic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rborne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route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ocedure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Freeform 8"/>
          <p:cNvSpPr/>
          <p:nvPr/>
        </p:nvSpPr>
        <p:spPr>
          <a:xfrm rot="14715000">
            <a:off x="7592760" y="195840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7490880" y="1306440"/>
            <a:ext cx="6516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4717080" y="71280"/>
            <a:ext cx="775440" cy="423360"/>
            <a:chOff x="4717080" y="71280"/>
            <a:chExt cx="775440" cy="423360"/>
          </a:xfrm>
        </p:grpSpPr>
        <p:sp>
          <p:nvSpPr>
            <p:cNvPr id="102" name="Oval 11"/>
            <p:cNvSpPr/>
            <p:nvPr/>
          </p:nvSpPr>
          <p:spPr>
            <a:xfrm>
              <a:off x="4975200" y="83160"/>
              <a:ext cx="213840" cy="136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>
              <a:off x="4973040" y="146520"/>
              <a:ext cx="294120" cy="239760"/>
            </a:xfrm>
            <a:custGeom>
              <a:avLst/>
              <a:gdLst/>
              <a:ahLst/>
              <a:rect l="l" t="t" r="r" b="b"/>
              <a:pathLst>
                <a:path w="429" h="273">
                  <a:moveTo>
                    <a:pt x="114" y="273"/>
                  </a:moveTo>
                  <a:lnTo>
                    <a:pt x="0" y="6"/>
                  </a:lnTo>
                  <a:lnTo>
                    <a:pt x="312" y="0"/>
                  </a:lnTo>
                  <a:lnTo>
                    <a:pt x="429" y="270"/>
                  </a:lnTo>
                  <a:lnTo>
                    <a:pt x="114" y="27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3"/>
            <p:cNvSpPr/>
            <p:nvPr/>
          </p:nvSpPr>
          <p:spPr>
            <a:xfrm>
              <a:off x="5051880" y="318600"/>
              <a:ext cx="213840" cy="136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5211000" y="71280"/>
              <a:ext cx="281520" cy="200160"/>
            </a:xfrm>
            <a:custGeom>
              <a:avLst/>
              <a:gdLst/>
              <a:ahLst/>
              <a:rect l="l" t="t" r="r" b="b"/>
              <a:pathLst>
                <a:path w="411" h="228">
                  <a:moveTo>
                    <a:pt x="0" y="171"/>
                  </a:moveTo>
                  <a:lnTo>
                    <a:pt x="120" y="132"/>
                  </a:lnTo>
                  <a:lnTo>
                    <a:pt x="102" y="81"/>
                  </a:lnTo>
                  <a:lnTo>
                    <a:pt x="357" y="0"/>
                  </a:lnTo>
                  <a:lnTo>
                    <a:pt x="411" y="147"/>
                  </a:lnTo>
                  <a:lnTo>
                    <a:pt x="159" y="228"/>
                  </a:lnTo>
                  <a:lnTo>
                    <a:pt x="135" y="168"/>
                  </a:lnTo>
                  <a:lnTo>
                    <a:pt x="9" y="21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 flipH="1" rot="19515000">
              <a:off x="4749120" y="233280"/>
              <a:ext cx="276840" cy="200160"/>
            </a:xfrm>
            <a:custGeom>
              <a:avLst/>
              <a:gdLst/>
              <a:ahLst/>
              <a:rect l="l" t="t" r="r" b="b"/>
              <a:pathLst>
                <a:path w="411" h="228">
                  <a:moveTo>
                    <a:pt x="0" y="171"/>
                  </a:moveTo>
                  <a:lnTo>
                    <a:pt x="120" y="132"/>
                  </a:lnTo>
                  <a:lnTo>
                    <a:pt x="102" y="81"/>
                  </a:lnTo>
                  <a:lnTo>
                    <a:pt x="357" y="0"/>
                  </a:lnTo>
                  <a:lnTo>
                    <a:pt x="411" y="147"/>
                  </a:lnTo>
                  <a:lnTo>
                    <a:pt x="159" y="228"/>
                  </a:lnTo>
                  <a:lnTo>
                    <a:pt x="135" y="168"/>
                  </a:lnTo>
                  <a:lnTo>
                    <a:pt x="9" y="21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4810680" y="304920"/>
              <a:ext cx="298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4868280" y="283680"/>
              <a:ext cx="2736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 flipV="1">
              <a:off x="4764240" y="297360"/>
              <a:ext cx="17532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 flipV="1">
              <a:off x="4777920" y="346320"/>
              <a:ext cx="16992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>
              <a:off x="5334480" y="122040"/>
              <a:ext cx="35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>
              <a:off x="5394960" y="97560"/>
              <a:ext cx="35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2"/>
            <p:cNvSpPr/>
            <p:nvPr/>
          </p:nvSpPr>
          <p:spPr>
            <a:xfrm flipV="1">
              <a:off x="5290560" y="111600"/>
              <a:ext cx="17244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3"/>
            <p:cNvSpPr/>
            <p:nvPr/>
          </p:nvSpPr>
          <p:spPr>
            <a:xfrm flipV="1">
              <a:off x="5304240" y="153360"/>
              <a:ext cx="17244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24"/>
          <p:cNvSpPr/>
          <p:nvPr/>
        </p:nvSpPr>
        <p:spPr>
          <a:xfrm>
            <a:off x="-3124080" y="1676520"/>
            <a:ext cx="2762280" cy="2057400"/>
          </a:xfrm>
          <a:prstGeom prst="cloudCallout">
            <a:avLst>
              <a:gd name="adj1" fmla="val 1092"/>
              <a:gd name="adj2" fmla="val -40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ea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3173760" y="1944720"/>
            <a:ext cx="840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-3935160" y="3822840"/>
            <a:ext cx="4103280" cy="14788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Ro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7"/>
          <p:cNvSpPr/>
          <p:nvPr/>
        </p:nvSpPr>
        <p:spPr>
          <a:xfrm>
            <a:off x="-3567600" y="5240520"/>
            <a:ext cx="3370320" cy="14788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l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8"/>
          <p:cNvSpPr/>
          <p:nvPr/>
        </p:nvSpPr>
        <p:spPr>
          <a:xfrm>
            <a:off x="-4218120" y="6684840"/>
            <a:ext cx="4709160" cy="14796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C New Ro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717120" y="5351400"/>
            <a:ext cx="1118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kl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0.09861 0.05417 L -0.13472 0.0925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44444E-006 L 0.38334 -0.04166 E">
                                      <p:cBhvr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715 -0.46482 L 0.76319 -0.59838 L 0.89548 -0.36783 E">
                                      <p:cBhvr>
                                        <p:cTn id="1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549 -0.36783 L 0.77674 -0.60116 L 1.0559 -0.50949 E">
                                      <p:cBhvr>
                                        <p:cTn id="2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559 -0.7162 L 0.78299 -0.77731 L 0.90799 -0.52731 E">
                                      <p:cBhvr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472 0.09259 L -0.19305 0.14815 L -0.34097 0.17593 L -0.47847 0.22315 L -0.6118 0.31204 L -0.69722 0.4037 E">
                                      <p:cBhvr>
                                        <p:cTn id="3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07882 -0.81297 L 1.04392 -0.58102 L 0.88837 -0.33218 L 0.59549 -0.27408 L 0.53507 -0.27963 E">
                                      <p:cBhvr>
                                        <p:cTn id="3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6"/>
          <p:cNvSpPr/>
          <p:nvPr/>
        </p:nvSpPr>
        <p:spPr>
          <a:xfrm>
            <a:off x="208080" y="216000"/>
            <a:ext cx="84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akland FIR DARP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BD3-0A9E-458E-A4A8-F85A92EACF19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76360" y="960480"/>
            <a:ext cx="7991280" cy="493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hart 5" descr=""/>
          <p:cNvPicPr/>
          <p:nvPr/>
        </p:nvPicPr>
        <p:blipFill>
          <a:blip r:embed="rId1"/>
          <a:stretch/>
        </p:blipFill>
        <p:spPr>
          <a:xfrm>
            <a:off x="804960" y="1152360"/>
            <a:ext cx="75340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RP Trial Flights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5160" y="1742760"/>
            <a:ext cx="80503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RP operational procedures are published in the GOL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RP Trial Flights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5160" y="1742760"/>
            <a:ext cx="80503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Operational CPDLC is required for aircraft requesting airborne DARP rerout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DARP request must be made within Oakland Oceanic Control Area and at least 1 hour prior to crossing the FIR common boundary.  This is necessary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to permit adequate time for clearance delivery and AIDC messaging to take place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ownlink CPDLC reroute request should be made by the flight crew at least 20 minutes before the divergence waypoint to allow processing time by controller and flight crew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ARP"/>
          <p:cNvPicPr/>
          <p:nvPr/>
        </p:nvPicPr>
        <p:blipFill>
          <a:blip r:embed="rId1"/>
          <a:srcRect l="0" t="0" r="0" b="23140"/>
          <a:stretch/>
        </p:blipFill>
        <p:spPr>
          <a:xfrm>
            <a:off x="0" y="-130320"/>
            <a:ext cx="9144000" cy="6118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8080" y="-360"/>
            <a:ext cx="847224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ARP Request Boundary Proximit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951520" y="4862520"/>
            <a:ext cx="130320" cy="1160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4142880" y="5005440"/>
            <a:ext cx="228600" cy="9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2852640" y="4219560"/>
            <a:ext cx="81000" cy="117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2133720" y="4533840"/>
            <a:ext cx="38160" cy="4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5051520" y="2960640"/>
            <a:ext cx="1233360" cy="1930320"/>
          </a:xfrm>
          <a:custGeom>
            <a:avLst/>
            <a:gdLst/>
            <a:ahLst/>
            <a:rect l="l" t="t" r="r" b="b"/>
            <a:pathLst>
              <a:path w="777" h="1216">
                <a:moveTo>
                  <a:pt x="777" y="0"/>
                </a:moveTo>
                <a:lnTo>
                  <a:pt x="0" y="1216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6313320" y="1582560"/>
            <a:ext cx="682920" cy="1320840"/>
          </a:xfrm>
          <a:custGeom>
            <a:avLst/>
            <a:gdLst/>
            <a:ahLst/>
            <a:rect l="l" t="t" r="r" b="b"/>
            <a:pathLst>
              <a:path w="430" h="832">
                <a:moveTo>
                  <a:pt x="430" y="0"/>
                </a:moveTo>
                <a:lnTo>
                  <a:pt x="0" y="832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2"/>
          <p:cNvSpPr/>
          <p:nvPr/>
        </p:nvSpPr>
        <p:spPr>
          <a:xfrm rot="12663600">
            <a:off x="6706800" y="173988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6211800" y="4035600"/>
            <a:ext cx="1335240" cy="812520"/>
          </a:xfrm>
          <a:prstGeom prst="wedgeRectCallout">
            <a:avLst>
              <a:gd name="adj1" fmla="val -130736"/>
              <a:gd name="adj2" fmla="val 6444"/>
            </a:avLst>
          </a:prstGeom>
          <a:solidFill>
            <a:srgbClr val="fccd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 DA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 rot="12437400">
            <a:off x="4862160" y="3699720"/>
            <a:ext cx="377640" cy="1204920"/>
          </a:xfrm>
          <a:custGeom>
            <a:avLst/>
            <a:gdLst>
              <a:gd name="textAreaLeft" fmla="*/ 0 w 377640"/>
              <a:gd name="textAreaRight" fmla="*/ 136440 w 377640"/>
              <a:gd name="textAreaTop" fmla="*/ 31320 h 1204920"/>
              <a:gd name="textAreaBottom" fmla="*/ 117360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70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2757600" y="900000"/>
            <a:ext cx="2481120" cy="2800440"/>
          </a:xfrm>
          <a:prstGeom prst="wedgeRectCallout">
            <a:avLst>
              <a:gd name="adj1" fmla="val 32791"/>
              <a:gd name="adj2" fmla="val 66893"/>
            </a:avLst>
          </a:prstGeom>
          <a:solidFill>
            <a:srgbClr val="fccd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B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P MUST BE REQUESTED AT LEAST 60 MINUTES PRIOR TO F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69 L -0.17952 0.40023 E">
                                      <p:cBhvr>
                                        <p:cTn id="42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8080" y="-360"/>
            <a:ext cx="847224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ynamic Airborne Rerout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14725" t="25603" r="15890" b="49616"/>
          <a:stretch/>
        </p:blipFill>
        <p:spPr>
          <a:xfrm>
            <a:off x="216000" y="779400"/>
            <a:ext cx="8766000" cy="170676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6787-4C6D-4F00-BA5D-B2C8DB3997C4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19120" y="3247920"/>
            <a:ext cx="7969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A encountered a problem where aircraft DARP requests that contained a duplicate waypoint lat/long would be incorrectly processed and the uplink route clearance would contain the lat/long for the waypoint immediately following the waypoi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was corrected in the Ocean21 T20 software bui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8080" y="-360"/>
            <a:ext cx="847224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ynamic Airborne Rerout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14390" t="47788" r="12766" b="15819"/>
          <a:stretch/>
        </p:blipFill>
        <p:spPr>
          <a:xfrm>
            <a:off x="460440" y="792000"/>
            <a:ext cx="8462880" cy="23022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F5A-7B75-42EB-9BCC-2B0436185EAD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587520" y="3327480"/>
            <a:ext cx="820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n open FANS PR where Boeing aircraft downlink requests for a reroute do not include the waypoint between two rou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is route is uplinked to the aircraft it loads correctly with the correct route, but it frequently causes AIDC rejects because of the missing waypoi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ddison, Dennis (FAA)</cp:lastModifiedBy>
  <dcterms:modified xsi:type="dcterms:W3CDTF">2014-08-28T22:50:20Z</dcterms:modified>
  <cp:revision>362</cp:revision>
  <dc:subject/>
  <dc:title>Oakland ARTCC</dc:title>
</cp:coreProperties>
</file>