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91800" y="766440"/>
            <a:ext cx="511956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7D8DBE2D-82F9-42E9-BEFD-566A63F59D4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941A510E-1416-419F-843B-460AA85E8BB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DDCF1D0C-D16D-45EA-8C98-150CE7BD2A8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687D577A-AABA-46FE-9B35-804346A7767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1227F78E-21FF-4AF5-877A-9EB59848597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5B7CFD4C-2886-407F-B817-1B0AF46BBB1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1ADF09F2-0659-48D5-9FD5-274CF03657E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96264330-0215-490B-B6DA-3196FE016D8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1FAD8E51-13C6-49E9-AE09-A0DCF1C199B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CFEC9B0C-02E2-41A7-A29F-C903E08673A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91F5-EAA2-407A-A8A4-912D1C50D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149E-9321-49A1-8BDB-E854AF9F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45B0-C254-4D41-9B00-9DD40437D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FCA1-B3D3-45C5-A6A4-5D317A2CA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9A1C-246D-4407-81F9-5768C90E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0234-A1B3-4461-95A3-8631655A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570B-37B5-4025-9B80-9106C554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4598-9159-4FD3-BB9F-17DACE4C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D483-01A6-4869-B2AC-27E58485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6629-9E8D-424E-99E7-FBDD88EC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3C83-3072-4CCE-B707-7D614DEC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4682-359F-4894-9350-2503249E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64E6-1007-4C76-8BDD-CC7E64994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Object 9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7"/>
          <p:cNvSpPr/>
          <p:nvPr/>
        </p:nvSpPr>
        <p:spPr>
          <a:xfrm>
            <a:off x="277920" y="609480"/>
            <a:ext cx="8686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Feed Back on the advantages of DARP Operation ANA</a:t>
            </a:r>
            <a:r>
              <a:rPr b="1" i="1" lang="en-US" sz="5000" spc="-1" strike="noStrike">
                <a:solidFill>
                  <a:srgbClr val="0066ff"/>
                </a:solidFill>
                <a:latin typeface="Times New Roman"/>
              </a:rPr>
              <a:t>//</a:t>
            </a:r>
            <a:r>
              <a:rPr b="1" i="1" lang="en-US" sz="5000" spc="-1" strike="noStrike">
                <a:solidFill>
                  <a:srgbClr val="66ffff"/>
                </a:solidFill>
                <a:latin typeface="Times New Roman"/>
              </a:rPr>
              <a:t>/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2669760" y="4465800"/>
            <a:ext cx="3774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PACG/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ashington DC, 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eptember 9-10, 20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 flipV="1" rot="10800000">
            <a:off x="2997360" y="3785040"/>
            <a:ext cx="3047760" cy="745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ec5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2982960" y="2895480"/>
            <a:ext cx="3112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Question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689400" y="285840"/>
            <a:ext cx="552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Result (HNL - TYO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2"/>
          <p:cNvSpPr/>
          <p:nvPr/>
        </p:nvSpPr>
        <p:spPr>
          <a:xfrm rot="10800000">
            <a:off x="659880" y="1117080"/>
            <a:ext cx="7696440" cy="36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ec5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2701440" y="6521400"/>
            <a:ext cx="351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 IPACG/40 Washington, USA September 9-10, 201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96960" y="1189080"/>
            <a:ext cx="777888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688680" y="285840"/>
            <a:ext cx="7276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Detail Result (HNL - TYO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2"/>
          <p:cNvSpPr/>
          <p:nvPr/>
        </p:nvSpPr>
        <p:spPr>
          <a:xfrm rot="10800000">
            <a:off x="659880" y="1117080"/>
            <a:ext cx="7696440" cy="36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ec5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2687400" y="6521400"/>
            <a:ext cx="351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 IPACG/40 Washington, USA September 9-10, 201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0" descr=""/>
          <p:cNvPicPr/>
          <p:nvPr/>
        </p:nvPicPr>
        <p:blipFill>
          <a:blip r:embed="rId1"/>
          <a:stretch/>
        </p:blipFill>
        <p:spPr>
          <a:xfrm>
            <a:off x="519120" y="1428840"/>
            <a:ext cx="80866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689400" y="285840"/>
            <a:ext cx="552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Result (TYO - HNL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2"/>
          <p:cNvSpPr/>
          <p:nvPr/>
        </p:nvSpPr>
        <p:spPr>
          <a:xfrm rot="10800000">
            <a:off x="659880" y="1117080"/>
            <a:ext cx="7696440" cy="36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ec5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2687400" y="6521400"/>
            <a:ext cx="351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 IPACG/40 Washington, USA September 9-10, 201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612720" y="1222200"/>
            <a:ext cx="77454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688680" y="285840"/>
            <a:ext cx="7276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Detail Result (TYO - HNL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2"/>
          <p:cNvSpPr/>
          <p:nvPr/>
        </p:nvSpPr>
        <p:spPr>
          <a:xfrm rot="10800000">
            <a:off x="659880" y="1117080"/>
            <a:ext cx="7696440" cy="36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ec5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2687400" y="6521400"/>
            <a:ext cx="351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 IPACG/40 Washington, USA September 9-10, 201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596880" y="1571760"/>
            <a:ext cx="82612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716400" y="285840"/>
            <a:ext cx="5581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Result  (TYO - LAX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2"/>
          <p:cNvSpPr/>
          <p:nvPr/>
        </p:nvSpPr>
        <p:spPr>
          <a:xfrm rot="10800000">
            <a:off x="659880" y="1117080"/>
            <a:ext cx="7696440" cy="36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ec5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図 1" descr=""/>
          <p:cNvPicPr/>
          <p:nvPr/>
        </p:nvPicPr>
        <p:blipFill>
          <a:blip r:embed="rId1"/>
          <a:stretch/>
        </p:blipFill>
        <p:spPr>
          <a:xfrm>
            <a:off x="826920" y="1254240"/>
            <a:ext cx="7632720" cy="53942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5"/>
          <p:cNvSpPr/>
          <p:nvPr/>
        </p:nvSpPr>
        <p:spPr>
          <a:xfrm>
            <a:off x="2687400" y="6521400"/>
            <a:ext cx="351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 IPACG/40 Washington, USA September 9-10, 201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722880" y="285840"/>
            <a:ext cx="717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Detail Result (TYO - LAX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2"/>
          <p:cNvSpPr/>
          <p:nvPr/>
        </p:nvSpPr>
        <p:spPr>
          <a:xfrm rot="10800000">
            <a:off x="659880" y="1117080"/>
            <a:ext cx="7696440" cy="36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ec5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2687400" y="6521400"/>
            <a:ext cx="351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 IPACG/40 Washington, USA September 9-10, 201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571680" y="1285920"/>
            <a:ext cx="82152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690480" y="285840"/>
            <a:ext cx="4964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Result (Summary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2"/>
          <p:cNvSpPr/>
          <p:nvPr/>
        </p:nvSpPr>
        <p:spPr>
          <a:xfrm rot="10800000">
            <a:off x="659880" y="1117080"/>
            <a:ext cx="7696440" cy="36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ec5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2688120" y="6521400"/>
            <a:ext cx="35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 IPACG/40 Washington, USA September 9-102, 201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714240" y="1214280"/>
            <a:ext cx="7742520" cy="5365800"/>
          </a:xfrm>
          <a:prstGeom prst="rect">
            <a:avLst/>
          </a:prstGeom>
          <a:ln w="0">
            <a:noFill/>
          </a:ln>
        </p:spPr>
      </p:pic>
      <p:sp>
        <p:nvSpPr>
          <p:cNvPr id="80" name="角丸四角形 7"/>
          <p:cNvSpPr/>
          <p:nvPr/>
        </p:nvSpPr>
        <p:spPr>
          <a:xfrm>
            <a:off x="1116000" y="1413000"/>
            <a:ext cx="4429080" cy="9874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TTL 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159,800lbs / 9:46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 Sav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For following flight(2011.12.25 – 2014.7.3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 rot="10800000">
            <a:off x="659880" y="1117080"/>
            <a:ext cx="7696440" cy="36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ec5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674280" y="291960"/>
            <a:ext cx="2864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Next Step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914760" y="1700280"/>
            <a:ext cx="774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ansion of DARP applicable city pair is expect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.g. TYO to SFO and SJC Flights inclu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nchorage F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810720" y="3510000"/>
            <a:ext cx="7544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ansion of DARP applicable aircraft is expected</a:t>
            </a:r>
            <a:r>
              <a:rPr b="0" i="1" lang="en-US" sz="25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ote :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w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YO to LAX(,SFO): B7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YO-HNL,HNL-TYO: B76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ext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YO to SJC: B78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Object 15"/>
          <p:cNvGraphicFramePr/>
          <p:nvPr/>
        </p:nvGraphicFramePr>
        <p:xfrm>
          <a:off x="214200" y="3505320"/>
          <a:ext cx="587520" cy="47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3505320"/>
                    <a:ext cx="58752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Rectangle 16"/>
          <p:cNvSpPr/>
          <p:nvPr/>
        </p:nvSpPr>
        <p:spPr>
          <a:xfrm rot="10800000">
            <a:off x="659880" y="1117080"/>
            <a:ext cx="7696440" cy="36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ec5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Object 17"/>
          <p:cNvGraphicFramePr/>
          <p:nvPr/>
        </p:nvGraphicFramePr>
        <p:xfrm>
          <a:off x="228600" y="1720800"/>
          <a:ext cx="58428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720800"/>
                    <a:ext cx="58428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 Box 15"/>
          <p:cNvSpPr/>
          <p:nvPr/>
        </p:nvSpPr>
        <p:spPr>
          <a:xfrm>
            <a:off x="2687400" y="6521400"/>
            <a:ext cx="351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 IPACG/40 Washington, USA September 9-10, 201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1:19:01Z</dcterms:created>
  <dc:creator>T.M</dc:creator>
  <dc:description/>
  <dc:language>en-US</dc:language>
  <cp:lastModifiedBy>ASAKO HIRO</cp:lastModifiedBy>
  <dcterms:modified xsi:type="dcterms:W3CDTF">2014-09-09T13:35:18Z</dcterms:modified>
  <cp:revision>206</cp:revision>
  <dc:subject/>
  <dc:title>ｽﾗｲﾄﾞ ﾀｲﾄﾙなし</dc:title>
</cp:coreProperties>
</file>