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948488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48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5524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93660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A236-7EC7-4DD9-A43A-59145373D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2999-209B-4700-93B7-0EF5520B0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5600" y="69696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1571-0E4C-470A-AB15-51D461645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19"/>
          <p:cNvSpPr/>
          <p:nvPr/>
        </p:nvSpPr>
        <p:spPr>
          <a:xfrm>
            <a:off x="0" y="616752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3" descr="NEW FAA LOGO"/>
          <p:cNvPicPr/>
          <p:nvPr/>
        </p:nvPicPr>
        <p:blipFill>
          <a:blip r:embed="rId2"/>
          <a:srcRect l="14345" t="3761" r="14971" b="4567"/>
          <a:stretch/>
        </p:blipFill>
        <p:spPr>
          <a:xfrm>
            <a:off x="5689440" y="6276960"/>
            <a:ext cx="489240" cy="490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34"/>
          <p:cNvSpPr/>
          <p:nvPr/>
        </p:nvSpPr>
        <p:spPr>
          <a:xfrm>
            <a:off x="6386760" y="6303960"/>
            <a:ext cx="1369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Av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35"/>
          <p:cNvSpPr/>
          <p:nvPr/>
        </p:nvSpPr>
        <p:spPr>
          <a:xfrm>
            <a:off x="463680" y="6191280"/>
            <a:ext cx="27003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PACG/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te:  September 8-12, 20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2"/>
          <p:cNvSpPr/>
          <p:nvPr/>
        </p:nvSpPr>
        <p:spPr>
          <a:xfrm>
            <a:off x="426960" y="4497480"/>
            <a:ext cx="4822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0" descr=""/>
          <p:cNvPicPr/>
          <p:nvPr/>
        </p:nvPicPr>
        <p:blipFill>
          <a:blip r:embed="rId2"/>
          <a:stretch/>
        </p:blipFill>
        <p:spPr>
          <a:xfrm>
            <a:off x="4854600" y="0"/>
            <a:ext cx="4289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51"/>
          <p:cNvGrpSpPr/>
          <p:nvPr/>
        </p:nvGrpSpPr>
        <p:grpSpPr>
          <a:xfrm>
            <a:off x="6054840" y="5630760"/>
            <a:ext cx="2894040" cy="911160"/>
            <a:chOff x="6054840" y="5630760"/>
            <a:chExt cx="2894040" cy="911160"/>
          </a:xfrm>
        </p:grpSpPr>
        <p:pic>
          <p:nvPicPr>
            <p:cNvPr id="46" name="Picture 52" descr="NEW FAA LOGO"/>
            <p:cNvPicPr/>
            <p:nvPr/>
          </p:nvPicPr>
          <p:blipFill>
            <a:blip r:embed="rId3"/>
            <a:srcRect l="14350" t="3733" r="14966" b="4567"/>
            <a:stretch/>
          </p:blipFill>
          <p:spPr>
            <a:xfrm>
              <a:off x="6054840" y="563076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53"/>
            <p:cNvSpPr/>
            <p:nvPr/>
          </p:nvSpPr>
          <p:spPr>
            <a:xfrm>
              <a:off x="6989760" y="581796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Federal Avia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dministra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363600" y="5513400"/>
            <a:ext cx="38494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ented To: IPACG/40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e: September 8-12, 20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95360" y="1754280"/>
            <a:ext cx="4257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P15: Ocean21 interface with CA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AM Interface with CAAT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6200" y="1413000"/>
            <a:ext cx="810756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20 Ocean21 Software supports a NAM Interface with CAATS (Canadian Automated Air Traffic System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20 has been operational at Oakland since July 2014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 Interface will provide for the automated transfer of flight pla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04D7-F197-4C7C-8691-3DB20E14A0EB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AM Interface with CAAT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993240"/>
            <a:ext cx="8107200" cy="35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nitial Testing has been completed between the FAA Tech Center and Nav Canada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ome software issues have been identified in the test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largest issue is the line length limits is being exceeded by CAAT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nce the issue is corrected, the NAM interface will be ready for implementati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ECFD-EF3B-4962-8B0E-8B2027449A94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AM Interface with CAAT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993240"/>
            <a:ext cx="8107200" cy="35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NAM interface is different than AIDC but it should support DARP in the futur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fter Implementation, the FAA will open discussions with Nav Canada to determine if DARP will be possibl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arget date for implementation is the 4</a:t>
            </a:r>
            <a:r>
              <a:rPr b="1" lang="en-GB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quarter of 2014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5DD7-B5F6-48FB-B7D8-52FBC2310BAD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Cloud 5"/>
          <p:cNvSpPr/>
          <p:nvPr/>
        </p:nvSpPr>
        <p:spPr>
          <a:xfrm>
            <a:off x="2886120" y="846000"/>
            <a:ext cx="363600" cy="3906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loud 10"/>
          <p:cNvSpPr/>
          <p:nvPr/>
        </p:nvSpPr>
        <p:spPr>
          <a:xfrm>
            <a:off x="3676680" y="257040"/>
            <a:ext cx="361800" cy="392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loud 11"/>
          <p:cNvSpPr/>
          <p:nvPr/>
        </p:nvSpPr>
        <p:spPr>
          <a:xfrm>
            <a:off x="3219480" y="453960"/>
            <a:ext cx="3618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loud 12"/>
          <p:cNvSpPr/>
          <p:nvPr/>
        </p:nvSpPr>
        <p:spPr>
          <a:xfrm>
            <a:off x="4164120" y="24300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loud 13"/>
          <p:cNvSpPr/>
          <p:nvPr/>
        </p:nvSpPr>
        <p:spPr>
          <a:xfrm>
            <a:off x="4648320" y="352440"/>
            <a:ext cx="36324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loud 14"/>
          <p:cNvSpPr/>
          <p:nvPr/>
        </p:nvSpPr>
        <p:spPr>
          <a:xfrm>
            <a:off x="5011560" y="547560"/>
            <a:ext cx="362160" cy="392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loud 15"/>
          <p:cNvSpPr/>
          <p:nvPr/>
        </p:nvSpPr>
        <p:spPr>
          <a:xfrm>
            <a:off x="5373720" y="93996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loud 16"/>
          <p:cNvSpPr/>
          <p:nvPr/>
        </p:nvSpPr>
        <p:spPr>
          <a:xfrm>
            <a:off x="5373720" y="152100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loud 17"/>
          <p:cNvSpPr/>
          <p:nvPr/>
        </p:nvSpPr>
        <p:spPr>
          <a:xfrm>
            <a:off x="5153040" y="194148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loud 18"/>
          <p:cNvSpPr/>
          <p:nvPr/>
        </p:nvSpPr>
        <p:spPr>
          <a:xfrm>
            <a:off x="4654440" y="2303640"/>
            <a:ext cx="36216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loud 19"/>
          <p:cNvSpPr/>
          <p:nvPr/>
        </p:nvSpPr>
        <p:spPr>
          <a:xfrm>
            <a:off x="4164120" y="289872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loud 20"/>
          <p:cNvSpPr/>
          <p:nvPr/>
        </p:nvSpPr>
        <p:spPr>
          <a:xfrm>
            <a:off x="4164120" y="2500200"/>
            <a:ext cx="363600" cy="392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loud 21"/>
          <p:cNvSpPr/>
          <p:nvPr/>
        </p:nvSpPr>
        <p:spPr>
          <a:xfrm>
            <a:off x="4191120" y="3363840"/>
            <a:ext cx="36324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loud 22"/>
          <p:cNvSpPr/>
          <p:nvPr/>
        </p:nvSpPr>
        <p:spPr>
          <a:xfrm>
            <a:off x="4208400" y="382104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loud 23"/>
          <p:cNvSpPr/>
          <p:nvPr/>
        </p:nvSpPr>
        <p:spPr>
          <a:xfrm>
            <a:off x="4224240" y="4656240"/>
            <a:ext cx="363600" cy="3906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Users\dennis Addison\AppData\Local\Microsoft\Windows\Temporary Internet Files\Content.IE5\2FDQZKUM\MC900320932[1].wmf"/>
          <p:cNvPicPr/>
          <p:nvPr/>
        </p:nvPicPr>
        <p:blipFill>
          <a:blip r:embed="rId1"/>
          <a:stretch/>
        </p:blipFill>
        <p:spPr>
          <a:xfrm flipH="1">
            <a:off x="-2514960" y="495360"/>
            <a:ext cx="1484280" cy="546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dennis Addison\AppData\Local\Microsoft\Windows\Temporary Internet Files\Content.IE5\2FDQZKUM\MC900320932[1].wmf"/>
          <p:cNvPicPr/>
          <p:nvPr/>
        </p:nvPicPr>
        <p:blipFill>
          <a:blip r:embed="rId2"/>
          <a:stretch/>
        </p:blipFill>
        <p:spPr>
          <a:xfrm flipH="1" rot="4621800">
            <a:off x="2325960" y="-2853360"/>
            <a:ext cx="1484640" cy="545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dennis Addison\AppData\Local\Microsoft\Windows\Temporary Internet Files\Content.IE5\2FDQZKUM\MC900320932[1].wmf"/>
          <p:cNvPicPr/>
          <p:nvPr/>
        </p:nvPicPr>
        <p:blipFill>
          <a:blip r:embed="rId3"/>
          <a:stretch/>
        </p:blipFill>
        <p:spPr>
          <a:xfrm rot="18010200">
            <a:off x="7679160" y="-2562480"/>
            <a:ext cx="1325520" cy="546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Users\dennis Addison\AppData\Local\Microsoft\Windows\Temporary Internet Files\Content.IE5\2FDQZKUM\MC900320932[1].wmf"/>
          <p:cNvPicPr/>
          <p:nvPr/>
        </p:nvPicPr>
        <p:blipFill>
          <a:blip r:embed="rId4"/>
          <a:stretch/>
        </p:blipFill>
        <p:spPr>
          <a:xfrm flipH="1">
            <a:off x="-5889960" y="5046840"/>
            <a:ext cx="427356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0.00278 L 0.52708 0.04301 L 0.5684 -0.01618 L 0.61597 -0.04786 L 0.67309 -0.05017 L 0.72708 -0.0289 L 0.76042 -0.00139 L 0.80486 0.05989 L 1.32552 0.38335 E">
                                      <p:cBhvr>
                                        <p:cTn id="6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8 0.09295 L -0.30573 0.58752 L -0.32968 0.6511 L -0.38698 0.70382 L -0.44409 0.73341 L -1.09462 0.93018 E">
                                      <p:cBhvr>
                                        <p:cTn id="23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 repeatCount="1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repeatCount="1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 repeatCount="100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26 0.11191 L 0.1408 0.7674 L 0.14236 0.82867 L 0.14392 0.8985 L 0.14705 0.96393 L 0.14705 1.08648 L 0.14705 1.48809 E">
                                      <p:cBhvr>
                                        <p:cTn id="34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5 0.25232 L 0.71667 -0.01435 E">
                                      <p:cBhvr>
                                        <p:cTn id="45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Dennis Addison</dc:creator>
  <dc:description/>
  <dc:language>en-US</dc:language>
  <cp:lastModifiedBy>Addison, Dennis (FAA)</cp:lastModifiedBy>
  <cp:lastPrinted>2014-09-03T23:43:35Z</cp:lastPrinted>
  <dcterms:modified xsi:type="dcterms:W3CDTF">2014-09-05T23:02:46Z</dcterms:modified>
  <cp:revision>391</cp:revision>
  <dc:subject/>
  <dc:title>Oakland ARTCC</dc:title>
</cp:coreProperties>
</file>