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A0A72-00CE-446E-AFC4-ECE3FB31C5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D6892-4BF2-4C70-BBEA-8392A4A64D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9602F-CA23-4EA2-A192-3E217E7DE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9CB71-518E-422C-A7FE-67809EB79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99600" y="372960"/>
            <a:ext cx="8472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9600" y="372960"/>
            <a:ext cx="8472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"/>
          <p:cNvSpPr/>
          <p:nvPr/>
        </p:nvSpPr>
        <p:spPr>
          <a:xfrm>
            <a:off x="0" y="0"/>
            <a:ext cx="9144000" cy="685152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Line 19"/>
          <p:cNvSpPr/>
          <p:nvPr/>
        </p:nvSpPr>
        <p:spPr>
          <a:xfrm>
            <a:off x="0" y="616752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35"/>
          <p:cNvSpPr/>
          <p:nvPr/>
        </p:nvSpPr>
        <p:spPr>
          <a:xfrm>
            <a:off x="449280" y="6207120"/>
            <a:ext cx="17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c0c0"/>
                </a:solidFill>
                <a:latin typeface="Arial"/>
              </a:rPr>
              <a:t>IPACG 38  Meet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36"/>
          <p:cNvSpPr/>
          <p:nvPr/>
        </p:nvSpPr>
        <p:spPr>
          <a:xfrm>
            <a:off x="426960" y="6453360"/>
            <a:ext cx="337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c0c0"/>
                </a:solidFill>
                <a:latin typeface="Arial"/>
              </a:rPr>
              <a:t>February 5-6, 201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5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2"/>
          <p:cNvSpPr/>
          <p:nvPr/>
        </p:nvSpPr>
        <p:spPr>
          <a:xfrm>
            <a:off x="426960" y="4497480"/>
            <a:ext cx="4822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4" descr="IPACG logo 11-26 version"/>
          <p:cNvPicPr/>
          <p:nvPr/>
        </p:nvPicPr>
        <p:blipFill>
          <a:blip r:embed="rId2">
            <a:lum bright="34000"/>
          </a:blip>
          <a:stretch/>
        </p:blipFill>
        <p:spPr>
          <a:xfrm>
            <a:off x="1001880" y="0"/>
            <a:ext cx="6734160" cy="65674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6"/>
          <p:cNvSpPr/>
          <p:nvPr/>
        </p:nvSpPr>
        <p:spPr>
          <a:xfrm>
            <a:off x="555840" y="1843200"/>
            <a:ext cx="799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JCAB and FAA Joint Paper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3"/>
          <p:cNvSpPr/>
          <p:nvPr/>
        </p:nvSpPr>
        <p:spPr>
          <a:xfrm>
            <a:off x="0" y="298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0" y="298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192240" y="311040"/>
            <a:ext cx="522432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P/1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1035000" y="5962680"/>
            <a:ext cx="73598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PR and PACOTS Updat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PACOTS Track F UPR Trial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95360" y="1088640"/>
            <a:ext cx="805032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erational Trial began July 25, 2013, to allow Track F UPRs at least 50nm south of PACOTS Tracks C &amp; 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main 50nm South of Track E and Normal UPR Guideline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ll be changing t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Slide Number Placeholder 2"/>
          <p:cNvSpPr/>
          <p:nvPr/>
        </p:nvSpPr>
        <p:spPr>
          <a:xfrm>
            <a:off x="8359920" y="6297480"/>
            <a:ext cx="6220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F6D07-840F-4F1B-8C4B-8C52CC4BCCBA}" type="slidenum">
              <a:rPr b="1" lang="en-US" sz="16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2"/>
          <p:cNvSpPr/>
          <p:nvPr/>
        </p:nvSpPr>
        <p:spPr>
          <a:xfrm>
            <a:off x="8359920" y="6297480"/>
            <a:ext cx="6220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97EB0-D26A-4B7B-9723-28666201424F}" type="slidenum">
              <a:rPr b="1" lang="en-US" sz="16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509760" y="0"/>
            <a:ext cx="8111880" cy="6095880"/>
          </a:xfrm>
          <a:prstGeom prst="rect">
            <a:avLst/>
          </a:prstGeom>
          <a:ln w="0">
            <a:noFill/>
          </a:ln>
        </p:spPr>
      </p:pic>
      <p:sp>
        <p:nvSpPr>
          <p:cNvPr id="100" name="Freeform 3"/>
          <p:cNvSpPr/>
          <p:nvPr/>
        </p:nvSpPr>
        <p:spPr>
          <a:xfrm>
            <a:off x="1509840" y="465120"/>
            <a:ext cx="2946240" cy="3641760"/>
          </a:xfrm>
          <a:custGeom>
            <a:avLst/>
            <a:gdLst/>
            <a:ahLst/>
            <a:rect l="l" t="t" r="r" b="b"/>
            <a:pathLst>
              <a:path w="2946400" h="3643086">
                <a:moveTo>
                  <a:pt x="1146628" y="0"/>
                </a:moveTo>
                <a:lnTo>
                  <a:pt x="2119085" y="420914"/>
                </a:lnTo>
                <a:lnTo>
                  <a:pt x="2844800" y="696686"/>
                </a:lnTo>
                <a:lnTo>
                  <a:pt x="2946400" y="1698172"/>
                </a:lnTo>
                <a:lnTo>
                  <a:pt x="2656114" y="1872343"/>
                </a:lnTo>
                <a:lnTo>
                  <a:pt x="2554514" y="2032000"/>
                </a:lnTo>
                <a:lnTo>
                  <a:pt x="2496457" y="2452914"/>
                </a:lnTo>
                <a:lnTo>
                  <a:pt x="2612571" y="2786743"/>
                </a:lnTo>
                <a:lnTo>
                  <a:pt x="362857" y="3643086"/>
                </a:lnTo>
                <a:lnTo>
                  <a:pt x="0" y="2714172"/>
                </a:lnTo>
                <a:lnTo>
                  <a:pt x="493485" y="1378857"/>
                </a:lnTo>
                <a:lnTo>
                  <a:pt x="1146628" y="0"/>
                </a:lnTo>
                <a:close/>
              </a:path>
            </a:pathLst>
          </a:custGeom>
          <a:solidFill>
            <a:srgbClr val="00ff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4"/>
          <p:cNvSpPr/>
          <p:nvPr/>
        </p:nvSpPr>
        <p:spPr>
          <a:xfrm>
            <a:off x="3352680" y="1176480"/>
            <a:ext cx="2467080" cy="4541760"/>
          </a:xfrm>
          <a:custGeom>
            <a:avLst/>
            <a:gdLst/>
            <a:ahLst/>
            <a:rect l="l" t="t" r="r" b="b"/>
            <a:pathLst>
              <a:path w="2467429" h="4542972">
                <a:moveTo>
                  <a:pt x="1030514" y="0"/>
                </a:moveTo>
                <a:lnTo>
                  <a:pt x="2467429" y="522514"/>
                </a:lnTo>
                <a:lnTo>
                  <a:pt x="2409371" y="4542972"/>
                </a:lnTo>
                <a:lnTo>
                  <a:pt x="0" y="4078514"/>
                </a:lnTo>
                <a:lnTo>
                  <a:pt x="174171" y="3352800"/>
                </a:lnTo>
                <a:lnTo>
                  <a:pt x="653143" y="1828800"/>
                </a:lnTo>
                <a:lnTo>
                  <a:pt x="667657" y="1451429"/>
                </a:lnTo>
                <a:lnTo>
                  <a:pt x="827314" y="1132114"/>
                </a:lnTo>
                <a:lnTo>
                  <a:pt x="1074057" y="986972"/>
                </a:lnTo>
                <a:lnTo>
                  <a:pt x="1103086" y="972457"/>
                </a:lnTo>
                <a:lnTo>
                  <a:pt x="1030514" y="0"/>
                </a:lnTo>
                <a:close/>
              </a:path>
            </a:pathLst>
          </a:custGeom>
          <a:solidFill>
            <a:srgbClr val="2206f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5"/>
          <p:cNvSpPr/>
          <p:nvPr/>
        </p:nvSpPr>
        <p:spPr>
          <a:xfrm>
            <a:off x="5762520" y="928800"/>
            <a:ext cx="2597400" cy="5006880"/>
          </a:xfrm>
          <a:custGeom>
            <a:avLst/>
            <a:gdLst/>
            <a:ahLst/>
            <a:rect l="l" t="t" r="r" b="b"/>
            <a:pathLst>
              <a:path w="2598058" h="5007429">
                <a:moveTo>
                  <a:pt x="43543" y="740229"/>
                </a:moveTo>
                <a:lnTo>
                  <a:pt x="1204686" y="1074057"/>
                </a:lnTo>
                <a:lnTo>
                  <a:pt x="1480458" y="0"/>
                </a:lnTo>
                <a:lnTo>
                  <a:pt x="2598058" y="4513943"/>
                </a:lnTo>
                <a:lnTo>
                  <a:pt x="1407886" y="4325257"/>
                </a:lnTo>
                <a:lnTo>
                  <a:pt x="1364343" y="5007429"/>
                </a:lnTo>
                <a:lnTo>
                  <a:pt x="0" y="4760686"/>
                </a:lnTo>
                <a:lnTo>
                  <a:pt x="43543" y="740229"/>
                </a:lnTo>
                <a:close/>
              </a:path>
            </a:pathLst>
          </a:custGeom>
          <a:solidFill>
            <a:srgbClr val="c22c8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2235240" y="1504800"/>
            <a:ext cx="126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IA PTRO UP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88"/>
          <p:cNvSpPr/>
          <p:nvPr/>
        </p:nvSpPr>
        <p:spPr>
          <a:xfrm>
            <a:off x="4143240" y="2938320"/>
            <a:ext cx="161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PAN Australia UP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89"/>
          <p:cNvSpPr/>
          <p:nvPr/>
        </p:nvSpPr>
        <p:spPr>
          <a:xfrm>
            <a:off x="6118200" y="2832120"/>
            <a:ext cx="126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IA NZ/NC UP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"/>
          <p:cNvSpPr/>
          <p:nvPr/>
        </p:nvSpPr>
        <p:spPr>
          <a:xfrm>
            <a:off x="2241720" y="760320"/>
            <a:ext cx="208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ective July 25, 201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0"/>
          <p:cNvSpPr/>
          <p:nvPr/>
        </p:nvSpPr>
        <p:spPr>
          <a:xfrm>
            <a:off x="1639800" y="2708280"/>
            <a:ext cx="20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ill become normal daily ope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1"/>
          <p:cNvSpPr/>
          <p:nvPr/>
        </p:nvSpPr>
        <p:spPr>
          <a:xfrm>
            <a:off x="5851440" y="2000160"/>
            <a:ext cx="20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ective Sept 20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2"/>
          <p:cNvSpPr/>
          <p:nvPr/>
        </p:nvSpPr>
        <p:spPr>
          <a:xfrm>
            <a:off x="3675240" y="4138560"/>
            <a:ext cx="208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ective May 200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DARP"/>
          <p:cNvPicPr/>
          <p:nvPr/>
        </p:nvPicPr>
        <p:blipFill>
          <a:blip r:embed="rId1"/>
          <a:srcRect l="0" t="0" r="0" b="26811"/>
          <a:stretch/>
        </p:blipFill>
        <p:spPr>
          <a:xfrm>
            <a:off x="0" y="357120"/>
            <a:ext cx="9144000" cy="5826240"/>
          </a:xfrm>
          <a:prstGeom prst="rect">
            <a:avLst/>
          </a:prstGeom>
          <a:ln w="0">
            <a:noFill/>
          </a:ln>
        </p:spPr>
      </p:pic>
      <p:sp>
        <p:nvSpPr>
          <p:cNvPr id="111" name="Slide Number Placeholder 2"/>
          <p:cNvSpPr/>
          <p:nvPr/>
        </p:nvSpPr>
        <p:spPr>
          <a:xfrm>
            <a:off x="8359920" y="6297480"/>
            <a:ext cx="6220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E8FEC-7858-437F-BC27-7CB3C26615B0}" type="slidenum">
              <a:rPr b="1" lang="en-US" sz="16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0" y="-115920"/>
            <a:ext cx="9318600" cy="52236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7"/>
          <p:cNvSpPr/>
          <p:nvPr/>
        </p:nvSpPr>
        <p:spPr>
          <a:xfrm>
            <a:off x="1160640" y="0"/>
            <a:ext cx="696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Westbound PACOTS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5"/>
          <p:cNvGrpSpPr/>
          <p:nvPr/>
        </p:nvGrpSpPr>
        <p:grpSpPr>
          <a:xfrm>
            <a:off x="1836720" y="2748600"/>
            <a:ext cx="3613320" cy="567720"/>
            <a:chOff x="1836720" y="2748600"/>
            <a:chExt cx="3613320" cy="567720"/>
          </a:xfrm>
        </p:grpSpPr>
        <p:sp>
          <p:nvSpPr>
            <p:cNvPr id="115" name="Freeform 13"/>
            <p:cNvSpPr/>
            <p:nvPr/>
          </p:nvSpPr>
          <p:spPr>
            <a:xfrm>
              <a:off x="1836720" y="2866320"/>
              <a:ext cx="3613320" cy="450000"/>
            </a:xfrm>
            <a:custGeom>
              <a:avLst/>
              <a:gdLst/>
              <a:ahLst/>
              <a:rect l="l" t="t" r="r" b="b"/>
              <a:pathLst>
                <a:path w="3614057" h="449943">
                  <a:moveTo>
                    <a:pt x="3614057" y="0"/>
                  </a:moveTo>
                  <a:lnTo>
                    <a:pt x="2249714" y="72572"/>
                  </a:lnTo>
                  <a:lnTo>
                    <a:pt x="0" y="449943"/>
                  </a:lnTo>
                </a:path>
              </a:pathLst>
            </a:custGeom>
            <a:noFill/>
            <a:ln w="127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Box 4"/>
            <p:cNvSpPr/>
            <p:nvPr/>
          </p:nvSpPr>
          <p:spPr>
            <a:xfrm rot="21352800">
              <a:off x="4160880" y="277488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Track B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Box 15"/>
            <p:cNvSpPr/>
            <p:nvPr/>
          </p:nvSpPr>
          <p:spPr>
            <a:xfrm rot="21055200">
              <a:off x="2667240" y="297972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Track B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12"/>
          <p:cNvGrpSpPr/>
          <p:nvPr/>
        </p:nvGrpSpPr>
        <p:grpSpPr>
          <a:xfrm>
            <a:off x="1684440" y="2583720"/>
            <a:ext cx="3612960" cy="580320"/>
            <a:chOff x="1684440" y="2583720"/>
            <a:chExt cx="3612960" cy="580320"/>
          </a:xfrm>
        </p:grpSpPr>
        <p:sp>
          <p:nvSpPr>
            <p:cNvPr id="119" name="Freeform 3"/>
            <p:cNvSpPr/>
            <p:nvPr/>
          </p:nvSpPr>
          <p:spPr>
            <a:xfrm>
              <a:off x="1684440" y="2713680"/>
              <a:ext cx="3612960" cy="450360"/>
            </a:xfrm>
            <a:custGeom>
              <a:avLst/>
              <a:gdLst/>
              <a:ahLst/>
              <a:rect l="l" t="t" r="r" b="b"/>
              <a:pathLst>
                <a:path w="3614057" h="449943">
                  <a:moveTo>
                    <a:pt x="3614057" y="0"/>
                  </a:moveTo>
                  <a:lnTo>
                    <a:pt x="2249714" y="72572"/>
                  </a:lnTo>
                  <a:lnTo>
                    <a:pt x="0" y="449943"/>
                  </a:lnTo>
                </a:path>
              </a:pathLst>
            </a:custGeom>
            <a:noFill/>
            <a:ln w="127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Box 16"/>
            <p:cNvSpPr/>
            <p:nvPr/>
          </p:nvSpPr>
          <p:spPr>
            <a:xfrm rot="21352800">
              <a:off x="4236840" y="261000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Track A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Box 17"/>
            <p:cNvSpPr/>
            <p:nvPr/>
          </p:nvSpPr>
          <p:spPr>
            <a:xfrm rot="21077400">
              <a:off x="2637360" y="280512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Track A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14"/>
          <p:cNvGrpSpPr/>
          <p:nvPr/>
        </p:nvGrpSpPr>
        <p:grpSpPr>
          <a:xfrm>
            <a:off x="1306440" y="2141640"/>
            <a:ext cx="6023160" cy="906480"/>
            <a:chOff x="1306440" y="2141640"/>
            <a:chExt cx="6023160" cy="906480"/>
          </a:xfrm>
        </p:grpSpPr>
        <p:sp>
          <p:nvSpPr>
            <p:cNvPr id="123" name="Freeform 2"/>
            <p:cNvSpPr/>
            <p:nvPr/>
          </p:nvSpPr>
          <p:spPr>
            <a:xfrm>
              <a:off x="1306440" y="2264760"/>
              <a:ext cx="6023160" cy="783360"/>
            </a:xfrm>
            <a:custGeom>
              <a:avLst/>
              <a:gdLst/>
              <a:ahLst/>
              <a:rect l="l" t="t" r="r" b="b"/>
              <a:pathLst>
                <a:path w="6023429" h="783771">
                  <a:moveTo>
                    <a:pt x="6023429" y="0"/>
                  </a:moveTo>
                  <a:lnTo>
                    <a:pt x="4397829" y="29028"/>
                  </a:lnTo>
                  <a:lnTo>
                    <a:pt x="2670629" y="261257"/>
                  </a:lnTo>
                  <a:lnTo>
                    <a:pt x="0" y="783771"/>
                  </a:lnTo>
                </a:path>
              </a:pathLst>
            </a:custGeom>
            <a:noFill/>
            <a:ln w="127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Box 18"/>
            <p:cNvSpPr/>
            <p:nvPr/>
          </p:nvSpPr>
          <p:spPr>
            <a:xfrm>
              <a:off x="5894640" y="214164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Track K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Box 19"/>
            <p:cNvSpPr/>
            <p:nvPr/>
          </p:nvSpPr>
          <p:spPr>
            <a:xfrm rot="21240000">
              <a:off x="3880440" y="234792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Track K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5151"/>
          <p:cNvGrpSpPr/>
          <p:nvPr/>
        </p:nvGrpSpPr>
        <p:grpSpPr>
          <a:xfrm>
            <a:off x="1393920" y="1944720"/>
            <a:ext cx="5776920" cy="849240"/>
            <a:chOff x="1393920" y="1944720"/>
            <a:chExt cx="5776920" cy="849240"/>
          </a:xfrm>
        </p:grpSpPr>
        <p:sp>
          <p:nvSpPr>
            <p:cNvPr id="127" name="Freeform 6"/>
            <p:cNvSpPr/>
            <p:nvPr/>
          </p:nvSpPr>
          <p:spPr>
            <a:xfrm>
              <a:off x="1393920" y="2082240"/>
              <a:ext cx="5776920" cy="711720"/>
            </a:xfrm>
            <a:custGeom>
              <a:avLst/>
              <a:gdLst/>
              <a:ahLst/>
              <a:rect l="l" t="t" r="r" b="b"/>
              <a:pathLst>
                <a:path w="5776684" h="711200">
                  <a:moveTo>
                    <a:pt x="5776684" y="0"/>
                  </a:moveTo>
                  <a:lnTo>
                    <a:pt x="4310741" y="0"/>
                  </a:lnTo>
                  <a:lnTo>
                    <a:pt x="2583541" y="232229"/>
                  </a:lnTo>
                  <a:lnTo>
                    <a:pt x="0" y="711200"/>
                  </a:lnTo>
                </a:path>
              </a:pathLst>
            </a:custGeom>
            <a:noFill/>
            <a:ln w="1270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Box 20"/>
            <p:cNvSpPr/>
            <p:nvPr/>
          </p:nvSpPr>
          <p:spPr>
            <a:xfrm rot="21178200">
              <a:off x="3920400" y="2132280"/>
              <a:ext cx="717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rack J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Box 21"/>
            <p:cNvSpPr/>
            <p:nvPr/>
          </p:nvSpPr>
          <p:spPr>
            <a:xfrm>
              <a:off x="5907600" y="1944720"/>
              <a:ext cx="717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rack J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5152"/>
          <p:cNvGrpSpPr/>
          <p:nvPr/>
        </p:nvGrpSpPr>
        <p:grpSpPr>
          <a:xfrm>
            <a:off x="1643040" y="1731960"/>
            <a:ext cx="5356080" cy="822240"/>
            <a:chOff x="1643040" y="1731960"/>
            <a:chExt cx="5356080" cy="822240"/>
          </a:xfrm>
        </p:grpSpPr>
        <p:sp>
          <p:nvSpPr>
            <p:cNvPr id="131" name="Freeform 7"/>
            <p:cNvSpPr/>
            <p:nvPr/>
          </p:nvSpPr>
          <p:spPr>
            <a:xfrm>
              <a:off x="1643040" y="1871640"/>
              <a:ext cx="5356080" cy="682560"/>
            </a:xfrm>
            <a:custGeom>
              <a:avLst/>
              <a:gdLst/>
              <a:ahLst/>
              <a:rect l="l" t="t" r="r" b="b"/>
              <a:pathLst>
                <a:path w="5355772" h="682171">
                  <a:moveTo>
                    <a:pt x="5355772" y="0"/>
                  </a:moveTo>
                  <a:lnTo>
                    <a:pt x="4005943" y="0"/>
                  </a:lnTo>
                  <a:lnTo>
                    <a:pt x="2278743" y="232229"/>
                  </a:lnTo>
                  <a:lnTo>
                    <a:pt x="0" y="682171"/>
                  </a:lnTo>
                </a:path>
              </a:pathLst>
            </a:custGeom>
            <a:noFill/>
            <a:ln w="127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Box 22"/>
            <p:cNvSpPr/>
            <p:nvPr/>
          </p:nvSpPr>
          <p:spPr>
            <a:xfrm rot="21111000">
              <a:off x="3883320" y="1919880"/>
              <a:ext cx="691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Track </a:t>
              </a:r>
              <a:r>
                <a:rPr b="1" lang="en-US" sz="1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I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Box 23"/>
            <p:cNvSpPr/>
            <p:nvPr/>
          </p:nvSpPr>
          <p:spPr>
            <a:xfrm>
              <a:off x="5872680" y="1731960"/>
              <a:ext cx="691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Track </a:t>
              </a:r>
              <a:r>
                <a:rPr b="1" lang="en-US" sz="1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I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5153"/>
          <p:cNvGrpSpPr/>
          <p:nvPr/>
        </p:nvGrpSpPr>
        <p:grpSpPr>
          <a:xfrm>
            <a:off x="1809720" y="1509840"/>
            <a:ext cx="4935600" cy="761760"/>
            <a:chOff x="1809720" y="1509840"/>
            <a:chExt cx="4935600" cy="761760"/>
          </a:xfrm>
        </p:grpSpPr>
        <p:sp>
          <p:nvSpPr>
            <p:cNvPr id="135" name="Freeform 8"/>
            <p:cNvSpPr/>
            <p:nvPr/>
          </p:nvSpPr>
          <p:spPr>
            <a:xfrm>
              <a:off x="1809720" y="1632600"/>
              <a:ext cx="4935600" cy="639000"/>
            </a:xfrm>
            <a:custGeom>
              <a:avLst/>
              <a:gdLst/>
              <a:ahLst/>
              <a:rect l="l" t="t" r="r" b="b"/>
              <a:pathLst>
                <a:path w="4934858" h="638628">
                  <a:moveTo>
                    <a:pt x="4934858" y="29029"/>
                  </a:moveTo>
                  <a:lnTo>
                    <a:pt x="3904343" y="0"/>
                  </a:lnTo>
                  <a:lnTo>
                    <a:pt x="2264229" y="188686"/>
                  </a:lnTo>
                  <a:lnTo>
                    <a:pt x="0" y="638628"/>
                  </a:lnTo>
                </a:path>
              </a:pathLst>
            </a:custGeom>
            <a:noFill/>
            <a:ln w="127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Box 25"/>
            <p:cNvSpPr/>
            <p:nvPr/>
          </p:nvSpPr>
          <p:spPr>
            <a:xfrm rot="21176400">
              <a:off x="3996000" y="164916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Track 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Box 26"/>
            <p:cNvSpPr/>
            <p:nvPr/>
          </p:nvSpPr>
          <p:spPr>
            <a:xfrm>
              <a:off x="5894640" y="150984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Track 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5154"/>
          <p:cNvGrpSpPr/>
          <p:nvPr/>
        </p:nvGrpSpPr>
        <p:grpSpPr>
          <a:xfrm>
            <a:off x="1947960" y="1276200"/>
            <a:ext cx="4630680" cy="770040"/>
            <a:chOff x="1947960" y="1276200"/>
            <a:chExt cx="4630680" cy="770040"/>
          </a:xfrm>
        </p:grpSpPr>
        <p:sp>
          <p:nvSpPr>
            <p:cNvPr id="139" name="Freeform 9"/>
            <p:cNvSpPr/>
            <p:nvPr/>
          </p:nvSpPr>
          <p:spPr>
            <a:xfrm>
              <a:off x="1947960" y="1402560"/>
              <a:ext cx="4630680" cy="643680"/>
            </a:xfrm>
            <a:custGeom>
              <a:avLst/>
              <a:gdLst/>
              <a:ahLst/>
              <a:rect l="l" t="t" r="r" b="b"/>
              <a:pathLst>
                <a:path w="4630057" h="643845">
                  <a:moveTo>
                    <a:pt x="4630057" y="34246"/>
                  </a:moveTo>
                  <a:lnTo>
                    <a:pt x="3833130" y="0"/>
                  </a:lnTo>
                  <a:lnTo>
                    <a:pt x="2278742" y="164874"/>
                  </a:lnTo>
                  <a:lnTo>
                    <a:pt x="0" y="643845"/>
                  </a:lnTo>
                </a:path>
              </a:pathLst>
            </a:custGeom>
            <a:noFill/>
            <a:ln w="127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Box 24"/>
            <p:cNvSpPr/>
            <p:nvPr/>
          </p:nvSpPr>
          <p:spPr>
            <a:xfrm>
              <a:off x="5697360" y="1276200"/>
              <a:ext cx="72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Track F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Box 27"/>
            <p:cNvSpPr/>
            <p:nvPr/>
          </p:nvSpPr>
          <p:spPr>
            <a:xfrm rot="20846400">
              <a:off x="3483000" y="1517760"/>
              <a:ext cx="72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Track F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5155"/>
          <p:cNvGrpSpPr/>
          <p:nvPr/>
        </p:nvGrpSpPr>
        <p:grpSpPr>
          <a:xfrm>
            <a:off x="2201760" y="1032480"/>
            <a:ext cx="4224600" cy="745560"/>
            <a:chOff x="2201760" y="1032480"/>
            <a:chExt cx="4224600" cy="745560"/>
          </a:xfrm>
        </p:grpSpPr>
        <p:sp>
          <p:nvSpPr>
            <p:cNvPr id="143" name="Freeform 10"/>
            <p:cNvSpPr/>
            <p:nvPr/>
          </p:nvSpPr>
          <p:spPr>
            <a:xfrm>
              <a:off x="2201760" y="1168560"/>
              <a:ext cx="4224600" cy="609480"/>
            </a:xfrm>
            <a:custGeom>
              <a:avLst/>
              <a:gdLst/>
              <a:ahLst/>
              <a:rect l="l" t="t" r="r" b="b"/>
              <a:pathLst>
                <a:path w="4223658" h="609601">
                  <a:moveTo>
                    <a:pt x="4223658" y="72573"/>
                  </a:moveTo>
                  <a:lnTo>
                    <a:pt x="3425371" y="0"/>
                  </a:lnTo>
                  <a:lnTo>
                    <a:pt x="2177143" y="116115"/>
                  </a:lnTo>
                  <a:lnTo>
                    <a:pt x="0" y="609601"/>
                  </a:lnTo>
                </a:path>
              </a:pathLst>
            </a:custGeom>
            <a:noFill/>
            <a:ln w="1270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Box 28"/>
            <p:cNvSpPr/>
            <p:nvPr/>
          </p:nvSpPr>
          <p:spPr>
            <a:xfrm rot="252000">
              <a:off x="5621760" y="1058760"/>
              <a:ext cx="73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rack E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Box 29"/>
            <p:cNvSpPr/>
            <p:nvPr/>
          </p:nvSpPr>
          <p:spPr>
            <a:xfrm rot="20824200">
              <a:off x="3461040" y="1271160"/>
              <a:ext cx="73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rack E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5156"/>
          <p:cNvGrpSpPr/>
          <p:nvPr/>
        </p:nvGrpSpPr>
        <p:grpSpPr>
          <a:xfrm>
            <a:off x="2427120" y="858960"/>
            <a:ext cx="3367080" cy="693720"/>
            <a:chOff x="2427120" y="858960"/>
            <a:chExt cx="3367080" cy="693720"/>
          </a:xfrm>
        </p:grpSpPr>
        <p:sp>
          <p:nvSpPr>
            <p:cNvPr id="147" name="Freeform 11"/>
            <p:cNvSpPr/>
            <p:nvPr/>
          </p:nvSpPr>
          <p:spPr>
            <a:xfrm>
              <a:off x="2427120" y="987120"/>
              <a:ext cx="3367080" cy="565560"/>
            </a:xfrm>
            <a:custGeom>
              <a:avLst/>
              <a:gdLst/>
              <a:ahLst/>
              <a:rect l="l" t="t" r="r" b="b"/>
              <a:pathLst>
                <a:path w="3367316" h="566058">
                  <a:moveTo>
                    <a:pt x="3367316" y="14516"/>
                  </a:moveTo>
                  <a:lnTo>
                    <a:pt x="2772228" y="0"/>
                  </a:lnTo>
                  <a:lnTo>
                    <a:pt x="2104572" y="58058"/>
                  </a:lnTo>
                  <a:lnTo>
                    <a:pt x="0" y="566058"/>
                  </a:lnTo>
                </a:path>
              </a:pathLst>
            </a:custGeom>
            <a:noFill/>
            <a:ln w="1270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Box 30"/>
            <p:cNvSpPr/>
            <p:nvPr/>
          </p:nvSpPr>
          <p:spPr>
            <a:xfrm rot="20824200">
              <a:off x="3444480" y="108360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rack C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Box 31"/>
            <p:cNvSpPr/>
            <p:nvPr/>
          </p:nvSpPr>
          <p:spPr>
            <a:xfrm>
              <a:off x="4852800" y="85896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rack C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Rounded Rectangular Callout 5157"/>
          <p:cNvSpPr/>
          <p:nvPr/>
        </p:nvSpPr>
        <p:spPr>
          <a:xfrm>
            <a:off x="4281480" y="3313080"/>
            <a:ext cx="2354400" cy="2076120"/>
          </a:xfrm>
          <a:prstGeom prst="wedgeRoundRectCallout">
            <a:avLst>
              <a:gd name="adj1" fmla="val -113888"/>
              <a:gd name="adj2" fmla="val -60314"/>
              <a:gd name="adj3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-Japan    Trk UPRs           Ef Aug 2008   NO Aug 2009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Explosion 1 5159"/>
          <p:cNvSpPr/>
          <p:nvPr/>
        </p:nvSpPr>
        <p:spPr>
          <a:xfrm>
            <a:off x="2552760" y="2655720"/>
            <a:ext cx="2301840" cy="660600"/>
          </a:xfrm>
          <a:prstGeom prst="irregularSeal1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ounded Rectangular Callout 44"/>
          <p:cNvSpPr/>
          <p:nvPr/>
        </p:nvSpPr>
        <p:spPr>
          <a:xfrm>
            <a:off x="6745320" y="2749680"/>
            <a:ext cx="2236680" cy="1286280"/>
          </a:xfrm>
          <a:prstGeom prst="wedgeRoundRectCallout">
            <a:avLst>
              <a:gd name="adj1" fmla="val -118486"/>
              <a:gd name="adj2" fmla="val -86259"/>
              <a:gd name="adj3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k K UPR Ef May 2011  NO Mar 2013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Explosion 1 45"/>
          <p:cNvSpPr/>
          <p:nvPr/>
        </p:nvSpPr>
        <p:spPr>
          <a:xfrm>
            <a:off x="3643200" y="2124000"/>
            <a:ext cx="2301840" cy="660600"/>
          </a:xfrm>
          <a:prstGeom prst="irregularSeal1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ounded Rectangular Callout 48"/>
          <p:cNvSpPr/>
          <p:nvPr/>
        </p:nvSpPr>
        <p:spPr>
          <a:xfrm>
            <a:off x="6999120" y="625320"/>
            <a:ext cx="2006640" cy="1681200"/>
          </a:xfrm>
          <a:prstGeom prst="wedgeRoundRectCallout">
            <a:avLst>
              <a:gd name="adj1" fmla="val -79199"/>
              <a:gd name="adj2" fmla="val 15657"/>
              <a:gd name="adj3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k H/I UPR Ef Apr 2010 NO Aug 2011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Explosion 1 49"/>
          <p:cNvSpPr/>
          <p:nvPr/>
        </p:nvSpPr>
        <p:spPr>
          <a:xfrm>
            <a:off x="3895560" y="1463760"/>
            <a:ext cx="2300400" cy="660240"/>
          </a:xfrm>
          <a:prstGeom prst="irregularSeal1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ounded Rectangular Callout 50"/>
          <p:cNvSpPr/>
          <p:nvPr/>
        </p:nvSpPr>
        <p:spPr>
          <a:xfrm>
            <a:off x="257040" y="341280"/>
            <a:ext cx="2170080" cy="1286280"/>
          </a:xfrm>
          <a:prstGeom prst="wedgeRoundRectCallout">
            <a:avLst>
              <a:gd name="adj1" fmla="val 88231"/>
              <a:gd name="adj2" fmla="val 60324"/>
              <a:gd name="adj3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k F UPRs       Ef July 2013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Explosion 1 51"/>
          <p:cNvSpPr/>
          <p:nvPr/>
        </p:nvSpPr>
        <p:spPr>
          <a:xfrm>
            <a:off x="3703680" y="1165320"/>
            <a:ext cx="2301840" cy="660240"/>
          </a:xfrm>
          <a:prstGeom prst="irregularSeal1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25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5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1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2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2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" dur="25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25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4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5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" dur="25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25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7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8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5" dur="25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5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9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0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0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DARP"/>
          <p:cNvPicPr/>
          <p:nvPr/>
        </p:nvPicPr>
        <p:blipFill>
          <a:blip r:embed="rId1"/>
          <a:srcRect l="0" t="0" r="0" b="26811"/>
          <a:stretch/>
        </p:blipFill>
        <p:spPr>
          <a:xfrm>
            <a:off x="0" y="357120"/>
            <a:ext cx="9144000" cy="5826240"/>
          </a:xfrm>
          <a:prstGeom prst="rect">
            <a:avLst/>
          </a:prstGeom>
          <a:ln w="0">
            <a:noFill/>
          </a:ln>
        </p:spPr>
      </p:pic>
      <p:sp>
        <p:nvSpPr>
          <p:cNvPr id="159" name="Slide Number Placeholder 2"/>
          <p:cNvSpPr/>
          <p:nvPr/>
        </p:nvSpPr>
        <p:spPr>
          <a:xfrm>
            <a:off x="8359920" y="6297480"/>
            <a:ext cx="6220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6B686-2590-4F2E-929B-456302802277}" type="slidenum">
              <a:rPr b="1" lang="en-US" sz="16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"/>
          <p:cNvSpPr/>
          <p:nvPr/>
        </p:nvSpPr>
        <p:spPr>
          <a:xfrm>
            <a:off x="0" y="-115920"/>
            <a:ext cx="9318600" cy="52236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7"/>
          <p:cNvSpPr/>
          <p:nvPr/>
        </p:nvSpPr>
        <p:spPr>
          <a:xfrm>
            <a:off x="868320" y="0"/>
            <a:ext cx="791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ACOTS TRACK C/E MERG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10"/>
          <p:cNvSpPr/>
          <p:nvPr/>
        </p:nvSpPr>
        <p:spPr>
          <a:xfrm>
            <a:off x="3479760" y="1312920"/>
            <a:ext cx="3192480" cy="160200"/>
          </a:xfrm>
          <a:custGeom>
            <a:avLst/>
            <a:gdLst/>
            <a:ahLst/>
            <a:rect l="l" t="t" r="r" b="b"/>
            <a:pathLst>
              <a:path w="3193143" h="159657">
                <a:moveTo>
                  <a:pt x="3193143" y="159657"/>
                </a:moveTo>
                <a:lnTo>
                  <a:pt x="2452914" y="145142"/>
                </a:lnTo>
                <a:lnTo>
                  <a:pt x="1262743" y="145143"/>
                </a:lnTo>
                <a:lnTo>
                  <a:pt x="0" y="0"/>
                </a:lnTo>
              </a:path>
            </a:pathLst>
          </a:custGeom>
          <a:noFill/>
          <a:ln w="127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8"/>
          <p:cNvSpPr/>
          <p:nvPr/>
        </p:nvSpPr>
        <p:spPr>
          <a:xfrm>
            <a:off x="5805720" y="1353960"/>
            <a:ext cx="73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ck 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9"/>
          <p:cNvSpPr/>
          <p:nvPr/>
        </p:nvSpPr>
        <p:spPr>
          <a:xfrm rot="319200">
            <a:off x="3912840" y="1283760"/>
            <a:ext cx="73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ck 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5156"/>
          <p:cNvGrpSpPr/>
          <p:nvPr/>
        </p:nvGrpSpPr>
        <p:grpSpPr>
          <a:xfrm>
            <a:off x="2427120" y="858960"/>
            <a:ext cx="3367080" cy="693720"/>
            <a:chOff x="2427120" y="858960"/>
            <a:chExt cx="3367080" cy="693720"/>
          </a:xfrm>
        </p:grpSpPr>
        <p:sp>
          <p:nvSpPr>
            <p:cNvPr id="166" name="Freeform 11"/>
            <p:cNvSpPr/>
            <p:nvPr/>
          </p:nvSpPr>
          <p:spPr>
            <a:xfrm>
              <a:off x="2427120" y="987120"/>
              <a:ext cx="3367080" cy="565560"/>
            </a:xfrm>
            <a:custGeom>
              <a:avLst/>
              <a:gdLst/>
              <a:ahLst/>
              <a:rect l="l" t="t" r="r" b="b"/>
              <a:pathLst>
                <a:path w="3367316" h="566058">
                  <a:moveTo>
                    <a:pt x="3367316" y="14516"/>
                  </a:moveTo>
                  <a:lnTo>
                    <a:pt x="2772228" y="0"/>
                  </a:lnTo>
                  <a:lnTo>
                    <a:pt x="2104572" y="58058"/>
                  </a:lnTo>
                  <a:lnTo>
                    <a:pt x="0" y="566058"/>
                  </a:lnTo>
                </a:path>
              </a:pathLst>
            </a:custGeom>
            <a:noFill/>
            <a:ln w="1270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Box 30"/>
            <p:cNvSpPr/>
            <p:nvPr/>
          </p:nvSpPr>
          <p:spPr>
            <a:xfrm rot="20824200">
              <a:off x="3444480" y="108360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rack C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Box 31"/>
            <p:cNvSpPr/>
            <p:nvPr/>
          </p:nvSpPr>
          <p:spPr>
            <a:xfrm>
              <a:off x="4852800" y="85896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rack C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"/>
          <p:cNvSpPr/>
          <p:nvPr/>
        </p:nvSpPr>
        <p:spPr>
          <a:xfrm>
            <a:off x="0" y="0"/>
            <a:ext cx="9361440" cy="5810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DARP"/>
          <p:cNvPicPr/>
          <p:nvPr/>
        </p:nvPicPr>
        <p:blipFill>
          <a:blip r:embed="rId1"/>
          <a:srcRect l="0" t="0" r="0" b="23140"/>
          <a:stretch/>
        </p:blipFill>
        <p:spPr>
          <a:xfrm>
            <a:off x="-20520" y="531720"/>
            <a:ext cx="9144000" cy="6118200"/>
          </a:xfrm>
          <a:prstGeom prst="rect">
            <a:avLst/>
          </a:prstGeom>
          <a:ln w="0">
            <a:noFill/>
          </a:ln>
        </p:spPr>
      </p:pic>
      <p:sp>
        <p:nvSpPr>
          <p:cNvPr id="171" name="Slide Number Placeholder 2"/>
          <p:cNvSpPr/>
          <p:nvPr/>
        </p:nvSpPr>
        <p:spPr>
          <a:xfrm>
            <a:off x="8359920" y="6297480"/>
            <a:ext cx="6220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D386C-8838-42B5-8A66-004E559A6199}" type="slidenum">
              <a:rPr b="1" lang="en-US" sz="16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8"/>
          <p:cNvGrpSpPr/>
          <p:nvPr/>
        </p:nvGrpSpPr>
        <p:grpSpPr>
          <a:xfrm>
            <a:off x="1523880" y="1665360"/>
            <a:ext cx="5776920" cy="847800"/>
            <a:chOff x="1523880" y="1665360"/>
            <a:chExt cx="5776920" cy="847800"/>
          </a:xfrm>
        </p:grpSpPr>
        <p:sp>
          <p:nvSpPr>
            <p:cNvPr id="173" name="Freeform 4"/>
            <p:cNvSpPr/>
            <p:nvPr/>
          </p:nvSpPr>
          <p:spPr>
            <a:xfrm>
              <a:off x="1523880" y="1802880"/>
              <a:ext cx="5776920" cy="710280"/>
            </a:xfrm>
            <a:custGeom>
              <a:avLst/>
              <a:gdLst/>
              <a:ahLst/>
              <a:rect l="l" t="t" r="r" b="b"/>
              <a:pathLst>
                <a:path w="5776684" h="711200">
                  <a:moveTo>
                    <a:pt x="5776684" y="0"/>
                  </a:moveTo>
                  <a:lnTo>
                    <a:pt x="4310741" y="0"/>
                  </a:lnTo>
                  <a:lnTo>
                    <a:pt x="2583541" y="232229"/>
                  </a:lnTo>
                  <a:lnTo>
                    <a:pt x="0" y="711200"/>
                  </a:lnTo>
                </a:path>
              </a:pathLst>
            </a:custGeom>
            <a:noFill/>
            <a:ln w="1270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Box 5"/>
            <p:cNvSpPr/>
            <p:nvPr/>
          </p:nvSpPr>
          <p:spPr>
            <a:xfrm rot="21178200">
              <a:off x="4050360" y="1852560"/>
              <a:ext cx="717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rack J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Box 6"/>
            <p:cNvSpPr/>
            <p:nvPr/>
          </p:nvSpPr>
          <p:spPr>
            <a:xfrm>
              <a:off x="6037560" y="1665360"/>
              <a:ext cx="717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rack J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Text Box 77"/>
          <p:cNvSpPr/>
          <p:nvPr/>
        </p:nvSpPr>
        <p:spPr>
          <a:xfrm>
            <a:off x="1165320" y="0"/>
            <a:ext cx="677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Eastbound PACOTS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9"/>
          <p:cNvGrpSpPr/>
          <p:nvPr/>
        </p:nvGrpSpPr>
        <p:grpSpPr>
          <a:xfrm>
            <a:off x="2249640" y="903240"/>
            <a:ext cx="3193920" cy="925560"/>
            <a:chOff x="2249640" y="903240"/>
            <a:chExt cx="3193920" cy="925560"/>
          </a:xfrm>
        </p:grpSpPr>
        <p:sp>
          <p:nvSpPr>
            <p:cNvPr id="178" name="Freeform 2"/>
            <p:cNvSpPr/>
            <p:nvPr/>
          </p:nvSpPr>
          <p:spPr>
            <a:xfrm>
              <a:off x="2249640" y="1044720"/>
              <a:ext cx="3193920" cy="784080"/>
            </a:xfrm>
            <a:custGeom>
              <a:avLst/>
              <a:gdLst/>
              <a:ahLst/>
              <a:rect l="l" t="t" r="r" b="b"/>
              <a:pathLst>
                <a:path w="3193143" h="783771">
                  <a:moveTo>
                    <a:pt x="0" y="783771"/>
                  </a:moveTo>
                  <a:lnTo>
                    <a:pt x="1016000" y="319314"/>
                  </a:lnTo>
                  <a:lnTo>
                    <a:pt x="2249715" y="0"/>
                  </a:lnTo>
                  <a:lnTo>
                    <a:pt x="3193143" y="0"/>
                  </a:lnTo>
                </a:path>
              </a:pathLst>
            </a:custGeom>
            <a:noFill/>
            <a:ln w="127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Box 10"/>
            <p:cNvSpPr/>
            <p:nvPr/>
          </p:nvSpPr>
          <p:spPr>
            <a:xfrm rot="20130600">
              <a:off x="2678400" y="1330560"/>
              <a:ext cx="717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Track 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Box 11"/>
            <p:cNvSpPr/>
            <p:nvPr/>
          </p:nvSpPr>
          <p:spPr>
            <a:xfrm>
              <a:off x="4437000" y="903240"/>
              <a:ext cx="717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Track 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Group 5151"/>
          <p:cNvGrpSpPr/>
          <p:nvPr/>
        </p:nvGrpSpPr>
        <p:grpSpPr>
          <a:xfrm>
            <a:off x="2162160" y="1080720"/>
            <a:ext cx="3843360" cy="967320"/>
            <a:chOff x="2162160" y="1080720"/>
            <a:chExt cx="3843360" cy="967320"/>
          </a:xfrm>
        </p:grpSpPr>
        <p:sp>
          <p:nvSpPr>
            <p:cNvPr id="182" name="Freeform 12"/>
            <p:cNvSpPr/>
            <p:nvPr/>
          </p:nvSpPr>
          <p:spPr>
            <a:xfrm>
              <a:off x="2162160" y="1197720"/>
              <a:ext cx="3843360" cy="850320"/>
            </a:xfrm>
            <a:custGeom>
              <a:avLst/>
              <a:gdLst/>
              <a:ahLst/>
              <a:rect l="l" t="t" r="r" b="b"/>
              <a:pathLst>
                <a:path w="3594035" h="758292">
                  <a:moveTo>
                    <a:pt x="0" y="758292"/>
                  </a:moveTo>
                  <a:lnTo>
                    <a:pt x="1033817" y="319314"/>
                  </a:lnTo>
                  <a:lnTo>
                    <a:pt x="2267532" y="0"/>
                  </a:lnTo>
                  <a:lnTo>
                    <a:pt x="3594035" y="84929"/>
                  </a:lnTo>
                </a:path>
              </a:pathLst>
            </a:custGeom>
            <a:noFill/>
            <a:ln w="1270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Box 13"/>
            <p:cNvSpPr/>
            <p:nvPr/>
          </p:nvSpPr>
          <p:spPr>
            <a:xfrm rot="20130600">
              <a:off x="2764440" y="1482480"/>
              <a:ext cx="717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d0d0d"/>
                  </a:solidFill>
                  <a:latin typeface="Arial"/>
                </a:rPr>
                <a:t>Track 2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Box 14"/>
            <p:cNvSpPr/>
            <p:nvPr/>
          </p:nvSpPr>
          <p:spPr>
            <a:xfrm rot="164400">
              <a:off x="4820040" y="1098720"/>
              <a:ext cx="75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d0d0d"/>
                  </a:solidFill>
                  <a:latin typeface="Arial"/>
                </a:rPr>
                <a:t>Track 2</a:t>
              </a: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5152"/>
          <p:cNvGrpSpPr/>
          <p:nvPr/>
        </p:nvGrpSpPr>
        <p:grpSpPr>
          <a:xfrm>
            <a:off x="2201760" y="1236240"/>
            <a:ext cx="4032360" cy="964080"/>
            <a:chOff x="2201760" y="1236240"/>
            <a:chExt cx="4032360" cy="964080"/>
          </a:xfrm>
        </p:grpSpPr>
        <p:sp>
          <p:nvSpPr>
            <p:cNvPr id="186" name="Freeform 15"/>
            <p:cNvSpPr/>
            <p:nvPr/>
          </p:nvSpPr>
          <p:spPr>
            <a:xfrm>
              <a:off x="2201760" y="1368360"/>
              <a:ext cx="4032360" cy="831960"/>
            </a:xfrm>
            <a:custGeom>
              <a:avLst/>
              <a:gdLst/>
              <a:ahLst/>
              <a:rect l="l" t="t" r="r" b="b"/>
              <a:pathLst>
                <a:path w="4031343" h="831396">
                  <a:moveTo>
                    <a:pt x="0" y="831396"/>
                  </a:moveTo>
                  <a:lnTo>
                    <a:pt x="1082675" y="357414"/>
                  </a:lnTo>
                  <a:lnTo>
                    <a:pt x="2402115" y="0"/>
                  </a:lnTo>
                  <a:lnTo>
                    <a:pt x="4031343" y="76200"/>
                  </a:lnTo>
                </a:path>
              </a:pathLst>
            </a:custGeom>
            <a:noFill/>
            <a:ln w="127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16"/>
            <p:cNvSpPr/>
            <p:nvPr/>
          </p:nvSpPr>
          <p:spPr>
            <a:xfrm rot="20130600">
              <a:off x="2535120" y="1737000"/>
              <a:ext cx="717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Track 3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Box 17"/>
            <p:cNvSpPr/>
            <p:nvPr/>
          </p:nvSpPr>
          <p:spPr>
            <a:xfrm rot="174600">
              <a:off x="4796640" y="1254240"/>
              <a:ext cx="717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Track 3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5153"/>
          <p:cNvGrpSpPr/>
          <p:nvPr/>
        </p:nvGrpSpPr>
        <p:grpSpPr>
          <a:xfrm>
            <a:off x="1685880" y="1404720"/>
            <a:ext cx="4795920" cy="1233720"/>
            <a:chOff x="1685880" y="1404720"/>
            <a:chExt cx="4795920" cy="1233720"/>
          </a:xfrm>
        </p:grpSpPr>
        <p:sp>
          <p:nvSpPr>
            <p:cNvPr id="190" name="Freeform 18"/>
            <p:cNvSpPr/>
            <p:nvPr/>
          </p:nvSpPr>
          <p:spPr>
            <a:xfrm>
              <a:off x="1685880" y="1531080"/>
              <a:ext cx="4795920" cy="1107360"/>
            </a:xfrm>
            <a:custGeom>
              <a:avLst/>
              <a:gdLst/>
              <a:ahLst/>
              <a:rect l="l" t="t" r="r" b="b"/>
              <a:pathLst>
                <a:path w="4113043" h="824306">
                  <a:moveTo>
                    <a:pt x="0" y="824306"/>
                  </a:moveTo>
                  <a:lnTo>
                    <a:pt x="1393136" y="272340"/>
                  </a:lnTo>
                  <a:lnTo>
                    <a:pt x="2516495" y="0"/>
                  </a:lnTo>
                  <a:lnTo>
                    <a:pt x="4113043" y="69110"/>
                  </a:lnTo>
                </a:path>
              </a:pathLst>
            </a:custGeom>
            <a:noFill/>
            <a:ln w="127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Box 19"/>
            <p:cNvSpPr/>
            <p:nvPr/>
          </p:nvSpPr>
          <p:spPr>
            <a:xfrm rot="20130600">
              <a:off x="2598120" y="1889640"/>
              <a:ext cx="80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Track 14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Box 20"/>
            <p:cNvSpPr/>
            <p:nvPr/>
          </p:nvSpPr>
          <p:spPr>
            <a:xfrm rot="238200">
              <a:off x="4932000" y="1432080"/>
              <a:ext cx="80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Track 14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5154"/>
          <p:cNvGrpSpPr/>
          <p:nvPr/>
        </p:nvGrpSpPr>
        <p:grpSpPr>
          <a:xfrm>
            <a:off x="1762200" y="1566360"/>
            <a:ext cx="4900680" cy="1234080"/>
            <a:chOff x="1762200" y="1566360"/>
            <a:chExt cx="4900680" cy="1234080"/>
          </a:xfrm>
        </p:grpSpPr>
        <p:sp>
          <p:nvSpPr>
            <p:cNvPr id="194" name="Freeform 21"/>
            <p:cNvSpPr/>
            <p:nvPr/>
          </p:nvSpPr>
          <p:spPr>
            <a:xfrm>
              <a:off x="1762200" y="1702080"/>
              <a:ext cx="4900680" cy="1098360"/>
            </a:xfrm>
            <a:custGeom>
              <a:avLst/>
              <a:gdLst/>
              <a:ahLst/>
              <a:rect l="l" t="t" r="r" b="b"/>
              <a:pathLst>
                <a:path w="4202913" h="817217">
                  <a:moveTo>
                    <a:pt x="0" y="817217"/>
                  </a:moveTo>
                  <a:lnTo>
                    <a:pt x="1344115" y="272340"/>
                  </a:lnTo>
                  <a:lnTo>
                    <a:pt x="2500155" y="0"/>
                  </a:lnTo>
                  <a:lnTo>
                    <a:pt x="4202913" y="69110"/>
                  </a:lnTo>
                </a:path>
              </a:pathLst>
            </a:custGeom>
            <a:noFill/>
            <a:ln w="127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Box 22"/>
            <p:cNvSpPr/>
            <p:nvPr/>
          </p:nvSpPr>
          <p:spPr>
            <a:xfrm rot="20130600">
              <a:off x="2636280" y="2061000"/>
              <a:ext cx="80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Track 15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Box 23"/>
            <p:cNvSpPr/>
            <p:nvPr/>
          </p:nvSpPr>
          <p:spPr>
            <a:xfrm rot="238200">
              <a:off x="5084640" y="1593720"/>
              <a:ext cx="80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Track 15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5155"/>
          <p:cNvGrpSpPr/>
          <p:nvPr/>
        </p:nvGrpSpPr>
        <p:grpSpPr>
          <a:xfrm>
            <a:off x="2338560" y="2440440"/>
            <a:ext cx="3049560" cy="532800"/>
            <a:chOff x="2338560" y="2440440"/>
            <a:chExt cx="3049560" cy="532800"/>
          </a:xfrm>
        </p:grpSpPr>
        <p:sp>
          <p:nvSpPr>
            <p:cNvPr id="198" name="Freeform 24"/>
            <p:cNvSpPr/>
            <p:nvPr/>
          </p:nvSpPr>
          <p:spPr>
            <a:xfrm>
              <a:off x="2338560" y="2575080"/>
              <a:ext cx="3049560" cy="319320"/>
            </a:xfrm>
            <a:custGeom>
              <a:avLst/>
              <a:gdLst/>
              <a:ahLst/>
              <a:rect l="l" t="t" r="r" b="b"/>
              <a:pathLst>
                <a:path w="3050268" h="318861">
                  <a:moveTo>
                    <a:pt x="0" y="112032"/>
                  </a:moveTo>
                  <a:lnTo>
                    <a:pt x="911225" y="0"/>
                  </a:lnTo>
                  <a:lnTo>
                    <a:pt x="2116365" y="147411"/>
                  </a:lnTo>
                  <a:lnTo>
                    <a:pt x="3050268" y="318861"/>
                  </a:lnTo>
                </a:path>
              </a:pathLst>
            </a:custGeom>
            <a:noFill/>
            <a:ln w="127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Box 25"/>
            <p:cNvSpPr/>
            <p:nvPr/>
          </p:nvSpPr>
          <p:spPr>
            <a:xfrm rot="21227400">
              <a:off x="2447280" y="2482920"/>
              <a:ext cx="80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Track 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Box 26"/>
            <p:cNvSpPr/>
            <p:nvPr/>
          </p:nvSpPr>
          <p:spPr>
            <a:xfrm rot="481800">
              <a:off x="4413240" y="2641680"/>
              <a:ext cx="80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Track 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5156"/>
          <p:cNvGrpSpPr/>
          <p:nvPr/>
        </p:nvGrpSpPr>
        <p:grpSpPr>
          <a:xfrm>
            <a:off x="1957320" y="2602080"/>
            <a:ext cx="3525840" cy="580680"/>
            <a:chOff x="1957320" y="2602080"/>
            <a:chExt cx="3525840" cy="580680"/>
          </a:xfrm>
        </p:grpSpPr>
        <p:sp>
          <p:nvSpPr>
            <p:cNvPr id="202" name="Freeform 27"/>
            <p:cNvSpPr/>
            <p:nvPr/>
          </p:nvSpPr>
          <p:spPr>
            <a:xfrm>
              <a:off x="1957320" y="2765520"/>
              <a:ext cx="3525840" cy="319680"/>
            </a:xfrm>
            <a:custGeom>
              <a:avLst/>
              <a:gdLst/>
              <a:ahLst/>
              <a:rect l="l" t="t" r="r" b="b"/>
              <a:pathLst>
                <a:path w="3526518" h="318861">
                  <a:moveTo>
                    <a:pt x="0" y="178707"/>
                  </a:moveTo>
                  <a:lnTo>
                    <a:pt x="1292225" y="0"/>
                  </a:lnTo>
                  <a:lnTo>
                    <a:pt x="2583090" y="175986"/>
                  </a:lnTo>
                  <a:lnTo>
                    <a:pt x="3526518" y="318861"/>
                  </a:lnTo>
                </a:path>
              </a:pathLst>
            </a:custGeom>
            <a:noFill/>
            <a:ln w="127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Box 28"/>
            <p:cNvSpPr/>
            <p:nvPr/>
          </p:nvSpPr>
          <p:spPr>
            <a:xfrm rot="20967600">
              <a:off x="2467440" y="2673000"/>
              <a:ext cx="80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Track 12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Box 29"/>
            <p:cNvSpPr/>
            <p:nvPr/>
          </p:nvSpPr>
          <p:spPr>
            <a:xfrm rot="481800">
              <a:off x="4565520" y="2851200"/>
              <a:ext cx="80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Track 12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Rounded Rectangular Callout 30"/>
          <p:cNvSpPr/>
          <p:nvPr/>
        </p:nvSpPr>
        <p:spPr>
          <a:xfrm>
            <a:off x="4425840" y="3513240"/>
            <a:ext cx="2237040" cy="2076120"/>
          </a:xfrm>
          <a:prstGeom prst="wedgeRoundRectCallout">
            <a:avLst>
              <a:gd name="adj1" fmla="val -45527"/>
              <a:gd name="adj2" fmla="val -83370"/>
              <a:gd name="adj3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-Japan    Trk UPRs           Ef Aug 2008   NO Aug2009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Explosion 1 40"/>
          <p:cNvSpPr/>
          <p:nvPr/>
        </p:nvSpPr>
        <p:spPr>
          <a:xfrm>
            <a:off x="2552760" y="2379600"/>
            <a:ext cx="2301840" cy="660600"/>
          </a:xfrm>
          <a:prstGeom prst="irregularSeal1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ounded Rectangular Callout 41"/>
          <p:cNvSpPr/>
          <p:nvPr/>
        </p:nvSpPr>
        <p:spPr>
          <a:xfrm>
            <a:off x="6124680" y="2084400"/>
            <a:ext cx="2546280" cy="1680840"/>
          </a:xfrm>
          <a:prstGeom prst="wedgeRoundRectCallout">
            <a:avLst>
              <a:gd name="adj1" fmla="val -66481"/>
              <a:gd name="adj2" fmla="val -86356"/>
              <a:gd name="adj3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k 14/15 UPRs Ef Sept 2009 NO Aug 201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Explosion 1 42"/>
          <p:cNvSpPr/>
          <p:nvPr/>
        </p:nvSpPr>
        <p:spPr>
          <a:xfrm>
            <a:off x="3257640" y="1386000"/>
            <a:ext cx="2301840" cy="660240"/>
          </a:xfrm>
          <a:prstGeom prst="irregularSeal1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ounded Rectangular Callout 43"/>
          <p:cNvSpPr/>
          <p:nvPr/>
        </p:nvSpPr>
        <p:spPr>
          <a:xfrm>
            <a:off x="6973920" y="620640"/>
            <a:ext cx="1913040" cy="1089360"/>
          </a:xfrm>
          <a:prstGeom prst="wedgeRoundRectCallout">
            <a:avLst>
              <a:gd name="adj1" fmla="val -96375"/>
              <a:gd name="adj2" fmla="val 26310"/>
              <a:gd name="adj3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k 3 UPR   Ef Feb 2012   NO Nov 201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Explosion 1 44"/>
          <p:cNvSpPr/>
          <p:nvPr/>
        </p:nvSpPr>
        <p:spPr>
          <a:xfrm>
            <a:off x="3591000" y="1123920"/>
            <a:ext cx="2301840" cy="660600"/>
          </a:xfrm>
          <a:prstGeom prst="irregularSeal1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ounded Rectangular Callout 45"/>
          <p:cNvSpPr/>
          <p:nvPr/>
        </p:nvSpPr>
        <p:spPr>
          <a:xfrm>
            <a:off x="260280" y="709560"/>
            <a:ext cx="1989360" cy="1089360"/>
          </a:xfrm>
          <a:prstGeom prst="wedgeRoundRectCallout">
            <a:avLst>
              <a:gd name="adj1" fmla="val 79671"/>
              <a:gd name="adj2" fmla="val 30703"/>
              <a:gd name="adj3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k 1 UPR     Ef June 2011 NO Mar 2013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Explosion 1 46"/>
          <p:cNvSpPr/>
          <p:nvPr/>
        </p:nvSpPr>
        <p:spPr>
          <a:xfrm>
            <a:off x="2922480" y="858960"/>
            <a:ext cx="2301840" cy="660240"/>
          </a:xfrm>
          <a:prstGeom prst="irregularSeal1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47"/>
          <p:cNvGrpSpPr/>
          <p:nvPr/>
        </p:nvGrpSpPr>
        <p:grpSpPr>
          <a:xfrm>
            <a:off x="2162160" y="1080720"/>
            <a:ext cx="3843360" cy="967320"/>
            <a:chOff x="2162160" y="1080720"/>
            <a:chExt cx="3843360" cy="967320"/>
          </a:xfrm>
        </p:grpSpPr>
        <p:sp>
          <p:nvSpPr>
            <p:cNvPr id="214" name="Freeform 48"/>
            <p:cNvSpPr/>
            <p:nvPr/>
          </p:nvSpPr>
          <p:spPr>
            <a:xfrm>
              <a:off x="2162160" y="1197720"/>
              <a:ext cx="3843360" cy="850320"/>
            </a:xfrm>
            <a:custGeom>
              <a:avLst/>
              <a:gdLst/>
              <a:ahLst/>
              <a:rect l="l" t="t" r="r" b="b"/>
              <a:pathLst>
                <a:path w="3594035" h="758292">
                  <a:moveTo>
                    <a:pt x="0" y="758292"/>
                  </a:moveTo>
                  <a:lnTo>
                    <a:pt x="1033817" y="319314"/>
                  </a:lnTo>
                  <a:lnTo>
                    <a:pt x="2267532" y="0"/>
                  </a:lnTo>
                  <a:lnTo>
                    <a:pt x="3594035" y="84929"/>
                  </a:lnTo>
                </a:path>
              </a:pathLst>
            </a:custGeom>
            <a:noFill/>
            <a:ln w="1270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Box 49"/>
            <p:cNvSpPr/>
            <p:nvPr/>
          </p:nvSpPr>
          <p:spPr>
            <a:xfrm rot="20130600">
              <a:off x="2764440" y="1482480"/>
              <a:ext cx="717120" cy="27648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d0d0d"/>
                  </a:solidFill>
                  <a:latin typeface="Arial"/>
                </a:rPr>
                <a:t>Track 2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Box 50"/>
            <p:cNvSpPr/>
            <p:nvPr/>
          </p:nvSpPr>
          <p:spPr>
            <a:xfrm rot="164400">
              <a:off x="4820040" y="1098720"/>
              <a:ext cx="759960" cy="27648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d0d0d"/>
                  </a:solidFill>
                  <a:latin typeface="Arial"/>
                </a:rPr>
                <a:t>Track 2</a:t>
              </a: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0" dur="25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25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15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1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8" dur="25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25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18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6" dur="25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25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21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21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22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2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1" dur="25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25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23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24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24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2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DARP"/>
          <p:cNvPicPr/>
          <p:nvPr/>
        </p:nvPicPr>
        <p:blipFill>
          <a:blip r:embed="rId1"/>
          <a:srcRect l="0" t="0" r="0" b="26811"/>
          <a:stretch/>
        </p:blipFill>
        <p:spPr>
          <a:xfrm>
            <a:off x="0" y="357120"/>
            <a:ext cx="9144000" cy="5826240"/>
          </a:xfrm>
          <a:prstGeom prst="rect">
            <a:avLst/>
          </a:prstGeom>
          <a:ln w="0">
            <a:noFill/>
          </a:ln>
        </p:spPr>
      </p:pic>
      <p:sp>
        <p:nvSpPr>
          <p:cNvPr id="218" name="Slide Number Placeholder 2"/>
          <p:cNvSpPr/>
          <p:nvPr/>
        </p:nvSpPr>
        <p:spPr>
          <a:xfrm>
            <a:off x="8359920" y="6297480"/>
            <a:ext cx="6220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87D90-9151-4D4F-8746-7357B68236E9}" type="slidenum">
              <a:rPr b="1" lang="en-US" sz="16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"/>
          <p:cNvSpPr/>
          <p:nvPr/>
        </p:nvSpPr>
        <p:spPr>
          <a:xfrm>
            <a:off x="0" y="-115920"/>
            <a:ext cx="9318600" cy="52236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77"/>
          <p:cNvSpPr/>
          <p:nvPr/>
        </p:nvSpPr>
        <p:spPr>
          <a:xfrm>
            <a:off x="1996920" y="22320"/>
            <a:ext cx="493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ACOTS vs UPR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5"/>
          <p:cNvSpPr/>
          <p:nvPr/>
        </p:nvSpPr>
        <p:spPr>
          <a:xfrm>
            <a:off x="2909880" y="4335480"/>
            <a:ext cx="81000" cy="117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6"/>
          <p:cNvSpPr/>
          <p:nvPr/>
        </p:nvSpPr>
        <p:spPr>
          <a:xfrm>
            <a:off x="2133720" y="4533840"/>
            <a:ext cx="38160" cy="405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1"/>
          <p:cNvSpPr/>
          <p:nvPr/>
        </p:nvSpPr>
        <p:spPr>
          <a:xfrm>
            <a:off x="1214280" y="4397400"/>
            <a:ext cx="12960" cy="287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3"/>
          <p:cNvSpPr/>
          <p:nvPr/>
        </p:nvSpPr>
        <p:spPr>
          <a:xfrm flipH="1">
            <a:off x="801720" y="4070520"/>
            <a:ext cx="2001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23"/>
          <p:cNvSpPr/>
          <p:nvPr/>
        </p:nvSpPr>
        <p:spPr>
          <a:xfrm>
            <a:off x="2568600" y="3770280"/>
            <a:ext cx="74520" cy="74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74"/>
          <p:cNvGrpSpPr/>
          <p:nvPr/>
        </p:nvGrpSpPr>
        <p:grpSpPr>
          <a:xfrm>
            <a:off x="1099800" y="-499320"/>
            <a:ext cx="7087320" cy="6911280"/>
            <a:chOff x="1099800" y="-499320"/>
            <a:chExt cx="7087320" cy="6911280"/>
          </a:xfrm>
        </p:grpSpPr>
        <p:sp>
          <p:nvSpPr>
            <p:cNvPr id="227" name="AutoShape 75"/>
            <p:cNvSpPr/>
            <p:nvPr/>
          </p:nvSpPr>
          <p:spPr>
            <a:xfrm rot="1479000">
              <a:off x="1914480" y="406080"/>
              <a:ext cx="5457600" cy="5099760"/>
            </a:xfrm>
            <a:prstGeom prst="irregularSeal2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76"/>
            <p:cNvSpPr/>
            <p:nvPr/>
          </p:nvSpPr>
          <p:spPr>
            <a:xfrm>
              <a:off x="2930400" y="1625040"/>
              <a:ext cx="3477600" cy="25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verall 18 of 22 PACOTS Tracks have been replaced with UPRs 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DARP"/>
          <p:cNvPicPr/>
          <p:nvPr/>
        </p:nvPicPr>
        <p:blipFill>
          <a:blip r:embed="rId1"/>
          <a:srcRect l="0" t="0" r="0" b="23140"/>
          <a:stretch/>
        </p:blipFill>
        <p:spPr>
          <a:xfrm>
            <a:off x="0" y="0"/>
            <a:ext cx="9144000" cy="6118200"/>
          </a:xfrm>
          <a:prstGeom prst="rect">
            <a:avLst/>
          </a:prstGeom>
          <a:ln w="0">
            <a:noFill/>
          </a:ln>
        </p:spPr>
      </p:pic>
      <p:sp>
        <p:nvSpPr>
          <p:cNvPr id="230" name="Line 3"/>
          <p:cNvSpPr/>
          <p:nvPr/>
        </p:nvSpPr>
        <p:spPr>
          <a:xfrm>
            <a:off x="5951520" y="4964040"/>
            <a:ext cx="130320" cy="1160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4"/>
          <p:cNvSpPr/>
          <p:nvPr/>
        </p:nvSpPr>
        <p:spPr>
          <a:xfrm flipH="1">
            <a:off x="4092120" y="5106960"/>
            <a:ext cx="228600" cy="986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5"/>
          <p:cNvSpPr/>
          <p:nvPr/>
        </p:nvSpPr>
        <p:spPr>
          <a:xfrm>
            <a:off x="2909880" y="4335480"/>
            <a:ext cx="81000" cy="117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6"/>
          <p:cNvSpPr/>
          <p:nvPr/>
        </p:nvSpPr>
        <p:spPr>
          <a:xfrm>
            <a:off x="2133720" y="4533840"/>
            <a:ext cx="38160" cy="405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6604200" y="4473720"/>
            <a:ext cx="72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ahit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4406400" y="5400720"/>
            <a:ext cx="114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uckland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3085200" y="524844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ad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0"/>
          <p:cNvSpPr/>
          <p:nvPr/>
        </p:nvSpPr>
        <p:spPr>
          <a:xfrm rot="2589000">
            <a:off x="1976760" y="4613040"/>
            <a:ext cx="11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risban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1"/>
          <p:cNvSpPr/>
          <p:nvPr/>
        </p:nvSpPr>
        <p:spPr>
          <a:xfrm>
            <a:off x="1214280" y="4397400"/>
            <a:ext cx="12960" cy="287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2"/>
          <p:cNvSpPr/>
          <p:nvPr/>
        </p:nvSpPr>
        <p:spPr>
          <a:xfrm rot="355200">
            <a:off x="1185480" y="457956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oresb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3"/>
          <p:cNvSpPr/>
          <p:nvPr/>
        </p:nvSpPr>
        <p:spPr>
          <a:xfrm flipH="1">
            <a:off x="801720" y="4070520"/>
            <a:ext cx="2001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519840" y="4173480"/>
            <a:ext cx="75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Uj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5"/>
          <p:cNvSpPr/>
          <p:nvPr/>
        </p:nvSpPr>
        <p:spPr>
          <a:xfrm>
            <a:off x="755640" y="2682720"/>
            <a:ext cx="255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ani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6"/>
          <p:cNvSpPr/>
          <p:nvPr/>
        </p:nvSpPr>
        <p:spPr>
          <a:xfrm rot="19311000">
            <a:off x="1502640" y="1739520"/>
            <a:ext cx="101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ukuok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7"/>
          <p:cNvSpPr/>
          <p:nvPr/>
        </p:nvSpPr>
        <p:spPr>
          <a:xfrm rot="20852400">
            <a:off x="3288240" y="466200"/>
            <a:ext cx="123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nch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8"/>
          <p:cNvSpPr/>
          <p:nvPr/>
        </p:nvSpPr>
        <p:spPr>
          <a:xfrm rot="21172800">
            <a:off x="5788080" y="21564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Vancouv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9"/>
          <p:cNvSpPr/>
          <p:nvPr/>
        </p:nvSpPr>
        <p:spPr>
          <a:xfrm rot="20731800">
            <a:off x="6374880" y="52524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eatt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0"/>
          <p:cNvSpPr/>
          <p:nvPr/>
        </p:nvSpPr>
        <p:spPr>
          <a:xfrm rot="20509200">
            <a:off x="6801120" y="80604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akla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1"/>
          <p:cNvSpPr/>
          <p:nvPr/>
        </p:nvSpPr>
        <p:spPr>
          <a:xfrm rot="20509200">
            <a:off x="7252920" y="1125000"/>
            <a:ext cx="998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os Ange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22"/>
          <p:cNvSpPr/>
          <p:nvPr/>
        </p:nvSpPr>
        <p:spPr>
          <a:xfrm rot="20487000">
            <a:off x="7744320" y="2049120"/>
            <a:ext cx="306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exic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23"/>
          <p:cNvSpPr/>
          <p:nvPr/>
        </p:nvSpPr>
        <p:spPr>
          <a:xfrm>
            <a:off x="2568600" y="3770280"/>
            <a:ext cx="74520" cy="74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24"/>
          <p:cNvSpPr/>
          <p:nvPr/>
        </p:nvSpPr>
        <p:spPr>
          <a:xfrm>
            <a:off x="2960640" y="1481040"/>
            <a:ext cx="5037120" cy="4673520"/>
          </a:xfrm>
          <a:custGeom>
            <a:avLst/>
            <a:gdLst/>
            <a:ahLst/>
            <a:rect l="l" t="t" r="r" b="b"/>
            <a:pathLst>
              <a:path w="3173" h="2944">
                <a:moveTo>
                  <a:pt x="631" y="2185"/>
                </a:moveTo>
                <a:lnTo>
                  <a:pt x="1609" y="932"/>
                </a:lnTo>
                <a:lnTo>
                  <a:pt x="1893" y="512"/>
                </a:lnTo>
                <a:lnTo>
                  <a:pt x="2524" y="0"/>
                </a:lnTo>
                <a:lnTo>
                  <a:pt x="2734" y="265"/>
                </a:lnTo>
                <a:lnTo>
                  <a:pt x="2798" y="265"/>
                </a:lnTo>
                <a:lnTo>
                  <a:pt x="2944" y="557"/>
                </a:lnTo>
                <a:lnTo>
                  <a:pt x="3072" y="905"/>
                </a:lnTo>
                <a:lnTo>
                  <a:pt x="3136" y="1206"/>
                </a:lnTo>
                <a:lnTo>
                  <a:pt x="3173" y="1481"/>
                </a:lnTo>
                <a:lnTo>
                  <a:pt x="2798" y="2276"/>
                </a:lnTo>
                <a:lnTo>
                  <a:pt x="2432" y="2925"/>
                </a:lnTo>
                <a:lnTo>
                  <a:pt x="1957" y="2925"/>
                </a:lnTo>
                <a:lnTo>
                  <a:pt x="1490" y="2934"/>
                </a:lnTo>
                <a:lnTo>
                  <a:pt x="677" y="2944"/>
                </a:lnTo>
                <a:lnTo>
                  <a:pt x="0" y="2944"/>
                </a:lnTo>
                <a:lnTo>
                  <a:pt x="631" y="2185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25"/>
          <p:cNvSpPr/>
          <p:nvPr/>
        </p:nvSpPr>
        <p:spPr>
          <a:xfrm>
            <a:off x="2235240" y="2771640"/>
            <a:ext cx="3294000" cy="3440160"/>
          </a:xfrm>
          <a:custGeom>
            <a:avLst/>
            <a:gdLst/>
            <a:ahLst/>
            <a:rect l="l" t="t" r="r" b="b"/>
            <a:pathLst>
              <a:path w="2075" h="2167">
                <a:moveTo>
                  <a:pt x="0" y="2131"/>
                </a:moveTo>
                <a:lnTo>
                  <a:pt x="1883" y="0"/>
                </a:lnTo>
                <a:lnTo>
                  <a:pt x="2075" y="101"/>
                </a:lnTo>
                <a:lnTo>
                  <a:pt x="1061" y="2167"/>
                </a:lnTo>
                <a:lnTo>
                  <a:pt x="485" y="2131"/>
                </a:lnTo>
                <a:lnTo>
                  <a:pt x="0" y="2131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26"/>
          <p:cNvSpPr/>
          <p:nvPr/>
        </p:nvSpPr>
        <p:spPr>
          <a:xfrm>
            <a:off x="5748480" y="1278000"/>
            <a:ext cx="1117440" cy="914400"/>
          </a:xfrm>
          <a:custGeom>
            <a:avLst/>
            <a:gdLst/>
            <a:ahLst/>
            <a:rect l="l" t="t" r="r" b="b"/>
            <a:pathLst>
              <a:path w="704" h="576">
                <a:moveTo>
                  <a:pt x="73" y="576"/>
                </a:moveTo>
                <a:lnTo>
                  <a:pt x="704" y="82"/>
                </a:lnTo>
                <a:lnTo>
                  <a:pt x="640" y="0"/>
                </a:lnTo>
                <a:lnTo>
                  <a:pt x="393" y="109"/>
                </a:lnTo>
                <a:lnTo>
                  <a:pt x="182" y="274"/>
                </a:lnTo>
                <a:lnTo>
                  <a:pt x="0" y="557"/>
                </a:lnTo>
                <a:lnTo>
                  <a:pt x="73" y="576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27"/>
          <p:cNvSpPr/>
          <p:nvPr/>
        </p:nvSpPr>
        <p:spPr>
          <a:xfrm>
            <a:off x="3773520" y="406440"/>
            <a:ext cx="3135240" cy="942840"/>
          </a:xfrm>
          <a:custGeom>
            <a:avLst/>
            <a:gdLst/>
            <a:ahLst/>
            <a:rect l="l" t="t" r="r" b="b"/>
            <a:pathLst>
              <a:path w="1975" h="594">
                <a:moveTo>
                  <a:pt x="1938" y="494"/>
                </a:moveTo>
                <a:lnTo>
                  <a:pt x="1710" y="320"/>
                </a:lnTo>
                <a:lnTo>
                  <a:pt x="1500" y="229"/>
                </a:lnTo>
                <a:lnTo>
                  <a:pt x="1152" y="101"/>
                </a:lnTo>
                <a:lnTo>
                  <a:pt x="832" y="18"/>
                </a:lnTo>
                <a:lnTo>
                  <a:pt x="412" y="0"/>
                </a:lnTo>
                <a:lnTo>
                  <a:pt x="247" y="0"/>
                </a:lnTo>
                <a:lnTo>
                  <a:pt x="0" y="110"/>
                </a:lnTo>
                <a:lnTo>
                  <a:pt x="274" y="238"/>
                </a:lnTo>
                <a:lnTo>
                  <a:pt x="796" y="475"/>
                </a:lnTo>
                <a:lnTo>
                  <a:pt x="1737" y="594"/>
                </a:lnTo>
                <a:lnTo>
                  <a:pt x="1975" y="558"/>
                </a:lnTo>
                <a:lnTo>
                  <a:pt x="1938" y="494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28"/>
          <p:cNvSpPr/>
          <p:nvPr/>
        </p:nvSpPr>
        <p:spPr>
          <a:xfrm>
            <a:off x="770040" y="1117440"/>
            <a:ext cx="5978520" cy="2961000"/>
          </a:xfrm>
          <a:custGeom>
            <a:avLst/>
            <a:gdLst/>
            <a:ahLst/>
            <a:rect l="l" t="t" r="r" b="b"/>
            <a:pathLst>
              <a:path w="3766" h="1865">
                <a:moveTo>
                  <a:pt x="3684" y="0"/>
                </a:moveTo>
                <a:lnTo>
                  <a:pt x="3766" y="101"/>
                </a:lnTo>
                <a:lnTo>
                  <a:pt x="2852" y="649"/>
                </a:lnTo>
                <a:lnTo>
                  <a:pt x="2688" y="786"/>
                </a:lnTo>
                <a:lnTo>
                  <a:pt x="0" y="1865"/>
                </a:lnTo>
                <a:lnTo>
                  <a:pt x="45" y="1509"/>
                </a:lnTo>
                <a:lnTo>
                  <a:pt x="91" y="1344"/>
                </a:lnTo>
                <a:lnTo>
                  <a:pt x="109" y="1189"/>
                </a:lnTo>
                <a:lnTo>
                  <a:pt x="283" y="1106"/>
                </a:lnTo>
                <a:lnTo>
                  <a:pt x="594" y="1106"/>
                </a:lnTo>
                <a:lnTo>
                  <a:pt x="850" y="887"/>
                </a:lnTo>
                <a:lnTo>
                  <a:pt x="1206" y="640"/>
                </a:lnTo>
                <a:lnTo>
                  <a:pt x="3693" y="0"/>
                </a:lnTo>
              </a:path>
            </a:pathLst>
          </a:custGeom>
          <a:solidFill>
            <a:srgbClr val="ff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29"/>
          <p:cNvSpPr/>
          <p:nvPr/>
        </p:nvSpPr>
        <p:spPr>
          <a:xfrm>
            <a:off x="1204920" y="2090880"/>
            <a:ext cx="1363680" cy="2554200"/>
          </a:xfrm>
          <a:custGeom>
            <a:avLst/>
            <a:gdLst/>
            <a:ahLst/>
            <a:rect l="l" t="t" r="r" b="b"/>
            <a:pathLst>
              <a:path w="859" h="1609">
                <a:moveTo>
                  <a:pt x="859" y="1426"/>
                </a:moveTo>
                <a:lnTo>
                  <a:pt x="622" y="0"/>
                </a:lnTo>
                <a:lnTo>
                  <a:pt x="320" y="27"/>
                </a:lnTo>
                <a:lnTo>
                  <a:pt x="283" y="493"/>
                </a:lnTo>
                <a:lnTo>
                  <a:pt x="164" y="484"/>
                </a:lnTo>
                <a:lnTo>
                  <a:pt x="46" y="521"/>
                </a:lnTo>
                <a:lnTo>
                  <a:pt x="0" y="868"/>
                </a:lnTo>
                <a:lnTo>
                  <a:pt x="46" y="1088"/>
                </a:lnTo>
                <a:lnTo>
                  <a:pt x="393" y="1609"/>
                </a:lnTo>
                <a:lnTo>
                  <a:pt x="567" y="1600"/>
                </a:lnTo>
                <a:lnTo>
                  <a:pt x="576" y="1408"/>
                </a:lnTo>
                <a:lnTo>
                  <a:pt x="686" y="1408"/>
                </a:lnTo>
                <a:lnTo>
                  <a:pt x="859" y="1426"/>
                </a:lnTo>
                <a:close/>
              </a:path>
            </a:pathLst>
          </a:custGeom>
          <a:solidFill>
            <a:srgbClr val="51c9c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30"/>
          <p:cNvSpPr/>
          <p:nvPr/>
        </p:nvSpPr>
        <p:spPr>
          <a:xfrm>
            <a:off x="1698480" y="1450800"/>
            <a:ext cx="3584880" cy="1117800"/>
          </a:xfrm>
          <a:custGeom>
            <a:avLst/>
            <a:gdLst/>
            <a:ahLst/>
            <a:rect l="l" t="t" r="r" b="b"/>
            <a:pathLst>
              <a:path w="2258" h="704">
                <a:moveTo>
                  <a:pt x="2148" y="677"/>
                </a:moveTo>
                <a:lnTo>
                  <a:pt x="1719" y="704"/>
                </a:lnTo>
                <a:lnTo>
                  <a:pt x="685" y="686"/>
                </a:lnTo>
                <a:lnTo>
                  <a:pt x="311" y="631"/>
                </a:lnTo>
                <a:lnTo>
                  <a:pt x="0" y="521"/>
                </a:lnTo>
                <a:lnTo>
                  <a:pt x="45" y="339"/>
                </a:lnTo>
                <a:lnTo>
                  <a:pt x="164" y="165"/>
                </a:lnTo>
                <a:lnTo>
                  <a:pt x="749" y="28"/>
                </a:lnTo>
                <a:lnTo>
                  <a:pt x="1261" y="0"/>
                </a:lnTo>
                <a:lnTo>
                  <a:pt x="1929" y="201"/>
                </a:lnTo>
                <a:lnTo>
                  <a:pt x="2258" y="430"/>
                </a:lnTo>
                <a:lnTo>
                  <a:pt x="2139" y="549"/>
                </a:lnTo>
                <a:lnTo>
                  <a:pt x="2148" y="677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31"/>
          <p:cNvSpPr/>
          <p:nvPr/>
        </p:nvSpPr>
        <p:spPr>
          <a:xfrm>
            <a:off x="1233360" y="2162160"/>
            <a:ext cx="914400" cy="3614760"/>
          </a:xfrm>
          <a:custGeom>
            <a:avLst/>
            <a:gdLst/>
            <a:ahLst/>
            <a:rect l="l" t="t" r="r" b="b"/>
            <a:pathLst>
              <a:path w="576" h="2277">
                <a:moveTo>
                  <a:pt x="210" y="9"/>
                </a:moveTo>
                <a:lnTo>
                  <a:pt x="412" y="0"/>
                </a:lnTo>
                <a:lnTo>
                  <a:pt x="466" y="302"/>
                </a:lnTo>
                <a:lnTo>
                  <a:pt x="558" y="1381"/>
                </a:lnTo>
                <a:lnTo>
                  <a:pt x="576" y="1875"/>
                </a:lnTo>
                <a:lnTo>
                  <a:pt x="338" y="2277"/>
                </a:lnTo>
                <a:lnTo>
                  <a:pt x="0" y="1509"/>
                </a:lnTo>
                <a:lnTo>
                  <a:pt x="9" y="1317"/>
                </a:lnTo>
                <a:lnTo>
                  <a:pt x="0" y="905"/>
                </a:lnTo>
                <a:lnTo>
                  <a:pt x="18" y="439"/>
                </a:lnTo>
                <a:lnTo>
                  <a:pt x="174" y="430"/>
                </a:lnTo>
              </a:path>
            </a:pathLst>
          </a:custGeom>
          <a:solidFill>
            <a:srgbClr val="2206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32"/>
          <p:cNvSpPr/>
          <p:nvPr/>
        </p:nvSpPr>
        <p:spPr>
          <a:xfrm>
            <a:off x="1436760" y="2424240"/>
            <a:ext cx="3716280" cy="1015920"/>
          </a:xfrm>
          <a:custGeom>
            <a:avLst/>
            <a:gdLst/>
            <a:ahLst/>
            <a:rect l="l" t="t" r="r" b="b"/>
            <a:pathLst>
              <a:path w="2341" h="640">
                <a:moveTo>
                  <a:pt x="2313" y="0"/>
                </a:moveTo>
                <a:lnTo>
                  <a:pt x="1582" y="0"/>
                </a:lnTo>
                <a:lnTo>
                  <a:pt x="805" y="100"/>
                </a:lnTo>
                <a:lnTo>
                  <a:pt x="183" y="238"/>
                </a:lnTo>
                <a:lnTo>
                  <a:pt x="0" y="439"/>
                </a:lnTo>
                <a:lnTo>
                  <a:pt x="73" y="530"/>
                </a:lnTo>
                <a:lnTo>
                  <a:pt x="73" y="640"/>
                </a:lnTo>
                <a:lnTo>
                  <a:pt x="677" y="640"/>
                </a:lnTo>
                <a:lnTo>
                  <a:pt x="1445" y="548"/>
                </a:lnTo>
                <a:lnTo>
                  <a:pt x="2341" y="164"/>
                </a:lnTo>
                <a:lnTo>
                  <a:pt x="2313" y="0"/>
                </a:lnTo>
                <a:close/>
              </a:path>
            </a:pathLst>
          </a:custGeom>
          <a:solidFill>
            <a:srgbClr val="f7031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33"/>
          <p:cNvSpPr/>
          <p:nvPr/>
        </p:nvSpPr>
        <p:spPr>
          <a:xfrm>
            <a:off x="2235240" y="885960"/>
            <a:ext cx="4992480" cy="942840"/>
          </a:xfrm>
          <a:custGeom>
            <a:avLst/>
            <a:gdLst/>
            <a:ahLst/>
            <a:rect l="l" t="t" r="r" b="b"/>
            <a:pathLst>
              <a:path w="3145" h="594">
                <a:moveTo>
                  <a:pt x="155" y="247"/>
                </a:moveTo>
                <a:lnTo>
                  <a:pt x="1106" y="100"/>
                </a:lnTo>
                <a:lnTo>
                  <a:pt x="1691" y="0"/>
                </a:lnTo>
                <a:lnTo>
                  <a:pt x="2304" y="9"/>
                </a:lnTo>
                <a:lnTo>
                  <a:pt x="2725" y="73"/>
                </a:lnTo>
                <a:lnTo>
                  <a:pt x="2944" y="228"/>
                </a:lnTo>
                <a:lnTo>
                  <a:pt x="3145" y="439"/>
                </a:lnTo>
                <a:lnTo>
                  <a:pt x="2880" y="457"/>
                </a:lnTo>
                <a:lnTo>
                  <a:pt x="2194" y="594"/>
                </a:lnTo>
                <a:lnTo>
                  <a:pt x="1125" y="548"/>
                </a:lnTo>
                <a:lnTo>
                  <a:pt x="0" y="457"/>
                </a:lnTo>
                <a:lnTo>
                  <a:pt x="155" y="247"/>
                </a:lnTo>
                <a:close/>
              </a:path>
            </a:pathLst>
          </a:custGeom>
          <a:solidFill>
            <a:srgbClr val="fccd2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34"/>
          <p:cNvSpPr/>
          <p:nvPr/>
        </p:nvSpPr>
        <p:spPr>
          <a:xfrm>
            <a:off x="7054920" y="4397400"/>
            <a:ext cx="1828800" cy="727200"/>
          </a:xfrm>
          <a:prstGeom prst="wedgeRoundRectCallout">
            <a:avLst>
              <a:gd name="adj1" fmla="val -63023"/>
              <a:gd name="adj2" fmla="val -168777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ifornia –South Pacifi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35"/>
          <p:cNvSpPr/>
          <p:nvPr/>
        </p:nvSpPr>
        <p:spPr>
          <a:xfrm>
            <a:off x="4978440" y="5235480"/>
            <a:ext cx="1828800" cy="668520"/>
          </a:xfrm>
          <a:prstGeom prst="wedgeRoundRectCallout">
            <a:avLst>
              <a:gd name="adj1" fmla="val -106685"/>
              <a:gd name="adj2" fmla="val -131472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waii –South Pacifi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36"/>
          <p:cNvSpPr/>
          <p:nvPr/>
        </p:nvSpPr>
        <p:spPr>
          <a:xfrm>
            <a:off x="3075120" y="5249880"/>
            <a:ext cx="1450800" cy="922320"/>
          </a:xfrm>
          <a:prstGeom prst="wedgeRoundRectCallout">
            <a:avLst>
              <a:gd name="adj1" fmla="val -104268"/>
              <a:gd name="adj2" fmla="val -195268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ia–New Zealand/ Caledon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37"/>
          <p:cNvSpPr/>
          <p:nvPr/>
        </p:nvSpPr>
        <p:spPr>
          <a:xfrm>
            <a:off x="1535040" y="5189400"/>
            <a:ext cx="1451160" cy="922320"/>
          </a:xfrm>
          <a:prstGeom prst="wedgeRoundRectCallout">
            <a:avLst>
              <a:gd name="adj1" fmla="val -54374"/>
              <a:gd name="adj2" fmla="val -163768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JAA–Austral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38"/>
          <p:cNvSpPr/>
          <p:nvPr/>
        </p:nvSpPr>
        <p:spPr>
          <a:xfrm>
            <a:off x="0" y="4392720"/>
            <a:ext cx="1450800" cy="804600"/>
          </a:xfrm>
          <a:prstGeom prst="wedgeRoundRectCallout">
            <a:avLst>
              <a:gd name="adj1" fmla="val 26476"/>
              <a:gd name="adj2" fmla="val -151773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ifornia Singapo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39"/>
          <p:cNvSpPr/>
          <p:nvPr/>
        </p:nvSpPr>
        <p:spPr>
          <a:xfrm>
            <a:off x="189000" y="2025720"/>
            <a:ext cx="1261800" cy="674640"/>
          </a:xfrm>
          <a:prstGeom prst="wedgeRoundRectCallout">
            <a:avLst>
              <a:gd name="adj1" fmla="val 139055"/>
              <a:gd name="adj2" fmla="val 102000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waii –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GUM/RPL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40"/>
          <p:cNvSpPr/>
          <p:nvPr/>
        </p:nvSpPr>
        <p:spPr>
          <a:xfrm>
            <a:off x="228600" y="1039680"/>
            <a:ext cx="1450800" cy="704880"/>
          </a:xfrm>
          <a:prstGeom prst="wedgeRoundRectCallout">
            <a:avLst>
              <a:gd name="adj1" fmla="val 152736"/>
              <a:gd name="adj2" fmla="val 76800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ia - Hawai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41"/>
          <p:cNvSpPr/>
          <p:nvPr/>
        </p:nvSpPr>
        <p:spPr>
          <a:xfrm>
            <a:off x="444600" y="195120"/>
            <a:ext cx="1450800" cy="704880"/>
          </a:xfrm>
          <a:prstGeom prst="wedgeRoundRectCallout">
            <a:avLst>
              <a:gd name="adj1" fmla="val 168819"/>
              <a:gd name="adj2" fmla="val 101578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r East - Californ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42"/>
          <p:cNvSpPr/>
          <p:nvPr/>
        </p:nvSpPr>
        <p:spPr>
          <a:xfrm>
            <a:off x="6975360" y="195120"/>
            <a:ext cx="1451160" cy="908280"/>
          </a:xfrm>
          <a:prstGeom prst="wedgeRoundRectCallout">
            <a:avLst>
              <a:gd name="adj1" fmla="val -165319"/>
              <a:gd name="adj2" fmla="val 16606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ifornia – RTE Entry P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43"/>
          <p:cNvSpPr/>
          <p:nvPr/>
        </p:nvSpPr>
        <p:spPr>
          <a:xfrm>
            <a:off x="7335720" y="2052720"/>
            <a:ext cx="1633680" cy="1184040"/>
          </a:xfrm>
          <a:prstGeom prst="wedgeRoundRectCallout">
            <a:avLst>
              <a:gd name="adj1" fmla="val -127453"/>
              <a:gd name="adj2" fmla="val -66486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ifornia – Hawaii (North of CE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44"/>
          <p:cNvGrpSpPr/>
          <p:nvPr/>
        </p:nvGrpSpPr>
        <p:grpSpPr>
          <a:xfrm>
            <a:off x="6535800" y="-644040"/>
            <a:ext cx="2549520" cy="2418120"/>
            <a:chOff x="6535800" y="-644040"/>
            <a:chExt cx="2549520" cy="2418120"/>
          </a:xfrm>
        </p:grpSpPr>
        <p:sp>
          <p:nvSpPr>
            <p:cNvPr id="272" name="AutoShape 45"/>
            <p:cNvSpPr/>
            <p:nvPr/>
          </p:nvSpPr>
          <p:spPr>
            <a:xfrm rot="1479000">
              <a:off x="6807240" y="-304560"/>
              <a:ext cx="2006640" cy="1739880"/>
            </a:xfrm>
            <a:prstGeom prst="irregularSeal2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46"/>
            <p:cNvSpPr/>
            <p:nvPr/>
          </p:nvSpPr>
          <p:spPr>
            <a:xfrm>
              <a:off x="7180560" y="110880"/>
              <a:ext cx="1278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.09M. Kg An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47"/>
          <p:cNvGrpSpPr/>
          <p:nvPr/>
        </p:nvGrpSpPr>
        <p:grpSpPr>
          <a:xfrm>
            <a:off x="6865920" y="1496160"/>
            <a:ext cx="2549520" cy="2418120"/>
            <a:chOff x="6865920" y="1496160"/>
            <a:chExt cx="2549520" cy="2418120"/>
          </a:xfrm>
        </p:grpSpPr>
        <p:sp>
          <p:nvSpPr>
            <p:cNvPr id="275" name="AutoShape 48"/>
            <p:cNvSpPr/>
            <p:nvPr/>
          </p:nvSpPr>
          <p:spPr>
            <a:xfrm rot="1479000">
              <a:off x="7137360" y="1835280"/>
              <a:ext cx="2006640" cy="1739880"/>
            </a:xfrm>
            <a:prstGeom prst="irregularSeal2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49"/>
            <p:cNvSpPr/>
            <p:nvPr/>
          </p:nvSpPr>
          <p:spPr>
            <a:xfrm>
              <a:off x="7510680" y="2251080"/>
              <a:ext cx="1278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017Kg Flight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50"/>
          <p:cNvGrpSpPr/>
          <p:nvPr/>
        </p:nvGrpSpPr>
        <p:grpSpPr>
          <a:xfrm>
            <a:off x="6656400" y="3556440"/>
            <a:ext cx="2549520" cy="2418480"/>
            <a:chOff x="6656400" y="3556440"/>
            <a:chExt cx="2549520" cy="2418480"/>
          </a:xfrm>
        </p:grpSpPr>
        <p:sp>
          <p:nvSpPr>
            <p:cNvPr id="278" name="AutoShape 51"/>
            <p:cNvSpPr/>
            <p:nvPr/>
          </p:nvSpPr>
          <p:spPr>
            <a:xfrm rot="1479000">
              <a:off x="6927480" y="3895560"/>
              <a:ext cx="2006640" cy="1740240"/>
            </a:xfrm>
            <a:prstGeom prst="irregularSeal2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52"/>
            <p:cNvSpPr/>
            <p:nvPr/>
          </p:nvSpPr>
          <p:spPr>
            <a:xfrm>
              <a:off x="7301160" y="4311360"/>
              <a:ext cx="1278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9.61M Kg A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53"/>
          <p:cNvGrpSpPr/>
          <p:nvPr/>
        </p:nvGrpSpPr>
        <p:grpSpPr>
          <a:xfrm>
            <a:off x="4672080" y="4326480"/>
            <a:ext cx="2549520" cy="2418120"/>
            <a:chOff x="4672080" y="4326480"/>
            <a:chExt cx="2549520" cy="2418120"/>
          </a:xfrm>
        </p:grpSpPr>
        <p:sp>
          <p:nvSpPr>
            <p:cNvPr id="281" name="AutoShape 54"/>
            <p:cNvSpPr/>
            <p:nvPr/>
          </p:nvSpPr>
          <p:spPr>
            <a:xfrm rot="1479000">
              <a:off x="4943520" y="4665600"/>
              <a:ext cx="2006640" cy="1739880"/>
            </a:xfrm>
            <a:prstGeom prst="irregularSeal2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55"/>
            <p:cNvSpPr/>
            <p:nvPr/>
          </p:nvSpPr>
          <p:spPr>
            <a:xfrm>
              <a:off x="5316840" y="5081400"/>
              <a:ext cx="1278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???? Kg An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56"/>
          <p:cNvGrpSpPr/>
          <p:nvPr/>
        </p:nvGrpSpPr>
        <p:grpSpPr>
          <a:xfrm>
            <a:off x="2611440" y="4470840"/>
            <a:ext cx="2549520" cy="2418480"/>
            <a:chOff x="2611440" y="4470840"/>
            <a:chExt cx="2549520" cy="2418480"/>
          </a:xfrm>
        </p:grpSpPr>
        <p:sp>
          <p:nvSpPr>
            <p:cNvPr id="284" name="AutoShape 57"/>
            <p:cNvSpPr/>
            <p:nvPr/>
          </p:nvSpPr>
          <p:spPr>
            <a:xfrm rot="1479000">
              <a:off x="2882520" y="4809960"/>
              <a:ext cx="2006640" cy="1740240"/>
            </a:xfrm>
            <a:prstGeom prst="irregularSeal2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58"/>
            <p:cNvSpPr/>
            <p:nvPr/>
          </p:nvSpPr>
          <p:spPr>
            <a:xfrm>
              <a:off x="3256200" y="5225760"/>
              <a:ext cx="1278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.09M. Kg An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59"/>
          <p:cNvGrpSpPr/>
          <p:nvPr/>
        </p:nvGrpSpPr>
        <p:grpSpPr>
          <a:xfrm>
            <a:off x="998640" y="4485240"/>
            <a:ext cx="2549520" cy="2418120"/>
            <a:chOff x="998640" y="4485240"/>
            <a:chExt cx="2549520" cy="2418120"/>
          </a:xfrm>
        </p:grpSpPr>
        <p:sp>
          <p:nvSpPr>
            <p:cNvPr id="287" name="AutoShape 60"/>
            <p:cNvSpPr/>
            <p:nvPr/>
          </p:nvSpPr>
          <p:spPr>
            <a:xfrm rot="1479000">
              <a:off x="1270080" y="4824360"/>
              <a:ext cx="2006640" cy="1739880"/>
            </a:xfrm>
            <a:prstGeom prst="irregularSeal2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61"/>
            <p:cNvSpPr/>
            <p:nvPr/>
          </p:nvSpPr>
          <p:spPr>
            <a:xfrm>
              <a:off x="1643400" y="5240160"/>
              <a:ext cx="1278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.88M. Kg An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62"/>
          <p:cNvGrpSpPr/>
          <p:nvPr/>
        </p:nvGrpSpPr>
        <p:grpSpPr>
          <a:xfrm>
            <a:off x="-523800" y="3542400"/>
            <a:ext cx="2549520" cy="2418120"/>
            <a:chOff x="-523800" y="3542400"/>
            <a:chExt cx="2549520" cy="2418120"/>
          </a:xfrm>
        </p:grpSpPr>
        <p:sp>
          <p:nvSpPr>
            <p:cNvPr id="290" name="AutoShape 63"/>
            <p:cNvSpPr/>
            <p:nvPr/>
          </p:nvSpPr>
          <p:spPr>
            <a:xfrm rot="1479000">
              <a:off x="-252000" y="3881520"/>
              <a:ext cx="2006640" cy="1739880"/>
            </a:xfrm>
            <a:prstGeom prst="irregularSeal2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64"/>
            <p:cNvSpPr/>
            <p:nvPr/>
          </p:nvSpPr>
          <p:spPr>
            <a:xfrm>
              <a:off x="120960" y="4297320"/>
              <a:ext cx="1278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266M. Kg An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65"/>
          <p:cNvGrpSpPr/>
          <p:nvPr/>
        </p:nvGrpSpPr>
        <p:grpSpPr>
          <a:xfrm>
            <a:off x="-392040" y="1222920"/>
            <a:ext cx="2549520" cy="2418120"/>
            <a:chOff x="-392040" y="1222920"/>
            <a:chExt cx="2549520" cy="2418120"/>
          </a:xfrm>
        </p:grpSpPr>
        <p:sp>
          <p:nvSpPr>
            <p:cNvPr id="293" name="AutoShape 66"/>
            <p:cNvSpPr/>
            <p:nvPr/>
          </p:nvSpPr>
          <p:spPr>
            <a:xfrm rot="1479000">
              <a:off x="-120240" y="1562040"/>
              <a:ext cx="2006640" cy="1739880"/>
            </a:xfrm>
            <a:prstGeom prst="irregularSeal2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67"/>
            <p:cNvSpPr/>
            <p:nvPr/>
          </p:nvSpPr>
          <p:spPr>
            <a:xfrm>
              <a:off x="252720" y="1977840"/>
              <a:ext cx="1278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.09 Kg An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68"/>
          <p:cNvGrpSpPr/>
          <p:nvPr/>
        </p:nvGrpSpPr>
        <p:grpSpPr>
          <a:xfrm>
            <a:off x="344520" y="-754920"/>
            <a:ext cx="2549520" cy="2418120"/>
            <a:chOff x="344520" y="-754920"/>
            <a:chExt cx="2549520" cy="2418120"/>
          </a:xfrm>
        </p:grpSpPr>
        <p:sp>
          <p:nvSpPr>
            <p:cNvPr id="296" name="AutoShape 69"/>
            <p:cNvSpPr/>
            <p:nvPr/>
          </p:nvSpPr>
          <p:spPr>
            <a:xfrm rot="1479000">
              <a:off x="615960" y="-415440"/>
              <a:ext cx="2006640" cy="1739880"/>
            </a:xfrm>
            <a:prstGeom prst="irregularSeal2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70"/>
            <p:cNvSpPr/>
            <p:nvPr/>
          </p:nvSpPr>
          <p:spPr>
            <a:xfrm>
              <a:off x="989280" y="0"/>
              <a:ext cx="1278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???? Kg An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Group 71"/>
          <p:cNvGrpSpPr/>
          <p:nvPr/>
        </p:nvGrpSpPr>
        <p:grpSpPr>
          <a:xfrm>
            <a:off x="-271440" y="160920"/>
            <a:ext cx="2549520" cy="2418120"/>
            <a:chOff x="-271440" y="160920"/>
            <a:chExt cx="2549520" cy="2418120"/>
          </a:xfrm>
        </p:grpSpPr>
        <p:sp>
          <p:nvSpPr>
            <p:cNvPr id="299" name="AutoShape 72"/>
            <p:cNvSpPr/>
            <p:nvPr/>
          </p:nvSpPr>
          <p:spPr>
            <a:xfrm rot="1479000">
              <a:off x="0" y="500040"/>
              <a:ext cx="2006640" cy="1739880"/>
            </a:xfrm>
            <a:prstGeom prst="irregularSeal2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73"/>
            <p:cNvSpPr/>
            <p:nvPr/>
          </p:nvSpPr>
          <p:spPr>
            <a:xfrm>
              <a:off x="373320" y="915840"/>
              <a:ext cx="1278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.88M. Kg An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Group 74"/>
          <p:cNvGrpSpPr/>
          <p:nvPr/>
        </p:nvGrpSpPr>
        <p:grpSpPr>
          <a:xfrm>
            <a:off x="1609200" y="-35280"/>
            <a:ext cx="6005880" cy="5868720"/>
            <a:chOff x="1609200" y="-35280"/>
            <a:chExt cx="6005880" cy="5868720"/>
          </a:xfrm>
        </p:grpSpPr>
        <p:sp>
          <p:nvSpPr>
            <p:cNvPr id="302" name="AutoShape 75"/>
            <p:cNvSpPr/>
            <p:nvPr/>
          </p:nvSpPr>
          <p:spPr>
            <a:xfrm rot="1479000">
              <a:off x="2303280" y="729720"/>
              <a:ext cx="4617360" cy="4338360"/>
            </a:xfrm>
            <a:prstGeom prst="irregularSeal2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76"/>
            <p:cNvSpPr/>
            <p:nvPr/>
          </p:nvSpPr>
          <p:spPr>
            <a:xfrm>
              <a:off x="3162960" y="1766520"/>
              <a:ext cx="29422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Over 32.8 Mil Kg Fuel Savings Annually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Text Box 77"/>
          <p:cNvSpPr/>
          <p:nvPr/>
        </p:nvSpPr>
        <p:spPr>
          <a:xfrm>
            <a:off x="3292560" y="174600"/>
            <a:ext cx="200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UPRs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78"/>
          <p:cNvSpPr/>
          <p:nvPr/>
        </p:nvSpPr>
        <p:spPr>
          <a:xfrm>
            <a:off x="7369200" y="1198440"/>
            <a:ext cx="1450800" cy="704880"/>
          </a:xfrm>
          <a:prstGeom prst="wedgeRoundRectCallout">
            <a:avLst>
              <a:gd name="adj1" fmla="val -226587"/>
              <a:gd name="adj2" fmla="val -81305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k 1 UP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79"/>
          <p:cNvGrpSpPr/>
          <p:nvPr/>
        </p:nvGrpSpPr>
        <p:grpSpPr>
          <a:xfrm>
            <a:off x="6865920" y="410040"/>
            <a:ext cx="2549520" cy="2418120"/>
            <a:chOff x="6865920" y="410040"/>
            <a:chExt cx="2549520" cy="2418120"/>
          </a:xfrm>
        </p:grpSpPr>
        <p:sp>
          <p:nvSpPr>
            <p:cNvPr id="307" name="AutoShape 80"/>
            <p:cNvSpPr/>
            <p:nvPr/>
          </p:nvSpPr>
          <p:spPr>
            <a:xfrm rot="1479000">
              <a:off x="7137360" y="749160"/>
              <a:ext cx="2006640" cy="1739880"/>
            </a:xfrm>
            <a:prstGeom prst="irregularSeal2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81"/>
            <p:cNvSpPr/>
            <p:nvPr/>
          </p:nvSpPr>
          <p:spPr>
            <a:xfrm>
              <a:off x="7510680" y="1164960"/>
              <a:ext cx="1278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0M. Kg An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Slide Number Placeholder 2"/>
          <p:cNvSpPr/>
          <p:nvPr/>
        </p:nvSpPr>
        <p:spPr>
          <a:xfrm>
            <a:off x="8359920" y="6297480"/>
            <a:ext cx="6220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A8B69-691A-4F20-A634-435CEA7913BA}" type="slidenum">
              <a:rPr b="1" lang="en-US" sz="16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Cloud 5"/>
          <p:cNvSpPr/>
          <p:nvPr/>
        </p:nvSpPr>
        <p:spPr>
          <a:xfrm>
            <a:off x="2886120" y="846000"/>
            <a:ext cx="363600" cy="39060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Cloud 10"/>
          <p:cNvSpPr/>
          <p:nvPr/>
        </p:nvSpPr>
        <p:spPr>
          <a:xfrm>
            <a:off x="3676680" y="257040"/>
            <a:ext cx="361800" cy="39240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Cloud 11"/>
          <p:cNvSpPr/>
          <p:nvPr/>
        </p:nvSpPr>
        <p:spPr>
          <a:xfrm>
            <a:off x="3219480" y="453960"/>
            <a:ext cx="361800" cy="3920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Cloud 12"/>
          <p:cNvSpPr/>
          <p:nvPr/>
        </p:nvSpPr>
        <p:spPr>
          <a:xfrm>
            <a:off x="4164120" y="243000"/>
            <a:ext cx="363600" cy="3920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Cloud 13"/>
          <p:cNvSpPr/>
          <p:nvPr/>
        </p:nvSpPr>
        <p:spPr>
          <a:xfrm>
            <a:off x="4648320" y="352440"/>
            <a:ext cx="363240" cy="3920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Cloud 14"/>
          <p:cNvSpPr/>
          <p:nvPr/>
        </p:nvSpPr>
        <p:spPr>
          <a:xfrm>
            <a:off x="5011560" y="547560"/>
            <a:ext cx="362160" cy="39240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Cloud 15"/>
          <p:cNvSpPr/>
          <p:nvPr/>
        </p:nvSpPr>
        <p:spPr>
          <a:xfrm>
            <a:off x="5373720" y="939960"/>
            <a:ext cx="363600" cy="3920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Cloud 16"/>
          <p:cNvSpPr/>
          <p:nvPr/>
        </p:nvSpPr>
        <p:spPr>
          <a:xfrm>
            <a:off x="5373720" y="1521000"/>
            <a:ext cx="363600" cy="3920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Cloud 17"/>
          <p:cNvSpPr/>
          <p:nvPr/>
        </p:nvSpPr>
        <p:spPr>
          <a:xfrm>
            <a:off x="5153040" y="1941480"/>
            <a:ext cx="363600" cy="3920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Cloud 18"/>
          <p:cNvSpPr/>
          <p:nvPr/>
        </p:nvSpPr>
        <p:spPr>
          <a:xfrm>
            <a:off x="4654440" y="2303640"/>
            <a:ext cx="362160" cy="3920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Cloud 19"/>
          <p:cNvSpPr/>
          <p:nvPr/>
        </p:nvSpPr>
        <p:spPr>
          <a:xfrm>
            <a:off x="4164120" y="2898720"/>
            <a:ext cx="363600" cy="3920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Cloud 20"/>
          <p:cNvSpPr/>
          <p:nvPr/>
        </p:nvSpPr>
        <p:spPr>
          <a:xfrm>
            <a:off x="4164120" y="2500200"/>
            <a:ext cx="363600" cy="39240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Cloud 21"/>
          <p:cNvSpPr/>
          <p:nvPr/>
        </p:nvSpPr>
        <p:spPr>
          <a:xfrm>
            <a:off x="4191120" y="3363840"/>
            <a:ext cx="363240" cy="3920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Cloud 22"/>
          <p:cNvSpPr/>
          <p:nvPr/>
        </p:nvSpPr>
        <p:spPr>
          <a:xfrm>
            <a:off x="4208400" y="3821040"/>
            <a:ext cx="363600" cy="3920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Cloud 23"/>
          <p:cNvSpPr/>
          <p:nvPr/>
        </p:nvSpPr>
        <p:spPr>
          <a:xfrm>
            <a:off x="4224240" y="4656240"/>
            <a:ext cx="363600" cy="39060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2" descr="C:\Users\dennis Addison\AppData\Local\Microsoft\Windows\Temporary Internet Files\Content.IE5\2FDQZKUM\MC900320932[1].wmf"/>
          <p:cNvPicPr/>
          <p:nvPr/>
        </p:nvPicPr>
        <p:blipFill>
          <a:blip r:embed="rId1"/>
          <a:stretch/>
        </p:blipFill>
        <p:spPr>
          <a:xfrm flipH="1">
            <a:off x="-2514960" y="495360"/>
            <a:ext cx="1484280" cy="5461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" descr="C:\Users\dennis Addison\AppData\Local\Microsoft\Windows\Temporary Internet Files\Content.IE5\2FDQZKUM\MC900320932[1].wmf"/>
          <p:cNvPicPr/>
          <p:nvPr/>
        </p:nvPicPr>
        <p:blipFill>
          <a:blip r:embed="rId2"/>
          <a:stretch/>
        </p:blipFill>
        <p:spPr>
          <a:xfrm flipH="1" rot="4621800">
            <a:off x="2325960" y="-2853360"/>
            <a:ext cx="1484640" cy="54576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" descr="C:\Users\dennis Addison\AppData\Local\Microsoft\Windows\Temporary Internet Files\Content.IE5\2FDQZKUM\MC900320932[1].wmf"/>
          <p:cNvPicPr/>
          <p:nvPr/>
        </p:nvPicPr>
        <p:blipFill>
          <a:blip r:embed="rId3"/>
          <a:stretch/>
        </p:blipFill>
        <p:spPr>
          <a:xfrm rot="18010200">
            <a:off x="7679160" y="-2562480"/>
            <a:ext cx="1325520" cy="5461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C:\Users\dennis Addison\AppData\Local\Microsoft\Windows\Temporary Internet Files\Content.IE5\2FDQZKUM\MC900320932[1].wmf"/>
          <p:cNvPicPr/>
          <p:nvPr/>
        </p:nvPicPr>
        <p:blipFill>
          <a:blip r:embed="rId4"/>
          <a:stretch/>
        </p:blipFill>
        <p:spPr>
          <a:xfrm flipH="1">
            <a:off x="-5889960" y="5046840"/>
            <a:ext cx="427356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44 0.00278 L 0.52708 0.04301 L 0.5684 -0.01618 L 0.61597 -0.04786 L 0.67309 -0.05017 L 0.72708 -0.0289 L 0.76042 -0.00139 L 0.80486 0.05989 L 1.32552 0.38335 E">
                                      <p:cBhvr>
                                        <p:cTn id="318" dur="50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 repeatCount="1000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 repeatCount="100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 repeatCount="100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 repeatCount="100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 repeatCount="1000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 repeatCount="1000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4" nodeType="after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968 0.09295 L -0.30573 0.58752 L -0.32968 0.6511 L -0.38698 0.70382 L -0.44409 0.73341 L -1.09462 0.93018 E">
                                      <p:cBhvr>
                                        <p:cTn id="335" dur="5000" fill="hold"/>
                                        <p:tgtEl>
                                          <p:spTgt spid="3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 repeatCount="100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 repeatCount="100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 repeatCount="1000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5" nodeType="after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26 0.11191 L 0.1408 0.7674 L 0.14236 0.82867 L 0.14392 0.8985 L 0.14705 0.96393 L 0.14705 1.08648 L 0.14705 1.48809 E">
                                      <p:cBhvr>
                                        <p:cTn id="346" dur="5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 repeatCount="1000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 repeatCount="1000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 repeatCount="1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 repeatCount="100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25 0.25232 L 0.71667 -0.01435 E">
                                      <p:cBhvr>
                                        <p:cTn id="357" dur="2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8T20:32:53Z</dcterms:created>
  <dc:creator>Dennis Addison</dc:creator>
  <dc:description/>
  <dc:language>en-US</dc:language>
  <cp:lastModifiedBy>Addison, Dennis (FAA)</cp:lastModifiedBy>
  <dcterms:modified xsi:type="dcterms:W3CDTF">2014-09-05T22:29:52Z</dcterms:modified>
  <cp:revision>402</cp:revision>
  <dc:subject/>
  <dc:title>Oakland ARTCC</dc:title>
</cp:coreProperties>
</file>