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9FF2A9-5165-4BAD-80F5-6316E5DD5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58C8FE-DBE9-4537-B0AB-AD4CCDB26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6360" y="4338720"/>
            <a:ext cx="63993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946B1C-B938-4F9C-827C-710DAF124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6360" y="4338720"/>
            <a:ext cx="63993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E2400F-CF69-440B-8165-627DEC7DD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06360" y="4338720"/>
            <a:ext cx="63993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DF7248-7890-428B-B4B8-63C80520A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600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BD56DC-034D-4175-86EB-F549F5FB5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600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368-7FCB-4283-952F-D68F9B2C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345120"/>
            <a:ext cx="662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731-0040-40BA-8191-F82C8D6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0152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A08-F289-4CE7-BDE6-8C1A81A5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46280" y="8377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87640" y="8377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3451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46280" y="33451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87640" y="33451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C28-EB80-425F-A8F6-BA1B47B4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3926-92CA-4DEB-8BC7-22221ABC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20D0-EF42-445A-8A9B-BDFB8B79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8660-FC0E-4242-A852-864837EF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B2A4-A760-4B89-8AEF-637980C4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FE53-14BA-43DF-84BB-2F9441DD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15840"/>
            <a:ext cx="510552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E81E-77DD-4BEA-B842-4856DF8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4689-4AE0-4B2C-94C7-930A49EA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58E-A26C-4133-B77B-6FC90A5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0152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FD4C-5FFF-4C6A-B9A7-BACBD2F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3345120"/>
            <a:ext cx="662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744F-1F4D-4474-9F6D-E2DD4D5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3345120"/>
            <a:ext cx="662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1649-8BEE-4D1A-902E-7BA72125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0152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C9DA-9401-4446-B623-A6690492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46280" y="8377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87640" y="8377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33451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546280" y="33451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787640" y="3345120"/>
            <a:ext cx="213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A8C-F233-49CC-932D-C28BAD87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4EF-AFA3-48F2-BE0D-B2EE7FE8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920-CA80-47EA-8CA5-D1355CF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F61-E39F-4A7D-8466-B5C59A69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15840"/>
            <a:ext cx="510552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2EB-8E02-4634-961F-98E1E40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2B0-31C0-443A-A2B2-2BB2E21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01520" y="33451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8B3-C195-412A-B20E-954AA34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01520" y="837720"/>
            <a:ext cx="3234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345120"/>
            <a:ext cx="662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81E-9523-4772-82E2-3CF89615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PACG/22      January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29400" y="6534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112E-4A30-49F7-92A1-BB42B993A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221004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370520"/>
            <a:ext cx="457200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0916-A1D7-43CC-B8B8-2B20DDAFE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2210040" cy="401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400400"/>
            <a:ext cx="8381880" cy="82548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FORMAL PACIFIC ATC CO-ORDINATING GROUP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S ANGELES, JANUARY 200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GLOBALink/H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tatus Upd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354720"/>
            <a:ext cx="312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Questions/Comm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/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ADD-790F-4295-A2C6-B303C552BC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15840"/>
            <a:ext cx="441972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age &amp;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C Relate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550-C32F-4814-A2D2-7DB1E599C7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FDL Ground St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63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 Francisco, CA, 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okai, HI, 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ykjavik, Ic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verhead, NY, 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ckland, 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t Yai, 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nnon,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annesburg, 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row, AK, 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Cruz, Boli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asnoyarsk,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Muharraq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na, Gu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 Canaria, Canary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795240"/>
            <a:ext cx="3467160" cy="530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3987720" y="925560"/>
            <a:ext cx="180972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hr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7E1-49E2-40AA-ABEE-F4AF986CE2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165240"/>
            <a:ext cx="87631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LOBALink/HF Global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More Than 145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>
            <a:lum contrast="12000"/>
          </a:blip>
          <a:srcRect l="0" t="20240" r="15650" b="0"/>
          <a:stretch/>
        </p:blipFill>
        <p:spPr>
          <a:xfrm>
            <a:off x="76320" y="1068480"/>
            <a:ext cx="7696080" cy="55911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7740720" y="5145120"/>
            <a:ext cx="1200240" cy="1417680"/>
            <a:chOff x="7740720" y="5145120"/>
            <a:chExt cx="1200240" cy="1417680"/>
          </a:xfrm>
        </p:grpSpPr>
        <p:sp>
          <p:nvSpPr>
            <p:cNvPr id="104" name=""/>
            <p:cNvSpPr/>
            <p:nvPr/>
          </p:nvSpPr>
          <p:spPr>
            <a:xfrm>
              <a:off x="7740720" y="5791320"/>
              <a:ext cx="1200240" cy="345960"/>
            </a:xfrm>
            <a:prstGeom prst="rect">
              <a:avLst/>
            </a:prstGeom>
            <a:solidFill>
              <a:srgbClr val="00ff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eas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Primary co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40720" y="6216480"/>
              <a:ext cx="1200240" cy="3463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Areas of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Secondary cove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48800" y="514512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99"/>
                  </a:solidFill>
                  <a:uFillTx/>
                  <a:latin typeface="Arial"/>
                </a:rPr>
                <a:t>Leg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48720" y="5483160"/>
              <a:ext cx="55440" cy="55800"/>
            </a:xfrm>
            <a:prstGeom prst="flowChartConnector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62760" y="5388120"/>
              <a:ext cx="97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HFDL grou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Arial"/>
                </a:rPr>
                <a:t>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639200" y="1106640"/>
            <a:ext cx="1377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99"/>
                </a:solidFill>
                <a:uFillTx/>
                <a:latin typeface="Arial"/>
              </a:rPr>
              <a:t>HF Ground 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Alas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Bah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alifor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anary Isl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Gu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Hawa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c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r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New Zea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South Af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Thai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1840" y="1295280"/>
            <a:ext cx="6629400" cy="4678560"/>
          </a:xfrm>
          <a:prstGeom prst="rect">
            <a:avLst/>
          </a:prstGeom>
          <a:solidFill>
            <a:srgbClr val="99cc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3000" y="1271520"/>
            <a:ext cx="6624720" cy="4297320"/>
          </a:xfrm>
          <a:custGeom>
            <a:avLst/>
            <a:gdLst/>
            <a:ahLst/>
            <a:rect l="l" t="t" r="r" b="b"/>
            <a:pathLst>
              <a:path w="4173" h="2707">
                <a:moveTo>
                  <a:pt x="0" y="0"/>
                </a:moveTo>
                <a:lnTo>
                  <a:pt x="4173" y="0"/>
                </a:lnTo>
                <a:lnTo>
                  <a:pt x="4163" y="2707"/>
                </a:lnTo>
                <a:lnTo>
                  <a:pt x="4121" y="2692"/>
                </a:lnTo>
                <a:lnTo>
                  <a:pt x="4089" y="2697"/>
                </a:lnTo>
                <a:lnTo>
                  <a:pt x="4032" y="2702"/>
                </a:lnTo>
                <a:lnTo>
                  <a:pt x="3990" y="2686"/>
                </a:lnTo>
                <a:lnTo>
                  <a:pt x="3959" y="2660"/>
                </a:lnTo>
                <a:lnTo>
                  <a:pt x="3896" y="2660"/>
                </a:lnTo>
                <a:lnTo>
                  <a:pt x="3822" y="2650"/>
                </a:lnTo>
                <a:lnTo>
                  <a:pt x="3775" y="2613"/>
                </a:lnTo>
                <a:lnTo>
                  <a:pt x="3733" y="2582"/>
                </a:lnTo>
                <a:lnTo>
                  <a:pt x="3650" y="2540"/>
                </a:lnTo>
                <a:lnTo>
                  <a:pt x="3576" y="2508"/>
                </a:lnTo>
                <a:lnTo>
                  <a:pt x="3492" y="2493"/>
                </a:lnTo>
                <a:lnTo>
                  <a:pt x="3393" y="2493"/>
                </a:lnTo>
                <a:lnTo>
                  <a:pt x="3293" y="2487"/>
                </a:lnTo>
                <a:lnTo>
                  <a:pt x="3206" y="2471"/>
                </a:lnTo>
                <a:lnTo>
                  <a:pt x="3122" y="2459"/>
                </a:lnTo>
                <a:lnTo>
                  <a:pt x="3047" y="2425"/>
                </a:lnTo>
                <a:lnTo>
                  <a:pt x="3011" y="2404"/>
                </a:lnTo>
                <a:lnTo>
                  <a:pt x="3000" y="2341"/>
                </a:lnTo>
                <a:lnTo>
                  <a:pt x="2969" y="2315"/>
                </a:lnTo>
                <a:lnTo>
                  <a:pt x="2938" y="2303"/>
                </a:lnTo>
                <a:lnTo>
                  <a:pt x="2930" y="2279"/>
                </a:lnTo>
                <a:cubicBezTo>
                  <a:pt x="2920" y="2272"/>
                  <a:pt x="2913" y="2261"/>
                  <a:pt x="2901" y="2257"/>
                </a:cubicBezTo>
                <a:cubicBezTo>
                  <a:pt x="2891" y="2254"/>
                  <a:pt x="2890" y="2279"/>
                  <a:pt x="2878" y="2295"/>
                </a:cubicBezTo>
                <a:lnTo>
                  <a:pt x="2827" y="2351"/>
                </a:lnTo>
                <a:lnTo>
                  <a:pt x="2786" y="2425"/>
                </a:lnTo>
                <a:lnTo>
                  <a:pt x="2738" y="2515"/>
                </a:lnTo>
                <a:lnTo>
                  <a:pt x="2660" y="2613"/>
                </a:lnTo>
                <a:lnTo>
                  <a:pt x="2545" y="2671"/>
                </a:lnTo>
                <a:lnTo>
                  <a:pt x="2388" y="2676"/>
                </a:lnTo>
                <a:lnTo>
                  <a:pt x="2183" y="2686"/>
                </a:lnTo>
                <a:lnTo>
                  <a:pt x="2037" y="2655"/>
                </a:lnTo>
                <a:lnTo>
                  <a:pt x="1898" y="2611"/>
                </a:lnTo>
                <a:lnTo>
                  <a:pt x="1859" y="2561"/>
                </a:lnTo>
                <a:lnTo>
                  <a:pt x="1859" y="2309"/>
                </a:lnTo>
                <a:lnTo>
                  <a:pt x="1864" y="2058"/>
                </a:lnTo>
                <a:lnTo>
                  <a:pt x="1870" y="1891"/>
                </a:lnTo>
                <a:lnTo>
                  <a:pt x="1885" y="1817"/>
                </a:lnTo>
                <a:lnTo>
                  <a:pt x="1934" y="1743"/>
                </a:lnTo>
                <a:lnTo>
                  <a:pt x="1990" y="1676"/>
                </a:lnTo>
                <a:lnTo>
                  <a:pt x="1901" y="1686"/>
                </a:lnTo>
                <a:lnTo>
                  <a:pt x="1806" y="1707"/>
                </a:lnTo>
                <a:lnTo>
                  <a:pt x="1722" y="1707"/>
                </a:lnTo>
                <a:lnTo>
                  <a:pt x="1738" y="1849"/>
                </a:lnTo>
                <a:lnTo>
                  <a:pt x="1733" y="2042"/>
                </a:lnTo>
                <a:lnTo>
                  <a:pt x="1734" y="2191"/>
                </a:lnTo>
                <a:lnTo>
                  <a:pt x="1694" y="2279"/>
                </a:lnTo>
                <a:lnTo>
                  <a:pt x="1626" y="2343"/>
                </a:lnTo>
                <a:lnTo>
                  <a:pt x="1586" y="2375"/>
                </a:lnTo>
                <a:lnTo>
                  <a:pt x="1466" y="2411"/>
                </a:lnTo>
                <a:lnTo>
                  <a:pt x="1325" y="2440"/>
                </a:lnTo>
                <a:lnTo>
                  <a:pt x="1099" y="2461"/>
                </a:lnTo>
                <a:lnTo>
                  <a:pt x="916" y="2466"/>
                </a:lnTo>
                <a:lnTo>
                  <a:pt x="780" y="2435"/>
                </a:lnTo>
                <a:lnTo>
                  <a:pt x="717" y="2493"/>
                </a:lnTo>
                <a:lnTo>
                  <a:pt x="646" y="2551"/>
                </a:lnTo>
                <a:lnTo>
                  <a:pt x="571" y="2571"/>
                </a:lnTo>
                <a:lnTo>
                  <a:pt x="514" y="2623"/>
                </a:lnTo>
                <a:lnTo>
                  <a:pt x="442" y="2643"/>
                </a:lnTo>
                <a:lnTo>
                  <a:pt x="298" y="2676"/>
                </a:lnTo>
                <a:lnTo>
                  <a:pt x="173" y="2702"/>
                </a:lnTo>
                <a:lnTo>
                  <a:pt x="0" y="2697"/>
                </a:lnTo>
                <a:lnTo>
                  <a:pt x="0" y="0"/>
                </a:ln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6920" y="4325760"/>
            <a:ext cx="55440" cy="5580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59200" y="4048200"/>
            <a:ext cx="5544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5400" y="3227400"/>
            <a:ext cx="5544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9720" y="4554360"/>
            <a:ext cx="55800" cy="5580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78520" y="3316320"/>
            <a:ext cx="5544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98640" y="2544840"/>
            <a:ext cx="5580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6440" y="1755720"/>
            <a:ext cx="5580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3720" y="2970360"/>
            <a:ext cx="5580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7000" y="1925640"/>
            <a:ext cx="5544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7720" y="2220840"/>
            <a:ext cx="55800" cy="5580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60640" y="2752560"/>
            <a:ext cx="55800" cy="5580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3520" y="2119320"/>
            <a:ext cx="5580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1880" y="2619360"/>
            <a:ext cx="5544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0" y="3076560"/>
            <a:ext cx="55440" cy="554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48D-00A4-4E44-B49D-0263497D0F9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739152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tive Frequency Table &amp; HFDL System Tab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08200" y="1969920"/>
            <a:ext cx="822600" cy="1697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5800" y="3564000"/>
            <a:ext cx="1490760" cy="114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946760" y="895320"/>
          <a:ext cx="1590480" cy="92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46760" y="895320"/>
                    <a:ext cx="15904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3416400" y="4592520"/>
            <a:ext cx="1388880" cy="1335240"/>
            <a:chOff x="3416400" y="4592520"/>
            <a:chExt cx="1388880" cy="1335240"/>
          </a:xfrm>
        </p:grpSpPr>
        <p:grpSp>
          <p:nvGrpSpPr>
            <p:cNvPr id="132" name=""/>
            <p:cNvGrpSpPr/>
            <p:nvPr/>
          </p:nvGrpSpPr>
          <p:grpSpPr>
            <a:xfrm>
              <a:off x="3416400" y="4592520"/>
              <a:ext cx="1388880" cy="1335240"/>
              <a:chOff x="3416400" y="4592520"/>
              <a:chExt cx="1388880" cy="133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3416400" y="4592520"/>
                <a:ext cx="1388880" cy="1335240"/>
              </a:xfrm>
              <a:custGeom>
                <a:avLst/>
                <a:gdLst/>
                <a:ahLst/>
                <a:rect l="l" t="t" r="r" b="b"/>
                <a:pathLst>
                  <a:path w="2632" h="1641">
                    <a:moveTo>
                      <a:pt x="2079" y="300"/>
                    </a:moveTo>
                    <a:lnTo>
                      <a:pt x="2067" y="276"/>
                    </a:lnTo>
                    <a:lnTo>
                      <a:pt x="2055" y="258"/>
                    </a:lnTo>
                    <a:lnTo>
                      <a:pt x="2043" y="240"/>
                    </a:lnTo>
                    <a:lnTo>
                      <a:pt x="2025" y="222"/>
                    </a:lnTo>
                    <a:lnTo>
                      <a:pt x="2013" y="204"/>
                    </a:lnTo>
                    <a:lnTo>
                      <a:pt x="1995" y="186"/>
                    </a:lnTo>
                    <a:lnTo>
                      <a:pt x="1977" y="168"/>
                    </a:lnTo>
                    <a:lnTo>
                      <a:pt x="1959" y="150"/>
                    </a:lnTo>
                    <a:lnTo>
                      <a:pt x="1941" y="138"/>
                    </a:lnTo>
                    <a:lnTo>
                      <a:pt x="1923" y="120"/>
                    </a:lnTo>
                    <a:lnTo>
                      <a:pt x="1905" y="108"/>
                    </a:lnTo>
                    <a:lnTo>
                      <a:pt x="1881" y="96"/>
                    </a:lnTo>
                    <a:lnTo>
                      <a:pt x="1857" y="84"/>
                    </a:lnTo>
                    <a:lnTo>
                      <a:pt x="1839" y="72"/>
                    </a:lnTo>
                    <a:lnTo>
                      <a:pt x="1815" y="60"/>
                    </a:lnTo>
                    <a:lnTo>
                      <a:pt x="1791" y="48"/>
                    </a:lnTo>
                    <a:lnTo>
                      <a:pt x="1767" y="42"/>
                    </a:lnTo>
                    <a:lnTo>
                      <a:pt x="1737" y="30"/>
                    </a:lnTo>
                    <a:lnTo>
                      <a:pt x="1713" y="24"/>
                    </a:lnTo>
                    <a:lnTo>
                      <a:pt x="1688" y="18"/>
                    </a:lnTo>
                    <a:lnTo>
                      <a:pt x="1664" y="12"/>
                    </a:lnTo>
                    <a:lnTo>
                      <a:pt x="1634" y="6"/>
                    </a:lnTo>
                    <a:lnTo>
                      <a:pt x="1610" y="6"/>
                    </a:lnTo>
                    <a:lnTo>
                      <a:pt x="1580" y="0"/>
                    </a:lnTo>
                    <a:lnTo>
                      <a:pt x="1556" y="0"/>
                    </a:lnTo>
                    <a:lnTo>
                      <a:pt x="1526" y="0"/>
                    </a:lnTo>
                    <a:lnTo>
                      <a:pt x="1502" y="0"/>
                    </a:lnTo>
                    <a:lnTo>
                      <a:pt x="1472" y="0"/>
                    </a:lnTo>
                    <a:lnTo>
                      <a:pt x="1448" y="6"/>
                    </a:lnTo>
                    <a:lnTo>
                      <a:pt x="1424" y="6"/>
                    </a:lnTo>
                    <a:lnTo>
                      <a:pt x="1394" y="12"/>
                    </a:lnTo>
                    <a:lnTo>
                      <a:pt x="1370" y="18"/>
                    </a:lnTo>
                    <a:lnTo>
                      <a:pt x="1340" y="24"/>
                    </a:lnTo>
                    <a:lnTo>
                      <a:pt x="1316" y="30"/>
                    </a:lnTo>
                    <a:lnTo>
                      <a:pt x="1292" y="36"/>
                    </a:lnTo>
                    <a:lnTo>
                      <a:pt x="1268" y="48"/>
                    </a:lnTo>
                    <a:lnTo>
                      <a:pt x="1244" y="54"/>
                    </a:lnTo>
                    <a:lnTo>
                      <a:pt x="1220" y="66"/>
                    </a:lnTo>
                    <a:lnTo>
                      <a:pt x="1196" y="78"/>
                    </a:lnTo>
                    <a:lnTo>
                      <a:pt x="1178" y="90"/>
                    </a:lnTo>
                    <a:lnTo>
                      <a:pt x="1154" y="102"/>
                    </a:lnTo>
                    <a:lnTo>
                      <a:pt x="1136" y="120"/>
                    </a:lnTo>
                    <a:lnTo>
                      <a:pt x="1112" y="132"/>
                    </a:lnTo>
                    <a:lnTo>
                      <a:pt x="1094" y="150"/>
                    </a:lnTo>
                    <a:lnTo>
                      <a:pt x="1076" y="162"/>
                    </a:lnTo>
                    <a:lnTo>
                      <a:pt x="1058" y="180"/>
                    </a:lnTo>
                    <a:lnTo>
                      <a:pt x="1040" y="198"/>
                    </a:lnTo>
                    <a:lnTo>
                      <a:pt x="1028" y="216"/>
                    </a:lnTo>
                    <a:lnTo>
                      <a:pt x="1016" y="234"/>
                    </a:lnTo>
                    <a:lnTo>
                      <a:pt x="998" y="252"/>
                    </a:lnTo>
                    <a:lnTo>
                      <a:pt x="986" y="270"/>
                    </a:lnTo>
                    <a:lnTo>
                      <a:pt x="980" y="270"/>
                    </a:lnTo>
                    <a:lnTo>
                      <a:pt x="961" y="264"/>
                    </a:lnTo>
                    <a:lnTo>
                      <a:pt x="943" y="258"/>
                    </a:lnTo>
                    <a:lnTo>
                      <a:pt x="925" y="258"/>
                    </a:lnTo>
                    <a:lnTo>
                      <a:pt x="907" y="252"/>
                    </a:lnTo>
                    <a:lnTo>
                      <a:pt x="895" y="252"/>
                    </a:lnTo>
                    <a:lnTo>
                      <a:pt x="877" y="252"/>
                    </a:lnTo>
                    <a:lnTo>
                      <a:pt x="859" y="252"/>
                    </a:lnTo>
                    <a:lnTo>
                      <a:pt x="841" y="252"/>
                    </a:lnTo>
                    <a:lnTo>
                      <a:pt x="823" y="252"/>
                    </a:lnTo>
                    <a:lnTo>
                      <a:pt x="805" y="258"/>
                    </a:lnTo>
                    <a:lnTo>
                      <a:pt x="787" y="258"/>
                    </a:lnTo>
                    <a:lnTo>
                      <a:pt x="769" y="264"/>
                    </a:lnTo>
                    <a:lnTo>
                      <a:pt x="757" y="270"/>
                    </a:lnTo>
                    <a:lnTo>
                      <a:pt x="739" y="276"/>
                    </a:lnTo>
                    <a:lnTo>
                      <a:pt x="727" y="282"/>
                    </a:lnTo>
                    <a:lnTo>
                      <a:pt x="709" y="294"/>
                    </a:lnTo>
                    <a:lnTo>
                      <a:pt x="697" y="300"/>
                    </a:lnTo>
                    <a:lnTo>
                      <a:pt x="685" y="312"/>
                    </a:lnTo>
                    <a:lnTo>
                      <a:pt x="673" y="324"/>
                    </a:lnTo>
                    <a:lnTo>
                      <a:pt x="661" y="336"/>
                    </a:lnTo>
                    <a:lnTo>
                      <a:pt x="649" y="348"/>
                    </a:lnTo>
                    <a:lnTo>
                      <a:pt x="643" y="360"/>
                    </a:lnTo>
                    <a:lnTo>
                      <a:pt x="637" y="372"/>
                    </a:lnTo>
                    <a:lnTo>
                      <a:pt x="631" y="384"/>
                    </a:lnTo>
                    <a:lnTo>
                      <a:pt x="625" y="396"/>
                    </a:lnTo>
                    <a:lnTo>
                      <a:pt x="619" y="409"/>
                    </a:lnTo>
                    <a:lnTo>
                      <a:pt x="613" y="427"/>
                    </a:lnTo>
                    <a:lnTo>
                      <a:pt x="613" y="439"/>
                    </a:lnTo>
                    <a:lnTo>
                      <a:pt x="613" y="457"/>
                    </a:lnTo>
                    <a:lnTo>
                      <a:pt x="613" y="469"/>
                    </a:lnTo>
                    <a:lnTo>
                      <a:pt x="613" y="481"/>
                    </a:lnTo>
                    <a:lnTo>
                      <a:pt x="619" y="499"/>
                    </a:lnTo>
                    <a:lnTo>
                      <a:pt x="613" y="499"/>
                    </a:lnTo>
                    <a:lnTo>
                      <a:pt x="589" y="499"/>
                    </a:lnTo>
                    <a:lnTo>
                      <a:pt x="559" y="499"/>
                    </a:lnTo>
                    <a:lnTo>
                      <a:pt x="535" y="499"/>
                    </a:lnTo>
                    <a:lnTo>
                      <a:pt x="511" y="499"/>
                    </a:lnTo>
                    <a:lnTo>
                      <a:pt x="487" y="499"/>
                    </a:lnTo>
                    <a:lnTo>
                      <a:pt x="457" y="505"/>
                    </a:lnTo>
                    <a:lnTo>
                      <a:pt x="433" y="511"/>
                    </a:lnTo>
                    <a:lnTo>
                      <a:pt x="409" y="511"/>
                    </a:lnTo>
                    <a:lnTo>
                      <a:pt x="385" y="517"/>
                    </a:lnTo>
                    <a:lnTo>
                      <a:pt x="361" y="529"/>
                    </a:lnTo>
                    <a:lnTo>
                      <a:pt x="337" y="535"/>
                    </a:lnTo>
                    <a:lnTo>
                      <a:pt x="313" y="541"/>
                    </a:lnTo>
                    <a:lnTo>
                      <a:pt x="289" y="553"/>
                    </a:lnTo>
                    <a:lnTo>
                      <a:pt x="271" y="565"/>
                    </a:lnTo>
                    <a:lnTo>
                      <a:pt x="246" y="577"/>
                    </a:lnTo>
                    <a:lnTo>
                      <a:pt x="222" y="589"/>
                    </a:lnTo>
                    <a:lnTo>
                      <a:pt x="204" y="601"/>
                    </a:lnTo>
                    <a:lnTo>
                      <a:pt x="186" y="613"/>
                    </a:lnTo>
                    <a:lnTo>
                      <a:pt x="168" y="625"/>
                    </a:lnTo>
                    <a:lnTo>
                      <a:pt x="150" y="643"/>
                    </a:lnTo>
                    <a:lnTo>
                      <a:pt x="132" y="655"/>
                    </a:lnTo>
                    <a:lnTo>
                      <a:pt x="114" y="673"/>
                    </a:lnTo>
                    <a:lnTo>
                      <a:pt x="102" y="691"/>
                    </a:lnTo>
                    <a:lnTo>
                      <a:pt x="84" y="709"/>
                    </a:lnTo>
                    <a:lnTo>
                      <a:pt x="72" y="727"/>
                    </a:lnTo>
                    <a:lnTo>
                      <a:pt x="60" y="745"/>
                    </a:lnTo>
                    <a:lnTo>
                      <a:pt x="48" y="763"/>
                    </a:lnTo>
                    <a:lnTo>
                      <a:pt x="42" y="781"/>
                    </a:lnTo>
                    <a:lnTo>
                      <a:pt x="30" y="799"/>
                    </a:lnTo>
                    <a:lnTo>
                      <a:pt x="24" y="823"/>
                    </a:lnTo>
                    <a:lnTo>
                      <a:pt x="18" y="842"/>
                    </a:lnTo>
                    <a:lnTo>
                      <a:pt x="12" y="866"/>
                    </a:lnTo>
                    <a:lnTo>
                      <a:pt x="6" y="884"/>
                    </a:lnTo>
                    <a:lnTo>
                      <a:pt x="0" y="902"/>
                    </a:lnTo>
                    <a:lnTo>
                      <a:pt x="0" y="926"/>
                    </a:lnTo>
                    <a:lnTo>
                      <a:pt x="0" y="944"/>
                    </a:lnTo>
                    <a:lnTo>
                      <a:pt x="0" y="968"/>
                    </a:lnTo>
                    <a:lnTo>
                      <a:pt x="0" y="986"/>
                    </a:lnTo>
                    <a:lnTo>
                      <a:pt x="6" y="1010"/>
                    </a:lnTo>
                    <a:lnTo>
                      <a:pt x="6" y="1028"/>
                    </a:lnTo>
                    <a:lnTo>
                      <a:pt x="12" y="1046"/>
                    </a:lnTo>
                    <a:lnTo>
                      <a:pt x="18" y="1070"/>
                    </a:lnTo>
                    <a:lnTo>
                      <a:pt x="30" y="1088"/>
                    </a:lnTo>
                    <a:lnTo>
                      <a:pt x="36" y="1106"/>
                    </a:lnTo>
                    <a:lnTo>
                      <a:pt x="48" y="1130"/>
                    </a:lnTo>
                    <a:lnTo>
                      <a:pt x="54" y="1148"/>
                    </a:lnTo>
                    <a:lnTo>
                      <a:pt x="66" y="1166"/>
                    </a:lnTo>
                    <a:lnTo>
                      <a:pt x="84" y="1184"/>
                    </a:lnTo>
                    <a:lnTo>
                      <a:pt x="96" y="1202"/>
                    </a:lnTo>
                    <a:lnTo>
                      <a:pt x="108" y="1220"/>
                    </a:lnTo>
                    <a:lnTo>
                      <a:pt x="126" y="1232"/>
                    </a:lnTo>
                    <a:lnTo>
                      <a:pt x="144" y="1250"/>
                    </a:lnTo>
                    <a:lnTo>
                      <a:pt x="162" y="1269"/>
                    </a:lnTo>
                    <a:lnTo>
                      <a:pt x="180" y="1281"/>
                    </a:lnTo>
                    <a:lnTo>
                      <a:pt x="198" y="1293"/>
                    </a:lnTo>
                    <a:lnTo>
                      <a:pt x="216" y="1305"/>
                    </a:lnTo>
                    <a:lnTo>
                      <a:pt x="240" y="1317"/>
                    </a:lnTo>
                    <a:lnTo>
                      <a:pt x="258" y="1329"/>
                    </a:lnTo>
                    <a:lnTo>
                      <a:pt x="283" y="1341"/>
                    </a:lnTo>
                    <a:lnTo>
                      <a:pt x="307" y="1353"/>
                    </a:lnTo>
                    <a:lnTo>
                      <a:pt x="331" y="1359"/>
                    </a:lnTo>
                    <a:lnTo>
                      <a:pt x="355" y="1371"/>
                    </a:lnTo>
                    <a:lnTo>
                      <a:pt x="379" y="1377"/>
                    </a:lnTo>
                    <a:lnTo>
                      <a:pt x="403" y="1383"/>
                    </a:lnTo>
                    <a:lnTo>
                      <a:pt x="427" y="1389"/>
                    </a:lnTo>
                    <a:lnTo>
                      <a:pt x="451" y="1395"/>
                    </a:lnTo>
                    <a:lnTo>
                      <a:pt x="475" y="1395"/>
                    </a:lnTo>
                    <a:lnTo>
                      <a:pt x="505" y="1401"/>
                    </a:lnTo>
                    <a:lnTo>
                      <a:pt x="529" y="1401"/>
                    </a:lnTo>
                    <a:lnTo>
                      <a:pt x="553" y="1401"/>
                    </a:lnTo>
                    <a:lnTo>
                      <a:pt x="577" y="1401"/>
                    </a:lnTo>
                    <a:lnTo>
                      <a:pt x="607" y="1401"/>
                    </a:lnTo>
                    <a:lnTo>
                      <a:pt x="631" y="1395"/>
                    </a:lnTo>
                    <a:lnTo>
                      <a:pt x="655" y="1395"/>
                    </a:lnTo>
                    <a:lnTo>
                      <a:pt x="679" y="1389"/>
                    </a:lnTo>
                    <a:lnTo>
                      <a:pt x="709" y="1383"/>
                    </a:lnTo>
                    <a:lnTo>
                      <a:pt x="733" y="1377"/>
                    </a:lnTo>
                    <a:lnTo>
                      <a:pt x="757" y="1371"/>
                    </a:lnTo>
                    <a:lnTo>
                      <a:pt x="781" y="1365"/>
                    </a:lnTo>
                    <a:lnTo>
                      <a:pt x="805" y="1353"/>
                    </a:lnTo>
                    <a:lnTo>
                      <a:pt x="805" y="1359"/>
                    </a:lnTo>
                    <a:lnTo>
                      <a:pt x="811" y="1377"/>
                    </a:lnTo>
                    <a:lnTo>
                      <a:pt x="817" y="1395"/>
                    </a:lnTo>
                    <a:lnTo>
                      <a:pt x="823" y="1413"/>
                    </a:lnTo>
                    <a:lnTo>
                      <a:pt x="829" y="1425"/>
                    </a:lnTo>
                    <a:lnTo>
                      <a:pt x="835" y="1443"/>
                    </a:lnTo>
                    <a:lnTo>
                      <a:pt x="847" y="1461"/>
                    </a:lnTo>
                    <a:lnTo>
                      <a:pt x="853" y="1479"/>
                    </a:lnTo>
                    <a:lnTo>
                      <a:pt x="865" y="1491"/>
                    </a:lnTo>
                    <a:lnTo>
                      <a:pt x="877" y="1509"/>
                    </a:lnTo>
                    <a:lnTo>
                      <a:pt x="889" y="1521"/>
                    </a:lnTo>
                    <a:lnTo>
                      <a:pt x="907" y="1533"/>
                    </a:lnTo>
                    <a:lnTo>
                      <a:pt x="919" y="1545"/>
                    </a:lnTo>
                    <a:lnTo>
                      <a:pt x="937" y="1557"/>
                    </a:lnTo>
                    <a:lnTo>
                      <a:pt x="955" y="1569"/>
                    </a:lnTo>
                    <a:lnTo>
                      <a:pt x="973" y="1581"/>
                    </a:lnTo>
                    <a:lnTo>
                      <a:pt x="992" y="1593"/>
                    </a:lnTo>
                    <a:lnTo>
                      <a:pt x="1010" y="1599"/>
                    </a:lnTo>
                    <a:lnTo>
                      <a:pt x="1028" y="1611"/>
                    </a:lnTo>
                    <a:lnTo>
                      <a:pt x="1046" y="1617"/>
                    </a:lnTo>
                    <a:lnTo>
                      <a:pt x="1070" y="1623"/>
                    </a:lnTo>
                    <a:lnTo>
                      <a:pt x="1088" y="1629"/>
                    </a:lnTo>
                    <a:lnTo>
                      <a:pt x="1112" y="1635"/>
                    </a:lnTo>
                    <a:lnTo>
                      <a:pt x="1130" y="1635"/>
                    </a:lnTo>
                    <a:lnTo>
                      <a:pt x="1154" y="1641"/>
                    </a:lnTo>
                    <a:lnTo>
                      <a:pt x="1172" y="1641"/>
                    </a:lnTo>
                    <a:lnTo>
                      <a:pt x="1196" y="1641"/>
                    </a:lnTo>
                    <a:lnTo>
                      <a:pt x="1220" y="1641"/>
                    </a:lnTo>
                    <a:lnTo>
                      <a:pt x="1238" y="1641"/>
                    </a:lnTo>
                    <a:lnTo>
                      <a:pt x="1262" y="1641"/>
                    </a:lnTo>
                    <a:lnTo>
                      <a:pt x="1286" y="1635"/>
                    </a:lnTo>
                    <a:lnTo>
                      <a:pt x="1304" y="1635"/>
                    </a:lnTo>
                    <a:lnTo>
                      <a:pt x="1328" y="1629"/>
                    </a:lnTo>
                    <a:lnTo>
                      <a:pt x="1346" y="1623"/>
                    </a:lnTo>
                    <a:lnTo>
                      <a:pt x="1370" y="1617"/>
                    </a:lnTo>
                    <a:lnTo>
                      <a:pt x="1388" y="1611"/>
                    </a:lnTo>
                    <a:lnTo>
                      <a:pt x="1406" y="1599"/>
                    </a:lnTo>
                    <a:lnTo>
                      <a:pt x="1424" y="1593"/>
                    </a:lnTo>
                    <a:lnTo>
                      <a:pt x="1442" y="1581"/>
                    </a:lnTo>
                    <a:lnTo>
                      <a:pt x="1460" y="1575"/>
                    </a:lnTo>
                    <a:lnTo>
                      <a:pt x="1478" y="1563"/>
                    </a:lnTo>
                    <a:lnTo>
                      <a:pt x="1496" y="1551"/>
                    </a:lnTo>
                    <a:lnTo>
                      <a:pt x="1508" y="1539"/>
                    </a:lnTo>
                    <a:lnTo>
                      <a:pt x="1526" y="1521"/>
                    </a:lnTo>
                    <a:lnTo>
                      <a:pt x="1538" y="1509"/>
                    </a:lnTo>
                    <a:lnTo>
                      <a:pt x="1550" y="1497"/>
                    </a:lnTo>
                    <a:lnTo>
                      <a:pt x="1562" y="1479"/>
                    </a:lnTo>
                    <a:lnTo>
                      <a:pt x="1574" y="1461"/>
                    </a:lnTo>
                    <a:lnTo>
                      <a:pt x="1580" y="1449"/>
                    </a:lnTo>
                    <a:lnTo>
                      <a:pt x="1586" y="1431"/>
                    </a:lnTo>
                    <a:lnTo>
                      <a:pt x="1598" y="1413"/>
                    </a:lnTo>
                    <a:lnTo>
                      <a:pt x="1604" y="1419"/>
                    </a:lnTo>
                    <a:lnTo>
                      <a:pt x="1622" y="1431"/>
                    </a:lnTo>
                    <a:lnTo>
                      <a:pt x="1646" y="1443"/>
                    </a:lnTo>
                    <a:lnTo>
                      <a:pt x="1664" y="1461"/>
                    </a:lnTo>
                    <a:lnTo>
                      <a:pt x="1688" y="1473"/>
                    </a:lnTo>
                    <a:lnTo>
                      <a:pt x="1713" y="1485"/>
                    </a:lnTo>
                    <a:lnTo>
                      <a:pt x="1737" y="1491"/>
                    </a:lnTo>
                    <a:lnTo>
                      <a:pt x="1761" y="1503"/>
                    </a:lnTo>
                    <a:lnTo>
                      <a:pt x="1785" y="1515"/>
                    </a:lnTo>
                    <a:lnTo>
                      <a:pt x="1809" y="1521"/>
                    </a:lnTo>
                    <a:lnTo>
                      <a:pt x="1833" y="1527"/>
                    </a:lnTo>
                    <a:lnTo>
                      <a:pt x="1857" y="1533"/>
                    </a:lnTo>
                    <a:lnTo>
                      <a:pt x="1887" y="1539"/>
                    </a:lnTo>
                    <a:lnTo>
                      <a:pt x="1911" y="1545"/>
                    </a:lnTo>
                    <a:lnTo>
                      <a:pt x="1941" y="1551"/>
                    </a:lnTo>
                    <a:lnTo>
                      <a:pt x="1965" y="1551"/>
                    </a:lnTo>
                    <a:lnTo>
                      <a:pt x="1995" y="1551"/>
                    </a:lnTo>
                    <a:lnTo>
                      <a:pt x="2019" y="1557"/>
                    </a:lnTo>
                    <a:lnTo>
                      <a:pt x="2049" y="1551"/>
                    </a:lnTo>
                    <a:lnTo>
                      <a:pt x="2073" y="1551"/>
                    </a:lnTo>
                    <a:lnTo>
                      <a:pt x="2103" y="1551"/>
                    </a:lnTo>
                    <a:lnTo>
                      <a:pt x="2127" y="1545"/>
                    </a:lnTo>
                    <a:lnTo>
                      <a:pt x="2151" y="1545"/>
                    </a:lnTo>
                    <a:lnTo>
                      <a:pt x="2181" y="1539"/>
                    </a:lnTo>
                    <a:lnTo>
                      <a:pt x="2205" y="1533"/>
                    </a:lnTo>
                    <a:lnTo>
                      <a:pt x="2229" y="1527"/>
                    </a:lnTo>
                    <a:lnTo>
                      <a:pt x="2259" y="1515"/>
                    </a:lnTo>
                    <a:lnTo>
                      <a:pt x="2283" y="1509"/>
                    </a:lnTo>
                    <a:lnTo>
                      <a:pt x="2307" y="1497"/>
                    </a:lnTo>
                    <a:lnTo>
                      <a:pt x="2331" y="1491"/>
                    </a:lnTo>
                    <a:lnTo>
                      <a:pt x="2355" y="1479"/>
                    </a:lnTo>
                    <a:lnTo>
                      <a:pt x="2373" y="1467"/>
                    </a:lnTo>
                    <a:lnTo>
                      <a:pt x="2397" y="1449"/>
                    </a:lnTo>
                    <a:lnTo>
                      <a:pt x="2416" y="1437"/>
                    </a:lnTo>
                    <a:lnTo>
                      <a:pt x="2440" y="1425"/>
                    </a:lnTo>
                    <a:lnTo>
                      <a:pt x="2458" y="1407"/>
                    </a:lnTo>
                    <a:lnTo>
                      <a:pt x="2476" y="1395"/>
                    </a:lnTo>
                    <a:lnTo>
                      <a:pt x="2494" y="1377"/>
                    </a:lnTo>
                    <a:lnTo>
                      <a:pt x="2512" y="1359"/>
                    </a:lnTo>
                    <a:lnTo>
                      <a:pt x="2524" y="1341"/>
                    </a:lnTo>
                    <a:lnTo>
                      <a:pt x="2542" y="1323"/>
                    </a:lnTo>
                    <a:lnTo>
                      <a:pt x="2554" y="1305"/>
                    </a:lnTo>
                    <a:lnTo>
                      <a:pt x="2566" y="1287"/>
                    </a:lnTo>
                    <a:lnTo>
                      <a:pt x="2578" y="1263"/>
                    </a:lnTo>
                    <a:lnTo>
                      <a:pt x="2590" y="1244"/>
                    </a:lnTo>
                    <a:lnTo>
                      <a:pt x="2602" y="1226"/>
                    </a:lnTo>
                    <a:lnTo>
                      <a:pt x="2608" y="1202"/>
                    </a:lnTo>
                    <a:lnTo>
                      <a:pt x="2614" y="1184"/>
                    </a:lnTo>
                    <a:lnTo>
                      <a:pt x="2620" y="1160"/>
                    </a:lnTo>
                    <a:lnTo>
                      <a:pt x="2626" y="1142"/>
                    </a:lnTo>
                    <a:lnTo>
                      <a:pt x="2626" y="1118"/>
                    </a:lnTo>
                    <a:lnTo>
                      <a:pt x="2632" y="1094"/>
                    </a:lnTo>
                    <a:lnTo>
                      <a:pt x="2632" y="1076"/>
                    </a:lnTo>
                    <a:lnTo>
                      <a:pt x="2632" y="1052"/>
                    </a:lnTo>
                    <a:lnTo>
                      <a:pt x="2632" y="1034"/>
                    </a:lnTo>
                    <a:lnTo>
                      <a:pt x="2626" y="1010"/>
                    </a:lnTo>
                    <a:lnTo>
                      <a:pt x="2626" y="986"/>
                    </a:lnTo>
                    <a:lnTo>
                      <a:pt x="2620" y="968"/>
                    </a:lnTo>
                    <a:lnTo>
                      <a:pt x="2614" y="944"/>
                    </a:lnTo>
                    <a:lnTo>
                      <a:pt x="2608" y="926"/>
                    </a:lnTo>
                    <a:lnTo>
                      <a:pt x="2602" y="902"/>
                    </a:lnTo>
                    <a:lnTo>
                      <a:pt x="2590" y="884"/>
                    </a:lnTo>
                    <a:lnTo>
                      <a:pt x="2578" y="866"/>
                    </a:lnTo>
                    <a:lnTo>
                      <a:pt x="2566" y="842"/>
                    </a:lnTo>
                    <a:lnTo>
                      <a:pt x="2554" y="823"/>
                    </a:lnTo>
                    <a:lnTo>
                      <a:pt x="2542" y="805"/>
                    </a:lnTo>
                    <a:lnTo>
                      <a:pt x="2524" y="787"/>
                    </a:lnTo>
                    <a:lnTo>
                      <a:pt x="2512" y="769"/>
                    </a:lnTo>
                    <a:lnTo>
                      <a:pt x="2500" y="763"/>
                    </a:lnTo>
                    <a:lnTo>
                      <a:pt x="2518" y="751"/>
                    </a:lnTo>
                    <a:lnTo>
                      <a:pt x="2530" y="739"/>
                    </a:lnTo>
                    <a:lnTo>
                      <a:pt x="2548" y="727"/>
                    </a:lnTo>
                    <a:lnTo>
                      <a:pt x="2560" y="715"/>
                    </a:lnTo>
                    <a:lnTo>
                      <a:pt x="2572" y="703"/>
                    </a:lnTo>
                    <a:lnTo>
                      <a:pt x="2584" y="685"/>
                    </a:lnTo>
                    <a:lnTo>
                      <a:pt x="2590" y="673"/>
                    </a:lnTo>
                    <a:lnTo>
                      <a:pt x="2602" y="655"/>
                    </a:lnTo>
                    <a:lnTo>
                      <a:pt x="2608" y="643"/>
                    </a:lnTo>
                    <a:lnTo>
                      <a:pt x="2614" y="625"/>
                    </a:lnTo>
                    <a:lnTo>
                      <a:pt x="2620" y="607"/>
                    </a:lnTo>
                    <a:lnTo>
                      <a:pt x="2626" y="595"/>
                    </a:lnTo>
                    <a:lnTo>
                      <a:pt x="2626" y="577"/>
                    </a:lnTo>
                    <a:lnTo>
                      <a:pt x="2632" y="559"/>
                    </a:lnTo>
                    <a:lnTo>
                      <a:pt x="2632" y="541"/>
                    </a:lnTo>
                    <a:lnTo>
                      <a:pt x="2632" y="529"/>
                    </a:lnTo>
                    <a:lnTo>
                      <a:pt x="2632" y="511"/>
                    </a:lnTo>
                    <a:lnTo>
                      <a:pt x="2626" y="493"/>
                    </a:lnTo>
                    <a:lnTo>
                      <a:pt x="2626" y="475"/>
                    </a:lnTo>
                    <a:lnTo>
                      <a:pt x="2620" y="463"/>
                    </a:lnTo>
                    <a:lnTo>
                      <a:pt x="2614" y="445"/>
                    </a:lnTo>
                    <a:lnTo>
                      <a:pt x="2608" y="433"/>
                    </a:lnTo>
                    <a:lnTo>
                      <a:pt x="2596" y="415"/>
                    </a:lnTo>
                    <a:lnTo>
                      <a:pt x="2590" y="402"/>
                    </a:lnTo>
                    <a:lnTo>
                      <a:pt x="2578" y="384"/>
                    </a:lnTo>
                    <a:lnTo>
                      <a:pt x="2566" y="372"/>
                    </a:lnTo>
                    <a:lnTo>
                      <a:pt x="2554" y="360"/>
                    </a:lnTo>
                    <a:lnTo>
                      <a:pt x="2542" y="342"/>
                    </a:lnTo>
                    <a:lnTo>
                      <a:pt x="2524" y="336"/>
                    </a:lnTo>
                    <a:lnTo>
                      <a:pt x="2512" y="324"/>
                    </a:lnTo>
                    <a:lnTo>
                      <a:pt x="2494" y="312"/>
                    </a:lnTo>
                    <a:lnTo>
                      <a:pt x="2482" y="300"/>
                    </a:lnTo>
                    <a:lnTo>
                      <a:pt x="2464" y="294"/>
                    </a:lnTo>
                    <a:lnTo>
                      <a:pt x="2446" y="282"/>
                    </a:lnTo>
                    <a:lnTo>
                      <a:pt x="2428" y="276"/>
                    </a:lnTo>
                    <a:lnTo>
                      <a:pt x="2409" y="270"/>
                    </a:lnTo>
                    <a:lnTo>
                      <a:pt x="2385" y="264"/>
                    </a:lnTo>
                    <a:lnTo>
                      <a:pt x="2367" y="258"/>
                    </a:lnTo>
                    <a:lnTo>
                      <a:pt x="2349" y="258"/>
                    </a:lnTo>
                    <a:lnTo>
                      <a:pt x="2325" y="252"/>
                    </a:lnTo>
                    <a:lnTo>
                      <a:pt x="2307" y="252"/>
                    </a:lnTo>
                    <a:lnTo>
                      <a:pt x="2283" y="252"/>
                    </a:lnTo>
                    <a:lnTo>
                      <a:pt x="2265" y="252"/>
                    </a:lnTo>
                    <a:lnTo>
                      <a:pt x="2247" y="252"/>
                    </a:lnTo>
                    <a:lnTo>
                      <a:pt x="2223" y="252"/>
                    </a:lnTo>
                    <a:lnTo>
                      <a:pt x="2205" y="258"/>
                    </a:lnTo>
                    <a:lnTo>
                      <a:pt x="2181" y="258"/>
                    </a:lnTo>
                    <a:lnTo>
                      <a:pt x="2163" y="264"/>
                    </a:lnTo>
                    <a:lnTo>
                      <a:pt x="2145" y="270"/>
                    </a:lnTo>
                    <a:lnTo>
                      <a:pt x="2127" y="276"/>
                    </a:lnTo>
                    <a:lnTo>
                      <a:pt x="2109" y="288"/>
                    </a:lnTo>
                    <a:lnTo>
                      <a:pt x="2091" y="294"/>
                    </a:lnTo>
                    <a:lnTo>
                      <a:pt x="2079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16400" y="4592520"/>
                <a:ext cx="1388880" cy="1335240"/>
              </a:xfrm>
              <a:custGeom>
                <a:avLst/>
                <a:gdLst/>
                <a:ahLst/>
                <a:rect l="l" t="t" r="r" b="b"/>
                <a:pathLst>
                  <a:path w="2632" h="1641">
                    <a:moveTo>
                      <a:pt x="2079" y="300"/>
                    </a:moveTo>
                    <a:lnTo>
                      <a:pt x="2067" y="276"/>
                    </a:lnTo>
                    <a:lnTo>
                      <a:pt x="2055" y="258"/>
                    </a:lnTo>
                    <a:lnTo>
                      <a:pt x="2043" y="240"/>
                    </a:lnTo>
                    <a:lnTo>
                      <a:pt x="2025" y="222"/>
                    </a:lnTo>
                    <a:lnTo>
                      <a:pt x="2013" y="204"/>
                    </a:lnTo>
                    <a:lnTo>
                      <a:pt x="1995" y="186"/>
                    </a:lnTo>
                    <a:lnTo>
                      <a:pt x="1977" y="168"/>
                    </a:lnTo>
                    <a:lnTo>
                      <a:pt x="1959" y="150"/>
                    </a:lnTo>
                    <a:lnTo>
                      <a:pt x="1941" y="138"/>
                    </a:lnTo>
                    <a:lnTo>
                      <a:pt x="1923" y="120"/>
                    </a:lnTo>
                    <a:lnTo>
                      <a:pt x="1905" y="108"/>
                    </a:lnTo>
                    <a:lnTo>
                      <a:pt x="1881" y="96"/>
                    </a:lnTo>
                    <a:lnTo>
                      <a:pt x="1857" y="84"/>
                    </a:lnTo>
                    <a:lnTo>
                      <a:pt x="1839" y="72"/>
                    </a:lnTo>
                    <a:lnTo>
                      <a:pt x="1815" y="60"/>
                    </a:lnTo>
                    <a:lnTo>
                      <a:pt x="1791" y="48"/>
                    </a:lnTo>
                    <a:lnTo>
                      <a:pt x="1767" y="42"/>
                    </a:lnTo>
                    <a:lnTo>
                      <a:pt x="1737" y="30"/>
                    </a:lnTo>
                    <a:lnTo>
                      <a:pt x="1713" y="24"/>
                    </a:lnTo>
                    <a:lnTo>
                      <a:pt x="1688" y="18"/>
                    </a:lnTo>
                    <a:lnTo>
                      <a:pt x="1664" y="12"/>
                    </a:lnTo>
                    <a:lnTo>
                      <a:pt x="1634" y="6"/>
                    </a:lnTo>
                    <a:lnTo>
                      <a:pt x="1610" y="6"/>
                    </a:lnTo>
                    <a:lnTo>
                      <a:pt x="1580" y="0"/>
                    </a:lnTo>
                    <a:lnTo>
                      <a:pt x="1556" y="0"/>
                    </a:lnTo>
                    <a:lnTo>
                      <a:pt x="1526" y="0"/>
                    </a:lnTo>
                    <a:lnTo>
                      <a:pt x="1502" y="0"/>
                    </a:lnTo>
                    <a:lnTo>
                      <a:pt x="1472" y="0"/>
                    </a:lnTo>
                    <a:lnTo>
                      <a:pt x="1448" y="6"/>
                    </a:lnTo>
                    <a:lnTo>
                      <a:pt x="1424" y="6"/>
                    </a:lnTo>
                    <a:lnTo>
                      <a:pt x="1394" y="12"/>
                    </a:lnTo>
                    <a:lnTo>
                      <a:pt x="1370" y="18"/>
                    </a:lnTo>
                    <a:lnTo>
                      <a:pt x="1340" y="24"/>
                    </a:lnTo>
                    <a:lnTo>
                      <a:pt x="1316" y="30"/>
                    </a:lnTo>
                    <a:lnTo>
                      <a:pt x="1292" y="36"/>
                    </a:lnTo>
                    <a:lnTo>
                      <a:pt x="1268" y="48"/>
                    </a:lnTo>
                    <a:lnTo>
                      <a:pt x="1244" y="54"/>
                    </a:lnTo>
                    <a:lnTo>
                      <a:pt x="1220" y="66"/>
                    </a:lnTo>
                    <a:lnTo>
                      <a:pt x="1196" y="78"/>
                    </a:lnTo>
                    <a:lnTo>
                      <a:pt x="1178" y="90"/>
                    </a:lnTo>
                    <a:lnTo>
                      <a:pt x="1154" y="102"/>
                    </a:lnTo>
                    <a:lnTo>
                      <a:pt x="1136" y="120"/>
                    </a:lnTo>
                    <a:lnTo>
                      <a:pt x="1112" y="132"/>
                    </a:lnTo>
                    <a:lnTo>
                      <a:pt x="1094" y="150"/>
                    </a:lnTo>
                    <a:lnTo>
                      <a:pt x="1076" y="162"/>
                    </a:lnTo>
                    <a:lnTo>
                      <a:pt x="1058" y="180"/>
                    </a:lnTo>
                    <a:lnTo>
                      <a:pt x="1040" y="198"/>
                    </a:lnTo>
                    <a:lnTo>
                      <a:pt x="1028" y="216"/>
                    </a:lnTo>
                    <a:lnTo>
                      <a:pt x="1016" y="234"/>
                    </a:lnTo>
                    <a:lnTo>
                      <a:pt x="998" y="252"/>
                    </a:lnTo>
                    <a:lnTo>
                      <a:pt x="986" y="270"/>
                    </a:lnTo>
                    <a:lnTo>
                      <a:pt x="980" y="270"/>
                    </a:lnTo>
                    <a:lnTo>
                      <a:pt x="961" y="264"/>
                    </a:lnTo>
                    <a:lnTo>
                      <a:pt x="943" y="258"/>
                    </a:lnTo>
                    <a:lnTo>
                      <a:pt x="925" y="258"/>
                    </a:lnTo>
                    <a:lnTo>
                      <a:pt x="907" y="252"/>
                    </a:lnTo>
                    <a:lnTo>
                      <a:pt x="895" y="252"/>
                    </a:lnTo>
                    <a:lnTo>
                      <a:pt x="877" y="252"/>
                    </a:lnTo>
                    <a:lnTo>
                      <a:pt x="859" y="252"/>
                    </a:lnTo>
                    <a:lnTo>
                      <a:pt x="841" y="252"/>
                    </a:lnTo>
                    <a:lnTo>
                      <a:pt x="823" y="252"/>
                    </a:lnTo>
                    <a:lnTo>
                      <a:pt x="805" y="258"/>
                    </a:lnTo>
                    <a:lnTo>
                      <a:pt x="787" y="258"/>
                    </a:lnTo>
                    <a:lnTo>
                      <a:pt x="769" y="264"/>
                    </a:lnTo>
                    <a:lnTo>
                      <a:pt x="757" y="270"/>
                    </a:lnTo>
                    <a:lnTo>
                      <a:pt x="739" y="276"/>
                    </a:lnTo>
                    <a:lnTo>
                      <a:pt x="727" y="282"/>
                    </a:lnTo>
                    <a:lnTo>
                      <a:pt x="709" y="294"/>
                    </a:lnTo>
                    <a:lnTo>
                      <a:pt x="697" y="300"/>
                    </a:lnTo>
                    <a:lnTo>
                      <a:pt x="685" y="312"/>
                    </a:lnTo>
                    <a:lnTo>
                      <a:pt x="673" y="324"/>
                    </a:lnTo>
                    <a:lnTo>
                      <a:pt x="661" y="336"/>
                    </a:lnTo>
                    <a:lnTo>
                      <a:pt x="649" y="348"/>
                    </a:lnTo>
                    <a:lnTo>
                      <a:pt x="643" y="360"/>
                    </a:lnTo>
                    <a:lnTo>
                      <a:pt x="637" y="372"/>
                    </a:lnTo>
                    <a:lnTo>
                      <a:pt x="631" y="384"/>
                    </a:lnTo>
                    <a:lnTo>
                      <a:pt x="625" y="396"/>
                    </a:lnTo>
                    <a:lnTo>
                      <a:pt x="619" y="409"/>
                    </a:lnTo>
                    <a:lnTo>
                      <a:pt x="613" y="427"/>
                    </a:lnTo>
                    <a:lnTo>
                      <a:pt x="613" y="439"/>
                    </a:lnTo>
                    <a:lnTo>
                      <a:pt x="613" y="457"/>
                    </a:lnTo>
                    <a:lnTo>
                      <a:pt x="613" y="469"/>
                    </a:lnTo>
                    <a:lnTo>
                      <a:pt x="613" y="481"/>
                    </a:lnTo>
                    <a:lnTo>
                      <a:pt x="619" y="499"/>
                    </a:lnTo>
                    <a:lnTo>
                      <a:pt x="613" y="499"/>
                    </a:lnTo>
                    <a:lnTo>
                      <a:pt x="589" y="499"/>
                    </a:lnTo>
                    <a:lnTo>
                      <a:pt x="559" y="499"/>
                    </a:lnTo>
                    <a:lnTo>
                      <a:pt x="535" y="499"/>
                    </a:lnTo>
                    <a:lnTo>
                      <a:pt x="511" y="499"/>
                    </a:lnTo>
                    <a:lnTo>
                      <a:pt x="487" y="499"/>
                    </a:lnTo>
                    <a:lnTo>
                      <a:pt x="457" y="505"/>
                    </a:lnTo>
                    <a:lnTo>
                      <a:pt x="433" y="511"/>
                    </a:lnTo>
                    <a:lnTo>
                      <a:pt x="409" y="511"/>
                    </a:lnTo>
                    <a:lnTo>
                      <a:pt x="385" y="517"/>
                    </a:lnTo>
                    <a:lnTo>
                      <a:pt x="361" y="529"/>
                    </a:lnTo>
                    <a:lnTo>
                      <a:pt x="337" y="535"/>
                    </a:lnTo>
                    <a:lnTo>
                      <a:pt x="313" y="541"/>
                    </a:lnTo>
                    <a:lnTo>
                      <a:pt x="289" y="553"/>
                    </a:lnTo>
                    <a:lnTo>
                      <a:pt x="271" y="565"/>
                    </a:lnTo>
                    <a:lnTo>
                      <a:pt x="246" y="577"/>
                    </a:lnTo>
                    <a:lnTo>
                      <a:pt x="222" y="589"/>
                    </a:lnTo>
                    <a:lnTo>
                      <a:pt x="204" y="601"/>
                    </a:lnTo>
                    <a:lnTo>
                      <a:pt x="186" y="613"/>
                    </a:lnTo>
                    <a:lnTo>
                      <a:pt x="168" y="625"/>
                    </a:lnTo>
                    <a:lnTo>
                      <a:pt x="150" y="643"/>
                    </a:lnTo>
                    <a:lnTo>
                      <a:pt x="132" y="655"/>
                    </a:lnTo>
                    <a:lnTo>
                      <a:pt x="114" y="673"/>
                    </a:lnTo>
                    <a:lnTo>
                      <a:pt x="102" y="691"/>
                    </a:lnTo>
                    <a:lnTo>
                      <a:pt x="84" y="709"/>
                    </a:lnTo>
                    <a:lnTo>
                      <a:pt x="72" y="727"/>
                    </a:lnTo>
                    <a:lnTo>
                      <a:pt x="60" y="745"/>
                    </a:lnTo>
                    <a:lnTo>
                      <a:pt x="48" y="763"/>
                    </a:lnTo>
                    <a:lnTo>
                      <a:pt x="42" y="781"/>
                    </a:lnTo>
                    <a:lnTo>
                      <a:pt x="30" y="799"/>
                    </a:lnTo>
                    <a:lnTo>
                      <a:pt x="24" y="823"/>
                    </a:lnTo>
                    <a:lnTo>
                      <a:pt x="18" y="842"/>
                    </a:lnTo>
                    <a:lnTo>
                      <a:pt x="12" y="866"/>
                    </a:lnTo>
                    <a:lnTo>
                      <a:pt x="6" y="884"/>
                    </a:lnTo>
                    <a:lnTo>
                      <a:pt x="0" y="902"/>
                    </a:lnTo>
                    <a:lnTo>
                      <a:pt x="0" y="926"/>
                    </a:lnTo>
                    <a:lnTo>
                      <a:pt x="0" y="944"/>
                    </a:lnTo>
                    <a:lnTo>
                      <a:pt x="0" y="968"/>
                    </a:lnTo>
                    <a:lnTo>
                      <a:pt x="0" y="986"/>
                    </a:lnTo>
                    <a:lnTo>
                      <a:pt x="6" y="1010"/>
                    </a:lnTo>
                    <a:lnTo>
                      <a:pt x="6" y="1028"/>
                    </a:lnTo>
                    <a:lnTo>
                      <a:pt x="12" y="1046"/>
                    </a:lnTo>
                    <a:lnTo>
                      <a:pt x="18" y="1070"/>
                    </a:lnTo>
                    <a:lnTo>
                      <a:pt x="30" y="1088"/>
                    </a:lnTo>
                    <a:lnTo>
                      <a:pt x="36" y="1106"/>
                    </a:lnTo>
                    <a:lnTo>
                      <a:pt x="48" y="1130"/>
                    </a:lnTo>
                    <a:lnTo>
                      <a:pt x="54" y="1148"/>
                    </a:lnTo>
                    <a:lnTo>
                      <a:pt x="66" y="1166"/>
                    </a:lnTo>
                    <a:lnTo>
                      <a:pt x="84" y="1184"/>
                    </a:lnTo>
                    <a:lnTo>
                      <a:pt x="96" y="1202"/>
                    </a:lnTo>
                    <a:lnTo>
                      <a:pt x="108" y="1220"/>
                    </a:lnTo>
                    <a:lnTo>
                      <a:pt x="126" y="1232"/>
                    </a:lnTo>
                    <a:lnTo>
                      <a:pt x="144" y="1250"/>
                    </a:lnTo>
                    <a:lnTo>
                      <a:pt x="162" y="1269"/>
                    </a:lnTo>
                    <a:lnTo>
                      <a:pt x="180" y="1281"/>
                    </a:lnTo>
                    <a:lnTo>
                      <a:pt x="198" y="1293"/>
                    </a:lnTo>
                    <a:lnTo>
                      <a:pt x="216" y="1305"/>
                    </a:lnTo>
                    <a:lnTo>
                      <a:pt x="240" y="1317"/>
                    </a:lnTo>
                    <a:lnTo>
                      <a:pt x="258" y="1329"/>
                    </a:lnTo>
                    <a:lnTo>
                      <a:pt x="283" y="1341"/>
                    </a:lnTo>
                    <a:lnTo>
                      <a:pt x="307" y="1353"/>
                    </a:lnTo>
                    <a:lnTo>
                      <a:pt x="331" y="1359"/>
                    </a:lnTo>
                    <a:lnTo>
                      <a:pt x="355" y="1371"/>
                    </a:lnTo>
                    <a:lnTo>
                      <a:pt x="379" y="1377"/>
                    </a:lnTo>
                    <a:lnTo>
                      <a:pt x="403" y="1383"/>
                    </a:lnTo>
                    <a:lnTo>
                      <a:pt x="427" y="1389"/>
                    </a:lnTo>
                    <a:lnTo>
                      <a:pt x="451" y="1395"/>
                    </a:lnTo>
                    <a:lnTo>
                      <a:pt x="475" y="1395"/>
                    </a:lnTo>
                    <a:lnTo>
                      <a:pt x="505" y="1401"/>
                    </a:lnTo>
                    <a:lnTo>
                      <a:pt x="529" y="1401"/>
                    </a:lnTo>
                    <a:lnTo>
                      <a:pt x="553" y="1401"/>
                    </a:lnTo>
                    <a:lnTo>
                      <a:pt x="577" y="1401"/>
                    </a:lnTo>
                    <a:lnTo>
                      <a:pt x="607" y="1401"/>
                    </a:lnTo>
                    <a:lnTo>
                      <a:pt x="631" y="1395"/>
                    </a:lnTo>
                    <a:lnTo>
                      <a:pt x="655" y="1395"/>
                    </a:lnTo>
                    <a:lnTo>
                      <a:pt x="679" y="1389"/>
                    </a:lnTo>
                    <a:lnTo>
                      <a:pt x="709" y="1383"/>
                    </a:lnTo>
                    <a:lnTo>
                      <a:pt x="733" y="1377"/>
                    </a:lnTo>
                    <a:lnTo>
                      <a:pt x="757" y="1371"/>
                    </a:lnTo>
                    <a:lnTo>
                      <a:pt x="781" y="1365"/>
                    </a:lnTo>
                    <a:lnTo>
                      <a:pt x="805" y="1353"/>
                    </a:lnTo>
                    <a:lnTo>
                      <a:pt x="805" y="1359"/>
                    </a:lnTo>
                    <a:lnTo>
                      <a:pt x="811" y="1377"/>
                    </a:lnTo>
                    <a:lnTo>
                      <a:pt x="817" y="1395"/>
                    </a:lnTo>
                    <a:lnTo>
                      <a:pt x="823" y="1413"/>
                    </a:lnTo>
                    <a:lnTo>
                      <a:pt x="829" y="1425"/>
                    </a:lnTo>
                    <a:lnTo>
                      <a:pt x="835" y="1443"/>
                    </a:lnTo>
                    <a:lnTo>
                      <a:pt x="847" y="1461"/>
                    </a:lnTo>
                    <a:lnTo>
                      <a:pt x="853" y="1479"/>
                    </a:lnTo>
                    <a:lnTo>
                      <a:pt x="865" y="1491"/>
                    </a:lnTo>
                    <a:lnTo>
                      <a:pt x="877" y="1509"/>
                    </a:lnTo>
                    <a:lnTo>
                      <a:pt x="889" y="1521"/>
                    </a:lnTo>
                    <a:lnTo>
                      <a:pt x="907" y="1533"/>
                    </a:lnTo>
                    <a:lnTo>
                      <a:pt x="919" y="1545"/>
                    </a:lnTo>
                    <a:lnTo>
                      <a:pt x="937" y="1557"/>
                    </a:lnTo>
                    <a:lnTo>
                      <a:pt x="955" y="1569"/>
                    </a:lnTo>
                    <a:lnTo>
                      <a:pt x="973" y="1581"/>
                    </a:lnTo>
                    <a:lnTo>
                      <a:pt x="992" y="1593"/>
                    </a:lnTo>
                    <a:lnTo>
                      <a:pt x="1010" y="1599"/>
                    </a:lnTo>
                    <a:lnTo>
                      <a:pt x="1028" y="1611"/>
                    </a:lnTo>
                    <a:lnTo>
                      <a:pt x="1046" y="1617"/>
                    </a:lnTo>
                    <a:lnTo>
                      <a:pt x="1070" y="1623"/>
                    </a:lnTo>
                    <a:lnTo>
                      <a:pt x="1088" y="1629"/>
                    </a:lnTo>
                    <a:lnTo>
                      <a:pt x="1112" y="1635"/>
                    </a:lnTo>
                    <a:lnTo>
                      <a:pt x="1130" y="1635"/>
                    </a:lnTo>
                    <a:lnTo>
                      <a:pt x="1154" y="1641"/>
                    </a:lnTo>
                    <a:lnTo>
                      <a:pt x="1172" y="1641"/>
                    </a:lnTo>
                    <a:lnTo>
                      <a:pt x="1196" y="1641"/>
                    </a:lnTo>
                    <a:lnTo>
                      <a:pt x="1220" y="1641"/>
                    </a:lnTo>
                    <a:lnTo>
                      <a:pt x="1238" y="1641"/>
                    </a:lnTo>
                    <a:lnTo>
                      <a:pt x="1262" y="1641"/>
                    </a:lnTo>
                    <a:lnTo>
                      <a:pt x="1286" y="1635"/>
                    </a:lnTo>
                    <a:lnTo>
                      <a:pt x="1304" y="1635"/>
                    </a:lnTo>
                    <a:lnTo>
                      <a:pt x="1328" y="1629"/>
                    </a:lnTo>
                    <a:lnTo>
                      <a:pt x="1346" y="1623"/>
                    </a:lnTo>
                    <a:lnTo>
                      <a:pt x="1370" y="1617"/>
                    </a:lnTo>
                    <a:lnTo>
                      <a:pt x="1388" y="1611"/>
                    </a:lnTo>
                    <a:lnTo>
                      <a:pt x="1406" y="1599"/>
                    </a:lnTo>
                    <a:lnTo>
                      <a:pt x="1424" y="1593"/>
                    </a:lnTo>
                    <a:lnTo>
                      <a:pt x="1442" y="1581"/>
                    </a:lnTo>
                    <a:lnTo>
                      <a:pt x="1460" y="1575"/>
                    </a:lnTo>
                    <a:lnTo>
                      <a:pt x="1478" y="1563"/>
                    </a:lnTo>
                    <a:lnTo>
                      <a:pt x="1496" y="1551"/>
                    </a:lnTo>
                    <a:lnTo>
                      <a:pt x="1508" y="1539"/>
                    </a:lnTo>
                    <a:lnTo>
                      <a:pt x="1526" y="1521"/>
                    </a:lnTo>
                    <a:lnTo>
                      <a:pt x="1538" y="1509"/>
                    </a:lnTo>
                    <a:lnTo>
                      <a:pt x="1550" y="1497"/>
                    </a:lnTo>
                    <a:lnTo>
                      <a:pt x="1562" y="1479"/>
                    </a:lnTo>
                    <a:lnTo>
                      <a:pt x="1574" y="1461"/>
                    </a:lnTo>
                    <a:lnTo>
                      <a:pt x="1580" y="1449"/>
                    </a:lnTo>
                    <a:lnTo>
                      <a:pt x="1586" y="1431"/>
                    </a:lnTo>
                    <a:lnTo>
                      <a:pt x="1598" y="1413"/>
                    </a:lnTo>
                    <a:lnTo>
                      <a:pt x="1604" y="1419"/>
                    </a:lnTo>
                    <a:lnTo>
                      <a:pt x="1622" y="1431"/>
                    </a:lnTo>
                    <a:lnTo>
                      <a:pt x="1646" y="1443"/>
                    </a:lnTo>
                    <a:lnTo>
                      <a:pt x="1664" y="1461"/>
                    </a:lnTo>
                    <a:lnTo>
                      <a:pt x="1688" y="1473"/>
                    </a:lnTo>
                    <a:lnTo>
                      <a:pt x="1713" y="1485"/>
                    </a:lnTo>
                    <a:lnTo>
                      <a:pt x="1737" y="1491"/>
                    </a:lnTo>
                    <a:lnTo>
                      <a:pt x="1761" y="1503"/>
                    </a:lnTo>
                    <a:lnTo>
                      <a:pt x="1785" y="1515"/>
                    </a:lnTo>
                    <a:lnTo>
                      <a:pt x="1809" y="1521"/>
                    </a:lnTo>
                    <a:lnTo>
                      <a:pt x="1833" y="1527"/>
                    </a:lnTo>
                    <a:lnTo>
                      <a:pt x="1857" y="1533"/>
                    </a:lnTo>
                    <a:lnTo>
                      <a:pt x="1887" y="1539"/>
                    </a:lnTo>
                    <a:lnTo>
                      <a:pt x="1911" y="1545"/>
                    </a:lnTo>
                    <a:lnTo>
                      <a:pt x="1941" y="1551"/>
                    </a:lnTo>
                    <a:lnTo>
                      <a:pt x="1965" y="1551"/>
                    </a:lnTo>
                    <a:lnTo>
                      <a:pt x="1995" y="1551"/>
                    </a:lnTo>
                    <a:lnTo>
                      <a:pt x="2019" y="1557"/>
                    </a:lnTo>
                    <a:lnTo>
                      <a:pt x="2049" y="1551"/>
                    </a:lnTo>
                    <a:lnTo>
                      <a:pt x="2073" y="1551"/>
                    </a:lnTo>
                    <a:lnTo>
                      <a:pt x="2103" y="1551"/>
                    </a:lnTo>
                    <a:lnTo>
                      <a:pt x="2127" y="1545"/>
                    </a:lnTo>
                    <a:lnTo>
                      <a:pt x="2151" y="1545"/>
                    </a:lnTo>
                    <a:lnTo>
                      <a:pt x="2181" y="1539"/>
                    </a:lnTo>
                    <a:lnTo>
                      <a:pt x="2205" y="1533"/>
                    </a:lnTo>
                    <a:lnTo>
                      <a:pt x="2229" y="1527"/>
                    </a:lnTo>
                    <a:lnTo>
                      <a:pt x="2259" y="1515"/>
                    </a:lnTo>
                    <a:lnTo>
                      <a:pt x="2283" y="1509"/>
                    </a:lnTo>
                    <a:lnTo>
                      <a:pt x="2307" y="1497"/>
                    </a:lnTo>
                    <a:lnTo>
                      <a:pt x="2331" y="1491"/>
                    </a:lnTo>
                    <a:lnTo>
                      <a:pt x="2355" y="1479"/>
                    </a:lnTo>
                    <a:lnTo>
                      <a:pt x="2373" y="1467"/>
                    </a:lnTo>
                    <a:lnTo>
                      <a:pt x="2397" y="1449"/>
                    </a:lnTo>
                    <a:lnTo>
                      <a:pt x="2416" y="1437"/>
                    </a:lnTo>
                    <a:lnTo>
                      <a:pt x="2440" y="1425"/>
                    </a:lnTo>
                    <a:lnTo>
                      <a:pt x="2458" y="1407"/>
                    </a:lnTo>
                    <a:lnTo>
                      <a:pt x="2476" y="1395"/>
                    </a:lnTo>
                    <a:lnTo>
                      <a:pt x="2494" y="1377"/>
                    </a:lnTo>
                    <a:lnTo>
                      <a:pt x="2512" y="1359"/>
                    </a:lnTo>
                    <a:lnTo>
                      <a:pt x="2524" y="1341"/>
                    </a:lnTo>
                    <a:lnTo>
                      <a:pt x="2542" y="1323"/>
                    </a:lnTo>
                    <a:lnTo>
                      <a:pt x="2554" y="1305"/>
                    </a:lnTo>
                    <a:lnTo>
                      <a:pt x="2566" y="1287"/>
                    </a:lnTo>
                    <a:lnTo>
                      <a:pt x="2578" y="1263"/>
                    </a:lnTo>
                    <a:lnTo>
                      <a:pt x="2590" y="1244"/>
                    </a:lnTo>
                    <a:lnTo>
                      <a:pt x="2602" y="1226"/>
                    </a:lnTo>
                    <a:lnTo>
                      <a:pt x="2608" y="1202"/>
                    </a:lnTo>
                    <a:lnTo>
                      <a:pt x="2614" y="1184"/>
                    </a:lnTo>
                    <a:lnTo>
                      <a:pt x="2620" y="1160"/>
                    </a:lnTo>
                    <a:lnTo>
                      <a:pt x="2626" y="1142"/>
                    </a:lnTo>
                    <a:lnTo>
                      <a:pt x="2626" y="1118"/>
                    </a:lnTo>
                    <a:lnTo>
                      <a:pt x="2632" y="1094"/>
                    </a:lnTo>
                    <a:lnTo>
                      <a:pt x="2632" y="1076"/>
                    </a:lnTo>
                    <a:lnTo>
                      <a:pt x="2632" y="1052"/>
                    </a:lnTo>
                    <a:lnTo>
                      <a:pt x="2632" y="1034"/>
                    </a:lnTo>
                    <a:lnTo>
                      <a:pt x="2626" y="1010"/>
                    </a:lnTo>
                    <a:lnTo>
                      <a:pt x="2626" y="986"/>
                    </a:lnTo>
                    <a:lnTo>
                      <a:pt x="2620" y="968"/>
                    </a:lnTo>
                    <a:lnTo>
                      <a:pt x="2614" y="944"/>
                    </a:lnTo>
                    <a:lnTo>
                      <a:pt x="2608" y="926"/>
                    </a:lnTo>
                    <a:lnTo>
                      <a:pt x="2602" y="902"/>
                    </a:lnTo>
                    <a:lnTo>
                      <a:pt x="2590" y="884"/>
                    </a:lnTo>
                    <a:lnTo>
                      <a:pt x="2578" y="866"/>
                    </a:lnTo>
                    <a:lnTo>
                      <a:pt x="2566" y="842"/>
                    </a:lnTo>
                    <a:lnTo>
                      <a:pt x="2554" y="823"/>
                    </a:lnTo>
                    <a:lnTo>
                      <a:pt x="2542" y="805"/>
                    </a:lnTo>
                    <a:lnTo>
                      <a:pt x="2524" y="787"/>
                    </a:lnTo>
                    <a:lnTo>
                      <a:pt x="2512" y="769"/>
                    </a:lnTo>
                    <a:lnTo>
                      <a:pt x="2500" y="763"/>
                    </a:lnTo>
                    <a:lnTo>
                      <a:pt x="2518" y="751"/>
                    </a:lnTo>
                    <a:lnTo>
                      <a:pt x="2530" y="739"/>
                    </a:lnTo>
                    <a:lnTo>
                      <a:pt x="2548" y="727"/>
                    </a:lnTo>
                    <a:lnTo>
                      <a:pt x="2560" y="715"/>
                    </a:lnTo>
                    <a:lnTo>
                      <a:pt x="2572" y="703"/>
                    </a:lnTo>
                    <a:lnTo>
                      <a:pt x="2584" y="685"/>
                    </a:lnTo>
                    <a:lnTo>
                      <a:pt x="2590" y="673"/>
                    </a:lnTo>
                    <a:lnTo>
                      <a:pt x="2602" y="655"/>
                    </a:lnTo>
                    <a:lnTo>
                      <a:pt x="2608" y="643"/>
                    </a:lnTo>
                    <a:lnTo>
                      <a:pt x="2614" y="625"/>
                    </a:lnTo>
                    <a:lnTo>
                      <a:pt x="2620" y="607"/>
                    </a:lnTo>
                    <a:lnTo>
                      <a:pt x="2626" y="595"/>
                    </a:lnTo>
                    <a:lnTo>
                      <a:pt x="2626" y="577"/>
                    </a:lnTo>
                    <a:lnTo>
                      <a:pt x="2632" y="559"/>
                    </a:lnTo>
                    <a:lnTo>
                      <a:pt x="2632" y="541"/>
                    </a:lnTo>
                    <a:lnTo>
                      <a:pt x="2632" y="529"/>
                    </a:lnTo>
                    <a:lnTo>
                      <a:pt x="2632" y="511"/>
                    </a:lnTo>
                    <a:lnTo>
                      <a:pt x="2626" y="493"/>
                    </a:lnTo>
                    <a:lnTo>
                      <a:pt x="2626" y="475"/>
                    </a:lnTo>
                    <a:lnTo>
                      <a:pt x="2620" y="463"/>
                    </a:lnTo>
                    <a:lnTo>
                      <a:pt x="2614" y="445"/>
                    </a:lnTo>
                    <a:lnTo>
                      <a:pt x="2608" y="433"/>
                    </a:lnTo>
                    <a:lnTo>
                      <a:pt x="2596" y="415"/>
                    </a:lnTo>
                    <a:lnTo>
                      <a:pt x="2590" y="402"/>
                    </a:lnTo>
                    <a:lnTo>
                      <a:pt x="2578" y="384"/>
                    </a:lnTo>
                    <a:lnTo>
                      <a:pt x="2566" y="372"/>
                    </a:lnTo>
                    <a:lnTo>
                      <a:pt x="2554" y="360"/>
                    </a:lnTo>
                    <a:lnTo>
                      <a:pt x="2542" y="342"/>
                    </a:lnTo>
                    <a:lnTo>
                      <a:pt x="2524" y="336"/>
                    </a:lnTo>
                    <a:lnTo>
                      <a:pt x="2512" y="324"/>
                    </a:lnTo>
                    <a:lnTo>
                      <a:pt x="2494" y="312"/>
                    </a:lnTo>
                    <a:lnTo>
                      <a:pt x="2482" y="300"/>
                    </a:lnTo>
                    <a:lnTo>
                      <a:pt x="2464" y="294"/>
                    </a:lnTo>
                    <a:lnTo>
                      <a:pt x="2446" y="282"/>
                    </a:lnTo>
                    <a:lnTo>
                      <a:pt x="2428" y="276"/>
                    </a:lnTo>
                    <a:lnTo>
                      <a:pt x="2409" y="270"/>
                    </a:lnTo>
                    <a:lnTo>
                      <a:pt x="2385" y="264"/>
                    </a:lnTo>
                    <a:lnTo>
                      <a:pt x="2367" y="258"/>
                    </a:lnTo>
                    <a:lnTo>
                      <a:pt x="2349" y="258"/>
                    </a:lnTo>
                    <a:lnTo>
                      <a:pt x="2325" y="252"/>
                    </a:lnTo>
                    <a:lnTo>
                      <a:pt x="2307" y="252"/>
                    </a:lnTo>
                    <a:lnTo>
                      <a:pt x="2283" y="252"/>
                    </a:lnTo>
                    <a:lnTo>
                      <a:pt x="2265" y="252"/>
                    </a:lnTo>
                    <a:lnTo>
                      <a:pt x="2247" y="252"/>
                    </a:lnTo>
                    <a:lnTo>
                      <a:pt x="2223" y="252"/>
                    </a:lnTo>
                    <a:lnTo>
                      <a:pt x="2205" y="258"/>
                    </a:lnTo>
                    <a:lnTo>
                      <a:pt x="2181" y="258"/>
                    </a:lnTo>
                    <a:lnTo>
                      <a:pt x="2163" y="264"/>
                    </a:lnTo>
                    <a:lnTo>
                      <a:pt x="2145" y="270"/>
                    </a:lnTo>
                    <a:lnTo>
                      <a:pt x="2127" y="276"/>
                    </a:lnTo>
                    <a:lnTo>
                      <a:pt x="2109" y="288"/>
                    </a:lnTo>
                    <a:lnTo>
                      <a:pt x="2091" y="294"/>
                    </a:lnTo>
                    <a:lnTo>
                      <a:pt x="2079" y="300"/>
                    </a:lnTo>
                  </a:path>
                </a:pathLst>
              </a:custGeom>
              <a:gradFill rotWithShape="0">
                <a:gsLst>
                  <a:gs pos="0">
                    <a:srgbClr val="afd7ff"/>
                  </a:gs>
                  <a:gs pos="50000">
                    <a:srgbClr val="ffffff"/>
                  </a:gs>
                  <a:gs pos="100000">
                    <a:srgbClr val="afd7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638880" y="4989600"/>
              <a:ext cx="1082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6326280" y="1969920"/>
            <a:ext cx="822240" cy="1697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3427560"/>
            <a:ext cx="25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NC Logo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010120" y="3213000"/>
            <a:ext cx="731520" cy="1004760"/>
            <a:chOff x="5010120" y="3213000"/>
            <a:chExt cx="731520" cy="1004760"/>
          </a:xfrm>
        </p:grpSpPr>
        <p:sp>
          <p:nvSpPr>
            <p:cNvPr id="139" name=""/>
            <p:cNvSpPr/>
            <p:nvPr/>
          </p:nvSpPr>
          <p:spPr>
            <a:xfrm>
              <a:off x="5011920" y="3414600"/>
              <a:ext cx="430920" cy="803160"/>
            </a:xfrm>
            <a:custGeom>
              <a:avLst/>
              <a:gdLst/>
              <a:ahLst/>
              <a:rect l="l" t="t" r="r" b="b"/>
              <a:pathLst>
                <a:path w="1542" h="2894">
                  <a:moveTo>
                    <a:pt x="1542" y="2892"/>
                  </a:moveTo>
                  <a:lnTo>
                    <a:pt x="1534" y="2894"/>
                  </a:lnTo>
                  <a:lnTo>
                    <a:pt x="1527" y="2894"/>
                  </a:lnTo>
                  <a:lnTo>
                    <a:pt x="1520" y="2893"/>
                  </a:lnTo>
                  <a:lnTo>
                    <a:pt x="1516" y="2892"/>
                  </a:lnTo>
                  <a:lnTo>
                    <a:pt x="0" y="2473"/>
                  </a:lnTo>
                  <a:lnTo>
                    <a:pt x="1" y="0"/>
                  </a:lnTo>
                  <a:lnTo>
                    <a:pt x="1510" y="207"/>
                  </a:lnTo>
                  <a:lnTo>
                    <a:pt x="1516" y="208"/>
                  </a:lnTo>
                  <a:lnTo>
                    <a:pt x="1523" y="208"/>
                  </a:lnTo>
                  <a:lnTo>
                    <a:pt x="1530" y="208"/>
                  </a:lnTo>
                  <a:lnTo>
                    <a:pt x="1537" y="207"/>
                  </a:lnTo>
                  <a:lnTo>
                    <a:pt x="1538" y="207"/>
                  </a:lnTo>
                  <a:lnTo>
                    <a:pt x="1540" y="206"/>
                  </a:lnTo>
                  <a:lnTo>
                    <a:pt x="1541" y="206"/>
                  </a:lnTo>
                  <a:lnTo>
                    <a:pt x="1542" y="206"/>
                  </a:lnTo>
                  <a:lnTo>
                    <a:pt x="1542" y="2892"/>
                  </a:lnTo>
                  <a:close/>
                </a:path>
              </a:pathLst>
            </a:custGeom>
            <a:solidFill>
              <a:srgbClr val="ffffe8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1920" y="3414600"/>
              <a:ext cx="430920" cy="803160"/>
            </a:xfrm>
            <a:custGeom>
              <a:avLst/>
              <a:gdLst/>
              <a:ahLst/>
              <a:rect l="l" t="t" r="r" b="b"/>
              <a:pathLst>
                <a:path w="1542" h="2894">
                  <a:moveTo>
                    <a:pt x="1542" y="2892"/>
                  </a:moveTo>
                  <a:lnTo>
                    <a:pt x="1542" y="2892"/>
                  </a:lnTo>
                  <a:lnTo>
                    <a:pt x="1534" y="2894"/>
                  </a:lnTo>
                  <a:lnTo>
                    <a:pt x="1527" y="2894"/>
                  </a:lnTo>
                  <a:lnTo>
                    <a:pt x="1520" y="2893"/>
                  </a:lnTo>
                  <a:lnTo>
                    <a:pt x="1516" y="2892"/>
                  </a:lnTo>
                  <a:lnTo>
                    <a:pt x="0" y="2473"/>
                  </a:lnTo>
                  <a:lnTo>
                    <a:pt x="1" y="0"/>
                  </a:lnTo>
                  <a:lnTo>
                    <a:pt x="1510" y="207"/>
                  </a:lnTo>
                  <a:lnTo>
                    <a:pt x="1510" y="207"/>
                  </a:lnTo>
                  <a:lnTo>
                    <a:pt x="1516" y="208"/>
                  </a:lnTo>
                  <a:lnTo>
                    <a:pt x="1523" y="208"/>
                  </a:lnTo>
                  <a:lnTo>
                    <a:pt x="1530" y="208"/>
                  </a:lnTo>
                  <a:lnTo>
                    <a:pt x="1537" y="207"/>
                  </a:lnTo>
                  <a:lnTo>
                    <a:pt x="1537" y="207"/>
                  </a:lnTo>
                  <a:lnTo>
                    <a:pt x="1538" y="207"/>
                  </a:lnTo>
                  <a:lnTo>
                    <a:pt x="1540" y="206"/>
                  </a:lnTo>
                  <a:lnTo>
                    <a:pt x="1541" y="206"/>
                  </a:lnTo>
                  <a:lnTo>
                    <a:pt x="1542" y="206"/>
                  </a:lnTo>
                  <a:lnTo>
                    <a:pt x="1542" y="2892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11920" y="3414600"/>
              <a:ext cx="3240" cy="686160"/>
            </a:xfrm>
            <a:custGeom>
              <a:avLst/>
              <a:gdLst/>
              <a:ahLst/>
              <a:rect l="l" t="t" r="r" b="b"/>
              <a:pathLst>
                <a:path w="11" h="2472">
                  <a:moveTo>
                    <a:pt x="6" y="0"/>
                  </a:moveTo>
                  <a:lnTo>
                    <a:pt x="0" y="0"/>
                  </a:lnTo>
                  <a:lnTo>
                    <a:pt x="0" y="2472"/>
                  </a:lnTo>
                  <a:lnTo>
                    <a:pt x="11" y="2472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43200" y="3244680"/>
              <a:ext cx="297000" cy="973080"/>
            </a:xfrm>
            <a:custGeom>
              <a:avLst/>
              <a:gdLst/>
              <a:ahLst/>
              <a:rect l="l" t="t" r="r" b="b"/>
              <a:pathLst>
                <a:path w="1066" h="3501">
                  <a:moveTo>
                    <a:pt x="0" y="3501"/>
                  </a:moveTo>
                  <a:lnTo>
                    <a:pt x="6" y="3500"/>
                  </a:lnTo>
                  <a:lnTo>
                    <a:pt x="10" y="3496"/>
                  </a:lnTo>
                  <a:lnTo>
                    <a:pt x="15" y="3493"/>
                  </a:lnTo>
                  <a:lnTo>
                    <a:pt x="21" y="3488"/>
                  </a:lnTo>
                  <a:lnTo>
                    <a:pt x="1066" y="2445"/>
                  </a:lnTo>
                  <a:lnTo>
                    <a:pt x="1066" y="0"/>
                  </a:lnTo>
                  <a:lnTo>
                    <a:pt x="50" y="426"/>
                  </a:lnTo>
                  <a:lnTo>
                    <a:pt x="50" y="797"/>
                  </a:lnTo>
                  <a:lnTo>
                    <a:pt x="45" y="800"/>
                  </a:lnTo>
                  <a:lnTo>
                    <a:pt x="39" y="803"/>
                  </a:lnTo>
                  <a:lnTo>
                    <a:pt x="32" y="806"/>
                  </a:lnTo>
                  <a:lnTo>
                    <a:pt x="26" y="808"/>
                  </a:lnTo>
                  <a:lnTo>
                    <a:pt x="20" y="811"/>
                  </a:lnTo>
                  <a:lnTo>
                    <a:pt x="13" y="812"/>
                  </a:lnTo>
                  <a:lnTo>
                    <a:pt x="7" y="814"/>
                  </a:lnTo>
                  <a:lnTo>
                    <a:pt x="0" y="815"/>
                  </a:lnTo>
                  <a:lnTo>
                    <a:pt x="0" y="3501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3200" y="3244680"/>
              <a:ext cx="297000" cy="973080"/>
            </a:xfrm>
            <a:custGeom>
              <a:avLst/>
              <a:gdLst/>
              <a:ahLst/>
              <a:rect l="l" t="t" r="r" b="b"/>
              <a:pathLst>
                <a:path w="1066" h="3501">
                  <a:moveTo>
                    <a:pt x="0" y="3501"/>
                  </a:moveTo>
                  <a:lnTo>
                    <a:pt x="0" y="3501"/>
                  </a:lnTo>
                  <a:lnTo>
                    <a:pt x="6" y="3500"/>
                  </a:lnTo>
                  <a:lnTo>
                    <a:pt x="10" y="3496"/>
                  </a:lnTo>
                  <a:lnTo>
                    <a:pt x="15" y="3493"/>
                  </a:lnTo>
                  <a:lnTo>
                    <a:pt x="21" y="3488"/>
                  </a:lnTo>
                  <a:lnTo>
                    <a:pt x="1066" y="2445"/>
                  </a:lnTo>
                  <a:lnTo>
                    <a:pt x="1066" y="0"/>
                  </a:lnTo>
                  <a:lnTo>
                    <a:pt x="50" y="426"/>
                  </a:lnTo>
                  <a:lnTo>
                    <a:pt x="50" y="797"/>
                  </a:lnTo>
                  <a:lnTo>
                    <a:pt x="50" y="797"/>
                  </a:lnTo>
                  <a:lnTo>
                    <a:pt x="45" y="800"/>
                  </a:lnTo>
                  <a:lnTo>
                    <a:pt x="39" y="803"/>
                  </a:lnTo>
                  <a:lnTo>
                    <a:pt x="32" y="806"/>
                  </a:lnTo>
                  <a:lnTo>
                    <a:pt x="26" y="808"/>
                  </a:lnTo>
                  <a:lnTo>
                    <a:pt x="20" y="811"/>
                  </a:lnTo>
                  <a:lnTo>
                    <a:pt x="13" y="812"/>
                  </a:lnTo>
                  <a:lnTo>
                    <a:pt x="7" y="814"/>
                  </a:lnTo>
                  <a:lnTo>
                    <a:pt x="0" y="815"/>
                  </a:lnTo>
                  <a:lnTo>
                    <a:pt x="0" y="3501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740200" y="3244680"/>
              <a:ext cx="1440" cy="6796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40360" y="3546360"/>
              <a:ext cx="111960" cy="258120"/>
            </a:xfrm>
            <a:custGeom>
              <a:avLst/>
              <a:gdLst/>
              <a:ahLst/>
              <a:rect l="l" t="t" r="r" b="b"/>
              <a:pathLst>
                <a:path w="408" h="927">
                  <a:moveTo>
                    <a:pt x="408" y="927"/>
                  </a:moveTo>
                  <a:lnTo>
                    <a:pt x="408" y="67"/>
                  </a:lnTo>
                  <a:lnTo>
                    <a:pt x="0" y="0"/>
                  </a:lnTo>
                  <a:lnTo>
                    <a:pt x="0" y="840"/>
                  </a:lnTo>
                  <a:lnTo>
                    <a:pt x="408" y="927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48640" y="3578040"/>
              <a:ext cx="95400" cy="219960"/>
            </a:xfrm>
            <a:custGeom>
              <a:avLst/>
              <a:gdLst/>
              <a:ahLst/>
              <a:rect l="l" t="t" r="r" b="b"/>
              <a:pathLst>
                <a:path w="345" h="794">
                  <a:moveTo>
                    <a:pt x="345" y="794"/>
                  </a:moveTo>
                  <a:lnTo>
                    <a:pt x="345" y="58"/>
                  </a:lnTo>
                  <a:lnTo>
                    <a:pt x="0" y="0"/>
                  </a:lnTo>
                  <a:lnTo>
                    <a:pt x="0" y="721"/>
                  </a:lnTo>
                  <a:lnTo>
                    <a:pt x="345" y="794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48640" y="3578040"/>
              <a:ext cx="95400" cy="219960"/>
            </a:xfrm>
            <a:custGeom>
              <a:avLst/>
              <a:gdLst/>
              <a:ahLst/>
              <a:rect l="l" t="t" r="r" b="b"/>
              <a:pathLst>
                <a:path w="345" h="794">
                  <a:moveTo>
                    <a:pt x="345" y="794"/>
                  </a:moveTo>
                  <a:lnTo>
                    <a:pt x="345" y="58"/>
                  </a:lnTo>
                  <a:lnTo>
                    <a:pt x="0" y="0"/>
                  </a:lnTo>
                  <a:lnTo>
                    <a:pt x="0" y="721"/>
                  </a:lnTo>
                  <a:lnTo>
                    <a:pt x="345" y="794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04880" y="3464640"/>
              <a:ext cx="199800" cy="174960"/>
            </a:xfrm>
            <a:custGeom>
              <a:avLst/>
              <a:gdLst/>
              <a:ahLst/>
              <a:rect l="l" t="t" r="r" b="b"/>
              <a:pathLst>
                <a:path w="714" h="631">
                  <a:moveTo>
                    <a:pt x="714" y="631"/>
                  </a:moveTo>
                  <a:lnTo>
                    <a:pt x="714" y="104"/>
                  </a:lnTo>
                  <a:lnTo>
                    <a:pt x="0" y="0"/>
                  </a:lnTo>
                  <a:lnTo>
                    <a:pt x="0" y="510"/>
                  </a:lnTo>
                  <a:lnTo>
                    <a:pt x="714" y="631"/>
                  </a:lnTo>
                  <a:close/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4880" y="3464640"/>
              <a:ext cx="199800" cy="174960"/>
            </a:xfrm>
            <a:custGeom>
              <a:avLst/>
              <a:gdLst/>
              <a:ahLst/>
              <a:rect l="l" t="t" r="r" b="b"/>
              <a:pathLst>
                <a:path w="714" h="631">
                  <a:moveTo>
                    <a:pt x="714" y="631"/>
                  </a:moveTo>
                  <a:lnTo>
                    <a:pt x="714" y="104"/>
                  </a:lnTo>
                  <a:lnTo>
                    <a:pt x="0" y="0"/>
                  </a:lnTo>
                  <a:lnTo>
                    <a:pt x="0" y="510"/>
                  </a:lnTo>
                  <a:lnTo>
                    <a:pt x="714" y="631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360" y="3482640"/>
              <a:ext cx="111960" cy="73080"/>
            </a:xfrm>
            <a:custGeom>
              <a:avLst/>
              <a:gdLst/>
              <a:ahLst/>
              <a:rect l="l" t="t" r="r" b="b"/>
              <a:pathLst>
                <a:path w="408" h="261">
                  <a:moveTo>
                    <a:pt x="408" y="261"/>
                  </a:moveTo>
                  <a:lnTo>
                    <a:pt x="408" y="64"/>
                  </a:lnTo>
                  <a:lnTo>
                    <a:pt x="0" y="0"/>
                  </a:lnTo>
                  <a:lnTo>
                    <a:pt x="0" y="195"/>
                  </a:lnTo>
                  <a:lnTo>
                    <a:pt x="408" y="261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2400" y="3587760"/>
              <a:ext cx="48240" cy="198360"/>
            </a:xfrm>
            <a:custGeom>
              <a:avLst/>
              <a:gdLst/>
              <a:ahLst/>
              <a:rect l="l" t="t" r="r" b="b"/>
              <a:pathLst>
                <a:path w="170" h="713">
                  <a:moveTo>
                    <a:pt x="157" y="713"/>
                  </a:moveTo>
                  <a:lnTo>
                    <a:pt x="162" y="712"/>
                  </a:lnTo>
                  <a:lnTo>
                    <a:pt x="166" y="708"/>
                  </a:lnTo>
                  <a:lnTo>
                    <a:pt x="169" y="704"/>
                  </a:lnTo>
                  <a:lnTo>
                    <a:pt x="170" y="697"/>
                  </a:lnTo>
                  <a:lnTo>
                    <a:pt x="170" y="39"/>
                  </a:lnTo>
                  <a:lnTo>
                    <a:pt x="169" y="33"/>
                  </a:lnTo>
                  <a:lnTo>
                    <a:pt x="166" y="29"/>
                  </a:lnTo>
                  <a:lnTo>
                    <a:pt x="162" y="26"/>
                  </a:lnTo>
                  <a:lnTo>
                    <a:pt x="157" y="25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669"/>
                  </a:lnTo>
                  <a:lnTo>
                    <a:pt x="1" y="675"/>
                  </a:lnTo>
                  <a:lnTo>
                    <a:pt x="3" y="679"/>
                  </a:lnTo>
                  <a:lnTo>
                    <a:pt x="8" y="683"/>
                  </a:lnTo>
                  <a:lnTo>
                    <a:pt x="13" y="684"/>
                  </a:lnTo>
                  <a:lnTo>
                    <a:pt x="157" y="713"/>
                  </a:lnTo>
                  <a:close/>
                </a:path>
              </a:pathLst>
            </a:custGeom>
            <a:solidFill>
              <a:srgbClr val="ffffe8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200" y="3599640"/>
              <a:ext cx="1440" cy="181800"/>
            </a:xfrm>
            <a:custGeom>
              <a:avLst/>
              <a:gdLst/>
              <a:ahLst/>
              <a:rect l="l" t="t" r="r" b="b"/>
              <a:pathLst>
                <a:path w="8" h="658">
                  <a:moveTo>
                    <a:pt x="0" y="0"/>
                  </a:moveTo>
                  <a:lnTo>
                    <a:pt x="0" y="0"/>
                  </a:lnTo>
                  <a:lnTo>
                    <a:pt x="0" y="658"/>
                  </a:lnTo>
                  <a:lnTo>
                    <a:pt x="8" y="65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11920" y="3213000"/>
              <a:ext cx="728280" cy="156240"/>
            </a:xfrm>
            <a:custGeom>
              <a:avLst/>
              <a:gdLst/>
              <a:ahLst/>
              <a:rect l="l" t="t" r="r" b="b"/>
              <a:pathLst>
                <a:path w="2609" h="564">
                  <a:moveTo>
                    <a:pt x="1543" y="564"/>
                  </a:moveTo>
                  <a:lnTo>
                    <a:pt x="0" y="378"/>
                  </a:lnTo>
                  <a:lnTo>
                    <a:pt x="1251" y="0"/>
                  </a:lnTo>
                  <a:lnTo>
                    <a:pt x="2609" y="117"/>
                  </a:lnTo>
                  <a:lnTo>
                    <a:pt x="1543" y="564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53280" y="3362760"/>
              <a:ext cx="8280" cy="843120"/>
            </a:xfrm>
            <a:custGeom>
              <a:avLst/>
              <a:gdLst/>
              <a:ahLst/>
              <a:rect l="l" t="t" r="r" b="b"/>
              <a:pathLst>
                <a:path w="30" h="3036">
                  <a:moveTo>
                    <a:pt x="15" y="3036"/>
                  </a:moveTo>
                  <a:lnTo>
                    <a:pt x="30" y="303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036"/>
                  </a:lnTo>
                  <a:lnTo>
                    <a:pt x="15" y="3036"/>
                  </a:lnTo>
                  <a:close/>
                </a:path>
              </a:pathLst>
            </a:custGeom>
            <a:solidFill>
              <a:srgbClr val="828282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1920" y="4101120"/>
              <a:ext cx="430920" cy="116640"/>
            </a:xfrm>
            <a:custGeom>
              <a:avLst/>
              <a:gdLst/>
              <a:ahLst/>
              <a:rect l="l" t="t" r="r" b="b"/>
              <a:pathLst>
                <a:path w="1542" h="421">
                  <a:moveTo>
                    <a:pt x="1542" y="419"/>
                  </a:moveTo>
                  <a:lnTo>
                    <a:pt x="1542" y="419"/>
                  </a:lnTo>
                  <a:lnTo>
                    <a:pt x="1534" y="421"/>
                  </a:lnTo>
                  <a:lnTo>
                    <a:pt x="1527" y="421"/>
                  </a:lnTo>
                  <a:lnTo>
                    <a:pt x="1520" y="420"/>
                  </a:lnTo>
                  <a:lnTo>
                    <a:pt x="1516" y="4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43200" y="3924720"/>
              <a:ext cx="297000" cy="293040"/>
            </a:xfrm>
            <a:custGeom>
              <a:avLst/>
              <a:gdLst/>
              <a:ahLst/>
              <a:rect l="l" t="t" r="r" b="b"/>
              <a:pathLst>
                <a:path w="1066" h="1056">
                  <a:moveTo>
                    <a:pt x="0" y="1056"/>
                  </a:moveTo>
                  <a:lnTo>
                    <a:pt x="0" y="1056"/>
                  </a:lnTo>
                  <a:lnTo>
                    <a:pt x="6" y="1055"/>
                  </a:lnTo>
                  <a:lnTo>
                    <a:pt x="10" y="1051"/>
                  </a:lnTo>
                  <a:lnTo>
                    <a:pt x="15" y="1048"/>
                  </a:lnTo>
                  <a:lnTo>
                    <a:pt x="21" y="1043"/>
                  </a:lnTo>
                  <a:lnTo>
                    <a:pt x="1066" y="0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181120" y="4144320"/>
              <a:ext cx="3240" cy="3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4680" y="3663000"/>
              <a:ext cx="1440" cy="28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lnTo>
                    <a:pt x="7" y="14"/>
                  </a:lnTo>
                  <a:lnTo>
                    <a:pt x="9" y="1"/>
                  </a:lnTo>
                  <a:lnTo>
                    <a:pt x="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04880" y="3627720"/>
              <a:ext cx="199800" cy="38160"/>
            </a:xfrm>
            <a:custGeom>
              <a:avLst/>
              <a:gdLst/>
              <a:ahLst/>
              <a:rect l="l" t="t" r="r" b="b"/>
              <a:pathLst>
                <a:path w="716" h="136">
                  <a:moveTo>
                    <a:pt x="1" y="6"/>
                  </a:moveTo>
                  <a:lnTo>
                    <a:pt x="0" y="13"/>
                  </a:lnTo>
                  <a:lnTo>
                    <a:pt x="713" y="136"/>
                  </a:lnTo>
                  <a:lnTo>
                    <a:pt x="716" y="123"/>
                  </a:lnTo>
                  <a:lnTo>
                    <a:pt x="2" y="0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3f7f7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03440" y="3769560"/>
              <a:ext cx="1440" cy="3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"/>
                  </a:moveTo>
                  <a:lnTo>
                    <a:pt x="2" y="0"/>
                  </a:lnTo>
                  <a:lnTo>
                    <a:pt x="0" y="12"/>
                  </a:lnTo>
                  <a:lnTo>
                    <a:pt x="7" y="1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4880" y="3769560"/>
              <a:ext cx="199800" cy="42840"/>
            </a:xfrm>
            <a:custGeom>
              <a:avLst/>
              <a:gdLst/>
              <a:ahLst/>
              <a:rect l="l" t="t" r="r" b="b"/>
              <a:pathLst>
                <a:path w="716" h="156">
                  <a:moveTo>
                    <a:pt x="715" y="150"/>
                  </a:moveTo>
                  <a:lnTo>
                    <a:pt x="716" y="143"/>
                  </a:lnTo>
                  <a:lnTo>
                    <a:pt x="2" y="0"/>
                  </a:lnTo>
                  <a:lnTo>
                    <a:pt x="0" y="13"/>
                  </a:lnTo>
                  <a:lnTo>
                    <a:pt x="713" y="156"/>
                  </a:lnTo>
                  <a:lnTo>
                    <a:pt x="715" y="1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04680" y="3809520"/>
              <a:ext cx="1440" cy="28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lnTo>
                    <a:pt x="7" y="14"/>
                  </a:lnTo>
                  <a:lnTo>
                    <a:pt x="9" y="1"/>
                  </a:lnTo>
                  <a:lnTo>
                    <a:pt x="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06120" y="3663000"/>
              <a:ext cx="3240" cy="144720"/>
            </a:xfrm>
            <a:custGeom>
              <a:avLst/>
              <a:gdLst/>
              <a:ahLst/>
              <a:rect l="l" t="t" r="r" b="b"/>
              <a:pathLst>
                <a:path w="12" h="526">
                  <a:moveTo>
                    <a:pt x="6" y="0"/>
                  </a:moveTo>
                  <a:lnTo>
                    <a:pt x="0" y="0"/>
                  </a:lnTo>
                  <a:lnTo>
                    <a:pt x="0" y="526"/>
                  </a:lnTo>
                  <a:lnTo>
                    <a:pt x="12" y="52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04880" y="3627720"/>
              <a:ext cx="4680" cy="141480"/>
            </a:xfrm>
            <a:custGeom>
              <a:avLst/>
              <a:gdLst/>
              <a:ahLst/>
              <a:rect l="l" t="t" r="r" b="b"/>
              <a:pathLst>
                <a:path w="13" h="507">
                  <a:moveTo>
                    <a:pt x="6" y="507"/>
                  </a:moveTo>
                  <a:lnTo>
                    <a:pt x="13" y="50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7"/>
                  </a:lnTo>
                  <a:lnTo>
                    <a:pt x="6" y="50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02880" y="3661200"/>
              <a:ext cx="3240" cy="146520"/>
            </a:xfrm>
            <a:custGeom>
              <a:avLst/>
              <a:gdLst/>
              <a:ahLst/>
              <a:rect l="l" t="t" r="r" b="b"/>
              <a:pathLst>
                <a:path w="13" h="532">
                  <a:moveTo>
                    <a:pt x="5" y="12"/>
                  </a:moveTo>
                  <a:lnTo>
                    <a:pt x="0" y="6"/>
                  </a:lnTo>
                  <a:lnTo>
                    <a:pt x="0" y="532"/>
                  </a:lnTo>
                  <a:lnTo>
                    <a:pt x="13" y="532"/>
                  </a:lnTo>
                  <a:lnTo>
                    <a:pt x="13" y="6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1"/>
                  </a:lnTo>
                  <a:lnTo>
                    <a:pt x="8" y="0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03440" y="3626280"/>
              <a:ext cx="201240" cy="38160"/>
            </a:xfrm>
            <a:custGeom>
              <a:avLst/>
              <a:gdLst/>
              <a:ahLst/>
              <a:rect l="l" t="t" r="r" b="b"/>
              <a:pathLst>
                <a:path w="722" h="137">
                  <a:moveTo>
                    <a:pt x="13" y="8"/>
                  </a:moveTo>
                  <a:lnTo>
                    <a:pt x="6" y="14"/>
                  </a:lnTo>
                  <a:lnTo>
                    <a:pt x="719" y="137"/>
                  </a:lnTo>
                  <a:lnTo>
                    <a:pt x="722" y="125"/>
                  </a:lnTo>
                  <a:lnTo>
                    <a:pt x="8" y="1"/>
                  </a:lnTo>
                  <a:lnTo>
                    <a:pt x="0" y="8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3440" y="3627720"/>
              <a:ext cx="2880" cy="142920"/>
            </a:xfrm>
            <a:custGeom>
              <a:avLst/>
              <a:gdLst/>
              <a:ahLst/>
              <a:rect l="l" t="t" r="r" b="b"/>
              <a:pathLst>
                <a:path w="13" h="513">
                  <a:moveTo>
                    <a:pt x="8" y="500"/>
                  </a:moveTo>
                  <a:lnTo>
                    <a:pt x="13" y="50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7"/>
                  </a:lnTo>
                  <a:lnTo>
                    <a:pt x="6" y="513"/>
                  </a:lnTo>
                  <a:lnTo>
                    <a:pt x="0" y="507"/>
                  </a:lnTo>
                  <a:lnTo>
                    <a:pt x="0" y="512"/>
                  </a:lnTo>
                  <a:lnTo>
                    <a:pt x="6" y="513"/>
                  </a:lnTo>
                  <a:lnTo>
                    <a:pt x="8" y="5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04880" y="3767760"/>
              <a:ext cx="201240" cy="43200"/>
            </a:xfrm>
            <a:custGeom>
              <a:avLst/>
              <a:gdLst/>
              <a:ahLst/>
              <a:rect l="l" t="t" r="r" b="b"/>
              <a:pathLst>
                <a:path w="721" h="157">
                  <a:moveTo>
                    <a:pt x="708" y="149"/>
                  </a:moveTo>
                  <a:lnTo>
                    <a:pt x="716" y="143"/>
                  </a:lnTo>
                  <a:lnTo>
                    <a:pt x="2" y="0"/>
                  </a:lnTo>
                  <a:lnTo>
                    <a:pt x="0" y="13"/>
                  </a:lnTo>
                  <a:lnTo>
                    <a:pt x="713" y="156"/>
                  </a:lnTo>
                  <a:lnTo>
                    <a:pt x="721" y="149"/>
                  </a:lnTo>
                  <a:lnTo>
                    <a:pt x="713" y="156"/>
                  </a:lnTo>
                  <a:lnTo>
                    <a:pt x="721" y="157"/>
                  </a:lnTo>
                  <a:lnTo>
                    <a:pt x="721" y="149"/>
                  </a:lnTo>
                  <a:lnTo>
                    <a:pt x="708" y="1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179680" y="3839400"/>
              <a:ext cx="1440" cy="3081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11920" y="3803040"/>
              <a:ext cx="171000" cy="363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0120" y="3798000"/>
              <a:ext cx="173160" cy="39960"/>
            </a:xfrm>
            <a:custGeom>
              <a:avLst/>
              <a:gdLst/>
              <a:ahLst/>
              <a:rect l="l" t="t" r="r" b="b"/>
              <a:pathLst>
                <a:path w="617" h="147">
                  <a:moveTo>
                    <a:pt x="616" y="139"/>
                  </a:moveTo>
                  <a:lnTo>
                    <a:pt x="617" y="132"/>
                  </a:lnTo>
                  <a:lnTo>
                    <a:pt x="2" y="0"/>
                  </a:lnTo>
                  <a:lnTo>
                    <a:pt x="0" y="15"/>
                  </a:lnTo>
                  <a:lnTo>
                    <a:pt x="615" y="147"/>
                  </a:lnTo>
                  <a:lnTo>
                    <a:pt x="616" y="139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186160" y="3440880"/>
              <a:ext cx="1800" cy="7066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11920" y="3441240"/>
              <a:ext cx="167760" cy="391320"/>
            </a:xfrm>
            <a:custGeom>
              <a:avLst/>
              <a:gdLst/>
              <a:ahLst/>
              <a:rect l="l" t="t" r="r" b="b"/>
              <a:pathLst>
                <a:path w="603" h="1409">
                  <a:moveTo>
                    <a:pt x="603" y="0"/>
                  </a:moveTo>
                  <a:lnTo>
                    <a:pt x="603" y="1409"/>
                  </a:lnTo>
                  <a:lnTo>
                    <a:pt x="0" y="1281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120" y="3441240"/>
              <a:ext cx="3240" cy="706680"/>
            </a:xfrm>
            <a:custGeom>
              <a:avLst/>
              <a:gdLst/>
              <a:ahLst/>
              <a:rect l="l" t="t" r="r" b="b"/>
              <a:pathLst>
                <a:path w="15" h="2546">
                  <a:moveTo>
                    <a:pt x="7" y="0"/>
                  </a:moveTo>
                  <a:lnTo>
                    <a:pt x="0" y="0"/>
                  </a:lnTo>
                  <a:lnTo>
                    <a:pt x="0" y="2546"/>
                  </a:lnTo>
                  <a:lnTo>
                    <a:pt x="15" y="2546"/>
                  </a:lnTo>
                  <a:lnTo>
                    <a:pt x="1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40360" y="3546360"/>
              <a:ext cx="111960" cy="235080"/>
            </a:xfrm>
            <a:custGeom>
              <a:avLst/>
              <a:gdLst/>
              <a:ahLst/>
              <a:rect l="l" t="t" r="r" b="b"/>
              <a:pathLst>
                <a:path w="408" h="842">
                  <a:moveTo>
                    <a:pt x="14" y="842"/>
                  </a:moveTo>
                  <a:lnTo>
                    <a:pt x="14" y="10"/>
                  </a:lnTo>
                  <a:lnTo>
                    <a:pt x="408" y="75"/>
                  </a:lnTo>
                  <a:lnTo>
                    <a:pt x="408" y="67"/>
                  </a:lnTo>
                  <a:lnTo>
                    <a:pt x="0" y="0"/>
                  </a:lnTo>
                  <a:lnTo>
                    <a:pt x="0" y="840"/>
                  </a:lnTo>
                  <a:lnTo>
                    <a:pt x="14" y="842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40360" y="3546360"/>
              <a:ext cx="111960" cy="235080"/>
            </a:xfrm>
            <a:custGeom>
              <a:avLst/>
              <a:gdLst/>
              <a:ahLst/>
              <a:rect l="l" t="t" r="r" b="b"/>
              <a:pathLst>
                <a:path w="408" h="842">
                  <a:moveTo>
                    <a:pt x="14" y="842"/>
                  </a:moveTo>
                  <a:lnTo>
                    <a:pt x="14" y="10"/>
                  </a:lnTo>
                  <a:lnTo>
                    <a:pt x="408" y="75"/>
                  </a:lnTo>
                  <a:lnTo>
                    <a:pt x="408" y="67"/>
                  </a:lnTo>
                  <a:lnTo>
                    <a:pt x="0" y="0"/>
                  </a:lnTo>
                  <a:lnTo>
                    <a:pt x="0" y="840"/>
                  </a:lnTo>
                  <a:lnTo>
                    <a:pt x="14" y="842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1920" y="3213000"/>
              <a:ext cx="728280" cy="156240"/>
            </a:xfrm>
            <a:custGeom>
              <a:avLst/>
              <a:gdLst/>
              <a:ahLst/>
              <a:rect l="l" t="t" r="r" b="b"/>
              <a:pathLst>
                <a:path w="2609" h="564">
                  <a:moveTo>
                    <a:pt x="1543" y="564"/>
                  </a:moveTo>
                  <a:lnTo>
                    <a:pt x="0" y="378"/>
                  </a:lnTo>
                  <a:lnTo>
                    <a:pt x="1251" y="0"/>
                  </a:lnTo>
                  <a:lnTo>
                    <a:pt x="2609" y="117"/>
                  </a:lnTo>
                  <a:lnTo>
                    <a:pt x="1543" y="564"/>
                  </a:lnTo>
                  <a:close/>
                </a:path>
              </a:pathLst>
            </a:custGeom>
            <a:solidFill>
              <a:srgbClr val="ffffe8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11920" y="3213000"/>
              <a:ext cx="728280" cy="156240"/>
            </a:xfrm>
            <a:custGeom>
              <a:avLst/>
              <a:gdLst/>
              <a:ahLst/>
              <a:rect l="l" t="t" r="r" b="b"/>
              <a:pathLst>
                <a:path w="2609" h="564">
                  <a:moveTo>
                    <a:pt x="1543" y="564"/>
                  </a:moveTo>
                  <a:lnTo>
                    <a:pt x="0" y="378"/>
                  </a:lnTo>
                  <a:lnTo>
                    <a:pt x="1251" y="0"/>
                  </a:lnTo>
                  <a:lnTo>
                    <a:pt x="2609" y="117"/>
                  </a:lnTo>
                  <a:lnTo>
                    <a:pt x="1543" y="564"/>
                  </a:lnTo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5160" y="3319560"/>
              <a:ext cx="0" cy="95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65120" y="4716360"/>
            <a:ext cx="21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ST and AFT prepared in ANP, sent to H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09760" y="4549680"/>
            <a:ext cx="1119240" cy="4971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62440" y="41482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AFT lives in HGS, tells HGS what freqs to operate during day/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33280" y="4253040"/>
            <a:ext cx="422280" cy="477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874120" y="3343320"/>
            <a:ext cx="534240" cy="347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4321440" y="3343320"/>
            <a:ext cx="534240" cy="347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55720" y="895320"/>
            <a:ext cx="214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ST is uplinked to HFDR, tells what freqs can be used b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5874120" y="1706400"/>
            <a:ext cx="533880" cy="347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84880" y="1670040"/>
            <a:ext cx="534240" cy="347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6680" y="290340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169-8990-406D-8CB3-6B27CF71E00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10552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quipage and Traffic Statistic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14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qui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HFDL-equipped aircraft exceeds 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"/>
              </a:rPr>
              <a:t>Over 100 added in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Traffic currently exceeding 729,000 messages per mon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4 traffic up 43% over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plink message success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3.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5.6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6.8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6.8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1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8.5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8.7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8.7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99.4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57880" y="3589200"/>
          <a:ext cx="4346280" cy="26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57880" y="3589200"/>
                    <a:ext cx="4346280" cy="26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464000" y="873000"/>
          <a:ext cx="4469040" cy="268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4000" y="873000"/>
                    <a:ext cx="446904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C98-4389-4030-8260-7C5DCEBF0A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15480"/>
            <a:ext cx="510552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7848360" cy="4753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480" y="6691320"/>
            <a:ext cx="3057480" cy="171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-1080"/>
            <a:ext cx="701028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ink/HF Monthly Traffic - Decembe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381800" cy="5329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38480" y="2895480"/>
            <a:ext cx="3429000" cy="243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895480"/>
            <a:ext cx="342900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livery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y time is between CPS receip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ock and successful aircraft acknowledgement of block; includ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required for retransmiss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 85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 in   6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% in 10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% in 200 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7640" y="6691320"/>
            <a:ext cx="2590560" cy="171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-1080"/>
            <a:ext cx="9144000" cy="39888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ink/HF UPLIN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LOCK DELIVERY TIMES - DEC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5867280" cy="429120"/>
          </a:xfrm>
          <a:prstGeom prst="rect">
            <a:avLst/>
          </a:prstGeom>
          <a:solidFill>
            <a:srgbClr val="0074a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ink/HF ATC Related Activ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Routing Media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C Uplinks – VHF / SATCOM / HF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C Uplinks – VHF / HFDL / SAT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ved by airworthiness authorities as a third medium of data link communications on FANS A+ on Airbus A330 and A340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AT ATS Providers are evaluating HFDL in FMC WPR pre-operational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4CB-6B4F-48CE-8581-D3D516F38E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6:14:55Z</dcterms:created>
  <dc:creator>Terri Anton</dc:creator>
  <dc:description/>
  <dc:language>en-US</dc:language>
  <cp:lastModifiedBy>PC Services</cp:lastModifiedBy>
  <cp:lastPrinted>2002-09-12T18:12:09Z</cp:lastPrinted>
  <dcterms:modified xsi:type="dcterms:W3CDTF">2005-01-27T16:53:03Z</dcterms:modified>
  <cp:revision>125</cp:revision>
  <dc:subject/>
  <dc:title>HFDL Status Update - IPACG 1/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lashObjects">
    <vt:lpwstr>1</vt:lpwstr>
  </property>
  <property fmtid="{D5CDD505-2E9C-101B-9397-08002B2CF9AE}" pid="3" name="PlayBack">
    <vt:bool>1</vt:bool>
  </property>
</Properties>
</file>