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1CDAF-6E0A-47F7-8ACD-CA34300B8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21163-D5D0-42B7-B917-2E9CF8866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CC766-8506-4330-9C6D-40100A227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931D8-81B7-4254-A04D-5D20808D8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07568-57E4-4E75-8DD9-E654309C6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3B819-F971-4CBC-B41E-2BA7107EB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1F2E0-B05F-4773-87C6-14C422819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A5D49-E903-414D-B5C8-E3EA8CE5D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73A11-E36E-4462-8037-1039E01C0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4A669-5A1B-444D-AC06-AE1149092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FFBC8-6D7B-47AA-AC24-718D1F658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99D1A-26BD-4D40-A91F-102CCDB8A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B6B88-17F6-4134-8531-2805A5115C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rcRect l="14444" t="19412" r="56667" b="16457"/>
          <a:stretch/>
        </p:blipFill>
        <p:spPr>
          <a:xfrm>
            <a:off x="762120" y="457200"/>
            <a:ext cx="7924680" cy="5791320"/>
          </a:xfrm>
          <a:prstGeom prst="rect">
            <a:avLst/>
          </a:prstGeom>
          <a:ln w="0">
            <a:noFill/>
          </a:ln>
        </p:spPr>
      </p:pic>
      <p:sp>
        <p:nvSpPr>
          <p:cNvPr id="42" name="Text Box 97"/>
          <p:cNvSpPr/>
          <p:nvPr/>
        </p:nvSpPr>
        <p:spPr>
          <a:xfrm>
            <a:off x="0" y="3749760"/>
            <a:ext cx="2666880" cy="33094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Calibri"/>
              </a:rPr>
              <a:t>Cannon Landing Strip to / from R2301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0000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Calibri"/>
              </a:rPr>
              <a:t>Depart Cannon Air Defense Complex, climb inside class G/E to 2300 feet MSL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0000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Calibri"/>
              </a:rPr>
              <a:t>At 2300 feet AGL, transition to the R2301W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0000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Calibri"/>
              </a:rPr>
              <a:t>Once established in R-2301W, there will NOT be any transition into the NAS without prior coordination for return to CAD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Calibri"/>
              </a:rPr>
              <a:t>Reverse course to retur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8T20:22:32Z</dcterms:created>
  <dc:creator>lawrence.dibble</dc:creator>
  <dc:description/>
  <dc:language>en-US</dc:language>
  <cp:lastModifiedBy>lawrence.dibble</cp:lastModifiedBy>
  <dcterms:modified xsi:type="dcterms:W3CDTF">2010-11-08T20:39:01Z</dcterms:modified>
  <cp:revision>2</cp:revision>
  <dc:subject/>
  <dc:title>Slide 1</dc:title>
</cp:coreProperties>
</file>