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-180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5"/>
          </p:nvPr>
        </p:nvSpPr>
        <p:spPr>
          <a:xfrm>
            <a:off x="4010040" y="-180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6"/>
          </p:nvPr>
        </p:nvSpPr>
        <p:spPr>
          <a:xfrm>
            <a:off x="-1800" y="891360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7"/>
          </p:nvPr>
        </p:nvSpPr>
        <p:spPr>
          <a:xfrm>
            <a:off x="4010040" y="891360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3BD0CC3-20A8-4EB6-B5EC-46F9398F871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941400" y="4444920"/>
            <a:ext cx="5192640" cy="4376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1400" bIns="414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Img"/>
          </p:nvPr>
        </p:nvSpPr>
        <p:spPr>
          <a:xfrm>
            <a:off x="1211040" y="701280"/>
            <a:ext cx="4694040" cy="352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4010040" y="8913960"/>
            <a:ext cx="30672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DCC1768-D233-4BCD-BD29-6829890B0D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11400" y="701640"/>
            <a:ext cx="4694040" cy="3521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9600" y="4444920"/>
            <a:ext cx="519588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10D-A9B0-4440-A127-5308B124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633-5DDB-45FB-A303-6AB84499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312-5D6A-4E12-B40F-308766FB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4080" y="121896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600" y="121896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4080" y="396540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600" y="396540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1BD-55AE-4F54-A1C2-45E67CA0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74694-3241-4FAB-9CDD-AD41E4E127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5B28E-AE9D-488C-9D71-66D292AA78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4AC0E-DD29-4522-9A6F-77B5B5872C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6D354-A2CC-4A98-991B-755ECF9F09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ABA12-679D-40F4-B94C-99A3661E54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64B94-B81F-409A-BFFB-2C8387C4C3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09EC1-FCC8-468A-849C-04ED50A4A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45A-FAEE-45FD-9775-DB41A2C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536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BC32B-F5E2-4147-8E47-57F4DBDB09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FDF01-CEA8-4C5C-B1C4-C42C89F5E1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535E2-34D4-415B-AA03-61D710EA3B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536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75379-6E2F-4B59-9BF7-2A323A327F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080" y="121896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70600" y="121896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080" y="396540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70600" y="396540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7C1AD-485E-45C1-9403-16E67CFEBE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8F3-D0B5-4D71-BF57-C93CDBD8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3536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3536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080" y="121896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70600" y="121896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080" y="396540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70600" y="396540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5D0-DC59-466E-B69F-BFDDEDB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F36-D3AD-47A9-8AEE-2858D7A9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14D-4F50-41D8-BF74-42DB96A1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AF5-4606-474E-8A4A-823CDF7E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96540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CA0-026E-4CAC-B713-391A9581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21896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936-2343-441D-9B3B-00F8B64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2692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705040"/>
            <a:ext cx="9144000" cy="4152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4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F099-30FD-4148-84D0-3BF6F68892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371D-FCB4-461C-99CA-B7C6C97C2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514520" y="31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1798560" y="2873520"/>
            <a:ext cx="4040280" cy="1112760"/>
            <a:chOff x="1798560" y="2873520"/>
            <a:chExt cx="4040280" cy="1112760"/>
          </a:xfrm>
        </p:grpSpPr>
        <p:sp>
          <p:nvSpPr>
            <p:cNvPr id="47" name="Rectangle 6"/>
            <p:cNvSpPr/>
            <p:nvPr/>
          </p:nvSpPr>
          <p:spPr>
            <a:xfrm>
              <a:off x="1798560" y="2873520"/>
              <a:ext cx="404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1798560" y="2873520"/>
              <a:ext cx="404028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4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Line 8"/>
          <p:cNvSpPr/>
          <p:nvPr/>
        </p:nvSpPr>
        <p:spPr>
          <a:xfrm>
            <a:off x="1981080" y="1119240"/>
            <a:ext cx="71629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457200" y="990720"/>
            <a:ext cx="145404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바탕"/>
              </a:rPr>
              <a:t>Marine Aviation</a:t>
            </a:r>
            <a:endParaRPr b="1" i="1" lang="en-US" sz="1600" spc="1" strike="noStrike">
              <a:ln w="648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바탕"/>
              <a:ea typeface="바탕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71625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0EA8-4DF7-485A-B81C-9D99EFD45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22320" y="1103400"/>
            <a:ext cx="3823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2590920" y="64771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76320" y="76320"/>
            <a:ext cx="1600200" cy="914400"/>
            <a:chOff x="76320" y="76320"/>
            <a:chExt cx="1600200" cy="914400"/>
          </a:xfrm>
        </p:grpSpPr>
        <p:pic>
          <p:nvPicPr>
            <p:cNvPr id="55" name="Picture 14" descr="EGA"/>
            <p:cNvPicPr/>
            <p:nvPr/>
          </p:nvPicPr>
          <p:blipFill>
            <a:blip r:embed="rId2"/>
            <a:stretch/>
          </p:blipFill>
          <p:spPr>
            <a:xfrm>
              <a:off x="630360" y="319320"/>
              <a:ext cx="42192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navy/marine naval aviator wings"/>
            <p:cNvPicPr/>
            <p:nvPr/>
          </p:nvPicPr>
          <p:blipFill>
            <a:blip r:embed="rId3"/>
            <a:stretch/>
          </p:blipFill>
          <p:spPr>
            <a:xfrm>
              <a:off x="457920" y="76320"/>
              <a:ext cx="77616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navy/marine combat air crewmember badge"/>
            <p:cNvPicPr/>
            <p:nvPr/>
          </p:nvPicPr>
          <p:blipFill>
            <a:blip r:embed="rId4"/>
            <a:stretch/>
          </p:blipFill>
          <p:spPr>
            <a:xfrm>
              <a:off x="567000" y="745920"/>
              <a:ext cx="55404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7" descr="b256"/>
            <p:cNvPicPr/>
            <p:nvPr/>
          </p:nvPicPr>
          <p:blipFill>
            <a:blip r:embed="rId5"/>
            <a:srcRect l="0" t="33787" r="0" b="36722"/>
            <a:stretch/>
          </p:blipFill>
          <p:spPr>
            <a:xfrm>
              <a:off x="76320" y="444960"/>
              <a:ext cx="536760" cy="1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8" descr="b622"/>
            <p:cNvPicPr/>
            <p:nvPr/>
          </p:nvPicPr>
          <p:blipFill>
            <a:blip r:embed="rId6"/>
            <a:srcRect l="0" t="33796" r="0" b="36772"/>
            <a:stretch/>
          </p:blipFill>
          <p:spPr>
            <a:xfrm>
              <a:off x="1091880" y="428760"/>
              <a:ext cx="584640" cy="16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Picture 19" descr=""/>
          <p:cNvPicPr/>
          <p:nvPr/>
        </p:nvPicPr>
        <p:blipFill>
          <a:blip r:embed="rId7"/>
          <a:stretch/>
        </p:blipFill>
        <p:spPr>
          <a:xfrm>
            <a:off x="8229600" y="1522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514520" y="31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1798560" y="2873520"/>
            <a:ext cx="4040280" cy="1112760"/>
            <a:chOff x="1798560" y="2873520"/>
            <a:chExt cx="4040280" cy="1112760"/>
          </a:xfrm>
        </p:grpSpPr>
        <p:sp>
          <p:nvSpPr>
            <p:cNvPr id="99" name="Rectangle 6"/>
            <p:cNvSpPr/>
            <p:nvPr/>
          </p:nvSpPr>
          <p:spPr>
            <a:xfrm>
              <a:off x="1798560" y="2873520"/>
              <a:ext cx="404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1798560" y="2873520"/>
              <a:ext cx="404028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4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1281240" y="1682640"/>
            <a:ext cx="7076520" cy="3889080"/>
            <a:chOff x="1281240" y="1682640"/>
            <a:chExt cx="7076520" cy="3889080"/>
          </a:xfrm>
        </p:grpSpPr>
        <p:pic>
          <p:nvPicPr>
            <p:cNvPr id="102" name="Picture 9" descr="EGA"/>
            <p:cNvPicPr/>
            <p:nvPr/>
          </p:nvPicPr>
          <p:blipFill>
            <a:blip r:embed="rId2"/>
            <a:stretch/>
          </p:blipFill>
          <p:spPr>
            <a:xfrm>
              <a:off x="3731040" y="2716920"/>
              <a:ext cx="1866600" cy="18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navy/marine naval aviator wings"/>
            <p:cNvPicPr/>
            <p:nvPr/>
          </p:nvPicPr>
          <p:blipFill>
            <a:blip r:embed="rId3"/>
            <a:stretch/>
          </p:blipFill>
          <p:spPr>
            <a:xfrm>
              <a:off x="2969280" y="1682640"/>
              <a:ext cx="3433320" cy="11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1" descr="navy/marine combat air crewmember badge"/>
            <p:cNvPicPr/>
            <p:nvPr/>
          </p:nvPicPr>
          <p:blipFill>
            <a:blip r:embed="rId4"/>
            <a:stretch/>
          </p:blipFill>
          <p:spPr>
            <a:xfrm>
              <a:off x="3452400" y="4530240"/>
              <a:ext cx="245016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2" descr="b256"/>
            <p:cNvPicPr/>
            <p:nvPr/>
          </p:nvPicPr>
          <p:blipFill>
            <a:blip r:embed="rId5"/>
            <a:srcRect l="0" t="33759" r="0" b="36735"/>
            <a:stretch/>
          </p:blipFill>
          <p:spPr>
            <a:xfrm>
              <a:off x="1281240" y="3250800"/>
              <a:ext cx="2373840" cy="63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3" descr="b622"/>
            <p:cNvPicPr/>
            <p:nvPr/>
          </p:nvPicPr>
          <p:blipFill>
            <a:blip r:embed="rId6"/>
            <a:srcRect l="0" t="33759" r="0" b="36735"/>
            <a:stretch/>
          </p:blipFill>
          <p:spPr>
            <a:xfrm>
              <a:off x="5771880" y="3182040"/>
              <a:ext cx="2585880" cy="68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 Box 14"/>
          <p:cNvSpPr/>
          <p:nvPr/>
        </p:nvSpPr>
        <p:spPr>
          <a:xfrm>
            <a:off x="1547640" y="762120"/>
            <a:ext cx="6021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MARINE AVI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0" y="1066680"/>
            <a:ext cx="259092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6629400" y="1066680"/>
            <a:ext cx="2514600" cy="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276720" y="76320"/>
            <a:ext cx="26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8358120" y="6553080"/>
            <a:ext cx="78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ition Corridor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rcRect l="62501" t="10158" r="0" b="4688"/>
          <a:stretch/>
        </p:blipFill>
        <p:spPr>
          <a:xfrm>
            <a:off x="0" y="1217520"/>
            <a:ext cx="9144000" cy="564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Text Box 4"/>
          <p:cNvSpPr/>
          <p:nvPr/>
        </p:nvSpPr>
        <p:spPr>
          <a:xfrm>
            <a:off x="3619440" y="34923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10@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08640" y="34797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40@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556080" y="466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4@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197080" y="46227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25@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403440" y="40514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doni Poster"/>
                <a:ea typeface="Arial Unicode MS"/>
              </a:rPr>
              <a:t>NK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665760" y="2948040"/>
            <a:ext cx="12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-5306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550800" y="5253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-5306C/D/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162160" y="586116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CAF Bog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384880" y="547200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head C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76120" y="2820960"/>
            <a:ext cx="18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aven County Air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H="1" flipV="1">
            <a:off x="2839680" y="5100120"/>
            <a:ext cx="384120" cy="746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H="1" flipV="1">
            <a:off x="5186520" y="4932000"/>
            <a:ext cx="74448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1768320" y="3284640"/>
            <a:ext cx="890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5437080" y="4792320"/>
            <a:ext cx="727200" cy="142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H="1" flipV="1">
            <a:off x="5094360" y="5484600"/>
            <a:ext cx="139680" cy="3524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V="1">
            <a:off x="1371600" y="2752200"/>
            <a:ext cx="1825560" cy="963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4129200" y="5846760"/>
            <a:ext cx="1108080" cy="1238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 flipV="1">
            <a:off x="3208320" y="2769840"/>
            <a:ext cx="1168560" cy="7714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 flipV="1">
            <a:off x="1350720" y="3722400"/>
            <a:ext cx="1377720" cy="857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 flipV="1">
            <a:off x="4712760" y="3780000"/>
            <a:ext cx="1406520" cy="971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 flipH="1" flipV="1">
            <a:off x="3398400" y="5371920"/>
            <a:ext cx="730440" cy="580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5"/>
          <p:cNvSpPr/>
          <p:nvPr/>
        </p:nvSpPr>
        <p:spPr>
          <a:xfrm rot="1341600">
            <a:off x="5214600" y="4908600"/>
            <a:ext cx="239760" cy="657000"/>
          </a:xfrm>
          <a:prstGeom prst="pi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2314440" y="2162160"/>
            <a:ext cx="2067120" cy="5806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Non-cooperative Target-Free Z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7278840" y="6127920"/>
            <a:ext cx="186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n-cooperative target zone lines are approxim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5T19:19:32Z</dcterms:created>
  <dc:creator>CDR Todd Kiefer</dc:creator>
  <dc:description/>
  <cp:keywords/>
  <dc:language>en-US</dc:language>
  <cp:lastModifiedBy> </cp:lastModifiedBy>
  <cp:lastPrinted>2002-05-10T13:39:46Z</cp:lastPrinted>
  <dcterms:modified xsi:type="dcterms:W3CDTF">2008-08-22T18:20:12Z</dcterms:modified>
  <cp:revision>1629</cp:revision>
  <dc:subject/>
  <dc:title>Capabilities Discussion  15 Jan 04 </dc:title>
</cp:coreProperties>
</file>