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30F-CA92-45E0-95A6-F1D657F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1A4-339D-4DEF-A95E-BC6693F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FE4-16E7-40E5-B91E-74F0EB3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BF3-A9BB-4591-9678-47BF6A82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91E-C7CB-4A66-9F32-3D57CFDF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063-435F-4F2B-B2D5-131F08E5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D20-7EC7-4303-8760-EE6FA9D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94D-0D2D-4204-8487-03FD5D16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3F3-3A91-46D8-8DE4-C520B4F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D9D-2132-401D-AE97-80DFA89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769-86AB-496E-B8AF-EF8F460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099-06E8-4435-826B-3650393C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7CD-A893-4A1C-A62D-EE4B76468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4444" t="19412" r="56667" b="16457"/>
          <a:stretch/>
        </p:blipFill>
        <p:spPr>
          <a:xfrm>
            <a:off x="762120" y="457200"/>
            <a:ext cx="79246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7"/>
          <p:cNvSpPr/>
          <p:nvPr/>
        </p:nvSpPr>
        <p:spPr>
          <a:xfrm>
            <a:off x="0" y="3749760"/>
            <a:ext cx="2666880" cy="33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Cannon Landing Strip to / from R2301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Depart Cannon Air Defense Complex, climb inside class G/E to 2300 feet MS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At 2300 feet AGL, transition to the R2301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Once established in R-2301W, there will NOT be any transition into the NAS without prior coordination for return to CAD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Reverse course to re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20:22:32Z</dcterms:created>
  <dc:creator>lawrence.dibble</dc:creator>
  <dc:description/>
  <dc:language>en-US</dc:language>
  <cp:lastModifiedBy>lawrence.dibble</cp:lastModifiedBy>
  <dcterms:modified xsi:type="dcterms:W3CDTF">2010-11-08T20:39:01Z</dcterms:modified>
  <cp:revision>2</cp:revision>
  <dc:subject/>
  <dc:title>Slide 1</dc:title>
</cp:coreProperties>
</file>