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7790-D046-4D1F-99A4-C008D0EE7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18BE-4C21-4AFC-AC59-6FD5E57B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C647-F0B0-48A0-A74B-7AE194E8A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C8B4-B21C-40CB-8B24-5E672912D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A314-5505-4723-B44B-2DE1817F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D600-0E99-4C7A-92D9-323880DC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341F-C3CC-4578-9838-79B42B3E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1FEF-5B09-4187-8A39-BAA02140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12AC-1DB2-4BA7-89EF-829519F0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C336-87D3-4080-8A66-31C2412D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6170-520A-419D-8322-5512F2D1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2B16-8F85-452F-A186-20B1777A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B0CE-9CC8-4180-B786-E9D5A6CAF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3640" cy="6921000"/>
            <a:chOff x="0" y="0"/>
            <a:chExt cx="9143640" cy="6921000"/>
          </a:xfrm>
        </p:grpSpPr>
        <p:pic>
          <p:nvPicPr>
            <p:cNvPr id="42" name="" descr=""/>
            <p:cNvPicPr/>
            <p:nvPr/>
          </p:nvPicPr>
          <p:blipFill>
            <a:blip r:embed="rId1"/>
            <a:srcRect l="49402" t="15258" r="0" b="16873"/>
            <a:stretch/>
          </p:blipFill>
          <p:spPr>
            <a:xfrm>
              <a:off x="0" y="0"/>
              <a:ext cx="3317760" cy="692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rcRect l="0" t="14262" r="22743" b="18760"/>
            <a:stretch/>
          </p:blipFill>
          <p:spPr>
            <a:xfrm>
              <a:off x="3241080" y="9720"/>
              <a:ext cx="5902560" cy="691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"/>
          <p:cNvSpPr/>
          <p:nvPr/>
        </p:nvSpPr>
        <p:spPr>
          <a:xfrm rot="18865800">
            <a:off x="3534840" y="368748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35360" y="2249640"/>
            <a:ext cx="2874960" cy="2681280"/>
          </a:xfrm>
          <a:custGeom>
            <a:avLst/>
            <a:gdLst/>
            <a:ahLst/>
            <a:rect l="l" t="t" r="r" b="b"/>
            <a:pathLst>
              <a:path w="1992" h="1914">
                <a:moveTo>
                  <a:pt x="920" y="1914"/>
                </a:moveTo>
                <a:lnTo>
                  <a:pt x="0" y="786"/>
                </a:lnTo>
                <a:lnTo>
                  <a:pt x="707" y="0"/>
                </a:lnTo>
                <a:lnTo>
                  <a:pt x="1468" y="252"/>
                </a:lnTo>
                <a:lnTo>
                  <a:pt x="1992" y="956"/>
                </a:lnTo>
                <a:lnTo>
                  <a:pt x="1136" y="1878"/>
                </a:lnTo>
                <a:lnTo>
                  <a:pt x="920" y="1914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6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20920" y="4575240"/>
            <a:ext cx="1224000" cy="1217520"/>
          </a:xfrm>
          <a:custGeom>
            <a:avLst/>
            <a:gdLst/>
            <a:ahLst/>
            <a:rect l="l" t="t" r="r" b="b"/>
            <a:pathLst>
              <a:path w="848" h="870">
                <a:moveTo>
                  <a:pt x="778" y="700"/>
                </a:moveTo>
                <a:lnTo>
                  <a:pt x="732" y="706"/>
                </a:lnTo>
                <a:lnTo>
                  <a:pt x="676" y="722"/>
                </a:lnTo>
                <a:lnTo>
                  <a:pt x="624" y="738"/>
                </a:lnTo>
                <a:lnTo>
                  <a:pt x="576" y="754"/>
                </a:lnTo>
                <a:lnTo>
                  <a:pt x="520" y="770"/>
                </a:lnTo>
                <a:lnTo>
                  <a:pt x="464" y="790"/>
                </a:lnTo>
                <a:lnTo>
                  <a:pt x="420" y="806"/>
                </a:lnTo>
                <a:lnTo>
                  <a:pt x="368" y="826"/>
                </a:lnTo>
                <a:lnTo>
                  <a:pt x="324" y="838"/>
                </a:lnTo>
                <a:lnTo>
                  <a:pt x="284" y="854"/>
                </a:lnTo>
                <a:lnTo>
                  <a:pt x="248" y="870"/>
                </a:lnTo>
                <a:lnTo>
                  <a:pt x="0" y="318"/>
                </a:lnTo>
                <a:lnTo>
                  <a:pt x="196" y="82"/>
                </a:lnTo>
                <a:lnTo>
                  <a:pt x="390" y="0"/>
                </a:lnTo>
                <a:lnTo>
                  <a:pt x="848" y="470"/>
                </a:lnTo>
                <a:lnTo>
                  <a:pt x="776" y="480"/>
                </a:lnTo>
                <a:lnTo>
                  <a:pt x="778" y="700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6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11360" y="5025960"/>
            <a:ext cx="1062000" cy="1033560"/>
          </a:xfrm>
          <a:custGeom>
            <a:avLst/>
            <a:gdLst/>
            <a:ahLst/>
            <a:rect l="l" t="t" r="r" b="b"/>
            <a:pathLst>
              <a:path w="736" h="738">
                <a:moveTo>
                  <a:pt x="736" y="544"/>
                </a:moveTo>
                <a:lnTo>
                  <a:pt x="652" y="596"/>
                </a:lnTo>
                <a:lnTo>
                  <a:pt x="612" y="620"/>
                </a:lnTo>
                <a:lnTo>
                  <a:pt x="572" y="648"/>
                </a:lnTo>
                <a:lnTo>
                  <a:pt x="540" y="668"/>
                </a:lnTo>
                <a:lnTo>
                  <a:pt x="500" y="696"/>
                </a:lnTo>
                <a:lnTo>
                  <a:pt x="464" y="716"/>
                </a:lnTo>
                <a:lnTo>
                  <a:pt x="436" y="738"/>
                </a:lnTo>
                <a:lnTo>
                  <a:pt x="304" y="602"/>
                </a:lnTo>
                <a:lnTo>
                  <a:pt x="0" y="448"/>
                </a:lnTo>
                <a:lnTo>
                  <a:pt x="184" y="244"/>
                </a:lnTo>
                <a:lnTo>
                  <a:pt x="228" y="296"/>
                </a:lnTo>
                <a:lnTo>
                  <a:pt x="498" y="0"/>
                </a:lnTo>
                <a:lnTo>
                  <a:pt x="736" y="544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6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19280" y="5348160"/>
            <a:ext cx="253800" cy="301680"/>
          </a:xfrm>
          <a:custGeom>
            <a:avLst/>
            <a:gdLst/>
            <a:ahLst/>
            <a:rect l="l" t="t" r="r" b="b"/>
            <a:pathLst>
              <a:path w="176" h="216">
                <a:moveTo>
                  <a:pt x="176" y="14"/>
                </a:moveTo>
                <a:lnTo>
                  <a:pt x="164" y="0"/>
                </a:lnTo>
                <a:lnTo>
                  <a:pt x="0" y="112"/>
                </a:lnTo>
                <a:lnTo>
                  <a:pt x="0" y="216"/>
                </a:lnTo>
                <a:lnTo>
                  <a:pt x="176" y="14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6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74680" y="3286080"/>
            <a:ext cx="8172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5306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42680" y="4962600"/>
            <a:ext cx="8172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5306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18440" y="5267160"/>
            <a:ext cx="80784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5306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80560" y="5495760"/>
            <a:ext cx="8172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5306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76280" y="1711440"/>
            <a:ext cx="7767720" cy="5208480"/>
          </a:xfrm>
          <a:custGeom>
            <a:avLst/>
            <a:gdLst/>
            <a:ahLst/>
            <a:rect l="l" t="t" r="r" b="b"/>
            <a:pathLst>
              <a:path w="5382" h="3718">
                <a:moveTo>
                  <a:pt x="0" y="3718"/>
                </a:moveTo>
                <a:lnTo>
                  <a:pt x="0" y="3466"/>
                </a:lnTo>
                <a:lnTo>
                  <a:pt x="48" y="3410"/>
                </a:lnTo>
                <a:lnTo>
                  <a:pt x="126" y="3368"/>
                </a:lnTo>
                <a:lnTo>
                  <a:pt x="180" y="3326"/>
                </a:lnTo>
                <a:lnTo>
                  <a:pt x="236" y="3296"/>
                </a:lnTo>
                <a:lnTo>
                  <a:pt x="282" y="3284"/>
                </a:lnTo>
                <a:lnTo>
                  <a:pt x="348" y="3248"/>
                </a:lnTo>
                <a:lnTo>
                  <a:pt x="420" y="3208"/>
                </a:lnTo>
                <a:lnTo>
                  <a:pt x="476" y="3188"/>
                </a:lnTo>
                <a:lnTo>
                  <a:pt x="516" y="3170"/>
                </a:lnTo>
                <a:lnTo>
                  <a:pt x="558" y="3134"/>
                </a:lnTo>
                <a:lnTo>
                  <a:pt x="608" y="3098"/>
                </a:lnTo>
                <a:lnTo>
                  <a:pt x="684" y="3046"/>
                </a:lnTo>
                <a:lnTo>
                  <a:pt x="748" y="3004"/>
                </a:lnTo>
                <a:lnTo>
                  <a:pt x="812" y="2962"/>
                </a:lnTo>
                <a:lnTo>
                  <a:pt x="898" y="2914"/>
                </a:lnTo>
                <a:lnTo>
                  <a:pt x="990" y="2878"/>
                </a:lnTo>
                <a:lnTo>
                  <a:pt x="1098" y="2840"/>
                </a:lnTo>
                <a:lnTo>
                  <a:pt x="1208" y="2804"/>
                </a:lnTo>
                <a:lnTo>
                  <a:pt x="1290" y="2780"/>
                </a:lnTo>
                <a:lnTo>
                  <a:pt x="1374" y="2756"/>
                </a:lnTo>
                <a:lnTo>
                  <a:pt x="1430" y="2742"/>
                </a:lnTo>
                <a:lnTo>
                  <a:pt x="1452" y="2734"/>
                </a:lnTo>
                <a:lnTo>
                  <a:pt x="1554" y="2714"/>
                </a:lnTo>
                <a:lnTo>
                  <a:pt x="1664" y="2698"/>
                </a:lnTo>
                <a:lnTo>
                  <a:pt x="1776" y="2676"/>
                </a:lnTo>
                <a:lnTo>
                  <a:pt x="1858" y="2672"/>
                </a:lnTo>
                <a:lnTo>
                  <a:pt x="1938" y="2678"/>
                </a:lnTo>
                <a:lnTo>
                  <a:pt x="2010" y="2682"/>
                </a:lnTo>
                <a:lnTo>
                  <a:pt x="2064" y="2678"/>
                </a:lnTo>
                <a:lnTo>
                  <a:pt x="2114" y="2710"/>
                </a:lnTo>
                <a:lnTo>
                  <a:pt x="2178" y="2732"/>
                </a:lnTo>
                <a:lnTo>
                  <a:pt x="2244" y="2756"/>
                </a:lnTo>
                <a:lnTo>
                  <a:pt x="2258" y="2822"/>
                </a:lnTo>
                <a:lnTo>
                  <a:pt x="2274" y="2874"/>
                </a:lnTo>
                <a:lnTo>
                  <a:pt x="2310" y="2928"/>
                </a:lnTo>
                <a:lnTo>
                  <a:pt x="2332" y="2970"/>
                </a:lnTo>
                <a:lnTo>
                  <a:pt x="2358" y="3000"/>
                </a:lnTo>
                <a:lnTo>
                  <a:pt x="2392" y="3016"/>
                </a:lnTo>
                <a:lnTo>
                  <a:pt x="2450" y="3020"/>
                </a:lnTo>
                <a:lnTo>
                  <a:pt x="2506" y="3014"/>
                </a:lnTo>
                <a:lnTo>
                  <a:pt x="2544" y="2996"/>
                </a:lnTo>
                <a:lnTo>
                  <a:pt x="2574" y="2966"/>
                </a:lnTo>
                <a:lnTo>
                  <a:pt x="2600" y="2936"/>
                </a:lnTo>
                <a:lnTo>
                  <a:pt x="2604" y="2882"/>
                </a:lnTo>
                <a:lnTo>
                  <a:pt x="2608" y="2844"/>
                </a:lnTo>
                <a:lnTo>
                  <a:pt x="2632" y="2778"/>
                </a:lnTo>
                <a:lnTo>
                  <a:pt x="2694" y="2682"/>
                </a:lnTo>
                <a:lnTo>
                  <a:pt x="2730" y="2630"/>
                </a:lnTo>
                <a:lnTo>
                  <a:pt x="2760" y="2582"/>
                </a:lnTo>
                <a:lnTo>
                  <a:pt x="2778" y="2550"/>
                </a:lnTo>
                <a:lnTo>
                  <a:pt x="2868" y="2432"/>
                </a:lnTo>
                <a:lnTo>
                  <a:pt x="2970" y="2300"/>
                </a:lnTo>
                <a:lnTo>
                  <a:pt x="3064" y="2192"/>
                </a:lnTo>
                <a:lnTo>
                  <a:pt x="3146" y="2104"/>
                </a:lnTo>
                <a:lnTo>
                  <a:pt x="3246" y="2018"/>
                </a:lnTo>
                <a:lnTo>
                  <a:pt x="3356" y="1910"/>
                </a:lnTo>
                <a:lnTo>
                  <a:pt x="3440" y="1830"/>
                </a:lnTo>
                <a:lnTo>
                  <a:pt x="3556" y="1712"/>
                </a:lnTo>
                <a:lnTo>
                  <a:pt x="3612" y="1652"/>
                </a:lnTo>
                <a:lnTo>
                  <a:pt x="3710" y="1588"/>
                </a:lnTo>
                <a:lnTo>
                  <a:pt x="3774" y="1544"/>
                </a:lnTo>
                <a:lnTo>
                  <a:pt x="3844" y="1504"/>
                </a:lnTo>
                <a:lnTo>
                  <a:pt x="3898" y="1478"/>
                </a:lnTo>
                <a:lnTo>
                  <a:pt x="3966" y="1408"/>
                </a:lnTo>
                <a:lnTo>
                  <a:pt x="4056" y="1338"/>
                </a:lnTo>
                <a:lnTo>
                  <a:pt x="4146" y="1286"/>
                </a:lnTo>
                <a:lnTo>
                  <a:pt x="4266" y="1226"/>
                </a:lnTo>
                <a:lnTo>
                  <a:pt x="4350" y="1180"/>
                </a:lnTo>
                <a:lnTo>
                  <a:pt x="4452" y="1130"/>
                </a:lnTo>
                <a:lnTo>
                  <a:pt x="4542" y="1108"/>
                </a:lnTo>
                <a:lnTo>
                  <a:pt x="4590" y="1102"/>
                </a:lnTo>
                <a:lnTo>
                  <a:pt x="4644" y="1050"/>
                </a:lnTo>
                <a:lnTo>
                  <a:pt x="4714" y="1028"/>
                </a:lnTo>
                <a:lnTo>
                  <a:pt x="4760" y="1006"/>
                </a:lnTo>
                <a:lnTo>
                  <a:pt x="4818" y="986"/>
                </a:lnTo>
                <a:lnTo>
                  <a:pt x="4884" y="986"/>
                </a:lnTo>
                <a:lnTo>
                  <a:pt x="4954" y="982"/>
                </a:lnTo>
                <a:lnTo>
                  <a:pt x="5026" y="980"/>
                </a:lnTo>
                <a:lnTo>
                  <a:pt x="5096" y="964"/>
                </a:lnTo>
                <a:lnTo>
                  <a:pt x="5130" y="938"/>
                </a:lnTo>
                <a:lnTo>
                  <a:pt x="5168" y="870"/>
                </a:lnTo>
                <a:lnTo>
                  <a:pt x="5168" y="768"/>
                </a:lnTo>
                <a:lnTo>
                  <a:pt x="5190" y="676"/>
                </a:lnTo>
                <a:lnTo>
                  <a:pt x="5182" y="658"/>
                </a:lnTo>
                <a:lnTo>
                  <a:pt x="5202" y="560"/>
                </a:lnTo>
                <a:lnTo>
                  <a:pt x="5210" y="482"/>
                </a:lnTo>
                <a:lnTo>
                  <a:pt x="5222" y="400"/>
                </a:lnTo>
                <a:lnTo>
                  <a:pt x="5250" y="308"/>
                </a:lnTo>
                <a:lnTo>
                  <a:pt x="5260" y="240"/>
                </a:lnTo>
                <a:lnTo>
                  <a:pt x="5262" y="170"/>
                </a:lnTo>
                <a:lnTo>
                  <a:pt x="5262" y="78"/>
                </a:lnTo>
                <a:lnTo>
                  <a:pt x="5280" y="0"/>
                </a:lnTo>
                <a:lnTo>
                  <a:pt x="5382" y="106"/>
                </a:lnTo>
                <a:lnTo>
                  <a:pt x="5380" y="3718"/>
                </a:lnTo>
                <a:lnTo>
                  <a:pt x="0" y="3718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537240"/>
            <a:ext cx="9144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gue Field, NC:  Shadow Routes To &amp; From R5306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086960" y="5715000"/>
            <a:ext cx="8370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-1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60160" y="4200480"/>
            <a:ext cx="12348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erry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5486400"/>
            <a:ext cx="933480" cy="50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/ fr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5306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457200"/>
            <a:ext cx="3124080" cy="3207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Bogue Field to / from R5306C/D/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Depart Bogue Field, climb inside class D to 1,200 fee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At 1,200 feet, transition to the R5306C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Transition between R5306C, R5306D and R5306E will be via contiguous airspac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There will NOT be any transition into the NAS. Ops will be strictly in the Restricted Are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Reverse course to re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92960" y="5257800"/>
            <a:ext cx="11829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gue 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5181480"/>
            <a:ext cx="152280" cy="15264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0" dur="1" fill="hold"/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7T14:39:04Z</dcterms:created>
  <dc:creator>david.a.plummer</dc:creator>
  <dc:description/>
  <dc:language>en-US</dc:language>
  <cp:lastModifiedBy>James Ruvalcaba</cp:lastModifiedBy>
  <dcterms:modified xsi:type="dcterms:W3CDTF">2008-09-16T17:15:16Z</dcterms:modified>
  <cp:revision>25</cp:revision>
  <dc:subject/>
  <dc:title>Slide 1</dc:title>
</cp:coreProperties>
</file>