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71D-032D-4C31-9CB0-9E8038F8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E47-4A90-42C8-ABD5-20CC13E7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709-B656-43B6-9F4D-0AF34E2B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B57-BD62-435F-BE53-BE052A36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1C2-C103-44B7-A28C-00851B1B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F75-1012-4E67-BDB8-C4D43D4D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043-2F50-4669-8679-58300B62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9D3-8CE3-4A32-86BA-9F98F3F3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EB0-19E5-42DC-95D2-B8AA3A15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DAA-080D-4C62-B4D8-6EDC99B3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45D-F6ED-4081-AFA8-F525700C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23D-998F-4EC5-8EA4-3C9BE0F9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97DC-1CA4-4304-9FB6-C0A7F2D1B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ayport-Canaveral big pic"/>
          <p:cNvPicPr/>
          <p:nvPr/>
        </p:nvPicPr>
        <p:blipFill>
          <a:blip r:embed="rId1"/>
          <a:srcRect l="1944" t="10185" r="51388" b="602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6"/>
          <p:cNvSpPr/>
          <p:nvPr/>
        </p:nvSpPr>
        <p:spPr>
          <a:xfrm>
            <a:off x="4013280" y="2527200"/>
            <a:ext cx="253800" cy="304920"/>
          </a:xfrm>
          <a:custGeom>
            <a:avLst/>
            <a:gdLst>
              <a:gd name="textAreaLeft" fmla="*/ 104400 w 253800"/>
              <a:gd name="textAreaRight" fmla="*/ 149400 w 2538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3213000" y="2082960"/>
            <a:ext cx="254160" cy="304560"/>
          </a:xfrm>
          <a:custGeom>
            <a:avLst/>
            <a:gdLst>
              <a:gd name="textAreaLeft" fmla="*/ 104760 w 254160"/>
              <a:gd name="textAreaRight" fmla="*/ 149400 w 2541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"/>
          <p:cNvSpPr/>
          <p:nvPr/>
        </p:nvSpPr>
        <p:spPr>
          <a:xfrm rot="19564800">
            <a:off x="5562360" y="1066320"/>
            <a:ext cx="1609560" cy="322560"/>
          </a:xfrm>
          <a:prstGeom prst="leftArrow">
            <a:avLst>
              <a:gd name="adj1" fmla="val 50000"/>
              <a:gd name="adj2" fmla="val 12474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/>
          <p:cNvSpPr/>
          <p:nvPr/>
        </p:nvSpPr>
        <p:spPr>
          <a:xfrm rot="2130600">
            <a:off x="5410080" y="4190760"/>
            <a:ext cx="1609920" cy="322200"/>
          </a:xfrm>
          <a:prstGeom prst="leftArrow">
            <a:avLst>
              <a:gd name="adj1" fmla="val 50000"/>
              <a:gd name="adj2" fmla="val 12491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6689880" y="4114800"/>
            <a:ext cx="207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ansit from Southern OP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705720" y="853920"/>
            <a:ext cx="207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ansit from Northern OP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3505320" y="274320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ndezvous Pt. w/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 deg 25' N 081 deg 15'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Inside W-158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2629080" y="16765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JE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RB 038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iped Right Arrow 20"/>
          <p:cNvSpPr/>
          <p:nvPr/>
        </p:nvSpPr>
        <p:spPr>
          <a:xfrm rot="7692000">
            <a:off x="2814480" y="2472120"/>
            <a:ext cx="590760" cy="150840"/>
          </a:xfrm>
          <a:prstGeom prst="pi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iped Right Arrow 21"/>
          <p:cNvSpPr/>
          <p:nvPr/>
        </p:nvSpPr>
        <p:spPr>
          <a:xfrm rot="12305400">
            <a:off x="3375000" y="2401560"/>
            <a:ext cx="736560" cy="127080"/>
          </a:xfrm>
          <a:prstGeom prst="pi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2"/>
          <p:cNvSpPr/>
          <p:nvPr/>
        </p:nvSpPr>
        <p:spPr>
          <a:xfrm>
            <a:off x="1676520" y="76320"/>
            <a:ext cx="579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e Recovery Procedures at NAS Maypo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685800" y="2241720"/>
            <a:ext cx="1219320" cy="276480"/>
          </a:xfrm>
          <a:prstGeom prst="rect">
            <a:avLst/>
          </a:prstGeom>
          <a:solidFill>
            <a:srgbClr val="7f7f7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S May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5"/>
          <p:cNvSpPr/>
          <p:nvPr/>
        </p:nvSpPr>
        <p:spPr>
          <a:xfrm>
            <a:off x="1752480" y="2514600"/>
            <a:ext cx="9907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4613400" y="5486400"/>
            <a:ext cx="449568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ternate Recovery at Mayport NS will only be executed if shipboard recovery is deemed unsafe or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42:10Z</dcterms:created>
  <dc:creator>Jeffrey.Danielson</dc:creator>
  <dc:description/>
  <dc:language>en-US</dc:language>
  <cp:lastModifiedBy>john.nelson1</cp:lastModifiedBy>
  <dcterms:modified xsi:type="dcterms:W3CDTF">2008-12-18T15:23:43Z</dcterms:modified>
  <cp:revision>10</cp:revision>
  <dc:subject/>
  <dc:title>Slide 1</dc:title>
</cp:coreProperties>
</file>